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FE97-2499-4C6D-8D03-C155F11F3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F069-8A15-44EC-AC78-258BE510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E46C-887F-4323-BC52-BDA6C39F7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B010-A316-41AE-AE4A-1FA0E45DB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C2DF-E3E8-4960-BE74-BF5B78ED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FE17-F634-4023-88B2-E64EB53A0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EB58-5162-4BDB-BD9A-228EAD2DD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AF95-21AC-4617-9380-5106189F0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4289-D03C-4956-96E3-483702250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A0B9-CC35-430F-82F6-A93BC6A8C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53E2-4F0B-44DB-9486-8433D91C9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350-FA1F-4282-89ED-CEC95E1B1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0A9E-8DC4-4A43-AB27-8A3B80CB5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4B9E-3AD9-4317-85A3-D1C312BE1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8F35-AC1C-4075-81A9-BE974C063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A563-B074-40BD-8DCD-CB3596C6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CDF8-201E-4A35-89B4-FFED3D517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5489-0CB6-4B95-B4B4-7A294269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7A3-A373-48CD-8737-4D9F41A03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696F-EBAD-402D-9E83-81D8297F7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789F-841F-4450-8885-E00FF64B1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EABE-D3E8-43B6-82E1-4509AD394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2191-3D40-4404-A6EF-953926DD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6845-4038-4525-8F29-C8965AB6B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D5F9-D8C4-462D-B327-6DBEDA832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96D0-27F8-4764-848A-E75C47D8E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5BA-8D40-4988-BCA5-186AA14F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3B53-73D2-48B7-9BBE-7B3299C4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97EE-912A-4018-A670-92412538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EDB7-F28B-4D99-A238-8DB06417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C15484-19F3-4401-8875-3C673585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97671F-18EA-4CB4-8A2B-78EB83A8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EBE6DF-9C72-492A-9DE7-1F4EFECE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76E302-8EC4-44C0-ADB8-49625388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C6CFA-BBCA-44E2-9FF2-FE214ED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4CE4A-9F9E-415C-A775-724CC6C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356B0F-A117-4BF2-A9D7-316A53EE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EF31E-DFD8-45BA-9EF4-59F21539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2B561D-88C5-4F05-9B52-4E5314F5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A7A68D-F097-4530-A619-DD193BE4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1F8C-C7EF-4AE6-9785-8AA7FCAD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412583-FBD1-4B56-A734-003C54D4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EC6C3-0B89-4BB7-AA9C-F9CE5CEA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57D8FF-21E2-4A17-ABE7-91B81A76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61359B-9038-46B8-B7F2-661141DC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F2723F-98DD-48F6-99B0-6CD423BE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752AE9-810D-4680-A3BB-B2B13907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BF5DDE-7918-43C9-8604-30C1FA7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7BC8A9-E84E-488F-9AA4-66D6EAD6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1F8E62-458E-40D7-A8D7-B622F45D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090131-AA3C-4AA4-A8E2-DA28A1D0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82B3-7291-4191-902F-4269923F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B1D9CE-3650-4DF0-949D-1CD38053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1FFA9C-57A3-4274-B527-3D44BD30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ACD600-1784-484F-B6C9-85D7166C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C42B2B-1CA8-42EA-8B2F-6C4DAB5C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CAE471-043E-45C9-B48A-A2705E6C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5147F7-76C6-4C2E-BB3D-68E093B4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659B69-D038-43EF-BF00-1BC0FC0F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8147F1-A86C-48DB-9447-441E0D38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EEB71D-D891-4C9F-93C4-5DD0EAB3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EC726E-4150-456A-A4E6-E08E4962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D7246-A6ED-4A9B-8D25-019D6CEC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8A1A2A-6EC5-4475-8EA3-CA5C9DE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8D5971-FEA9-4BC2-99B8-B5938042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8624EE-685C-4CE1-9F19-ADAA2E87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2DB6E1-F989-4C91-BC95-1AE48EF8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C1AB76-6458-4979-BDBC-94A063CF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31EE2F-9D1A-4689-9281-6BE0DB3A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4B4BD4-47DA-4F90-826B-DE5AAB0F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89F251-58AD-4174-A0E1-5D891CBF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5A01AF-E1B9-4398-B7A9-7F92E5F5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FF8CE4-1978-4E44-90A0-1E1A438F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7DEDD-032D-42F7-8098-71E51A6E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31210A-E74A-4AC4-843D-8D455B2E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98ACB1-2FC2-407D-A13F-38849B9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DCB9C7-7F13-48B1-A8D7-D9A90C5A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70523E-B162-4533-A104-3B1B3846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9F35B4-09A9-483E-B4ED-D95F4972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D356A-F613-46D7-981E-BE270549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06FAE-C584-4790-B696-E0776EDD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33164-2D2D-4AFB-8F8D-40594E25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FF5A4-A855-4B51-9020-856A5872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0A06-FC6E-4D53-8FA8-1AB1C791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1A44-5133-4C87-A972-8B68FF80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BB636-8BCC-4B7A-996D-8E11C412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AC4F0-54B1-46E4-8E5B-17F881F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805DB-E6BC-447D-8C6D-FF1BBAC8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A8117-BD67-4D05-943A-4FB53065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AA8FF-D01D-4392-8CDD-70F26286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AB736-D914-4558-9570-A9E5B157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E9896-7EBE-4CC7-9D9A-59C80FA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E665D-0CEB-427E-8CFA-FCA52AE4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AA017-461D-4E07-BF86-8144D107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9218D-663F-44BC-B149-3A339530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FD94-1C1D-46CC-AF64-B1D8F852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B216D-0CA5-48A2-AA48-2AC496A1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5032A-6B56-4647-8EC4-06A4A23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BF6C9-C975-4EE7-B376-E4C3C70B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9EDAB-61B2-4EAC-9DFA-065121F5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D6885-CADA-40CD-870A-95759864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8AD26-C513-4C05-89ED-3E04F5C9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E6088-1CAC-4D18-9CF5-4DF1CC6E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FB8FA-A839-4566-8966-7F4D4501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6FE04-D62E-4A39-B0A3-930494A9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90A31-07F8-409B-BB7C-32A28D57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1B6A-6FF8-4727-97D1-E5446D35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E0BF6-C35F-439A-AAAE-71456E85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08BE7-D87D-4CF9-B074-D41995FE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AEF38-FFFD-442F-88FB-EEC3834A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6C729-1250-4BC5-A892-18E3169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58DCF-7FA7-4718-97FF-C26054C8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225B9-8164-4D8E-AF1B-24C03329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4C7EE-8D5A-4867-ABF9-8F75D63B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666A4-7824-45B4-B59C-C8F1BDC4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B5C9E-9EDC-45C2-ACE0-87F6D668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0456A-E268-43F5-82E3-C78167F5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283F-7B9F-424C-A885-538F975D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4AF25-169A-47E4-B837-C38FC90F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636C6-9836-4614-906E-B54B3466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97D22-3F22-47FE-9EDC-77298A42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5BE00-53A1-4E93-9E30-188A6337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572A5-11E0-4E04-9E55-4DAACBC2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F534C-A3A3-41DD-BFC1-97D4449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1B02C-3B93-46B1-A01A-A46F9E4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B542E-BD68-4A6A-A979-5D3CE1C4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FE486-8260-4816-BFE1-248FC8FF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167C3-CAA8-41D2-A3EB-59234155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84E9-60FE-48FB-BC7B-D6F9C059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0509E-4E99-43EE-BF46-15FB75DD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587A3-D8B9-4601-9F83-444E6748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A15ED-ED6C-4F78-BC63-6C188950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8E4E3-6314-4231-A40C-E6485502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02903-F7DF-4556-9A48-D695A4D2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81218-4FBA-4927-91C2-7D568FB0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57F5C-3A4B-4A3E-9C6C-95732CFC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4FF26-844A-421B-995E-C601C09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8B926-0AAF-4C6D-8959-A1BFEDB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B7452-177D-4475-BCBF-A30FDF17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B5E4-04AF-4D61-BFC3-3A0DBBA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D5AE7-1402-4E08-81DC-3EA2F9C3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FDB73-031D-4F40-8337-A7CC666B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BB26F-00C5-459E-88F8-981336E3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E380A-DE56-44A6-8CB3-CB737DA9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5192F-B7B1-41C7-BF04-6E544CB1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265A9-B6E6-4FFD-B6EE-B0187830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88381-FA3E-42D3-AB71-EECD2954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34079-60A6-458D-BF03-0A00AE13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6F988-FDE5-4B18-8ACB-14FE1FB7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34ABC-7120-4D5B-AF4C-6E9491A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F46E-D5D3-4AA9-8B97-85A94F8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F488A-857B-402F-BC9C-BD442B1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DADA3-9DA6-460B-8EEC-6EA24EBA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D581F-F0BB-4755-A162-5755B205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0BB61-B48F-44F2-AE47-98639D66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CB7D3-9C25-45F3-9BBA-2D78BAFB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A63E51-F756-4019-B927-4532693E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58FDB5-BA40-44AC-B0B4-301095F7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F7A416-4ACA-4902-BF20-64A6DCC6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87D778-0045-4A1F-9773-5BF91860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23CC5A-DBCB-476C-9B3D-16DE0AB3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32CB-690F-463D-86C4-6407809E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301DA-29E2-4E42-9B51-1AFBC9C1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60C3A1-3E8E-4814-97A2-7D39A9FD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9988D8-1043-4DF9-9309-57EEDED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4E91D5-B903-4D26-AB34-B8B5BA8F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C053A-B8B8-4849-8D37-D27966AB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00C4DC-C7F5-4D1E-926A-B0C274F6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448BC-1FDE-4A9E-B3CC-F7015540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90971A-C75F-4D60-9650-B401B102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B0DEC1-097F-4EEB-B8E9-C78EAC67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95AC6-0A07-48ED-9483-D5EB9C4B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51FA-C4DC-450A-9EF7-9252D4BA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5BF-ABC0-4A44-B3BF-20F51E34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092B-B5B2-45C7-ABE4-81C79500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357B-1AC7-4B96-8306-59E2AEB3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582E-7AA8-4156-81F0-6AF2BB546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113-2558-403A-A401-B939AA92F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A033-D131-45C9-AAB0-0F139BDF3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408B-DC85-4781-8BBA-9EE94301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F807-BFC2-4014-A7D3-E02BC9B6E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3F8-BE4F-4B60-9B0C-A87E27002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37B-430B-4388-B1CE-3D61C4935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EE76-2350-4996-BA7F-602D84A9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4085-7380-4BEB-AFBA-9F3199F7E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Information Retrieval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and 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CE41-262D-42F1-A970-7398A10F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System Archite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7543800" y="4572000"/>
            <a:ext cx="1143000" cy="1447920"/>
          </a:xfrm>
          <a:prstGeom prst="flowChartMagneticDisk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7315200" y="3200400"/>
            <a:ext cx="1447920" cy="91440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334120" y="3200400"/>
            <a:ext cx="1523880" cy="91440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5410080" y="4495680"/>
            <a:ext cx="1447920" cy="76212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3124080" y="3200400"/>
            <a:ext cx="1676520" cy="8380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3124080" y="4419720"/>
            <a:ext cx="1676520" cy="8380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3124080" y="5562720"/>
            <a:ext cx="1676520" cy="8380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12"/>
          <p:cNvSpPr/>
          <p:nvPr/>
        </p:nvSpPr>
        <p:spPr>
          <a:xfrm>
            <a:off x="1295280" y="5486400"/>
            <a:ext cx="1371600" cy="83808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13"/>
          <p:cNvSpPr/>
          <p:nvPr/>
        </p:nvSpPr>
        <p:spPr>
          <a:xfrm>
            <a:off x="1219320" y="3200400"/>
            <a:ext cx="1523880" cy="83808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2895480" y="2362320"/>
            <a:ext cx="3962520" cy="53316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peration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3809880" y="1600200"/>
            <a:ext cx="2362320" cy="45720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23"/>
          <p:cNvSpPr/>
          <p:nvPr/>
        </p:nvSpPr>
        <p:spPr>
          <a:xfrm>
            <a:off x="5334120" y="5486400"/>
            <a:ext cx="1600200" cy="83808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28"/>
          <p:cNvSpPr/>
          <p:nvPr/>
        </p:nvSpPr>
        <p:spPr>
          <a:xfrm>
            <a:off x="1523880" y="2209680"/>
            <a:ext cx="1067040" cy="83844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35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39"/>
          <p:cNvSpPr/>
          <p:nvPr/>
        </p:nvSpPr>
        <p:spPr>
          <a:xfrm>
            <a:off x="7467480" y="1828800"/>
            <a:ext cx="1143000" cy="76212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AutoShape 42"/>
          <p:cNvCxnSpPr>
            <a:stCxn id="555" idx="0"/>
            <a:endCxn id="568" idx="4"/>
          </p:cNvCxnSpPr>
          <p:nvPr/>
        </p:nvCxnSpPr>
        <p:spPr>
          <a:xfrm flipV="1">
            <a:off x="8038800" y="25902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43"/>
          <p:cNvCxnSpPr>
            <a:stCxn id="568" idx="2"/>
            <a:endCxn id="564" idx="3"/>
          </p:cNvCxnSpPr>
          <p:nvPr/>
        </p:nvCxnSpPr>
        <p:spPr>
          <a:xfrm rot="10800000">
            <a:off x="6171480" y="1828080"/>
            <a:ext cx="1296000" cy="38160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AutoShape 44"/>
          <p:cNvCxnSpPr>
            <a:stCxn id="568" idx="2"/>
            <a:endCxn id="563" idx="3"/>
          </p:cNvCxnSpPr>
          <p:nvPr/>
        </p:nvCxnSpPr>
        <p:spPr>
          <a:xfrm flipV="1" rot="10800000">
            <a:off x="6857280" y="2208600"/>
            <a:ext cx="610200" cy="42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Line 46"/>
          <p:cNvSpPr/>
          <p:nvPr/>
        </p:nvSpPr>
        <p:spPr>
          <a:xfrm>
            <a:off x="601992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47"/>
          <p:cNvSpPr/>
          <p:nvPr/>
        </p:nvSpPr>
        <p:spPr>
          <a:xfrm flipH="1">
            <a:off x="68580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8"/>
          <p:cNvSpPr/>
          <p:nvPr/>
        </p:nvSpPr>
        <p:spPr>
          <a:xfrm>
            <a:off x="60958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50"/>
          <p:cNvSpPr/>
          <p:nvPr/>
        </p:nvSpPr>
        <p:spPr>
          <a:xfrm flipH="1">
            <a:off x="480024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53"/>
          <p:cNvSpPr/>
          <p:nvPr/>
        </p:nvSpPr>
        <p:spPr>
          <a:xfrm>
            <a:off x="4800600" y="51055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54"/>
          <p:cNvSpPr/>
          <p:nvPr/>
        </p:nvSpPr>
        <p:spPr>
          <a:xfrm flipH="1">
            <a:off x="48006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5"/>
          <p:cNvSpPr/>
          <p:nvPr/>
        </p:nvSpPr>
        <p:spPr>
          <a:xfrm flipH="1">
            <a:off x="266688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56"/>
          <p:cNvSpPr/>
          <p:nvPr/>
        </p:nvSpPr>
        <p:spPr>
          <a:xfrm>
            <a:off x="27432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7"/>
          <p:cNvSpPr/>
          <p:nvPr/>
        </p:nvSpPr>
        <p:spPr>
          <a:xfrm>
            <a:off x="38098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58"/>
          <p:cNvSpPr/>
          <p:nvPr/>
        </p:nvSpPr>
        <p:spPr>
          <a:xfrm>
            <a:off x="1371600" y="4495680"/>
            <a:ext cx="1219320" cy="68580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2362320" y="388620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>
            <a:off x="25909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62"/>
          <p:cNvSpPr/>
          <p:nvPr/>
        </p:nvSpPr>
        <p:spPr>
          <a:xfrm>
            <a:off x="80773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4"/>
          <p:cNvSpPr/>
          <p:nvPr/>
        </p:nvSpPr>
        <p:spPr>
          <a:xfrm flipH="1">
            <a:off x="1294920" y="1981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67"/>
          <p:cNvSpPr/>
          <p:nvPr/>
        </p:nvSpPr>
        <p:spPr>
          <a:xfrm>
            <a:off x="38098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68"/>
          <p:cNvSpPr/>
          <p:nvPr/>
        </p:nvSpPr>
        <p:spPr>
          <a:xfrm>
            <a:off x="396252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71"/>
          <p:cNvSpPr/>
          <p:nvPr/>
        </p:nvSpPr>
        <p:spPr>
          <a:xfrm flipH="1">
            <a:off x="1294920" y="1828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72"/>
          <p:cNvSpPr/>
          <p:nvPr/>
        </p:nvSpPr>
        <p:spPr>
          <a:xfrm>
            <a:off x="20574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74"/>
          <p:cNvSpPr/>
          <p:nvPr/>
        </p:nvSpPr>
        <p:spPr>
          <a:xfrm>
            <a:off x="1295280" y="1981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AutoShape 75"/>
          <p:cNvCxnSpPr>
            <a:stCxn id="561" idx="2"/>
            <a:endCxn id="564" idx="1"/>
          </p:cNvCxnSpPr>
          <p:nvPr/>
        </p:nvCxnSpPr>
        <p:spPr>
          <a:xfrm flipH="1" rot="10800000">
            <a:off x="1294200" y="1828080"/>
            <a:ext cx="2515320" cy="4077360"/>
          </a:xfrm>
          <a:prstGeom prst="bentConnector3">
            <a:avLst>
              <a:gd name="adj1" fmla="val -90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Text Box 76"/>
          <p:cNvSpPr/>
          <p:nvPr/>
        </p:nvSpPr>
        <p:spPr>
          <a:xfrm>
            <a:off x="4267080" y="281952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Vie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7"/>
          <p:cNvSpPr/>
          <p:nvPr/>
        </p:nvSpPr>
        <p:spPr>
          <a:xfrm>
            <a:off x="6323400" y="4191120"/>
            <a:ext cx="10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EA29-24D2-46F4-9329-8D8A22733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System Compon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ext Op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s index words (toke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opword remov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emm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dex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s 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ted 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word to document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ar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s documents that contain a given query token from the inverted ind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an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ores all retrieved documents according to a relevance 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3C23-4557-4000-BB64-09B3ACA9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System Components (continued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User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ages interaction with the u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 input and document outpu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evance feedbac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isualization of resul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Query Op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form the query to improve retriev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 expansion using a thesauru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 transformation using relevance feedbac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E81E-1EDA-4ED6-89A0-8969BF61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IR to HTML documents on the World Wid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st assemble document corpus by spidering the web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n exploit the structural layout information in HTML (XML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ocuments change uncontrollabl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n exploit the link structure of the web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4BEA-9CBF-4499-B07F-43AAEBD3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05" name="Group 108"/>
          <p:cNvGrpSpPr/>
          <p:nvPr/>
        </p:nvGrpSpPr>
        <p:grpSpPr>
          <a:xfrm>
            <a:off x="3657600" y="3276720"/>
            <a:ext cx="2971800" cy="3147840"/>
            <a:chOff x="3657600" y="3276720"/>
            <a:chExt cx="2971800" cy="3147840"/>
          </a:xfrm>
        </p:grpSpPr>
        <p:grpSp>
          <p:nvGrpSpPr>
            <p:cNvPr id="606" name="Group 107"/>
            <p:cNvGrpSpPr/>
            <p:nvPr/>
          </p:nvGrpSpPr>
          <p:grpSpPr>
            <a:xfrm>
              <a:off x="3657600" y="3276720"/>
              <a:ext cx="2971800" cy="3147840"/>
              <a:chOff x="3657600" y="3276720"/>
              <a:chExt cx="2971800" cy="3147840"/>
            </a:xfrm>
          </p:grpSpPr>
          <p:pic>
            <p:nvPicPr>
              <p:cNvPr id="607" name="Picture 4" descr="C:\Program Files\MSOffice\Clipart\Popular\amconfus.wmf"/>
              <p:cNvPicPr/>
              <p:nvPr/>
            </p:nvPicPr>
            <p:blipFill>
              <a:blip r:embed="rId1"/>
              <a:stretch/>
            </p:blipFill>
            <p:spPr>
              <a:xfrm>
                <a:off x="3657600" y="4419720"/>
                <a:ext cx="932040" cy="20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AutoShape 5"/>
              <p:cNvSpPr/>
              <p:nvPr/>
            </p:nvSpPr>
            <p:spPr>
              <a:xfrm>
                <a:off x="4495680" y="3276720"/>
                <a:ext cx="1295640" cy="914400"/>
              </a:xfrm>
              <a:prstGeom prst="wedgeRoundRectCallout">
                <a:avLst>
                  <a:gd name="adj1" fmla="val -59314"/>
                  <a:gd name="adj2" fmla="val 106944"/>
                  <a:gd name="adj3" fmla="val 16667"/>
                </a:avLst>
              </a:prstGeom>
              <a:solidFill>
                <a:srgbClr val="11d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9"/>
              <p:cNvSpPr/>
              <p:nvPr/>
            </p:nvSpPr>
            <p:spPr>
              <a:xfrm>
                <a:off x="5791320" y="38098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Rectangle 6"/>
            <p:cNvSpPr/>
            <p:nvPr/>
          </p:nvSpPr>
          <p:spPr>
            <a:xfrm>
              <a:off x="4648320" y="3352680"/>
              <a:ext cx="94608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Rectangle 7"/>
          <p:cNvSpPr/>
          <p:nvPr/>
        </p:nvSpPr>
        <p:spPr>
          <a:xfrm>
            <a:off x="6629400" y="320040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09"/>
          <p:cNvGrpSpPr/>
          <p:nvPr/>
        </p:nvGrpSpPr>
        <p:grpSpPr>
          <a:xfrm>
            <a:off x="5183640" y="4267080"/>
            <a:ext cx="3350880" cy="2011320"/>
            <a:chOff x="5183640" y="4267080"/>
            <a:chExt cx="3350880" cy="2011320"/>
          </a:xfrm>
        </p:grpSpPr>
        <p:sp>
          <p:nvSpPr>
            <p:cNvPr id="613" name="Oval 10"/>
            <p:cNvSpPr/>
            <p:nvPr/>
          </p:nvSpPr>
          <p:spPr>
            <a:xfrm>
              <a:off x="6781680" y="4952880"/>
              <a:ext cx="175284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2"/>
            <p:cNvSpPr/>
            <p:nvPr/>
          </p:nvSpPr>
          <p:spPr>
            <a:xfrm>
              <a:off x="7620120" y="4267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5486400" y="4724280"/>
              <a:ext cx="12193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14"/>
            <p:cNvSpPr/>
            <p:nvPr/>
          </p:nvSpPr>
          <p:spPr>
            <a:xfrm>
              <a:off x="5183640" y="4724280"/>
              <a:ext cx="1794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 Page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 Page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 Page3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Line 8"/>
          <p:cNvSpPr/>
          <p:nvPr/>
        </p:nvSpPr>
        <p:spPr>
          <a:xfrm>
            <a:off x="76201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Group 113"/>
          <p:cNvGrpSpPr/>
          <p:nvPr/>
        </p:nvGrpSpPr>
        <p:grpSpPr>
          <a:xfrm>
            <a:off x="6248520" y="1828800"/>
            <a:ext cx="2209680" cy="914400"/>
            <a:chOff x="6248520" y="1828800"/>
            <a:chExt cx="2209680" cy="914400"/>
          </a:xfrm>
        </p:grpSpPr>
        <p:sp>
          <p:nvSpPr>
            <p:cNvPr id="619" name="Oval 3"/>
            <p:cNvSpPr/>
            <p:nvPr/>
          </p:nvSpPr>
          <p:spPr>
            <a:xfrm>
              <a:off x="6781680" y="1828800"/>
              <a:ext cx="167652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pu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9"/>
            <p:cNvSpPr/>
            <p:nvPr/>
          </p:nvSpPr>
          <p:spPr>
            <a:xfrm>
              <a:off x="6248520" y="2286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11"/>
          <p:cNvGrpSpPr/>
          <p:nvPr/>
        </p:nvGrpSpPr>
        <p:grpSpPr>
          <a:xfrm>
            <a:off x="838080" y="1523880"/>
            <a:ext cx="2743200" cy="2210040"/>
            <a:chOff x="838080" y="1523880"/>
            <a:chExt cx="2743200" cy="2210040"/>
          </a:xfrm>
        </p:grpSpPr>
        <p:sp>
          <p:nvSpPr>
            <p:cNvPr id="622" name="Cloud"/>
            <p:cNvSpPr/>
            <p:nvPr/>
          </p:nvSpPr>
          <p:spPr>
            <a:xfrm>
              <a:off x="838080" y="1523880"/>
              <a:ext cx="2743200" cy="221004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333360 h 2210040"/>
                <a:gd name="textAreaBottom" fmla="*/ 177372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23"/>
            <p:cNvSpPr/>
            <p:nvPr/>
          </p:nvSpPr>
          <p:spPr>
            <a:xfrm>
              <a:off x="1829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Group 24"/>
            <p:cNvGrpSpPr/>
            <p:nvPr/>
          </p:nvGrpSpPr>
          <p:grpSpPr>
            <a:xfrm>
              <a:off x="1600200" y="2209680"/>
              <a:ext cx="1371240" cy="1219320"/>
              <a:chOff x="1600200" y="2209680"/>
              <a:chExt cx="1371240" cy="1219320"/>
            </a:xfrm>
          </p:grpSpPr>
          <p:grpSp>
            <p:nvGrpSpPr>
              <p:cNvPr id="625" name="Group 25"/>
              <p:cNvGrpSpPr/>
              <p:nvPr/>
            </p:nvGrpSpPr>
            <p:grpSpPr>
              <a:xfrm>
                <a:off x="1600200" y="2561400"/>
                <a:ext cx="259920" cy="304920"/>
                <a:chOff x="1600200" y="2561400"/>
                <a:chExt cx="259920" cy="304920"/>
              </a:xfrm>
            </p:grpSpPr>
            <p:sp>
              <p:nvSpPr>
                <p:cNvPr id="626" name="Rectangle 26"/>
                <p:cNvSpPr/>
                <p:nvPr/>
              </p:nvSpPr>
              <p:spPr>
                <a:xfrm>
                  <a:off x="1600200" y="256140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Line 27"/>
                <p:cNvSpPr/>
                <p:nvPr/>
              </p:nvSpPr>
              <p:spPr>
                <a:xfrm>
                  <a:off x="1671120" y="259632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Line 28"/>
                <p:cNvSpPr/>
                <p:nvPr/>
              </p:nvSpPr>
              <p:spPr>
                <a:xfrm>
                  <a:off x="1623600" y="26258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29"/>
                <p:cNvSpPr/>
                <p:nvPr/>
              </p:nvSpPr>
              <p:spPr>
                <a:xfrm>
                  <a:off x="1623600" y="26550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Line 30"/>
                <p:cNvSpPr/>
                <p:nvPr/>
              </p:nvSpPr>
              <p:spPr>
                <a:xfrm>
                  <a:off x="1623600" y="26845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Line 31"/>
                <p:cNvSpPr/>
                <p:nvPr/>
              </p:nvSpPr>
              <p:spPr>
                <a:xfrm>
                  <a:off x="1623600" y="2713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32"/>
                <p:cNvSpPr/>
                <p:nvPr/>
              </p:nvSpPr>
              <p:spPr>
                <a:xfrm>
                  <a:off x="1671120" y="27432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33"/>
                <p:cNvSpPr/>
                <p:nvPr/>
              </p:nvSpPr>
              <p:spPr>
                <a:xfrm>
                  <a:off x="1623600" y="27723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Line 34"/>
                <p:cNvSpPr/>
                <p:nvPr/>
              </p:nvSpPr>
              <p:spPr>
                <a:xfrm>
                  <a:off x="1623600" y="28018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Line 35"/>
                <p:cNvSpPr/>
                <p:nvPr/>
              </p:nvSpPr>
              <p:spPr>
                <a:xfrm>
                  <a:off x="1623600" y="28314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36"/>
              <p:cNvGrpSpPr/>
              <p:nvPr/>
            </p:nvGrpSpPr>
            <p:grpSpPr>
              <a:xfrm>
                <a:off x="2191320" y="2702160"/>
                <a:ext cx="259920" cy="304920"/>
                <a:chOff x="2191320" y="2702160"/>
                <a:chExt cx="259920" cy="304920"/>
              </a:xfrm>
            </p:grpSpPr>
            <p:sp>
              <p:nvSpPr>
                <p:cNvPr id="637" name="Rectangle 37"/>
                <p:cNvSpPr/>
                <p:nvPr/>
              </p:nvSpPr>
              <p:spPr>
                <a:xfrm>
                  <a:off x="2191320" y="270216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38"/>
                <p:cNvSpPr/>
                <p:nvPr/>
              </p:nvSpPr>
              <p:spPr>
                <a:xfrm>
                  <a:off x="2262240" y="27370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39"/>
                <p:cNvSpPr/>
                <p:nvPr/>
              </p:nvSpPr>
              <p:spPr>
                <a:xfrm>
                  <a:off x="2214720" y="27666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Line 40"/>
                <p:cNvSpPr/>
                <p:nvPr/>
              </p:nvSpPr>
              <p:spPr>
                <a:xfrm>
                  <a:off x="2214720" y="27957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Line 41"/>
                <p:cNvSpPr/>
                <p:nvPr/>
              </p:nvSpPr>
              <p:spPr>
                <a:xfrm>
                  <a:off x="2214720" y="28252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Line 42"/>
                <p:cNvSpPr/>
                <p:nvPr/>
              </p:nvSpPr>
              <p:spPr>
                <a:xfrm>
                  <a:off x="2214720" y="28544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43"/>
                <p:cNvSpPr/>
                <p:nvPr/>
              </p:nvSpPr>
              <p:spPr>
                <a:xfrm>
                  <a:off x="2262240" y="288396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Line 44"/>
                <p:cNvSpPr/>
                <p:nvPr/>
              </p:nvSpPr>
              <p:spPr>
                <a:xfrm>
                  <a:off x="2214720" y="2913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45"/>
                <p:cNvSpPr/>
                <p:nvPr/>
              </p:nvSpPr>
              <p:spPr>
                <a:xfrm>
                  <a:off x="2214720" y="2942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46"/>
                <p:cNvSpPr/>
                <p:nvPr/>
              </p:nvSpPr>
              <p:spPr>
                <a:xfrm>
                  <a:off x="2214720" y="2972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Group 47"/>
              <p:cNvGrpSpPr/>
              <p:nvPr/>
            </p:nvGrpSpPr>
            <p:grpSpPr>
              <a:xfrm>
                <a:off x="1883880" y="3124080"/>
                <a:ext cx="259920" cy="304920"/>
                <a:chOff x="1883880" y="3124080"/>
                <a:chExt cx="259920" cy="304920"/>
              </a:xfrm>
            </p:grpSpPr>
            <p:sp>
              <p:nvSpPr>
                <p:cNvPr id="648" name="Rectangle 48"/>
                <p:cNvSpPr/>
                <p:nvPr/>
              </p:nvSpPr>
              <p:spPr>
                <a:xfrm>
                  <a:off x="1883880" y="312408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Line 49"/>
                <p:cNvSpPr/>
                <p:nvPr/>
              </p:nvSpPr>
              <p:spPr>
                <a:xfrm>
                  <a:off x="1954800" y="31590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50"/>
                <p:cNvSpPr/>
                <p:nvPr/>
              </p:nvSpPr>
              <p:spPr>
                <a:xfrm>
                  <a:off x="1907280" y="31885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51"/>
                <p:cNvSpPr/>
                <p:nvPr/>
              </p:nvSpPr>
              <p:spPr>
                <a:xfrm>
                  <a:off x="1907280" y="3217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52"/>
                <p:cNvSpPr/>
                <p:nvPr/>
              </p:nvSpPr>
              <p:spPr>
                <a:xfrm>
                  <a:off x="1907280" y="32472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53"/>
                <p:cNvSpPr/>
                <p:nvPr/>
              </p:nvSpPr>
              <p:spPr>
                <a:xfrm>
                  <a:off x="1907280" y="32763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54"/>
                <p:cNvSpPr/>
                <p:nvPr/>
              </p:nvSpPr>
              <p:spPr>
                <a:xfrm>
                  <a:off x="1954800" y="33058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Line 55"/>
                <p:cNvSpPr/>
                <p:nvPr/>
              </p:nvSpPr>
              <p:spPr>
                <a:xfrm>
                  <a:off x="1907280" y="33350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56"/>
                <p:cNvSpPr/>
                <p:nvPr/>
              </p:nvSpPr>
              <p:spPr>
                <a:xfrm>
                  <a:off x="1907280" y="33645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Line 57"/>
                <p:cNvSpPr/>
                <p:nvPr/>
              </p:nvSpPr>
              <p:spPr>
                <a:xfrm>
                  <a:off x="1907280" y="33940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Group 58"/>
              <p:cNvGrpSpPr/>
              <p:nvPr/>
            </p:nvGrpSpPr>
            <p:grpSpPr>
              <a:xfrm>
                <a:off x="2711520" y="2913120"/>
                <a:ext cx="259920" cy="304920"/>
                <a:chOff x="2711520" y="2913120"/>
                <a:chExt cx="259920" cy="304920"/>
              </a:xfrm>
            </p:grpSpPr>
            <p:sp>
              <p:nvSpPr>
                <p:cNvPr id="659" name="Rectangle 59"/>
                <p:cNvSpPr/>
                <p:nvPr/>
              </p:nvSpPr>
              <p:spPr>
                <a:xfrm>
                  <a:off x="2711520" y="291312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Line 60"/>
                <p:cNvSpPr/>
                <p:nvPr/>
              </p:nvSpPr>
              <p:spPr>
                <a:xfrm>
                  <a:off x="2782440" y="294804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Line 61"/>
                <p:cNvSpPr/>
                <p:nvPr/>
              </p:nvSpPr>
              <p:spPr>
                <a:xfrm>
                  <a:off x="2734920" y="29775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62"/>
                <p:cNvSpPr/>
                <p:nvPr/>
              </p:nvSpPr>
              <p:spPr>
                <a:xfrm>
                  <a:off x="2734920" y="30067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Line 63"/>
                <p:cNvSpPr/>
                <p:nvPr/>
              </p:nvSpPr>
              <p:spPr>
                <a:xfrm>
                  <a:off x="2734920" y="30362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Line 64"/>
                <p:cNvSpPr/>
                <p:nvPr/>
              </p:nvSpPr>
              <p:spPr>
                <a:xfrm>
                  <a:off x="2734920" y="30654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Line 65"/>
                <p:cNvSpPr/>
                <p:nvPr/>
              </p:nvSpPr>
              <p:spPr>
                <a:xfrm>
                  <a:off x="2782440" y="309492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66"/>
                <p:cNvSpPr/>
                <p:nvPr/>
              </p:nvSpPr>
              <p:spPr>
                <a:xfrm>
                  <a:off x="2734920" y="31240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Line 67"/>
                <p:cNvSpPr/>
                <p:nvPr/>
              </p:nvSpPr>
              <p:spPr>
                <a:xfrm>
                  <a:off x="2734920" y="31536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Line 68"/>
                <p:cNvSpPr/>
                <p:nvPr/>
              </p:nvSpPr>
              <p:spPr>
                <a:xfrm>
                  <a:off x="2734920" y="3183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Group 69"/>
              <p:cNvGrpSpPr/>
              <p:nvPr/>
            </p:nvGrpSpPr>
            <p:grpSpPr>
              <a:xfrm>
                <a:off x="2049480" y="2209680"/>
                <a:ext cx="259920" cy="304920"/>
                <a:chOff x="2049480" y="2209680"/>
                <a:chExt cx="259920" cy="304920"/>
              </a:xfrm>
            </p:grpSpPr>
            <p:sp>
              <p:nvSpPr>
                <p:cNvPr id="670" name="Rectangle 70"/>
                <p:cNvSpPr/>
                <p:nvPr/>
              </p:nvSpPr>
              <p:spPr>
                <a:xfrm>
                  <a:off x="2049480" y="220968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Line 71"/>
                <p:cNvSpPr/>
                <p:nvPr/>
              </p:nvSpPr>
              <p:spPr>
                <a:xfrm>
                  <a:off x="2120400" y="22446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Line 72"/>
                <p:cNvSpPr/>
                <p:nvPr/>
              </p:nvSpPr>
              <p:spPr>
                <a:xfrm>
                  <a:off x="2072880" y="2274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Line 73"/>
                <p:cNvSpPr/>
                <p:nvPr/>
              </p:nvSpPr>
              <p:spPr>
                <a:xfrm>
                  <a:off x="2072880" y="23032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Line 74"/>
                <p:cNvSpPr/>
                <p:nvPr/>
              </p:nvSpPr>
              <p:spPr>
                <a:xfrm>
                  <a:off x="2072880" y="23328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Line 75"/>
                <p:cNvSpPr/>
                <p:nvPr/>
              </p:nvSpPr>
              <p:spPr>
                <a:xfrm>
                  <a:off x="2072880" y="23619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76"/>
                <p:cNvSpPr/>
                <p:nvPr/>
              </p:nvSpPr>
              <p:spPr>
                <a:xfrm>
                  <a:off x="2120400" y="23914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77"/>
                <p:cNvSpPr/>
                <p:nvPr/>
              </p:nvSpPr>
              <p:spPr>
                <a:xfrm>
                  <a:off x="2072880" y="2420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78"/>
                <p:cNvSpPr/>
                <p:nvPr/>
              </p:nvSpPr>
              <p:spPr>
                <a:xfrm>
                  <a:off x="2072880" y="2450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79"/>
                <p:cNvSpPr/>
                <p:nvPr/>
              </p:nvSpPr>
              <p:spPr>
                <a:xfrm>
                  <a:off x="2072880" y="2479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Group 80"/>
              <p:cNvGrpSpPr/>
              <p:nvPr/>
            </p:nvGrpSpPr>
            <p:grpSpPr>
              <a:xfrm>
                <a:off x="2688120" y="2444040"/>
                <a:ext cx="259920" cy="304560"/>
                <a:chOff x="2688120" y="2444040"/>
                <a:chExt cx="259920" cy="304560"/>
              </a:xfrm>
            </p:grpSpPr>
            <p:sp>
              <p:nvSpPr>
                <p:cNvPr id="681" name="Rectangle 81"/>
                <p:cNvSpPr/>
                <p:nvPr/>
              </p:nvSpPr>
              <p:spPr>
                <a:xfrm>
                  <a:off x="2688120" y="2444040"/>
                  <a:ext cx="259920" cy="304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82"/>
                <p:cNvSpPr/>
                <p:nvPr/>
              </p:nvSpPr>
              <p:spPr>
                <a:xfrm>
                  <a:off x="2759040" y="247896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83"/>
                <p:cNvSpPr/>
                <p:nvPr/>
              </p:nvSpPr>
              <p:spPr>
                <a:xfrm>
                  <a:off x="2711520" y="25084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84"/>
                <p:cNvSpPr/>
                <p:nvPr/>
              </p:nvSpPr>
              <p:spPr>
                <a:xfrm>
                  <a:off x="2711520" y="2537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85"/>
                <p:cNvSpPr/>
                <p:nvPr/>
              </p:nvSpPr>
              <p:spPr>
                <a:xfrm>
                  <a:off x="2711520" y="2567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Line 86"/>
                <p:cNvSpPr/>
                <p:nvPr/>
              </p:nvSpPr>
              <p:spPr>
                <a:xfrm>
                  <a:off x="2711520" y="25963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Line 87"/>
                <p:cNvSpPr/>
                <p:nvPr/>
              </p:nvSpPr>
              <p:spPr>
                <a:xfrm>
                  <a:off x="2759040" y="26254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Line 88"/>
                <p:cNvSpPr/>
                <p:nvPr/>
              </p:nvSpPr>
              <p:spPr>
                <a:xfrm>
                  <a:off x="2711520" y="26550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Line 89"/>
                <p:cNvSpPr/>
                <p:nvPr/>
              </p:nvSpPr>
              <p:spPr>
                <a:xfrm>
                  <a:off x="2711520" y="2684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90"/>
                <p:cNvSpPr/>
                <p:nvPr/>
              </p:nvSpPr>
              <p:spPr>
                <a:xfrm>
                  <a:off x="2711520" y="2713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" name="Rectangle 91"/>
              <p:cNvSpPr/>
              <p:nvPr/>
            </p:nvSpPr>
            <p:spPr>
              <a:xfrm>
                <a:off x="2333160" y="2795760"/>
                <a:ext cx="94320" cy="46800"/>
              </a:xfrm>
              <a:prstGeom prst="rect">
                <a:avLst/>
              </a:prstGeom>
              <a:solidFill>
                <a:srgbClr val="11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92"/>
              <p:cNvSpPr/>
              <p:nvPr/>
            </p:nvSpPr>
            <p:spPr>
              <a:xfrm>
                <a:off x="2735280" y="2444040"/>
                <a:ext cx="189000" cy="46800"/>
              </a:xfrm>
              <a:prstGeom prst="rect">
                <a:avLst/>
              </a:prstGeom>
              <a:solidFill>
                <a:srgbClr val="98ed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93"/>
              <p:cNvSpPr/>
              <p:nvPr/>
            </p:nvSpPr>
            <p:spPr>
              <a:xfrm>
                <a:off x="1954800" y="3194640"/>
                <a:ext cx="118080" cy="70200"/>
              </a:xfrm>
              <a:prstGeom prst="rect">
                <a:avLst/>
              </a:prstGeom>
              <a:solidFill>
                <a:srgbClr val="f4f43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94"/>
              <p:cNvSpPr/>
              <p:nvPr/>
            </p:nvSpPr>
            <p:spPr>
              <a:xfrm flipV="1">
                <a:off x="1718280" y="2349720"/>
                <a:ext cx="33120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95"/>
              <p:cNvSpPr/>
              <p:nvPr/>
            </p:nvSpPr>
            <p:spPr>
              <a:xfrm>
                <a:off x="1742040" y="2748960"/>
                <a:ext cx="449280" cy="164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96"/>
              <p:cNvSpPr/>
              <p:nvPr/>
            </p:nvSpPr>
            <p:spPr>
              <a:xfrm flipH="1" flipV="1">
                <a:off x="2309040" y="2350080"/>
                <a:ext cx="47268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97"/>
              <p:cNvSpPr/>
              <p:nvPr/>
            </p:nvSpPr>
            <p:spPr>
              <a:xfrm flipV="1">
                <a:off x="2829960" y="2748600"/>
                <a:ext cx="0" cy="28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98"/>
              <p:cNvSpPr/>
              <p:nvPr/>
            </p:nvSpPr>
            <p:spPr>
              <a:xfrm flipV="1">
                <a:off x="2049480" y="3077280"/>
                <a:ext cx="66204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99"/>
              <p:cNvSpPr/>
              <p:nvPr/>
            </p:nvSpPr>
            <p:spPr>
              <a:xfrm flipH="1" flipV="1">
                <a:off x="1742040" y="2866320"/>
                <a:ext cx="283680" cy="375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100"/>
              <p:cNvSpPr/>
              <p:nvPr/>
            </p:nvSpPr>
            <p:spPr>
              <a:xfrm>
                <a:off x="2167560" y="2350080"/>
                <a:ext cx="94320" cy="351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1"/>
              <p:cNvSpPr/>
              <p:nvPr/>
            </p:nvSpPr>
            <p:spPr>
              <a:xfrm flipV="1">
                <a:off x="2356920" y="2631600"/>
                <a:ext cx="331200" cy="14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02"/>
              <p:cNvSpPr/>
              <p:nvPr/>
            </p:nvSpPr>
            <p:spPr>
              <a:xfrm>
                <a:off x="2356920" y="2913120"/>
                <a:ext cx="354600" cy="9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3" name="Group 112"/>
          <p:cNvGrpSpPr/>
          <p:nvPr/>
        </p:nvGrpSpPr>
        <p:grpSpPr>
          <a:xfrm>
            <a:off x="3200400" y="1828800"/>
            <a:ext cx="2971800" cy="1066680"/>
            <a:chOff x="3200400" y="1828800"/>
            <a:chExt cx="2971800" cy="1066680"/>
          </a:xfrm>
        </p:grpSpPr>
        <p:sp>
          <p:nvSpPr>
            <p:cNvPr id="704" name="Line 18"/>
            <p:cNvSpPr/>
            <p:nvPr/>
          </p:nvSpPr>
          <p:spPr>
            <a:xfrm>
              <a:off x="3200400" y="2286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Group 110"/>
            <p:cNvGrpSpPr/>
            <p:nvPr/>
          </p:nvGrpSpPr>
          <p:grpSpPr>
            <a:xfrm>
              <a:off x="4114800" y="1828800"/>
              <a:ext cx="2057400" cy="1066680"/>
              <a:chOff x="4114800" y="1828800"/>
              <a:chExt cx="2057400" cy="1066680"/>
            </a:xfrm>
          </p:grpSpPr>
          <p:sp>
            <p:nvSpPr>
              <p:cNvPr id="706" name="Rectangle 17"/>
              <p:cNvSpPr/>
              <p:nvPr/>
            </p:nvSpPr>
            <p:spPr>
              <a:xfrm>
                <a:off x="4114800" y="1828800"/>
                <a:ext cx="2057400" cy="1066680"/>
              </a:xfrm>
              <a:prstGeom prst="rect">
                <a:avLst/>
              </a:prstGeom>
              <a:solidFill>
                <a:srgbClr val="98ed8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07" name="Picture 103" descr="C:\Program Files\MSWorks\Clipart\AN00080_.WMF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2286000"/>
                <a:ext cx="91440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Rectangle 104"/>
              <p:cNvSpPr/>
              <p:nvPr/>
            </p:nvSpPr>
            <p:spPr>
              <a:xfrm>
                <a:off x="4649040" y="182880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ider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D9B5-BBC3-4328-A299-8251BF10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IR-Related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document categ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filtering (spam filt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document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ing information o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ex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answ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99BA-2F40-4DEC-8CD5-6612A30DD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0-70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itial exploration of text retrieval systems for “small” corpora of scientific abstracts, and law and business docu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velopment of the basic Boolean and vector-space models of retriev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. Salton and his students at Cornell University are the leading researchers in the are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3F60-37E5-4348-A761-9A6675C6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rge document database systems, many run by companies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exis-Nexi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ialog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EDLIN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7342-EAE9-485A-A105-01572F763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arching FTPable documents on the Intern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rchi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AI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arching the World Wide We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yco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ahoo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ltavist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D102-2D1C-4555-ABC1-0B670F99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’s continu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rganized Competi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IST TREC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ommender Syste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ingo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mazon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etPerception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ed Text Categorization &amp; Clust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87C1-4FDB-4CFB-83D3-95351EE1F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formation Retrieval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IR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exing and retrieval of textual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 for pages on the World Wide Web is the “killer ap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firstly with retriev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ev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 to a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secondly with retrieving fro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s of documen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fficien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1710-36DD-4075-9AD5-D874398ED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nk analysis for Web Sear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oogl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ed Information Extrac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llel Process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p/Reduc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stion Answ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REC Q/A track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5222-14E4-4031-B8AC-2BEFEFAE4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’s continu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ltimedia I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dio and music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ross-Language I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ARPA Tide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ocument Summariz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earning to R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ent IR 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telligent Personal Assistan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iri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rtan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oogle Now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lex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lex Question Answ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BM Watson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istributional Semantic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ep Learn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59AE-6274-4D7F-8C4C-EE3500E25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D017-BBD0-4028-AAE5-F3D44CA7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ed Are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and Information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9D0B-F573-470E-80F1-2EE675C3E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base Manage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tored in relational tables rather than free-form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efficient processing of well-defined queries in a formal language (SQ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er semantics for both data and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move towar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-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(XML) brings it closer to 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10CA-6AD1-40D3-BA60-329D73682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ry and Information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the human user aspects of information retrieval (human-computer interaction, user interface, visualiz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with effective categorization of human knowl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with citation analysi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bliometric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ructure of inform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work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ings it closer to CS &amp; 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A692-C21C-410A-A441-B861ED54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rtificial Intellig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the representation of knowledge, reasoning, and intelligent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s for representing knowledge and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rst-order Predicate Logi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yesian Network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work on web ontologies and intelligent information agents brings it closer to 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7ABB-2E43-446B-8B95-E62ECAC81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the syntactic, semantic, and pragmatic analysis of natural language text and discou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analyze syntax (phrase structure) and semantics could allow retrieval ba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key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B10A-6FB0-45F8-AE8D-70B8A310A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for determining the sense of an ambiguous word based on contex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rd sense disambig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for identifying specific pieces of information in a documen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 ext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for answering specific NL questions from document corpora or structured data like FreeBase or Google’s Knowledg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8F1-FD0C-465D-92D8-DD0B336D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the development of computational systems that improve their performance with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classification of examples based on learning concepts from labeled training exampl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ervised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methods for clustering unlabeled examples into meaningful group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78EA-5FE4-4E6C-8225-45CAEC4AD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ypical IR Task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corpus of textual natural-language docu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user query in the form of a textual string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ranked set of documents that are relevant to the quer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0410-6156-4919-BF5E-BF732658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Learning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Categ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ic hierarchical classification (Yahoo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daptive filtering/routing/recommending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ed spam filtering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ustering of IR query resul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ic formation of hierarchies (Yahoo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for Information Ex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to R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92FE-874E-45B6-B7FA-D5860EBBE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22" name="Picture 7" descr="C:\Program Files\MSOffice\Clipart\Popular\amconfus.wmf"/>
          <p:cNvPicPr/>
          <p:nvPr/>
        </p:nvPicPr>
        <p:blipFill>
          <a:blip r:embed="rId1"/>
          <a:stretch/>
        </p:blipFill>
        <p:spPr>
          <a:xfrm>
            <a:off x="990720" y="4419720"/>
            <a:ext cx="931680" cy="200484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0"/>
          <p:cNvSpPr/>
          <p:nvPr/>
        </p:nvSpPr>
        <p:spPr>
          <a:xfrm>
            <a:off x="3962520" y="3352680"/>
            <a:ext cx="2057400" cy="106704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21"/>
          <p:cNvGrpSpPr/>
          <p:nvPr/>
        </p:nvGrpSpPr>
        <p:grpSpPr>
          <a:xfrm>
            <a:off x="1828800" y="3505320"/>
            <a:ext cx="2133720" cy="914400"/>
            <a:chOff x="1828800" y="3505320"/>
            <a:chExt cx="2133720" cy="914400"/>
          </a:xfrm>
        </p:grpSpPr>
        <p:sp>
          <p:nvSpPr>
            <p:cNvPr id="525" name="AutoShape 8"/>
            <p:cNvSpPr/>
            <p:nvPr/>
          </p:nvSpPr>
          <p:spPr>
            <a:xfrm>
              <a:off x="1828800" y="3505320"/>
              <a:ext cx="1295280" cy="9144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981080" y="3581280"/>
              <a:ext cx="94644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13"/>
            <p:cNvSpPr/>
            <p:nvPr/>
          </p:nvSpPr>
          <p:spPr>
            <a:xfrm>
              <a:off x="3124080" y="39625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23"/>
          <p:cNvGrpSpPr/>
          <p:nvPr/>
        </p:nvGrpSpPr>
        <p:grpSpPr>
          <a:xfrm>
            <a:off x="4114800" y="1981080"/>
            <a:ext cx="2749680" cy="1371600"/>
            <a:chOff x="4114800" y="1981080"/>
            <a:chExt cx="2749680" cy="1371600"/>
          </a:xfrm>
        </p:grpSpPr>
        <p:sp>
          <p:nvSpPr>
            <p:cNvPr id="529" name="Oval 5"/>
            <p:cNvSpPr/>
            <p:nvPr/>
          </p:nvSpPr>
          <p:spPr>
            <a:xfrm>
              <a:off x="4114800" y="1981080"/>
              <a:ext cx="167652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pu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495288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1" name="Picture 15" descr="c:\Program Files\Common Files\Microsoft Shared\Clipart\cagcat50\bs00554_.wmf"/>
            <p:cNvPicPr/>
            <p:nvPr/>
          </p:nvPicPr>
          <p:blipFill>
            <a:blip r:embed="rId2"/>
            <a:stretch/>
          </p:blipFill>
          <p:spPr>
            <a:xfrm>
              <a:off x="5867280" y="1981080"/>
              <a:ext cx="997200" cy="87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22"/>
          <p:cNvGrpSpPr/>
          <p:nvPr/>
        </p:nvGrpSpPr>
        <p:grpSpPr>
          <a:xfrm>
            <a:off x="4114800" y="4419720"/>
            <a:ext cx="3629160" cy="1920600"/>
            <a:chOff x="4114800" y="4419720"/>
            <a:chExt cx="3629160" cy="1920600"/>
          </a:xfrm>
        </p:grpSpPr>
        <p:sp>
          <p:nvSpPr>
            <p:cNvPr id="533" name="Oval 14"/>
            <p:cNvSpPr/>
            <p:nvPr/>
          </p:nvSpPr>
          <p:spPr>
            <a:xfrm>
              <a:off x="4114800" y="5105520"/>
              <a:ext cx="175248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6"/>
            <p:cNvSpPr/>
            <p:nvPr/>
          </p:nvSpPr>
          <p:spPr>
            <a:xfrm>
              <a:off x="4952880" y="4419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6324480" y="4724280"/>
              <a:ext cx="12193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20"/>
            <p:cNvSpPr/>
            <p:nvPr/>
          </p:nvSpPr>
          <p:spPr>
            <a:xfrm>
              <a:off x="6005880" y="4786200"/>
              <a:ext cx="1738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 Doc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 Doc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 Doc3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2C8C-DDD7-4F24-85FD-9601E8A0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 is a subjective judgment and ma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eing on the proper subjec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eing timely (recent information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eing authoritative (from a trusted source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tisfying the goals of the user and his/her intended use of the information 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formation nee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D428-5F3E-4052-A3E7-D1C4953B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eyword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notion of relevance is that the query string appears verbatim in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ghtly less strict notion is that the words in the query appear frequently in the document, in any orde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g of wo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8202-7192-40E9-B6F9-FF4A9910E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s with Key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not retrieve relevant documents that include synonymous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staurant” vs. “café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C” vs. “China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retrieve irrelevant documents that include ambiguous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t” (baseball vs. mammal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le” (company vs. fruit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it” (unit of data vs. act of eating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2678-6713-4ECB-9C3F-FA4BE882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eyond Key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over the basics of keyword-based IR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focus on extensions and recent developments that go beyond key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over the basics of building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R system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focus on basic capabilities and algorithms rather than systems issues that allow scaling to industrial size data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4745-6433-42B7-A047-F842C7A1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lligent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into accoun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word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into accoun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words in the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ng to the user based on direct or indirect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into accoun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16-08-22T20:47:38Z</dcterms:modified>
  <cp:revision>30</cp:revision>
  <dc:subject/>
  <dc:title>Intelligent Information Retrieval and Web Search</dc:title>
</cp:coreProperties>
</file>