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C3C6-7AB2-4741-9CCB-DFB90B773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139B-BBC0-421E-B6E0-9E3F3B162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DEDC-51DD-48F8-8807-135B48F0C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6120-09FB-4E7F-ACCD-B35AC390C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9470-3034-49EE-96D1-8A22CBDBE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86A7-FC20-4516-9C7B-AABC54E63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29B8-F103-4E09-97D9-4C3B75C02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AB2A-1451-4BA9-AD5A-B49746C3A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1729-1644-48D5-A115-025165A9B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E562-0FE1-46CA-AE0B-1F532D6F9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C346-5C71-4501-BB8C-85491713D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F0D6-3F1D-425F-A904-DAC76CD82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2302-FEAA-43B9-80B3-0BEED6714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367B-C189-4457-B17C-37C7578A5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5D84-6829-4694-BCB8-35E1CB6D5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687F-4357-47C4-BEF5-6EAFF2F91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1435-47DF-4BCB-9F01-A6F5338D7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D1D8-16C1-427B-9316-ED782C30E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8614-1568-43FC-B702-97770ED72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CDF1-EE02-4CBD-A21D-35DE3C2B5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0477-D48A-467E-BFCC-E6D31A670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40F4-0AF5-4572-91DF-C540C61C7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C9F4-06DA-40FE-9588-45307C86B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C08B-DD06-4783-A3A2-3F2AC3192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C7A8-337E-402B-9A69-EB3EEE0F2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A3A5-44D3-444A-B25B-2E68645AC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744C-8775-4C05-87B2-487D8724A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DBEE-50DC-4DF0-BDA1-82A2D5771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5EC78-26F5-4F22-A575-0E2C12AE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2431E-CC5C-4DD0-ACA2-557BC9BC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F2978B-7FD5-4322-BA4B-F6AA4D87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ADDBCA-5A6E-42C4-A678-A8E4DEA9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F5031C-B374-4189-8CF5-AAA553EF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BA5192-DB95-4654-861B-2B4FDC45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320922-05CF-41A8-9C5B-3F63E711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D73B46-1D64-4AE8-969C-DA96A3D3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15189D-FC30-435B-9379-EF28CF50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C17AD8-3B7A-42B8-9809-E3B7A7FE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6A845E-DCE8-4C6B-A17D-856CCC1D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1E23A4-C9E0-447A-BD8A-2794E986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2379E-6131-4E17-AD3A-5271D660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B7FF4A-4713-44F7-BCB0-969A3A0C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6E3226-1FC6-45C8-A7A8-D4072D51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E52763-A872-4030-830E-0A0FCFAB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B02E5D-4725-4DDE-9C8D-0B98DC58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5F1ACC-3789-4CF3-B1C9-B8D76170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0E3D8F-E5E6-48A2-8C2D-9E62BBFF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DF10D6-8366-4248-BEC8-4FCD0E26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02A6AA-EBE2-4E80-9DFA-C70CCFFD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1C5FF2-7F65-4079-A995-160FD95B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126FCD-7222-4F1A-8F6B-17E8E618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65327-91A0-4669-B58E-89A8DE30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F41BFE-81D0-461B-8DA2-2B22DC89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5F4898-6DFF-4C70-A2E1-8CB3A6DE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14D65B-4C3A-49E0-BA9E-CC4C2177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3206A7-CEE1-4549-93ED-CEDFCED4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1C0F4E-AF77-46CE-A005-A0B6C35B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6D161F-6D37-4FDD-AA97-DE721C60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3A708F-3E9D-49F0-A948-C22D5ED4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12E64E-FCB8-4E76-BB60-BDC89C97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96342E-1567-43A4-A820-7FF6CA36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93342D-0945-4B1B-B115-A29F21A3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6BB1B-6556-452E-905A-EC37528F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EB7612-09FD-4700-BC61-6D8F5164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65E7B7-7EB2-43EC-AF99-893D3613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F1E55F-5044-417E-B10B-4EF46D23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439AC1-69D4-4A8E-BF92-FCB2BF79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EBB245-979C-42C0-BAF0-C3C427F3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84096A-CF8B-4287-8DB0-42FAB45C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931AFA-21AC-4CCB-9625-E4FDD721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D158AD-5AAA-4211-A105-E353B97E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F5F76A-AEB3-4463-9A87-1935BED4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6D7C5B-1E8C-4971-943D-3BD8E7AD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F90E0-88E3-44D7-BEBE-0309E0C4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B0EC3D-8398-4712-BD1E-EA122FA0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495D9A-8CAE-4E24-913A-961C9DCB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6BADBE-16AC-4E27-A996-CA39F16E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2B5E98-65AE-445F-9E72-828589CC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B1DBF6-E001-44C7-AA3D-E2FF59B5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4454F-B5D5-4A97-B001-B5299E19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225CA-299B-488A-904B-A1A19A82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C90C2-0356-4460-ABB7-FB349C98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5E714-7F55-401C-B8DA-4F9EFCE5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E3CA6-2F60-4B96-AE01-0A0A725A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506F2-20E7-48C1-BB43-88156273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0DF36-F219-4F04-9671-10B58B53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FD259-7750-48CC-96C9-8811D3E0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56F5A-DBFA-40B7-982A-983D1099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90475-A536-43E8-97C1-9BFDF6CD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7CB70-9881-495B-83C2-6EE0DD07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FD3C5-7A15-4E9C-BB07-4AE70188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A03D3-31DF-440E-B665-95A09495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5BC14-8EDF-425E-932D-171DF70B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846D12-C17E-4E86-B2E9-77A3C766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4985D-C7FF-4B97-AE34-6B009AE8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76E94-AA21-4382-AED4-B2EB4356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D95B9-6F25-440A-A1A2-BD90AA5C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76FAC-4867-458B-934A-2F6FA90D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99C24-0515-41B2-B6E0-B5D1488A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F4E4F-8FB6-401A-A97E-096ACCB9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29E99-F5DC-4607-8389-1711856F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8727F-176F-4EE3-AF7D-943EBB56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B1526-FF40-46EF-8971-B145B0F6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A4E301-A801-4BB9-849C-E403DB67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A532F3-841A-4634-8837-67134CFD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1D6DCA-9375-4CB9-95AF-40EF310E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8CBFD-1207-42F0-A8FC-EC17C678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D6C775-E00F-428B-A729-FEB79EB0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300253-0FAC-4E46-9BD9-DA5713E2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7BBD88-0101-49D7-85B3-1E33E580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2066E-7076-4EDD-9B2A-C2319904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CA550B-E598-4D1E-8C98-FEFEE028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12DD60-B6BF-44AD-9818-ECD1C1CF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62A529-10F8-40E9-8F7F-84D1E270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F4F88F-CDD5-4C72-A91C-916985D0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44B1D7-8A1A-40DA-9DB4-5429933F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5A724-1126-4AF1-A75E-4566D183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AE1CF-4EB8-4FDB-924E-6214A353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BDC36B-4977-4230-A97B-4059B231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37AC8-CBB6-46C2-A5FA-57107D02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013E41-FAF9-4EBF-A5B6-6D5B100F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EF5A8-59B8-4B51-9B1C-6B3B47D4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56A2E-9C0B-46BE-88D3-83A46BA6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B0E91-2140-4EFA-A534-DACD1F4E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1A3BD-6E15-479F-AC44-9299FE50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EB3C9-F996-4524-8242-5EA22461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E96EF1-B086-4738-BA3E-61635000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6C2D6-1563-4271-8868-DCD5C2E8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42140-713F-481C-B59C-829A3A6F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FA5BC-F7D8-4E96-9792-32B44606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32EA84-C564-45D3-8489-191394A8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8BBEA4-F8A0-46B1-9D13-7A4577E6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979C0A-0B17-4CA3-BB0E-3807E221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7F5F3B-1520-41B7-B7E1-92AFE2F2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F68C1-388C-4050-97B1-5EC11064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20EBA5-D175-4682-8748-D7E939F7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4D428-A31F-46B5-AF0A-AF468E5F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7C0383-417C-4A80-B7F4-CD35AC5E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AD34B-0536-4AEA-BC34-30A91D03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A52E-BD5D-497D-A98D-5D07CAF9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00F929-C113-4E37-9EC6-E10D19DB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64A80C-D144-40F0-8E2E-DCAC2FFE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75481E-5928-4A11-A5AB-8BBC8A2A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D99151-2030-4D5F-A58C-387A66D9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C596A-233F-41A9-9FB3-6BAC367F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BAA2DB-A9EA-44B4-B00A-BF8BD8A0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CEB74B-F759-43EC-B347-95D26960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9864F3-8A56-4CB7-B912-2B5A9F1E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D6ED60-C7CA-4F3D-B8E5-7ABF86D7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9923CB-66F5-46AF-972F-2994B528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5FEB6-D8F9-4CEC-8F95-CA26CFF2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BF78CC-A452-490A-97C4-EC76349E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BD1C52-3BB5-4FBA-865C-2EF62518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2CC346-DB7B-4710-AF4D-9E96E964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67605B-9ADF-46CE-ACB0-0EB86BA1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D2E704-EF0D-4351-BDCE-D860E324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BFDE53-9A6C-48CA-BAE6-4B0857D7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A9512B-4BA8-440F-B302-04DA2387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16F378-7F02-446D-861D-BB783519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3A7430-4206-4594-91BA-77F1D4AC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BB1CFA-38D5-47E1-951A-0DA79D44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07DE-B86C-4867-9A94-B43DCB12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F92205-B853-40C4-80C0-8928321B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8AD9D6-A64D-489B-A6D0-E73A8990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1F4A79-85E0-4090-BAF7-4B883F37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2883D1-DEF4-4D02-8E21-D8F06A05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2A9202-3EE2-47F9-8299-A8FC232F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1F3656-908B-4F5F-8A66-73225164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1C9DA6-8612-4080-A6C2-DE69B74F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351697-8FE7-448F-883B-AFE405AA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6EDABF-2A87-4F3F-BB2F-127C5A92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BF8A7E-27DB-4388-9D7F-F8B05D9F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9A3A-8F6D-4106-8620-ADD514507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DF6C-A432-4DF6-BC66-06F2123FB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F569-A97B-417F-87C2-6B1DDE348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4D25-8540-4E16-8325-61165E31F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BB3C-6CE1-4F1C-BAE7-9EF63FB72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6921-071A-43FC-9084-E11A6A2BA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329A-C389-4595-92E3-89572C503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CCDA-C8FC-46A2-8DDB-98BC31D02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D679-ADEF-4261-865F-8985F30DC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6752-B32E-42BE-BC75-DA7E110B3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EBA9-4719-4398-8EEA-5E942FA7D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9408-F2FB-4120-8D93-C92B04A11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3EAD-B2BE-425D-AE80-BCB1EE021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Information Retrieval</a:t>
            </a:r>
            <a:br>
              <a:rPr sz="4000"/>
            </a:b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and Web Search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7999-2E96-4A0C-85E2-C21F310C8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System Architectur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7543800" y="4572000"/>
            <a:ext cx="1143000" cy="1447920"/>
          </a:xfrm>
          <a:prstGeom prst="flowChartMagneticDisk">
            <a:avLst/>
          </a:prstGeom>
          <a:solidFill>
            <a:srgbClr val="11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7315200" y="3200400"/>
            <a:ext cx="1447920" cy="91440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5334120" y="3200400"/>
            <a:ext cx="1523880" cy="91440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6"/>
          <p:cNvSpPr/>
          <p:nvPr/>
        </p:nvSpPr>
        <p:spPr>
          <a:xfrm>
            <a:off x="5410080" y="4495680"/>
            <a:ext cx="1447920" cy="762120"/>
          </a:xfrm>
          <a:prstGeom prst="ellipse">
            <a:avLst/>
          </a:prstGeom>
          <a:solidFill>
            <a:srgbClr val="11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3124080" y="3200400"/>
            <a:ext cx="1676520" cy="83808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3124080" y="4419720"/>
            <a:ext cx="1676520" cy="83808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3124080" y="5562720"/>
            <a:ext cx="1676520" cy="83808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Oval 12"/>
          <p:cNvSpPr/>
          <p:nvPr/>
        </p:nvSpPr>
        <p:spPr>
          <a:xfrm>
            <a:off x="1295280" y="5486400"/>
            <a:ext cx="1371600" cy="838080"/>
          </a:xfrm>
          <a:prstGeom prst="ellipse">
            <a:avLst/>
          </a:prstGeom>
          <a:solidFill>
            <a:srgbClr val="11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13"/>
          <p:cNvSpPr/>
          <p:nvPr/>
        </p:nvSpPr>
        <p:spPr>
          <a:xfrm>
            <a:off x="1219320" y="3200400"/>
            <a:ext cx="1523880" cy="838080"/>
          </a:xfrm>
          <a:prstGeom prst="ellipse">
            <a:avLst/>
          </a:prstGeom>
          <a:solidFill>
            <a:srgbClr val="11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14"/>
          <p:cNvSpPr/>
          <p:nvPr/>
        </p:nvSpPr>
        <p:spPr>
          <a:xfrm>
            <a:off x="2895480" y="2362320"/>
            <a:ext cx="3962520" cy="53316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peration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5"/>
          <p:cNvSpPr/>
          <p:nvPr/>
        </p:nvSpPr>
        <p:spPr>
          <a:xfrm>
            <a:off x="3809880" y="1600200"/>
            <a:ext cx="2362320" cy="45720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Oval 23"/>
          <p:cNvSpPr/>
          <p:nvPr/>
        </p:nvSpPr>
        <p:spPr>
          <a:xfrm>
            <a:off x="5334120" y="5486400"/>
            <a:ext cx="1600200" cy="838080"/>
          </a:xfrm>
          <a:prstGeom prst="ellipse">
            <a:avLst/>
          </a:prstGeom>
          <a:solidFill>
            <a:srgbClr val="11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28"/>
          <p:cNvSpPr/>
          <p:nvPr/>
        </p:nvSpPr>
        <p:spPr>
          <a:xfrm>
            <a:off x="1523880" y="2209680"/>
            <a:ext cx="1067040" cy="838440"/>
          </a:xfrm>
          <a:prstGeom prst="ellipse">
            <a:avLst/>
          </a:prstGeom>
          <a:solidFill>
            <a:srgbClr val="11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35"/>
          <p:cNvSpPr/>
          <p:nvPr/>
        </p:nvSpPr>
        <p:spPr>
          <a:xfrm>
            <a:off x="25909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val 39"/>
          <p:cNvSpPr/>
          <p:nvPr/>
        </p:nvSpPr>
        <p:spPr>
          <a:xfrm>
            <a:off x="7467480" y="1828800"/>
            <a:ext cx="1143000" cy="762120"/>
          </a:xfrm>
          <a:prstGeom prst="ellipse">
            <a:avLst/>
          </a:prstGeom>
          <a:solidFill>
            <a:srgbClr val="11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AutoShape 42"/>
          <p:cNvCxnSpPr>
            <a:stCxn id="555" idx="0"/>
            <a:endCxn id="568" idx="4"/>
          </p:cNvCxnSpPr>
          <p:nvPr/>
        </p:nvCxnSpPr>
        <p:spPr>
          <a:xfrm flipV="1">
            <a:off x="8038800" y="259020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AutoShape 43"/>
          <p:cNvCxnSpPr>
            <a:stCxn id="568" idx="2"/>
            <a:endCxn id="564" idx="3"/>
          </p:cNvCxnSpPr>
          <p:nvPr/>
        </p:nvCxnSpPr>
        <p:spPr>
          <a:xfrm rot="10800000">
            <a:off x="6171480" y="1828080"/>
            <a:ext cx="1296000" cy="38160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1" name="AutoShape 44"/>
          <p:cNvCxnSpPr>
            <a:stCxn id="568" idx="2"/>
            <a:endCxn id="563" idx="3"/>
          </p:cNvCxnSpPr>
          <p:nvPr/>
        </p:nvCxnSpPr>
        <p:spPr>
          <a:xfrm flipV="1" rot="10800000">
            <a:off x="6857280" y="2208600"/>
            <a:ext cx="610200" cy="42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2" name="Line 46"/>
          <p:cNvSpPr/>
          <p:nvPr/>
        </p:nvSpPr>
        <p:spPr>
          <a:xfrm>
            <a:off x="601992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47"/>
          <p:cNvSpPr/>
          <p:nvPr/>
        </p:nvSpPr>
        <p:spPr>
          <a:xfrm flipH="1">
            <a:off x="685800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48"/>
          <p:cNvSpPr/>
          <p:nvPr/>
        </p:nvSpPr>
        <p:spPr>
          <a:xfrm>
            <a:off x="609588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50"/>
          <p:cNvSpPr/>
          <p:nvPr/>
        </p:nvSpPr>
        <p:spPr>
          <a:xfrm flipH="1">
            <a:off x="480024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53"/>
          <p:cNvSpPr/>
          <p:nvPr/>
        </p:nvSpPr>
        <p:spPr>
          <a:xfrm>
            <a:off x="4800600" y="51055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54"/>
          <p:cNvSpPr/>
          <p:nvPr/>
        </p:nvSpPr>
        <p:spPr>
          <a:xfrm flipH="1">
            <a:off x="480060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5"/>
          <p:cNvSpPr/>
          <p:nvPr/>
        </p:nvSpPr>
        <p:spPr>
          <a:xfrm flipH="1">
            <a:off x="266688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56"/>
          <p:cNvSpPr/>
          <p:nvPr/>
        </p:nvSpPr>
        <p:spPr>
          <a:xfrm>
            <a:off x="27432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57"/>
          <p:cNvSpPr/>
          <p:nvPr/>
        </p:nvSpPr>
        <p:spPr>
          <a:xfrm>
            <a:off x="38098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58"/>
          <p:cNvSpPr/>
          <p:nvPr/>
        </p:nvSpPr>
        <p:spPr>
          <a:xfrm>
            <a:off x="1371600" y="4495680"/>
            <a:ext cx="1219320" cy="685800"/>
          </a:xfrm>
          <a:prstGeom prst="ellipse">
            <a:avLst/>
          </a:prstGeom>
          <a:solidFill>
            <a:srgbClr val="11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60"/>
          <p:cNvSpPr/>
          <p:nvPr/>
        </p:nvSpPr>
        <p:spPr>
          <a:xfrm flipH="1">
            <a:off x="2362320" y="388620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61"/>
          <p:cNvSpPr/>
          <p:nvPr/>
        </p:nvSpPr>
        <p:spPr>
          <a:xfrm>
            <a:off x="259092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62"/>
          <p:cNvSpPr/>
          <p:nvPr/>
        </p:nvSpPr>
        <p:spPr>
          <a:xfrm>
            <a:off x="80773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4"/>
          <p:cNvSpPr/>
          <p:nvPr/>
        </p:nvSpPr>
        <p:spPr>
          <a:xfrm flipH="1">
            <a:off x="1294920" y="1981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67"/>
          <p:cNvSpPr/>
          <p:nvPr/>
        </p:nvSpPr>
        <p:spPr>
          <a:xfrm>
            <a:off x="380988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68"/>
          <p:cNvSpPr/>
          <p:nvPr/>
        </p:nvSpPr>
        <p:spPr>
          <a:xfrm>
            <a:off x="396252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71"/>
          <p:cNvSpPr/>
          <p:nvPr/>
        </p:nvSpPr>
        <p:spPr>
          <a:xfrm flipH="1">
            <a:off x="1294920" y="1828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72"/>
          <p:cNvSpPr/>
          <p:nvPr/>
        </p:nvSpPr>
        <p:spPr>
          <a:xfrm>
            <a:off x="205740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74"/>
          <p:cNvSpPr/>
          <p:nvPr/>
        </p:nvSpPr>
        <p:spPr>
          <a:xfrm>
            <a:off x="1295280" y="1981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1" name="AutoShape 75"/>
          <p:cNvCxnSpPr>
            <a:stCxn id="561" idx="2"/>
            <a:endCxn id="564" idx="1"/>
          </p:cNvCxnSpPr>
          <p:nvPr/>
        </p:nvCxnSpPr>
        <p:spPr>
          <a:xfrm flipH="1" rot="10800000">
            <a:off x="1294200" y="1828080"/>
            <a:ext cx="2515320" cy="4077360"/>
          </a:xfrm>
          <a:prstGeom prst="bentConnector3">
            <a:avLst>
              <a:gd name="adj1" fmla="val -90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2" name="Text Box 76"/>
          <p:cNvSpPr/>
          <p:nvPr/>
        </p:nvSpPr>
        <p:spPr>
          <a:xfrm>
            <a:off x="4267080" y="281952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View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77"/>
          <p:cNvSpPr/>
          <p:nvPr/>
        </p:nvSpPr>
        <p:spPr>
          <a:xfrm>
            <a:off x="6323400" y="4191120"/>
            <a:ext cx="10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te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5ED9-440A-46CA-BF47-8A82BBE4B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System Compon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ext Ope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ms index words (toke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topword remova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temm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dex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ructs 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verted 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word to document poin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earc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rieves documents that contain a given query token from the inverted ind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an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cores all retrieved documents according to a relevance 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4531-5C21-420B-A7DC-8AF9B543B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System Components (continued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User Inte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ages interaction with the us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uery input and document outpu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levance feedback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isualization of result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Query Ope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form the query to improve retriev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uery expansion using a thesauru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uery transformation using relevance feedback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2154-431D-4577-9A0D-6338033C0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Sear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of IR to HTML documents on the World Wide 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ust assemble document corpus by spidering the web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an exploit the structural layout information in HTML (XML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ocuments change uncontrollably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an exploit the link structure of the web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D219-CB67-4FC1-ACD1-0C722E694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Search Syst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05" name="Group 108"/>
          <p:cNvGrpSpPr/>
          <p:nvPr/>
        </p:nvGrpSpPr>
        <p:grpSpPr>
          <a:xfrm>
            <a:off x="3657600" y="3276720"/>
            <a:ext cx="2971800" cy="3147840"/>
            <a:chOff x="3657600" y="3276720"/>
            <a:chExt cx="2971800" cy="3147840"/>
          </a:xfrm>
        </p:grpSpPr>
        <p:grpSp>
          <p:nvGrpSpPr>
            <p:cNvPr id="606" name="Group 107"/>
            <p:cNvGrpSpPr/>
            <p:nvPr/>
          </p:nvGrpSpPr>
          <p:grpSpPr>
            <a:xfrm>
              <a:off x="3657600" y="3276720"/>
              <a:ext cx="2971800" cy="3147840"/>
              <a:chOff x="3657600" y="3276720"/>
              <a:chExt cx="2971800" cy="3147840"/>
            </a:xfrm>
          </p:grpSpPr>
          <p:pic>
            <p:nvPicPr>
              <p:cNvPr id="607" name="Picture 4" descr="C:\Program Files\MSOffice\Clipart\Popular\amconfus.wmf"/>
              <p:cNvPicPr/>
              <p:nvPr/>
            </p:nvPicPr>
            <p:blipFill>
              <a:blip r:embed="rId1"/>
              <a:stretch/>
            </p:blipFill>
            <p:spPr>
              <a:xfrm>
                <a:off x="3657600" y="4419720"/>
                <a:ext cx="932040" cy="200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AutoShape 5"/>
              <p:cNvSpPr/>
              <p:nvPr/>
            </p:nvSpPr>
            <p:spPr>
              <a:xfrm>
                <a:off x="4495680" y="3276720"/>
                <a:ext cx="1295640" cy="914400"/>
              </a:xfrm>
              <a:prstGeom prst="wedgeRoundRectCallout">
                <a:avLst>
                  <a:gd name="adj1" fmla="val -59314"/>
                  <a:gd name="adj2" fmla="val 106944"/>
                  <a:gd name="adj3" fmla="val 16667"/>
                </a:avLst>
              </a:prstGeom>
              <a:solidFill>
                <a:srgbClr val="11d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Line 9"/>
              <p:cNvSpPr/>
              <p:nvPr/>
            </p:nvSpPr>
            <p:spPr>
              <a:xfrm>
                <a:off x="5791320" y="380988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" name="Rectangle 6"/>
            <p:cNvSpPr/>
            <p:nvPr/>
          </p:nvSpPr>
          <p:spPr>
            <a:xfrm>
              <a:off x="4648320" y="3352680"/>
              <a:ext cx="946080" cy="825480"/>
            </a:xfrm>
            <a:prstGeom prst="rect">
              <a:avLst/>
            </a:prstGeom>
            <a:solidFill>
              <a:srgbClr val="11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ry String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Rectangle 7"/>
          <p:cNvSpPr/>
          <p:nvPr/>
        </p:nvSpPr>
        <p:spPr>
          <a:xfrm>
            <a:off x="6629400" y="3200400"/>
            <a:ext cx="2057400" cy="106668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09"/>
          <p:cNvGrpSpPr/>
          <p:nvPr/>
        </p:nvGrpSpPr>
        <p:grpSpPr>
          <a:xfrm>
            <a:off x="5183640" y="4267080"/>
            <a:ext cx="3350880" cy="2011320"/>
            <a:chOff x="5183640" y="4267080"/>
            <a:chExt cx="3350880" cy="2011320"/>
          </a:xfrm>
        </p:grpSpPr>
        <p:sp>
          <p:nvSpPr>
            <p:cNvPr id="613" name="Oval 10"/>
            <p:cNvSpPr/>
            <p:nvPr/>
          </p:nvSpPr>
          <p:spPr>
            <a:xfrm>
              <a:off x="6781680" y="4952880"/>
              <a:ext cx="1752840" cy="914400"/>
            </a:xfrm>
            <a:prstGeom prst="ellipse">
              <a:avLst/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ed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2"/>
            <p:cNvSpPr/>
            <p:nvPr/>
          </p:nvSpPr>
          <p:spPr>
            <a:xfrm>
              <a:off x="7620120" y="4267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5486400" y="4724280"/>
              <a:ext cx="12193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14"/>
            <p:cNvSpPr/>
            <p:nvPr/>
          </p:nvSpPr>
          <p:spPr>
            <a:xfrm>
              <a:off x="5183640" y="4724280"/>
              <a:ext cx="17946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. Page1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. Page2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. Page3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Line 8"/>
          <p:cNvSpPr/>
          <p:nvPr/>
        </p:nvSpPr>
        <p:spPr>
          <a:xfrm>
            <a:off x="76201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Group 113"/>
          <p:cNvGrpSpPr/>
          <p:nvPr/>
        </p:nvGrpSpPr>
        <p:grpSpPr>
          <a:xfrm>
            <a:off x="6248520" y="1828800"/>
            <a:ext cx="2209680" cy="914400"/>
            <a:chOff x="6248520" y="1828800"/>
            <a:chExt cx="2209680" cy="914400"/>
          </a:xfrm>
        </p:grpSpPr>
        <p:sp>
          <p:nvSpPr>
            <p:cNvPr id="619" name="Oval 3"/>
            <p:cNvSpPr/>
            <p:nvPr/>
          </p:nvSpPr>
          <p:spPr>
            <a:xfrm>
              <a:off x="6781680" y="1828800"/>
              <a:ext cx="1676520" cy="914400"/>
            </a:xfrm>
            <a:prstGeom prst="ellipse">
              <a:avLst/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rpu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9"/>
            <p:cNvSpPr/>
            <p:nvPr/>
          </p:nvSpPr>
          <p:spPr>
            <a:xfrm>
              <a:off x="6248520" y="2286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111"/>
          <p:cNvGrpSpPr/>
          <p:nvPr/>
        </p:nvGrpSpPr>
        <p:grpSpPr>
          <a:xfrm>
            <a:off x="838080" y="1523880"/>
            <a:ext cx="2743200" cy="2210040"/>
            <a:chOff x="838080" y="1523880"/>
            <a:chExt cx="2743200" cy="2210040"/>
          </a:xfrm>
        </p:grpSpPr>
        <p:sp>
          <p:nvSpPr>
            <p:cNvPr id="622" name="Cloud"/>
            <p:cNvSpPr/>
            <p:nvPr/>
          </p:nvSpPr>
          <p:spPr>
            <a:xfrm>
              <a:off x="838080" y="1523880"/>
              <a:ext cx="2743200" cy="2210040"/>
            </a:xfrm>
            <a:custGeom>
              <a:avLst/>
              <a:gdLst>
                <a:gd name="textAreaLeft" fmla="*/ 377640 w 2743200"/>
                <a:gd name="textAreaRight" fmla="*/ 2170440 w 2743200"/>
                <a:gd name="textAreaTop" fmla="*/ 333360 h 2210040"/>
                <a:gd name="textAreaBottom" fmla="*/ 177372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 Box 23"/>
            <p:cNvSpPr/>
            <p:nvPr/>
          </p:nvSpPr>
          <p:spPr>
            <a:xfrm>
              <a:off x="1829880" y="17524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Group 24"/>
            <p:cNvGrpSpPr/>
            <p:nvPr/>
          </p:nvGrpSpPr>
          <p:grpSpPr>
            <a:xfrm>
              <a:off x="1600200" y="2209680"/>
              <a:ext cx="1371240" cy="1219320"/>
              <a:chOff x="1600200" y="2209680"/>
              <a:chExt cx="1371240" cy="1219320"/>
            </a:xfrm>
          </p:grpSpPr>
          <p:grpSp>
            <p:nvGrpSpPr>
              <p:cNvPr id="625" name="Group 25"/>
              <p:cNvGrpSpPr/>
              <p:nvPr/>
            </p:nvGrpSpPr>
            <p:grpSpPr>
              <a:xfrm>
                <a:off x="1600200" y="2561400"/>
                <a:ext cx="259920" cy="304920"/>
                <a:chOff x="1600200" y="2561400"/>
                <a:chExt cx="259920" cy="304920"/>
              </a:xfrm>
            </p:grpSpPr>
            <p:sp>
              <p:nvSpPr>
                <p:cNvPr id="626" name="Rectangle 26"/>
                <p:cNvSpPr/>
                <p:nvPr/>
              </p:nvSpPr>
              <p:spPr>
                <a:xfrm>
                  <a:off x="1600200" y="256140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Line 27"/>
                <p:cNvSpPr/>
                <p:nvPr/>
              </p:nvSpPr>
              <p:spPr>
                <a:xfrm>
                  <a:off x="1671120" y="259632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Line 28"/>
                <p:cNvSpPr/>
                <p:nvPr/>
              </p:nvSpPr>
              <p:spPr>
                <a:xfrm>
                  <a:off x="1623600" y="26258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Line 29"/>
                <p:cNvSpPr/>
                <p:nvPr/>
              </p:nvSpPr>
              <p:spPr>
                <a:xfrm>
                  <a:off x="1623600" y="26550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Line 30"/>
                <p:cNvSpPr/>
                <p:nvPr/>
              </p:nvSpPr>
              <p:spPr>
                <a:xfrm>
                  <a:off x="1623600" y="26845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Line 31"/>
                <p:cNvSpPr/>
                <p:nvPr/>
              </p:nvSpPr>
              <p:spPr>
                <a:xfrm>
                  <a:off x="1623600" y="27136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Line 32"/>
                <p:cNvSpPr/>
                <p:nvPr/>
              </p:nvSpPr>
              <p:spPr>
                <a:xfrm>
                  <a:off x="1671120" y="274320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Line 33"/>
                <p:cNvSpPr/>
                <p:nvPr/>
              </p:nvSpPr>
              <p:spPr>
                <a:xfrm>
                  <a:off x="1623600" y="27723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Line 34"/>
                <p:cNvSpPr/>
                <p:nvPr/>
              </p:nvSpPr>
              <p:spPr>
                <a:xfrm>
                  <a:off x="1623600" y="28018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Line 35"/>
                <p:cNvSpPr/>
                <p:nvPr/>
              </p:nvSpPr>
              <p:spPr>
                <a:xfrm>
                  <a:off x="1623600" y="28314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Group 36"/>
              <p:cNvGrpSpPr/>
              <p:nvPr/>
            </p:nvGrpSpPr>
            <p:grpSpPr>
              <a:xfrm>
                <a:off x="2191320" y="2702160"/>
                <a:ext cx="259920" cy="304920"/>
                <a:chOff x="2191320" y="2702160"/>
                <a:chExt cx="259920" cy="304920"/>
              </a:xfrm>
            </p:grpSpPr>
            <p:sp>
              <p:nvSpPr>
                <p:cNvPr id="637" name="Rectangle 37"/>
                <p:cNvSpPr/>
                <p:nvPr/>
              </p:nvSpPr>
              <p:spPr>
                <a:xfrm>
                  <a:off x="2191320" y="270216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Line 38"/>
                <p:cNvSpPr/>
                <p:nvPr/>
              </p:nvSpPr>
              <p:spPr>
                <a:xfrm>
                  <a:off x="2262240" y="273708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39"/>
                <p:cNvSpPr/>
                <p:nvPr/>
              </p:nvSpPr>
              <p:spPr>
                <a:xfrm>
                  <a:off x="2214720" y="27666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Line 40"/>
                <p:cNvSpPr/>
                <p:nvPr/>
              </p:nvSpPr>
              <p:spPr>
                <a:xfrm>
                  <a:off x="2214720" y="27957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Line 41"/>
                <p:cNvSpPr/>
                <p:nvPr/>
              </p:nvSpPr>
              <p:spPr>
                <a:xfrm>
                  <a:off x="2214720" y="28252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Line 42"/>
                <p:cNvSpPr/>
                <p:nvPr/>
              </p:nvSpPr>
              <p:spPr>
                <a:xfrm>
                  <a:off x="2214720" y="28544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43"/>
                <p:cNvSpPr/>
                <p:nvPr/>
              </p:nvSpPr>
              <p:spPr>
                <a:xfrm>
                  <a:off x="2262240" y="288396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Line 44"/>
                <p:cNvSpPr/>
                <p:nvPr/>
              </p:nvSpPr>
              <p:spPr>
                <a:xfrm>
                  <a:off x="2214720" y="29131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Line 45"/>
                <p:cNvSpPr/>
                <p:nvPr/>
              </p:nvSpPr>
              <p:spPr>
                <a:xfrm>
                  <a:off x="2214720" y="29426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Line 46"/>
                <p:cNvSpPr/>
                <p:nvPr/>
              </p:nvSpPr>
              <p:spPr>
                <a:xfrm>
                  <a:off x="2214720" y="29721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Group 47"/>
              <p:cNvGrpSpPr/>
              <p:nvPr/>
            </p:nvGrpSpPr>
            <p:grpSpPr>
              <a:xfrm>
                <a:off x="1883880" y="3124080"/>
                <a:ext cx="259920" cy="304920"/>
                <a:chOff x="1883880" y="3124080"/>
                <a:chExt cx="259920" cy="304920"/>
              </a:xfrm>
            </p:grpSpPr>
            <p:sp>
              <p:nvSpPr>
                <p:cNvPr id="648" name="Rectangle 48"/>
                <p:cNvSpPr/>
                <p:nvPr/>
              </p:nvSpPr>
              <p:spPr>
                <a:xfrm>
                  <a:off x="1883880" y="312408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Line 49"/>
                <p:cNvSpPr/>
                <p:nvPr/>
              </p:nvSpPr>
              <p:spPr>
                <a:xfrm>
                  <a:off x="1954800" y="315900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Line 50"/>
                <p:cNvSpPr/>
                <p:nvPr/>
              </p:nvSpPr>
              <p:spPr>
                <a:xfrm>
                  <a:off x="1907280" y="31885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Line 51"/>
                <p:cNvSpPr/>
                <p:nvPr/>
              </p:nvSpPr>
              <p:spPr>
                <a:xfrm>
                  <a:off x="1907280" y="32176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Line 52"/>
                <p:cNvSpPr/>
                <p:nvPr/>
              </p:nvSpPr>
              <p:spPr>
                <a:xfrm>
                  <a:off x="1907280" y="32472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Line 53"/>
                <p:cNvSpPr/>
                <p:nvPr/>
              </p:nvSpPr>
              <p:spPr>
                <a:xfrm>
                  <a:off x="1907280" y="32763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Line 54"/>
                <p:cNvSpPr/>
                <p:nvPr/>
              </p:nvSpPr>
              <p:spPr>
                <a:xfrm>
                  <a:off x="1954800" y="330588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Line 55"/>
                <p:cNvSpPr/>
                <p:nvPr/>
              </p:nvSpPr>
              <p:spPr>
                <a:xfrm>
                  <a:off x="1907280" y="33350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Line 56"/>
                <p:cNvSpPr/>
                <p:nvPr/>
              </p:nvSpPr>
              <p:spPr>
                <a:xfrm>
                  <a:off x="1907280" y="33645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Line 57"/>
                <p:cNvSpPr/>
                <p:nvPr/>
              </p:nvSpPr>
              <p:spPr>
                <a:xfrm>
                  <a:off x="1907280" y="33940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Group 58"/>
              <p:cNvGrpSpPr/>
              <p:nvPr/>
            </p:nvGrpSpPr>
            <p:grpSpPr>
              <a:xfrm>
                <a:off x="2711520" y="2913120"/>
                <a:ext cx="259920" cy="304920"/>
                <a:chOff x="2711520" y="2913120"/>
                <a:chExt cx="259920" cy="304920"/>
              </a:xfrm>
            </p:grpSpPr>
            <p:sp>
              <p:nvSpPr>
                <p:cNvPr id="659" name="Rectangle 59"/>
                <p:cNvSpPr/>
                <p:nvPr/>
              </p:nvSpPr>
              <p:spPr>
                <a:xfrm>
                  <a:off x="2711520" y="291312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Line 60"/>
                <p:cNvSpPr/>
                <p:nvPr/>
              </p:nvSpPr>
              <p:spPr>
                <a:xfrm>
                  <a:off x="2782440" y="294804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Line 61"/>
                <p:cNvSpPr/>
                <p:nvPr/>
              </p:nvSpPr>
              <p:spPr>
                <a:xfrm>
                  <a:off x="2734920" y="29775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Line 62"/>
                <p:cNvSpPr/>
                <p:nvPr/>
              </p:nvSpPr>
              <p:spPr>
                <a:xfrm>
                  <a:off x="2734920" y="30067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Line 63"/>
                <p:cNvSpPr/>
                <p:nvPr/>
              </p:nvSpPr>
              <p:spPr>
                <a:xfrm>
                  <a:off x="2734920" y="30362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Line 64"/>
                <p:cNvSpPr/>
                <p:nvPr/>
              </p:nvSpPr>
              <p:spPr>
                <a:xfrm>
                  <a:off x="2734920" y="30654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Line 65"/>
                <p:cNvSpPr/>
                <p:nvPr/>
              </p:nvSpPr>
              <p:spPr>
                <a:xfrm>
                  <a:off x="2782440" y="309492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Line 66"/>
                <p:cNvSpPr/>
                <p:nvPr/>
              </p:nvSpPr>
              <p:spPr>
                <a:xfrm>
                  <a:off x="2734920" y="31240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Line 67"/>
                <p:cNvSpPr/>
                <p:nvPr/>
              </p:nvSpPr>
              <p:spPr>
                <a:xfrm>
                  <a:off x="2734920" y="31536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Line 68"/>
                <p:cNvSpPr/>
                <p:nvPr/>
              </p:nvSpPr>
              <p:spPr>
                <a:xfrm>
                  <a:off x="2734920" y="31831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Group 69"/>
              <p:cNvGrpSpPr/>
              <p:nvPr/>
            </p:nvGrpSpPr>
            <p:grpSpPr>
              <a:xfrm>
                <a:off x="2049480" y="2209680"/>
                <a:ext cx="259920" cy="304920"/>
                <a:chOff x="2049480" y="2209680"/>
                <a:chExt cx="259920" cy="304920"/>
              </a:xfrm>
            </p:grpSpPr>
            <p:sp>
              <p:nvSpPr>
                <p:cNvPr id="670" name="Rectangle 70"/>
                <p:cNvSpPr/>
                <p:nvPr/>
              </p:nvSpPr>
              <p:spPr>
                <a:xfrm>
                  <a:off x="2049480" y="220968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Line 71"/>
                <p:cNvSpPr/>
                <p:nvPr/>
              </p:nvSpPr>
              <p:spPr>
                <a:xfrm>
                  <a:off x="2120400" y="224460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Line 72"/>
                <p:cNvSpPr/>
                <p:nvPr/>
              </p:nvSpPr>
              <p:spPr>
                <a:xfrm>
                  <a:off x="2072880" y="22741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Line 73"/>
                <p:cNvSpPr/>
                <p:nvPr/>
              </p:nvSpPr>
              <p:spPr>
                <a:xfrm>
                  <a:off x="2072880" y="23032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Line 74"/>
                <p:cNvSpPr/>
                <p:nvPr/>
              </p:nvSpPr>
              <p:spPr>
                <a:xfrm>
                  <a:off x="2072880" y="23328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Line 75"/>
                <p:cNvSpPr/>
                <p:nvPr/>
              </p:nvSpPr>
              <p:spPr>
                <a:xfrm>
                  <a:off x="2072880" y="23619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Line 76"/>
                <p:cNvSpPr/>
                <p:nvPr/>
              </p:nvSpPr>
              <p:spPr>
                <a:xfrm>
                  <a:off x="2120400" y="239148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Line 77"/>
                <p:cNvSpPr/>
                <p:nvPr/>
              </p:nvSpPr>
              <p:spPr>
                <a:xfrm>
                  <a:off x="2072880" y="24206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78"/>
                <p:cNvSpPr/>
                <p:nvPr/>
              </p:nvSpPr>
              <p:spPr>
                <a:xfrm>
                  <a:off x="2072880" y="24501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Line 79"/>
                <p:cNvSpPr/>
                <p:nvPr/>
              </p:nvSpPr>
              <p:spPr>
                <a:xfrm>
                  <a:off x="2072880" y="24796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Group 80"/>
              <p:cNvGrpSpPr/>
              <p:nvPr/>
            </p:nvGrpSpPr>
            <p:grpSpPr>
              <a:xfrm>
                <a:off x="2688120" y="2444040"/>
                <a:ext cx="259920" cy="304560"/>
                <a:chOff x="2688120" y="2444040"/>
                <a:chExt cx="259920" cy="304560"/>
              </a:xfrm>
            </p:grpSpPr>
            <p:sp>
              <p:nvSpPr>
                <p:cNvPr id="681" name="Rectangle 81"/>
                <p:cNvSpPr/>
                <p:nvPr/>
              </p:nvSpPr>
              <p:spPr>
                <a:xfrm>
                  <a:off x="2688120" y="2444040"/>
                  <a:ext cx="259920" cy="304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Line 82"/>
                <p:cNvSpPr/>
                <p:nvPr/>
              </p:nvSpPr>
              <p:spPr>
                <a:xfrm>
                  <a:off x="2759040" y="247896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Line 83"/>
                <p:cNvSpPr/>
                <p:nvPr/>
              </p:nvSpPr>
              <p:spPr>
                <a:xfrm>
                  <a:off x="2711520" y="25084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Line 84"/>
                <p:cNvSpPr/>
                <p:nvPr/>
              </p:nvSpPr>
              <p:spPr>
                <a:xfrm>
                  <a:off x="2711520" y="25376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Line 85"/>
                <p:cNvSpPr/>
                <p:nvPr/>
              </p:nvSpPr>
              <p:spPr>
                <a:xfrm>
                  <a:off x="2711520" y="25671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Line 86"/>
                <p:cNvSpPr/>
                <p:nvPr/>
              </p:nvSpPr>
              <p:spPr>
                <a:xfrm>
                  <a:off x="2711520" y="25963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Line 87"/>
                <p:cNvSpPr/>
                <p:nvPr/>
              </p:nvSpPr>
              <p:spPr>
                <a:xfrm>
                  <a:off x="2759040" y="262548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Line 88"/>
                <p:cNvSpPr/>
                <p:nvPr/>
              </p:nvSpPr>
              <p:spPr>
                <a:xfrm>
                  <a:off x="2711520" y="26550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Line 89"/>
                <p:cNvSpPr/>
                <p:nvPr/>
              </p:nvSpPr>
              <p:spPr>
                <a:xfrm>
                  <a:off x="2711520" y="26841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Line 90"/>
                <p:cNvSpPr/>
                <p:nvPr/>
              </p:nvSpPr>
              <p:spPr>
                <a:xfrm>
                  <a:off x="2711520" y="27136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1" name="Rectangle 91"/>
              <p:cNvSpPr/>
              <p:nvPr/>
            </p:nvSpPr>
            <p:spPr>
              <a:xfrm>
                <a:off x="2333160" y="2795760"/>
                <a:ext cx="94320" cy="46800"/>
              </a:xfrm>
              <a:prstGeom prst="rect">
                <a:avLst/>
              </a:prstGeom>
              <a:solidFill>
                <a:srgbClr val="11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Rectangle 92"/>
              <p:cNvSpPr/>
              <p:nvPr/>
            </p:nvSpPr>
            <p:spPr>
              <a:xfrm>
                <a:off x="2735280" y="2444040"/>
                <a:ext cx="189000" cy="46800"/>
              </a:xfrm>
              <a:prstGeom prst="rect">
                <a:avLst/>
              </a:prstGeom>
              <a:solidFill>
                <a:srgbClr val="98ed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Rectangle 93"/>
              <p:cNvSpPr/>
              <p:nvPr/>
            </p:nvSpPr>
            <p:spPr>
              <a:xfrm>
                <a:off x="1954800" y="3194640"/>
                <a:ext cx="118080" cy="70200"/>
              </a:xfrm>
              <a:prstGeom prst="rect">
                <a:avLst/>
              </a:prstGeom>
              <a:solidFill>
                <a:srgbClr val="f4f43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94"/>
              <p:cNvSpPr/>
              <p:nvPr/>
            </p:nvSpPr>
            <p:spPr>
              <a:xfrm flipV="1">
                <a:off x="1718280" y="2349720"/>
                <a:ext cx="331200" cy="30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95"/>
              <p:cNvSpPr/>
              <p:nvPr/>
            </p:nvSpPr>
            <p:spPr>
              <a:xfrm>
                <a:off x="1742040" y="2748960"/>
                <a:ext cx="449280" cy="164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96"/>
              <p:cNvSpPr/>
              <p:nvPr/>
            </p:nvSpPr>
            <p:spPr>
              <a:xfrm flipH="1" flipV="1">
                <a:off x="2309040" y="2350080"/>
                <a:ext cx="472680" cy="257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97"/>
              <p:cNvSpPr/>
              <p:nvPr/>
            </p:nvSpPr>
            <p:spPr>
              <a:xfrm flipV="1">
                <a:off x="2829960" y="2748600"/>
                <a:ext cx="0" cy="28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98"/>
              <p:cNvSpPr/>
              <p:nvPr/>
            </p:nvSpPr>
            <p:spPr>
              <a:xfrm flipV="1">
                <a:off x="2049480" y="3077280"/>
                <a:ext cx="662040" cy="257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99"/>
              <p:cNvSpPr/>
              <p:nvPr/>
            </p:nvSpPr>
            <p:spPr>
              <a:xfrm flipH="1" flipV="1">
                <a:off x="1742040" y="2866320"/>
                <a:ext cx="283680" cy="375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100"/>
              <p:cNvSpPr/>
              <p:nvPr/>
            </p:nvSpPr>
            <p:spPr>
              <a:xfrm>
                <a:off x="2167560" y="2350080"/>
                <a:ext cx="94320" cy="351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01"/>
              <p:cNvSpPr/>
              <p:nvPr/>
            </p:nvSpPr>
            <p:spPr>
              <a:xfrm flipV="1">
                <a:off x="2356920" y="2631600"/>
                <a:ext cx="331200" cy="140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02"/>
              <p:cNvSpPr/>
              <p:nvPr/>
            </p:nvSpPr>
            <p:spPr>
              <a:xfrm>
                <a:off x="2356920" y="2913120"/>
                <a:ext cx="354600" cy="9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3" name="Group 112"/>
          <p:cNvGrpSpPr/>
          <p:nvPr/>
        </p:nvGrpSpPr>
        <p:grpSpPr>
          <a:xfrm>
            <a:off x="3200400" y="1828800"/>
            <a:ext cx="2971800" cy="1066680"/>
            <a:chOff x="3200400" y="1828800"/>
            <a:chExt cx="2971800" cy="1066680"/>
          </a:xfrm>
        </p:grpSpPr>
        <p:sp>
          <p:nvSpPr>
            <p:cNvPr id="704" name="Line 18"/>
            <p:cNvSpPr/>
            <p:nvPr/>
          </p:nvSpPr>
          <p:spPr>
            <a:xfrm>
              <a:off x="3200400" y="2286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5" name="Group 110"/>
            <p:cNvGrpSpPr/>
            <p:nvPr/>
          </p:nvGrpSpPr>
          <p:grpSpPr>
            <a:xfrm>
              <a:off x="4114800" y="1828800"/>
              <a:ext cx="2057400" cy="1066680"/>
              <a:chOff x="4114800" y="1828800"/>
              <a:chExt cx="2057400" cy="1066680"/>
            </a:xfrm>
          </p:grpSpPr>
          <p:sp>
            <p:nvSpPr>
              <p:cNvPr id="706" name="Rectangle 17"/>
              <p:cNvSpPr/>
              <p:nvPr/>
            </p:nvSpPr>
            <p:spPr>
              <a:xfrm>
                <a:off x="4114800" y="1828800"/>
                <a:ext cx="2057400" cy="1066680"/>
              </a:xfrm>
              <a:prstGeom prst="rect">
                <a:avLst/>
              </a:prstGeom>
              <a:solidFill>
                <a:srgbClr val="98ed8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07" name="Picture 103" descr="C:\Program Files\MSWorks\Clipart\AN00080_.WMF"/>
              <p:cNvPicPr/>
              <p:nvPr/>
            </p:nvPicPr>
            <p:blipFill>
              <a:blip r:embed="rId2"/>
              <a:stretch/>
            </p:blipFill>
            <p:spPr>
              <a:xfrm>
                <a:off x="4648320" y="2286000"/>
                <a:ext cx="914400" cy="6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Rectangle 104"/>
              <p:cNvSpPr/>
              <p:nvPr/>
            </p:nvSpPr>
            <p:spPr>
              <a:xfrm>
                <a:off x="4649040" y="182880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ider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89CD-9664-4155-B0CD-75AB014C5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IR-Related Tas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document categ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filtering (spam filt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document clus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ing information or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ex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answ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4285-BF10-4089-A096-4FB131D6A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story of I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0-70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itial exploration of text retrieval systems for “small” corpora of scientific abstracts, and law and business document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velopment of the basic Boolean and vector-space models of retrieval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f. Salton and his students at Cornell University are the leading researchers in the area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5087-0E69-40EA-8284-89EA1C72C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History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0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arge document database systems, many run by companies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exis-Nexi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ialog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EDLINE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1204-EB64-4581-A5DA-BBF0700FD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History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arching FTPable documents on the Interne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rchie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WAI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arching the World Wide Web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yco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ahoo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ltavista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239A-507C-4E07-8F7F-712FAFD80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History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’s continu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Organized Competitio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IST TREC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commender Syste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ingo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mazon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etPerception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tomated Text Categorization &amp; Clust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A6DA-A348-4ABC-A294-EFFE1449F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formation Retrieval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IR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dexing and retrieval of textual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ing for pages on the World Wide Web is the “killer ap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ed firstly with retriev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lev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s to a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ed secondly with retrieving fro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r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s of documen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fficien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9CC9-9947-4A0B-BE5E-3C075CA59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History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nk analysis for Web Search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Google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tomated Information Extrac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allel Process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ap/Reduce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uestion Answ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REC Q/A track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414E-0849-4401-A74C-A2807D09D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History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0’s continu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ultimedia I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Video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dio and music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ross-Language I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ARPA Tide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ocument Summariz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earning to Rank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cent IR Hist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1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telligent Personal Assistant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iri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rtana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Google Now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lexa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mplex Question Answ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BM Watson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istributional Semantic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ep Learn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9A3E-D7FE-43AE-A6DC-5C9534F6C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21B7-88AB-43F3-800A-79737314A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ated Area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ary and Information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 Language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7797-1F89-45B4-9818-33E2880F9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atabase Manage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stored in relational tables rather than free-form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ed on efficient processing of well-defined queries in a formal language (SQ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er semantics for both data and qu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move towar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i-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(XML) brings it closer to 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65D7-86BE-4F0A-8D56-95AE71263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brary and Information Sci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ed on the human user aspects of information retrieval (human-computer interaction, user interface, visualiz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ed with effective categorization of human knowl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ed with citation analysis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bliometric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ructure of inform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work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gital libra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rings it closer to CS &amp; 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A345-36F5-4C32-B314-76AADC501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rtificial Intellig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ed on the representation of knowledge, reasoning, and intelligent 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isms for representing knowledge and qu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rst-order Predicate Logic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yesian Network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work on web ontologies and intelligent information agents brings it closer to 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4FE6-1896-4C44-8CBE-AD562A963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ed on the syntactic, semantic, and pragmatic analysis of natural language text and discou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analyze syntax (phrase structure) and semantics could allow retrieval bas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ther than key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19F2-1EFE-4BFF-86B4-C95933CB7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: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Dire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for determining the sense of an ambiguous word based on contex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rd sense disambigu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for identifying specific pieces of information in a documen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ormation extr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for answering specific NL questions from document corpora or structured data like FreeBase or Google’s Knowledge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2FCA-3C39-454E-BB4F-251D454DA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chin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ed on the development of computational systems that improve their performance with exper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classification of examples based on learning concepts from labeled training example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pervised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methods for clustering unlabeled examples into meaningful group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supervised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D63A-903E-4EBA-BAC5-95D4D423C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ypical IR Task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corpus of textual natural-language document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user query in the form of a textual string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ranked set of documents that are relevant to the query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C326-FD55-4EA7-B66A-CB575D9C3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chine Learning: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Dire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Categ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tomatic hierarchical classification (Yahoo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daptive filtering/routing/recommending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tomated spam filtering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Clus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lustering of IR query result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utomatic formation of hierarchies (Yahoo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for Information Ex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M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to R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1641-A801-47A8-993C-BE7A0DE6C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R Syst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522" name="Picture 7" descr="C:\Program Files\MSOffice\Clipart\Popular\amconfus.wmf"/>
          <p:cNvPicPr/>
          <p:nvPr/>
        </p:nvPicPr>
        <p:blipFill>
          <a:blip r:embed="rId1"/>
          <a:stretch/>
        </p:blipFill>
        <p:spPr>
          <a:xfrm>
            <a:off x="990720" y="4419720"/>
            <a:ext cx="931680" cy="200484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10"/>
          <p:cNvSpPr/>
          <p:nvPr/>
        </p:nvSpPr>
        <p:spPr>
          <a:xfrm>
            <a:off x="3962520" y="3352680"/>
            <a:ext cx="2057400" cy="106704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21"/>
          <p:cNvGrpSpPr/>
          <p:nvPr/>
        </p:nvGrpSpPr>
        <p:grpSpPr>
          <a:xfrm>
            <a:off x="1828800" y="3505320"/>
            <a:ext cx="2133720" cy="914400"/>
            <a:chOff x="1828800" y="3505320"/>
            <a:chExt cx="2133720" cy="914400"/>
          </a:xfrm>
        </p:grpSpPr>
        <p:sp>
          <p:nvSpPr>
            <p:cNvPr id="525" name="AutoShape 8"/>
            <p:cNvSpPr/>
            <p:nvPr/>
          </p:nvSpPr>
          <p:spPr>
            <a:xfrm>
              <a:off x="1828800" y="3505320"/>
              <a:ext cx="1295280" cy="9144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9"/>
            <p:cNvSpPr/>
            <p:nvPr/>
          </p:nvSpPr>
          <p:spPr>
            <a:xfrm>
              <a:off x="1981080" y="3581280"/>
              <a:ext cx="946440" cy="825480"/>
            </a:xfrm>
            <a:prstGeom prst="rect">
              <a:avLst/>
            </a:prstGeom>
            <a:solidFill>
              <a:srgbClr val="11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ry String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13"/>
            <p:cNvSpPr/>
            <p:nvPr/>
          </p:nvSpPr>
          <p:spPr>
            <a:xfrm>
              <a:off x="3124080" y="396252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Group 23"/>
          <p:cNvGrpSpPr/>
          <p:nvPr/>
        </p:nvGrpSpPr>
        <p:grpSpPr>
          <a:xfrm>
            <a:off x="4114800" y="1981080"/>
            <a:ext cx="2749680" cy="1371600"/>
            <a:chOff x="4114800" y="1981080"/>
            <a:chExt cx="2749680" cy="1371600"/>
          </a:xfrm>
        </p:grpSpPr>
        <p:sp>
          <p:nvSpPr>
            <p:cNvPr id="529" name="Oval 5"/>
            <p:cNvSpPr/>
            <p:nvPr/>
          </p:nvSpPr>
          <p:spPr>
            <a:xfrm>
              <a:off x="4114800" y="1981080"/>
              <a:ext cx="1676520" cy="914400"/>
            </a:xfrm>
            <a:prstGeom prst="ellipse">
              <a:avLst/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rpu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2"/>
            <p:cNvSpPr/>
            <p:nvPr/>
          </p:nvSpPr>
          <p:spPr>
            <a:xfrm>
              <a:off x="495288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1" name="Picture 15" descr="c:\Program Files\Common Files\Microsoft Shared\Clipart\cagcat50\bs00554_.wmf"/>
            <p:cNvPicPr/>
            <p:nvPr/>
          </p:nvPicPr>
          <p:blipFill>
            <a:blip r:embed="rId2"/>
            <a:stretch/>
          </p:blipFill>
          <p:spPr>
            <a:xfrm>
              <a:off x="5867280" y="1981080"/>
              <a:ext cx="997200" cy="87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2" name="Group 22"/>
          <p:cNvGrpSpPr/>
          <p:nvPr/>
        </p:nvGrpSpPr>
        <p:grpSpPr>
          <a:xfrm>
            <a:off x="4114800" y="4419720"/>
            <a:ext cx="3629160" cy="1920600"/>
            <a:chOff x="4114800" y="4419720"/>
            <a:chExt cx="3629160" cy="1920600"/>
          </a:xfrm>
        </p:grpSpPr>
        <p:sp>
          <p:nvSpPr>
            <p:cNvPr id="533" name="Oval 14"/>
            <p:cNvSpPr/>
            <p:nvPr/>
          </p:nvSpPr>
          <p:spPr>
            <a:xfrm>
              <a:off x="4114800" y="5105520"/>
              <a:ext cx="1752480" cy="914400"/>
            </a:xfrm>
            <a:prstGeom prst="ellipse">
              <a:avLst/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ed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16"/>
            <p:cNvSpPr/>
            <p:nvPr/>
          </p:nvSpPr>
          <p:spPr>
            <a:xfrm>
              <a:off x="4952880" y="4419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18"/>
            <p:cNvSpPr/>
            <p:nvPr/>
          </p:nvSpPr>
          <p:spPr>
            <a:xfrm>
              <a:off x="6324480" y="4724280"/>
              <a:ext cx="12193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20"/>
            <p:cNvSpPr/>
            <p:nvPr/>
          </p:nvSpPr>
          <p:spPr>
            <a:xfrm>
              <a:off x="6005880" y="4786200"/>
              <a:ext cx="1738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. Doc1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. Doc2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. Doc3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DA9A-9898-4960-8372-8824A5381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eva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vance is a subjective judgment and ma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eing on the proper subjec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eing timely (recent information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eing authoritative (from a trusted source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atisfying the goals of the user and his/her intended use of the information 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information need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1DB4-AFA7-4950-AF7B-7A9846C7E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eyword Sear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st notion of relevance is that the query string appears verbatim in the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ghtly less strict notion is that the words in the query appear frequently in the document, in any orde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g of wo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514C-8340-4BAA-BBFD-D55DAC946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lems with Keywor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not retrieve relevant documents that include synonymous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staurant” vs. “café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C” vs. “China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retrieve irrelevant documents that include ambiguous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t” (baseball vs. mammal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pple” (company vs. fruit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it” (unit of data vs. act of eating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5CE2-D92A-4D82-8856-AB9C57714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eyond Keywor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cover the basics of keyword-based IR, 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focus on extensions and recent developments that go beyond key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cover the basics of building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ffic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R system, 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focus on basic capabilities and algorithms rather than systems issues that allow scaling to industrial size datab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DFEF-9100-4556-ACE7-F574E2A6E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telligent I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ing into account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word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ing into account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words in the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ng to the user based on direct or indirect feed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ing into account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Mooney</cp:lastModifiedBy>
  <dcterms:modified xsi:type="dcterms:W3CDTF">2016-08-22T20:47:38Z</dcterms:modified>
  <cp:revision>30</cp:revision>
  <dc:subject/>
  <dc:title>Intelligent Information Retrieval and Web Search</dc:title>
</cp:coreProperties>
</file>