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dt" idx="31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2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 type="sldNum" idx="33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8844-3EA1-4C09-B208-E802074D1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0F3E-7CA0-4633-A187-B03372978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89E1F-D843-4D53-8878-0D9FA7EE5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DD36D-E0EC-4B65-840A-D6F18921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AFD983-4DAF-4CDF-8069-A2A852A0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F69720-8FE6-4EA9-816D-93FE4160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A6DD4D-8561-4CB4-8F3F-AC7116FA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3E028F-7585-475F-96D7-F0F3EF83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4EC75B-7506-4D09-BEFC-2A69E62E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73B598-D65B-4913-B53A-FBC42045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C6AAC1-EC52-4F36-BE12-2F90B883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932E79-6CEB-43B7-88D6-68B11D105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EBFE78-699F-46D8-B30F-0F0EF99C6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16A710-8FCD-470B-9424-2ED70B680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2FE23-3845-488E-9011-9CB3CCF2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F74D73-42E3-42CD-8AE4-E4E1B99A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EC6D0C-B0FE-4D7D-84E0-12FCD4D8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EEB122-B58E-4A53-BDE3-4F2B4C50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C6E436-FDAC-4418-AF6C-83E4AC83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ED9695-A762-4E88-9A74-E9A76D24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91EC46-1475-4051-A4F6-3388BA73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EEFA0C-EE76-4C78-85B6-9A9D6975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4C1C4E-06A9-4089-91D0-FBF019B6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092867-F52D-4859-8895-D4E6FE25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2ED94D-2130-485A-BEC1-99A1B4311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CE4B4-C4D2-4DA8-8D5B-D0EDF76C2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D66A60-1341-4789-B58F-FFC459A42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D26AC-ADAA-4CB8-8D21-F707873C8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722D5-640B-427C-9FD7-0E85A977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0BACF-C27E-4C3B-AF91-DE7DE78D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5130A-7EAB-4D04-9612-76B840B1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D434C-600C-4A94-8746-D1625EC1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4FC2C-AA7F-4D24-A9B3-649D98A4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6D52D-2745-4D11-8635-CA6426FC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21467-6185-48C8-86B4-53C43E89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C6599-5845-4A12-8197-3E8297F0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702BE-8A71-4B99-81A3-D421F986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5A7B6-9C89-4BE8-A562-136021E3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E616A-7C5C-4225-90B9-5DF513AA1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894AA-6FFC-4BD1-BBD3-68F38E6B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A03EB1-ECB8-456C-9BA6-5203EC94B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464C02-2B61-4236-9E70-0F0F5755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A29D21-D4A8-494B-9A93-D1DCF139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5F3A4F-7CEE-4FFF-A075-B5946851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8B3C5F-E7F3-4731-86CC-4F020603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7D879-A7EB-47AA-8052-A14D8B06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348D69-C16D-4677-8782-78315B33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05868B-1D30-436F-98A5-2C8F6D2B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16E9E4-0053-469F-A2CD-4F6C6DA1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72D315-BF0A-4D9B-B63F-75C8175E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76F3AC-E1F1-4952-A056-7CFC72F5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D1DC67-52B4-42E1-9D2C-9876A508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43263F-FDB5-4394-809C-4964F4340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0F83FB-F9E5-4625-AE70-42137AB0F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5BF6F9-F40C-4F4B-9113-25BD5E42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E1C418-F881-4348-B10C-A6326F4E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6F83D-44F6-49CF-AD87-9A26BD20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0DD9C2-EFEA-4570-81B6-68C312D8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D346A7-2FCF-46DD-9D2B-4B3B0E0C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1D730F-7C3D-4AD5-93BF-237F0139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5C1DD6-F812-42C4-B71E-06B77C24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A588BE-96F5-4BE3-8F24-C731F12A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35CA99-D6F9-4783-B678-8DD91EA3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313F48-36BE-4BE0-9D3C-3E31FD6B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D51FE6-774D-4801-9518-A85A9156F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28329C-FEB2-4178-975C-5D04E09C9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67FD4B-6A5C-4FC4-8C06-A68700E41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9D5DB-D3CE-4A1B-8E87-444C5079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A6BD3D-CDCF-4447-9D80-5A8759EA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F6A992-84C6-46A6-A335-2442C58F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C3D4E8-AD41-4E1C-96EE-F9CAAF8B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2E3086-FE7D-44E4-9F21-728E0CF2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9A110E-B13F-4D02-8022-5A3D8F6A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9D07E1-0A10-4461-9E19-050A2EB0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6F4BF3-C2AA-41D1-ADA3-4631B56C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4B3449-3AE6-4D22-BA17-654CE5A0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3EE023-B8C8-41AE-A4FA-45E7F2E5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F712D7-9BF4-4B58-8B16-96A4B20A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419D3-5819-4DB6-8A9D-AB825CB4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C0091E-146F-46BF-8CCB-B7B9D4BF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745F0F-651D-49CA-AC3F-B3B9E7E98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401FFC-4F28-42A1-BBA1-4165719D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746C11-15A7-4C8F-AC42-66718865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5E9C26-C3BA-489E-A9E5-41484688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8A0485-EF83-4D87-9911-5399037E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0420BD-D514-47A6-892A-F4406524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F74BB3-B575-4448-A055-DA25FA04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D1BE55-CE5F-4EA7-8753-DF484873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572536-2D6B-460A-BE30-2A9CCEBE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C6ACE-BD3C-4A46-A6E3-CCBD1255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864E75-4BA2-45A4-B56B-EADC54E7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B5815E-EF15-41AC-91AB-5D82BB935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DD40AF-F54C-4628-B184-DC677B6C9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E54DAF-98EF-4398-8821-7F509873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5A31FB-A610-4328-A178-728D8B9E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6A2207-DAE5-4480-9DCB-6EA0A506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FE20BA-CEE4-47D1-ACD2-BCB7331C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C26750-D025-4A71-97F1-1FFB3E6D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094CE3-5AA7-45E1-967D-052B1A5D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393923-78CA-4FC6-908E-335D376B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19CB9-0EC3-49B3-960E-6ACFA34B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16AD6A-9E5A-460A-BE33-865CC268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6EE0D0-BD7B-4E64-9F6A-C130F7E7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4CCD75-2CE7-4693-AFA9-9B1B2B12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F29415-8A78-4594-95C3-D92C34167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B58873-0F7E-480D-84DC-DD265C62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6C9111-9D5E-43A5-8E59-6F3C7543E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44F346-C290-48F1-9704-550D3565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258541-2441-4EE2-A12F-8F40567B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F7F0E2-E2D8-4875-81E0-6041FFC5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6E3F14-41A4-4CFE-A05E-FA097D4F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C1A0B-944E-4D65-99A4-86D07408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D3A5F1-FB49-416B-8F29-23A058F9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B15190-B57D-42B6-93F4-6EF97C63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E7CB96-9CBC-427D-BF01-83FE4E27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63A10F-B6F1-4DFD-BEE7-E5E1A4CB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D2B475-C0F0-4314-9F5E-3D3B97DA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0BCF4A-CD70-43DC-A74B-2535445C9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0B2476-3F4E-499F-AE5E-3145A4D0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3CE3EC-8A19-41BD-A18C-163FF8AA1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9E5B92-BE05-41FA-9F55-ABC6CA5D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3D37E7-D094-464A-8A73-91D32FF1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138B-433A-4FE7-A4A9-A508B1BAF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F82E-2715-4054-AB6A-082EEDA11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25F6-BD7E-4413-ABE4-13EE82015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F8BC-C53E-4EF3-A218-1CC87CE52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C456-D7F8-49B3-8793-53ADE2B90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1DEB-A42C-4189-836B-80A584CC0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0F7E-C09E-4596-B12E-276DFE336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BA27-02BD-42E2-A572-8512BD211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B130-B6E3-4966-81BC-D548E190B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0A45-2900-4C44-8241-DD7093979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B552-E495-446E-BFED-0C0A49051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abilistic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anguage-Model Based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ocument Retrieva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Performance of Language Model Approach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r scale TREC experiments demonstrate that the LM approach with proper smoothing works slightly better than a well-tuned vector-space appro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make LM approach efficient by exploiting inverted ind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on’t bother to the compute probability of documents that do not contain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any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of the query word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for Retrieva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ïve Bayes can also be used for ad-hoc document retriev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each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ocuments as a category with only one training example, the document its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ify queries using th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way categor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k documents based on the posterior probability of their categ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historical reasons, this is called the “language model” (LM) appro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enerative Model for Retrieva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02080" y="16714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66680" y="3600360"/>
            <a:ext cx="2614680" cy="1500120"/>
            <a:chOff x="166680" y="3600360"/>
            <a:chExt cx="2614680" cy="1500120"/>
          </a:xfrm>
        </p:grpSpPr>
        <p:grpSp>
          <p:nvGrpSpPr>
            <p:cNvPr id="435" name=""/>
            <p:cNvGrpSpPr/>
            <p:nvPr/>
          </p:nvGrpSpPr>
          <p:grpSpPr>
            <a:xfrm>
              <a:off x="271440" y="3652560"/>
              <a:ext cx="1447920" cy="1447920"/>
              <a:chOff x="271440" y="3652560"/>
              <a:chExt cx="1447920" cy="1447920"/>
            </a:xfrm>
          </p:grpSpPr>
          <p:pic>
            <p:nvPicPr>
              <p:cNvPr id="43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71440" y="3652560"/>
                <a:ext cx="144792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7" name=""/>
              <p:cNvSpPr/>
              <p:nvPr/>
            </p:nvSpPr>
            <p:spPr>
              <a:xfrm>
                <a:off x="779400" y="4036680"/>
                <a:ext cx="520560" cy="580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this test urn has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many word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166680" y="3605040"/>
              <a:ext cx="1447920" cy="1447920"/>
              <a:chOff x="166680" y="3605040"/>
              <a:chExt cx="1447920" cy="1447920"/>
            </a:xfrm>
          </p:grpSpPr>
          <p:pic>
            <p:nvPicPr>
              <p:cNvPr id="43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6680" y="3605040"/>
                <a:ext cx="144792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"/>
              <p:cNvSpPr/>
              <p:nvPr/>
            </p:nvSpPr>
            <p:spPr>
              <a:xfrm>
                <a:off x="674640" y="3989160"/>
                <a:ext cx="520560" cy="580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this test urn has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many word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1333440" y="3600360"/>
              <a:ext cx="1447920" cy="1447560"/>
              <a:chOff x="1333440" y="3600360"/>
              <a:chExt cx="1447920" cy="1447560"/>
            </a:xfrm>
          </p:grpSpPr>
          <p:pic>
            <p:nvPicPr>
              <p:cNvPr id="44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333440" y="3600360"/>
                <a:ext cx="1447920" cy="14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"/>
              <p:cNvSpPr/>
              <p:nvPr/>
            </p:nvSpPr>
            <p:spPr>
              <a:xfrm>
                <a:off x="1841400" y="3984120"/>
                <a:ext cx="520560" cy="580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this test urn has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many word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4" name=""/>
          <p:cNvGrpSpPr/>
          <p:nvPr/>
        </p:nvGrpSpPr>
        <p:grpSpPr>
          <a:xfrm>
            <a:off x="2590920" y="3595680"/>
            <a:ext cx="2613960" cy="1500120"/>
            <a:chOff x="2590920" y="3595680"/>
            <a:chExt cx="2613960" cy="1500120"/>
          </a:xfrm>
        </p:grpSpPr>
        <p:grpSp>
          <p:nvGrpSpPr>
            <p:cNvPr id="445" name=""/>
            <p:cNvGrpSpPr/>
            <p:nvPr/>
          </p:nvGrpSpPr>
          <p:grpSpPr>
            <a:xfrm>
              <a:off x="2695320" y="3647880"/>
              <a:ext cx="1447560" cy="1447920"/>
              <a:chOff x="2695320" y="3647880"/>
              <a:chExt cx="1447560" cy="1447920"/>
            </a:xfrm>
          </p:grpSpPr>
          <p:pic>
            <p:nvPicPr>
              <p:cNvPr id="44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695320" y="3647880"/>
                <a:ext cx="144756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7" name=""/>
              <p:cNvSpPr/>
              <p:nvPr/>
            </p:nvSpPr>
            <p:spPr>
              <a:xfrm>
                <a:off x="3202920" y="4032000"/>
                <a:ext cx="520200" cy="580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this test urn has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many word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2590920" y="3600360"/>
              <a:ext cx="1447560" cy="1447920"/>
              <a:chOff x="2590920" y="3600360"/>
              <a:chExt cx="1447560" cy="1447920"/>
            </a:xfrm>
          </p:grpSpPr>
          <p:pic>
            <p:nvPicPr>
              <p:cNvPr id="44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590920" y="3600360"/>
                <a:ext cx="144756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>
                <a:off x="3098520" y="3984480"/>
                <a:ext cx="520200" cy="580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this test urn has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many word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3757320" y="3595680"/>
              <a:ext cx="1447560" cy="1447560"/>
              <a:chOff x="3757320" y="3595680"/>
              <a:chExt cx="1447560" cy="1447560"/>
            </a:xfrm>
          </p:grpSpPr>
          <p:pic>
            <p:nvPicPr>
              <p:cNvPr id="45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757320" y="3595680"/>
                <a:ext cx="1447560" cy="14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>
                <a:off x="4264920" y="3979440"/>
                <a:ext cx="520200" cy="580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this test urn has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many word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4" name=""/>
          <p:cNvGrpSpPr/>
          <p:nvPr/>
        </p:nvGrpSpPr>
        <p:grpSpPr>
          <a:xfrm>
            <a:off x="4886280" y="3576600"/>
            <a:ext cx="2614680" cy="1500120"/>
            <a:chOff x="4886280" y="3576600"/>
            <a:chExt cx="2614680" cy="1500120"/>
          </a:xfrm>
        </p:grpSpPr>
        <p:grpSp>
          <p:nvGrpSpPr>
            <p:cNvPr id="455" name=""/>
            <p:cNvGrpSpPr/>
            <p:nvPr/>
          </p:nvGrpSpPr>
          <p:grpSpPr>
            <a:xfrm>
              <a:off x="4991040" y="3628800"/>
              <a:ext cx="1447920" cy="1447920"/>
              <a:chOff x="4991040" y="3628800"/>
              <a:chExt cx="1447920" cy="1447920"/>
            </a:xfrm>
          </p:grpSpPr>
          <p:pic>
            <p:nvPicPr>
              <p:cNvPr id="45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991040" y="3628800"/>
                <a:ext cx="144792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"/>
              <p:cNvSpPr/>
              <p:nvPr/>
            </p:nvSpPr>
            <p:spPr>
              <a:xfrm>
                <a:off x="5499000" y="4012920"/>
                <a:ext cx="520560" cy="580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this test urn has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many word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4886280" y="3581280"/>
              <a:ext cx="1447920" cy="1447920"/>
              <a:chOff x="4886280" y="3581280"/>
              <a:chExt cx="1447920" cy="1447920"/>
            </a:xfrm>
          </p:grpSpPr>
          <p:pic>
            <p:nvPicPr>
              <p:cNvPr id="45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886280" y="3581280"/>
                <a:ext cx="144792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"/>
              <p:cNvSpPr/>
              <p:nvPr/>
            </p:nvSpPr>
            <p:spPr>
              <a:xfrm>
                <a:off x="5394240" y="3965400"/>
                <a:ext cx="520560" cy="580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this test urn has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many word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6053040" y="3576600"/>
              <a:ext cx="1447920" cy="1447560"/>
              <a:chOff x="6053040" y="3576600"/>
              <a:chExt cx="1447920" cy="1447560"/>
            </a:xfrm>
          </p:grpSpPr>
          <p:pic>
            <p:nvPicPr>
              <p:cNvPr id="46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053040" y="3576600"/>
                <a:ext cx="1447920" cy="14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>
                <a:off x="6561000" y="3960360"/>
                <a:ext cx="520560" cy="580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this test urn has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many word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4" name=""/>
          <p:cNvGrpSpPr/>
          <p:nvPr/>
        </p:nvGrpSpPr>
        <p:grpSpPr>
          <a:xfrm>
            <a:off x="1023840" y="2009880"/>
            <a:ext cx="5862240" cy="1775880"/>
            <a:chOff x="1023840" y="2009880"/>
            <a:chExt cx="5862240" cy="1775880"/>
          </a:xfrm>
        </p:grpSpPr>
        <p:sp>
          <p:nvSpPr>
            <p:cNvPr id="465" name=""/>
            <p:cNvSpPr/>
            <p:nvPr/>
          </p:nvSpPr>
          <p:spPr>
            <a:xfrm flipV="1">
              <a:off x="1023840" y="2047320"/>
              <a:ext cx="2557440" cy="1557000"/>
            </a:xfrm>
            <a:prstGeom prst="line">
              <a:avLst/>
            </a:prstGeom>
            <a:ln w="5724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2090520" y="2043000"/>
              <a:ext cx="1657440" cy="1699920"/>
            </a:xfrm>
            <a:prstGeom prst="line">
              <a:avLst/>
            </a:prstGeom>
            <a:ln w="5724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3342960" y="2080800"/>
              <a:ext cx="443160" cy="1657080"/>
            </a:xfrm>
            <a:prstGeom prst="line">
              <a:avLst/>
            </a:prstGeom>
            <a:ln w="5724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 flipV="1">
              <a:off x="3867120" y="2090160"/>
              <a:ext cx="728640" cy="1685880"/>
            </a:xfrm>
            <a:prstGeom prst="line">
              <a:avLst/>
            </a:prstGeom>
            <a:ln w="5724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 flipV="1">
              <a:off x="4119120" y="2085840"/>
              <a:ext cx="1585800" cy="1699920"/>
            </a:xfrm>
            <a:prstGeom prst="line">
              <a:avLst/>
            </a:prstGeom>
            <a:ln w="5724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 flipV="1">
              <a:off x="4271400" y="2009880"/>
              <a:ext cx="2614680" cy="1728720"/>
            </a:xfrm>
            <a:prstGeom prst="line">
              <a:avLst/>
            </a:prstGeom>
            <a:ln w="5724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688760" y="2600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284200" y="2738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122280" y="28051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960720" y="2871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598640" y="2766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36920" y="2662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701640" y="5000760"/>
            <a:ext cx="66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1       Doc2           Doc3          Doc4         Doc5           Doc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76440" y="5249880"/>
            <a:ext cx="658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3            0.1              0.08            0.06            0.18            0.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489440" y="2184480"/>
            <a:ext cx="1374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Ran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Retrieva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 1  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 6  0.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 5  0.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 2 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 3  0.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 4  0.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mooth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 smoothing is important for this approach to work w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place smoothing does not work well for this appl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o use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linear interpol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smoo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inear Interpolation Smooth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549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 conditional probabilities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a mixture of conditioned and unconditioned estima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the probability of drawing wor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the urn of words in category (i.e. document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the probability of drawing wor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the urn of words in the entire corpus (i.e. all document urns combined into one big ur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1484280" y="2789280"/>
                <a:ext cx="598176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λ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λ</m:t>
                    </m:r>
                    <m:r>
                      <m:t xml:space="preserve">)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5" name=""/>
          <p:cNvSpPr/>
          <p:nvPr/>
        </p:nvSpPr>
        <p:spPr>
          <a:xfrm>
            <a:off x="1055520" y="369576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068480" y="463392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mount of Smooth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52240" y="1371240"/>
            <a:ext cx="82486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rols the amount of smoo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ower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, the more smoothing there is since the unconditioned term is weighted higher (1 ─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perly is important for good perform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nually or automatically based on maximizing performance on a development set of que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nds to work better for long queries, high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short que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Experimental Results on CF Corpus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Effect of </a:t>
            </a:r>
            <a:r>
              <a:rPr b="0" lang="en-US" sz="3200" spc="-1" strike="noStrike">
                <a:solidFill>
                  <a:srgbClr val="3333ff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 Parameter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165240" y="1558800"/>
            <a:ext cx="7594560" cy="529920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7082280" y="2706840"/>
            <a:ext cx="1688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l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ries, lar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unt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o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.1) see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work b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Experimental Results on CF Corpus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Effect of Laplace Smoothing Parameter 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993600" y="1390680"/>
            <a:ext cx="727884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Experimental Results on CF Corpus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Comparison of Smothing Methods and VSR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0" y="1374840"/>
            <a:ext cx="7413480" cy="516420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7021800" y="2647800"/>
            <a:ext cx="2126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place smo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much wor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 interp do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out the same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ctor-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 </cp:lastModifiedBy>
  <dcterms:modified xsi:type="dcterms:W3CDTF">2010-01-27T20:13:48Z</dcterms:modified>
  <cp:revision>117</cp:revision>
  <dc:subject/>
  <dc:title>Intelligent Information Retrieval and Web Search</dc:title>
</cp:coreProperties>
</file>