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3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655-68AD-4F06-975C-9FD3875F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A3CF-A09B-489D-ABB4-A10E595D3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1A4A-9C0C-4A03-B9E6-C6788754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6CD3-E2A1-4946-8023-08BD679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E39CA9-4981-4555-B6D5-6592D96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190F8-000C-4501-9A42-4950EEC3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634865-B49A-4DE3-B12D-2ECEDE0F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A68D9-B95C-40ED-B536-0181469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6D54D-9B18-4CEF-A637-1E13E12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5F2DEB-5E46-405B-94D8-2EBEF0F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6BCE69-DE31-4A13-9269-09CCF6F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8F17DD-BB91-4570-93BA-958BF708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601D1-2EB5-40E4-80E4-07C5F3C2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217ACA-C15E-4D56-AE54-51A1F79A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D68B-35AF-4834-BF91-49CCF30A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0B538-2C7C-40D3-AD39-A8C388AC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940FE-D127-4E9C-8C5B-362D963D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8979F5-00B5-4B16-AC65-1EF318C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BF45B0-83D0-421F-84E5-7B3CF41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66350F-868C-4BE5-B08D-02C40F3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94322-EF24-4416-A767-A716434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923EE-1B9E-4DC1-8621-26EB637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1BF31A-F933-4C95-828C-6580AA4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7CF8F-D927-4EED-88F4-C7D3894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E922A2-7D95-43F8-86B2-7A3AC9D8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43A8-15F6-42A0-A726-B9E3CECE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6B8FC-154E-4C2C-B20C-4B2371AC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5C7D-A2A2-4F4F-900F-D33A98C4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BA536-57FE-4C0A-B7AF-53B100B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F989D-5ECD-4CA3-A180-D00E74C0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D03A-4664-4601-87A4-B251DF2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E267A-FDEC-4A94-A5F8-817AD6D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BCA1-4FE8-45B4-B7A4-54802289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E25D-27B8-4427-9FC4-CB9ED58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59D0-3805-4973-99C9-39AC407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2B400-6447-424E-ACDE-B5E9DEE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47CDF-4142-4196-B863-1200C75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C39AB-AE21-46C8-8391-AE6316E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F2FFA-CF1B-4E2B-BEE5-83A60EE8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98D0-76AF-41CF-BE8E-543BE574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1B5F-9E27-41CE-8E8D-F2D2E514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A3948-6CB2-45AF-ACBE-7C030A6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971FC-C5A7-4F38-B74B-43B8D40C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C419C-3F37-4210-B4B9-0896637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3793F-97B0-453F-959B-5C12FF3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0FA4-C462-437A-98E9-6B6BB59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30F79-DBE6-4808-BFD1-0DAF44E4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98A4-0253-442B-ABB7-58286FA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80A60-5F38-4E6F-8106-C96C05B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49F8E-1A47-463C-BF90-259FFA5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577F6-99C3-4C45-B59F-FCBB21D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BE1D0-6F0F-4611-807B-3CFE437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8EAAF-827B-4591-9ACE-32C5D06B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6A4C1-3363-47F3-9800-44A19130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9F31C-8109-4299-B69B-FC770B7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77AF3-83BF-4034-8C70-81F5F478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10CB-F5A0-410C-AF0D-B14337F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00181-2048-483B-97EB-B815B566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CD80C-00EF-49BE-B185-2BDDD5D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4518D-9FD2-4AC2-9BFF-CBBF92EA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A4993-5421-4448-95BC-D3D1E60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10E0D-3C6B-4FA0-B10E-2053D64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66927-C263-4626-B1EF-4D0098F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5BFAA-273C-4F72-BCC2-BC8280E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5155-A601-4E8B-A6D5-1E8E3532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F1020-2EE8-41E2-BD52-C1504848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5BBF4-7B81-4779-BC55-0C118074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8AF3-D12B-410E-B5BA-7CEE838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12E75-C8CC-4C4F-A622-7EDB6436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AAC25-CF48-4E17-858D-E334875A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F545A-2AA6-4F7C-BA62-C1F8836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ADE4B-F822-4447-8C97-EB032DC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7A9FF-5B76-4928-9CDA-0A171778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CD135-DC69-4BB9-B5D0-9D32F8C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D3075-BB72-4235-9A53-B666B74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10DF5-8520-49A8-A08E-29A9FF8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40A49-29F1-4E95-BA9E-17B370C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FAF13-855B-47BA-9CF5-BC38E65F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94F0-425B-4152-98EC-293D20BA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45371-3E11-42BA-8713-93F71A8B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06B5B-B6F3-4A4B-A988-F55FB25A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83912-B437-42C5-A026-A7E2A91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C1EA9-5014-4296-AED5-F23AD9C5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A04E5-78EB-4B73-90B0-7A94000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39968-ED3C-41D3-9D5A-FF88D3C0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9E2BE-E748-4334-8506-8B865D7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24BD1-BAF0-43F6-B96E-47E0EAA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9A867-C75B-4CAA-8662-EBF3A0A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19696-FA40-4FB4-AEF7-BF1FF79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EC8F-24C1-4F5F-9A78-4ABB4A4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CBF21-D73F-46A3-823B-2E7C578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53EA3-DA71-4988-B012-74532112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A96DB-1C4F-44AB-9B5B-3776AFB4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16BA8-E970-4696-A7E1-3352FD1B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E6B75-F372-4BE1-A966-66EB5C81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AD75E-74E1-4A2A-B044-4BFBEBA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873AE-6B75-4A96-8E8F-D927F31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32990-71FA-4C5C-8CE6-C1CDCB82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7E410-7DDC-4BC9-BBA1-F9A3CB8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69641-7CA2-4F62-8B91-407C589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501F-597B-4D3D-8402-1AED4E5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B8598-644E-4240-B863-6874469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08647-9E75-45F1-8DCB-C3FE3DC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C0A7D-48C9-44D4-80A1-3BEFF79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784D41-994E-4223-97B1-0A1A3BFA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871F8-AEB1-465D-B92D-180A0545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4FC92-940A-420F-8CD3-2F901A7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E43D2-AA97-4B94-8ACC-235D64BB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82EF60-469E-4D7F-A78D-BA9BFF27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A2F75-8D2E-4BF0-ADA1-A33182B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7CC82A-2E37-4C32-95A3-DF60742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7C07-5987-4C91-B46E-CCE9291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47CA1-302E-4443-88A2-CEE3C93A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CC9EC-8696-4312-BBEE-A4D9F16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EA3F5-3E30-49B7-8173-05B8BB8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8EB9B-A605-4BB8-A5D5-E7C1A73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4201A-09E0-4457-BF6B-73C5BAA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B7E67-EEFA-4092-8EBC-A0ECCEE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D7E29-ED54-48F5-A554-31824F2C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3FFF3-51E8-4DC8-B587-95849AB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83831-46E9-4243-895F-DDB6C734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E9114-3782-47C4-9E06-02BC9333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768-FDAA-467B-B70D-854E4087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AD0-6338-43D7-808D-D2F46E56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4B53-5CF8-48FD-9618-4A713E8F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C323-57A3-4771-8FBA-1DD4ACD5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195-DD06-4462-A105-62C6267C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CEB-A01C-4BCB-8B77-8CC3C690D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EF1E-5290-4696-9C96-DE2E7E6C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C21-7DD5-4C65-9908-20EC07CB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6D1-3313-4271-B8B4-DDB9636C2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6B12-BBFF-4F02-A7BE-381E5A3BC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107-6F18-46BD-A4D2-AD7DDE5D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-Model Base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ocument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formance of Language Model Approach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scale TREC experiments demonstrate that the LM approach with proper smoothing works slightly better than a well-tuned vector-space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make LM approach efficient by exploiting inverted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n’t bother to the compute probability of documents that do not conta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f the query wor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Bayes can also be used for ad-hoc document retrie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cuments as a category with only one training example, the document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 queries using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ay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documents based on the posterior probability of their categ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historical reasons, this is called the “language model” (LM)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Model for Retri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2080" y="16714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66680" y="3600360"/>
            <a:ext cx="2614680" cy="1500120"/>
            <a:chOff x="166680" y="3600360"/>
            <a:chExt cx="2614680" cy="1500120"/>
          </a:xfrm>
        </p:grpSpPr>
        <p:grpSp>
          <p:nvGrpSpPr>
            <p:cNvPr id="435" name=""/>
            <p:cNvGrpSpPr/>
            <p:nvPr/>
          </p:nvGrpSpPr>
          <p:grpSpPr>
            <a:xfrm>
              <a:off x="271440" y="3652560"/>
              <a:ext cx="1447920" cy="1447920"/>
              <a:chOff x="271440" y="3652560"/>
              <a:chExt cx="1447920" cy="1447920"/>
            </a:xfrm>
          </p:grpSpPr>
          <p:pic>
            <p:nvPicPr>
              <p:cNvPr id="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1440" y="365256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779400" y="403668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66680" y="3605040"/>
              <a:ext cx="1447920" cy="1447920"/>
              <a:chOff x="166680" y="3605040"/>
              <a:chExt cx="1447920" cy="1447920"/>
            </a:xfrm>
          </p:grpSpPr>
          <p:pic>
            <p:nvPicPr>
              <p:cNvPr id="4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360504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674640" y="398916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333440" y="3600360"/>
              <a:ext cx="1447920" cy="1447560"/>
              <a:chOff x="1333440" y="3600360"/>
              <a:chExt cx="1447920" cy="1447560"/>
            </a:xfrm>
          </p:grpSpPr>
          <p:pic>
            <p:nvPicPr>
              <p:cNvPr id="4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3440" y="3600360"/>
                <a:ext cx="144792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841400" y="398412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590920" y="3595680"/>
            <a:ext cx="2613960" cy="1500120"/>
            <a:chOff x="2590920" y="3595680"/>
            <a:chExt cx="2613960" cy="1500120"/>
          </a:xfrm>
        </p:grpSpPr>
        <p:grpSp>
          <p:nvGrpSpPr>
            <p:cNvPr id="445" name=""/>
            <p:cNvGrpSpPr/>
            <p:nvPr/>
          </p:nvGrpSpPr>
          <p:grpSpPr>
            <a:xfrm>
              <a:off x="2695320" y="3647880"/>
              <a:ext cx="1447560" cy="1447920"/>
              <a:chOff x="2695320" y="3647880"/>
              <a:chExt cx="1447560" cy="1447920"/>
            </a:xfrm>
          </p:grpSpPr>
          <p:pic>
            <p:nvPicPr>
              <p:cNvPr id="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95320" y="3647880"/>
                <a:ext cx="14475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3202920" y="403200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590920" y="3600360"/>
              <a:ext cx="1447560" cy="1447920"/>
              <a:chOff x="2590920" y="3600360"/>
              <a:chExt cx="1447560" cy="1447920"/>
            </a:xfrm>
          </p:grpSpPr>
          <p:pic>
            <p:nvPicPr>
              <p:cNvPr id="4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90920" y="3600360"/>
                <a:ext cx="14475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3098520" y="398448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757320" y="3595680"/>
              <a:ext cx="1447560" cy="1447560"/>
              <a:chOff x="3757320" y="3595680"/>
              <a:chExt cx="1447560" cy="1447560"/>
            </a:xfrm>
          </p:grpSpPr>
          <p:pic>
            <p:nvPicPr>
              <p:cNvPr id="4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57320" y="3595680"/>
                <a:ext cx="14475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4264920" y="3979440"/>
                <a:ext cx="52020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86280" y="3576600"/>
            <a:ext cx="2614680" cy="1500120"/>
            <a:chOff x="4886280" y="3576600"/>
            <a:chExt cx="2614680" cy="1500120"/>
          </a:xfrm>
        </p:grpSpPr>
        <p:grpSp>
          <p:nvGrpSpPr>
            <p:cNvPr id="455" name=""/>
            <p:cNvGrpSpPr/>
            <p:nvPr/>
          </p:nvGrpSpPr>
          <p:grpSpPr>
            <a:xfrm>
              <a:off x="4991040" y="3628800"/>
              <a:ext cx="1447920" cy="1447920"/>
              <a:chOff x="4991040" y="3628800"/>
              <a:chExt cx="1447920" cy="1447920"/>
            </a:xfrm>
          </p:grpSpPr>
          <p:pic>
            <p:nvPicPr>
              <p:cNvPr id="4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91040" y="362880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5499000" y="401292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886280" y="3581280"/>
              <a:ext cx="1447920" cy="1447920"/>
              <a:chOff x="4886280" y="3581280"/>
              <a:chExt cx="1447920" cy="1447920"/>
            </a:xfrm>
          </p:grpSpPr>
          <p:pic>
            <p:nvPicPr>
              <p:cNvPr id="4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86280" y="3581280"/>
                <a:ext cx="144792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5394240" y="396540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053040" y="3576600"/>
              <a:ext cx="1447920" cy="1447560"/>
              <a:chOff x="6053040" y="3576600"/>
              <a:chExt cx="1447920" cy="1447560"/>
            </a:xfrm>
          </p:grpSpPr>
          <p:pic>
            <p:nvPicPr>
              <p:cNvPr id="46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53040" y="3576600"/>
                <a:ext cx="144792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6561000" y="3960360"/>
                <a:ext cx="52056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this test urn ha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many wor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023840" y="2009880"/>
            <a:ext cx="5862240" cy="1775880"/>
            <a:chOff x="1023840" y="2009880"/>
            <a:chExt cx="5862240" cy="1775880"/>
          </a:xfrm>
        </p:grpSpPr>
        <p:sp>
          <p:nvSpPr>
            <p:cNvPr id="465" name=""/>
            <p:cNvSpPr/>
            <p:nvPr/>
          </p:nvSpPr>
          <p:spPr>
            <a:xfrm flipV="1">
              <a:off x="1023840" y="2047320"/>
              <a:ext cx="2557440" cy="155700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90520" y="2043000"/>
              <a:ext cx="1657440" cy="16999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42960" y="2080800"/>
              <a:ext cx="443160" cy="16570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3867120" y="2090160"/>
              <a:ext cx="728640" cy="16858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119120" y="2085840"/>
              <a:ext cx="1585800" cy="16999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4271400" y="2009880"/>
              <a:ext cx="2614680" cy="17287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88760" y="26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4200" y="273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22280" y="280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0720" y="287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98640" y="2766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36920" y="266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01640" y="500076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1       Doc2           Doc3          Doc4         Doc5           Doc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6440" y="524988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            0.1              0.08            0.06            0.18            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89440" y="2184480"/>
            <a:ext cx="137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an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triev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1  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6  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5  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2 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3 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4  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smoothing is important for this approach to work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lace smoothing does not work well for this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o use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linear interp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mo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Interpolation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54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conditional probabilities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a mixture of conditioned and unconditioned estim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drawing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urn of words in category (i.e. document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drawing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urn of words in the entire corpus (i.e. all document urns combined into one big ur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484280" y="2789280"/>
                <a:ext cx="5981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1055520" y="36957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8480" y="46339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ount of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52240" y="1371240"/>
            <a:ext cx="8248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 the amount of smo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, the more smoothing there is since the unconditioned term is weighted higher (1 ─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ly is important for good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ually or automatically based on maximizing performance on a development set of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s to work better for long queries, hig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hort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 of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Parameter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65240" y="1558800"/>
            <a:ext cx="7594560" cy="5299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7082280" y="2706840"/>
            <a:ext cx="168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ies, lar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) se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ork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 of Laplace Smoothing Parameter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993600" y="1390680"/>
            <a:ext cx="72788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CF Corpu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mparison of Smothing Methods and VSR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7413480" cy="51642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7021800" y="2647800"/>
            <a:ext cx="212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place 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much wo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interp do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the sa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10-01-27T20:13:48Z</dcterms:modified>
  <cp:revision>117</cp:revision>
  <dc:subject/>
  <dc:title>Intelligent Information Retrieval and Web Search</dc:title>
</cp:coreProperties>
</file>