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B86B-5F25-4D66-80D6-6AAB043B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5F8C-1B1C-4FAE-BBEA-01466E0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E0625-0DFC-4C7E-96B9-891F3F20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B6D39C-5642-49DA-AB4F-081EB606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379EA-8765-40F4-BDEC-F93F1A40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5AD6F0-7EA7-481D-8DDA-5BAC0521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2F0F9-6A6B-400B-8914-C0DB89B2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72477F-BF40-4F54-A8C8-47EC0746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F9D49D-D7E5-42BD-BC00-FAB79331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549275-9266-4440-AC5D-7B1D03C8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515CF1-405B-4A34-9D06-D6A7CA16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B106C0-6179-4865-8529-252C943C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ADBF-5D22-464F-B0EF-5C4FCB81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2997B-EC91-4C97-A268-E3262965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2069AC-621C-41C7-BB88-5F5B5878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0B9857-C75A-4EAE-A617-28FE629D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CA66D9-5003-4B4F-9AF4-535A50ED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665587-3161-43F7-A752-6DED47A6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4D1A71-59FA-4190-A8F3-A98D93FF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8B6312-CD26-4101-91F2-00EF41AA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FE256F-CB8D-4EDF-9CE4-43E1500F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F87A4F-20F7-4E55-B776-37184659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F57B19-2F4B-49A6-A922-FF750CD8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A751-5005-4EE0-AEE5-4EB86A18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B92F88-1ECB-4663-B44B-7E7A779E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27696A-AABD-4977-8BE0-05C72AD6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5ED343-55BD-409E-A84A-C07D4505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956F83-F3CB-44A4-8C22-1E3BD25A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E116D0-9B51-4AD1-AE41-442FDE7C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750CDB-0FD7-4E57-9053-4F614152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31C9C0-8FF7-4FD7-8D02-094C2A19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B17A5F-FEBD-4E25-B20D-F7C350E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30A84E-E742-4DB0-8014-1783E25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6852F-07C2-49FA-AC4B-E082D761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E4D9A-0050-4EFF-9815-B0D9CCCB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2FF9DE-8B4C-4495-A0BC-5B44418D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EF66F3-98F3-43F9-B619-FA47522B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0F5634-F019-41D6-BBB6-F9A3B26C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12B10B-4B8D-4C2E-94AD-5BB603F8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25502E-7E45-4B53-A2B8-BFDF97EC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A342CF-D308-4AAE-842E-2CED5221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BAB845-06BB-4F8C-B0C4-B99188ED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B159A3-3D7D-44A8-B1F9-B3AC2FD7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980570-A110-4644-9D8E-A7F9C390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5F759E-DC0C-419B-87BE-1131326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61267-A108-4316-8BEC-5D4F11C2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E7FF4B-A299-41D6-A8F3-4BDB8990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EB360A-068C-47AD-89B5-63C7FB25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604959-5A09-4565-96CA-87CA18A2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1037D2-4167-49B6-9780-F34260A4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BC0286-5A5B-4B65-84BD-6DFE3A93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8474A-0D59-4548-A0C7-0F7AA8A2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4A355-BB70-42BD-A53D-ED125981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63BC9-1B59-44AF-806A-BB932FC7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857DC-1047-4B79-877A-D19C0FF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FE075-25AF-4354-BF16-0D215096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6585-8F79-4E1D-AA97-C1197A35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51B0-C70A-42B5-8D27-68CB097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DDDD2-A0D2-422C-9347-0658CD2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92041-EC7B-41F4-AD46-75983C35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FA3BF-8D71-48E5-81E1-DA1FB0CF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8CDEC-B77A-4779-9824-981A286A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8938B-46A3-47BD-B852-ECF856F2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EDFD4-F3FA-4899-ACC6-3A345F20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5E69D-0B64-4563-B76B-6513E691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4665D-74E8-4C5A-B90A-E5169EA4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B1E50-7375-47F6-AE4C-F7738427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35E4-F2E0-40D7-9CD6-81D02EC9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B5823-532B-4AC4-AE02-96C49E32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F44C8-3F18-446F-96BC-4FC0D89D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5F64F-77D9-4ED9-A22D-A20780FA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A4BA1-4FF8-4348-95ED-61F4A3C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8065A-EBF6-482C-890A-B4B41E7E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B399B-8898-4146-81C1-0949E8CF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154C4-FC16-41F3-80AB-6135513D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9FB3B-DD39-4819-B73B-9F86FD94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C3553-B3BC-42AD-B946-C82EE299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FAC72-C361-44FE-AF0F-7863EA44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E59E-6D4B-4C83-992A-5ED7AED7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F9DDD-F0FF-4AD7-8A37-308A3F6B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21169-D382-45BF-84CC-EB51914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8B0C5-7C39-4B05-A4B5-11D0418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9359B-3389-4D2A-AB83-988A826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2E56E-97E7-473C-8E36-95B3428D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EA770-1FB6-4C95-A904-F25E703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7CF01-9E51-4A42-8D7B-A2900E7E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07CA5-58F3-4A6B-AD8F-394FEAAA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BD661-182A-4D6E-8F7E-BB5E639C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3C89F-82D1-4F80-A0E1-78F3680D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9A36-A815-451C-A4B1-F9DD0EA4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4902A-4D9C-4F68-8C4F-E0BFC39E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5B53F-551F-46E8-B6D7-F48B349D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FA0D3-9E7A-4AC1-9423-51C17B66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899B5-1C84-4F6A-AC40-963ACECF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EAB66-3EBF-42A3-8C7C-9E0DEF43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FE32F-ECC0-403A-9BE1-2C30508F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BA969-68A5-471D-8997-F935BFA7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37F56-69D4-4F1C-9B69-BAF96887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EBA01-4DD5-4B95-BE05-888F3A98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AC87C-CE98-46C1-993C-26C56318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5C2C-4FF3-4072-B08E-FC08BFBF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CCD1E-D4F2-4112-8DFC-DFF528F8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3D7CC-79B0-4E7D-B537-98B4C770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84EE5-D6B0-42E9-A33B-A3D3C027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CF391-6FED-4509-8CC9-961B4473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A4308-D58C-4F35-9457-1CB2040D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7E65C-E9DC-4ADC-9565-7FB914B0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B79A7-922E-418E-BEFE-ECABF3BF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0D018-EF88-49CE-801A-773EB90C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E1345-FD7B-46BD-B50F-79BEF2F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AF9C5-479C-442A-A214-29E5059F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DDAA-550F-4C55-821B-634526EE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7C3EF-082A-4EBA-86DA-80CCBBC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E92F4-54AF-4B3D-BD41-340A0340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0801C-924E-40B2-8A93-2B7D964F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55D18-704A-4F34-B590-B392FAEC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92C8C-44C4-4BCB-B9DA-665D3C12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7355C-8F2B-453D-9D57-CEBB2D7B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DA92D-E939-4D2F-A2C4-4B57A6A8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6E7DD-0F4D-4AAF-B14F-2F39F497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D4F81-2BF6-4915-A751-CB653D6C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72F8B-6B8A-42BF-A3CB-69A06991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DC51-B1AB-4B21-A33B-CE8CCA5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A583A-1BBE-44B1-BF41-BEEC0F5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7E382-9A6C-443A-B01F-704C5349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D9912-E00A-45DF-BD83-98C96896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7D035-FEAC-4694-AC5A-7ABCC63B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E71D5-3A33-457D-AC6F-5B355DE3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CCA98-1001-4D2A-BA12-BABF2C22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5DBED-EE1A-4FFC-91FB-F9A1D010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DD79B-ECB5-4874-B011-4EBF4298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7FA4A0-A865-43B9-A0B2-8E1CF6B3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8C882-0139-4C49-A802-985970AC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55F1-1582-4433-A00E-236F9C9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062AE-CBE6-45D3-80BB-4E90D984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629B6-522F-4A25-8192-007D646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46671F-5517-4DE2-BFE8-AC540B7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EEA332-0B53-4CB5-9036-066E38FE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AA77C-EE2F-4093-9482-2EF551C8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B3D58-1FD8-4E92-A51C-23EB7945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D815E8-2FBE-4EB9-9299-59740870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A2C2D3-D881-4C63-82AF-A6879640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2BF8C-C697-4AF1-9D67-69EC14A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00472D-3163-4787-BE6A-A56841F0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1451-DACD-437C-8FE0-CE4245C1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C237-343D-44F5-93F6-E947CB205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C0B5-F393-420C-8A50-574B9E0A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4DD4-A1C4-4D26-9BFB-1BEE9AEB8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9D25-C434-47DA-97F7-7FFF7FDF4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B483-BCD9-46F1-A4A3-B13EEF7F5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0F7D-887E-41D5-B0BB-10B717AE5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2A85-B311-498D-9533-C7BCD8FC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1ABC-7272-490D-BBBD-CA7BB227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271-C009-4D36-B26D-6A149F50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2889-6322-4C72-866C-0D39EA80F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6571-635B-4EBE-BB54-243E1A192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ooney/ir-course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acrawler.com/" TargetMode="External"/><Relationship Id="rId2" Type="http://schemas.openxmlformats.org/officeDocument/2006/relationships/hyperlink" Target="http://www.savvysearch.com/" TargetMode="External"/><Relationship Id="rId3" Type="http://schemas.openxmlformats.org/officeDocument/2006/relationships/hyperlink" Target="http://www.dogpile.com/" TargetMode="External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0231-6B17-47FC-A368-AFDA2BE4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s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0724-182E-403B-A864-529CDE236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b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ub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dex pages that provide lots of useful links to relevant content pages (topic authoriti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b pages for IR are included in the course home p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cs.utexas.edu/users/mooney/ir-cour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BFFD-B1AC-408D-A19F-C1EF41A7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developed by Kleinberg in 199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to computationally determine hubs and authorities on a particular topic through analysis of a relevant subgraph of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utually recursive fa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ubs point to lots of authoriti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horities are pointed to by lots of hub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D3FD-DEF9-43E1-A379-854C5013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bs and Author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gether they tend to form a bipartite grap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Group 29"/>
          <p:cNvGrpSpPr/>
          <p:nvPr/>
        </p:nvGrpSpPr>
        <p:grpSpPr>
          <a:xfrm>
            <a:off x="3444840" y="2952720"/>
            <a:ext cx="1752480" cy="1771200"/>
            <a:chOff x="3444840" y="2952720"/>
            <a:chExt cx="1752480" cy="1771200"/>
          </a:xfrm>
        </p:grpSpPr>
        <p:sp>
          <p:nvSpPr>
            <p:cNvPr id="591" name="Oval 5"/>
            <p:cNvSpPr/>
            <p:nvPr/>
          </p:nvSpPr>
          <p:spPr>
            <a:xfrm>
              <a:off x="3444840" y="295272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6"/>
            <p:cNvSpPr/>
            <p:nvPr/>
          </p:nvSpPr>
          <p:spPr>
            <a:xfrm>
              <a:off x="3444840" y="346680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444840" y="398124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3444840" y="449568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4968720" y="295272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4968720" y="343836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4968720" y="392400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4968720" y="4409640"/>
              <a:ext cx="228600" cy="228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5"/>
            <p:cNvSpPr/>
            <p:nvPr/>
          </p:nvSpPr>
          <p:spPr>
            <a:xfrm>
              <a:off x="3657600" y="3119040"/>
              <a:ext cx="131112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6"/>
            <p:cNvSpPr/>
            <p:nvPr/>
          </p:nvSpPr>
          <p:spPr>
            <a:xfrm>
              <a:off x="3657600" y="3057120"/>
              <a:ext cx="132876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8"/>
            <p:cNvSpPr/>
            <p:nvPr/>
          </p:nvSpPr>
          <p:spPr>
            <a:xfrm>
              <a:off x="3645000" y="3006360"/>
              <a:ext cx="134136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9"/>
            <p:cNvSpPr/>
            <p:nvPr/>
          </p:nvSpPr>
          <p:spPr>
            <a:xfrm flipV="1">
              <a:off x="3657600" y="3119040"/>
              <a:ext cx="1328760" cy="37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20"/>
            <p:cNvSpPr/>
            <p:nvPr/>
          </p:nvSpPr>
          <p:spPr>
            <a:xfrm flipV="1">
              <a:off x="3645000" y="3541320"/>
              <a:ext cx="13492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21"/>
            <p:cNvSpPr/>
            <p:nvPr/>
          </p:nvSpPr>
          <p:spPr>
            <a:xfrm>
              <a:off x="3645000" y="3633480"/>
              <a:ext cx="132876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22"/>
            <p:cNvSpPr/>
            <p:nvPr/>
          </p:nvSpPr>
          <p:spPr>
            <a:xfrm flipV="1">
              <a:off x="3632040" y="3620880"/>
              <a:ext cx="1365480" cy="39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23"/>
            <p:cNvSpPr/>
            <p:nvPr/>
          </p:nvSpPr>
          <p:spPr>
            <a:xfrm>
              <a:off x="3645000" y="4071600"/>
              <a:ext cx="13287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24"/>
            <p:cNvSpPr/>
            <p:nvPr/>
          </p:nvSpPr>
          <p:spPr>
            <a:xfrm>
              <a:off x="3632040" y="4146120"/>
              <a:ext cx="13906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5"/>
            <p:cNvSpPr/>
            <p:nvPr/>
          </p:nvSpPr>
          <p:spPr>
            <a:xfrm flipV="1">
              <a:off x="3657600" y="4096800"/>
              <a:ext cx="136512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26"/>
            <p:cNvSpPr/>
            <p:nvPr/>
          </p:nvSpPr>
          <p:spPr>
            <a:xfrm flipV="1">
              <a:off x="3570120" y="3118680"/>
              <a:ext cx="145260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27"/>
            <p:cNvSpPr/>
            <p:nvPr/>
          </p:nvSpPr>
          <p:spPr>
            <a:xfrm flipV="1">
              <a:off x="3595680" y="4574520"/>
              <a:ext cx="1414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8"/>
            <p:cNvSpPr/>
            <p:nvPr/>
          </p:nvSpPr>
          <p:spPr>
            <a:xfrm>
              <a:off x="3595680" y="3670200"/>
              <a:ext cx="1414440" cy="78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30"/>
          <p:cNvSpPr/>
          <p:nvPr/>
        </p:nvSpPr>
        <p:spPr>
          <a:xfrm>
            <a:off x="3203640" y="255600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4359600" y="25560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4BBF-9B9A-4ADF-B021-39490913F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s hubs and authorities for a particular topic specified by a normal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determines a set of relevant pages for the query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the link structure of the web subgraph defin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find authority and hub pages in this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AF52-9A69-4C33-8B4E-FF7922207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structing a Base Subgrap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specific qu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et the set of documents returned by a standard search engine (e.g. VSR) b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ages pointed to by any pag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pages that point to any pag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3733920" y="501660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4235400" y="5361120"/>
            <a:ext cx="12564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733920" y="576252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5302080" y="4903920"/>
            <a:ext cx="12564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5086440" y="587520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3"/>
          <p:cNvSpPr/>
          <p:nvPr/>
        </p:nvSpPr>
        <p:spPr>
          <a:xfrm>
            <a:off x="2438280" y="4684680"/>
            <a:ext cx="12564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14"/>
          <p:cNvSpPr/>
          <p:nvPr/>
        </p:nvSpPr>
        <p:spPr>
          <a:xfrm>
            <a:off x="2374920" y="541656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15"/>
          <p:cNvSpPr/>
          <p:nvPr/>
        </p:nvSpPr>
        <p:spPr>
          <a:xfrm>
            <a:off x="4800600" y="4572000"/>
            <a:ext cx="12528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16"/>
          <p:cNvSpPr/>
          <p:nvPr/>
        </p:nvSpPr>
        <p:spPr>
          <a:xfrm>
            <a:off x="2895480" y="6002280"/>
            <a:ext cx="125640" cy="112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17"/>
          <p:cNvSpPr/>
          <p:nvPr/>
        </p:nvSpPr>
        <p:spPr>
          <a:xfrm>
            <a:off x="3432240" y="4697280"/>
            <a:ext cx="1139760" cy="162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8"/>
          <p:cNvSpPr/>
          <p:nvPr/>
        </p:nvSpPr>
        <p:spPr>
          <a:xfrm>
            <a:off x="4083480" y="4898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19"/>
          <p:cNvSpPr/>
          <p:nvPr/>
        </p:nvSpPr>
        <p:spPr>
          <a:xfrm>
            <a:off x="1192320" y="4292640"/>
            <a:ext cx="5333760" cy="236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3040200" y="4281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1"/>
          <p:cNvSpPr/>
          <p:nvPr/>
        </p:nvSpPr>
        <p:spPr>
          <a:xfrm>
            <a:off x="2556000" y="4759200"/>
            <a:ext cx="122688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2530440" y="4772160"/>
            <a:ext cx="1227240" cy="10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24"/>
          <p:cNvSpPr/>
          <p:nvPr/>
        </p:nvSpPr>
        <p:spPr>
          <a:xfrm>
            <a:off x="2467080" y="5486400"/>
            <a:ext cx="1303200" cy="36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5"/>
          <p:cNvSpPr/>
          <p:nvPr/>
        </p:nvSpPr>
        <p:spPr>
          <a:xfrm flipV="1">
            <a:off x="2994120" y="5899320"/>
            <a:ext cx="776160" cy="15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6"/>
          <p:cNvSpPr/>
          <p:nvPr/>
        </p:nvSpPr>
        <p:spPr>
          <a:xfrm flipV="1">
            <a:off x="2955960" y="5987880"/>
            <a:ext cx="2130480" cy="7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7"/>
          <p:cNvSpPr/>
          <p:nvPr/>
        </p:nvSpPr>
        <p:spPr>
          <a:xfrm>
            <a:off x="4321080" y="5435640"/>
            <a:ext cx="76536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8"/>
          <p:cNvSpPr/>
          <p:nvPr/>
        </p:nvSpPr>
        <p:spPr>
          <a:xfrm flipV="1">
            <a:off x="4308480" y="4997160"/>
            <a:ext cx="1027080" cy="41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3844800" y="5097600"/>
            <a:ext cx="414360" cy="30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1"/>
          <p:cNvSpPr/>
          <p:nvPr/>
        </p:nvSpPr>
        <p:spPr>
          <a:xfrm flipV="1">
            <a:off x="3844800" y="4633920"/>
            <a:ext cx="1003320" cy="40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32"/>
          <p:cNvSpPr/>
          <p:nvPr/>
        </p:nvSpPr>
        <p:spPr>
          <a:xfrm flipH="1">
            <a:off x="2530440" y="4597560"/>
            <a:ext cx="2317680" cy="12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BD8A-737D-4278-981A-5F9D9AC5A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se Limi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limit computational expen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mit number of root pages to the top 200 pages retrieved for the que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mit number of “back-pointer” pages to a random set of at most 50 pages returned by a “reverse link” que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liminate purely navigational 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liminate links between two pages on the same hos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liminate “non-authority-conveying” 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ow only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8) pages from a given host as pointers to any individual p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A972-F194-4AF5-B93C-9F0065651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horities and In-Degre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ithin the bas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given query, the nodes with highest in-degree are not necessarily authorities (may just be generally popular pages like Yahoo or Amaz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authority pages are pointed to by a number of hubs (i.e. pages that point to lots of authoriti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EB08-4F04-433F-9FDC-7DFFA6B7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terative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iterative algorithm to slowly converge on a mutually reinforcing set of hubs and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for each p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hority score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p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vector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ub score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:         h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p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vector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normalized sc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6"/>
              <p:cNvSpPr txBox="1"/>
              <p:nvPr/>
            </p:nvSpPr>
            <p:spPr>
              <a:xfrm>
                <a:off x="4129200" y="4952880"/>
                <a:ext cx="1647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7"/>
              <p:cNvSpPr txBox="1"/>
              <p:nvPr/>
            </p:nvSpPr>
            <p:spPr>
              <a:xfrm>
                <a:off x="1752480" y="4952880"/>
                <a:ext cx="1676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34D5-DECB-41B3-9AD9-55A643EC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 Update Ru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ties are pointed to by lots of good hub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bs point to lots of good auth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2455920" y="2362320"/>
                <a:ext cx="2020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8"/>
              <p:cNvSpPr txBox="1"/>
              <p:nvPr/>
            </p:nvSpPr>
            <p:spPr>
              <a:xfrm>
                <a:off x="2455920" y="4724280"/>
                <a:ext cx="2020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C4BA-4536-4288-90C6-F472C7CD4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ed Update Ru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1" name="Oval 5"/>
          <p:cNvSpPr/>
          <p:nvPr/>
        </p:nvSpPr>
        <p:spPr>
          <a:xfrm>
            <a:off x="3576600" y="230940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"/>
          <p:cNvSpPr/>
          <p:nvPr/>
        </p:nvSpPr>
        <p:spPr>
          <a:xfrm>
            <a:off x="3576600" y="306828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3981600" y="1828800"/>
            <a:ext cx="1028520" cy="49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13"/>
          <p:cNvSpPr/>
          <p:nvPr/>
        </p:nvSpPr>
        <p:spPr>
          <a:xfrm flipV="1">
            <a:off x="3981600" y="2514600"/>
            <a:ext cx="10285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4"/>
          <p:cNvSpPr/>
          <p:nvPr/>
        </p:nvSpPr>
        <p:spPr>
          <a:xfrm flipV="1">
            <a:off x="3981600" y="2622240"/>
            <a:ext cx="1116000" cy="65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5626080" y="2225520"/>
            <a:ext cx="178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6"/>
          <p:cNvSpPr/>
          <p:nvPr/>
        </p:nvSpPr>
        <p:spPr>
          <a:xfrm>
            <a:off x="3576600" y="154368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5066640" y="387252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5066640" y="547272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5066640" y="471132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4979880" y="215964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3576600" y="4711320"/>
            <a:ext cx="436320" cy="563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23"/>
          <p:cNvSpPr/>
          <p:nvPr/>
        </p:nvSpPr>
        <p:spPr>
          <a:xfrm flipV="1">
            <a:off x="3933720" y="4220640"/>
            <a:ext cx="11764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24"/>
          <p:cNvSpPr/>
          <p:nvPr/>
        </p:nvSpPr>
        <p:spPr>
          <a:xfrm flipV="1">
            <a:off x="3970440" y="4960440"/>
            <a:ext cx="1127160" cy="2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5"/>
          <p:cNvSpPr/>
          <p:nvPr/>
        </p:nvSpPr>
        <p:spPr>
          <a:xfrm>
            <a:off x="3944880" y="5148360"/>
            <a:ext cx="1165320" cy="55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6"/>
          <p:cNvSpPr/>
          <p:nvPr/>
        </p:nvSpPr>
        <p:spPr>
          <a:xfrm>
            <a:off x="1675440" y="4797360"/>
            <a:ext cx="1759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A235-30C0-41A6-B406-1E86B7BD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a-Search Engin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engine that passes query to several other search engines and integrat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mit queries to host sit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se resulting HTML pages to extract search resul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egrate multiple rankings into a “consensus” rank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 integrated results to use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Metacraw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SavvySearch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Dogpile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A2DD-3B0A-4BA9-9183-FD680E754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 Iterative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= 1 to 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update auth. scores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update hub scores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c   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c   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3360600" y="2540160"/>
                <a:ext cx="1659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5"/>
              <p:cNvSpPr txBox="1"/>
              <p:nvPr/>
            </p:nvSpPr>
            <p:spPr>
              <a:xfrm>
                <a:off x="3432240" y="3720960"/>
                <a:ext cx="1600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6"/>
              <p:cNvSpPr txBox="1"/>
              <p:nvPr/>
            </p:nvSpPr>
            <p:spPr>
              <a:xfrm>
                <a:off x="5638680" y="4255920"/>
                <a:ext cx="1747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7"/>
              <p:cNvSpPr txBox="1"/>
              <p:nvPr/>
            </p:nvSpPr>
            <p:spPr>
              <a:xfrm>
                <a:off x="5638680" y="4952880"/>
                <a:ext cx="1747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Text Box 9"/>
          <p:cNvSpPr/>
          <p:nvPr/>
        </p:nvSpPr>
        <p:spPr>
          <a:xfrm>
            <a:off x="7463160" y="430704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normalize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7471440" y="495468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normalize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B01C-274D-4705-A661-EDD54E38A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verg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converges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-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erated indefini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the adjacency matrix for the subgraph defin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1 for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S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S if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vector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verges to the principal eigenve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b vector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verges to the principal eigenve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20 iterations produces fairly stabl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D56F-1CD1-408E-AEEB-5F146934E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ies for query:  “Jav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ava.sun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.lang.java FAQ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ies for query “search engi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ahoo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cite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ycos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tavista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ies for query “Gat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icrosoft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oadahead.co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D09A-7929-47F1-A54B-FA2A836F0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 Com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st cases, the final authorities were not in the initial root set generated using Altav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ties were brought in from linked and reverse-linked pages and then HITS computed their high authority 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D64D-EC68-4180-ACC3-51E0F6D1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nding Similar Pages Using Link Stru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ag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he root set)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200) pages that poin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 a bas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HITS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he best authoriti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 best similar-pages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authorities in the “link neighbor-hood”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61F-C469-49BA-AED7-C4C010705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 Page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“honda.co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yota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d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mwusa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turncars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ssanmotors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di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olvocars.co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5A79-AAED-405E-91ED-8C04B3D2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TS for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mbiguous query can result in the principal eigenvector only covering one of the possible mea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incipal eigenvectors may contain hubs &amp; authorities for other mea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“jaguar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tari video game (principal eigenvector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FL Football team (2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non-princ. eigenvector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obile (3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non-princ. eigenvector) 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697F-1E06-4A78-9F21-6BCB866EF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geRan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link-analysis method used by Google 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(Brin &amp; Page, 1998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ttempt to capture the distinction between hubs and autho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s pages just by author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o the entire web rather than a local neighborhood of pages surrounding the results of a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C326-1F11-40A1-931C-EC1C58FB7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itial PageRank Ide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measuring in-degree (citation count) doesn’t account for the authority of the source of a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page rank equation for p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s the total number of out-links from pag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 page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“gives” an equal fraction of its authority to all the pages it points to (e.g.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a normalizing constant set so that the rank of all pages always sums to 1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2333520" y="2749680"/>
                <a:ext cx="30765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3B8A-C7ED-4FCD-AA19-7B777CEC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itial PageRank Idea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view it as a process of PageRank “flowing” from pages to the pages they c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2895480" y="28195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2895480" y="44197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5029200" y="28195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3"/>
          <p:cNvSpPr/>
          <p:nvPr/>
        </p:nvSpPr>
        <p:spPr>
          <a:xfrm>
            <a:off x="3257640" y="3352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4"/>
          <p:cNvSpPr/>
          <p:nvPr/>
        </p:nvSpPr>
        <p:spPr>
          <a:xfrm>
            <a:off x="3257640" y="35053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5"/>
          <p:cNvSpPr/>
          <p:nvPr/>
        </p:nvSpPr>
        <p:spPr>
          <a:xfrm>
            <a:off x="3219480" y="4724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6"/>
          <p:cNvSpPr/>
          <p:nvPr/>
        </p:nvSpPr>
        <p:spPr>
          <a:xfrm>
            <a:off x="3219480" y="4952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7"/>
          <p:cNvSpPr/>
          <p:nvPr/>
        </p:nvSpPr>
        <p:spPr>
          <a:xfrm>
            <a:off x="3219480" y="51814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8"/>
          <p:cNvSpPr/>
          <p:nvPr/>
        </p:nvSpPr>
        <p:spPr>
          <a:xfrm>
            <a:off x="5334120" y="31240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9"/>
          <p:cNvSpPr/>
          <p:nvPr/>
        </p:nvSpPr>
        <p:spPr>
          <a:xfrm>
            <a:off x="5334120" y="33526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2"/>
          <p:cNvSpPr/>
          <p:nvPr/>
        </p:nvSpPr>
        <p:spPr>
          <a:xfrm flipV="1">
            <a:off x="3406680" y="3081240"/>
            <a:ext cx="164160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3"/>
          <p:cNvSpPr/>
          <p:nvPr/>
        </p:nvSpPr>
        <p:spPr>
          <a:xfrm>
            <a:off x="3394080" y="3506760"/>
            <a:ext cx="1635120" cy="10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24"/>
          <p:cNvSpPr/>
          <p:nvPr/>
        </p:nvSpPr>
        <p:spPr>
          <a:xfrm flipV="1">
            <a:off x="3357720" y="3352680"/>
            <a:ext cx="1671480" cy="137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5"/>
          <p:cNvSpPr/>
          <p:nvPr/>
        </p:nvSpPr>
        <p:spPr>
          <a:xfrm>
            <a:off x="3344760" y="4935600"/>
            <a:ext cx="1690920" cy="13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7"/>
          <p:cNvSpPr/>
          <p:nvPr/>
        </p:nvSpPr>
        <p:spPr>
          <a:xfrm>
            <a:off x="3357720" y="5186520"/>
            <a:ext cx="165240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28"/>
          <p:cNvSpPr/>
          <p:nvPr/>
        </p:nvSpPr>
        <p:spPr>
          <a:xfrm>
            <a:off x="5029200" y="44197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29"/>
          <p:cNvSpPr/>
          <p:nvPr/>
        </p:nvSpPr>
        <p:spPr>
          <a:xfrm>
            <a:off x="5429160" y="4724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30"/>
          <p:cNvSpPr/>
          <p:nvPr/>
        </p:nvSpPr>
        <p:spPr>
          <a:xfrm>
            <a:off x="5429160" y="4952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4"/>
          <p:cNvSpPr/>
          <p:nvPr/>
        </p:nvSpPr>
        <p:spPr>
          <a:xfrm>
            <a:off x="5029200" y="56023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35"/>
          <p:cNvSpPr/>
          <p:nvPr/>
        </p:nvSpPr>
        <p:spPr>
          <a:xfrm>
            <a:off x="5429160" y="59072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36"/>
          <p:cNvSpPr/>
          <p:nvPr/>
        </p:nvSpPr>
        <p:spPr>
          <a:xfrm>
            <a:off x="5429160" y="61358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37"/>
          <p:cNvSpPr/>
          <p:nvPr/>
        </p:nvSpPr>
        <p:spPr>
          <a:xfrm flipV="1">
            <a:off x="5524560" y="2819520"/>
            <a:ext cx="9525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38"/>
          <p:cNvSpPr/>
          <p:nvPr/>
        </p:nvSpPr>
        <p:spPr>
          <a:xfrm>
            <a:off x="5524560" y="3357720"/>
            <a:ext cx="952560" cy="14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39"/>
          <p:cNvSpPr/>
          <p:nvPr/>
        </p:nvSpPr>
        <p:spPr>
          <a:xfrm flipV="1">
            <a:off x="5524560" y="4267080"/>
            <a:ext cx="1257120" cy="45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40"/>
          <p:cNvSpPr/>
          <p:nvPr/>
        </p:nvSpPr>
        <p:spPr>
          <a:xfrm>
            <a:off x="5524560" y="4952880"/>
            <a:ext cx="952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41"/>
          <p:cNvSpPr/>
          <p:nvPr/>
        </p:nvSpPr>
        <p:spPr>
          <a:xfrm flipV="1">
            <a:off x="5524560" y="5601960"/>
            <a:ext cx="799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2"/>
          <p:cNvSpPr/>
          <p:nvPr/>
        </p:nvSpPr>
        <p:spPr>
          <a:xfrm>
            <a:off x="5619600" y="6135840"/>
            <a:ext cx="85752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43"/>
          <p:cNvSpPr/>
          <p:nvPr/>
        </p:nvSpPr>
        <p:spPr>
          <a:xfrm>
            <a:off x="1828800" y="2666880"/>
            <a:ext cx="10666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4"/>
          <p:cNvSpPr/>
          <p:nvPr/>
        </p:nvSpPr>
        <p:spPr>
          <a:xfrm>
            <a:off x="1828800" y="312408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45"/>
          <p:cNvSpPr/>
          <p:nvPr/>
        </p:nvSpPr>
        <p:spPr>
          <a:xfrm flipV="1">
            <a:off x="1828800" y="3506400"/>
            <a:ext cx="106668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46"/>
          <p:cNvSpPr/>
          <p:nvPr/>
        </p:nvSpPr>
        <p:spPr>
          <a:xfrm>
            <a:off x="1828800" y="4419720"/>
            <a:ext cx="10666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47"/>
          <p:cNvSpPr/>
          <p:nvPr/>
        </p:nvSpPr>
        <p:spPr>
          <a:xfrm>
            <a:off x="1828800" y="49356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48"/>
          <p:cNvSpPr/>
          <p:nvPr/>
        </p:nvSpPr>
        <p:spPr>
          <a:xfrm flipV="1">
            <a:off x="1828800" y="5186160"/>
            <a:ext cx="1066680" cy="41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9"/>
          <p:cNvSpPr/>
          <p:nvPr/>
        </p:nvSpPr>
        <p:spPr>
          <a:xfrm>
            <a:off x="2990520" y="28828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0"/>
          <p:cNvSpPr/>
          <p:nvPr/>
        </p:nvSpPr>
        <p:spPr>
          <a:xfrm>
            <a:off x="2853360" y="43736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7"/>
          <p:cNvGrpSpPr/>
          <p:nvPr/>
        </p:nvGrpSpPr>
        <p:grpSpPr>
          <a:xfrm>
            <a:off x="3711960" y="2955960"/>
            <a:ext cx="500760" cy="948240"/>
            <a:chOff x="3711960" y="2955960"/>
            <a:chExt cx="500760" cy="948240"/>
          </a:xfrm>
        </p:grpSpPr>
        <p:sp>
          <p:nvSpPr>
            <p:cNvPr id="750" name="Text Box 51"/>
            <p:cNvSpPr/>
            <p:nvPr/>
          </p:nvSpPr>
          <p:spPr>
            <a:xfrm>
              <a:off x="3711960" y="29559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52"/>
            <p:cNvSpPr/>
            <p:nvPr/>
          </p:nvSpPr>
          <p:spPr>
            <a:xfrm>
              <a:off x="3711960" y="3505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63"/>
          <p:cNvGrpSpPr/>
          <p:nvPr/>
        </p:nvGrpSpPr>
        <p:grpSpPr>
          <a:xfrm>
            <a:off x="3494520" y="3998880"/>
            <a:ext cx="654840" cy="1451520"/>
            <a:chOff x="3494520" y="3998880"/>
            <a:chExt cx="654840" cy="1451520"/>
          </a:xfrm>
        </p:grpSpPr>
        <p:sp>
          <p:nvSpPr>
            <p:cNvPr id="753" name="Text Box 54"/>
            <p:cNvSpPr/>
            <p:nvPr/>
          </p:nvSpPr>
          <p:spPr>
            <a:xfrm>
              <a:off x="3494520" y="39988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55"/>
            <p:cNvSpPr/>
            <p:nvPr/>
          </p:nvSpPr>
          <p:spPr>
            <a:xfrm>
              <a:off x="3648600" y="46180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56"/>
            <p:cNvSpPr/>
            <p:nvPr/>
          </p:nvSpPr>
          <p:spPr>
            <a:xfrm>
              <a:off x="3648600" y="50515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Group 62"/>
          <p:cNvGrpSpPr/>
          <p:nvPr/>
        </p:nvGrpSpPr>
        <p:grpSpPr>
          <a:xfrm>
            <a:off x="4951800" y="2757600"/>
            <a:ext cx="564480" cy="3243600"/>
            <a:chOff x="4951800" y="2757600"/>
            <a:chExt cx="564480" cy="3243600"/>
          </a:xfrm>
        </p:grpSpPr>
        <p:sp>
          <p:nvSpPr>
            <p:cNvPr id="757" name="Text Box 59"/>
            <p:cNvSpPr/>
            <p:nvPr/>
          </p:nvSpPr>
          <p:spPr>
            <a:xfrm>
              <a:off x="5015520" y="2757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60"/>
            <p:cNvSpPr/>
            <p:nvPr/>
          </p:nvSpPr>
          <p:spPr>
            <a:xfrm>
              <a:off x="4977360" y="44197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61"/>
            <p:cNvSpPr/>
            <p:nvPr/>
          </p:nvSpPr>
          <p:spPr>
            <a:xfrm>
              <a:off x="4951800" y="5602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6034-CD2F-4F54-8454-75556C63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TML Structure &amp; Feature Weigh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tokens under particular HTML tags more heavi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TITLE&gt; tokens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Google seems to like title matche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H1&gt;,&lt;H2&gt;… toke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META&gt; keyword toke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 page into conceptual sections (e.g. navigation links vs. page content) and weight tokens differently based on 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504-0D03-41F4-9509-B9D76A7E2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itial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rank-flowing process until converg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the total set of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/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ranks do not change (much)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onvergenc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ormaliz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4"/>
              <p:cNvSpPr txBox="1"/>
              <p:nvPr/>
            </p:nvSpPr>
            <p:spPr>
              <a:xfrm>
                <a:off x="2936880" y="3657600"/>
                <a:ext cx="25081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5"/>
              <p:cNvSpPr txBox="1"/>
              <p:nvPr/>
            </p:nvSpPr>
            <p:spPr>
              <a:xfrm>
                <a:off x="1809720" y="46324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2079-7DFE-4005-93F7-F9CB16224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Stable Fixpoi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3021120" y="228600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4164120" y="37339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5459400" y="228600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3249720" y="2743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249720" y="28954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5688000" y="28954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11"/>
          <p:cNvSpPr/>
          <p:nvPr/>
        </p:nvSpPr>
        <p:spPr>
          <a:xfrm>
            <a:off x="4392720" y="42670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432240" y="2747880"/>
            <a:ext cx="20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3432240" y="2911320"/>
            <a:ext cx="109044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4"/>
          <p:cNvSpPr/>
          <p:nvPr/>
        </p:nvSpPr>
        <p:spPr>
          <a:xfrm flipH="1" flipV="1">
            <a:off x="3369960" y="3198600"/>
            <a:ext cx="1027080" cy="10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861080" y="2898720"/>
            <a:ext cx="86328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7"/>
          <p:cNvSpPr/>
          <p:nvPr/>
        </p:nvSpPr>
        <p:spPr>
          <a:xfrm>
            <a:off x="2999160" y="2300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4142160" y="3672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5437800" y="2224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21"/>
          <p:cNvSpPr/>
          <p:nvPr/>
        </p:nvSpPr>
        <p:spPr>
          <a:xfrm>
            <a:off x="5188320" y="3274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22"/>
          <p:cNvSpPr/>
          <p:nvPr/>
        </p:nvSpPr>
        <p:spPr>
          <a:xfrm>
            <a:off x="4147200" y="242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23"/>
          <p:cNvSpPr/>
          <p:nvPr/>
        </p:nvSpPr>
        <p:spPr>
          <a:xfrm>
            <a:off x="3893040" y="30765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24"/>
          <p:cNvSpPr/>
          <p:nvPr/>
        </p:nvSpPr>
        <p:spPr>
          <a:xfrm>
            <a:off x="3369240" y="3625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9D9B-4EDC-4877-BD06-778C44FA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ear Algebra Ver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vector over web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2-d matrix over pages w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vu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 1/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u 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se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vu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es to the principal eigenvector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EF88-1B0C-4C69-8192-3955F87A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 with Initial Ide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oup of pages that only point to themselves but are pointed to by other pages act as a “rank sink” and absorb all the rank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2932200" y="42037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4191120" y="419112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8"/>
          <p:cNvSpPr/>
          <p:nvPr/>
        </p:nvSpPr>
        <p:spPr>
          <a:xfrm flipV="1">
            <a:off x="3429000" y="4584600"/>
            <a:ext cx="7794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reeform 10"/>
          <p:cNvSpPr/>
          <p:nvPr/>
        </p:nvSpPr>
        <p:spPr>
          <a:xfrm>
            <a:off x="3238560" y="3556080"/>
            <a:ext cx="2108160" cy="101592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1328" h="640">
                <a:moveTo>
                  <a:pt x="840" y="640"/>
                </a:moveTo>
                <a:cubicBezTo>
                  <a:pt x="1028" y="588"/>
                  <a:pt x="1216" y="536"/>
                  <a:pt x="1272" y="448"/>
                </a:cubicBezTo>
                <a:cubicBezTo>
                  <a:pt x="1328" y="360"/>
                  <a:pt x="1312" y="184"/>
                  <a:pt x="1176" y="112"/>
                </a:cubicBezTo>
                <a:cubicBezTo>
                  <a:pt x="1040" y="40"/>
                  <a:pt x="640" y="0"/>
                  <a:pt x="456" y="16"/>
                </a:cubicBezTo>
                <a:cubicBezTo>
                  <a:pt x="272" y="32"/>
                  <a:pt x="144" y="144"/>
                  <a:pt x="72" y="208"/>
                </a:cubicBezTo>
                <a:cubicBezTo>
                  <a:pt x="0" y="272"/>
                  <a:pt x="12" y="336"/>
                  <a:pt x="24" y="4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1"/>
          <p:cNvSpPr/>
          <p:nvPr/>
        </p:nvSpPr>
        <p:spPr>
          <a:xfrm>
            <a:off x="4343400" y="45720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2"/>
          <p:cNvSpPr/>
          <p:nvPr/>
        </p:nvSpPr>
        <p:spPr>
          <a:xfrm>
            <a:off x="3276720" y="48006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13"/>
          <p:cNvSpPr/>
          <p:nvPr/>
        </p:nvSpPr>
        <p:spPr>
          <a:xfrm flipV="1">
            <a:off x="1371600" y="4571640"/>
            <a:ext cx="1560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4"/>
          <p:cNvSpPr/>
          <p:nvPr/>
        </p:nvSpPr>
        <p:spPr>
          <a:xfrm flipV="1">
            <a:off x="1752480" y="4800240"/>
            <a:ext cx="1179720" cy="12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5976000" y="4098960"/>
            <a:ext cx="24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 flows i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 and can’t ge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BF58-0073-4522-8E14-5EC1219CC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nk Sour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a “rank source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continually replenishes the rank of each pag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by a fixed am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1981080" y="3200400"/>
                <a:ext cx="463068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:</m:t>
                            </m:r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52B0-D99F-4603-B12F-5C4A90CD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geRank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1282320" y="1371600"/>
            <a:ext cx="66747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the total set of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|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for some 0&lt;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&lt;1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.g. 0.15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/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ranks do not change (much)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onvergence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ormaliz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5"/>
              <p:cNvSpPr txBox="1"/>
              <p:nvPr/>
            </p:nvSpPr>
            <p:spPr>
              <a:xfrm>
                <a:off x="3429000" y="3503520"/>
                <a:ext cx="465300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:</m:t>
                            </m:r>
                            <m:r>
                              <m:t xml:space="preserve">q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6"/>
              <p:cNvSpPr txBox="1"/>
              <p:nvPr/>
            </p:nvSpPr>
            <p:spPr>
              <a:xfrm>
                <a:off x="2612880" y="45594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D6BE-30B4-4CE8-A13A-0A0580264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ear Algebra Ver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|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1 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s the vector consisting of all 1’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igenvector of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2BF0-FC77-405B-ACE4-39C95AD9B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ndom Surfer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Rank can be seen as modeling a “random surfer” that starts on a random page and then at each po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ith probability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randomly jumps to pag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therwise, randomly follows a link on the current p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odels the probability that this random surfer will be on p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any give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jumps” are needed to prevent the random surfer from getting “trapped” in web sinks with no outgoing li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8C01-5B6B-4E75-81C3-2A7CF317F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eed of Converg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experiments on Google used 322 million li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Rank algorithm converged (within small tolerance) in about 52 it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iterations required for convergence is empirically O(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lin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calculation is quite effic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AACE-33BF-4C37-95B7-6E6D971C1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Title Search with PageRan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imple Boolean search to search web-page titles and rank the retrieved pages by their Page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search for “universit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tavista returned a random set of pages with “university” in the title (seemed to prefer short URLs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imitive Google returned the home pages of top universiti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6055-31EC-43E5-92F3-6373EB080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ibliometrics: Citation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tandard documents inclu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bliograph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explic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other previously published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itations as links, standard corpora can be viewed as a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this graph, independent of content, can provide interesting information about the similarity of documents and the structure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 corpus includes citation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88EF-D8C3-4DAA-82F8-89AF388D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oogle Ra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Google ranking includes (based on university publications prior to commercializ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ector-space similarity compone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eyword proximity compone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TML-tag weight component (e.g. title preference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geRank componen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f current commercial ranking functions are trade secr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B85A-72D0-48D7-91A1-844434551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sonalized PageRan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Rank can be biased (personalized) by chang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 non-uniform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“random jumps” to a set of specified relevant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0 except for one’s own home page, for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sults in a bias towards pages that are closer in the web graph to your own homep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84C-D381-43E4-B450-05516AB2D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oogle PageRank-Bias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ageRank to direct (focus) a spider on “important”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page-rank using the current set of crawled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e spider’s search queue based on current estimated Page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8BB8-A055-48C4-A104-DD316357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Analysis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analysis uses information about the structure of the web graph to aid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ne of the major innovations in web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one of the primary reasons for Google’s initial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0CCE-BE6F-4F8A-9F26-AEA6352B3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pact Fac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Garfield in 1972 to measure the importance (quality, influence) of scientific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how often papers in the journal are cited by other scient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and published annually by the Institute for Scientific Information (IS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mpact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jour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y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average number of citations (from indexed documents published in y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a paper publish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y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ccount for the quality of the citing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0CD4-72E9-4440-808A-272926E4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ibliographic Coupl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similarity of documents introduced by Kessler in 19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bliographic coupling of two docu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documents ci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the intersection of their bibliograph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want to normalize by size of bibliograph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39"/>
          <p:cNvGrpSpPr/>
          <p:nvPr/>
        </p:nvGrpSpPr>
        <p:grpSpPr>
          <a:xfrm>
            <a:off x="2960640" y="4812480"/>
            <a:ext cx="2743200" cy="1503720"/>
            <a:chOff x="2960640" y="4812480"/>
            <a:chExt cx="2743200" cy="1503720"/>
          </a:xfrm>
        </p:grpSpPr>
        <p:sp>
          <p:nvSpPr>
            <p:cNvPr id="523" name="Oval 40"/>
            <p:cNvSpPr/>
            <p:nvPr/>
          </p:nvSpPr>
          <p:spPr>
            <a:xfrm>
              <a:off x="3464640" y="4812480"/>
              <a:ext cx="516240" cy="563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41"/>
            <p:cNvSpPr/>
            <p:nvPr/>
          </p:nvSpPr>
          <p:spPr>
            <a:xfrm>
              <a:off x="3875040" y="5283000"/>
              <a:ext cx="458640" cy="78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42"/>
            <p:cNvSpPr/>
            <p:nvPr/>
          </p:nvSpPr>
          <p:spPr>
            <a:xfrm>
              <a:off x="3722760" y="5359320"/>
              <a:ext cx="2286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43"/>
            <p:cNvSpPr/>
            <p:nvPr/>
          </p:nvSpPr>
          <p:spPr>
            <a:xfrm flipH="1">
              <a:off x="3570120" y="5359320"/>
              <a:ext cx="7632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44"/>
            <p:cNvSpPr/>
            <p:nvPr/>
          </p:nvSpPr>
          <p:spPr>
            <a:xfrm flipH="1">
              <a:off x="3189240" y="5283000"/>
              <a:ext cx="38088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45"/>
            <p:cNvSpPr/>
            <p:nvPr/>
          </p:nvSpPr>
          <p:spPr>
            <a:xfrm flipH="1">
              <a:off x="4026960" y="5206680"/>
              <a:ext cx="762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46"/>
            <p:cNvSpPr/>
            <p:nvPr/>
          </p:nvSpPr>
          <p:spPr>
            <a:xfrm flipH="1">
              <a:off x="4333680" y="5283000"/>
              <a:ext cx="532080" cy="78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47"/>
            <p:cNvSpPr/>
            <p:nvPr/>
          </p:nvSpPr>
          <p:spPr>
            <a:xfrm>
              <a:off x="5018040" y="5359320"/>
              <a:ext cx="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48"/>
            <p:cNvSpPr/>
            <p:nvPr/>
          </p:nvSpPr>
          <p:spPr>
            <a:xfrm>
              <a:off x="5094360" y="528300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49"/>
            <p:cNvSpPr/>
            <p:nvPr/>
          </p:nvSpPr>
          <p:spPr>
            <a:xfrm>
              <a:off x="5170320" y="5206680"/>
              <a:ext cx="5335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50"/>
            <p:cNvSpPr/>
            <p:nvPr/>
          </p:nvSpPr>
          <p:spPr>
            <a:xfrm flipH="1">
              <a:off x="4637160" y="5359320"/>
              <a:ext cx="30456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51"/>
            <p:cNvSpPr/>
            <p:nvPr/>
          </p:nvSpPr>
          <p:spPr>
            <a:xfrm>
              <a:off x="3951360" y="5206680"/>
              <a:ext cx="6858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52"/>
            <p:cNvSpPr/>
            <p:nvPr/>
          </p:nvSpPr>
          <p:spPr>
            <a:xfrm flipH="1">
              <a:off x="2960640" y="5206680"/>
              <a:ext cx="53352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53"/>
            <p:cNvSpPr/>
            <p:nvPr/>
          </p:nvSpPr>
          <p:spPr>
            <a:xfrm>
              <a:off x="3724200" y="5763960"/>
              <a:ext cx="1139760" cy="552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4760640" y="4812480"/>
              <a:ext cx="494640" cy="563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55"/>
            <p:cNvSpPr/>
            <p:nvPr/>
          </p:nvSpPr>
          <p:spPr>
            <a:xfrm>
              <a:off x="3570120" y="612108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Oval 56"/>
            <p:cNvSpPr/>
            <p:nvPr/>
          </p:nvSpPr>
          <p:spPr>
            <a:xfrm>
              <a:off x="3189240" y="612108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57"/>
            <p:cNvSpPr/>
            <p:nvPr/>
          </p:nvSpPr>
          <p:spPr>
            <a:xfrm>
              <a:off x="2960640" y="612108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58"/>
            <p:cNvSpPr/>
            <p:nvPr/>
          </p:nvSpPr>
          <p:spPr>
            <a:xfrm>
              <a:off x="5627520" y="596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59"/>
            <p:cNvSpPr/>
            <p:nvPr/>
          </p:nvSpPr>
          <p:spPr>
            <a:xfrm>
              <a:off x="5322960" y="6045120"/>
              <a:ext cx="7596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60"/>
            <p:cNvSpPr/>
            <p:nvPr/>
          </p:nvSpPr>
          <p:spPr>
            <a:xfrm>
              <a:off x="5018040" y="6045120"/>
              <a:ext cx="7632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61"/>
            <p:cNvSpPr/>
            <p:nvPr/>
          </p:nvSpPr>
          <p:spPr>
            <a:xfrm>
              <a:off x="4560840" y="6045120"/>
              <a:ext cx="7632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62"/>
            <p:cNvSpPr/>
            <p:nvPr/>
          </p:nvSpPr>
          <p:spPr>
            <a:xfrm>
              <a:off x="4257720" y="6068880"/>
              <a:ext cx="7596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63"/>
            <p:cNvSpPr/>
            <p:nvPr/>
          </p:nvSpPr>
          <p:spPr>
            <a:xfrm>
              <a:off x="3951360" y="6045120"/>
              <a:ext cx="75960" cy="7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F77D-2897-425C-8825-FB51E355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-Ci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e citation-based measure of similarity introduced by Small in 197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ocuments that cite 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want to normalize by total number of documents citing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72"/>
          <p:cNvGrpSpPr/>
          <p:nvPr/>
        </p:nvGrpSpPr>
        <p:grpSpPr>
          <a:xfrm>
            <a:off x="3219480" y="4200480"/>
            <a:ext cx="2286000" cy="1397880"/>
            <a:chOff x="3219480" y="4200480"/>
            <a:chExt cx="2286000" cy="1397880"/>
          </a:xfrm>
        </p:grpSpPr>
        <p:sp>
          <p:nvSpPr>
            <p:cNvPr id="551" name="Oval 5"/>
            <p:cNvSpPr/>
            <p:nvPr/>
          </p:nvSpPr>
          <p:spPr>
            <a:xfrm>
              <a:off x="3723480" y="5034600"/>
              <a:ext cx="516240" cy="563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19"/>
            <p:cNvSpPr/>
            <p:nvPr/>
          </p:nvSpPr>
          <p:spPr>
            <a:xfrm>
              <a:off x="4562280" y="5034600"/>
              <a:ext cx="494640" cy="563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42"/>
            <p:cNvSpPr/>
            <p:nvPr/>
          </p:nvSpPr>
          <p:spPr>
            <a:xfrm>
              <a:off x="3957840" y="4200480"/>
              <a:ext cx="809280" cy="552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43"/>
            <p:cNvSpPr/>
            <p:nvPr/>
          </p:nvSpPr>
          <p:spPr>
            <a:xfrm>
              <a:off x="349560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44"/>
            <p:cNvSpPr/>
            <p:nvPr/>
          </p:nvSpPr>
          <p:spPr>
            <a:xfrm>
              <a:off x="3772080" y="4438800"/>
              <a:ext cx="7596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46"/>
            <p:cNvSpPr/>
            <p:nvPr/>
          </p:nvSpPr>
          <p:spPr>
            <a:xfrm>
              <a:off x="321948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53"/>
            <p:cNvSpPr/>
            <p:nvPr/>
          </p:nvSpPr>
          <p:spPr>
            <a:xfrm>
              <a:off x="404820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54"/>
            <p:cNvSpPr/>
            <p:nvPr/>
          </p:nvSpPr>
          <p:spPr>
            <a:xfrm>
              <a:off x="432432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55"/>
            <p:cNvSpPr/>
            <p:nvPr/>
          </p:nvSpPr>
          <p:spPr>
            <a:xfrm>
              <a:off x="460044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56"/>
            <p:cNvSpPr/>
            <p:nvPr/>
          </p:nvSpPr>
          <p:spPr>
            <a:xfrm>
              <a:off x="4876920" y="4438800"/>
              <a:ext cx="7596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57"/>
            <p:cNvSpPr/>
            <p:nvPr/>
          </p:nvSpPr>
          <p:spPr>
            <a:xfrm>
              <a:off x="515304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58"/>
            <p:cNvSpPr/>
            <p:nvPr/>
          </p:nvSpPr>
          <p:spPr>
            <a:xfrm>
              <a:off x="5429160" y="4438800"/>
              <a:ext cx="76320" cy="759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59"/>
            <p:cNvSpPr/>
            <p:nvPr/>
          </p:nvSpPr>
          <p:spPr>
            <a:xfrm>
              <a:off x="3295800" y="4514760"/>
              <a:ext cx="476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60"/>
            <p:cNvSpPr/>
            <p:nvPr/>
          </p:nvSpPr>
          <p:spPr>
            <a:xfrm>
              <a:off x="3524400" y="4514760"/>
              <a:ext cx="3236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61"/>
            <p:cNvSpPr/>
            <p:nvPr/>
          </p:nvSpPr>
          <p:spPr>
            <a:xfrm>
              <a:off x="3828960" y="4438800"/>
              <a:ext cx="15264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62"/>
            <p:cNvSpPr/>
            <p:nvPr/>
          </p:nvSpPr>
          <p:spPr>
            <a:xfrm flipH="1">
              <a:off x="4114440" y="4514760"/>
              <a:ext cx="97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63"/>
            <p:cNvSpPr/>
            <p:nvPr/>
          </p:nvSpPr>
          <p:spPr>
            <a:xfrm>
              <a:off x="4124520" y="4514760"/>
              <a:ext cx="52380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64"/>
            <p:cNvSpPr/>
            <p:nvPr/>
          </p:nvSpPr>
          <p:spPr>
            <a:xfrm>
              <a:off x="4371840" y="4505400"/>
              <a:ext cx="35244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65"/>
            <p:cNvSpPr/>
            <p:nvPr/>
          </p:nvSpPr>
          <p:spPr>
            <a:xfrm>
              <a:off x="4648320" y="4524480"/>
              <a:ext cx="142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67"/>
            <p:cNvSpPr/>
            <p:nvPr/>
          </p:nvSpPr>
          <p:spPr>
            <a:xfrm flipH="1">
              <a:off x="4876920" y="4505400"/>
              <a:ext cx="4752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68"/>
            <p:cNvSpPr/>
            <p:nvPr/>
          </p:nvSpPr>
          <p:spPr>
            <a:xfrm flipH="1">
              <a:off x="4952880" y="4495680"/>
              <a:ext cx="2383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69"/>
            <p:cNvSpPr/>
            <p:nvPr/>
          </p:nvSpPr>
          <p:spPr>
            <a:xfrm flipH="1">
              <a:off x="5010120" y="4495680"/>
              <a:ext cx="44784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0"/>
            <p:cNvSpPr/>
            <p:nvPr/>
          </p:nvSpPr>
          <p:spPr>
            <a:xfrm flipH="1">
              <a:off x="4152960" y="4495680"/>
              <a:ext cx="20016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71"/>
            <p:cNvSpPr/>
            <p:nvPr/>
          </p:nvSpPr>
          <p:spPr>
            <a:xfrm flipH="1">
              <a:off x="4190760" y="4486320"/>
              <a:ext cx="43812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0003-C359-4D9E-8757-25548AACE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itations vs. Lin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links are a bit different than ci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ny links are navigation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ny pages with high in-degree are portals not content provider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t all links are endorse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any websites don’t point to their competitor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itations to relevant literature is enforced by peer-review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64BA-33B2-4F31-A3AC-D4BE71039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hor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horit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ages that are recognized as providing significant, trustworthy, and useful information on a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-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umber of pointers to a page) is one simple measure of author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in-degree treats all links as eq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links from pages that are themselves authoritative count m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5-10-23T19:54:26Z</dcterms:modified>
  <cp:revision>96</cp:revision>
  <dc:subject/>
  <dc:title>Intelligent Information Retrieval and Web Search</dc:title>
</cp:coreProperties>
</file>