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91332-101A-45A0-8A5D-295BF5E7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20BBD-CE99-42AF-96F1-922D8584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0BB632-31DE-4C00-93B9-21B9B3BA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DB1374-EFD4-4ACE-936A-927EA7EC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E1A437-2D9E-4130-86AB-3348237A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3CAFA7-7BCA-4875-B198-5E85481D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C66363-4EA9-43D2-B7C1-4E9833B8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FE7723-0713-4B18-A116-67AA27C2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854CEE-6C76-4CDC-B730-D4E84A91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3D5F21-7510-42AD-9B32-C3948CE5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9EDFA3-D2A3-44AF-989E-1C465ABC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AF6A11-6D27-4745-AA09-EACBD4A8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90753-1B26-46EF-B2B3-7D457828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4BD7A4-B472-462E-BE63-30CD9ADA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3F01DE-E6A9-46CA-ABA0-5207CE2F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7C3DF1-351A-4013-B431-7B3312A5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08E006-2710-403C-9952-6EC2A4D0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77110B-BA5F-4C88-9F2C-7CA31D3A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E95A22-4520-46CC-A96C-ED73B6A3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8F3EAC-EFA8-48A6-B301-70D7ACE0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FBCEB4-F505-4E01-AC66-CA42242D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E287DB-F188-423C-B312-0B6D92BD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302099-AB0A-4290-93A8-9CC7E64B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1DFD6-5711-4DC8-8D4E-2DD81891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7A35D9-A919-44D3-8811-C59DBA87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521BCE-0D8D-4DD8-9E03-D7B56DA7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7D61B1-238F-4029-BB23-A2164AED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99B5A7-EBD2-4F5A-92ED-6FB3F766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A42223-B2A9-4134-B3E2-D67AC91B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AFD654-D55A-43AD-81C9-D35B140B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7CF510-40F0-4D0B-93A5-380FE985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C11C5B-6F98-4B40-9E81-D65A864F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6556C1-3B07-47DF-8253-AC10575F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0CC123-B85B-467D-AACB-7A83B352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327D1-E5A1-4257-80FB-0932E611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AA8F96-FEF3-4294-B1EB-F33EED14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090CA4-B859-4AB9-B9A4-A8F09FEF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CC4773-106C-4C00-A211-D9CDDC43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607BFF-72CD-4041-AC08-4F00141B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E1B3E3-B9AB-4759-9E28-F8F495FD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14F9C6-E512-4E2D-893D-3B47E3EF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1815BB-060C-4979-942E-04ADD120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52E6F6-4819-4B4E-A920-C4BC5E0A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B073EE-4266-487D-8837-F452B977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CE09EA-5E65-41FF-81FD-2CEF3506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AF49E-9628-4861-A873-AF637681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BA6CFE-3676-4C8A-BBCD-8E6E6A64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2D71F6-E5A6-45AA-89B6-E34BA650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A684D6-DD78-4AFB-968F-C3927371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A6C1EC-9367-4B06-86F3-A2D62274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3786E7-3FCA-4AF8-9C78-17F1BA32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ECDE5-1AC8-4271-BD66-55A5030B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27277-FA85-4BBA-8C74-5A915302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E4A73-4711-4780-9AEB-8ED7FB38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FFDA3-B87A-4B6B-AF2B-C9A75538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0EE8F-20DC-4F77-B647-6CD8C966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5234B-3722-485A-9FB2-733AA733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4F735-79C5-4AB0-A120-242F2F8D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2AD7E-6169-4EFC-A242-C35BC4A0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686D4-1DEF-4479-A506-85EFA632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3B567-42C4-4F01-8089-51D25C88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5401E-88E3-41FA-A1B0-5AC40D0D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C5C00-6B9B-46AE-A38D-76951109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FFDC0-0F63-4F68-B353-2340DBF8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B980CA-EEA9-45CD-8E3D-2D5F338C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59C62-A9E5-4D44-9D63-22E7374D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B988C-AD66-44DA-BA02-18F2466B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5F624-C6CE-4FF9-979D-B2A0B28F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582EB-14E5-4B79-AA5E-40E56D39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49B25-EDF1-427F-B2B2-7FA92B7F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3DEBE-9A1D-48E7-90F0-62EB7A9F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684DF-C7F8-40D5-A6FA-B016573C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91A71-ACC7-4CC7-9D34-345E5273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1FC21-F427-4150-85A0-3494959B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BE788-1E96-4AC3-BDE0-FB02B663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A26676-1A0A-4D65-B76C-296ED9BF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5A9941-36EC-446C-AB04-642C9BA4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06BA82-7FEB-4977-87A4-C5033F81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A49E7-BAEB-440E-8580-BD4C1E4B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250CE8-87F4-42EB-98F7-B2954539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020B29-2E55-4CB1-8713-F53099C6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B0B13F-155D-4D9F-9216-299E1CF7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A2AA71-556B-417C-876A-24A22093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B6CA77-C308-4825-86F6-88B517F0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E6FB77-7137-4E8A-A629-9912EEBB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7B143C-EB3B-4906-A3C4-CFD70FDA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DE5415-AFCB-4A93-8E2F-F7BCB411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CDCEBE-4364-44B2-9FFC-B2F13AAB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7AD371-869B-4F78-8A34-6AC2AD7D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3724C-8E4B-499B-9E9D-973492F3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10B044-68DC-4326-B438-F76063DD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638A5B-8395-49D3-9256-7C790D48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5480C6-F0EE-4570-B83B-0AABA82B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8E4D76-9F1A-4D6E-A8DA-5094B9E8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4F9E9-DC3F-43C8-B041-59A8342C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48C70-086D-4E3B-B425-06DCC7AA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448888-7007-4192-9AF7-547D4399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143CA7-1346-41DB-B300-E0117016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AD0DC9-2239-4DE3-BA81-B56068F1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CD10DF-773D-4443-A0F2-5FC20303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2D7AC-C2E2-476A-A1E9-FA5D1B26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AACA18-2B87-4B30-A7E4-94FA003E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9F80B5-C285-4564-86C0-07D3EF8C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FCBFD1-B1B3-4963-A652-A0022ABA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95FADB-1120-4091-B124-2B106C26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35E664-8210-45BA-9DF7-3B6EB2D0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59C75E-625C-40BD-B947-71FF7BEE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5BD6D4-851D-4C0E-B24F-89747B6B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60DFCA-F27D-496E-8821-B65DE2C1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E0565E-1E42-4B86-A47D-3A5073BC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60B64C-C455-4ADE-B655-281080B2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ED1AE-7BEA-4FF3-8E1F-4FFDFC35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2931B8-1C8F-4D71-BCEF-F92221B4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5AC00F-572D-44F5-A770-74306209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D0F62F-C43B-48DF-BC1F-F20DB13B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620F94-058B-4160-95C2-64AE229A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35999C-89B9-4502-9E73-8EA3BEAA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849C23-1CCC-40EA-A26E-C7279E96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816079-8433-4CCB-A5F0-7FCAA4A3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E41020-77A0-4A5D-A49B-763BE2E3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807538-3729-423F-9345-430439C8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B0E6FC-11FD-4B30-AC05-F1E54398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BA092-CCCC-4312-8A4A-05DC4987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176C75-2539-4520-B40C-EDBCF2DD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B5638E-231F-48F1-BE63-8E711A60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872612-B95A-4232-8BBC-9AC1F103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E36D64-39C1-43CE-B63F-64C6EE5C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000926-DF37-4FCB-971D-B3B3EE66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62CEBC-1EA4-4E4D-AF26-59CEB3DF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F710B1-E887-485F-B3DC-1DC4A322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83C30F-DEDC-4A7D-9F58-745EBE0E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35EC29-1539-448C-BE65-CE2841B6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F2BA36-37F4-449A-A919-FEBCB218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1B806-AA37-44FF-A883-C16DBF27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CA7563-D4F4-47F9-8FA7-3A34D9EA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D70062-275A-4178-87CB-B13DAA87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B9363B-33A0-4BB8-9B01-2B05A4B6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BD14C2-B55A-463E-B8EE-76F5390E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75F79C-09D8-4CF9-8349-EDB1BCB7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8458F2-362E-4AD3-BB3E-BA78E148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0F4CC5-4803-48C8-B168-54F20BD2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E11C48-A837-485F-932A-86329084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8E836F-3140-44C3-9A8F-FC634610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417510-8D1F-4F52-B645-ED1C5E0F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938E-E8D0-4D87-93F0-0286EE405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1095-E9A1-4193-B0AD-92EF20C5F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A5AA-9AE7-4665-8840-88D65B2AD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7E77-6233-4ABE-8632-86B4FBFAC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C69C-66B2-4CB4-AA2A-383E526FB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098B-3962-4CF8-ADB8-18AE60E4A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4BA9-3990-40BA-AD05-F2276B2C1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373D-3D19-41CD-AE5F-A8D10A940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9390-E15E-4FEC-9A7C-B075880FE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E72D-FD05-4014-9899-FA7A000AD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6F5E-81F7-4988-BD7A-66A663F11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38CD-9E65-4078-86D4-31CBD621B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s.utexas.edu/users/mooney/ir-course" TargetMode="External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etacrawler.com/" TargetMode="External"/><Relationship Id="rId2" Type="http://schemas.openxmlformats.org/officeDocument/2006/relationships/hyperlink" Target="http://www.savvysearch.com/" TargetMode="External"/><Relationship Id="rId3" Type="http://schemas.openxmlformats.org/officeDocument/2006/relationships/hyperlink" Target="http://www.dogpile.com/" TargetMode="External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D444-096F-4C2C-8565-0FDF8C0FF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Web Search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s &amp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8926-5C6C-4097-9BEA-BB72C5600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ub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ub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index pages that provide lots of useful links to relevant content pages (topic authoriti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b pages for IR are included in the course home p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cs.utexas.edu/users/mooney/ir-cour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1351-6DE7-4B02-8A66-5E547017E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developed by Kleinberg in 199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s to computationally determine hubs and authorities on a particular topic through analysis of a relevant subgraph of the we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utually recursive fa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ubs point to lots of authoritie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uthorities are pointed to by lots of hub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BC3E-E8FD-4210-BB45-8558FC851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ubs and Author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gether they tend to form a bipartite grap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Group 29"/>
          <p:cNvGrpSpPr/>
          <p:nvPr/>
        </p:nvGrpSpPr>
        <p:grpSpPr>
          <a:xfrm>
            <a:off x="3444840" y="2952720"/>
            <a:ext cx="1752480" cy="1771200"/>
            <a:chOff x="3444840" y="2952720"/>
            <a:chExt cx="1752480" cy="1771200"/>
          </a:xfrm>
        </p:grpSpPr>
        <p:sp>
          <p:nvSpPr>
            <p:cNvPr id="591" name="Oval 5"/>
            <p:cNvSpPr/>
            <p:nvPr/>
          </p:nvSpPr>
          <p:spPr>
            <a:xfrm>
              <a:off x="3444840" y="2952720"/>
              <a:ext cx="228600" cy="2282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6"/>
            <p:cNvSpPr/>
            <p:nvPr/>
          </p:nvSpPr>
          <p:spPr>
            <a:xfrm>
              <a:off x="3444840" y="3466800"/>
              <a:ext cx="228600" cy="2282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Oval 7"/>
            <p:cNvSpPr/>
            <p:nvPr/>
          </p:nvSpPr>
          <p:spPr>
            <a:xfrm>
              <a:off x="3444840" y="3981240"/>
              <a:ext cx="228600" cy="2282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Oval 8"/>
            <p:cNvSpPr/>
            <p:nvPr/>
          </p:nvSpPr>
          <p:spPr>
            <a:xfrm>
              <a:off x="3444840" y="4495680"/>
              <a:ext cx="228600" cy="2282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Oval 9"/>
            <p:cNvSpPr/>
            <p:nvPr/>
          </p:nvSpPr>
          <p:spPr>
            <a:xfrm>
              <a:off x="4968720" y="2952720"/>
              <a:ext cx="228600" cy="2282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Oval 11"/>
            <p:cNvSpPr/>
            <p:nvPr/>
          </p:nvSpPr>
          <p:spPr>
            <a:xfrm>
              <a:off x="4968720" y="3438360"/>
              <a:ext cx="228600" cy="2282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Oval 12"/>
            <p:cNvSpPr/>
            <p:nvPr/>
          </p:nvSpPr>
          <p:spPr>
            <a:xfrm>
              <a:off x="4968720" y="3924000"/>
              <a:ext cx="228600" cy="2282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Oval 13"/>
            <p:cNvSpPr/>
            <p:nvPr/>
          </p:nvSpPr>
          <p:spPr>
            <a:xfrm>
              <a:off x="4968720" y="4409640"/>
              <a:ext cx="228600" cy="2282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5"/>
            <p:cNvSpPr/>
            <p:nvPr/>
          </p:nvSpPr>
          <p:spPr>
            <a:xfrm>
              <a:off x="3657600" y="3119040"/>
              <a:ext cx="1311120" cy="86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6"/>
            <p:cNvSpPr/>
            <p:nvPr/>
          </p:nvSpPr>
          <p:spPr>
            <a:xfrm>
              <a:off x="3657600" y="3057120"/>
              <a:ext cx="132876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8"/>
            <p:cNvSpPr/>
            <p:nvPr/>
          </p:nvSpPr>
          <p:spPr>
            <a:xfrm>
              <a:off x="3645000" y="3006360"/>
              <a:ext cx="1341360" cy="5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9"/>
            <p:cNvSpPr/>
            <p:nvPr/>
          </p:nvSpPr>
          <p:spPr>
            <a:xfrm flipV="1">
              <a:off x="3657600" y="3119040"/>
              <a:ext cx="1328760" cy="37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20"/>
            <p:cNvSpPr/>
            <p:nvPr/>
          </p:nvSpPr>
          <p:spPr>
            <a:xfrm flipV="1">
              <a:off x="3645000" y="3541320"/>
              <a:ext cx="13492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21"/>
            <p:cNvSpPr/>
            <p:nvPr/>
          </p:nvSpPr>
          <p:spPr>
            <a:xfrm>
              <a:off x="3645000" y="3633480"/>
              <a:ext cx="1328760" cy="42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22"/>
            <p:cNvSpPr/>
            <p:nvPr/>
          </p:nvSpPr>
          <p:spPr>
            <a:xfrm flipV="1">
              <a:off x="3632040" y="3620880"/>
              <a:ext cx="1365480" cy="39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23"/>
            <p:cNvSpPr/>
            <p:nvPr/>
          </p:nvSpPr>
          <p:spPr>
            <a:xfrm>
              <a:off x="3645000" y="4071600"/>
              <a:ext cx="13287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24"/>
            <p:cNvSpPr/>
            <p:nvPr/>
          </p:nvSpPr>
          <p:spPr>
            <a:xfrm>
              <a:off x="3632040" y="4146120"/>
              <a:ext cx="1390680" cy="3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25"/>
            <p:cNvSpPr/>
            <p:nvPr/>
          </p:nvSpPr>
          <p:spPr>
            <a:xfrm flipV="1">
              <a:off x="3657600" y="4096800"/>
              <a:ext cx="1365120" cy="42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26"/>
            <p:cNvSpPr/>
            <p:nvPr/>
          </p:nvSpPr>
          <p:spPr>
            <a:xfrm flipV="1">
              <a:off x="3570120" y="3118680"/>
              <a:ext cx="1452600" cy="88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27"/>
            <p:cNvSpPr/>
            <p:nvPr/>
          </p:nvSpPr>
          <p:spPr>
            <a:xfrm flipV="1">
              <a:off x="3595680" y="4574520"/>
              <a:ext cx="141444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28"/>
            <p:cNvSpPr/>
            <p:nvPr/>
          </p:nvSpPr>
          <p:spPr>
            <a:xfrm>
              <a:off x="3595680" y="3670200"/>
              <a:ext cx="1414440" cy="78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Text Box 30"/>
          <p:cNvSpPr/>
          <p:nvPr/>
        </p:nvSpPr>
        <p:spPr>
          <a:xfrm>
            <a:off x="3203640" y="2556000"/>
            <a:ext cx="7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b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31"/>
          <p:cNvSpPr/>
          <p:nvPr/>
        </p:nvSpPr>
        <p:spPr>
          <a:xfrm>
            <a:off x="4359600" y="25560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8C78-9752-45C1-AF76-5FC675F1F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TS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s hubs and authorities for a particular topic specified by a normal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determines a set of relevant pages for the query calle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ze the link structure of the web subgraph defined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find authority and hub pages in this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3326-5FFF-488B-B3CE-D8137CA1D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structing a Base Subgrap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specific qu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let the set of documents returned by a standard search engine (e.g. VSR) be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ages pointed to by any pag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 pages that point to any pag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Oval 6"/>
          <p:cNvSpPr/>
          <p:nvPr/>
        </p:nvSpPr>
        <p:spPr>
          <a:xfrm>
            <a:off x="3733920" y="5016600"/>
            <a:ext cx="125280" cy="112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Oval 7"/>
          <p:cNvSpPr/>
          <p:nvPr/>
        </p:nvSpPr>
        <p:spPr>
          <a:xfrm>
            <a:off x="4235400" y="5361120"/>
            <a:ext cx="125640" cy="112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Oval 8"/>
          <p:cNvSpPr/>
          <p:nvPr/>
        </p:nvSpPr>
        <p:spPr>
          <a:xfrm>
            <a:off x="3733920" y="5762520"/>
            <a:ext cx="125280" cy="112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Oval 9"/>
          <p:cNvSpPr/>
          <p:nvPr/>
        </p:nvSpPr>
        <p:spPr>
          <a:xfrm>
            <a:off x="5302080" y="4903920"/>
            <a:ext cx="125640" cy="112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10"/>
          <p:cNvSpPr/>
          <p:nvPr/>
        </p:nvSpPr>
        <p:spPr>
          <a:xfrm>
            <a:off x="5086440" y="5875200"/>
            <a:ext cx="125280" cy="112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Oval 13"/>
          <p:cNvSpPr/>
          <p:nvPr/>
        </p:nvSpPr>
        <p:spPr>
          <a:xfrm>
            <a:off x="2438280" y="4684680"/>
            <a:ext cx="125640" cy="112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Oval 14"/>
          <p:cNvSpPr/>
          <p:nvPr/>
        </p:nvSpPr>
        <p:spPr>
          <a:xfrm>
            <a:off x="2374920" y="5416560"/>
            <a:ext cx="125280" cy="112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Oval 15"/>
          <p:cNvSpPr/>
          <p:nvPr/>
        </p:nvSpPr>
        <p:spPr>
          <a:xfrm>
            <a:off x="4800600" y="4572000"/>
            <a:ext cx="125280" cy="112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Oval 16"/>
          <p:cNvSpPr/>
          <p:nvPr/>
        </p:nvSpPr>
        <p:spPr>
          <a:xfrm>
            <a:off x="2895480" y="6002280"/>
            <a:ext cx="125640" cy="112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Oval 17"/>
          <p:cNvSpPr/>
          <p:nvPr/>
        </p:nvSpPr>
        <p:spPr>
          <a:xfrm>
            <a:off x="3432240" y="4697280"/>
            <a:ext cx="1139760" cy="162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8"/>
          <p:cNvSpPr/>
          <p:nvPr/>
        </p:nvSpPr>
        <p:spPr>
          <a:xfrm>
            <a:off x="4083480" y="4898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Oval 19"/>
          <p:cNvSpPr/>
          <p:nvPr/>
        </p:nvSpPr>
        <p:spPr>
          <a:xfrm>
            <a:off x="1192320" y="4292640"/>
            <a:ext cx="5333760" cy="236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20"/>
          <p:cNvSpPr/>
          <p:nvPr/>
        </p:nvSpPr>
        <p:spPr>
          <a:xfrm>
            <a:off x="3040200" y="4281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1"/>
          <p:cNvSpPr/>
          <p:nvPr/>
        </p:nvSpPr>
        <p:spPr>
          <a:xfrm>
            <a:off x="2556000" y="4759200"/>
            <a:ext cx="122688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22"/>
          <p:cNvSpPr/>
          <p:nvPr/>
        </p:nvSpPr>
        <p:spPr>
          <a:xfrm>
            <a:off x="2530440" y="4772160"/>
            <a:ext cx="1227240" cy="10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24"/>
          <p:cNvSpPr/>
          <p:nvPr/>
        </p:nvSpPr>
        <p:spPr>
          <a:xfrm>
            <a:off x="2467080" y="5486400"/>
            <a:ext cx="1303200" cy="363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25"/>
          <p:cNvSpPr/>
          <p:nvPr/>
        </p:nvSpPr>
        <p:spPr>
          <a:xfrm flipV="1">
            <a:off x="2994120" y="5899320"/>
            <a:ext cx="776160" cy="15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26"/>
          <p:cNvSpPr/>
          <p:nvPr/>
        </p:nvSpPr>
        <p:spPr>
          <a:xfrm flipV="1">
            <a:off x="2955960" y="5987880"/>
            <a:ext cx="2130480" cy="7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27"/>
          <p:cNvSpPr/>
          <p:nvPr/>
        </p:nvSpPr>
        <p:spPr>
          <a:xfrm>
            <a:off x="4321080" y="5435640"/>
            <a:ext cx="765360" cy="46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8"/>
          <p:cNvSpPr/>
          <p:nvPr/>
        </p:nvSpPr>
        <p:spPr>
          <a:xfrm flipV="1">
            <a:off x="4308480" y="4997160"/>
            <a:ext cx="1027080" cy="41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0"/>
          <p:cNvSpPr/>
          <p:nvPr/>
        </p:nvSpPr>
        <p:spPr>
          <a:xfrm>
            <a:off x="3844800" y="5097600"/>
            <a:ext cx="414360" cy="30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1"/>
          <p:cNvSpPr/>
          <p:nvPr/>
        </p:nvSpPr>
        <p:spPr>
          <a:xfrm flipV="1">
            <a:off x="3844800" y="4633920"/>
            <a:ext cx="1003320" cy="40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32"/>
          <p:cNvSpPr/>
          <p:nvPr/>
        </p:nvSpPr>
        <p:spPr>
          <a:xfrm flipH="1">
            <a:off x="2530440" y="4597560"/>
            <a:ext cx="2317680" cy="12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2D2D-84D4-461F-B736-9CE389B05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se Limit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limit computational expen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imit number of root pages to the top 200 pages retrieved for the query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imit number of “back-pointer” pages to a random set of at most 50 pages returned by a “reverse link” query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liminate purely navigational lin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liminate links between two pages on the same hos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liminate “non-authority-conveying” lin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low only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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8) pages from a given host as pointers to any individual pag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9F0F-0D96-4C57-9192-232FDE750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uthorities and In-Degre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within the base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 given query, the nodes with highest in-degree are not necessarily authorities (may just be generally popular pages like Yahoo or Amaz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authority pages are pointed to by a number of hubs (i.e. pages that point to lots of authoriti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B148-ADAF-4A81-B209-8E37B7D23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terative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n iterative algorithm to slowly converge on a mutually reinforcing set of hubs and author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for each p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uthority score: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p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vector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ub score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:         h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p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vector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normalized sc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Object 6"/>
              <p:cNvSpPr txBox="1"/>
              <p:nvPr/>
            </p:nvSpPr>
            <p:spPr>
              <a:xfrm>
                <a:off x="4129200" y="4952880"/>
                <a:ext cx="16477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7"/>
              <p:cNvSpPr txBox="1"/>
              <p:nvPr/>
            </p:nvSpPr>
            <p:spPr>
              <a:xfrm>
                <a:off x="1752480" y="4952880"/>
                <a:ext cx="16765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0A0A-6F29-4D5E-94C9-7496DE9DE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TS Update Ru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ties are pointed to by lots of good hub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bs point to lots of good author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7"/>
              <p:cNvSpPr txBox="1"/>
              <p:nvPr/>
            </p:nvSpPr>
            <p:spPr>
              <a:xfrm>
                <a:off x="2455920" y="2362320"/>
                <a:ext cx="2020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q</m:t>
                        </m:r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Object 8"/>
              <p:cNvSpPr txBox="1"/>
              <p:nvPr/>
            </p:nvSpPr>
            <p:spPr>
              <a:xfrm>
                <a:off x="2455920" y="4724280"/>
                <a:ext cx="2020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q</m:t>
                        </m:r>
                        <m:r>
                          <m:t xml:space="preserve">:</m:t>
                        </m:r>
                        <m:r>
                          <m:t xml:space="preserve">p</m:t>
                        </m:r>
                        <m:r>
                          <m:t xml:space="preserve">→</m:t>
                        </m:r>
                        <m:r>
                          <m:t xml:space="preserve">q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181B-3685-4579-9508-32CA31E1A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llustrated Update Ru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1" name="Oval 5"/>
          <p:cNvSpPr/>
          <p:nvPr/>
        </p:nvSpPr>
        <p:spPr>
          <a:xfrm>
            <a:off x="3576600" y="2309400"/>
            <a:ext cx="436320" cy="563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6"/>
          <p:cNvSpPr/>
          <p:nvPr/>
        </p:nvSpPr>
        <p:spPr>
          <a:xfrm>
            <a:off x="3576600" y="3068280"/>
            <a:ext cx="436320" cy="563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3981600" y="1828800"/>
            <a:ext cx="1028520" cy="49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13"/>
          <p:cNvSpPr/>
          <p:nvPr/>
        </p:nvSpPr>
        <p:spPr>
          <a:xfrm flipV="1">
            <a:off x="3981600" y="2514600"/>
            <a:ext cx="102852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14"/>
          <p:cNvSpPr/>
          <p:nvPr/>
        </p:nvSpPr>
        <p:spPr>
          <a:xfrm flipV="1">
            <a:off x="3981600" y="2622240"/>
            <a:ext cx="1116000" cy="654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5"/>
          <p:cNvSpPr/>
          <p:nvPr/>
        </p:nvSpPr>
        <p:spPr>
          <a:xfrm>
            <a:off x="5626080" y="2225520"/>
            <a:ext cx="178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16"/>
          <p:cNvSpPr/>
          <p:nvPr/>
        </p:nvSpPr>
        <p:spPr>
          <a:xfrm>
            <a:off x="3576600" y="1543680"/>
            <a:ext cx="436320" cy="563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5066640" y="3872520"/>
            <a:ext cx="436320" cy="563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5066640" y="5472720"/>
            <a:ext cx="436320" cy="563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5066640" y="4711320"/>
            <a:ext cx="436320" cy="563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4979880" y="2159640"/>
            <a:ext cx="436320" cy="563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3576600" y="4711320"/>
            <a:ext cx="436320" cy="563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23"/>
          <p:cNvSpPr/>
          <p:nvPr/>
        </p:nvSpPr>
        <p:spPr>
          <a:xfrm flipV="1">
            <a:off x="3933720" y="4220640"/>
            <a:ext cx="117648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24"/>
          <p:cNvSpPr/>
          <p:nvPr/>
        </p:nvSpPr>
        <p:spPr>
          <a:xfrm flipV="1">
            <a:off x="3970440" y="4960440"/>
            <a:ext cx="1127160" cy="24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5"/>
          <p:cNvSpPr/>
          <p:nvPr/>
        </p:nvSpPr>
        <p:spPr>
          <a:xfrm>
            <a:off x="3944880" y="5148360"/>
            <a:ext cx="1165320" cy="550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26"/>
          <p:cNvSpPr/>
          <p:nvPr/>
        </p:nvSpPr>
        <p:spPr>
          <a:xfrm>
            <a:off x="1675440" y="4797360"/>
            <a:ext cx="1759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D5C6-D531-405B-82E3-D0C4399DF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eta-Search Engin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engine that passes query to several other search engines and integrate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ubmit queries to host sit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rse resulting HTML pages to extract search result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tegrate multiple rankings into a “consensus” rank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sent integrated results to user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Metacrawl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SavvySearch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Dogpile 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8034-6F53-4FEE-99E5-52303D188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TS Iterative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 = 1 to 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: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update auth. scores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update hub scores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/c   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/c   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4"/>
              <p:cNvSpPr txBox="1"/>
              <p:nvPr/>
            </p:nvSpPr>
            <p:spPr>
              <a:xfrm>
                <a:off x="3360600" y="2540160"/>
                <a:ext cx="16592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q</m:t>
                        </m:r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5"/>
              <p:cNvSpPr txBox="1"/>
              <p:nvPr/>
            </p:nvSpPr>
            <p:spPr>
              <a:xfrm>
                <a:off x="3432240" y="3720960"/>
                <a:ext cx="1600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q</m:t>
                        </m:r>
                        <m:r>
                          <m:t xml:space="preserve">:</m:t>
                        </m:r>
                        <m:r>
                          <m:t xml:space="preserve">p</m:t>
                        </m:r>
                        <m:r>
                          <m:t xml:space="preserve">→</m:t>
                        </m:r>
                        <m:r>
                          <m:t xml:space="preserve">q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6"/>
              <p:cNvSpPr txBox="1"/>
              <p:nvPr/>
            </p:nvSpPr>
            <p:spPr>
              <a:xfrm>
                <a:off x="5638680" y="4255920"/>
                <a:ext cx="1747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7"/>
              <p:cNvSpPr txBox="1"/>
              <p:nvPr/>
            </p:nvSpPr>
            <p:spPr>
              <a:xfrm>
                <a:off x="5638680" y="4952880"/>
                <a:ext cx="1747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Text Box 9"/>
          <p:cNvSpPr/>
          <p:nvPr/>
        </p:nvSpPr>
        <p:spPr>
          <a:xfrm>
            <a:off x="7463160" y="430704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normalize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7471440" y="4954680"/>
            <a:ext cx="15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normalize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E9A3-B97A-4506-99DD-D2E30C4A3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verg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converges to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x-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iterated indefinit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be the adjacency matrix for the subgraph defin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j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 1 for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S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S iff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ity vector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verges to the principal eigenvecto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b vector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verges to the principal eigenvecto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actice, 20 iterations produces fairly stable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A5AC-FF1A-45BD-A18D-FEBBD92C3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ities for query:  “Jav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ava.sun.co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mp.lang.java FAQ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ities for query “search engin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Yahoo.co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cite.co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ycos.co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tavista.co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ities for query “Gat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icrosoft.co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oadahead.co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1136-FE7E-4798-835B-CCFFB32C4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 Comm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ost cases, the final authorities were not in the initial root set generated using Altav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ties were brought in from linked and reverse-linked pages and then HITS computed their high authority sc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F747-F430-434A-99B6-583FB2E34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inding Similar Pages Using Link Structur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pag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the root set)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.g. 200) pages that point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 a base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HITS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he best authoriti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the best similar-pages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s authorities in the “link neighbor-hood”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DAB5-A899-4D2F-9726-ECE6732A5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ilar Page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“honda.co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oyota.co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d.co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mwusa.co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aturncars.co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issanmotors.co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udi.co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volvocars.co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08A8-71CC-4DFD-8381-3938CB33A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TS for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mbiguous query can result in the principal eigenvector only covering one of the possible mea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principal eigenvectors may contain hubs &amp; authorities for other mea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“jaguar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tari video game (principal eigenvector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FL Football team (2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non-princ. eigenvector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utomobile (3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non-princ. eigenvector) 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16B1-5A91-4E15-B4FD-3FD1800AB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geRan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link-analysis method used by Google 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(Brin &amp; Page, 1998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attempt to capture the distinction between hubs and author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ks pages just by author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to the entire web rather than a local neighborhood of pages surrounding the results of a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9BEA-C46C-4620-A0F9-CDE815585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itial PageRank Ide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measuring in-degree (citation count) doesn’t account for the authority of the source of a li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page rank equation for p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s the total number of out-links from pag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 page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“gives” an equal fraction of its authority to all the pages it points to (e.g.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s a normalizing constant set so that the rank of all pages always sums to 1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4"/>
              <p:cNvSpPr txBox="1"/>
              <p:nvPr/>
            </p:nvSpPr>
            <p:spPr>
              <a:xfrm>
                <a:off x="2333520" y="2749680"/>
                <a:ext cx="307656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q</m:t>
                        </m:r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p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8C4F-ACBB-4732-9589-F8E15640A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itial PageRank Idea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view it as a process of PageRank “flowing” from pages to the pages they c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2895480" y="2819520"/>
            <a:ext cx="685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6"/>
          <p:cNvSpPr/>
          <p:nvPr/>
        </p:nvSpPr>
        <p:spPr>
          <a:xfrm>
            <a:off x="2895480" y="4419720"/>
            <a:ext cx="685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5029200" y="2819520"/>
            <a:ext cx="685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13"/>
          <p:cNvSpPr/>
          <p:nvPr/>
        </p:nvSpPr>
        <p:spPr>
          <a:xfrm>
            <a:off x="3257640" y="33526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14"/>
          <p:cNvSpPr/>
          <p:nvPr/>
        </p:nvSpPr>
        <p:spPr>
          <a:xfrm>
            <a:off x="3257640" y="35053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15"/>
          <p:cNvSpPr/>
          <p:nvPr/>
        </p:nvSpPr>
        <p:spPr>
          <a:xfrm>
            <a:off x="3219480" y="4724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6"/>
          <p:cNvSpPr/>
          <p:nvPr/>
        </p:nvSpPr>
        <p:spPr>
          <a:xfrm>
            <a:off x="3219480" y="49528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17"/>
          <p:cNvSpPr/>
          <p:nvPr/>
        </p:nvSpPr>
        <p:spPr>
          <a:xfrm>
            <a:off x="3219480" y="51814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18"/>
          <p:cNvSpPr/>
          <p:nvPr/>
        </p:nvSpPr>
        <p:spPr>
          <a:xfrm>
            <a:off x="5334120" y="31240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19"/>
          <p:cNvSpPr/>
          <p:nvPr/>
        </p:nvSpPr>
        <p:spPr>
          <a:xfrm>
            <a:off x="5334120" y="33526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22"/>
          <p:cNvSpPr/>
          <p:nvPr/>
        </p:nvSpPr>
        <p:spPr>
          <a:xfrm flipV="1">
            <a:off x="3406680" y="3081240"/>
            <a:ext cx="164160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23"/>
          <p:cNvSpPr/>
          <p:nvPr/>
        </p:nvSpPr>
        <p:spPr>
          <a:xfrm>
            <a:off x="3394080" y="3506760"/>
            <a:ext cx="1635120" cy="10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24"/>
          <p:cNvSpPr/>
          <p:nvPr/>
        </p:nvSpPr>
        <p:spPr>
          <a:xfrm flipV="1">
            <a:off x="3357720" y="3352680"/>
            <a:ext cx="1671480" cy="137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25"/>
          <p:cNvSpPr/>
          <p:nvPr/>
        </p:nvSpPr>
        <p:spPr>
          <a:xfrm>
            <a:off x="3344760" y="4935600"/>
            <a:ext cx="1690920" cy="137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27"/>
          <p:cNvSpPr/>
          <p:nvPr/>
        </p:nvSpPr>
        <p:spPr>
          <a:xfrm>
            <a:off x="3357720" y="5186520"/>
            <a:ext cx="1652400" cy="77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28"/>
          <p:cNvSpPr/>
          <p:nvPr/>
        </p:nvSpPr>
        <p:spPr>
          <a:xfrm>
            <a:off x="5029200" y="4419720"/>
            <a:ext cx="685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29"/>
          <p:cNvSpPr/>
          <p:nvPr/>
        </p:nvSpPr>
        <p:spPr>
          <a:xfrm>
            <a:off x="5429160" y="4724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30"/>
          <p:cNvSpPr/>
          <p:nvPr/>
        </p:nvSpPr>
        <p:spPr>
          <a:xfrm>
            <a:off x="5429160" y="49528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34"/>
          <p:cNvSpPr/>
          <p:nvPr/>
        </p:nvSpPr>
        <p:spPr>
          <a:xfrm>
            <a:off x="5029200" y="5602320"/>
            <a:ext cx="685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35"/>
          <p:cNvSpPr/>
          <p:nvPr/>
        </p:nvSpPr>
        <p:spPr>
          <a:xfrm>
            <a:off x="5429160" y="59072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36"/>
          <p:cNvSpPr/>
          <p:nvPr/>
        </p:nvSpPr>
        <p:spPr>
          <a:xfrm>
            <a:off x="5429160" y="61358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37"/>
          <p:cNvSpPr/>
          <p:nvPr/>
        </p:nvSpPr>
        <p:spPr>
          <a:xfrm flipV="1">
            <a:off x="5524560" y="2819520"/>
            <a:ext cx="95256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Line 38"/>
          <p:cNvSpPr/>
          <p:nvPr/>
        </p:nvSpPr>
        <p:spPr>
          <a:xfrm>
            <a:off x="5524560" y="3357720"/>
            <a:ext cx="952560" cy="14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39"/>
          <p:cNvSpPr/>
          <p:nvPr/>
        </p:nvSpPr>
        <p:spPr>
          <a:xfrm flipV="1">
            <a:off x="5524560" y="4267080"/>
            <a:ext cx="1257120" cy="455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Line 40"/>
          <p:cNvSpPr/>
          <p:nvPr/>
        </p:nvSpPr>
        <p:spPr>
          <a:xfrm>
            <a:off x="5524560" y="4952880"/>
            <a:ext cx="95256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41"/>
          <p:cNvSpPr/>
          <p:nvPr/>
        </p:nvSpPr>
        <p:spPr>
          <a:xfrm flipV="1">
            <a:off x="5524560" y="5601960"/>
            <a:ext cx="799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2"/>
          <p:cNvSpPr/>
          <p:nvPr/>
        </p:nvSpPr>
        <p:spPr>
          <a:xfrm>
            <a:off x="5619600" y="6135840"/>
            <a:ext cx="857520" cy="188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43"/>
          <p:cNvSpPr/>
          <p:nvPr/>
        </p:nvSpPr>
        <p:spPr>
          <a:xfrm>
            <a:off x="1828800" y="2666880"/>
            <a:ext cx="10666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44"/>
          <p:cNvSpPr/>
          <p:nvPr/>
        </p:nvSpPr>
        <p:spPr>
          <a:xfrm>
            <a:off x="1828800" y="312408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45"/>
          <p:cNvSpPr/>
          <p:nvPr/>
        </p:nvSpPr>
        <p:spPr>
          <a:xfrm flipV="1">
            <a:off x="1828800" y="3506400"/>
            <a:ext cx="1066680" cy="22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46"/>
          <p:cNvSpPr/>
          <p:nvPr/>
        </p:nvSpPr>
        <p:spPr>
          <a:xfrm>
            <a:off x="1828800" y="4419720"/>
            <a:ext cx="10666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47"/>
          <p:cNvSpPr/>
          <p:nvPr/>
        </p:nvSpPr>
        <p:spPr>
          <a:xfrm>
            <a:off x="1828800" y="49356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48"/>
          <p:cNvSpPr/>
          <p:nvPr/>
        </p:nvSpPr>
        <p:spPr>
          <a:xfrm flipV="1">
            <a:off x="1828800" y="5186160"/>
            <a:ext cx="1066680" cy="41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49"/>
          <p:cNvSpPr/>
          <p:nvPr/>
        </p:nvSpPr>
        <p:spPr>
          <a:xfrm>
            <a:off x="2990520" y="28828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50"/>
          <p:cNvSpPr/>
          <p:nvPr/>
        </p:nvSpPr>
        <p:spPr>
          <a:xfrm>
            <a:off x="2853360" y="43736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57"/>
          <p:cNvGrpSpPr/>
          <p:nvPr/>
        </p:nvGrpSpPr>
        <p:grpSpPr>
          <a:xfrm>
            <a:off x="3711960" y="2955960"/>
            <a:ext cx="500760" cy="948240"/>
            <a:chOff x="3711960" y="2955960"/>
            <a:chExt cx="500760" cy="948240"/>
          </a:xfrm>
        </p:grpSpPr>
        <p:sp>
          <p:nvSpPr>
            <p:cNvPr id="750" name="Text Box 51"/>
            <p:cNvSpPr/>
            <p:nvPr/>
          </p:nvSpPr>
          <p:spPr>
            <a:xfrm>
              <a:off x="3711960" y="295596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52"/>
            <p:cNvSpPr/>
            <p:nvPr/>
          </p:nvSpPr>
          <p:spPr>
            <a:xfrm>
              <a:off x="3711960" y="35053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63"/>
          <p:cNvGrpSpPr/>
          <p:nvPr/>
        </p:nvGrpSpPr>
        <p:grpSpPr>
          <a:xfrm>
            <a:off x="3494520" y="3998880"/>
            <a:ext cx="654840" cy="1451520"/>
            <a:chOff x="3494520" y="3998880"/>
            <a:chExt cx="654840" cy="1451520"/>
          </a:xfrm>
        </p:grpSpPr>
        <p:sp>
          <p:nvSpPr>
            <p:cNvPr id="753" name="Text Box 54"/>
            <p:cNvSpPr/>
            <p:nvPr/>
          </p:nvSpPr>
          <p:spPr>
            <a:xfrm>
              <a:off x="3494520" y="399888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55"/>
            <p:cNvSpPr/>
            <p:nvPr/>
          </p:nvSpPr>
          <p:spPr>
            <a:xfrm>
              <a:off x="3648600" y="461808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56"/>
            <p:cNvSpPr/>
            <p:nvPr/>
          </p:nvSpPr>
          <p:spPr>
            <a:xfrm>
              <a:off x="3648600" y="50515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Group 62"/>
          <p:cNvGrpSpPr/>
          <p:nvPr/>
        </p:nvGrpSpPr>
        <p:grpSpPr>
          <a:xfrm>
            <a:off x="4951800" y="2757600"/>
            <a:ext cx="564480" cy="3243600"/>
            <a:chOff x="4951800" y="2757600"/>
            <a:chExt cx="564480" cy="3243600"/>
          </a:xfrm>
        </p:grpSpPr>
        <p:sp>
          <p:nvSpPr>
            <p:cNvPr id="757" name="Text Box 59"/>
            <p:cNvSpPr/>
            <p:nvPr/>
          </p:nvSpPr>
          <p:spPr>
            <a:xfrm>
              <a:off x="5015520" y="27576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60"/>
            <p:cNvSpPr/>
            <p:nvPr/>
          </p:nvSpPr>
          <p:spPr>
            <a:xfrm>
              <a:off x="4977360" y="44197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61"/>
            <p:cNvSpPr/>
            <p:nvPr/>
          </p:nvSpPr>
          <p:spPr>
            <a:xfrm>
              <a:off x="4951800" y="56023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86AF-5911-40E5-B81D-6B825FBBE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TML Structure &amp; Feature Weight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tokens under particular HTML tags more heavi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&lt;TITLE&gt; tokens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(Google seems to like title matches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&lt;H1&gt;,&lt;H2&gt;… token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&lt;META&gt; keyword token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se page into conceptual sections (e.g. navigation links vs. page content) and weight tokens differently based on s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D001-0F05-477C-9A46-8ED7A17FB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itial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e rank-flowing process until converg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the total set of p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: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/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|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ranks do not change (much)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convergence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: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normalize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Object 4"/>
              <p:cNvSpPr txBox="1"/>
              <p:nvPr/>
            </p:nvSpPr>
            <p:spPr>
              <a:xfrm>
                <a:off x="2936880" y="3657600"/>
                <a:ext cx="25081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q</m:t>
                        </m:r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p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Object 5"/>
              <p:cNvSpPr txBox="1"/>
              <p:nvPr/>
            </p:nvSpPr>
            <p:spPr>
              <a:xfrm>
                <a:off x="1809720" y="4632480"/>
                <a:ext cx="20588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B473-230C-4406-994A-5999E3B09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Stable Fixpoi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7" name="Rectangle 5"/>
          <p:cNvSpPr/>
          <p:nvPr/>
        </p:nvSpPr>
        <p:spPr>
          <a:xfrm>
            <a:off x="3021120" y="2286000"/>
            <a:ext cx="685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6"/>
          <p:cNvSpPr/>
          <p:nvPr/>
        </p:nvSpPr>
        <p:spPr>
          <a:xfrm>
            <a:off x="4164120" y="3733920"/>
            <a:ext cx="685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7"/>
          <p:cNvSpPr/>
          <p:nvPr/>
        </p:nvSpPr>
        <p:spPr>
          <a:xfrm>
            <a:off x="5459400" y="2286000"/>
            <a:ext cx="685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8"/>
          <p:cNvSpPr/>
          <p:nvPr/>
        </p:nvSpPr>
        <p:spPr>
          <a:xfrm>
            <a:off x="3249720" y="27432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9"/>
          <p:cNvSpPr/>
          <p:nvPr/>
        </p:nvSpPr>
        <p:spPr>
          <a:xfrm>
            <a:off x="3249720" y="28954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10"/>
          <p:cNvSpPr/>
          <p:nvPr/>
        </p:nvSpPr>
        <p:spPr>
          <a:xfrm>
            <a:off x="5688000" y="28954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11"/>
          <p:cNvSpPr/>
          <p:nvPr/>
        </p:nvSpPr>
        <p:spPr>
          <a:xfrm>
            <a:off x="4392720" y="42670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3432240" y="2747880"/>
            <a:ext cx="20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3432240" y="2911320"/>
            <a:ext cx="1090440" cy="82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14"/>
          <p:cNvSpPr/>
          <p:nvPr/>
        </p:nvSpPr>
        <p:spPr>
          <a:xfrm flipH="1" flipV="1">
            <a:off x="3369960" y="3198600"/>
            <a:ext cx="1027080" cy="10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861080" y="2898720"/>
            <a:ext cx="863280" cy="82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17"/>
          <p:cNvSpPr/>
          <p:nvPr/>
        </p:nvSpPr>
        <p:spPr>
          <a:xfrm>
            <a:off x="2999160" y="23004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9"/>
          <p:cNvSpPr/>
          <p:nvPr/>
        </p:nvSpPr>
        <p:spPr>
          <a:xfrm>
            <a:off x="4142160" y="36720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20"/>
          <p:cNvSpPr/>
          <p:nvPr/>
        </p:nvSpPr>
        <p:spPr>
          <a:xfrm>
            <a:off x="5437800" y="22240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21"/>
          <p:cNvSpPr/>
          <p:nvPr/>
        </p:nvSpPr>
        <p:spPr>
          <a:xfrm>
            <a:off x="5188320" y="3274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22"/>
          <p:cNvSpPr/>
          <p:nvPr/>
        </p:nvSpPr>
        <p:spPr>
          <a:xfrm>
            <a:off x="4147200" y="2422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23"/>
          <p:cNvSpPr/>
          <p:nvPr/>
        </p:nvSpPr>
        <p:spPr>
          <a:xfrm>
            <a:off x="3893040" y="30765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24"/>
          <p:cNvSpPr/>
          <p:nvPr/>
        </p:nvSpPr>
        <p:spPr>
          <a:xfrm>
            <a:off x="3369240" y="3625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6571-0576-425B-AB69-C4321AE21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near Algebra Ver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a vector over web p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2-d matrix over pages w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</a:rPr>
              <a:t>vu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= 1/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</a:rPr>
              <a:t>u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u </a:t>
            </a:r>
            <a:r>
              <a:rPr b="0" i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v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lse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</a:rPr>
              <a:t>vu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ges to the principal eigenvector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2D79-17EF-4D7A-BF96-A35691FF0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lem with Initial Ide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roup of pages that only point to themselves but are pointed to by other pages act as a “rank sink” and absorb all the rank in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4"/>
          <p:cNvSpPr/>
          <p:nvPr/>
        </p:nvSpPr>
        <p:spPr>
          <a:xfrm>
            <a:off x="2932200" y="4203720"/>
            <a:ext cx="685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4191120" y="4191120"/>
            <a:ext cx="685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8"/>
          <p:cNvSpPr/>
          <p:nvPr/>
        </p:nvSpPr>
        <p:spPr>
          <a:xfrm flipV="1">
            <a:off x="3429000" y="4584600"/>
            <a:ext cx="77940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Freeform 10"/>
          <p:cNvSpPr/>
          <p:nvPr/>
        </p:nvSpPr>
        <p:spPr>
          <a:xfrm>
            <a:off x="3238560" y="3556080"/>
            <a:ext cx="2108160" cy="101592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015920"/>
              <a:gd name="textAreaBottom" fmla="*/ 1016280 h 1015920"/>
            </a:gdLst>
            <a:ahLst/>
            <a:rect l="textAreaLeft" t="textAreaTop" r="textAreaRight" b="textAreaBottom"/>
            <a:pathLst>
              <a:path w="1328" h="640">
                <a:moveTo>
                  <a:pt x="840" y="640"/>
                </a:moveTo>
                <a:cubicBezTo>
                  <a:pt x="1028" y="588"/>
                  <a:pt x="1216" y="536"/>
                  <a:pt x="1272" y="448"/>
                </a:cubicBezTo>
                <a:cubicBezTo>
                  <a:pt x="1328" y="360"/>
                  <a:pt x="1312" y="184"/>
                  <a:pt x="1176" y="112"/>
                </a:cubicBezTo>
                <a:cubicBezTo>
                  <a:pt x="1040" y="40"/>
                  <a:pt x="640" y="0"/>
                  <a:pt x="456" y="16"/>
                </a:cubicBezTo>
                <a:cubicBezTo>
                  <a:pt x="272" y="32"/>
                  <a:pt x="144" y="144"/>
                  <a:pt x="72" y="208"/>
                </a:cubicBezTo>
                <a:cubicBezTo>
                  <a:pt x="0" y="272"/>
                  <a:pt x="12" y="336"/>
                  <a:pt x="24" y="4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Line 11"/>
          <p:cNvSpPr/>
          <p:nvPr/>
        </p:nvSpPr>
        <p:spPr>
          <a:xfrm>
            <a:off x="4343400" y="45720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12"/>
          <p:cNvSpPr/>
          <p:nvPr/>
        </p:nvSpPr>
        <p:spPr>
          <a:xfrm>
            <a:off x="3276720" y="48006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13"/>
          <p:cNvSpPr/>
          <p:nvPr/>
        </p:nvSpPr>
        <p:spPr>
          <a:xfrm flipV="1">
            <a:off x="1371600" y="4571640"/>
            <a:ext cx="1560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14"/>
          <p:cNvSpPr/>
          <p:nvPr/>
        </p:nvSpPr>
        <p:spPr>
          <a:xfrm flipV="1">
            <a:off x="1752480" y="4800240"/>
            <a:ext cx="1179720" cy="125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5976000" y="4098960"/>
            <a:ext cx="24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k flows i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e and can’t get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D95B-3EC1-49F2-A903-DB2783BDD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nk Sour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a “rank source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continually replenishes the rank of each pag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by a fixed amou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4"/>
              <p:cNvSpPr txBox="1"/>
              <p:nvPr/>
            </p:nvSpPr>
            <p:spPr>
              <a:xfrm>
                <a:off x="1981080" y="3200400"/>
                <a:ext cx="463068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:</m:t>
                            </m:r>
                            <m:r>
                              <m:t xml:space="preserve">q</m:t>
                            </m:r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63C1-83A3-48D7-A55B-328A9723D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geRank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6" name="Text Box 4"/>
          <p:cNvSpPr/>
          <p:nvPr/>
        </p:nvSpPr>
        <p:spPr>
          <a:xfrm>
            <a:off x="1282320" y="1371600"/>
            <a:ext cx="667476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the total set of p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: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|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for some 0&lt;</a:t>
            </a: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&lt;1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.g. 0.15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: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/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|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ranks do not change (much)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convergence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: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normalize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ct 5"/>
              <p:cNvSpPr txBox="1"/>
              <p:nvPr/>
            </p:nvSpPr>
            <p:spPr>
              <a:xfrm>
                <a:off x="3429000" y="3503520"/>
                <a:ext cx="465300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:</m:t>
                            </m:r>
                            <m:r>
                              <m:t xml:space="preserve">q</m:t>
                            </m:r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d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Object 6"/>
              <p:cNvSpPr txBox="1"/>
              <p:nvPr/>
            </p:nvSpPr>
            <p:spPr>
              <a:xfrm>
                <a:off x="2612880" y="455940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6745-EB50-4C09-8C63-0955A9982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near Algebra Ver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c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|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1 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c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1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s the vector consisting of all 1’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eigenvector of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ADA3-E6DD-4D0A-A0CF-9B2F7CD42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ndom Surfer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Rank can be seen as modeling a “random surfer” that starts on a random page and then at each poi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ith probability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randomly jumps to pag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therwise, randomly follows a link on the current pag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odels the probability that this random surfer will be on p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any given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jumps” are needed to prevent the random surfer from getting “trapped” in web sinks with no outgoing lin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8DC1-8595-49AB-ABD2-219721253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peed of Converg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experiments on Google used 322 million li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eRank algorithm converged (within small tolerance) in about 52 it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iterations required for convergence is empirically O(lo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link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 calculation is quite effic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B41F-462D-4D12-AD40-76BED151E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ple Title Search with PageRan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imple Boolean search to search web-page titles and rank the retrieved pages by their PageR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search for “university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ltavista returned a random set of pages with “university” in the title (seemed to prefer short URLs)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imitive Google returned the home pages of top universitie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55D3-0D8E-469D-A163-33082DAD7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ibliometrics: Citation Analysi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standard documents inclu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bliographi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explic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other previously published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itations as links, standard corpora can be viewed as a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ucture of this graph, independent of content, can provide interesting information about the similarity of documents and the structure of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 corpus includes citation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954C-D97C-447C-99EF-2F73D1BF7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oogle Rank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Google ranking includes (based on university publications prior to commercializa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Vector-space similarity componen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Keyword proximity componen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TML-tag weight component (e.g. title preference)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geRank componen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of current commercial ranking functions are trade secr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D220-D578-4E9D-BB64-26FA387E4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sonalized PageRan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eRank can be biased (personalized) by chang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 non-uniform distrib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 “random jumps” to a set of specified relevant p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0 except for one’s own home page, for whi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results in a bias towards pages that are closer in the web graph to your own homep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F550-C79C-4442-9AB9-0AF9F4BC5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oogle PageRank-Biased Spid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ageRank to direct (focus) a spider on “important” p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page-rank using the current set of crawled p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the spider’s search queue based on current estimated PageR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6113-10FB-4197-AE08-713A8356A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nk Analysis 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analysis uses information about the structure of the web graph to aid 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one of the major innovations in web 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one of the primary reasons for Google’s initial su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53B0-9CC4-4705-8C90-E252B60FB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mpact Facto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by Garfield in 1972 to measure the importance (quality, influence) of scientific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 of how often papers in the journal are cited by other scient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and published annually by the Institute for Scientific Information (IS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mpact fa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journ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ye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average number of citations (from indexed documents published in ye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a paper publish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ye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account for the quality of the citing arti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2ABE-F054-4951-B927-F0B739D2D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ibliographic Coupl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 of similarity of documents introduced by Kessler in 196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bliographic coupling of two docume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number of documents cit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of the intersection of their bibliograph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 want to normalize by size of bibliograph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39"/>
          <p:cNvGrpSpPr/>
          <p:nvPr/>
        </p:nvGrpSpPr>
        <p:grpSpPr>
          <a:xfrm>
            <a:off x="2960640" y="4812480"/>
            <a:ext cx="2743200" cy="1503720"/>
            <a:chOff x="2960640" y="4812480"/>
            <a:chExt cx="2743200" cy="1503720"/>
          </a:xfrm>
        </p:grpSpPr>
        <p:sp>
          <p:nvSpPr>
            <p:cNvPr id="523" name="Oval 40"/>
            <p:cNvSpPr/>
            <p:nvPr/>
          </p:nvSpPr>
          <p:spPr>
            <a:xfrm>
              <a:off x="3464640" y="4812480"/>
              <a:ext cx="516240" cy="563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41"/>
            <p:cNvSpPr/>
            <p:nvPr/>
          </p:nvSpPr>
          <p:spPr>
            <a:xfrm>
              <a:off x="3875040" y="5283000"/>
              <a:ext cx="458640" cy="78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42"/>
            <p:cNvSpPr/>
            <p:nvPr/>
          </p:nvSpPr>
          <p:spPr>
            <a:xfrm>
              <a:off x="3722760" y="5359320"/>
              <a:ext cx="228600" cy="68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43"/>
            <p:cNvSpPr/>
            <p:nvPr/>
          </p:nvSpPr>
          <p:spPr>
            <a:xfrm flipH="1">
              <a:off x="3570120" y="5359320"/>
              <a:ext cx="76320" cy="83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44"/>
            <p:cNvSpPr/>
            <p:nvPr/>
          </p:nvSpPr>
          <p:spPr>
            <a:xfrm flipH="1">
              <a:off x="3189240" y="5283000"/>
              <a:ext cx="380880" cy="83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45"/>
            <p:cNvSpPr/>
            <p:nvPr/>
          </p:nvSpPr>
          <p:spPr>
            <a:xfrm flipH="1">
              <a:off x="4026960" y="5206680"/>
              <a:ext cx="7621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46"/>
            <p:cNvSpPr/>
            <p:nvPr/>
          </p:nvSpPr>
          <p:spPr>
            <a:xfrm flipH="1">
              <a:off x="4333680" y="5283000"/>
              <a:ext cx="532080" cy="78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47"/>
            <p:cNvSpPr/>
            <p:nvPr/>
          </p:nvSpPr>
          <p:spPr>
            <a:xfrm>
              <a:off x="5018040" y="5359320"/>
              <a:ext cx="0" cy="68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48"/>
            <p:cNvSpPr/>
            <p:nvPr/>
          </p:nvSpPr>
          <p:spPr>
            <a:xfrm>
              <a:off x="5094360" y="5283000"/>
              <a:ext cx="3045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49"/>
            <p:cNvSpPr/>
            <p:nvPr/>
          </p:nvSpPr>
          <p:spPr>
            <a:xfrm>
              <a:off x="5170320" y="5206680"/>
              <a:ext cx="5335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50"/>
            <p:cNvSpPr/>
            <p:nvPr/>
          </p:nvSpPr>
          <p:spPr>
            <a:xfrm flipH="1">
              <a:off x="4637160" y="5359320"/>
              <a:ext cx="304560" cy="68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51"/>
            <p:cNvSpPr/>
            <p:nvPr/>
          </p:nvSpPr>
          <p:spPr>
            <a:xfrm>
              <a:off x="3951360" y="5206680"/>
              <a:ext cx="6858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52"/>
            <p:cNvSpPr/>
            <p:nvPr/>
          </p:nvSpPr>
          <p:spPr>
            <a:xfrm flipH="1">
              <a:off x="2960640" y="5206680"/>
              <a:ext cx="53352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Oval 53"/>
            <p:cNvSpPr/>
            <p:nvPr/>
          </p:nvSpPr>
          <p:spPr>
            <a:xfrm>
              <a:off x="3724200" y="5763960"/>
              <a:ext cx="1139760" cy="552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54"/>
            <p:cNvSpPr/>
            <p:nvPr/>
          </p:nvSpPr>
          <p:spPr>
            <a:xfrm>
              <a:off x="4760640" y="4812480"/>
              <a:ext cx="494640" cy="563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Oval 55"/>
            <p:cNvSpPr/>
            <p:nvPr/>
          </p:nvSpPr>
          <p:spPr>
            <a:xfrm>
              <a:off x="3570120" y="6121080"/>
              <a:ext cx="7632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Oval 56"/>
            <p:cNvSpPr/>
            <p:nvPr/>
          </p:nvSpPr>
          <p:spPr>
            <a:xfrm>
              <a:off x="3189240" y="6121080"/>
              <a:ext cx="7632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57"/>
            <p:cNvSpPr/>
            <p:nvPr/>
          </p:nvSpPr>
          <p:spPr>
            <a:xfrm>
              <a:off x="2960640" y="6121080"/>
              <a:ext cx="7632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58"/>
            <p:cNvSpPr/>
            <p:nvPr/>
          </p:nvSpPr>
          <p:spPr>
            <a:xfrm>
              <a:off x="5627520" y="5968800"/>
              <a:ext cx="7632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59"/>
            <p:cNvSpPr/>
            <p:nvPr/>
          </p:nvSpPr>
          <p:spPr>
            <a:xfrm>
              <a:off x="5322960" y="6045120"/>
              <a:ext cx="75960" cy="7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Oval 60"/>
            <p:cNvSpPr/>
            <p:nvPr/>
          </p:nvSpPr>
          <p:spPr>
            <a:xfrm>
              <a:off x="5018040" y="6045120"/>
              <a:ext cx="76320" cy="7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Oval 61"/>
            <p:cNvSpPr/>
            <p:nvPr/>
          </p:nvSpPr>
          <p:spPr>
            <a:xfrm>
              <a:off x="4560840" y="6045120"/>
              <a:ext cx="76320" cy="7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Oval 62"/>
            <p:cNvSpPr/>
            <p:nvPr/>
          </p:nvSpPr>
          <p:spPr>
            <a:xfrm>
              <a:off x="4257720" y="6068880"/>
              <a:ext cx="75960" cy="7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Oval 63"/>
            <p:cNvSpPr/>
            <p:nvPr/>
          </p:nvSpPr>
          <p:spPr>
            <a:xfrm>
              <a:off x="3951360" y="6045120"/>
              <a:ext cx="75960" cy="7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B834-D132-4531-8117-F4B0EBE73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-Cit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ternate citation-based measure of similarity introduced by Small in 197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documents that cite bo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 want to normalize by total number of documents citing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Group 72"/>
          <p:cNvGrpSpPr/>
          <p:nvPr/>
        </p:nvGrpSpPr>
        <p:grpSpPr>
          <a:xfrm>
            <a:off x="3219480" y="4200480"/>
            <a:ext cx="2286000" cy="1397880"/>
            <a:chOff x="3219480" y="4200480"/>
            <a:chExt cx="2286000" cy="1397880"/>
          </a:xfrm>
        </p:grpSpPr>
        <p:sp>
          <p:nvSpPr>
            <p:cNvPr id="551" name="Oval 5"/>
            <p:cNvSpPr/>
            <p:nvPr/>
          </p:nvSpPr>
          <p:spPr>
            <a:xfrm>
              <a:off x="3723480" y="5034600"/>
              <a:ext cx="516240" cy="563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Oval 19"/>
            <p:cNvSpPr/>
            <p:nvPr/>
          </p:nvSpPr>
          <p:spPr>
            <a:xfrm>
              <a:off x="4562280" y="5034600"/>
              <a:ext cx="494640" cy="563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Oval 42"/>
            <p:cNvSpPr/>
            <p:nvPr/>
          </p:nvSpPr>
          <p:spPr>
            <a:xfrm>
              <a:off x="3957840" y="4200480"/>
              <a:ext cx="809280" cy="5526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Oval 43"/>
            <p:cNvSpPr/>
            <p:nvPr/>
          </p:nvSpPr>
          <p:spPr>
            <a:xfrm>
              <a:off x="3495600" y="4438800"/>
              <a:ext cx="7632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44"/>
            <p:cNvSpPr/>
            <p:nvPr/>
          </p:nvSpPr>
          <p:spPr>
            <a:xfrm>
              <a:off x="3772080" y="4438800"/>
              <a:ext cx="7596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Oval 46"/>
            <p:cNvSpPr/>
            <p:nvPr/>
          </p:nvSpPr>
          <p:spPr>
            <a:xfrm>
              <a:off x="3219480" y="4438800"/>
              <a:ext cx="7632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Oval 53"/>
            <p:cNvSpPr/>
            <p:nvPr/>
          </p:nvSpPr>
          <p:spPr>
            <a:xfrm>
              <a:off x="4048200" y="4438800"/>
              <a:ext cx="7632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Oval 54"/>
            <p:cNvSpPr/>
            <p:nvPr/>
          </p:nvSpPr>
          <p:spPr>
            <a:xfrm>
              <a:off x="4324320" y="4438800"/>
              <a:ext cx="7632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55"/>
            <p:cNvSpPr/>
            <p:nvPr/>
          </p:nvSpPr>
          <p:spPr>
            <a:xfrm>
              <a:off x="4600440" y="4438800"/>
              <a:ext cx="7632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Oval 56"/>
            <p:cNvSpPr/>
            <p:nvPr/>
          </p:nvSpPr>
          <p:spPr>
            <a:xfrm>
              <a:off x="4876920" y="4438800"/>
              <a:ext cx="7596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Oval 57"/>
            <p:cNvSpPr/>
            <p:nvPr/>
          </p:nvSpPr>
          <p:spPr>
            <a:xfrm>
              <a:off x="5153040" y="4438800"/>
              <a:ext cx="7632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58"/>
            <p:cNvSpPr/>
            <p:nvPr/>
          </p:nvSpPr>
          <p:spPr>
            <a:xfrm>
              <a:off x="5429160" y="4438800"/>
              <a:ext cx="7632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59"/>
            <p:cNvSpPr/>
            <p:nvPr/>
          </p:nvSpPr>
          <p:spPr>
            <a:xfrm>
              <a:off x="3295800" y="4514760"/>
              <a:ext cx="476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60"/>
            <p:cNvSpPr/>
            <p:nvPr/>
          </p:nvSpPr>
          <p:spPr>
            <a:xfrm>
              <a:off x="3524400" y="4514760"/>
              <a:ext cx="3236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61"/>
            <p:cNvSpPr/>
            <p:nvPr/>
          </p:nvSpPr>
          <p:spPr>
            <a:xfrm>
              <a:off x="3828960" y="4438800"/>
              <a:ext cx="15264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62"/>
            <p:cNvSpPr/>
            <p:nvPr/>
          </p:nvSpPr>
          <p:spPr>
            <a:xfrm flipH="1">
              <a:off x="4114440" y="4514760"/>
              <a:ext cx="97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63"/>
            <p:cNvSpPr/>
            <p:nvPr/>
          </p:nvSpPr>
          <p:spPr>
            <a:xfrm>
              <a:off x="4124520" y="4514760"/>
              <a:ext cx="52380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64"/>
            <p:cNvSpPr/>
            <p:nvPr/>
          </p:nvSpPr>
          <p:spPr>
            <a:xfrm>
              <a:off x="4371840" y="4505400"/>
              <a:ext cx="35244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65"/>
            <p:cNvSpPr/>
            <p:nvPr/>
          </p:nvSpPr>
          <p:spPr>
            <a:xfrm>
              <a:off x="4648320" y="4524480"/>
              <a:ext cx="142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67"/>
            <p:cNvSpPr/>
            <p:nvPr/>
          </p:nvSpPr>
          <p:spPr>
            <a:xfrm flipH="1">
              <a:off x="4876920" y="4505400"/>
              <a:ext cx="4752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68"/>
            <p:cNvSpPr/>
            <p:nvPr/>
          </p:nvSpPr>
          <p:spPr>
            <a:xfrm flipH="1">
              <a:off x="4952880" y="4495680"/>
              <a:ext cx="2383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69"/>
            <p:cNvSpPr/>
            <p:nvPr/>
          </p:nvSpPr>
          <p:spPr>
            <a:xfrm flipH="1">
              <a:off x="5010120" y="4495680"/>
              <a:ext cx="44784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70"/>
            <p:cNvSpPr/>
            <p:nvPr/>
          </p:nvSpPr>
          <p:spPr>
            <a:xfrm flipH="1">
              <a:off x="4152960" y="4495680"/>
              <a:ext cx="20016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71"/>
            <p:cNvSpPr/>
            <p:nvPr/>
          </p:nvSpPr>
          <p:spPr>
            <a:xfrm flipH="1">
              <a:off x="4190760" y="4486320"/>
              <a:ext cx="43812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B85B-365C-40FA-9522-7862AA5F0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itations vs. Lin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links are a bit different than cit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any links are navigational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any pages with high in-degree are portals not content provider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t all links are endorsement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mpany websites don’t point to their competitor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itations to relevant literature is enforced by peer-review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8159-A5D4-4FCA-A6BE-E5DD62157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uthor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horiti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pages that are recognized as providing significant, trustworthy, and useful information on a top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-deg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umber of pointers to a page) is one simple measure of author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 in-degree treats all links as eq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links from pages that are themselves authoritative count mo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mooney</cp:lastModifiedBy>
  <dcterms:modified xsi:type="dcterms:W3CDTF">2015-10-23T19:54:26Z</dcterms:modified>
  <cp:revision>96</cp:revision>
  <dc:subject/>
  <dc:title>Intelligent Information Retrieval and Web Search</dc:title>
</cp:coreProperties>
</file>