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C50E-D8A3-4C60-BEC5-5F3DE8546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FA15-445D-48AA-8253-269A0A3C5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4415-0484-4DA6-BAA0-BC3FAEBD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4CF0-A635-43AD-A7D9-27ED6602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8362A-9A7F-4D8C-894F-603C1F1E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867EC-7163-49AE-989C-658AF44C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C253-C6DB-4E09-863D-49BAE1E9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27BEA-0C1D-45DB-822B-0E7666F6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9E479-B56A-4F03-AE4B-AB4630E5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A2F0A-28A7-4E24-A044-4B289564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C6B7-DEBD-4860-9D5D-40611BD3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D78C9-43C7-418C-A7CA-FF622321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2003-A4EA-4CE8-9665-A8A5F086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19184-1EA6-4E2D-B188-E12E3B68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B36C-BCB1-4E83-A2BF-68CA1AA23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utexas.edu/users/mooney/ir-course/proj2/feedback-trace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3E8F-55E6-41BE-98BC-156E94B02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Query Operations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vance Feedback 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5992-DA99-4320-962D-C46621EF3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arison of Metho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, experimental results indicate no clear preference for any one of the specific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generally improve retrieval performance (recall &amp; precision) with feed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just let tunable constants equal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7902-F192-49A7-9628-8208CFA88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evance Feedback in Java VS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“Ide Regular”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ke with “-feedback” option, use “r” command to reformulate and redo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ample feedback tr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stored frequencies are not normalized (since normalization does not effect cosine similarity), must first divide all vectors by their maximum term frequ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0E49-3AC6-401E-99BF-7BF7B8665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Relevance Feedbac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onstruction, reformulated query will rank explicitly-marked relevant documents higher and explicitly-marked irrelevant documents l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should not get credit for improvement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s, since it was told their relev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achine learning, this error is called “testing on the training dat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should focus on generalizing 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-rated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6A87-35C0-4A2C-8379-7A0F3372F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air Evaluation of Relevance Feedbac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from the corpus any documents for which feedback was prov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recall/precision performance on the rem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idual col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d to complete corpus, specific recall/precision numbers may decrease since relevant documents were rem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formance on the residual collection provides fair data on the effectiveness of relevance feed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81B9-8864-4283-89C2-6FEDFD4C5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hy is Feedback Not Widely Us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sometimes reluctant to provide explicit feed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in long queries that require more computation to retrieve, and search engines process lots of queries and allow little time for each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it harder to understand why a particular document was retrie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2E89-9A7E-468A-BBE3-EDE4950E5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seudo Feedbac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levance feedback methods without explicit user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top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ieved documents are relevant, and use them to reformulate the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query expansion that includes terms that are correlated with the query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AFAF-71C8-4D7F-8EBA-B7E06A33A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seudo Feedback Architectur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103720" y="28195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k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C:\Program Files\MSOffice\Clipart\Popular\amconfus.wmf"/>
          <p:cNvPicPr/>
          <p:nvPr/>
        </p:nvPicPr>
        <p:blipFill>
          <a:blip r:embed="rId1"/>
          <a:stretch/>
        </p:blipFill>
        <p:spPr>
          <a:xfrm>
            <a:off x="228600" y="2971800"/>
            <a:ext cx="932040" cy="20048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3962520" y="2819520"/>
            <a:ext cx="2057400" cy="106668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4114800" y="1447920"/>
            <a:ext cx="167652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49528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c:\Program Files\Common Files\Microsoft Shared\Clipart\cagcat50\bs00554_.wmf"/>
          <p:cNvPicPr/>
          <p:nvPr/>
        </p:nvPicPr>
        <p:blipFill>
          <a:blip r:embed="rId2"/>
          <a:stretch/>
        </p:blipFill>
        <p:spPr>
          <a:xfrm>
            <a:off x="5867280" y="1447920"/>
            <a:ext cx="997200" cy="86976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9"/>
          <p:cNvGrpSpPr/>
          <p:nvPr/>
        </p:nvGrpSpPr>
        <p:grpSpPr>
          <a:xfrm>
            <a:off x="4114800" y="3886200"/>
            <a:ext cx="3124080" cy="1906200"/>
            <a:chOff x="4114800" y="3886200"/>
            <a:chExt cx="3124080" cy="1906200"/>
          </a:xfrm>
        </p:grpSpPr>
        <p:sp>
          <p:nvSpPr>
            <p:cNvPr id="152" name="Oval 10"/>
            <p:cNvSpPr/>
            <p:nvPr/>
          </p:nvSpPr>
          <p:spPr>
            <a:xfrm>
              <a:off x="4114800" y="4343400"/>
              <a:ext cx="1752480" cy="990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>
              <a:off x="4952880" y="3886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Group 12"/>
            <p:cNvGrpSpPr/>
            <p:nvPr/>
          </p:nvGrpSpPr>
          <p:grpSpPr>
            <a:xfrm>
              <a:off x="6019920" y="4419720"/>
              <a:ext cx="1218960" cy="1372680"/>
              <a:chOff x="6019920" y="4419720"/>
              <a:chExt cx="1218960" cy="1372680"/>
            </a:xfrm>
          </p:grpSpPr>
          <p:sp>
            <p:nvSpPr>
              <p:cNvPr id="155" name="Rectangle 13"/>
              <p:cNvSpPr/>
              <p:nvPr/>
            </p:nvSpPr>
            <p:spPr>
              <a:xfrm>
                <a:off x="6019920" y="4419720"/>
                <a:ext cx="121896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14"/>
              <p:cNvSpPr/>
              <p:nvPr/>
            </p:nvSpPr>
            <p:spPr>
              <a:xfrm>
                <a:off x="6156360" y="4481640"/>
                <a:ext cx="8773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. Doc1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. Doc2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 Doc3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Group 15"/>
          <p:cNvGrpSpPr/>
          <p:nvPr/>
        </p:nvGrpSpPr>
        <p:grpSpPr>
          <a:xfrm>
            <a:off x="1523880" y="1523880"/>
            <a:ext cx="2438280" cy="1295640"/>
            <a:chOff x="1523880" y="1523880"/>
            <a:chExt cx="2438280" cy="1295640"/>
          </a:xfrm>
        </p:grpSpPr>
        <p:sp>
          <p:nvSpPr>
            <p:cNvPr id="158" name="AutoShape 16"/>
            <p:cNvSpPr/>
            <p:nvPr/>
          </p:nvSpPr>
          <p:spPr>
            <a:xfrm>
              <a:off x="1523880" y="1523880"/>
              <a:ext cx="1480320" cy="914400"/>
            </a:xfrm>
            <a:prstGeom prst="wedgeRoundRectCallout">
              <a:avLst>
                <a:gd name="adj1" fmla="val -123282"/>
                <a:gd name="adj2" fmla="val 122916"/>
                <a:gd name="adj3" fmla="val 16667"/>
              </a:avLst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7"/>
            <p:cNvSpPr/>
            <p:nvPr/>
          </p:nvSpPr>
          <p:spPr>
            <a:xfrm>
              <a:off x="1697760" y="1600200"/>
              <a:ext cx="1081440" cy="825480"/>
            </a:xfrm>
            <a:prstGeom prst="rect">
              <a:avLst/>
            </a:prstGeom>
            <a:solidFill>
              <a:srgbClr val="11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ry St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>
              <a:off x="3004200" y="1981080"/>
              <a:ext cx="95796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9"/>
          <p:cNvGrpSpPr/>
          <p:nvPr/>
        </p:nvGrpSpPr>
        <p:grpSpPr>
          <a:xfrm>
            <a:off x="1676520" y="2653560"/>
            <a:ext cx="1733040" cy="1537200"/>
            <a:chOff x="1676520" y="2653560"/>
            <a:chExt cx="1733040" cy="1537200"/>
          </a:xfrm>
        </p:grpSpPr>
        <p:sp>
          <p:nvSpPr>
            <p:cNvPr id="162" name="Oval 20"/>
            <p:cNvSpPr/>
            <p:nvPr/>
          </p:nvSpPr>
          <p:spPr>
            <a:xfrm>
              <a:off x="1676520" y="2653560"/>
              <a:ext cx="1733040" cy="1166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vi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 flipV="1">
              <a:off x="2595600" y="380952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Line 22"/>
          <p:cNvSpPr/>
          <p:nvPr/>
        </p:nvSpPr>
        <p:spPr>
          <a:xfrm>
            <a:off x="3352680" y="3276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23"/>
          <p:cNvGrpSpPr/>
          <p:nvPr/>
        </p:nvGrpSpPr>
        <p:grpSpPr>
          <a:xfrm>
            <a:off x="6095880" y="2819520"/>
            <a:ext cx="2819520" cy="2439360"/>
            <a:chOff x="6095880" y="2819520"/>
            <a:chExt cx="2819520" cy="2439360"/>
          </a:xfrm>
        </p:grpSpPr>
        <p:sp>
          <p:nvSpPr>
            <p:cNvPr id="166" name="Oval 24"/>
            <p:cNvSpPr/>
            <p:nvPr/>
          </p:nvSpPr>
          <p:spPr>
            <a:xfrm>
              <a:off x="7162920" y="2819520"/>
              <a:ext cx="1752480" cy="99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Ran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Group 25"/>
            <p:cNvGrpSpPr/>
            <p:nvPr/>
          </p:nvGrpSpPr>
          <p:grpSpPr>
            <a:xfrm>
              <a:off x="7696080" y="3886200"/>
              <a:ext cx="1219320" cy="1372680"/>
              <a:chOff x="7696080" y="3886200"/>
              <a:chExt cx="1219320" cy="1372680"/>
            </a:xfrm>
          </p:grpSpPr>
          <p:sp>
            <p:nvSpPr>
              <p:cNvPr id="168" name="Rectangle 26"/>
              <p:cNvSpPr/>
              <p:nvPr/>
            </p:nvSpPr>
            <p:spPr>
              <a:xfrm>
                <a:off x="7696080" y="3886200"/>
                <a:ext cx="121932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Text Box 27"/>
              <p:cNvSpPr/>
              <p:nvPr/>
            </p:nvSpPr>
            <p:spPr>
              <a:xfrm>
                <a:off x="7832880" y="3948120"/>
                <a:ext cx="8776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. Doc2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. Doc4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 Doc5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Line 28"/>
            <p:cNvSpPr/>
            <p:nvPr/>
          </p:nvSpPr>
          <p:spPr>
            <a:xfrm>
              <a:off x="6095880" y="3276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29"/>
          <p:cNvGrpSpPr/>
          <p:nvPr/>
        </p:nvGrpSpPr>
        <p:grpSpPr>
          <a:xfrm>
            <a:off x="1600200" y="2362320"/>
            <a:ext cx="2514600" cy="3428640"/>
            <a:chOff x="1600200" y="2362320"/>
            <a:chExt cx="2514600" cy="3428640"/>
          </a:xfrm>
        </p:grpSpPr>
        <p:grpSp>
          <p:nvGrpSpPr>
            <p:cNvPr id="172" name="Group 30"/>
            <p:cNvGrpSpPr/>
            <p:nvPr/>
          </p:nvGrpSpPr>
          <p:grpSpPr>
            <a:xfrm>
              <a:off x="1749240" y="4191120"/>
              <a:ext cx="1962360" cy="914400"/>
              <a:chOff x="1749240" y="4191120"/>
              <a:chExt cx="1962360" cy="914400"/>
            </a:xfrm>
          </p:grpSpPr>
          <p:sp>
            <p:nvSpPr>
              <p:cNvPr id="173" name="Rectangle 31"/>
              <p:cNvSpPr/>
              <p:nvPr/>
            </p:nvSpPr>
            <p:spPr>
              <a:xfrm>
                <a:off x="1823760" y="4191120"/>
                <a:ext cx="1828800" cy="9144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32"/>
              <p:cNvSpPr/>
              <p:nvPr/>
            </p:nvSpPr>
            <p:spPr>
              <a:xfrm>
                <a:off x="1749240" y="4218120"/>
                <a:ext cx="1962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formul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Line 33"/>
            <p:cNvSpPr/>
            <p:nvPr/>
          </p:nvSpPr>
          <p:spPr>
            <a:xfrm flipV="1">
              <a:off x="2438280" y="5105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H="1" flipV="1">
              <a:off x="3657600" y="4647960"/>
              <a:ext cx="4572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35"/>
            <p:cNvGrpSpPr/>
            <p:nvPr/>
          </p:nvGrpSpPr>
          <p:grpSpPr>
            <a:xfrm>
              <a:off x="1600200" y="2362320"/>
              <a:ext cx="228600" cy="2286000"/>
              <a:chOff x="1600200" y="2362320"/>
              <a:chExt cx="228600" cy="2286000"/>
            </a:xfrm>
          </p:grpSpPr>
          <p:sp>
            <p:nvSpPr>
              <p:cNvPr id="178" name="Line 36"/>
              <p:cNvSpPr/>
              <p:nvPr/>
            </p:nvSpPr>
            <p:spPr>
              <a:xfrm>
                <a:off x="1600200" y="2362320"/>
                <a:ext cx="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37"/>
              <p:cNvSpPr/>
              <p:nvPr/>
            </p:nvSpPr>
            <p:spPr>
              <a:xfrm>
                <a:off x="1600200" y="46483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Group 38"/>
          <p:cNvGrpSpPr/>
          <p:nvPr/>
        </p:nvGrpSpPr>
        <p:grpSpPr>
          <a:xfrm>
            <a:off x="1066680" y="5181480"/>
            <a:ext cx="3487320" cy="1717200"/>
            <a:chOff x="1066680" y="5181480"/>
            <a:chExt cx="3487320" cy="1717200"/>
          </a:xfrm>
        </p:grpSpPr>
        <p:grpSp>
          <p:nvGrpSpPr>
            <p:cNvPr id="181" name="Group 39"/>
            <p:cNvGrpSpPr/>
            <p:nvPr/>
          </p:nvGrpSpPr>
          <p:grpSpPr>
            <a:xfrm>
              <a:off x="2593080" y="5181480"/>
              <a:ext cx="1960920" cy="1447920"/>
              <a:chOff x="2593080" y="5181480"/>
              <a:chExt cx="1960920" cy="1447920"/>
            </a:xfrm>
          </p:grpSpPr>
          <p:sp>
            <p:nvSpPr>
              <p:cNvPr id="182" name="Rectangle 40"/>
              <p:cNvSpPr/>
              <p:nvPr/>
            </p:nvSpPr>
            <p:spPr>
              <a:xfrm>
                <a:off x="3048120" y="5181480"/>
                <a:ext cx="1218960" cy="144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Text Box 41"/>
              <p:cNvSpPr/>
              <p:nvPr/>
            </p:nvSpPr>
            <p:spPr>
              <a:xfrm>
                <a:off x="2593080" y="5257800"/>
                <a:ext cx="19609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. Doc1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. Doc2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 Doc3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Oval 42"/>
            <p:cNvSpPr/>
            <p:nvPr/>
          </p:nvSpPr>
          <p:spPr>
            <a:xfrm>
              <a:off x="1066680" y="5214960"/>
              <a:ext cx="1905120" cy="168372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eu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CA65-50F5-41C0-A384-F759E7795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seudoFeedback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 to improve performance on TREC competition ad-hoc retrieval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even better if top documents must also satisfy additional boolean constraints in order to be used in feed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9BF5-E48C-45F7-AEA4-9F017AD48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sauru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saurus provides information on synonyms and semantically related words and phr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hysic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n: ||croaker, doc, doctor, MD, medical, mediciner, medico, ||sawb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l: medic, general practitioner, surge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98CD-E9B5-45DB-96BF-D9EB591DB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saurus-based Query Expan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term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n a query, expand the query with synonyms and related word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thesaur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weight added terms less than original query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increases re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significantly decrease precision, particularly with ambiguous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terest rate”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“interest rate fascinate evaluate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E652-4DAD-4846-A6D2-11361E5B6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evance Feedbac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initial retrieval results are presented, allow the user to provide feedback on the relevance of one or more of the retrieved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is feedback information to reformulate the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 new results based on reformulated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more interactive, multi-pass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6F3A-F9D0-4074-A31C-9A37AA805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Ne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re detailed database of semantic relationships between English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by famous cognitive psychologist George Miller and a team at Princeton Univer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144,000 English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ns, adjectives, verbs, and adverbs grouped into about 109,000 synonym sets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ns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ED78-7A51-4573-A865-5864B19FD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Net Synset Relationship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nton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ro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enevole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ood (noun to adje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ertain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phabetica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phabet (adjective to no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imi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nquestion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so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ki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ntail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rea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h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Holon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hap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xt (part to wh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Meron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ompu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pu (whole to pa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Hypony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ee (special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Hyperny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uit (general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7E5C-9C62-489D-BB52-048AB66AC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Net Query Expan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synonyms in the same syn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 hyponyms to add specialized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hypernyms to generalize a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other related terms to expand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C5D0-1C28-48D7-B488-686EF3B88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istical Thesauru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ing human-developed thesauri are not easily available in all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thesuari are limited in the type and range of synonymy and semantic relations they repre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ally related terms can be discovered from statistical analysis of corp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0F42-BF4A-4FC2-AC82-961B4CDC2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utomatic Global Analysi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erm similarity through a pre-computed statistical analysis of the complete corp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association matrices which quantify term correlations in terms of how frequently they co-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 queries with statistically most similar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16AF-B3D5-4981-A7E7-D88BD4B40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ssociation Matrix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212" name="Group 11"/>
          <p:cNvGrpSpPr/>
          <p:nvPr/>
        </p:nvGrpSpPr>
        <p:grpSpPr>
          <a:xfrm>
            <a:off x="2289960" y="1371600"/>
            <a:ext cx="4029840" cy="2409840"/>
            <a:chOff x="2289960" y="1371600"/>
            <a:chExt cx="4029840" cy="2409840"/>
          </a:xfrm>
        </p:grpSpPr>
        <p:sp>
          <p:nvSpPr>
            <p:cNvPr id="213" name="Rectangle 4"/>
            <p:cNvSpPr/>
            <p:nvPr/>
          </p:nvSpPr>
          <p:spPr>
            <a:xfrm>
              <a:off x="2814840" y="1752840"/>
              <a:ext cx="3504960" cy="19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5"/>
            <p:cNvSpPr/>
            <p:nvPr/>
          </p:nvSpPr>
          <p:spPr>
            <a:xfrm>
              <a:off x="2829600" y="1371600"/>
              <a:ext cx="34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…………………..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6"/>
            <p:cNvSpPr/>
            <p:nvPr/>
          </p:nvSpPr>
          <p:spPr>
            <a:xfrm>
              <a:off x="2289960" y="1690920"/>
              <a:ext cx="439560" cy="20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7"/>
            <p:cNvSpPr/>
            <p:nvPr/>
          </p:nvSpPr>
          <p:spPr>
            <a:xfrm>
              <a:off x="2919240" y="1676520"/>
              <a:ext cx="3267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………………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2898720" y="1981440"/>
              <a:ext cx="442800" cy="17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n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9"/>
          <p:cNvSpPr/>
          <p:nvPr/>
        </p:nvSpPr>
        <p:spPr>
          <a:xfrm>
            <a:off x="1714320" y="3886200"/>
            <a:ext cx="596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rrelation factor between term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 i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d term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2"/>
              <p:cNvSpPr txBox="1"/>
              <p:nvPr/>
            </p:nvSpPr>
            <p:spPr>
              <a:xfrm>
                <a:off x="2362320" y="4419720"/>
                <a:ext cx="21333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0" name="Text Box 13"/>
          <p:cNvSpPr/>
          <p:nvPr/>
        </p:nvSpPr>
        <p:spPr>
          <a:xfrm>
            <a:off x="2292480" y="5181480"/>
            <a:ext cx="492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requency of term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in document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149A-1836-4D04-AA66-590E856BF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rmalized Association Matrix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based correlation factor favors more frequent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e association sco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ed score is 1 if two terms have the same frequency in all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3429000" y="2971800"/>
                <a:ext cx="19684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71F2-AF38-4716-B154-F8DF0665B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tric Correlation Matrix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on correlation does not account for the proximity of terms in documents, just co-occurrence frequencies within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ric correlations account for term proxim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2730600" y="4038480"/>
                <a:ext cx="27702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9" name="Text Box 5"/>
          <p:cNvSpPr/>
          <p:nvPr/>
        </p:nvSpPr>
        <p:spPr>
          <a:xfrm>
            <a:off x="780120" y="4952880"/>
            <a:ext cx="7819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t of all occurrences of term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in any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u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,k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istance in words between word occurrences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6600"/>
                </a:solidFill>
                <a:latin typeface="Times New Roman"/>
              </a:rPr>
              <a:t>u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66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f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u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d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k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re occurrences in different documents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4D16-EB79-443A-BD50-7CB2EAA65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rmalized Metric Correlation Matrix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e scores to account for term frequ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3200400" y="2438280"/>
                <a:ext cx="16318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×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7D8A-70A0-44AF-B899-9BDACB66E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ery Expansion with Correlation Matrix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query, expand query with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erm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th the highest valu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dds semantically related terms in the “neighborhood” of the query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5D23-96C0-4855-8B4D-EABD7F4E9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evance Feedback Architectur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103720" y="28195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k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6" descr="C:\Program Files\MSOffice\Clipart\Popular\amconfus.wmf"/>
          <p:cNvPicPr/>
          <p:nvPr/>
        </p:nvPicPr>
        <p:blipFill>
          <a:blip r:embed="rId1"/>
          <a:stretch/>
        </p:blipFill>
        <p:spPr>
          <a:xfrm>
            <a:off x="228600" y="2971800"/>
            <a:ext cx="932040" cy="2004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7"/>
          <p:cNvSpPr/>
          <p:nvPr/>
        </p:nvSpPr>
        <p:spPr>
          <a:xfrm>
            <a:off x="3962520" y="2819520"/>
            <a:ext cx="2057400" cy="106668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4114800" y="1447920"/>
            <a:ext cx="167652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49528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5" descr="c:\Program Files\Common Files\Microsoft Shared\Clipart\cagcat50\bs00554_.wmf"/>
          <p:cNvPicPr/>
          <p:nvPr/>
        </p:nvPicPr>
        <p:blipFill>
          <a:blip r:embed="rId2"/>
          <a:stretch/>
        </p:blipFill>
        <p:spPr>
          <a:xfrm>
            <a:off x="5867280" y="1447920"/>
            <a:ext cx="997200" cy="86976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5"/>
          <p:cNvGrpSpPr/>
          <p:nvPr/>
        </p:nvGrpSpPr>
        <p:grpSpPr>
          <a:xfrm>
            <a:off x="4114800" y="3886200"/>
            <a:ext cx="3124080" cy="1906200"/>
            <a:chOff x="4114800" y="3886200"/>
            <a:chExt cx="3124080" cy="1906200"/>
          </a:xfrm>
        </p:grpSpPr>
        <p:sp>
          <p:nvSpPr>
            <p:cNvPr id="64" name="Oval 27"/>
            <p:cNvSpPr/>
            <p:nvPr/>
          </p:nvSpPr>
          <p:spPr>
            <a:xfrm>
              <a:off x="4114800" y="4343400"/>
              <a:ext cx="1752480" cy="990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>
              <a:off x="4952880" y="3886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40"/>
            <p:cNvGrpSpPr/>
            <p:nvPr/>
          </p:nvGrpSpPr>
          <p:grpSpPr>
            <a:xfrm>
              <a:off x="6019920" y="4419720"/>
              <a:ext cx="1218960" cy="1372680"/>
              <a:chOff x="6019920" y="4419720"/>
              <a:chExt cx="1218960" cy="1372680"/>
            </a:xfrm>
          </p:grpSpPr>
          <p:sp>
            <p:nvSpPr>
              <p:cNvPr id="67" name="Rectangle 29"/>
              <p:cNvSpPr/>
              <p:nvPr/>
            </p:nvSpPr>
            <p:spPr>
              <a:xfrm>
                <a:off x="6019920" y="4419720"/>
                <a:ext cx="121896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Text Box 30"/>
              <p:cNvSpPr/>
              <p:nvPr/>
            </p:nvSpPr>
            <p:spPr>
              <a:xfrm>
                <a:off x="6156360" y="4481640"/>
                <a:ext cx="8773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. Doc1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. Doc2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 Doc3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" name="Group 58"/>
          <p:cNvGrpSpPr/>
          <p:nvPr/>
        </p:nvGrpSpPr>
        <p:grpSpPr>
          <a:xfrm>
            <a:off x="1066680" y="5181480"/>
            <a:ext cx="3258720" cy="1447920"/>
            <a:chOff x="1066680" y="5181480"/>
            <a:chExt cx="3258720" cy="1447920"/>
          </a:xfrm>
        </p:grpSpPr>
        <p:grpSp>
          <p:nvGrpSpPr>
            <p:cNvPr id="70" name="Group 41"/>
            <p:cNvGrpSpPr/>
            <p:nvPr/>
          </p:nvGrpSpPr>
          <p:grpSpPr>
            <a:xfrm>
              <a:off x="2364480" y="5181480"/>
              <a:ext cx="1960920" cy="1447920"/>
              <a:chOff x="2364480" y="5181480"/>
              <a:chExt cx="1960920" cy="1447920"/>
            </a:xfrm>
          </p:grpSpPr>
          <p:sp>
            <p:nvSpPr>
              <p:cNvPr id="71" name="Rectangle 31"/>
              <p:cNvSpPr/>
              <p:nvPr/>
            </p:nvSpPr>
            <p:spPr>
              <a:xfrm>
                <a:off x="2819520" y="5181480"/>
                <a:ext cx="1218960" cy="144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Text Box 32"/>
              <p:cNvSpPr/>
              <p:nvPr/>
            </p:nvSpPr>
            <p:spPr>
              <a:xfrm>
                <a:off x="2364480" y="5257800"/>
                <a:ext cx="19609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. Doc1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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. Doc2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 Doc3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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57"/>
            <p:cNvGrpSpPr/>
            <p:nvPr/>
          </p:nvGrpSpPr>
          <p:grpSpPr>
            <a:xfrm>
              <a:off x="1066680" y="5791320"/>
              <a:ext cx="1676520" cy="685800"/>
              <a:chOff x="1066680" y="5791320"/>
              <a:chExt cx="1676520" cy="685800"/>
            </a:xfrm>
          </p:grpSpPr>
          <p:sp>
            <p:nvSpPr>
              <p:cNvPr id="74" name="AutoShape 44"/>
              <p:cNvSpPr/>
              <p:nvPr/>
            </p:nvSpPr>
            <p:spPr>
              <a:xfrm>
                <a:off x="1066680" y="5791320"/>
                <a:ext cx="1676520" cy="685800"/>
              </a:xfrm>
              <a:prstGeom prst="wedgeRoundRectCallout">
                <a:avLst>
                  <a:gd name="adj1" fmla="val -53407"/>
                  <a:gd name="adj2" fmla="val -318055"/>
                  <a:gd name="adj3" fmla="val 16667"/>
                </a:avLst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45"/>
              <p:cNvSpPr/>
              <p:nvPr/>
            </p:nvSpPr>
            <p:spPr>
              <a:xfrm>
                <a:off x="1218600" y="5867280"/>
                <a:ext cx="134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eedba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Group 54"/>
          <p:cNvGrpSpPr/>
          <p:nvPr/>
        </p:nvGrpSpPr>
        <p:grpSpPr>
          <a:xfrm>
            <a:off x="1523880" y="1523880"/>
            <a:ext cx="2438280" cy="1295640"/>
            <a:chOff x="1523880" y="1523880"/>
            <a:chExt cx="2438280" cy="1295640"/>
          </a:xfrm>
        </p:grpSpPr>
        <p:sp>
          <p:nvSpPr>
            <p:cNvPr id="77" name="AutoShape 19"/>
            <p:cNvSpPr/>
            <p:nvPr/>
          </p:nvSpPr>
          <p:spPr>
            <a:xfrm>
              <a:off x="1523880" y="1523880"/>
              <a:ext cx="1480320" cy="914400"/>
            </a:xfrm>
            <a:prstGeom prst="wedgeRoundRectCallout">
              <a:avLst>
                <a:gd name="adj1" fmla="val -123282"/>
                <a:gd name="adj2" fmla="val 122916"/>
                <a:gd name="adj3" fmla="val 16667"/>
              </a:avLst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20"/>
            <p:cNvSpPr/>
            <p:nvPr/>
          </p:nvSpPr>
          <p:spPr>
            <a:xfrm>
              <a:off x="1697760" y="1600200"/>
              <a:ext cx="1081440" cy="825480"/>
            </a:xfrm>
            <a:prstGeom prst="rect">
              <a:avLst/>
            </a:prstGeom>
            <a:solidFill>
              <a:srgbClr val="11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ry St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50"/>
            <p:cNvSpPr/>
            <p:nvPr/>
          </p:nvSpPr>
          <p:spPr>
            <a:xfrm>
              <a:off x="3004200" y="1981080"/>
              <a:ext cx="95796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75"/>
          <p:cNvGrpSpPr/>
          <p:nvPr/>
        </p:nvGrpSpPr>
        <p:grpSpPr>
          <a:xfrm>
            <a:off x="1676520" y="2653560"/>
            <a:ext cx="1657080" cy="1537200"/>
            <a:chOff x="1676520" y="2653560"/>
            <a:chExt cx="1657080" cy="1537200"/>
          </a:xfrm>
        </p:grpSpPr>
        <p:sp>
          <p:nvSpPr>
            <p:cNvPr id="81" name="Oval 47"/>
            <p:cNvSpPr/>
            <p:nvPr/>
          </p:nvSpPr>
          <p:spPr>
            <a:xfrm>
              <a:off x="1676520" y="2653560"/>
              <a:ext cx="1657080" cy="1166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vi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49"/>
            <p:cNvSpPr/>
            <p:nvPr/>
          </p:nvSpPr>
          <p:spPr>
            <a:xfrm flipV="1">
              <a:off x="2590920" y="380952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Line 51"/>
          <p:cNvSpPr/>
          <p:nvPr/>
        </p:nvSpPr>
        <p:spPr>
          <a:xfrm>
            <a:off x="3352680" y="3276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9"/>
          <p:cNvGrpSpPr/>
          <p:nvPr/>
        </p:nvGrpSpPr>
        <p:grpSpPr>
          <a:xfrm>
            <a:off x="6095880" y="2819520"/>
            <a:ext cx="2819520" cy="2439360"/>
            <a:chOff x="6095880" y="2819520"/>
            <a:chExt cx="2819520" cy="2439360"/>
          </a:xfrm>
        </p:grpSpPr>
        <p:sp>
          <p:nvSpPr>
            <p:cNvPr id="85" name="Oval 63"/>
            <p:cNvSpPr/>
            <p:nvPr/>
          </p:nvSpPr>
          <p:spPr>
            <a:xfrm>
              <a:off x="7162920" y="2819520"/>
              <a:ext cx="1752480" cy="99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Ran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Group 65"/>
            <p:cNvGrpSpPr/>
            <p:nvPr/>
          </p:nvGrpSpPr>
          <p:grpSpPr>
            <a:xfrm>
              <a:off x="7696080" y="3886200"/>
              <a:ext cx="1219320" cy="1372680"/>
              <a:chOff x="7696080" y="3886200"/>
              <a:chExt cx="1219320" cy="1372680"/>
            </a:xfrm>
          </p:grpSpPr>
          <p:sp>
            <p:nvSpPr>
              <p:cNvPr id="87" name="Rectangle 66"/>
              <p:cNvSpPr/>
              <p:nvPr/>
            </p:nvSpPr>
            <p:spPr>
              <a:xfrm>
                <a:off x="7696080" y="3886200"/>
                <a:ext cx="121932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 Box 67"/>
              <p:cNvSpPr/>
              <p:nvPr/>
            </p:nvSpPr>
            <p:spPr>
              <a:xfrm>
                <a:off x="7832880" y="3948120"/>
                <a:ext cx="8776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. Doc2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. Doc4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 Doc5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Line 68"/>
            <p:cNvSpPr/>
            <p:nvPr/>
          </p:nvSpPr>
          <p:spPr>
            <a:xfrm>
              <a:off x="6095880" y="3276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74"/>
          <p:cNvGrpSpPr/>
          <p:nvPr/>
        </p:nvGrpSpPr>
        <p:grpSpPr>
          <a:xfrm>
            <a:off x="1600200" y="2362320"/>
            <a:ext cx="2514600" cy="3428640"/>
            <a:chOff x="1600200" y="2362320"/>
            <a:chExt cx="2514600" cy="3428640"/>
          </a:xfrm>
        </p:grpSpPr>
        <p:grpSp>
          <p:nvGrpSpPr>
            <p:cNvPr id="91" name="Group 43"/>
            <p:cNvGrpSpPr/>
            <p:nvPr/>
          </p:nvGrpSpPr>
          <p:grpSpPr>
            <a:xfrm>
              <a:off x="1749240" y="4191120"/>
              <a:ext cx="1962360" cy="914400"/>
              <a:chOff x="1749240" y="4191120"/>
              <a:chExt cx="1962360" cy="914400"/>
            </a:xfrm>
          </p:grpSpPr>
          <p:sp>
            <p:nvSpPr>
              <p:cNvPr id="92" name="Rectangle 39"/>
              <p:cNvSpPr/>
              <p:nvPr/>
            </p:nvSpPr>
            <p:spPr>
              <a:xfrm>
                <a:off x="1823760" y="4191120"/>
                <a:ext cx="1828800" cy="9144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 Box 38"/>
              <p:cNvSpPr/>
              <p:nvPr/>
            </p:nvSpPr>
            <p:spPr>
              <a:xfrm>
                <a:off x="1749240" y="4218120"/>
                <a:ext cx="1962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formul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Line 46"/>
            <p:cNvSpPr/>
            <p:nvPr/>
          </p:nvSpPr>
          <p:spPr>
            <a:xfrm flipV="1">
              <a:off x="2438280" y="5105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53"/>
            <p:cNvSpPr/>
            <p:nvPr/>
          </p:nvSpPr>
          <p:spPr>
            <a:xfrm flipH="1" flipV="1">
              <a:off x="3657600" y="4647960"/>
              <a:ext cx="4572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73"/>
            <p:cNvGrpSpPr/>
            <p:nvPr/>
          </p:nvGrpSpPr>
          <p:grpSpPr>
            <a:xfrm>
              <a:off x="1600200" y="2362320"/>
              <a:ext cx="228600" cy="2286000"/>
              <a:chOff x="1600200" y="2362320"/>
              <a:chExt cx="228600" cy="2286000"/>
            </a:xfrm>
          </p:grpSpPr>
          <p:sp>
            <p:nvSpPr>
              <p:cNvPr id="97" name="Line 70"/>
              <p:cNvSpPr/>
              <p:nvPr/>
            </p:nvSpPr>
            <p:spPr>
              <a:xfrm>
                <a:off x="1600200" y="2362320"/>
                <a:ext cx="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71"/>
              <p:cNvSpPr/>
              <p:nvPr/>
            </p:nvSpPr>
            <p:spPr>
              <a:xfrm>
                <a:off x="1600200" y="46483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B878-C6B1-48D6-97B5-2E64C3462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lems with Global Analysi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 ambiguity may introduce irrelevant statistically correlated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pple computer”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“Apple red fruit computer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erms are highly correlated anyway, expansion may not retrieve many additional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5473-1B8C-451D-970F-2F8E498C7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utomatic Local Analysi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query time, dynamically determine similar terms based on analysis of top-ranked retrieved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orrelation analysis on only the “local” set of retrieved documents for a specific 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s ambiguity by determining similar (correlated) terms only within relevant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pple computer”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“Apple computer Macbook laptop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D78E-CD60-41B9-80F5-14F3A2A77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lobal vs. Local Analysi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nalysis requires intensive term correlation computation only once at system development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analysis requires intensive term correlation computation for every query at run time (although number of terms and documents is less than in global analysi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local analysis gives better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113C-D432-4FBD-A4CE-33CF83D9B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lobal Analysis Refine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expand query with terms that are similar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rms in the 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ruit” not added to “Apple computer” since it is far from “computer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ruit” added to “apple pie” since “fruit” close to both “apple” and “pie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ore sophisticated term weights (instead of just frequency) when computing term corre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4"/>
              <p:cNvSpPr txBox="1"/>
              <p:nvPr/>
            </p:nvSpPr>
            <p:spPr>
              <a:xfrm>
                <a:off x="3048120" y="2438280"/>
                <a:ext cx="24382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87BC-A834-4801-B9A5-5759195C0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ery Expansion 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sion of queries with related terms can improve performance, particularly rec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must select similar terms very carefully to avoid problems, such as loss of prec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4369-6252-4EB7-BE06-542F95286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ery Reformul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e query to account for feedba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uery Expans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Add new terms to query from relevant document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erm Reweighting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Increase weight of terms in relevant documents and decrease weight of terms in irrelevant document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algorithms for query reform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DC39-45D5-4A37-81EE-E027EF865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ery Reformulation for VS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query vector using vector algeb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vectors for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ev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cuments to the query v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vectors for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rreleva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s from the query v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both adds both positive and negatively weighted terms to the query as well as reweighting the initial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D053-0AA1-403D-BF2C-8C8CC2375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ptimal Que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the relevant set of docum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kn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the best query that ranks all and only the relevant queries at the top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1676520" y="3809880"/>
                <a:ext cx="57909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∉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9" name="Text Box 5"/>
          <p:cNvSpPr/>
          <p:nvPr/>
        </p:nvSpPr>
        <p:spPr>
          <a:xfrm>
            <a:off x="1478160" y="5410080"/>
            <a:ext cx="62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otal number of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0E48-9AA0-441B-942D-EE08C81D6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ndard Rochio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all relevant documents unknown, just use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van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irrelevan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ets of documents and include the initial qu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1600200" y="3429000"/>
                <a:ext cx="58960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4" name="Text Box 5"/>
          <p:cNvSpPr/>
          <p:nvPr/>
        </p:nvSpPr>
        <p:spPr>
          <a:xfrm>
            <a:off x="1593720" y="4800600"/>
            <a:ext cx="663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unable weight for initial 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unable weight for relevant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unable weight for irrelevant docu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A9C0-63F4-41DC-BE3E-3D6FD7FD4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de Regular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more feedback should perhaps increase the degree of reformulation, do not normalize for amount of feedba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2036880" y="3287880"/>
                <a:ext cx="50227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+</m:t>
                    </m:r>
                    <m:r>
                      <m:t xml:space="preserve">β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Text Box 5"/>
          <p:cNvSpPr/>
          <p:nvPr/>
        </p:nvSpPr>
        <p:spPr>
          <a:xfrm>
            <a:off x="1593720" y="4800600"/>
            <a:ext cx="663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unable weight for initial 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unable weight for relevant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unable weight for irrelevant docu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D339-0237-447C-95ED-4634F8042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de “Dec Hi”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as towards reject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ghest ranked of the irrelevant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1143000" y="2971800"/>
                <a:ext cx="68025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+</m:t>
                    </m:r>
                    <m:r>
                      <m:t xml:space="preserve">β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γ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elevan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 Box 5"/>
          <p:cNvSpPr/>
          <p:nvPr/>
        </p:nvSpPr>
        <p:spPr>
          <a:xfrm>
            <a:off x="1495440" y="4267080"/>
            <a:ext cx="650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unable weight for initial 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unable weight for relevant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unable weight for irrelevant docu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Mooney</cp:lastModifiedBy>
  <dcterms:modified xsi:type="dcterms:W3CDTF">2016-09-19T14:14:08Z</dcterms:modified>
  <cp:revision>74</cp:revision>
  <dc:subject/>
  <dc:title>Intelligent Information Retrieval and Web Search</dc:title>
</cp:coreProperties>
</file>