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163-5ADE-476C-B777-467EAF5C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C918-221B-4296-961F-4C870D9A0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0763-99D8-49AD-BBFA-90EAF4E8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0632-5D46-4F59-B6F3-7F4C38CE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B427-7D9E-4F4F-813C-2338609E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E523-D72C-4291-BD28-3ECB9E0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8A14-080B-48FA-A8C0-9926C556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36E4-637A-4DB0-8F0F-9861A9E4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BD98-7E95-4E78-9265-AD41D79B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0ED5-95E1-4221-810C-8FE0B314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EE71-76A5-44E3-9BA9-705FF901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5D81-5786-4B74-AA19-2F07F660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1F77-748D-4DB1-BEDF-FF0229C9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CA08-DF00-4682-ADED-6D0F902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2144-3245-4AFB-88FD-09F1CDEE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/proj2/feedback-trac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4695-ED6A-4954-B9F9-F326A038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Query Operations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 Feedback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0B40-F132-4E40-A66A-EDDE0581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son of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, experimental results indicate no clear preference for any one of the specific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generally improve retrieval performance (recall &amp; precision) with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just let tunable constants equal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F2C-3813-4DD9-B90F-6FA5A0AA0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in Java VS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“Ide Regular”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 with “-feedback” option, use “r” command to reformulate and redo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ample feedback t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stored frequencies are not normalized (since normalization does not effect cosine similarity), must first divide all vectors by their maximum term frequ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FAC5-6A18-41EF-8BAE-D6AEBE149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Relevance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nstruction, reformulated query will rank explicitly-marked relevant documents higher and explicitly-marked irrelevant documents l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should not get credit for improvement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, since it was told their rele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chine learning, this error is called “testing on the training dat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should focus on generalizing 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-rat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57C0-1BB2-4760-972A-775F51DF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air Evaluation of Relevance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from the corpus any documents for which feedback was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recall/precision performance on the rem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idual 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complete corpus, specific recall/precision numbers may decrease since relevant documents were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formance on the residual collection provides fair data on the effectiveness of relevance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91A-5974-4D80-9DA3-54795B60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y is Feedback Not Widely Us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sometimes reluctant to provide explicit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long queries that require more computation to retrieve, and search engines process lots of queries and allow little time for each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it harder to understand why a particular document was retr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F01-56AC-4976-97FF-721902E7F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seudo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levance feedback methods without explicit user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ed documents are relevant, and use them to reformulate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query expansion that includes terms that are correlated with the query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9A97-BADB-4F8E-B59D-3478D48B1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seudo Feedback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103720" y="2819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:\Program Files\MSOffice\Clipart\Popular\amconfus.wmf"/>
          <p:cNvPicPr/>
          <p:nvPr/>
        </p:nvPicPr>
        <p:blipFill>
          <a:blip r:embed="rId1"/>
          <a:stretch/>
        </p:blipFill>
        <p:spPr>
          <a:xfrm>
            <a:off x="228600" y="2971800"/>
            <a:ext cx="932040" cy="2004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3962520" y="281952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4114800" y="1447920"/>
            <a:ext cx="16765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952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867280" y="1447920"/>
            <a:ext cx="997200" cy="86976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9"/>
          <p:cNvGrpSpPr/>
          <p:nvPr/>
        </p:nvGrpSpPr>
        <p:grpSpPr>
          <a:xfrm>
            <a:off x="4114800" y="3886200"/>
            <a:ext cx="3124080" cy="1906200"/>
            <a:chOff x="4114800" y="3886200"/>
            <a:chExt cx="3124080" cy="1906200"/>
          </a:xfrm>
        </p:grpSpPr>
        <p:sp>
          <p:nvSpPr>
            <p:cNvPr id="152" name="Oval 10"/>
            <p:cNvSpPr/>
            <p:nvPr/>
          </p:nvSpPr>
          <p:spPr>
            <a:xfrm>
              <a:off x="4114800" y="4343400"/>
              <a:ext cx="1752480" cy="990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Group 12"/>
            <p:cNvGrpSpPr/>
            <p:nvPr/>
          </p:nvGrpSpPr>
          <p:grpSpPr>
            <a:xfrm>
              <a:off x="6019920" y="4419720"/>
              <a:ext cx="1218960" cy="1372680"/>
              <a:chOff x="6019920" y="4419720"/>
              <a:chExt cx="1218960" cy="1372680"/>
            </a:xfrm>
          </p:grpSpPr>
          <p:sp>
            <p:nvSpPr>
              <p:cNvPr id="155" name="Rectangle 13"/>
              <p:cNvSpPr/>
              <p:nvPr/>
            </p:nvSpPr>
            <p:spPr>
              <a:xfrm>
                <a:off x="6019920" y="4419720"/>
                <a:ext cx="12189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14"/>
              <p:cNvSpPr/>
              <p:nvPr/>
            </p:nvSpPr>
            <p:spPr>
              <a:xfrm>
                <a:off x="6156360" y="4481640"/>
                <a:ext cx="8773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15"/>
          <p:cNvGrpSpPr/>
          <p:nvPr/>
        </p:nvGrpSpPr>
        <p:grpSpPr>
          <a:xfrm>
            <a:off x="1523880" y="1523880"/>
            <a:ext cx="2438280" cy="1295640"/>
            <a:chOff x="1523880" y="1523880"/>
            <a:chExt cx="2438280" cy="1295640"/>
          </a:xfrm>
        </p:grpSpPr>
        <p:sp>
          <p:nvSpPr>
            <p:cNvPr id="158" name="AutoShape 16"/>
            <p:cNvSpPr/>
            <p:nvPr/>
          </p:nvSpPr>
          <p:spPr>
            <a:xfrm>
              <a:off x="1523880" y="1523880"/>
              <a:ext cx="1480320" cy="914400"/>
            </a:xfrm>
            <a:prstGeom prst="wedgeRoundRectCallout">
              <a:avLst>
                <a:gd name="adj1" fmla="val -123282"/>
                <a:gd name="adj2" fmla="val 122916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7"/>
            <p:cNvSpPr/>
            <p:nvPr/>
          </p:nvSpPr>
          <p:spPr>
            <a:xfrm>
              <a:off x="1697760" y="1600200"/>
              <a:ext cx="1081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3004200" y="1981080"/>
              <a:ext cx="957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676520" y="2653560"/>
            <a:ext cx="1733040" cy="1537200"/>
            <a:chOff x="1676520" y="2653560"/>
            <a:chExt cx="1733040" cy="1537200"/>
          </a:xfrm>
        </p:grpSpPr>
        <p:sp>
          <p:nvSpPr>
            <p:cNvPr id="162" name="Oval 20"/>
            <p:cNvSpPr/>
            <p:nvPr/>
          </p:nvSpPr>
          <p:spPr>
            <a:xfrm>
              <a:off x="1676520" y="2653560"/>
              <a:ext cx="1733040" cy="1166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 flipV="1">
              <a:off x="2595600" y="38095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Line 22"/>
          <p:cNvSpPr/>
          <p:nvPr/>
        </p:nvSpPr>
        <p:spPr>
          <a:xfrm>
            <a:off x="3352680" y="3276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23"/>
          <p:cNvGrpSpPr/>
          <p:nvPr/>
        </p:nvGrpSpPr>
        <p:grpSpPr>
          <a:xfrm>
            <a:off x="6095880" y="2819520"/>
            <a:ext cx="2819520" cy="2439360"/>
            <a:chOff x="6095880" y="2819520"/>
            <a:chExt cx="2819520" cy="2439360"/>
          </a:xfrm>
        </p:grpSpPr>
        <p:sp>
          <p:nvSpPr>
            <p:cNvPr id="166" name="Oval 24"/>
            <p:cNvSpPr/>
            <p:nvPr/>
          </p:nvSpPr>
          <p:spPr>
            <a:xfrm>
              <a:off x="7162920" y="2819520"/>
              <a:ext cx="1752480" cy="9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25"/>
            <p:cNvGrpSpPr/>
            <p:nvPr/>
          </p:nvGrpSpPr>
          <p:grpSpPr>
            <a:xfrm>
              <a:off x="7696080" y="3886200"/>
              <a:ext cx="1219320" cy="1372680"/>
              <a:chOff x="7696080" y="3886200"/>
              <a:chExt cx="1219320" cy="1372680"/>
            </a:xfrm>
          </p:grpSpPr>
          <p:sp>
            <p:nvSpPr>
              <p:cNvPr id="168" name="Rectangle 26"/>
              <p:cNvSpPr/>
              <p:nvPr/>
            </p:nvSpPr>
            <p:spPr>
              <a:xfrm>
                <a:off x="7696080" y="3886200"/>
                <a:ext cx="121932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Text Box 27"/>
              <p:cNvSpPr/>
              <p:nvPr/>
            </p:nvSpPr>
            <p:spPr>
              <a:xfrm>
                <a:off x="7832880" y="3948120"/>
                <a:ext cx="8776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4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Line 28"/>
            <p:cNvSpPr/>
            <p:nvPr/>
          </p:nvSpPr>
          <p:spPr>
            <a:xfrm>
              <a:off x="6095880" y="3276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1600200" y="2362320"/>
            <a:ext cx="2514600" cy="3428640"/>
            <a:chOff x="1600200" y="2362320"/>
            <a:chExt cx="2514600" cy="3428640"/>
          </a:xfrm>
        </p:grpSpPr>
        <p:grpSp>
          <p:nvGrpSpPr>
            <p:cNvPr id="172" name="Group 30"/>
            <p:cNvGrpSpPr/>
            <p:nvPr/>
          </p:nvGrpSpPr>
          <p:grpSpPr>
            <a:xfrm>
              <a:off x="1749240" y="4191120"/>
              <a:ext cx="1962360" cy="914400"/>
              <a:chOff x="1749240" y="4191120"/>
              <a:chExt cx="1962360" cy="914400"/>
            </a:xfrm>
          </p:grpSpPr>
          <p:sp>
            <p:nvSpPr>
              <p:cNvPr id="173" name="Rectangle 31"/>
              <p:cNvSpPr/>
              <p:nvPr/>
            </p:nvSpPr>
            <p:spPr>
              <a:xfrm>
                <a:off x="1823760" y="419112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1749240" y="4218120"/>
                <a:ext cx="196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form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33"/>
            <p:cNvSpPr/>
            <p:nvPr/>
          </p:nvSpPr>
          <p:spPr>
            <a:xfrm flipV="1">
              <a:off x="2438280" y="5105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H="1" flipV="1">
              <a:off x="3657600" y="4647960"/>
              <a:ext cx="457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35"/>
            <p:cNvGrpSpPr/>
            <p:nvPr/>
          </p:nvGrpSpPr>
          <p:grpSpPr>
            <a:xfrm>
              <a:off x="1600200" y="2362320"/>
              <a:ext cx="228600" cy="2286000"/>
              <a:chOff x="1600200" y="2362320"/>
              <a:chExt cx="228600" cy="2286000"/>
            </a:xfrm>
          </p:grpSpPr>
          <p:sp>
            <p:nvSpPr>
              <p:cNvPr id="178" name="Line 36"/>
              <p:cNvSpPr/>
              <p:nvPr/>
            </p:nvSpPr>
            <p:spPr>
              <a:xfrm>
                <a:off x="1600200" y="236232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37"/>
              <p:cNvSpPr/>
              <p:nvPr/>
            </p:nvSpPr>
            <p:spPr>
              <a:xfrm>
                <a:off x="1600200" y="4648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Group 38"/>
          <p:cNvGrpSpPr/>
          <p:nvPr/>
        </p:nvGrpSpPr>
        <p:grpSpPr>
          <a:xfrm>
            <a:off x="1066680" y="5181480"/>
            <a:ext cx="3487320" cy="1717200"/>
            <a:chOff x="1066680" y="5181480"/>
            <a:chExt cx="3487320" cy="1717200"/>
          </a:xfrm>
        </p:grpSpPr>
        <p:grpSp>
          <p:nvGrpSpPr>
            <p:cNvPr id="181" name="Group 39"/>
            <p:cNvGrpSpPr/>
            <p:nvPr/>
          </p:nvGrpSpPr>
          <p:grpSpPr>
            <a:xfrm>
              <a:off x="2593080" y="5181480"/>
              <a:ext cx="1960920" cy="1447920"/>
              <a:chOff x="2593080" y="5181480"/>
              <a:chExt cx="1960920" cy="1447920"/>
            </a:xfrm>
          </p:grpSpPr>
          <p:sp>
            <p:nvSpPr>
              <p:cNvPr id="182" name="Rectangle 40"/>
              <p:cNvSpPr/>
              <p:nvPr/>
            </p:nvSpPr>
            <p:spPr>
              <a:xfrm>
                <a:off x="3048120" y="5181480"/>
                <a:ext cx="121896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Text Box 41"/>
              <p:cNvSpPr/>
              <p:nvPr/>
            </p:nvSpPr>
            <p:spPr>
              <a:xfrm>
                <a:off x="2593080" y="5257800"/>
                <a:ext cx="19609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Oval 42"/>
            <p:cNvSpPr/>
            <p:nvPr/>
          </p:nvSpPr>
          <p:spPr>
            <a:xfrm>
              <a:off x="1066680" y="5214960"/>
              <a:ext cx="1905120" cy="168372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eu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3F0-551D-429F-B621-74506E1FD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seudoFeedback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to improve performance on TREC competition ad-hoc retrieval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even better if top documents must also satisfy additional boolean constraints in order to be used in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77EC-8B1C-42FA-8D4A-D5B1E6A26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saur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saurus provides information on synonyms and semantically related words and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hysic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n: ||croaker, doc, doctor, MD, medical, mediciner, medico, ||sawb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: medic, general practitioner, surge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5210-778C-4F74-B8D9-A9C78A45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saurus-based Query Expa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ter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a query, expand the query with synonyms and related word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thesau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weight added terms less than original query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increases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ignificantly decrease precision, particularly with ambiguous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rest rate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“interest rate fascinate evaluat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5909-4783-4AB9-AD6A-58ABED1C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initial retrieval results are presented, allow the user to provide feedback on the relevance of one or more of the retrieved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is feedback information to reformulate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new results based on reformulated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more interactive, multi-pass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ABC-EE7B-46A9-A208-2D761DE1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re detailed database of semantic relationships between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famous cognitive psychologist George Miller and a team at Princeton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144,000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, adjectives, verbs, and adverbs grouped into about 109,000 synonym set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C6CA-DE6C-40A0-ADA8-286C455C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Synset Relationship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nt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ro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nevol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od (noun to adj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ertai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phabetic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phabet (adjective to no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imi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nquestion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i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ntail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rea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ol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xt (part to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r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pu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pu (whole to p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ony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(speci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erny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uit (gener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F95-58B6-438F-9768-3DA4E8A4D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Query Expa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ynonyms in the same syn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 hyponyms to add specialized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hypernyms to generalize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other related terms to expand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CA11-645B-414E-BD02-94DEED6C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Thesaur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human-developed thesauri are not easily available in all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thesuari are limited in the type and range of synonymy and semantic relations they re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ally related terms can be discovered from statistical analysis of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F87-C295-4EBC-839B-BF2C7F02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Glob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erm similarity through a pre-computed statistical analysis of the complete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ssociation matrices which quantify term correlations in terms of how frequently they co-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queries with statistically most similar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0FC1-99C0-413C-AA08-B98EEA7C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ssoci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2289960" y="1371600"/>
            <a:ext cx="4029840" cy="2409840"/>
            <a:chOff x="2289960" y="1371600"/>
            <a:chExt cx="4029840" cy="2409840"/>
          </a:xfrm>
        </p:grpSpPr>
        <p:sp>
          <p:nvSpPr>
            <p:cNvPr id="213" name="Rectangle 4"/>
            <p:cNvSpPr/>
            <p:nvPr/>
          </p:nvSpPr>
          <p:spPr>
            <a:xfrm>
              <a:off x="2814840" y="1752840"/>
              <a:ext cx="3504960" cy="19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2829600" y="1371600"/>
              <a:ext cx="34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…………………..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2289960" y="1690920"/>
              <a:ext cx="439560" cy="20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2919240" y="1676520"/>
              <a:ext cx="326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………………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2898720" y="1981440"/>
              <a:ext cx="442800" cy="17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9"/>
          <p:cNvSpPr/>
          <p:nvPr/>
        </p:nvSpPr>
        <p:spPr>
          <a:xfrm>
            <a:off x="1714320" y="3886200"/>
            <a:ext cx="596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rrelation factor between term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d term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2362320" y="4419720"/>
                <a:ext cx="2133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0" name="Text Box 13"/>
          <p:cNvSpPr/>
          <p:nvPr/>
        </p:nvSpPr>
        <p:spPr>
          <a:xfrm>
            <a:off x="2292480" y="5181480"/>
            <a:ext cx="492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requency of term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in document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F5AD-A09A-46FF-81EB-42497746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Associ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based correlation factor favors more frequen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association sc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d score is 1 if two terms have the same frequency in all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3429000" y="2971800"/>
                <a:ext cx="19684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CA71-BBD6-4B6F-9550-575B6F0E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 Correl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on correlation does not account for the proximity of terms in documents, just co-occurrence frequencies within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ic correlations account for term proxi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730600" y="4038480"/>
                <a:ext cx="2770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Text Box 5"/>
          <p:cNvSpPr/>
          <p:nvPr/>
        </p:nvSpPr>
        <p:spPr>
          <a:xfrm>
            <a:off x="780120" y="4952880"/>
            <a:ext cx="7819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t of all occurrences of term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in any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,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istance in words between word occurrences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k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occurrences in different documents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C8C-DEF7-4D57-85E6-136A40EC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rmalized Metric Correlation Matrix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scores to account for term frequ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200400" y="2438280"/>
                <a:ext cx="1631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B02B-D426-4BC5-A611-8E51BDC45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Expansion with Correlation Matri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query, expand query 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 highest valu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dds semantically related terms in the “neighborhood” of the query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E044-EA8F-4D9A-80C2-DED8BEC0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103720" y="2819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6" descr="C:\Program Files\MSOffice\Clipart\Popular\amconfus.wmf"/>
          <p:cNvPicPr/>
          <p:nvPr/>
        </p:nvPicPr>
        <p:blipFill>
          <a:blip r:embed="rId1"/>
          <a:stretch/>
        </p:blipFill>
        <p:spPr>
          <a:xfrm>
            <a:off x="228600" y="2971800"/>
            <a:ext cx="932040" cy="2004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3962520" y="281952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4114800" y="1447920"/>
            <a:ext cx="16765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4952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5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867280" y="1447920"/>
            <a:ext cx="997200" cy="8697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5"/>
          <p:cNvGrpSpPr/>
          <p:nvPr/>
        </p:nvGrpSpPr>
        <p:grpSpPr>
          <a:xfrm>
            <a:off x="4114800" y="3886200"/>
            <a:ext cx="3124080" cy="1906200"/>
            <a:chOff x="4114800" y="3886200"/>
            <a:chExt cx="3124080" cy="1906200"/>
          </a:xfrm>
        </p:grpSpPr>
        <p:sp>
          <p:nvSpPr>
            <p:cNvPr id="64" name="Oval 27"/>
            <p:cNvSpPr/>
            <p:nvPr/>
          </p:nvSpPr>
          <p:spPr>
            <a:xfrm>
              <a:off x="4114800" y="4343400"/>
              <a:ext cx="1752480" cy="990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40"/>
            <p:cNvGrpSpPr/>
            <p:nvPr/>
          </p:nvGrpSpPr>
          <p:grpSpPr>
            <a:xfrm>
              <a:off x="6019920" y="4419720"/>
              <a:ext cx="1218960" cy="1372680"/>
              <a:chOff x="6019920" y="4419720"/>
              <a:chExt cx="1218960" cy="1372680"/>
            </a:xfrm>
          </p:grpSpPr>
          <p:sp>
            <p:nvSpPr>
              <p:cNvPr id="67" name="Rectangle 29"/>
              <p:cNvSpPr/>
              <p:nvPr/>
            </p:nvSpPr>
            <p:spPr>
              <a:xfrm>
                <a:off x="6019920" y="4419720"/>
                <a:ext cx="12189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30"/>
              <p:cNvSpPr/>
              <p:nvPr/>
            </p:nvSpPr>
            <p:spPr>
              <a:xfrm>
                <a:off x="6156360" y="4481640"/>
                <a:ext cx="8773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Group 58"/>
          <p:cNvGrpSpPr/>
          <p:nvPr/>
        </p:nvGrpSpPr>
        <p:grpSpPr>
          <a:xfrm>
            <a:off x="1066680" y="5181480"/>
            <a:ext cx="3258720" cy="1447920"/>
            <a:chOff x="1066680" y="5181480"/>
            <a:chExt cx="3258720" cy="1447920"/>
          </a:xfrm>
        </p:grpSpPr>
        <p:grpSp>
          <p:nvGrpSpPr>
            <p:cNvPr id="70" name="Group 41"/>
            <p:cNvGrpSpPr/>
            <p:nvPr/>
          </p:nvGrpSpPr>
          <p:grpSpPr>
            <a:xfrm>
              <a:off x="2364480" y="5181480"/>
              <a:ext cx="1960920" cy="1447920"/>
              <a:chOff x="2364480" y="5181480"/>
              <a:chExt cx="1960920" cy="1447920"/>
            </a:xfrm>
          </p:grpSpPr>
          <p:sp>
            <p:nvSpPr>
              <p:cNvPr id="71" name="Rectangle 31"/>
              <p:cNvSpPr/>
              <p:nvPr/>
            </p:nvSpPr>
            <p:spPr>
              <a:xfrm>
                <a:off x="2819520" y="5181480"/>
                <a:ext cx="121896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32"/>
              <p:cNvSpPr/>
              <p:nvPr/>
            </p:nvSpPr>
            <p:spPr>
              <a:xfrm>
                <a:off x="2364480" y="5257800"/>
                <a:ext cx="19609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57"/>
            <p:cNvGrpSpPr/>
            <p:nvPr/>
          </p:nvGrpSpPr>
          <p:grpSpPr>
            <a:xfrm>
              <a:off x="1066680" y="5791320"/>
              <a:ext cx="1676520" cy="685800"/>
              <a:chOff x="1066680" y="5791320"/>
              <a:chExt cx="1676520" cy="685800"/>
            </a:xfrm>
          </p:grpSpPr>
          <p:sp>
            <p:nvSpPr>
              <p:cNvPr id="74" name="AutoShape 44"/>
              <p:cNvSpPr/>
              <p:nvPr/>
            </p:nvSpPr>
            <p:spPr>
              <a:xfrm>
                <a:off x="1066680" y="5791320"/>
                <a:ext cx="1676520" cy="685800"/>
              </a:xfrm>
              <a:prstGeom prst="wedgeRoundRectCallout">
                <a:avLst>
                  <a:gd name="adj1" fmla="val -53407"/>
                  <a:gd name="adj2" fmla="val -318055"/>
                  <a:gd name="adj3" fmla="val 16667"/>
                </a:avLst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45"/>
              <p:cNvSpPr/>
              <p:nvPr/>
            </p:nvSpPr>
            <p:spPr>
              <a:xfrm>
                <a:off x="1218600" y="5867280"/>
                <a:ext cx="134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eedb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Group 54"/>
          <p:cNvGrpSpPr/>
          <p:nvPr/>
        </p:nvGrpSpPr>
        <p:grpSpPr>
          <a:xfrm>
            <a:off x="1523880" y="1523880"/>
            <a:ext cx="2438280" cy="1295640"/>
            <a:chOff x="1523880" y="1523880"/>
            <a:chExt cx="2438280" cy="1295640"/>
          </a:xfrm>
        </p:grpSpPr>
        <p:sp>
          <p:nvSpPr>
            <p:cNvPr id="77" name="AutoShape 19"/>
            <p:cNvSpPr/>
            <p:nvPr/>
          </p:nvSpPr>
          <p:spPr>
            <a:xfrm>
              <a:off x="1523880" y="1523880"/>
              <a:ext cx="1480320" cy="914400"/>
            </a:xfrm>
            <a:prstGeom prst="wedgeRoundRectCallout">
              <a:avLst>
                <a:gd name="adj1" fmla="val -123282"/>
                <a:gd name="adj2" fmla="val 122916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0"/>
            <p:cNvSpPr/>
            <p:nvPr/>
          </p:nvSpPr>
          <p:spPr>
            <a:xfrm>
              <a:off x="1697760" y="1600200"/>
              <a:ext cx="1081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0"/>
            <p:cNvSpPr/>
            <p:nvPr/>
          </p:nvSpPr>
          <p:spPr>
            <a:xfrm>
              <a:off x="3004200" y="1981080"/>
              <a:ext cx="957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75"/>
          <p:cNvGrpSpPr/>
          <p:nvPr/>
        </p:nvGrpSpPr>
        <p:grpSpPr>
          <a:xfrm>
            <a:off x="1676520" y="2653560"/>
            <a:ext cx="1657080" cy="1537200"/>
            <a:chOff x="1676520" y="2653560"/>
            <a:chExt cx="1657080" cy="1537200"/>
          </a:xfrm>
        </p:grpSpPr>
        <p:sp>
          <p:nvSpPr>
            <p:cNvPr id="81" name="Oval 47"/>
            <p:cNvSpPr/>
            <p:nvPr/>
          </p:nvSpPr>
          <p:spPr>
            <a:xfrm>
              <a:off x="1676520" y="2653560"/>
              <a:ext cx="1657080" cy="1166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 flipV="1">
              <a:off x="2590920" y="38095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51"/>
          <p:cNvSpPr/>
          <p:nvPr/>
        </p:nvSpPr>
        <p:spPr>
          <a:xfrm>
            <a:off x="3352680" y="3276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9"/>
          <p:cNvGrpSpPr/>
          <p:nvPr/>
        </p:nvGrpSpPr>
        <p:grpSpPr>
          <a:xfrm>
            <a:off x="6095880" y="2819520"/>
            <a:ext cx="2819520" cy="2439360"/>
            <a:chOff x="6095880" y="2819520"/>
            <a:chExt cx="2819520" cy="2439360"/>
          </a:xfrm>
        </p:grpSpPr>
        <p:sp>
          <p:nvSpPr>
            <p:cNvPr id="85" name="Oval 63"/>
            <p:cNvSpPr/>
            <p:nvPr/>
          </p:nvSpPr>
          <p:spPr>
            <a:xfrm>
              <a:off x="7162920" y="2819520"/>
              <a:ext cx="1752480" cy="9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65"/>
            <p:cNvGrpSpPr/>
            <p:nvPr/>
          </p:nvGrpSpPr>
          <p:grpSpPr>
            <a:xfrm>
              <a:off x="7696080" y="3886200"/>
              <a:ext cx="1219320" cy="1372680"/>
              <a:chOff x="7696080" y="3886200"/>
              <a:chExt cx="1219320" cy="1372680"/>
            </a:xfrm>
          </p:grpSpPr>
          <p:sp>
            <p:nvSpPr>
              <p:cNvPr id="87" name="Rectangle 66"/>
              <p:cNvSpPr/>
              <p:nvPr/>
            </p:nvSpPr>
            <p:spPr>
              <a:xfrm>
                <a:off x="7696080" y="3886200"/>
                <a:ext cx="121932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67"/>
              <p:cNvSpPr/>
              <p:nvPr/>
            </p:nvSpPr>
            <p:spPr>
              <a:xfrm>
                <a:off x="7832880" y="3948120"/>
                <a:ext cx="8776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4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Line 68"/>
            <p:cNvSpPr/>
            <p:nvPr/>
          </p:nvSpPr>
          <p:spPr>
            <a:xfrm>
              <a:off x="6095880" y="3276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74"/>
          <p:cNvGrpSpPr/>
          <p:nvPr/>
        </p:nvGrpSpPr>
        <p:grpSpPr>
          <a:xfrm>
            <a:off x="1600200" y="2362320"/>
            <a:ext cx="2514600" cy="3428640"/>
            <a:chOff x="1600200" y="2362320"/>
            <a:chExt cx="2514600" cy="3428640"/>
          </a:xfrm>
        </p:grpSpPr>
        <p:grpSp>
          <p:nvGrpSpPr>
            <p:cNvPr id="91" name="Group 43"/>
            <p:cNvGrpSpPr/>
            <p:nvPr/>
          </p:nvGrpSpPr>
          <p:grpSpPr>
            <a:xfrm>
              <a:off x="1749240" y="4191120"/>
              <a:ext cx="1962360" cy="914400"/>
              <a:chOff x="1749240" y="4191120"/>
              <a:chExt cx="1962360" cy="914400"/>
            </a:xfrm>
          </p:grpSpPr>
          <p:sp>
            <p:nvSpPr>
              <p:cNvPr id="92" name="Rectangle 39"/>
              <p:cNvSpPr/>
              <p:nvPr/>
            </p:nvSpPr>
            <p:spPr>
              <a:xfrm>
                <a:off x="1823760" y="419112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38"/>
              <p:cNvSpPr/>
              <p:nvPr/>
            </p:nvSpPr>
            <p:spPr>
              <a:xfrm>
                <a:off x="1749240" y="4218120"/>
                <a:ext cx="196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form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Line 46"/>
            <p:cNvSpPr/>
            <p:nvPr/>
          </p:nvSpPr>
          <p:spPr>
            <a:xfrm flipV="1">
              <a:off x="2438280" y="5105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53"/>
            <p:cNvSpPr/>
            <p:nvPr/>
          </p:nvSpPr>
          <p:spPr>
            <a:xfrm flipH="1" flipV="1">
              <a:off x="3657600" y="4647960"/>
              <a:ext cx="457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73"/>
            <p:cNvGrpSpPr/>
            <p:nvPr/>
          </p:nvGrpSpPr>
          <p:grpSpPr>
            <a:xfrm>
              <a:off x="1600200" y="2362320"/>
              <a:ext cx="228600" cy="2286000"/>
              <a:chOff x="1600200" y="2362320"/>
              <a:chExt cx="228600" cy="2286000"/>
            </a:xfrm>
          </p:grpSpPr>
          <p:sp>
            <p:nvSpPr>
              <p:cNvPr id="97" name="Line 70"/>
              <p:cNvSpPr/>
              <p:nvPr/>
            </p:nvSpPr>
            <p:spPr>
              <a:xfrm>
                <a:off x="1600200" y="236232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71"/>
              <p:cNvSpPr/>
              <p:nvPr/>
            </p:nvSpPr>
            <p:spPr>
              <a:xfrm>
                <a:off x="1600200" y="4648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0FD9-D6E7-4059-A643-22F5711C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s with Glob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ambiguity may introduce irrelevant statistically correlated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ple computer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“Apple red fruit computer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erms are highly correlated anyway, expansion may not retrieve many additional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0AAE-B968-4E9D-B292-CAC911A9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Loc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query time, dynamically determine similar terms based on analysis of top-ranked retriev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orrelation analysis on only the “local” set of retrieved documents for a specific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s ambiguity by determining similar (correlated) terms only within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ple computer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“Apple computer Macbook laptop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407-EACA-4DE2-B3A9-2ECCDE344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lobal vs. Local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nalysis requires intensive term correlation computation only once at system developme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analysis requires intensive term correlation computation for every query at run time (although number of terms and documents is less than in global analys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local analysis gives better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434-417C-40E7-BAEA-DF0798C5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lobal Analysis Refin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expand query with terms that are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rms in the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uit” not added to “Apple computer” since it is far from “computer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uit” added to “apple pie” since “fruit” close to both “apple” and “pie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ore sophisticated term weights (instead of just frequency) when computing term corre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048120" y="2438280"/>
                <a:ext cx="24382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32E-67AF-47EE-B774-18713CCDE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Expansion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sion of queries with related terms can improve performance, particularly re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must select similar terms very carefully to avoid problems, such as loss of pr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246D-D596-4CC5-BB7A-47C1F037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Reformu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 query to account for feed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ry Expans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Add new terms to query from relevant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rm Reweight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Increase weight of terms in relevant documents and decrease weight of terms in irrelevant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algorithms for query refor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D794-6EA2-4E52-9A14-C25B2BFE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ry Reformulation for VS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query vector using vector alge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ectors for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e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cuments to the query v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ectors for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relev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s from the query v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oth adds both positive and negatively weighted terms to the query as well as reweighting the initial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C20-E842-45ED-8F78-F0CF7032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ptimal Que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the relevant set of docum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best query that ranks all and only the relevant queries at the top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676520" y="3809880"/>
                <a:ext cx="57909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∉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Text Box 5"/>
          <p:cNvSpPr/>
          <p:nvPr/>
        </p:nvSpPr>
        <p:spPr>
          <a:xfrm>
            <a:off x="1478160" y="541008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1E54-5EAF-4C3C-A44A-F50E2859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ndard Rochio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ll relevant documents unknown, just us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irreleva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ts of documents and include the initial qu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600200" y="3429000"/>
                <a:ext cx="58960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Text Box 5"/>
          <p:cNvSpPr/>
          <p:nvPr/>
        </p:nvSpPr>
        <p:spPr>
          <a:xfrm>
            <a:off x="1593720" y="4800600"/>
            <a:ext cx="663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nitial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rrelevant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C40-1D41-4662-8024-2766B5CA2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de Regular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more feedback should perhaps increase the degree of reformulation, do not normalize for amount of feed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036880" y="3287880"/>
                <a:ext cx="5022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β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Text Box 5"/>
          <p:cNvSpPr/>
          <p:nvPr/>
        </p:nvSpPr>
        <p:spPr>
          <a:xfrm>
            <a:off x="1593720" y="4800600"/>
            <a:ext cx="663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nitial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rrelevant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B90A-862A-4E6B-912A-85D43DA92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de “Dec Hi”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as towards reje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ranked of the irrelevant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1143000" y="2971800"/>
                <a:ext cx="6802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β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elevan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5"/>
          <p:cNvSpPr/>
          <p:nvPr/>
        </p:nvSpPr>
        <p:spPr>
          <a:xfrm>
            <a:off x="1495440" y="4267080"/>
            <a:ext cx="65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nitial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relevant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unable weight for irrelevant docu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16-09-19T14:14:08Z</dcterms:modified>
  <cp:revision>74</cp:revision>
  <dc:subject/>
  <dc:title>Intelligent Information Retrieval and Web Search</dc:title>
</cp:coreProperties>
</file>