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6.wmf" ContentType="image/x-wmf"/>
  <Override PartName="/ppt/media/image15.wmf" ContentType="image/x-wmf"/>
  <Override PartName="/ppt/media/image11.wmf" ContentType="image/x-wmf"/>
  <Override PartName="/ppt/media/image6.wmf" ContentType="image/x-wmf"/>
  <Override PartName="/ppt/media/image1.png" ContentType="image/png"/>
  <Override PartName="/ppt/media/image2.png" ContentType="image/png"/>
  <Override PartName="/ppt/media/clap.wav" ContentType="audio/x-wav"/>
  <Override PartName="/ppt/media/explode.wav" ContentType="audio/x-wav"/>
  <Override PartName="/ppt/media/image3.wmf" ContentType="image/x-wmf"/>
  <Override PartName="/ppt/media/image4.wmf" ContentType="image/x-wmf"/>
  <Override PartName="/ppt/media/applause.wav" ContentType="audio/x-wav"/>
  <Override PartName="/ppt/media/image5.wmf" ContentType="image/x-wmf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44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57ED-08EF-4E37-A2A6-DAD32059E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6B73-0E57-4013-8D3B-144EE0BCF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E1F0-724F-4E57-9038-4B5EEF6C3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D487-5C2B-4CFD-B483-481EA7B29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C53A-B35B-4A1B-A34F-6AA8B403E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F2A0-90AD-45EB-9678-6CF4CBE20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6A8A-E43E-4862-87B6-5FA00CA79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720A-F633-4C03-A16D-8AC810DFE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A0D22-9BE2-4C7E-BDAC-A3145A27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31203-662E-4251-9D2B-3A47F407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F58E12-8DD3-4FA6-BEC7-ECF934A6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EDACFF-3A59-428C-A6A4-67AA170A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A54005-4082-463C-9BDF-CD93AB1D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427283-040C-47C5-B939-C13E8F46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5B2891-270B-4CFE-8BD7-635776DA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4B3DFD-AE3A-4C30-BEBC-72CBD4F3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6D880A-76EE-4F50-B86C-20BC38EE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36F8A0-8929-4FD2-829C-6B61D49E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8CBE26-8196-4C85-A299-2E7DB309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377938-A836-43B3-8BAB-6EC65D2F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DD5C9-CD34-4F37-8D4B-8D753DF4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038084-4AB4-45C0-9EC2-4A9DDD3A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B26E10-27E5-4C7F-A29B-6BDA1D64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BD0EB5-BCAD-4BB0-AC59-FB50E762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671DEE-0CF0-44C9-A5AA-D6FBF757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33D9E3-CD68-4CDC-8C6B-1B833E1C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24638D-A511-49A3-B7AF-A0255A81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E1C491-3913-410E-863F-7BCF41D3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584964-91A5-45AE-A4BB-97C29A2E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1E44F5-4B39-4178-88F4-2EE53AAA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4E44A6-3261-426C-BE6C-2CA53E3B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1BAED-3364-4163-A3F9-2E380AD7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DF2AB3-8E3B-4354-96AB-8D84E3F6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758813-2BAE-49AD-8889-045AD9BB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6D1407-FC59-42AB-B413-ABF24C7A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8D91FE-1568-4748-9B24-EA3DF8E2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D2A887-FF26-4677-BB41-54B99C91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E72DB4-1281-412D-87B6-58B0D945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FA2A68-DBB2-4091-A516-24497D2C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8C8D18-AFE4-4CFF-AE17-E089738B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1AEB15-AE61-4803-AFE4-8F43139F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CFBF46-21CB-4AAA-B6E8-9230940F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E74C8-9E8C-450C-99C0-139B84A8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062C40-A32D-4FE2-AC8D-0F159A75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F2916D-6D45-4D9D-8B31-D49CA6E7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11E58E-A343-483E-8EDA-A7D6F2FB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5B4C5E-5D4B-4997-A5CD-E4415097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D75709-771E-4D6E-B61E-120D85DA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D4E516-E72C-41C4-A0E1-EA97A50A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B03E77-0B71-4BE8-8D79-6D1F4894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52486B-A547-41D3-A655-61068266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6C65D7-D5D1-471B-8864-2020351B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6B6233-CC93-4D70-A0BD-BF20AC6C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B3943-E715-4D38-B03B-FDE66566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8038BC-83BD-471A-A42D-061E08FC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85549C-14D3-45F7-838C-FECE8182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9BC33A-A66B-433C-A9B5-7E8E0C71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2E8685-7D86-4F53-8B8F-8785DB45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317B1A-1A6E-4DD3-8393-2A75E161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7DBF23-E084-4A70-806C-90EB2649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86A427-31B0-4EDF-A823-81145821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AA0C35-53DD-4276-A7A5-21FDBD23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9891C7-F86C-4B61-A7E9-13D3DF0B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4A0AAE-AFD8-414D-8040-09601E93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7A9B5-2504-445D-AFEB-5EC78985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D73927-643B-4775-92C5-AF27BED1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F7E77E-EEA7-4D59-82FA-957D7A38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48E146-DCED-4BC1-A89C-27DADBFA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82C208-EB0B-4B5B-BA05-7DA419E0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40D674-7C96-4990-BC88-07A90E9D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132D20-4CCC-4ABE-A732-541FFEB3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246CEA-1589-4A22-92AC-0680CB57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6A1346D-432B-4FF9-B4E0-BA5B646C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8451FF-8B8B-4820-9E28-1835A283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CB95E1B-3B8D-4115-AC90-825F7449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A9BB0-9FDF-4679-A8A9-1927EC39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8C3550-EB56-4591-903C-836CB5FC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1EDD0B-CAD2-4296-938F-DCFD36FF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650694-2D85-45C7-8A56-0105C6ED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A29DEF-9598-41C5-9DF8-F218ED47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27AB578-2A6F-4FA6-9E59-67B9C75A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2F3EEC1-4F2A-408A-AF79-5295EF2A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1B8455-D7EC-4EFD-A02B-695719F4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24DE38E-4B9F-42E7-83AA-B1F97CBB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0474D7-1835-47B3-B399-8804E48E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E6F9D-FEC6-4C01-BF6B-E2F18009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0CD10-9448-4D3D-9BD2-D76D2D8E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2F3D1-B0F0-4615-85CB-AFAF19B1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C22CD-8B50-4118-84A9-D12610E6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F6051-3944-479B-8F3A-BAB9D0EF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CA2CF-1EE8-4ABA-9945-F6FF4BEE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6AD96-4824-474B-8005-F0188F9E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87215-538F-4E96-B571-9E75452A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9B987-D4D9-47C9-98C7-DBE52265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7A78D-893E-4FF0-82F5-469A6173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D72E6-B1E4-4E3A-805F-64B78D15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97806-15E4-4156-B2C4-7809374C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EA37F0-0959-4903-BC80-394729FC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55E40-B147-48BA-AA2F-21A0294F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9FCEF-951E-4761-9340-BCFBDE48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D39736-0021-4621-84A3-2665B7D8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3F2A8-A173-4DDC-AE45-735D6500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7E169-4967-415A-81FF-9CA71F08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673B57-EC6A-4C8E-B624-B05D91ED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1CB913-736D-4D95-9F20-4594D977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B85929-6871-4F6C-911D-95D4798F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EFB76-E07B-4BC7-BB8D-8F948788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58F3C0-562E-4827-96DD-1DB10077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580212-5F57-46DC-8B88-6BC9B0E9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CA5ED3-4184-4B82-BF34-A8832437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1E8CB-F862-4003-8F47-EC0DA5C6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F85C21-2465-444B-BE79-219E1CCF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346FE8-8905-4C63-B072-3C4878BF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BF9C3B-04B9-4169-884D-A9CE61D3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1C2E46-9106-483A-BAA8-A20D345F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7BEEBA-D04F-44E8-B969-AD698D2D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6D81E2-95B7-47A7-85BC-FD71CB39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16D26D-29F7-4D5E-A82A-8DE15199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888D64-97E2-42E6-AF86-0C148EEE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EB3308-361C-4A0B-A88D-1E0F4412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E2B8EA-8524-4607-BA5F-F31E64F4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38CCD-7A38-4A33-BBA0-3A23E1C7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6A3BB-4057-4542-838B-6B4D8877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5ECBB3-4014-4076-A1C0-F3DA8749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AD653E-8BFC-4E67-8183-15385578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325E50-8209-41AC-B479-2352B5FC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A37AF5-C2A7-4B65-A188-9A5C92FE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5F4C3-505C-4A80-B9ED-74462455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425623-580F-471E-886F-39324303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6985F6-36E8-480E-9539-12E34DA6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48985F-5248-4A48-8F0C-0D1EA3CB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A024AC-4E16-45CF-B1FE-FC1DB7AF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C106F-0372-4AB2-94FF-3F2A5456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D4B0D-F6E0-48F3-B43E-F897E9A2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1E51E1-69AA-4BFF-A610-18681087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DC9E8E-0C46-49D6-B293-7A218659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FF2032-DD00-4611-B730-EDE0C925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6464AC-8734-41AC-8672-EA298F04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5E6E88-DC42-4AB4-BCBC-090347A6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654C94-58EF-427D-ADAF-4E0626AD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7CE107-676B-433A-A589-7EBFEFE8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E19846-8EE7-4398-ADB6-FC0F2189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3D7003-5541-4FAC-9A4D-1D7C5049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08590-DC55-44B8-80CA-3195BADA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286F0B-BD80-4A0E-89C5-0E26A1C5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86EEC-75AE-4F0D-B54D-90A4F547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F80955-F024-4002-A0DD-987E17A6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627B4A-7C91-46E3-B9BE-EC196BF6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535DE2-13EC-4725-856E-EE2922B4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5DC3E9-652E-4EE2-91BF-06D91F53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2A0892-4B6A-4E3D-9817-38BE693E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23CA96-7431-4038-AFD5-3DDFDDE3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3F9493-8232-4C4F-B74A-0CC03097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5C4424-99BE-406F-A400-F831654B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F8E43-E645-46AA-9954-2B0F0965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55A780-D7AC-4816-90B3-4B746994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92E4BF-D467-4343-83AF-F5CFF1F7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F688E1-6384-4A82-B13C-8B800874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AC0451-5A41-43CA-AF13-AE84B69D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042989-159A-4556-BD9D-6F7BFB11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4E6A81-8ABF-4404-9FE3-79267762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DC4CD7-2988-4692-AD5A-49233193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7FF3DA-F1A6-4F83-8192-4D0C6563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DEB101-ECCC-4068-B6E4-9015217F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C28396-2FA1-4D7B-92BB-A82E01AD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909B0-E349-49E7-988E-376D4314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818657-A828-42B9-ACA4-E4285B0E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C828DA-3C8B-4AD5-ADC6-2CE24146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75D8B9-EF6A-4F5B-B5B8-728047DF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B1D7F6-0280-4E29-A8DE-57E20CF3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510ED4-9EC6-4CA2-BB01-2A5CEB39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DA83B0-0F9B-46A3-BAE8-7063F4BE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085DDB-A4E6-4389-BDA4-4B5090BF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F70E8E-8348-4B91-A01E-2F02DF80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4BB74F-31F4-49DA-BCD4-7C40F29C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0B3C5B-834B-4B27-A4AE-5E897F1C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DA9E-8CA7-422D-8C85-E9E913CB9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D17B-0E50-4358-9A57-A02948967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2153-EC38-43A6-BB20-F90720F7C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FD8E-2566-4223-93F9-CDC4B7092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8B51-54DE-4D94-A20B-1412FC489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sldNum" idx="4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CE06-D46A-4261-82AF-BEDE0A8BC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4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F87D-AB14-46EA-AF09-847454B41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475E-B8D8-4ADE-80A0-72777C82D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DDF3-4EC8-4A76-8586-19F4A4AD5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8028-F0B9-432D-89E1-B59E5D67E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9198-02FE-4664-AC9C-5DE336CA5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D276-042D-46AC-A96A-6E3A0C6C4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75A1-DFB2-47CB-B7FE-CB2E51AD7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385D-B450-4E83-A5A3-6B704ACF4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mazon.com/exec/obidos/ASIN/0140282025" TargetMode="External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s.utexas.edu/users/libra" TargetMode="External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audio" Target="../media/clap.wav"/><Relationship Id="rId10" Type="http://schemas.openxmlformats.org/officeDocument/2006/relationships/audio" Target="../media/applause.wav"/><Relationship Id="rId11" Type="http://schemas.openxmlformats.org/officeDocument/2006/relationships/audio" Target="../media/clap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audio" Target="../media/explode.wav"/><Relationship Id="rId15" Type="http://schemas.openxmlformats.org/officeDocument/2006/relationships/slideLayout" Target="../slideLayouts/slideLayout73.xml"/><Relationship Id="rId1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5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BDA2-26D1-41E8-986F-F460A1E55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commender Syste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ive Filtering 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-Based Recomm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E710-68B2-4148-9A8A-3B6EC44BA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variance and Standard Devi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ari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Devi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Object 4"/>
              <p:cNvSpPr txBox="1"/>
              <p:nvPr/>
            </p:nvSpPr>
            <p:spPr>
              <a:xfrm>
                <a:off x="2057400" y="1676520"/>
                <a:ext cx="41148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Object 6"/>
              <p:cNvSpPr txBox="1"/>
              <p:nvPr/>
            </p:nvSpPr>
            <p:spPr>
              <a:xfrm>
                <a:off x="3200400" y="2895480"/>
                <a:ext cx="12574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Object 7"/>
              <p:cNvSpPr txBox="1"/>
              <p:nvPr/>
            </p:nvSpPr>
            <p:spPr>
              <a:xfrm>
                <a:off x="2590920" y="4952880"/>
                <a:ext cx="243828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2411-E6D9-42E4-9282-EB9E63E31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gnificance Weight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t not to trust correlations based on very few co-rated 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gnificance weigh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,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ased on number of co-rated item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Object 6"/>
              <p:cNvSpPr txBox="1"/>
              <p:nvPr/>
            </p:nvSpPr>
            <p:spPr>
              <a:xfrm>
                <a:off x="3386160" y="3505320"/>
                <a:ext cx="22176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Object 9"/>
              <p:cNvSpPr txBox="1"/>
              <p:nvPr/>
            </p:nvSpPr>
            <p:spPr>
              <a:xfrm>
                <a:off x="3352680" y="4267080"/>
                <a:ext cx="297180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if </m:t>
                              </m:r>
                              <m:r>
                                <m:t xml:space="preserve">m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0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 if </m:t>
                              </m:r>
                              <m:r>
                                <m:t xml:space="preserve">m</m:t>
                              </m:r>
                              <m:r>
                                <m:t xml:space="preserve">≤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D138-B54A-4AE1-98A0-9080030A7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ighbor Sele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given active use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elect correlated users to serve as source of predi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approach is to use the most simil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er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ased on similarity weight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,u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e approach is to include all users whose similarity weight is above a given thresh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2B8D-C490-4B49-B41D-EF06967D6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ating Predi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 a ratin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,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or each ite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or active user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y us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lected neighbor user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1,2,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ccount for users different ratings levels, base predictions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ffere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a user’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t users’ ratings contribution by their similarity to the active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Object 4"/>
              <p:cNvSpPr txBox="1"/>
              <p:nvPr/>
            </p:nvSpPr>
            <p:spPr>
              <a:xfrm>
                <a:off x="2209680" y="4038480"/>
                <a:ext cx="3886200" cy="20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40EE-CA66-4392-9E54-511AA5F01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lems with Collaborative Fil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ld St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re needs to be enough other users already in the system to find a ma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pars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there are many items to be recommended, even if there are many users, the user/ratings matrix is sparse, and it is hard to find users that have rated the same i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rst Ra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annot recommend an item that has not been previously r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ew item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soteric item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pularity B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annot recommend items to someone with unique tas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ends to recommend popular item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5C08-A352-4F29-9BB5-48EADCF88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tent-Based Recommend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ations are based on information on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nt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items rather than on other users’ opin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a machine learning algorithm to induce a profile of the users preferences from examples based on a featural description of cont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previous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ewsweeder (Lang, 1995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yskill and Webert (Pazzani et al., 1996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94AB-187B-4608-B51A-C719DF0C9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dvantages of Content-Based Approac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eed for data on other us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 cold-start or sparsity problem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le to  recommend to users with unique tas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le to recommend new and unpopular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 first-rater problem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provide explanations of recommended items by listing content-features that caused an item to be recommen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9321-ACF4-41B4-93E4-7FA4157CE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sadvantages of Content-Based Meth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ntent that can be encoded as meaningful fea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s’ tastes must be represented as a learnable function of these content fea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ble to exploit quality judgments of other us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nless these are somehow included in the content feature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9146-EBA0-49D8-AA69-00B164E70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BRA</a:t>
            </a:r>
            <a:br>
              <a:rPr sz="3600"/>
            </a:b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Intelligent Book Recommending Agent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t-based recommender for books using information about titles extracted from Amaz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information extraction from the web to organize text into fiel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utho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ditorial Review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ustomer Commen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ubject term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lated author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lated titl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74B1-32B6-4682-AA86-AED6BE145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BRA Syst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782" name="Group 204"/>
          <p:cNvGrpSpPr/>
          <p:nvPr/>
        </p:nvGrpSpPr>
        <p:grpSpPr>
          <a:xfrm>
            <a:off x="1063800" y="1371600"/>
            <a:ext cx="1703160" cy="1904760"/>
            <a:chOff x="1063800" y="1371600"/>
            <a:chExt cx="1703160" cy="1904760"/>
          </a:xfrm>
        </p:grpSpPr>
        <p:grpSp>
          <p:nvGrpSpPr>
            <p:cNvPr id="783" name="Group 8"/>
            <p:cNvGrpSpPr/>
            <p:nvPr/>
          </p:nvGrpSpPr>
          <p:grpSpPr>
            <a:xfrm>
              <a:off x="1294920" y="1828800"/>
              <a:ext cx="1294920" cy="1447560"/>
              <a:chOff x="1294920" y="1828800"/>
              <a:chExt cx="1294920" cy="1447560"/>
            </a:xfrm>
          </p:grpSpPr>
          <p:pic>
            <p:nvPicPr>
              <p:cNvPr id="784" name="Picture 4" descr="A:\amazon.gif"/>
              <p:cNvPicPr/>
              <p:nvPr/>
            </p:nvPicPr>
            <p:blipFill>
              <a:blip r:embed="rId1"/>
              <a:stretch/>
            </p:blipFill>
            <p:spPr>
              <a:xfrm flipH="1">
                <a:off x="1294920" y="1828800"/>
                <a:ext cx="720360" cy="90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5" name="Picture 5" descr="A:\amazon.gif"/>
              <p:cNvPicPr/>
              <p:nvPr/>
            </p:nvPicPr>
            <p:blipFill>
              <a:blip r:embed="rId2"/>
              <a:stretch/>
            </p:blipFill>
            <p:spPr>
              <a:xfrm flipH="1">
                <a:off x="1486800" y="2008080"/>
                <a:ext cx="720360" cy="90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6" name="Picture 6" descr="A:\amazon.gif"/>
              <p:cNvPicPr/>
              <p:nvPr/>
            </p:nvPicPr>
            <p:blipFill>
              <a:blip r:embed="rId3"/>
              <a:stretch/>
            </p:blipFill>
            <p:spPr>
              <a:xfrm flipH="1">
                <a:off x="1678320" y="2188080"/>
                <a:ext cx="720360" cy="90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7" name="Picture 7" descr="A:\amazon.gif"/>
              <p:cNvPicPr/>
              <p:nvPr/>
            </p:nvPicPr>
            <p:blipFill>
              <a:blip r:embed="rId4"/>
              <a:stretch/>
            </p:blipFill>
            <p:spPr>
              <a:xfrm flipH="1">
                <a:off x="1869480" y="2367360"/>
                <a:ext cx="720360" cy="90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88" name="Text Box 9"/>
            <p:cNvSpPr/>
            <p:nvPr/>
          </p:nvSpPr>
          <p:spPr>
            <a:xfrm>
              <a:off x="1063800" y="1371600"/>
              <a:ext cx="170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mazon P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Group 209"/>
          <p:cNvGrpSpPr/>
          <p:nvPr/>
        </p:nvGrpSpPr>
        <p:grpSpPr>
          <a:xfrm>
            <a:off x="1165320" y="3081240"/>
            <a:ext cx="1014480" cy="650520"/>
            <a:chOff x="1165320" y="3081240"/>
            <a:chExt cx="1014480" cy="650520"/>
          </a:xfrm>
        </p:grpSpPr>
        <p:sp>
          <p:nvSpPr>
            <p:cNvPr id="790" name="Line 159"/>
            <p:cNvSpPr/>
            <p:nvPr/>
          </p:nvSpPr>
          <p:spPr>
            <a:xfrm flipV="1">
              <a:off x="1165320" y="3081240"/>
              <a:ext cx="612720" cy="60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160"/>
            <p:cNvSpPr/>
            <p:nvPr/>
          </p:nvSpPr>
          <p:spPr>
            <a:xfrm flipV="1">
              <a:off x="1177920" y="3331800"/>
              <a:ext cx="100188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Group 208"/>
          <p:cNvGrpSpPr/>
          <p:nvPr/>
        </p:nvGrpSpPr>
        <p:grpSpPr>
          <a:xfrm>
            <a:off x="635040" y="3378240"/>
            <a:ext cx="931680" cy="2004840"/>
            <a:chOff x="635040" y="3378240"/>
            <a:chExt cx="931680" cy="2004840"/>
          </a:xfrm>
        </p:grpSpPr>
        <p:pic>
          <p:nvPicPr>
            <p:cNvPr id="793" name="Picture 10" descr="C:\Program Files\MSOffice\Clipart\Popular\amconfus.wmf"/>
            <p:cNvPicPr/>
            <p:nvPr/>
          </p:nvPicPr>
          <p:blipFill>
            <a:blip r:embed="rId5"/>
            <a:stretch/>
          </p:blipFill>
          <p:spPr>
            <a:xfrm>
              <a:off x="635040" y="3378240"/>
              <a:ext cx="9316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Oval 163"/>
            <p:cNvSpPr/>
            <p:nvPr/>
          </p:nvSpPr>
          <p:spPr>
            <a:xfrm>
              <a:off x="1079640" y="3706920"/>
              <a:ext cx="7452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Group 215"/>
          <p:cNvGrpSpPr/>
          <p:nvPr/>
        </p:nvGrpSpPr>
        <p:grpSpPr>
          <a:xfrm>
            <a:off x="2057400" y="3505320"/>
            <a:ext cx="1371600" cy="761760"/>
            <a:chOff x="2057400" y="3505320"/>
            <a:chExt cx="1371600" cy="761760"/>
          </a:xfrm>
        </p:grpSpPr>
        <p:sp>
          <p:nvSpPr>
            <p:cNvPr id="796" name="AutoShape 164"/>
            <p:cNvSpPr/>
            <p:nvPr/>
          </p:nvSpPr>
          <p:spPr>
            <a:xfrm>
              <a:off x="2057400" y="3505320"/>
              <a:ext cx="1371600" cy="761760"/>
            </a:xfrm>
            <a:prstGeom prst="wedgeRoundRectCallout">
              <a:avLst>
                <a:gd name="adj1" fmla="val -115740"/>
                <a:gd name="adj2" fmla="val 4374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Text Box 166"/>
            <p:cNvSpPr/>
            <p:nvPr/>
          </p:nvSpPr>
          <p:spPr>
            <a:xfrm>
              <a:off x="2207880" y="3505320"/>
              <a:ext cx="118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te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amp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Group 211"/>
          <p:cNvGrpSpPr/>
          <p:nvPr/>
        </p:nvGrpSpPr>
        <p:grpSpPr>
          <a:xfrm>
            <a:off x="3888720" y="4761000"/>
            <a:ext cx="2055600" cy="951120"/>
            <a:chOff x="3888720" y="4761000"/>
            <a:chExt cx="2055600" cy="951120"/>
          </a:xfrm>
        </p:grpSpPr>
        <p:sp>
          <p:nvSpPr>
            <p:cNvPr id="799" name="AutoShape 179"/>
            <p:cNvSpPr/>
            <p:nvPr/>
          </p:nvSpPr>
          <p:spPr>
            <a:xfrm>
              <a:off x="3888720" y="5127120"/>
              <a:ext cx="2055600" cy="585000"/>
            </a:xfrm>
            <a:prstGeom prst="hexagon">
              <a:avLst>
                <a:gd name="adj" fmla="val 87846"/>
                <a:gd name="vf" fmla="val 115470"/>
              </a:avLst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AutoShape 184"/>
            <p:cNvSpPr/>
            <p:nvPr/>
          </p:nvSpPr>
          <p:spPr>
            <a:xfrm>
              <a:off x="4802040" y="4761000"/>
              <a:ext cx="228600" cy="380880"/>
            </a:xfrm>
            <a:prstGeom prst="downArrow">
              <a:avLst>
                <a:gd name="adj1" fmla="val 50000"/>
                <a:gd name="adj2" fmla="val 41654"/>
              </a:avLst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Group 210"/>
          <p:cNvGrpSpPr/>
          <p:nvPr/>
        </p:nvGrpSpPr>
        <p:grpSpPr>
          <a:xfrm>
            <a:off x="2742120" y="3276720"/>
            <a:ext cx="4878000" cy="1470960"/>
            <a:chOff x="2742120" y="3276720"/>
            <a:chExt cx="4878000" cy="1470960"/>
          </a:xfrm>
        </p:grpSpPr>
        <p:sp>
          <p:nvSpPr>
            <p:cNvPr id="802" name="Text Box 169"/>
            <p:cNvSpPr/>
            <p:nvPr/>
          </p:nvSpPr>
          <p:spPr>
            <a:xfrm>
              <a:off x="3889080" y="3809880"/>
              <a:ext cx="20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chine Lear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Rectangle 175"/>
            <p:cNvSpPr/>
            <p:nvPr/>
          </p:nvSpPr>
          <p:spPr>
            <a:xfrm>
              <a:off x="3963960" y="4348800"/>
              <a:ext cx="1905120" cy="3988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4" name="AutoShape 189"/>
            <p:cNvCxnSpPr>
              <a:stCxn id="805" idx="3"/>
              <a:endCxn id="803" idx="3"/>
            </p:cNvCxnSpPr>
            <p:nvPr/>
          </p:nvCxnSpPr>
          <p:spPr>
            <a:xfrm rot="5400000">
              <a:off x="6108480" y="3036960"/>
              <a:ext cx="1271880" cy="1751760"/>
            </a:xfrm>
            <a:prstGeom prst="curvedConnector2">
              <a:avLst/>
            </a:prstGeom>
            <a:ln w="57240">
              <a:solidFill>
                <a:srgbClr val="339966"/>
              </a:solidFill>
              <a:miter/>
              <a:tailEnd len="med" type="triangle" w="med"/>
            </a:ln>
          </p:spPr>
        </p:cxnSp>
        <p:cxnSp>
          <p:nvCxnSpPr>
            <p:cNvPr id="806" name="AutoShape 190"/>
            <p:cNvCxnSpPr>
              <a:stCxn id="796" idx="0"/>
              <a:endCxn id="803" idx="1"/>
            </p:cNvCxnSpPr>
            <p:nvPr/>
          </p:nvCxnSpPr>
          <p:spPr>
            <a:xfrm flipH="1" rot="16200000">
              <a:off x="3216960" y="3801960"/>
              <a:ext cx="272160" cy="1221480"/>
            </a:xfrm>
            <a:prstGeom prst="curvedConnector2">
              <a:avLst/>
            </a:prstGeom>
            <a:ln w="57240">
              <a:solidFill>
                <a:srgbClr val="339966"/>
              </a:solidFill>
              <a:miter/>
              <a:tailEnd len="med" type="triangle" w="med"/>
            </a:ln>
          </p:spPr>
        </p:cxnSp>
      </p:grpSp>
      <p:grpSp>
        <p:nvGrpSpPr>
          <p:cNvPr id="807" name="Group 205"/>
          <p:cNvGrpSpPr/>
          <p:nvPr/>
        </p:nvGrpSpPr>
        <p:grpSpPr>
          <a:xfrm>
            <a:off x="2717640" y="2086560"/>
            <a:ext cx="2786040" cy="703800"/>
            <a:chOff x="2717640" y="2086560"/>
            <a:chExt cx="2786040" cy="703800"/>
          </a:xfrm>
        </p:grpSpPr>
        <p:sp>
          <p:nvSpPr>
            <p:cNvPr id="808" name="Rectangle 12"/>
            <p:cNvSpPr/>
            <p:nvPr/>
          </p:nvSpPr>
          <p:spPr>
            <a:xfrm>
              <a:off x="4103640" y="2086560"/>
              <a:ext cx="1400040" cy="703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tr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193"/>
            <p:cNvSpPr/>
            <p:nvPr/>
          </p:nvSpPr>
          <p:spPr>
            <a:xfrm>
              <a:off x="2717640" y="2405160"/>
              <a:ext cx="1390680" cy="0"/>
            </a:xfrm>
            <a:prstGeom prst="line">
              <a:avLst/>
            </a:prstGeom>
            <a:ln w="5724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Group 207"/>
          <p:cNvGrpSpPr/>
          <p:nvPr/>
        </p:nvGrpSpPr>
        <p:grpSpPr>
          <a:xfrm>
            <a:off x="5573880" y="1371600"/>
            <a:ext cx="3036600" cy="1905120"/>
            <a:chOff x="5573880" y="1371600"/>
            <a:chExt cx="3036600" cy="1905120"/>
          </a:xfrm>
        </p:grpSpPr>
        <p:sp>
          <p:nvSpPr>
            <p:cNvPr id="805" name="AutoShape 17"/>
            <p:cNvSpPr/>
            <p:nvPr/>
          </p:nvSpPr>
          <p:spPr>
            <a:xfrm>
              <a:off x="6858000" y="1371600"/>
              <a:ext cx="1523880" cy="1905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Text Box 18"/>
            <p:cNvSpPr/>
            <p:nvPr/>
          </p:nvSpPr>
          <p:spPr>
            <a:xfrm>
              <a:off x="6705720" y="1752480"/>
              <a:ext cx="190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BRA 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Group 79"/>
            <p:cNvGrpSpPr/>
            <p:nvPr/>
          </p:nvGrpSpPr>
          <p:grpSpPr>
            <a:xfrm>
              <a:off x="6961320" y="2438280"/>
              <a:ext cx="228600" cy="304560"/>
              <a:chOff x="6961320" y="2438280"/>
              <a:chExt cx="228600" cy="304560"/>
            </a:xfrm>
          </p:grpSpPr>
          <p:sp>
            <p:nvSpPr>
              <p:cNvPr id="813" name="Rectangle 80"/>
              <p:cNvSpPr/>
              <p:nvPr/>
            </p:nvSpPr>
            <p:spPr>
              <a:xfrm>
                <a:off x="6961320" y="243828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Line 81"/>
              <p:cNvSpPr/>
              <p:nvPr/>
            </p:nvSpPr>
            <p:spPr>
              <a:xfrm>
                <a:off x="6988320" y="248904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Line 82"/>
              <p:cNvSpPr/>
              <p:nvPr/>
            </p:nvSpPr>
            <p:spPr>
              <a:xfrm>
                <a:off x="6988320" y="253044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Line 83"/>
              <p:cNvSpPr/>
              <p:nvPr/>
            </p:nvSpPr>
            <p:spPr>
              <a:xfrm>
                <a:off x="6988320" y="261432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Line 84"/>
              <p:cNvSpPr/>
              <p:nvPr/>
            </p:nvSpPr>
            <p:spPr>
              <a:xfrm>
                <a:off x="6988320" y="265572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Line 85"/>
              <p:cNvSpPr/>
              <p:nvPr/>
            </p:nvSpPr>
            <p:spPr>
              <a:xfrm>
                <a:off x="6988320" y="257148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Line 86"/>
              <p:cNvSpPr/>
              <p:nvPr/>
            </p:nvSpPr>
            <p:spPr>
              <a:xfrm>
                <a:off x="6988320" y="269856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87"/>
            <p:cNvGrpSpPr/>
            <p:nvPr/>
          </p:nvGrpSpPr>
          <p:grpSpPr>
            <a:xfrm>
              <a:off x="7113600" y="2590920"/>
              <a:ext cx="228600" cy="304560"/>
              <a:chOff x="7113600" y="2590920"/>
              <a:chExt cx="228600" cy="304560"/>
            </a:xfrm>
          </p:grpSpPr>
          <p:sp>
            <p:nvSpPr>
              <p:cNvPr id="821" name="Rectangle 88"/>
              <p:cNvSpPr/>
              <p:nvPr/>
            </p:nvSpPr>
            <p:spPr>
              <a:xfrm>
                <a:off x="7113600" y="259092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Line 89"/>
              <p:cNvSpPr/>
              <p:nvPr/>
            </p:nvSpPr>
            <p:spPr>
              <a:xfrm>
                <a:off x="7140600" y="264168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Line 90"/>
              <p:cNvSpPr/>
              <p:nvPr/>
            </p:nvSpPr>
            <p:spPr>
              <a:xfrm>
                <a:off x="7140600" y="268308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Line 91"/>
              <p:cNvSpPr/>
              <p:nvPr/>
            </p:nvSpPr>
            <p:spPr>
              <a:xfrm>
                <a:off x="7140600" y="276696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Line 92"/>
              <p:cNvSpPr/>
              <p:nvPr/>
            </p:nvSpPr>
            <p:spPr>
              <a:xfrm>
                <a:off x="7140600" y="280836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Line 93"/>
              <p:cNvSpPr/>
              <p:nvPr/>
            </p:nvSpPr>
            <p:spPr>
              <a:xfrm>
                <a:off x="7140600" y="272412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94"/>
              <p:cNvSpPr/>
              <p:nvPr/>
            </p:nvSpPr>
            <p:spPr>
              <a:xfrm>
                <a:off x="7140600" y="285120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Group 95"/>
            <p:cNvGrpSpPr/>
            <p:nvPr/>
          </p:nvGrpSpPr>
          <p:grpSpPr>
            <a:xfrm>
              <a:off x="7265880" y="2743200"/>
              <a:ext cx="228600" cy="304560"/>
              <a:chOff x="7265880" y="2743200"/>
              <a:chExt cx="228600" cy="304560"/>
            </a:xfrm>
          </p:grpSpPr>
          <p:sp>
            <p:nvSpPr>
              <p:cNvPr id="829" name="Rectangle 96"/>
              <p:cNvSpPr/>
              <p:nvPr/>
            </p:nvSpPr>
            <p:spPr>
              <a:xfrm>
                <a:off x="7265880" y="274320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Line 97"/>
              <p:cNvSpPr/>
              <p:nvPr/>
            </p:nvSpPr>
            <p:spPr>
              <a:xfrm>
                <a:off x="7292880" y="279396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Line 98"/>
              <p:cNvSpPr/>
              <p:nvPr/>
            </p:nvSpPr>
            <p:spPr>
              <a:xfrm>
                <a:off x="7292880" y="283536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Line 99"/>
              <p:cNvSpPr/>
              <p:nvPr/>
            </p:nvSpPr>
            <p:spPr>
              <a:xfrm>
                <a:off x="7292880" y="291924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Line 100"/>
              <p:cNvSpPr/>
              <p:nvPr/>
            </p:nvSpPr>
            <p:spPr>
              <a:xfrm>
                <a:off x="7292880" y="296064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Line 101"/>
              <p:cNvSpPr/>
              <p:nvPr/>
            </p:nvSpPr>
            <p:spPr>
              <a:xfrm>
                <a:off x="7292880" y="287640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Line 102"/>
              <p:cNvSpPr/>
              <p:nvPr/>
            </p:nvSpPr>
            <p:spPr>
              <a:xfrm>
                <a:off x="7292880" y="300348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Group 103"/>
            <p:cNvGrpSpPr/>
            <p:nvPr/>
          </p:nvGrpSpPr>
          <p:grpSpPr>
            <a:xfrm>
              <a:off x="7418520" y="2895480"/>
              <a:ext cx="228600" cy="304560"/>
              <a:chOff x="7418520" y="2895480"/>
              <a:chExt cx="228600" cy="304560"/>
            </a:xfrm>
          </p:grpSpPr>
          <p:sp>
            <p:nvSpPr>
              <p:cNvPr id="837" name="Rectangle 104"/>
              <p:cNvSpPr/>
              <p:nvPr/>
            </p:nvSpPr>
            <p:spPr>
              <a:xfrm>
                <a:off x="7418520" y="289548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105"/>
              <p:cNvSpPr/>
              <p:nvPr/>
            </p:nvSpPr>
            <p:spPr>
              <a:xfrm>
                <a:off x="7445520" y="294624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106"/>
              <p:cNvSpPr/>
              <p:nvPr/>
            </p:nvSpPr>
            <p:spPr>
              <a:xfrm>
                <a:off x="7445520" y="298764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Line 107"/>
              <p:cNvSpPr/>
              <p:nvPr/>
            </p:nvSpPr>
            <p:spPr>
              <a:xfrm>
                <a:off x="7445520" y="307152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8"/>
              <p:cNvSpPr/>
              <p:nvPr/>
            </p:nvSpPr>
            <p:spPr>
              <a:xfrm>
                <a:off x="7445520" y="311292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Line 109"/>
              <p:cNvSpPr/>
              <p:nvPr/>
            </p:nvSpPr>
            <p:spPr>
              <a:xfrm>
                <a:off x="7445520" y="302868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Line 110"/>
              <p:cNvSpPr/>
              <p:nvPr/>
            </p:nvSpPr>
            <p:spPr>
              <a:xfrm>
                <a:off x="7445520" y="315576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Group 127"/>
            <p:cNvGrpSpPr/>
            <p:nvPr/>
          </p:nvGrpSpPr>
          <p:grpSpPr>
            <a:xfrm>
              <a:off x="7543800" y="2362320"/>
              <a:ext cx="228600" cy="304560"/>
              <a:chOff x="7543800" y="2362320"/>
              <a:chExt cx="228600" cy="304560"/>
            </a:xfrm>
          </p:grpSpPr>
          <p:sp>
            <p:nvSpPr>
              <p:cNvPr id="845" name="Rectangle 128"/>
              <p:cNvSpPr/>
              <p:nvPr/>
            </p:nvSpPr>
            <p:spPr>
              <a:xfrm>
                <a:off x="7543800" y="236232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Line 129"/>
              <p:cNvSpPr/>
              <p:nvPr/>
            </p:nvSpPr>
            <p:spPr>
              <a:xfrm>
                <a:off x="7570800" y="241308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30"/>
              <p:cNvSpPr/>
              <p:nvPr/>
            </p:nvSpPr>
            <p:spPr>
              <a:xfrm>
                <a:off x="7570800" y="245448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31"/>
              <p:cNvSpPr/>
              <p:nvPr/>
            </p:nvSpPr>
            <p:spPr>
              <a:xfrm>
                <a:off x="7570800" y="253836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132"/>
              <p:cNvSpPr/>
              <p:nvPr/>
            </p:nvSpPr>
            <p:spPr>
              <a:xfrm>
                <a:off x="7570800" y="257976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Line 133"/>
              <p:cNvSpPr/>
              <p:nvPr/>
            </p:nvSpPr>
            <p:spPr>
              <a:xfrm>
                <a:off x="7570800" y="249552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Line 134"/>
              <p:cNvSpPr/>
              <p:nvPr/>
            </p:nvSpPr>
            <p:spPr>
              <a:xfrm>
                <a:off x="7570800" y="262260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Group 135"/>
            <p:cNvGrpSpPr/>
            <p:nvPr/>
          </p:nvGrpSpPr>
          <p:grpSpPr>
            <a:xfrm>
              <a:off x="7696080" y="2514600"/>
              <a:ext cx="228600" cy="304560"/>
              <a:chOff x="7696080" y="2514600"/>
              <a:chExt cx="228600" cy="304560"/>
            </a:xfrm>
          </p:grpSpPr>
          <p:sp>
            <p:nvSpPr>
              <p:cNvPr id="853" name="Rectangle 136"/>
              <p:cNvSpPr/>
              <p:nvPr/>
            </p:nvSpPr>
            <p:spPr>
              <a:xfrm>
                <a:off x="7696080" y="251460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Line 137"/>
              <p:cNvSpPr/>
              <p:nvPr/>
            </p:nvSpPr>
            <p:spPr>
              <a:xfrm>
                <a:off x="7723080" y="256536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Line 138"/>
              <p:cNvSpPr/>
              <p:nvPr/>
            </p:nvSpPr>
            <p:spPr>
              <a:xfrm>
                <a:off x="7723080" y="260676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Line 139"/>
              <p:cNvSpPr/>
              <p:nvPr/>
            </p:nvSpPr>
            <p:spPr>
              <a:xfrm>
                <a:off x="7723080" y="269064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Line 140"/>
              <p:cNvSpPr/>
              <p:nvPr/>
            </p:nvSpPr>
            <p:spPr>
              <a:xfrm>
                <a:off x="7723080" y="273204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Line 141"/>
              <p:cNvSpPr/>
              <p:nvPr/>
            </p:nvSpPr>
            <p:spPr>
              <a:xfrm>
                <a:off x="7723080" y="264780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Line 142"/>
              <p:cNvSpPr/>
              <p:nvPr/>
            </p:nvSpPr>
            <p:spPr>
              <a:xfrm>
                <a:off x="7723080" y="277488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Group 143"/>
            <p:cNvGrpSpPr/>
            <p:nvPr/>
          </p:nvGrpSpPr>
          <p:grpSpPr>
            <a:xfrm>
              <a:off x="7848720" y="2666880"/>
              <a:ext cx="228600" cy="304560"/>
              <a:chOff x="7848720" y="2666880"/>
              <a:chExt cx="228600" cy="304560"/>
            </a:xfrm>
          </p:grpSpPr>
          <p:sp>
            <p:nvSpPr>
              <p:cNvPr id="861" name="Rectangle 144"/>
              <p:cNvSpPr/>
              <p:nvPr/>
            </p:nvSpPr>
            <p:spPr>
              <a:xfrm>
                <a:off x="7848720" y="266688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Line 145"/>
              <p:cNvSpPr/>
              <p:nvPr/>
            </p:nvSpPr>
            <p:spPr>
              <a:xfrm>
                <a:off x="7875720" y="271764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Line 146"/>
              <p:cNvSpPr/>
              <p:nvPr/>
            </p:nvSpPr>
            <p:spPr>
              <a:xfrm>
                <a:off x="7875720" y="275904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Line 147"/>
              <p:cNvSpPr/>
              <p:nvPr/>
            </p:nvSpPr>
            <p:spPr>
              <a:xfrm>
                <a:off x="7875720" y="284292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Line 148"/>
              <p:cNvSpPr/>
              <p:nvPr/>
            </p:nvSpPr>
            <p:spPr>
              <a:xfrm>
                <a:off x="7875720" y="288432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Line 149"/>
              <p:cNvSpPr/>
              <p:nvPr/>
            </p:nvSpPr>
            <p:spPr>
              <a:xfrm>
                <a:off x="7875720" y="280008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Line 150"/>
              <p:cNvSpPr/>
              <p:nvPr/>
            </p:nvSpPr>
            <p:spPr>
              <a:xfrm>
                <a:off x="7875720" y="292716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Group 151"/>
            <p:cNvGrpSpPr/>
            <p:nvPr/>
          </p:nvGrpSpPr>
          <p:grpSpPr>
            <a:xfrm>
              <a:off x="8001000" y="2819520"/>
              <a:ext cx="228600" cy="304560"/>
              <a:chOff x="8001000" y="2819520"/>
              <a:chExt cx="228600" cy="304560"/>
            </a:xfrm>
          </p:grpSpPr>
          <p:sp>
            <p:nvSpPr>
              <p:cNvPr id="869" name="Rectangle 152"/>
              <p:cNvSpPr/>
              <p:nvPr/>
            </p:nvSpPr>
            <p:spPr>
              <a:xfrm>
                <a:off x="8001000" y="281952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Line 153"/>
              <p:cNvSpPr/>
              <p:nvPr/>
            </p:nvSpPr>
            <p:spPr>
              <a:xfrm>
                <a:off x="8028000" y="287028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Line 154"/>
              <p:cNvSpPr/>
              <p:nvPr/>
            </p:nvSpPr>
            <p:spPr>
              <a:xfrm>
                <a:off x="8028000" y="291168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Line 155"/>
              <p:cNvSpPr/>
              <p:nvPr/>
            </p:nvSpPr>
            <p:spPr>
              <a:xfrm>
                <a:off x="8028000" y="299556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Line 156"/>
              <p:cNvSpPr/>
              <p:nvPr/>
            </p:nvSpPr>
            <p:spPr>
              <a:xfrm>
                <a:off x="8028000" y="303696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Line 157"/>
              <p:cNvSpPr/>
              <p:nvPr/>
            </p:nvSpPr>
            <p:spPr>
              <a:xfrm>
                <a:off x="8028000" y="295272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Line 158"/>
              <p:cNvSpPr/>
              <p:nvPr/>
            </p:nvSpPr>
            <p:spPr>
              <a:xfrm>
                <a:off x="8028000" y="307980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6" name="Line 194"/>
            <p:cNvSpPr/>
            <p:nvPr/>
          </p:nvSpPr>
          <p:spPr>
            <a:xfrm>
              <a:off x="5573880" y="2367000"/>
              <a:ext cx="1265040" cy="0"/>
            </a:xfrm>
            <a:prstGeom prst="line">
              <a:avLst/>
            </a:prstGeom>
            <a:ln w="5724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Group 214"/>
          <p:cNvGrpSpPr/>
          <p:nvPr/>
        </p:nvGrpSpPr>
        <p:grpSpPr>
          <a:xfrm>
            <a:off x="1714680" y="4889520"/>
            <a:ext cx="2293560" cy="1765440"/>
            <a:chOff x="1714680" y="4889520"/>
            <a:chExt cx="2293560" cy="1765440"/>
          </a:xfrm>
        </p:grpSpPr>
        <p:sp>
          <p:nvSpPr>
            <p:cNvPr id="878" name="Rectangle 198"/>
            <p:cNvSpPr/>
            <p:nvPr/>
          </p:nvSpPr>
          <p:spPr>
            <a:xfrm>
              <a:off x="1727280" y="4902120"/>
              <a:ext cx="1560600" cy="175284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Line 201"/>
            <p:cNvSpPr/>
            <p:nvPr/>
          </p:nvSpPr>
          <p:spPr>
            <a:xfrm flipH="1">
              <a:off x="3268440" y="6326280"/>
              <a:ext cx="739800" cy="0"/>
            </a:xfrm>
            <a:prstGeom prst="line">
              <a:avLst/>
            </a:prstGeom>
            <a:ln w="5724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Text Box 197"/>
            <p:cNvSpPr/>
            <p:nvPr/>
          </p:nvSpPr>
          <p:spPr>
            <a:xfrm>
              <a:off x="1714680" y="4889520"/>
              <a:ext cx="158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commend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Text Box 199"/>
            <p:cNvSpPr/>
            <p:nvPr/>
          </p:nvSpPr>
          <p:spPr>
            <a:xfrm>
              <a:off x="1882080" y="5207040"/>
              <a:ext cx="9867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.~~~~~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.~~~~~~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.~~~~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Group 212"/>
          <p:cNvGrpSpPr/>
          <p:nvPr/>
        </p:nvGrpSpPr>
        <p:grpSpPr>
          <a:xfrm>
            <a:off x="4002120" y="3276720"/>
            <a:ext cx="3618000" cy="3299760"/>
            <a:chOff x="4002120" y="3276720"/>
            <a:chExt cx="3618000" cy="3299760"/>
          </a:xfrm>
        </p:grpSpPr>
        <p:sp>
          <p:nvSpPr>
            <p:cNvPr id="883" name="Rectangle 177"/>
            <p:cNvSpPr/>
            <p:nvPr/>
          </p:nvSpPr>
          <p:spPr>
            <a:xfrm>
              <a:off x="4002120" y="6177600"/>
              <a:ext cx="1828800" cy="398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di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AutoShape 185"/>
            <p:cNvSpPr/>
            <p:nvPr/>
          </p:nvSpPr>
          <p:spPr>
            <a:xfrm>
              <a:off x="4802040" y="5676840"/>
              <a:ext cx="228600" cy="381240"/>
            </a:xfrm>
            <a:prstGeom prst="downArrow">
              <a:avLst>
                <a:gd name="adj1" fmla="val 50000"/>
                <a:gd name="adj2" fmla="val 41693"/>
              </a:avLst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5" name="AutoShape 203"/>
            <p:cNvCxnSpPr>
              <a:stCxn id="805" idx="3"/>
              <a:endCxn id="883" idx="3"/>
            </p:cNvCxnSpPr>
            <p:nvPr/>
          </p:nvCxnSpPr>
          <p:spPr>
            <a:xfrm rot="5400000">
              <a:off x="5174640" y="3932280"/>
              <a:ext cx="3101040" cy="1789920"/>
            </a:xfrm>
            <a:prstGeom prst="curvedConnector2">
              <a:avLst/>
            </a:prstGeom>
            <a:ln w="57240">
              <a:solidFill>
                <a:srgbClr val="3399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4905-C0CF-4588-AE19-1B7D67889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commender Syste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 for recommending items (e.g. books, movies, CD’s, web pages, newsgroup messages) to users based on examples of their prefer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websites provide recommendations (e.g. Amazon, NetFlix, Pandor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rs have been shown to substantially increase sales at on-line st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basic approaches to recommen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llaborative Filtering (a.k.a. social filtering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tent-bas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0480-DAAF-4174-915B-073CB0544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Amazon Pag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8" name="Text Box 3"/>
          <p:cNvSpPr/>
          <p:nvPr/>
        </p:nvSpPr>
        <p:spPr>
          <a:xfrm>
            <a:off x="2432880" y="287172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Age of Spiritual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E05C-7406-4653-9F1F-1D7DA2C1D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Extracted Inform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1" name="Text Box 3"/>
          <p:cNvSpPr/>
          <p:nvPr/>
        </p:nvSpPr>
        <p:spPr>
          <a:xfrm>
            <a:off x="132840" y="1447920"/>
            <a:ext cx="9056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tle: &lt;The Age of Spiritual Machines: When Computers Exceed Human Intellig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:  &lt;Ray Kurzwei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ce: &lt;11.96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ation Date: &lt;January 2000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BN: &lt;0140282025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ed Titles:  &lt;Title: &lt;Robot: Mere Machine or Transcendent Min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: &lt;Hans Moravec&gt;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s: &lt;Author: &lt;Amazon.com Reviews&gt; Text: &lt;How much do we humans…&gt;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s: &lt;Stars: &lt;4&gt; Author: &lt;Stephen A. Haines&gt; Text:&lt;Kurzweil has …&gt; 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ed Authors: &lt;Hans P. Moravec&gt; &lt;K. Eric Drexler&gt;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jects: &lt;Science/Mathematics&gt; &lt;Computers&gt; &lt;Artificial Intelligence&gt;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6F95-749A-4EE5-A1FD-4E5006330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bra Content Inform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a uses this extracted information to form “bags of words” for the following slo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utho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itl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scription (reviews and comments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ubject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lated Tit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lated Author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0EBC-5DE8-4271-8FFE-77106EBCF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bra Overview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rates selected titles on a 1 to 10 sc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 uses a naïve Bayesian text-categorization algorithm to learn a profile from these rated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ating 6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0:  Positiv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ating 1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5:    Negativ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rned profile is used to rank all other books as recommendations based on the computed posterior probability that they are positi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an also provide explicit positive/negative keywords, which are used as priors to bias the role of these features in catego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A664-984A-4B3E-9D9B-4B1D93987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yesian Categorization in LIBR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is generalized to generate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bags of words (one bag for each slo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stances of the same word in different slots are treated as separate features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hrichton” in author vs. “Chrichton” in description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examples are treat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eight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or negative examples when estimating conditional probability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n example with rating 1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10 is given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sitiv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probability: 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)/9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negativ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probability: (10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/9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04AB-87F2-464C-8CC3-001DDA11A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mplement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words removed from all ba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ook’s title and author are added to its own related title and related author slo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robabilities are smoothed using Laplace estimation to account for small sample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implementation is quite effici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raining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20 exs in 0.4 secs, 840 exs in 11.5 sec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es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200 books per secon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4D98-E332-4C10-905A-82F128861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lanations of Profiles and Recommend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ture strength of wor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pearing in a slo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Object 4"/>
              <p:cNvSpPr txBox="1"/>
              <p:nvPr/>
            </p:nvSpPr>
            <p:spPr>
              <a:xfrm>
                <a:off x="1219320" y="2666880"/>
                <a:ext cx="605772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rengt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positive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gative,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C30B-2B8C-41B6-B92A-7BB44D7FC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bra Demo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0" name="Text Box 3"/>
          <p:cNvSpPr/>
          <p:nvPr/>
        </p:nvSpPr>
        <p:spPr>
          <a:xfrm>
            <a:off x="914400" y="32004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cs.utexas.edu/users/lib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01E7-108C-40AD-A95A-9667673D1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Dat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azon searches were used to find books in various gen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tles that have at least one review or comment were ke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e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iterature fiction:  3,061 tit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ystery:                7,285 tit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cience:                 3,813 tit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cience Fiction:     3.813 tit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2EE1-7C00-438E-999F-DAE5E607F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ated Dat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users rated random examples within a genre by reviewing the Amazon pages about the tit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IT1   936 tit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IT2   935 tit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YST 500 tit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CI      500 tit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F        500 tit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583F-3173-4A14-93AD-26307DFFD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ok Recommend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603" name="Group 61"/>
          <p:cNvGrpSpPr/>
          <p:nvPr/>
        </p:nvGrpSpPr>
        <p:grpSpPr>
          <a:xfrm>
            <a:off x="1371600" y="1600200"/>
            <a:ext cx="569520" cy="689040"/>
            <a:chOff x="1371600" y="1600200"/>
            <a:chExt cx="569520" cy="689040"/>
          </a:xfrm>
        </p:grpSpPr>
        <p:sp>
          <p:nvSpPr>
            <p:cNvPr id="604" name="Rectangle 62"/>
            <p:cNvSpPr/>
            <p:nvPr/>
          </p:nvSpPr>
          <p:spPr>
            <a:xfrm>
              <a:off x="1371600" y="1603440"/>
              <a:ext cx="533160" cy="68580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63"/>
            <p:cNvSpPr/>
            <p:nvPr/>
          </p:nvSpPr>
          <p:spPr>
            <a:xfrm>
              <a:off x="1455480" y="1600200"/>
              <a:ext cx="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64"/>
            <p:cNvSpPr/>
            <p:nvPr/>
          </p:nvSpPr>
          <p:spPr>
            <a:xfrm>
              <a:off x="1447920" y="1679760"/>
              <a:ext cx="493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Group 92"/>
          <p:cNvGrpSpPr/>
          <p:nvPr/>
        </p:nvGrpSpPr>
        <p:grpSpPr>
          <a:xfrm>
            <a:off x="1371600" y="3244680"/>
            <a:ext cx="558360" cy="697320"/>
            <a:chOff x="1371600" y="3244680"/>
            <a:chExt cx="558360" cy="697320"/>
          </a:xfrm>
        </p:grpSpPr>
        <p:sp>
          <p:nvSpPr>
            <p:cNvPr id="608" name="Rectangle 66"/>
            <p:cNvSpPr/>
            <p:nvPr/>
          </p:nvSpPr>
          <p:spPr>
            <a:xfrm>
              <a:off x="1371600" y="3247920"/>
              <a:ext cx="533520" cy="685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67"/>
            <p:cNvSpPr/>
            <p:nvPr/>
          </p:nvSpPr>
          <p:spPr>
            <a:xfrm>
              <a:off x="1455840" y="3244680"/>
              <a:ext cx="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Text Box 68"/>
            <p:cNvSpPr/>
            <p:nvPr/>
          </p:nvSpPr>
          <p:spPr>
            <a:xfrm>
              <a:off x="1386360" y="3300480"/>
              <a:ext cx="543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uras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Group 93"/>
          <p:cNvGrpSpPr/>
          <p:nvPr/>
        </p:nvGrpSpPr>
        <p:grpSpPr>
          <a:xfrm>
            <a:off x="1371600" y="4068720"/>
            <a:ext cx="595800" cy="689040"/>
            <a:chOff x="1371600" y="4068720"/>
            <a:chExt cx="595800" cy="689040"/>
          </a:xfrm>
        </p:grpSpPr>
        <p:sp>
          <p:nvSpPr>
            <p:cNvPr id="612" name="Rectangle 70"/>
            <p:cNvSpPr/>
            <p:nvPr/>
          </p:nvSpPr>
          <p:spPr>
            <a:xfrm>
              <a:off x="1371600" y="4071960"/>
              <a:ext cx="533520" cy="6858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71"/>
            <p:cNvSpPr/>
            <p:nvPr/>
          </p:nvSpPr>
          <p:spPr>
            <a:xfrm>
              <a:off x="1455840" y="4068720"/>
              <a:ext cx="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72"/>
            <p:cNvSpPr/>
            <p:nvPr/>
          </p:nvSpPr>
          <p:spPr>
            <a:xfrm>
              <a:off x="1397880" y="4122720"/>
              <a:ext cx="56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o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or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Group 94"/>
          <p:cNvGrpSpPr/>
          <p:nvPr/>
        </p:nvGrpSpPr>
        <p:grpSpPr>
          <a:xfrm>
            <a:off x="1371600" y="4876920"/>
            <a:ext cx="533520" cy="688680"/>
            <a:chOff x="1371600" y="4876920"/>
            <a:chExt cx="533520" cy="688680"/>
          </a:xfrm>
        </p:grpSpPr>
        <p:sp>
          <p:nvSpPr>
            <p:cNvPr id="616" name="Rectangle 74"/>
            <p:cNvSpPr/>
            <p:nvPr/>
          </p:nvSpPr>
          <p:spPr>
            <a:xfrm>
              <a:off x="1371600" y="4879800"/>
              <a:ext cx="533520" cy="6858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75"/>
            <p:cNvSpPr/>
            <p:nvPr/>
          </p:nvSpPr>
          <p:spPr>
            <a:xfrm>
              <a:off x="1455840" y="4876920"/>
              <a:ext cx="0" cy="68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76"/>
            <p:cNvSpPr/>
            <p:nvPr/>
          </p:nvSpPr>
          <p:spPr>
            <a:xfrm>
              <a:off x="1395360" y="495288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Group 91"/>
          <p:cNvGrpSpPr/>
          <p:nvPr/>
        </p:nvGrpSpPr>
        <p:grpSpPr>
          <a:xfrm>
            <a:off x="1371600" y="2422440"/>
            <a:ext cx="608760" cy="689040"/>
            <a:chOff x="1371600" y="2422440"/>
            <a:chExt cx="608760" cy="689040"/>
          </a:xfrm>
        </p:grpSpPr>
        <p:sp>
          <p:nvSpPr>
            <p:cNvPr id="620" name="Rectangle 78"/>
            <p:cNvSpPr/>
            <p:nvPr/>
          </p:nvSpPr>
          <p:spPr>
            <a:xfrm>
              <a:off x="1371600" y="2425680"/>
              <a:ext cx="533520" cy="68580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79"/>
            <p:cNvSpPr/>
            <p:nvPr/>
          </p:nvSpPr>
          <p:spPr>
            <a:xfrm>
              <a:off x="1455840" y="2422440"/>
              <a:ext cx="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Text Box 80"/>
            <p:cNvSpPr/>
            <p:nvPr/>
          </p:nvSpPr>
          <p:spPr>
            <a:xfrm>
              <a:off x="1409400" y="2514600"/>
              <a:ext cx="570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u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Group 95"/>
          <p:cNvGrpSpPr/>
          <p:nvPr/>
        </p:nvGrpSpPr>
        <p:grpSpPr>
          <a:xfrm>
            <a:off x="1371600" y="5702400"/>
            <a:ext cx="636840" cy="701640"/>
            <a:chOff x="1371600" y="5702400"/>
            <a:chExt cx="636840" cy="701640"/>
          </a:xfrm>
        </p:grpSpPr>
        <p:sp>
          <p:nvSpPr>
            <p:cNvPr id="624" name="Rectangle 82"/>
            <p:cNvSpPr/>
            <p:nvPr/>
          </p:nvSpPr>
          <p:spPr>
            <a:xfrm>
              <a:off x="1371600" y="5718240"/>
              <a:ext cx="533520" cy="68580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83"/>
            <p:cNvSpPr/>
            <p:nvPr/>
          </p:nvSpPr>
          <p:spPr>
            <a:xfrm>
              <a:off x="1455840" y="5715000"/>
              <a:ext cx="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84"/>
            <p:cNvSpPr/>
            <p:nvPr/>
          </p:nvSpPr>
          <p:spPr>
            <a:xfrm>
              <a:off x="1396440" y="5702400"/>
              <a:ext cx="612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iffer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ng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7" name="Picture 85" descr="A:\thumbs-up.gif"/>
          <p:cNvPicPr/>
          <p:nvPr/>
        </p:nvPicPr>
        <p:blipFill>
          <a:blip r:embed="rId1"/>
          <a:stretch/>
        </p:blipFill>
        <p:spPr>
          <a:xfrm>
            <a:off x="457200" y="1523880"/>
            <a:ext cx="789120" cy="7430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6" descr="A:\thumbs-up.gif"/>
          <p:cNvPicPr/>
          <p:nvPr/>
        </p:nvPicPr>
        <p:blipFill>
          <a:blip r:embed="rId2"/>
          <a:stretch/>
        </p:blipFill>
        <p:spPr>
          <a:xfrm>
            <a:off x="533520" y="2362320"/>
            <a:ext cx="788760" cy="7426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87" descr="A:\thumbs-up.gif"/>
          <p:cNvPicPr/>
          <p:nvPr/>
        </p:nvPicPr>
        <p:blipFill>
          <a:blip r:embed="rId3"/>
          <a:stretch/>
        </p:blipFill>
        <p:spPr>
          <a:xfrm>
            <a:off x="533520" y="3200400"/>
            <a:ext cx="788760" cy="7430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88" descr="A:\thumbs-up.gif"/>
          <p:cNvPicPr/>
          <p:nvPr/>
        </p:nvPicPr>
        <p:blipFill>
          <a:blip r:embed="rId4"/>
          <a:stretch/>
        </p:blipFill>
        <p:spPr>
          <a:xfrm>
            <a:off x="533520" y="4800600"/>
            <a:ext cx="788760" cy="743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89" descr="A:\thumbs-down.gif"/>
          <p:cNvPicPr/>
          <p:nvPr/>
        </p:nvPicPr>
        <p:blipFill>
          <a:blip r:embed="rId5"/>
          <a:stretch/>
        </p:blipFill>
        <p:spPr>
          <a:xfrm>
            <a:off x="533520" y="4038480"/>
            <a:ext cx="788760" cy="7430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90" descr="A:\thumbs-down.gif"/>
          <p:cNvPicPr/>
          <p:nvPr/>
        </p:nvPicPr>
        <p:blipFill>
          <a:blip r:embed="rId6"/>
          <a:stretch/>
        </p:blipFill>
        <p:spPr>
          <a:xfrm>
            <a:off x="533520" y="5638680"/>
            <a:ext cx="788760" cy="743040"/>
          </a:xfrm>
          <a:prstGeom prst="rect">
            <a:avLst/>
          </a:prstGeom>
          <a:ln w="0">
            <a:noFill/>
          </a:ln>
        </p:spPr>
      </p:pic>
      <p:grpSp>
        <p:nvGrpSpPr>
          <p:cNvPr id="633" name="Group 107"/>
          <p:cNvGrpSpPr/>
          <p:nvPr/>
        </p:nvGrpSpPr>
        <p:grpSpPr>
          <a:xfrm>
            <a:off x="1890720" y="1954080"/>
            <a:ext cx="4002120" cy="4083120"/>
            <a:chOff x="1890720" y="1954080"/>
            <a:chExt cx="4002120" cy="4083120"/>
          </a:xfrm>
        </p:grpSpPr>
        <p:grpSp>
          <p:nvGrpSpPr>
            <p:cNvPr id="634" name="Group 99"/>
            <p:cNvGrpSpPr/>
            <p:nvPr/>
          </p:nvGrpSpPr>
          <p:grpSpPr>
            <a:xfrm>
              <a:off x="3454560" y="3083040"/>
              <a:ext cx="2438280" cy="1600200"/>
              <a:chOff x="3454560" y="3083040"/>
              <a:chExt cx="2438280" cy="1600200"/>
            </a:xfrm>
          </p:grpSpPr>
          <p:sp>
            <p:nvSpPr>
              <p:cNvPr id="635" name="Rectangle 97"/>
              <p:cNvSpPr/>
              <p:nvPr/>
            </p:nvSpPr>
            <p:spPr>
              <a:xfrm>
                <a:off x="3454560" y="3083040"/>
                <a:ext cx="2438280" cy="1600200"/>
              </a:xfrm>
              <a:prstGeom prst="rect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Text Box 98"/>
              <p:cNvSpPr/>
              <p:nvPr/>
            </p:nvSpPr>
            <p:spPr>
              <a:xfrm>
                <a:off x="3988080" y="3375360"/>
                <a:ext cx="1511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Machine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Group 106"/>
            <p:cNvGrpSpPr/>
            <p:nvPr/>
          </p:nvGrpSpPr>
          <p:grpSpPr>
            <a:xfrm>
              <a:off x="1890720" y="1954080"/>
              <a:ext cx="1566720" cy="4083120"/>
              <a:chOff x="1890720" y="1954080"/>
              <a:chExt cx="1566720" cy="4083120"/>
            </a:xfrm>
          </p:grpSpPr>
          <p:sp>
            <p:nvSpPr>
              <p:cNvPr id="638" name="Line 100"/>
              <p:cNvSpPr/>
              <p:nvPr/>
            </p:nvSpPr>
            <p:spPr>
              <a:xfrm>
                <a:off x="1890720" y="1954080"/>
                <a:ext cx="1566720" cy="133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Line 101"/>
              <p:cNvSpPr/>
              <p:nvPr/>
            </p:nvSpPr>
            <p:spPr>
              <a:xfrm>
                <a:off x="1903320" y="2793960"/>
                <a:ext cx="1554120" cy="725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Line 102"/>
              <p:cNvSpPr/>
              <p:nvPr/>
            </p:nvSpPr>
            <p:spPr>
              <a:xfrm>
                <a:off x="1903320" y="3583080"/>
                <a:ext cx="1554120" cy="212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Line 103"/>
              <p:cNvSpPr/>
              <p:nvPr/>
            </p:nvSpPr>
            <p:spPr>
              <a:xfrm flipV="1">
                <a:off x="1890720" y="4033440"/>
                <a:ext cx="1566720" cy="37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Line 104"/>
              <p:cNvSpPr/>
              <p:nvPr/>
            </p:nvSpPr>
            <p:spPr>
              <a:xfrm flipV="1">
                <a:off x="1903320" y="4259160"/>
                <a:ext cx="1554120" cy="9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Line 105"/>
              <p:cNvSpPr/>
              <p:nvPr/>
            </p:nvSpPr>
            <p:spPr>
              <a:xfrm flipV="1">
                <a:off x="1903320" y="4510080"/>
                <a:ext cx="1554120" cy="1527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4" name="Group 111"/>
          <p:cNvGrpSpPr/>
          <p:nvPr/>
        </p:nvGrpSpPr>
        <p:grpSpPr>
          <a:xfrm>
            <a:off x="5886360" y="3188160"/>
            <a:ext cx="2490840" cy="1338840"/>
            <a:chOff x="5886360" y="3188160"/>
            <a:chExt cx="2490840" cy="1338840"/>
          </a:xfrm>
        </p:grpSpPr>
        <p:sp>
          <p:nvSpPr>
            <p:cNvPr id="645" name="Oval 108"/>
            <p:cNvSpPr/>
            <p:nvPr/>
          </p:nvSpPr>
          <p:spPr>
            <a:xfrm>
              <a:off x="6751440" y="3188160"/>
              <a:ext cx="1625760" cy="133884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ofi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0"/>
            <p:cNvSpPr/>
            <p:nvPr/>
          </p:nvSpPr>
          <p:spPr>
            <a:xfrm>
              <a:off x="5886360" y="3870360"/>
              <a:ext cx="890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Group 128"/>
          <p:cNvGrpSpPr/>
          <p:nvPr/>
        </p:nvGrpSpPr>
        <p:grpSpPr>
          <a:xfrm>
            <a:off x="6781680" y="4471920"/>
            <a:ext cx="643680" cy="1170000"/>
            <a:chOff x="6781680" y="4471920"/>
            <a:chExt cx="643680" cy="1170000"/>
          </a:xfrm>
        </p:grpSpPr>
        <p:grpSp>
          <p:nvGrpSpPr>
            <p:cNvPr id="648" name="Group 116"/>
            <p:cNvGrpSpPr/>
            <p:nvPr/>
          </p:nvGrpSpPr>
          <p:grpSpPr>
            <a:xfrm>
              <a:off x="6781680" y="4952880"/>
              <a:ext cx="643680" cy="689040"/>
              <a:chOff x="6781680" y="4952880"/>
              <a:chExt cx="643680" cy="689040"/>
            </a:xfrm>
          </p:grpSpPr>
          <p:sp>
            <p:nvSpPr>
              <p:cNvPr id="649" name="Rectangle 117"/>
              <p:cNvSpPr/>
              <p:nvPr/>
            </p:nvSpPr>
            <p:spPr>
              <a:xfrm>
                <a:off x="6781680" y="4956120"/>
                <a:ext cx="533520" cy="685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118"/>
              <p:cNvSpPr/>
              <p:nvPr/>
            </p:nvSpPr>
            <p:spPr>
              <a:xfrm>
                <a:off x="6865920" y="4952880"/>
                <a:ext cx="0" cy="68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Text Box 119"/>
              <p:cNvSpPr/>
              <p:nvPr/>
            </p:nvSpPr>
            <p:spPr>
              <a:xfrm>
                <a:off x="6798240" y="5008680"/>
                <a:ext cx="627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euro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nc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" name="Line 120"/>
            <p:cNvSpPr/>
            <p:nvPr/>
          </p:nvSpPr>
          <p:spPr>
            <a:xfrm flipV="1">
              <a:off x="7077240" y="4471920"/>
              <a:ext cx="23796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30"/>
          <p:cNvGrpSpPr/>
          <p:nvPr/>
        </p:nvGrpSpPr>
        <p:grpSpPr>
          <a:xfrm>
            <a:off x="7903800" y="4446720"/>
            <a:ext cx="630720" cy="1195200"/>
            <a:chOff x="7903800" y="4446720"/>
            <a:chExt cx="630720" cy="1195200"/>
          </a:xfrm>
        </p:grpSpPr>
        <p:grpSp>
          <p:nvGrpSpPr>
            <p:cNvPr id="654" name="Group 112"/>
            <p:cNvGrpSpPr/>
            <p:nvPr/>
          </p:nvGrpSpPr>
          <p:grpSpPr>
            <a:xfrm>
              <a:off x="8001000" y="4952880"/>
              <a:ext cx="533520" cy="689040"/>
              <a:chOff x="8001000" y="4952880"/>
              <a:chExt cx="533520" cy="689040"/>
            </a:xfrm>
          </p:grpSpPr>
          <p:sp>
            <p:nvSpPr>
              <p:cNvPr id="655" name="Rectangle 113"/>
              <p:cNvSpPr/>
              <p:nvPr/>
            </p:nvSpPr>
            <p:spPr>
              <a:xfrm>
                <a:off x="8001000" y="4956120"/>
                <a:ext cx="533520" cy="685800"/>
              </a:xfrm>
              <a:prstGeom prst="rect">
                <a:avLst/>
              </a:prstGeom>
              <a:solidFill>
                <a:srgbClr val="ff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Line 114"/>
              <p:cNvSpPr/>
              <p:nvPr/>
            </p:nvSpPr>
            <p:spPr>
              <a:xfrm>
                <a:off x="8085240" y="4952880"/>
                <a:ext cx="0" cy="68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Text Box 115"/>
              <p:cNvSpPr/>
              <p:nvPr/>
            </p:nvSpPr>
            <p:spPr>
              <a:xfrm>
                <a:off x="8039160" y="5045040"/>
                <a:ext cx="48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" name="Line 121"/>
            <p:cNvSpPr/>
            <p:nvPr/>
          </p:nvSpPr>
          <p:spPr>
            <a:xfrm flipH="1" flipV="1">
              <a:off x="7903800" y="4446720"/>
              <a:ext cx="376200" cy="51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Group 129"/>
          <p:cNvGrpSpPr/>
          <p:nvPr/>
        </p:nvGrpSpPr>
        <p:grpSpPr>
          <a:xfrm>
            <a:off x="6324480" y="2133720"/>
            <a:ext cx="826920" cy="1159920"/>
            <a:chOff x="6324480" y="2133720"/>
            <a:chExt cx="826920" cy="1159920"/>
          </a:xfrm>
        </p:grpSpPr>
        <p:pic>
          <p:nvPicPr>
            <p:cNvPr id="660" name="Picture 124" descr="A:\thumbs-down.gif"/>
            <p:cNvPicPr/>
            <p:nvPr/>
          </p:nvPicPr>
          <p:blipFill>
            <a:blip r:embed="rId7"/>
            <a:stretch/>
          </p:blipFill>
          <p:spPr>
            <a:xfrm>
              <a:off x="6324480" y="2133720"/>
              <a:ext cx="78912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Line 125"/>
            <p:cNvSpPr/>
            <p:nvPr/>
          </p:nvSpPr>
          <p:spPr>
            <a:xfrm flipH="1" flipV="1">
              <a:off x="6876720" y="2817360"/>
              <a:ext cx="274680" cy="476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Group 131"/>
          <p:cNvGrpSpPr/>
          <p:nvPr/>
        </p:nvGrpSpPr>
        <p:grpSpPr>
          <a:xfrm>
            <a:off x="7942320" y="2133720"/>
            <a:ext cx="923760" cy="1134720"/>
            <a:chOff x="7942320" y="2133720"/>
            <a:chExt cx="923760" cy="1134720"/>
          </a:xfrm>
        </p:grpSpPr>
        <p:pic>
          <p:nvPicPr>
            <p:cNvPr id="663" name="Picture 123" descr="A:\thumbs-up.gif"/>
            <p:cNvPicPr/>
            <p:nvPr/>
          </p:nvPicPr>
          <p:blipFill>
            <a:blip r:embed="rId8"/>
            <a:stretch/>
          </p:blipFill>
          <p:spPr>
            <a:xfrm>
              <a:off x="8077320" y="2133720"/>
              <a:ext cx="78876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Line 126"/>
            <p:cNvSpPr/>
            <p:nvPr/>
          </p:nvSpPr>
          <p:spPr>
            <a:xfrm flipV="1">
              <a:off x="7942320" y="2855520"/>
              <a:ext cx="387360" cy="41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E21B-1AA8-4D48-9C52-F21330E6B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Meth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-fold cross-validation to generate learning cur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d several metrics on independent test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ecision at top 3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% of the top 3 that are positiv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ting of top 3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 Average rating assigned to top 3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nk Correla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Spearman’s,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between system’s and user’s complete ranking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ablation of related author and related title slots (LIBRA-N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est influence of information generated by Amazon’s collaborative approach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EBC9-8F0C-46FC-9C90-B397CB1C8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Result Summa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cision at top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fairly consistently in the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90’s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 only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ating of top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fairly consistently above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 only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results are always significantly better than random chance after only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5 examp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ank corre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generally above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0.3 (moderat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 only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10 examp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ank corre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generally above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0.6 (high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40 examp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2F3A-C5FD-427F-8C1F-60790D007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ecision at Top 3 for Sci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925" name="Picture 7" descr="A:\sci-precision3.gif"/>
          <p:cNvPicPr/>
          <p:nvPr/>
        </p:nvPicPr>
        <p:blipFill>
          <a:blip r:embed="rId1"/>
          <a:stretch/>
        </p:blipFill>
        <p:spPr>
          <a:xfrm>
            <a:off x="573120" y="1332000"/>
            <a:ext cx="77817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C08E-4AC6-40E9-99B9-7A10B9111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ating of Top 3 for Sci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928" name="Picture 3" descr="A:\sci-rating3.gif"/>
          <p:cNvPicPr/>
          <p:nvPr/>
        </p:nvPicPr>
        <p:blipFill>
          <a:blip r:embed="rId1"/>
          <a:stretch/>
        </p:blipFill>
        <p:spPr>
          <a:xfrm>
            <a:off x="852480" y="1328760"/>
            <a:ext cx="70675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E5CD-A4F0-47CA-A51D-A9FB678EB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ank Correlation for Sci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931" name="Picture 3" descr="A:\sci-rank.gif"/>
          <p:cNvPicPr/>
          <p:nvPr/>
        </p:nvPicPr>
        <p:blipFill>
          <a:blip r:embed="rId1"/>
          <a:stretch/>
        </p:blipFill>
        <p:spPr>
          <a:xfrm>
            <a:off x="522360" y="1395360"/>
            <a:ext cx="7724880" cy="53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64A7-600C-4361-AE19-A9B346278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ser Stud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s asked to use Libra and get recommend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ed several rounds of feed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ed all books in final list of  recommend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ed two books for purch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ed reviews after reading sele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d questionnaire about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5BAC-180C-4015-84F1-C33D72823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bining Content and Collabo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t-based and collaborative methods have complementary strengths and weakn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methods to obtain the best of bo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us hybrid approach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pply both methods and combine recommendation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e collaborative data as conten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e content-based predictor as another collaborator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Use content-based predictor to complete collaborative data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F45B-21FD-4544-8AA7-0166FEFF6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ovie Domai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73200" y="1309320"/>
            <a:ext cx="807696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achMo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set [Compaq Research Lab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tains user ratings for movies on a 0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5 scal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72,916 users (avg. 39 ratings each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,628 movi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parse user-ratings matrix – (2.6% full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awled Internet Movie Databas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MD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tracted content for titles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EachMovi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movie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itle, Director, Cast, Genre, etc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r opin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er comments, Newspaper and  Newsgroup reviews, etc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0BDA-1412-4BAD-918C-6A0BF65E9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tent-Boosted Collaborative Fil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3" name="AutoShape 5"/>
          <p:cNvSpPr/>
          <p:nvPr/>
        </p:nvSpPr>
        <p:spPr>
          <a:xfrm>
            <a:off x="6477120" y="1752480"/>
            <a:ext cx="838080" cy="533520"/>
          </a:xfrm>
          <a:prstGeom prst="flowChartOnlineStora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AutoShape 7"/>
          <p:cNvSpPr/>
          <p:nvPr/>
        </p:nvSpPr>
        <p:spPr>
          <a:xfrm>
            <a:off x="1600200" y="1676520"/>
            <a:ext cx="1219320" cy="533160"/>
          </a:xfrm>
          <a:prstGeom prst="flowChartInputOutpu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Mov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30"/>
          <p:cNvGrpSpPr/>
          <p:nvPr/>
        </p:nvGrpSpPr>
        <p:grpSpPr>
          <a:xfrm>
            <a:off x="2666880" y="1752480"/>
            <a:ext cx="3810240" cy="533520"/>
            <a:chOff x="2666880" y="1752480"/>
            <a:chExt cx="3810240" cy="533520"/>
          </a:xfrm>
        </p:grpSpPr>
        <p:sp>
          <p:nvSpPr>
            <p:cNvPr id="946" name="AutoShape 4"/>
            <p:cNvSpPr/>
            <p:nvPr/>
          </p:nvSpPr>
          <p:spPr>
            <a:xfrm>
              <a:off x="3733920" y="1752480"/>
              <a:ext cx="1295280" cy="5335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eb Craw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Line 8"/>
            <p:cNvSpPr/>
            <p:nvPr/>
          </p:nvSpPr>
          <p:spPr>
            <a:xfrm>
              <a:off x="2666880" y="198108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Line 9"/>
            <p:cNvSpPr/>
            <p:nvPr/>
          </p:nvSpPr>
          <p:spPr>
            <a:xfrm flipH="1">
              <a:off x="5029200" y="19810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9" name="Group 31"/>
          <p:cNvGrpSpPr/>
          <p:nvPr/>
        </p:nvGrpSpPr>
        <p:grpSpPr>
          <a:xfrm>
            <a:off x="3962520" y="2286000"/>
            <a:ext cx="838080" cy="1143000"/>
            <a:chOff x="3962520" y="2286000"/>
            <a:chExt cx="838080" cy="1143000"/>
          </a:xfrm>
        </p:grpSpPr>
        <p:sp>
          <p:nvSpPr>
            <p:cNvPr id="950" name="AutoShape 6"/>
            <p:cNvSpPr/>
            <p:nvPr/>
          </p:nvSpPr>
          <p:spPr>
            <a:xfrm>
              <a:off x="3962520" y="2438280"/>
              <a:ext cx="838080" cy="99072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v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t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Line 10"/>
            <p:cNvSpPr/>
            <p:nvPr/>
          </p:nvSpPr>
          <p:spPr>
            <a:xfrm>
              <a:off x="4419720" y="2286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Group 11"/>
          <p:cNvGrpSpPr/>
          <p:nvPr/>
        </p:nvGrpSpPr>
        <p:grpSpPr>
          <a:xfrm>
            <a:off x="4952880" y="3427560"/>
            <a:ext cx="2514600" cy="534960"/>
            <a:chOff x="4952880" y="3427560"/>
            <a:chExt cx="2514600" cy="534960"/>
          </a:xfrm>
        </p:grpSpPr>
        <p:sp>
          <p:nvSpPr>
            <p:cNvPr id="953" name="Rectangle 12"/>
            <p:cNvSpPr/>
            <p:nvPr/>
          </p:nvSpPr>
          <p:spPr>
            <a:xfrm>
              <a:off x="6248520" y="3427560"/>
              <a:ext cx="1218960" cy="534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ull U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tings Matri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Line 13"/>
            <p:cNvSpPr/>
            <p:nvPr/>
          </p:nvSpPr>
          <p:spPr>
            <a:xfrm flipV="1">
              <a:off x="4952880" y="3657240"/>
              <a:ext cx="1295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Group 14"/>
          <p:cNvGrpSpPr/>
          <p:nvPr/>
        </p:nvGrpSpPr>
        <p:grpSpPr>
          <a:xfrm>
            <a:off x="3657600" y="3962520"/>
            <a:ext cx="3886200" cy="1218960"/>
            <a:chOff x="3657600" y="3962520"/>
            <a:chExt cx="3886200" cy="1218960"/>
          </a:xfrm>
        </p:grpSpPr>
        <p:sp>
          <p:nvSpPr>
            <p:cNvPr id="956" name="Line 15"/>
            <p:cNvSpPr/>
            <p:nvPr/>
          </p:nvSpPr>
          <p:spPr>
            <a:xfrm>
              <a:off x="6858000" y="39625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7" name="Group 16"/>
            <p:cNvGrpSpPr/>
            <p:nvPr/>
          </p:nvGrpSpPr>
          <p:grpSpPr>
            <a:xfrm>
              <a:off x="3657600" y="4572000"/>
              <a:ext cx="3886200" cy="609480"/>
              <a:chOff x="3657600" y="4572000"/>
              <a:chExt cx="3886200" cy="609480"/>
            </a:xfrm>
          </p:grpSpPr>
          <p:sp>
            <p:nvSpPr>
              <p:cNvPr id="958" name="AutoShape 17"/>
              <p:cNvSpPr/>
              <p:nvPr/>
            </p:nvSpPr>
            <p:spPr>
              <a:xfrm>
                <a:off x="6095880" y="4572000"/>
                <a:ext cx="144792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llaborativ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ilter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Oval 18"/>
              <p:cNvSpPr/>
              <p:nvPr/>
            </p:nvSpPr>
            <p:spPr>
              <a:xfrm>
                <a:off x="3657600" y="4648320"/>
                <a:ext cx="1447920" cy="53316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ctiv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ser Rating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Line 19"/>
              <p:cNvSpPr/>
              <p:nvPr/>
            </p:nvSpPr>
            <p:spPr>
              <a:xfrm>
                <a:off x="5105520" y="487692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1" name="Group 20"/>
          <p:cNvGrpSpPr/>
          <p:nvPr/>
        </p:nvGrpSpPr>
        <p:grpSpPr>
          <a:xfrm>
            <a:off x="1523880" y="2209680"/>
            <a:ext cx="3429000" cy="2057400"/>
            <a:chOff x="1523880" y="2209680"/>
            <a:chExt cx="3429000" cy="2057400"/>
          </a:xfrm>
        </p:grpSpPr>
        <p:sp>
          <p:nvSpPr>
            <p:cNvPr id="962" name="Rectangle 21"/>
            <p:cNvSpPr/>
            <p:nvPr/>
          </p:nvSpPr>
          <p:spPr>
            <a:xfrm>
              <a:off x="1523880" y="3429000"/>
              <a:ext cx="11430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ser Ratin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trix (Spars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AutoShape 22"/>
            <p:cNvSpPr/>
            <p:nvPr/>
          </p:nvSpPr>
          <p:spPr>
            <a:xfrm>
              <a:off x="3809880" y="3733920"/>
              <a:ext cx="1143000" cy="5331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tent-base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edi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Line 23"/>
            <p:cNvSpPr/>
            <p:nvPr/>
          </p:nvSpPr>
          <p:spPr>
            <a:xfrm>
              <a:off x="441972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24"/>
            <p:cNvSpPr/>
            <p:nvPr/>
          </p:nvSpPr>
          <p:spPr>
            <a:xfrm>
              <a:off x="2666880" y="365760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25"/>
            <p:cNvSpPr/>
            <p:nvPr/>
          </p:nvSpPr>
          <p:spPr>
            <a:xfrm>
              <a:off x="213372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Group 26"/>
          <p:cNvGrpSpPr/>
          <p:nvPr/>
        </p:nvGrpSpPr>
        <p:grpSpPr>
          <a:xfrm>
            <a:off x="6095880" y="5105520"/>
            <a:ext cx="1524240" cy="1066680"/>
            <a:chOff x="6095880" y="5105520"/>
            <a:chExt cx="1524240" cy="1066680"/>
          </a:xfrm>
        </p:grpSpPr>
        <p:sp>
          <p:nvSpPr>
            <p:cNvPr id="968" name="Line 27"/>
            <p:cNvSpPr/>
            <p:nvPr/>
          </p:nvSpPr>
          <p:spPr>
            <a:xfrm>
              <a:off x="685800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AutoShape 28"/>
            <p:cNvSpPr/>
            <p:nvPr/>
          </p:nvSpPr>
          <p:spPr>
            <a:xfrm>
              <a:off x="6095880" y="5486400"/>
              <a:ext cx="1524240" cy="685800"/>
            </a:xfrm>
            <a:prstGeom prst="flowChartMulti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commend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E8F7-7573-47DB-91D0-530F6A734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tent-Boosted CF - I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972" name="Group 39"/>
          <p:cNvGrpSpPr/>
          <p:nvPr/>
        </p:nvGrpSpPr>
        <p:grpSpPr>
          <a:xfrm>
            <a:off x="1905120" y="2362320"/>
            <a:ext cx="6155280" cy="1371600"/>
            <a:chOff x="1905120" y="2362320"/>
            <a:chExt cx="6155280" cy="1371600"/>
          </a:xfrm>
        </p:grpSpPr>
        <p:sp>
          <p:nvSpPr>
            <p:cNvPr id="973" name="AutoShape 5"/>
            <p:cNvSpPr/>
            <p:nvPr/>
          </p:nvSpPr>
          <p:spPr>
            <a:xfrm>
              <a:off x="3733920" y="3124080"/>
              <a:ext cx="1752480" cy="6098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ntent-Bas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redi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Line 6"/>
            <p:cNvSpPr/>
            <p:nvPr/>
          </p:nvSpPr>
          <p:spPr>
            <a:xfrm>
              <a:off x="1905120" y="2362320"/>
              <a:ext cx="21333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Line 7"/>
            <p:cNvSpPr/>
            <p:nvPr/>
          </p:nvSpPr>
          <p:spPr>
            <a:xfrm>
              <a:off x="2743200" y="2362320"/>
              <a:ext cx="16002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Line 8"/>
            <p:cNvSpPr/>
            <p:nvPr/>
          </p:nvSpPr>
          <p:spPr>
            <a:xfrm>
              <a:off x="3200400" y="2362320"/>
              <a:ext cx="13716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Line 9"/>
            <p:cNvSpPr/>
            <p:nvPr/>
          </p:nvSpPr>
          <p:spPr>
            <a:xfrm flipH="1">
              <a:off x="4723920" y="2362320"/>
              <a:ext cx="12193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Line 10"/>
            <p:cNvSpPr/>
            <p:nvPr/>
          </p:nvSpPr>
          <p:spPr>
            <a:xfrm flipH="1">
              <a:off x="5181120" y="2362320"/>
              <a:ext cx="16002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Text Box 11"/>
            <p:cNvSpPr/>
            <p:nvPr/>
          </p:nvSpPr>
          <p:spPr>
            <a:xfrm>
              <a:off x="6326640" y="2590920"/>
              <a:ext cx="173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raining Ex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Group 12"/>
          <p:cNvGrpSpPr/>
          <p:nvPr/>
        </p:nvGrpSpPr>
        <p:grpSpPr>
          <a:xfrm>
            <a:off x="838080" y="3733920"/>
            <a:ext cx="6934320" cy="2364480"/>
            <a:chOff x="838080" y="3733920"/>
            <a:chExt cx="6934320" cy="2364480"/>
          </a:xfrm>
        </p:grpSpPr>
        <p:grpSp>
          <p:nvGrpSpPr>
            <p:cNvPr id="981" name="Group 13"/>
            <p:cNvGrpSpPr/>
            <p:nvPr/>
          </p:nvGrpSpPr>
          <p:grpSpPr>
            <a:xfrm>
              <a:off x="1371600" y="3733920"/>
              <a:ext cx="6400800" cy="1465920"/>
              <a:chOff x="1371600" y="3733920"/>
              <a:chExt cx="6400800" cy="1465920"/>
            </a:xfrm>
          </p:grpSpPr>
          <p:grpSp>
            <p:nvGrpSpPr>
              <p:cNvPr id="982" name="Group 14"/>
              <p:cNvGrpSpPr/>
              <p:nvPr/>
            </p:nvGrpSpPr>
            <p:grpSpPr>
              <a:xfrm>
                <a:off x="1371600" y="3733920"/>
                <a:ext cx="6400800" cy="1066680"/>
                <a:chOff x="1371600" y="3733920"/>
                <a:chExt cx="6400800" cy="1066680"/>
              </a:xfrm>
            </p:grpSpPr>
            <p:grpSp>
              <p:nvGrpSpPr>
                <p:cNvPr id="983" name="Group 15"/>
                <p:cNvGrpSpPr/>
                <p:nvPr/>
              </p:nvGrpSpPr>
              <p:grpSpPr>
                <a:xfrm>
                  <a:off x="1371600" y="4495680"/>
                  <a:ext cx="6400800" cy="304920"/>
                  <a:chOff x="1371600" y="4495680"/>
                  <a:chExt cx="6400800" cy="304920"/>
                </a:xfrm>
              </p:grpSpPr>
              <p:sp>
                <p:nvSpPr>
                  <p:cNvPr id="984" name="Rectangle 16"/>
                  <p:cNvSpPr/>
                  <p:nvPr/>
                </p:nvSpPr>
                <p:spPr>
                  <a:xfrm>
                    <a:off x="1371600" y="4495680"/>
                    <a:ext cx="6400800" cy="3049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Rectangle 17"/>
                  <p:cNvSpPr/>
                  <p:nvPr/>
                </p:nvSpPr>
                <p:spPr>
                  <a:xfrm>
                    <a:off x="1828800" y="4495680"/>
                    <a:ext cx="228600" cy="304920"/>
                  </a:xfrm>
                  <a:prstGeom prst="rect">
                    <a:avLst/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Rectangle 18"/>
                  <p:cNvSpPr/>
                  <p:nvPr/>
                </p:nvSpPr>
                <p:spPr>
                  <a:xfrm>
                    <a:off x="2666880" y="4495680"/>
                    <a:ext cx="228600" cy="304920"/>
                  </a:xfrm>
                  <a:prstGeom prst="rect">
                    <a:avLst/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Rectangle 19"/>
                  <p:cNvSpPr/>
                  <p:nvPr/>
                </p:nvSpPr>
                <p:spPr>
                  <a:xfrm>
                    <a:off x="3124080" y="4495680"/>
                    <a:ext cx="228600" cy="304920"/>
                  </a:xfrm>
                  <a:prstGeom prst="rect">
                    <a:avLst/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Rectangle 20"/>
                  <p:cNvSpPr/>
                  <p:nvPr/>
                </p:nvSpPr>
                <p:spPr>
                  <a:xfrm>
                    <a:off x="5791320" y="4495680"/>
                    <a:ext cx="228600" cy="304920"/>
                  </a:xfrm>
                  <a:prstGeom prst="rect">
                    <a:avLst/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Rectangle 21"/>
                  <p:cNvSpPr/>
                  <p:nvPr/>
                </p:nvSpPr>
                <p:spPr>
                  <a:xfrm>
                    <a:off x="6629400" y="4495680"/>
                    <a:ext cx="228600" cy="304920"/>
                  </a:xfrm>
                  <a:prstGeom prst="rect">
                    <a:avLst/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0" name="Line 22"/>
                <p:cNvSpPr/>
                <p:nvPr/>
              </p:nvSpPr>
              <p:spPr>
                <a:xfrm>
                  <a:off x="4572000" y="3733920"/>
                  <a:ext cx="0" cy="761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1" name="Text Box 23"/>
              <p:cNvSpPr/>
              <p:nvPr/>
            </p:nvSpPr>
            <p:spPr>
              <a:xfrm>
                <a:off x="3345480" y="4862520"/>
                <a:ext cx="246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seudo User-ratings Vec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2" name="Rectangle 24"/>
            <p:cNvSpPr/>
            <p:nvPr/>
          </p:nvSpPr>
          <p:spPr>
            <a:xfrm>
              <a:off x="838080" y="5791320"/>
              <a:ext cx="1526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Text Box 25"/>
            <p:cNvSpPr/>
            <p:nvPr/>
          </p:nvSpPr>
          <p:spPr>
            <a:xfrm>
              <a:off x="985680" y="5791320"/>
              <a:ext cx="225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tems with Predicted Ratin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Group 26"/>
          <p:cNvGrpSpPr/>
          <p:nvPr/>
        </p:nvGrpSpPr>
        <p:grpSpPr>
          <a:xfrm>
            <a:off x="838080" y="1738440"/>
            <a:ext cx="6934320" cy="4055040"/>
            <a:chOff x="838080" y="1738440"/>
            <a:chExt cx="6934320" cy="4055040"/>
          </a:xfrm>
        </p:grpSpPr>
        <p:grpSp>
          <p:nvGrpSpPr>
            <p:cNvPr id="995" name="Group 27"/>
            <p:cNvGrpSpPr/>
            <p:nvPr/>
          </p:nvGrpSpPr>
          <p:grpSpPr>
            <a:xfrm>
              <a:off x="1371600" y="2057400"/>
              <a:ext cx="6400800" cy="304920"/>
              <a:chOff x="1371600" y="2057400"/>
              <a:chExt cx="6400800" cy="304920"/>
            </a:xfrm>
          </p:grpSpPr>
          <p:sp>
            <p:nvSpPr>
              <p:cNvPr id="996" name="Rectangle 28"/>
              <p:cNvSpPr/>
              <p:nvPr/>
            </p:nvSpPr>
            <p:spPr>
              <a:xfrm>
                <a:off x="1371600" y="2057400"/>
                <a:ext cx="64008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Rectangle 29"/>
              <p:cNvSpPr/>
              <p:nvPr/>
            </p:nvSpPr>
            <p:spPr>
              <a:xfrm>
                <a:off x="1828800" y="2057400"/>
                <a:ext cx="228600" cy="3049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Rectangle 30"/>
              <p:cNvSpPr/>
              <p:nvPr/>
            </p:nvSpPr>
            <p:spPr>
              <a:xfrm>
                <a:off x="2666880" y="2057400"/>
                <a:ext cx="228600" cy="3049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Rectangle 31"/>
              <p:cNvSpPr/>
              <p:nvPr/>
            </p:nvSpPr>
            <p:spPr>
              <a:xfrm>
                <a:off x="3124080" y="2057400"/>
                <a:ext cx="228600" cy="3049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Rectangle 32"/>
              <p:cNvSpPr/>
              <p:nvPr/>
            </p:nvSpPr>
            <p:spPr>
              <a:xfrm>
                <a:off x="5791320" y="2057400"/>
                <a:ext cx="228600" cy="3049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Rectangle 33"/>
              <p:cNvSpPr/>
              <p:nvPr/>
            </p:nvSpPr>
            <p:spPr>
              <a:xfrm>
                <a:off x="6629400" y="2057400"/>
                <a:ext cx="228600" cy="3049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2" name="Text Box 34"/>
            <p:cNvSpPr/>
            <p:nvPr/>
          </p:nvSpPr>
          <p:spPr>
            <a:xfrm>
              <a:off x="3669480" y="1738440"/>
              <a:ext cx="181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ser-ratings Ve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35"/>
            <p:cNvSpPr/>
            <p:nvPr/>
          </p:nvSpPr>
          <p:spPr>
            <a:xfrm>
              <a:off x="838080" y="5181480"/>
              <a:ext cx="15264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36"/>
            <p:cNvSpPr/>
            <p:nvPr/>
          </p:nvSpPr>
          <p:spPr>
            <a:xfrm>
              <a:off x="838080" y="5486400"/>
              <a:ext cx="152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Text Box 37"/>
            <p:cNvSpPr/>
            <p:nvPr/>
          </p:nvSpPr>
          <p:spPr>
            <a:xfrm>
              <a:off x="990720" y="5181480"/>
              <a:ext cx="1396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ser-rated It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Text Box 38"/>
            <p:cNvSpPr/>
            <p:nvPr/>
          </p:nvSpPr>
          <p:spPr>
            <a:xfrm>
              <a:off x="990000" y="5486400"/>
              <a:ext cx="120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nrated It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1306-7D09-40C7-8F81-70CF1A002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sonal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rs are instances of personalization soft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ization concerns adapting to the individual needs, interests, and preferences of each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commend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ilt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dicting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e.g. form or calendar appt. completion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 business perspective, it is viewed as part of Customer Relationship Management (CR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Slide Number Placeholder 5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B26F-A51F-4AAB-97D5-FC48C9A6F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tent-Boosted CF - II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685800" y="1371600"/>
            <a:ext cx="7772400" cy="22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440" y="3733560"/>
            <a:ext cx="80010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pseudo user ratings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ull matrix – approximates actual full user ratings matrix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ing Pearson corr. between pseudo user-rating vector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1" name="Rectangle 5"/>
          <p:cNvSpPr/>
          <p:nvPr/>
        </p:nvSpPr>
        <p:spPr>
          <a:xfrm>
            <a:off x="1143000" y="2057400"/>
            <a:ext cx="1447920" cy="1370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s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6"/>
          <p:cNvSpPr/>
          <p:nvPr/>
        </p:nvSpPr>
        <p:spPr>
          <a:xfrm>
            <a:off x="6553080" y="2057400"/>
            <a:ext cx="1447920" cy="1370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00cc99"/>
              </a:gs>
              <a:gs pos="100000">
                <a:srgbClr val="3333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seudo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atings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AutoShape 7"/>
          <p:cNvSpPr/>
          <p:nvPr/>
        </p:nvSpPr>
        <p:spPr>
          <a:xfrm>
            <a:off x="3772080" y="236232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tent-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edi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Line 8"/>
          <p:cNvSpPr/>
          <p:nvPr/>
        </p:nvSpPr>
        <p:spPr>
          <a:xfrm>
            <a:off x="2590920" y="27432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Line 9"/>
          <p:cNvSpPr/>
          <p:nvPr/>
        </p:nvSpPr>
        <p:spPr>
          <a:xfrm>
            <a:off x="5410080" y="27432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5576-574D-4A8B-8FCF-1D4160F96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Meth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sub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achMovi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,893 users; 299,997 rat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set: 10% of the users selected at rand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est users that rated at least 40 movi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ain on the remainder set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-out set: 25% items for each test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dict rating of each item in the hold-out se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d CBCF to other prediction approach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ure CF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ure Content-bas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aïve hybrid (averages CF and content-based predictions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8E06-4A09-4785-89D3-07569DE12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Absolute Error (MA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mpares numerical predictions with user rating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C sensitivity [Herlocker 99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ow well predictions help users select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high-qualit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tem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atings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4 considered “good”; &lt; 4 considered “bad”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red t-test for statistical signific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9770-E397-4221-B480-29D57315C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- I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024" name="Object 3"/>
          <p:cNvGraphicFramePr/>
          <p:nvPr/>
        </p:nvGraphicFramePr>
        <p:xfrm>
          <a:off x="1752480" y="1676520"/>
          <a:ext cx="6097680" cy="40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76520"/>
                    <a:ext cx="609768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6" name="Text Box 4"/>
          <p:cNvSpPr/>
          <p:nvPr/>
        </p:nvSpPr>
        <p:spPr>
          <a:xfrm>
            <a:off x="1938600" y="5691240"/>
            <a:ext cx="54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CBCF is significantly better (4% over CF) at (p &lt; 0.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B3A0-8EDB-4DEC-9658-FF8B42475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- II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029" name="Object 3"/>
          <p:cNvGraphicFramePr/>
          <p:nvPr/>
        </p:nvGraphicFramePr>
        <p:xfrm>
          <a:off x="1442880" y="1641600"/>
          <a:ext cx="6510600" cy="41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1641600"/>
                    <a:ext cx="651060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1" name="Text Box 4"/>
          <p:cNvSpPr/>
          <p:nvPr/>
        </p:nvSpPr>
        <p:spPr>
          <a:xfrm>
            <a:off x="2164680" y="5691240"/>
            <a:ext cx="49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CBCF outperforms rest (5% improvement over CF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5E1F-D09F-41DE-938C-F9031905B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ctive Learning</a:t>
            </a:r>
            <a:br>
              <a:rPr sz="3600"/>
            </a:b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(Sample Section, Learning with Queries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reduce the number of training example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requests ratings for specific items from which it would learn the m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existing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ncertainty sampl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mmittee-based sampl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A5A7-BDB7-4BE0-99B1-C262B6A0B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Learning</a:t>
            </a:r>
            <a:br>
              <a:rPr sz="3600"/>
            </a:b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(Weakly Supervised, Bootstrapping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wealth of unlabeled examples to aid learning from a small amount of labeled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recent methods develop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mi-supervised EM (Expectation Maximization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-train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ransductive SVM’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2195-F0B1-4C10-B527-A510AF75C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ing and personalization are important approaches to combating  information over-lo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 Learning is an important part of systems for these ta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ive filtering has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-based methods address these problems (but have problems of their ow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ng both is b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7D64-8C4E-4D27-B574-DD870E3A8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chine Learning and Personal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 Learning can allow learning a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user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ro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particular user based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ample interac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ated examp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odel or profile can then be use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commend item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lter inform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edict behavio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EF0C-BDCE-40A7-ABC9-9F05C0CEA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llaborative Fil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 database of many users’ ratings of a variety of i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given user, find other similar users whose ratings strongly correlate with the current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 items rated highly by these similar users, but not rated by the current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most all existing commercial recommenders use this approach (e.g. Amaz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5FF2-E254-41AE-A785-0C756ACD9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llaborative Fil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676" name="Picture 4" descr="C:\Program Files\Common Files\Microsoft Shared\Clipart\cagcat50\pe01549_.wmf"/>
          <p:cNvPicPr/>
          <p:nvPr/>
        </p:nvPicPr>
        <p:blipFill>
          <a:blip r:embed="rId1"/>
          <a:stretch/>
        </p:blipFill>
        <p:spPr>
          <a:xfrm>
            <a:off x="4724280" y="1447920"/>
            <a:ext cx="669960" cy="91440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6" descr="C:\Program Files\Common Files\Microsoft Shared\Clipart\cagcat50\pe01686_.wmf"/>
          <p:cNvPicPr/>
          <p:nvPr/>
        </p:nvPicPr>
        <p:blipFill>
          <a:blip r:embed="rId2"/>
          <a:stretch/>
        </p:blipFill>
        <p:spPr>
          <a:xfrm>
            <a:off x="2666880" y="1447920"/>
            <a:ext cx="770040" cy="83808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7" descr="C:\Program Files\Common Files\Microsoft Shared\Clipart\cagcat50\pe02002_.wmf"/>
          <p:cNvPicPr/>
          <p:nvPr/>
        </p:nvPicPr>
        <p:blipFill>
          <a:blip r:embed="rId3"/>
          <a:stretch/>
        </p:blipFill>
        <p:spPr>
          <a:xfrm>
            <a:off x="1523880" y="1447920"/>
            <a:ext cx="760680" cy="76176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8" descr="C:\Program Files\Common Files\Microsoft Shared\Clipart\cagcat50\pe01832_.wmf"/>
          <p:cNvPicPr/>
          <p:nvPr/>
        </p:nvPicPr>
        <p:blipFill>
          <a:blip r:embed="rId4"/>
          <a:stretch/>
        </p:blipFill>
        <p:spPr>
          <a:xfrm>
            <a:off x="3505320" y="1447920"/>
            <a:ext cx="914400" cy="8348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9" descr="C:\Program Files\Common Files\Microsoft Shared\Clipart\cagcat50\pe01838_.wmf"/>
          <p:cNvPicPr/>
          <p:nvPr/>
        </p:nvPicPr>
        <p:blipFill>
          <a:blip r:embed="rId5"/>
          <a:stretch/>
        </p:blipFill>
        <p:spPr>
          <a:xfrm>
            <a:off x="5638680" y="1447920"/>
            <a:ext cx="893880" cy="8571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1" descr="C:\Program Files\Common Files\Microsoft Shared\Clipart\cagcat50\pe03738_.wmf"/>
          <p:cNvPicPr/>
          <p:nvPr/>
        </p:nvPicPr>
        <p:blipFill>
          <a:blip r:embed="rId6"/>
          <a:stretch/>
        </p:blipFill>
        <p:spPr>
          <a:xfrm>
            <a:off x="6629400" y="1397160"/>
            <a:ext cx="922320" cy="971280"/>
          </a:xfrm>
          <a:prstGeom prst="rect">
            <a:avLst/>
          </a:prstGeom>
          <a:ln w="0">
            <a:noFill/>
          </a:ln>
        </p:spPr>
      </p:pic>
      <p:grpSp>
        <p:nvGrpSpPr>
          <p:cNvPr id="682" name="Group 94"/>
          <p:cNvGrpSpPr/>
          <p:nvPr/>
        </p:nvGrpSpPr>
        <p:grpSpPr>
          <a:xfrm>
            <a:off x="151200" y="2362320"/>
            <a:ext cx="7316280" cy="1218960"/>
            <a:chOff x="151200" y="2362320"/>
            <a:chExt cx="7316280" cy="1218960"/>
          </a:xfrm>
        </p:grpSpPr>
        <p:grpSp>
          <p:nvGrpSpPr>
            <p:cNvPr id="683" name="Group 50"/>
            <p:cNvGrpSpPr/>
            <p:nvPr/>
          </p:nvGrpSpPr>
          <p:grpSpPr>
            <a:xfrm>
              <a:off x="1638000" y="2362320"/>
              <a:ext cx="487080" cy="1159560"/>
              <a:chOff x="1638000" y="2362320"/>
              <a:chExt cx="487080" cy="1159560"/>
            </a:xfrm>
          </p:grpSpPr>
          <p:sp>
            <p:nvSpPr>
              <p:cNvPr id="684" name="Rectangle 51"/>
              <p:cNvSpPr/>
              <p:nvPr/>
            </p:nvSpPr>
            <p:spPr>
              <a:xfrm>
                <a:off x="1676160" y="2412720"/>
                <a:ext cx="380880" cy="106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Text Box 52"/>
              <p:cNvSpPr/>
              <p:nvPr/>
            </p:nvSpPr>
            <p:spPr>
              <a:xfrm>
                <a:off x="1638000" y="2362320"/>
                <a:ext cx="48708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  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 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:    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 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Group 53"/>
            <p:cNvGrpSpPr/>
            <p:nvPr/>
          </p:nvGrpSpPr>
          <p:grpSpPr>
            <a:xfrm>
              <a:off x="2680200" y="2362320"/>
              <a:ext cx="513000" cy="1159560"/>
              <a:chOff x="2680200" y="2362320"/>
              <a:chExt cx="513000" cy="1159560"/>
            </a:xfrm>
          </p:grpSpPr>
          <p:sp>
            <p:nvSpPr>
              <p:cNvPr id="687" name="Rectangle 54"/>
              <p:cNvSpPr/>
              <p:nvPr/>
            </p:nvSpPr>
            <p:spPr>
              <a:xfrm>
                <a:off x="2719080" y="2412720"/>
                <a:ext cx="380880" cy="106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Text Box 55"/>
              <p:cNvSpPr/>
              <p:nvPr/>
            </p:nvSpPr>
            <p:spPr>
              <a:xfrm>
                <a:off x="2680200" y="2362320"/>
                <a:ext cx="5130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  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:    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3725640" y="2362320"/>
              <a:ext cx="546480" cy="1159560"/>
              <a:chOff x="3725640" y="2362320"/>
              <a:chExt cx="546480" cy="1159560"/>
            </a:xfrm>
          </p:grpSpPr>
          <p:sp>
            <p:nvSpPr>
              <p:cNvPr id="690" name="Rectangle 57"/>
              <p:cNvSpPr/>
              <p:nvPr/>
            </p:nvSpPr>
            <p:spPr>
              <a:xfrm>
                <a:off x="3763800" y="2412720"/>
                <a:ext cx="380880" cy="106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Text Box 58"/>
              <p:cNvSpPr/>
              <p:nvPr/>
            </p:nvSpPr>
            <p:spPr>
              <a:xfrm>
                <a:off x="3725640" y="2362320"/>
                <a:ext cx="54648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  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 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:    :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 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4768560" y="2362320"/>
              <a:ext cx="478080" cy="1159560"/>
              <a:chOff x="4768560" y="2362320"/>
              <a:chExt cx="478080" cy="1159560"/>
            </a:xfrm>
          </p:grpSpPr>
          <p:sp>
            <p:nvSpPr>
              <p:cNvPr id="693" name="Rectangle 60"/>
              <p:cNvSpPr/>
              <p:nvPr/>
            </p:nvSpPr>
            <p:spPr>
              <a:xfrm>
                <a:off x="4806720" y="2412720"/>
                <a:ext cx="380880" cy="106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Text Box 61"/>
              <p:cNvSpPr/>
              <p:nvPr/>
            </p:nvSpPr>
            <p:spPr>
              <a:xfrm>
                <a:off x="4768560" y="2362320"/>
                <a:ext cx="47808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  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:   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Group 62"/>
            <p:cNvGrpSpPr/>
            <p:nvPr/>
          </p:nvGrpSpPr>
          <p:grpSpPr>
            <a:xfrm>
              <a:off x="5813280" y="2362320"/>
              <a:ext cx="487080" cy="1159560"/>
              <a:chOff x="5813280" y="2362320"/>
              <a:chExt cx="487080" cy="1159560"/>
            </a:xfrm>
          </p:grpSpPr>
          <p:sp>
            <p:nvSpPr>
              <p:cNvPr id="696" name="Rectangle 63"/>
              <p:cNvSpPr/>
              <p:nvPr/>
            </p:nvSpPr>
            <p:spPr>
              <a:xfrm>
                <a:off x="5851440" y="2412720"/>
                <a:ext cx="380880" cy="106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Text Box 64"/>
              <p:cNvSpPr/>
              <p:nvPr/>
            </p:nvSpPr>
            <p:spPr>
              <a:xfrm>
                <a:off x="5813280" y="2362320"/>
                <a:ext cx="48708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  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  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:    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65"/>
            <p:cNvGrpSpPr/>
            <p:nvPr/>
          </p:nvGrpSpPr>
          <p:grpSpPr>
            <a:xfrm>
              <a:off x="6857280" y="2362320"/>
              <a:ext cx="532800" cy="1159560"/>
              <a:chOff x="6857280" y="2362320"/>
              <a:chExt cx="532800" cy="1159560"/>
            </a:xfrm>
          </p:grpSpPr>
          <p:sp>
            <p:nvSpPr>
              <p:cNvPr id="699" name="Rectangle 66"/>
              <p:cNvSpPr/>
              <p:nvPr/>
            </p:nvSpPr>
            <p:spPr>
              <a:xfrm>
                <a:off x="6895800" y="2412720"/>
                <a:ext cx="380880" cy="106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Text Box 67"/>
              <p:cNvSpPr/>
              <p:nvPr/>
            </p:nvSpPr>
            <p:spPr>
              <a:xfrm>
                <a:off x="6857280" y="2362320"/>
                <a:ext cx="5328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 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  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  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   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Text Box 73"/>
            <p:cNvSpPr/>
            <p:nvPr/>
          </p:nvSpPr>
          <p:spPr>
            <a:xfrm>
              <a:off x="151200" y="2514240"/>
              <a:ext cx="1113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Rectangle 74"/>
            <p:cNvSpPr/>
            <p:nvPr/>
          </p:nvSpPr>
          <p:spPr>
            <a:xfrm>
              <a:off x="1371240" y="2362320"/>
              <a:ext cx="6096240" cy="121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Group 77"/>
          <p:cNvGrpSpPr/>
          <p:nvPr/>
        </p:nvGrpSpPr>
        <p:grpSpPr>
          <a:xfrm>
            <a:off x="1705680" y="5638680"/>
            <a:ext cx="2274120" cy="1050840"/>
            <a:chOff x="1705680" y="5638680"/>
            <a:chExt cx="2274120" cy="1050840"/>
          </a:xfrm>
        </p:grpSpPr>
        <p:pic>
          <p:nvPicPr>
            <p:cNvPr id="704" name="Picture 10" descr="C:\Program Files\Common Files\Microsoft Shared\Clipart\cagcat50\pe02661_.wmf"/>
            <p:cNvPicPr/>
            <p:nvPr/>
          </p:nvPicPr>
          <p:blipFill>
            <a:blip r:embed="rId7"/>
            <a:stretch/>
          </p:blipFill>
          <p:spPr>
            <a:xfrm>
              <a:off x="3047760" y="5638680"/>
              <a:ext cx="93204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Text Box 76"/>
            <p:cNvSpPr/>
            <p:nvPr/>
          </p:nvSpPr>
          <p:spPr>
            <a:xfrm>
              <a:off x="1705680" y="5729040"/>
              <a:ext cx="85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A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Group 85"/>
          <p:cNvGrpSpPr/>
          <p:nvPr/>
        </p:nvGrpSpPr>
        <p:grpSpPr>
          <a:xfrm>
            <a:off x="1873080" y="3483000"/>
            <a:ext cx="5211720" cy="1568880"/>
            <a:chOff x="1873080" y="3483000"/>
            <a:chExt cx="5211720" cy="1568880"/>
          </a:xfrm>
        </p:grpSpPr>
        <p:sp>
          <p:nvSpPr>
            <p:cNvPr id="707" name="Rectangle 71"/>
            <p:cNvSpPr/>
            <p:nvPr/>
          </p:nvSpPr>
          <p:spPr>
            <a:xfrm>
              <a:off x="3660840" y="4348080"/>
              <a:ext cx="1340640" cy="7038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re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t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78"/>
            <p:cNvSpPr/>
            <p:nvPr/>
          </p:nvSpPr>
          <p:spPr>
            <a:xfrm>
              <a:off x="1873080" y="3483000"/>
              <a:ext cx="1979640" cy="8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9"/>
            <p:cNvSpPr/>
            <p:nvPr/>
          </p:nvSpPr>
          <p:spPr>
            <a:xfrm>
              <a:off x="2900160" y="3483000"/>
              <a:ext cx="1103400" cy="8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80"/>
            <p:cNvSpPr/>
            <p:nvPr/>
          </p:nvSpPr>
          <p:spPr>
            <a:xfrm>
              <a:off x="3939840" y="3483000"/>
              <a:ext cx="238320" cy="8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81"/>
            <p:cNvSpPr/>
            <p:nvPr/>
          </p:nvSpPr>
          <p:spPr>
            <a:xfrm flipH="1">
              <a:off x="4466520" y="3483000"/>
              <a:ext cx="500040" cy="8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Line 82"/>
            <p:cNvSpPr/>
            <p:nvPr/>
          </p:nvSpPr>
          <p:spPr>
            <a:xfrm flipH="1">
              <a:off x="4679280" y="3483000"/>
              <a:ext cx="1352520" cy="8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83"/>
            <p:cNvSpPr/>
            <p:nvPr/>
          </p:nvSpPr>
          <p:spPr>
            <a:xfrm flipH="1">
              <a:off x="4892400" y="3483000"/>
              <a:ext cx="2192400" cy="8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Group 86"/>
          <p:cNvGrpSpPr/>
          <p:nvPr/>
        </p:nvGrpSpPr>
        <p:grpSpPr>
          <a:xfrm>
            <a:off x="4114800" y="5060880"/>
            <a:ext cx="487080" cy="1661040"/>
            <a:chOff x="4114800" y="5060880"/>
            <a:chExt cx="487080" cy="1661040"/>
          </a:xfrm>
        </p:grpSpPr>
        <p:grpSp>
          <p:nvGrpSpPr>
            <p:cNvPr id="715" name="Group 68"/>
            <p:cNvGrpSpPr/>
            <p:nvPr/>
          </p:nvGrpSpPr>
          <p:grpSpPr>
            <a:xfrm>
              <a:off x="4114800" y="5562360"/>
              <a:ext cx="487080" cy="1159560"/>
              <a:chOff x="4114800" y="5562360"/>
              <a:chExt cx="487080" cy="1159560"/>
            </a:xfrm>
          </p:grpSpPr>
          <p:sp>
            <p:nvSpPr>
              <p:cNvPr id="716" name="Rectangle 69"/>
              <p:cNvSpPr/>
              <p:nvPr/>
            </p:nvSpPr>
            <p:spPr>
              <a:xfrm>
                <a:off x="4152960" y="5613120"/>
                <a:ext cx="380880" cy="1066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Text Box 70"/>
              <p:cNvSpPr/>
              <p:nvPr/>
            </p:nvSpPr>
            <p:spPr>
              <a:xfrm>
                <a:off x="4114800" y="5562360"/>
                <a:ext cx="48708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  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 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   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 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Line 84"/>
            <p:cNvSpPr/>
            <p:nvPr/>
          </p:nvSpPr>
          <p:spPr>
            <a:xfrm flipV="1">
              <a:off x="4341960" y="5060880"/>
              <a:ext cx="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95"/>
          <p:cNvGrpSpPr/>
          <p:nvPr/>
        </p:nvGrpSpPr>
        <p:grpSpPr>
          <a:xfrm>
            <a:off x="5005440" y="4114800"/>
            <a:ext cx="1927440" cy="1159560"/>
            <a:chOff x="5005440" y="4114800"/>
            <a:chExt cx="1927440" cy="1159560"/>
          </a:xfrm>
        </p:grpSpPr>
        <p:sp>
          <p:nvSpPr>
            <p:cNvPr id="720" name="Line 87"/>
            <p:cNvSpPr/>
            <p:nvPr/>
          </p:nvSpPr>
          <p:spPr>
            <a:xfrm>
              <a:off x="5005440" y="4673520"/>
              <a:ext cx="70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Group 88"/>
            <p:cNvGrpSpPr/>
            <p:nvPr/>
          </p:nvGrpSpPr>
          <p:grpSpPr>
            <a:xfrm>
              <a:off x="5867280" y="4114800"/>
              <a:ext cx="487080" cy="1159560"/>
              <a:chOff x="5867280" y="4114800"/>
              <a:chExt cx="487080" cy="1159560"/>
            </a:xfrm>
          </p:grpSpPr>
          <p:sp>
            <p:nvSpPr>
              <p:cNvPr id="722" name="Rectangle 89"/>
              <p:cNvSpPr/>
              <p:nvPr/>
            </p:nvSpPr>
            <p:spPr>
              <a:xfrm>
                <a:off x="5905080" y="4165560"/>
                <a:ext cx="380160" cy="1066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Text Box 90"/>
              <p:cNvSpPr/>
              <p:nvPr/>
            </p:nvSpPr>
            <p:spPr>
              <a:xfrm>
                <a:off x="5867280" y="4114800"/>
                <a:ext cx="48708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  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 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:    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 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Group 91"/>
            <p:cNvGrpSpPr/>
            <p:nvPr/>
          </p:nvGrpSpPr>
          <p:grpSpPr>
            <a:xfrm>
              <a:off x="6400080" y="4114800"/>
              <a:ext cx="532800" cy="1159560"/>
              <a:chOff x="6400080" y="4114800"/>
              <a:chExt cx="532800" cy="1159560"/>
            </a:xfrm>
          </p:grpSpPr>
          <p:sp>
            <p:nvSpPr>
              <p:cNvPr id="725" name="Rectangle 92"/>
              <p:cNvSpPr/>
              <p:nvPr/>
            </p:nvSpPr>
            <p:spPr>
              <a:xfrm>
                <a:off x="6438600" y="4165560"/>
                <a:ext cx="380880" cy="1066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Text Box 93"/>
              <p:cNvSpPr/>
              <p:nvPr/>
            </p:nvSpPr>
            <p:spPr>
              <a:xfrm>
                <a:off x="6400080" y="4114800"/>
                <a:ext cx="5328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 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  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  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   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7" name="Group 104"/>
          <p:cNvGrpSpPr/>
          <p:nvPr/>
        </p:nvGrpSpPr>
        <p:grpSpPr>
          <a:xfrm>
            <a:off x="5107680" y="5235480"/>
            <a:ext cx="2076480" cy="1161360"/>
            <a:chOff x="5107680" y="5235480"/>
            <a:chExt cx="2076480" cy="1161360"/>
          </a:xfrm>
        </p:grpSpPr>
        <p:sp>
          <p:nvSpPr>
            <p:cNvPr id="728" name="Rectangle 96"/>
            <p:cNvSpPr/>
            <p:nvPr/>
          </p:nvSpPr>
          <p:spPr>
            <a:xfrm>
              <a:off x="5107680" y="5693040"/>
              <a:ext cx="2076480" cy="7038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tra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ommend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00"/>
            <p:cNvSpPr/>
            <p:nvPr/>
          </p:nvSpPr>
          <p:spPr>
            <a:xfrm>
              <a:off x="6075360" y="5235480"/>
              <a:ext cx="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01"/>
            <p:cNvSpPr/>
            <p:nvPr/>
          </p:nvSpPr>
          <p:spPr>
            <a:xfrm>
              <a:off x="6626160" y="5246640"/>
              <a:ext cx="3240" cy="4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Group 111"/>
          <p:cNvGrpSpPr/>
          <p:nvPr/>
        </p:nvGrpSpPr>
        <p:grpSpPr>
          <a:xfrm>
            <a:off x="5715000" y="4572000"/>
            <a:ext cx="2179080" cy="1591200"/>
            <a:chOff x="5715000" y="4572000"/>
            <a:chExt cx="2179080" cy="1591200"/>
          </a:xfrm>
        </p:grpSpPr>
        <p:grpSp>
          <p:nvGrpSpPr>
            <p:cNvPr id="732" name="Group 105"/>
            <p:cNvGrpSpPr/>
            <p:nvPr/>
          </p:nvGrpSpPr>
          <p:grpSpPr>
            <a:xfrm>
              <a:off x="7189920" y="5764320"/>
              <a:ext cx="704160" cy="398880"/>
              <a:chOff x="7189920" y="5764320"/>
              <a:chExt cx="704160" cy="398880"/>
            </a:xfrm>
          </p:grpSpPr>
          <p:sp>
            <p:nvSpPr>
              <p:cNvPr id="733" name="Line 102"/>
              <p:cNvSpPr/>
              <p:nvPr/>
            </p:nvSpPr>
            <p:spPr>
              <a:xfrm>
                <a:off x="7189920" y="6000480"/>
                <a:ext cx="32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Text Box 103"/>
              <p:cNvSpPr/>
              <p:nvPr/>
            </p:nvSpPr>
            <p:spPr>
              <a:xfrm>
                <a:off x="7544160" y="576432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5" name="Rectangle 109"/>
            <p:cNvSpPr/>
            <p:nvPr/>
          </p:nvSpPr>
          <p:spPr>
            <a:xfrm>
              <a:off x="5715000" y="4572000"/>
              <a:ext cx="1295280" cy="228600"/>
            </a:xfrm>
            <a:prstGeom prst="rect">
              <a:avLst/>
            </a:prstGeom>
            <a:noFill/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Group 116"/>
          <p:cNvGrpSpPr/>
          <p:nvPr/>
        </p:nvGrpSpPr>
        <p:grpSpPr>
          <a:xfrm>
            <a:off x="1612800" y="2338560"/>
            <a:ext cx="5734080" cy="1245960"/>
            <a:chOff x="1612800" y="2338560"/>
            <a:chExt cx="5734080" cy="1245960"/>
          </a:xfrm>
        </p:grpSpPr>
        <p:sp>
          <p:nvSpPr>
            <p:cNvPr id="737" name="Rectangle 117"/>
            <p:cNvSpPr/>
            <p:nvPr/>
          </p:nvSpPr>
          <p:spPr>
            <a:xfrm>
              <a:off x="1612800" y="2338560"/>
              <a:ext cx="533520" cy="1218960"/>
            </a:xfrm>
            <a:prstGeom prst="rect">
              <a:avLst/>
            </a:prstGeom>
            <a:noFill/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118"/>
            <p:cNvSpPr/>
            <p:nvPr/>
          </p:nvSpPr>
          <p:spPr>
            <a:xfrm>
              <a:off x="6813720" y="2365200"/>
              <a:ext cx="533160" cy="1219320"/>
            </a:xfrm>
            <a:prstGeom prst="rect">
              <a:avLst/>
            </a:prstGeom>
            <a:noFill/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E6D5-569A-47A3-BD04-178B7D4EA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llaborative Filtering Meth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all users with respect to similarity with the active u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 subset of the user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eighb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o use as predi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ize ratings and compute a prediction from a weighted combination of the selected neighbors’ rat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items with highest predicted ratings as recommend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88B8-9159-478B-8FB7-88C12B1C0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ilarity Weight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use Pearson correlation coefficient between ratings for active user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nother user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Object 4"/>
              <p:cNvSpPr txBox="1"/>
              <p:nvPr/>
            </p:nvSpPr>
            <p:spPr>
              <a:xfrm>
                <a:off x="2851200" y="2438280"/>
                <a:ext cx="290808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6" name="Text Box 5"/>
          <p:cNvSpPr/>
          <p:nvPr/>
        </p:nvSpPr>
        <p:spPr>
          <a:xfrm>
            <a:off x="1077120" y="3657600"/>
            <a:ext cx="70279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 ratings vectors for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ems rat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rating for ite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mooney</cp:lastModifiedBy>
  <dcterms:modified xsi:type="dcterms:W3CDTF">2016-11-22T18:18:30Z</dcterms:modified>
  <cp:revision>72</cp:revision>
  <dc:subject/>
  <dc:title>Intelligent Information Retrieval and Web Search</dc:title>
</cp:coreProperties>
</file>