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6.wmf" ContentType="image/x-wmf"/>
  <Override PartName="/ppt/media/image15.wmf" ContentType="image/x-wmf"/>
  <Override PartName="/ppt/media/image11.wmf" ContentType="image/x-wmf"/>
  <Override PartName="/ppt/media/image6.wmf" ContentType="image/x-wmf"/>
  <Override PartName="/ppt/media/image1.png" ContentType="image/png"/>
  <Override PartName="/ppt/media/image2.png" ContentType="image/png"/>
  <Override PartName="/ppt/media/clap.wav" ContentType="audio/x-wav"/>
  <Override PartName="/ppt/media/explode.wav" ContentType="audio/x-wav"/>
  <Override PartName="/ppt/media/image3.wmf" ContentType="image/x-wmf"/>
  <Override PartName="/ppt/media/image4.wmf" ContentType="image/x-wmf"/>
  <Override PartName="/ppt/media/applause.wav" ContentType="audio/x-wav"/>
  <Override PartName="/ppt/media/image5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0CFE-CF1B-4858-B4C9-A3FA19E6B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86CE-4F9D-4B4B-9E3E-1BEA9D6E2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D941-F6D4-443A-83F8-BD70FA0C6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A84B-BBB7-46E5-B413-E7A1E6840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E416-B470-4655-A076-D0AB295A4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60ED-F9FF-4A06-B203-AFF69C6CD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DF6C-3D1E-4D48-BF82-659563561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BA4E-1546-44F7-B14F-34BF52F4E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1F921-56F3-4F3C-B363-D738CDB0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EAB0-5C55-4FA8-B923-8C627CDB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BFD415-90EC-42A6-8590-A225D481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6ED935-3C78-4E90-BC05-C5D15395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6B012E-B17C-441B-A4D0-520E61AA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E1ED7D-0CD1-402A-B1E7-16A0E708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75F512-79DB-4396-B9A5-0A14960B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8A8FA7-B9F0-42CA-89AF-88689C1C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BACF12-3825-4573-867D-AA10A9CA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4844C4-A942-4862-8180-A7B75644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F9ECC6-1C24-4059-B3A1-41E2A7B8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2E3E83-D258-4AA1-B956-8A8FFCF3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75DC-5187-483C-BF86-7052E883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700525-8768-4D83-AC2B-DE20D52A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F4B0A6-81B9-4055-8619-128B6458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BDD458-4218-4EB5-AA46-DB2A6293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CAE378-D70C-4228-B186-62CD532C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056AF7-8688-415B-AEEB-A5581A86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F0023D-A02F-49B7-B288-42F51EF5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FED101-3902-4E1B-8AE6-329AC8B2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9C9683-8060-45E0-B397-00E75DF0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C3A2F3-6A8F-487B-B22F-65FE07EB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5F5A1D-C1BA-403C-BFAB-4C56A1D7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8619-3F4C-4C3C-A281-16C718CC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5A8024-A9F7-43B7-BDFC-A906A95E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818BD1-2202-4E49-B9BF-F064F1B9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085677-0E3A-41C5-A5B8-C12AF38C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C46BAF-DDB6-4000-8606-60E5F0A9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2BDCF0-C0EB-48F9-A6F0-273B2AE4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893AE1-3598-4EE9-9E0D-32E1FE79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5A3DC6-FE03-4B1B-8F29-6FBEBF4B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EA6085-D158-46E6-8216-0B0BF385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8E877E-93A1-475F-B329-2AFE40F4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949736-F6E5-4D01-B052-C05191BF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33A35-2237-4061-8223-1D350FE0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9E91B9-D248-49F5-A0E3-67A93909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6998C0-1E6D-4313-8F29-27C48B94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93C090-90EE-47E2-8479-57F497FC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0D83D4-8D12-479E-BEBA-237534DB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4C593E-DED5-4868-A4B9-BEA52607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336E0D-80A5-4477-84B9-720C85A6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5081AE-902E-4736-979C-E67C5916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E536E1-BC66-4FF2-912D-4875C281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3FCE2F-9D90-42A9-8062-0303A361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EB5205-5180-44E9-90D4-6508F31C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8374D-75A0-4506-81B3-E536A9AC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DB170B-A82A-40C5-947D-166FBD11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DB9E52-E413-4B10-8505-6563AA91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3F89FA-F812-4B35-9262-5B7C5B96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2E14ED-522D-4440-B835-CB0AC53F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3CA814-46B8-48FA-A816-B2E0A18F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EB39A8-A5D8-44CD-A841-09C9AE97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493C24-D906-4B7A-AAA8-A4244C7C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6E08DC-D370-4AF2-A467-4C6C5019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9436A8-928F-442E-9BA9-688CF97E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E5C337-873E-4CA0-AC4D-82D3ABB9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03669-9962-4C5B-8593-57BFF9D3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E397B7-5BAE-4819-9EBF-A244DA8B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BEF63C-9E92-4217-8D60-3C468FCA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761ABC-3A9B-4189-B1AE-EEC6D6D9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DE3A25-77DB-4A45-AE60-AB38897D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410B63-1C1C-4C5B-B1E7-CD904789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B4CD49-953F-4B29-B0AC-F4980FB0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9B3ED6-0864-4239-BDF7-B48B8573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42A043-6F2D-43E5-AC54-6BCE5C4A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1575FF-C137-4D30-B30B-D40D39E8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8997EA-E4B9-43C1-BF10-4BD22B30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77081-DB6B-42FD-AAF0-E7229A3A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C47B26-D690-4E4A-A51B-4671D21D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19CE29-7B51-4683-B2C7-D05FA65E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0D0B0B-3A1B-42CC-97E9-082F006C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DA9DDA-CED8-4A53-8DCE-3E5DD1A2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35470C-02DD-4ACB-A00D-C8F66BA5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8106A0-B3DB-464D-BD41-C302B1EC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A300A2-F114-4A93-A142-7CB1FAE7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1C6225-DCD6-4DB9-A6D9-B22DCB6B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0957BA-1A70-4839-807A-81E71826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EFDE8-179B-43E1-95CB-553AA3A5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13948-A4CF-4126-9E41-30850B73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B4DAC-352A-4AA5-8B3D-7ED71F02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5F8C3-9967-44F3-A76F-13F865F8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4D1A9-012A-4BA8-BBCD-79E18684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2424C-6E27-49B4-B16B-5A18FD93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B4EB8-5527-4156-BC78-408BF99E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1FD34-2599-4979-9A64-612A523A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1FA55-7E57-4C61-9E06-410BB66C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3E96D-51E3-4E7E-8592-5E9E4418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8E910-5E73-4796-A995-164A19C3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BE8BC-3129-4BC7-9E70-86B1A254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F9A45-C9C4-4EA7-9D12-F5E39EEE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B84F6-3E6E-4E14-8733-0BBF343C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A8C16-2240-42F8-9971-5B2FD7CC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BAEFC-0E2E-417F-9E5F-874867A1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5C1A8-9A1A-422B-A5E4-C2790D73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9FAB9-D130-443A-80EC-3FA79403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239F0-AEE8-48D4-8093-F8EF773A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12F09-DFDB-45BB-A1D1-AD6B0BE2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A3F54-0F43-468F-BA04-DDCEADF6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49E50-8084-4B3C-BD6D-FBD9B9DD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715919-AB7F-4167-814F-5AD90A92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004E1-1C30-4740-906F-8481C57D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27AD1-131D-443A-A70D-135ACE80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7029-D847-448D-B282-4AE13DB6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02011-58D3-4117-8322-6E8D9248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1AEAF-2AB4-4134-A9A0-9AB4561E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F7240-1CF9-46C1-ABA6-9044ADBE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D4151B-CF90-45BB-8F5B-97D937CC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87256-5BC3-4D28-A0D7-84BA8B67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CB3FFD-8F60-4333-99C6-3EEBCA20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8DA28-9DAD-4A8A-9E32-B9E94F20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0C870-191B-424B-9B93-F7237FB8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8882A-37A7-4839-905A-438791E0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2CEE6-FE79-450A-A147-5F2F7065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6C59F-609F-4735-93B6-05E57408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5663FF-B95A-45F9-BB31-B51042C1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969C9-520F-472C-883D-7F126480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FD8DFE-5279-4A1A-A174-9D708CE5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75152-4B55-45A4-B7BC-57DAB873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AFC8A-0A27-47FE-8099-4B904431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785AB7-9303-4259-A6B5-C8516FE9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F5F1E-3570-40FC-B87F-2D55D09C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0B1CB-6F79-4186-ACCB-D499886E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AACDDB-CA49-4517-85BF-3F6BBD16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F36A7-FF18-4F6B-BF4B-BBF58DEF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245C-88F9-4092-987B-3143F6A3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D0CDD-718A-4CE0-BB2E-C478F9ED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94B69-926F-41AF-8772-E33990A5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999A5-A227-4075-B635-6F2CFEFA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6E628C-B932-4198-A8DE-48387BB2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9D6C7-54EF-486C-8A49-24D330E6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7B428-0456-4506-80C3-BE01116B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B1EFA-97FA-44FE-9D67-7EBEAB77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E8D98-AD56-472F-A214-8FB41BD1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BBF71-9413-4EA8-8C9E-184B674C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12E60-8CC6-4A82-9629-ED7EAC98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10CB-246A-439D-A2E0-9CEA5184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FA9A6-3B0C-473E-947D-BF333375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5123B2-E03C-4572-A3DD-FAFBAA64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7F86C-CCB1-4FCA-A289-0F630931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0658D-0FB6-4229-A92D-04B7FF77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7A463F-5A6C-428F-842D-97ABAA91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528E8-DDBE-45B0-BDA7-260B97F6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3024E2-A7FF-47A9-8DEF-857CA07A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3DABBC-EF39-45DA-850B-2BCD0ED4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AC041-C3F6-43F7-A733-D8B65138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2AC65-90ED-4E24-AEC2-5FE532B3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636F9-2C5F-4140-83E8-9C94BAFD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B9F05-EE3D-4E6E-A59B-0CC1C42C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AF38A-92E1-459E-84B5-B162AD5F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8A41A-F27F-4369-8380-BC50A6D6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59C814-252C-4D2F-86B1-8EBDA3B0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E74CE2-A243-4505-A33C-BDB5AFCE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C836BC-D292-44CE-AB42-9AD6E071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4021FC-8D54-4C5D-AE2D-4EBEAA99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37C9A4-36D0-4541-8C23-305EA802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953EA4-A1C6-4E5F-914C-B85FEE85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A4ECA9-C533-4BC2-8702-D16F7150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0F6A-0FDE-4C3B-B70E-81E04F2F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9AD4A8-1AF9-46AA-97E4-64B0974E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AD3FA6-EAD7-42E7-8FDD-A68C1799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03AF2D-58C7-419B-B26A-EAA0E02F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403790-E0BB-47EC-8274-F71F7C1F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7310DD-76C7-4ABA-86BB-34F7FA45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C895EA-875F-4918-97E5-2D1731EB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31AB37-1FA6-4C83-8186-172D20D6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A5BB78-6F44-4785-9B30-DD679971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88B27E-D272-40D9-B324-FA66F42D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CA60BA-F199-4319-ABD0-D6841493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21C9-2512-49A3-967B-F22A5EAA1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4ABF-1F96-4578-9539-2B4FF1ADF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BFB3-DDEB-4DF3-9BC9-3BAAEA584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FA57-D53B-4557-ADCA-416E1E82C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88BD-CDF9-45F3-9037-2A8E67078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sldNum" idx="4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1353-9F9B-4D14-9E77-36E5EC526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727A-6E2D-48E9-9D5B-4E2A8C4C8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F579-E148-4285-A46F-D15415A29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CCDE-A079-4E1D-BCD8-6253F0BD3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101D-00EC-4FEB-855A-F2237144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C706-7AC4-404C-9A9A-25141672F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92C1-CE97-4EAA-9AE6-B7D8C309C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326D-C0C7-4213-ABB3-E18C92A72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E9CA-039E-41AD-B631-756A5B68D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ASIN/0140282025" TargetMode="External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s.utexas.edu/users/libra" TargetMode="External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audio" Target="../media/clap.wav"/><Relationship Id="rId10" Type="http://schemas.openxmlformats.org/officeDocument/2006/relationships/audio" Target="../media/applause.wav"/><Relationship Id="rId11" Type="http://schemas.openxmlformats.org/officeDocument/2006/relationships/audio" Target="../media/clap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audio" Target="../media/explode.wav"/><Relationship Id="rId15" Type="http://schemas.openxmlformats.org/officeDocument/2006/relationships/slideLayout" Target="../slideLayouts/slideLayout73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5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B247-D708-4F01-8A29-1884E2977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commender Syst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ve Filtering 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-Based Recomm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49BD-00DD-453D-9A9A-9DEF89C5A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variance and Standard Devi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Devi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4"/>
              <p:cNvSpPr txBox="1"/>
              <p:nvPr/>
            </p:nvSpPr>
            <p:spPr>
              <a:xfrm>
                <a:off x="2057400" y="1676520"/>
                <a:ext cx="41148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Object 6"/>
              <p:cNvSpPr txBox="1"/>
              <p:nvPr/>
            </p:nvSpPr>
            <p:spPr>
              <a:xfrm>
                <a:off x="3200400" y="2895480"/>
                <a:ext cx="12574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7"/>
              <p:cNvSpPr txBox="1"/>
              <p:nvPr/>
            </p:nvSpPr>
            <p:spPr>
              <a:xfrm>
                <a:off x="2590920" y="4952880"/>
                <a:ext cx="24382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1C7C-6721-4EEA-8A64-944B90EC9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gnificance Weigh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t not to trust correlations based on very few co-rated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gnificance weigh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,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ased on number of co-rated item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6"/>
              <p:cNvSpPr txBox="1"/>
              <p:nvPr/>
            </p:nvSpPr>
            <p:spPr>
              <a:xfrm>
                <a:off x="3386160" y="3505320"/>
                <a:ext cx="22176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9"/>
              <p:cNvSpPr txBox="1"/>
              <p:nvPr/>
            </p:nvSpPr>
            <p:spPr>
              <a:xfrm>
                <a:off x="3352680" y="4267080"/>
                <a:ext cx="29718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f </m:t>
                              </m:r>
                              <m:r>
                                <m:t xml:space="preserve">m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0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if </m:t>
                              </m:r>
                              <m:r>
                                <m:t xml:space="preserve">m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384E-2C3B-4CBA-939A-7A1B1A1AA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ighbor Sele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given active us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elect correlated users to serve as source of predi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approach is to use the most simil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r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ased on similarity weight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,u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e approach is to include all users whose similarity weight is above a given thresh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F903-B2D5-4DD2-8B20-D0601B09A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ing Predi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 a ratin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,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each it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active use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y us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lected neighbor user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1,2,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count for users different ratings levels, base prediction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ffer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a user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 users’ ratings contribution by their similarity to the activ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Object 4"/>
              <p:cNvSpPr txBox="1"/>
              <p:nvPr/>
            </p:nvSpPr>
            <p:spPr>
              <a:xfrm>
                <a:off x="2209680" y="4038480"/>
                <a:ext cx="3886200" cy="20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7D7D-C863-45E4-A437-119D3D280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lems with Collaborative Fil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d St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re needs to be enough other users already in the system to find a m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pars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there are many items to be recommended, even if there are many users, the user/ratings matrix is sparse, and it is hard to find users that have rated the same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rst Ra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annot recommend an item that has not been previously 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w ite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soteric ite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pularity B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annot recommend items to someone with unique tas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nds to recommend popular item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6068-41AF-4BDC-820B-466D5B355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nt-Based Recommend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 are based on information o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items rather than on other users’ opin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a machine learning algorithm to induce a profile of the users preferences from examples based on a featural description of con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previous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wsweeder (Lang, 1995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yskill and Webert (Pazzani et al., 1996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2C43-25F1-415E-83A6-4D1B8885B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dvantages of Content-Based Approa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ed for data on other us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 cold-start or sparsity problem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 recommend to users with unique tas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recommend new and unpopular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 first-rater problem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rovide explanations of recommended items by listing content-features that caused an item to be recommen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F4E1-8E14-4B9B-81C9-B8EE6F8C9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advantages of Content-Based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ntent that can be encoded as meaningful f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’ tastes must be represented as a learnable function of these content f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ble to exploit quality judgments of other us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nless these are somehow included in the content featur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3592-338A-4768-9EA8-C4F82ACEC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BRA</a:t>
            </a:r>
            <a:br>
              <a:rPr sz="3600"/>
            </a:b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Intelligent Book Recommending Agent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-based recommender for books using information about titles extracted from Amaz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information extraction from the web to organize text into fiel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ditorial Review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ustomer Comm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bject ter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lated author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lated titl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A1FB-BA9C-4F9C-B6CA-806B38C62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BRA Syst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782" name="Group 204"/>
          <p:cNvGrpSpPr/>
          <p:nvPr/>
        </p:nvGrpSpPr>
        <p:grpSpPr>
          <a:xfrm>
            <a:off x="1063800" y="1371600"/>
            <a:ext cx="1703160" cy="1904760"/>
            <a:chOff x="1063800" y="1371600"/>
            <a:chExt cx="1703160" cy="1904760"/>
          </a:xfrm>
        </p:grpSpPr>
        <p:grpSp>
          <p:nvGrpSpPr>
            <p:cNvPr id="783" name="Group 8"/>
            <p:cNvGrpSpPr/>
            <p:nvPr/>
          </p:nvGrpSpPr>
          <p:grpSpPr>
            <a:xfrm>
              <a:off x="1294920" y="1828800"/>
              <a:ext cx="1294920" cy="1447560"/>
              <a:chOff x="1294920" y="1828800"/>
              <a:chExt cx="1294920" cy="1447560"/>
            </a:xfrm>
          </p:grpSpPr>
          <p:pic>
            <p:nvPicPr>
              <p:cNvPr id="784" name="Picture 4" descr="A:\amazon.gif"/>
              <p:cNvPicPr/>
              <p:nvPr/>
            </p:nvPicPr>
            <p:blipFill>
              <a:blip r:embed="rId1"/>
              <a:stretch/>
            </p:blipFill>
            <p:spPr>
              <a:xfrm flipH="1">
                <a:off x="1294920" y="1828800"/>
                <a:ext cx="720360" cy="90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5" name="Picture 5" descr="A:\amazon.gif"/>
              <p:cNvPicPr/>
              <p:nvPr/>
            </p:nvPicPr>
            <p:blipFill>
              <a:blip r:embed="rId2"/>
              <a:stretch/>
            </p:blipFill>
            <p:spPr>
              <a:xfrm flipH="1">
                <a:off x="1486800" y="2008080"/>
                <a:ext cx="720360" cy="90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6" name="Picture 6" descr="A:\amazon.gif"/>
              <p:cNvPicPr/>
              <p:nvPr/>
            </p:nvPicPr>
            <p:blipFill>
              <a:blip r:embed="rId3"/>
              <a:stretch/>
            </p:blipFill>
            <p:spPr>
              <a:xfrm flipH="1">
                <a:off x="1678320" y="2188080"/>
                <a:ext cx="720360" cy="90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7" name="Picture 7" descr="A:\amazon.gif"/>
              <p:cNvPicPr/>
              <p:nvPr/>
            </p:nvPicPr>
            <p:blipFill>
              <a:blip r:embed="rId4"/>
              <a:stretch/>
            </p:blipFill>
            <p:spPr>
              <a:xfrm flipH="1">
                <a:off x="1869480" y="2367360"/>
                <a:ext cx="720360" cy="90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8" name="Text Box 9"/>
            <p:cNvSpPr/>
            <p:nvPr/>
          </p:nvSpPr>
          <p:spPr>
            <a:xfrm>
              <a:off x="1063800" y="1371600"/>
              <a:ext cx="170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mazon 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Group 209"/>
          <p:cNvGrpSpPr/>
          <p:nvPr/>
        </p:nvGrpSpPr>
        <p:grpSpPr>
          <a:xfrm>
            <a:off x="1165320" y="3081240"/>
            <a:ext cx="1014480" cy="650520"/>
            <a:chOff x="1165320" y="3081240"/>
            <a:chExt cx="1014480" cy="650520"/>
          </a:xfrm>
        </p:grpSpPr>
        <p:sp>
          <p:nvSpPr>
            <p:cNvPr id="790" name="Line 159"/>
            <p:cNvSpPr/>
            <p:nvPr/>
          </p:nvSpPr>
          <p:spPr>
            <a:xfrm flipV="1">
              <a:off x="1165320" y="3081240"/>
              <a:ext cx="612720" cy="60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160"/>
            <p:cNvSpPr/>
            <p:nvPr/>
          </p:nvSpPr>
          <p:spPr>
            <a:xfrm flipV="1">
              <a:off x="1177920" y="3331800"/>
              <a:ext cx="100188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Group 208"/>
          <p:cNvGrpSpPr/>
          <p:nvPr/>
        </p:nvGrpSpPr>
        <p:grpSpPr>
          <a:xfrm>
            <a:off x="635040" y="3378240"/>
            <a:ext cx="931680" cy="2004840"/>
            <a:chOff x="635040" y="3378240"/>
            <a:chExt cx="931680" cy="2004840"/>
          </a:xfrm>
        </p:grpSpPr>
        <p:pic>
          <p:nvPicPr>
            <p:cNvPr id="793" name="Picture 10" descr="C:\Program Files\MSOffice\Clipart\Popular\amconfus.wmf"/>
            <p:cNvPicPr/>
            <p:nvPr/>
          </p:nvPicPr>
          <p:blipFill>
            <a:blip r:embed="rId5"/>
            <a:stretch/>
          </p:blipFill>
          <p:spPr>
            <a:xfrm>
              <a:off x="635040" y="3378240"/>
              <a:ext cx="9316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Oval 163"/>
            <p:cNvSpPr/>
            <p:nvPr/>
          </p:nvSpPr>
          <p:spPr>
            <a:xfrm>
              <a:off x="1079640" y="3706920"/>
              <a:ext cx="7452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Group 215"/>
          <p:cNvGrpSpPr/>
          <p:nvPr/>
        </p:nvGrpSpPr>
        <p:grpSpPr>
          <a:xfrm>
            <a:off x="2057400" y="3505320"/>
            <a:ext cx="1371600" cy="761760"/>
            <a:chOff x="2057400" y="3505320"/>
            <a:chExt cx="1371600" cy="761760"/>
          </a:xfrm>
        </p:grpSpPr>
        <p:sp>
          <p:nvSpPr>
            <p:cNvPr id="796" name="AutoShape 164"/>
            <p:cNvSpPr/>
            <p:nvPr/>
          </p:nvSpPr>
          <p:spPr>
            <a:xfrm>
              <a:off x="2057400" y="3505320"/>
              <a:ext cx="1371600" cy="761760"/>
            </a:xfrm>
            <a:prstGeom prst="wedgeRoundRectCallout">
              <a:avLst>
                <a:gd name="adj1" fmla="val -115740"/>
                <a:gd name="adj2" fmla="val 4374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Text Box 166"/>
            <p:cNvSpPr/>
            <p:nvPr/>
          </p:nvSpPr>
          <p:spPr>
            <a:xfrm>
              <a:off x="2207880" y="3505320"/>
              <a:ext cx="118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t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Group 211"/>
          <p:cNvGrpSpPr/>
          <p:nvPr/>
        </p:nvGrpSpPr>
        <p:grpSpPr>
          <a:xfrm>
            <a:off x="3888720" y="4761000"/>
            <a:ext cx="2055600" cy="951120"/>
            <a:chOff x="3888720" y="4761000"/>
            <a:chExt cx="2055600" cy="951120"/>
          </a:xfrm>
        </p:grpSpPr>
        <p:sp>
          <p:nvSpPr>
            <p:cNvPr id="799" name="AutoShape 179"/>
            <p:cNvSpPr/>
            <p:nvPr/>
          </p:nvSpPr>
          <p:spPr>
            <a:xfrm>
              <a:off x="3888720" y="5127120"/>
              <a:ext cx="2055600" cy="585000"/>
            </a:xfrm>
            <a:prstGeom prst="hexagon">
              <a:avLst>
                <a:gd name="adj" fmla="val 87846"/>
                <a:gd name="vf" fmla="val 115470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AutoShape 184"/>
            <p:cNvSpPr/>
            <p:nvPr/>
          </p:nvSpPr>
          <p:spPr>
            <a:xfrm>
              <a:off x="4802040" y="4761000"/>
              <a:ext cx="228600" cy="380880"/>
            </a:xfrm>
            <a:prstGeom prst="downArrow">
              <a:avLst>
                <a:gd name="adj1" fmla="val 50000"/>
                <a:gd name="adj2" fmla="val 41654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Group 210"/>
          <p:cNvGrpSpPr/>
          <p:nvPr/>
        </p:nvGrpSpPr>
        <p:grpSpPr>
          <a:xfrm>
            <a:off x="2742120" y="3276720"/>
            <a:ext cx="4878000" cy="1470960"/>
            <a:chOff x="2742120" y="3276720"/>
            <a:chExt cx="4878000" cy="1470960"/>
          </a:xfrm>
        </p:grpSpPr>
        <p:sp>
          <p:nvSpPr>
            <p:cNvPr id="802" name="Text Box 169"/>
            <p:cNvSpPr/>
            <p:nvPr/>
          </p:nvSpPr>
          <p:spPr>
            <a:xfrm>
              <a:off x="3889080" y="3809880"/>
              <a:ext cx="20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chine Lear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Rectangle 175"/>
            <p:cNvSpPr/>
            <p:nvPr/>
          </p:nvSpPr>
          <p:spPr>
            <a:xfrm>
              <a:off x="3963960" y="4348800"/>
              <a:ext cx="1905120" cy="3988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4" name="AutoShape 189"/>
            <p:cNvCxnSpPr>
              <a:stCxn id="805" idx="3"/>
              <a:endCxn id="803" idx="3"/>
            </p:cNvCxnSpPr>
            <p:nvPr/>
          </p:nvCxnSpPr>
          <p:spPr>
            <a:xfrm rot="5400000">
              <a:off x="6108480" y="3036960"/>
              <a:ext cx="1271880" cy="1751760"/>
            </a:xfrm>
            <a:prstGeom prst="curvedConnector2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</p:cxnSp>
        <p:cxnSp>
          <p:nvCxnSpPr>
            <p:cNvPr id="806" name="AutoShape 190"/>
            <p:cNvCxnSpPr>
              <a:stCxn id="796" idx="0"/>
              <a:endCxn id="803" idx="1"/>
            </p:cNvCxnSpPr>
            <p:nvPr/>
          </p:nvCxnSpPr>
          <p:spPr>
            <a:xfrm flipH="1" rot="16200000">
              <a:off x="3216960" y="3801960"/>
              <a:ext cx="272160" cy="1221480"/>
            </a:xfrm>
            <a:prstGeom prst="curvedConnector2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</p:cxnSp>
      </p:grpSp>
      <p:grpSp>
        <p:nvGrpSpPr>
          <p:cNvPr id="807" name="Group 205"/>
          <p:cNvGrpSpPr/>
          <p:nvPr/>
        </p:nvGrpSpPr>
        <p:grpSpPr>
          <a:xfrm>
            <a:off x="2717640" y="2086560"/>
            <a:ext cx="2786040" cy="703800"/>
            <a:chOff x="2717640" y="2086560"/>
            <a:chExt cx="2786040" cy="703800"/>
          </a:xfrm>
        </p:grpSpPr>
        <p:sp>
          <p:nvSpPr>
            <p:cNvPr id="808" name="Rectangle 12"/>
            <p:cNvSpPr/>
            <p:nvPr/>
          </p:nvSpPr>
          <p:spPr>
            <a:xfrm>
              <a:off x="4103640" y="2086560"/>
              <a:ext cx="1400040" cy="703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t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193"/>
            <p:cNvSpPr/>
            <p:nvPr/>
          </p:nvSpPr>
          <p:spPr>
            <a:xfrm>
              <a:off x="2717640" y="2405160"/>
              <a:ext cx="1390680" cy="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207"/>
          <p:cNvGrpSpPr/>
          <p:nvPr/>
        </p:nvGrpSpPr>
        <p:grpSpPr>
          <a:xfrm>
            <a:off x="5573880" y="1371600"/>
            <a:ext cx="3036600" cy="1905120"/>
            <a:chOff x="5573880" y="1371600"/>
            <a:chExt cx="3036600" cy="1905120"/>
          </a:xfrm>
        </p:grpSpPr>
        <p:sp>
          <p:nvSpPr>
            <p:cNvPr id="805" name="AutoShape 17"/>
            <p:cNvSpPr/>
            <p:nvPr/>
          </p:nvSpPr>
          <p:spPr>
            <a:xfrm>
              <a:off x="6858000" y="1371600"/>
              <a:ext cx="1523880" cy="1905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 Box 18"/>
            <p:cNvSpPr/>
            <p:nvPr/>
          </p:nvSpPr>
          <p:spPr>
            <a:xfrm>
              <a:off x="6705720" y="175248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BRA 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Group 79"/>
            <p:cNvGrpSpPr/>
            <p:nvPr/>
          </p:nvGrpSpPr>
          <p:grpSpPr>
            <a:xfrm>
              <a:off x="6961320" y="2438280"/>
              <a:ext cx="228600" cy="304560"/>
              <a:chOff x="6961320" y="2438280"/>
              <a:chExt cx="228600" cy="304560"/>
            </a:xfrm>
          </p:grpSpPr>
          <p:sp>
            <p:nvSpPr>
              <p:cNvPr id="813" name="Rectangle 80"/>
              <p:cNvSpPr/>
              <p:nvPr/>
            </p:nvSpPr>
            <p:spPr>
              <a:xfrm>
                <a:off x="6961320" y="243828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81"/>
              <p:cNvSpPr/>
              <p:nvPr/>
            </p:nvSpPr>
            <p:spPr>
              <a:xfrm>
                <a:off x="6988320" y="24890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82"/>
              <p:cNvSpPr/>
              <p:nvPr/>
            </p:nvSpPr>
            <p:spPr>
              <a:xfrm>
                <a:off x="6988320" y="25304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Line 83"/>
              <p:cNvSpPr/>
              <p:nvPr/>
            </p:nvSpPr>
            <p:spPr>
              <a:xfrm>
                <a:off x="6988320" y="26143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Line 84"/>
              <p:cNvSpPr/>
              <p:nvPr/>
            </p:nvSpPr>
            <p:spPr>
              <a:xfrm>
                <a:off x="6988320" y="26557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Line 85"/>
              <p:cNvSpPr/>
              <p:nvPr/>
            </p:nvSpPr>
            <p:spPr>
              <a:xfrm>
                <a:off x="6988320" y="25714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Line 86"/>
              <p:cNvSpPr/>
              <p:nvPr/>
            </p:nvSpPr>
            <p:spPr>
              <a:xfrm>
                <a:off x="6988320" y="26985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87"/>
            <p:cNvGrpSpPr/>
            <p:nvPr/>
          </p:nvGrpSpPr>
          <p:grpSpPr>
            <a:xfrm>
              <a:off x="7113600" y="2590920"/>
              <a:ext cx="228600" cy="304560"/>
              <a:chOff x="7113600" y="2590920"/>
              <a:chExt cx="228600" cy="304560"/>
            </a:xfrm>
          </p:grpSpPr>
          <p:sp>
            <p:nvSpPr>
              <p:cNvPr id="821" name="Rectangle 88"/>
              <p:cNvSpPr/>
              <p:nvPr/>
            </p:nvSpPr>
            <p:spPr>
              <a:xfrm>
                <a:off x="7113600" y="259092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Line 89"/>
              <p:cNvSpPr/>
              <p:nvPr/>
            </p:nvSpPr>
            <p:spPr>
              <a:xfrm>
                <a:off x="7140600" y="26416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90"/>
              <p:cNvSpPr/>
              <p:nvPr/>
            </p:nvSpPr>
            <p:spPr>
              <a:xfrm>
                <a:off x="7140600" y="26830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Line 91"/>
              <p:cNvSpPr/>
              <p:nvPr/>
            </p:nvSpPr>
            <p:spPr>
              <a:xfrm>
                <a:off x="7140600" y="27669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92"/>
              <p:cNvSpPr/>
              <p:nvPr/>
            </p:nvSpPr>
            <p:spPr>
              <a:xfrm>
                <a:off x="7140600" y="28083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93"/>
              <p:cNvSpPr/>
              <p:nvPr/>
            </p:nvSpPr>
            <p:spPr>
              <a:xfrm>
                <a:off x="7140600" y="27241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94"/>
              <p:cNvSpPr/>
              <p:nvPr/>
            </p:nvSpPr>
            <p:spPr>
              <a:xfrm>
                <a:off x="7140600" y="285120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95"/>
            <p:cNvGrpSpPr/>
            <p:nvPr/>
          </p:nvGrpSpPr>
          <p:grpSpPr>
            <a:xfrm>
              <a:off x="7265880" y="2743200"/>
              <a:ext cx="228600" cy="304560"/>
              <a:chOff x="7265880" y="2743200"/>
              <a:chExt cx="228600" cy="304560"/>
            </a:xfrm>
          </p:grpSpPr>
          <p:sp>
            <p:nvSpPr>
              <p:cNvPr id="829" name="Rectangle 96"/>
              <p:cNvSpPr/>
              <p:nvPr/>
            </p:nvSpPr>
            <p:spPr>
              <a:xfrm>
                <a:off x="7265880" y="274320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97"/>
              <p:cNvSpPr/>
              <p:nvPr/>
            </p:nvSpPr>
            <p:spPr>
              <a:xfrm>
                <a:off x="7292880" y="27939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Line 98"/>
              <p:cNvSpPr/>
              <p:nvPr/>
            </p:nvSpPr>
            <p:spPr>
              <a:xfrm>
                <a:off x="7292880" y="28353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Line 99"/>
              <p:cNvSpPr/>
              <p:nvPr/>
            </p:nvSpPr>
            <p:spPr>
              <a:xfrm>
                <a:off x="7292880" y="29192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Line 100"/>
              <p:cNvSpPr/>
              <p:nvPr/>
            </p:nvSpPr>
            <p:spPr>
              <a:xfrm>
                <a:off x="7292880" y="29606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101"/>
              <p:cNvSpPr/>
              <p:nvPr/>
            </p:nvSpPr>
            <p:spPr>
              <a:xfrm>
                <a:off x="7292880" y="287640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Line 102"/>
              <p:cNvSpPr/>
              <p:nvPr/>
            </p:nvSpPr>
            <p:spPr>
              <a:xfrm>
                <a:off x="7292880" y="30034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Group 103"/>
            <p:cNvGrpSpPr/>
            <p:nvPr/>
          </p:nvGrpSpPr>
          <p:grpSpPr>
            <a:xfrm>
              <a:off x="7418520" y="2895480"/>
              <a:ext cx="228600" cy="304560"/>
              <a:chOff x="7418520" y="2895480"/>
              <a:chExt cx="228600" cy="304560"/>
            </a:xfrm>
          </p:grpSpPr>
          <p:sp>
            <p:nvSpPr>
              <p:cNvPr id="837" name="Rectangle 104"/>
              <p:cNvSpPr/>
              <p:nvPr/>
            </p:nvSpPr>
            <p:spPr>
              <a:xfrm>
                <a:off x="7418520" y="289548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105"/>
              <p:cNvSpPr/>
              <p:nvPr/>
            </p:nvSpPr>
            <p:spPr>
              <a:xfrm>
                <a:off x="7445520" y="29462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106"/>
              <p:cNvSpPr/>
              <p:nvPr/>
            </p:nvSpPr>
            <p:spPr>
              <a:xfrm>
                <a:off x="7445520" y="29876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Line 107"/>
              <p:cNvSpPr/>
              <p:nvPr/>
            </p:nvSpPr>
            <p:spPr>
              <a:xfrm>
                <a:off x="7445520" y="30715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8"/>
              <p:cNvSpPr/>
              <p:nvPr/>
            </p:nvSpPr>
            <p:spPr>
              <a:xfrm>
                <a:off x="7445520" y="31129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Line 109"/>
              <p:cNvSpPr/>
              <p:nvPr/>
            </p:nvSpPr>
            <p:spPr>
              <a:xfrm>
                <a:off x="7445520" y="30286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Line 110"/>
              <p:cNvSpPr/>
              <p:nvPr/>
            </p:nvSpPr>
            <p:spPr>
              <a:xfrm>
                <a:off x="7445520" y="31557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127"/>
            <p:cNvGrpSpPr/>
            <p:nvPr/>
          </p:nvGrpSpPr>
          <p:grpSpPr>
            <a:xfrm>
              <a:off x="7543800" y="2362320"/>
              <a:ext cx="228600" cy="304560"/>
              <a:chOff x="7543800" y="2362320"/>
              <a:chExt cx="228600" cy="304560"/>
            </a:xfrm>
          </p:grpSpPr>
          <p:sp>
            <p:nvSpPr>
              <p:cNvPr id="845" name="Rectangle 128"/>
              <p:cNvSpPr/>
              <p:nvPr/>
            </p:nvSpPr>
            <p:spPr>
              <a:xfrm>
                <a:off x="7543800" y="236232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>
                <a:off x="7570800" y="24130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30"/>
              <p:cNvSpPr/>
              <p:nvPr/>
            </p:nvSpPr>
            <p:spPr>
              <a:xfrm>
                <a:off x="7570800" y="24544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31"/>
              <p:cNvSpPr/>
              <p:nvPr/>
            </p:nvSpPr>
            <p:spPr>
              <a:xfrm>
                <a:off x="7570800" y="25383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132"/>
              <p:cNvSpPr/>
              <p:nvPr/>
            </p:nvSpPr>
            <p:spPr>
              <a:xfrm>
                <a:off x="7570800" y="25797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Line 133"/>
              <p:cNvSpPr/>
              <p:nvPr/>
            </p:nvSpPr>
            <p:spPr>
              <a:xfrm>
                <a:off x="7570800" y="24955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Line 134"/>
              <p:cNvSpPr/>
              <p:nvPr/>
            </p:nvSpPr>
            <p:spPr>
              <a:xfrm>
                <a:off x="7570800" y="262260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Group 135"/>
            <p:cNvGrpSpPr/>
            <p:nvPr/>
          </p:nvGrpSpPr>
          <p:grpSpPr>
            <a:xfrm>
              <a:off x="7696080" y="2514600"/>
              <a:ext cx="228600" cy="304560"/>
              <a:chOff x="7696080" y="2514600"/>
              <a:chExt cx="228600" cy="304560"/>
            </a:xfrm>
          </p:grpSpPr>
          <p:sp>
            <p:nvSpPr>
              <p:cNvPr id="853" name="Rectangle 136"/>
              <p:cNvSpPr/>
              <p:nvPr/>
            </p:nvSpPr>
            <p:spPr>
              <a:xfrm>
                <a:off x="7696080" y="251460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Line 137"/>
              <p:cNvSpPr/>
              <p:nvPr/>
            </p:nvSpPr>
            <p:spPr>
              <a:xfrm>
                <a:off x="7723080" y="25653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138"/>
              <p:cNvSpPr/>
              <p:nvPr/>
            </p:nvSpPr>
            <p:spPr>
              <a:xfrm>
                <a:off x="7723080" y="26067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Line 139"/>
              <p:cNvSpPr/>
              <p:nvPr/>
            </p:nvSpPr>
            <p:spPr>
              <a:xfrm>
                <a:off x="7723080" y="26906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Line 140"/>
              <p:cNvSpPr/>
              <p:nvPr/>
            </p:nvSpPr>
            <p:spPr>
              <a:xfrm>
                <a:off x="7723080" y="27320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7723080" y="264780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Line 142"/>
              <p:cNvSpPr/>
              <p:nvPr/>
            </p:nvSpPr>
            <p:spPr>
              <a:xfrm>
                <a:off x="7723080" y="27748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143"/>
            <p:cNvGrpSpPr/>
            <p:nvPr/>
          </p:nvGrpSpPr>
          <p:grpSpPr>
            <a:xfrm>
              <a:off x="7848720" y="2666880"/>
              <a:ext cx="228600" cy="304560"/>
              <a:chOff x="7848720" y="2666880"/>
              <a:chExt cx="228600" cy="304560"/>
            </a:xfrm>
          </p:grpSpPr>
          <p:sp>
            <p:nvSpPr>
              <p:cNvPr id="861" name="Rectangle 144"/>
              <p:cNvSpPr/>
              <p:nvPr/>
            </p:nvSpPr>
            <p:spPr>
              <a:xfrm>
                <a:off x="7848720" y="266688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Line 145"/>
              <p:cNvSpPr/>
              <p:nvPr/>
            </p:nvSpPr>
            <p:spPr>
              <a:xfrm>
                <a:off x="7875720" y="27176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7875720" y="275904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7875720" y="28429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>
                <a:off x="7875720" y="28843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>
                <a:off x="7875720" y="28000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Line 150"/>
              <p:cNvSpPr/>
              <p:nvPr/>
            </p:nvSpPr>
            <p:spPr>
              <a:xfrm>
                <a:off x="7875720" y="29271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151"/>
            <p:cNvGrpSpPr/>
            <p:nvPr/>
          </p:nvGrpSpPr>
          <p:grpSpPr>
            <a:xfrm>
              <a:off x="8001000" y="2819520"/>
              <a:ext cx="228600" cy="304560"/>
              <a:chOff x="8001000" y="2819520"/>
              <a:chExt cx="228600" cy="304560"/>
            </a:xfrm>
          </p:grpSpPr>
          <p:sp>
            <p:nvSpPr>
              <p:cNvPr id="869" name="Rectangle 152"/>
              <p:cNvSpPr/>
              <p:nvPr/>
            </p:nvSpPr>
            <p:spPr>
              <a:xfrm>
                <a:off x="8001000" y="281952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Line 153"/>
              <p:cNvSpPr/>
              <p:nvPr/>
            </p:nvSpPr>
            <p:spPr>
              <a:xfrm>
                <a:off x="8028000" y="28702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Line 154"/>
              <p:cNvSpPr/>
              <p:nvPr/>
            </p:nvSpPr>
            <p:spPr>
              <a:xfrm>
                <a:off x="8028000" y="291168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8028000" y="29955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Line 156"/>
              <p:cNvSpPr/>
              <p:nvPr/>
            </p:nvSpPr>
            <p:spPr>
              <a:xfrm>
                <a:off x="8028000" y="303696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Line 157"/>
              <p:cNvSpPr/>
              <p:nvPr/>
            </p:nvSpPr>
            <p:spPr>
              <a:xfrm>
                <a:off x="8028000" y="295272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Line 158"/>
              <p:cNvSpPr/>
              <p:nvPr/>
            </p:nvSpPr>
            <p:spPr>
              <a:xfrm>
                <a:off x="8028000" y="3079800"/>
                <a:ext cx="17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Line 194"/>
            <p:cNvSpPr/>
            <p:nvPr/>
          </p:nvSpPr>
          <p:spPr>
            <a:xfrm>
              <a:off x="5573880" y="2367000"/>
              <a:ext cx="1265040" cy="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Group 214"/>
          <p:cNvGrpSpPr/>
          <p:nvPr/>
        </p:nvGrpSpPr>
        <p:grpSpPr>
          <a:xfrm>
            <a:off x="1714680" y="4889520"/>
            <a:ext cx="2293560" cy="1765440"/>
            <a:chOff x="1714680" y="4889520"/>
            <a:chExt cx="2293560" cy="1765440"/>
          </a:xfrm>
        </p:grpSpPr>
        <p:sp>
          <p:nvSpPr>
            <p:cNvPr id="878" name="Rectangle 198"/>
            <p:cNvSpPr/>
            <p:nvPr/>
          </p:nvSpPr>
          <p:spPr>
            <a:xfrm>
              <a:off x="1727280" y="4902120"/>
              <a:ext cx="1560600" cy="175284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201"/>
            <p:cNvSpPr/>
            <p:nvPr/>
          </p:nvSpPr>
          <p:spPr>
            <a:xfrm flipH="1">
              <a:off x="3268440" y="6326280"/>
              <a:ext cx="739800" cy="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Text Box 197"/>
            <p:cNvSpPr/>
            <p:nvPr/>
          </p:nvSpPr>
          <p:spPr>
            <a:xfrm>
              <a:off x="1714680" y="4889520"/>
              <a:ext cx="158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commend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Text Box 199"/>
            <p:cNvSpPr/>
            <p:nvPr/>
          </p:nvSpPr>
          <p:spPr>
            <a:xfrm>
              <a:off x="1882080" y="5207040"/>
              <a:ext cx="9867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.~~~~~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.~~~~~~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.~~~~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Group 212"/>
          <p:cNvGrpSpPr/>
          <p:nvPr/>
        </p:nvGrpSpPr>
        <p:grpSpPr>
          <a:xfrm>
            <a:off x="4002120" y="3276720"/>
            <a:ext cx="3618000" cy="3299760"/>
            <a:chOff x="4002120" y="3276720"/>
            <a:chExt cx="3618000" cy="3299760"/>
          </a:xfrm>
        </p:grpSpPr>
        <p:sp>
          <p:nvSpPr>
            <p:cNvPr id="883" name="Rectangle 177"/>
            <p:cNvSpPr/>
            <p:nvPr/>
          </p:nvSpPr>
          <p:spPr>
            <a:xfrm>
              <a:off x="4002120" y="6177600"/>
              <a:ext cx="1828800" cy="398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i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AutoShape 185"/>
            <p:cNvSpPr/>
            <p:nvPr/>
          </p:nvSpPr>
          <p:spPr>
            <a:xfrm>
              <a:off x="4802040" y="5676840"/>
              <a:ext cx="228600" cy="381240"/>
            </a:xfrm>
            <a:prstGeom prst="downArrow">
              <a:avLst>
                <a:gd name="adj1" fmla="val 50000"/>
                <a:gd name="adj2" fmla="val 41693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5" name="AutoShape 203"/>
            <p:cNvCxnSpPr>
              <a:stCxn id="805" idx="3"/>
              <a:endCxn id="883" idx="3"/>
            </p:cNvCxnSpPr>
            <p:nvPr/>
          </p:nvCxnSpPr>
          <p:spPr>
            <a:xfrm rot="5400000">
              <a:off x="5174640" y="3932280"/>
              <a:ext cx="3101040" cy="1789920"/>
            </a:xfrm>
            <a:prstGeom prst="curvedConnector2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D36D-F033-4FE7-AD37-E3AE11788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commender Syst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for recommending items (e.g. books, movies, CD’s, web pages, newsgroup messages) to users based on examples of their pre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websites provide recommendations (e.g. Amazon, NetFlix, Pandor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rs have been shown to substantially increase sales at on-line s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basic approaches to recomm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llaborative Filtering (a.k.a. social filtering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tent-bas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2CBC-2803-4682-B94B-9BB3EACEA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Amazon Pag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2432880" y="287172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Age of Spiritual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A0D0-052B-441F-B6A1-773ECB4D3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Extracted Inform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1" name="Text Box 3"/>
          <p:cNvSpPr/>
          <p:nvPr/>
        </p:nvSpPr>
        <p:spPr>
          <a:xfrm>
            <a:off x="132840" y="1447920"/>
            <a:ext cx="9056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le: &lt;The Age of Spiritual Machines: When Computers Exceed Human Intellig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:  &lt;Ray Kurzwei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e: &lt;11.96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ation Date: &lt;January 200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BN: &lt;0140282025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ed Titles:  &lt;Title: &lt;Robot: Mere Machine or Transcendent Min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: &lt;Hans Moravec&gt;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s: &lt;Author: &lt;Amazon.com Reviews&gt; Text: &lt;How much do we humans…&gt;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: &lt;Stars: &lt;4&gt; Author: &lt;Stephen A. Haines&gt; Text:&lt;Kurzweil has …&gt; 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ed Authors: &lt;Hans P. Moravec&gt; &lt;K. Eric Drexler&gt;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jects: &lt;Science/Mathematics&gt; &lt;Computers&gt; &lt;Artificial Intelligence&gt;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7AD3-55F0-4C46-ACF0-ADCEDFDB5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bra Content Inform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 uses this extracted information to form “bags of words” for the following slo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ho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itl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scription (reviews and comments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ubject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lated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lated Author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480C-5EDA-40DD-B948-6A44FFF97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bra Overview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rates selected titles on a 1 to 10 sc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 uses a naïve Bayesian text-categorization algorithm to learn a profile from these rated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ting 6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0:  Positiv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ting 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5:    Negativ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rned profile is used to rank all other books as recommendations based on the computed posterior probability that they are positi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an also provide explicit positive/negative keywords, which are used as priors to bias the role of these features in catego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7B97-2051-484F-A5E1-308E42DFB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Categorization in LIBR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is generalized to generate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bags of words (one bag for each slo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stances of the same word in different slots are treated as separate features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hrichton” in author vs. “Chrichton” in descriptio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examples are trea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igh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or negative examples when estimating conditional probability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 example with rating 1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10 is given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sitiv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probability: 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)/9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egativ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probability: (10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/9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9E14-3EC0-49AE-94F8-7C52F94A3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mplement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words removed from all ba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ok’s title and author are added to its own related title and related author slo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babilities are smoothed using Laplace estimation to account for small sampl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implementation is quite effici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ainin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20 exs in 0.4 secs, 840 exs in 11.5 sec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es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200 books per secon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CD09-BB29-4E40-9091-829F6F211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lanations of Profiles and Recommend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 strength of wor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earing in a slo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4"/>
              <p:cNvSpPr txBox="1"/>
              <p:nvPr/>
            </p:nvSpPr>
            <p:spPr>
              <a:xfrm>
                <a:off x="1219320" y="2666880"/>
                <a:ext cx="60577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rengt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positive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gative,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3CDE-631B-4616-9D25-2D08DF9B6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bra Demo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0" name="Text Box 3"/>
          <p:cNvSpPr/>
          <p:nvPr/>
        </p:nvSpPr>
        <p:spPr>
          <a:xfrm>
            <a:off x="914400" y="3200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cs.utexas.edu/users/li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D3AA-4B54-43AB-B026-33DB70BE5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Dat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azon searches were used to find books in various gen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tles that have at least one review or comment were ke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terature fiction:  3,061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ystery:                7,285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cience:                 3,813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cience Fiction:     3.813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EE84-9ADE-4E7F-B8A4-4071B24F5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ed Dat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users rated random examples within a genre by reviewing the Amazon pages about the tit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T1   936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T2   935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YST 500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CI      500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F        500 tit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74BB-EB95-4F7E-BFB4-CD392AAF1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ok Recommend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03" name="Group 61"/>
          <p:cNvGrpSpPr/>
          <p:nvPr/>
        </p:nvGrpSpPr>
        <p:grpSpPr>
          <a:xfrm>
            <a:off x="1371600" y="1600200"/>
            <a:ext cx="569520" cy="689040"/>
            <a:chOff x="1371600" y="1600200"/>
            <a:chExt cx="569520" cy="689040"/>
          </a:xfrm>
        </p:grpSpPr>
        <p:sp>
          <p:nvSpPr>
            <p:cNvPr id="604" name="Rectangle 62"/>
            <p:cNvSpPr/>
            <p:nvPr/>
          </p:nvSpPr>
          <p:spPr>
            <a:xfrm>
              <a:off x="1371600" y="1603440"/>
              <a:ext cx="533160" cy="68580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63"/>
            <p:cNvSpPr/>
            <p:nvPr/>
          </p:nvSpPr>
          <p:spPr>
            <a:xfrm>
              <a:off x="1455480" y="1600200"/>
              <a:ext cx="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64"/>
            <p:cNvSpPr/>
            <p:nvPr/>
          </p:nvSpPr>
          <p:spPr>
            <a:xfrm>
              <a:off x="1447920" y="1679760"/>
              <a:ext cx="493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Group 92"/>
          <p:cNvGrpSpPr/>
          <p:nvPr/>
        </p:nvGrpSpPr>
        <p:grpSpPr>
          <a:xfrm>
            <a:off x="1371600" y="3244680"/>
            <a:ext cx="558360" cy="697320"/>
            <a:chOff x="1371600" y="3244680"/>
            <a:chExt cx="558360" cy="697320"/>
          </a:xfrm>
        </p:grpSpPr>
        <p:sp>
          <p:nvSpPr>
            <p:cNvPr id="608" name="Rectangle 66"/>
            <p:cNvSpPr/>
            <p:nvPr/>
          </p:nvSpPr>
          <p:spPr>
            <a:xfrm>
              <a:off x="1371600" y="3247920"/>
              <a:ext cx="533520" cy="685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67"/>
            <p:cNvSpPr/>
            <p:nvPr/>
          </p:nvSpPr>
          <p:spPr>
            <a:xfrm>
              <a:off x="1455840" y="3244680"/>
              <a:ext cx="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68"/>
            <p:cNvSpPr/>
            <p:nvPr/>
          </p:nvSpPr>
          <p:spPr>
            <a:xfrm>
              <a:off x="1386360" y="3300480"/>
              <a:ext cx="543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uras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Group 93"/>
          <p:cNvGrpSpPr/>
          <p:nvPr/>
        </p:nvGrpSpPr>
        <p:grpSpPr>
          <a:xfrm>
            <a:off x="1371600" y="4068720"/>
            <a:ext cx="595800" cy="689040"/>
            <a:chOff x="1371600" y="4068720"/>
            <a:chExt cx="595800" cy="689040"/>
          </a:xfrm>
        </p:grpSpPr>
        <p:sp>
          <p:nvSpPr>
            <p:cNvPr id="612" name="Rectangle 70"/>
            <p:cNvSpPr/>
            <p:nvPr/>
          </p:nvSpPr>
          <p:spPr>
            <a:xfrm>
              <a:off x="1371600" y="4071960"/>
              <a:ext cx="533520" cy="6858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71"/>
            <p:cNvSpPr/>
            <p:nvPr/>
          </p:nvSpPr>
          <p:spPr>
            <a:xfrm>
              <a:off x="1455840" y="4068720"/>
              <a:ext cx="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72"/>
            <p:cNvSpPr/>
            <p:nvPr/>
          </p:nvSpPr>
          <p:spPr>
            <a:xfrm>
              <a:off x="1397880" y="4122720"/>
              <a:ext cx="56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Group 94"/>
          <p:cNvGrpSpPr/>
          <p:nvPr/>
        </p:nvGrpSpPr>
        <p:grpSpPr>
          <a:xfrm>
            <a:off x="1371600" y="4876920"/>
            <a:ext cx="533520" cy="688680"/>
            <a:chOff x="1371600" y="4876920"/>
            <a:chExt cx="533520" cy="688680"/>
          </a:xfrm>
        </p:grpSpPr>
        <p:sp>
          <p:nvSpPr>
            <p:cNvPr id="616" name="Rectangle 74"/>
            <p:cNvSpPr/>
            <p:nvPr/>
          </p:nvSpPr>
          <p:spPr>
            <a:xfrm>
              <a:off x="1371600" y="4879800"/>
              <a:ext cx="533520" cy="685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75"/>
            <p:cNvSpPr/>
            <p:nvPr/>
          </p:nvSpPr>
          <p:spPr>
            <a:xfrm>
              <a:off x="1455840" y="4876920"/>
              <a:ext cx="0" cy="68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76"/>
            <p:cNvSpPr/>
            <p:nvPr/>
          </p:nvSpPr>
          <p:spPr>
            <a:xfrm>
              <a:off x="1395360" y="49528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Group 91"/>
          <p:cNvGrpSpPr/>
          <p:nvPr/>
        </p:nvGrpSpPr>
        <p:grpSpPr>
          <a:xfrm>
            <a:off x="1371600" y="2422440"/>
            <a:ext cx="608760" cy="689040"/>
            <a:chOff x="1371600" y="2422440"/>
            <a:chExt cx="608760" cy="689040"/>
          </a:xfrm>
        </p:grpSpPr>
        <p:sp>
          <p:nvSpPr>
            <p:cNvPr id="620" name="Rectangle 78"/>
            <p:cNvSpPr/>
            <p:nvPr/>
          </p:nvSpPr>
          <p:spPr>
            <a:xfrm>
              <a:off x="1371600" y="2425680"/>
              <a:ext cx="533520" cy="68580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79"/>
            <p:cNvSpPr/>
            <p:nvPr/>
          </p:nvSpPr>
          <p:spPr>
            <a:xfrm>
              <a:off x="1455840" y="2422440"/>
              <a:ext cx="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80"/>
            <p:cNvSpPr/>
            <p:nvPr/>
          </p:nvSpPr>
          <p:spPr>
            <a:xfrm>
              <a:off x="1409400" y="2514600"/>
              <a:ext cx="570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u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Group 95"/>
          <p:cNvGrpSpPr/>
          <p:nvPr/>
        </p:nvGrpSpPr>
        <p:grpSpPr>
          <a:xfrm>
            <a:off x="1371600" y="5702400"/>
            <a:ext cx="636840" cy="701640"/>
            <a:chOff x="1371600" y="5702400"/>
            <a:chExt cx="636840" cy="701640"/>
          </a:xfrm>
        </p:grpSpPr>
        <p:sp>
          <p:nvSpPr>
            <p:cNvPr id="624" name="Rectangle 82"/>
            <p:cNvSpPr/>
            <p:nvPr/>
          </p:nvSpPr>
          <p:spPr>
            <a:xfrm>
              <a:off x="1371600" y="5718240"/>
              <a:ext cx="533520" cy="68580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83"/>
            <p:cNvSpPr/>
            <p:nvPr/>
          </p:nvSpPr>
          <p:spPr>
            <a:xfrm>
              <a:off x="1455840" y="5715000"/>
              <a:ext cx="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84"/>
            <p:cNvSpPr/>
            <p:nvPr/>
          </p:nvSpPr>
          <p:spPr>
            <a:xfrm>
              <a:off x="1396440" y="5702400"/>
              <a:ext cx="612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ffer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g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7" name="Picture 85" descr="A:\thumbs-up.gif"/>
          <p:cNvPicPr/>
          <p:nvPr/>
        </p:nvPicPr>
        <p:blipFill>
          <a:blip r:embed="rId1"/>
          <a:stretch/>
        </p:blipFill>
        <p:spPr>
          <a:xfrm>
            <a:off x="457200" y="1523880"/>
            <a:ext cx="789120" cy="7430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6" descr="A:\thumbs-up.gif"/>
          <p:cNvPicPr/>
          <p:nvPr/>
        </p:nvPicPr>
        <p:blipFill>
          <a:blip r:embed="rId2"/>
          <a:stretch/>
        </p:blipFill>
        <p:spPr>
          <a:xfrm>
            <a:off x="533520" y="2362320"/>
            <a:ext cx="788760" cy="7426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87" descr="A:\thumbs-up.gif"/>
          <p:cNvPicPr/>
          <p:nvPr/>
        </p:nvPicPr>
        <p:blipFill>
          <a:blip r:embed="rId3"/>
          <a:stretch/>
        </p:blipFill>
        <p:spPr>
          <a:xfrm>
            <a:off x="533520" y="3200400"/>
            <a:ext cx="788760" cy="7430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8" descr="A:\thumbs-up.gif"/>
          <p:cNvPicPr/>
          <p:nvPr/>
        </p:nvPicPr>
        <p:blipFill>
          <a:blip r:embed="rId4"/>
          <a:stretch/>
        </p:blipFill>
        <p:spPr>
          <a:xfrm>
            <a:off x="533520" y="4800600"/>
            <a:ext cx="788760" cy="743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89" descr="A:\thumbs-down.gif"/>
          <p:cNvPicPr/>
          <p:nvPr/>
        </p:nvPicPr>
        <p:blipFill>
          <a:blip r:embed="rId5"/>
          <a:stretch/>
        </p:blipFill>
        <p:spPr>
          <a:xfrm>
            <a:off x="533520" y="4038480"/>
            <a:ext cx="788760" cy="7430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90" descr="A:\thumbs-down.gif"/>
          <p:cNvPicPr/>
          <p:nvPr/>
        </p:nvPicPr>
        <p:blipFill>
          <a:blip r:embed="rId6"/>
          <a:stretch/>
        </p:blipFill>
        <p:spPr>
          <a:xfrm>
            <a:off x="533520" y="5638680"/>
            <a:ext cx="788760" cy="743040"/>
          </a:xfrm>
          <a:prstGeom prst="rect">
            <a:avLst/>
          </a:prstGeom>
          <a:ln w="0">
            <a:noFill/>
          </a:ln>
        </p:spPr>
      </p:pic>
      <p:grpSp>
        <p:nvGrpSpPr>
          <p:cNvPr id="633" name="Group 107"/>
          <p:cNvGrpSpPr/>
          <p:nvPr/>
        </p:nvGrpSpPr>
        <p:grpSpPr>
          <a:xfrm>
            <a:off x="1890720" y="1954080"/>
            <a:ext cx="4002120" cy="4083120"/>
            <a:chOff x="1890720" y="1954080"/>
            <a:chExt cx="4002120" cy="4083120"/>
          </a:xfrm>
        </p:grpSpPr>
        <p:grpSp>
          <p:nvGrpSpPr>
            <p:cNvPr id="634" name="Group 99"/>
            <p:cNvGrpSpPr/>
            <p:nvPr/>
          </p:nvGrpSpPr>
          <p:grpSpPr>
            <a:xfrm>
              <a:off x="3454560" y="3083040"/>
              <a:ext cx="2438280" cy="1600200"/>
              <a:chOff x="3454560" y="3083040"/>
              <a:chExt cx="2438280" cy="1600200"/>
            </a:xfrm>
          </p:grpSpPr>
          <p:sp>
            <p:nvSpPr>
              <p:cNvPr id="635" name="Rectangle 97"/>
              <p:cNvSpPr/>
              <p:nvPr/>
            </p:nvSpPr>
            <p:spPr>
              <a:xfrm>
                <a:off x="3454560" y="3083040"/>
                <a:ext cx="2438280" cy="1600200"/>
              </a:xfrm>
              <a:prstGeom prst="rect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Text Box 98"/>
              <p:cNvSpPr/>
              <p:nvPr/>
            </p:nvSpPr>
            <p:spPr>
              <a:xfrm>
                <a:off x="3988080" y="3375360"/>
                <a:ext cx="151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Machine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106"/>
            <p:cNvGrpSpPr/>
            <p:nvPr/>
          </p:nvGrpSpPr>
          <p:grpSpPr>
            <a:xfrm>
              <a:off x="1890720" y="1954080"/>
              <a:ext cx="1566720" cy="4083120"/>
              <a:chOff x="1890720" y="1954080"/>
              <a:chExt cx="1566720" cy="4083120"/>
            </a:xfrm>
          </p:grpSpPr>
          <p:sp>
            <p:nvSpPr>
              <p:cNvPr id="638" name="Line 100"/>
              <p:cNvSpPr/>
              <p:nvPr/>
            </p:nvSpPr>
            <p:spPr>
              <a:xfrm>
                <a:off x="1890720" y="1954080"/>
                <a:ext cx="1566720" cy="133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Line 101"/>
              <p:cNvSpPr/>
              <p:nvPr/>
            </p:nvSpPr>
            <p:spPr>
              <a:xfrm>
                <a:off x="1903320" y="2793960"/>
                <a:ext cx="1554120" cy="72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102"/>
              <p:cNvSpPr/>
              <p:nvPr/>
            </p:nvSpPr>
            <p:spPr>
              <a:xfrm>
                <a:off x="1903320" y="3583080"/>
                <a:ext cx="1554120" cy="212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103"/>
              <p:cNvSpPr/>
              <p:nvPr/>
            </p:nvSpPr>
            <p:spPr>
              <a:xfrm flipV="1">
                <a:off x="1890720" y="4033440"/>
                <a:ext cx="1566720" cy="37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Line 104"/>
              <p:cNvSpPr/>
              <p:nvPr/>
            </p:nvSpPr>
            <p:spPr>
              <a:xfrm flipV="1">
                <a:off x="1903320" y="4259160"/>
                <a:ext cx="1554120" cy="9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Line 105"/>
              <p:cNvSpPr/>
              <p:nvPr/>
            </p:nvSpPr>
            <p:spPr>
              <a:xfrm flipV="1">
                <a:off x="1903320" y="4510080"/>
                <a:ext cx="1554120" cy="1527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4" name="Group 111"/>
          <p:cNvGrpSpPr/>
          <p:nvPr/>
        </p:nvGrpSpPr>
        <p:grpSpPr>
          <a:xfrm>
            <a:off x="5886360" y="3188160"/>
            <a:ext cx="2490840" cy="1338840"/>
            <a:chOff x="5886360" y="3188160"/>
            <a:chExt cx="2490840" cy="1338840"/>
          </a:xfrm>
        </p:grpSpPr>
        <p:sp>
          <p:nvSpPr>
            <p:cNvPr id="645" name="Oval 108"/>
            <p:cNvSpPr/>
            <p:nvPr/>
          </p:nvSpPr>
          <p:spPr>
            <a:xfrm>
              <a:off x="6751440" y="3188160"/>
              <a:ext cx="1625760" cy="133884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0"/>
            <p:cNvSpPr/>
            <p:nvPr/>
          </p:nvSpPr>
          <p:spPr>
            <a:xfrm>
              <a:off x="5886360" y="3870360"/>
              <a:ext cx="890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Group 128"/>
          <p:cNvGrpSpPr/>
          <p:nvPr/>
        </p:nvGrpSpPr>
        <p:grpSpPr>
          <a:xfrm>
            <a:off x="6781680" y="4471920"/>
            <a:ext cx="643680" cy="1170000"/>
            <a:chOff x="6781680" y="4471920"/>
            <a:chExt cx="643680" cy="1170000"/>
          </a:xfrm>
        </p:grpSpPr>
        <p:grpSp>
          <p:nvGrpSpPr>
            <p:cNvPr id="648" name="Group 116"/>
            <p:cNvGrpSpPr/>
            <p:nvPr/>
          </p:nvGrpSpPr>
          <p:grpSpPr>
            <a:xfrm>
              <a:off x="6781680" y="4952880"/>
              <a:ext cx="643680" cy="689040"/>
              <a:chOff x="6781680" y="4952880"/>
              <a:chExt cx="643680" cy="689040"/>
            </a:xfrm>
          </p:grpSpPr>
          <p:sp>
            <p:nvSpPr>
              <p:cNvPr id="649" name="Rectangle 117"/>
              <p:cNvSpPr/>
              <p:nvPr/>
            </p:nvSpPr>
            <p:spPr>
              <a:xfrm>
                <a:off x="6781680" y="4956120"/>
                <a:ext cx="533520" cy="685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118"/>
              <p:cNvSpPr/>
              <p:nvPr/>
            </p:nvSpPr>
            <p:spPr>
              <a:xfrm>
                <a:off x="6865920" y="4952880"/>
                <a:ext cx="0" cy="68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Text Box 119"/>
              <p:cNvSpPr/>
              <p:nvPr/>
            </p:nvSpPr>
            <p:spPr>
              <a:xfrm>
                <a:off x="6798240" y="5008680"/>
                <a:ext cx="62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euro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nc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Line 120"/>
            <p:cNvSpPr/>
            <p:nvPr/>
          </p:nvSpPr>
          <p:spPr>
            <a:xfrm flipV="1">
              <a:off x="7077240" y="4471920"/>
              <a:ext cx="23796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30"/>
          <p:cNvGrpSpPr/>
          <p:nvPr/>
        </p:nvGrpSpPr>
        <p:grpSpPr>
          <a:xfrm>
            <a:off x="7903800" y="4446720"/>
            <a:ext cx="630720" cy="1195200"/>
            <a:chOff x="7903800" y="4446720"/>
            <a:chExt cx="630720" cy="1195200"/>
          </a:xfrm>
        </p:grpSpPr>
        <p:grpSp>
          <p:nvGrpSpPr>
            <p:cNvPr id="654" name="Group 112"/>
            <p:cNvGrpSpPr/>
            <p:nvPr/>
          </p:nvGrpSpPr>
          <p:grpSpPr>
            <a:xfrm>
              <a:off x="8001000" y="4952880"/>
              <a:ext cx="533520" cy="689040"/>
              <a:chOff x="8001000" y="4952880"/>
              <a:chExt cx="533520" cy="689040"/>
            </a:xfrm>
          </p:grpSpPr>
          <p:sp>
            <p:nvSpPr>
              <p:cNvPr id="655" name="Rectangle 113"/>
              <p:cNvSpPr/>
              <p:nvPr/>
            </p:nvSpPr>
            <p:spPr>
              <a:xfrm>
                <a:off x="8001000" y="4956120"/>
                <a:ext cx="533520" cy="68580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114"/>
              <p:cNvSpPr/>
              <p:nvPr/>
            </p:nvSpPr>
            <p:spPr>
              <a:xfrm>
                <a:off x="8085240" y="4952880"/>
                <a:ext cx="0" cy="68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Text Box 115"/>
              <p:cNvSpPr/>
              <p:nvPr/>
            </p:nvSpPr>
            <p:spPr>
              <a:xfrm>
                <a:off x="8039160" y="504504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Line 121"/>
            <p:cNvSpPr/>
            <p:nvPr/>
          </p:nvSpPr>
          <p:spPr>
            <a:xfrm flipH="1" flipV="1">
              <a:off x="7903800" y="4446720"/>
              <a:ext cx="376200" cy="51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129"/>
          <p:cNvGrpSpPr/>
          <p:nvPr/>
        </p:nvGrpSpPr>
        <p:grpSpPr>
          <a:xfrm>
            <a:off x="6324480" y="2133720"/>
            <a:ext cx="826920" cy="1159920"/>
            <a:chOff x="6324480" y="2133720"/>
            <a:chExt cx="826920" cy="1159920"/>
          </a:xfrm>
        </p:grpSpPr>
        <p:pic>
          <p:nvPicPr>
            <p:cNvPr id="660" name="Picture 124" descr="A:\thumbs-down.gif"/>
            <p:cNvPicPr/>
            <p:nvPr/>
          </p:nvPicPr>
          <p:blipFill>
            <a:blip r:embed="rId7"/>
            <a:stretch/>
          </p:blipFill>
          <p:spPr>
            <a:xfrm>
              <a:off x="6324480" y="2133720"/>
              <a:ext cx="78912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Line 125"/>
            <p:cNvSpPr/>
            <p:nvPr/>
          </p:nvSpPr>
          <p:spPr>
            <a:xfrm flipH="1" flipV="1">
              <a:off x="6876720" y="2817360"/>
              <a:ext cx="274680" cy="47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131"/>
          <p:cNvGrpSpPr/>
          <p:nvPr/>
        </p:nvGrpSpPr>
        <p:grpSpPr>
          <a:xfrm>
            <a:off x="7942320" y="2133720"/>
            <a:ext cx="923760" cy="1134720"/>
            <a:chOff x="7942320" y="2133720"/>
            <a:chExt cx="923760" cy="1134720"/>
          </a:xfrm>
        </p:grpSpPr>
        <p:pic>
          <p:nvPicPr>
            <p:cNvPr id="663" name="Picture 123" descr="A:\thumbs-up.gif"/>
            <p:cNvPicPr/>
            <p:nvPr/>
          </p:nvPicPr>
          <p:blipFill>
            <a:blip r:embed="rId8"/>
            <a:stretch/>
          </p:blipFill>
          <p:spPr>
            <a:xfrm>
              <a:off x="8077320" y="2133720"/>
              <a:ext cx="78876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Line 126"/>
            <p:cNvSpPr/>
            <p:nvPr/>
          </p:nvSpPr>
          <p:spPr>
            <a:xfrm flipV="1">
              <a:off x="7942320" y="2855520"/>
              <a:ext cx="387360" cy="41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0961-BBF4-49F4-BB06-A15765DA1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-fold cross-validation to generate learning cur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 several metrics on independent test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cision at top 3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the top 3 that are positiv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ing of top 3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 Average rating assigned to top 3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nk Correl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pearman’s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between system’s and user’s complete ranking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ablation of related author and related title slots (LIBRA-N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st influence of information generated by Amazon’s collaborative approach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6AAE-4B7E-4E76-B71F-BF9621F75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Result Summa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cision at top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fairly consistently in the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90’s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only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ating of top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fairly consistently above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only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esults are always significantly better than random chance after only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5 exam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ank cor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enerally above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0.3 (moderat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only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0 exam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ank cor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enerally above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0.6 (high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40 exam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A56D-37D4-4796-AB72-D2C644E66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cision at Top 3 for Sci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925" name="Picture 7" descr="A:\sci-precision3.gif"/>
          <p:cNvPicPr/>
          <p:nvPr/>
        </p:nvPicPr>
        <p:blipFill>
          <a:blip r:embed="rId1"/>
          <a:stretch/>
        </p:blipFill>
        <p:spPr>
          <a:xfrm>
            <a:off x="573120" y="1332000"/>
            <a:ext cx="77817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25E3-5F0D-4A49-876E-A6A82E28B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ing of Top 3 for Sci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928" name="Picture 3" descr="A:\sci-rating3.gif"/>
          <p:cNvPicPr/>
          <p:nvPr/>
        </p:nvPicPr>
        <p:blipFill>
          <a:blip r:embed="rId1"/>
          <a:stretch/>
        </p:blipFill>
        <p:spPr>
          <a:xfrm>
            <a:off x="852480" y="1328760"/>
            <a:ext cx="7067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BACC-B9E8-45B1-BDF1-ECF4EB0E4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nk Correlation for Sci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931" name="Picture 3" descr="A:\sci-rank.gif"/>
          <p:cNvPicPr/>
          <p:nvPr/>
        </p:nvPicPr>
        <p:blipFill>
          <a:blip r:embed="rId1"/>
          <a:stretch/>
        </p:blipFill>
        <p:spPr>
          <a:xfrm>
            <a:off x="522360" y="1395360"/>
            <a:ext cx="772488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D84B-FB88-4F2E-8D43-E8310AD48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er Stud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s asked to use Libra and get recommend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d several rounds of feed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d all books in final list of  recommend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 two books for purch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ed reviews after reading sel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d questionnaire about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84FB-A09C-4BE4-86C0-53D1845FE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bining Content and Collabo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-based and collaborative methods have complementary strengths and weakn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methods to obtain the best of bo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hybrid approach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pply both methods and combine recommendation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 collaborative data as cont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 content-based predictor as another collaborato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Use content-based predictor to complete collaborative d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D76A-94D6-43E9-A3AA-D5DB909B6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vie Domai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73200" y="1309320"/>
            <a:ext cx="807696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ach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set [Compaq Research Lab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tains user ratings for movies on a 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5 scal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72,916 users (avg. 39 ratings each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,628 movi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parse user-ratings matrix – (2.6% full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wled Internet Movie Databas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M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tracted content for title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achMovi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movie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itle, Director, Cast, Genre, 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opin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r comments, Newspaper and  Newsgroup reviews, 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8ACC-B764-403A-8E32-791C278AB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nt-Boosted Collaborative Fil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3" name="AutoShape 5"/>
          <p:cNvSpPr/>
          <p:nvPr/>
        </p:nvSpPr>
        <p:spPr>
          <a:xfrm>
            <a:off x="6477120" y="1752480"/>
            <a:ext cx="838080" cy="533520"/>
          </a:xfrm>
          <a:prstGeom prst="flowChartOnlineStora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AutoShape 7"/>
          <p:cNvSpPr/>
          <p:nvPr/>
        </p:nvSpPr>
        <p:spPr>
          <a:xfrm>
            <a:off x="1600200" y="1676520"/>
            <a:ext cx="1219320" cy="533160"/>
          </a:xfrm>
          <a:prstGeom prst="flowChartInputOutpu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Mov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30"/>
          <p:cNvGrpSpPr/>
          <p:nvPr/>
        </p:nvGrpSpPr>
        <p:grpSpPr>
          <a:xfrm>
            <a:off x="2666880" y="1752480"/>
            <a:ext cx="3810240" cy="533520"/>
            <a:chOff x="2666880" y="1752480"/>
            <a:chExt cx="3810240" cy="533520"/>
          </a:xfrm>
        </p:grpSpPr>
        <p:sp>
          <p:nvSpPr>
            <p:cNvPr id="946" name="AutoShape 4"/>
            <p:cNvSpPr/>
            <p:nvPr/>
          </p:nvSpPr>
          <p:spPr>
            <a:xfrm>
              <a:off x="3733920" y="1752480"/>
              <a:ext cx="1295280" cy="5335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eb Craw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Line 8"/>
            <p:cNvSpPr/>
            <p:nvPr/>
          </p:nvSpPr>
          <p:spPr>
            <a:xfrm>
              <a:off x="2666880" y="19810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Line 9"/>
            <p:cNvSpPr/>
            <p:nvPr/>
          </p:nvSpPr>
          <p:spPr>
            <a:xfrm flipH="1">
              <a:off x="5029200" y="1981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Group 31"/>
          <p:cNvGrpSpPr/>
          <p:nvPr/>
        </p:nvGrpSpPr>
        <p:grpSpPr>
          <a:xfrm>
            <a:off x="3962520" y="2286000"/>
            <a:ext cx="838080" cy="1143000"/>
            <a:chOff x="3962520" y="2286000"/>
            <a:chExt cx="838080" cy="1143000"/>
          </a:xfrm>
        </p:grpSpPr>
        <p:sp>
          <p:nvSpPr>
            <p:cNvPr id="950" name="AutoShape 6"/>
            <p:cNvSpPr/>
            <p:nvPr/>
          </p:nvSpPr>
          <p:spPr>
            <a:xfrm>
              <a:off x="3962520" y="2438280"/>
              <a:ext cx="838080" cy="99072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10"/>
            <p:cNvSpPr/>
            <p:nvPr/>
          </p:nvSpPr>
          <p:spPr>
            <a:xfrm>
              <a:off x="441972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Group 11"/>
          <p:cNvGrpSpPr/>
          <p:nvPr/>
        </p:nvGrpSpPr>
        <p:grpSpPr>
          <a:xfrm>
            <a:off x="4952880" y="3427560"/>
            <a:ext cx="2514600" cy="534960"/>
            <a:chOff x="4952880" y="3427560"/>
            <a:chExt cx="2514600" cy="534960"/>
          </a:xfrm>
        </p:grpSpPr>
        <p:sp>
          <p:nvSpPr>
            <p:cNvPr id="953" name="Rectangle 12"/>
            <p:cNvSpPr/>
            <p:nvPr/>
          </p:nvSpPr>
          <p:spPr>
            <a:xfrm>
              <a:off x="6248520" y="3427560"/>
              <a:ext cx="1218960" cy="534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ull U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tings Matri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13"/>
            <p:cNvSpPr/>
            <p:nvPr/>
          </p:nvSpPr>
          <p:spPr>
            <a:xfrm flipV="1">
              <a:off x="4952880" y="3657240"/>
              <a:ext cx="1295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Group 14"/>
          <p:cNvGrpSpPr/>
          <p:nvPr/>
        </p:nvGrpSpPr>
        <p:grpSpPr>
          <a:xfrm>
            <a:off x="3657600" y="3962520"/>
            <a:ext cx="3886200" cy="1218960"/>
            <a:chOff x="3657600" y="3962520"/>
            <a:chExt cx="3886200" cy="1218960"/>
          </a:xfrm>
        </p:grpSpPr>
        <p:sp>
          <p:nvSpPr>
            <p:cNvPr id="956" name="Line 15"/>
            <p:cNvSpPr/>
            <p:nvPr/>
          </p:nvSpPr>
          <p:spPr>
            <a:xfrm>
              <a:off x="6858000" y="3962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7" name="Group 16"/>
            <p:cNvGrpSpPr/>
            <p:nvPr/>
          </p:nvGrpSpPr>
          <p:grpSpPr>
            <a:xfrm>
              <a:off x="3657600" y="4572000"/>
              <a:ext cx="3886200" cy="609480"/>
              <a:chOff x="3657600" y="4572000"/>
              <a:chExt cx="3886200" cy="609480"/>
            </a:xfrm>
          </p:grpSpPr>
          <p:sp>
            <p:nvSpPr>
              <p:cNvPr id="958" name="AutoShape 17"/>
              <p:cNvSpPr/>
              <p:nvPr/>
            </p:nvSpPr>
            <p:spPr>
              <a:xfrm>
                <a:off x="6095880" y="4572000"/>
                <a:ext cx="144792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llaborativ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ilter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Oval 18"/>
              <p:cNvSpPr/>
              <p:nvPr/>
            </p:nvSpPr>
            <p:spPr>
              <a:xfrm>
                <a:off x="3657600" y="4648320"/>
                <a:ext cx="1447920" cy="5331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ctiv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ser Rating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Line 19"/>
              <p:cNvSpPr/>
              <p:nvPr/>
            </p:nvSpPr>
            <p:spPr>
              <a:xfrm>
                <a:off x="5105520" y="487692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1" name="Group 20"/>
          <p:cNvGrpSpPr/>
          <p:nvPr/>
        </p:nvGrpSpPr>
        <p:grpSpPr>
          <a:xfrm>
            <a:off x="1523880" y="2209680"/>
            <a:ext cx="3429000" cy="2057400"/>
            <a:chOff x="1523880" y="2209680"/>
            <a:chExt cx="3429000" cy="2057400"/>
          </a:xfrm>
        </p:grpSpPr>
        <p:sp>
          <p:nvSpPr>
            <p:cNvPr id="962" name="Rectangle 21"/>
            <p:cNvSpPr/>
            <p:nvPr/>
          </p:nvSpPr>
          <p:spPr>
            <a:xfrm>
              <a:off x="1523880" y="3429000"/>
              <a:ext cx="1143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r Rat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trix (Spars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AutoShape 22"/>
            <p:cNvSpPr/>
            <p:nvPr/>
          </p:nvSpPr>
          <p:spPr>
            <a:xfrm>
              <a:off x="3809880" y="3733920"/>
              <a:ext cx="1143000" cy="5331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ent-bas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di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23"/>
            <p:cNvSpPr/>
            <p:nvPr/>
          </p:nvSpPr>
          <p:spPr>
            <a:xfrm>
              <a:off x="441972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24"/>
            <p:cNvSpPr/>
            <p:nvPr/>
          </p:nvSpPr>
          <p:spPr>
            <a:xfrm>
              <a:off x="2666880" y="365760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25"/>
            <p:cNvSpPr/>
            <p:nvPr/>
          </p:nvSpPr>
          <p:spPr>
            <a:xfrm>
              <a:off x="213372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Group 26"/>
          <p:cNvGrpSpPr/>
          <p:nvPr/>
        </p:nvGrpSpPr>
        <p:grpSpPr>
          <a:xfrm>
            <a:off x="6095880" y="5105520"/>
            <a:ext cx="1524240" cy="1066680"/>
            <a:chOff x="6095880" y="5105520"/>
            <a:chExt cx="1524240" cy="1066680"/>
          </a:xfrm>
        </p:grpSpPr>
        <p:sp>
          <p:nvSpPr>
            <p:cNvPr id="968" name="Line 27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AutoShape 28"/>
            <p:cNvSpPr/>
            <p:nvPr/>
          </p:nvSpPr>
          <p:spPr>
            <a:xfrm>
              <a:off x="6095880" y="5486400"/>
              <a:ext cx="1524240" cy="685800"/>
            </a:xfrm>
            <a:prstGeom prst="flowChartMulti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ommend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4771-EA3A-448E-A315-333713D78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nt-Boosted CF - I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972" name="Group 39"/>
          <p:cNvGrpSpPr/>
          <p:nvPr/>
        </p:nvGrpSpPr>
        <p:grpSpPr>
          <a:xfrm>
            <a:off x="1905120" y="2362320"/>
            <a:ext cx="6155280" cy="1371600"/>
            <a:chOff x="1905120" y="2362320"/>
            <a:chExt cx="6155280" cy="1371600"/>
          </a:xfrm>
        </p:grpSpPr>
        <p:sp>
          <p:nvSpPr>
            <p:cNvPr id="973" name="AutoShape 5"/>
            <p:cNvSpPr/>
            <p:nvPr/>
          </p:nvSpPr>
          <p:spPr>
            <a:xfrm>
              <a:off x="3733920" y="3124080"/>
              <a:ext cx="1752480" cy="6098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ntent-Bas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redi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6"/>
            <p:cNvSpPr/>
            <p:nvPr/>
          </p:nvSpPr>
          <p:spPr>
            <a:xfrm>
              <a:off x="1905120" y="2362320"/>
              <a:ext cx="21333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Line 7"/>
            <p:cNvSpPr/>
            <p:nvPr/>
          </p:nvSpPr>
          <p:spPr>
            <a:xfrm>
              <a:off x="2743200" y="2362320"/>
              <a:ext cx="1600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Line 8"/>
            <p:cNvSpPr/>
            <p:nvPr/>
          </p:nvSpPr>
          <p:spPr>
            <a:xfrm>
              <a:off x="3200400" y="2362320"/>
              <a:ext cx="1371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9"/>
            <p:cNvSpPr/>
            <p:nvPr/>
          </p:nvSpPr>
          <p:spPr>
            <a:xfrm flipH="1">
              <a:off x="4723920" y="2362320"/>
              <a:ext cx="12193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10"/>
            <p:cNvSpPr/>
            <p:nvPr/>
          </p:nvSpPr>
          <p:spPr>
            <a:xfrm flipH="1">
              <a:off x="5181120" y="2362320"/>
              <a:ext cx="1600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Text Box 11"/>
            <p:cNvSpPr/>
            <p:nvPr/>
          </p:nvSpPr>
          <p:spPr>
            <a:xfrm>
              <a:off x="6326640" y="259092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Group 12"/>
          <p:cNvGrpSpPr/>
          <p:nvPr/>
        </p:nvGrpSpPr>
        <p:grpSpPr>
          <a:xfrm>
            <a:off x="838080" y="3733920"/>
            <a:ext cx="6934320" cy="2364480"/>
            <a:chOff x="838080" y="3733920"/>
            <a:chExt cx="6934320" cy="2364480"/>
          </a:xfrm>
        </p:grpSpPr>
        <p:grpSp>
          <p:nvGrpSpPr>
            <p:cNvPr id="981" name="Group 13"/>
            <p:cNvGrpSpPr/>
            <p:nvPr/>
          </p:nvGrpSpPr>
          <p:grpSpPr>
            <a:xfrm>
              <a:off x="1371600" y="3733920"/>
              <a:ext cx="6400800" cy="1465920"/>
              <a:chOff x="1371600" y="3733920"/>
              <a:chExt cx="6400800" cy="1465920"/>
            </a:xfrm>
          </p:grpSpPr>
          <p:grpSp>
            <p:nvGrpSpPr>
              <p:cNvPr id="982" name="Group 14"/>
              <p:cNvGrpSpPr/>
              <p:nvPr/>
            </p:nvGrpSpPr>
            <p:grpSpPr>
              <a:xfrm>
                <a:off x="1371600" y="3733920"/>
                <a:ext cx="6400800" cy="1066680"/>
                <a:chOff x="1371600" y="3733920"/>
                <a:chExt cx="6400800" cy="1066680"/>
              </a:xfrm>
            </p:grpSpPr>
            <p:grpSp>
              <p:nvGrpSpPr>
                <p:cNvPr id="983" name="Group 15"/>
                <p:cNvGrpSpPr/>
                <p:nvPr/>
              </p:nvGrpSpPr>
              <p:grpSpPr>
                <a:xfrm>
                  <a:off x="1371600" y="4495680"/>
                  <a:ext cx="6400800" cy="304920"/>
                  <a:chOff x="1371600" y="4495680"/>
                  <a:chExt cx="6400800" cy="304920"/>
                </a:xfrm>
              </p:grpSpPr>
              <p:sp>
                <p:nvSpPr>
                  <p:cNvPr id="984" name="Rectangle 16"/>
                  <p:cNvSpPr/>
                  <p:nvPr/>
                </p:nvSpPr>
                <p:spPr>
                  <a:xfrm>
                    <a:off x="1371600" y="4495680"/>
                    <a:ext cx="6400800" cy="3049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Rectangle 17"/>
                  <p:cNvSpPr/>
                  <p:nvPr/>
                </p:nvSpPr>
                <p:spPr>
                  <a:xfrm>
                    <a:off x="1828800" y="4495680"/>
                    <a:ext cx="228600" cy="304920"/>
                  </a:xfrm>
                  <a:prstGeom prst="rect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Rectangle 18"/>
                  <p:cNvSpPr/>
                  <p:nvPr/>
                </p:nvSpPr>
                <p:spPr>
                  <a:xfrm>
                    <a:off x="2666880" y="4495680"/>
                    <a:ext cx="228600" cy="304920"/>
                  </a:xfrm>
                  <a:prstGeom prst="rect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Rectangle 19"/>
                  <p:cNvSpPr/>
                  <p:nvPr/>
                </p:nvSpPr>
                <p:spPr>
                  <a:xfrm>
                    <a:off x="3124080" y="4495680"/>
                    <a:ext cx="228600" cy="304920"/>
                  </a:xfrm>
                  <a:prstGeom prst="rect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Rectangle 20"/>
                  <p:cNvSpPr/>
                  <p:nvPr/>
                </p:nvSpPr>
                <p:spPr>
                  <a:xfrm>
                    <a:off x="5791320" y="4495680"/>
                    <a:ext cx="228600" cy="304920"/>
                  </a:xfrm>
                  <a:prstGeom prst="rect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Rectangle 21"/>
                  <p:cNvSpPr/>
                  <p:nvPr/>
                </p:nvSpPr>
                <p:spPr>
                  <a:xfrm>
                    <a:off x="6629400" y="4495680"/>
                    <a:ext cx="228600" cy="304920"/>
                  </a:xfrm>
                  <a:prstGeom prst="rect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0" name="Line 22"/>
                <p:cNvSpPr/>
                <p:nvPr/>
              </p:nvSpPr>
              <p:spPr>
                <a:xfrm>
                  <a:off x="4572000" y="3733920"/>
                  <a:ext cx="0" cy="761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1" name="Text Box 23"/>
              <p:cNvSpPr/>
              <p:nvPr/>
            </p:nvSpPr>
            <p:spPr>
              <a:xfrm>
                <a:off x="3345480" y="4862520"/>
                <a:ext cx="246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seudo User-ratings Vec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2" name="Rectangle 24"/>
            <p:cNvSpPr/>
            <p:nvPr/>
          </p:nvSpPr>
          <p:spPr>
            <a:xfrm>
              <a:off x="838080" y="5791320"/>
              <a:ext cx="1526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Text Box 25"/>
            <p:cNvSpPr/>
            <p:nvPr/>
          </p:nvSpPr>
          <p:spPr>
            <a:xfrm>
              <a:off x="985680" y="5791320"/>
              <a:ext cx="225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tems with Predicted Rat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Group 26"/>
          <p:cNvGrpSpPr/>
          <p:nvPr/>
        </p:nvGrpSpPr>
        <p:grpSpPr>
          <a:xfrm>
            <a:off x="838080" y="1738440"/>
            <a:ext cx="6934320" cy="4055040"/>
            <a:chOff x="838080" y="1738440"/>
            <a:chExt cx="6934320" cy="4055040"/>
          </a:xfrm>
        </p:grpSpPr>
        <p:grpSp>
          <p:nvGrpSpPr>
            <p:cNvPr id="995" name="Group 27"/>
            <p:cNvGrpSpPr/>
            <p:nvPr/>
          </p:nvGrpSpPr>
          <p:grpSpPr>
            <a:xfrm>
              <a:off x="1371600" y="2057400"/>
              <a:ext cx="6400800" cy="304920"/>
              <a:chOff x="1371600" y="2057400"/>
              <a:chExt cx="6400800" cy="304920"/>
            </a:xfrm>
          </p:grpSpPr>
          <p:sp>
            <p:nvSpPr>
              <p:cNvPr id="996" name="Rectangle 28"/>
              <p:cNvSpPr/>
              <p:nvPr/>
            </p:nvSpPr>
            <p:spPr>
              <a:xfrm>
                <a:off x="1371600" y="2057400"/>
                <a:ext cx="64008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Rectangle 29"/>
              <p:cNvSpPr/>
              <p:nvPr/>
            </p:nvSpPr>
            <p:spPr>
              <a:xfrm>
                <a:off x="1828800" y="2057400"/>
                <a:ext cx="228600" cy="3049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Rectangle 30"/>
              <p:cNvSpPr/>
              <p:nvPr/>
            </p:nvSpPr>
            <p:spPr>
              <a:xfrm>
                <a:off x="2666880" y="2057400"/>
                <a:ext cx="228600" cy="3049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Rectangle 31"/>
              <p:cNvSpPr/>
              <p:nvPr/>
            </p:nvSpPr>
            <p:spPr>
              <a:xfrm>
                <a:off x="3124080" y="2057400"/>
                <a:ext cx="228600" cy="3049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Rectangle 32"/>
              <p:cNvSpPr/>
              <p:nvPr/>
            </p:nvSpPr>
            <p:spPr>
              <a:xfrm>
                <a:off x="5791320" y="2057400"/>
                <a:ext cx="228600" cy="3049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Rectangle 33"/>
              <p:cNvSpPr/>
              <p:nvPr/>
            </p:nvSpPr>
            <p:spPr>
              <a:xfrm>
                <a:off x="6629400" y="2057400"/>
                <a:ext cx="228600" cy="3049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Text Box 34"/>
            <p:cNvSpPr/>
            <p:nvPr/>
          </p:nvSpPr>
          <p:spPr>
            <a:xfrm>
              <a:off x="3669480" y="1738440"/>
              <a:ext cx="181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ser-ratings Ve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35"/>
            <p:cNvSpPr/>
            <p:nvPr/>
          </p:nvSpPr>
          <p:spPr>
            <a:xfrm>
              <a:off x="838080" y="5181480"/>
              <a:ext cx="15264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36"/>
            <p:cNvSpPr/>
            <p:nvPr/>
          </p:nvSpPr>
          <p:spPr>
            <a:xfrm>
              <a:off x="838080" y="548640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Text Box 37"/>
            <p:cNvSpPr/>
            <p:nvPr/>
          </p:nvSpPr>
          <p:spPr>
            <a:xfrm>
              <a:off x="990720" y="5181480"/>
              <a:ext cx="1396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ser-rated I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Text Box 38"/>
            <p:cNvSpPr/>
            <p:nvPr/>
          </p:nvSpPr>
          <p:spPr>
            <a:xfrm>
              <a:off x="990000" y="5486400"/>
              <a:ext cx="120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nrated I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0D4D-7389-4423-9C79-C280450AF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sonal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rs are instances of personalization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ization concerns adapting to the individual needs, interests, and preferences of each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commend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lt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ting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e.g. form or calendar appt. completion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business perspective, it is viewed as part of Customer Relationship Management (CR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16B2-3B6B-4694-86CA-C7AFBD911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nt-Boosted CF - II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85800" y="1371600"/>
            <a:ext cx="7772400" cy="22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440" y="3733560"/>
            <a:ext cx="80010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pseudo user ratings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ull matrix – approximates actual full user ratings matrix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ing Pearson corr. between pseudo user-rating vector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1" name="Rectangle 5"/>
          <p:cNvSpPr/>
          <p:nvPr/>
        </p:nvSpPr>
        <p:spPr>
          <a:xfrm>
            <a:off x="1143000" y="2057400"/>
            <a:ext cx="1447920" cy="1370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s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6"/>
          <p:cNvSpPr/>
          <p:nvPr/>
        </p:nvSpPr>
        <p:spPr>
          <a:xfrm>
            <a:off x="6553080" y="2057400"/>
            <a:ext cx="1447920" cy="1370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cc99"/>
              </a:gs>
              <a:gs pos="100000">
                <a:srgbClr val="3333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seudo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atings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AutoShape 7"/>
          <p:cNvSpPr/>
          <p:nvPr/>
        </p:nvSpPr>
        <p:spPr>
          <a:xfrm>
            <a:off x="3772080" y="23623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tent-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di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Line 8"/>
          <p:cNvSpPr/>
          <p:nvPr/>
        </p:nvSpPr>
        <p:spPr>
          <a:xfrm>
            <a:off x="2590920" y="27432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9"/>
          <p:cNvSpPr/>
          <p:nvPr/>
        </p:nvSpPr>
        <p:spPr>
          <a:xfrm>
            <a:off x="5410080" y="27432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4CE7-FF5B-4CA0-8645-053826BDB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sub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achMovi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,893 users; 299,997 ra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set: 10% of the users selected at rand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st users that rated at least 40 movi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ain on the remainder set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-out set: 25% items for each test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t rating of each item in the hold-out se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CBCF to other prediction approach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ure CF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ure Content-bas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aïve hybrid (averages CF and content-based predictions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B65B-88E2-455C-B566-23D912165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Absolute Error (MA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mpares numerical predictions with user rating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C sensitivity [Herlocker 99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ow well predictions help users select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high-qualit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te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tings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4 considered “good”; &lt; 4 considered “bad”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ed t-test for statistical signific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9F33-36AD-4634-B821-9F64EF3A5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- I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024" name="Object 3"/>
          <p:cNvGraphicFramePr/>
          <p:nvPr/>
        </p:nvGraphicFramePr>
        <p:xfrm>
          <a:off x="1752480" y="1676520"/>
          <a:ext cx="6097680" cy="40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60976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6" name="Text Box 4"/>
          <p:cNvSpPr/>
          <p:nvPr/>
        </p:nvSpPr>
        <p:spPr>
          <a:xfrm>
            <a:off x="1938600" y="5691240"/>
            <a:ext cx="54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CBCF is significantly better (4% over CF) at (p &lt; 0.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9032-88E8-439E-BEE2-2B299DEF0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- II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029" name="Object 3"/>
          <p:cNvGraphicFramePr/>
          <p:nvPr/>
        </p:nvGraphicFramePr>
        <p:xfrm>
          <a:off x="1442880" y="1641600"/>
          <a:ext cx="6510600" cy="41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1641600"/>
                    <a:ext cx="651060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1" name="Text Box 4"/>
          <p:cNvSpPr/>
          <p:nvPr/>
        </p:nvSpPr>
        <p:spPr>
          <a:xfrm>
            <a:off x="2164680" y="5691240"/>
            <a:ext cx="49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CBCF outperforms rest (5% improvement over CF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7A52-2656-460B-8E97-7FAB8E287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ctive Learning</a:t>
            </a:r>
            <a:br>
              <a:rPr sz="3600"/>
            </a:b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(Sample Section, Learning with Queries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reduce the number of training example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requests ratings for specific items from which it would learn the m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existing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ncertainty sampl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mittee-based sampl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C623-7281-4025-A297-4B26E54D4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Learning</a:t>
            </a:r>
            <a:br>
              <a:rPr sz="3600"/>
            </a:b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(Weakly Supervised, Bootstrapping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wealth of unlabeled examples to aid learning from a small amount of labele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recent methods develop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mi-supervised EM (Expectation Maximization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-train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ransductive SVM’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0FD6-900D-4ABB-BD20-E020640B7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ing and personalization are important approaches to combating  information over-lo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Learning is an important part of systems for these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ve filtering has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-based methods address these problems (but have problems of their ow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ng both is b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8620-7A9D-44B3-96FD-8B64B5DAB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chine Learning and Personal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Learning can allow learning a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ser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ro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particular user based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ample interac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ated examp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odel or profile can then be us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commend ite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lter inform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edict behavio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C3B9-8B74-4917-AB67-EAFAB7110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llaborative Fil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database of many users’ ratings of a variety of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given user, find other similar users whose ratings strongly correlate with the current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 items rated highly by these similar users, but not rated by the current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most all existing commercial recommenders use this approach (e.g. Amaz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DB1B-C3DF-4602-BA4C-322DAEA7B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llaborative Fil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76" name="Picture 4" descr="C:\Program Files\Common Files\Microsoft Shared\Clipart\cagcat50\pe01549_.wmf"/>
          <p:cNvPicPr/>
          <p:nvPr/>
        </p:nvPicPr>
        <p:blipFill>
          <a:blip r:embed="rId1"/>
          <a:stretch/>
        </p:blipFill>
        <p:spPr>
          <a:xfrm>
            <a:off x="4724280" y="1447920"/>
            <a:ext cx="669960" cy="9144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6" descr="C:\Program Files\Common Files\Microsoft Shared\Clipart\cagcat50\pe01686_.wmf"/>
          <p:cNvPicPr/>
          <p:nvPr/>
        </p:nvPicPr>
        <p:blipFill>
          <a:blip r:embed="rId2"/>
          <a:stretch/>
        </p:blipFill>
        <p:spPr>
          <a:xfrm>
            <a:off x="2666880" y="1447920"/>
            <a:ext cx="770040" cy="8380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7" descr="C:\Program Files\Common Files\Microsoft Shared\Clipart\cagcat50\pe02002_.wmf"/>
          <p:cNvPicPr/>
          <p:nvPr/>
        </p:nvPicPr>
        <p:blipFill>
          <a:blip r:embed="rId3"/>
          <a:stretch/>
        </p:blipFill>
        <p:spPr>
          <a:xfrm>
            <a:off x="1523880" y="1447920"/>
            <a:ext cx="760680" cy="7617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8" descr="C:\Program Files\Common Files\Microsoft Shared\Clipart\cagcat50\pe01832_.wmf"/>
          <p:cNvPicPr/>
          <p:nvPr/>
        </p:nvPicPr>
        <p:blipFill>
          <a:blip r:embed="rId4"/>
          <a:stretch/>
        </p:blipFill>
        <p:spPr>
          <a:xfrm>
            <a:off x="3505320" y="1447920"/>
            <a:ext cx="914400" cy="8348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9" descr="C:\Program Files\Common Files\Microsoft Shared\Clipart\cagcat50\pe01838_.wmf"/>
          <p:cNvPicPr/>
          <p:nvPr/>
        </p:nvPicPr>
        <p:blipFill>
          <a:blip r:embed="rId5"/>
          <a:stretch/>
        </p:blipFill>
        <p:spPr>
          <a:xfrm>
            <a:off x="5638680" y="1447920"/>
            <a:ext cx="893880" cy="857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C:\Program Files\Common Files\Microsoft Shared\Clipart\cagcat50\pe03738_.wmf"/>
          <p:cNvPicPr/>
          <p:nvPr/>
        </p:nvPicPr>
        <p:blipFill>
          <a:blip r:embed="rId6"/>
          <a:stretch/>
        </p:blipFill>
        <p:spPr>
          <a:xfrm>
            <a:off x="6629400" y="1397160"/>
            <a:ext cx="922320" cy="971280"/>
          </a:xfrm>
          <a:prstGeom prst="rect">
            <a:avLst/>
          </a:prstGeom>
          <a:ln w="0">
            <a:noFill/>
          </a:ln>
        </p:spPr>
      </p:pic>
      <p:grpSp>
        <p:nvGrpSpPr>
          <p:cNvPr id="682" name="Group 94"/>
          <p:cNvGrpSpPr/>
          <p:nvPr/>
        </p:nvGrpSpPr>
        <p:grpSpPr>
          <a:xfrm>
            <a:off x="151200" y="2362320"/>
            <a:ext cx="7316280" cy="1218960"/>
            <a:chOff x="151200" y="2362320"/>
            <a:chExt cx="7316280" cy="1218960"/>
          </a:xfrm>
        </p:grpSpPr>
        <p:grpSp>
          <p:nvGrpSpPr>
            <p:cNvPr id="683" name="Group 50"/>
            <p:cNvGrpSpPr/>
            <p:nvPr/>
          </p:nvGrpSpPr>
          <p:grpSpPr>
            <a:xfrm>
              <a:off x="1638000" y="2362320"/>
              <a:ext cx="487080" cy="1159560"/>
              <a:chOff x="1638000" y="2362320"/>
              <a:chExt cx="487080" cy="1159560"/>
            </a:xfrm>
          </p:grpSpPr>
          <p:sp>
            <p:nvSpPr>
              <p:cNvPr id="684" name="Rectangle 51"/>
              <p:cNvSpPr/>
              <p:nvPr/>
            </p:nvSpPr>
            <p:spPr>
              <a:xfrm>
                <a:off x="1676160" y="2412720"/>
                <a:ext cx="380880" cy="106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Text Box 52"/>
              <p:cNvSpPr/>
              <p:nvPr/>
            </p:nvSpPr>
            <p:spPr>
              <a:xfrm>
                <a:off x="1638000" y="2362320"/>
                <a:ext cx="4870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 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   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 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Group 53"/>
            <p:cNvGrpSpPr/>
            <p:nvPr/>
          </p:nvGrpSpPr>
          <p:grpSpPr>
            <a:xfrm>
              <a:off x="2680200" y="2362320"/>
              <a:ext cx="513000" cy="1159560"/>
              <a:chOff x="2680200" y="2362320"/>
              <a:chExt cx="513000" cy="1159560"/>
            </a:xfrm>
          </p:grpSpPr>
          <p:sp>
            <p:nvSpPr>
              <p:cNvPr id="687" name="Rectangle 54"/>
              <p:cNvSpPr/>
              <p:nvPr/>
            </p:nvSpPr>
            <p:spPr>
              <a:xfrm>
                <a:off x="2719080" y="2412720"/>
                <a:ext cx="380880" cy="106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Text Box 55"/>
              <p:cNvSpPr/>
              <p:nvPr/>
            </p:nvSpPr>
            <p:spPr>
              <a:xfrm>
                <a:off x="2680200" y="2362320"/>
                <a:ext cx="5130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  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   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3725640" y="2362320"/>
              <a:ext cx="546480" cy="1159560"/>
              <a:chOff x="3725640" y="2362320"/>
              <a:chExt cx="546480" cy="1159560"/>
            </a:xfrm>
          </p:grpSpPr>
          <p:sp>
            <p:nvSpPr>
              <p:cNvPr id="690" name="Rectangle 57"/>
              <p:cNvSpPr/>
              <p:nvPr/>
            </p:nvSpPr>
            <p:spPr>
              <a:xfrm>
                <a:off x="3763800" y="2412720"/>
                <a:ext cx="380880" cy="106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58"/>
              <p:cNvSpPr/>
              <p:nvPr/>
            </p:nvSpPr>
            <p:spPr>
              <a:xfrm>
                <a:off x="3725640" y="2362320"/>
                <a:ext cx="5464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 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   :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 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4768560" y="2362320"/>
              <a:ext cx="478080" cy="1159560"/>
              <a:chOff x="4768560" y="2362320"/>
              <a:chExt cx="478080" cy="1159560"/>
            </a:xfrm>
          </p:grpSpPr>
          <p:sp>
            <p:nvSpPr>
              <p:cNvPr id="693" name="Rectangle 60"/>
              <p:cNvSpPr/>
              <p:nvPr/>
            </p:nvSpPr>
            <p:spPr>
              <a:xfrm>
                <a:off x="4806720" y="2412720"/>
                <a:ext cx="380880" cy="106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61"/>
              <p:cNvSpPr/>
              <p:nvPr/>
            </p:nvSpPr>
            <p:spPr>
              <a:xfrm>
                <a:off x="4768560" y="2362320"/>
                <a:ext cx="4780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  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  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Group 62"/>
            <p:cNvGrpSpPr/>
            <p:nvPr/>
          </p:nvGrpSpPr>
          <p:grpSpPr>
            <a:xfrm>
              <a:off x="5813280" y="2362320"/>
              <a:ext cx="487080" cy="1159560"/>
              <a:chOff x="5813280" y="2362320"/>
              <a:chExt cx="487080" cy="1159560"/>
            </a:xfrm>
          </p:grpSpPr>
          <p:sp>
            <p:nvSpPr>
              <p:cNvPr id="696" name="Rectangle 63"/>
              <p:cNvSpPr/>
              <p:nvPr/>
            </p:nvSpPr>
            <p:spPr>
              <a:xfrm>
                <a:off x="5851440" y="2412720"/>
                <a:ext cx="380880" cy="106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Text Box 64"/>
              <p:cNvSpPr/>
              <p:nvPr/>
            </p:nvSpPr>
            <p:spPr>
              <a:xfrm>
                <a:off x="5813280" y="2362320"/>
                <a:ext cx="4870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 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   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65"/>
            <p:cNvGrpSpPr/>
            <p:nvPr/>
          </p:nvGrpSpPr>
          <p:grpSpPr>
            <a:xfrm>
              <a:off x="6857280" y="2362320"/>
              <a:ext cx="532800" cy="1159560"/>
              <a:chOff x="6857280" y="2362320"/>
              <a:chExt cx="532800" cy="1159560"/>
            </a:xfrm>
          </p:grpSpPr>
          <p:sp>
            <p:nvSpPr>
              <p:cNvPr id="699" name="Rectangle 66"/>
              <p:cNvSpPr/>
              <p:nvPr/>
            </p:nvSpPr>
            <p:spPr>
              <a:xfrm>
                <a:off x="6895800" y="2412720"/>
                <a:ext cx="380880" cy="106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Text Box 67"/>
              <p:cNvSpPr/>
              <p:nvPr/>
            </p:nvSpPr>
            <p:spPr>
              <a:xfrm>
                <a:off x="6857280" y="2362320"/>
                <a:ext cx="5328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  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   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Text Box 73"/>
            <p:cNvSpPr/>
            <p:nvPr/>
          </p:nvSpPr>
          <p:spPr>
            <a:xfrm>
              <a:off x="151200" y="2514240"/>
              <a:ext cx="1113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74"/>
            <p:cNvSpPr/>
            <p:nvPr/>
          </p:nvSpPr>
          <p:spPr>
            <a:xfrm>
              <a:off x="1371240" y="2362320"/>
              <a:ext cx="6096240" cy="121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Group 77"/>
          <p:cNvGrpSpPr/>
          <p:nvPr/>
        </p:nvGrpSpPr>
        <p:grpSpPr>
          <a:xfrm>
            <a:off x="1705680" y="5638680"/>
            <a:ext cx="2274120" cy="1050840"/>
            <a:chOff x="1705680" y="5638680"/>
            <a:chExt cx="2274120" cy="1050840"/>
          </a:xfrm>
        </p:grpSpPr>
        <p:pic>
          <p:nvPicPr>
            <p:cNvPr id="704" name="Picture 10" descr="C:\Program Files\Common Files\Microsoft Shared\Clipart\cagcat50\pe02661_.wmf"/>
            <p:cNvPicPr/>
            <p:nvPr/>
          </p:nvPicPr>
          <p:blipFill>
            <a:blip r:embed="rId7"/>
            <a:stretch/>
          </p:blipFill>
          <p:spPr>
            <a:xfrm>
              <a:off x="3047760" y="5638680"/>
              <a:ext cx="93204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 Box 76"/>
            <p:cNvSpPr/>
            <p:nvPr/>
          </p:nvSpPr>
          <p:spPr>
            <a:xfrm>
              <a:off x="1705680" y="5729040"/>
              <a:ext cx="85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85"/>
          <p:cNvGrpSpPr/>
          <p:nvPr/>
        </p:nvGrpSpPr>
        <p:grpSpPr>
          <a:xfrm>
            <a:off x="1873080" y="3483000"/>
            <a:ext cx="5211720" cy="1568880"/>
            <a:chOff x="1873080" y="3483000"/>
            <a:chExt cx="5211720" cy="1568880"/>
          </a:xfrm>
        </p:grpSpPr>
        <p:sp>
          <p:nvSpPr>
            <p:cNvPr id="707" name="Rectangle 71"/>
            <p:cNvSpPr/>
            <p:nvPr/>
          </p:nvSpPr>
          <p:spPr>
            <a:xfrm>
              <a:off x="3660840" y="4348080"/>
              <a:ext cx="1340640" cy="703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re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78"/>
            <p:cNvSpPr/>
            <p:nvPr/>
          </p:nvSpPr>
          <p:spPr>
            <a:xfrm>
              <a:off x="1873080" y="3483000"/>
              <a:ext cx="197964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9"/>
            <p:cNvSpPr/>
            <p:nvPr/>
          </p:nvSpPr>
          <p:spPr>
            <a:xfrm>
              <a:off x="2900160" y="3483000"/>
              <a:ext cx="110340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80"/>
            <p:cNvSpPr/>
            <p:nvPr/>
          </p:nvSpPr>
          <p:spPr>
            <a:xfrm>
              <a:off x="3939840" y="3483000"/>
              <a:ext cx="23832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81"/>
            <p:cNvSpPr/>
            <p:nvPr/>
          </p:nvSpPr>
          <p:spPr>
            <a:xfrm flipH="1">
              <a:off x="4466520" y="3483000"/>
              <a:ext cx="50004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82"/>
            <p:cNvSpPr/>
            <p:nvPr/>
          </p:nvSpPr>
          <p:spPr>
            <a:xfrm flipH="1">
              <a:off x="4679280" y="3483000"/>
              <a:ext cx="135252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83"/>
            <p:cNvSpPr/>
            <p:nvPr/>
          </p:nvSpPr>
          <p:spPr>
            <a:xfrm flipH="1">
              <a:off x="4892400" y="3483000"/>
              <a:ext cx="219240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Group 86"/>
          <p:cNvGrpSpPr/>
          <p:nvPr/>
        </p:nvGrpSpPr>
        <p:grpSpPr>
          <a:xfrm>
            <a:off x="4114800" y="5060880"/>
            <a:ext cx="487080" cy="1661040"/>
            <a:chOff x="4114800" y="5060880"/>
            <a:chExt cx="487080" cy="1661040"/>
          </a:xfrm>
        </p:grpSpPr>
        <p:grpSp>
          <p:nvGrpSpPr>
            <p:cNvPr id="715" name="Group 68"/>
            <p:cNvGrpSpPr/>
            <p:nvPr/>
          </p:nvGrpSpPr>
          <p:grpSpPr>
            <a:xfrm>
              <a:off x="4114800" y="5562360"/>
              <a:ext cx="487080" cy="1159560"/>
              <a:chOff x="4114800" y="5562360"/>
              <a:chExt cx="487080" cy="1159560"/>
            </a:xfrm>
          </p:grpSpPr>
          <p:sp>
            <p:nvSpPr>
              <p:cNvPr id="716" name="Rectangle 69"/>
              <p:cNvSpPr/>
              <p:nvPr/>
            </p:nvSpPr>
            <p:spPr>
              <a:xfrm>
                <a:off x="4152960" y="5613120"/>
                <a:ext cx="38088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Text Box 70"/>
              <p:cNvSpPr/>
              <p:nvPr/>
            </p:nvSpPr>
            <p:spPr>
              <a:xfrm>
                <a:off x="4114800" y="5562360"/>
                <a:ext cx="4870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 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   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 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Line 84"/>
            <p:cNvSpPr/>
            <p:nvPr/>
          </p:nvSpPr>
          <p:spPr>
            <a:xfrm flipV="1">
              <a:off x="4341960" y="5060880"/>
              <a:ext cx="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95"/>
          <p:cNvGrpSpPr/>
          <p:nvPr/>
        </p:nvGrpSpPr>
        <p:grpSpPr>
          <a:xfrm>
            <a:off x="5005440" y="4114800"/>
            <a:ext cx="1927440" cy="1159560"/>
            <a:chOff x="5005440" y="4114800"/>
            <a:chExt cx="1927440" cy="1159560"/>
          </a:xfrm>
        </p:grpSpPr>
        <p:sp>
          <p:nvSpPr>
            <p:cNvPr id="720" name="Line 87"/>
            <p:cNvSpPr/>
            <p:nvPr/>
          </p:nvSpPr>
          <p:spPr>
            <a:xfrm>
              <a:off x="5005440" y="4673520"/>
              <a:ext cx="70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Group 88"/>
            <p:cNvGrpSpPr/>
            <p:nvPr/>
          </p:nvGrpSpPr>
          <p:grpSpPr>
            <a:xfrm>
              <a:off x="5867280" y="4114800"/>
              <a:ext cx="487080" cy="1159560"/>
              <a:chOff x="5867280" y="4114800"/>
              <a:chExt cx="487080" cy="1159560"/>
            </a:xfrm>
          </p:grpSpPr>
          <p:sp>
            <p:nvSpPr>
              <p:cNvPr id="722" name="Rectangle 89"/>
              <p:cNvSpPr/>
              <p:nvPr/>
            </p:nvSpPr>
            <p:spPr>
              <a:xfrm>
                <a:off x="5905080" y="4165560"/>
                <a:ext cx="38016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Text Box 90"/>
              <p:cNvSpPr/>
              <p:nvPr/>
            </p:nvSpPr>
            <p:spPr>
              <a:xfrm>
                <a:off x="5867280" y="4114800"/>
                <a:ext cx="4870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 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   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 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91"/>
            <p:cNvGrpSpPr/>
            <p:nvPr/>
          </p:nvGrpSpPr>
          <p:grpSpPr>
            <a:xfrm>
              <a:off x="6400080" y="4114800"/>
              <a:ext cx="532800" cy="1159560"/>
              <a:chOff x="6400080" y="4114800"/>
              <a:chExt cx="532800" cy="1159560"/>
            </a:xfrm>
          </p:grpSpPr>
          <p:sp>
            <p:nvSpPr>
              <p:cNvPr id="725" name="Rectangle 92"/>
              <p:cNvSpPr/>
              <p:nvPr/>
            </p:nvSpPr>
            <p:spPr>
              <a:xfrm>
                <a:off x="6438600" y="4165560"/>
                <a:ext cx="38088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93"/>
              <p:cNvSpPr/>
              <p:nvPr/>
            </p:nvSpPr>
            <p:spPr>
              <a:xfrm>
                <a:off x="6400080" y="4114800"/>
                <a:ext cx="5328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 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  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   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7" name="Group 104"/>
          <p:cNvGrpSpPr/>
          <p:nvPr/>
        </p:nvGrpSpPr>
        <p:grpSpPr>
          <a:xfrm>
            <a:off x="5107680" y="5235480"/>
            <a:ext cx="2076480" cy="1161360"/>
            <a:chOff x="5107680" y="5235480"/>
            <a:chExt cx="2076480" cy="1161360"/>
          </a:xfrm>
        </p:grpSpPr>
        <p:sp>
          <p:nvSpPr>
            <p:cNvPr id="728" name="Rectangle 96"/>
            <p:cNvSpPr/>
            <p:nvPr/>
          </p:nvSpPr>
          <p:spPr>
            <a:xfrm>
              <a:off x="5107680" y="5693040"/>
              <a:ext cx="2076480" cy="7038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tra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ommend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00"/>
            <p:cNvSpPr/>
            <p:nvPr/>
          </p:nvSpPr>
          <p:spPr>
            <a:xfrm>
              <a:off x="6075360" y="5235480"/>
              <a:ext cx="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01"/>
            <p:cNvSpPr/>
            <p:nvPr/>
          </p:nvSpPr>
          <p:spPr>
            <a:xfrm>
              <a:off x="6626160" y="5246640"/>
              <a:ext cx="324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Group 111"/>
          <p:cNvGrpSpPr/>
          <p:nvPr/>
        </p:nvGrpSpPr>
        <p:grpSpPr>
          <a:xfrm>
            <a:off x="5715000" y="4572000"/>
            <a:ext cx="2179080" cy="1591200"/>
            <a:chOff x="5715000" y="4572000"/>
            <a:chExt cx="2179080" cy="1591200"/>
          </a:xfrm>
        </p:grpSpPr>
        <p:grpSp>
          <p:nvGrpSpPr>
            <p:cNvPr id="732" name="Group 105"/>
            <p:cNvGrpSpPr/>
            <p:nvPr/>
          </p:nvGrpSpPr>
          <p:grpSpPr>
            <a:xfrm>
              <a:off x="7189920" y="5764320"/>
              <a:ext cx="704160" cy="398880"/>
              <a:chOff x="7189920" y="5764320"/>
              <a:chExt cx="704160" cy="398880"/>
            </a:xfrm>
          </p:grpSpPr>
          <p:sp>
            <p:nvSpPr>
              <p:cNvPr id="733" name="Line 102"/>
              <p:cNvSpPr/>
              <p:nvPr/>
            </p:nvSpPr>
            <p:spPr>
              <a:xfrm>
                <a:off x="7189920" y="6000480"/>
                <a:ext cx="32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Text Box 103"/>
              <p:cNvSpPr/>
              <p:nvPr/>
            </p:nvSpPr>
            <p:spPr>
              <a:xfrm>
                <a:off x="7544160" y="57643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Rectangle 109"/>
            <p:cNvSpPr/>
            <p:nvPr/>
          </p:nvSpPr>
          <p:spPr>
            <a:xfrm>
              <a:off x="5715000" y="4572000"/>
              <a:ext cx="1295280" cy="228600"/>
            </a:xfrm>
            <a:prstGeom prst="rect">
              <a:avLst/>
            </a:prstGeom>
            <a:noFill/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Group 116"/>
          <p:cNvGrpSpPr/>
          <p:nvPr/>
        </p:nvGrpSpPr>
        <p:grpSpPr>
          <a:xfrm>
            <a:off x="1612800" y="2338560"/>
            <a:ext cx="5734080" cy="1245960"/>
            <a:chOff x="1612800" y="2338560"/>
            <a:chExt cx="5734080" cy="1245960"/>
          </a:xfrm>
        </p:grpSpPr>
        <p:sp>
          <p:nvSpPr>
            <p:cNvPr id="737" name="Rectangle 117"/>
            <p:cNvSpPr/>
            <p:nvPr/>
          </p:nvSpPr>
          <p:spPr>
            <a:xfrm>
              <a:off x="1612800" y="2338560"/>
              <a:ext cx="533520" cy="1218960"/>
            </a:xfrm>
            <a:prstGeom prst="rect">
              <a:avLst/>
            </a:prstGeom>
            <a:noFill/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118"/>
            <p:cNvSpPr/>
            <p:nvPr/>
          </p:nvSpPr>
          <p:spPr>
            <a:xfrm>
              <a:off x="6813720" y="2365200"/>
              <a:ext cx="533160" cy="1219320"/>
            </a:xfrm>
            <a:prstGeom prst="rect">
              <a:avLst/>
            </a:prstGeom>
            <a:noFill/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7AD7-5314-4ABC-AAE2-39D4E52A8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llaborative Filtering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all users with respect to similarity with the active u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subset of the user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ighb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use as predi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e ratings and compute a prediction from a weighted combination of the selected neighbors’ rat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items with highest predicted ratings as recommend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BCAE-3682-410B-B91A-EADA1BEFC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ilarity Weigh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use Pearson correlation coefficient between ratings for active use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nother use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4"/>
              <p:cNvSpPr txBox="1"/>
              <p:nvPr/>
            </p:nvSpPr>
            <p:spPr>
              <a:xfrm>
                <a:off x="2851200" y="2438280"/>
                <a:ext cx="290808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6" name="Text Box 5"/>
          <p:cNvSpPr/>
          <p:nvPr/>
        </p:nvSpPr>
        <p:spPr>
          <a:xfrm>
            <a:off x="1077120" y="3657600"/>
            <a:ext cx="70279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ratings vectors for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ems rat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rating for ite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mooney</cp:lastModifiedBy>
  <dcterms:modified xsi:type="dcterms:W3CDTF">2016-11-22T18:18:30Z</dcterms:modified>
  <cp:revision>72</cp:revision>
  <dc:subject/>
  <dc:title>Intelligent Information Retrieval and Web Search</dc:title>
</cp:coreProperties>
</file>