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03FC-7F61-47C1-8277-BFC82D660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AE79-DEF6-4D21-BCA4-CCA70543E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9CF3-7D6E-4AAB-8D51-2082FB249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69D2-FF33-43F1-A52D-E4C938990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EC5F-1989-4EE1-B546-6008E5717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6DB8A-355F-457B-818B-631CCF5C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7067C-1116-4635-9D60-5CCC5A03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DA9615-65B0-4668-B85E-ED7D79CD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424BCB-CA0D-4810-9F4C-45940A2E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986B36-76CA-4B76-A785-BE9EAADD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042EA5-9065-4235-85DC-EF04C210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66ADC3-17C5-435D-90A7-26424706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BBD73F-1EBC-4461-A5C4-5B4619AB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984769-070B-41E5-BDFF-2A77BCED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74B807-EF89-4901-8FD1-17AFDE99A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EC4383-0199-4BBD-A86A-A0923222E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355653-13BD-4941-816B-FAD8AADEE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1D1D5-E794-4D82-A0C0-929D96F28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FBB476-E988-47B4-9713-9B125F8B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9378ED-DEAA-4621-9E2D-E2B7BB4D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8EA828-FD98-49BB-9F12-DB94FE96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5150FA-8016-4655-AC12-A2AA8BC4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A6A088-86E1-4A14-944E-B66FD2F8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24D6CE-FABB-4B86-A831-38377C93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59EB7A-7592-48A3-8968-D4A11DBA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A4FE72-A696-4AB3-A367-04E9CC7F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3035D0-4477-4990-9683-3C6E5362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0D348E-E2B9-4EAF-846B-5459DA8E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055E6-7438-4D4A-8722-C5ED3CEF7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928C8C-74A3-4814-BE56-68FCFECD6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86F4D6-317B-4CB5-B679-A7883F36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5BA623-43E0-44A1-9D7A-868D12C6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BB7256-2CF0-43CA-B754-D21850A8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68BDA1-5668-4B0C-A24D-EFC27579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5A3B81-AE54-4088-A387-7CB6A94E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CE17DA-2B8F-4FBC-8504-DB2EDB3E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B9BD40-CDD2-488C-9438-18712125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590B09-56B2-44BB-9DDE-A0E3BA3E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C50E8B-8EDA-462E-9650-790ACE63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D0A08-2E0A-48F9-B7E2-CC8750D06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F3D2BB-6D18-4EF6-84B6-7AB1CD3C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1AC9CB-2473-47AB-8466-D73CE5EA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50EA62D-D09A-4741-BDDD-0935D15C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CBB3021-6EC0-4A62-8CD3-65296C90C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A9C1F53-39B0-4012-BD4F-DD6248BE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CAC0CDF-77AD-4322-B3CD-4AC277AF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D274D9B-A7C1-4BC0-8661-6B27C605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ED3B1E6-7742-4877-AA1F-2F5B2915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58B4F46-A8CD-4BE4-8FC8-D6E7CDC6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31E156-63BA-442D-8EDF-AC03C8A6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5B034-C512-41C6-9152-B9083F83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C146DF4-8A70-497E-85F2-54E3F0BC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7A6A9DD-C6FE-4E18-B254-4446AB54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081D4F-04AC-4F17-84BF-9DB2C5F6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86953E-E69F-4081-9F60-4066C4260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FFE8C82-A2EB-42AE-A8CD-5BA90F677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C0831-9C7C-438D-81CA-513B7F23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C1DEE-64FD-4F64-A7FE-A50CAE10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D0B00-4FE4-4B2F-8058-05390D90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AC42B-C59F-4F80-B85A-CA4F40D0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521F8-0DDC-468C-8C6D-92BA97F6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37DFF-D3D0-4782-95F7-B9AAA055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B3D35-5021-45A8-872F-5D5D12C7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31E64-3E9A-4A84-853D-1C2A236D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13813-8169-4808-B2A8-19BF7C87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A9726-440E-46C5-865C-54407FE86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A5A6E-698A-4398-841A-760922A8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726F94-938B-4E17-9FE3-E2A148722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E15A7E-32B8-4ACC-B186-6C374149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A94AA4-FBAB-4F94-B11A-5A60DA28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9FEF54-1ACF-4CEF-BCA1-86C5BDF4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D61C0B-3773-425D-BF90-1CF24CE7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74C4F-A121-4446-810D-39EF8752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81A75C-3ADF-4CBC-8485-DC098A7D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2CFB69-06E3-48FF-9F91-5A6C2E44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FC7531-5DB2-455C-AB0F-29B972AE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AAC285-99E5-4624-B70E-5783B712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7D7489-FF5F-42A2-A25E-65C06BD9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9AE46B-C87B-4242-A4F8-C431077A3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836305-FA54-4C1E-BDF6-1D09ECC8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BEF064-83B0-4017-8AC0-8EFAB9DE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DDDE1C-DB19-4C6F-ADB7-D0B70E97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AB45C1-F513-44B2-BBF7-32BD064A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D3496-E12D-4B8A-A2DF-409D8BEA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18A9AC-77D4-4BD7-8F4C-E2451207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CABABF-C14A-4036-BA36-BFA758D1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D237A8-0DCC-4B86-84F2-DF6F3A67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0AAE98-37BC-4E29-8DC6-30B2D162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10CAAC-C751-4EDA-BD60-2E85E7F8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6F22A0-E535-4766-A0B3-E026A799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7692DD-2838-4187-95B4-363B7792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AB0210-3FA2-48BA-863D-975390EA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387C14-213D-4899-BED2-4E6B106E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2A2BD8-51A0-47CC-BF40-2BA7256A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CCB5A-B56C-4F0B-BBB7-36C28F8E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AB8DDE-7586-4F73-AE8C-93B5C82A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933AFF-1176-4422-9CDF-2CE6674B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B3E7AE-9F78-491A-ACB0-4E083305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C1CA9A-2422-4640-B915-889AECF1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8016F2-CB62-4A22-9632-B0044EF6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4B79BC-1450-4F4C-BA85-EFE4C457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01AB4D-98F5-4F1A-ABB8-3BD1DE43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CE6D02-0797-4CD0-9893-11DAF916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ADB0A1-51EC-48F7-8FA7-64CA4AA6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878591-8FF9-413D-900C-3021F7941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FDFC4-953C-4C0D-A767-B8C80933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BDA84A-D4FD-4733-BF5F-7A088AF55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1380D5-8BFB-48D8-89F5-325E08D8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1DDC38-BAD1-4210-AB2C-7E4BB0FD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BC158D-BC2A-4618-B529-EE4F7E45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C23F30-A774-477E-B0E4-D1E0BB9C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3A0E54-79AD-4433-AB44-08B73F75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526C75-B7A2-4A6F-A27B-33DD5DCB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B05C9C-25E1-4747-8321-3B0417F8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F27FC0-3282-408C-802B-6D799D90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7E04F0-360B-4797-912E-09E90322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D684D-EEE1-4E29-B77D-6C2302C5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EC4C3D-003E-44F7-BC53-2C1ADDF0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BA87B8-D724-4D19-A8B4-540FF015D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27F2D9-2883-4D95-8AAC-BC402C15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7EB34D-61ED-458A-ACA8-97DA04DED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F37303-33B3-42EE-AB6F-1E431A23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B8D690-4FA7-4523-8386-AC72BE0F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16E7CC-5FFB-4EB3-A8F9-DE88EAD9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213EE3-D1A5-4C8F-A261-9470A80F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512286-CD0A-4263-9F38-B21AB4A7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E4837F-220D-485A-9183-B042C2A3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8A0F9-1775-4AEB-BC12-C789AB44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0514EB-613F-4ACA-91F7-89B7457E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5CD3F5-19CB-4588-9E76-8031075E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08303E-ABF4-41E4-8FA7-374BAC21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6C6AD7-6E76-4FF3-927A-4EE913EA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475306-2BA0-44B1-AE0F-6902A229A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CAB4A0-6154-4772-8C87-45319463F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A0D7B8-4576-4B54-A572-36700D49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9226F3-1FBE-4D2A-AA76-891DDDF7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2D80BB-E8BB-4115-B1F2-9BA963E5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E3BF01-926B-4BD4-8D69-70AA1C54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BEC90-AC5A-4F0C-B2C2-547032DF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997B75-2E58-475A-BB95-8624A5A1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686AC9-77BB-4A03-AAC7-719CF16A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94DC9F-DD7B-46DA-8FE9-F2CFE6BC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0D077D-6324-46B5-B6EC-2E36F2B1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4DBFB4-7644-49A6-B7DA-9353BBF2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4B0875-93BB-439E-8E98-05AD8EC28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887E2C-9E59-4060-974F-131FEC524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F95F0F-C372-49C5-A51B-27EEF7B8D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BEDB5C-AEF4-44FD-9ED8-BAABC647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FF5D1F-A84B-4C09-BA81-3B01CD17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DA90-D4B1-4CBB-9C58-E97092790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7A4B-0E4B-4FA8-850E-BE5D5CCC0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C506-E43D-4458-AA4F-C0D55C9CB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0622-F66B-475A-A4BA-40EF26B24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7CE4-63DC-44C0-B463-8CE48A17D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A9C6-E400-46EC-A81F-8FAEC8976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1B22-98F1-4A87-B37D-7D95021F7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72B2-9625-4DF4-B69A-441431116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EDC5-DDFE-4C2D-8693-3931E4961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8AE6-C005-4F89-9F4F-398F834F8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6DF6-7631-4655-8EB5-DACF072E8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7E0A-1B12-4200-A0A6-FADBDF4B0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utexas.edu/home/people/prof.shtml" TargetMode="External"/><Relationship Id="rId2" Type="http://schemas.openxmlformats.org/officeDocument/2006/relationships/hyperlink" Target="http://www.cs.utexas.edu/users/mooney/ir-course/spider-trace.txt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s.utexas.edu/users/mooney/ir-course/search.html" TargetMode="External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bay.com/robots.txt" TargetMode="External"/><Relationship Id="rId2" Type="http://schemas.openxmlformats.org/officeDocument/2006/relationships/hyperlink" Target="http://www.cnn.com/robots.txt" TargetMode="External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17AF-CBD8-447F-AA03-E9DD02A64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Web Search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id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E8F7-CBF5-41CA-B337-1165C8E61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ink Extra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find all links in a page and extract UR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&lt;a href=“http://www.cs.utexas.edu/users/mooney/ir-course”&gt;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&lt;frame src=“site-index.html”&gt;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complete relative URL’s using current page UR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&lt;a href=“proj3”&gt;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o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http://www.cs.utexas.edu/users/mooney/ir-course/proj3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&lt;a href=“../cs343/syllabus.html”&gt;  to  http://www.cs.utexas.edu/users/mooney/cs343/syllabus.html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E256-E09F-4BEE-9C08-B898D2D85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URL Syntax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URL has the following synta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&lt;scheme&gt;://&lt;authority&gt;&lt;path&gt;?&lt;query&gt;#&lt;fragment&gt;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uthor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the synta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&lt;host&gt;:&lt;port-number&gt;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sses variable values from an HTML form and has the synta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&lt;variable&gt;=&lt;value&gt;&amp;&lt;variable&gt;=&lt;value&gt;…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rag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lso called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fer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is a pointer within the document to a point specified by an anchor tag of the fo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&lt;A NAME=“&lt;fragment&gt;”&gt;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AF8D-C2CD-47B2-801A-DF05803E8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Java Spid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idering code in ir.webutils pack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ic spider in Spider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readth-first crawl from a start URL and saves copy of each page in a local direc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directory can then be indexed and searched using VSR InvertedInd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metho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-u  &lt;start-URL&gt;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-d &lt;save-directory&gt;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-c &lt;page-count-limit&gt;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992D-AD20-4065-B2C1-4D71DFAF6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Java Spider (cont.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ot Exclusion can be invoked to prevent crawling restricted sites/p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-saf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ized classes also restrict sear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iteSpider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Restrict to initial URL host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irectorySpider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Restrict to below initial URL directory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4BCB-E281-4CF1-8C80-11C3130B8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pider Java Class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726" name="Group 3"/>
          <p:cNvGrpSpPr/>
          <p:nvPr/>
        </p:nvGrpSpPr>
        <p:grpSpPr>
          <a:xfrm>
            <a:off x="2742840" y="1752480"/>
            <a:ext cx="3216600" cy="854280"/>
            <a:chOff x="2742840" y="1752480"/>
            <a:chExt cx="3216600" cy="854280"/>
          </a:xfrm>
        </p:grpSpPr>
        <p:sp>
          <p:nvSpPr>
            <p:cNvPr id="727" name="Text Box 4"/>
            <p:cNvSpPr/>
            <p:nvPr/>
          </p:nvSpPr>
          <p:spPr>
            <a:xfrm>
              <a:off x="2742840" y="1752480"/>
              <a:ext cx="3153960" cy="81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HTMLPageRetrie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            </a:t>
              </a:r>
              <a:r>
                <a:rPr b="0" lang="en-US" sz="2000" spc="-1" strike="noStrike">
                  <a:solidFill>
                    <a:srgbClr val="00cc00"/>
                  </a:solidFill>
                  <a:latin typeface="Times New Roman"/>
                </a:rPr>
                <a:t>getHTMLPag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Rectangle 5"/>
            <p:cNvSpPr/>
            <p:nvPr/>
          </p:nvSpPr>
          <p:spPr>
            <a:xfrm>
              <a:off x="3139920" y="1752480"/>
              <a:ext cx="2819520" cy="854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9" name="Line 6"/>
          <p:cNvSpPr/>
          <p:nvPr/>
        </p:nvSpPr>
        <p:spPr>
          <a:xfrm>
            <a:off x="2662200" y="236376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0" name="Group 7"/>
          <p:cNvGrpSpPr/>
          <p:nvPr/>
        </p:nvGrpSpPr>
        <p:grpSpPr>
          <a:xfrm>
            <a:off x="5715000" y="2971800"/>
            <a:ext cx="2654280" cy="1981080"/>
            <a:chOff x="5715000" y="2971800"/>
            <a:chExt cx="2654280" cy="1981080"/>
          </a:xfrm>
        </p:grpSpPr>
        <p:grpSp>
          <p:nvGrpSpPr>
            <p:cNvPr id="731" name="Group 8"/>
            <p:cNvGrpSpPr/>
            <p:nvPr/>
          </p:nvGrpSpPr>
          <p:grpSpPr>
            <a:xfrm>
              <a:off x="6018480" y="3733920"/>
              <a:ext cx="2350800" cy="1218960"/>
              <a:chOff x="6018480" y="3733920"/>
              <a:chExt cx="2350800" cy="1218960"/>
            </a:xfrm>
          </p:grpSpPr>
          <p:sp>
            <p:nvSpPr>
              <p:cNvPr id="732" name="Text Box 9"/>
              <p:cNvSpPr/>
              <p:nvPr/>
            </p:nvSpPr>
            <p:spPr>
              <a:xfrm>
                <a:off x="6018480" y="3733920"/>
                <a:ext cx="2350800" cy="115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</a:rPr>
                  <a:t>     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</a:rPr>
                  <a:t>LinkExtr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</a:rPr>
                  <a:t>            </a:t>
                </a:r>
                <a:r>
                  <a:rPr b="0" lang="en-US" sz="2000" spc="-1" strike="noStrike">
                    <a:solidFill>
                      <a:srgbClr val="3333ff"/>
                    </a:solidFill>
                    <a:latin typeface="Times New Roman"/>
                  </a:rPr>
                  <a:t>pag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99"/>
                    </a:solidFill>
                    <a:latin typeface="Times New Roman"/>
                  </a:rPr>
                  <a:t>              </a:t>
                </a:r>
                <a:r>
                  <a:rPr b="0" lang="en-US" sz="2000" spc="-1" strike="noStrike">
                    <a:solidFill>
                      <a:srgbClr val="00cc00"/>
                    </a:solidFill>
                    <a:latin typeface="Times New Roman"/>
                  </a:rPr>
                  <a:t>extract(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Rectangle 10"/>
              <p:cNvSpPr/>
              <p:nvPr/>
            </p:nvSpPr>
            <p:spPr>
              <a:xfrm>
                <a:off x="6477120" y="3733920"/>
                <a:ext cx="1828800" cy="12189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Freeform 11"/>
            <p:cNvSpPr/>
            <p:nvPr/>
          </p:nvSpPr>
          <p:spPr>
            <a:xfrm>
              <a:off x="5715000" y="2971800"/>
              <a:ext cx="1219320" cy="148608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486080"/>
                <a:gd name="textAreaBottom" fmla="*/ 1486440 h 1486080"/>
              </a:gdLst>
              <a:ahLst/>
              <a:rect l="textAreaLeft" t="textAreaTop" r="textAreaRight" b="textAreaBottom"/>
              <a:pathLst>
                <a:path w="768" h="936">
                  <a:moveTo>
                    <a:pt x="432" y="0"/>
                  </a:moveTo>
                  <a:cubicBezTo>
                    <a:pt x="296" y="8"/>
                    <a:pt x="160" y="16"/>
                    <a:pt x="96" y="96"/>
                  </a:cubicBezTo>
                  <a:cubicBezTo>
                    <a:pt x="32" y="176"/>
                    <a:pt x="0" y="352"/>
                    <a:pt x="48" y="480"/>
                  </a:cubicBezTo>
                  <a:cubicBezTo>
                    <a:pt x="96" y="608"/>
                    <a:pt x="264" y="792"/>
                    <a:pt x="384" y="864"/>
                  </a:cubicBezTo>
                  <a:cubicBezTo>
                    <a:pt x="504" y="936"/>
                    <a:pt x="636" y="924"/>
                    <a:pt x="768" y="9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Freeform 13"/>
          <p:cNvSpPr/>
          <p:nvPr/>
        </p:nvSpPr>
        <p:spPr>
          <a:xfrm>
            <a:off x="7696080" y="2666880"/>
            <a:ext cx="1231920" cy="2197080"/>
          </a:xfrm>
          <a:custGeom>
            <a:avLst/>
            <a:gdLst>
              <a:gd name="textAreaLeft" fmla="*/ 0 w 1231920"/>
              <a:gd name="textAreaRight" fmla="*/ 1232280 w 1231920"/>
              <a:gd name="textAreaTop" fmla="*/ 0 h 2197080"/>
              <a:gd name="textAreaBottom" fmla="*/ 2197440 h 2197080"/>
            </a:gdLst>
            <a:ahLst/>
            <a:rect l="textAreaLeft" t="textAreaTop" r="textAreaRight" b="textAreaBottom"/>
            <a:pathLst>
              <a:path w="776" h="1384">
                <a:moveTo>
                  <a:pt x="96" y="1296"/>
                </a:moveTo>
                <a:cubicBezTo>
                  <a:pt x="312" y="1340"/>
                  <a:pt x="528" y="1384"/>
                  <a:pt x="624" y="1200"/>
                </a:cubicBezTo>
                <a:cubicBezTo>
                  <a:pt x="720" y="1016"/>
                  <a:pt x="776" y="384"/>
                  <a:pt x="672" y="192"/>
                </a:cubicBezTo>
                <a:cubicBezTo>
                  <a:pt x="568" y="0"/>
                  <a:pt x="284" y="24"/>
                  <a:pt x="0" y="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Group 15"/>
          <p:cNvGrpSpPr/>
          <p:nvPr/>
        </p:nvGrpSpPr>
        <p:grpSpPr>
          <a:xfrm>
            <a:off x="720" y="2971800"/>
            <a:ext cx="1384560" cy="457200"/>
            <a:chOff x="720" y="2971800"/>
            <a:chExt cx="1384560" cy="457200"/>
          </a:xfrm>
        </p:grpSpPr>
        <p:sp>
          <p:nvSpPr>
            <p:cNvPr id="737" name="Text Box 16"/>
            <p:cNvSpPr/>
            <p:nvPr/>
          </p:nvSpPr>
          <p:spPr>
            <a:xfrm>
              <a:off x="720" y="2971800"/>
              <a:ext cx="13845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St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Rectangle 17"/>
            <p:cNvSpPr/>
            <p:nvPr/>
          </p:nvSpPr>
          <p:spPr>
            <a:xfrm>
              <a:off x="457200" y="2971800"/>
              <a:ext cx="914400" cy="457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9" name="Group 18"/>
          <p:cNvGrpSpPr/>
          <p:nvPr/>
        </p:nvGrpSpPr>
        <p:grpSpPr>
          <a:xfrm>
            <a:off x="1295280" y="1828800"/>
            <a:ext cx="1371600" cy="685800"/>
            <a:chOff x="1295280" y="1828800"/>
            <a:chExt cx="1371600" cy="685800"/>
          </a:xfrm>
        </p:grpSpPr>
        <p:sp>
          <p:nvSpPr>
            <p:cNvPr id="740" name="Text Box 19"/>
            <p:cNvSpPr/>
            <p:nvPr/>
          </p:nvSpPr>
          <p:spPr>
            <a:xfrm>
              <a:off x="1372680" y="1828800"/>
              <a:ext cx="11376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1" name="Group 20"/>
            <p:cNvGrpSpPr/>
            <p:nvPr/>
          </p:nvGrpSpPr>
          <p:grpSpPr>
            <a:xfrm>
              <a:off x="1295280" y="1828800"/>
              <a:ext cx="1371600" cy="685800"/>
              <a:chOff x="1295280" y="1828800"/>
              <a:chExt cx="1371600" cy="685800"/>
            </a:xfrm>
          </p:grpSpPr>
          <p:grpSp>
            <p:nvGrpSpPr>
              <p:cNvPr id="742" name="Group 21"/>
              <p:cNvGrpSpPr/>
              <p:nvPr/>
            </p:nvGrpSpPr>
            <p:grpSpPr>
              <a:xfrm>
                <a:off x="1643760" y="1828800"/>
                <a:ext cx="1023120" cy="685800"/>
                <a:chOff x="1643760" y="1828800"/>
                <a:chExt cx="1023120" cy="685800"/>
              </a:xfrm>
            </p:grpSpPr>
            <p:sp>
              <p:nvSpPr>
                <p:cNvPr id="743" name="Text Box 22"/>
                <p:cNvSpPr/>
                <p:nvPr/>
              </p:nvSpPr>
              <p:spPr>
                <a:xfrm>
                  <a:off x="1643760" y="2133360"/>
                  <a:ext cx="848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ff"/>
                      </a:solidFill>
                      <a:latin typeface="Times New Roman"/>
                    </a:rPr>
                    <a:t>      </a:t>
                  </a:r>
                  <a:r>
                    <a:rPr b="0" lang="en-US" sz="2000" spc="-1" strike="noStrike">
                      <a:solidFill>
                        <a:srgbClr val="3333ff"/>
                      </a:solidFill>
                      <a:latin typeface="Times New Roman"/>
                    </a:rPr>
                    <a:t>ur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Rectangle 23"/>
                <p:cNvSpPr/>
                <p:nvPr/>
              </p:nvSpPr>
              <p:spPr>
                <a:xfrm>
                  <a:off x="1781280" y="1828800"/>
                  <a:ext cx="885600" cy="68580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5" name="Line 24"/>
              <p:cNvSpPr/>
              <p:nvPr/>
            </p:nvSpPr>
            <p:spPr>
              <a:xfrm>
                <a:off x="1295280" y="2361960"/>
                <a:ext cx="838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6" name="Group 25"/>
          <p:cNvGrpSpPr/>
          <p:nvPr/>
        </p:nvGrpSpPr>
        <p:grpSpPr>
          <a:xfrm>
            <a:off x="78840" y="2057400"/>
            <a:ext cx="1245960" cy="914400"/>
            <a:chOff x="78840" y="2057400"/>
            <a:chExt cx="1245960" cy="914400"/>
          </a:xfrm>
        </p:grpSpPr>
        <p:grpSp>
          <p:nvGrpSpPr>
            <p:cNvPr id="747" name="Group 26"/>
            <p:cNvGrpSpPr/>
            <p:nvPr/>
          </p:nvGrpSpPr>
          <p:grpSpPr>
            <a:xfrm>
              <a:off x="78840" y="2057400"/>
              <a:ext cx="1245960" cy="457200"/>
              <a:chOff x="78840" y="2057400"/>
              <a:chExt cx="1245960" cy="457200"/>
            </a:xfrm>
          </p:grpSpPr>
          <p:sp>
            <p:nvSpPr>
              <p:cNvPr id="748" name="Rectangle 27"/>
              <p:cNvSpPr/>
              <p:nvPr/>
            </p:nvSpPr>
            <p:spPr>
              <a:xfrm>
                <a:off x="533520" y="2057400"/>
                <a:ext cx="761760" cy="4572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Text Box 28"/>
              <p:cNvSpPr/>
              <p:nvPr/>
            </p:nvSpPr>
            <p:spPr>
              <a:xfrm>
                <a:off x="78840" y="2057400"/>
                <a:ext cx="12459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</a:rPr>
                  <a:t>     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</a:rPr>
                  <a:t>UR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Line 29"/>
            <p:cNvSpPr/>
            <p:nvPr/>
          </p:nvSpPr>
          <p:spPr>
            <a:xfrm flipV="1">
              <a:off x="838080" y="25146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Group 38"/>
          <p:cNvGrpSpPr/>
          <p:nvPr/>
        </p:nvGrpSpPr>
        <p:grpSpPr>
          <a:xfrm>
            <a:off x="5562720" y="1447920"/>
            <a:ext cx="2743200" cy="1828440"/>
            <a:chOff x="5562720" y="1447920"/>
            <a:chExt cx="2743200" cy="1828440"/>
          </a:xfrm>
        </p:grpSpPr>
        <p:sp>
          <p:nvSpPr>
            <p:cNvPr id="752" name="Text Box 33"/>
            <p:cNvSpPr/>
            <p:nvPr/>
          </p:nvSpPr>
          <p:spPr>
            <a:xfrm>
              <a:off x="5945400" y="1447920"/>
              <a:ext cx="224568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HTMLP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           </a:t>
              </a: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             </a:t>
              </a: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            </a:t>
              </a: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outLin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4"/>
            <p:cNvSpPr/>
            <p:nvPr/>
          </p:nvSpPr>
          <p:spPr>
            <a:xfrm>
              <a:off x="6400800" y="1447920"/>
              <a:ext cx="1905120" cy="1593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35"/>
            <p:cNvSpPr/>
            <p:nvPr/>
          </p:nvSpPr>
          <p:spPr>
            <a:xfrm>
              <a:off x="5562720" y="236232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Line 36"/>
            <p:cNvSpPr/>
            <p:nvPr/>
          </p:nvSpPr>
          <p:spPr>
            <a:xfrm flipV="1">
              <a:off x="6400800" y="2057040"/>
              <a:ext cx="3808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Line 37"/>
            <p:cNvSpPr/>
            <p:nvPr/>
          </p:nvSpPr>
          <p:spPr>
            <a:xfrm>
              <a:off x="6400800" y="2362320"/>
              <a:ext cx="38088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F2A0-2C0D-48D1-9CCF-5C3B40349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ink Canonical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ize URL by using “redirected” URL returned by an established Java URLConn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 page fragments (ref’s) remov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http://www.cs.utexas.edu/users/mooney/welcome.html#cours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http://www.cs.utexas.edu/users/mooney/welcome.html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CDBA-A732-485A-9933-820F2B05D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ink Extraction in Java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Swing contains an HTML par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r uses “call-back”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parser an object that has these metho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andleText(char[] text, int position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andleStartTag(HTML.Tag tag, MutableAttributeSet    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ttributes, int position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andleEndTag(HTML.Tag tag, int position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andleSimpleTag (HTML.Tag tag,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             MutableAttributeSet attributes, int position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parser encounters a tag or intervening text, it calls the appropriate method of this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DF79-748A-4456-97DC-ADC5D96A7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ink Extraction in Java (cont.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HandleStartTag, if it is an “A” tag, take the HREF attribute value as an initial U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the URL using the base UR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ew URL(URL baseURL, String relativeURL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ails if baseURL ends in a directory name but this is not indicated by a final “/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ppend a “/” to baseURL if it does not end in a file name with an extension (and therefore presumably is a directory)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A130-8FCF-48E9-8316-B7CBC1CE1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ached File with Base URL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copy of page in a local directory for eventual indexing for retriev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tag in the header section of an HTML file changes the base URL for all relative poin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&lt;BASE HREF=“&lt;base-URL&gt;”&gt;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specifically included in HTML for use in documents that were moved from their original lo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60CA-F006-4767-B63C-DAF529F11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Java Spider Tra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 simple demo, SiteSpider was used to collect 100 pages starting at: 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UT CS Faculty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trace at:            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http://www.cs.utexas.edu/users/mooney/ir-course/spider-trace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arger crawl from the same page was used to assemble 800 pages that are cached at: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/u/mooney/ir-code/corpora/cs-faculty/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EE34-37E7-41B3-BF94-E41BD8B7C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piders (Robots/Bots/Crawlers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a comprehensive set of root URL’s from which to start the sear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 all links on these pages recursively to find additional p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 al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v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nd pages in an inverted index as they are encounte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allow users to directly submit pages to be indexed (and crawled fro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BA21-6E53-474E-AA9B-8B887E70F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rvlet Web Interface Demo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interface to using VSR to search directories of cached HTML files is 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cs.utexas.edu/users/mooney/ir-course/search.htm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ava Servlet code supporting this demo is 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/u/ml/servlets/irs/Search.java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EA2C-B6CF-4529-A074-69A289A2F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nchor Text Index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ct anchor text (between &lt;a&gt; and &lt;/a&gt;) of each link follow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chor text is usually descriptive of the document to which it p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anchor text to the content of the destination page to provide additional relevant keyword ind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by Goog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&lt;a href=“http://www.microsoft.com”&gt;Evil Empire&lt;/a&gt;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&lt;a href=“http://www.ibm.com”&gt;IBM&lt;/a&gt;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58DE-8400-41FB-ACC4-790CCD0B7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nchor Text Indexing (cont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s when descriptive text in destination page is embedded in image logos rather than in accessible t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times anchor text is not usefu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lick here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s content more for popular pages with many in-coming links, increasing recall of these p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even give higher weights to tokens from anchor t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267D-E4D0-43F7-8306-2FAAEE108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obot Exclus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sites and pages can specify that robots should not crawl/index certain are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compon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obots Exclusion Protocol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Site wide specification of excluded directorie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obots META Tag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Individual document tag to exclude indexing or following link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2B27-7926-4712-8197-5EF21DA8C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obots Exclusion Protoco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e administrator puts a “robots.txt” file at the root of the host’s web direc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ebay.com/robots.tx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http://www.cnn.com/robots.tx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s a list of excluded directories for a given robot (user-agen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xclude all robots from the entire site: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ser-agent: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isallow: 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7A0B-D5C6-4567-A7A5-696F3FEDD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obot Exclusion Protocol Examp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lude specific director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er-agent: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sallow: /tm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sallow: /cgi-bi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sallow: /users/paranoid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lude a specific robo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er-agent: GoogleB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sallow: 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a specific robo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er-agent: GoogleB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sallow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er-agent: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sallow: 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6806-3F5B-415F-86C0-2324B277A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obot Exclusion Protocol Detail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use blank lines to separate different User-agent disallowed directo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directory per “Disallow” l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egex patterns in directo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64E2-7BD6-4D8F-ACBD-8C28E457E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obots META Ta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 META tag in HEAD section of a specific HTML doc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&lt;meta name=“robots” content=“none”&gt;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 value is a pair of values for two aspe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dex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|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index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 Allow/disallow indexing of this page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|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follow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Allow/disallow following links on this page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F17C-C4FB-4028-8ED4-6C1AE7D15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obots META Tag (cont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val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ll = index,follow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one = noindex,nofollow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meta name=“robots” content=“noindex,follow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meta name=“robots” content=“index,nofollow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meta name=“robots” content=“none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60EC-3540-480A-990A-CD9BE839E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obot Exclusion  Issu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 tag is newer and less well-adopted than “robots.txt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s are conventions to be followed by “good robot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ies have been prosecuted for “disobeying” these conventions and “trespassing” on private cyber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robots” also try not to “hammer” individual sites with lots of rapid reques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enial of service” attack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B51F-FD10-4E82-A4D5-265D722F4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arch Strategi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9" name="Oval 3"/>
          <p:cNvSpPr/>
          <p:nvPr/>
        </p:nvSpPr>
        <p:spPr>
          <a:xfrm>
            <a:off x="6400800" y="3657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4"/>
          <p:cNvSpPr/>
          <p:nvPr/>
        </p:nvSpPr>
        <p:spPr>
          <a:xfrm>
            <a:off x="4419720" y="2895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" name="AutoShape 5"/>
          <p:cNvCxnSpPr>
            <a:stCxn id="520" idx="3"/>
          </p:cNvCxnSpPr>
          <p:nvPr/>
        </p:nvCxnSpPr>
        <p:spPr>
          <a:xfrm flipH="1">
            <a:off x="4004640" y="3090600"/>
            <a:ext cx="44820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AutoShape 6"/>
          <p:cNvCxnSpPr>
            <a:stCxn id="520" idx="5"/>
          </p:cNvCxnSpPr>
          <p:nvPr/>
        </p:nvCxnSpPr>
        <p:spPr>
          <a:xfrm>
            <a:off x="4614480" y="3090600"/>
            <a:ext cx="52416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AutoShape 7"/>
          <p:cNvCxnSpPr>
            <a:stCxn id="520" idx="6"/>
            <a:endCxn id="519" idx="1"/>
          </p:cNvCxnSpPr>
          <p:nvPr/>
        </p:nvCxnSpPr>
        <p:spPr>
          <a:xfrm>
            <a:off x="4647960" y="3009960"/>
            <a:ext cx="1786680" cy="68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AutoShape 8"/>
          <p:cNvCxnSpPr/>
          <p:nvPr/>
        </p:nvCxnSpPr>
        <p:spPr>
          <a:xfrm flipH="1">
            <a:off x="2590560" y="3009600"/>
            <a:ext cx="18295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AutoShape 9"/>
          <p:cNvCxnSpPr/>
          <p:nvPr/>
        </p:nvCxnSpPr>
        <p:spPr>
          <a:xfrm flipH="1">
            <a:off x="1523160" y="3772080"/>
            <a:ext cx="83916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AutoShape 10"/>
          <p:cNvCxnSpPr/>
          <p:nvPr/>
        </p:nvCxnSpPr>
        <p:spPr>
          <a:xfrm flipH="1">
            <a:off x="2023560" y="3852360"/>
            <a:ext cx="37224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AutoShape 11"/>
          <p:cNvCxnSpPr/>
          <p:nvPr/>
        </p:nvCxnSpPr>
        <p:spPr>
          <a:xfrm flipH="1">
            <a:off x="2395080" y="3852360"/>
            <a:ext cx="16272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8" name="AutoShape 12"/>
          <p:cNvCxnSpPr/>
          <p:nvPr/>
        </p:nvCxnSpPr>
        <p:spPr>
          <a:xfrm>
            <a:off x="2590560" y="3771720"/>
            <a:ext cx="262080" cy="68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9" name="Oval 13"/>
          <p:cNvSpPr/>
          <p:nvPr/>
        </p:nvSpPr>
        <p:spPr>
          <a:xfrm>
            <a:off x="396252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14"/>
          <p:cNvSpPr/>
          <p:nvPr/>
        </p:nvSpPr>
        <p:spPr>
          <a:xfrm>
            <a:off x="441972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AutoShape 15"/>
          <p:cNvCxnSpPr/>
          <p:nvPr/>
        </p:nvCxnSpPr>
        <p:spPr>
          <a:xfrm flipH="1">
            <a:off x="3428640" y="3772080"/>
            <a:ext cx="38160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AutoShape 16"/>
          <p:cNvCxnSpPr/>
          <p:nvPr/>
        </p:nvCxnSpPr>
        <p:spPr>
          <a:xfrm flipH="1">
            <a:off x="3776040" y="3852360"/>
            <a:ext cx="6732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3" name="AutoShape 17"/>
          <p:cNvCxnSpPr>
            <a:endCxn id="529" idx="1"/>
          </p:cNvCxnSpPr>
          <p:nvPr/>
        </p:nvCxnSpPr>
        <p:spPr>
          <a:xfrm flipH="1">
            <a:off x="3994920" y="3852360"/>
            <a:ext cx="1044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4" name="AutoShape 18"/>
          <p:cNvCxnSpPr>
            <a:endCxn id="530" idx="1"/>
          </p:cNvCxnSpPr>
          <p:nvPr/>
        </p:nvCxnSpPr>
        <p:spPr>
          <a:xfrm>
            <a:off x="4038120" y="3771720"/>
            <a:ext cx="415080" cy="68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5" name="Oval 19"/>
          <p:cNvSpPr/>
          <p:nvPr/>
        </p:nvSpPr>
        <p:spPr>
          <a:xfrm>
            <a:off x="510552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Oval 20"/>
          <p:cNvSpPr/>
          <p:nvPr/>
        </p:nvSpPr>
        <p:spPr>
          <a:xfrm>
            <a:off x="548640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Oval 21"/>
          <p:cNvSpPr/>
          <p:nvPr/>
        </p:nvSpPr>
        <p:spPr>
          <a:xfrm>
            <a:off x="586728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22"/>
          <p:cNvSpPr/>
          <p:nvPr/>
        </p:nvSpPr>
        <p:spPr>
          <a:xfrm>
            <a:off x="472428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AutoShape 23"/>
          <p:cNvCxnSpPr>
            <a:endCxn id="538" idx="6"/>
          </p:cNvCxnSpPr>
          <p:nvPr/>
        </p:nvCxnSpPr>
        <p:spPr>
          <a:xfrm flipH="1">
            <a:off x="4952520" y="3772080"/>
            <a:ext cx="15336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0" name="AutoShape 24"/>
          <p:cNvCxnSpPr>
            <a:endCxn id="535" idx="7"/>
          </p:cNvCxnSpPr>
          <p:nvPr/>
        </p:nvCxnSpPr>
        <p:spPr>
          <a:xfrm>
            <a:off x="5138640" y="3852360"/>
            <a:ext cx="16272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1" name="AutoShape 25"/>
          <p:cNvCxnSpPr>
            <a:endCxn id="536" idx="1"/>
          </p:cNvCxnSpPr>
          <p:nvPr/>
        </p:nvCxnSpPr>
        <p:spPr>
          <a:xfrm>
            <a:off x="5300280" y="3852360"/>
            <a:ext cx="21996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AutoShape 26"/>
          <p:cNvCxnSpPr>
            <a:endCxn id="537" idx="1"/>
          </p:cNvCxnSpPr>
          <p:nvPr/>
        </p:nvCxnSpPr>
        <p:spPr>
          <a:xfrm>
            <a:off x="5334120" y="3771720"/>
            <a:ext cx="567360" cy="68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AutoShape 27"/>
          <p:cNvCxnSpPr/>
          <p:nvPr/>
        </p:nvCxnSpPr>
        <p:spPr>
          <a:xfrm>
            <a:off x="6400800" y="3772080"/>
            <a:ext cx="7668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AutoShape 28"/>
          <p:cNvCxnSpPr/>
          <p:nvPr/>
        </p:nvCxnSpPr>
        <p:spPr>
          <a:xfrm>
            <a:off x="6434280" y="3852360"/>
            <a:ext cx="54360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AutoShape 29"/>
          <p:cNvCxnSpPr/>
          <p:nvPr/>
        </p:nvCxnSpPr>
        <p:spPr>
          <a:xfrm>
            <a:off x="6595920" y="3852360"/>
            <a:ext cx="82944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AutoShape 30"/>
          <p:cNvCxnSpPr/>
          <p:nvPr/>
        </p:nvCxnSpPr>
        <p:spPr>
          <a:xfrm>
            <a:off x="6629040" y="3771720"/>
            <a:ext cx="1329480" cy="68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Oval 31"/>
          <p:cNvSpPr/>
          <p:nvPr/>
        </p:nvSpPr>
        <p:spPr>
          <a:xfrm>
            <a:off x="167652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Oval 32"/>
          <p:cNvSpPr/>
          <p:nvPr/>
        </p:nvSpPr>
        <p:spPr>
          <a:xfrm>
            <a:off x="198108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AutoShape 33"/>
          <p:cNvCxnSpPr>
            <a:endCxn id="547" idx="7"/>
          </p:cNvCxnSpPr>
          <p:nvPr/>
        </p:nvCxnSpPr>
        <p:spPr>
          <a:xfrm>
            <a:off x="1862280" y="4614480"/>
            <a:ext cx="1008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0" name="AutoShape 34"/>
          <p:cNvCxnSpPr>
            <a:endCxn id="548" idx="1"/>
          </p:cNvCxnSpPr>
          <p:nvPr/>
        </p:nvCxnSpPr>
        <p:spPr>
          <a:xfrm flipH="1">
            <a:off x="2014200" y="4614480"/>
            <a:ext cx="1008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1" name="Oval 35"/>
          <p:cNvSpPr/>
          <p:nvPr/>
        </p:nvSpPr>
        <p:spPr>
          <a:xfrm>
            <a:off x="220968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Oval 36"/>
          <p:cNvSpPr/>
          <p:nvPr/>
        </p:nvSpPr>
        <p:spPr>
          <a:xfrm>
            <a:off x="251460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3" name="AutoShape 37"/>
          <p:cNvCxnSpPr>
            <a:endCxn id="551" idx="7"/>
          </p:cNvCxnSpPr>
          <p:nvPr/>
        </p:nvCxnSpPr>
        <p:spPr>
          <a:xfrm>
            <a:off x="2395080" y="4614480"/>
            <a:ext cx="1044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4" name="AutoShape 38"/>
          <p:cNvCxnSpPr>
            <a:endCxn id="552" idx="1"/>
          </p:cNvCxnSpPr>
          <p:nvPr/>
        </p:nvCxnSpPr>
        <p:spPr>
          <a:xfrm flipH="1">
            <a:off x="2547720" y="4614480"/>
            <a:ext cx="1008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5" name="Oval 39"/>
          <p:cNvSpPr/>
          <p:nvPr/>
        </p:nvSpPr>
        <p:spPr>
          <a:xfrm>
            <a:off x="114300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40"/>
          <p:cNvSpPr/>
          <p:nvPr/>
        </p:nvSpPr>
        <p:spPr>
          <a:xfrm>
            <a:off x="144792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7" name="AutoShape 41"/>
          <p:cNvCxnSpPr>
            <a:endCxn id="555" idx="7"/>
          </p:cNvCxnSpPr>
          <p:nvPr/>
        </p:nvCxnSpPr>
        <p:spPr>
          <a:xfrm>
            <a:off x="1328760" y="4614480"/>
            <a:ext cx="1008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8" name="AutoShape 42"/>
          <p:cNvCxnSpPr>
            <a:endCxn id="556" idx="1"/>
          </p:cNvCxnSpPr>
          <p:nvPr/>
        </p:nvCxnSpPr>
        <p:spPr>
          <a:xfrm flipH="1">
            <a:off x="1480320" y="4614480"/>
            <a:ext cx="1044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9" name="Oval 43"/>
          <p:cNvSpPr/>
          <p:nvPr/>
        </p:nvSpPr>
        <p:spPr>
          <a:xfrm>
            <a:off x="723888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Oval 44"/>
          <p:cNvSpPr/>
          <p:nvPr/>
        </p:nvSpPr>
        <p:spPr>
          <a:xfrm>
            <a:off x="754380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AutoShape 45"/>
          <p:cNvCxnSpPr>
            <a:endCxn id="559" idx="7"/>
          </p:cNvCxnSpPr>
          <p:nvPr/>
        </p:nvCxnSpPr>
        <p:spPr>
          <a:xfrm>
            <a:off x="7424280" y="4614480"/>
            <a:ext cx="1044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2" name="AutoShape 46"/>
          <p:cNvCxnSpPr>
            <a:endCxn id="560" idx="1"/>
          </p:cNvCxnSpPr>
          <p:nvPr/>
        </p:nvCxnSpPr>
        <p:spPr>
          <a:xfrm flipH="1">
            <a:off x="7576920" y="4614480"/>
            <a:ext cx="1008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3" name="Oval 47"/>
          <p:cNvSpPr/>
          <p:nvPr/>
        </p:nvSpPr>
        <p:spPr>
          <a:xfrm>
            <a:off x="777240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Oval 48"/>
          <p:cNvSpPr/>
          <p:nvPr/>
        </p:nvSpPr>
        <p:spPr>
          <a:xfrm>
            <a:off x="807732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5" name="AutoShape 49"/>
          <p:cNvCxnSpPr>
            <a:endCxn id="563" idx="7"/>
          </p:cNvCxnSpPr>
          <p:nvPr/>
        </p:nvCxnSpPr>
        <p:spPr>
          <a:xfrm>
            <a:off x="7958160" y="4614480"/>
            <a:ext cx="1008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AutoShape 50"/>
          <p:cNvCxnSpPr>
            <a:endCxn id="564" idx="1"/>
          </p:cNvCxnSpPr>
          <p:nvPr/>
        </p:nvCxnSpPr>
        <p:spPr>
          <a:xfrm flipH="1">
            <a:off x="8109720" y="4614480"/>
            <a:ext cx="1044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Oval 51"/>
          <p:cNvSpPr/>
          <p:nvPr/>
        </p:nvSpPr>
        <p:spPr>
          <a:xfrm>
            <a:off x="662940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Oval 52"/>
          <p:cNvSpPr/>
          <p:nvPr/>
        </p:nvSpPr>
        <p:spPr>
          <a:xfrm>
            <a:off x="693432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" name="AutoShape 53"/>
          <p:cNvCxnSpPr>
            <a:endCxn id="567" idx="7"/>
          </p:cNvCxnSpPr>
          <p:nvPr/>
        </p:nvCxnSpPr>
        <p:spPr>
          <a:xfrm>
            <a:off x="6815160" y="4614480"/>
            <a:ext cx="1008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0" name="AutoShape 54"/>
          <p:cNvCxnSpPr>
            <a:endCxn id="568" idx="1"/>
          </p:cNvCxnSpPr>
          <p:nvPr/>
        </p:nvCxnSpPr>
        <p:spPr>
          <a:xfrm flipH="1">
            <a:off x="6966720" y="4614480"/>
            <a:ext cx="1044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1" name="Oval 55"/>
          <p:cNvSpPr/>
          <p:nvPr/>
        </p:nvSpPr>
        <p:spPr>
          <a:xfrm>
            <a:off x="609588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Oval 56"/>
          <p:cNvSpPr/>
          <p:nvPr/>
        </p:nvSpPr>
        <p:spPr>
          <a:xfrm>
            <a:off x="640080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3" name="AutoShape 57"/>
          <p:cNvCxnSpPr>
            <a:endCxn id="571" idx="7"/>
          </p:cNvCxnSpPr>
          <p:nvPr/>
        </p:nvCxnSpPr>
        <p:spPr>
          <a:xfrm>
            <a:off x="6281280" y="4614480"/>
            <a:ext cx="1044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AutoShape 58"/>
          <p:cNvCxnSpPr>
            <a:endCxn id="572" idx="1"/>
          </p:cNvCxnSpPr>
          <p:nvPr/>
        </p:nvCxnSpPr>
        <p:spPr>
          <a:xfrm flipH="1">
            <a:off x="6433920" y="4614480"/>
            <a:ext cx="1008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5" name="Oval 59"/>
          <p:cNvSpPr/>
          <p:nvPr/>
        </p:nvSpPr>
        <p:spPr>
          <a:xfrm>
            <a:off x="358128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Oval 60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AutoShape 61"/>
          <p:cNvCxnSpPr>
            <a:endCxn id="576" idx="0"/>
          </p:cNvCxnSpPr>
          <p:nvPr/>
        </p:nvCxnSpPr>
        <p:spPr>
          <a:xfrm>
            <a:off x="2933280" y="4647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8" name="Oval 62"/>
          <p:cNvSpPr/>
          <p:nvPr/>
        </p:nvSpPr>
        <p:spPr>
          <a:xfrm>
            <a:off x="320040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9" name="AutoShape 63"/>
          <p:cNvCxnSpPr>
            <a:endCxn id="578" idx="0"/>
          </p:cNvCxnSpPr>
          <p:nvPr/>
        </p:nvCxnSpPr>
        <p:spPr>
          <a:xfrm>
            <a:off x="3314520" y="4647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Oval 64"/>
          <p:cNvSpPr/>
          <p:nvPr/>
        </p:nvSpPr>
        <p:spPr>
          <a:xfrm>
            <a:off x="510552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AutoShape 65"/>
          <p:cNvCxnSpPr>
            <a:endCxn id="580" idx="0"/>
          </p:cNvCxnSpPr>
          <p:nvPr/>
        </p:nvCxnSpPr>
        <p:spPr>
          <a:xfrm>
            <a:off x="5219280" y="4647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Oval 66"/>
          <p:cNvSpPr/>
          <p:nvPr/>
        </p:nvSpPr>
        <p:spPr>
          <a:xfrm>
            <a:off x="472428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3" name="AutoShape 67"/>
          <p:cNvCxnSpPr>
            <a:endCxn id="582" idx="0"/>
          </p:cNvCxnSpPr>
          <p:nvPr/>
        </p:nvCxnSpPr>
        <p:spPr>
          <a:xfrm>
            <a:off x="4838400" y="4647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4" name="Oval 68"/>
          <p:cNvSpPr/>
          <p:nvPr/>
        </p:nvSpPr>
        <p:spPr>
          <a:xfrm>
            <a:off x="441972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5" name="AutoShape 69"/>
          <p:cNvCxnSpPr>
            <a:endCxn id="584" idx="0"/>
          </p:cNvCxnSpPr>
          <p:nvPr/>
        </p:nvCxnSpPr>
        <p:spPr>
          <a:xfrm>
            <a:off x="4533480" y="4647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6" name="Oval 70"/>
          <p:cNvSpPr/>
          <p:nvPr/>
        </p:nvSpPr>
        <p:spPr>
          <a:xfrm>
            <a:off x="396252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7" name="AutoShape 71"/>
          <p:cNvCxnSpPr>
            <a:endCxn id="586" idx="0"/>
          </p:cNvCxnSpPr>
          <p:nvPr/>
        </p:nvCxnSpPr>
        <p:spPr>
          <a:xfrm>
            <a:off x="4076280" y="4647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8" name="Oval 72"/>
          <p:cNvSpPr/>
          <p:nvPr/>
        </p:nvSpPr>
        <p:spPr>
          <a:xfrm>
            <a:off x="358128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9" name="AutoShape 73"/>
          <p:cNvCxnSpPr>
            <a:endCxn id="588" idx="0"/>
          </p:cNvCxnSpPr>
          <p:nvPr/>
        </p:nvCxnSpPr>
        <p:spPr>
          <a:xfrm>
            <a:off x="3695400" y="4647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0" name="Oval 74"/>
          <p:cNvSpPr/>
          <p:nvPr/>
        </p:nvSpPr>
        <p:spPr>
          <a:xfrm>
            <a:off x="548640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1" name="AutoShape 75"/>
          <p:cNvCxnSpPr>
            <a:endCxn id="590" idx="0"/>
          </p:cNvCxnSpPr>
          <p:nvPr/>
        </p:nvCxnSpPr>
        <p:spPr>
          <a:xfrm>
            <a:off x="5600520" y="4647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2" name="Oval 76"/>
          <p:cNvSpPr/>
          <p:nvPr/>
        </p:nvSpPr>
        <p:spPr>
          <a:xfrm>
            <a:off x="586728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3" name="AutoShape 77"/>
          <p:cNvCxnSpPr>
            <a:endCxn id="592" idx="0"/>
          </p:cNvCxnSpPr>
          <p:nvPr/>
        </p:nvCxnSpPr>
        <p:spPr>
          <a:xfrm>
            <a:off x="5981400" y="4647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4" name="Oval 78"/>
          <p:cNvSpPr/>
          <p:nvPr/>
        </p:nvSpPr>
        <p:spPr>
          <a:xfrm>
            <a:off x="2362320" y="3657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Oval 79"/>
          <p:cNvSpPr/>
          <p:nvPr/>
        </p:nvSpPr>
        <p:spPr>
          <a:xfrm>
            <a:off x="3809880" y="3657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Oval 80"/>
          <p:cNvSpPr/>
          <p:nvPr/>
        </p:nvSpPr>
        <p:spPr>
          <a:xfrm>
            <a:off x="5105520" y="3657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Oval 81"/>
          <p:cNvSpPr/>
          <p:nvPr/>
        </p:nvSpPr>
        <p:spPr>
          <a:xfrm>
            <a:off x="792468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82"/>
          <p:cNvSpPr/>
          <p:nvPr/>
        </p:nvSpPr>
        <p:spPr>
          <a:xfrm>
            <a:off x="739152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Oval 83"/>
          <p:cNvSpPr/>
          <p:nvPr/>
        </p:nvSpPr>
        <p:spPr>
          <a:xfrm>
            <a:off x="678168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Oval 84"/>
          <p:cNvSpPr/>
          <p:nvPr/>
        </p:nvSpPr>
        <p:spPr>
          <a:xfrm>
            <a:off x="624852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Oval 85"/>
          <p:cNvSpPr/>
          <p:nvPr/>
        </p:nvSpPr>
        <p:spPr>
          <a:xfrm>
            <a:off x="281952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Oval 86"/>
          <p:cNvSpPr/>
          <p:nvPr/>
        </p:nvSpPr>
        <p:spPr>
          <a:xfrm>
            <a:off x="236232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Oval 87"/>
          <p:cNvSpPr/>
          <p:nvPr/>
        </p:nvSpPr>
        <p:spPr>
          <a:xfrm>
            <a:off x="182880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Oval 88"/>
          <p:cNvSpPr/>
          <p:nvPr/>
        </p:nvSpPr>
        <p:spPr>
          <a:xfrm>
            <a:off x="129528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Oval 89"/>
          <p:cNvSpPr/>
          <p:nvPr/>
        </p:nvSpPr>
        <p:spPr>
          <a:xfrm>
            <a:off x="320040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90"/>
          <p:cNvSpPr/>
          <p:nvPr/>
        </p:nvSpPr>
        <p:spPr>
          <a:xfrm>
            <a:off x="2869200" y="1879560"/>
            <a:ext cx="347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Breadth-firs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4A38-ACB7-42F4-A6BD-16A3994F4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ulti-Threaded Spid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tleneck is network delay in downloading individual p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st to have multiple threads running in parallel each requesting a page from a different ho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 URL’s to threads to guarantee equitable distribution of requests across different hosts to maximize through-put and avoid overloading any single ser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Google spider had multiple co-ordinated crawlers with about 300 threads each, together able to download over 100 pages per secon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8230-3ED6-4DC9-8CBD-369B7C90D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rected/Focused Spid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queue to explore more “interesting” pages fir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styles of foc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opic-Directed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ink-Directed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F30E-E610-4B32-9396-9F32D8390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ic-Directed Spid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desired topic description or sample pages of interest are gi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queue of links by the similarity (e.g. cosine metric) of their source pages and/or anchor text to this topic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entially explores pages related to a specific top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osurfer assignment in AI cour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1DD0-98E7-4ECC-968C-FDD0BB308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ink-Directed Spid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 links and keep track of in-degree and out-degree of each page encounte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queue to prefer popular pages with many in-coming link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uthorit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queue to prefer summary pages with many out-going link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ub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6CBD-CE57-465E-8606-E40A63B64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eeping Spidered Pages Up to Dat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is very dynamic: many new pages, updated pages, deleted pag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odically check spidered pages for updates and dele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ust look at header info (e.g. META tags on last update) to determine if page has changed, only reload entire page if needed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ck how often each page is updated and preferentially return to pages which are historically more dynam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ferentially update pages that are accessed more often to optimize freshness of more popular pag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C92A-90D9-48B4-B7F8-0DC78D4AB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arch Strategies (cont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9" name="Oval 3"/>
          <p:cNvSpPr/>
          <p:nvPr/>
        </p:nvSpPr>
        <p:spPr>
          <a:xfrm>
            <a:off x="6400800" y="3657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Oval 4"/>
          <p:cNvSpPr/>
          <p:nvPr/>
        </p:nvSpPr>
        <p:spPr>
          <a:xfrm>
            <a:off x="4419720" y="2895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1" name="AutoShape 5"/>
          <p:cNvCxnSpPr>
            <a:stCxn id="610" idx="3"/>
          </p:cNvCxnSpPr>
          <p:nvPr/>
        </p:nvCxnSpPr>
        <p:spPr>
          <a:xfrm flipH="1">
            <a:off x="4004640" y="3090600"/>
            <a:ext cx="44820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2" name="AutoShape 6"/>
          <p:cNvCxnSpPr>
            <a:stCxn id="610" idx="5"/>
          </p:cNvCxnSpPr>
          <p:nvPr/>
        </p:nvCxnSpPr>
        <p:spPr>
          <a:xfrm>
            <a:off x="4614480" y="3090600"/>
            <a:ext cx="52416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3" name="AutoShape 7"/>
          <p:cNvCxnSpPr>
            <a:stCxn id="610" idx="6"/>
            <a:endCxn id="609" idx="1"/>
          </p:cNvCxnSpPr>
          <p:nvPr/>
        </p:nvCxnSpPr>
        <p:spPr>
          <a:xfrm>
            <a:off x="4647960" y="3009960"/>
            <a:ext cx="1786680" cy="68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4" name="AutoShape 8"/>
          <p:cNvCxnSpPr/>
          <p:nvPr/>
        </p:nvCxnSpPr>
        <p:spPr>
          <a:xfrm flipH="1">
            <a:off x="2590560" y="3009600"/>
            <a:ext cx="18295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5" name="AutoShape 9"/>
          <p:cNvCxnSpPr/>
          <p:nvPr/>
        </p:nvCxnSpPr>
        <p:spPr>
          <a:xfrm flipH="1">
            <a:off x="1523160" y="3772080"/>
            <a:ext cx="83916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6" name="AutoShape 10"/>
          <p:cNvCxnSpPr/>
          <p:nvPr/>
        </p:nvCxnSpPr>
        <p:spPr>
          <a:xfrm flipH="1">
            <a:off x="2023560" y="3852360"/>
            <a:ext cx="37224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7" name="AutoShape 11"/>
          <p:cNvCxnSpPr/>
          <p:nvPr/>
        </p:nvCxnSpPr>
        <p:spPr>
          <a:xfrm flipH="1">
            <a:off x="2395080" y="3852360"/>
            <a:ext cx="16272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8" name="AutoShape 12"/>
          <p:cNvCxnSpPr/>
          <p:nvPr/>
        </p:nvCxnSpPr>
        <p:spPr>
          <a:xfrm>
            <a:off x="2590560" y="3771720"/>
            <a:ext cx="262080" cy="68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9" name="Oval 13"/>
          <p:cNvSpPr/>
          <p:nvPr/>
        </p:nvSpPr>
        <p:spPr>
          <a:xfrm>
            <a:off x="396252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Oval 14"/>
          <p:cNvSpPr/>
          <p:nvPr/>
        </p:nvSpPr>
        <p:spPr>
          <a:xfrm>
            <a:off x="441972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1" name="AutoShape 15"/>
          <p:cNvCxnSpPr/>
          <p:nvPr/>
        </p:nvCxnSpPr>
        <p:spPr>
          <a:xfrm flipH="1">
            <a:off x="3428640" y="3772080"/>
            <a:ext cx="38160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2" name="AutoShape 16"/>
          <p:cNvCxnSpPr/>
          <p:nvPr/>
        </p:nvCxnSpPr>
        <p:spPr>
          <a:xfrm flipH="1">
            <a:off x="3776040" y="3852360"/>
            <a:ext cx="6732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AutoShape 17"/>
          <p:cNvCxnSpPr>
            <a:endCxn id="619" idx="1"/>
          </p:cNvCxnSpPr>
          <p:nvPr/>
        </p:nvCxnSpPr>
        <p:spPr>
          <a:xfrm flipH="1">
            <a:off x="3994920" y="3852360"/>
            <a:ext cx="1044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AutoShape 18"/>
          <p:cNvCxnSpPr>
            <a:endCxn id="620" idx="1"/>
          </p:cNvCxnSpPr>
          <p:nvPr/>
        </p:nvCxnSpPr>
        <p:spPr>
          <a:xfrm>
            <a:off x="4038120" y="3771720"/>
            <a:ext cx="415080" cy="68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5" name="Oval 19"/>
          <p:cNvSpPr/>
          <p:nvPr/>
        </p:nvSpPr>
        <p:spPr>
          <a:xfrm>
            <a:off x="510552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Oval 20"/>
          <p:cNvSpPr/>
          <p:nvPr/>
        </p:nvSpPr>
        <p:spPr>
          <a:xfrm>
            <a:off x="548640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Oval 21"/>
          <p:cNvSpPr/>
          <p:nvPr/>
        </p:nvSpPr>
        <p:spPr>
          <a:xfrm>
            <a:off x="586728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Oval 22"/>
          <p:cNvSpPr/>
          <p:nvPr/>
        </p:nvSpPr>
        <p:spPr>
          <a:xfrm>
            <a:off x="472428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9" name="AutoShape 23"/>
          <p:cNvCxnSpPr>
            <a:endCxn id="628" idx="6"/>
          </p:cNvCxnSpPr>
          <p:nvPr/>
        </p:nvCxnSpPr>
        <p:spPr>
          <a:xfrm flipH="1">
            <a:off x="4952520" y="3772080"/>
            <a:ext cx="15336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0" name="AutoShape 24"/>
          <p:cNvCxnSpPr>
            <a:endCxn id="625" idx="7"/>
          </p:cNvCxnSpPr>
          <p:nvPr/>
        </p:nvCxnSpPr>
        <p:spPr>
          <a:xfrm>
            <a:off x="5138640" y="3852360"/>
            <a:ext cx="16272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1" name="AutoShape 25"/>
          <p:cNvCxnSpPr>
            <a:endCxn id="626" idx="1"/>
          </p:cNvCxnSpPr>
          <p:nvPr/>
        </p:nvCxnSpPr>
        <p:spPr>
          <a:xfrm>
            <a:off x="5300280" y="3852360"/>
            <a:ext cx="21996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2" name="AutoShape 26"/>
          <p:cNvCxnSpPr>
            <a:endCxn id="627" idx="1"/>
          </p:cNvCxnSpPr>
          <p:nvPr/>
        </p:nvCxnSpPr>
        <p:spPr>
          <a:xfrm>
            <a:off x="5334120" y="3771720"/>
            <a:ext cx="567360" cy="68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3" name="AutoShape 27"/>
          <p:cNvCxnSpPr/>
          <p:nvPr/>
        </p:nvCxnSpPr>
        <p:spPr>
          <a:xfrm>
            <a:off x="6400800" y="3772080"/>
            <a:ext cx="7668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4" name="AutoShape 28"/>
          <p:cNvCxnSpPr/>
          <p:nvPr/>
        </p:nvCxnSpPr>
        <p:spPr>
          <a:xfrm>
            <a:off x="6434280" y="3852360"/>
            <a:ext cx="54360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5" name="AutoShape 29"/>
          <p:cNvCxnSpPr/>
          <p:nvPr/>
        </p:nvCxnSpPr>
        <p:spPr>
          <a:xfrm>
            <a:off x="6595920" y="3852360"/>
            <a:ext cx="82944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6" name="AutoShape 30"/>
          <p:cNvCxnSpPr/>
          <p:nvPr/>
        </p:nvCxnSpPr>
        <p:spPr>
          <a:xfrm>
            <a:off x="6629040" y="3771720"/>
            <a:ext cx="1329480" cy="68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7" name="Oval 31"/>
          <p:cNvSpPr/>
          <p:nvPr/>
        </p:nvSpPr>
        <p:spPr>
          <a:xfrm>
            <a:off x="167652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Oval 32"/>
          <p:cNvSpPr/>
          <p:nvPr/>
        </p:nvSpPr>
        <p:spPr>
          <a:xfrm>
            <a:off x="198108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9" name="AutoShape 33"/>
          <p:cNvCxnSpPr>
            <a:endCxn id="637" idx="7"/>
          </p:cNvCxnSpPr>
          <p:nvPr/>
        </p:nvCxnSpPr>
        <p:spPr>
          <a:xfrm>
            <a:off x="1862280" y="4614480"/>
            <a:ext cx="1008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0" name="AutoShape 34"/>
          <p:cNvCxnSpPr>
            <a:endCxn id="638" idx="1"/>
          </p:cNvCxnSpPr>
          <p:nvPr/>
        </p:nvCxnSpPr>
        <p:spPr>
          <a:xfrm flipH="1">
            <a:off x="2014200" y="4614480"/>
            <a:ext cx="1008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1" name="Oval 35"/>
          <p:cNvSpPr/>
          <p:nvPr/>
        </p:nvSpPr>
        <p:spPr>
          <a:xfrm>
            <a:off x="220968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Oval 36"/>
          <p:cNvSpPr/>
          <p:nvPr/>
        </p:nvSpPr>
        <p:spPr>
          <a:xfrm>
            <a:off x="251460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3" name="AutoShape 37"/>
          <p:cNvCxnSpPr>
            <a:endCxn id="641" idx="7"/>
          </p:cNvCxnSpPr>
          <p:nvPr/>
        </p:nvCxnSpPr>
        <p:spPr>
          <a:xfrm>
            <a:off x="2395080" y="4614480"/>
            <a:ext cx="1044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4" name="AutoShape 38"/>
          <p:cNvCxnSpPr>
            <a:endCxn id="642" idx="1"/>
          </p:cNvCxnSpPr>
          <p:nvPr/>
        </p:nvCxnSpPr>
        <p:spPr>
          <a:xfrm flipH="1">
            <a:off x="2547720" y="4614480"/>
            <a:ext cx="1008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5" name="Oval 39"/>
          <p:cNvSpPr/>
          <p:nvPr/>
        </p:nvSpPr>
        <p:spPr>
          <a:xfrm>
            <a:off x="114300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40"/>
          <p:cNvSpPr/>
          <p:nvPr/>
        </p:nvSpPr>
        <p:spPr>
          <a:xfrm>
            <a:off x="144792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7" name="AutoShape 41"/>
          <p:cNvCxnSpPr>
            <a:endCxn id="645" idx="7"/>
          </p:cNvCxnSpPr>
          <p:nvPr/>
        </p:nvCxnSpPr>
        <p:spPr>
          <a:xfrm>
            <a:off x="1328760" y="4614480"/>
            <a:ext cx="1008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8" name="AutoShape 42"/>
          <p:cNvCxnSpPr>
            <a:endCxn id="646" idx="1"/>
          </p:cNvCxnSpPr>
          <p:nvPr/>
        </p:nvCxnSpPr>
        <p:spPr>
          <a:xfrm flipH="1">
            <a:off x="1480320" y="4614480"/>
            <a:ext cx="1044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Oval 43"/>
          <p:cNvSpPr/>
          <p:nvPr/>
        </p:nvSpPr>
        <p:spPr>
          <a:xfrm>
            <a:off x="723888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44"/>
          <p:cNvSpPr/>
          <p:nvPr/>
        </p:nvSpPr>
        <p:spPr>
          <a:xfrm>
            <a:off x="754380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1" name="AutoShape 45"/>
          <p:cNvCxnSpPr>
            <a:endCxn id="649" idx="7"/>
          </p:cNvCxnSpPr>
          <p:nvPr/>
        </p:nvCxnSpPr>
        <p:spPr>
          <a:xfrm>
            <a:off x="7424280" y="4614480"/>
            <a:ext cx="1044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2" name="AutoShape 46"/>
          <p:cNvCxnSpPr>
            <a:endCxn id="650" idx="1"/>
          </p:cNvCxnSpPr>
          <p:nvPr/>
        </p:nvCxnSpPr>
        <p:spPr>
          <a:xfrm flipH="1">
            <a:off x="7576920" y="4614480"/>
            <a:ext cx="1008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3" name="Oval 47"/>
          <p:cNvSpPr/>
          <p:nvPr/>
        </p:nvSpPr>
        <p:spPr>
          <a:xfrm>
            <a:off x="777240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48"/>
          <p:cNvSpPr/>
          <p:nvPr/>
        </p:nvSpPr>
        <p:spPr>
          <a:xfrm>
            <a:off x="807732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5" name="AutoShape 49"/>
          <p:cNvCxnSpPr>
            <a:endCxn id="653" idx="7"/>
          </p:cNvCxnSpPr>
          <p:nvPr/>
        </p:nvCxnSpPr>
        <p:spPr>
          <a:xfrm>
            <a:off x="7958160" y="4614480"/>
            <a:ext cx="1008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AutoShape 50"/>
          <p:cNvCxnSpPr>
            <a:endCxn id="654" idx="1"/>
          </p:cNvCxnSpPr>
          <p:nvPr/>
        </p:nvCxnSpPr>
        <p:spPr>
          <a:xfrm flipH="1">
            <a:off x="8109720" y="4614480"/>
            <a:ext cx="1044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7" name="Oval 51"/>
          <p:cNvSpPr/>
          <p:nvPr/>
        </p:nvSpPr>
        <p:spPr>
          <a:xfrm>
            <a:off x="662940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52"/>
          <p:cNvSpPr/>
          <p:nvPr/>
        </p:nvSpPr>
        <p:spPr>
          <a:xfrm>
            <a:off x="693432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9" name="AutoShape 53"/>
          <p:cNvCxnSpPr>
            <a:endCxn id="657" idx="7"/>
          </p:cNvCxnSpPr>
          <p:nvPr/>
        </p:nvCxnSpPr>
        <p:spPr>
          <a:xfrm>
            <a:off x="6815160" y="4614480"/>
            <a:ext cx="1008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AutoShape 54"/>
          <p:cNvCxnSpPr>
            <a:endCxn id="658" idx="1"/>
          </p:cNvCxnSpPr>
          <p:nvPr/>
        </p:nvCxnSpPr>
        <p:spPr>
          <a:xfrm flipH="1">
            <a:off x="6966720" y="4614480"/>
            <a:ext cx="1044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Oval 55"/>
          <p:cNvSpPr/>
          <p:nvPr/>
        </p:nvSpPr>
        <p:spPr>
          <a:xfrm>
            <a:off x="609588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Oval 56"/>
          <p:cNvSpPr/>
          <p:nvPr/>
        </p:nvSpPr>
        <p:spPr>
          <a:xfrm>
            <a:off x="640080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3" name="AutoShape 57"/>
          <p:cNvCxnSpPr>
            <a:endCxn id="661" idx="7"/>
          </p:cNvCxnSpPr>
          <p:nvPr/>
        </p:nvCxnSpPr>
        <p:spPr>
          <a:xfrm>
            <a:off x="6281280" y="4614480"/>
            <a:ext cx="1044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4" name="AutoShape 58"/>
          <p:cNvCxnSpPr>
            <a:endCxn id="662" idx="1"/>
          </p:cNvCxnSpPr>
          <p:nvPr/>
        </p:nvCxnSpPr>
        <p:spPr>
          <a:xfrm flipH="1">
            <a:off x="6433920" y="4614480"/>
            <a:ext cx="1008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5" name="Oval 59"/>
          <p:cNvSpPr/>
          <p:nvPr/>
        </p:nvSpPr>
        <p:spPr>
          <a:xfrm>
            <a:off x="358128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Oval 60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7" name="AutoShape 61"/>
          <p:cNvCxnSpPr>
            <a:endCxn id="666" idx="0"/>
          </p:cNvCxnSpPr>
          <p:nvPr/>
        </p:nvCxnSpPr>
        <p:spPr>
          <a:xfrm>
            <a:off x="2933280" y="4647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8" name="Oval 62"/>
          <p:cNvSpPr/>
          <p:nvPr/>
        </p:nvSpPr>
        <p:spPr>
          <a:xfrm>
            <a:off x="320040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9" name="AutoShape 63"/>
          <p:cNvCxnSpPr>
            <a:endCxn id="668" idx="0"/>
          </p:cNvCxnSpPr>
          <p:nvPr/>
        </p:nvCxnSpPr>
        <p:spPr>
          <a:xfrm>
            <a:off x="3314520" y="4647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0" name="Oval 64"/>
          <p:cNvSpPr/>
          <p:nvPr/>
        </p:nvSpPr>
        <p:spPr>
          <a:xfrm>
            <a:off x="510552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AutoShape 65"/>
          <p:cNvCxnSpPr>
            <a:endCxn id="670" idx="0"/>
          </p:cNvCxnSpPr>
          <p:nvPr/>
        </p:nvCxnSpPr>
        <p:spPr>
          <a:xfrm>
            <a:off x="5219280" y="4647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2" name="Oval 66"/>
          <p:cNvSpPr/>
          <p:nvPr/>
        </p:nvSpPr>
        <p:spPr>
          <a:xfrm>
            <a:off x="472428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3" name="AutoShape 67"/>
          <p:cNvCxnSpPr>
            <a:endCxn id="672" idx="0"/>
          </p:cNvCxnSpPr>
          <p:nvPr/>
        </p:nvCxnSpPr>
        <p:spPr>
          <a:xfrm>
            <a:off x="4838400" y="4647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4" name="Oval 68"/>
          <p:cNvSpPr/>
          <p:nvPr/>
        </p:nvSpPr>
        <p:spPr>
          <a:xfrm>
            <a:off x="441972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5" name="AutoShape 69"/>
          <p:cNvCxnSpPr>
            <a:endCxn id="674" idx="0"/>
          </p:cNvCxnSpPr>
          <p:nvPr/>
        </p:nvCxnSpPr>
        <p:spPr>
          <a:xfrm>
            <a:off x="4533480" y="4647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6" name="Oval 70"/>
          <p:cNvSpPr/>
          <p:nvPr/>
        </p:nvSpPr>
        <p:spPr>
          <a:xfrm>
            <a:off x="396252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7" name="AutoShape 71"/>
          <p:cNvCxnSpPr>
            <a:endCxn id="676" idx="0"/>
          </p:cNvCxnSpPr>
          <p:nvPr/>
        </p:nvCxnSpPr>
        <p:spPr>
          <a:xfrm>
            <a:off x="4076280" y="4647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8" name="Oval 72"/>
          <p:cNvSpPr/>
          <p:nvPr/>
        </p:nvSpPr>
        <p:spPr>
          <a:xfrm>
            <a:off x="358128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9" name="AutoShape 73"/>
          <p:cNvCxnSpPr>
            <a:endCxn id="678" idx="0"/>
          </p:cNvCxnSpPr>
          <p:nvPr/>
        </p:nvCxnSpPr>
        <p:spPr>
          <a:xfrm>
            <a:off x="3695400" y="4647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0" name="Oval 74"/>
          <p:cNvSpPr/>
          <p:nvPr/>
        </p:nvSpPr>
        <p:spPr>
          <a:xfrm>
            <a:off x="548640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1" name="AutoShape 75"/>
          <p:cNvCxnSpPr>
            <a:endCxn id="680" idx="0"/>
          </p:cNvCxnSpPr>
          <p:nvPr/>
        </p:nvCxnSpPr>
        <p:spPr>
          <a:xfrm>
            <a:off x="5600520" y="4647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2" name="Oval 76"/>
          <p:cNvSpPr/>
          <p:nvPr/>
        </p:nvSpPr>
        <p:spPr>
          <a:xfrm>
            <a:off x="586728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3" name="AutoShape 77"/>
          <p:cNvCxnSpPr>
            <a:endCxn id="682" idx="0"/>
          </p:cNvCxnSpPr>
          <p:nvPr/>
        </p:nvCxnSpPr>
        <p:spPr>
          <a:xfrm>
            <a:off x="5981400" y="4647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4" name="Oval 78"/>
          <p:cNvSpPr/>
          <p:nvPr/>
        </p:nvSpPr>
        <p:spPr>
          <a:xfrm>
            <a:off x="2362320" y="3657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Oval 79"/>
          <p:cNvSpPr/>
          <p:nvPr/>
        </p:nvSpPr>
        <p:spPr>
          <a:xfrm>
            <a:off x="3809880" y="3657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Oval 80"/>
          <p:cNvSpPr/>
          <p:nvPr/>
        </p:nvSpPr>
        <p:spPr>
          <a:xfrm>
            <a:off x="5105520" y="3657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Oval 81"/>
          <p:cNvSpPr/>
          <p:nvPr/>
        </p:nvSpPr>
        <p:spPr>
          <a:xfrm>
            <a:off x="792468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Oval 82"/>
          <p:cNvSpPr/>
          <p:nvPr/>
        </p:nvSpPr>
        <p:spPr>
          <a:xfrm>
            <a:off x="739152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Oval 83"/>
          <p:cNvSpPr/>
          <p:nvPr/>
        </p:nvSpPr>
        <p:spPr>
          <a:xfrm>
            <a:off x="678168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Oval 84"/>
          <p:cNvSpPr/>
          <p:nvPr/>
        </p:nvSpPr>
        <p:spPr>
          <a:xfrm>
            <a:off x="624852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Oval 85"/>
          <p:cNvSpPr/>
          <p:nvPr/>
        </p:nvSpPr>
        <p:spPr>
          <a:xfrm>
            <a:off x="281952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Oval 86"/>
          <p:cNvSpPr/>
          <p:nvPr/>
        </p:nvSpPr>
        <p:spPr>
          <a:xfrm>
            <a:off x="236232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Oval 87"/>
          <p:cNvSpPr/>
          <p:nvPr/>
        </p:nvSpPr>
        <p:spPr>
          <a:xfrm>
            <a:off x="182880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Oval 88"/>
          <p:cNvSpPr/>
          <p:nvPr/>
        </p:nvSpPr>
        <p:spPr>
          <a:xfrm>
            <a:off x="129528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Oval 89"/>
          <p:cNvSpPr/>
          <p:nvPr/>
        </p:nvSpPr>
        <p:spPr>
          <a:xfrm>
            <a:off x="320040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90"/>
          <p:cNvSpPr/>
          <p:nvPr/>
        </p:nvSpPr>
        <p:spPr>
          <a:xfrm>
            <a:off x="3015360" y="1879560"/>
            <a:ext cx="317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Depth-firs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4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2C5F-C589-4A2C-A30F-1EC91DEB1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arch Strategy Trade-Off’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dth-first explores uniformly outward from the root page but requires memory of all nodes on the previous level (exponential in depth).  Standard spidering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th-first requires memory of only depth times branching-factor (linear in depth) but gets “lost” pursuing a single thre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strategies implementable using a queue of links (URL’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57D7-FF14-469B-804C-F69B8D4DD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voiding Page Duplic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detect when revisiting a page that has already been spidered (web is a graph not a tre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efficiently index visited pages to allow rapid recognition t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ree indexing (e.g. trie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ashtabl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page using URL as a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anonicalize URL by using “redirected” URL from URLConnection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ot detect duplicated or mirrored page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page using textual content as a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quires first downloading pag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9C63-3855-4E0F-8F5A-65BDCBCF2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pidering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5" name="Text Box 3"/>
          <p:cNvSpPr/>
          <p:nvPr/>
        </p:nvSpPr>
        <p:spPr>
          <a:xfrm>
            <a:off x="757080" y="1676520"/>
            <a:ext cx="763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Initialize queue (Q) with initial set of known URL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Until Q empty or page or time limit exhaus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Pop URL, L, from front of 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If L is not to an HTML page (.gif, .jpeg, .ps, .pdf, .ppt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continue lo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If already visited L, continue lo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Download page, P, for 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If cannot download P (e.g. 404 error, robot exclu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continue lo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Index P (e.g. add to inverted index or store cached cop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Parse P to obtain list of new links 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ppend N to the end of 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E46E-F424-4CDD-8D36-5ECBC9A19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Queueing Strateg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new links added to the queue determines search strate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(append to end of Q) gives breadth-first sear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FO (add to front of Q) gives depth-first sear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uristically ordering the Q gives a “focused crawler” that directs its search towards “interesting” p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56E9-1AB4-4E39-B45E-BBA4C1F31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tricting Spid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trict spider to a particular s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move links to other sites from Q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trict spider to a particular direc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move links not in the specified directory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y page-owner restrictions (robot exclus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mond Mooney</cp:lastModifiedBy>
  <dcterms:modified xsi:type="dcterms:W3CDTF">2016-10-09T15:00:56Z</dcterms:modified>
  <cp:revision>48</cp:revision>
  <dc:subject/>
  <dc:title>Intelligent Information Retrieval and Web Search</dc:title>
</cp:coreProperties>
</file>