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A683-A94C-49C9-A547-8D5B17663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F8F1-9AF9-4790-96B1-06CA55ABE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12CA-0712-43C7-A463-5055510D0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401C-42EF-4BC1-AF72-6DDFAB63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D161-D614-4815-8507-03FBC1EDD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B806-6A02-47AA-BABB-428B5CE4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81DC-DC97-4E4C-B870-D576B9F7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44028B-CD87-42DC-ACD3-822A1B20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760EA7-F616-4E3B-A8C6-A665E497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D5EA0-F512-4BD4-8AAD-15B1018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39BB80-6860-4BAA-B978-65561E39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FFE8F-CC15-43FC-B414-D476F6A1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0A94C-7CA6-44EF-A1C9-8D60533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69DAB-AE88-4C8E-86B3-F5E928B3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46606F-66EA-4AD2-8B84-C36AA5DD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C4C98E-A00A-49E5-904B-88C431B0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13F4B0-0739-4271-914F-1EFD5F62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7F0E-C57A-4A89-81B2-B9A69F9B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DCFA57-797B-42B9-9B95-288A4F7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FD6259-1845-4D0D-BF2E-055B1C97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DCAD17-41BF-4A7D-B38D-6F2FA93D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0753A4-F3A9-4A9A-9C2C-89791D63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FEC1BC-F893-4432-A2AC-3C28957E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9F7244-4389-4888-A84C-D3AC6AFE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9EE2CF-3B13-4D85-B855-D47F6D9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01CA1D-C278-4F2B-9C9D-E410EF60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6583C-4A38-440A-A3F0-3EA2B9C0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85E623-2B1A-4424-9437-B4498542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95B7-41C0-4399-9CA7-70424888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1B7CBF-1D7E-4537-90CD-EEF45089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76FDB9-A35F-49C6-B85C-6CA98C8A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CE3DA4-E489-4317-8046-6692CDA6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BC5091-44A2-42C5-87DA-38DACE86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439955-D05D-44A7-BA47-3C2E686A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FFBA54-65D8-4AD2-BAEB-002897D0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5F8CD3-E709-4A90-A1DE-B7B7E054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8318EA-01FB-42BA-8D20-B716234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2F0FF7-1A0E-41FB-A981-9A73F8C0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129576-42D4-4EBF-BB46-1734097F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F39FC-5ED6-4978-84DE-BCE7F2C2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3B3D10-5535-45B1-A3F6-0EA2E9BB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B9E824-4545-47E6-8098-F8CAAAED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771204-887A-4B91-93AA-775124C8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C472A8-52BF-47F3-BF47-3C3F78EB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A7853A-4D01-4FD8-9675-252382BF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396EEB-07B3-40A4-B7E2-E01B0E99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C75595-AE3D-4416-9F47-14E4BDA6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BE42C6-9ED6-4ADB-918D-809DD86F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2A65F7-02BA-460C-A4BB-DC6ED6B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B824BE-7FB7-471D-B3EA-21BAF89F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83256-A922-435A-937A-CD42C1C1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3EE652-6BCE-4A8D-9477-EB26173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9B1C5C-8FEE-45B4-A92C-2432243E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17AC11-8947-4DEB-9444-8C436539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8955DF-3610-49E8-BE4D-29A05891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DE2BCE-016C-4F44-8B35-191EC651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EF4A3-2798-40C9-B329-88FCD9BB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AA59-1E3C-4497-893B-84CE87D5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C5C92-4C31-42B1-875C-85E78940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E3C0B-79AE-425E-AB93-B96C3C20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9CCFA-8D07-41DC-9BE3-AEEA1C2E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6597-576C-46B7-B965-95823FA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75DAC-EAE3-49DD-9511-A566668F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E0233-BE6C-4D78-BED0-B72DCDF9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803B9-160C-439C-948E-7FBFA574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B75AD-E944-4905-8730-DA089355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54DDB-693B-4386-A56D-7927F460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64BC3-20E3-46AB-935B-CB0F7899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9289F-2C70-4C84-86F9-06A1C0FF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BBF52-57F9-47EA-8270-A902FCD8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41C7C-7FA4-45F5-AA45-D15CD8E1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428A3-934C-478F-AF42-6037C899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A52C-8594-4B6A-A18E-6C6AFF95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72A9B-AB6E-4959-9DEE-91353E5E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9C6C4-2DEB-4F09-8FFE-1295A8FF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F6E3A-7B9C-42F8-8554-50968C76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B61E7-A2E8-4C14-B7B7-DBDD74AB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1C527-6AD9-43C0-83A9-A1A6D700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C938B-3505-4AC6-A829-044F32BE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11F8B-4C2D-43BD-B7C9-2CDAE0AD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81A1A-C738-4CA1-820E-AAE3E6B3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1A8BC-4F2C-49E0-A8CE-64D310E5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0AF25-5859-46F6-988C-04D7451C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9D19-30B8-4D1F-B4EC-70584C58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94A79-CDE2-486F-BF28-0459D204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3DC2F-97DC-40E8-AE16-4D0A103F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DC3D8-BEE9-498E-857C-C248844B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56D51-35B8-46B1-8294-F248E73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5C525-0574-4971-9FBE-FFB1C8BF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E158D-162D-4E40-90FF-D8B3E0E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C47F0-6BBF-4B21-9389-3A8F4098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D55D9-A4E9-4F9C-AD17-5CBFE540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159F7-6E50-4CE0-8E4D-F7166C8E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57B93-F7C2-4C47-858C-B1579C25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CECB-3E8C-447C-8E80-316CF945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3F89C-B9C4-48EC-947B-F2A86A06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2018F-1426-4851-9141-2A7DAC35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03D2C-B7C1-4CA9-B658-F63FBD9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A04CB-035C-491C-A763-5F1DF956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2D4EB-5CFB-4921-B106-7B5FB010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9E77B-1DC9-40E7-82FD-47497ADF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712B3-C8D4-4F42-BBAC-B309CA6C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1ED71-3E59-4308-BC32-CE98C8E8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3D829-54CA-4BB2-860E-2E473146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3AF67-99D7-4222-8801-5638E237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D84B-7D0F-4658-895A-513CAB9F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6F97F-283E-412C-B640-1EEAF078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63650-FF5D-4816-941B-0BC098C1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CAA21-592A-4251-A1C3-E49092C9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3646E-EE75-462A-92FB-3123C55A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AC81E-B120-45A8-AA0F-82F55AA9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FFA38-9A42-4F67-9409-1ADA3EAE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651B7-DEA2-4FB0-9850-18C4E2E0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369CC-BEAF-4337-AD4B-CDAC1FA0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56FC4-0AA9-4A72-AA4A-374F2BA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57029-B14E-4922-A6BF-58BC9267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3934-4AEF-4A3B-8ACA-D56B51C5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4E190-F333-47B6-9F84-63EE5649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E5144-0C28-4533-BB56-563C9A4A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3116D-FEB3-4DC5-BF8A-86D3574B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F4317-37DD-449C-A312-995F86E0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E0614-0238-4EAC-B4A9-7034A2EE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85558-8CF8-414C-8862-B193AB3F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404A4-DF7F-465C-ACDF-5142F36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192EF-F9E3-4E79-8A28-01B8819A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10DCC-6DAE-460D-B7F5-3C3B02CF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CA061-154A-48F6-9ACE-B8B310F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850EF-016A-4118-A918-E28280F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426E9-EAF8-4D85-8348-1A94F57B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B4809-6A10-4C92-AC1A-8CE66FA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2D852-C755-41B0-B04C-AEFA3DED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518DF-6667-4389-B1C9-A56B4DD7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D80F2-1FF3-49E3-B859-5FBB07F1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CB02D-E43A-4579-B355-09507AA0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1350A7-A93D-4ABF-9125-E888468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607A6F-FE72-43D2-A994-13082285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4F3B2-BE4A-4097-B052-139FD7F1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9E7F4A-8699-4927-AC30-D7CC7730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38F3-8CD0-4B62-BB09-A72FA095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350D17-69E1-4B7B-886A-E5DA065E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3746A-EAAF-4F1C-A8BF-7C87D1BD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AF79A-4293-49C8-98F6-6B85C20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B373C0-A155-450D-B9CA-B79EFA15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E0A128-5DFF-4201-AC60-EF816538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E3E09-D2D3-45E3-93CD-05AA0F42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B47D99-F68B-4F32-B9D3-2A2996FC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315399-E087-4560-AB4A-75813EE6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84216-F921-4F50-930C-DC01CB9F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92D725-7B04-4572-ADCC-50B0EDDE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CD4A-873E-4AB9-8658-9604D3FA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881D-A811-415D-86A0-3BC8545B8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E206-C75C-4248-BB36-D887FA195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EC78-05B2-4C55-9DD5-7264EE271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BFB0-AC3A-48BC-ADE8-88D02B05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5A0A-B873-47CA-BCFF-A464F5E97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37E-14C7-45E5-B5A4-ABB16322A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A529-1398-4AEC-BC12-F38D44100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D45F-0961-4B4D-ABAE-0B599838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AD43-1AE5-4928-B447-365DC6BC1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4C37-C92F-4270-8124-68030253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A2EA-CF7C-404F-B8E7-9075A87C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utexas.edu/home/people/prof.shtml" TargetMode="External"/><Relationship Id="rId2" Type="http://schemas.openxmlformats.org/officeDocument/2006/relationships/hyperlink" Target="http://www.cs.utexas.edu/users/mooney/ir-course/spider-trace.tx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ooney/ir-course/search.html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bay.com/robots.txt" TargetMode="External"/><Relationship Id="rId2" Type="http://schemas.openxmlformats.org/officeDocument/2006/relationships/hyperlink" Target="http://www.cnn.com/robots.txt" TargetMode="External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CD5-6C10-4EAD-81E1-EB87E898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C6D-0B3C-4499-99A3-28380661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Extra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find all links in a page and extract UR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a href=“http://www.cs.utexas.edu/users/mooney/ir-course”&gt;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frame src=“site-index.html”&gt;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 relative URL’s using current page UR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a href=“proj3”&gt;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cs.utexas.edu/users/mooney/ir-course/proj3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a href=“../cs343/syllabus.html”&gt;  to  http://www.cs.utexas.edu/users/mooney/cs343/syllabus.htm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C2B8-0A23-4D94-8C1D-A7E2F6E1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RL Synta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RL has the following 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scheme&gt;://&lt;authority&gt;&lt;path&gt;?&lt;query&gt;#&lt;fragment&gt;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the 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host&gt;:&lt;port-number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sses variable values from an HTML form and has the 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variable&gt;=&lt;value&gt;&amp;&lt;variable&gt;=&lt;value&gt;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ag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s a pointer within the document to a point specified by an anchor tag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A NAME=“&lt;fragment&gt;”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B899-3116-4A1F-8A97-D5EE76CD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ava Spid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dering code in ir.webutils pac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spider in Spid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readth-first crawl from a start URL and saves copy of each page in a local dire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irectory can then be indexed and searched using VSR Inverted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tho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u  &lt;start-URL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d &lt;save-directory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c &lt;page-count-limit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06B8-047B-4990-98F0-1CD2B94B0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ava Spider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t Exclusion can be invoked to prevent crawling restricted sites/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-saf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classes also restrict 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teSpide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Restrict to initial URL hos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rectorySpide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Restrict to below initial URL director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651C-07F9-47A3-96E7-DC0CA23C8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ider Java Clas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26" name="Group 3"/>
          <p:cNvGrpSpPr/>
          <p:nvPr/>
        </p:nvGrpSpPr>
        <p:grpSpPr>
          <a:xfrm>
            <a:off x="2742840" y="1752480"/>
            <a:ext cx="3216600" cy="854280"/>
            <a:chOff x="2742840" y="1752480"/>
            <a:chExt cx="3216600" cy="854280"/>
          </a:xfrm>
        </p:grpSpPr>
        <p:sp>
          <p:nvSpPr>
            <p:cNvPr id="727" name="Text Box 4"/>
            <p:cNvSpPr/>
            <p:nvPr/>
          </p:nvSpPr>
          <p:spPr>
            <a:xfrm>
              <a:off x="2742840" y="1752480"/>
              <a:ext cx="31539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HTMLPageRetrie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       </a:t>
              </a: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getHTMLPag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5"/>
            <p:cNvSpPr/>
            <p:nvPr/>
          </p:nvSpPr>
          <p:spPr>
            <a:xfrm>
              <a:off x="3139920" y="1752480"/>
              <a:ext cx="2819520" cy="854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Line 6"/>
          <p:cNvSpPr/>
          <p:nvPr/>
        </p:nvSpPr>
        <p:spPr>
          <a:xfrm>
            <a:off x="2662200" y="23637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Group 7"/>
          <p:cNvGrpSpPr/>
          <p:nvPr/>
        </p:nvGrpSpPr>
        <p:grpSpPr>
          <a:xfrm>
            <a:off x="5715000" y="2971800"/>
            <a:ext cx="2654280" cy="1981080"/>
            <a:chOff x="5715000" y="2971800"/>
            <a:chExt cx="2654280" cy="1981080"/>
          </a:xfrm>
        </p:grpSpPr>
        <p:grpSp>
          <p:nvGrpSpPr>
            <p:cNvPr id="731" name="Group 8"/>
            <p:cNvGrpSpPr/>
            <p:nvPr/>
          </p:nvGrpSpPr>
          <p:grpSpPr>
            <a:xfrm>
              <a:off x="6018480" y="3733920"/>
              <a:ext cx="2350800" cy="1218960"/>
              <a:chOff x="6018480" y="3733920"/>
              <a:chExt cx="2350800" cy="1218960"/>
            </a:xfrm>
          </p:grpSpPr>
          <p:sp>
            <p:nvSpPr>
              <p:cNvPr id="732" name="Text Box 9"/>
              <p:cNvSpPr/>
              <p:nvPr/>
            </p:nvSpPr>
            <p:spPr>
              <a:xfrm>
                <a:off x="6018480" y="3733920"/>
                <a:ext cx="2350800" cy="11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LinkExtr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            </a:t>
                </a:r>
                <a:r>
                  <a:rPr b="0" lang="en-US" sz="2000" spc="-1" strike="noStrike">
                    <a:solidFill>
                      <a:srgbClr val="3333ff"/>
                    </a:solidFill>
                    <a:latin typeface="Times New Roman"/>
                  </a:rPr>
                  <a:t>pa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Times New Roman"/>
                  </a:rPr>
                  <a:t>              </a:t>
                </a:r>
                <a:r>
                  <a:rPr b="0" lang="en-US" sz="2000" spc="-1" strike="noStrike">
                    <a:solidFill>
                      <a:srgbClr val="00cc00"/>
                    </a:solidFill>
                    <a:latin typeface="Times New Roman"/>
                  </a:rPr>
                  <a:t>extract(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10"/>
              <p:cNvSpPr/>
              <p:nvPr/>
            </p:nvSpPr>
            <p:spPr>
              <a:xfrm>
                <a:off x="6477120" y="3733920"/>
                <a:ext cx="1828800" cy="1218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Freeform 11"/>
            <p:cNvSpPr/>
            <p:nvPr/>
          </p:nvSpPr>
          <p:spPr>
            <a:xfrm>
              <a:off x="5715000" y="2971800"/>
              <a:ext cx="1219320" cy="1486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486080"/>
                <a:gd name="textAreaBottom" fmla="*/ 1486440 h 1486080"/>
              </a:gdLst>
              <a:ahLst/>
              <a:rect l="textAreaLeft" t="textAreaTop" r="textAreaRight" b="textAreaBottom"/>
              <a:pathLst>
                <a:path w="768" h="936">
                  <a:moveTo>
                    <a:pt x="432" y="0"/>
                  </a:moveTo>
                  <a:cubicBezTo>
                    <a:pt x="296" y="8"/>
                    <a:pt x="160" y="16"/>
                    <a:pt x="96" y="96"/>
                  </a:cubicBezTo>
                  <a:cubicBezTo>
                    <a:pt x="32" y="176"/>
                    <a:pt x="0" y="352"/>
                    <a:pt x="48" y="480"/>
                  </a:cubicBezTo>
                  <a:cubicBezTo>
                    <a:pt x="96" y="608"/>
                    <a:pt x="264" y="792"/>
                    <a:pt x="384" y="864"/>
                  </a:cubicBezTo>
                  <a:cubicBezTo>
                    <a:pt x="504" y="936"/>
                    <a:pt x="636" y="924"/>
                    <a:pt x="768" y="9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Freeform 13"/>
          <p:cNvSpPr/>
          <p:nvPr/>
        </p:nvSpPr>
        <p:spPr>
          <a:xfrm>
            <a:off x="7696080" y="2666880"/>
            <a:ext cx="1231920" cy="21970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776" h="1384">
                <a:moveTo>
                  <a:pt x="96" y="1296"/>
                </a:moveTo>
                <a:cubicBezTo>
                  <a:pt x="312" y="1340"/>
                  <a:pt x="528" y="1384"/>
                  <a:pt x="624" y="1200"/>
                </a:cubicBezTo>
                <a:cubicBezTo>
                  <a:pt x="720" y="1016"/>
                  <a:pt x="776" y="384"/>
                  <a:pt x="672" y="192"/>
                </a:cubicBezTo>
                <a:cubicBezTo>
                  <a:pt x="568" y="0"/>
                  <a:pt x="284" y="24"/>
                  <a:pt x="0" y="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720" y="2971800"/>
            <a:ext cx="1384560" cy="457200"/>
            <a:chOff x="720" y="2971800"/>
            <a:chExt cx="1384560" cy="457200"/>
          </a:xfrm>
        </p:grpSpPr>
        <p:sp>
          <p:nvSpPr>
            <p:cNvPr id="737" name="Text Box 16"/>
            <p:cNvSpPr/>
            <p:nvPr/>
          </p:nvSpPr>
          <p:spPr>
            <a:xfrm>
              <a:off x="720" y="2971800"/>
              <a:ext cx="1384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17"/>
            <p:cNvSpPr/>
            <p:nvPr/>
          </p:nvSpPr>
          <p:spPr>
            <a:xfrm>
              <a:off x="457200" y="2971800"/>
              <a:ext cx="91440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Group 18"/>
          <p:cNvGrpSpPr/>
          <p:nvPr/>
        </p:nvGrpSpPr>
        <p:grpSpPr>
          <a:xfrm>
            <a:off x="1295280" y="1828800"/>
            <a:ext cx="1371600" cy="685800"/>
            <a:chOff x="1295280" y="1828800"/>
            <a:chExt cx="1371600" cy="685800"/>
          </a:xfrm>
        </p:grpSpPr>
        <p:sp>
          <p:nvSpPr>
            <p:cNvPr id="740" name="Text Box 19"/>
            <p:cNvSpPr/>
            <p:nvPr/>
          </p:nvSpPr>
          <p:spPr>
            <a:xfrm>
              <a:off x="1372680" y="1828800"/>
              <a:ext cx="1137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Group 20"/>
            <p:cNvGrpSpPr/>
            <p:nvPr/>
          </p:nvGrpSpPr>
          <p:grpSpPr>
            <a:xfrm>
              <a:off x="1295280" y="1828800"/>
              <a:ext cx="1371600" cy="685800"/>
              <a:chOff x="1295280" y="1828800"/>
              <a:chExt cx="1371600" cy="685800"/>
            </a:xfrm>
          </p:grpSpPr>
          <p:grpSp>
            <p:nvGrpSpPr>
              <p:cNvPr id="742" name="Group 21"/>
              <p:cNvGrpSpPr/>
              <p:nvPr/>
            </p:nvGrpSpPr>
            <p:grpSpPr>
              <a:xfrm>
                <a:off x="1643760" y="1828800"/>
                <a:ext cx="1023120" cy="685800"/>
                <a:chOff x="1643760" y="1828800"/>
                <a:chExt cx="1023120" cy="685800"/>
              </a:xfrm>
            </p:grpSpPr>
            <p:sp>
              <p:nvSpPr>
                <p:cNvPr id="743" name="Text Box 22"/>
                <p:cNvSpPr/>
                <p:nvPr/>
              </p:nvSpPr>
              <p:spPr>
                <a:xfrm>
                  <a:off x="1643760" y="2133360"/>
                  <a:ext cx="848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ff"/>
                      </a:solidFill>
                      <a:latin typeface="Times New Roman"/>
                    </a:rPr>
                    <a:t>      </a:t>
                  </a:r>
                  <a:r>
                    <a:rPr b="0" lang="en-US" sz="2000" spc="-1" strike="noStrike">
                      <a:solidFill>
                        <a:srgbClr val="3333ff"/>
                      </a:solidFill>
                      <a:latin typeface="Times New Roman"/>
                    </a:rPr>
                    <a:t>ur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Rectangle 23"/>
                <p:cNvSpPr/>
                <p:nvPr/>
              </p:nvSpPr>
              <p:spPr>
                <a:xfrm>
                  <a:off x="1781280" y="1828800"/>
                  <a:ext cx="885600" cy="6858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5" name="Line 24"/>
              <p:cNvSpPr/>
              <p:nvPr/>
            </p:nvSpPr>
            <p:spPr>
              <a:xfrm>
                <a:off x="1295280" y="2361960"/>
                <a:ext cx="83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6" name="Group 25"/>
          <p:cNvGrpSpPr/>
          <p:nvPr/>
        </p:nvGrpSpPr>
        <p:grpSpPr>
          <a:xfrm>
            <a:off x="78840" y="2057400"/>
            <a:ext cx="1245960" cy="914400"/>
            <a:chOff x="78840" y="2057400"/>
            <a:chExt cx="1245960" cy="914400"/>
          </a:xfrm>
        </p:grpSpPr>
        <p:grpSp>
          <p:nvGrpSpPr>
            <p:cNvPr id="747" name="Group 26"/>
            <p:cNvGrpSpPr/>
            <p:nvPr/>
          </p:nvGrpSpPr>
          <p:grpSpPr>
            <a:xfrm>
              <a:off x="78840" y="2057400"/>
              <a:ext cx="1245960" cy="457200"/>
              <a:chOff x="78840" y="2057400"/>
              <a:chExt cx="1245960" cy="457200"/>
            </a:xfrm>
          </p:grpSpPr>
          <p:sp>
            <p:nvSpPr>
              <p:cNvPr id="748" name="Rectangle 27"/>
              <p:cNvSpPr/>
              <p:nvPr/>
            </p:nvSpPr>
            <p:spPr>
              <a:xfrm>
                <a:off x="533520" y="2057400"/>
                <a:ext cx="761760" cy="457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8"/>
              <p:cNvSpPr/>
              <p:nvPr/>
            </p:nvSpPr>
            <p:spPr>
              <a:xfrm>
                <a:off x="78840" y="2057400"/>
                <a:ext cx="1245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U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Line 29"/>
            <p:cNvSpPr/>
            <p:nvPr/>
          </p:nvSpPr>
          <p:spPr>
            <a:xfrm flipV="1">
              <a:off x="838080" y="25146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38"/>
          <p:cNvGrpSpPr/>
          <p:nvPr/>
        </p:nvGrpSpPr>
        <p:grpSpPr>
          <a:xfrm>
            <a:off x="5562720" y="1447920"/>
            <a:ext cx="2743200" cy="1828440"/>
            <a:chOff x="5562720" y="1447920"/>
            <a:chExt cx="2743200" cy="1828440"/>
          </a:xfrm>
        </p:grpSpPr>
        <p:sp>
          <p:nvSpPr>
            <p:cNvPr id="752" name="Text Box 33"/>
            <p:cNvSpPr/>
            <p:nvPr/>
          </p:nvSpPr>
          <p:spPr>
            <a:xfrm>
              <a:off x="5945400" y="1447920"/>
              <a:ext cx="2245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HTMLP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      </a:t>
              </a: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             </a:t>
              </a: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            </a:t>
              </a: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outL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4"/>
            <p:cNvSpPr/>
            <p:nvPr/>
          </p:nvSpPr>
          <p:spPr>
            <a:xfrm>
              <a:off x="6400800" y="1447920"/>
              <a:ext cx="1905120" cy="1593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35"/>
            <p:cNvSpPr/>
            <p:nvPr/>
          </p:nvSpPr>
          <p:spPr>
            <a:xfrm>
              <a:off x="5562720" y="23623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36"/>
            <p:cNvSpPr/>
            <p:nvPr/>
          </p:nvSpPr>
          <p:spPr>
            <a:xfrm flipV="1">
              <a:off x="6400800" y="2057040"/>
              <a:ext cx="3808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37"/>
            <p:cNvSpPr/>
            <p:nvPr/>
          </p:nvSpPr>
          <p:spPr>
            <a:xfrm>
              <a:off x="6400800" y="2362320"/>
              <a:ext cx="380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6EF8-8535-47B4-88E0-BC6C3EA8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Canon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ize URL by using “redirected” URL returned by an established Java URLConn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page fragments (ref’s) re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cs.utexas.edu/users/mooney/welcome.html#cours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cs.utexas.edu/users/mooney/welcome.htm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4151-7ADC-4DB3-9275-5836986D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Extraction in Jav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wing contains an HTML par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uses “call-back”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parser an object that has these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leText(char[] text, int positio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leStartTag(HTML.Tag tag, MutableAttributeSet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ttributes, int positio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leEndTag(HTML.Tag tag, int positio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leSimpleTag (HTML.Tag tag,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MutableAttributeSet attributes, int positio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arser encounters a tag or intervening text, it calls the appropriate method of this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31A1-B7D1-451B-9829-4A21D04FA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Extraction in Java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andleStartTag, if it is an “A” tag, take the HREF attribute value as an initial U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URL using the base UR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ew URL(URL baseURL, String relativeURL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ails if baseURL ends in a directory name but this is not indicated by a final “/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end a “/” to baseURL if it does not end in a file name with an extension (and therefore presumably is a directory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571C-FAFF-48B8-8EC1-A45DA1AD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ached File with Base URL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copy of page in a local directory for eventual indexing for retrie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tag in the header section of an HTML file changes the base URL for all relative poin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BASE HREF=“&lt;base-URL&gt;”&gt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specifically included in HTML for use in documents that were moved from their original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1645-7512-4A1F-9809-7427F0F4F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ava Spider Tr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simple demo, SiteSpider was used to collect 100 pages starting at: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UT CS Faculty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race at:           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www.cs.utexas.edu/users/mooney/ir-course/spider-trac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r crawl from the same page was used to assemble 800 pages that are cached at: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/u/mooney/ir-code/corpora/cs-faculty/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0BD6-DF18-4F99-9D0D-4C26974D7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iders (Robots/Bots/Crawler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comprehensive set of root URL’s from which to start the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all links on these pages recursively to find additional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a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nd pages in an inverted index as they are encount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low users to directly submit pages to be indexed (and crawled fr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0B12-1145-4BA7-A1E8-36AC86A4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rvlet Web Interface 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interface to using VSR to search directories of cached HTML files is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cs.utexas.edu/users/mooney/ir-course/search.htm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Servlet code supporting this demo is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/u/ml/servlets/irs/Search.java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1518-AF7C-4385-93CE-F58DB7577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chor Text Index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 anchor text (between &lt;a&gt; and &lt;/a&gt;) of each link fo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hor text is usually descriptive of the document to which it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chor text to the content of the destination page to provide additional relevant keyword ind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Goog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a href=“http://www.microsoft.com”&gt;Evil Empire&lt;/a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a href=“http://www.ibm.com”&gt;IBM&lt;/a&gt;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D94A-B977-431A-A3CD-8BA13FAAB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chor Text Indexing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when descriptive text in destination page is embedded in image logos rather than in accessible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imes anchor text is not usefu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her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content more for popular pages with many in-coming links, increasing recall of these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even give higher weights to tokens from anchor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2F5C-DA64-480E-BE59-ECA6A9988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 Exclu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s and pages can specify that robots should not crawl/index certain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bots Exclusion Protoco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Site wide specification of excluded directori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bots META Ta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Individual document tag to exclude indexing or following link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FAB2-86B9-40D2-B55D-D885AB57F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s Exclusion Protoco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administrator puts a “robots.txt” file at the root of the host’s web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ay.com/robots.tx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www.cnn.com/robots.tx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a list of excluded directories for a given robot (user-age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clude all robots from the entire site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r-agent: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sallow: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7EFD-DF79-4917-8088-043323C7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 Exclusion Protocol 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de specific directo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-agent: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tm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cgi-bi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users/paranoid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de a specific rob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-agent: GoogleB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a specific rob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-agent: GoogleB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-agent: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6239-3C9E-4EA6-B2DD-0241D5E8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 Exclusion Protocol Detai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use blank lines to separate different User-agent disallowed direc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directory per “Disallow”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gex patterns in direc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E8D7-2D6D-4677-9819-F120261C1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s META Ta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META tag in HEAD section of a specific HTML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meta name=“robots” content=“none”&gt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 value is a pair of values for two asp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de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inde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 Allow/disallow indexing of this pa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follow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Allow/disallow following links on this pa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F4A-5879-4050-8B17-A85B9E7E3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s META Tag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l = index,follow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ne = noindex,nofollow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ta name=“robots” content=“noindex,follow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ta name=“robots” content=“index,nofollow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ta name=“robots” content=“none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0915-A1A3-4CE8-AEB4-6744000B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 Exclusion 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 tag is newer and less well-adopted than “robots.tx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are conventions to be followed by “good robot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ies have been prosecuted for “disobeying” these conventions and “trespassing” on private cyber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robots” also try not to “hammer” individual sites with lots of rapid reque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nial of service” attack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7B8A-993B-4103-910E-56D05A58A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arch Strateg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Oval 3"/>
          <p:cNvSpPr/>
          <p:nvPr/>
        </p:nvSpPr>
        <p:spPr>
          <a:xfrm>
            <a:off x="64008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4"/>
          <p:cNvSpPr/>
          <p:nvPr/>
        </p:nvSpPr>
        <p:spPr>
          <a:xfrm>
            <a:off x="441972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AutoShape 5"/>
          <p:cNvCxnSpPr>
            <a:stCxn id="520" idx="3"/>
          </p:cNvCxnSpPr>
          <p:nvPr/>
        </p:nvCxnSpPr>
        <p:spPr>
          <a:xfrm flipH="1">
            <a:off x="4004640" y="3090600"/>
            <a:ext cx="4482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6"/>
          <p:cNvCxnSpPr>
            <a:stCxn id="520" idx="5"/>
          </p:cNvCxnSpPr>
          <p:nvPr/>
        </p:nvCxnSpPr>
        <p:spPr>
          <a:xfrm>
            <a:off x="4614480" y="3090600"/>
            <a:ext cx="5241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7"/>
          <p:cNvCxnSpPr>
            <a:stCxn id="520" idx="6"/>
            <a:endCxn id="519" idx="1"/>
          </p:cNvCxnSpPr>
          <p:nvPr/>
        </p:nvCxnSpPr>
        <p:spPr>
          <a:xfrm>
            <a:off x="4647960" y="3009960"/>
            <a:ext cx="178668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8"/>
          <p:cNvCxnSpPr/>
          <p:nvPr/>
        </p:nvCxnSpPr>
        <p:spPr>
          <a:xfrm flipH="1">
            <a:off x="2590560" y="3009600"/>
            <a:ext cx="1829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AutoShape 9"/>
          <p:cNvCxnSpPr/>
          <p:nvPr/>
        </p:nvCxnSpPr>
        <p:spPr>
          <a:xfrm flipH="1">
            <a:off x="1523160" y="377208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AutoShape 10"/>
          <p:cNvCxnSpPr/>
          <p:nvPr/>
        </p:nvCxnSpPr>
        <p:spPr>
          <a:xfrm flipH="1">
            <a:off x="2023560" y="3852360"/>
            <a:ext cx="3722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AutoShape 11"/>
          <p:cNvCxnSpPr/>
          <p:nvPr/>
        </p:nvCxnSpPr>
        <p:spPr>
          <a:xfrm flipH="1">
            <a:off x="2395080" y="3852360"/>
            <a:ext cx="1627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AutoShape 12"/>
          <p:cNvCxnSpPr/>
          <p:nvPr/>
        </p:nvCxnSpPr>
        <p:spPr>
          <a:xfrm>
            <a:off x="2590560" y="3771720"/>
            <a:ext cx="2620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13"/>
          <p:cNvSpPr/>
          <p:nvPr/>
        </p:nvSpPr>
        <p:spPr>
          <a:xfrm>
            <a:off x="3962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15"/>
          <p:cNvCxnSpPr/>
          <p:nvPr/>
        </p:nvCxnSpPr>
        <p:spPr>
          <a:xfrm flipH="1">
            <a:off x="3428640" y="3772080"/>
            <a:ext cx="3816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AutoShape 16"/>
          <p:cNvCxnSpPr/>
          <p:nvPr/>
        </p:nvCxnSpPr>
        <p:spPr>
          <a:xfrm flipH="1">
            <a:off x="3776040" y="3852360"/>
            <a:ext cx="673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AutoShape 17"/>
          <p:cNvCxnSpPr>
            <a:endCxn id="529" idx="1"/>
          </p:cNvCxnSpPr>
          <p:nvPr/>
        </p:nvCxnSpPr>
        <p:spPr>
          <a:xfrm flipH="1">
            <a:off x="3994920" y="385236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AutoShape 18"/>
          <p:cNvCxnSpPr>
            <a:endCxn id="530" idx="1"/>
          </p:cNvCxnSpPr>
          <p:nvPr/>
        </p:nvCxnSpPr>
        <p:spPr>
          <a:xfrm>
            <a:off x="4038120" y="3771720"/>
            <a:ext cx="4150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Oval 19"/>
          <p:cNvSpPr/>
          <p:nvPr/>
        </p:nvSpPr>
        <p:spPr>
          <a:xfrm>
            <a:off x="5105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20"/>
          <p:cNvSpPr/>
          <p:nvPr/>
        </p:nvSpPr>
        <p:spPr>
          <a:xfrm>
            <a:off x="54864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21"/>
          <p:cNvSpPr/>
          <p:nvPr/>
        </p:nvSpPr>
        <p:spPr>
          <a:xfrm>
            <a:off x="5867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22"/>
          <p:cNvSpPr/>
          <p:nvPr/>
        </p:nvSpPr>
        <p:spPr>
          <a:xfrm>
            <a:off x="4724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AutoShape 23"/>
          <p:cNvCxnSpPr>
            <a:endCxn id="538" idx="6"/>
          </p:cNvCxnSpPr>
          <p:nvPr/>
        </p:nvCxnSpPr>
        <p:spPr>
          <a:xfrm flipH="1">
            <a:off x="4952520" y="3772080"/>
            <a:ext cx="1533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24"/>
          <p:cNvCxnSpPr>
            <a:endCxn id="535" idx="7"/>
          </p:cNvCxnSpPr>
          <p:nvPr/>
        </p:nvCxnSpPr>
        <p:spPr>
          <a:xfrm>
            <a:off x="5138640" y="3852360"/>
            <a:ext cx="1627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25"/>
          <p:cNvCxnSpPr>
            <a:endCxn id="536" idx="1"/>
          </p:cNvCxnSpPr>
          <p:nvPr/>
        </p:nvCxnSpPr>
        <p:spPr>
          <a:xfrm>
            <a:off x="5300280" y="3852360"/>
            <a:ext cx="2199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AutoShape 26"/>
          <p:cNvCxnSpPr>
            <a:endCxn id="537" idx="1"/>
          </p:cNvCxnSpPr>
          <p:nvPr/>
        </p:nvCxnSpPr>
        <p:spPr>
          <a:xfrm>
            <a:off x="5334120" y="3771720"/>
            <a:ext cx="56736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AutoShape 27"/>
          <p:cNvCxnSpPr/>
          <p:nvPr/>
        </p:nvCxnSpPr>
        <p:spPr>
          <a:xfrm>
            <a:off x="6400800" y="3772080"/>
            <a:ext cx="76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AutoShape 28"/>
          <p:cNvCxnSpPr/>
          <p:nvPr/>
        </p:nvCxnSpPr>
        <p:spPr>
          <a:xfrm>
            <a:off x="6434280" y="3852360"/>
            <a:ext cx="5436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AutoShape 29"/>
          <p:cNvCxnSpPr/>
          <p:nvPr/>
        </p:nvCxnSpPr>
        <p:spPr>
          <a:xfrm>
            <a:off x="6595920" y="3852360"/>
            <a:ext cx="829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AutoShape 30"/>
          <p:cNvCxnSpPr/>
          <p:nvPr/>
        </p:nvCxnSpPr>
        <p:spPr>
          <a:xfrm>
            <a:off x="6629040" y="3771720"/>
            <a:ext cx="13294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Oval 31"/>
          <p:cNvSpPr/>
          <p:nvPr/>
        </p:nvSpPr>
        <p:spPr>
          <a:xfrm>
            <a:off x="1676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32"/>
          <p:cNvSpPr/>
          <p:nvPr/>
        </p:nvSpPr>
        <p:spPr>
          <a:xfrm>
            <a:off x="19810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33"/>
          <p:cNvCxnSpPr>
            <a:endCxn id="547" idx="7"/>
          </p:cNvCxnSpPr>
          <p:nvPr/>
        </p:nvCxnSpPr>
        <p:spPr>
          <a:xfrm>
            <a:off x="186228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AutoShape 34"/>
          <p:cNvCxnSpPr>
            <a:endCxn id="548" idx="1"/>
          </p:cNvCxnSpPr>
          <p:nvPr/>
        </p:nvCxnSpPr>
        <p:spPr>
          <a:xfrm flipH="1">
            <a:off x="201420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Oval 35"/>
          <p:cNvSpPr/>
          <p:nvPr/>
        </p:nvSpPr>
        <p:spPr>
          <a:xfrm>
            <a:off x="22096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36"/>
          <p:cNvSpPr/>
          <p:nvPr/>
        </p:nvSpPr>
        <p:spPr>
          <a:xfrm>
            <a:off x="25146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AutoShape 37"/>
          <p:cNvCxnSpPr>
            <a:endCxn id="551" idx="7"/>
          </p:cNvCxnSpPr>
          <p:nvPr/>
        </p:nvCxnSpPr>
        <p:spPr>
          <a:xfrm>
            <a:off x="23950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38"/>
          <p:cNvCxnSpPr>
            <a:endCxn id="552" idx="1"/>
          </p:cNvCxnSpPr>
          <p:nvPr/>
        </p:nvCxnSpPr>
        <p:spPr>
          <a:xfrm flipH="1">
            <a:off x="25477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Oval 39"/>
          <p:cNvSpPr/>
          <p:nvPr/>
        </p:nvSpPr>
        <p:spPr>
          <a:xfrm>
            <a:off x="11430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40"/>
          <p:cNvSpPr/>
          <p:nvPr/>
        </p:nvSpPr>
        <p:spPr>
          <a:xfrm>
            <a:off x="14479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AutoShape 41"/>
          <p:cNvCxnSpPr>
            <a:endCxn id="555" idx="7"/>
          </p:cNvCxnSpPr>
          <p:nvPr/>
        </p:nvCxnSpPr>
        <p:spPr>
          <a:xfrm>
            <a:off x="13287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AutoShape 42"/>
          <p:cNvCxnSpPr>
            <a:endCxn id="556" idx="1"/>
          </p:cNvCxnSpPr>
          <p:nvPr/>
        </p:nvCxnSpPr>
        <p:spPr>
          <a:xfrm flipH="1">
            <a:off x="14803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9" name="Oval 43"/>
          <p:cNvSpPr/>
          <p:nvPr/>
        </p:nvSpPr>
        <p:spPr>
          <a:xfrm>
            <a:off x="72388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75438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5"/>
          <p:cNvCxnSpPr>
            <a:endCxn id="559" idx="7"/>
          </p:cNvCxnSpPr>
          <p:nvPr/>
        </p:nvCxnSpPr>
        <p:spPr>
          <a:xfrm>
            <a:off x="74242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AutoShape 46"/>
          <p:cNvCxnSpPr>
            <a:endCxn id="560" idx="1"/>
          </p:cNvCxnSpPr>
          <p:nvPr/>
        </p:nvCxnSpPr>
        <p:spPr>
          <a:xfrm flipH="1">
            <a:off x="75769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Oval 47"/>
          <p:cNvSpPr/>
          <p:nvPr/>
        </p:nvSpPr>
        <p:spPr>
          <a:xfrm>
            <a:off x="7772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48"/>
          <p:cNvSpPr/>
          <p:nvPr/>
        </p:nvSpPr>
        <p:spPr>
          <a:xfrm>
            <a:off x="8077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AutoShape 49"/>
          <p:cNvCxnSpPr>
            <a:endCxn id="563" idx="7"/>
          </p:cNvCxnSpPr>
          <p:nvPr/>
        </p:nvCxnSpPr>
        <p:spPr>
          <a:xfrm>
            <a:off x="79581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50"/>
          <p:cNvCxnSpPr>
            <a:endCxn id="564" idx="1"/>
          </p:cNvCxnSpPr>
          <p:nvPr/>
        </p:nvCxnSpPr>
        <p:spPr>
          <a:xfrm flipH="1">
            <a:off x="81097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Oval 51"/>
          <p:cNvSpPr/>
          <p:nvPr/>
        </p:nvSpPr>
        <p:spPr>
          <a:xfrm>
            <a:off x="6629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52"/>
          <p:cNvSpPr/>
          <p:nvPr/>
        </p:nvSpPr>
        <p:spPr>
          <a:xfrm>
            <a:off x="6934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AutoShape 53"/>
          <p:cNvCxnSpPr>
            <a:endCxn id="567" idx="7"/>
          </p:cNvCxnSpPr>
          <p:nvPr/>
        </p:nvCxnSpPr>
        <p:spPr>
          <a:xfrm>
            <a:off x="68151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54"/>
          <p:cNvCxnSpPr>
            <a:endCxn id="568" idx="1"/>
          </p:cNvCxnSpPr>
          <p:nvPr/>
        </p:nvCxnSpPr>
        <p:spPr>
          <a:xfrm flipH="1">
            <a:off x="69667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Oval 55"/>
          <p:cNvSpPr/>
          <p:nvPr/>
        </p:nvSpPr>
        <p:spPr>
          <a:xfrm>
            <a:off x="60958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56"/>
          <p:cNvSpPr/>
          <p:nvPr/>
        </p:nvSpPr>
        <p:spPr>
          <a:xfrm>
            <a:off x="64008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AutoShape 57"/>
          <p:cNvCxnSpPr>
            <a:endCxn id="571" idx="7"/>
          </p:cNvCxnSpPr>
          <p:nvPr/>
        </p:nvCxnSpPr>
        <p:spPr>
          <a:xfrm>
            <a:off x="62812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AutoShape 58"/>
          <p:cNvCxnSpPr>
            <a:endCxn id="572" idx="1"/>
          </p:cNvCxnSpPr>
          <p:nvPr/>
        </p:nvCxnSpPr>
        <p:spPr>
          <a:xfrm flipH="1">
            <a:off x="64339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Oval 59"/>
          <p:cNvSpPr/>
          <p:nvPr/>
        </p:nvSpPr>
        <p:spPr>
          <a:xfrm>
            <a:off x="3581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60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AutoShape 61"/>
          <p:cNvCxnSpPr>
            <a:endCxn id="576" idx="0"/>
          </p:cNvCxnSpPr>
          <p:nvPr/>
        </p:nvCxnSpPr>
        <p:spPr>
          <a:xfrm>
            <a:off x="2933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Oval 62"/>
          <p:cNvSpPr/>
          <p:nvPr/>
        </p:nvSpPr>
        <p:spPr>
          <a:xfrm>
            <a:off x="3200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AutoShape 63"/>
          <p:cNvCxnSpPr>
            <a:endCxn id="578" idx="0"/>
          </p:cNvCxnSpPr>
          <p:nvPr/>
        </p:nvCxnSpPr>
        <p:spPr>
          <a:xfrm>
            <a:off x="331452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Oval 64"/>
          <p:cNvSpPr/>
          <p:nvPr/>
        </p:nvSpPr>
        <p:spPr>
          <a:xfrm>
            <a:off x="5105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AutoShape 65"/>
          <p:cNvCxnSpPr>
            <a:endCxn id="580" idx="0"/>
          </p:cNvCxnSpPr>
          <p:nvPr/>
        </p:nvCxnSpPr>
        <p:spPr>
          <a:xfrm>
            <a:off x="5219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Oval 66"/>
          <p:cNvSpPr/>
          <p:nvPr/>
        </p:nvSpPr>
        <p:spPr>
          <a:xfrm>
            <a:off x="4724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AutoShape 67"/>
          <p:cNvCxnSpPr>
            <a:endCxn id="582" idx="0"/>
          </p:cNvCxnSpPr>
          <p:nvPr/>
        </p:nvCxnSpPr>
        <p:spPr>
          <a:xfrm>
            <a:off x="4838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Oval 68"/>
          <p:cNvSpPr/>
          <p:nvPr/>
        </p:nvSpPr>
        <p:spPr>
          <a:xfrm>
            <a:off x="44197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AutoShape 69"/>
          <p:cNvCxnSpPr>
            <a:endCxn id="584" idx="0"/>
          </p:cNvCxnSpPr>
          <p:nvPr/>
        </p:nvCxnSpPr>
        <p:spPr>
          <a:xfrm>
            <a:off x="45334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Oval 70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7" name="AutoShape 71"/>
          <p:cNvCxnSpPr>
            <a:endCxn id="586" idx="0"/>
          </p:cNvCxnSpPr>
          <p:nvPr/>
        </p:nvCxnSpPr>
        <p:spPr>
          <a:xfrm>
            <a:off x="4076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Oval 72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AutoShape 73"/>
          <p:cNvCxnSpPr>
            <a:endCxn id="588" idx="0"/>
          </p:cNvCxnSpPr>
          <p:nvPr/>
        </p:nvCxnSpPr>
        <p:spPr>
          <a:xfrm>
            <a:off x="3695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0" name="Oval 74"/>
          <p:cNvSpPr/>
          <p:nvPr/>
        </p:nvSpPr>
        <p:spPr>
          <a:xfrm>
            <a:off x="5486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AutoShape 75"/>
          <p:cNvCxnSpPr>
            <a:endCxn id="590" idx="0"/>
          </p:cNvCxnSpPr>
          <p:nvPr/>
        </p:nvCxnSpPr>
        <p:spPr>
          <a:xfrm>
            <a:off x="560052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Oval 76"/>
          <p:cNvSpPr/>
          <p:nvPr/>
        </p:nvSpPr>
        <p:spPr>
          <a:xfrm>
            <a:off x="5867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AutoShape 77"/>
          <p:cNvCxnSpPr>
            <a:endCxn id="592" idx="0"/>
          </p:cNvCxnSpPr>
          <p:nvPr/>
        </p:nvCxnSpPr>
        <p:spPr>
          <a:xfrm>
            <a:off x="5981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4" name="Oval 78"/>
          <p:cNvSpPr/>
          <p:nvPr/>
        </p:nvSpPr>
        <p:spPr>
          <a:xfrm>
            <a:off x="236232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9"/>
          <p:cNvSpPr/>
          <p:nvPr/>
        </p:nvSpPr>
        <p:spPr>
          <a:xfrm>
            <a:off x="380988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80"/>
          <p:cNvSpPr/>
          <p:nvPr/>
        </p:nvSpPr>
        <p:spPr>
          <a:xfrm>
            <a:off x="510552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81"/>
          <p:cNvSpPr/>
          <p:nvPr/>
        </p:nvSpPr>
        <p:spPr>
          <a:xfrm>
            <a:off x="79246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82"/>
          <p:cNvSpPr/>
          <p:nvPr/>
        </p:nvSpPr>
        <p:spPr>
          <a:xfrm>
            <a:off x="7391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83"/>
          <p:cNvSpPr/>
          <p:nvPr/>
        </p:nvSpPr>
        <p:spPr>
          <a:xfrm>
            <a:off x="67816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84"/>
          <p:cNvSpPr/>
          <p:nvPr/>
        </p:nvSpPr>
        <p:spPr>
          <a:xfrm>
            <a:off x="6248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85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86"/>
          <p:cNvSpPr/>
          <p:nvPr/>
        </p:nvSpPr>
        <p:spPr>
          <a:xfrm>
            <a:off x="23623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87"/>
          <p:cNvSpPr/>
          <p:nvPr/>
        </p:nvSpPr>
        <p:spPr>
          <a:xfrm>
            <a:off x="18288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88"/>
          <p:cNvSpPr/>
          <p:nvPr/>
        </p:nvSpPr>
        <p:spPr>
          <a:xfrm>
            <a:off x="1295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89"/>
          <p:cNvSpPr/>
          <p:nvPr/>
        </p:nvSpPr>
        <p:spPr>
          <a:xfrm>
            <a:off x="32004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90"/>
          <p:cNvSpPr/>
          <p:nvPr/>
        </p:nvSpPr>
        <p:spPr>
          <a:xfrm>
            <a:off x="2869200" y="1879560"/>
            <a:ext cx="34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Breadth-firs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9706-B69F-4FD1-98D4-67D5AA4A6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Thread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leneck is network delay in downloading individual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to have multiple threads running in parallel each requesting a page from a different h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URL’s to threads to guarantee equitable distribution of requests across different hosts to maximize through-put and avoid overloading any single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Google spider had multiple co-ordinated crawlers with about 300 threads each, together able to download over 100 pages per seco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4D4-4756-411E-A08D-24FEEEB87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ed/Focus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queue to explore more “interesting” pages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tyles of foc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pic-Direct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nk-Direct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726B-914C-4F39-8CFB-41874775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ic-Direct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desired topic description or sample pages of interest are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queue of links by the similarity (e.g. cosine metric) of their source pages and/or anchor text to this topic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tially explores pages related to a specific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surfer assignment in AI cou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B8AD-F12F-494B-9E32-372669B8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-Direct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links and keep track of in-degree and out-degree of each page encount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queue to prefer popular pages with many in-coming link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queue to prefer summary pages with many out-going link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u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6508-C030-48C4-8098-42A6DACD0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eeping Spidered Pages Up to Da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is very dynamic: many new pages, updated pages, deleted pag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ally check spidered pages for updates and dele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st look at header info (e.g. META tags on last update) to determine if page has changed, only reload entire page if need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 how often each page is updated and preferentially return to pages which are historically more dynam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rentially update pages that are accessed more often to optimize freshness of more popular pa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DCAC-8E6F-4ABC-8040-62BAAC35C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arch Strategies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9" name="Oval 3"/>
          <p:cNvSpPr/>
          <p:nvPr/>
        </p:nvSpPr>
        <p:spPr>
          <a:xfrm>
            <a:off x="64008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4"/>
          <p:cNvSpPr/>
          <p:nvPr/>
        </p:nvSpPr>
        <p:spPr>
          <a:xfrm>
            <a:off x="441972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AutoShape 5"/>
          <p:cNvCxnSpPr>
            <a:stCxn id="610" idx="3"/>
          </p:cNvCxnSpPr>
          <p:nvPr/>
        </p:nvCxnSpPr>
        <p:spPr>
          <a:xfrm flipH="1">
            <a:off x="4004640" y="3090600"/>
            <a:ext cx="4482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6"/>
          <p:cNvCxnSpPr>
            <a:stCxn id="610" idx="5"/>
          </p:cNvCxnSpPr>
          <p:nvPr/>
        </p:nvCxnSpPr>
        <p:spPr>
          <a:xfrm>
            <a:off x="4614480" y="3090600"/>
            <a:ext cx="5241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7"/>
          <p:cNvCxnSpPr>
            <a:stCxn id="610" idx="6"/>
            <a:endCxn id="609" idx="1"/>
          </p:cNvCxnSpPr>
          <p:nvPr/>
        </p:nvCxnSpPr>
        <p:spPr>
          <a:xfrm>
            <a:off x="4647960" y="3009960"/>
            <a:ext cx="178668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AutoShape 8"/>
          <p:cNvCxnSpPr/>
          <p:nvPr/>
        </p:nvCxnSpPr>
        <p:spPr>
          <a:xfrm flipH="1">
            <a:off x="2590560" y="3009600"/>
            <a:ext cx="1829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AutoShape 9"/>
          <p:cNvCxnSpPr/>
          <p:nvPr/>
        </p:nvCxnSpPr>
        <p:spPr>
          <a:xfrm flipH="1">
            <a:off x="1523160" y="377208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AutoShape 10"/>
          <p:cNvCxnSpPr/>
          <p:nvPr/>
        </p:nvCxnSpPr>
        <p:spPr>
          <a:xfrm flipH="1">
            <a:off x="2023560" y="3852360"/>
            <a:ext cx="3722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AutoShape 11"/>
          <p:cNvCxnSpPr/>
          <p:nvPr/>
        </p:nvCxnSpPr>
        <p:spPr>
          <a:xfrm flipH="1">
            <a:off x="2395080" y="3852360"/>
            <a:ext cx="1627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AutoShape 12"/>
          <p:cNvCxnSpPr/>
          <p:nvPr/>
        </p:nvCxnSpPr>
        <p:spPr>
          <a:xfrm>
            <a:off x="2590560" y="3771720"/>
            <a:ext cx="2620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Oval 13"/>
          <p:cNvSpPr/>
          <p:nvPr/>
        </p:nvSpPr>
        <p:spPr>
          <a:xfrm>
            <a:off x="3962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4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AutoShape 15"/>
          <p:cNvCxnSpPr/>
          <p:nvPr/>
        </p:nvCxnSpPr>
        <p:spPr>
          <a:xfrm flipH="1">
            <a:off x="3428640" y="3772080"/>
            <a:ext cx="3816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AutoShape 16"/>
          <p:cNvCxnSpPr/>
          <p:nvPr/>
        </p:nvCxnSpPr>
        <p:spPr>
          <a:xfrm flipH="1">
            <a:off x="3776040" y="3852360"/>
            <a:ext cx="673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AutoShape 17"/>
          <p:cNvCxnSpPr>
            <a:endCxn id="619" idx="1"/>
          </p:cNvCxnSpPr>
          <p:nvPr/>
        </p:nvCxnSpPr>
        <p:spPr>
          <a:xfrm flipH="1">
            <a:off x="3994920" y="385236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AutoShape 18"/>
          <p:cNvCxnSpPr>
            <a:endCxn id="620" idx="1"/>
          </p:cNvCxnSpPr>
          <p:nvPr/>
        </p:nvCxnSpPr>
        <p:spPr>
          <a:xfrm>
            <a:off x="4038120" y="3771720"/>
            <a:ext cx="4150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5" name="Oval 19"/>
          <p:cNvSpPr/>
          <p:nvPr/>
        </p:nvSpPr>
        <p:spPr>
          <a:xfrm>
            <a:off x="5105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20"/>
          <p:cNvSpPr/>
          <p:nvPr/>
        </p:nvSpPr>
        <p:spPr>
          <a:xfrm>
            <a:off x="54864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21"/>
          <p:cNvSpPr/>
          <p:nvPr/>
        </p:nvSpPr>
        <p:spPr>
          <a:xfrm>
            <a:off x="5867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22"/>
          <p:cNvSpPr/>
          <p:nvPr/>
        </p:nvSpPr>
        <p:spPr>
          <a:xfrm>
            <a:off x="4724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AutoShape 23"/>
          <p:cNvCxnSpPr>
            <a:endCxn id="628" idx="6"/>
          </p:cNvCxnSpPr>
          <p:nvPr/>
        </p:nvCxnSpPr>
        <p:spPr>
          <a:xfrm flipH="1">
            <a:off x="4952520" y="3772080"/>
            <a:ext cx="1533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AutoShape 24"/>
          <p:cNvCxnSpPr>
            <a:endCxn id="625" idx="7"/>
          </p:cNvCxnSpPr>
          <p:nvPr/>
        </p:nvCxnSpPr>
        <p:spPr>
          <a:xfrm>
            <a:off x="5138640" y="3852360"/>
            <a:ext cx="1627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AutoShape 25"/>
          <p:cNvCxnSpPr>
            <a:endCxn id="626" idx="1"/>
          </p:cNvCxnSpPr>
          <p:nvPr/>
        </p:nvCxnSpPr>
        <p:spPr>
          <a:xfrm>
            <a:off x="5300280" y="3852360"/>
            <a:ext cx="2199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2" name="AutoShape 26"/>
          <p:cNvCxnSpPr>
            <a:endCxn id="627" idx="1"/>
          </p:cNvCxnSpPr>
          <p:nvPr/>
        </p:nvCxnSpPr>
        <p:spPr>
          <a:xfrm>
            <a:off x="5334120" y="3771720"/>
            <a:ext cx="56736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27"/>
          <p:cNvCxnSpPr/>
          <p:nvPr/>
        </p:nvCxnSpPr>
        <p:spPr>
          <a:xfrm>
            <a:off x="6400800" y="3772080"/>
            <a:ext cx="76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28"/>
          <p:cNvCxnSpPr/>
          <p:nvPr/>
        </p:nvCxnSpPr>
        <p:spPr>
          <a:xfrm>
            <a:off x="6434280" y="3852360"/>
            <a:ext cx="5436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AutoShape 29"/>
          <p:cNvCxnSpPr/>
          <p:nvPr/>
        </p:nvCxnSpPr>
        <p:spPr>
          <a:xfrm>
            <a:off x="6595920" y="3852360"/>
            <a:ext cx="829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AutoShape 30"/>
          <p:cNvCxnSpPr/>
          <p:nvPr/>
        </p:nvCxnSpPr>
        <p:spPr>
          <a:xfrm>
            <a:off x="6629040" y="3771720"/>
            <a:ext cx="13294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7" name="Oval 31"/>
          <p:cNvSpPr/>
          <p:nvPr/>
        </p:nvSpPr>
        <p:spPr>
          <a:xfrm>
            <a:off x="1676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32"/>
          <p:cNvSpPr/>
          <p:nvPr/>
        </p:nvSpPr>
        <p:spPr>
          <a:xfrm>
            <a:off x="19810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9" name="AutoShape 33"/>
          <p:cNvCxnSpPr>
            <a:endCxn id="637" idx="7"/>
          </p:cNvCxnSpPr>
          <p:nvPr/>
        </p:nvCxnSpPr>
        <p:spPr>
          <a:xfrm>
            <a:off x="186228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0" name="AutoShape 34"/>
          <p:cNvCxnSpPr>
            <a:endCxn id="638" idx="1"/>
          </p:cNvCxnSpPr>
          <p:nvPr/>
        </p:nvCxnSpPr>
        <p:spPr>
          <a:xfrm flipH="1">
            <a:off x="201420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Oval 35"/>
          <p:cNvSpPr/>
          <p:nvPr/>
        </p:nvSpPr>
        <p:spPr>
          <a:xfrm>
            <a:off x="22096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36"/>
          <p:cNvSpPr/>
          <p:nvPr/>
        </p:nvSpPr>
        <p:spPr>
          <a:xfrm>
            <a:off x="25146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AutoShape 37"/>
          <p:cNvCxnSpPr>
            <a:endCxn id="641" idx="7"/>
          </p:cNvCxnSpPr>
          <p:nvPr/>
        </p:nvCxnSpPr>
        <p:spPr>
          <a:xfrm>
            <a:off x="23950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38"/>
          <p:cNvCxnSpPr>
            <a:endCxn id="642" idx="1"/>
          </p:cNvCxnSpPr>
          <p:nvPr/>
        </p:nvCxnSpPr>
        <p:spPr>
          <a:xfrm flipH="1">
            <a:off x="25477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Oval 39"/>
          <p:cNvSpPr/>
          <p:nvPr/>
        </p:nvSpPr>
        <p:spPr>
          <a:xfrm>
            <a:off x="11430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40"/>
          <p:cNvSpPr/>
          <p:nvPr/>
        </p:nvSpPr>
        <p:spPr>
          <a:xfrm>
            <a:off x="14479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AutoShape 41"/>
          <p:cNvCxnSpPr>
            <a:endCxn id="645" idx="7"/>
          </p:cNvCxnSpPr>
          <p:nvPr/>
        </p:nvCxnSpPr>
        <p:spPr>
          <a:xfrm>
            <a:off x="13287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AutoShape 42"/>
          <p:cNvCxnSpPr>
            <a:endCxn id="646" idx="1"/>
          </p:cNvCxnSpPr>
          <p:nvPr/>
        </p:nvCxnSpPr>
        <p:spPr>
          <a:xfrm flipH="1">
            <a:off x="14803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Oval 43"/>
          <p:cNvSpPr/>
          <p:nvPr/>
        </p:nvSpPr>
        <p:spPr>
          <a:xfrm>
            <a:off x="72388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44"/>
          <p:cNvSpPr/>
          <p:nvPr/>
        </p:nvSpPr>
        <p:spPr>
          <a:xfrm>
            <a:off x="75438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1" name="AutoShape 45"/>
          <p:cNvCxnSpPr>
            <a:endCxn id="649" idx="7"/>
          </p:cNvCxnSpPr>
          <p:nvPr/>
        </p:nvCxnSpPr>
        <p:spPr>
          <a:xfrm>
            <a:off x="74242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46"/>
          <p:cNvCxnSpPr>
            <a:endCxn id="650" idx="1"/>
          </p:cNvCxnSpPr>
          <p:nvPr/>
        </p:nvCxnSpPr>
        <p:spPr>
          <a:xfrm flipH="1">
            <a:off x="75769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3" name="Oval 47"/>
          <p:cNvSpPr/>
          <p:nvPr/>
        </p:nvSpPr>
        <p:spPr>
          <a:xfrm>
            <a:off x="7772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48"/>
          <p:cNvSpPr/>
          <p:nvPr/>
        </p:nvSpPr>
        <p:spPr>
          <a:xfrm>
            <a:off x="8077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AutoShape 49"/>
          <p:cNvCxnSpPr>
            <a:endCxn id="653" idx="7"/>
          </p:cNvCxnSpPr>
          <p:nvPr/>
        </p:nvCxnSpPr>
        <p:spPr>
          <a:xfrm>
            <a:off x="79581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AutoShape 50"/>
          <p:cNvCxnSpPr>
            <a:endCxn id="654" idx="1"/>
          </p:cNvCxnSpPr>
          <p:nvPr/>
        </p:nvCxnSpPr>
        <p:spPr>
          <a:xfrm flipH="1">
            <a:off x="81097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Oval 51"/>
          <p:cNvSpPr/>
          <p:nvPr/>
        </p:nvSpPr>
        <p:spPr>
          <a:xfrm>
            <a:off x="6629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52"/>
          <p:cNvSpPr/>
          <p:nvPr/>
        </p:nvSpPr>
        <p:spPr>
          <a:xfrm>
            <a:off x="6934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AutoShape 53"/>
          <p:cNvCxnSpPr>
            <a:endCxn id="657" idx="7"/>
          </p:cNvCxnSpPr>
          <p:nvPr/>
        </p:nvCxnSpPr>
        <p:spPr>
          <a:xfrm>
            <a:off x="68151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AutoShape 54"/>
          <p:cNvCxnSpPr>
            <a:endCxn id="658" idx="1"/>
          </p:cNvCxnSpPr>
          <p:nvPr/>
        </p:nvCxnSpPr>
        <p:spPr>
          <a:xfrm flipH="1">
            <a:off x="69667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Oval 55"/>
          <p:cNvSpPr/>
          <p:nvPr/>
        </p:nvSpPr>
        <p:spPr>
          <a:xfrm>
            <a:off x="60958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56"/>
          <p:cNvSpPr/>
          <p:nvPr/>
        </p:nvSpPr>
        <p:spPr>
          <a:xfrm>
            <a:off x="64008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AutoShape 57"/>
          <p:cNvCxnSpPr>
            <a:endCxn id="661" idx="7"/>
          </p:cNvCxnSpPr>
          <p:nvPr/>
        </p:nvCxnSpPr>
        <p:spPr>
          <a:xfrm>
            <a:off x="62812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4" name="AutoShape 58"/>
          <p:cNvCxnSpPr>
            <a:endCxn id="662" idx="1"/>
          </p:cNvCxnSpPr>
          <p:nvPr/>
        </p:nvCxnSpPr>
        <p:spPr>
          <a:xfrm flipH="1">
            <a:off x="64339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5" name="Oval 59"/>
          <p:cNvSpPr/>
          <p:nvPr/>
        </p:nvSpPr>
        <p:spPr>
          <a:xfrm>
            <a:off x="3581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60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AutoShape 61"/>
          <p:cNvCxnSpPr>
            <a:endCxn id="666" idx="0"/>
          </p:cNvCxnSpPr>
          <p:nvPr/>
        </p:nvCxnSpPr>
        <p:spPr>
          <a:xfrm>
            <a:off x="2933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Oval 62"/>
          <p:cNvSpPr/>
          <p:nvPr/>
        </p:nvSpPr>
        <p:spPr>
          <a:xfrm>
            <a:off x="3200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AutoShape 63"/>
          <p:cNvCxnSpPr>
            <a:endCxn id="668" idx="0"/>
          </p:cNvCxnSpPr>
          <p:nvPr/>
        </p:nvCxnSpPr>
        <p:spPr>
          <a:xfrm>
            <a:off x="331452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0" name="Oval 64"/>
          <p:cNvSpPr/>
          <p:nvPr/>
        </p:nvSpPr>
        <p:spPr>
          <a:xfrm>
            <a:off x="5105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AutoShape 65"/>
          <p:cNvCxnSpPr>
            <a:endCxn id="670" idx="0"/>
          </p:cNvCxnSpPr>
          <p:nvPr/>
        </p:nvCxnSpPr>
        <p:spPr>
          <a:xfrm>
            <a:off x="5219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Oval 66"/>
          <p:cNvSpPr/>
          <p:nvPr/>
        </p:nvSpPr>
        <p:spPr>
          <a:xfrm>
            <a:off x="4724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AutoShape 67"/>
          <p:cNvCxnSpPr>
            <a:endCxn id="672" idx="0"/>
          </p:cNvCxnSpPr>
          <p:nvPr/>
        </p:nvCxnSpPr>
        <p:spPr>
          <a:xfrm>
            <a:off x="4838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4" name="Oval 68"/>
          <p:cNvSpPr/>
          <p:nvPr/>
        </p:nvSpPr>
        <p:spPr>
          <a:xfrm>
            <a:off x="44197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AutoShape 69"/>
          <p:cNvCxnSpPr>
            <a:endCxn id="674" idx="0"/>
          </p:cNvCxnSpPr>
          <p:nvPr/>
        </p:nvCxnSpPr>
        <p:spPr>
          <a:xfrm>
            <a:off x="45334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Oval 70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AutoShape 71"/>
          <p:cNvCxnSpPr>
            <a:endCxn id="676" idx="0"/>
          </p:cNvCxnSpPr>
          <p:nvPr/>
        </p:nvCxnSpPr>
        <p:spPr>
          <a:xfrm>
            <a:off x="4076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8" name="Oval 72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AutoShape 73"/>
          <p:cNvCxnSpPr>
            <a:endCxn id="678" idx="0"/>
          </p:cNvCxnSpPr>
          <p:nvPr/>
        </p:nvCxnSpPr>
        <p:spPr>
          <a:xfrm>
            <a:off x="3695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0" name="Oval 74"/>
          <p:cNvSpPr/>
          <p:nvPr/>
        </p:nvSpPr>
        <p:spPr>
          <a:xfrm>
            <a:off x="5486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AutoShape 75"/>
          <p:cNvCxnSpPr>
            <a:endCxn id="680" idx="0"/>
          </p:cNvCxnSpPr>
          <p:nvPr/>
        </p:nvCxnSpPr>
        <p:spPr>
          <a:xfrm>
            <a:off x="560052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Oval 76"/>
          <p:cNvSpPr/>
          <p:nvPr/>
        </p:nvSpPr>
        <p:spPr>
          <a:xfrm>
            <a:off x="5867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AutoShape 77"/>
          <p:cNvCxnSpPr>
            <a:endCxn id="682" idx="0"/>
          </p:cNvCxnSpPr>
          <p:nvPr/>
        </p:nvCxnSpPr>
        <p:spPr>
          <a:xfrm>
            <a:off x="5981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Oval 78"/>
          <p:cNvSpPr/>
          <p:nvPr/>
        </p:nvSpPr>
        <p:spPr>
          <a:xfrm>
            <a:off x="236232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Oval 79"/>
          <p:cNvSpPr/>
          <p:nvPr/>
        </p:nvSpPr>
        <p:spPr>
          <a:xfrm>
            <a:off x="380988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80"/>
          <p:cNvSpPr/>
          <p:nvPr/>
        </p:nvSpPr>
        <p:spPr>
          <a:xfrm>
            <a:off x="510552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81"/>
          <p:cNvSpPr/>
          <p:nvPr/>
        </p:nvSpPr>
        <p:spPr>
          <a:xfrm>
            <a:off x="79246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82"/>
          <p:cNvSpPr/>
          <p:nvPr/>
        </p:nvSpPr>
        <p:spPr>
          <a:xfrm>
            <a:off x="7391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83"/>
          <p:cNvSpPr/>
          <p:nvPr/>
        </p:nvSpPr>
        <p:spPr>
          <a:xfrm>
            <a:off x="67816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84"/>
          <p:cNvSpPr/>
          <p:nvPr/>
        </p:nvSpPr>
        <p:spPr>
          <a:xfrm>
            <a:off x="6248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85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86"/>
          <p:cNvSpPr/>
          <p:nvPr/>
        </p:nvSpPr>
        <p:spPr>
          <a:xfrm>
            <a:off x="23623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87"/>
          <p:cNvSpPr/>
          <p:nvPr/>
        </p:nvSpPr>
        <p:spPr>
          <a:xfrm>
            <a:off x="18288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88"/>
          <p:cNvSpPr/>
          <p:nvPr/>
        </p:nvSpPr>
        <p:spPr>
          <a:xfrm>
            <a:off x="1295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89"/>
          <p:cNvSpPr/>
          <p:nvPr/>
        </p:nvSpPr>
        <p:spPr>
          <a:xfrm>
            <a:off x="32004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90"/>
          <p:cNvSpPr/>
          <p:nvPr/>
        </p:nvSpPr>
        <p:spPr>
          <a:xfrm>
            <a:off x="3015360" y="1879560"/>
            <a:ext cx="31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epth-firs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B8E0-A592-4112-B5CC-1F70C1B06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arch Strategy Trade-Off’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dth-first explores uniformly outward from the root page but requires memory of all nodes on the previous level (exponential in depth).  Standard spider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-first requires memory of only depth times branching-factor (linear in depth) but gets “lost” pursuing a single th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trategies implementable using a queue of links (URL’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5C9D-EEF7-4737-956E-BA9FC3779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voiding Page Du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etect when revisiting a page that has already been spidered (web is a graph not a tre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fficiently index visited pages to allow rapid recognition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ee indexing (e.g. tri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shtab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page using URL as a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onicalize URL by using “redirected” URL from URLConnection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t detect duplicated or mirrored pag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page using textual content as a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quires first downloading p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49A6-301D-4E89-8F1F-27C1F22D3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ider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757080" y="1676520"/>
            <a:ext cx="763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nitialize queue (Q) with initial set of known URL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Until Q empty or page or time limit exhau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op URL, L, from front of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L is not to an HTML page (.gif, .jpeg, .ps, .pdf, .ppt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ntinu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already visited L, continu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Download page, P, for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cannot download P (e.g. 404 error, robot ex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ntinu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ndex P (e.g. add to inverted index or store cached cop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arse P to obtain list of new links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ppend N to the end of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7E6A-B15A-4F84-A357-C90F61625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ueing Strate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new links added to the queue determines search strate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(append to end of Q) gives breadth-first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O (add to front of Q) gives depth-first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ally ordering the Q gives a “focused crawler” that directs its search towards “interesting”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94F-86F9-4EEE-A789-0F97044B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tricting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spider to a particular s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move links to other sites from Q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spider to a particular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move links not in the specified director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y page-owner restrictions (robot exclu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16-10-09T15:00:56Z</dcterms:modified>
  <cp:revision>48</cp:revision>
  <dc:subject/>
  <dc:title>Intelligent Information Retrieval and Web Search</dc:title>
</cp:coreProperties>
</file>