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CA4F-0FDF-4A66-9A2D-E39AB02C3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C1F9-6DD5-43AB-B82C-DE1502BB6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736E-CA65-4B5F-BA53-5F628FD3E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69BB-F754-43A7-83AC-9F70D1DC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7B72-5AE2-4C8D-AED8-8B3661E75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7CE1-5564-4EDE-B784-FC0D388F5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4B1D-B572-4EA6-A873-64DE4041E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F53E-81C1-4D6F-9981-6D1C20381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8B4F-F3EA-4366-BAA0-2DA398112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CA38-38B4-4E12-945D-2DFB4DF33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3A1E-2015-49CB-BFC5-FA56ACF4A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CA2E-8272-413F-8609-EEF9B5AE0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C9F3-9E6D-44C2-B9FE-B46CF4FBF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0DF1-27ED-4A61-B303-1FFFC25C4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2A9-49BA-40C5-8394-9558D19D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C4D6-80AD-47BC-A467-25CCAD014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7C2D-D5B0-4F26-88E1-C05E765E3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BA09-3233-4770-81CB-E113FD69D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4B55-D255-4186-A4E1-2D0728819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E1D8-2DA1-4D50-BBA9-B186058B2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9DEA-2547-4BFB-80CF-A544E8781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62A7-9B9F-4694-939C-144FBC371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395C-6AD5-4F42-8102-19C4DF12F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748E-FE3C-452D-BBAA-ED5628872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4C23-B691-436C-A3D5-D2C918B43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5371-E100-461C-9C36-B8B848258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AE07-DF80-4A91-A762-BB8ACB0AF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655A-E50C-4787-88C0-5DD008953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D58C-3B9A-492A-99DC-B742614B7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0FE3-9BD6-4B31-95D6-877DB8E04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F137-FF98-4565-A156-C0E8755C9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36FE-10CC-45AF-9131-38344A94D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8803-9EEB-4A37-8D03-9978B502B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63FA-4548-4F81-AA46-A41EBDF94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AB5A-D811-4EB3-9465-3D984E1D7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EE44-2C7C-4FF7-9D28-1E000F17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FAAE-C1FF-4699-AEB4-9C0E734CE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D0EE-A98A-4463-A8CD-0BBE205D5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68F6-F5FF-4324-A451-43272BBE7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A635-ACCD-4AC6-82AE-59F8DB3F7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119B-0E8D-4EA0-B471-961DF6DE1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BB5C-959C-4B3A-B9B3-1B0804CD1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D239-55B7-46AC-AD7F-E3B0247E2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4446-F00D-4D27-BAE2-4B10F0FD3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2E41-DF9D-4938-9A0F-21BA5ADAB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4306-7BF7-40CE-A382-D7F2C07D3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FBE0-CA6C-46F7-A7EF-2996054AA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AB3F-83CB-4C4D-AEC1-3D36DEDF3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5BEE-F870-4A89-B277-D2B3D05F6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48AE-2A02-414E-99FA-2E4052DE0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E832-9B78-4FA1-8C5C-CE51FAC52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B185-B68F-48FC-B6D8-45A8AF857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02054-226D-484B-9C17-581A95D1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4113-7F9C-4F3F-87FC-DAEF868F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95DE5A-B219-44E1-8F37-A7F2B2A7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DC2135-CAB9-4B21-914C-5CDD7A71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27E784-C52D-4F0C-AF59-394213F5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573742-F7E2-41C6-8BA9-ED60CA4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19F729-98CF-4528-ACD6-BA00EDBF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0151F8-43F3-41D1-9312-BCC08E2E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72DF17-0445-413F-8280-ACD299DA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F5981E-C858-4621-89A9-90C921D3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C348E5-B916-458D-805E-EDC5D2DF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AA52D4-BBA6-4ADB-9187-9E988A97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BDAE-425C-4C4A-A445-D02AD564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83E5AE-9807-4604-8A4E-A8ACA5A5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0B4F70-7B06-4876-AA0F-9704D653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FEA229-7A13-4297-B5C3-7E6FA24E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61AEF8-0441-4907-A59F-AB10437A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46E5B7-5633-4544-ABB9-94D48224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40A178-2267-4A8A-91F6-2188B1AF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61C64A-C40C-4F1E-B692-C73FB10C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F21193-AFC8-4DB0-AB6E-F0867429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AAA565-3B9B-4613-95E3-492847DF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B52181-C8A0-4E5C-B0A2-3AEB8A26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5501-75CB-4180-8D82-BB6F1BAC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76ECAD-E960-4ADA-B282-6DA7DA86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185A89-13B5-4648-B49E-D00108EB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348B18-13E1-4B92-B44B-BE811B54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2D8619-75C8-4777-B3CC-1541FAB9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F77A43-200C-4B45-8B1A-97A07FA2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2F92F6-D9C7-42B2-93BC-8F9079EE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302D70-E7B2-4685-BDC7-1DBA5643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FC4086-7E50-400E-ABCD-7003ADDA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FAC7FE-D691-4077-8B81-0EE5A52E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36399F-BB99-4A92-9EE3-33FA8494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FF4B1-1400-48F8-B064-536CA401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822D4E-ACF5-4AE9-B1CE-B17A9131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E3F071-E208-489C-B297-D27BD6B5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873048-7DB1-4E17-B263-C16800B7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A668D1-B8A5-429A-B4E1-B18EF4BE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6405A0-1220-433D-A14D-2936E9A9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C26DA3-CD39-408A-A8AD-C137A5C1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FD47F9-851D-4706-AAEE-F2A28FEE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475E9F-9472-4206-A3EB-A8F8068E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48348A-0071-4C49-BFB2-F2544D10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7BA5E3-2DB7-40D7-92F1-5B565D7E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8F147-D869-4CB3-A1E3-16848715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B5DB3A-24D3-4670-8BD1-726FE0E7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233596-6943-4062-9ED3-934F5CB1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9149F2-21C9-4734-B21A-697EF9FF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A83D16-5AD1-4D93-9227-9519933F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28579A-9F09-4337-851A-DEE0D78D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2BCBCC-28F9-4825-94CC-06DF854D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239002-BE0E-458F-B698-9BD72624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8237B7-59E2-4B80-92AA-FB83E043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90BF80-71CC-4F5E-AFE0-366DE362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FAEB31-4223-4717-AC2D-B9C66732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50FCA-466E-49A9-B7A8-3B1F4480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55A8FF-E231-4A11-96BB-0DDE25F1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D8A8A3-74FE-482F-816A-AF16CB94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0952C3-8CE8-4B93-92C3-3A8C1D8C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BE480D-5159-4DC8-8CDF-615D146B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9ED323-01ED-40C8-A539-BEBD45A7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A2C828-9C9F-431F-9F4F-8A56CB59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2D7AA4-4B65-498C-955A-D622B7D7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5F66B-5F12-410C-822B-C250ABB1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203F4-40A5-42AF-AB32-918C0696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27B67-0653-4CB4-8D10-03F0F70E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F7FE1-75A5-4CCB-9CA2-FA8CDA1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4B34-9495-4FE1-94F2-6C690FBE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E0658-D83E-4624-83F5-D62D3C8E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0409D-EB5E-49FB-B705-6D347608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A59F8-4CDB-42C6-B0B1-A1F05F2F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58924-96A5-4B9E-B01B-5E3B449D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EDF00-4999-401C-BA58-D87042BB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12AD5-BD85-4578-A211-D2A6E9AE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84208-99CB-4633-B931-5DF50A06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8D296-DFF0-4609-99E6-B3F10B24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A90E8-64BB-43B6-9A69-B1DB9053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1D14C-8231-4877-B76A-23BB9233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54865-BF4C-4F1A-A70D-F1C4406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24670-001A-478A-9BF4-FDD152B4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84BCF-AB07-4026-9B1B-11252F83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B4260-02A9-45AA-BF36-C7BC3622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B4715-3AFE-44BC-82E7-32EB306F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D7CD4-42E8-4A9E-BB8A-685A463E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7996C-DE54-497B-B3A3-20D41E2F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014CE-31AD-45C1-8FC9-2803C6F5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16E262-3932-4626-94CB-B72DA19F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6B129-D614-451C-AFE2-BF7BFC5E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23DBF-B3D5-4352-A6D7-FC012FC7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6414-9E1F-4FF1-B4F2-B248099C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7C775-7471-4EB7-9870-7E73A549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C8D39-DABC-4DF5-A467-37647B2C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ABB26-8469-4547-B347-1A3146AC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A78B5-ECE7-4C73-AFB4-76F013CC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9CBED-6A47-445D-8255-A8292DF6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8CD0D-1579-4381-8E00-8F738796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D424F-335C-4495-948F-498542FB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33BB2-6D31-43B9-B157-D51E314F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CE66C-75DF-4D68-B3CE-0ACF1DC6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DED2A-2986-418E-9304-8225A283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0C2D-EEB4-4751-BE86-8C0B11B9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8C978-0BA7-4147-B756-7D272E62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B6A06-0E17-4657-9FCB-8E9A898B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10461E-71B3-40C9-9166-557165BD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D5213-B31B-4A79-B904-96D70E1E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95748-0081-4A44-A9D7-1063CD43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36073-1547-43C1-9AF0-911FABDD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275EF-98F0-4CC9-AD61-7B27D092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FFB48-2B4B-49EF-AEF5-3AE80E94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FE247-1D99-4344-A849-F396BE57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E7EC4-8093-4F33-8169-8293E1AB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6CFD-942F-49C5-B318-33936DD9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A3C01-886A-4837-9814-8EE41ED3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7F4F1-972F-4174-BF4D-37AFE35E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0F100-65B1-4C28-8868-EDD872DC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EC71C-1030-4B3B-8691-9E07F604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A6930-3587-4B94-8BCC-D961FB58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B907A-B761-4C7F-9554-8EFEB268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DE807A-472E-4735-A0DA-FE94D742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1AAC1-7A1C-418F-9EED-B0B70823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4DD9A-A546-4516-B24A-1D187BCF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E5143-EA86-4119-8AC6-EC4A588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B7D0-A52F-4460-994F-0253BBDC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3B506B-608D-4075-AD85-90653C66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DBBEA-3B70-4D47-9BEF-9564A31A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D6392-4B5B-40E7-8CE3-6647AF83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C8D1B-BCEB-4A04-951F-95CAE82F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49E9E-56DB-40FC-BA01-11E42393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3A339B-712E-4D06-A6F7-E289AC46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38D17-4FC2-4C6E-8E1E-48FE472E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3C3A03-18D1-42BF-BD1C-6428FB1C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7BA939-40CE-415A-B121-A96ACECF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BCC9C-44B9-4935-A35D-4C647072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47E3-F1ED-4DC9-8238-B04825B5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8BC7A-812E-46DF-AB19-E49F2877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0FB933-BE78-4557-9FA7-FFA91148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000D0-DCC3-481A-9C42-A9FB311A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159FC-565A-4E50-A4E6-1EC1BA7E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70EB7-E0FC-4C46-B3F2-DF89CFF1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73F299-671D-4B34-94E1-CE2CE5D8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FC9815-DE84-436F-84B0-176FF24B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540361-1C71-432F-963D-E432B272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479012-EB68-43CD-8B13-31A26BA0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E28FB4-3C11-478A-BC7B-52823B4A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EDBA-34BC-4F1B-8821-2B84C7B8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CB6C2-08DA-4040-A37B-7BAAF52C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79E5ED-88E5-45F2-90C9-60119445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A7C14D-3194-4842-ACEA-59D5D29F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273F6C-46DF-4CB5-9C3E-B2CB7679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CE08F4-ECAC-43F6-B55E-5259A257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7E540E-338F-4C52-88F7-1D420780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8D8A5F-FE93-4AD3-8637-CDA35197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D8F0DF-E652-4C0C-BE6A-003F6590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A18A21-CBEE-48EC-81F2-4C1E3755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C543C4-4B22-48B1-835C-7049C1B0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BC49-7D75-4537-8974-824CC2A22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550C-2D9B-4DDA-908B-CEDFE5897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5D18-ECA0-4575-A5A9-644917B05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C8FB-3A39-4194-9717-7D147E18F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F394-A2D3-4BAD-A2D9-00ED7B42B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A9C1-AB87-4AF1-92FA-05C761561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954F-2321-433B-954F-02CC84B2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3727-73EC-448E-9A18-393E7C4CC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90F8-F30C-49EE-B8A7-35E782AFF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B495-88E0-4F86-A35C-5FDFCA66E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439D-F14C-429A-817D-80BBA9102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89ED-F801-400B-ADDF-37B798F1D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9977-F0F9-43CD-BA43-227863CE6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81E6-3078-411C-B8E9-374DDE162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Text Categorization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F831-CA9A-4557-95DF-B54F9387A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llustration of Rocchio Text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85" name="Group 21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586" name="Line 3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Line 9"/>
          <p:cNvSpPr/>
          <p:nvPr/>
        </p:nvSpPr>
        <p:spPr>
          <a:xfrm flipV="1">
            <a:off x="976320" y="4208400"/>
            <a:ext cx="501480" cy="1565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 flipV="1">
            <a:off x="965160" y="4822560"/>
            <a:ext cx="587520" cy="950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1"/>
          <p:cNvSpPr/>
          <p:nvPr/>
        </p:nvSpPr>
        <p:spPr>
          <a:xfrm flipV="1">
            <a:off x="965160" y="4876920"/>
            <a:ext cx="1397160" cy="909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2"/>
          <p:cNvSpPr/>
          <p:nvPr/>
        </p:nvSpPr>
        <p:spPr>
          <a:xfrm flipV="1">
            <a:off x="965160" y="5624280"/>
            <a:ext cx="1614600" cy="16164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3"/>
          <p:cNvSpPr/>
          <p:nvPr/>
        </p:nvSpPr>
        <p:spPr>
          <a:xfrm flipV="1">
            <a:off x="965160" y="5361120"/>
            <a:ext cx="1163520" cy="4125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4"/>
          <p:cNvSpPr/>
          <p:nvPr/>
        </p:nvSpPr>
        <p:spPr>
          <a:xfrm flipV="1">
            <a:off x="976320" y="2514240"/>
            <a:ext cx="2604960" cy="325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 flipV="1">
            <a:off x="976320" y="5210280"/>
            <a:ext cx="2655720" cy="576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16"/>
          <p:cNvSpPr/>
          <p:nvPr/>
        </p:nvSpPr>
        <p:spPr>
          <a:xfrm flipV="1">
            <a:off x="976320" y="4876920"/>
            <a:ext cx="1843200" cy="90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reeform 18"/>
          <p:cNvSpPr/>
          <p:nvPr/>
        </p:nvSpPr>
        <p:spPr>
          <a:xfrm>
            <a:off x="2057400" y="4419720"/>
            <a:ext cx="598320" cy="528480"/>
          </a:xfrm>
          <a:custGeom>
            <a:avLst/>
            <a:gdLst>
              <a:gd name="textAreaLeft" fmla="*/ 0 w 598320"/>
              <a:gd name="textAreaRight" fmla="*/ 598680 w 598320"/>
              <a:gd name="textAreaTop" fmla="*/ 0 h 528480"/>
              <a:gd name="textAreaBottom" fmla="*/ 528480 h 528480"/>
            </a:gdLst>
            <a:ahLst/>
            <a:rect l="textAreaLeft" t="textAreaTop" r="textAreaRight" b="textAreaBottom"/>
            <a:pathLst>
              <a:path w="425" h="285">
                <a:moveTo>
                  <a:pt x="0" y="0"/>
                </a:moveTo>
                <a:cubicBezTo>
                  <a:pt x="97" y="8"/>
                  <a:pt x="195" y="16"/>
                  <a:pt x="259" y="40"/>
                </a:cubicBezTo>
                <a:cubicBezTo>
                  <a:pt x="323" y="64"/>
                  <a:pt x="357" y="102"/>
                  <a:pt x="385" y="143"/>
                </a:cubicBezTo>
                <a:cubicBezTo>
                  <a:pt x="413" y="184"/>
                  <a:pt x="419" y="234"/>
                  <a:pt x="425" y="28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reeform 19"/>
          <p:cNvSpPr/>
          <p:nvPr/>
        </p:nvSpPr>
        <p:spPr>
          <a:xfrm>
            <a:off x="2471760" y="5052960"/>
            <a:ext cx="185760" cy="371520"/>
          </a:xfrm>
          <a:custGeom>
            <a:avLst/>
            <a:gdLst>
              <a:gd name="textAreaLeft" fmla="*/ 0 w 185760"/>
              <a:gd name="textAreaRight" fmla="*/ 186120 w 18576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38" h="249">
                <a:moveTo>
                  <a:pt x="0" y="0"/>
                </a:moveTo>
                <a:cubicBezTo>
                  <a:pt x="45" y="16"/>
                  <a:pt x="90" y="33"/>
                  <a:pt x="113" y="59"/>
                </a:cubicBezTo>
                <a:cubicBezTo>
                  <a:pt x="136" y="85"/>
                  <a:pt x="136" y="122"/>
                  <a:pt x="137" y="154"/>
                </a:cubicBezTo>
                <a:cubicBezTo>
                  <a:pt x="138" y="186"/>
                  <a:pt x="129" y="217"/>
                  <a:pt x="121" y="24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20"/>
          <p:cNvSpPr/>
          <p:nvPr/>
        </p:nvSpPr>
        <p:spPr>
          <a:xfrm flipV="1">
            <a:off x="981000" y="4876920"/>
            <a:ext cx="1843200" cy="9093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4947-AAFD-4BD7-93A1-9269804FE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Text Categorization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rainin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675000" y="1905120"/>
            <a:ext cx="834516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e set of categories i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&lt;0, 0,…,0&gt;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init. prototype vectors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example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e frequency normalized TF/IDF term vector for do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sum all the document vectors in c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 to get 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3F8F-F4DC-4585-A99D-88BCDBEA3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Text Categorization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519120" y="12603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994680" y="1828800"/>
            <a:ext cx="66384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est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e TF/IDF weighted term vector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 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nit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ximum cosSim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ompute similarity to prototype vect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Sim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update most similar class prototype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90F4-EF1D-4B9D-921B-C546AEE3A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Properti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guarantee a consistent hypo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a simple generalization of the examples in each class (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type vector does not need to be averaged or otherwise normalized for length since cosine similarity is insensitive to vector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is based on similarity to class proto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8FFD-BD13-45B7-A710-DC07B3A51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Time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ime to add two sparse vectors is proportional to minimum number of non-zero entries in the two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aining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O(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)) = O(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average length of a document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average vocabulary size for a document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st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 |C||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average length of a test document and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average vocabulary size for a test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ssumes lengths of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vectors are computed and stored during training, allowing cosSim(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to be computed  in time proportional to the number of non-zero entries in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i.e.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|V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9F2C-DD10-4D07-A613-ECA60123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arest-Neighbor Lear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is just storing the representations of the training exampl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in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ute similarity betwee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nd all example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ig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the category of the most similar example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explicitly compute a generalization or category proto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se-bas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mory-bas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zy lear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089B-AE16-47A4-BA0D-0D1664C64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 Nearest-Neighb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only the closest example to determine categorization is subject to errors du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single atypical example.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ise (i.e. error) in the category label of a single training exampl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obust alternative is to fi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st-similar examples and return the majority category of the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o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ypically odd to avoid ties, 3 and 5 are most comm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BDBF-EBEA-4E01-BB9F-12B7778D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ilarity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est neighbor method depends on a similarity (or distance) 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st for continuou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imensional instance spac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uclidian d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st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imensional binary instance spac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mming d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umber of feature values that diff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ext, cosine similarity of TF-IDF weighted vectors is typically most effec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EFCD-48E2-4631-A2F2-005FB21B3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3 Nearest Neighbor Illustration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Euclidian Distance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24" name="Line 5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6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Text Box 8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236196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2133360" y="3429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31240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2666880" y="3124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21"/>
          <p:cNvSpPr/>
          <p:nvPr/>
        </p:nvSpPr>
        <p:spPr>
          <a:xfrm>
            <a:off x="2173320" y="328788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2668680" y="3125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1B45-94A8-4178-8139-451E08F57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llustration of 3 Nearest Neighbor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41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Line 6"/>
          <p:cNvSpPr/>
          <p:nvPr/>
        </p:nvSpPr>
        <p:spPr>
          <a:xfrm flipV="1">
            <a:off x="976320" y="4208400"/>
            <a:ext cx="501480" cy="1565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7"/>
          <p:cNvSpPr/>
          <p:nvPr/>
        </p:nvSpPr>
        <p:spPr>
          <a:xfrm flipV="1">
            <a:off x="965160" y="4822560"/>
            <a:ext cx="587520" cy="950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8"/>
          <p:cNvSpPr/>
          <p:nvPr/>
        </p:nvSpPr>
        <p:spPr>
          <a:xfrm flipV="1">
            <a:off x="965160" y="4876920"/>
            <a:ext cx="1397160" cy="909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9"/>
          <p:cNvSpPr/>
          <p:nvPr/>
        </p:nvSpPr>
        <p:spPr>
          <a:xfrm flipV="1">
            <a:off x="965160" y="5624280"/>
            <a:ext cx="1614600" cy="16164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"/>
          <p:cNvSpPr/>
          <p:nvPr/>
        </p:nvSpPr>
        <p:spPr>
          <a:xfrm flipV="1">
            <a:off x="965160" y="5361120"/>
            <a:ext cx="1163520" cy="4125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3"/>
          <p:cNvSpPr/>
          <p:nvPr/>
        </p:nvSpPr>
        <p:spPr>
          <a:xfrm flipV="1">
            <a:off x="976320" y="4876920"/>
            <a:ext cx="1843200" cy="90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6"/>
          <p:cNvSpPr/>
          <p:nvPr/>
        </p:nvSpPr>
        <p:spPr>
          <a:xfrm flipV="1">
            <a:off x="981000" y="4876920"/>
            <a:ext cx="1843200" cy="9093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24"/>
          <p:cNvGrpSpPr/>
          <p:nvPr/>
        </p:nvGrpSpPr>
        <p:grpSpPr>
          <a:xfrm>
            <a:off x="1838160" y="5178600"/>
            <a:ext cx="576360" cy="469800"/>
            <a:chOff x="1838160" y="5178600"/>
            <a:chExt cx="576360" cy="469800"/>
          </a:xfrm>
        </p:grpSpPr>
        <p:sp>
          <p:nvSpPr>
            <p:cNvPr id="651" name="Freeform 18"/>
            <p:cNvSpPr/>
            <p:nvPr/>
          </p:nvSpPr>
          <p:spPr>
            <a:xfrm>
              <a:off x="1838160" y="5357880"/>
              <a:ext cx="22320" cy="104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4" h="66">
                  <a:moveTo>
                    <a:pt x="0" y="0"/>
                  </a:moveTo>
                  <a:lnTo>
                    <a:pt x="12" y="18"/>
                  </a:lnTo>
                  <a:cubicBezTo>
                    <a:pt x="14" y="29"/>
                    <a:pt x="13" y="47"/>
                    <a:pt x="12" y="6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19"/>
            <p:cNvSpPr/>
            <p:nvPr/>
          </p:nvSpPr>
          <p:spPr>
            <a:xfrm>
              <a:off x="1905120" y="5178600"/>
              <a:ext cx="104760" cy="102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66" h="65">
                  <a:moveTo>
                    <a:pt x="0" y="2"/>
                  </a:moveTo>
                  <a:cubicBezTo>
                    <a:pt x="14" y="1"/>
                    <a:pt x="28" y="0"/>
                    <a:pt x="39" y="5"/>
                  </a:cubicBezTo>
                  <a:cubicBezTo>
                    <a:pt x="50" y="10"/>
                    <a:pt x="60" y="19"/>
                    <a:pt x="63" y="29"/>
                  </a:cubicBezTo>
                  <a:cubicBezTo>
                    <a:pt x="66" y="39"/>
                    <a:pt x="61" y="52"/>
                    <a:pt x="57" y="6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23"/>
            <p:cNvSpPr/>
            <p:nvPr/>
          </p:nvSpPr>
          <p:spPr>
            <a:xfrm>
              <a:off x="2209680" y="5181480"/>
              <a:ext cx="204840" cy="4669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29" h="294">
                  <a:moveTo>
                    <a:pt x="0" y="0"/>
                  </a:moveTo>
                  <a:cubicBezTo>
                    <a:pt x="30" y="11"/>
                    <a:pt x="61" y="22"/>
                    <a:pt x="81" y="42"/>
                  </a:cubicBezTo>
                  <a:cubicBezTo>
                    <a:pt x="101" y="62"/>
                    <a:pt x="117" y="94"/>
                    <a:pt x="123" y="123"/>
                  </a:cubicBezTo>
                  <a:cubicBezTo>
                    <a:pt x="129" y="152"/>
                    <a:pt x="123" y="188"/>
                    <a:pt x="117" y="216"/>
                  </a:cubicBezTo>
                  <a:cubicBezTo>
                    <a:pt x="111" y="244"/>
                    <a:pt x="97" y="269"/>
                    <a:pt x="84" y="29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A714-725B-4B24-8641-870144BBF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description of an instance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where X is th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nstance languag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nstance spac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fixed set of categories:                        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 C=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…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category o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,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) is a categorization function whose domain is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nd whose range is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CD60-FBB4-4C63-B9BD-954C8C1B6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 Nearest Neighbor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480240" y="1413000"/>
            <a:ext cx="83041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example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corresponding TF-IDF vecto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 instan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F-IDF ve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Sim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 exampl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decreasing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he fir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in D.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et most similar neighbors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majority class of example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EE0F-D09D-42AB-B13B-65E74832C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Anomoly  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type models have problems with polymorphic (disjunctive) categ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3"/>
          <p:cNvGrpSpPr/>
          <p:nvPr/>
        </p:nvGrpSpPr>
        <p:grpSpPr>
          <a:xfrm>
            <a:off x="914400" y="2286000"/>
            <a:ext cx="7353360" cy="4046400"/>
            <a:chOff x="914400" y="2286000"/>
            <a:chExt cx="7353360" cy="4046400"/>
          </a:xfrm>
        </p:grpSpPr>
        <p:sp>
          <p:nvSpPr>
            <p:cNvPr id="661" name="Line 4"/>
            <p:cNvSpPr/>
            <p:nvPr/>
          </p:nvSpPr>
          <p:spPr>
            <a:xfrm flipV="1">
              <a:off x="916200" y="2286000"/>
              <a:ext cx="0" cy="40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914400" y="633240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Line 6"/>
          <p:cNvSpPr/>
          <p:nvPr/>
        </p:nvSpPr>
        <p:spPr>
          <a:xfrm flipV="1">
            <a:off x="901800" y="4766760"/>
            <a:ext cx="414360" cy="1552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7"/>
          <p:cNvSpPr/>
          <p:nvPr/>
        </p:nvSpPr>
        <p:spPr>
          <a:xfrm flipV="1">
            <a:off x="901800" y="5118120"/>
            <a:ext cx="565200" cy="1201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8"/>
          <p:cNvSpPr/>
          <p:nvPr/>
        </p:nvSpPr>
        <p:spPr>
          <a:xfrm flipV="1">
            <a:off x="914400" y="5505120"/>
            <a:ext cx="588960" cy="82692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9"/>
          <p:cNvSpPr/>
          <p:nvPr/>
        </p:nvSpPr>
        <p:spPr>
          <a:xfrm flipV="1">
            <a:off x="901800" y="5486400"/>
            <a:ext cx="1309680" cy="84600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0"/>
          <p:cNvSpPr/>
          <p:nvPr/>
        </p:nvSpPr>
        <p:spPr>
          <a:xfrm flipV="1">
            <a:off x="901800" y="5743440"/>
            <a:ext cx="1290600" cy="588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1"/>
          <p:cNvSpPr/>
          <p:nvPr/>
        </p:nvSpPr>
        <p:spPr>
          <a:xfrm flipV="1">
            <a:off x="901800" y="6032520"/>
            <a:ext cx="1616040" cy="287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5"/>
          <p:cNvSpPr/>
          <p:nvPr/>
        </p:nvSpPr>
        <p:spPr>
          <a:xfrm flipV="1">
            <a:off x="901800" y="4858920"/>
            <a:ext cx="1866960" cy="1467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6"/>
          <p:cNvSpPr/>
          <p:nvPr/>
        </p:nvSpPr>
        <p:spPr>
          <a:xfrm flipV="1">
            <a:off x="901800" y="3432240"/>
            <a:ext cx="2943000" cy="290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901800" y="5122440"/>
            <a:ext cx="1052280" cy="11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22"/>
          <p:cNvGrpSpPr/>
          <p:nvPr/>
        </p:nvGrpSpPr>
        <p:grpSpPr>
          <a:xfrm>
            <a:off x="1676520" y="5257800"/>
            <a:ext cx="371520" cy="190440"/>
            <a:chOff x="1676520" y="5257800"/>
            <a:chExt cx="371520" cy="190440"/>
          </a:xfrm>
        </p:grpSpPr>
        <p:sp>
          <p:nvSpPr>
            <p:cNvPr id="673" name="Freeform 20"/>
            <p:cNvSpPr/>
            <p:nvPr/>
          </p:nvSpPr>
          <p:spPr>
            <a:xfrm>
              <a:off x="1676520" y="5389560"/>
              <a:ext cx="109440" cy="586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9" h="37">
                  <a:moveTo>
                    <a:pt x="0" y="13"/>
                  </a:moveTo>
                  <a:cubicBezTo>
                    <a:pt x="18" y="6"/>
                    <a:pt x="37" y="0"/>
                    <a:pt x="48" y="4"/>
                  </a:cubicBezTo>
                  <a:cubicBezTo>
                    <a:pt x="59" y="8"/>
                    <a:pt x="64" y="22"/>
                    <a:pt x="69" y="3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Freeform 21"/>
            <p:cNvSpPr/>
            <p:nvPr/>
          </p:nvSpPr>
          <p:spPr>
            <a:xfrm>
              <a:off x="1800360" y="5257800"/>
              <a:ext cx="247680" cy="1666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56" h="105">
                  <a:moveTo>
                    <a:pt x="18" y="0"/>
                  </a:moveTo>
                  <a:lnTo>
                    <a:pt x="0" y="21"/>
                  </a:lnTo>
                  <a:cubicBezTo>
                    <a:pt x="8" y="24"/>
                    <a:pt x="44" y="12"/>
                    <a:pt x="66" y="15"/>
                  </a:cubicBezTo>
                  <a:cubicBezTo>
                    <a:pt x="88" y="18"/>
                    <a:pt x="120" y="24"/>
                    <a:pt x="135" y="39"/>
                  </a:cubicBezTo>
                  <a:cubicBezTo>
                    <a:pt x="150" y="54"/>
                    <a:pt x="153" y="79"/>
                    <a:pt x="156" y="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Line 23"/>
          <p:cNvSpPr/>
          <p:nvPr/>
        </p:nvSpPr>
        <p:spPr>
          <a:xfrm flipV="1">
            <a:off x="901800" y="5122440"/>
            <a:ext cx="1052280" cy="1190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FA34-D23E-4AEE-A8EA-ED56F4EE8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3 Nearest Neighbor Comparis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est Neighbor tends to handle polymorphic categories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Group 3"/>
          <p:cNvGrpSpPr/>
          <p:nvPr/>
        </p:nvGrpSpPr>
        <p:grpSpPr>
          <a:xfrm>
            <a:off x="990720" y="2362320"/>
            <a:ext cx="7353360" cy="4046400"/>
            <a:chOff x="990720" y="2362320"/>
            <a:chExt cx="7353360" cy="4046400"/>
          </a:xfrm>
        </p:grpSpPr>
        <p:sp>
          <p:nvSpPr>
            <p:cNvPr id="680" name="Line 4"/>
            <p:cNvSpPr/>
            <p:nvPr/>
          </p:nvSpPr>
          <p:spPr>
            <a:xfrm flipV="1">
              <a:off x="992520" y="2362320"/>
              <a:ext cx="0" cy="40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5"/>
            <p:cNvSpPr/>
            <p:nvPr/>
          </p:nvSpPr>
          <p:spPr>
            <a:xfrm>
              <a:off x="990720" y="640872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Line 6"/>
          <p:cNvSpPr/>
          <p:nvPr/>
        </p:nvSpPr>
        <p:spPr>
          <a:xfrm flipV="1">
            <a:off x="977760" y="4843080"/>
            <a:ext cx="414360" cy="1552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7"/>
          <p:cNvSpPr/>
          <p:nvPr/>
        </p:nvSpPr>
        <p:spPr>
          <a:xfrm flipV="1">
            <a:off x="977760" y="5194440"/>
            <a:ext cx="565200" cy="1201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8"/>
          <p:cNvSpPr/>
          <p:nvPr/>
        </p:nvSpPr>
        <p:spPr>
          <a:xfrm flipV="1">
            <a:off x="990720" y="5581440"/>
            <a:ext cx="588960" cy="82692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9"/>
          <p:cNvSpPr/>
          <p:nvPr/>
        </p:nvSpPr>
        <p:spPr>
          <a:xfrm flipV="1">
            <a:off x="977760" y="5562720"/>
            <a:ext cx="1309680" cy="84600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0"/>
          <p:cNvSpPr/>
          <p:nvPr/>
        </p:nvSpPr>
        <p:spPr>
          <a:xfrm flipV="1">
            <a:off x="977760" y="5819760"/>
            <a:ext cx="1290600" cy="588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1"/>
          <p:cNvSpPr/>
          <p:nvPr/>
        </p:nvSpPr>
        <p:spPr>
          <a:xfrm flipV="1">
            <a:off x="977760" y="6108840"/>
            <a:ext cx="1616040" cy="287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2"/>
          <p:cNvSpPr/>
          <p:nvPr/>
        </p:nvSpPr>
        <p:spPr>
          <a:xfrm flipV="1">
            <a:off x="992160" y="5181480"/>
            <a:ext cx="1052640" cy="119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13"/>
          <p:cNvSpPr/>
          <p:nvPr/>
        </p:nvSpPr>
        <p:spPr>
          <a:xfrm flipV="1">
            <a:off x="992160" y="5181480"/>
            <a:ext cx="1052640" cy="119088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25"/>
          <p:cNvGrpSpPr/>
          <p:nvPr/>
        </p:nvGrpSpPr>
        <p:grpSpPr>
          <a:xfrm>
            <a:off x="1406520" y="5432400"/>
            <a:ext cx="376200" cy="458640"/>
            <a:chOff x="1406520" y="5432400"/>
            <a:chExt cx="376200" cy="458640"/>
          </a:xfrm>
        </p:grpSpPr>
        <p:sp>
          <p:nvSpPr>
            <p:cNvPr id="691" name="Freeform 18"/>
            <p:cNvSpPr/>
            <p:nvPr/>
          </p:nvSpPr>
          <p:spPr>
            <a:xfrm>
              <a:off x="1449360" y="5751360"/>
              <a:ext cx="52200" cy="34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6"/>
                  </a:moveTo>
                  <a:cubicBezTo>
                    <a:pt x="6" y="8"/>
                    <a:pt x="13" y="0"/>
                    <a:pt x="18" y="1"/>
                  </a:cubicBezTo>
                  <a:cubicBezTo>
                    <a:pt x="23" y="2"/>
                    <a:pt x="28" y="12"/>
                    <a:pt x="33" y="2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1558800" y="5719680"/>
              <a:ext cx="223920" cy="1713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62" h="114">
                  <a:moveTo>
                    <a:pt x="0" y="3"/>
                  </a:moveTo>
                  <a:lnTo>
                    <a:pt x="24" y="6"/>
                  </a:lnTo>
                  <a:cubicBezTo>
                    <a:pt x="40" y="6"/>
                    <a:pt x="82" y="0"/>
                    <a:pt x="99" y="3"/>
                  </a:cubicBezTo>
                  <a:cubicBezTo>
                    <a:pt x="116" y="6"/>
                    <a:pt x="120" y="14"/>
                    <a:pt x="129" y="24"/>
                  </a:cubicBezTo>
                  <a:cubicBezTo>
                    <a:pt x="138" y="34"/>
                    <a:pt x="148" y="48"/>
                    <a:pt x="153" y="63"/>
                  </a:cubicBezTo>
                  <a:cubicBezTo>
                    <a:pt x="158" y="78"/>
                    <a:pt x="160" y="96"/>
                    <a:pt x="162" y="11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24"/>
            <p:cNvSpPr/>
            <p:nvPr/>
          </p:nvSpPr>
          <p:spPr>
            <a:xfrm>
              <a:off x="1406520" y="5432400"/>
              <a:ext cx="276120" cy="1443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95" h="91">
                  <a:moveTo>
                    <a:pt x="0" y="34"/>
                  </a:moveTo>
                  <a:cubicBezTo>
                    <a:pt x="29" y="21"/>
                    <a:pt x="58" y="8"/>
                    <a:pt x="81" y="4"/>
                  </a:cubicBezTo>
                  <a:cubicBezTo>
                    <a:pt x="104" y="0"/>
                    <a:pt x="125" y="2"/>
                    <a:pt x="141" y="7"/>
                  </a:cubicBezTo>
                  <a:cubicBezTo>
                    <a:pt x="157" y="12"/>
                    <a:pt x="171" y="20"/>
                    <a:pt x="180" y="34"/>
                  </a:cubicBezTo>
                  <a:cubicBezTo>
                    <a:pt x="189" y="48"/>
                    <a:pt x="192" y="69"/>
                    <a:pt x="195" y="9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7512-5A18-4762-AC63-67EA1795A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arest Neighbor Time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aining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O(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compose        TF-IDF v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sting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|D||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compare to all training v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umes lengths of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ectors are computed and stored during training, allowing cosSim(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to be computed  in time proportional to the number of non-zero entries in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(i.e.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|V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time can be high for large training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393C-C072-4FB5-8875-4A25477AC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arest Neighbor with Inverted Inde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arest neighbors is the same as determin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retrievals using the test document as a query to a database of training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tandard VSR inverted index methods to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arest neighb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sting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|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average number of training documents in which a test-document word app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overall classification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 B|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ypically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&lt; 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0FDB-94E4-4967-A83E-B96BDDEE6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and classification methods based on probability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 theorem plays a critical role in probabilistic learning and class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ability of each category given no information about an i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zation produce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ability distribution over the possible categories given a description of an i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802B-A2DC-43F6-99F7-7EBA46875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xioms of Probability The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babilities between 0 an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proposition has probability 1, false has probability 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true) = 1        P(false) 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of  disjunctio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Object 2"/>
              <p:cNvSpPr txBox="1"/>
              <p:nvPr/>
            </p:nvSpPr>
            <p:spPr>
              <a:xfrm>
                <a:off x="1676520" y="2057400"/>
                <a:ext cx="1987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3"/>
              <p:cNvSpPr txBox="1"/>
              <p:nvPr/>
            </p:nvSpPr>
            <p:spPr>
              <a:xfrm>
                <a:off x="1447920" y="4800600"/>
                <a:ext cx="5410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8" name="Oval 6"/>
          <p:cNvSpPr/>
          <p:nvPr/>
        </p:nvSpPr>
        <p:spPr>
          <a:xfrm>
            <a:off x="2963880" y="5487840"/>
            <a:ext cx="16002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7"/>
          <p:cNvSpPr/>
          <p:nvPr/>
        </p:nvSpPr>
        <p:spPr>
          <a:xfrm>
            <a:off x="3573360" y="5487840"/>
            <a:ext cx="175284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3040200" y="5640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4877280" y="5638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4"/>
              <p:cNvSpPr txBox="1"/>
              <p:nvPr/>
            </p:nvSpPr>
            <p:spPr>
              <a:xfrm>
                <a:off x="3726000" y="5678640"/>
                <a:ext cx="7617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B9B9-289B-4ED6-A307-120D9545E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ditional Probability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probability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ll and only information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2"/>
              <p:cNvSpPr txBox="1"/>
              <p:nvPr/>
            </p:nvSpPr>
            <p:spPr>
              <a:xfrm>
                <a:off x="1905120" y="3657600"/>
                <a:ext cx="2819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7" name="Oval 5"/>
          <p:cNvSpPr/>
          <p:nvPr/>
        </p:nvSpPr>
        <p:spPr>
          <a:xfrm>
            <a:off x="2819520" y="5105520"/>
            <a:ext cx="160020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6"/>
          <p:cNvSpPr/>
          <p:nvPr/>
        </p:nvSpPr>
        <p:spPr>
          <a:xfrm>
            <a:off x="3429000" y="5105520"/>
            <a:ext cx="175248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2895480" y="52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4732560" y="525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3"/>
              <p:cNvSpPr txBox="1"/>
              <p:nvPr/>
            </p:nvSpPr>
            <p:spPr>
              <a:xfrm>
                <a:off x="3581280" y="5295960"/>
                <a:ext cx="7621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C9AA-881D-4080-8AAB-5DF8D974B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depend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depend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2"/>
              <p:cNvSpPr txBox="1"/>
              <p:nvPr/>
            </p:nvSpPr>
            <p:spPr>
              <a:xfrm>
                <a:off x="1447920" y="2057400"/>
                <a:ext cx="2057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3"/>
              <p:cNvSpPr txBox="1"/>
              <p:nvPr/>
            </p:nvSpPr>
            <p:spPr>
              <a:xfrm>
                <a:off x="1447920" y="2590920"/>
                <a:ext cx="2057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Object 4"/>
              <p:cNvSpPr txBox="1"/>
              <p:nvPr/>
            </p:nvSpPr>
            <p:spPr>
              <a:xfrm>
                <a:off x="1371600" y="3809880"/>
                <a:ext cx="38242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5"/>
              <p:cNvSpPr txBox="1"/>
              <p:nvPr/>
            </p:nvSpPr>
            <p:spPr>
              <a:xfrm>
                <a:off x="1371600" y="4952880"/>
                <a:ext cx="3505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9" name="Text Box 8"/>
          <p:cNvSpPr/>
          <p:nvPr/>
        </p:nvSpPr>
        <p:spPr>
          <a:xfrm>
            <a:off x="3614760" y="2224080"/>
            <a:ext cx="48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hese two constraints are logically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F8C3-C87A-46DB-8A8F-842877C06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oint Distrib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36480" y="1273320"/>
            <a:ext cx="77724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joint probability distribution for a set of random variabl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ives the probability of every combination of values (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imensional array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if all variables are discret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,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must sum to 1): 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of all possible conjunctions (assignments of values to some subset of variables) can be calculated by summing the appropriate subset of values from the joint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, all conditional probabilities can also be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1511280" y="2963880"/>
          <a:ext cx="2841480" cy="110340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4713120" y="2946240"/>
          <a:ext cx="2841840" cy="110340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Text Box 50"/>
          <p:cNvSpPr/>
          <p:nvPr/>
        </p:nvSpPr>
        <p:spPr>
          <a:xfrm>
            <a:off x="2532960" y="2573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51"/>
          <p:cNvSpPr/>
          <p:nvPr/>
        </p:nvSpPr>
        <p:spPr>
          <a:xfrm>
            <a:off x="5767920" y="25542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2"/>
              <p:cNvSpPr txBox="1"/>
              <p:nvPr/>
            </p:nvSpPr>
            <p:spPr>
              <a:xfrm>
                <a:off x="2328840" y="5010120"/>
                <a:ext cx="39132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circl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Object 3"/>
              <p:cNvSpPr txBox="1"/>
              <p:nvPr/>
            </p:nvSpPr>
            <p:spPr>
              <a:xfrm>
                <a:off x="762120" y="6019920"/>
                <a:ext cx="73738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sitiv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circl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circl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circle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4"/>
              <p:cNvSpPr txBox="1"/>
              <p:nvPr/>
            </p:nvSpPr>
            <p:spPr>
              <a:xfrm>
                <a:off x="2081160" y="5308560"/>
                <a:ext cx="43196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4F1E-D9AD-47F8-8E11-6C15813C4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ining example is an in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ed with its correct catego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        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 for an unknown categorization functio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training exampl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hypothesized categorization functio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4"/>
              <p:cNvSpPr txBox="1"/>
              <p:nvPr/>
            </p:nvSpPr>
            <p:spPr>
              <a:xfrm>
                <a:off x="1582560" y="5181480"/>
                <a:ext cx="5295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∈</m:t>
                    </m:r>
                    <m:r>
                      <m:t xml:space="preserve">D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5"/>
          <p:cNvSpPr/>
          <p:nvPr/>
        </p:nvSpPr>
        <p:spPr>
          <a:xfrm>
            <a:off x="3078360" y="566424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6743-7E59-4116-B3CD-3B66302A3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83680" y="1371600"/>
            <a:ext cx="84661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andom variable for the class which takes value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andom variable describing an instance consisting of a vector of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atures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,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possible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possible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ification, we need to compu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given no other assumptions, this requires a table giving the probability of each category for each possible instance in the instance space, which is impossible to accurately estimate from a reasonably-sized training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ssuming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nd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re binary, we need 2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tries to specify     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pos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for each of the 2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possibl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’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nc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neg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= 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pos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mpared to 2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+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1 entries for the joint distribution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C33D-5B73-44D5-A49C-E98283CC8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proof from definition of conditional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2"/>
              <p:cNvSpPr txBox="1"/>
              <p:nvPr/>
            </p:nvSpPr>
            <p:spPr>
              <a:xfrm>
                <a:off x="1295280" y="5562720"/>
                <a:ext cx="32004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3"/>
              <p:cNvSpPr txBox="1"/>
              <p:nvPr/>
            </p:nvSpPr>
            <p:spPr>
              <a:xfrm>
                <a:off x="1371600" y="3276720"/>
                <a:ext cx="2514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∧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4"/>
              <p:cNvSpPr txBox="1"/>
              <p:nvPr/>
            </p:nvSpPr>
            <p:spPr>
              <a:xfrm>
                <a:off x="1752480" y="4114800"/>
                <a:ext cx="259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∧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5"/>
              <p:cNvSpPr txBox="1"/>
              <p:nvPr/>
            </p:nvSpPr>
            <p:spPr>
              <a:xfrm>
                <a:off x="1752480" y="4952880"/>
                <a:ext cx="3276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∧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0" name="Text Box 8"/>
          <p:cNvSpPr/>
          <p:nvPr/>
        </p:nvSpPr>
        <p:spPr>
          <a:xfrm>
            <a:off x="398880" y="56656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4058640" y="338292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Def. cond. pro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"/>
          <p:cNvSpPr/>
          <p:nvPr/>
        </p:nvSpPr>
        <p:spPr>
          <a:xfrm>
            <a:off x="4604760" y="428148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Def. cond. pro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6"/>
              <p:cNvSpPr txBox="1"/>
              <p:nvPr/>
            </p:nvSpPr>
            <p:spPr>
              <a:xfrm>
                <a:off x="533520" y="1523880"/>
                <a:ext cx="3257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1109-B619-44BF-9BAC-A26C967E5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39280" y="1371600"/>
            <a:ext cx="8169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categor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determining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determined since categories are complete and disj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2"/>
              <p:cNvSpPr txBox="1"/>
              <p:nvPr/>
            </p:nvSpPr>
            <p:spPr>
              <a:xfrm>
                <a:off x="1525680" y="2130480"/>
                <a:ext cx="5592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3"/>
              <p:cNvSpPr txBox="1"/>
              <p:nvPr/>
            </p:nvSpPr>
            <p:spPr>
              <a:xfrm>
                <a:off x="2265480" y="4379760"/>
                <a:ext cx="212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4"/>
              <p:cNvSpPr txBox="1"/>
              <p:nvPr/>
            </p:nvSpPr>
            <p:spPr>
              <a:xfrm>
                <a:off x="1343160" y="4344840"/>
                <a:ext cx="66373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5"/>
              <p:cNvSpPr txBox="1"/>
              <p:nvPr/>
            </p:nvSpPr>
            <p:spPr>
              <a:xfrm>
                <a:off x="1265400" y="5240160"/>
                <a:ext cx="50241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E4A8-7036-4B7F-8242-9BA574E41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iors: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itionals: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easily estimated from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the example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re in 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n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/ 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|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possible instances (e.g.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inary features) to estimate all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 to make some sort of independence assumptions about the features to make learning trac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66D2-EFD1-4BC8-B363-99B71AFF9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ve Probabilistic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a simple (usually unrealistic) probabilistic method by which the data was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ategorization, each category has a different parameterized generative model that characterizes that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the data for each category to estimate the parameters of the generative model for that categ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ximum Likelihood Estimation (ML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Set parameters to maximize the probability that the model produced the given training data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λ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denotes a model with parameter values λ and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s the training data for th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 class, find model parameters for clas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λ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that maximize the likelihood o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Bayesian analysis to determine the category model that most likely generated a specific test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2"/>
              <p:cNvSpPr txBox="1"/>
              <p:nvPr/>
            </p:nvSpPr>
            <p:spPr>
              <a:xfrm>
                <a:off x="3079800" y="5229360"/>
                <a:ext cx="32194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limLow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λ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4E78-5855-4B49-B484-9ABC4B7D6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Generative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770" name="Group 3"/>
          <p:cNvGrpSpPr/>
          <p:nvPr/>
        </p:nvGrpSpPr>
        <p:grpSpPr>
          <a:xfrm>
            <a:off x="604800" y="4802040"/>
            <a:ext cx="3304800" cy="1512000"/>
            <a:chOff x="604800" y="4802040"/>
            <a:chExt cx="3304800" cy="1512000"/>
          </a:xfrm>
        </p:grpSpPr>
        <p:grpSp>
          <p:nvGrpSpPr>
            <p:cNvPr id="771" name="Group 4"/>
            <p:cNvGrpSpPr/>
            <p:nvPr/>
          </p:nvGrpSpPr>
          <p:grpSpPr>
            <a:xfrm>
              <a:off x="604800" y="4802040"/>
              <a:ext cx="3304800" cy="1142280"/>
              <a:chOff x="604800" y="4802040"/>
              <a:chExt cx="3304800" cy="1142280"/>
            </a:xfrm>
          </p:grpSpPr>
          <p:grpSp>
            <p:nvGrpSpPr>
              <p:cNvPr id="772" name="Group 5"/>
              <p:cNvGrpSpPr/>
              <p:nvPr/>
            </p:nvGrpSpPr>
            <p:grpSpPr>
              <a:xfrm>
                <a:off x="604800" y="4817160"/>
                <a:ext cx="1105920" cy="1127160"/>
                <a:chOff x="604800" y="4817160"/>
                <a:chExt cx="1105920" cy="1127160"/>
              </a:xfrm>
            </p:grpSpPr>
            <p:sp>
              <p:nvSpPr>
                <p:cNvPr id="773" name="Freeform 6"/>
                <p:cNvSpPr/>
                <p:nvPr/>
              </p:nvSpPr>
              <p:spPr>
                <a:xfrm>
                  <a:off x="604800" y="4823280"/>
                  <a:ext cx="552960" cy="1121040"/>
                </a:xfrm>
                <a:custGeom>
                  <a:avLst/>
                  <a:gdLst>
                    <a:gd name="textAreaLeft" fmla="*/ 0 w 552960"/>
                    <a:gd name="textAreaRight" fmla="*/ 55332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Freeform 7"/>
                <p:cNvSpPr/>
                <p:nvPr/>
              </p:nvSpPr>
              <p:spPr>
                <a:xfrm flipH="1">
                  <a:off x="1157760" y="4819680"/>
                  <a:ext cx="552960" cy="1121040"/>
                </a:xfrm>
                <a:custGeom>
                  <a:avLst/>
                  <a:gdLst>
                    <a:gd name="textAreaLeft" fmla="*/ 360 w 552960"/>
                    <a:gd name="textAreaRight" fmla="*/ 55368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8"/>
                <p:cNvSpPr/>
                <p:nvPr/>
              </p:nvSpPr>
              <p:spPr>
                <a:xfrm flipV="1">
                  <a:off x="779040" y="481716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Group 9"/>
              <p:cNvGrpSpPr/>
              <p:nvPr/>
            </p:nvGrpSpPr>
            <p:grpSpPr>
              <a:xfrm>
                <a:off x="1703160" y="4810680"/>
                <a:ext cx="1105920" cy="1127160"/>
                <a:chOff x="1703160" y="4810680"/>
                <a:chExt cx="1105920" cy="1127160"/>
              </a:xfrm>
            </p:grpSpPr>
            <p:sp>
              <p:nvSpPr>
                <p:cNvPr id="777" name="Freeform 10"/>
                <p:cNvSpPr/>
                <p:nvPr/>
              </p:nvSpPr>
              <p:spPr>
                <a:xfrm>
                  <a:off x="1703160" y="4816800"/>
                  <a:ext cx="552960" cy="1121040"/>
                </a:xfrm>
                <a:custGeom>
                  <a:avLst/>
                  <a:gdLst>
                    <a:gd name="textAreaLeft" fmla="*/ 0 w 552960"/>
                    <a:gd name="textAreaRight" fmla="*/ 55332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Freeform 11"/>
                <p:cNvSpPr/>
                <p:nvPr/>
              </p:nvSpPr>
              <p:spPr>
                <a:xfrm flipH="1">
                  <a:off x="2256120" y="4813200"/>
                  <a:ext cx="552960" cy="1121040"/>
                </a:xfrm>
                <a:custGeom>
                  <a:avLst/>
                  <a:gdLst>
                    <a:gd name="textAreaLeft" fmla="*/ 360 w 552960"/>
                    <a:gd name="textAreaRight" fmla="*/ 55368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Line 12"/>
                <p:cNvSpPr/>
                <p:nvPr/>
              </p:nvSpPr>
              <p:spPr>
                <a:xfrm flipV="1">
                  <a:off x="1877400" y="481068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Group 13"/>
              <p:cNvGrpSpPr/>
              <p:nvPr/>
            </p:nvGrpSpPr>
            <p:grpSpPr>
              <a:xfrm>
                <a:off x="2803680" y="4802040"/>
                <a:ext cx="1105920" cy="1127160"/>
                <a:chOff x="2803680" y="4802040"/>
                <a:chExt cx="1105920" cy="1127160"/>
              </a:xfrm>
            </p:grpSpPr>
            <p:sp>
              <p:nvSpPr>
                <p:cNvPr id="781" name="Freeform 14"/>
                <p:cNvSpPr/>
                <p:nvPr/>
              </p:nvSpPr>
              <p:spPr>
                <a:xfrm>
                  <a:off x="2803680" y="4808160"/>
                  <a:ext cx="552960" cy="1121040"/>
                </a:xfrm>
                <a:custGeom>
                  <a:avLst/>
                  <a:gdLst>
                    <a:gd name="textAreaLeft" fmla="*/ 0 w 552960"/>
                    <a:gd name="textAreaRight" fmla="*/ 55332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Freeform 15"/>
                <p:cNvSpPr/>
                <p:nvPr/>
              </p:nvSpPr>
              <p:spPr>
                <a:xfrm flipH="1">
                  <a:off x="3356640" y="4804560"/>
                  <a:ext cx="552960" cy="1121040"/>
                </a:xfrm>
                <a:custGeom>
                  <a:avLst/>
                  <a:gdLst>
                    <a:gd name="textAreaLeft" fmla="*/ 360 w 552960"/>
                    <a:gd name="textAreaRight" fmla="*/ 55368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Line 16"/>
                <p:cNvSpPr/>
                <p:nvPr/>
              </p:nvSpPr>
              <p:spPr>
                <a:xfrm flipV="1">
                  <a:off x="2977920" y="4802040"/>
                  <a:ext cx="76536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4" name="Text Box 17"/>
            <p:cNvSpPr/>
            <p:nvPr/>
          </p:nvSpPr>
          <p:spPr>
            <a:xfrm>
              <a:off x="792360" y="5915160"/>
              <a:ext cx="30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ze          Color        Sha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Group 18"/>
          <p:cNvGrpSpPr/>
          <p:nvPr/>
        </p:nvGrpSpPr>
        <p:grpSpPr>
          <a:xfrm>
            <a:off x="5183280" y="4813200"/>
            <a:ext cx="1105920" cy="1127160"/>
            <a:chOff x="5183280" y="4813200"/>
            <a:chExt cx="1105920" cy="1127160"/>
          </a:xfrm>
        </p:grpSpPr>
        <p:sp>
          <p:nvSpPr>
            <p:cNvPr id="786" name="Freeform 19"/>
            <p:cNvSpPr/>
            <p:nvPr/>
          </p:nvSpPr>
          <p:spPr>
            <a:xfrm>
              <a:off x="5183280" y="4819320"/>
              <a:ext cx="552960" cy="112104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20"/>
            <p:cNvSpPr/>
            <p:nvPr/>
          </p:nvSpPr>
          <p:spPr>
            <a:xfrm flipH="1">
              <a:off x="5736240" y="4815720"/>
              <a:ext cx="552960" cy="1121040"/>
            </a:xfrm>
            <a:custGeom>
              <a:avLst/>
              <a:gdLst>
                <a:gd name="textAreaLeft" fmla="*/ 360 w 552960"/>
                <a:gd name="textAreaRight" fmla="*/ 553680 w 5529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21"/>
            <p:cNvSpPr/>
            <p:nvPr/>
          </p:nvSpPr>
          <p:spPr>
            <a:xfrm flipV="1">
              <a:off x="5357520" y="4813200"/>
              <a:ext cx="76572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Group 22"/>
          <p:cNvGrpSpPr/>
          <p:nvPr/>
        </p:nvGrpSpPr>
        <p:grpSpPr>
          <a:xfrm>
            <a:off x="6281640" y="4807080"/>
            <a:ext cx="1106280" cy="1127160"/>
            <a:chOff x="6281640" y="4807080"/>
            <a:chExt cx="1106280" cy="1127160"/>
          </a:xfrm>
        </p:grpSpPr>
        <p:sp>
          <p:nvSpPr>
            <p:cNvPr id="790" name="Freeform 23"/>
            <p:cNvSpPr/>
            <p:nvPr/>
          </p:nvSpPr>
          <p:spPr>
            <a:xfrm>
              <a:off x="6281640" y="4813200"/>
              <a:ext cx="553320" cy="112104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24"/>
            <p:cNvSpPr/>
            <p:nvPr/>
          </p:nvSpPr>
          <p:spPr>
            <a:xfrm flipH="1">
              <a:off x="6834240" y="4809600"/>
              <a:ext cx="553320" cy="1121040"/>
            </a:xfrm>
            <a:custGeom>
              <a:avLst/>
              <a:gdLst>
                <a:gd name="textAreaLeft" fmla="*/ -360 w 553320"/>
                <a:gd name="textAreaRight" fmla="*/ 55332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 flipV="1">
              <a:off x="6455880" y="480708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Group 26"/>
          <p:cNvGrpSpPr/>
          <p:nvPr/>
        </p:nvGrpSpPr>
        <p:grpSpPr>
          <a:xfrm>
            <a:off x="7381800" y="4797360"/>
            <a:ext cx="1106280" cy="1127160"/>
            <a:chOff x="7381800" y="4797360"/>
            <a:chExt cx="1106280" cy="1127160"/>
          </a:xfrm>
        </p:grpSpPr>
        <p:sp>
          <p:nvSpPr>
            <p:cNvPr id="794" name="Freeform 27"/>
            <p:cNvSpPr/>
            <p:nvPr/>
          </p:nvSpPr>
          <p:spPr>
            <a:xfrm>
              <a:off x="7381800" y="4803480"/>
              <a:ext cx="553320" cy="112104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Freeform 28"/>
            <p:cNvSpPr/>
            <p:nvPr/>
          </p:nvSpPr>
          <p:spPr>
            <a:xfrm flipH="1">
              <a:off x="7934400" y="4799880"/>
              <a:ext cx="553320" cy="1121040"/>
            </a:xfrm>
            <a:custGeom>
              <a:avLst/>
              <a:gdLst>
                <a:gd name="textAreaLeft" fmla="*/ -360 w 553320"/>
                <a:gd name="textAreaRight" fmla="*/ 55332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9"/>
            <p:cNvSpPr/>
            <p:nvPr/>
          </p:nvSpPr>
          <p:spPr>
            <a:xfrm flipV="1">
              <a:off x="7556040" y="479736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Text Box 30"/>
          <p:cNvSpPr/>
          <p:nvPr/>
        </p:nvSpPr>
        <p:spPr>
          <a:xfrm>
            <a:off x="5370480" y="59101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         Color       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31"/>
          <p:cNvGrpSpPr/>
          <p:nvPr/>
        </p:nvGrpSpPr>
        <p:grpSpPr>
          <a:xfrm>
            <a:off x="3970440" y="2027160"/>
            <a:ext cx="1105920" cy="1127160"/>
            <a:chOff x="3970440" y="2027160"/>
            <a:chExt cx="1105920" cy="1127160"/>
          </a:xfrm>
        </p:grpSpPr>
        <p:sp>
          <p:nvSpPr>
            <p:cNvPr id="799" name="Freeform 32"/>
            <p:cNvSpPr/>
            <p:nvPr/>
          </p:nvSpPr>
          <p:spPr>
            <a:xfrm>
              <a:off x="3970440" y="2033280"/>
              <a:ext cx="552960" cy="112104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33"/>
            <p:cNvSpPr/>
            <p:nvPr/>
          </p:nvSpPr>
          <p:spPr>
            <a:xfrm flipH="1">
              <a:off x="4523400" y="2029680"/>
              <a:ext cx="552960" cy="1121040"/>
            </a:xfrm>
            <a:custGeom>
              <a:avLst/>
              <a:gdLst>
                <a:gd name="textAreaLeft" fmla="*/ 360 w 552960"/>
                <a:gd name="textAreaRight" fmla="*/ 553680 w 5529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4"/>
            <p:cNvSpPr/>
            <p:nvPr/>
          </p:nvSpPr>
          <p:spPr>
            <a:xfrm flipV="1">
              <a:off x="4144680" y="2027160"/>
              <a:ext cx="76572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Text Box 35"/>
          <p:cNvSpPr/>
          <p:nvPr/>
        </p:nvSpPr>
        <p:spPr>
          <a:xfrm>
            <a:off x="1476360" y="6243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36"/>
          <p:cNvSpPr/>
          <p:nvPr/>
        </p:nvSpPr>
        <p:spPr>
          <a:xfrm>
            <a:off x="6214320" y="622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37"/>
          <p:cNvSpPr/>
          <p:nvPr/>
        </p:nvSpPr>
        <p:spPr>
          <a:xfrm>
            <a:off x="4082760" y="23302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38"/>
          <p:cNvSpPr/>
          <p:nvPr/>
        </p:nvSpPr>
        <p:spPr>
          <a:xfrm>
            <a:off x="4378320" y="25210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39"/>
          <p:cNvSpPr/>
          <p:nvPr/>
        </p:nvSpPr>
        <p:spPr>
          <a:xfrm>
            <a:off x="4464000" y="23572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40"/>
          <p:cNvSpPr/>
          <p:nvPr/>
        </p:nvSpPr>
        <p:spPr>
          <a:xfrm>
            <a:off x="4008240" y="25480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41"/>
          <p:cNvSpPr/>
          <p:nvPr/>
        </p:nvSpPr>
        <p:spPr>
          <a:xfrm>
            <a:off x="4160880" y="27003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42"/>
          <p:cNvSpPr/>
          <p:nvPr/>
        </p:nvSpPr>
        <p:spPr>
          <a:xfrm>
            <a:off x="4506840" y="269712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43"/>
          <p:cNvSpPr/>
          <p:nvPr/>
        </p:nvSpPr>
        <p:spPr>
          <a:xfrm>
            <a:off x="4268880" y="21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44"/>
          <p:cNvSpPr/>
          <p:nvPr/>
        </p:nvSpPr>
        <p:spPr>
          <a:xfrm>
            <a:off x="801360" y="55832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45"/>
          <p:cNvSpPr/>
          <p:nvPr/>
        </p:nvSpPr>
        <p:spPr>
          <a:xfrm>
            <a:off x="642600" y="52722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46"/>
          <p:cNvSpPr/>
          <p:nvPr/>
        </p:nvSpPr>
        <p:spPr>
          <a:xfrm>
            <a:off x="754200" y="540072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47"/>
          <p:cNvSpPr/>
          <p:nvPr/>
        </p:nvSpPr>
        <p:spPr>
          <a:xfrm>
            <a:off x="1138320" y="517536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48"/>
          <p:cNvSpPr/>
          <p:nvPr/>
        </p:nvSpPr>
        <p:spPr>
          <a:xfrm>
            <a:off x="1088640" y="5570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49"/>
          <p:cNvSpPr/>
          <p:nvPr/>
        </p:nvSpPr>
        <p:spPr>
          <a:xfrm>
            <a:off x="1236240" y="5405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50"/>
          <p:cNvSpPr/>
          <p:nvPr/>
        </p:nvSpPr>
        <p:spPr>
          <a:xfrm>
            <a:off x="752040" y="5106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51"/>
          <p:cNvSpPr/>
          <p:nvPr/>
        </p:nvSpPr>
        <p:spPr>
          <a:xfrm>
            <a:off x="923400" y="4954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52"/>
          <p:cNvSpPr/>
          <p:nvPr/>
        </p:nvSpPr>
        <p:spPr>
          <a:xfrm>
            <a:off x="966960" y="539604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53"/>
          <p:cNvSpPr/>
          <p:nvPr/>
        </p:nvSpPr>
        <p:spPr>
          <a:xfrm>
            <a:off x="2029680" y="4870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54"/>
          <p:cNvSpPr/>
          <p:nvPr/>
        </p:nvSpPr>
        <p:spPr>
          <a:xfrm>
            <a:off x="2328120" y="52293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55"/>
          <p:cNvSpPr/>
          <p:nvPr/>
        </p:nvSpPr>
        <p:spPr>
          <a:xfrm>
            <a:off x="1713600" y="526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56"/>
          <p:cNvSpPr/>
          <p:nvPr/>
        </p:nvSpPr>
        <p:spPr>
          <a:xfrm>
            <a:off x="1783440" y="5511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57"/>
          <p:cNvSpPr/>
          <p:nvPr/>
        </p:nvSpPr>
        <p:spPr>
          <a:xfrm>
            <a:off x="2096280" y="56167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58"/>
          <p:cNvSpPr/>
          <p:nvPr/>
        </p:nvSpPr>
        <p:spPr>
          <a:xfrm>
            <a:off x="1947960" y="50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59"/>
          <p:cNvSpPr/>
          <p:nvPr/>
        </p:nvSpPr>
        <p:spPr>
          <a:xfrm>
            <a:off x="2210040" y="54500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60"/>
          <p:cNvSpPr/>
          <p:nvPr/>
        </p:nvSpPr>
        <p:spPr>
          <a:xfrm>
            <a:off x="1998720" y="524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61"/>
          <p:cNvSpPr/>
          <p:nvPr/>
        </p:nvSpPr>
        <p:spPr>
          <a:xfrm>
            <a:off x="2989440" y="557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62"/>
          <p:cNvSpPr/>
          <p:nvPr/>
        </p:nvSpPr>
        <p:spPr>
          <a:xfrm>
            <a:off x="2849760" y="5332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63"/>
          <p:cNvSpPr/>
          <p:nvPr/>
        </p:nvSpPr>
        <p:spPr>
          <a:xfrm>
            <a:off x="3124440" y="483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64"/>
          <p:cNvSpPr/>
          <p:nvPr/>
        </p:nvSpPr>
        <p:spPr>
          <a:xfrm>
            <a:off x="3375000" y="519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65"/>
          <p:cNvSpPr/>
          <p:nvPr/>
        </p:nvSpPr>
        <p:spPr>
          <a:xfrm>
            <a:off x="3394440" y="5497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66"/>
          <p:cNvSpPr/>
          <p:nvPr/>
        </p:nvSpPr>
        <p:spPr>
          <a:xfrm>
            <a:off x="2947680" y="511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67"/>
          <p:cNvSpPr/>
          <p:nvPr/>
        </p:nvSpPr>
        <p:spPr>
          <a:xfrm>
            <a:off x="3246120" y="50356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68"/>
          <p:cNvSpPr/>
          <p:nvPr/>
        </p:nvSpPr>
        <p:spPr>
          <a:xfrm>
            <a:off x="3233880" y="5351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69"/>
          <p:cNvSpPr/>
          <p:nvPr/>
        </p:nvSpPr>
        <p:spPr>
          <a:xfrm>
            <a:off x="8056800" y="5380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70"/>
          <p:cNvSpPr/>
          <p:nvPr/>
        </p:nvSpPr>
        <p:spPr>
          <a:xfrm>
            <a:off x="7437240" y="5189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71"/>
          <p:cNvSpPr/>
          <p:nvPr/>
        </p:nvSpPr>
        <p:spPr>
          <a:xfrm>
            <a:off x="5378040" y="55753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72"/>
          <p:cNvSpPr/>
          <p:nvPr/>
        </p:nvSpPr>
        <p:spPr>
          <a:xfrm>
            <a:off x="5491440" y="48322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73"/>
          <p:cNvSpPr/>
          <p:nvPr/>
        </p:nvSpPr>
        <p:spPr>
          <a:xfrm>
            <a:off x="5208120" y="5240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74"/>
          <p:cNvSpPr/>
          <p:nvPr/>
        </p:nvSpPr>
        <p:spPr>
          <a:xfrm>
            <a:off x="5487480" y="5064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75"/>
          <p:cNvSpPr/>
          <p:nvPr/>
        </p:nvSpPr>
        <p:spPr>
          <a:xfrm>
            <a:off x="5686560" y="538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76"/>
          <p:cNvSpPr/>
          <p:nvPr/>
        </p:nvSpPr>
        <p:spPr>
          <a:xfrm>
            <a:off x="5719320" y="5165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77"/>
          <p:cNvSpPr/>
          <p:nvPr/>
        </p:nvSpPr>
        <p:spPr>
          <a:xfrm>
            <a:off x="5839200" y="553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78"/>
          <p:cNvSpPr/>
          <p:nvPr/>
        </p:nvSpPr>
        <p:spPr>
          <a:xfrm>
            <a:off x="5335200" y="5433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79"/>
          <p:cNvSpPr/>
          <p:nvPr/>
        </p:nvSpPr>
        <p:spPr>
          <a:xfrm>
            <a:off x="6431040" y="5611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80"/>
          <p:cNvSpPr/>
          <p:nvPr/>
        </p:nvSpPr>
        <p:spPr>
          <a:xfrm>
            <a:off x="6593400" y="4862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81"/>
          <p:cNvSpPr/>
          <p:nvPr/>
        </p:nvSpPr>
        <p:spPr>
          <a:xfrm>
            <a:off x="6350040" y="5221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82"/>
          <p:cNvSpPr/>
          <p:nvPr/>
        </p:nvSpPr>
        <p:spPr>
          <a:xfrm>
            <a:off x="6527880" y="5014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83"/>
          <p:cNvSpPr/>
          <p:nvPr/>
        </p:nvSpPr>
        <p:spPr>
          <a:xfrm>
            <a:off x="6848640" y="5573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84"/>
          <p:cNvSpPr/>
          <p:nvPr/>
        </p:nvSpPr>
        <p:spPr>
          <a:xfrm>
            <a:off x="6423840" y="5411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85"/>
          <p:cNvSpPr/>
          <p:nvPr/>
        </p:nvSpPr>
        <p:spPr>
          <a:xfrm>
            <a:off x="6715080" y="518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86"/>
          <p:cNvSpPr/>
          <p:nvPr/>
        </p:nvSpPr>
        <p:spPr>
          <a:xfrm>
            <a:off x="6796080" y="53802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87"/>
          <p:cNvSpPr/>
          <p:nvPr/>
        </p:nvSpPr>
        <p:spPr>
          <a:xfrm>
            <a:off x="7686720" y="484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88"/>
          <p:cNvSpPr/>
          <p:nvPr/>
        </p:nvSpPr>
        <p:spPr>
          <a:xfrm>
            <a:off x="7561800" y="5592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89"/>
          <p:cNvSpPr/>
          <p:nvPr/>
        </p:nvSpPr>
        <p:spPr>
          <a:xfrm>
            <a:off x="7930800" y="5586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90"/>
          <p:cNvSpPr/>
          <p:nvPr/>
        </p:nvSpPr>
        <p:spPr>
          <a:xfrm>
            <a:off x="7454880" y="5391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91"/>
          <p:cNvSpPr/>
          <p:nvPr/>
        </p:nvSpPr>
        <p:spPr>
          <a:xfrm>
            <a:off x="7660080" y="508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92"/>
          <p:cNvSpPr/>
          <p:nvPr/>
        </p:nvSpPr>
        <p:spPr>
          <a:xfrm>
            <a:off x="7942320" y="5197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3"/>
          <p:cNvSpPr/>
          <p:nvPr/>
        </p:nvSpPr>
        <p:spPr>
          <a:xfrm>
            <a:off x="7778520" y="5348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94"/>
          <p:cNvSpPr/>
          <p:nvPr/>
        </p:nvSpPr>
        <p:spPr>
          <a:xfrm>
            <a:off x="3981240" y="30970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2 0.03168 C 0.0033 0.000230000000000001 -0.00642 -0.03122 -0.01094 -0.05366 C -0.01545 -0.07609 -0.01684 -0.09089 -0.01354 -0.10338 C -0.01024 -0.11587 -0.0059 -0.12142 0.0092 -0.12813 C 0.02431 -0.13483 0.05729 -0.14663 0.07709 -0.14408 C 0.09688 -0.14154 0.11528 -0.12512 0.12778 -0.11217 C 0.14028 -0.09922 0.14809 -0.07355 0.15174 -0.06591 E">
                                      <p:cBhvr>
                                        <p:cTn id="92" dur="2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7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8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8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250" autoRev="1" fill="hold"/>
                                        <p:tgtEl>
                                          <p:spTgt spid="8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50" autoRev="1" fill="hold"/>
                                        <p:tgtEl>
                                          <p:spTgt spid="8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250" autoRev="1" fill="hold"/>
                                        <p:tgtEl>
                                          <p:spTgt spid="8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8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8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" autoRev="1" fill="hold"/>
                                        <p:tgtEl>
                                          <p:spTgt spid="8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250" autoRev="1" fill="hold"/>
                                        <p:tgtEl>
                                          <p:spTgt spid="8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8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250" autoRev="1" fill="hold"/>
                                        <p:tgtEl>
                                          <p:spTgt spid="8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8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8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8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8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8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8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250" autoRev="1" fill="hold"/>
                                        <p:tgtEl>
                                          <p:spTgt spid="8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8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8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8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8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250" autoRev="1" fill="hold"/>
                                        <p:tgtEl>
                                          <p:spTgt spid="8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3 -0.03076 C 0.00364 -0.06105 0.00243 -0.09112 0.00243 -0.10892 C 0.00243 -0.12673 0.00173 -0.12673 0.00503 -0.13737 C 0.00833 -0.14801 0.01527 -0.1635 0.02239 -0.17299 C 0.02951 -0.18247 0.03854 -0.18848 0.04774 -0.19426 E">
                                      <p:cBhvr>
                                        <p:cTn id="179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2 -0.05042 -0.0184 -0.1006 -0.02136 -0.13136 C -0.02431 -0.16212 -0.01892 -0.17137 -0.01736 -0.18479 C -0.0158 -0.1982 -0.01302 -0.20676 -0.01198 -0.21138 E">
                                      <p:cBhvr>
                                        <p:cTn id="183" dur="20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42 -0.0222 -0.02066 -0.04417 -0.02396 -0.06406 C -0.02726 -0.08395 -0.0217 -0.10638 -0.01997 -0.1191 C -0.01823 -0.13182 -0.00695 -0.12974 -0.01337 -0.14038 C -0.01979 -0.15102 -0.03924 -0.16697 -0.05868 -0.18293 E">
                                      <p:cBhvr>
                                        <p:cTn id="187" dur="2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90E7-B569-4188-8401-86AE1C042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Inference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864" name="Group 3"/>
          <p:cNvGrpSpPr/>
          <p:nvPr/>
        </p:nvGrpSpPr>
        <p:grpSpPr>
          <a:xfrm>
            <a:off x="604800" y="4802040"/>
            <a:ext cx="3304800" cy="1512000"/>
            <a:chOff x="604800" y="4802040"/>
            <a:chExt cx="3304800" cy="1512000"/>
          </a:xfrm>
        </p:grpSpPr>
        <p:grpSp>
          <p:nvGrpSpPr>
            <p:cNvPr id="865" name="Group 4"/>
            <p:cNvGrpSpPr/>
            <p:nvPr/>
          </p:nvGrpSpPr>
          <p:grpSpPr>
            <a:xfrm>
              <a:off x="604800" y="4802040"/>
              <a:ext cx="3304800" cy="1142280"/>
              <a:chOff x="604800" y="4802040"/>
              <a:chExt cx="3304800" cy="1142280"/>
            </a:xfrm>
          </p:grpSpPr>
          <p:grpSp>
            <p:nvGrpSpPr>
              <p:cNvPr id="866" name="Group 5"/>
              <p:cNvGrpSpPr/>
              <p:nvPr/>
            </p:nvGrpSpPr>
            <p:grpSpPr>
              <a:xfrm>
                <a:off x="604800" y="4817160"/>
                <a:ext cx="1105920" cy="1127160"/>
                <a:chOff x="604800" y="4817160"/>
                <a:chExt cx="1105920" cy="1127160"/>
              </a:xfrm>
            </p:grpSpPr>
            <p:sp>
              <p:nvSpPr>
                <p:cNvPr id="867" name="Freeform 6"/>
                <p:cNvSpPr/>
                <p:nvPr/>
              </p:nvSpPr>
              <p:spPr>
                <a:xfrm>
                  <a:off x="604800" y="4823280"/>
                  <a:ext cx="552960" cy="1121040"/>
                </a:xfrm>
                <a:custGeom>
                  <a:avLst/>
                  <a:gdLst>
                    <a:gd name="textAreaLeft" fmla="*/ 0 w 552960"/>
                    <a:gd name="textAreaRight" fmla="*/ 55332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Freeform 7"/>
                <p:cNvSpPr/>
                <p:nvPr/>
              </p:nvSpPr>
              <p:spPr>
                <a:xfrm flipH="1">
                  <a:off x="1157760" y="4819680"/>
                  <a:ext cx="552960" cy="1121040"/>
                </a:xfrm>
                <a:custGeom>
                  <a:avLst/>
                  <a:gdLst>
                    <a:gd name="textAreaLeft" fmla="*/ 360 w 552960"/>
                    <a:gd name="textAreaRight" fmla="*/ 55368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Line 8"/>
                <p:cNvSpPr/>
                <p:nvPr/>
              </p:nvSpPr>
              <p:spPr>
                <a:xfrm flipV="1">
                  <a:off x="779040" y="481716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Group 9"/>
              <p:cNvGrpSpPr/>
              <p:nvPr/>
            </p:nvGrpSpPr>
            <p:grpSpPr>
              <a:xfrm>
                <a:off x="1703160" y="4810680"/>
                <a:ext cx="1105920" cy="1127160"/>
                <a:chOff x="1703160" y="4810680"/>
                <a:chExt cx="1105920" cy="1127160"/>
              </a:xfrm>
            </p:grpSpPr>
            <p:sp>
              <p:nvSpPr>
                <p:cNvPr id="871" name="Freeform 10"/>
                <p:cNvSpPr/>
                <p:nvPr/>
              </p:nvSpPr>
              <p:spPr>
                <a:xfrm>
                  <a:off x="1703160" y="4816800"/>
                  <a:ext cx="552960" cy="1121040"/>
                </a:xfrm>
                <a:custGeom>
                  <a:avLst/>
                  <a:gdLst>
                    <a:gd name="textAreaLeft" fmla="*/ 0 w 552960"/>
                    <a:gd name="textAreaRight" fmla="*/ 55332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Freeform 11"/>
                <p:cNvSpPr/>
                <p:nvPr/>
              </p:nvSpPr>
              <p:spPr>
                <a:xfrm flipH="1">
                  <a:off x="2256120" y="4813200"/>
                  <a:ext cx="552960" cy="1121040"/>
                </a:xfrm>
                <a:custGeom>
                  <a:avLst/>
                  <a:gdLst>
                    <a:gd name="textAreaLeft" fmla="*/ 360 w 552960"/>
                    <a:gd name="textAreaRight" fmla="*/ 55368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Line 12"/>
                <p:cNvSpPr/>
                <p:nvPr/>
              </p:nvSpPr>
              <p:spPr>
                <a:xfrm flipV="1">
                  <a:off x="1877400" y="481068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Group 13"/>
              <p:cNvGrpSpPr/>
              <p:nvPr/>
            </p:nvGrpSpPr>
            <p:grpSpPr>
              <a:xfrm>
                <a:off x="2803680" y="4802040"/>
                <a:ext cx="1105920" cy="1127160"/>
                <a:chOff x="2803680" y="4802040"/>
                <a:chExt cx="1105920" cy="1127160"/>
              </a:xfrm>
            </p:grpSpPr>
            <p:sp>
              <p:nvSpPr>
                <p:cNvPr id="875" name="Freeform 14"/>
                <p:cNvSpPr/>
                <p:nvPr/>
              </p:nvSpPr>
              <p:spPr>
                <a:xfrm>
                  <a:off x="2803680" y="4808160"/>
                  <a:ext cx="552960" cy="1121040"/>
                </a:xfrm>
                <a:custGeom>
                  <a:avLst/>
                  <a:gdLst>
                    <a:gd name="textAreaLeft" fmla="*/ 0 w 552960"/>
                    <a:gd name="textAreaRight" fmla="*/ 55332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Freeform 15"/>
                <p:cNvSpPr/>
                <p:nvPr/>
              </p:nvSpPr>
              <p:spPr>
                <a:xfrm flipH="1">
                  <a:off x="3356640" y="4804560"/>
                  <a:ext cx="552960" cy="1121040"/>
                </a:xfrm>
                <a:custGeom>
                  <a:avLst/>
                  <a:gdLst>
                    <a:gd name="textAreaLeft" fmla="*/ 360 w 552960"/>
                    <a:gd name="textAreaRight" fmla="*/ 55368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Line 16"/>
                <p:cNvSpPr/>
                <p:nvPr/>
              </p:nvSpPr>
              <p:spPr>
                <a:xfrm flipV="1">
                  <a:off x="2977920" y="4802040"/>
                  <a:ext cx="76536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8" name="Text Box 17"/>
            <p:cNvSpPr/>
            <p:nvPr/>
          </p:nvSpPr>
          <p:spPr>
            <a:xfrm>
              <a:off x="792360" y="5915160"/>
              <a:ext cx="30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ze          Color        Sha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Group 18"/>
          <p:cNvGrpSpPr/>
          <p:nvPr/>
        </p:nvGrpSpPr>
        <p:grpSpPr>
          <a:xfrm>
            <a:off x="5183280" y="4813200"/>
            <a:ext cx="1105920" cy="1127160"/>
            <a:chOff x="5183280" y="4813200"/>
            <a:chExt cx="1105920" cy="1127160"/>
          </a:xfrm>
        </p:grpSpPr>
        <p:sp>
          <p:nvSpPr>
            <p:cNvPr id="880" name="Freeform 19"/>
            <p:cNvSpPr/>
            <p:nvPr/>
          </p:nvSpPr>
          <p:spPr>
            <a:xfrm>
              <a:off x="5183280" y="4819320"/>
              <a:ext cx="552960" cy="112104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20"/>
            <p:cNvSpPr/>
            <p:nvPr/>
          </p:nvSpPr>
          <p:spPr>
            <a:xfrm flipH="1">
              <a:off x="5736240" y="4815720"/>
              <a:ext cx="552960" cy="1121040"/>
            </a:xfrm>
            <a:custGeom>
              <a:avLst/>
              <a:gdLst>
                <a:gd name="textAreaLeft" fmla="*/ 360 w 552960"/>
                <a:gd name="textAreaRight" fmla="*/ 553680 w 5529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21"/>
            <p:cNvSpPr/>
            <p:nvPr/>
          </p:nvSpPr>
          <p:spPr>
            <a:xfrm flipV="1">
              <a:off x="5357520" y="4813200"/>
              <a:ext cx="76572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Group 22"/>
          <p:cNvGrpSpPr/>
          <p:nvPr/>
        </p:nvGrpSpPr>
        <p:grpSpPr>
          <a:xfrm>
            <a:off x="6281640" y="4807080"/>
            <a:ext cx="1106280" cy="1127160"/>
            <a:chOff x="6281640" y="4807080"/>
            <a:chExt cx="1106280" cy="1127160"/>
          </a:xfrm>
        </p:grpSpPr>
        <p:sp>
          <p:nvSpPr>
            <p:cNvPr id="884" name="Freeform 23"/>
            <p:cNvSpPr/>
            <p:nvPr/>
          </p:nvSpPr>
          <p:spPr>
            <a:xfrm>
              <a:off x="6281640" y="4813200"/>
              <a:ext cx="553320" cy="112104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24"/>
            <p:cNvSpPr/>
            <p:nvPr/>
          </p:nvSpPr>
          <p:spPr>
            <a:xfrm flipH="1">
              <a:off x="6834240" y="4809600"/>
              <a:ext cx="553320" cy="1121040"/>
            </a:xfrm>
            <a:custGeom>
              <a:avLst/>
              <a:gdLst>
                <a:gd name="textAreaLeft" fmla="*/ -360 w 553320"/>
                <a:gd name="textAreaRight" fmla="*/ 55332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25"/>
            <p:cNvSpPr/>
            <p:nvPr/>
          </p:nvSpPr>
          <p:spPr>
            <a:xfrm flipV="1">
              <a:off x="6455880" y="480708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Group 26"/>
          <p:cNvGrpSpPr/>
          <p:nvPr/>
        </p:nvGrpSpPr>
        <p:grpSpPr>
          <a:xfrm>
            <a:off x="7381800" y="4797360"/>
            <a:ext cx="1106280" cy="1127160"/>
            <a:chOff x="7381800" y="4797360"/>
            <a:chExt cx="1106280" cy="1127160"/>
          </a:xfrm>
        </p:grpSpPr>
        <p:sp>
          <p:nvSpPr>
            <p:cNvPr id="888" name="Freeform 27"/>
            <p:cNvSpPr/>
            <p:nvPr/>
          </p:nvSpPr>
          <p:spPr>
            <a:xfrm>
              <a:off x="7381800" y="4803480"/>
              <a:ext cx="553320" cy="112104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28"/>
            <p:cNvSpPr/>
            <p:nvPr/>
          </p:nvSpPr>
          <p:spPr>
            <a:xfrm flipH="1">
              <a:off x="7934400" y="4799880"/>
              <a:ext cx="553320" cy="1121040"/>
            </a:xfrm>
            <a:custGeom>
              <a:avLst/>
              <a:gdLst>
                <a:gd name="textAreaLeft" fmla="*/ -360 w 553320"/>
                <a:gd name="textAreaRight" fmla="*/ 55332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 flipV="1">
              <a:off x="7556040" y="479736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Text Box 30"/>
          <p:cNvSpPr/>
          <p:nvPr/>
        </p:nvSpPr>
        <p:spPr>
          <a:xfrm>
            <a:off x="5370480" y="59101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         Color       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Group 31"/>
          <p:cNvGrpSpPr/>
          <p:nvPr/>
        </p:nvGrpSpPr>
        <p:grpSpPr>
          <a:xfrm>
            <a:off x="4019400" y="3100320"/>
            <a:ext cx="1106280" cy="1127160"/>
            <a:chOff x="4019400" y="3100320"/>
            <a:chExt cx="1106280" cy="1127160"/>
          </a:xfrm>
        </p:grpSpPr>
        <p:sp>
          <p:nvSpPr>
            <p:cNvPr id="893" name="Freeform 32"/>
            <p:cNvSpPr/>
            <p:nvPr/>
          </p:nvSpPr>
          <p:spPr>
            <a:xfrm>
              <a:off x="4019400" y="3106440"/>
              <a:ext cx="553320" cy="112104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33"/>
            <p:cNvSpPr/>
            <p:nvPr/>
          </p:nvSpPr>
          <p:spPr>
            <a:xfrm flipH="1">
              <a:off x="4572000" y="3102840"/>
              <a:ext cx="553320" cy="1121040"/>
            </a:xfrm>
            <a:custGeom>
              <a:avLst/>
              <a:gdLst>
                <a:gd name="textAreaLeft" fmla="*/ -360 w 553320"/>
                <a:gd name="textAreaRight" fmla="*/ 55332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34"/>
            <p:cNvSpPr/>
            <p:nvPr/>
          </p:nvSpPr>
          <p:spPr>
            <a:xfrm flipV="1">
              <a:off x="4193640" y="3100320"/>
              <a:ext cx="76608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Text Box 35"/>
          <p:cNvSpPr/>
          <p:nvPr/>
        </p:nvSpPr>
        <p:spPr>
          <a:xfrm>
            <a:off x="1476360" y="6243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36"/>
          <p:cNvSpPr/>
          <p:nvPr/>
        </p:nvSpPr>
        <p:spPr>
          <a:xfrm>
            <a:off x="6214320" y="622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7"/>
          <p:cNvSpPr/>
          <p:nvPr/>
        </p:nvSpPr>
        <p:spPr>
          <a:xfrm>
            <a:off x="4132080" y="34034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8"/>
          <p:cNvSpPr/>
          <p:nvPr/>
        </p:nvSpPr>
        <p:spPr>
          <a:xfrm>
            <a:off x="4427640" y="35942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39"/>
          <p:cNvSpPr/>
          <p:nvPr/>
        </p:nvSpPr>
        <p:spPr>
          <a:xfrm>
            <a:off x="4512960" y="34304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0"/>
          <p:cNvSpPr/>
          <p:nvPr/>
        </p:nvSpPr>
        <p:spPr>
          <a:xfrm>
            <a:off x="4057560" y="36212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1"/>
          <p:cNvSpPr/>
          <p:nvPr/>
        </p:nvSpPr>
        <p:spPr>
          <a:xfrm>
            <a:off x="4209840" y="37735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2"/>
          <p:cNvSpPr/>
          <p:nvPr/>
        </p:nvSpPr>
        <p:spPr>
          <a:xfrm>
            <a:off x="4556160" y="37702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43"/>
          <p:cNvSpPr/>
          <p:nvPr/>
        </p:nvSpPr>
        <p:spPr>
          <a:xfrm>
            <a:off x="4317840" y="326376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44"/>
          <p:cNvSpPr/>
          <p:nvPr/>
        </p:nvSpPr>
        <p:spPr>
          <a:xfrm>
            <a:off x="801360" y="55832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45"/>
          <p:cNvSpPr/>
          <p:nvPr/>
        </p:nvSpPr>
        <p:spPr>
          <a:xfrm>
            <a:off x="642600" y="52722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46"/>
          <p:cNvSpPr/>
          <p:nvPr/>
        </p:nvSpPr>
        <p:spPr>
          <a:xfrm>
            <a:off x="754200" y="540072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47"/>
          <p:cNvSpPr/>
          <p:nvPr/>
        </p:nvSpPr>
        <p:spPr>
          <a:xfrm>
            <a:off x="1138320" y="517536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48"/>
          <p:cNvSpPr/>
          <p:nvPr/>
        </p:nvSpPr>
        <p:spPr>
          <a:xfrm>
            <a:off x="1088640" y="5570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49"/>
          <p:cNvSpPr/>
          <p:nvPr/>
        </p:nvSpPr>
        <p:spPr>
          <a:xfrm>
            <a:off x="1236240" y="5405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0"/>
          <p:cNvSpPr/>
          <p:nvPr/>
        </p:nvSpPr>
        <p:spPr>
          <a:xfrm>
            <a:off x="752040" y="5106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51"/>
          <p:cNvSpPr/>
          <p:nvPr/>
        </p:nvSpPr>
        <p:spPr>
          <a:xfrm>
            <a:off x="923400" y="4954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52"/>
          <p:cNvSpPr/>
          <p:nvPr/>
        </p:nvSpPr>
        <p:spPr>
          <a:xfrm>
            <a:off x="966960" y="539604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53"/>
          <p:cNvSpPr/>
          <p:nvPr/>
        </p:nvSpPr>
        <p:spPr>
          <a:xfrm>
            <a:off x="2029680" y="4870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54"/>
          <p:cNvSpPr/>
          <p:nvPr/>
        </p:nvSpPr>
        <p:spPr>
          <a:xfrm>
            <a:off x="2328120" y="52293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5"/>
          <p:cNvSpPr/>
          <p:nvPr/>
        </p:nvSpPr>
        <p:spPr>
          <a:xfrm>
            <a:off x="1713600" y="526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56"/>
          <p:cNvSpPr/>
          <p:nvPr/>
        </p:nvSpPr>
        <p:spPr>
          <a:xfrm>
            <a:off x="1783440" y="5511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57"/>
          <p:cNvSpPr/>
          <p:nvPr/>
        </p:nvSpPr>
        <p:spPr>
          <a:xfrm>
            <a:off x="2096280" y="56167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1947960" y="50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59"/>
          <p:cNvSpPr/>
          <p:nvPr/>
        </p:nvSpPr>
        <p:spPr>
          <a:xfrm>
            <a:off x="2210040" y="54500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60"/>
          <p:cNvSpPr/>
          <p:nvPr/>
        </p:nvSpPr>
        <p:spPr>
          <a:xfrm>
            <a:off x="1998720" y="524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61"/>
          <p:cNvSpPr/>
          <p:nvPr/>
        </p:nvSpPr>
        <p:spPr>
          <a:xfrm>
            <a:off x="2989440" y="557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62"/>
          <p:cNvSpPr/>
          <p:nvPr/>
        </p:nvSpPr>
        <p:spPr>
          <a:xfrm>
            <a:off x="2849760" y="5332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63"/>
          <p:cNvSpPr/>
          <p:nvPr/>
        </p:nvSpPr>
        <p:spPr>
          <a:xfrm>
            <a:off x="3124440" y="483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64"/>
          <p:cNvSpPr/>
          <p:nvPr/>
        </p:nvSpPr>
        <p:spPr>
          <a:xfrm>
            <a:off x="3375000" y="519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65"/>
          <p:cNvSpPr/>
          <p:nvPr/>
        </p:nvSpPr>
        <p:spPr>
          <a:xfrm>
            <a:off x="3394440" y="5497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66"/>
          <p:cNvSpPr/>
          <p:nvPr/>
        </p:nvSpPr>
        <p:spPr>
          <a:xfrm>
            <a:off x="2947680" y="511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67"/>
          <p:cNvSpPr/>
          <p:nvPr/>
        </p:nvSpPr>
        <p:spPr>
          <a:xfrm>
            <a:off x="3246120" y="50356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68"/>
          <p:cNvSpPr/>
          <p:nvPr/>
        </p:nvSpPr>
        <p:spPr>
          <a:xfrm>
            <a:off x="3233880" y="5351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9"/>
          <p:cNvSpPr/>
          <p:nvPr/>
        </p:nvSpPr>
        <p:spPr>
          <a:xfrm>
            <a:off x="8056800" y="5380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0"/>
          <p:cNvSpPr/>
          <p:nvPr/>
        </p:nvSpPr>
        <p:spPr>
          <a:xfrm>
            <a:off x="7437240" y="5189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71"/>
          <p:cNvSpPr/>
          <p:nvPr/>
        </p:nvSpPr>
        <p:spPr>
          <a:xfrm>
            <a:off x="5378040" y="55753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72"/>
          <p:cNvSpPr/>
          <p:nvPr/>
        </p:nvSpPr>
        <p:spPr>
          <a:xfrm>
            <a:off x="5491440" y="48322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73"/>
          <p:cNvSpPr/>
          <p:nvPr/>
        </p:nvSpPr>
        <p:spPr>
          <a:xfrm>
            <a:off x="5208120" y="5240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74"/>
          <p:cNvSpPr/>
          <p:nvPr/>
        </p:nvSpPr>
        <p:spPr>
          <a:xfrm>
            <a:off x="5487480" y="5064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75"/>
          <p:cNvSpPr/>
          <p:nvPr/>
        </p:nvSpPr>
        <p:spPr>
          <a:xfrm>
            <a:off x="5686560" y="538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76"/>
          <p:cNvSpPr/>
          <p:nvPr/>
        </p:nvSpPr>
        <p:spPr>
          <a:xfrm>
            <a:off x="5719320" y="5165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77"/>
          <p:cNvSpPr/>
          <p:nvPr/>
        </p:nvSpPr>
        <p:spPr>
          <a:xfrm>
            <a:off x="5839200" y="553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78"/>
          <p:cNvSpPr/>
          <p:nvPr/>
        </p:nvSpPr>
        <p:spPr>
          <a:xfrm>
            <a:off x="5335200" y="5433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79"/>
          <p:cNvSpPr/>
          <p:nvPr/>
        </p:nvSpPr>
        <p:spPr>
          <a:xfrm>
            <a:off x="6431040" y="5611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80"/>
          <p:cNvSpPr/>
          <p:nvPr/>
        </p:nvSpPr>
        <p:spPr>
          <a:xfrm>
            <a:off x="6593400" y="4862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81"/>
          <p:cNvSpPr/>
          <p:nvPr/>
        </p:nvSpPr>
        <p:spPr>
          <a:xfrm>
            <a:off x="6350040" y="5221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82"/>
          <p:cNvSpPr/>
          <p:nvPr/>
        </p:nvSpPr>
        <p:spPr>
          <a:xfrm>
            <a:off x="6527880" y="5014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83"/>
          <p:cNvSpPr/>
          <p:nvPr/>
        </p:nvSpPr>
        <p:spPr>
          <a:xfrm>
            <a:off x="6848640" y="5573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84"/>
          <p:cNvSpPr/>
          <p:nvPr/>
        </p:nvSpPr>
        <p:spPr>
          <a:xfrm>
            <a:off x="6423840" y="5411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85"/>
          <p:cNvSpPr/>
          <p:nvPr/>
        </p:nvSpPr>
        <p:spPr>
          <a:xfrm>
            <a:off x="6715080" y="518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86"/>
          <p:cNvSpPr/>
          <p:nvPr/>
        </p:nvSpPr>
        <p:spPr>
          <a:xfrm>
            <a:off x="6796080" y="53802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87"/>
          <p:cNvSpPr/>
          <p:nvPr/>
        </p:nvSpPr>
        <p:spPr>
          <a:xfrm>
            <a:off x="7686720" y="484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88"/>
          <p:cNvSpPr/>
          <p:nvPr/>
        </p:nvSpPr>
        <p:spPr>
          <a:xfrm>
            <a:off x="7561800" y="5592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89"/>
          <p:cNvSpPr/>
          <p:nvPr/>
        </p:nvSpPr>
        <p:spPr>
          <a:xfrm>
            <a:off x="7930800" y="5586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90"/>
          <p:cNvSpPr/>
          <p:nvPr/>
        </p:nvSpPr>
        <p:spPr>
          <a:xfrm>
            <a:off x="7454880" y="5391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91"/>
          <p:cNvSpPr/>
          <p:nvPr/>
        </p:nvSpPr>
        <p:spPr>
          <a:xfrm>
            <a:off x="7660080" y="508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92"/>
          <p:cNvSpPr/>
          <p:nvPr/>
        </p:nvSpPr>
        <p:spPr>
          <a:xfrm>
            <a:off x="7942320" y="5197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93"/>
          <p:cNvSpPr/>
          <p:nvPr/>
        </p:nvSpPr>
        <p:spPr>
          <a:xfrm>
            <a:off x="7778520" y="5348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94"/>
          <p:cNvSpPr/>
          <p:nvPr/>
        </p:nvSpPr>
        <p:spPr>
          <a:xfrm>
            <a:off x="4030560" y="4170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95"/>
          <p:cNvSpPr/>
          <p:nvPr/>
        </p:nvSpPr>
        <p:spPr>
          <a:xfrm>
            <a:off x="3852720" y="200196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g  red cir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Group 96"/>
          <p:cNvGrpSpPr/>
          <p:nvPr/>
        </p:nvGrpSpPr>
        <p:grpSpPr>
          <a:xfrm>
            <a:off x="2682720" y="2206800"/>
            <a:ext cx="3638520" cy="1864800"/>
            <a:chOff x="2682720" y="2206800"/>
            <a:chExt cx="3638520" cy="1864800"/>
          </a:xfrm>
        </p:grpSpPr>
        <p:sp>
          <p:nvSpPr>
            <p:cNvPr id="958" name="Line 97"/>
            <p:cNvSpPr/>
            <p:nvPr/>
          </p:nvSpPr>
          <p:spPr>
            <a:xfrm flipV="1">
              <a:off x="2682720" y="2511000"/>
              <a:ext cx="1243080" cy="1560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98"/>
            <p:cNvSpPr/>
            <p:nvPr/>
          </p:nvSpPr>
          <p:spPr>
            <a:xfrm flipH="1" flipV="1">
              <a:off x="5078160" y="2443320"/>
              <a:ext cx="1243080" cy="1560240"/>
            </a:xfrm>
            <a:prstGeom prst="line">
              <a:avLst/>
            </a:prstGeom>
            <a:ln w="7632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99"/>
            <p:cNvSpPr/>
            <p:nvPr/>
          </p:nvSpPr>
          <p:spPr>
            <a:xfrm>
              <a:off x="3889440" y="2206800"/>
              <a:ext cx="12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??     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431B-083D-472F-971F-868673FE2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ian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features of an instance are independ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the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nditionally 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we then only need to know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possible pair of a feature-value and a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inary, this requires specifying onl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) and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false) for each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fals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= 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d to specifying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without any independence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Object 2"/>
              <p:cNvSpPr txBox="1"/>
              <p:nvPr/>
            </p:nvSpPr>
            <p:spPr>
              <a:xfrm>
                <a:off x="1195560" y="1944720"/>
                <a:ext cx="6453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C7F2-C5EF-452A-BD23-4A19C4FB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57200" y="1600200"/>
          <a:ext cx="4648320" cy="405144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mall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larg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blu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green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quar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riang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Line 249"/>
          <p:cNvSpPr/>
          <p:nvPr/>
        </p:nvSpPr>
        <p:spPr>
          <a:xfrm>
            <a:off x="446040" y="2313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Line 250"/>
          <p:cNvSpPr/>
          <p:nvPr/>
        </p:nvSpPr>
        <p:spPr>
          <a:xfrm>
            <a:off x="457200" y="3429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251"/>
          <p:cNvSpPr/>
          <p:nvPr/>
        </p:nvSpPr>
        <p:spPr>
          <a:xfrm>
            <a:off x="439560" y="4519440"/>
            <a:ext cx="464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312"/>
          <p:cNvSpPr/>
          <p:nvPr/>
        </p:nvSpPr>
        <p:spPr>
          <a:xfrm>
            <a:off x="5642640" y="3124080"/>
            <a:ext cx="24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dium ,red, circ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9758-2F87-4C46-8DA3-E4CF542AF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457200" y="1600200"/>
          <a:ext cx="4648320" cy="184320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5" name="Line 53"/>
          <p:cNvSpPr/>
          <p:nvPr/>
        </p:nvSpPr>
        <p:spPr>
          <a:xfrm>
            <a:off x="446040" y="2313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54"/>
          <p:cNvSpPr/>
          <p:nvPr/>
        </p:nvSpPr>
        <p:spPr>
          <a:xfrm>
            <a:off x="433440" y="2697120"/>
            <a:ext cx="464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55"/>
          <p:cNvSpPr/>
          <p:nvPr/>
        </p:nvSpPr>
        <p:spPr>
          <a:xfrm>
            <a:off x="441360" y="305604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63"/>
          <p:cNvSpPr/>
          <p:nvPr/>
        </p:nvSpPr>
        <p:spPr>
          <a:xfrm>
            <a:off x="295200" y="3581280"/>
            <a:ext cx="873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posi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P(positive)*P(medium | positive)*P(red | positive)*P(circle | positive)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       *               0.1              *        0.9            *       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0.0405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64"/>
          <p:cNvSpPr/>
          <p:nvPr/>
        </p:nvSpPr>
        <p:spPr>
          <a:xfrm>
            <a:off x="204840" y="4572000"/>
            <a:ext cx="9053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nega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P(negative)*P(medium | negative)*P(red | negative)*P(circle | negative)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      *              0.2               *        0.3             *    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0.009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101"/>
          <p:cNvSpPr/>
          <p:nvPr/>
        </p:nvSpPr>
        <p:spPr>
          <a:xfrm>
            <a:off x="218160" y="5562720"/>
            <a:ext cx="62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posi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P(nega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0.0405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0.009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102"/>
          <p:cNvSpPr/>
          <p:nvPr/>
        </p:nvSpPr>
        <p:spPr>
          <a:xfrm>
            <a:off x="299880" y="6019920"/>
            <a:ext cx="33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0.0405 + 0.009) = 0.04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03"/>
          <p:cNvSpPr/>
          <p:nvPr/>
        </p:nvSpPr>
        <p:spPr>
          <a:xfrm>
            <a:off x="3272760" y="419112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0405 / 0.0495 = 0.81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04"/>
          <p:cNvSpPr/>
          <p:nvPr/>
        </p:nvSpPr>
        <p:spPr>
          <a:xfrm>
            <a:off x="3196440" y="518148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009 / 0.0495 = 0.18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05"/>
          <p:cNvSpPr/>
          <p:nvPr/>
        </p:nvSpPr>
        <p:spPr>
          <a:xfrm>
            <a:off x="5713920" y="2587680"/>
            <a:ext cx="24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dium, red, circ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639D-524F-4ADA-95E2-2A193858E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ategory Learning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language: &lt;size, color, shap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z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{small, medium, large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lor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{red, blue, green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hap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{square, circle, triangle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positive, negativ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639800" y="3938760"/>
          <a:ext cx="6858000" cy="25905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triang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5635-1994-4672-A07F-DD644437E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9185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, probabilities are estimated based on observed frequencies in the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in categ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hav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value for fe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estimating such probabilities from small training sets is error-pr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ue only to chance, a rare featur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always false in the training dat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then occurs in a test examp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result is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Object 2"/>
              <p:cNvSpPr txBox="1"/>
              <p:nvPr/>
            </p:nvSpPr>
            <p:spPr>
              <a:xfrm>
                <a:off x="2503440" y="2708280"/>
                <a:ext cx="35625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2BC6-BC30-44AF-8E8B-5A26C2BE5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ty Estimation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4425840" y="1487520"/>
          <a:ext cx="4572000" cy="40514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mall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larg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blu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green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quar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riang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2" name=""/>
          <p:cNvGraphicFramePr/>
          <p:nvPr/>
        </p:nvGraphicFramePr>
        <p:xfrm>
          <a:off x="0" y="1644480"/>
          <a:ext cx="4343400" cy="2867040"/>
        </p:xfrm>
        <a:graphic>
          <a:graphicData uri="http://schemas.openxmlformats.org/drawingml/2006/table">
            <a:tbl>
              <a:tblPr/>
              <a:tblGrid>
                <a:gridCol w="828720"/>
                <a:gridCol w="828720"/>
                <a:gridCol w="825480"/>
                <a:gridCol w="826920"/>
                <a:gridCol w="1033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b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93" name="Group 164"/>
          <p:cNvGrpSpPr/>
          <p:nvPr/>
        </p:nvGrpSpPr>
        <p:grpSpPr>
          <a:xfrm>
            <a:off x="-29880" y="4876920"/>
            <a:ext cx="5103360" cy="1719720"/>
            <a:chOff x="-29880" y="4876920"/>
            <a:chExt cx="5103360" cy="1719720"/>
          </a:xfrm>
        </p:grpSpPr>
        <p:sp>
          <p:nvSpPr>
            <p:cNvPr id="994" name="Text Box 161"/>
            <p:cNvSpPr/>
            <p:nvPr/>
          </p:nvSpPr>
          <p:spPr>
            <a:xfrm>
              <a:off x="1153080" y="4876920"/>
              <a:ext cx="244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st Instanc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medium, red, circ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162"/>
            <p:cNvSpPr/>
            <p:nvPr/>
          </p:nvSpPr>
          <p:spPr>
            <a:xfrm>
              <a:off x="-20880" y="5738760"/>
              <a:ext cx="504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positive |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0.5 * 0.0 * 1.0 * 1.0 / P(X)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Text Box 163"/>
            <p:cNvSpPr/>
            <p:nvPr/>
          </p:nvSpPr>
          <p:spPr>
            <a:xfrm>
              <a:off x="-29880" y="6197760"/>
              <a:ext cx="51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negative |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0.5 * 0.0 * 0.5 * 0.5 / P(X)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B72A-7AA4-4B2C-9979-5DD19C5E3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count for estimation from small samples, probability estimates are adjuste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mooth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lace smoothing using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stimate assumes that each feature is given a prior probabilit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is assumed to have been previously observed in a “virtual”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inary featur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imply assumed to be 0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Object 2"/>
              <p:cNvSpPr txBox="1"/>
              <p:nvPr/>
            </p:nvSpPr>
            <p:spPr>
              <a:xfrm>
                <a:off x="2187720" y="4038480"/>
                <a:ext cx="39909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475E-C6FE-4A16-9E74-C5AEBFF12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place Smoth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raining set contains 10 positive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: sm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: mediu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: larg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parameters as follows (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small | positive) = (4 + 1/3) / (10 + 1) =     0.394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medium | positive) = (0 + 1/3) / (10 + 1) = 0.0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large | positive) = (6 + 1/3) / (10 + 1) =      0.576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small or medium or large | positive) =        1.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4" name="Line 4"/>
          <p:cNvSpPr/>
          <p:nvPr/>
        </p:nvSpPr>
        <p:spPr>
          <a:xfrm>
            <a:off x="670572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BE25-9102-469D-B135-79A61F9B8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ed as generating a bag of words for a document in a given category by repeatedly sampling with replacement from a vocabula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ed on the probabilities 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 probability estimates with Laplace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stimates assuming a uniform distribution over all word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/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quivalent to a virtual sample of seeing each word in each category exactly onc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E268-199D-4658-BEC9-BE369598E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20"/>
          <p:cNvSpPr/>
          <p:nvPr/>
        </p:nvSpPr>
        <p:spPr>
          <a:xfrm>
            <a:off x="2158920" y="54039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21"/>
          <p:cNvSpPr/>
          <p:nvPr/>
        </p:nvSpPr>
        <p:spPr>
          <a:xfrm>
            <a:off x="2188440" y="51674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23"/>
          <p:cNvSpPr/>
          <p:nvPr/>
        </p:nvSpPr>
        <p:spPr>
          <a:xfrm>
            <a:off x="1167840" y="51530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Generative Model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13" name="Group 7"/>
          <p:cNvGrpSpPr/>
          <p:nvPr/>
        </p:nvGrpSpPr>
        <p:grpSpPr>
          <a:xfrm>
            <a:off x="5943600" y="4266720"/>
            <a:ext cx="1742760" cy="1971720"/>
            <a:chOff x="5943600" y="4266720"/>
            <a:chExt cx="1742760" cy="1971720"/>
          </a:xfrm>
        </p:grpSpPr>
        <p:sp>
          <p:nvSpPr>
            <p:cNvPr id="1014" name="Freeform 8"/>
            <p:cNvSpPr/>
            <p:nvPr/>
          </p:nvSpPr>
          <p:spPr>
            <a:xfrm>
              <a:off x="5943600" y="427788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Freeform 9"/>
            <p:cNvSpPr/>
            <p:nvPr/>
          </p:nvSpPr>
          <p:spPr>
            <a:xfrm flipH="1">
              <a:off x="6814440" y="427176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10"/>
            <p:cNvSpPr/>
            <p:nvPr/>
          </p:nvSpPr>
          <p:spPr>
            <a:xfrm flipV="1">
              <a:off x="6218280" y="4266720"/>
              <a:ext cx="1206720" cy="12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Group 11"/>
          <p:cNvGrpSpPr/>
          <p:nvPr/>
        </p:nvGrpSpPr>
        <p:grpSpPr>
          <a:xfrm>
            <a:off x="1143000" y="4266720"/>
            <a:ext cx="1742760" cy="1971720"/>
            <a:chOff x="1143000" y="4266720"/>
            <a:chExt cx="1742760" cy="1971720"/>
          </a:xfrm>
        </p:grpSpPr>
        <p:sp>
          <p:nvSpPr>
            <p:cNvPr id="1018" name="Freeform 12"/>
            <p:cNvSpPr/>
            <p:nvPr/>
          </p:nvSpPr>
          <p:spPr>
            <a:xfrm>
              <a:off x="1143000" y="427788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13"/>
            <p:cNvSpPr/>
            <p:nvPr/>
          </p:nvSpPr>
          <p:spPr>
            <a:xfrm flipH="1">
              <a:off x="2013840" y="427176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Line 14"/>
            <p:cNvSpPr/>
            <p:nvPr/>
          </p:nvSpPr>
          <p:spPr>
            <a:xfrm flipV="1">
              <a:off x="1417680" y="426672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Text Box 15"/>
          <p:cNvSpPr/>
          <p:nvPr/>
        </p:nvSpPr>
        <p:spPr>
          <a:xfrm>
            <a:off x="1521360" y="61484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6"/>
          <p:cNvSpPr/>
          <p:nvPr/>
        </p:nvSpPr>
        <p:spPr>
          <a:xfrm>
            <a:off x="6440400" y="61768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8"/>
          <p:cNvSpPr/>
          <p:nvPr/>
        </p:nvSpPr>
        <p:spPr>
          <a:xfrm>
            <a:off x="1427040" y="49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9"/>
          <p:cNvSpPr/>
          <p:nvPr/>
        </p:nvSpPr>
        <p:spPr>
          <a:xfrm>
            <a:off x="1743120" y="582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22"/>
          <p:cNvSpPr/>
          <p:nvPr/>
        </p:nvSpPr>
        <p:spPr>
          <a:xfrm>
            <a:off x="1863360" y="5646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24"/>
          <p:cNvSpPr/>
          <p:nvPr/>
        </p:nvSpPr>
        <p:spPr>
          <a:xfrm>
            <a:off x="1223280" y="53974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25"/>
          <p:cNvSpPr/>
          <p:nvPr/>
        </p:nvSpPr>
        <p:spPr>
          <a:xfrm>
            <a:off x="2286000" y="490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26"/>
          <p:cNvSpPr/>
          <p:nvPr/>
        </p:nvSpPr>
        <p:spPr>
          <a:xfrm>
            <a:off x="1981080" y="5054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27"/>
          <p:cNvSpPr/>
          <p:nvPr/>
        </p:nvSpPr>
        <p:spPr>
          <a:xfrm>
            <a:off x="1692360" y="4714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28"/>
          <p:cNvSpPr/>
          <p:nvPr/>
        </p:nvSpPr>
        <p:spPr>
          <a:xfrm>
            <a:off x="6867360" y="5006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30"/>
          <p:cNvSpPr/>
          <p:nvPr/>
        </p:nvSpPr>
        <p:spPr>
          <a:xfrm>
            <a:off x="6703560" y="58183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31"/>
          <p:cNvSpPr/>
          <p:nvPr/>
        </p:nvSpPr>
        <p:spPr>
          <a:xfrm>
            <a:off x="5952240" y="4995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32"/>
          <p:cNvSpPr/>
          <p:nvPr/>
        </p:nvSpPr>
        <p:spPr>
          <a:xfrm>
            <a:off x="6168960" y="5783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33"/>
          <p:cNvSpPr/>
          <p:nvPr/>
        </p:nvSpPr>
        <p:spPr>
          <a:xfrm>
            <a:off x="6464880" y="4716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34"/>
          <p:cNvSpPr/>
          <p:nvPr/>
        </p:nvSpPr>
        <p:spPr>
          <a:xfrm>
            <a:off x="6086160" y="524664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35"/>
          <p:cNvSpPr/>
          <p:nvPr/>
        </p:nvSpPr>
        <p:spPr>
          <a:xfrm>
            <a:off x="6140520" y="55245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36"/>
          <p:cNvSpPr/>
          <p:nvPr/>
        </p:nvSpPr>
        <p:spPr>
          <a:xfrm>
            <a:off x="6390720" y="43480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37"/>
          <p:cNvSpPr/>
          <p:nvPr/>
        </p:nvSpPr>
        <p:spPr>
          <a:xfrm>
            <a:off x="1603080" y="4421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38"/>
          <p:cNvSpPr/>
          <p:nvPr/>
        </p:nvSpPr>
        <p:spPr>
          <a:xfrm>
            <a:off x="6546960" y="52689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39"/>
          <p:cNvSpPr/>
          <p:nvPr/>
        </p:nvSpPr>
        <p:spPr>
          <a:xfrm>
            <a:off x="6961320" y="5518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64"/>
          <p:cNvSpPr/>
          <p:nvPr/>
        </p:nvSpPr>
        <p:spPr>
          <a:xfrm>
            <a:off x="1447920" y="5664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Group 65"/>
          <p:cNvGrpSpPr/>
          <p:nvPr/>
        </p:nvGrpSpPr>
        <p:grpSpPr>
          <a:xfrm>
            <a:off x="3581280" y="1904760"/>
            <a:ext cx="1742760" cy="1971720"/>
            <a:chOff x="3581280" y="1904760"/>
            <a:chExt cx="1742760" cy="1971720"/>
          </a:xfrm>
        </p:grpSpPr>
        <p:sp>
          <p:nvSpPr>
            <p:cNvPr id="1043" name="Freeform 66"/>
            <p:cNvSpPr/>
            <p:nvPr/>
          </p:nvSpPr>
          <p:spPr>
            <a:xfrm>
              <a:off x="3581280" y="191592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67"/>
            <p:cNvSpPr/>
            <p:nvPr/>
          </p:nvSpPr>
          <p:spPr>
            <a:xfrm flipH="1">
              <a:off x="4452120" y="190980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68"/>
            <p:cNvSpPr/>
            <p:nvPr/>
          </p:nvSpPr>
          <p:spPr>
            <a:xfrm flipV="1">
              <a:off x="3855960" y="190476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Text Box 69"/>
          <p:cNvSpPr/>
          <p:nvPr/>
        </p:nvSpPr>
        <p:spPr>
          <a:xfrm>
            <a:off x="3732480" y="2590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70"/>
          <p:cNvSpPr/>
          <p:nvPr/>
        </p:nvSpPr>
        <p:spPr>
          <a:xfrm>
            <a:off x="3733200" y="28954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71"/>
          <p:cNvSpPr/>
          <p:nvPr/>
        </p:nvSpPr>
        <p:spPr>
          <a:xfrm>
            <a:off x="3808800" y="3200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72"/>
          <p:cNvSpPr/>
          <p:nvPr/>
        </p:nvSpPr>
        <p:spPr>
          <a:xfrm>
            <a:off x="4418280" y="26668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73"/>
          <p:cNvSpPr/>
          <p:nvPr/>
        </p:nvSpPr>
        <p:spPr>
          <a:xfrm>
            <a:off x="4156920" y="23623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74"/>
          <p:cNvSpPr/>
          <p:nvPr/>
        </p:nvSpPr>
        <p:spPr>
          <a:xfrm>
            <a:off x="4037400" y="19810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75"/>
          <p:cNvSpPr/>
          <p:nvPr/>
        </p:nvSpPr>
        <p:spPr>
          <a:xfrm>
            <a:off x="4494960" y="29718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76"/>
          <p:cNvSpPr/>
          <p:nvPr/>
        </p:nvSpPr>
        <p:spPr>
          <a:xfrm>
            <a:off x="4037760" y="342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77"/>
          <p:cNvSpPr/>
          <p:nvPr/>
        </p:nvSpPr>
        <p:spPr>
          <a:xfrm>
            <a:off x="4494600" y="3276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79"/>
          <p:cNvSpPr/>
          <p:nvPr/>
        </p:nvSpPr>
        <p:spPr>
          <a:xfrm>
            <a:off x="3784680" y="38368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26"/>
          <p:cNvSpPr/>
          <p:nvPr/>
        </p:nvSpPr>
        <p:spPr>
          <a:xfrm>
            <a:off x="1861920" y="56484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127"/>
          <p:cNvSpPr/>
          <p:nvPr/>
        </p:nvSpPr>
        <p:spPr>
          <a:xfrm>
            <a:off x="2188440" y="51674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128"/>
          <p:cNvSpPr/>
          <p:nvPr/>
        </p:nvSpPr>
        <p:spPr>
          <a:xfrm>
            <a:off x="1427040" y="49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29"/>
          <p:cNvSpPr/>
          <p:nvPr/>
        </p:nvSpPr>
        <p:spPr>
          <a:xfrm>
            <a:off x="2286000" y="490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5.78035E-008 C -0.01285 -0.02751 -0.02553 -0.05503 -0.03178 -0.08879 C -0.03803 -0.12254 -0.03716 -0.18405 -0.03803 -0.203 E">
                                      <p:cBhvr>
                                        <p:cTn id="239" dur="20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10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7052E-006 C -0.01059 -0.04579 -0.02101 -0.09134 -0.02709 -0.1311 C -0.03316 -0.17087 -0.01528 -0.21411 -0.03663 -0.23885 C -0.05799 -0.26359 -0.13577 -0.27214 -0.15556 -0.27908 E">
                                      <p:cBhvr>
                                        <p:cTn id="248" dur="2000" fill="hold"/>
                                        <p:tgtEl>
                                          <p:spTgt spid="10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6.99422E-006 C 0.01337 -0.02405 0.02674 -0.04787 0.03021 -0.07608 C 0.03369 -0.10429 0.0283 -0.15076 0.02067 -0.16903 C 0.01303 -0.18729 -0.00972 -0.1829 -0.01579 -0.18614 E">
                                      <p:cBhvr>
                                        <p:cTn id="252" dur="2000" fill="hold"/>
                                        <p:tgtEl>
                                          <p:spTgt spid="10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2948E-006 C -0.01545 -0.02197 -0.0309 -0.04393 -0.03958 -0.06544 C -0.04826 -0.08694 -0.05538 -0.10336 -0.05225 -0.12902 C -0.04913 -0.15468 -0.02552 -0.2044 -0.02048 -0.21989 E">
                                      <p:cBhvr>
                                        <p:cTn id="256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9191E-006 C -0.0191 -0.01989 -0.03819 -0.03954 -0.04444 -0.05919 C -0.05069 -0.07885 -0.05416 -0.09943 -0.03802 -0.11839 C -0.02187 -0.13734 0.03733 -0.1637 0.05243 -0.17318 E">
                                      <p:cBhvr>
                                        <p:cTn id="260" dur="2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DE77-C756-4C11-A2DB-EBC0103CE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Classific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2" name="Text Box 62"/>
          <p:cNvSpPr/>
          <p:nvPr/>
        </p:nvSpPr>
        <p:spPr>
          <a:xfrm>
            <a:off x="2311560" y="5556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63"/>
          <p:cNvSpPr/>
          <p:nvPr/>
        </p:nvSpPr>
        <p:spPr>
          <a:xfrm>
            <a:off x="2350440" y="53197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64"/>
          <p:cNvSpPr/>
          <p:nvPr/>
        </p:nvSpPr>
        <p:spPr>
          <a:xfrm>
            <a:off x="1320480" y="53053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Group 65"/>
          <p:cNvGrpSpPr/>
          <p:nvPr/>
        </p:nvGrpSpPr>
        <p:grpSpPr>
          <a:xfrm>
            <a:off x="6095880" y="4419360"/>
            <a:ext cx="1742760" cy="1971720"/>
            <a:chOff x="6095880" y="4419360"/>
            <a:chExt cx="1742760" cy="1971720"/>
          </a:xfrm>
        </p:grpSpPr>
        <p:sp>
          <p:nvSpPr>
            <p:cNvPr id="1066" name="Freeform 66"/>
            <p:cNvSpPr/>
            <p:nvPr/>
          </p:nvSpPr>
          <p:spPr>
            <a:xfrm>
              <a:off x="6095880" y="443052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67"/>
            <p:cNvSpPr/>
            <p:nvPr/>
          </p:nvSpPr>
          <p:spPr>
            <a:xfrm flipH="1">
              <a:off x="6966720" y="442440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68"/>
            <p:cNvSpPr/>
            <p:nvPr/>
          </p:nvSpPr>
          <p:spPr>
            <a:xfrm flipV="1">
              <a:off x="6370560" y="4419360"/>
              <a:ext cx="1206720" cy="12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Group 69"/>
          <p:cNvGrpSpPr/>
          <p:nvPr/>
        </p:nvGrpSpPr>
        <p:grpSpPr>
          <a:xfrm>
            <a:off x="1295280" y="4419360"/>
            <a:ext cx="1742760" cy="1971720"/>
            <a:chOff x="1295280" y="4419360"/>
            <a:chExt cx="1742760" cy="1971720"/>
          </a:xfrm>
        </p:grpSpPr>
        <p:sp>
          <p:nvSpPr>
            <p:cNvPr id="1070" name="Freeform 70"/>
            <p:cNvSpPr/>
            <p:nvPr/>
          </p:nvSpPr>
          <p:spPr>
            <a:xfrm>
              <a:off x="1295280" y="443052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Freeform 71"/>
            <p:cNvSpPr/>
            <p:nvPr/>
          </p:nvSpPr>
          <p:spPr>
            <a:xfrm flipH="1">
              <a:off x="2166120" y="442440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Line 72"/>
            <p:cNvSpPr/>
            <p:nvPr/>
          </p:nvSpPr>
          <p:spPr>
            <a:xfrm flipV="1">
              <a:off x="1569960" y="441936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Text Box 73"/>
          <p:cNvSpPr/>
          <p:nvPr/>
        </p:nvSpPr>
        <p:spPr>
          <a:xfrm>
            <a:off x="1673640" y="6300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74"/>
          <p:cNvSpPr/>
          <p:nvPr/>
        </p:nvSpPr>
        <p:spPr>
          <a:xfrm>
            <a:off x="6593040" y="6329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75"/>
          <p:cNvSpPr/>
          <p:nvPr/>
        </p:nvSpPr>
        <p:spPr>
          <a:xfrm>
            <a:off x="1579680" y="5129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76"/>
          <p:cNvSpPr/>
          <p:nvPr/>
        </p:nvSpPr>
        <p:spPr>
          <a:xfrm>
            <a:off x="1895400" y="597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77"/>
          <p:cNvSpPr/>
          <p:nvPr/>
        </p:nvSpPr>
        <p:spPr>
          <a:xfrm>
            <a:off x="2016000" y="57992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78"/>
          <p:cNvSpPr/>
          <p:nvPr/>
        </p:nvSpPr>
        <p:spPr>
          <a:xfrm>
            <a:off x="1375560" y="554976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79"/>
          <p:cNvSpPr/>
          <p:nvPr/>
        </p:nvSpPr>
        <p:spPr>
          <a:xfrm>
            <a:off x="2438280" y="5054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80"/>
          <p:cNvSpPr/>
          <p:nvPr/>
        </p:nvSpPr>
        <p:spPr>
          <a:xfrm>
            <a:off x="2133720" y="5207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81"/>
          <p:cNvSpPr/>
          <p:nvPr/>
        </p:nvSpPr>
        <p:spPr>
          <a:xfrm>
            <a:off x="1844640" y="486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82"/>
          <p:cNvSpPr/>
          <p:nvPr/>
        </p:nvSpPr>
        <p:spPr>
          <a:xfrm>
            <a:off x="7020000" y="515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83"/>
          <p:cNvSpPr/>
          <p:nvPr/>
        </p:nvSpPr>
        <p:spPr>
          <a:xfrm>
            <a:off x="6855840" y="5970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84"/>
          <p:cNvSpPr/>
          <p:nvPr/>
        </p:nvSpPr>
        <p:spPr>
          <a:xfrm>
            <a:off x="6104520" y="51483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85"/>
          <p:cNvSpPr/>
          <p:nvPr/>
        </p:nvSpPr>
        <p:spPr>
          <a:xfrm>
            <a:off x="6321600" y="5935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6"/>
          <p:cNvSpPr/>
          <p:nvPr/>
        </p:nvSpPr>
        <p:spPr>
          <a:xfrm>
            <a:off x="6617520" y="4869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87"/>
          <p:cNvSpPr/>
          <p:nvPr/>
        </p:nvSpPr>
        <p:spPr>
          <a:xfrm>
            <a:off x="6238440" y="53989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88"/>
          <p:cNvSpPr/>
          <p:nvPr/>
        </p:nvSpPr>
        <p:spPr>
          <a:xfrm>
            <a:off x="6292800" y="56768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89"/>
          <p:cNvSpPr/>
          <p:nvPr/>
        </p:nvSpPr>
        <p:spPr>
          <a:xfrm>
            <a:off x="6543000" y="45007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90"/>
          <p:cNvSpPr/>
          <p:nvPr/>
        </p:nvSpPr>
        <p:spPr>
          <a:xfrm>
            <a:off x="1755360" y="4573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91"/>
          <p:cNvSpPr/>
          <p:nvPr/>
        </p:nvSpPr>
        <p:spPr>
          <a:xfrm>
            <a:off x="6699240" y="54212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92"/>
          <p:cNvSpPr/>
          <p:nvPr/>
        </p:nvSpPr>
        <p:spPr>
          <a:xfrm>
            <a:off x="7113600" y="5670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93"/>
          <p:cNvSpPr/>
          <p:nvPr/>
        </p:nvSpPr>
        <p:spPr>
          <a:xfrm>
            <a:off x="1600200" y="581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Group 94"/>
          <p:cNvGrpSpPr/>
          <p:nvPr/>
        </p:nvGrpSpPr>
        <p:grpSpPr>
          <a:xfrm>
            <a:off x="3657600" y="2742840"/>
            <a:ext cx="1742760" cy="1971720"/>
            <a:chOff x="3657600" y="2742840"/>
            <a:chExt cx="1742760" cy="1971720"/>
          </a:xfrm>
        </p:grpSpPr>
        <p:sp>
          <p:nvSpPr>
            <p:cNvPr id="1095" name="Freeform 95"/>
            <p:cNvSpPr/>
            <p:nvPr/>
          </p:nvSpPr>
          <p:spPr>
            <a:xfrm>
              <a:off x="3657600" y="275400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Freeform 96"/>
            <p:cNvSpPr/>
            <p:nvPr/>
          </p:nvSpPr>
          <p:spPr>
            <a:xfrm flipH="1">
              <a:off x="4528440" y="274788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97"/>
            <p:cNvSpPr/>
            <p:nvPr/>
          </p:nvSpPr>
          <p:spPr>
            <a:xfrm flipV="1">
              <a:off x="3932280" y="274284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Text Box 98"/>
          <p:cNvSpPr/>
          <p:nvPr/>
        </p:nvSpPr>
        <p:spPr>
          <a:xfrm>
            <a:off x="3808800" y="3429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99"/>
          <p:cNvSpPr/>
          <p:nvPr/>
        </p:nvSpPr>
        <p:spPr>
          <a:xfrm>
            <a:off x="3809160" y="3733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00"/>
          <p:cNvSpPr/>
          <p:nvPr/>
        </p:nvSpPr>
        <p:spPr>
          <a:xfrm>
            <a:off x="3885120" y="40384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1"/>
          <p:cNvSpPr/>
          <p:nvPr/>
        </p:nvSpPr>
        <p:spPr>
          <a:xfrm>
            <a:off x="4494600" y="35053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02"/>
          <p:cNvSpPr/>
          <p:nvPr/>
        </p:nvSpPr>
        <p:spPr>
          <a:xfrm>
            <a:off x="4233240" y="32004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03"/>
          <p:cNvSpPr/>
          <p:nvPr/>
        </p:nvSpPr>
        <p:spPr>
          <a:xfrm>
            <a:off x="4113720" y="28195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04"/>
          <p:cNvSpPr/>
          <p:nvPr/>
        </p:nvSpPr>
        <p:spPr>
          <a:xfrm>
            <a:off x="4571280" y="3809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05"/>
          <p:cNvSpPr/>
          <p:nvPr/>
        </p:nvSpPr>
        <p:spPr>
          <a:xfrm>
            <a:off x="4114080" y="4267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06"/>
          <p:cNvSpPr/>
          <p:nvPr/>
        </p:nvSpPr>
        <p:spPr>
          <a:xfrm>
            <a:off x="4570920" y="4114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07"/>
          <p:cNvSpPr/>
          <p:nvPr/>
        </p:nvSpPr>
        <p:spPr>
          <a:xfrm>
            <a:off x="3860640" y="46753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108"/>
          <p:cNvSpPr/>
          <p:nvPr/>
        </p:nvSpPr>
        <p:spPr>
          <a:xfrm>
            <a:off x="3652560" y="152388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 lotttery $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Group 109"/>
          <p:cNvGrpSpPr/>
          <p:nvPr/>
        </p:nvGrpSpPr>
        <p:grpSpPr>
          <a:xfrm>
            <a:off x="2666880" y="1828800"/>
            <a:ext cx="3638160" cy="1864800"/>
            <a:chOff x="2666880" y="1828800"/>
            <a:chExt cx="3638160" cy="1864800"/>
          </a:xfrm>
        </p:grpSpPr>
        <p:sp>
          <p:nvSpPr>
            <p:cNvPr id="1110" name="Line 110"/>
            <p:cNvSpPr/>
            <p:nvPr/>
          </p:nvSpPr>
          <p:spPr>
            <a:xfrm flipV="1">
              <a:off x="2666880" y="2133000"/>
              <a:ext cx="1242720" cy="1560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Line 111"/>
            <p:cNvSpPr/>
            <p:nvPr/>
          </p:nvSpPr>
          <p:spPr>
            <a:xfrm flipH="1" flipV="1">
              <a:off x="5062320" y="2065320"/>
              <a:ext cx="1242720" cy="1560240"/>
            </a:xfrm>
            <a:prstGeom prst="line">
              <a:avLst/>
            </a:prstGeom>
            <a:ln w="7632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Text Box 112"/>
            <p:cNvSpPr/>
            <p:nvPr/>
          </p:nvSpPr>
          <p:spPr>
            <a:xfrm>
              <a:off x="3872880" y="1828800"/>
              <a:ext cx="12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??     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0BD4-30A3-4691-8956-CFEB65449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Naïve Bayes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rain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5" name="Text Box 3"/>
          <p:cNvSpPr/>
          <p:nvPr/>
        </p:nvSpPr>
        <p:spPr>
          <a:xfrm>
            <a:off x="304200" y="1600200"/>
            <a:ext cx="8588520" cy="49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vocabulary of all words in the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subset of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catego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/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concatenation of all the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total number of word occurrenc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number of occurrenc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/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5A9A-CF48-47CD-9D57-986C7AE2C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Naïve Bayes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8" name="Text Box 3"/>
          <p:cNvSpPr/>
          <p:nvPr/>
        </p:nvSpPr>
        <p:spPr>
          <a:xfrm>
            <a:off x="460440" y="1676520"/>
            <a:ext cx="783072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test doc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number of word occurrenc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the categ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word occurr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 positio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9" name="Object 2"/>
              <p:cNvSpPr txBox="1"/>
              <p:nvPr/>
            </p:nvSpPr>
            <p:spPr>
              <a:xfrm>
                <a:off x="990720" y="2895480"/>
                <a:ext cx="38098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24BE-17FC-4457-B636-41C1110F1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nderflow Preven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ing lots of probabilities, which are between 0 and 1 by definition, can result in floating-point underf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it is better to perform all computations by summing logs of probabilities rather than multiplying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with highest final un-normalized log probability score is still the most prob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436A-924C-4888-955E-0C2FC8B4A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l Learning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hypotheses are usually consistent with the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y criteria other than consistency with the training data that is used to select a hypothesi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cation accuracy (% of instances classified correctl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asured on independent test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time (efficiency of training algorith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time (efficiency of subsequent classific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E8BF-E532-417E-BBC1-4C1E41414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Posterior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results of naïve Bayes (the class with maximum posterior probability) are usually fairly accu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due to the inadequacy of the conditional independence assumption, the actual posterior-probability numerical estimates are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utput probabilities are generally very close to 0 or 1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82C1-CF3B-43BB-8D52-B1DE2BA7A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must be done on test data that are independent of the training data (usually a disjoint set of instan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lassification accura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otal number of test instance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test instances correctly classified by the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can vary based on sampling error due to different training and test 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results over multiple training and test sets (splits of the overall data) for the best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061C-4FD5-492E-AA23-BAD04CC5D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-Fold Cross-Valid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ly, test and training sets are independent on each t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ut this would require too much labeled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data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al-sized disjoint seg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ials, each time using a different segment of the data for testing, and training on the rem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seg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ay, at least test-sets are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average classification accuracy over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F9D6-4D0A-4624-B11C-6A7CD9800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, labeled data is usually rare and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know how performance varies with the number of training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rning cur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ot classification accuracy on independent test da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xis) versus number of training exampl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xi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6B0A-1C42-4745-88C0-CC1432039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-Fold Learning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learning curves averaged over multiple tri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fold cross validation to gener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raining and test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trial, train on increasing fractions of the training set, measuring accuracy on the test data for each point on the desired learning cu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8655-3105-4500-809A-9E7ADDBE7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Learning Curve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Yahoo Science Data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140" name="Picture 3" descr="C:\My Documents\Powerpoint\IR Course\lc.gif"/>
          <p:cNvPicPr/>
          <p:nvPr/>
        </p:nvPicPr>
        <p:blipFill>
          <a:blip r:embed="rId1"/>
          <a:stretch/>
        </p:blipFill>
        <p:spPr>
          <a:xfrm>
            <a:off x="838080" y="1447920"/>
            <a:ext cx="70866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722C-F62A-4787-9DE7-79A67FB13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eses must generalize to correctly classify instances not in the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memorizing training examples is a consistent hypothesis that does not general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ccam’s raz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nding a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imple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ypothesis helps ensure generalizatio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0FA4-7CAC-4659-87AE-8199E8B6B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documents to a fixed set of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eb pages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commend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ahoo-like classification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ewsgroup Messages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commend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pam filter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ews articles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alized newspaper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mail messages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out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oritizing 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olderiz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pam filter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7799-0A27-405D-930E-BF1963389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Text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al development of text categorization functions is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Algorith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ayesian (naïv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ural networ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Relevance Feedback (Rocchio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ule based (Ripper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earest Neighbor (case based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pport Vector Machines (SVM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8FA7-7C51-42C4-ACD3-A4C1E9688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Relevance Feedback (Rocchio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vance feedback methods can be adapted for text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tandard TF/IDF weighted vectors to represent text documents (normalized by maximum term frequenc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, comput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ctor by summing the vectors of the training documents in the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est documents to the category with the closest prototype vector based on cosine simi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6-10-31T20:37:10Z</dcterms:modified>
  <cp:revision>112</cp:revision>
  <dc:subject/>
  <dc:title>Intelligent Information Retrieval and Web Search</dc:title>
</cp:coreProperties>
</file>