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1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2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D0F4-1776-4D64-AA43-5847DED2A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D649-8DAA-4634-BC80-3DB8FE944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94EC-AC54-4C42-B8A9-0CBF44719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251C-A22F-4E25-AF23-2CCEF6143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5657-8A94-48A0-836D-B2B17D663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CE6A-3A12-4BA4-948D-4500B3C09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46AF-776D-4240-9418-EBECF5F55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FBEA-9611-42DD-AEB5-8E22A16AA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694C-074F-462A-82B4-4990474B0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0C71-01AD-495B-B818-55EAFB4A5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C966-BC1B-4A8B-BF1A-27A2CB210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E9EA-4838-4B43-A0DB-382639F93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B281-90CB-4C3A-B89A-47721AC05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2EF1-0257-49BD-9F74-8B0619D8A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9F4B-FC4A-41A3-91F6-B093142F0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9334-C433-4428-874F-3299407DD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7391-A284-473D-B36A-FDE4AF6CA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3F64-BFA7-46EE-8347-0667C8845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04FF-FAD5-411B-B350-38F6DC4C8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8273-98E4-4C44-BD69-9D27416BD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A20B-A250-4706-BA8E-602B41BB6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AF17-55D6-4E66-B07E-943DA6BC8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7789-58C2-4CE4-9348-3533684E7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1CA6-2304-4696-AEA8-FA45A4EBD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2086-FE4F-4052-B0AA-931170B43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C4D4-32A3-46E4-8457-89143E7F0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5DC8-8174-495F-8BEC-FA2AED1DC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E72D-0569-4ED5-B629-0619BA6F2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E024-2A0D-4B5F-8F74-59F47CD5D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215F-F8B6-4C84-9624-D79A221B2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8FA8-942F-41E7-82D5-C36E2ED21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0ABA-8935-408C-A5A9-FFBA10770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1A12-AF0D-4D35-A2EC-F273F98AD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0271-DE15-4CA9-83BF-2229D2CAF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35CD-7978-4B2A-AF06-3A8AD18E8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F5CD-6BDC-4046-A011-19AE95386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854D-179E-4252-BB09-7CC091977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B0A8-33F3-480A-886A-F6CF32D40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5D56-11A3-4667-9E07-40F532CCA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C494-4AEC-4893-8B6D-CC43F31EB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523B-43E2-46CE-AD73-8EDC58EA0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BE80-ECA9-4EDF-B4D8-6006AA865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BB8B-F613-4838-B1E6-3957EAD51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9423-EF9D-4836-854E-7AAB36B1A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9053-53AF-4513-B78D-60A59E3D3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B57E-3F47-42D8-B8DC-5E3109CA6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F114-EDF9-4EDA-951F-5D940D0F8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B093-9545-4573-95CC-BEDAEBF31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D55D-BEEB-4AEC-A482-9C98CD755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B626-82BD-4D14-BA31-326384F7A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05BC-CEB8-480B-8049-6A3123FE9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4BF2-49E7-40E8-965C-FFC5365E8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03179-02F7-4B61-89E0-A2B38B37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3A0A-D11D-4D22-B557-90916125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BCEE87-6DCB-4953-937F-250122B7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75B3D8-D060-43DD-862F-3488F359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67EB21-5C23-4695-9D77-9C8224EF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BBA32A-D538-4D81-83D2-BB6C042F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F8303F-D175-44BB-8B1B-349AA751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A7EF94-C0A5-4AD0-BDBB-99B1BDBB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F5404F-94B9-4F95-BC30-01AD028D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6CC0C4-75F1-4CC7-AFB6-39DA8C87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FCC402-0E6D-4656-A168-20E4BB48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A6A8E6-6506-4315-80B2-613EFEBC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829D-9F08-449D-887F-AAA34464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78EC35-5931-4E62-969B-71F056B7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D6785F-32B0-4E43-B57C-ED52302B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E4817B-039E-4548-9BE8-7EB664E7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31364F-5DDE-4370-96CB-063F5217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78B9FB-29E1-449C-8986-05B86B57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9F454B-F7C8-40A4-86C3-9DA11924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4CA9CA-F6AF-4F73-8364-7FFAD0B7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33629E-EA9F-4183-9382-9A0C65D0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B05EF8-F248-4C09-8355-8CE81430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0C66B8-08F1-47FF-8DEF-530FF117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72E11-BBC1-4AE8-90BB-D4D97077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0F9FB1-8B3D-4E3E-9966-EC0EFC49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032890-E3D7-46CE-8F73-2A874D76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82851C-70DE-47E8-87CD-5F0BA71D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5244B5-28A2-451E-9F19-9F278FBD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2E85FD-E6AC-44D4-A001-311372FE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36E35E-0D54-4F03-B86A-B55A0729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AA872B-AA22-4210-BE20-6E5483A9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B476E2-A6D5-4E44-BB69-8D5CC8EB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AB32E7-38F7-4A48-8E11-13CACAE4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AAE86F-450D-47D4-9297-F44E8B4F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5CB3A-39EC-42AE-9E16-C6127BAC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79B1DE-097D-4466-9D40-B9A0B911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89FEE1-4D37-46AF-8BDA-488E11BE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B0C4A8-2D50-4CFC-81DC-3FB3F383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EC3A13-2BA9-448B-9935-C99EF822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2E8707-BA50-415D-B772-8045F978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264781-BEF9-4434-ADC5-64CB793D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F64509-47D3-4AE1-B135-ABC6617A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9F1CFC-F201-4EF4-8FA0-D73726E6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EC07C5-4DDF-4470-968D-D91FC3F8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C0339D-692B-43C3-8A84-20B4D297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D52C3-7DD1-4A31-9133-B3FA5E3F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8D1DB9-FAAD-446A-90BA-93980231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C1096E-5E8A-4321-BDBD-02D9F35F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946755-2BAF-4E26-9F1C-E00B6D7B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272FB9-0950-4624-B967-08B4D9DE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309118-807A-431E-93E0-92B8093F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80A80F-CCBB-44BE-8DAF-9AAE3B95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9EFD59-36AF-4690-9289-F28436D1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932991-73EE-4D91-A8E4-587984BA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9B5134-8BD9-4988-AC60-2FCB9719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061807-B4CD-4978-A19F-8E24472B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07942-37A4-45E5-A634-2A307E2A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CCF5FA-3D50-4959-A319-7ED35DD8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61AF81-75EC-4C9C-A3AA-C6196A9E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E42DCA-2566-472E-AB4D-01A4EF87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DBA4BF-0C18-4F2E-AB58-EA6C4CA1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111857-26F6-4F72-A726-9465EDFA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80590B-A372-446D-8482-012FF1F8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88E78F-0587-49C0-9D5B-192E56C5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67465-8567-4A47-9D0C-8FEC64CE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A645D-7214-4517-8002-A6036895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752BC-F668-471F-B5FC-92269FF2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258A9-7671-4B3F-B2A5-5694D3C6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C8A2-D2E6-442A-AB5F-3323F815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BD867-3CA6-45A0-9D54-176F5EAF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6CF7A-CA29-43ED-B420-A48EA4E5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0BD7D-BAB3-4D7C-8550-B2296BCA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9A122-B4B6-44BE-BC5B-CA3CB57D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57637-C456-4DA5-A881-ECFDCD6F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48BC3-BA52-4BE8-8677-14FCB233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A3B95-A3F7-49C1-9636-A8D394FF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29C73-1F4E-4823-937E-F9E6DF1B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DA53E-345C-421D-ADC0-89AF78B7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F4430-87C8-483B-AB02-0FF318D8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78936-7A93-4CFA-BA95-8B08A9D2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7E5BD-9287-4069-AC0F-515BA809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A2568-125F-49EC-A432-1D335EA5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FEE2F-C92F-4373-B5CC-9EF00106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278E1-CF6B-4864-8B9D-8100F327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94349-FDF3-4239-851D-7FE373C8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EA3FF-12ED-41A0-A3D6-5C85F2AE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918C2-F2CA-4143-8F6D-6B5EF504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71759-4871-4151-A744-AA24A857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7617B-07E1-4252-8AC3-791AC938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631F15-51F6-4B4A-B7CC-6DA81409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F2B1-DFD6-4E4B-9BFA-763B47AC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001E1-EEC8-414E-A87D-D31C225E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791D4C-DA07-4B3F-A3B0-A234BDDF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FB0FC3-E024-46AD-875D-64549E8F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B9F6D-9AB6-4CC5-829B-EE87334C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272FB-C098-4307-9CCB-0E3332FB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2125D-2ACE-4C9F-BC26-729EE2E9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3E096-9CC8-4109-B862-150499B7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5412D5-1D64-4212-9B56-3A6C683D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673463-E970-4674-9101-2F388FCD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A29FA-E474-4274-B649-0F406E14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91B7-71F7-4693-8BC3-228DEB7F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D57AD-E0E5-4131-8416-ACCF634C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995FD-7AB4-4462-BBEF-7D5D2B77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34A883-6F76-43B2-AED7-E333E1D3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973DB9-51BE-434B-B2E2-4AD1DAF0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E2B60-8726-4FB4-AD01-24757755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0C7B4-2E93-4AE6-886B-69BE720F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0FD32-623D-47B3-B9CC-2ABAD0F1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E622FC-C9FF-448A-B691-D0B724C0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BB593-AC0C-4CE4-A596-47DB4D99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BBE44-F618-4841-BA87-C6DE93AE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B8E1-7DB9-4829-B097-7ACC6092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DC3230-ADFC-4459-BB9D-F736FC47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1CBE4B-56CB-4389-935F-0F925DB3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16D1D-3260-41B9-AB5E-2BCBF19D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8F31D-21FF-48EB-8743-A4EBE967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C75D8D-EC29-498B-9F1F-5B31ED22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6EA983-2A31-42DA-A092-CB78CFEF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DC138-781C-43B9-8D76-8BF7B938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DD222B-D08B-4BDB-91CE-4F4BA15A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CC52F0-527B-4A64-AB59-25D8973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28F909-4C76-4669-867B-D6F36F3C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BCF3-44DD-4BF1-9B1E-59A0417F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775AF3-98F3-444C-95DB-B6AF05CB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FD327A-0D78-4F0C-8895-85A89927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13F35-11DA-4582-950A-DC5C4F30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8B55C7-9827-4431-B6AA-58FBE876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9D5FAA-1C21-4F6F-88A7-72F77DED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FAAC29-D9E1-45A9-9DCD-31EB15F8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700BE-81B2-43F4-8D33-7E9F61FC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E9FDB0-35D8-4F19-A614-596DC155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1D1C37-D7FC-43D8-94F9-9471998E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9C9D05-B814-4E97-B0C8-28E4B71E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B740-9468-4CE8-AB61-8D2ACB03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E1F01-86A0-4A13-8967-90843B41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2EBF7-1EEE-431D-AAF8-AE86BFA6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988D58-5849-4764-ADFA-74398601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FDDF20-2962-41DB-BA83-70471920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365CB-147F-4FBA-89B9-83EBEF99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E24484-3903-4AFA-BDB1-03C701E0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842264-F895-4BDA-809C-8996825F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0A231F-CD86-452B-B5C7-D5784A34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14B01C-BB75-4F53-8972-0E1FA5E4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FBA6C7-336E-4FF0-A41D-0F55A3F7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ABFB1-FA0F-4700-ADD9-DCA50C3A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4F5B7C-9331-4B0E-98AD-8F84B295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12A5BA-509C-4C6A-8012-F7B2A261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279897-7A79-40A7-9195-429BC20A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6225A6-2E7C-4FB5-8BF3-BD8D9F4D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172F0B-B296-42FD-9D25-BC3B693C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17C5DB-1405-4946-A5D9-A1FD0E46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1B5ABC-4BBB-4875-A96C-24DDE3C6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5BAE93-9F41-439B-B516-9270A253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945399-8138-4B8F-A1B0-876C72B2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06A34E-BE91-401F-AF44-18C32BE6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6A30-7139-47C9-84D3-AA42C67D1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FCC1-93AC-4554-97A1-19768F8BB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D8F0-6DBA-4DCC-9B53-304FF01DF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ACA5-2B68-4A38-A748-8B941D167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817E-DE32-4DD6-A1EC-956027E7C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AA3D-6436-4553-96D6-978C2E847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DA0F-8A17-409F-B5F5-3791AF4DD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F51F-6742-4702-85AC-3B1F6F426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A72E-A540-4213-98D2-938B7A973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96EA-2D9E-4830-A805-4A5142A9B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9E38-DD6F-4765-9303-FAE6DB89B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A211-9218-414F-BF02-41AC3AB20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0E74-2304-48A1-9DCB-93279F814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980C-6235-4056-A34E-E0B922C1B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Text Categorization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48B2-3DED-4DCD-BF2F-A189DFFF8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llustration of Rocchio Text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85" name="Group 21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586" name="Line 3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Line 9"/>
          <p:cNvSpPr/>
          <p:nvPr/>
        </p:nvSpPr>
        <p:spPr>
          <a:xfrm flipV="1">
            <a:off x="976320" y="4208400"/>
            <a:ext cx="501480" cy="1565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 flipV="1">
            <a:off x="965160" y="4822560"/>
            <a:ext cx="587520" cy="950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1"/>
          <p:cNvSpPr/>
          <p:nvPr/>
        </p:nvSpPr>
        <p:spPr>
          <a:xfrm flipV="1">
            <a:off x="965160" y="4876920"/>
            <a:ext cx="1397160" cy="909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2"/>
          <p:cNvSpPr/>
          <p:nvPr/>
        </p:nvSpPr>
        <p:spPr>
          <a:xfrm flipV="1">
            <a:off x="965160" y="5624280"/>
            <a:ext cx="1614600" cy="16164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3"/>
          <p:cNvSpPr/>
          <p:nvPr/>
        </p:nvSpPr>
        <p:spPr>
          <a:xfrm flipV="1">
            <a:off x="965160" y="5361120"/>
            <a:ext cx="1163520" cy="41256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4"/>
          <p:cNvSpPr/>
          <p:nvPr/>
        </p:nvSpPr>
        <p:spPr>
          <a:xfrm flipV="1">
            <a:off x="976320" y="2514240"/>
            <a:ext cx="2604960" cy="325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 flipV="1">
            <a:off x="976320" y="5210280"/>
            <a:ext cx="2655720" cy="576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16"/>
          <p:cNvSpPr/>
          <p:nvPr/>
        </p:nvSpPr>
        <p:spPr>
          <a:xfrm flipV="1">
            <a:off x="976320" y="4876920"/>
            <a:ext cx="1843200" cy="90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reeform 18"/>
          <p:cNvSpPr/>
          <p:nvPr/>
        </p:nvSpPr>
        <p:spPr>
          <a:xfrm>
            <a:off x="2057400" y="4419720"/>
            <a:ext cx="598320" cy="528480"/>
          </a:xfrm>
          <a:custGeom>
            <a:avLst/>
            <a:gdLst>
              <a:gd name="textAreaLeft" fmla="*/ 0 w 598320"/>
              <a:gd name="textAreaRight" fmla="*/ 598680 w 598320"/>
              <a:gd name="textAreaTop" fmla="*/ 0 h 528480"/>
              <a:gd name="textAreaBottom" fmla="*/ 528480 h 528480"/>
            </a:gdLst>
            <a:ahLst/>
            <a:rect l="textAreaLeft" t="textAreaTop" r="textAreaRight" b="textAreaBottom"/>
            <a:pathLst>
              <a:path w="425" h="285">
                <a:moveTo>
                  <a:pt x="0" y="0"/>
                </a:moveTo>
                <a:cubicBezTo>
                  <a:pt x="97" y="8"/>
                  <a:pt x="195" y="16"/>
                  <a:pt x="259" y="40"/>
                </a:cubicBezTo>
                <a:cubicBezTo>
                  <a:pt x="323" y="64"/>
                  <a:pt x="357" y="102"/>
                  <a:pt x="385" y="143"/>
                </a:cubicBezTo>
                <a:cubicBezTo>
                  <a:pt x="413" y="184"/>
                  <a:pt x="419" y="234"/>
                  <a:pt x="425" y="28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reeform 19"/>
          <p:cNvSpPr/>
          <p:nvPr/>
        </p:nvSpPr>
        <p:spPr>
          <a:xfrm>
            <a:off x="2471760" y="5052960"/>
            <a:ext cx="185760" cy="371520"/>
          </a:xfrm>
          <a:custGeom>
            <a:avLst/>
            <a:gdLst>
              <a:gd name="textAreaLeft" fmla="*/ 0 w 185760"/>
              <a:gd name="textAreaRight" fmla="*/ 186120 w 18576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38" h="249">
                <a:moveTo>
                  <a:pt x="0" y="0"/>
                </a:moveTo>
                <a:cubicBezTo>
                  <a:pt x="45" y="16"/>
                  <a:pt x="90" y="33"/>
                  <a:pt x="113" y="59"/>
                </a:cubicBezTo>
                <a:cubicBezTo>
                  <a:pt x="136" y="85"/>
                  <a:pt x="136" y="122"/>
                  <a:pt x="137" y="154"/>
                </a:cubicBezTo>
                <a:cubicBezTo>
                  <a:pt x="138" y="186"/>
                  <a:pt x="129" y="217"/>
                  <a:pt x="121" y="24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20"/>
          <p:cNvSpPr/>
          <p:nvPr/>
        </p:nvSpPr>
        <p:spPr>
          <a:xfrm flipV="1">
            <a:off x="981000" y="4876920"/>
            <a:ext cx="1843200" cy="90936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5B04-2BC8-4909-9794-F228807E2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Text Categorization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rainin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675000" y="1905120"/>
            <a:ext cx="834516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e set of categories is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&lt;0, 0,…,0&gt;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init. prototype vectors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aining example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he frequency normalized TF/IDF term vector for do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sum all the document vectors in c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 to get 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7BDF-64C1-482D-93ED-DE91FE415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Text Categorization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es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519120" y="12603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994680" y="1828800"/>
            <a:ext cx="66384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est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he TF/IDF weighted term vector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2 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nit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ximum cosSim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ompute similarity to prototype vect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Sim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update most similar class prototype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F9EC-27C3-4799-8AB4-7C57E9A78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Propertie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guarantee a consistent hypo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a simple generalization of the examples in each class (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type vector does not need to be averaged or otherwise normalized for length since cosine similarity is insensitive to vector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cation is based on similarity to class proto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012E-8B4D-4EA4-B4C8-AB0480591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Time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ime to add two sparse vectors is proportional to minimum number of non-zero entries in the two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aining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O(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)) = O(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average length of a document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the average vocabulary size for a document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est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 |C||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average length of a test document and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average vocabulary size for a test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ssumes lengths of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vectors are computed and stored during training, allowing cosSim(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to be computed  in time proportional to the number of non-zero entries in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i.e.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|V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00FA-F68F-4AF1-943F-1CB8AC465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arest-Neighbor Lear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is just storing the representations of the training exampl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in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mpute similarity betwee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nd all example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ssig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the category of the most similar example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explicitly compute a generalization or category proto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se-bas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mory-bas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zy lear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18DF-3374-437F-BBBF-BC062A647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 Nearest-Neighbo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only the closest example to determine categorization is subject to errors du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single atypical example.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ise (i.e. error) in the category label of a single training exampl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obust alternative is to fi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st-similar examples and return the majority category of the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of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ypically odd to avoid ties, 3 and 5 are most comm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90CC-6225-4C13-A46C-28361DA93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ilarity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est neighbor method depends on a similarity (or distance) 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st for continuou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imensional instance spac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uclidian d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st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imensional binary instance spac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mming d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umber of feature values that diff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ext, cosine similarity of TF-IDF weighted vectors is typically most effec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8D03-E0E2-4CFD-AFC7-3C324518A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3 Nearest Neighbor Illustration</a:t>
            </a:r>
            <a:br>
              <a:rPr sz="36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Euclidian Distance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24" name="Line 5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6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Text Box 8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236196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2133360" y="3429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31240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2666880" y="3124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21"/>
          <p:cNvSpPr/>
          <p:nvPr/>
        </p:nvSpPr>
        <p:spPr>
          <a:xfrm>
            <a:off x="2173320" y="3287880"/>
            <a:ext cx="12952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2668680" y="3125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8007-E534-41F5-98A9-ED3247CFD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llustration of 3 Nearest Neighbor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41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Line 6"/>
          <p:cNvSpPr/>
          <p:nvPr/>
        </p:nvSpPr>
        <p:spPr>
          <a:xfrm flipV="1">
            <a:off x="976320" y="4208400"/>
            <a:ext cx="501480" cy="1565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7"/>
          <p:cNvSpPr/>
          <p:nvPr/>
        </p:nvSpPr>
        <p:spPr>
          <a:xfrm flipV="1">
            <a:off x="965160" y="4822560"/>
            <a:ext cx="587520" cy="950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8"/>
          <p:cNvSpPr/>
          <p:nvPr/>
        </p:nvSpPr>
        <p:spPr>
          <a:xfrm flipV="1">
            <a:off x="965160" y="4876920"/>
            <a:ext cx="1397160" cy="909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9"/>
          <p:cNvSpPr/>
          <p:nvPr/>
        </p:nvSpPr>
        <p:spPr>
          <a:xfrm flipV="1">
            <a:off x="965160" y="5624280"/>
            <a:ext cx="1614600" cy="16164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"/>
          <p:cNvSpPr/>
          <p:nvPr/>
        </p:nvSpPr>
        <p:spPr>
          <a:xfrm flipV="1">
            <a:off x="965160" y="5361120"/>
            <a:ext cx="1163520" cy="41256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3"/>
          <p:cNvSpPr/>
          <p:nvPr/>
        </p:nvSpPr>
        <p:spPr>
          <a:xfrm flipV="1">
            <a:off x="976320" y="4876920"/>
            <a:ext cx="1843200" cy="90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6"/>
          <p:cNvSpPr/>
          <p:nvPr/>
        </p:nvSpPr>
        <p:spPr>
          <a:xfrm flipV="1">
            <a:off x="981000" y="4876920"/>
            <a:ext cx="1843200" cy="90936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24"/>
          <p:cNvGrpSpPr/>
          <p:nvPr/>
        </p:nvGrpSpPr>
        <p:grpSpPr>
          <a:xfrm>
            <a:off x="1838160" y="5178600"/>
            <a:ext cx="576360" cy="469800"/>
            <a:chOff x="1838160" y="5178600"/>
            <a:chExt cx="576360" cy="469800"/>
          </a:xfrm>
        </p:grpSpPr>
        <p:sp>
          <p:nvSpPr>
            <p:cNvPr id="651" name="Freeform 18"/>
            <p:cNvSpPr/>
            <p:nvPr/>
          </p:nvSpPr>
          <p:spPr>
            <a:xfrm>
              <a:off x="1838160" y="5357880"/>
              <a:ext cx="22320" cy="104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4" h="66">
                  <a:moveTo>
                    <a:pt x="0" y="0"/>
                  </a:moveTo>
                  <a:lnTo>
                    <a:pt x="12" y="18"/>
                  </a:lnTo>
                  <a:cubicBezTo>
                    <a:pt x="14" y="29"/>
                    <a:pt x="13" y="47"/>
                    <a:pt x="12" y="6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19"/>
            <p:cNvSpPr/>
            <p:nvPr/>
          </p:nvSpPr>
          <p:spPr>
            <a:xfrm>
              <a:off x="1905120" y="5178600"/>
              <a:ext cx="104760" cy="1029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66" h="65">
                  <a:moveTo>
                    <a:pt x="0" y="2"/>
                  </a:moveTo>
                  <a:cubicBezTo>
                    <a:pt x="14" y="1"/>
                    <a:pt x="28" y="0"/>
                    <a:pt x="39" y="5"/>
                  </a:cubicBezTo>
                  <a:cubicBezTo>
                    <a:pt x="50" y="10"/>
                    <a:pt x="60" y="19"/>
                    <a:pt x="63" y="29"/>
                  </a:cubicBezTo>
                  <a:cubicBezTo>
                    <a:pt x="66" y="39"/>
                    <a:pt x="61" y="52"/>
                    <a:pt x="57" y="6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23"/>
            <p:cNvSpPr/>
            <p:nvPr/>
          </p:nvSpPr>
          <p:spPr>
            <a:xfrm>
              <a:off x="2209680" y="5181480"/>
              <a:ext cx="204840" cy="4669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29" h="294">
                  <a:moveTo>
                    <a:pt x="0" y="0"/>
                  </a:moveTo>
                  <a:cubicBezTo>
                    <a:pt x="30" y="11"/>
                    <a:pt x="61" y="22"/>
                    <a:pt x="81" y="42"/>
                  </a:cubicBezTo>
                  <a:cubicBezTo>
                    <a:pt x="101" y="62"/>
                    <a:pt x="117" y="94"/>
                    <a:pt x="123" y="123"/>
                  </a:cubicBezTo>
                  <a:cubicBezTo>
                    <a:pt x="129" y="152"/>
                    <a:pt x="123" y="188"/>
                    <a:pt x="117" y="216"/>
                  </a:cubicBezTo>
                  <a:cubicBezTo>
                    <a:pt x="111" y="244"/>
                    <a:pt x="97" y="269"/>
                    <a:pt x="84" y="29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CA91-CDAE-4786-BA77-FC1C18E89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description of an instance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where X is th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instance languag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instance spac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fixed set of categories:                        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 C=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…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category o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,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) is a categorization function whose domain is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and whose range is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15AE-E7C0-4929-BEEB-FDE3FE434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 Nearest Neighbor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480240" y="1413000"/>
            <a:ext cx="83041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a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example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corresponding TF-IDF vecto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 instan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F-IDF vec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Sim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t exampl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decreasing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the fir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in D.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et most similar neighbors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majority class of example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949A-965B-48E8-B70C-935819785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Anomoly  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type models have problems with polymorphic (disjunctive) categ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Group 3"/>
          <p:cNvGrpSpPr/>
          <p:nvPr/>
        </p:nvGrpSpPr>
        <p:grpSpPr>
          <a:xfrm>
            <a:off x="914400" y="2286000"/>
            <a:ext cx="7353360" cy="4046400"/>
            <a:chOff x="914400" y="2286000"/>
            <a:chExt cx="7353360" cy="4046400"/>
          </a:xfrm>
        </p:grpSpPr>
        <p:sp>
          <p:nvSpPr>
            <p:cNvPr id="661" name="Line 4"/>
            <p:cNvSpPr/>
            <p:nvPr/>
          </p:nvSpPr>
          <p:spPr>
            <a:xfrm flipV="1">
              <a:off x="916200" y="2286000"/>
              <a:ext cx="0" cy="40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914400" y="633240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Line 6"/>
          <p:cNvSpPr/>
          <p:nvPr/>
        </p:nvSpPr>
        <p:spPr>
          <a:xfrm flipV="1">
            <a:off x="901800" y="4766760"/>
            <a:ext cx="414360" cy="1552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7"/>
          <p:cNvSpPr/>
          <p:nvPr/>
        </p:nvSpPr>
        <p:spPr>
          <a:xfrm flipV="1">
            <a:off x="901800" y="5118120"/>
            <a:ext cx="565200" cy="1201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8"/>
          <p:cNvSpPr/>
          <p:nvPr/>
        </p:nvSpPr>
        <p:spPr>
          <a:xfrm flipV="1">
            <a:off x="914400" y="5505120"/>
            <a:ext cx="588960" cy="82692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9"/>
          <p:cNvSpPr/>
          <p:nvPr/>
        </p:nvSpPr>
        <p:spPr>
          <a:xfrm flipV="1">
            <a:off x="901800" y="5486400"/>
            <a:ext cx="1309680" cy="84600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0"/>
          <p:cNvSpPr/>
          <p:nvPr/>
        </p:nvSpPr>
        <p:spPr>
          <a:xfrm flipV="1">
            <a:off x="901800" y="5743440"/>
            <a:ext cx="1290600" cy="588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1"/>
          <p:cNvSpPr/>
          <p:nvPr/>
        </p:nvSpPr>
        <p:spPr>
          <a:xfrm flipV="1">
            <a:off x="901800" y="6032520"/>
            <a:ext cx="1616040" cy="287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5"/>
          <p:cNvSpPr/>
          <p:nvPr/>
        </p:nvSpPr>
        <p:spPr>
          <a:xfrm flipV="1">
            <a:off x="901800" y="4858920"/>
            <a:ext cx="1866960" cy="1467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6"/>
          <p:cNvSpPr/>
          <p:nvPr/>
        </p:nvSpPr>
        <p:spPr>
          <a:xfrm flipV="1">
            <a:off x="901800" y="3432240"/>
            <a:ext cx="2943000" cy="290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901800" y="5122440"/>
            <a:ext cx="1052280" cy="11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Group 22"/>
          <p:cNvGrpSpPr/>
          <p:nvPr/>
        </p:nvGrpSpPr>
        <p:grpSpPr>
          <a:xfrm>
            <a:off x="1676520" y="5257800"/>
            <a:ext cx="371520" cy="190440"/>
            <a:chOff x="1676520" y="5257800"/>
            <a:chExt cx="371520" cy="190440"/>
          </a:xfrm>
        </p:grpSpPr>
        <p:sp>
          <p:nvSpPr>
            <p:cNvPr id="673" name="Freeform 20"/>
            <p:cNvSpPr/>
            <p:nvPr/>
          </p:nvSpPr>
          <p:spPr>
            <a:xfrm>
              <a:off x="1676520" y="5389560"/>
              <a:ext cx="109440" cy="586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9" h="37">
                  <a:moveTo>
                    <a:pt x="0" y="13"/>
                  </a:moveTo>
                  <a:cubicBezTo>
                    <a:pt x="18" y="6"/>
                    <a:pt x="37" y="0"/>
                    <a:pt x="48" y="4"/>
                  </a:cubicBezTo>
                  <a:cubicBezTo>
                    <a:pt x="59" y="8"/>
                    <a:pt x="64" y="22"/>
                    <a:pt x="69" y="3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Freeform 21"/>
            <p:cNvSpPr/>
            <p:nvPr/>
          </p:nvSpPr>
          <p:spPr>
            <a:xfrm>
              <a:off x="1800360" y="5257800"/>
              <a:ext cx="247680" cy="1666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56" h="105">
                  <a:moveTo>
                    <a:pt x="18" y="0"/>
                  </a:moveTo>
                  <a:lnTo>
                    <a:pt x="0" y="21"/>
                  </a:lnTo>
                  <a:cubicBezTo>
                    <a:pt x="8" y="24"/>
                    <a:pt x="44" y="12"/>
                    <a:pt x="66" y="15"/>
                  </a:cubicBezTo>
                  <a:cubicBezTo>
                    <a:pt x="88" y="18"/>
                    <a:pt x="120" y="24"/>
                    <a:pt x="135" y="39"/>
                  </a:cubicBezTo>
                  <a:cubicBezTo>
                    <a:pt x="150" y="54"/>
                    <a:pt x="153" y="79"/>
                    <a:pt x="156" y="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Line 23"/>
          <p:cNvSpPr/>
          <p:nvPr/>
        </p:nvSpPr>
        <p:spPr>
          <a:xfrm flipV="1">
            <a:off x="901800" y="5122440"/>
            <a:ext cx="1052280" cy="1190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F37E-1608-4BA8-9454-06D6BEE2D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3 Nearest Neighbor Comparis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est Neighbor tends to handle polymorphic categories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Group 3"/>
          <p:cNvGrpSpPr/>
          <p:nvPr/>
        </p:nvGrpSpPr>
        <p:grpSpPr>
          <a:xfrm>
            <a:off x="990720" y="2362320"/>
            <a:ext cx="7353360" cy="4046400"/>
            <a:chOff x="990720" y="2362320"/>
            <a:chExt cx="7353360" cy="4046400"/>
          </a:xfrm>
        </p:grpSpPr>
        <p:sp>
          <p:nvSpPr>
            <p:cNvPr id="680" name="Line 4"/>
            <p:cNvSpPr/>
            <p:nvPr/>
          </p:nvSpPr>
          <p:spPr>
            <a:xfrm flipV="1">
              <a:off x="992520" y="2362320"/>
              <a:ext cx="0" cy="40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5"/>
            <p:cNvSpPr/>
            <p:nvPr/>
          </p:nvSpPr>
          <p:spPr>
            <a:xfrm>
              <a:off x="990720" y="640872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Line 6"/>
          <p:cNvSpPr/>
          <p:nvPr/>
        </p:nvSpPr>
        <p:spPr>
          <a:xfrm flipV="1">
            <a:off x="977760" y="4843080"/>
            <a:ext cx="414360" cy="1552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7"/>
          <p:cNvSpPr/>
          <p:nvPr/>
        </p:nvSpPr>
        <p:spPr>
          <a:xfrm flipV="1">
            <a:off x="977760" y="5194440"/>
            <a:ext cx="565200" cy="1201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8"/>
          <p:cNvSpPr/>
          <p:nvPr/>
        </p:nvSpPr>
        <p:spPr>
          <a:xfrm flipV="1">
            <a:off x="990720" y="5581440"/>
            <a:ext cx="588960" cy="82692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9"/>
          <p:cNvSpPr/>
          <p:nvPr/>
        </p:nvSpPr>
        <p:spPr>
          <a:xfrm flipV="1">
            <a:off x="977760" y="5562720"/>
            <a:ext cx="1309680" cy="84600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10"/>
          <p:cNvSpPr/>
          <p:nvPr/>
        </p:nvSpPr>
        <p:spPr>
          <a:xfrm flipV="1">
            <a:off x="977760" y="5819760"/>
            <a:ext cx="1290600" cy="588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11"/>
          <p:cNvSpPr/>
          <p:nvPr/>
        </p:nvSpPr>
        <p:spPr>
          <a:xfrm flipV="1">
            <a:off x="977760" y="6108840"/>
            <a:ext cx="1616040" cy="287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12"/>
          <p:cNvSpPr/>
          <p:nvPr/>
        </p:nvSpPr>
        <p:spPr>
          <a:xfrm flipV="1">
            <a:off x="992160" y="5181480"/>
            <a:ext cx="1052640" cy="119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13"/>
          <p:cNvSpPr/>
          <p:nvPr/>
        </p:nvSpPr>
        <p:spPr>
          <a:xfrm flipV="1">
            <a:off x="992160" y="5181480"/>
            <a:ext cx="1052640" cy="119088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25"/>
          <p:cNvGrpSpPr/>
          <p:nvPr/>
        </p:nvGrpSpPr>
        <p:grpSpPr>
          <a:xfrm>
            <a:off x="1406520" y="5432400"/>
            <a:ext cx="376200" cy="458640"/>
            <a:chOff x="1406520" y="5432400"/>
            <a:chExt cx="376200" cy="458640"/>
          </a:xfrm>
        </p:grpSpPr>
        <p:sp>
          <p:nvSpPr>
            <p:cNvPr id="691" name="Freeform 18"/>
            <p:cNvSpPr/>
            <p:nvPr/>
          </p:nvSpPr>
          <p:spPr>
            <a:xfrm>
              <a:off x="1449360" y="5751360"/>
              <a:ext cx="52200" cy="34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6"/>
                  </a:moveTo>
                  <a:cubicBezTo>
                    <a:pt x="6" y="8"/>
                    <a:pt x="13" y="0"/>
                    <a:pt x="18" y="1"/>
                  </a:cubicBezTo>
                  <a:cubicBezTo>
                    <a:pt x="23" y="2"/>
                    <a:pt x="28" y="12"/>
                    <a:pt x="33" y="2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1558800" y="5719680"/>
              <a:ext cx="223920" cy="1713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62" h="114">
                  <a:moveTo>
                    <a:pt x="0" y="3"/>
                  </a:moveTo>
                  <a:lnTo>
                    <a:pt x="24" y="6"/>
                  </a:lnTo>
                  <a:cubicBezTo>
                    <a:pt x="40" y="6"/>
                    <a:pt x="82" y="0"/>
                    <a:pt x="99" y="3"/>
                  </a:cubicBezTo>
                  <a:cubicBezTo>
                    <a:pt x="116" y="6"/>
                    <a:pt x="120" y="14"/>
                    <a:pt x="129" y="24"/>
                  </a:cubicBezTo>
                  <a:cubicBezTo>
                    <a:pt x="138" y="34"/>
                    <a:pt x="148" y="48"/>
                    <a:pt x="153" y="63"/>
                  </a:cubicBezTo>
                  <a:cubicBezTo>
                    <a:pt x="158" y="78"/>
                    <a:pt x="160" y="96"/>
                    <a:pt x="162" y="11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24"/>
            <p:cNvSpPr/>
            <p:nvPr/>
          </p:nvSpPr>
          <p:spPr>
            <a:xfrm>
              <a:off x="1406520" y="5432400"/>
              <a:ext cx="276120" cy="1443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95" h="91">
                  <a:moveTo>
                    <a:pt x="0" y="34"/>
                  </a:moveTo>
                  <a:cubicBezTo>
                    <a:pt x="29" y="21"/>
                    <a:pt x="58" y="8"/>
                    <a:pt x="81" y="4"/>
                  </a:cubicBezTo>
                  <a:cubicBezTo>
                    <a:pt x="104" y="0"/>
                    <a:pt x="125" y="2"/>
                    <a:pt x="141" y="7"/>
                  </a:cubicBezTo>
                  <a:cubicBezTo>
                    <a:pt x="157" y="12"/>
                    <a:pt x="171" y="20"/>
                    <a:pt x="180" y="34"/>
                  </a:cubicBezTo>
                  <a:cubicBezTo>
                    <a:pt x="189" y="48"/>
                    <a:pt x="192" y="69"/>
                    <a:pt x="195" y="9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0759-4005-4F4F-8DD1-CE5BC2029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arest Neighbor Time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aining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O(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compose        TF-IDF v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sting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 |D||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compare to all training v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ssumes lengths of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vectors are computed and stored during training, allowing cosSim(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to be computed  in time proportional to the number of non-zero entries in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(i.e.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|V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time can be high for large training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C5D3-32DE-4F9A-B355-2E4490D07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arest Neighbor with Inverted Index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arest neighbors is the same as determin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retrievals using the test document as a query to a database of training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tandard VSR inverted index methods to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arest neighb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esting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|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average number of training documents in which a test-document word app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overall classification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 B|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ypically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lt;&lt; |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4777-AFCF-455A-942D-67EBAB67C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Metho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and classification methods based on probability the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 theorem plays a critical role in probabilistic learning and class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ability of each category given no information about an i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zation produce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ability distribution over the possible categories given a description of an i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77E2-EB9C-41F7-8B35-FB7B47103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xioms of Probability The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babilities between 0 an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proposition has probability 1, false has probability 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true) = 1        P(false) 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of  disjunctio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Object 2"/>
              <p:cNvSpPr txBox="1"/>
              <p:nvPr/>
            </p:nvSpPr>
            <p:spPr>
              <a:xfrm>
                <a:off x="1676520" y="2057400"/>
                <a:ext cx="1987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3"/>
              <p:cNvSpPr txBox="1"/>
              <p:nvPr/>
            </p:nvSpPr>
            <p:spPr>
              <a:xfrm>
                <a:off x="1447920" y="4800600"/>
                <a:ext cx="5410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8" name="Oval 6"/>
          <p:cNvSpPr/>
          <p:nvPr/>
        </p:nvSpPr>
        <p:spPr>
          <a:xfrm>
            <a:off x="2963880" y="5487840"/>
            <a:ext cx="16002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7"/>
          <p:cNvSpPr/>
          <p:nvPr/>
        </p:nvSpPr>
        <p:spPr>
          <a:xfrm>
            <a:off x="3573360" y="5487840"/>
            <a:ext cx="175284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3040200" y="5640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4877280" y="5638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4"/>
              <p:cNvSpPr txBox="1"/>
              <p:nvPr/>
            </p:nvSpPr>
            <p:spPr>
              <a:xfrm>
                <a:off x="3726000" y="5678640"/>
                <a:ext cx="7617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27EF-B673-46C9-BFBB-303077C0B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ditional Probability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probability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ll and only information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Object 2"/>
              <p:cNvSpPr txBox="1"/>
              <p:nvPr/>
            </p:nvSpPr>
            <p:spPr>
              <a:xfrm>
                <a:off x="1905120" y="3657600"/>
                <a:ext cx="2819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7" name="Oval 5"/>
          <p:cNvSpPr/>
          <p:nvPr/>
        </p:nvSpPr>
        <p:spPr>
          <a:xfrm>
            <a:off x="2819520" y="5105520"/>
            <a:ext cx="1600200" cy="99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6"/>
          <p:cNvSpPr/>
          <p:nvPr/>
        </p:nvSpPr>
        <p:spPr>
          <a:xfrm>
            <a:off x="3429000" y="5105520"/>
            <a:ext cx="1752480" cy="99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2895480" y="52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8"/>
          <p:cNvSpPr/>
          <p:nvPr/>
        </p:nvSpPr>
        <p:spPr>
          <a:xfrm>
            <a:off x="4732560" y="525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3"/>
              <p:cNvSpPr txBox="1"/>
              <p:nvPr/>
            </p:nvSpPr>
            <p:spPr>
              <a:xfrm>
                <a:off x="3581280" y="5295960"/>
                <a:ext cx="7621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AE5C-1035-489F-9209-1B978E502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depend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depend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Object 2"/>
              <p:cNvSpPr txBox="1"/>
              <p:nvPr/>
            </p:nvSpPr>
            <p:spPr>
              <a:xfrm>
                <a:off x="1447920" y="2057400"/>
                <a:ext cx="2057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Object 3"/>
              <p:cNvSpPr txBox="1"/>
              <p:nvPr/>
            </p:nvSpPr>
            <p:spPr>
              <a:xfrm>
                <a:off x="1447920" y="2590920"/>
                <a:ext cx="2057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Object 4"/>
              <p:cNvSpPr txBox="1"/>
              <p:nvPr/>
            </p:nvSpPr>
            <p:spPr>
              <a:xfrm>
                <a:off x="1371600" y="3809880"/>
                <a:ext cx="38242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5"/>
              <p:cNvSpPr txBox="1"/>
              <p:nvPr/>
            </p:nvSpPr>
            <p:spPr>
              <a:xfrm>
                <a:off x="1371600" y="4952880"/>
                <a:ext cx="3505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9" name="Text Box 8"/>
          <p:cNvSpPr/>
          <p:nvPr/>
        </p:nvSpPr>
        <p:spPr>
          <a:xfrm>
            <a:off x="3614760" y="2224080"/>
            <a:ext cx="48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hese two constraints are logically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4550-EDF7-4F2A-9DDD-9936EBDBE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Joint Distribu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36480" y="1273320"/>
            <a:ext cx="77724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joint probability distribution for a set of random variabl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ives the probability of every combination of values (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imensional array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if all variables are discret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, 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must sum to 1): 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of all possible conjunctions (assignments of values to some subset of variables) can be calculated by summing the appropriate subset of values from the joint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fore, all conditional probabilities can also be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1511280" y="2963880"/>
          <a:ext cx="2841480" cy="1103400"/>
        </p:xfrm>
        <a:graphic>
          <a:graphicData uri="http://schemas.openxmlformats.org/drawingml/2006/table">
            <a:tbl>
              <a:tblPr/>
              <a:tblGrid>
                <a:gridCol w="947880"/>
                <a:gridCol w="946080"/>
                <a:gridCol w="94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4713120" y="2946240"/>
          <a:ext cx="2841840" cy="1103400"/>
        </p:xfrm>
        <a:graphic>
          <a:graphicData uri="http://schemas.openxmlformats.org/drawingml/2006/table">
            <a:tbl>
              <a:tblPr/>
              <a:tblGrid>
                <a:gridCol w="947880"/>
                <a:gridCol w="946080"/>
                <a:gridCol w="94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Text Box 50"/>
          <p:cNvSpPr/>
          <p:nvPr/>
        </p:nvSpPr>
        <p:spPr>
          <a:xfrm>
            <a:off x="2532960" y="2573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51"/>
          <p:cNvSpPr/>
          <p:nvPr/>
        </p:nvSpPr>
        <p:spPr>
          <a:xfrm>
            <a:off x="5767920" y="25542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2"/>
              <p:cNvSpPr txBox="1"/>
              <p:nvPr/>
            </p:nvSpPr>
            <p:spPr>
              <a:xfrm>
                <a:off x="2328840" y="5010120"/>
                <a:ext cx="39132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circl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Object 3"/>
              <p:cNvSpPr txBox="1"/>
              <p:nvPr/>
            </p:nvSpPr>
            <p:spPr>
              <a:xfrm>
                <a:off x="762120" y="6019920"/>
                <a:ext cx="73738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sitiv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circl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ositive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red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circl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d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circle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4"/>
              <p:cNvSpPr txBox="1"/>
              <p:nvPr/>
            </p:nvSpPr>
            <p:spPr>
              <a:xfrm>
                <a:off x="2081160" y="5308560"/>
                <a:ext cx="43196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8894-9E75-42E6-9047-95C31768A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ining example is an inst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ed with its correct catego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        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 for an unknown categorization functio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training exampl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hypothesized categorization functio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4"/>
              <p:cNvSpPr txBox="1"/>
              <p:nvPr/>
            </p:nvSpPr>
            <p:spPr>
              <a:xfrm>
                <a:off x="1582560" y="5181480"/>
                <a:ext cx="5295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∈</m:t>
                    </m:r>
                    <m:r>
                      <m:t xml:space="preserve">D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5"/>
          <p:cNvSpPr/>
          <p:nvPr/>
        </p:nvSpPr>
        <p:spPr>
          <a:xfrm>
            <a:off x="3078360" y="566424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7F16-5BC7-4B13-BBFB-F281847D1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83680" y="1371600"/>
            <a:ext cx="84661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andom variable for the class which takes values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andom variable describing an instance consisting of a vector of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atures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,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possible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possible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ssification, we need to compu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given no other assumptions, this requires a table giving the probability of each category for each possible instance in the instance space, which is impossible to accurately estimate from a reasonably-sized training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ssuming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nd all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re binary, we need 2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tries to specify     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pos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for each of the 2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possibl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’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nc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neg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= 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pos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mpared to 2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</a:rPr>
              <a:t>+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1 entries for the joint distribution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1342-4D03-45F7-A3E3-22BDAF463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 Theor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proof from definition of conditional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Object 2"/>
              <p:cNvSpPr txBox="1"/>
              <p:nvPr/>
            </p:nvSpPr>
            <p:spPr>
              <a:xfrm>
                <a:off x="1295280" y="5562720"/>
                <a:ext cx="32004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3"/>
              <p:cNvSpPr txBox="1"/>
              <p:nvPr/>
            </p:nvSpPr>
            <p:spPr>
              <a:xfrm>
                <a:off x="1371600" y="3276720"/>
                <a:ext cx="2514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∧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4"/>
              <p:cNvSpPr txBox="1"/>
              <p:nvPr/>
            </p:nvSpPr>
            <p:spPr>
              <a:xfrm>
                <a:off x="1752480" y="4114800"/>
                <a:ext cx="259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∧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5"/>
              <p:cNvSpPr txBox="1"/>
              <p:nvPr/>
            </p:nvSpPr>
            <p:spPr>
              <a:xfrm>
                <a:off x="1752480" y="4952880"/>
                <a:ext cx="32767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∧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0" name="Text Box 8"/>
          <p:cNvSpPr/>
          <p:nvPr/>
        </p:nvSpPr>
        <p:spPr>
          <a:xfrm>
            <a:off x="398880" y="56656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4058640" y="338292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Def. cond. pro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"/>
          <p:cNvSpPr/>
          <p:nvPr/>
        </p:nvSpPr>
        <p:spPr>
          <a:xfrm>
            <a:off x="4604760" y="428148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Def. cond. pro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Object 6"/>
              <p:cNvSpPr txBox="1"/>
              <p:nvPr/>
            </p:nvSpPr>
            <p:spPr>
              <a:xfrm>
                <a:off x="533520" y="1523880"/>
                <a:ext cx="3257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F8D6-1206-40D2-AC61-1A6998468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39280" y="1371600"/>
            <a:ext cx="81694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categor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determining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determined since categories are complete and disj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Object 2"/>
              <p:cNvSpPr txBox="1"/>
              <p:nvPr/>
            </p:nvSpPr>
            <p:spPr>
              <a:xfrm>
                <a:off x="1525680" y="2130480"/>
                <a:ext cx="55926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Object 3"/>
              <p:cNvSpPr txBox="1"/>
              <p:nvPr/>
            </p:nvSpPr>
            <p:spPr>
              <a:xfrm>
                <a:off x="2265480" y="4379760"/>
                <a:ext cx="212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4"/>
              <p:cNvSpPr txBox="1"/>
              <p:nvPr/>
            </p:nvSpPr>
            <p:spPr>
              <a:xfrm>
                <a:off x="1343160" y="4344840"/>
                <a:ext cx="66373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5"/>
              <p:cNvSpPr txBox="1"/>
              <p:nvPr/>
            </p:nvSpPr>
            <p:spPr>
              <a:xfrm>
                <a:off x="1265400" y="5240160"/>
                <a:ext cx="50241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C907-86A2-4E39-BE18-674FE6E50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Categorization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iors: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ditionals: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easily estimated from d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of the example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re in 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n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/ |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|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any possible instances (e.g.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inary features) to estimate all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 to make some sort of independence assumptions about the features to make learning trac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2620-9CDD-4EC3-B243-6EB2F7261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tive Probabilistic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a simple (usually unrealistic) probabilistic method by which the data was gene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ategorization, each category has a different parameterized generative model that characterizes that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the data for each category to estimate the parameters of the generative model for that categ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ximum Likelihood Estimation (ML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Set parameters to maximize the probability that the model produced the given training data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l-GR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λ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denotes a model with parameter values λ and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s the training data for th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 class, find model parameters for class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λ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that maximize the likelihood o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Bayesian analysis to determine the category model that most likely generated a specific test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2"/>
              <p:cNvSpPr txBox="1"/>
              <p:nvPr/>
            </p:nvSpPr>
            <p:spPr>
              <a:xfrm>
                <a:off x="3079800" y="5229360"/>
                <a:ext cx="32194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limLow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λ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5CCC-C701-49DD-9C1F-921B33789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Generative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770" name="Group 3"/>
          <p:cNvGrpSpPr/>
          <p:nvPr/>
        </p:nvGrpSpPr>
        <p:grpSpPr>
          <a:xfrm>
            <a:off x="604800" y="4802040"/>
            <a:ext cx="3304800" cy="1512000"/>
            <a:chOff x="604800" y="4802040"/>
            <a:chExt cx="3304800" cy="1512000"/>
          </a:xfrm>
        </p:grpSpPr>
        <p:grpSp>
          <p:nvGrpSpPr>
            <p:cNvPr id="771" name="Group 4"/>
            <p:cNvGrpSpPr/>
            <p:nvPr/>
          </p:nvGrpSpPr>
          <p:grpSpPr>
            <a:xfrm>
              <a:off x="604800" y="4802040"/>
              <a:ext cx="3304800" cy="1142280"/>
              <a:chOff x="604800" y="4802040"/>
              <a:chExt cx="3304800" cy="1142280"/>
            </a:xfrm>
          </p:grpSpPr>
          <p:grpSp>
            <p:nvGrpSpPr>
              <p:cNvPr id="772" name="Group 5"/>
              <p:cNvGrpSpPr/>
              <p:nvPr/>
            </p:nvGrpSpPr>
            <p:grpSpPr>
              <a:xfrm>
                <a:off x="604800" y="4817160"/>
                <a:ext cx="1105920" cy="1127160"/>
                <a:chOff x="604800" y="4817160"/>
                <a:chExt cx="1105920" cy="1127160"/>
              </a:xfrm>
            </p:grpSpPr>
            <p:sp>
              <p:nvSpPr>
                <p:cNvPr id="773" name="Freeform 6"/>
                <p:cNvSpPr/>
                <p:nvPr/>
              </p:nvSpPr>
              <p:spPr>
                <a:xfrm>
                  <a:off x="604800" y="4823280"/>
                  <a:ext cx="552960" cy="1121040"/>
                </a:xfrm>
                <a:custGeom>
                  <a:avLst/>
                  <a:gdLst>
                    <a:gd name="textAreaLeft" fmla="*/ 0 w 552960"/>
                    <a:gd name="textAreaRight" fmla="*/ 55332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Freeform 7"/>
                <p:cNvSpPr/>
                <p:nvPr/>
              </p:nvSpPr>
              <p:spPr>
                <a:xfrm flipH="1">
                  <a:off x="1157760" y="4819680"/>
                  <a:ext cx="552960" cy="1121040"/>
                </a:xfrm>
                <a:custGeom>
                  <a:avLst/>
                  <a:gdLst>
                    <a:gd name="textAreaLeft" fmla="*/ 360 w 552960"/>
                    <a:gd name="textAreaRight" fmla="*/ 55368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ine 8"/>
                <p:cNvSpPr/>
                <p:nvPr/>
              </p:nvSpPr>
              <p:spPr>
                <a:xfrm flipV="1">
                  <a:off x="779040" y="481716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Group 9"/>
              <p:cNvGrpSpPr/>
              <p:nvPr/>
            </p:nvGrpSpPr>
            <p:grpSpPr>
              <a:xfrm>
                <a:off x="1703160" y="4810680"/>
                <a:ext cx="1105920" cy="1127160"/>
                <a:chOff x="1703160" y="4810680"/>
                <a:chExt cx="1105920" cy="1127160"/>
              </a:xfrm>
            </p:grpSpPr>
            <p:sp>
              <p:nvSpPr>
                <p:cNvPr id="777" name="Freeform 10"/>
                <p:cNvSpPr/>
                <p:nvPr/>
              </p:nvSpPr>
              <p:spPr>
                <a:xfrm>
                  <a:off x="1703160" y="4816800"/>
                  <a:ext cx="552960" cy="1121040"/>
                </a:xfrm>
                <a:custGeom>
                  <a:avLst/>
                  <a:gdLst>
                    <a:gd name="textAreaLeft" fmla="*/ 0 w 552960"/>
                    <a:gd name="textAreaRight" fmla="*/ 55332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Freeform 11"/>
                <p:cNvSpPr/>
                <p:nvPr/>
              </p:nvSpPr>
              <p:spPr>
                <a:xfrm flipH="1">
                  <a:off x="2256120" y="4813200"/>
                  <a:ext cx="552960" cy="1121040"/>
                </a:xfrm>
                <a:custGeom>
                  <a:avLst/>
                  <a:gdLst>
                    <a:gd name="textAreaLeft" fmla="*/ 360 w 552960"/>
                    <a:gd name="textAreaRight" fmla="*/ 55368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Line 12"/>
                <p:cNvSpPr/>
                <p:nvPr/>
              </p:nvSpPr>
              <p:spPr>
                <a:xfrm flipV="1">
                  <a:off x="1877400" y="481068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Group 13"/>
              <p:cNvGrpSpPr/>
              <p:nvPr/>
            </p:nvGrpSpPr>
            <p:grpSpPr>
              <a:xfrm>
                <a:off x="2803680" y="4802040"/>
                <a:ext cx="1105920" cy="1127160"/>
                <a:chOff x="2803680" y="4802040"/>
                <a:chExt cx="1105920" cy="1127160"/>
              </a:xfrm>
            </p:grpSpPr>
            <p:sp>
              <p:nvSpPr>
                <p:cNvPr id="781" name="Freeform 14"/>
                <p:cNvSpPr/>
                <p:nvPr/>
              </p:nvSpPr>
              <p:spPr>
                <a:xfrm>
                  <a:off x="2803680" y="4808160"/>
                  <a:ext cx="552960" cy="1121040"/>
                </a:xfrm>
                <a:custGeom>
                  <a:avLst/>
                  <a:gdLst>
                    <a:gd name="textAreaLeft" fmla="*/ 0 w 552960"/>
                    <a:gd name="textAreaRight" fmla="*/ 55332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Freeform 15"/>
                <p:cNvSpPr/>
                <p:nvPr/>
              </p:nvSpPr>
              <p:spPr>
                <a:xfrm flipH="1">
                  <a:off x="3356640" y="4804560"/>
                  <a:ext cx="552960" cy="1121040"/>
                </a:xfrm>
                <a:custGeom>
                  <a:avLst/>
                  <a:gdLst>
                    <a:gd name="textAreaLeft" fmla="*/ 360 w 552960"/>
                    <a:gd name="textAreaRight" fmla="*/ 55368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Line 16"/>
                <p:cNvSpPr/>
                <p:nvPr/>
              </p:nvSpPr>
              <p:spPr>
                <a:xfrm flipV="1">
                  <a:off x="2977920" y="4802040"/>
                  <a:ext cx="76536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4" name="Text Box 17"/>
            <p:cNvSpPr/>
            <p:nvPr/>
          </p:nvSpPr>
          <p:spPr>
            <a:xfrm>
              <a:off x="792360" y="5915160"/>
              <a:ext cx="30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ze          Color        Shap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Group 18"/>
          <p:cNvGrpSpPr/>
          <p:nvPr/>
        </p:nvGrpSpPr>
        <p:grpSpPr>
          <a:xfrm>
            <a:off x="5183280" y="4813200"/>
            <a:ext cx="1105920" cy="1127160"/>
            <a:chOff x="5183280" y="4813200"/>
            <a:chExt cx="1105920" cy="1127160"/>
          </a:xfrm>
        </p:grpSpPr>
        <p:sp>
          <p:nvSpPr>
            <p:cNvPr id="786" name="Freeform 19"/>
            <p:cNvSpPr/>
            <p:nvPr/>
          </p:nvSpPr>
          <p:spPr>
            <a:xfrm>
              <a:off x="5183280" y="4819320"/>
              <a:ext cx="552960" cy="112104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20"/>
            <p:cNvSpPr/>
            <p:nvPr/>
          </p:nvSpPr>
          <p:spPr>
            <a:xfrm flipH="1">
              <a:off x="5736240" y="4815720"/>
              <a:ext cx="552960" cy="1121040"/>
            </a:xfrm>
            <a:custGeom>
              <a:avLst/>
              <a:gdLst>
                <a:gd name="textAreaLeft" fmla="*/ 360 w 552960"/>
                <a:gd name="textAreaRight" fmla="*/ 553680 w 5529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21"/>
            <p:cNvSpPr/>
            <p:nvPr/>
          </p:nvSpPr>
          <p:spPr>
            <a:xfrm flipV="1">
              <a:off x="5357520" y="4813200"/>
              <a:ext cx="76572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Group 22"/>
          <p:cNvGrpSpPr/>
          <p:nvPr/>
        </p:nvGrpSpPr>
        <p:grpSpPr>
          <a:xfrm>
            <a:off x="6281640" y="4807080"/>
            <a:ext cx="1106280" cy="1127160"/>
            <a:chOff x="6281640" y="4807080"/>
            <a:chExt cx="1106280" cy="1127160"/>
          </a:xfrm>
        </p:grpSpPr>
        <p:sp>
          <p:nvSpPr>
            <p:cNvPr id="790" name="Freeform 23"/>
            <p:cNvSpPr/>
            <p:nvPr/>
          </p:nvSpPr>
          <p:spPr>
            <a:xfrm>
              <a:off x="6281640" y="4813200"/>
              <a:ext cx="553320" cy="1121040"/>
            </a:xfrm>
            <a:custGeom>
              <a:avLst/>
              <a:gdLst>
                <a:gd name="textAreaLeft" fmla="*/ 0 w 553320"/>
                <a:gd name="textAreaRight" fmla="*/ 55368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24"/>
            <p:cNvSpPr/>
            <p:nvPr/>
          </p:nvSpPr>
          <p:spPr>
            <a:xfrm flipH="1">
              <a:off x="6834240" y="4809600"/>
              <a:ext cx="553320" cy="1121040"/>
            </a:xfrm>
            <a:custGeom>
              <a:avLst/>
              <a:gdLst>
                <a:gd name="textAreaLeft" fmla="*/ -360 w 553320"/>
                <a:gd name="textAreaRight" fmla="*/ 55332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5"/>
            <p:cNvSpPr/>
            <p:nvPr/>
          </p:nvSpPr>
          <p:spPr>
            <a:xfrm flipV="1">
              <a:off x="6455880" y="480708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Group 26"/>
          <p:cNvGrpSpPr/>
          <p:nvPr/>
        </p:nvGrpSpPr>
        <p:grpSpPr>
          <a:xfrm>
            <a:off x="7381800" y="4797360"/>
            <a:ext cx="1106280" cy="1127160"/>
            <a:chOff x="7381800" y="4797360"/>
            <a:chExt cx="1106280" cy="1127160"/>
          </a:xfrm>
        </p:grpSpPr>
        <p:sp>
          <p:nvSpPr>
            <p:cNvPr id="794" name="Freeform 27"/>
            <p:cNvSpPr/>
            <p:nvPr/>
          </p:nvSpPr>
          <p:spPr>
            <a:xfrm>
              <a:off x="7381800" y="4803480"/>
              <a:ext cx="553320" cy="1121040"/>
            </a:xfrm>
            <a:custGeom>
              <a:avLst/>
              <a:gdLst>
                <a:gd name="textAreaLeft" fmla="*/ 0 w 553320"/>
                <a:gd name="textAreaRight" fmla="*/ 55368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Freeform 28"/>
            <p:cNvSpPr/>
            <p:nvPr/>
          </p:nvSpPr>
          <p:spPr>
            <a:xfrm flipH="1">
              <a:off x="7934400" y="4799880"/>
              <a:ext cx="553320" cy="1121040"/>
            </a:xfrm>
            <a:custGeom>
              <a:avLst/>
              <a:gdLst>
                <a:gd name="textAreaLeft" fmla="*/ -360 w 553320"/>
                <a:gd name="textAreaRight" fmla="*/ 55332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9"/>
            <p:cNvSpPr/>
            <p:nvPr/>
          </p:nvSpPr>
          <p:spPr>
            <a:xfrm flipV="1">
              <a:off x="7556040" y="479736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Text Box 30"/>
          <p:cNvSpPr/>
          <p:nvPr/>
        </p:nvSpPr>
        <p:spPr>
          <a:xfrm>
            <a:off x="5370480" y="59101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         Color        Sha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Group 31"/>
          <p:cNvGrpSpPr/>
          <p:nvPr/>
        </p:nvGrpSpPr>
        <p:grpSpPr>
          <a:xfrm>
            <a:off x="3970440" y="2027160"/>
            <a:ext cx="1105920" cy="1127160"/>
            <a:chOff x="3970440" y="2027160"/>
            <a:chExt cx="1105920" cy="1127160"/>
          </a:xfrm>
        </p:grpSpPr>
        <p:sp>
          <p:nvSpPr>
            <p:cNvPr id="799" name="Freeform 32"/>
            <p:cNvSpPr/>
            <p:nvPr/>
          </p:nvSpPr>
          <p:spPr>
            <a:xfrm>
              <a:off x="3970440" y="2033280"/>
              <a:ext cx="552960" cy="112104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33"/>
            <p:cNvSpPr/>
            <p:nvPr/>
          </p:nvSpPr>
          <p:spPr>
            <a:xfrm flipH="1">
              <a:off x="4523400" y="2029680"/>
              <a:ext cx="552960" cy="1121040"/>
            </a:xfrm>
            <a:custGeom>
              <a:avLst/>
              <a:gdLst>
                <a:gd name="textAreaLeft" fmla="*/ 360 w 552960"/>
                <a:gd name="textAreaRight" fmla="*/ 553680 w 5529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4"/>
            <p:cNvSpPr/>
            <p:nvPr/>
          </p:nvSpPr>
          <p:spPr>
            <a:xfrm flipV="1">
              <a:off x="4144680" y="2027160"/>
              <a:ext cx="76572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" name="Text Box 35"/>
          <p:cNvSpPr/>
          <p:nvPr/>
        </p:nvSpPr>
        <p:spPr>
          <a:xfrm>
            <a:off x="1476360" y="6243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36"/>
          <p:cNvSpPr/>
          <p:nvPr/>
        </p:nvSpPr>
        <p:spPr>
          <a:xfrm>
            <a:off x="6214320" y="62247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37"/>
          <p:cNvSpPr/>
          <p:nvPr/>
        </p:nvSpPr>
        <p:spPr>
          <a:xfrm>
            <a:off x="4082760" y="23302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38"/>
          <p:cNvSpPr/>
          <p:nvPr/>
        </p:nvSpPr>
        <p:spPr>
          <a:xfrm>
            <a:off x="4378320" y="25210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39"/>
          <p:cNvSpPr/>
          <p:nvPr/>
        </p:nvSpPr>
        <p:spPr>
          <a:xfrm>
            <a:off x="4464000" y="23572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40"/>
          <p:cNvSpPr/>
          <p:nvPr/>
        </p:nvSpPr>
        <p:spPr>
          <a:xfrm>
            <a:off x="4008240" y="25480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41"/>
          <p:cNvSpPr/>
          <p:nvPr/>
        </p:nvSpPr>
        <p:spPr>
          <a:xfrm>
            <a:off x="4160880" y="270036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42"/>
          <p:cNvSpPr/>
          <p:nvPr/>
        </p:nvSpPr>
        <p:spPr>
          <a:xfrm>
            <a:off x="4506840" y="269712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43"/>
          <p:cNvSpPr/>
          <p:nvPr/>
        </p:nvSpPr>
        <p:spPr>
          <a:xfrm>
            <a:off x="4268880" y="21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44"/>
          <p:cNvSpPr/>
          <p:nvPr/>
        </p:nvSpPr>
        <p:spPr>
          <a:xfrm>
            <a:off x="801360" y="55832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45"/>
          <p:cNvSpPr/>
          <p:nvPr/>
        </p:nvSpPr>
        <p:spPr>
          <a:xfrm>
            <a:off x="642600" y="52722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46"/>
          <p:cNvSpPr/>
          <p:nvPr/>
        </p:nvSpPr>
        <p:spPr>
          <a:xfrm>
            <a:off x="754200" y="540072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47"/>
          <p:cNvSpPr/>
          <p:nvPr/>
        </p:nvSpPr>
        <p:spPr>
          <a:xfrm>
            <a:off x="1138320" y="517536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48"/>
          <p:cNvSpPr/>
          <p:nvPr/>
        </p:nvSpPr>
        <p:spPr>
          <a:xfrm>
            <a:off x="1088640" y="5570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49"/>
          <p:cNvSpPr/>
          <p:nvPr/>
        </p:nvSpPr>
        <p:spPr>
          <a:xfrm>
            <a:off x="1236240" y="54054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50"/>
          <p:cNvSpPr/>
          <p:nvPr/>
        </p:nvSpPr>
        <p:spPr>
          <a:xfrm>
            <a:off x="752040" y="51069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51"/>
          <p:cNvSpPr/>
          <p:nvPr/>
        </p:nvSpPr>
        <p:spPr>
          <a:xfrm>
            <a:off x="923400" y="49546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52"/>
          <p:cNvSpPr/>
          <p:nvPr/>
        </p:nvSpPr>
        <p:spPr>
          <a:xfrm>
            <a:off x="966960" y="539604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53"/>
          <p:cNvSpPr/>
          <p:nvPr/>
        </p:nvSpPr>
        <p:spPr>
          <a:xfrm>
            <a:off x="2029680" y="4870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54"/>
          <p:cNvSpPr/>
          <p:nvPr/>
        </p:nvSpPr>
        <p:spPr>
          <a:xfrm>
            <a:off x="2328120" y="52293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55"/>
          <p:cNvSpPr/>
          <p:nvPr/>
        </p:nvSpPr>
        <p:spPr>
          <a:xfrm>
            <a:off x="1713600" y="5261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56"/>
          <p:cNvSpPr/>
          <p:nvPr/>
        </p:nvSpPr>
        <p:spPr>
          <a:xfrm>
            <a:off x="1783440" y="5511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57"/>
          <p:cNvSpPr/>
          <p:nvPr/>
        </p:nvSpPr>
        <p:spPr>
          <a:xfrm>
            <a:off x="2096280" y="56167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58"/>
          <p:cNvSpPr/>
          <p:nvPr/>
        </p:nvSpPr>
        <p:spPr>
          <a:xfrm>
            <a:off x="1947960" y="50767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59"/>
          <p:cNvSpPr/>
          <p:nvPr/>
        </p:nvSpPr>
        <p:spPr>
          <a:xfrm>
            <a:off x="2210040" y="54500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60"/>
          <p:cNvSpPr/>
          <p:nvPr/>
        </p:nvSpPr>
        <p:spPr>
          <a:xfrm>
            <a:off x="1998720" y="5248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61"/>
          <p:cNvSpPr/>
          <p:nvPr/>
        </p:nvSpPr>
        <p:spPr>
          <a:xfrm>
            <a:off x="2989440" y="55706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62"/>
          <p:cNvSpPr/>
          <p:nvPr/>
        </p:nvSpPr>
        <p:spPr>
          <a:xfrm>
            <a:off x="2849760" y="5332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63"/>
          <p:cNvSpPr/>
          <p:nvPr/>
        </p:nvSpPr>
        <p:spPr>
          <a:xfrm>
            <a:off x="3124440" y="48387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64"/>
          <p:cNvSpPr/>
          <p:nvPr/>
        </p:nvSpPr>
        <p:spPr>
          <a:xfrm>
            <a:off x="3375000" y="5199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65"/>
          <p:cNvSpPr/>
          <p:nvPr/>
        </p:nvSpPr>
        <p:spPr>
          <a:xfrm>
            <a:off x="3394440" y="54975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66"/>
          <p:cNvSpPr/>
          <p:nvPr/>
        </p:nvSpPr>
        <p:spPr>
          <a:xfrm>
            <a:off x="2947680" y="5114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67"/>
          <p:cNvSpPr/>
          <p:nvPr/>
        </p:nvSpPr>
        <p:spPr>
          <a:xfrm>
            <a:off x="3246120" y="50356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68"/>
          <p:cNvSpPr/>
          <p:nvPr/>
        </p:nvSpPr>
        <p:spPr>
          <a:xfrm>
            <a:off x="3233880" y="5351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69"/>
          <p:cNvSpPr/>
          <p:nvPr/>
        </p:nvSpPr>
        <p:spPr>
          <a:xfrm>
            <a:off x="8056800" y="5380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70"/>
          <p:cNvSpPr/>
          <p:nvPr/>
        </p:nvSpPr>
        <p:spPr>
          <a:xfrm>
            <a:off x="7437240" y="5189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71"/>
          <p:cNvSpPr/>
          <p:nvPr/>
        </p:nvSpPr>
        <p:spPr>
          <a:xfrm>
            <a:off x="5378040" y="55753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72"/>
          <p:cNvSpPr/>
          <p:nvPr/>
        </p:nvSpPr>
        <p:spPr>
          <a:xfrm>
            <a:off x="5491440" y="48322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73"/>
          <p:cNvSpPr/>
          <p:nvPr/>
        </p:nvSpPr>
        <p:spPr>
          <a:xfrm>
            <a:off x="5208120" y="5240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74"/>
          <p:cNvSpPr/>
          <p:nvPr/>
        </p:nvSpPr>
        <p:spPr>
          <a:xfrm>
            <a:off x="5487480" y="50641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75"/>
          <p:cNvSpPr/>
          <p:nvPr/>
        </p:nvSpPr>
        <p:spPr>
          <a:xfrm>
            <a:off x="5686560" y="538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76"/>
          <p:cNvSpPr/>
          <p:nvPr/>
        </p:nvSpPr>
        <p:spPr>
          <a:xfrm>
            <a:off x="5719320" y="5165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77"/>
          <p:cNvSpPr/>
          <p:nvPr/>
        </p:nvSpPr>
        <p:spPr>
          <a:xfrm>
            <a:off x="5839200" y="5532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78"/>
          <p:cNvSpPr/>
          <p:nvPr/>
        </p:nvSpPr>
        <p:spPr>
          <a:xfrm>
            <a:off x="5335200" y="54338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79"/>
          <p:cNvSpPr/>
          <p:nvPr/>
        </p:nvSpPr>
        <p:spPr>
          <a:xfrm>
            <a:off x="6431040" y="56116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80"/>
          <p:cNvSpPr/>
          <p:nvPr/>
        </p:nvSpPr>
        <p:spPr>
          <a:xfrm>
            <a:off x="6593400" y="4862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81"/>
          <p:cNvSpPr/>
          <p:nvPr/>
        </p:nvSpPr>
        <p:spPr>
          <a:xfrm>
            <a:off x="6350040" y="5221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82"/>
          <p:cNvSpPr/>
          <p:nvPr/>
        </p:nvSpPr>
        <p:spPr>
          <a:xfrm>
            <a:off x="6527880" y="5014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83"/>
          <p:cNvSpPr/>
          <p:nvPr/>
        </p:nvSpPr>
        <p:spPr>
          <a:xfrm>
            <a:off x="6848640" y="5573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84"/>
          <p:cNvSpPr/>
          <p:nvPr/>
        </p:nvSpPr>
        <p:spPr>
          <a:xfrm>
            <a:off x="6423840" y="5411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85"/>
          <p:cNvSpPr/>
          <p:nvPr/>
        </p:nvSpPr>
        <p:spPr>
          <a:xfrm>
            <a:off x="6715080" y="51832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86"/>
          <p:cNvSpPr/>
          <p:nvPr/>
        </p:nvSpPr>
        <p:spPr>
          <a:xfrm>
            <a:off x="6796080" y="53802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87"/>
          <p:cNvSpPr/>
          <p:nvPr/>
        </p:nvSpPr>
        <p:spPr>
          <a:xfrm>
            <a:off x="7686720" y="484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88"/>
          <p:cNvSpPr/>
          <p:nvPr/>
        </p:nvSpPr>
        <p:spPr>
          <a:xfrm>
            <a:off x="7561800" y="5592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89"/>
          <p:cNvSpPr/>
          <p:nvPr/>
        </p:nvSpPr>
        <p:spPr>
          <a:xfrm>
            <a:off x="7930800" y="55864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90"/>
          <p:cNvSpPr/>
          <p:nvPr/>
        </p:nvSpPr>
        <p:spPr>
          <a:xfrm>
            <a:off x="7454880" y="5391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91"/>
          <p:cNvSpPr/>
          <p:nvPr/>
        </p:nvSpPr>
        <p:spPr>
          <a:xfrm>
            <a:off x="7660080" y="508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92"/>
          <p:cNvSpPr/>
          <p:nvPr/>
        </p:nvSpPr>
        <p:spPr>
          <a:xfrm>
            <a:off x="7942320" y="5197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93"/>
          <p:cNvSpPr/>
          <p:nvPr/>
        </p:nvSpPr>
        <p:spPr>
          <a:xfrm>
            <a:off x="7778520" y="53481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94"/>
          <p:cNvSpPr/>
          <p:nvPr/>
        </p:nvSpPr>
        <p:spPr>
          <a:xfrm>
            <a:off x="3981240" y="30970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2 0.03168 C 0.0033 0.000230000000000001 -0.00642 -0.03122 -0.01094 -0.05366 C -0.01545 -0.07609 -0.01684 -0.09089 -0.01354 -0.10338 C -0.01024 -0.11587 -0.0059 -0.12142 0.0092 -0.12813 C 0.02431 -0.13483 0.05729 -0.14663 0.07709 -0.14408 C 0.09688 -0.14154 0.11528 -0.12512 0.12778 -0.11217 C 0.14028 -0.09922 0.14809 -0.07355 0.15174 -0.06591 E">
                                      <p:cBhvr>
                                        <p:cTn id="92" dur="2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7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8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250" autoRev="1" fill="hold"/>
                                        <p:tgtEl>
                                          <p:spTgt spid="8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250" autoRev="1" fill="hold"/>
                                        <p:tgtEl>
                                          <p:spTgt spid="8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250" autoRev="1" fill="hold"/>
                                        <p:tgtEl>
                                          <p:spTgt spid="8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250" autoRev="1" fill="hold"/>
                                        <p:tgtEl>
                                          <p:spTgt spid="8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8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8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50" autoRev="1" fill="hold"/>
                                        <p:tgtEl>
                                          <p:spTgt spid="8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8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250" autoRev="1" fill="hold"/>
                                        <p:tgtEl>
                                          <p:spTgt spid="8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8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250" autoRev="1" fill="hold"/>
                                        <p:tgtEl>
                                          <p:spTgt spid="8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" autoRev="1" fill="hold"/>
                                        <p:tgtEl>
                                          <p:spTgt spid="8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8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250" autoRev="1" fill="hold"/>
                                        <p:tgtEl>
                                          <p:spTgt spid="8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8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8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8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250" autoRev="1" fill="hold"/>
                                        <p:tgtEl>
                                          <p:spTgt spid="8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250" autoRev="1" fill="hold"/>
                                        <p:tgtEl>
                                          <p:spTgt spid="8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250" autoRev="1" fill="hold"/>
                                        <p:tgtEl>
                                          <p:spTgt spid="8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8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8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250" autoRev="1" fill="hold"/>
                                        <p:tgtEl>
                                          <p:spTgt spid="8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3 -0.03076 C 0.00364 -0.06105 0.00243 -0.09112 0.00243 -0.10892 C 0.00243 -0.12673 0.00173 -0.12673 0.00503 -0.13737 C 0.00833 -0.14801 0.01527 -0.1635 0.02239 -0.17299 C 0.02951 -0.18247 0.03854 -0.18848 0.04774 -0.19426 E">
                                      <p:cBhvr>
                                        <p:cTn id="179" dur="2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2 -0.05042 -0.0184 -0.1006 -0.02136 -0.13136 C -0.02431 -0.16212 -0.01892 -0.17137 -0.01736 -0.18479 C -0.0158 -0.1982 -0.01302 -0.20676 -0.01198 -0.21138 E">
                                      <p:cBhvr>
                                        <p:cTn id="183" dur="2000" fill="hold"/>
                                        <p:tgtEl>
                                          <p:spTgt spid="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042 -0.0222 -0.02066 -0.04417 -0.02396 -0.06406 C -0.02726 -0.08395 -0.0217 -0.10638 -0.01997 -0.1191 C -0.01823 -0.13182 -0.00695 -0.12974 -0.01337 -0.14038 C -0.01979 -0.15102 -0.03924 -0.16697 -0.05868 -0.18293 E">
                                      <p:cBhvr>
                                        <p:cTn id="187" dur="20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CDA6-B71A-478C-99F5-1823285F0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Inference Probl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864" name="Group 3"/>
          <p:cNvGrpSpPr/>
          <p:nvPr/>
        </p:nvGrpSpPr>
        <p:grpSpPr>
          <a:xfrm>
            <a:off x="604800" y="4802040"/>
            <a:ext cx="3304800" cy="1512000"/>
            <a:chOff x="604800" y="4802040"/>
            <a:chExt cx="3304800" cy="1512000"/>
          </a:xfrm>
        </p:grpSpPr>
        <p:grpSp>
          <p:nvGrpSpPr>
            <p:cNvPr id="865" name="Group 4"/>
            <p:cNvGrpSpPr/>
            <p:nvPr/>
          </p:nvGrpSpPr>
          <p:grpSpPr>
            <a:xfrm>
              <a:off x="604800" y="4802040"/>
              <a:ext cx="3304800" cy="1142280"/>
              <a:chOff x="604800" y="4802040"/>
              <a:chExt cx="3304800" cy="1142280"/>
            </a:xfrm>
          </p:grpSpPr>
          <p:grpSp>
            <p:nvGrpSpPr>
              <p:cNvPr id="866" name="Group 5"/>
              <p:cNvGrpSpPr/>
              <p:nvPr/>
            </p:nvGrpSpPr>
            <p:grpSpPr>
              <a:xfrm>
                <a:off x="604800" y="4817160"/>
                <a:ext cx="1105920" cy="1127160"/>
                <a:chOff x="604800" y="4817160"/>
                <a:chExt cx="1105920" cy="1127160"/>
              </a:xfrm>
            </p:grpSpPr>
            <p:sp>
              <p:nvSpPr>
                <p:cNvPr id="867" name="Freeform 6"/>
                <p:cNvSpPr/>
                <p:nvPr/>
              </p:nvSpPr>
              <p:spPr>
                <a:xfrm>
                  <a:off x="604800" y="4823280"/>
                  <a:ext cx="552960" cy="1121040"/>
                </a:xfrm>
                <a:custGeom>
                  <a:avLst/>
                  <a:gdLst>
                    <a:gd name="textAreaLeft" fmla="*/ 0 w 552960"/>
                    <a:gd name="textAreaRight" fmla="*/ 55332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Freeform 7"/>
                <p:cNvSpPr/>
                <p:nvPr/>
              </p:nvSpPr>
              <p:spPr>
                <a:xfrm flipH="1">
                  <a:off x="1157760" y="4819680"/>
                  <a:ext cx="552960" cy="1121040"/>
                </a:xfrm>
                <a:custGeom>
                  <a:avLst/>
                  <a:gdLst>
                    <a:gd name="textAreaLeft" fmla="*/ 360 w 552960"/>
                    <a:gd name="textAreaRight" fmla="*/ 55368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Line 8"/>
                <p:cNvSpPr/>
                <p:nvPr/>
              </p:nvSpPr>
              <p:spPr>
                <a:xfrm flipV="1">
                  <a:off x="779040" y="481716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Group 9"/>
              <p:cNvGrpSpPr/>
              <p:nvPr/>
            </p:nvGrpSpPr>
            <p:grpSpPr>
              <a:xfrm>
                <a:off x="1703160" y="4810680"/>
                <a:ext cx="1105920" cy="1127160"/>
                <a:chOff x="1703160" y="4810680"/>
                <a:chExt cx="1105920" cy="1127160"/>
              </a:xfrm>
            </p:grpSpPr>
            <p:sp>
              <p:nvSpPr>
                <p:cNvPr id="871" name="Freeform 10"/>
                <p:cNvSpPr/>
                <p:nvPr/>
              </p:nvSpPr>
              <p:spPr>
                <a:xfrm>
                  <a:off x="1703160" y="4816800"/>
                  <a:ext cx="552960" cy="1121040"/>
                </a:xfrm>
                <a:custGeom>
                  <a:avLst/>
                  <a:gdLst>
                    <a:gd name="textAreaLeft" fmla="*/ 0 w 552960"/>
                    <a:gd name="textAreaRight" fmla="*/ 55332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Freeform 11"/>
                <p:cNvSpPr/>
                <p:nvPr/>
              </p:nvSpPr>
              <p:spPr>
                <a:xfrm flipH="1">
                  <a:off x="2256120" y="4813200"/>
                  <a:ext cx="552960" cy="1121040"/>
                </a:xfrm>
                <a:custGeom>
                  <a:avLst/>
                  <a:gdLst>
                    <a:gd name="textAreaLeft" fmla="*/ 360 w 552960"/>
                    <a:gd name="textAreaRight" fmla="*/ 55368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Line 12"/>
                <p:cNvSpPr/>
                <p:nvPr/>
              </p:nvSpPr>
              <p:spPr>
                <a:xfrm flipV="1">
                  <a:off x="1877400" y="481068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Group 13"/>
              <p:cNvGrpSpPr/>
              <p:nvPr/>
            </p:nvGrpSpPr>
            <p:grpSpPr>
              <a:xfrm>
                <a:off x="2803680" y="4802040"/>
                <a:ext cx="1105920" cy="1127160"/>
                <a:chOff x="2803680" y="4802040"/>
                <a:chExt cx="1105920" cy="1127160"/>
              </a:xfrm>
            </p:grpSpPr>
            <p:sp>
              <p:nvSpPr>
                <p:cNvPr id="875" name="Freeform 14"/>
                <p:cNvSpPr/>
                <p:nvPr/>
              </p:nvSpPr>
              <p:spPr>
                <a:xfrm>
                  <a:off x="2803680" y="4808160"/>
                  <a:ext cx="552960" cy="1121040"/>
                </a:xfrm>
                <a:custGeom>
                  <a:avLst/>
                  <a:gdLst>
                    <a:gd name="textAreaLeft" fmla="*/ 0 w 552960"/>
                    <a:gd name="textAreaRight" fmla="*/ 55332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Freeform 15"/>
                <p:cNvSpPr/>
                <p:nvPr/>
              </p:nvSpPr>
              <p:spPr>
                <a:xfrm flipH="1">
                  <a:off x="3356640" y="4804560"/>
                  <a:ext cx="552960" cy="1121040"/>
                </a:xfrm>
                <a:custGeom>
                  <a:avLst/>
                  <a:gdLst>
                    <a:gd name="textAreaLeft" fmla="*/ 360 w 552960"/>
                    <a:gd name="textAreaRight" fmla="*/ 553680 w 552960"/>
                    <a:gd name="textAreaTop" fmla="*/ 0 h 1121040"/>
                    <a:gd name="textAreaBottom" fmla="*/ 1121400 h 1121040"/>
                  </a:gdLst>
                  <a:ahLst/>
                  <a:rect l="textAreaLeft" t="textAreaTop" r="textAreaRight" b="textAreaBottom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Line 16"/>
                <p:cNvSpPr/>
                <p:nvPr/>
              </p:nvSpPr>
              <p:spPr>
                <a:xfrm flipV="1">
                  <a:off x="2977920" y="4802040"/>
                  <a:ext cx="76536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8" name="Text Box 17"/>
            <p:cNvSpPr/>
            <p:nvPr/>
          </p:nvSpPr>
          <p:spPr>
            <a:xfrm>
              <a:off x="792360" y="5915160"/>
              <a:ext cx="30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ze          Color        Shap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Group 18"/>
          <p:cNvGrpSpPr/>
          <p:nvPr/>
        </p:nvGrpSpPr>
        <p:grpSpPr>
          <a:xfrm>
            <a:off x="5183280" y="4813200"/>
            <a:ext cx="1105920" cy="1127160"/>
            <a:chOff x="5183280" y="4813200"/>
            <a:chExt cx="1105920" cy="1127160"/>
          </a:xfrm>
        </p:grpSpPr>
        <p:sp>
          <p:nvSpPr>
            <p:cNvPr id="880" name="Freeform 19"/>
            <p:cNvSpPr/>
            <p:nvPr/>
          </p:nvSpPr>
          <p:spPr>
            <a:xfrm>
              <a:off x="5183280" y="4819320"/>
              <a:ext cx="552960" cy="112104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Freeform 20"/>
            <p:cNvSpPr/>
            <p:nvPr/>
          </p:nvSpPr>
          <p:spPr>
            <a:xfrm flipH="1">
              <a:off x="5736240" y="4815720"/>
              <a:ext cx="552960" cy="1121040"/>
            </a:xfrm>
            <a:custGeom>
              <a:avLst/>
              <a:gdLst>
                <a:gd name="textAreaLeft" fmla="*/ 360 w 552960"/>
                <a:gd name="textAreaRight" fmla="*/ 553680 w 5529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21"/>
            <p:cNvSpPr/>
            <p:nvPr/>
          </p:nvSpPr>
          <p:spPr>
            <a:xfrm flipV="1">
              <a:off x="5357520" y="4813200"/>
              <a:ext cx="76572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Group 22"/>
          <p:cNvGrpSpPr/>
          <p:nvPr/>
        </p:nvGrpSpPr>
        <p:grpSpPr>
          <a:xfrm>
            <a:off x="6281640" y="4807080"/>
            <a:ext cx="1106280" cy="1127160"/>
            <a:chOff x="6281640" y="4807080"/>
            <a:chExt cx="1106280" cy="1127160"/>
          </a:xfrm>
        </p:grpSpPr>
        <p:sp>
          <p:nvSpPr>
            <p:cNvPr id="884" name="Freeform 23"/>
            <p:cNvSpPr/>
            <p:nvPr/>
          </p:nvSpPr>
          <p:spPr>
            <a:xfrm>
              <a:off x="6281640" y="4813200"/>
              <a:ext cx="553320" cy="1121040"/>
            </a:xfrm>
            <a:custGeom>
              <a:avLst/>
              <a:gdLst>
                <a:gd name="textAreaLeft" fmla="*/ 0 w 553320"/>
                <a:gd name="textAreaRight" fmla="*/ 55368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24"/>
            <p:cNvSpPr/>
            <p:nvPr/>
          </p:nvSpPr>
          <p:spPr>
            <a:xfrm flipH="1">
              <a:off x="6834240" y="4809600"/>
              <a:ext cx="553320" cy="1121040"/>
            </a:xfrm>
            <a:custGeom>
              <a:avLst/>
              <a:gdLst>
                <a:gd name="textAreaLeft" fmla="*/ -360 w 553320"/>
                <a:gd name="textAreaRight" fmla="*/ 55332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25"/>
            <p:cNvSpPr/>
            <p:nvPr/>
          </p:nvSpPr>
          <p:spPr>
            <a:xfrm flipV="1">
              <a:off x="6455880" y="480708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Group 26"/>
          <p:cNvGrpSpPr/>
          <p:nvPr/>
        </p:nvGrpSpPr>
        <p:grpSpPr>
          <a:xfrm>
            <a:off x="7381800" y="4797360"/>
            <a:ext cx="1106280" cy="1127160"/>
            <a:chOff x="7381800" y="4797360"/>
            <a:chExt cx="1106280" cy="1127160"/>
          </a:xfrm>
        </p:grpSpPr>
        <p:sp>
          <p:nvSpPr>
            <p:cNvPr id="888" name="Freeform 27"/>
            <p:cNvSpPr/>
            <p:nvPr/>
          </p:nvSpPr>
          <p:spPr>
            <a:xfrm>
              <a:off x="7381800" y="4803480"/>
              <a:ext cx="553320" cy="1121040"/>
            </a:xfrm>
            <a:custGeom>
              <a:avLst/>
              <a:gdLst>
                <a:gd name="textAreaLeft" fmla="*/ 0 w 553320"/>
                <a:gd name="textAreaRight" fmla="*/ 55368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28"/>
            <p:cNvSpPr/>
            <p:nvPr/>
          </p:nvSpPr>
          <p:spPr>
            <a:xfrm flipH="1">
              <a:off x="7934400" y="4799880"/>
              <a:ext cx="553320" cy="1121040"/>
            </a:xfrm>
            <a:custGeom>
              <a:avLst/>
              <a:gdLst>
                <a:gd name="textAreaLeft" fmla="*/ -360 w 553320"/>
                <a:gd name="textAreaRight" fmla="*/ 55332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29"/>
            <p:cNvSpPr/>
            <p:nvPr/>
          </p:nvSpPr>
          <p:spPr>
            <a:xfrm flipV="1">
              <a:off x="7556040" y="479736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Text Box 30"/>
          <p:cNvSpPr/>
          <p:nvPr/>
        </p:nvSpPr>
        <p:spPr>
          <a:xfrm>
            <a:off x="5370480" y="59101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         Color        Sha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Group 31"/>
          <p:cNvGrpSpPr/>
          <p:nvPr/>
        </p:nvGrpSpPr>
        <p:grpSpPr>
          <a:xfrm>
            <a:off x="4019400" y="3100320"/>
            <a:ext cx="1106280" cy="1127160"/>
            <a:chOff x="4019400" y="3100320"/>
            <a:chExt cx="1106280" cy="1127160"/>
          </a:xfrm>
        </p:grpSpPr>
        <p:sp>
          <p:nvSpPr>
            <p:cNvPr id="893" name="Freeform 32"/>
            <p:cNvSpPr/>
            <p:nvPr/>
          </p:nvSpPr>
          <p:spPr>
            <a:xfrm>
              <a:off x="4019400" y="3106440"/>
              <a:ext cx="553320" cy="1121040"/>
            </a:xfrm>
            <a:custGeom>
              <a:avLst/>
              <a:gdLst>
                <a:gd name="textAreaLeft" fmla="*/ 0 w 553320"/>
                <a:gd name="textAreaRight" fmla="*/ 55368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33"/>
            <p:cNvSpPr/>
            <p:nvPr/>
          </p:nvSpPr>
          <p:spPr>
            <a:xfrm flipH="1">
              <a:off x="4572000" y="3102840"/>
              <a:ext cx="553320" cy="1121040"/>
            </a:xfrm>
            <a:custGeom>
              <a:avLst/>
              <a:gdLst>
                <a:gd name="textAreaLeft" fmla="*/ -360 w 553320"/>
                <a:gd name="textAreaRight" fmla="*/ 553320 w 5533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34"/>
            <p:cNvSpPr/>
            <p:nvPr/>
          </p:nvSpPr>
          <p:spPr>
            <a:xfrm flipV="1">
              <a:off x="4193640" y="3100320"/>
              <a:ext cx="76608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Text Box 35"/>
          <p:cNvSpPr/>
          <p:nvPr/>
        </p:nvSpPr>
        <p:spPr>
          <a:xfrm>
            <a:off x="1476360" y="6243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36"/>
          <p:cNvSpPr/>
          <p:nvPr/>
        </p:nvSpPr>
        <p:spPr>
          <a:xfrm>
            <a:off x="6214320" y="62247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7"/>
          <p:cNvSpPr/>
          <p:nvPr/>
        </p:nvSpPr>
        <p:spPr>
          <a:xfrm>
            <a:off x="4132080" y="34034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8"/>
          <p:cNvSpPr/>
          <p:nvPr/>
        </p:nvSpPr>
        <p:spPr>
          <a:xfrm>
            <a:off x="4427640" y="359424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39"/>
          <p:cNvSpPr/>
          <p:nvPr/>
        </p:nvSpPr>
        <p:spPr>
          <a:xfrm>
            <a:off x="4512960" y="34304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0"/>
          <p:cNvSpPr/>
          <p:nvPr/>
        </p:nvSpPr>
        <p:spPr>
          <a:xfrm>
            <a:off x="4057560" y="36212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1"/>
          <p:cNvSpPr/>
          <p:nvPr/>
        </p:nvSpPr>
        <p:spPr>
          <a:xfrm>
            <a:off x="4209840" y="37735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2"/>
          <p:cNvSpPr/>
          <p:nvPr/>
        </p:nvSpPr>
        <p:spPr>
          <a:xfrm>
            <a:off x="4556160" y="37702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43"/>
          <p:cNvSpPr/>
          <p:nvPr/>
        </p:nvSpPr>
        <p:spPr>
          <a:xfrm>
            <a:off x="4317840" y="326376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44"/>
          <p:cNvSpPr/>
          <p:nvPr/>
        </p:nvSpPr>
        <p:spPr>
          <a:xfrm>
            <a:off x="801360" y="55832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45"/>
          <p:cNvSpPr/>
          <p:nvPr/>
        </p:nvSpPr>
        <p:spPr>
          <a:xfrm>
            <a:off x="642600" y="52722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46"/>
          <p:cNvSpPr/>
          <p:nvPr/>
        </p:nvSpPr>
        <p:spPr>
          <a:xfrm>
            <a:off x="754200" y="540072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47"/>
          <p:cNvSpPr/>
          <p:nvPr/>
        </p:nvSpPr>
        <p:spPr>
          <a:xfrm>
            <a:off x="1138320" y="517536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48"/>
          <p:cNvSpPr/>
          <p:nvPr/>
        </p:nvSpPr>
        <p:spPr>
          <a:xfrm>
            <a:off x="1088640" y="5570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49"/>
          <p:cNvSpPr/>
          <p:nvPr/>
        </p:nvSpPr>
        <p:spPr>
          <a:xfrm>
            <a:off x="1236240" y="54054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0"/>
          <p:cNvSpPr/>
          <p:nvPr/>
        </p:nvSpPr>
        <p:spPr>
          <a:xfrm>
            <a:off x="752040" y="51069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51"/>
          <p:cNvSpPr/>
          <p:nvPr/>
        </p:nvSpPr>
        <p:spPr>
          <a:xfrm>
            <a:off x="923400" y="49546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52"/>
          <p:cNvSpPr/>
          <p:nvPr/>
        </p:nvSpPr>
        <p:spPr>
          <a:xfrm>
            <a:off x="966960" y="539604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53"/>
          <p:cNvSpPr/>
          <p:nvPr/>
        </p:nvSpPr>
        <p:spPr>
          <a:xfrm>
            <a:off x="2029680" y="4870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54"/>
          <p:cNvSpPr/>
          <p:nvPr/>
        </p:nvSpPr>
        <p:spPr>
          <a:xfrm>
            <a:off x="2328120" y="52293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5"/>
          <p:cNvSpPr/>
          <p:nvPr/>
        </p:nvSpPr>
        <p:spPr>
          <a:xfrm>
            <a:off x="1713600" y="5261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56"/>
          <p:cNvSpPr/>
          <p:nvPr/>
        </p:nvSpPr>
        <p:spPr>
          <a:xfrm>
            <a:off x="1783440" y="5511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57"/>
          <p:cNvSpPr/>
          <p:nvPr/>
        </p:nvSpPr>
        <p:spPr>
          <a:xfrm>
            <a:off x="2096280" y="56167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58"/>
          <p:cNvSpPr/>
          <p:nvPr/>
        </p:nvSpPr>
        <p:spPr>
          <a:xfrm>
            <a:off x="1947960" y="50767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59"/>
          <p:cNvSpPr/>
          <p:nvPr/>
        </p:nvSpPr>
        <p:spPr>
          <a:xfrm>
            <a:off x="2210040" y="54500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60"/>
          <p:cNvSpPr/>
          <p:nvPr/>
        </p:nvSpPr>
        <p:spPr>
          <a:xfrm>
            <a:off x="1998720" y="5248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61"/>
          <p:cNvSpPr/>
          <p:nvPr/>
        </p:nvSpPr>
        <p:spPr>
          <a:xfrm>
            <a:off x="2989440" y="55706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62"/>
          <p:cNvSpPr/>
          <p:nvPr/>
        </p:nvSpPr>
        <p:spPr>
          <a:xfrm>
            <a:off x="2849760" y="5332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63"/>
          <p:cNvSpPr/>
          <p:nvPr/>
        </p:nvSpPr>
        <p:spPr>
          <a:xfrm>
            <a:off x="3124440" y="48387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64"/>
          <p:cNvSpPr/>
          <p:nvPr/>
        </p:nvSpPr>
        <p:spPr>
          <a:xfrm>
            <a:off x="3375000" y="5199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65"/>
          <p:cNvSpPr/>
          <p:nvPr/>
        </p:nvSpPr>
        <p:spPr>
          <a:xfrm>
            <a:off x="3394440" y="54975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66"/>
          <p:cNvSpPr/>
          <p:nvPr/>
        </p:nvSpPr>
        <p:spPr>
          <a:xfrm>
            <a:off x="2947680" y="5114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67"/>
          <p:cNvSpPr/>
          <p:nvPr/>
        </p:nvSpPr>
        <p:spPr>
          <a:xfrm>
            <a:off x="3246120" y="50356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68"/>
          <p:cNvSpPr/>
          <p:nvPr/>
        </p:nvSpPr>
        <p:spPr>
          <a:xfrm>
            <a:off x="3233880" y="5351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9"/>
          <p:cNvSpPr/>
          <p:nvPr/>
        </p:nvSpPr>
        <p:spPr>
          <a:xfrm>
            <a:off x="8056800" y="5380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0"/>
          <p:cNvSpPr/>
          <p:nvPr/>
        </p:nvSpPr>
        <p:spPr>
          <a:xfrm>
            <a:off x="7437240" y="5189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71"/>
          <p:cNvSpPr/>
          <p:nvPr/>
        </p:nvSpPr>
        <p:spPr>
          <a:xfrm>
            <a:off x="5378040" y="55753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72"/>
          <p:cNvSpPr/>
          <p:nvPr/>
        </p:nvSpPr>
        <p:spPr>
          <a:xfrm>
            <a:off x="5491440" y="48322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73"/>
          <p:cNvSpPr/>
          <p:nvPr/>
        </p:nvSpPr>
        <p:spPr>
          <a:xfrm>
            <a:off x="5208120" y="5240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74"/>
          <p:cNvSpPr/>
          <p:nvPr/>
        </p:nvSpPr>
        <p:spPr>
          <a:xfrm>
            <a:off x="5487480" y="50641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75"/>
          <p:cNvSpPr/>
          <p:nvPr/>
        </p:nvSpPr>
        <p:spPr>
          <a:xfrm>
            <a:off x="5686560" y="538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76"/>
          <p:cNvSpPr/>
          <p:nvPr/>
        </p:nvSpPr>
        <p:spPr>
          <a:xfrm>
            <a:off x="5719320" y="5165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77"/>
          <p:cNvSpPr/>
          <p:nvPr/>
        </p:nvSpPr>
        <p:spPr>
          <a:xfrm>
            <a:off x="5839200" y="5532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78"/>
          <p:cNvSpPr/>
          <p:nvPr/>
        </p:nvSpPr>
        <p:spPr>
          <a:xfrm>
            <a:off x="5335200" y="54338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79"/>
          <p:cNvSpPr/>
          <p:nvPr/>
        </p:nvSpPr>
        <p:spPr>
          <a:xfrm>
            <a:off x="6431040" y="56116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80"/>
          <p:cNvSpPr/>
          <p:nvPr/>
        </p:nvSpPr>
        <p:spPr>
          <a:xfrm>
            <a:off x="6593400" y="4862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81"/>
          <p:cNvSpPr/>
          <p:nvPr/>
        </p:nvSpPr>
        <p:spPr>
          <a:xfrm>
            <a:off x="6350040" y="5221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82"/>
          <p:cNvSpPr/>
          <p:nvPr/>
        </p:nvSpPr>
        <p:spPr>
          <a:xfrm>
            <a:off x="6527880" y="5014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83"/>
          <p:cNvSpPr/>
          <p:nvPr/>
        </p:nvSpPr>
        <p:spPr>
          <a:xfrm>
            <a:off x="6848640" y="5573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84"/>
          <p:cNvSpPr/>
          <p:nvPr/>
        </p:nvSpPr>
        <p:spPr>
          <a:xfrm>
            <a:off x="6423840" y="5411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85"/>
          <p:cNvSpPr/>
          <p:nvPr/>
        </p:nvSpPr>
        <p:spPr>
          <a:xfrm>
            <a:off x="6715080" y="51832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86"/>
          <p:cNvSpPr/>
          <p:nvPr/>
        </p:nvSpPr>
        <p:spPr>
          <a:xfrm>
            <a:off x="6796080" y="53802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87"/>
          <p:cNvSpPr/>
          <p:nvPr/>
        </p:nvSpPr>
        <p:spPr>
          <a:xfrm>
            <a:off x="7686720" y="484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88"/>
          <p:cNvSpPr/>
          <p:nvPr/>
        </p:nvSpPr>
        <p:spPr>
          <a:xfrm>
            <a:off x="7561800" y="5592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89"/>
          <p:cNvSpPr/>
          <p:nvPr/>
        </p:nvSpPr>
        <p:spPr>
          <a:xfrm>
            <a:off x="7930800" y="55864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90"/>
          <p:cNvSpPr/>
          <p:nvPr/>
        </p:nvSpPr>
        <p:spPr>
          <a:xfrm>
            <a:off x="7454880" y="5391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91"/>
          <p:cNvSpPr/>
          <p:nvPr/>
        </p:nvSpPr>
        <p:spPr>
          <a:xfrm>
            <a:off x="7660080" y="508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92"/>
          <p:cNvSpPr/>
          <p:nvPr/>
        </p:nvSpPr>
        <p:spPr>
          <a:xfrm>
            <a:off x="7942320" y="5197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93"/>
          <p:cNvSpPr/>
          <p:nvPr/>
        </p:nvSpPr>
        <p:spPr>
          <a:xfrm>
            <a:off x="7778520" y="53481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94"/>
          <p:cNvSpPr/>
          <p:nvPr/>
        </p:nvSpPr>
        <p:spPr>
          <a:xfrm>
            <a:off x="4030560" y="4170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95"/>
          <p:cNvSpPr/>
          <p:nvPr/>
        </p:nvSpPr>
        <p:spPr>
          <a:xfrm>
            <a:off x="3852720" y="200196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g  red cir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Group 96"/>
          <p:cNvGrpSpPr/>
          <p:nvPr/>
        </p:nvGrpSpPr>
        <p:grpSpPr>
          <a:xfrm>
            <a:off x="2682720" y="2206800"/>
            <a:ext cx="3638520" cy="1864800"/>
            <a:chOff x="2682720" y="2206800"/>
            <a:chExt cx="3638520" cy="1864800"/>
          </a:xfrm>
        </p:grpSpPr>
        <p:sp>
          <p:nvSpPr>
            <p:cNvPr id="958" name="Line 97"/>
            <p:cNvSpPr/>
            <p:nvPr/>
          </p:nvSpPr>
          <p:spPr>
            <a:xfrm flipV="1">
              <a:off x="2682720" y="2511000"/>
              <a:ext cx="1243080" cy="1560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98"/>
            <p:cNvSpPr/>
            <p:nvPr/>
          </p:nvSpPr>
          <p:spPr>
            <a:xfrm flipH="1" flipV="1">
              <a:off x="5078160" y="2443320"/>
              <a:ext cx="1243080" cy="1560240"/>
            </a:xfrm>
            <a:prstGeom prst="line">
              <a:avLst/>
            </a:prstGeom>
            <a:ln w="7632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99"/>
            <p:cNvSpPr/>
            <p:nvPr/>
          </p:nvSpPr>
          <p:spPr>
            <a:xfrm>
              <a:off x="3889440" y="2206800"/>
              <a:ext cx="12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??     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D3FE-3F23-438F-BA8A-871120428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ian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features of an instance are independ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 the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onditionally 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we then only need to know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possible pair of a feature-value and a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binary, this requires specifying only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) and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false) for each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fals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= 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d to specifying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without any independence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Object 2"/>
              <p:cNvSpPr txBox="1"/>
              <p:nvPr/>
            </p:nvSpPr>
            <p:spPr>
              <a:xfrm>
                <a:off x="1195560" y="1944720"/>
                <a:ext cx="6453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ADF5-7316-412A-9B34-32FE63353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457200" y="1600200"/>
          <a:ext cx="4648320" cy="4051440"/>
        </p:xfrm>
        <a:graphic>
          <a:graphicData uri="http://schemas.openxmlformats.org/drawingml/2006/table">
            <a:tbl>
              <a:tblPr/>
              <a:tblGrid>
                <a:gridCol w="1549440"/>
                <a:gridCol w="1549440"/>
                <a:gridCol w="15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mall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larg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blu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green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quar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riang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Line 249"/>
          <p:cNvSpPr/>
          <p:nvPr/>
        </p:nvSpPr>
        <p:spPr>
          <a:xfrm>
            <a:off x="446040" y="2313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Line 250"/>
          <p:cNvSpPr/>
          <p:nvPr/>
        </p:nvSpPr>
        <p:spPr>
          <a:xfrm>
            <a:off x="457200" y="3429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Line 251"/>
          <p:cNvSpPr/>
          <p:nvPr/>
        </p:nvSpPr>
        <p:spPr>
          <a:xfrm>
            <a:off x="439560" y="4519440"/>
            <a:ext cx="4648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312"/>
          <p:cNvSpPr/>
          <p:nvPr/>
        </p:nvSpPr>
        <p:spPr>
          <a:xfrm>
            <a:off x="5642640" y="3124080"/>
            <a:ext cx="24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dium ,red, circ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19CB-80E7-4D33-8E2B-193F616B6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974" name=""/>
          <p:cNvGraphicFramePr/>
          <p:nvPr/>
        </p:nvGraphicFramePr>
        <p:xfrm>
          <a:off x="457200" y="1600200"/>
          <a:ext cx="4648320" cy="1843200"/>
        </p:xfrm>
        <a:graphic>
          <a:graphicData uri="http://schemas.openxmlformats.org/drawingml/2006/table">
            <a:tbl>
              <a:tblPr/>
              <a:tblGrid>
                <a:gridCol w="1549440"/>
                <a:gridCol w="1549440"/>
                <a:gridCol w="15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5" name="Line 53"/>
          <p:cNvSpPr/>
          <p:nvPr/>
        </p:nvSpPr>
        <p:spPr>
          <a:xfrm>
            <a:off x="446040" y="2313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54"/>
          <p:cNvSpPr/>
          <p:nvPr/>
        </p:nvSpPr>
        <p:spPr>
          <a:xfrm>
            <a:off x="433440" y="2697120"/>
            <a:ext cx="4648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55"/>
          <p:cNvSpPr/>
          <p:nvPr/>
        </p:nvSpPr>
        <p:spPr>
          <a:xfrm>
            <a:off x="441360" y="305604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63"/>
          <p:cNvSpPr/>
          <p:nvPr/>
        </p:nvSpPr>
        <p:spPr>
          <a:xfrm>
            <a:off x="295200" y="3581280"/>
            <a:ext cx="8730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posi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P(positive)*P(medium | positive)*P(red | positive)*P(circle | positive)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        *               0.1              *        0.9            *       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0.0405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64"/>
          <p:cNvSpPr/>
          <p:nvPr/>
        </p:nvSpPr>
        <p:spPr>
          <a:xfrm>
            <a:off x="204840" y="4572000"/>
            <a:ext cx="9053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nega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P(negative)*P(medium | negative)*P(red | negative)*P(circle | negative)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       *              0.2               *        0.3             *    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0.009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101"/>
          <p:cNvSpPr/>
          <p:nvPr/>
        </p:nvSpPr>
        <p:spPr>
          <a:xfrm>
            <a:off x="218160" y="5562720"/>
            <a:ext cx="62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posi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P(nega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0.0405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0.009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102"/>
          <p:cNvSpPr/>
          <p:nvPr/>
        </p:nvSpPr>
        <p:spPr>
          <a:xfrm>
            <a:off x="299880" y="6019920"/>
            <a:ext cx="33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(0.0405 + 0.009) = 0.049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103"/>
          <p:cNvSpPr/>
          <p:nvPr/>
        </p:nvSpPr>
        <p:spPr>
          <a:xfrm>
            <a:off x="3272760" y="419112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0405 / 0.0495 = 0.81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104"/>
          <p:cNvSpPr/>
          <p:nvPr/>
        </p:nvSpPr>
        <p:spPr>
          <a:xfrm>
            <a:off x="3196440" y="518148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009 / 0.0495 = 0.18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05"/>
          <p:cNvSpPr/>
          <p:nvPr/>
        </p:nvSpPr>
        <p:spPr>
          <a:xfrm>
            <a:off x="5713920" y="2587680"/>
            <a:ext cx="24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dium, red, circ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7DBD-3D8F-4277-A214-A6D32F79A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Category Learning Probl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language: &lt;size, color, shap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z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{small, medium, large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lor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{red, blue, green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hap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{square, circle, triangle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positive, negativ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639800" y="3938760"/>
          <a:ext cx="6858000" cy="25905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triang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9A1B-8907-4CE3-B044-37629A242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stimating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91856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ly, probabilities are estimated based on observed frequencies in the train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in categ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 hav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value for fe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estimating such probabilities from small training sets is error-pr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ue only to chance, a rare featur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always false in the training dat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then occurs in a test examp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result is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Object 2"/>
              <p:cNvSpPr txBox="1"/>
              <p:nvPr/>
            </p:nvSpPr>
            <p:spPr>
              <a:xfrm>
                <a:off x="2503440" y="2708280"/>
                <a:ext cx="35625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FEE7-C5FC-4F99-80E5-BDD9CB395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ty Estimation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4425840" y="1487520"/>
          <a:ext cx="4572000" cy="40514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mall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larg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blu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green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quar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riang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2" name=""/>
          <p:cNvGraphicFramePr/>
          <p:nvPr/>
        </p:nvGraphicFramePr>
        <p:xfrm>
          <a:off x="0" y="1644480"/>
          <a:ext cx="4343400" cy="2867040"/>
        </p:xfrm>
        <a:graphic>
          <a:graphicData uri="http://schemas.openxmlformats.org/drawingml/2006/table">
            <a:tbl>
              <a:tblPr/>
              <a:tblGrid>
                <a:gridCol w="828720"/>
                <a:gridCol w="828720"/>
                <a:gridCol w="825480"/>
                <a:gridCol w="826920"/>
                <a:gridCol w="1033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ha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tri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b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93" name="Group 164"/>
          <p:cNvGrpSpPr/>
          <p:nvPr/>
        </p:nvGrpSpPr>
        <p:grpSpPr>
          <a:xfrm>
            <a:off x="-29880" y="4876920"/>
            <a:ext cx="5103360" cy="1719720"/>
            <a:chOff x="-29880" y="4876920"/>
            <a:chExt cx="5103360" cy="1719720"/>
          </a:xfrm>
        </p:grpSpPr>
        <p:sp>
          <p:nvSpPr>
            <p:cNvPr id="994" name="Text Box 161"/>
            <p:cNvSpPr/>
            <p:nvPr/>
          </p:nvSpPr>
          <p:spPr>
            <a:xfrm>
              <a:off x="1153080" y="4876920"/>
              <a:ext cx="244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st Instanc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medium, red, circl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Text Box 162"/>
            <p:cNvSpPr/>
            <p:nvPr/>
          </p:nvSpPr>
          <p:spPr>
            <a:xfrm>
              <a:off x="-20880" y="5738760"/>
              <a:ext cx="504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positive |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0.5 * 0.0 * 1.0 * 1.0 / P(X) 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Text Box 163"/>
            <p:cNvSpPr/>
            <p:nvPr/>
          </p:nvSpPr>
          <p:spPr>
            <a:xfrm>
              <a:off x="-29880" y="6197760"/>
              <a:ext cx="51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negative |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0.5 * 0.0 * 0.5 * 0.5 / P(X) 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FFAE-6230-4B15-BE97-75C82474D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count for estimation from small samples, probability estimates are adjuste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mooth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lace smoothing using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estimate assumes that each feature is given a prior probabilit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is assumed to have been previously observed in a “virtual”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inary featur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imply assumed to be 0.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Object 2"/>
              <p:cNvSpPr txBox="1"/>
              <p:nvPr/>
            </p:nvSpPr>
            <p:spPr>
              <a:xfrm>
                <a:off x="2187720" y="4038480"/>
                <a:ext cx="39909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EE88-B77F-47C8-B0A5-D863D42C1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place Smoth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raining set contains 10 positive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: sm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: mediu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6: larg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parameters as follows (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small | positive) = (4 + 1/3) / (10 + 1) =     0.394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medium | positive) = (0 + 1/3) / (10 + 1) = 0.03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large | positive) = (6 + 1/3) / (10 + 1) =      0.576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small or medium or large | positive) =        1.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4" name="Line 4"/>
          <p:cNvSpPr/>
          <p:nvPr/>
        </p:nvSpPr>
        <p:spPr>
          <a:xfrm>
            <a:off x="6705720" y="5029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7187-73EB-4E4A-8049-65746CE62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ed as generating a bag of words for a document in a given category by repeatedly sampling with replacement from a vocabula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sed on the probabilities 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ooth probability estimates with Laplace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stimates assuming a uniform distribution over all word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/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quivalent to a virtual sample of seeing each word in each category exactly onc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AF5E-9B0E-4479-8567-D7E01250B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20"/>
          <p:cNvSpPr/>
          <p:nvPr/>
        </p:nvSpPr>
        <p:spPr>
          <a:xfrm>
            <a:off x="2158920" y="54039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21"/>
          <p:cNvSpPr/>
          <p:nvPr/>
        </p:nvSpPr>
        <p:spPr>
          <a:xfrm>
            <a:off x="2188440" y="51674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23"/>
          <p:cNvSpPr/>
          <p:nvPr/>
        </p:nvSpPr>
        <p:spPr>
          <a:xfrm>
            <a:off x="1167840" y="51530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Generative Model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013" name="Group 7"/>
          <p:cNvGrpSpPr/>
          <p:nvPr/>
        </p:nvGrpSpPr>
        <p:grpSpPr>
          <a:xfrm>
            <a:off x="5943600" y="4266720"/>
            <a:ext cx="1742760" cy="1971720"/>
            <a:chOff x="5943600" y="4266720"/>
            <a:chExt cx="1742760" cy="1971720"/>
          </a:xfrm>
        </p:grpSpPr>
        <p:sp>
          <p:nvSpPr>
            <p:cNvPr id="1014" name="Freeform 8"/>
            <p:cNvSpPr/>
            <p:nvPr/>
          </p:nvSpPr>
          <p:spPr>
            <a:xfrm>
              <a:off x="5943600" y="427788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Freeform 9"/>
            <p:cNvSpPr/>
            <p:nvPr/>
          </p:nvSpPr>
          <p:spPr>
            <a:xfrm flipH="1">
              <a:off x="6814440" y="427176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Line 10"/>
            <p:cNvSpPr/>
            <p:nvPr/>
          </p:nvSpPr>
          <p:spPr>
            <a:xfrm flipV="1">
              <a:off x="6218280" y="4266720"/>
              <a:ext cx="1206720" cy="126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Group 11"/>
          <p:cNvGrpSpPr/>
          <p:nvPr/>
        </p:nvGrpSpPr>
        <p:grpSpPr>
          <a:xfrm>
            <a:off x="1143000" y="4266720"/>
            <a:ext cx="1742760" cy="1971720"/>
            <a:chOff x="1143000" y="4266720"/>
            <a:chExt cx="1742760" cy="1971720"/>
          </a:xfrm>
        </p:grpSpPr>
        <p:sp>
          <p:nvSpPr>
            <p:cNvPr id="1018" name="Freeform 12"/>
            <p:cNvSpPr/>
            <p:nvPr/>
          </p:nvSpPr>
          <p:spPr>
            <a:xfrm>
              <a:off x="1143000" y="427788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Freeform 13"/>
            <p:cNvSpPr/>
            <p:nvPr/>
          </p:nvSpPr>
          <p:spPr>
            <a:xfrm flipH="1">
              <a:off x="2013840" y="427176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Line 14"/>
            <p:cNvSpPr/>
            <p:nvPr/>
          </p:nvSpPr>
          <p:spPr>
            <a:xfrm flipV="1">
              <a:off x="1417680" y="4266720"/>
              <a:ext cx="12067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Text Box 15"/>
          <p:cNvSpPr/>
          <p:nvPr/>
        </p:nvSpPr>
        <p:spPr>
          <a:xfrm>
            <a:off x="1521360" y="61484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16"/>
          <p:cNvSpPr/>
          <p:nvPr/>
        </p:nvSpPr>
        <p:spPr>
          <a:xfrm>
            <a:off x="6440400" y="61768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8"/>
          <p:cNvSpPr/>
          <p:nvPr/>
        </p:nvSpPr>
        <p:spPr>
          <a:xfrm>
            <a:off x="1427040" y="49766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9"/>
          <p:cNvSpPr/>
          <p:nvPr/>
        </p:nvSpPr>
        <p:spPr>
          <a:xfrm>
            <a:off x="1743120" y="582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22"/>
          <p:cNvSpPr/>
          <p:nvPr/>
        </p:nvSpPr>
        <p:spPr>
          <a:xfrm>
            <a:off x="1863360" y="5646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24"/>
          <p:cNvSpPr/>
          <p:nvPr/>
        </p:nvSpPr>
        <p:spPr>
          <a:xfrm>
            <a:off x="1223280" y="53974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t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25"/>
          <p:cNvSpPr/>
          <p:nvPr/>
        </p:nvSpPr>
        <p:spPr>
          <a:xfrm>
            <a:off x="2286000" y="4902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26"/>
          <p:cNvSpPr/>
          <p:nvPr/>
        </p:nvSpPr>
        <p:spPr>
          <a:xfrm>
            <a:off x="1981080" y="5054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27"/>
          <p:cNvSpPr/>
          <p:nvPr/>
        </p:nvSpPr>
        <p:spPr>
          <a:xfrm>
            <a:off x="1692360" y="4714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28"/>
          <p:cNvSpPr/>
          <p:nvPr/>
        </p:nvSpPr>
        <p:spPr>
          <a:xfrm>
            <a:off x="6867360" y="5006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30"/>
          <p:cNvSpPr/>
          <p:nvPr/>
        </p:nvSpPr>
        <p:spPr>
          <a:xfrm>
            <a:off x="6703560" y="58183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31"/>
          <p:cNvSpPr/>
          <p:nvPr/>
        </p:nvSpPr>
        <p:spPr>
          <a:xfrm>
            <a:off x="5952240" y="4995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32"/>
          <p:cNvSpPr/>
          <p:nvPr/>
        </p:nvSpPr>
        <p:spPr>
          <a:xfrm>
            <a:off x="6168960" y="5783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33"/>
          <p:cNvSpPr/>
          <p:nvPr/>
        </p:nvSpPr>
        <p:spPr>
          <a:xfrm>
            <a:off x="6464880" y="47163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34"/>
          <p:cNvSpPr/>
          <p:nvPr/>
        </p:nvSpPr>
        <p:spPr>
          <a:xfrm>
            <a:off x="6086160" y="524664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35"/>
          <p:cNvSpPr/>
          <p:nvPr/>
        </p:nvSpPr>
        <p:spPr>
          <a:xfrm>
            <a:off x="6140520" y="55245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36"/>
          <p:cNvSpPr/>
          <p:nvPr/>
        </p:nvSpPr>
        <p:spPr>
          <a:xfrm>
            <a:off x="6390720" y="43480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37"/>
          <p:cNvSpPr/>
          <p:nvPr/>
        </p:nvSpPr>
        <p:spPr>
          <a:xfrm>
            <a:off x="1603080" y="44211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38"/>
          <p:cNvSpPr/>
          <p:nvPr/>
        </p:nvSpPr>
        <p:spPr>
          <a:xfrm>
            <a:off x="6546960" y="52689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39"/>
          <p:cNvSpPr/>
          <p:nvPr/>
        </p:nvSpPr>
        <p:spPr>
          <a:xfrm>
            <a:off x="6961320" y="5518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64"/>
          <p:cNvSpPr/>
          <p:nvPr/>
        </p:nvSpPr>
        <p:spPr>
          <a:xfrm>
            <a:off x="1447920" y="5664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Group 65"/>
          <p:cNvGrpSpPr/>
          <p:nvPr/>
        </p:nvGrpSpPr>
        <p:grpSpPr>
          <a:xfrm>
            <a:off x="3581280" y="1904760"/>
            <a:ext cx="1742760" cy="1971720"/>
            <a:chOff x="3581280" y="1904760"/>
            <a:chExt cx="1742760" cy="1971720"/>
          </a:xfrm>
        </p:grpSpPr>
        <p:sp>
          <p:nvSpPr>
            <p:cNvPr id="1043" name="Freeform 66"/>
            <p:cNvSpPr/>
            <p:nvPr/>
          </p:nvSpPr>
          <p:spPr>
            <a:xfrm>
              <a:off x="3581280" y="191592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67"/>
            <p:cNvSpPr/>
            <p:nvPr/>
          </p:nvSpPr>
          <p:spPr>
            <a:xfrm flipH="1">
              <a:off x="4452120" y="190980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68"/>
            <p:cNvSpPr/>
            <p:nvPr/>
          </p:nvSpPr>
          <p:spPr>
            <a:xfrm flipV="1">
              <a:off x="3855960" y="1904760"/>
              <a:ext cx="120672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Text Box 69"/>
          <p:cNvSpPr/>
          <p:nvPr/>
        </p:nvSpPr>
        <p:spPr>
          <a:xfrm>
            <a:off x="3732480" y="2590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70"/>
          <p:cNvSpPr/>
          <p:nvPr/>
        </p:nvSpPr>
        <p:spPr>
          <a:xfrm>
            <a:off x="3733200" y="28954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71"/>
          <p:cNvSpPr/>
          <p:nvPr/>
        </p:nvSpPr>
        <p:spPr>
          <a:xfrm>
            <a:off x="3808800" y="3200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72"/>
          <p:cNvSpPr/>
          <p:nvPr/>
        </p:nvSpPr>
        <p:spPr>
          <a:xfrm>
            <a:off x="4418280" y="26668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73"/>
          <p:cNvSpPr/>
          <p:nvPr/>
        </p:nvSpPr>
        <p:spPr>
          <a:xfrm>
            <a:off x="4156920" y="23623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74"/>
          <p:cNvSpPr/>
          <p:nvPr/>
        </p:nvSpPr>
        <p:spPr>
          <a:xfrm>
            <a:off x="4037400" y="19810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75"/>
          <p:cNvSpPr/>
          <p:nvPr/>
        </p:nvSpPr>
        <p:spPr>
          <a:xfrm>
            <a:off x="4494960" y="29718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76"/>
          <p:cNvSpPr/>
          <p:nvPr/>
        </p:nvSpPr>
        <p:spPr>
          <a:xfrm>
            <a:off x="4037760" y="342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77"/>
          <p:cNvSpPr/>
          <p:nvPr/>
        </p:nvSpPr>
        <p:spPr>
          <a:xfrm>
            <a:off x="4494600" y="3276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79"/>
          <p:cNvSpPr/>
          <p:nvPr/>
        </p:nvSpPr>
        <p:spPr>
          <a:xfrm>
            <a:off x="3784680" y="38368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126"/>
          <p:cNvSpPr/>
          <p:nvPr/>
        </p:nvSpPr>
        <p:spPr>
          <a:xfrm>
            <a:off x="1861920" y="56484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127"/>
          <p:cNvSpPr/>
          <p:nvPr/>
        </p:nvSpPr>
        <p:spPr>
          <a:xfrm>
            <a:off x="2188440" y="51674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128"/>
          <p:cNvSpPr/>
          <p:nvPr/>
        </p:nvSpPr>
        <p:spPr>
          <a:xfrm>
            <a:off x="1427040" y="49766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29"/>
          <p:cNvSpPr/>
          <p:nvPr/>
        </p:nvSpPr>
        <p:spPr>
          <a:xfrm>
            <a:off x="2286000" y="490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5.78035E-008 C -0.01285 -0.02751 -0.02553 -0.05503 -0.03178 -0.08879 C -0.03803 -0.12254 -0.03716 -0.18405 -0.03803 -0.203 E">
                                      <p:cBhvr>
                                        <p:cTn id="239" dur="2000" fill="hold"/>
                                        <p:tgtEl>
                                          <p:spTgt spid="10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10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7052E-006 C -0.01059 -0.04579 -0.02101 -0.09134 -0.02709 -0.1311 C -0.03316 -0.17087 -0.01528 -0.21411 -0.03663 -0.23885 C -0.05799 -0.26359 -0.13577 -0.27214 -0.15556 -0.27908 E">
                                      <p:cBhvr>
                                        <p:cTn id="248" dur="2000" fill="hold"/>
                                        <p:tgtEl>
                                          <p:spTgt spid="10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6.99422E-006 C 0.01337 -0.02405 0.02674 -0.04787 0.03021 -0.07608 C 0.03369 -0.10429 0.0283 -0.15076 0.02067 -0.16903 C 0.01303 -0.18729 -0.00972 -0.1829 -0.01579 -0.18614 E">
                                      <p:cBhvr>
                                        <p:cTn id="252" dur="2000" fill="hold"/>
                                        <p:tgtEl>
                                          <p:spTgt spid="10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2948E-006 C -0.01545 -0.02197 -0.0309 -0.04393 -0.03958 -0.06544 C -0.04826 -0.08694 -0.05538 -0.10336 -0.05225 -0.12902 C -0.04913 -0.15468 -0.02552 -0.2044 -0.02048 -0.21989 E">
                                      <p:cBhvr>
                                        <p:cTn id="256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79191E-006 C -0.0191 -0.01989 -0.03819 -0.03954 -0.04444 -0.05919 C -0.05069 -0.07885 -0.05416 -0.09943 -0.03802 -0.11839 C -0.02187 -0.13734 0.03733 -0.1637 0.05243 -0.17318 E">
                                      <p:cBhvr>
                                        <p:cTn id="260" dur="20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51EE-8C38-4A18-915C-946C50DC9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Classificatio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2" name="Text Box 62"/>
          <p:cNvSpPr/>
          <p:nvPr/>
        </p:nvSpPr>
        <p:spPr>
          <a:xfrm>
            <a:off x="2311560" y="5556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63"/>
          <p:cNvSpPr/>
          <p:nvPr/>
        </p:nvSpPr>
        <p:spPr>
          <a:xfrm>
            <a:off x="2350440" y="53197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64"/>
          <p:cNvSpPr/>
          <p:nvPr/>
        </p:nvSpPr>
        <p:spPr>
          <a:xfrm>
            <a:off x="1320480" y="53053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Group 65"/>
          <p:cNvGrpSpPr/>
          <p:nvPr/>
        </p:nvGrpSpPr>
        <p:grpSpPr>
          <a:xfrm>
            <a:off x="6095880" y="4419360"/>
            <a:ext cx="1742760" cy="1971720"/>
            <a:chOff x="6095880" y="4419360"/>
            <a:chExt cx="1742760" cy="1971720"/>
          </a:xfrm>
        </p:grpSpPr>
        <p:sp>
          <p:nvSpPr>
            <p:cNvPr id="1066" name="Freeform 66"/>
            <p:cNvSpPr/>
            <p:nvPr/>
          </p:nvSpPr>
          <p:spPr>
            <a:xfrm>
              <a:off x="6095880" y="443052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Freeform 67"/>
            <p:cNvSpPr/>
            <p:nvPr/>
          </p:nvSpPr>
          <p:spPr>
            <a:xfrm flipH="1">
              <a:off x="6966720" y="442440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Line 68"/>
            <p:cNvSpPr/>
            <p:nvPr/>
          </p:nvSpPr>
          <p:spPr>
            <a:xfrm flipV="1">
              <a:off x="6370560" y="4419360"/>
              <a:ext cx="1206720" cy="126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Group 69"/>
          <p:cNvGrpSpPr/>
          <p:nvPr/>
        </p:nvGrpSpPr>
        <p:grpSpPr>
          <a:xfrm>
            <a:off x="1295280" y="4419360"/>
            <a:ext cx="1742760" cy="1971720"/>
            <a:chOff x="1295280" y="4419360"/>
            <a:chExt cx="1742760" cy="1971720"/>
          </a:xfrm>
        </p:grpSpPr>
        <p:sp>
          <p:nvSpPr>
            <p:cNvPr id="1070" name="Freeform 70"/>
            <p:cNvSpPr/>
            <p:nvPr/>
          </p:nvSpPr>
          <p:spPr>
            <a:xfrm>
              <a:off x="1295280" y="443052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Freeform 71"/>
            <p:cNvSpPr/>
            <p:nvPr/>
          </p:nvSpPr>
          <p:spPr>
            <a:xfrm flipH="1">
              <a:off x="2166120" y="442440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Line 72"/>
            <p:cNvSpPr/>
            <p:nvPr/>
          </p:nvSpPr>
          <p:spPr>
            <a:xfrm flipV="1">
              <a:off x="1569960" y="4419360"/>
              <a:ext cx="12067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Text Box 73"/>
          <p:cNvSpPr/>
          <p:nvPr/>
        </p:nvSpPr>
        <p:spPr>
          <a:xfrm>
            <a:off x="1673640" y="6300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74"/>
          <p:cNvSpPr/>
          <p:nvPr/>
        </p:nvSpPr>
        <p:spPr>
          <a:xfrm>
            <a:off x="6593040" y="63295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75"/>
          <p:cNvSpPr/>
          <p:nvPr/>
        </p:nvSpPr>
        <p:spPr>
          <a:xfrm>
            <a:off x="1579680" y="5129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76"/>
          <p:cNvSpPr/>
          <p:nvPr/>
        </p:nvSpPr>
        <p:spPr>
          <a:xfrm>
            <a:off x="1895400" y="597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77"/>
          <p:cNvSpPr/>
          <p:nvPr/>
        </p:nvSpPr>
        <p:spPr>
          <a:xfrm>
            <a:off x="2016000" y="57992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78"/>
          <p:cNvSpPr/>
          <p:nvPr/>
        </p:nvSpPr>
        <p:spPr>
          <a:xfrm>
            <a:off x="1375560" y="554976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t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79"/>
          <p:cNvSpPr/>
          <p:nvPr/>
        </p:nvSpPr>
        <p:spPr>
          <a:xfrm>
            <a:off x="2438280" y="5054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80"/>
          <p:cNvSpPr/>
          <p:nvPr/>
        </p:nvSpPr>
        <p:spPr>
          <a:xfrm>
            <a:off x="2133720" y="5207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81"/>
          <p:cNvSpPr/>
          <p:nvPr/>
        </p:nvSpPr>
        <p:spPr>
          <a:xfrm>
            <a:off x="1844640" y="4867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82"/>
          <p:cNvSpPr/>
          <p:nvPr/>
        </p:nvSpPr>
        <p:spPr>
          <a:xfrm>
            <a:off x="7020000" y="515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83"/>
          <p:cNvSpPr/>
          <p:nvPr/>
        </p:nvSpPr>
        <p:spPr>
          <a:xfrm>
            <a:off x="6855840" y="59706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84"/>
          <p:cNvSpPr/>
          <p:nvPr/>
        </p:nvSpPr>
        <p:spPr>
          <a:xfrm>
            <a:off x="6104520" y="51483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85"/>
          <p:cNvSpPr/>
          <p:nvPr/>
        </p:nvSpPr>
        <p:spPr>
          <a:xfrm>
            <a:off x="6321600" y="5935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6"/>
          <p:cNvSpPr/>
          <p:nvPr/>
        </p:nvSpPr>
        <p:spPr>
          <a:xfrm>
            <a:off x="6617520" y="4869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87"/>
          <p:cNvSpPr/>
          <p:nvPr/>
        </p:nvSpPr>
        <p:spPr>
          <a:xfrm>
            <a:off x="6238440" y="53989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88"/>
          <p:cNvSpPr/>
          <p:nvPr/>
        </p:nvSpPr>
        <p:spPr>
          <a:xfrm>
            <a:off x="6292800" y="56768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89"/>
          <p:cNvSpPr/>
          <p:nvPr/>
        </p:nvSpPr>
        <p:spPr>
          <a:xfrm>
            <a:off x="6543000" y="45007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90"/>
          <p:cNvSpPr/>
          <p:nvPr/>
        </p:nvSpPr>
        <p:spPr>
          <a:xfrm>
            <a:off x="1755360" y="45734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91"/>
          <p:cNvSpPr/>
          <p:nvPr/>
        </p:nvSpPr>
        <p:spPr>
          <a:xfrm>
            <a:off x="6699240" y="54212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92"/>
          <p:cNvSpPr/>
          <p:nvPr/>
        </p:nvSpPr>
        <p:spPr>
          <a:xfrm>
            <a:off x="7113600" y="5670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93"/>
          <p:cNvSpPr/>
          <p:nvPr/>
        </p:nvSpPr>
        <p:spPr>
          <a:xfrm>
            <a:off x="1600200" y="581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" name="Group 94"/>
          <p:cNvGrpSpPr/>
          <p:nvPr/>
        </p:nvGrpSpPr>
        <p:grpSpPr>
          <a:xfrm>
            <a:off x="3657600" y="2742840"/>
            <a:ext cx="1742760" cy="1971720"/>
            <a:chOff x="3657600" y="2742840"/>
            <a:chExt cx="1742760" cy="1971720"/>
          </a:xfrm>
        </p:grpSpPr>
        <p:sp>
          <p:nvSpPr>
            <p:cNvPr id="1095" name="Freeform 95"/>
            <p:cNvSpPr/>
            <p:nvPr/>
          </p:nvSpPr>
          <p:spPr>
            <a:xfrm>
              <a:off x="3657600" y="275400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Freeform 96"/>
            <p:cNvSpPr/>
            <p:nvPr/>
          </p:nvSpPr>
          <p:spPr>
            <a:xfrm flipH="1">
              <a:off x="4528440" y="274788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97"/>
            <p:cNvSpPr/>
            <p:nvPr/>
          </p:nvSpPr>
          <p:spPr>
            <a:xfrm flipV="1">
              <a:off x="3932280" y="2742840"/>
              <a:ext cx="120672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Text Box 98"/>
          <p:cNvSpPr/>
          <p:nvPr/>
        </p:nvSpPr>
        <p:spPr>
          <a:xfrm>
            <a:off x="3808800" y="3429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99"/>
          <p:cNvSpPr/>
          <p:nvPr/>
        </p:nvSpPr>
        <p:spPr>
          <a:xfrm>
            <a:off x="3809160" y="3733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00"/>
          <p:cNvSpPr/>
          <p:nvPr/>
        </p:nvSpPr>
        <p:spPr>
          <a:xfrm>
            <a:off x="3885120" y="40384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1"/>
          <p:cNvSpPr/>
          <p:nvPr/>
        </p:nvSpPr>
        <p:spPr>
          <a:xfrm>
            <a:off x="4494600" y="35053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02"/>
          <p:cNvSpPr/>
          <p:nvPr/>
        </p:nvSpPr>
        <p:spPr>
          <a:xfrm>
            <a:off x="4233240" y="32004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03"/>
          <p:cNvSpPr/>
          <p:nvPr/>
        </p:nvSpPr>
        <p:spPr>
          <a:xfrm>
            <a:off x="4113720" y="28195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04"/>
          <p:cNvSpPr/>
          <p:nvPr/>
        </p:nvSpPr>
        <p:spPr>
          <a:xfrm>
            <a:off x="4571280" y="38098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05"/>
          <p:cNvSpPr/>
          <p:nvPr/>
        </p:nvSpPr>
        <p:spPr>
          <a:xfrm>
            <a:off x="4114080" y="4267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06"/>
          <p:cNvSpPr/>
          <p:nvPr/>
        </p:nvSpPr>
        <p:spPr>
          <a:xfrm>
            <a:off x="4570920" y="4114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07"/>
          <p:cNvSpPr/>
          <p:nvPr/>
        </p:nvSpPr>
        <p:spPr>
          <a:xfrm>
            <a:off x="3860640" y="46753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108"/>
          <p:cNvSpPr/>
          <p:nvPr/>
        </p:nvSpPr>
        <p:spPr>
          <a:xfrm>
            <a:off x="3652560" y="152388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 lotttery $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Group 109"/>
          <p:cNvGrpSpPr/>
          <p:nvPr/>
        </p:nvGrpSpPr>
        <p:grpSpPr>
          <a:xfrm>
            <a:off x="2666880" y="1828800"/>
            <a:ext cx="3638160" cy="1864800"/>
            <a:chOff x="2666880" y="1828800"/>
            <a:chExt cx="3638160" cy="1864800"/>
          </a:xfrm>
        </p:grpSpPr>
        <p:sp>
          <p:nvSpPr>
            <p:cNvPr id="1110" name="Line 110"/>
            <p:cNvSpPr/>
            <p:nvPr/>
          </p:nvSpPr>
          <p:spPr>
            <a:xfrm flipV="1">
              <a:off x="2666880" y="2133000"/>
              <a:ext cx="1242720" cy="1560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Line 111"/>
            <p:cNvSpPr/>
            <p:nvPr/>
          </p:nvSpPr>
          <p:spPr>
            <a:xfrm flipH="1" flipV="1">
              <a:off x="5062320" y="2065320"/>
              <a:ext cx="1242720" cy="1560240"/>
            </a:xfrm>
            <a:prstGeom prst="line">
              <a:avLst/>
            </a:prstGeom>
            <a:ln w="7632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Text Box 112"/>
            <p:cNvSpPr/>
            <p:nvPr/>
          </p:nvSpPr>
          <p:spPr>
            <a:xfrm>
              <a:off x="3872880" y="1828800"/>
              <a:ext cx="12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??     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5CC2-BFCE-44BC-8B5E-0B6A0AE39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Naïve Bayes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rain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5" name="Text Box 3"/>
          <p:cNvSpPr/>
          <p:nvPr/>
        </p:nvSpPr>
        <p:spPr>
          <a:xfrm>
            <a:off x="304200" y="1600200"/>
            <a:ext cx="8588520" cy="49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vocabulary of all words in the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atego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subset of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catego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/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concatenation of all the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total number of word occurrenc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number of occurrenc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 /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54BA-B021-4136-997C-DD56A37FF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Naïve Bayes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es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8" name="Text Box 3"/>
          <p:cNvSpPr/>
          <p:nvPr/>
        </p:nvSpPr>
        <p:spPr>
          <a:xfrm>
            <a:off x="460440" y="1676520"/>
            <a:ext cx="783072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test doc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number of word occurrenc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the categ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word occurr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 position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9" name="Object 2"/>
              <p:cNvSpPr txBox="1"/>
              <p:nvPr/>
            </p:nvSpPr>
            <p:spPr>
              <a:xfrm>
                <a:off x="990720" y="2895480"/>
                <a:ext cx="38098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F3E5-0F50-438A-8C07-C8B9DD343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nderflow Preven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ing lots of probabilities, which are between 0 and 1 by definition, can result in floating-point underf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it is better to perform all computations by summing logs of probabilities rather than multiplying prob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with highest final un-normalized log probability score is still the most prob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F486-DC86-4EFD-9E8E-D2D04C75D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l Learning Iss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hypotheses are usually consistent with the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y criteria other than consistency with the training data that is used to select a hypothesi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cation accuracy (% of instances classified correctl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asured on independent test d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time (efficiency of training algorith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time (efficiency of subsequent classific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26FC-3070-4361-B7A7-8C7506D3D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Posterior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cation results of naïve Bayes (the class with maximum posterior probability) are usually fairly accu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due to the inadequacy of the conditional independence assumption, the actual posterior-probability numerical estimates are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utput probabilities are generally very close to 0 or 1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443B-9DAF-4522-B851-0F30E58DC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must be done on test data that are independent of the training data (usually a disjoint set of instanc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lassification accura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otal number of test instances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test instances correctly classified by the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can vary based on sampling error due to different training and test 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results over multiple training and test sets (splits of the overall data) for the best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7C75-655B-4924-BD93-031B38904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-Fold Cross-Valid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ly, test and training sets are independent on each t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ut this would require too much labeled d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data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qual-sized disjoint seg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ials, each time using a different segment of the data for testing, and training on the rem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seg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ay, at least test-sets are in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average classification accuracy over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BEF6-D82A-473E-9810-A03CEC1E0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actice, labeled data is usually rare and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like to know how performance varies with the number of training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rning cur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ot classification accuracy on independent test da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xis) versus number of training exampl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xi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2C7C-27CB-4F01-BCCA-20010AB18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-Fold Learning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learning curves averaged over multiple tri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fold cross validation to gener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raining and test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trial, train on increasing fractions of the training set, measuring accuracy on the test data for each point on the desired learning cu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6160-2822-4A0F-9109-19854469E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Learning Curve</a:t>
            </a:r>
            <a:br>
              <a:rPr sz="36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Yahoo Science Data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140" name="Picture 3" descr="C:\My Documents\Powerpoint\IR Course\lc.gif"/>
          <p:cNvPicPr/>
          <p:nvPr/>
        </p:nvPicPr>
        <p:blipFill>
          <a:blip r:embed="rId1"/>
          <a:stretch/>
        </p:blipFill>
        <p:spPr>
          <a:xfrm>
            <a:off x="838080" y="1447920"/>
            <a:ext cx="70866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9F4F-248D-4B40-9B41-76D213A59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l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eses must generalize to correctly classify instances not in the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y memorizing training examples is a consistent hypothesis that does not general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ccam’s raz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nding a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imple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ypothesis helps ensure generalizatio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1E07-E9B6-4071-B74B-71705B3F4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ing documents to a fixed set of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eb pages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Recommending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ahoo-like classification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ewsgroup Messages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Recommending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pam filtering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ews articles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alized newspaper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mail messages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Routing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oritizing 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olderizing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pam filtering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ED53-DFE0-422F-9B93-84F457336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Text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ual development of text categorization functions is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Algorith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ayesian (naïve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ural networ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Relevance Feedback (Rocchio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ule based (Ripper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earest Neighbor (case based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pport Vector Machines (SVM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FA2D-581A-414C-BFA1-F3E8FE32A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ing Relevance Feedback (Rocchio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vance feedback methods can be adapted for text catego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tandard TF/IDF weighted vectors to represent text documents (normalized by maximum term frequenc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ategory, comput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ctor by summing the vectors of the training documents in the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est documents to the category with the closest prototype vector based on cosine simi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mooney</cp:lastModifiedBy>
  <dcterms:modified xsi:type="dcterms:W3CDTF">2016-10-31T20:37:10Z</dcterms:modified>
  <cp:revision>112</cp:revision>
  <dc:subject/>
  <dc:title>Intelligent Information Retrieval and Web Search</dc:title>
</cp:coreProperties>
</file>