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3BF8-F6B4-43C6-B863-61C3FD47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8D8-CF2A-4B7B-86E0-C4D38EEF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A884-39C4-4E42-A261-EB14AA93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C45F-B257-4EB9-853E-011C177D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0F1B-8FDE-44FD-A374-9F6D21101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612A-5700-4A69-99B0-A8FAEBA4F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1A4-18FF-40CD-A8E2-930CE68E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CE98-C070-4681-8108-4F8587400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0497-952E-46CF-B3FA-1BEBB386B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D77-5EB9-47E7-BE12-4AF0DA8BE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C60F-1364-4111-920D-AEA0C114C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F288-1989-4BFA-9C05-56226FB94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2310-6772-4426-A05D-DAC6A53F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DC4-F2D0-4E3B-9D1B-FF28352F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8C9-B472-43CD-A6F1-389A6DEA1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F41C-1A8C-4412-819B-363D7DF5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CA7-9C7D-42B3-8ABB-AC3A320F9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E763-048E-48DE-92D7-B77A6EB6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541-22D0-4513-B550-66405358E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2BA5-BF30-4603-904E-B617337B9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CF7-2808-4C3B-9501-4836E3EE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1390-DA1F-4FE4-B20C-414DAA1C8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163-0CB1-42A9-BAB1-00251594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7821-47B3-40FE-805B-1658BE35A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569-C276-4883-B023-12ACDDFEC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36B-016A-45D7-B371-ABC44DF5A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7C76-E0CD-493D-8A36-094A68FF3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9DF9-6256-479C-89AE-2EA024E5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E15C-F426-43DA-BFC6-823675824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7EE-E0B4-4787-984B-37E3F24E8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90FE-AD14-435A-97FC-7879A2FCE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50CF-F6C9-4740-8AC4-008564683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6337-AD66-4546-9932-E7D1CAD6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B92E-06A2-4008-97AD-FD4405D6B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13B-DD62-4405-AE8E-D0F4E3FE5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A744-3E29-4D71-AEF8-1C22F399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3BD0-AB76-4B55-A2CD-BA0BCBB6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8F42-B2A4-4914-9ACC-334D2D60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903B-4EA6-45B9-94B6-18425FA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4A6211-83FA-4ED6-AC6B-884682D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142B2F-C6E8-4D27-95BD-1899723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1E8D1-B498-4E65-8A89-A4B32840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21AE3-F647-4B42-A068-1A20DF6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DB594-156B-4717-9EF6-11AD27F4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4AB81-E6E3-454D-AFD2-8D9DC98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C51C6A-0569-4B17-BA15-580BE3B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76602-BF80-4C28-BBE4-8742C209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806D0-9878-4928-9531-0E05284C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83B38A-D0CC-411A-9F5C-AFC1634A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87D8-B3D0-419E-B226-D99E9822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193F9C-96E7-4915-B7F2-185BC2C7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D0E593-ED84-40C1-83BC-A19C3332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301D19-B26D-47F6-9D6F-03CCF6F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BC93D8-85C9-4F62-9D14-D5CBE1E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6E1E83-D918-4A00-A9D9-9E4F226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DBC19-FA43-4062-86BC-43DD4F2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DF2F59-2BD7-4586-BA26-02F301A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4F7ADB-CDEF-439D-905C-4A4BE7B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CFEB86-D69C-43DC-BE15-9DACCC46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85ECEA-8A0D-4698-BF0A-D5C74AC5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32E2-D6C5-4CB0-B305-CBA14EED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4C1E5A-CB40-48DE-9D80-360E6975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BCF119-0352-41C7-A8E9-1D53EFC9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475F30-8192-425B-B93C-5CF02883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42296B-0090-41CE-BA67-B1DAF872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B1770-242C-473D-A831-0F9E615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FEC728-9333-4268-893E-67F7530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88CBB0-AF39-4A51-880D-8C9AAA8E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261B28-CB05-4759-A523-151ADBA0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1F6150-D8AD-4625-A12E-EEED2202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CD3CDC-C284-4E57-94B4-755EFC02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BDDAF-445E-4DB2-BC1E-CE823456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37037D-21BB-462A-9F48-C0A0244A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6FC477-CFB0-4DD7-9E18-043D85CB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62840F-ECF8-4390-B77D-19C58531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754B48-52A0-4CD3-BAFC-99A61653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049BC1-46D1-4D28-9103-9D3C789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EA46DA-AFE3-4344-97E9-A645365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BF2495-C010-4D52-8246-AB72105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02265A-65F3-4BA9-A5B5-E39764C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7663BB-293B-435E-8C1C-642550E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0F326D-6058-4791-A885-F5FE75B9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B3FA7-149C-41A2-9814-FB33B7F3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3FEA11-8C39-43BA-A264-DBFFE01E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61FBC1-B8C2-4D65-8EAB-6E7737D2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81C937-4ADF-47F2-80E8-23AC187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197048-D86E-43BE-AE08-33A15015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15727A-0FC7-41B0-AC9F-BC6EEADD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697E9-A760-4E9E-ACB0-9B42C039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0D4B9-2D3D-4D67-ACC9-30CB23CA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9DB6B-5423-4CDB-AD5D-CDB46220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CAFC1-2C20-4A57-9997-4BE9B012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04BC0-EE4D-49E5-A40C-AC4DCA0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93B0-A765-4A11-8E87-2863352A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1FA6F-0BC5-4DB4-8E70-085E1BB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6FF03-2319-4512-86F3-A1841B7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CCC3-ADAA-4876-B6AD-48EDBB8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E66D8-1E38-4F60-BB23-F60FFE1E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29F8E-C8A4-458A-8151-8B7ACB62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361D1-8F71-4259-904E-AEA0CDDE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069AA-1735-4401-AA25-C9851E12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2ECD1-4403-475C-BD64-D681B3C3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0D866-A986-4AA9-A31E-58E106A2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433D5-FAA1-413A-8A3F-30060E58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A3FF-C1C3-4BB3-A069-55A2E18C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C1B58-57B3-45A8-805A-BE27105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B2FE2-8D37-40A2-A64D-97508DA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7BF17-C419-45C5-AA8E-199D94B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04FF2-B85C-41B6-9766-E55D4CDF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FE8E7-2F7F-4861-A60D-4745667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9C45D-A02B-4A68-8DBF-AB52F872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CB3FE-DEEA-4CA0-A53E-5455D07A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8BBB2-BF5F-4F4D-86D7-E56864EE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6DF65-3D7E-48EA-88A8-10BD13D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444AB-A679-4F49-A4FA-DAB90FF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7883-561F-4897-ACCF-3A61C214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FEB08-E2A8-4EFD-AA11-8B697EFA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B5013-8245-4332-8A15-50A86C97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BA1AB-C537-4777-9A47-9F213A95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BF076-9EBD-4194-8E1C-60B700E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4C5D4-7873-4C04-B085-12E3504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96580-EC00-41A9-96E3-BA9A57B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2F417-C2CA-4719-8595-E69D6A27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527FB-7203-4BC0-B187-F0569311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BE8F6-F348-4234-B9AE-7A88173D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89929-2FF7-4F85-A68F-C3EE1A97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D26A-14E7-4137-8715-BDEDFF5D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35909-CB72-438C-A5E3-47A28D9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6D334-F91C-4BCE-8D86-C057AD7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69C18-5FE5-452C-8A2C-E5F0DF9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C7158-41EA-4A36-8EAC-477030CD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E9726-5393-475B-9BB7-79D1465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3791F-2868-4FF0-A046-06C89567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09638-9E74-4C1C-916A-BAB16F9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6D84B-6674-456F-A725-A7D3604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73202-6485-4DA5-BF66-05DA72B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F4E8C-72FB-4606-AE5F-77195698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DBF1-0D2F-4FEA-A5C8-70C27DC4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A7658-66CF-40BE-B7A1-664E581F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F0735-6C0F-471B-B20D-E0AF2947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0FE50-3C77-482E-9BEA-F4F7CB9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BE999-2EE8-4384-B95B-6854820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4AA53-F0D1-431F-AF10-3163D36A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B3227-585A-4DFB-84DE-21EC7A61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482AA-28F6-4B2B-8857-E46C02B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6CCEB-E360-4D09-AC91-83FAD77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2F057-EAA4-4679-89CA-6EC709B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1EB56-5C41-4F93-9232-20CFE01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0ED2-82C1-45EE-832F-161BDC6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D2F0F-3A34-4B94-8147-8FA754AC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E95BC-9691-49F0-93E6-9C5F09B2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5B8EA-92FF-466E-B91D-0AA2D864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0E664-ED34-4E2B-986E-DC1E7012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709A1-5DE1-41FB-8525-32CD6B9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C81EC-3448-49B4-82A5-FA19632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0E08C-EF54-4DAB-9E6B-FBE27C98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53898-BF31-4571-B3FD-6C82B5ED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8CAF0-F9D7-48DA-B533-E03E81A3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ECE30-B113-4998-9281-CC0CB4BF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16C7-DD10-43A4-8593-A7AC3FA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A3A43-237A-40BF-B6FE-4E3DFB31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B0BE3-B548-480B-BF95-BED428DC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B193E-B281-401C-825D-0A757C8F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B930C-45C3-458D-BC09-C2F0F790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C309A-95EA-41A9-AB22-628B5A00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A6E95-11CF-4596-8CB9-FE455455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7A2EB8-A243-4048-85CA-5E68AA92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E82AF-DE79-4A82-87ED-BA9245EA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70F4E-AF96-4E16-8F63-AAEB605C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1C6FF-CD4A-480D-A3C2-376C0E9E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4DDB-4BE1-4564-8D7F-6CAC9FA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ED844-C9B7-4791-BE7F-2542DB72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BA2C2-B009-4DD7-9E4A-A5BE3F4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AE512-BBDE-4C43-85B1-4FEEE04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4880C-3165-4834-81AA-5B0A0936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97753-7745-4CEA-82AD-99DFC67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8616D1-F67A-4B27-B818-6F7229D4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4EA30-A1FC-4159-8770-8E1B6120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5A2E8-8DE3-43B0-833B-E8F2405C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6DFC33-0DD5-487B-8C7C-1B693E06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4519F5-F3D4-44CA-878F-F6C0D69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5936-F145-48C9-823C-02E9F104F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B36E-4FDE-4811-9C3D-6E54F75D4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5EAA-A7E2-4619-B99B-1D9C4251C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246-29C9-48CF-AD8D-D314DBEBE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659C-CE57-4539-AFD9-DEC49915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CD8-96F8-4F78-A1AD-A0D1607D5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9D1-BB82-4763-9202-4C7D16984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DF85-BD58-4D67-B8A6-9290A3CBD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C1E-EFEB-4BE3-9B8C-11CF0275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838D-48F9-478D-86E4-1ACD4E0D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CBA6-6D72-4A9B-8326-375BBB6E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316-07FD-4360-9D91-432E9846F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D9B6-A1A6-4E7E-AE68-697BF4171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643-59F1-4D99-8E5C-E8FD074C8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x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ult in “straggly” (long and thin) clusters du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ining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ropriate in some domains, such as clustering islands.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4"/>
              <p:cNvSpPr txBox="1"/>
              <p:nvPr/>
            </p:nvSpPr>
            <p:spPr>
              <a:xfrm>
                <a:off x="2057400" y="1889280"/>
                <a:ext cx="43815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9F8-79F1-483B-AB76-EAA587A0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16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Oval 7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13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5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6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0C3E-B554-4FD5-8859-6A7325D5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in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ore “tight,” spherical clusters that are typically pref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"/>
              <p:cNvSpPr txBox="1"/>
              <p:nvPr/>
            </p:nvSpPr>
            <p:spPr>
              <a:xfrm>
                <a:off x="2057400" y="1905120"/>
                <a:ext cx="4381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9F0-AF43-469E-AD1F-EB10D9FA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40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Oval 6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3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4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5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6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7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8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20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E289-DAB6-4596-9B87-47D5F0F5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irst iteration, all HAC methods need to compute similarity of all pai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ances which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 subsequ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erging iterations, it must compute the distance between the most recently created cluster and all other existing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intain an overall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erformance, computing similarity to each other cluster must be done in consta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F77-06A1-46A9-B615-9255F6EA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erg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imilarity of the resulting cluster to any other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n be compu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l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t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600200" y="3429000"/>
                <a:ext cx="6934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676520" y="4495680"/>
                <a:ext cx="687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0242-B25F-4E90-B5B4-ACBA849F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p Average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verage similarity across all pairs within the merged cluster to measure the similarity of two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single and complete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d across all ordered pairs in the merged cluster instead of unordered pai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wo clusters (to encourage tighter final cluster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1066680" y="2590920"/>
                <a:ext cx="738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≠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505-FD8D-401D-B116-E757E028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Group Average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cosine similarity and normalized vectors with unit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maintain sum of vectors in each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similarity of clusters in constan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4"/>
              <p:cNvSpPr txBox="1"/>
              <p:nvPr/>
            </p:nvSpPr>
            <p:spPr>
              <a:xfrm>
                <a:off x="2438280" y="3352680"/>
                <a:ext cx="1917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5"/>
              <p:cNvSpPr txBox="1"/>
              <p:nvPr/>
            </p:nvSpPr>
            <p:spPr>
              <a:xfrm>
                <a:off x="909720" y="5027760"/>
                <a:ext cx="7551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6F8E-5DD3-476C-83BF-225B4669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must provide the number of desired 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cho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e per clus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initial clusters based on thes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, repeatedly reallocating instances to different clusters to improve the overal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clustering converges or after a fixed number of it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EB8C-3773-4F02-8F35-0A54889B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instances are real-valued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ro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er of 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mean of points in a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ment of instances to clusters is based on distance to the current cluster cent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2599-6639-47F4-9582-BD24F02D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unlabeled examples into disjoint subsets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within a cluster are very simil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in different clusters are very differ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 new categories in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 (no sample category labels provi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FE2D-EC9D-460C-9CEC-455225B8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clidian distance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ine Similarity (transform to a distance by subtracting from 1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2362320" y="1828800"/>
                <a:ext cx="34210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5"/>
              <p:cNvSpPr txBox="1"/>
              <p:nvPr/>
            </p:nvSpPr>
            <p:spPr>
              <a:xfrm>
                <a:off x="2133720" y="281952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6"/>
              <p:cNvSpPr txBox="1"/>
              <p:nvPr/>
            </p:nvSpPr>
            <p:spPr>
              <a:xfrm>
                <a:off x="2133720" y="4876920"/>
                <a:ext cx="23540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6F3-8B30-4E2C-B6B8-7A885BD6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250200" y="1676520"/>
            <a:ext cx="86907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istance measure between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dom instance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lustering converges or other stopping criter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mi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pdate the seeds to the centroid of each cluster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5A93-EA86-41E1-BD80-80D5AEDC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Means Exampl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K=2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93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Oval 40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41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42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43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45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46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47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48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49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0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51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58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708" name="Text Box 54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55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Oval 56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76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712" name="Oval 59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60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6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62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63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64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Oval 65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Oval 66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Oval 72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73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75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81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724" name="Text Box 77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79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80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84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728" name="Oval 70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82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83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90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733" name="Text Box 85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8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87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88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89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Text Box 91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92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3982-F67F-47E0-8A21-5FD78F75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 all relevant factors, assuming a fixed number of iterations, more efficient th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EE2C-4FDA-4BE8-8E22-F0568396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Objecti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 of k-means is to minimize the total sum of the squared distance of every point to its corresponding cluster centr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2"/>
              <p:cNvSpPr txBox="1"/>
              <p:nvPr/>
            </p:nvSpPr>
            <p:spPr>
              <a:xfrm>
                <a:off x="2514600" y="2971800"/>
                <a:ext cx="4114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7" name="Rectangle 5"/>
          <p:cNvSpPr/>
          <p:nvPr/>
        </p:nvSpPr>
        <p:spPr>
          <a:xfrm>
            <a:off x="609480" y="4191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 global optimum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-means algorithm is guaranteed to converge a local opt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26CB-39F8-4D1B-863E-7A41D5754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ed Choi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vary based on random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eds can result in poor convergence rate, or convergence to sub-optimal clus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good seeds using a heuristic or the results of another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687D-9AF0-4D5D-84C3-06ABE703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ckshot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HAC and K-Means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randomly take a sample of instances of siz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roup-average HAC on this sample, which takes only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esults of HAC as initial seeds for K-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algorithm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voids problems of bad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2057400" y="2400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631F-BD7C-4342-8E57-6C69EB0C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 and K-Means have been applied to text in a straightforward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F/IDF-weighted vectors and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computations for spars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Northernlight folder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Yahoo &amp; DMOZ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746A-71DE-476B-837E-EFB126AC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f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typically assumes that each instance is given a “hard” assignment to exactly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llow uncertainty in class membership or for an instance to belong to more than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oft clust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probabilities that an instance belongs to each of a set of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is assigned a probability distribution across a set of discovered categories (probabilities of all categories must sum to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BB00-4DE5-483E-A575-6CBE12389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ctation Maximumization (E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method for sof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thod that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us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a probabilistic model of categories that allows computing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 given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ext, typically assume a naïve-Bayes categor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{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,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,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}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2A3-A78C-4DE1-AF5E-CEB50B89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40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52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1523880" y="1905120"/>
            <a:ext cx="4505760" cy="3385440"/>
            <a:chOff x="1523880" y="1905120"/>
            <a:chExt cx="4505760" cy="3385440"/>
          </a:xfrm>
        </p:grpSpPr>
        <p:sp>
          <p:nvSpPr>
            <p:cNvPr id="524" name="Text Box 74"/>
            <p:cNvSpPr/>
            <p:nvPr/>
          </p:nvSpPr>
          <p:spPr>
            <a:xfrm>
              <a:off x="1557360" y="2421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75"/>
            <p:cNvSpPr/>
            <p:nvPr/>
          </p:nvSpPr>
          <p:spPr>
            <a:xfrm>
              <a:off x="152388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7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7"/>
            <p:cNvSpPr/>
            <p:nvPr/>
          </p:nvSpPr>
          <p:spPr>
            <a:xfrm>
              <a:off x="205740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78"/>
            <p:cNvSpPr/>
            <p:nvPr/>
          </p:nvSpPr>
          <p:spPr>
            <a:xfrm>
              <a:off x="228600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79"/>
            <p:cNvSpPr/>
            <p:nvPr/>
          </p:nvSpPr>
          <p:spPr>
            <a:xfrm>
              <a:off x="3352680" y="35053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80"/>
            <p:cNvSpPr/>
            <p:nvPr/>
          </p:nvSpPr>
          <p:spPr>
            <a:xfrm>
              <a:off x="2743200" y="4191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8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82"/>
            <p:cNvSpPr/>
            <p:nvPr/>
          </p:nvSpPr>
          <p:spPr>
            <a:xfrm>
              <a:off x="2895480" y="37339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8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84"/>
            <p:cNvSpPr/>
            <p:nvPr/>
          </p:nvSpPr>
          <p:spPr>
            <a:xfrm>
              <a:off x="274320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8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8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87"/>
            <p:cNvSpPr/>
            <p:nvPr/>
          </p:nvSpPr>
          <p:spPr>
            <a:xfrm>
              <a:off x="510516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8"/>
            <p:cNvSpPr/>
            <p:nvPr/>
          </p:nvSpPr>
          <p:spPr>
            <a:xfrm>
              <a:off x="5105160" y="3048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23"/>
          <p:cNvGrpSpPr/>
          <p:nvPr/>
        </p:nvGrpSpPr>
        <p:grpSpPr>
          <a:xfrm>
            <a:off x="1523880" y="1523880"/>
            <a:ext cx="4505760" cy="3766320"/>
            <a:chOff x="1523880" y="1523880"/>
            <a:chExt cx="4505760" cy="3766320"/>
          </a:xfrm>
        </p:grpSpPr>
        <p:sp>
          <p:nvSpPr>
            <p:cNvPr id="540" name="Text Box 124"/>
            <p:cNvSpPr/>
            <p:nvPr/>
          </p:nvSpPr>
          <p:spPr>
            <a:xfrm>
              <a:off x="1557000" y="242064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25"/>
            <p:cNvSpPr/>
            <p:nvPr/>
          </p:nvSpPr>
          <p:spPr>
            <a:xfrm>
              <a:off x="152388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2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27"/>
            <p:cNvSpPr/>
            <p:nvPr/>
          </p:nvSpPr>
          <p:spPr>
            <a:xfrm>
              <a:off x="205704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28"/>
            <p:cNvSpPr/>
            <p:nvPr/>
          </p:nvSpPr>
          <p:spPr>
            <a:xfrm>
              <a:off x="228564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29"/>
            <p:cNvSpPr/>
            <p:nvPr/>
          </p:nvSpPr>
          <p:spPr>
            <a:xfrm>
              <a:off x="3352680" y="35049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30"/>
            <p:cNvSpPr/>
            <p:nvPr/>
          </p:nvSpPr>
          <p:spPr>
            <a:xfrm>
              <a:off x="2742840" y="4190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3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2"/>
            <p:cNvSpPr/>
            <p:nvPr/>
          </p:nvSpPr>
          <p:spPr>
            <a:xfrm>
              <a:off x="2895480" y="37335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13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34"/>
            <p:cNvSpPr/>
            <p:nvPr/>
          </p:nvSpPr>
          <p:spPr>
            <a:xfrm>
              <a:off x="274284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3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3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37"/>
            <p:cNvSpPr/>
            <p:nvPr/>
          </p:nvSpPr>
          <p:spPr>
            <a:xfrm>
              <a:off x="510516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8"/>
            <p:cNvSpPr/>
            <p:nvPr/>
          </p:nvSpPr>
          <p:spPr>
            <a:xfrm>
              <a:off x="5105160" y="3047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39"/>
            <p:cNvSpPr/>
            <p:nvPr/>
          </p:nvSpPr>
          <p:spPr>
            <a:xfrm>
              <a:off x="1828440" y="15238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F42-66DC-4B8C-A01E-2B4927EB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method for learning probabilistic categorization model from un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assume random assignment of examples to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n initial probabilistic model by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is randomly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following two steps until converg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ectation (E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mpute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example given the current model, and probabilistically re-label the examples based on these posterior probability estima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ximization (M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-estimate the model parameters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from the probabilistically re-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E48-277D-44DD-B6DE-FD3DE215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769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775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1" name="Text Box 32"/>
          <p:cNvSpPr/>
          <p:nvPr/>
        </p:nvSpPr>
        <p:spPr>
          <a:xfrm>
            <a:off x="307440" y="233352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Group 71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783" name="Group 46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784" name="Rectangle 47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48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49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50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51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789" name="Rectangle 52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53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54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Text Box 55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56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794" name="Rectangle 57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58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Text Box 59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60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1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799" name="Rectangle 62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3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64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65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66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04" name="Rectangle 67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68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69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70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Text Box 72"/>
          <p:cNvSpPr/>
          <p:nvPr/>
        </p:nvSpPr>
        <p:spPr>
          <a:xfrm>
            <a:off x="1208520" y="18288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random probabilistic labels to un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3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48D-94F6-4AFA-89C9-8FA67E02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12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18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24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25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2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3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3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4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4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5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4" name="Text Box 50"/>
          <p:cNvSpPr/>
          <p:nvPr/>
        </p:nvSpPr>
        <p:spPr>
          <a:xfrm>
            <a:off x="900360" y="1828800"/>
            <a:ext cx="69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soft-labeled training data to a probabilistic lea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59C-BB85-4CB7-9109-846C5660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5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6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70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71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19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874" name="Oval 20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21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7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8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8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9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9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90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Text Box 50"/>
          <p:cNvSpPr/>
          <p:nvPr/>
        </p:nvSpPr>
        <p:spPr>
          <a:xfrm>
            <a:off x="2278080" y="18288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 probabilistic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2A94-C642-4ECA-89CE-477FFA83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90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91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20" name="Group 15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21" name="Rectangle 16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17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18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924" name="Oval 19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20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AutoShape 22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1512360" y="18288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bel unlabled data using the trained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63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64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65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66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67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Group 68"/>
          <p:cNvGrpSpPr/>
          <p:nvPr/>
        </p:nvGrpSpPr>
        <p:grpSpPr>
          <a:xfrm>
            <a:off x="8001000" y="2995560"/>
            <a:ext cx="383760" cy="250920"/>
            <a:chOff x="8001000" y="2995560"/>
            <a:chExt cx="383760" cy="250920"/>
          </a:xfrm>
        </p:grpSpPr>
        <p:sp>
          <p:nvSpPr>
            <p:cNvPr id="934" name="Rectangle 69"/>
            <p:cNvSpPr/>
            <p:nvPr/>
          </p:nvSpPr>
          <p:spPr>
            <a:xfrm>
              <a:off x="80391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70"/>
            <p:cNvSpPr/>
            <p:nvPr/>
          </p:nvSpPr>
          <p:spPr>
            <a:xfrm>
              <a:off x="81579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71"/>
            <p:cNvSpPr/>
            <p:nvPr/>
          </p:nvSpPr>
          <p:spPr>
            <a:xfrm>
              <a:off x="80010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72"/>
            <p:cNvSpPr/>
            <p:nvPr/>
          </p:nvSpPr>
          <p:spPr>
            <a:xfrm>
              <a:off x="81658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73"/>
          <p:cNvGrpSpPr/>
          <p:nvPr/>
        </p:nvGrpSpPr>
        <p:grpSpPr>
          <a:xfrm>
            <a:off x="8000640" y="2771640"/>
            <a:ext cx="384120" cy="250920"/>
            <a:chOff x="8000640" y="2771640"/>
            <a:chExt cx="384120" cy="250920"/>
          </a:xfrm>
        </p:grpSpPr>
        <p:sp>
          <p:nvSpPr>
            <p:cNvPr id="939" name="Rectangle 74"/>
            <p:cNvSpPr/>
            <p:nvPr/>
          </p:nvSpPr>
          <p:spPr>
            <a:xfrm>
              <a:off x="8038080" y="27795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75"/>
            <p:cNvSpPr/>
            <p:nvPr/>
          </p:nvSpPr>
          <p:spPr>
            <a:xfrm>
              <a:off x="82148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76"/>
            <p:cNvSpPr/>
            <p:nvPr/>
          </p:nvSpPr>
          <p:spPr>
            <a:xfrm>
              <a:off x="80006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77"/>
            <p:cNvSpPr/>
            <p:nvPr/>
          </p:nvSpPr>
          <p:spPr>
            <a:xfrm>
              <a:off x="816588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Group 78"/>
          <p:cNvGrpSpPr/>
          <p:nvPr/>
        </p:nvGrpSpPr>
        <p:grpSpPr>
          <a:xfrm>
            <a:off x="7962840" y="3452760"/>
            <a:ext cx="403200" cy="245880"/>
            <a:chOff x="7962840" y="3452760"/>
            <a:chExt cx="403200" cy="245880"/>
          </a:xfrm>
        </p:grpSpPr>
        <p:sp>
          <p:nvSpPr>
            <p:cNvPr id="944" name="Rectangle 79"/>
            <p:cNvSpPr/>
            <p:nvPr/>
          </p:nvSpPr>
          <p:spPr>
            <a:xfrm>
              <a:off x="80391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80"/>
            <p:cNvSpPr/>
            <p:nvPr/>
          </p:nvSpPr>
          <p:spPr>
            <a:xfrm>
              <a:off x="81201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81"/>
            <p:cNvSpPr/>
            <p:nvPr/>
          </p:nvSpPr>
          <p:spPr>
            <a:xfrm>
              <a:off x="79628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82"/>
            <p:cNvSpPr/>
            <p:nvPr/>
          </p:nvSpPr>
          <p:spPr>
            <a:xfrm>
              <a:off x="81471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83"/>
          <p:cNvGrpSpPr/>
          <p:nvPr/>
        </p:nvGrpSpPr>
        <p:grpSpPr>
          <a:xfrm>
            <a:off x="7995960" y="3686040"/>
            <a:ext cx="384120" cy="250920"/>
            <a:chOff x="7995960" y="3686040"/>
            <a:chExt cx="384120" cy="250920"/>
          </a:xfrm>
        </p:grpSpPr>
        <p:sp>
          <p:nvSpPr>
            <p:cNvPr id="949" name="Rectangle 84"/>
            <p:cNvSpPr/>
            <p:nvPr/>
          </p:nvSpPr>
          <p:spPr>
            <a:xfrm>
              <a:off x="8033400" y="36939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85"/>
            <p:cNvSpPr/>
            <p:nvPr/>
          </p:nvSpPr>
          <p:spPr>
            <a:xfrm>
              <a:off x="82101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86"/>
            <p:cNvSpPr/>
            <p:nvPr/>
          </p:nvSpPr>
          <p:spPr>
            <a:xfrm>
              <a:off x="79959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87"/>
            <p:cNvSpPr/>
            <p:nvPr/>
          </p:nvSpPr>
          <p:spPr>
            <a:xfrm>
              <a:off x="816120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88"/>
          <p:cNvGrpSpPr/>
          <p:nvPr/>
        </p:nvGrpSpPr>
        <p:grpSpPr>
          <a:xfrm>
            <a:off x="8029440" y="3224160"/>
            <a:ext cx="388800" cy="250920"/>
            <a:chOff x="8029440" y="3224160"/>
            <a:chExt cx="388800" cy="250920"/>
          </a:xfrm>
        </p:grpSpPr>
        <p:sp>
          <p:nvSpPr>
            <p:cNvPr id="954" name="Rectangle 89"/>
            <p:cNvSpPr/>
            <p:nvPr/>
          </p:nvSpPr>
          <p:spPr>
            <a:xfrm>
              <a:off x="8210520" y="3230640"/>
              <a:ext cx="1378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Text Box 90"/>
            <p:cNvSpPr/>
            <p:nvPr/>
          </p:nvSpPr>
          <p:spPr>
            <a:xfrm>
              <a:off x="819936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91"/>
            <p:cNvSpPr/>
            <p:nvPr/>
          </p:nvSpPr>
          <p:spPr>
            <a:xfrm>
              <a:off x="8034120" y="3232080"/>
              <a:ext cx="23004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92"/>
            <p:cNvSpPr/>
            <p:nvPr/>
          </p:nvSpPr>
          <p:spPr>
            <a:xfrm>
              <a:off x="80294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Text Box 118"/>
          <p:cNvSpPr/>
          <p:nvPr/>
        </p:nvSpPr>
        <p:spPr>
          <a:xfrm>
            <a:off x="3741840" y="1371600"/>
            <a:ext cx="12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3873E-006 C -0.01354 0.06566 -0.02691 0.13156 0.00955 0.17133 C 0.04601 0.2111 0.13264 0.23029 0.2191 0.23907 C 0.30555 0.24786 0.45243 0.26312 0.52864 0.22428 C 0.60486 0.18543 0.65191 0.043 0.67621 0.00647 E">
                                      <p:cBhvr>
                                        <p:cTn id="114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FCF4-F24B-4743-9010-DB1688DD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61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62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965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966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972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978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983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988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993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998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2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004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EM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06"/>
          <p:cNvSpPr/>
          <p:nvPr/>
        </p:nvSpPr>
        <p:spPr>
          <a:xfrm>
            <a:off x="2124720" y="182880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n classifier on re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07"/>
          <p:cNvSpPr/>
          <p:nvPr/>
        </p:nvSpPr>
        <p:spPr>
          <a:xfrm>
            <a:off x="3722400" y="137160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3873E-006 C -0.00382 0.06497 -0.00764 0.13018 -0.03646 0.16694 C -0.06528 0.2037 -0.09167 0.20994 -0.17309 0.21989 C -0.25417 0.22983 -0.44046 0.26312 -0.52379 0.22613 C -0.60712 0.18914 -0.64011 0.09341 -0.67292 -0.00208 E">
                                      <p:cBhvr>
                                        <p:cTn id="180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7A7-5525-4064-8E39-C27F8AB5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rom Probabilistically Labeled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raining data labeled with “hard” category labels, training data is labeled with “soft” probabilistic category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raining data, weight counts by the corresponding probability of the given category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f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8 and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,       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s only 0.8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0.2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A88-3868-4925-A837-1A760F3DA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369360" y="1981080"/>
            <a:ext cx="8599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 examples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andard naïve-Bayes training to learn a probabilist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convergence or until maximum number of iterations reac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naïve Bayes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tegory and example, and re-label each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se probability values as soft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standard naïve-Bayes training to re-estima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ew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4D8B-1F71-4221-B200-B74B253F2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categorization, generating labeled training data is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unlabeled data to aid supervised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M in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mi-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 by training EM on both labeled and un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initial probabilistic model on user-labeled subset of data instead of randomly labeled unsupervised data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ser-labeled examples are “frozen” and never relabeled during EM iter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nsupervised data are constantly probabilistically relabeled by E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A4C-C455-4FED-8248-B9E154F9B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0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0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0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0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0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0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0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0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0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C936-AD0A-4B09-B7EF-65A75431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tree-based hierarchical taxonom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a set of unlabel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application of a standard clustering algorithm can produce a hierarchica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91"/>
          <p:cNvGrpSpPr/>
          <p:nvPr/>
        </p:nvGrpSpPr>
        <p:grpSpPr>
          <a:xfrm>
            <a:off x="1661040" y="2286000"/>
            <a:ext cx="5898600" cy="1980360"/>
            <a:chOff x="1661040" y="2286000"/>
            <a:chExt cx="5898600" cy="1980360"/>
          </a:xfrm>
        </p:grpSpPr>
        <p:sp>
          <p:nvSpPr>
            <p:cNvPr id="560" name="Text Box 22"/>
            <p:cNvSpPr/>
            <p:nvPr/>
          </p:nvSpPr>
          <p:spPr>
            <a:xfrm>
              <a:off x="4267080" y="2286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3"/>
            <p:cNvSpPr/>
            <p:nvPr/>
          </p:nvSpPr>
          <p:spPr>
            <a:xfrm>
              <a:off x="2740680" y="2819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55"/>
            <p:cNvSpPr/>
            <p:nvPr/>
          </p:nvSpPr>
          <p:spPr>
            <a:xfrm>
              <a:off x="1661040" y="342864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57"/>
            <p:cNvSpPr/>
            <p:nvPr/>
          </p:nvSpPr>
          <p:spPr>
            <a:xfrm>
              <a:off x="5254920" y="281916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58"/>
            <p:cNvSpPr/>
            <p:nvPr/>
          </p:nvSpPr>
          <p:spPr>
            <a:xfrm flipH="1">
              <a:off x="3371760" y="2603160"/>
              <a:ext cx="1527120" cy="32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9"/>
            <p:cNvSpPr/>
            <p:nvPr/>
          </p:nvSpPr>
          <p:spPr>
            <a:xfrm>
              <a:off x="4911840" y="2603160"/>
              <a:ext cx="1014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0"/>
            <p:cNvSpPr/>
            <p:nvPr/>
          </p:nvSpPr>
          <p:spPr>
            <a:xfrm flipH="1">
              <a:off x="1955520" y="3116160"/>
              <a:ext cx="139068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61"/>
            <p:cNvSpPr/>
            <p:nvPr/>
          </p:nvSpPr>
          <p:spPr>
            <a:xfrm flipH="1">
              <a:off x="2595600" y="3116160"/>
              <a:ext cx="750960" cy="43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2"/>
            <p:cNvSpPr/>
            <p:nvPr/>
          </p:nvSpPr>
          <p:spPr>
            <a:xfrm>
              <a:off x="3346560" y="3116160"/>
              <a:ext cx="0" cy="50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63"/>
            <p:cNvSpPr/>
            <p:nvPr/>
          </p:nvSpPr>
          <p:spPr>
            <a:xfrm>
              <a:off x="3346560" y="3116160"/>
              <a:ext cx="81432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64"/>
            <p:cNvSpPr/>
            <p:nvPr/>
          </p:nvSpPr>
          <p:spPr>
            <a:xfrm flipH="1">
              <a:off x="5375160" y="3092040"/>
              <a:ext cx="55080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65"/>
            <p:cNvSpPr/>
            <p:nvPr/>
          </p:nvSpPr>
          <p:spPr>
            <a:xfrm>
              <a:off x="5925960" y="310500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6"/>
            <p:cNvSpPr/>
            <p:nvPr/>
          </p:nvSpPr>
          <p:spPr>
            <a:xfrm>
              <a:off x="5925960" y="3116160"/>
              <a:ext cx="85284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72"/>
            <p:cNvGrpSpPr/>
            <p:nvPr/>
          </p:nvGrpSpPr>
          <p:grpSpPr>
            <a:xfrm>
              <a:off x="1752480" y="3733560"/>
              <a:ext cx="304920" cy="532800"/>
              <a:chOff x="1752480" y="3733560"/>
              <a:chExt cx="304920" cy="532800"/>
            </a:xfrm>
          </p:grpSpPr>
          <p:sp>
            <p:nvSpPr>
              <p:cNvPr id="574" name="Line 69"/>
              <p:cNvSpPr/>
              <p:nvPr/>
            </p:nvSpPr>
            <p:spPr>
              <a:xfrm flipH="1">
                <a:off x="1752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70"/>
              <p:cNvSpPr/>
              <p:nvPr/>
            </p:nvSpPr>
            <p:spPr>
              <a:xfrm>
                <a:off x="1916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73"/>
            <p:cNvGrpSpPr/>
            <p:nvPr/>
          </p:nvGrpSpPr>
          <p:grpSpPr>
            <a:xfrm>
              <a:off x="2286000" y="3733560"/>
              <a:ext cx="304920" cy="532800"/>
              <a:chOff x="2286000" y="3733560"/>
              <a:chExt cx="304920" cy="532800"/>
            </a:xfrm>
          </p:grpSpPr>
          <p:sp>
            <p:nvSpPr>
              <p:cNvPr id="577" name="Line 74"/>
              <p:cNvSpPr/>
              <p:nvPr/>
            </p:nvSpPr>
            <p:spPr>
              <a:xfrm flipH="1">
                <a:off x="228600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75"/>
              <p:cNvSpPr/>
              <p:nvPr/>
            </p:nvSpPr>
            <p:spPr>
              <a:xfrm>
                <a:off x="244980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76"/>
            <p:cNvGrpSpPr/>
            <p:nvPr/>
          </p:nvGrpSpPr>
          <p:grpSpPr>
            <a:xfrm>
              <a:off x="3124080" y="3733560"/>
              <a:ext cx="304920" cy="532800"/>
              <a:chOff x="3124080" y="3733560"/>
              <a:chExt cx="304920" cy="532800"/>
            </a:xfrm>
          </p:grpSpPr>
          <p:sp>
            <p:nvSpPr>
              <p:cNvPr id="580" name="Line 77"/>
              <p:cNvSpPr/>
              <p:nvPr/>
            </p:nvSpPr>
            <p:spPr>
              <a:xfrm flipH="1">
                <a:off x="31240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78"/>
              <p:cNvSpPr/>
              <p:nvPr/>
            </p:nvSpPr>
            <p:spPr>
              <a:xfrm>
                <a:off x="32878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9"/>
            <p:cNvGrpSpPr/>
            <p:nvPr/>
          </p:nvGrpSpPr>
          <p:grpSpPr>
            <a:xfrm>
              <a:off x="4038480" y="3733560"/>
              <a:ext cx="304920" cy="532800"/>
              <a:chOff x="4038480" y="3733560"/>
              <a:chExt cx="304920" cy="532800"/>
            </a:xfrm>
          </p:grpSpPr>
          <p:sp>
            <p:nvSpPr>
              <p:cNvPr id="583" name="Line 80"/>
              <p:cNvSpPr/>
              <p:nvPr/>
            </p:nvSpPr>
            <p:spPr>
              <a:xfrm flipH="1">
                <a:off x="4038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81"/>
              <p:cNvSpPr/>
              <p:nvPr/>
            </p:nvSpPr>
            <p:spPr>
              <a:xfrm>
                <a:off x="4202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82"/>
            <p:cNvGrpSpPr/>
            <p:nvPr/>
          </p:nvGrpSpPr>
          <p:grpSpPr>
            <a:xfrm>
              <a:off x="5181480" y="3733560"/>
              <a:ext cx="304920" cy="532800"/>
              <a:chOff x="5181480" y="3733560"/>
              <a:chExt cx="304920" cy="532800"/>
            </a:xfrm>
          </p:grpSpPr>
          <p:sp>
            <p:nvSpPr>
              <p:cNvPr id="586" name="Line 83"/>
              <p:cNvSpPr/>
              <p:nvPr/>
            </p:nvSpPr>
            <p:spPr>
              <a:xfrm flipH="1">
                <a:off x="5181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84"/>
              <p:cNvSpPr/>
              <p:nvPr/>
            </p:nvSpPr>
            <p:spPr>
              <a:xfrm>
                <a:off x="5345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85"/>
            <p:cNvGrpSpPr/>
            <p:nvPr/>
          </p:nvGrpSpPr>
          <p:grpSpPr>
            <a:xfrm>
              <a:off x="5790960" y="3733560"/>
              <a:ext cx="304560" cy="532800"/>
              <a:chOff x="5790960" y="3733560"/>
              <a:chExt cx="304560" cy="532800"/>
            </a:xfrm>
          </p:grpSpPr>
          <p:sp>
            <p:nvSpPr>
              <p:cNvPr id="589" name="Line 86"/>
              <p:cNvSpPr/>
              <p:nvPr/>
            </p:nvSpPr>
            <p:spPr>
              <a:xfrm flipH="1">
                <a:off x="57909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87"/>
              <p:cNvSpPr/>
              <p:nvPr/>
            </p:nvSpPr>
            <p:spPr>
              <a:xfrm>
                <a:off x="59547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88"/>
            <p:cNvGrpSpPr/>
            <p:nvPr/>
          </p:nvGrpSpPr>
          <p:grpSpPr>
            <a:xfrm>
              <a:off x="6705360" y="3733560"/>
              <a:ext cx="304560" cy="532800"/>
              <a:chOff x="6705360" y="3733560"/>
              <a:chExt cx="304560" cy="532800"/>
            </a:xfrm>
          </p:grpSpPr>
          <p:sp>
            <p:nvSpPr>
              <p:cNvPr id="592" name="Line 89"/>
              <p:cNvSpPr/>
              <p:nvPr/>
            </p:nvSpPr>
            <p:spPr>
              <a:xfrm flipH="1">
                <a:off x="67053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90"/>
              <p:cNvSpPr/>
              <p:nvPr/>
            </p:nvSpPr>
            <p:spPr>
              <a:xfrm>
                <a:off x="68691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30E-C1AE-43D5-871A-9437D3FC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1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1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1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1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1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1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1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1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1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284" dur="2000" fill="hold"/>
                                        <p:tgtEl>
                                          <p:spTgt spid="1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3FC-2984-428E-9DF1-0AAC15FE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156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157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74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Group 23"/>
          <p:cNvGrpSpPr/>
          <p:nvPr/>
        </p:nvGrpSpPr>
        <p:grpSpPr>
          <a:xfrm>
            <a:off x="333360" y="3941640"/>
            <a:ext cx="1890000" cy="1165320"/>
            <a:chOff x="333360" y="3941640"/>
            <a:chExt cx="1890000" cy="1165320"/>
          </a:xfrm>
        </p:grpSpPr>
        <p:grpSp>
          <p:nvGrpSpPr>
            <p:cNvPr id="1177" name="Group 24"/>
            <p:cNvGrpSpPr/>
            <p:nvPr/>
          </p:nvGrpSpPr>
          <p:grpSpPr>
            <a:xfrm>
              <a:off x="333360" y="3954600"/>
              <a:ext cx="1828800" cy="1143000"/>
              <a:chOff x="333360" y="3954600"/>
              <a:chExt cx="1828800" cy="1143000"/>
            </a:xfrm>
          </p:grpSpPr>
          <p:sp>
            <p:nvSpPr>
              <p:cNvPr id="1178" name="Rectangle 25"/>
              <p:cNvSpPr/>
              <p:nvPr/>
            </p:nvSpPr>
            <p:spPr>
              <a:xfrm>
                <a:off x="333360" y="418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333360" y="441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333360" y="464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28"/>
              <p:cNvSpPr/>
              <p:nvPr/>
            </p:nvSpPr>
            <p:spPr>
              <a:xfrm>
                <a:off x="333360" y="486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Rectangle 29"/>
              <p:cNvSpPr/>
              <p:nvPr/>
            </p:nvSpPr>
            <p:spPr>
              <a:xfrm>
                <a:off x="1857240" y="418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Group 30"/>
              <p:cNvGrpSpPr/>
              <p:nvPr/>
            </p:nvGrpSpPr>
            <p:grpSpPr>
              <a:xfrm>
                <a:off x="333360" y="3954600"/>
                <a:ext cx="1828800" cy="228600"/>
                <a:chOff x="333360" y="3954600"/>
                <a:chExt cx="1828800" cy="228600"/>
              </a:xfrm>
            </p:grpSpPr>
            <p:sp>
              <p:nvSpPr>
                <p:cNvPr id="1184" name="Rectangle 31"/>
                <p:cNvSpPr/>
                <p:nvPr/>
              </p:nvSpPr>
              <p:spPr>
                <a:xfrm>
                  <a:off x="333360" y="395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32"/>
                <p:cNvSpPr/>
                <p:nvPr/>
              </p:nvSpPr>
              <p:spPr>
                <a:xfrm>
                  <a:off x="1857240" y="395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Rectangle 33"/>
              <p:cNvSpPr/>
              <p:nvPr/>
            </p:nvSpPr>
            <p:spPr>
              <a:xfrm>
                <a:off x="1857240" y="441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34"/>
              <p:cNvSpPr/>
              <p:nvPr/>
            </p:nvSpPr>
            <p:spPr>
              <a:xfrm>
                <a:off x="1857240" y="464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1857240" y="486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Group 36"/>
            <p:cNvGrpSpPr/>
            <p:nvPr/>
          </p:nvGrpSpPr>
          <p:grpSpPr>
            <a:xfrm>
              <a:off x="1806480" y="4165560"/>
              <a:ext cx="383760" cy="250920"/>
              <a:chOff x="1806480" y="4165560"/>
              <a:chExt cx="383760" cy="250920"/>
            </a:xfrm>
          </p:grpSpPr>
          <p:sp>
            <p:nvSpPr>
              <p:cNvPr id="1190" name="Rectangle 37"/>
              <p:cNvSpPr/>
              <p:nvPr/>
            </p:nvSpPr>
            <p:spPr>
              <a:xfrm>
                <a:off x="1844640" y="417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38"/>
              <p:cNvSpPr/>
              <p:nvPr/>
            </p:nvSpPr>
            <p:spPr>
              <a:xfrm>
                <a:off x="1963440" y="417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Text Box 39"/>
              <p:cNvSpPr/>
              <p:nvPr/>
            </p:nvSpPr>
            <p:spPr>
              <a:xfrm>
                <a:off x="1806480" y="417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Text Box 40"/>
              <p:cNvSpPr/>
              <p:nvPr/>
            </p:nvSpPr>
            <p:spPr>
              <a:xfrm>
                <a:off x="1971360" y="416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41"/>
            <p:cNvGrpSpPr/>
            <p:nvPr/>
          </p:nvGrpSpPr>
          <p:grpSpPr>
            <a:xfrm>
              <a:off x="1806120" y="3941640"/>
              <a:ext cx="384480" cy="250920"/>
              <a:chOff x="1806120" y="3941640"/>
              <a:chExt cx="384480" cy="250920"/>
            </a:xfrm>
          </p:grpSpPr>
          <p:sp>
            <p:nvSpPr>
              <p:cNvPr id="1195" name="Rectangle 42"/>
              <p:cNvSpPr/>
              <p:nvPr/>
            </p:nvSpPr>
            <p:spPr>
              <a:xfrm>
                <a:off x="1843560" y="394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43"/>
              <p:cNvSpPr/>
              <p:nvPr/>
            </p:nvSpPr>
            <p:spPr>
              <a:xfrm>
                <a:off x="2020320" y="394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Text Box 44"/>
              <p:cNvSpPr/>
              <p:nvPr/>
            </p:nvSpPr>
            <p:spPr>
              <a:xfrm>
                <a:off x="1806120" y="395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Text Box 45"/>
              <p:cNvSpPr/>
              <p:nvPr/>
            </p:nvSpPr>
            <p:spPr>
              <a:xfrm>
                <a:off x="1971720" y="394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46"/>
            <p:cNvGrpSpPr/>
            <p:nvPr/>
          </p:nvGrpSpPr>
          <p:grpSpPr>
            <a:xfrm>
              <a:off x="1768320" y="4622760"/>
              <a:ext cx="403200" cy="245880"/>
              <a:chOff x="1768320" y="4622760"/>
              <a:chExt cx="403200" cy="245880"/>
            </a:xfrm>
          </p:grpSpPr>
          <p:sp>
            <p:nvSpPr>
              <p:cNvPr id="1200" name="Rectangle 47"/>
              <p:cNvSpPr/>
              <p:nvPr/>
            </p:nvSpPr>
            <p:spPr>
              <a:xfrm>
                <a:off x="1844640" y="462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48"/>
              <p:cNvSpPr/>
              <p:nvPr/>
            </p:nvSpPr>
            <p:spPr>
              <a:xfrm>
                <a:off x="1925640" y="462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Text Box 49"/>
              <p:cNvSpPr/>
              <p:nvPr/>
            </p:nvSpPr>
            <p:spPr>
              <a:xfrm>
                <a:off x="1768320" y="462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Text Box 50"/>
              <p:cNvSpPr/>
              <p:nvPr/>
            </p:nvSpPr>
            <p:spPr>
              <a:xfrm>
                <a:off x="1952640" y="462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Group 51"/>
            <p:cNvGrpSpPr/>
            <p:nvPr/>
          </p:nvGrpSpPr>
          <p:grpSpPr>
            <a:xfrm>
              <a:off x="1801440" y="4856040"/>
              <a:ext cx="384480" cy="250920"/>
              <a:chOff x="1801440" y="4856040"/>
              <a:chExt cx="384480" cy="250920"/>
            </a:xfrm>
          </p:grpSpPr>
          <p:sp>
            <p:nvSpPr>
              <p:cNvPr id="1205" name="Rectangle 52"/>
              <p:cNvSpPr/>
              <p:nvPr/>
            </p:nvSpPr>
            <p:spPr>
              <a:xfrm>
                <a:off x="1838880" y="486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Rectangle 53"/>
              <p:cNvSpPr/>
              <p:nvPr/>
            </p:nvSpPr>
            <p:spPr>
              <a:xfrm>
                <a:off x="2015640" y="486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Text Box 54"/>
              <p:cNvSpPr/>
              <p:nvPr/>
            </p:nvSpPr>
            <p:spPr>
              <a:xfrm>
                <a:off x="1801440" y="486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Text Box 55"/>
              <p:cNvSpPr/>
              <p:nvPr/>
            </p:nvSpPr>
            <p:spPr>
              <a:xfrm>
                <a:off x="1967040" y="485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56"/>
            <p:cNvGrpSpPr/>
            <p:nvPr/>
          </p:nvGrpSpPr>
          <p:grpSpPr>
            <a:xfrm>
              <a:off x="1834920" y="4394160"/>
              <a:ext cx="388440" cy="250920"/>
              <a:chOff x="1834920" y="4394160"/>
              <a:chExt cx="388440" cy="250920"/>
            </a:xfrm>
          </p:grpSpPr>
          <p:sp>
            <p:nvSpPr>
              <p:cNvPr id="1210" name="Rectangle 57"/>
              <p:cNvSpPr/>
              <p:nvPr/>
            </p:nvSpPr>
            <p:spPr>
              <a:xfrm>
                <a:off x="2016000" y="440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2004480" y="439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Rectangle 59"/>
              <p:cNvSpPr/>
              <p:nvPr/>
            </p:nvSpPr>
            <p:spPr>
              <a:xfrm>
                <a:off x="1839600" y="440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Text Box 60"/>
              <p:cNvSpPr/>
              <p:nvPr/>
            </p:nvSpPr>
            <p:spPr>
              <a:xfrm>
                <a:off x="1834920" y="441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4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216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6281E-007 C 0.07153 0.00347 0.14323 0.00717 0.22795 0.00717 C 0.31267 0.00717 0.43281 0.03099 0.50799 4.16281E-007 C 0.58316 -0.03099 0.6309 -0.10523 0.67865 -0.17923 E">
                                      <p:cBhvr>
                                        <p:cTn id="300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A616-CCB2-4560-A2C9-BF9D8421F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2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2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2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2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2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2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2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2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2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2F16-6759-4731-B7BE-17149327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3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3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3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3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3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3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3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3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3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3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retraining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368" dur="2000" fill="hold"/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E151-EC7D-44D0-B03C-6334632C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on assigning messages from 20 Usenet newsgroups their proper newsgroup la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very few labeled examples (2 examples per class), semi-supervised EM significantly improved predictive accu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7%  with 40 labeled messages onl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3%  with 40 labeled  + 10,000 unlabeled messag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ore labeled examples, semi-supervision can actually decrease accuracy, but refinements to standard EM can help preven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ust weight labeled data appropriately more than unlabeled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mi-supervised EM to work, the “natural clustering of data” must be consistent with the desired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ailed when applied to English POS tagging (Merialdo, 1994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C362-D3B1-4363-9A21-46B33C07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18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“Catholic” is present in both of the labeled documents for soc.religion.christian, but “Baptist” occu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for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abeled data, we learn that “Catholic” is highly indicative of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abeling unsupervised data, we label several documents with “Catholic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Baptist” correctly with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training, we learn that “Baptist” is also indicative of a “Christian”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learned model is able to correctly assign documents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Baptist” to “Christia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0151-1B83-498B-95D8-4A218290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evaluate cluste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rnal: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ghtness and separation of clusters (e.g. k-means objective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t of probabilistic model to dat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tern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re to known class labels on benchmark dat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search to converge faster and avoid local mi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ping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D71-A00E-428B-9BC0-02EF4999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learning induces categories from unlabel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variety of approaches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-mea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supervised learning uses both labeled and unlabeled data to improv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1A30-9658-44AC-AC2C-C7B86B64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lommerative vs. Divis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glommer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thods start with each example in its own cluster and iteratively combine them to form larger and larger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vi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al, 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parate all examples immediately into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ACA8-BC77-4AF0-B6A9-8AEA840E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Clus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rect clus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require a specification of the number of clust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ing eval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a real-value quality measure to a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clusters can be determined automatically by explicitly generating clusterings for multiple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hoosing the best result according to a clustering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AE9F-B51C-4DC6-BC8C-4A1C9278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Agglomerative Cluster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HAC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ilarity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etermining the similarity of two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ith all instances in a separate cluster and then repeatedly joins the two clusters that are most similar until there is only on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y of merging forms a binary tree or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93E7-B4BA-454A-97FF-B35879D2B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A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762480" y="2209680"/>
            <a:ext cx="7401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ll instances in their own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re is only one clu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current clusters, determine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are most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singl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E6A-93F8-4164-BB47-E6C6CA9A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imilarity function that determines the similarity of two instanc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similarity of document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pute similarity of two clusters each possibly containing multiple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mo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lea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up Aver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Average similarity between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0-04-09T13:39:25Z</dcterms:modified>
  <cp:revision>80</cp:revision>
  <dc:subject/>
  <dc:title>Intelligent Information Retrieval and Web Search</dc:title>
</cp:coreProperties>
</file>