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AutoShape 1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Text Box 2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0920" y="684000"/>
            <a:ext cx="4556160" cy="34160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776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13"/>
          </p:nvPr>
        </p:nvSpPr>
        <p:spPr>
          <a:xfrm>
            <a:off x="388584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8584A-316A-44B4-9C16-B0A90E161F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B0936-C3D1-4785-8FCC-89158AA97A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CB23CD-8531-49A4-AA1A-FED3C74B88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44FFF-15F0-4956-9A1F-234EE4A5EA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C12861-4398-40D0-B283-77228293D5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516E6-5A1E-4D51-8E86-C90BB361F9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19EAD3-0075-4CBF-B2F6-AB6537151E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0E742-76AD-4C63-9838-1A52879801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24E67C-21D2-45D2-8EFE-D776A2083F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8EE9D-5C67-4086-A5B9-C089F7685C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B65599-AC7D-48DE-B701-35C10146F4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28ACE-01DA-44F2-A8DB-1687512F9D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725EF2-BBF4-4526-9A64-B79E8B403F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CF0B4-3743-466C-BD47-A5EFCA78BA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899431-2339-4EA5-83B9-94C8080C8F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39832-E0ED-459A-AABD-9B3143719A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C2B5D5-92D7-482D-B457-657029C81B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3E0FE-9CBA-479F-AA28-8B60A21AB9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D1E886-2ABD-4133-8074-97A7601E5A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F4A17-55EB-4443-8836-E35FDCF524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371A64-D34F-4ACF-884D-0BC000C8AF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EAB3F-7B15-4620-9EFF-8080BE1194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9826B5-693C-4C81-AB23-83682C9944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5E25C-7823-4A5E-8E5D-F75393B35A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5C2886-2A4F-4005-AEAB-D8152B9C40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1AF56-4142-4E14-AE1D-E99E1A61BB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CC48B5-4FB9-46A8-9D03-9AFC97D921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A7D97-5E4B-40DA-9DB8-59274AEEE1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0B2A59-ABB8-4F56-A257-6D2746FE9D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88E98-26BB-4B86-8726-028FF90A7D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995320-E138-406B-91AB-4C56A156AA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326EE-E45D-497D-9C73-3605FF334B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C794C4-7C2D-4C72-BC08-C7C883FF19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F613D-DFD8-49E2-9D4B-8BA80A83BF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046F82-0521-4A94-8694-14CCA8B818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A221-75C7-4EDD-A44B-B730FF846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115BD-42A6-4B4B-88E3-FE04AAE6149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9ABB2-46C5-45FA-927D-BE47543E097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1418A-D947-4CFF-99A2-EC8033814EA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CF0B2-E683-4B26-9E60-2314DD4AF13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27257-8781-4CC6-B386-F0DDC20E77A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B3F3A-877B-4961-89DF-52AA20F77C1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B03A7-E346-40D4-92CF-7D92EB3922A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44946-6E74-43C2-8E46-C6EE892CF9E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83D52-881B-4255-AE1F-88250527C94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89AC8-E2DF-4E06-A00D-DB0B90FC963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EE2E4E-A0A4-4949-A9BD-A887B1F45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9158-57CC-4A6F-A144-2CDD9C81714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296ACB-61FF-46C1-B437-7E9BEE9AFD6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4FFD8B-ECC3-431E-A992-6DC77CC1273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EBDEA3-EF14-45FE-BD6B-568A61488DC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913452-C02B-4B2B-8D3C-F150CE4E33B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55A133-9124-4427-9ECF-C86DC8A3EB5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9F502D-25C6-4856-A4F1-21C92A84DF4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1C4DEF-5145-4D11-A232-101F6CE6AF5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DF22AB-49BF-4004-9F18-0A835414EA5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44A24F-A629-41A6-97EE-87E74DB2DA1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180EC9-6C7D-467B-A4A9-3528A6210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830F-918F-4F15-A6FA-5165655BFB0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711171-7CCD-4007-B153-37F09163246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BF79F1-0C2E-42B3-BBFA-389CF95C48D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F08029-451D-4A97-BB7B-A48719FB511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99CFE6-F503-414C-A12E-CF856CF93FC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AD1D21-791A-4A12-8529-B2932648E11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BF39EB-6F36-4DC0-A423-B814583D7A6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C862ED-E246-401D-985C-32AF4BCD494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E1A7B8-C117-4805-A5A9-1FACA14A902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E9AA46-C602-421A-A994-4CC15A43735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4C60C4-060E-45AB-8994-BA5822E81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2B9A6-8EFF-4175-AD8B-45947D0911E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659872-503A-46CC-8CAF-20EDEA02076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A4938F-F166-4FE8-8F72-842B22D1212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9A7949-043C-4825-BCC6-088162871EF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0E3C0-1975-4BE0-9E59-A863885E7E1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D9FFA-D91C-4484-B61C-45488F1466A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2E3C2-2E90-4ECA-A489-7662F853965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E5A62-4AA3-4203-973F-9317A63AA93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15892-6C1E-41E2-97DE-FB61ADE18A0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4641E-9E49-427C-96CC-9AF378E65D0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313FE-4CEE-44C4-B1FB-AC57764152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51A28-F3B1-42AF-A73D-E45D8F659FE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C4FBA-E34B-4A7D-8C3D-B13D7B5B248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EB0E8-C3CA-446A-90DB-86E34BFA009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B1B38-A104-491A-A5E1-7D5BB3ABFD0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918AD-3EA6-4C16-A5D0-D8C1A3E7862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2A243-D74B-43AD-9858-2569FFD1B3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DA7E-0573-4345-922F-A1D27D92FB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0A29A-8335-491C-AE61-F4EDC05EF0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9756E-8E9A-4514-ACD1-FEE6832979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71DCC-4755-4BAC-A1C8-8F281C2C8E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65F0B-0DA2-4DF5-90C7-5C737B71BC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3EC4-1473-4E1C-9D73-C57C29539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35E9-69B0-42A4-86C4-04C2D532D6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AD179-CEF4-4094-8A7F-9FA3E0CB37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69D7B-F447-42FC-B399-47BF0A9F9D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5F4C3-175E-4D6B-A9CA-BC5CB8BC54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803B9-781E-47F8-B795-E522CBD7077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869-CCB1-4466-B743-7AE1A5F29C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73D-FE99-4AB2-A5EB-8983FCAE1E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7D8-C9B1-4A7F-A54C-DAAD8B79A0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B56-E78A-40AA-A0E3-DAB50B78FA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E51-5906-4176-A6AB-C0FF62DF7F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27B4-6FAE-4D23-BF6A-EFA51334D9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84BD-F810-41F2-83EB-5BBD57C6A2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4B1-E42C-4FA6-925A-6097BF1A46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C81C-E3AB-4637-97CD-A46A4E46DB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E48-C854-4371-9423-394C48A482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0D5-60B3-47F0-9051-05D5A8FCF7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9DF-74C7-42D5-915A-762B58D1F2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60C-F2D2-4889-93DE-83556FEE41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E754B-98E0-43B4-980D-6CA0DA1AB2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18EE4-9B8A-43C0-BA6E-95C3E4D509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28D2A-105A-412A-983C-2ED8494C6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DB120-FAF7-47C8-839A-ED0180A8B8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5967C-54AA-47D9-A13F-3CBE404525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BBDD3-B20A-4F3D-9C70-819CC61078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885E5-B426-46AB-8070-350D00DB014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9B4F8-FA84-4FC5-89BD-179B5EF1F1C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0E6B9-F540-4E18-B7A4-09850C5662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063CB-7A89-415E-9BE3-312F8C6B42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9BC3F-6799-4010-8AAA-2281D93660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791D1-1AEC-4737-BE25-1BCDA6E290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A346A-F4ED-4F89-A9B8-49C87007C7B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44462-D168-4A8E-89C0-8E201F7D4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248E-7467-4163-B513-4F2EFB5AEA9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7844F-02D9-44B3-AA77-BF2A6220565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C5D37-C4CF-415D-BA10-16161A6AA92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302BE-283C-4C2D-871C-A368BB343EE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2078A-681C-4D28-BE31-4F25AF5652C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92590-3DB3-4875-8466-E44DB038ECE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B80D2-97BB-4F7A-93B6-FBD82BA2D43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CD4EF-4894-4692-B99A-A5427ADFF91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DD750-7EFB-4426-9F74-E082C2C0F0D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2FF73-F607-4B59-BD5C-5578DA54F9F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9C4EA-4F9E-42B8-A9DF-274FFBC6B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F3F9-F779-4A03-8799-390875AF884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9C1FD-2003-443C-932B-4C02741BE91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6453-4BCC-49E9-A5A2-854EB34A850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E865-C95A-4E74-8862-6C5CB675480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176F-793A-4BE1-A4D0-BD0A0DD7E28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B56C-825C-4ED5-BF37-3F945CF829A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C5FA-4C37-4A3B-83A1-9226307D8AD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8C7B-059B-4E53-94AC-769915A5A55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7CE7-A707-4EB8-B7CA-CAFC7FD1E49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85A9-96EF-4ADF-B1F5-C23E6523B49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2C0C-BBC3-4743-9759-D70601D6A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226A7-2683-4A97-B497-36555229AFD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C70A-E2F5-4DD0-AFEF-3619AA3C05D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9126-2BED-4E6A-A9AB-792A8B35E63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484B-2739-43A7-9FF2-6D0E2BF1BD5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952439-5EC5-48F0-B474-6A3A6FA71E5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BFA7F2-20C4-40D1-8D55-33EAE0577E1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327853-0B20-4C9B-AC39-97C3FAD8594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98C2D0-5468-4C7F-BFFB-4D85D18FA67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35893E-D95E-4E45-834B-F2B3EF3C3B9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F10A77-DCAE-44E6-94E0-5DAC424E441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ED1858-B5D0-4546-81AA-DD0E65652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6DA3-ECC4-42E6-9BB7-64867602A74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83E3EB-084B-4EA2-9475-5A8230BEE9F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930A95-3D95-4813-B547-E80333C811F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29D36B-B56E-429A-99BF-963F7B99D49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E486A4-A86A-4D73-997C-8AB8138876E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BE91E3-306F-4AC3-8015-E225B371D63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26CE3-94B0-4DD5-8B0C-8DAFFED5E30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48EDA-AB4D-4C8A-AF2D-13F08DD2892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9FE89-378B-4331-9947-33F1140B073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6BAF6-88E4-4C3A-8B0E-15102ADDDD9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80220-4D6B-451F-A189-8E83B6F50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E882-5350-4C83-9210-88A47FF017E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F7E5C-60B6-42CB-94D3-19F8B7766B1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3436E-9E56-4BF6-8A42-54C26D11BE7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74605-8DC4-4456-95C9-FA03F031D8A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7EBAE-98FC-4D89-87AA-53BC10DF826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371A4-1480-403D-AF04-0D3DB92CD1A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DE5F3-FCD0-413A-88BD-5073B138D0E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F3E8D-D63D-4651-B50A-67C5F11A64A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3D1E1-7486-4159-A5B8-8DDAC9ECC27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D4FC2-47D5-4BBC-80E2-831D72FE1D5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B4633-CDD2-4382-9320-009A98F61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4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08757-BA7A-4812-9746-763803B37E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1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10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6DC73-F6F7-40FA-9E3E-C47502AE9D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1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252C6-79F2-40F2-9CD7-15FD7AFDB2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1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E71E1-7DAC-4B0A-A920-B42D933E27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1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322DB-8CC5-482F-8A41-730ABEB51F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1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3C4BC-CC5B-4175-BEB9-061E16A1CE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1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4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0A569-DDC4-4D9E-857C-E96CFF088E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1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5096A-A53D-4ED6-801D-34BB494EC3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5418F-41C8-4F51-8026-05DA36B9B8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1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4AB01-26DE-48A0-8001-8D3E7B582C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1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C90EE-499D-4997-BAD1-2F851A02B4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1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9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1695E-F59B-4D86-87FF-EBE8C72EB2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linkage.rockefeller.edu/wli/zipf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F0ADDF-DE8A-46F5-90B3-F6A37824C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Text Box 2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Text Properties and Langua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C108AA-65CC-4F3E-AB4F-6DF4E15E9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ndelbrot (1954) Corr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more general form gives a bit better fi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Object 4"/>
              <p:cNvSpPr txBox="1"/>
              <p:nvPr/>
            </p:nvSpPr>
            <p:spPr>
              <a:xfrm>
                <a:off x="1676520" y="2438280"/>
                <a:ext cx="59436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=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+ρ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B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For constants </m:t>
                    </m:r>
                    <m:r>
                      <m:rPr>
                        <m:lit/>
                        <m:nor/>
                      </m:rPr>
                      <m:t xml:space="preserve">P,B,ρ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910D7F-1DC9-4D1C-96AA-2E77327F2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ndelbrot F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3279600" y="6095880"/>
            <a:ext cx="29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.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 = 1.15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2" name="Picture 4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B84CFC-2F23-4C69-9ED7-518AAA3A3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lanations for Zipf’s 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ipf’s explanation was his “principle of least effort.” Balance between speaker’s desire for a small vocabulary and hearer’s desire for a large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ate (1955-61) between Mandelbrot and H. Simon over explan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on explanation is “rich get rich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 (1992) shows that just random typing of letters including a space will generate “words” with a Zipfian distribu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linkage.rockefeller.edu/wli/zipf/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723EFE-C55C-4B77-9025-C10214118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Zipf’s Law Impact on 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od Ne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opwords will account for a large fraction of text so eliminating them greatly reduces inverted-index storage cos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ings list for most remaining words in the inverted index will be short since they are rare, making retrieval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ad Ne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 most words, gathering sufficient data for meaningful statistical analysis (e.g. for correlation analysis for query expansion) is difficult since they are extremely r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13E785-1F8F-4771-8ABD-81E06C07D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ocabulary Grow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es the size of the overall vocabulary (number of unique words) grow with the size of the corp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determines how the size of the inverted index will scale with the size of the corp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 not really upper-bounded due to proper names, typo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0F14F7-543B-446E-A82D-B28D5E881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eaps’ 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ize of the vocabulary an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length of the corpus in wo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consta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10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Symbol" charset="2"/>
              <a:buChar char="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0.4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0.6   (approx. square-roo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4"/>
              <p:cNvSpPr txBox="1"/>
              <p:nvPr/>
            </p:nvSpPr>
            <p:spPr>
              <a:xfrm>
                <a:off x="1595520" y="2666880"/>
                <a:ext cx="60418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=Kn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with constants </m:t>
                    </m:r>
                    <m:r>
                      <m:rPr>
                        <m:lit/>
                        <m:nor/>
                      </m:rPr>
                      <m:t xml:space="preserve">K,</m:t>
                    </m:r>
                    <m:r>
                      <m:rPr>
                        <m:lit/>
                        <m:nor/>
                      </m:rPr>
                      <m:t xml:space="preserve">  0</m:t>
                    </m:r>
                    <m:r>
                      <m:rPr>
                        <m:lit/>
                        <m:nor/>
                      </m:rPr>
                      <m:t xml:space="preserve">&lt;β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2675DE-8CA7-45F1-B5F8-87C01117D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eaps’ Law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Picture 3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7552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B57AE7-6955-44EE-956D-A6FF0A647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lanation for Heaps’ 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derived from Zipf’s law by assuming documents are generated by randomly sampling words from a Zipfian distrib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EAC608-92B2-46A8-933C-BEF53EC0D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atistical Properties of Tex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s the frequency of different words distribu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fast does vocabulary size grow with the size of a corp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factors affect the performance of information retrieval and can be used to select appropriate term weights and other aspects of an IR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5FE524-621A-459D-AD44-5177363B0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ord Frequenc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57200" y="1371600"/>
            <a:ext cx="82296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0320" indent="-3103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ew words are very comm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4280" indent="-2581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2 most frequent words (e.g. “the”, “of”) can account for about 10% of word occurren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0320" indent="-3103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words are very r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4280" indent="-2581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alf the words in a corpus appear only once, called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hapax legomena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(Greek for “read only once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0320" indent="-3103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ed a “heavy tailed” or “long tailed” distribution, since most of the probability mass is in the “tail” compared to an exponential distrib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4C458C-478A-4530-A226-8DE65C80C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Word Frequency Data</a:t>
            </a:r>
            <a:br>
              <a:rPr sz="3600"/>
            </a:b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from B. Croft, UMa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3" name="Picture 3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78720" cy="48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EBFC37-1BA3-4328-B8ED-44FC6D6B6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Zipf’s 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an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The numerical position of a word in a list sorted by decreasing frequency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pf (1949) “discovered” tha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probability of word of rank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total number of word occurr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4"/>
              <p:cNvSpPr txBox="1"/>
              <p:nvPr/>
            </p:nvSpPr>
            <p:spPr>
              <a:xfrm>
                <a:off x="2057400" y="2971800"/>
                <a:ext cx="10476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5"/>
              <p:cNvSpPr txBox="1"/>
              <p:nvPr/>
            </p:nvSpPr>
            <p:spPr>
              <a:xfrm>
                <a:off x="3809880" y="3200400"/>
                <a:ext cx="4038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=k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or constant 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6"/>
              <p:cNvSpPr txBox="1"/>
              <p:nvPr/>
            </p:nvSpPr>
            <p:spPr>
              <a:xfrm>
                <a:off x="1523880" y="5257800"/>
                <a:ext cx="62485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for corpus indp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A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B0C30D-2B9D-401A-82CF-20029D68E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Zipf and Term Weigh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hn (1958) suggested that both extremely common and extremely uncommon words were not very useful for index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5867280" cy="43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1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valence of Zipfian Law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Text Box 2"/>
          <p:cNvSpPr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items exhibit a Zipfian distrib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opulation of c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ealth of individu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iscovered by sociologist/economist Pareto in 19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opularity of books, movies, music, web-pages, 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opularity of consumer prod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hris Anderson’s “long tai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8B2AB1-F458-4EFE-A4F7-5F1BAF3C4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AF96F1-807F-40EE-9D68-722528C74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oes Real Data Fit Zipf’s La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w of the fo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alled a power la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pf’s law is a power law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a log-log plot, power laws give a straight line with slop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pf is quite accurate except for very high and low ran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4"/>
              <p:cNvSpPr txBox="1"/>
              <p:nvPr/>
            </p:nvSpPr>
            <p:spPr>
              <a:xfrm>
                <a:off x="1828800" y="3962520"/>
                <a:ext cx="5257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k+c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8401A1-0587-441A-AD04-29156E25A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it to Zipf for Brown Corp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3730680" y="60958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00,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4" name="Picture 4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411960" cy="46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mond Mooney</cp:lastModifiedBy>
  <dcterms:modified xsi:type="dcterms:W3CDTF">2021-09-20T20:02:00Z</dcterms:modified>
  <cp:revision>84</cp:revision>
  <dc:subject/>
  <dc:title>Intelligent Information Retrieval and Web Search</dc:title>
</cp:coreProperties>
</file>