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AutoShape 1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84000"/>
            <a:ext cx="4556160" cy="34160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3"/>
          </p:nvPr>
        </p:nvSpPr>
        <p:spPr>
          <a:xfrm>
            <a:off x="388584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E5D16-3356-40A6-BB34-E9F568310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21E5C-1C15-4113-A888-049B11449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30146-E554-4A01-97ED-2224647EE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6D46B-9DF1-4775-9F0E-F5EBBE9C3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D3728-67EF-48BB-992E-E9B49FE4B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F6D8-B7C3-4E98-AC74-D9F23DDEB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6B875-527F-4A69-BDBA-D25586287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3AC8-1890-4F4E-8089-AF9E6C667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F7607-F5B0-45F4-899B-8AAE1595E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F3883-F5FD-48DF-A7BD-B5AB93955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F9AD1-A49B-4654-9FEA-068F2259DE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7520E-F70C-4D77-84AE-2553C80F1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69EFE-39D3-4136-894E-E06C07678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BD7A-D63E-44BF-B45E-595093E8B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53F11-1E6B-4CE5-A7D1-5E72A5888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3E02-5CD1-45D2-A14F-66C7AB59A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4DBE75-1FDC-436F-9320-5AD2BD376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5364-7822-41B6-853F-97054A8DF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D6FB91-43ED-4230-82D2-9E158AE17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78BB1-F3BB-4040-BEDC-5E467B132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E1762-24F9-4BE5-BD51-6ACEB991B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58DB-5CB9-48C0-883D-026D9BC60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74172-F426-43C2-AE05-E0E9539BC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E69F-40CB-4D80-AE24-2249B29B37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ED36E-B218-4BBE-BC69-7E9570439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85BBC-9736-4F97-823F-5958EF266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DF150-06DD-42B1-BE09-FA72D3271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68957-721B-4AE1-8C07-07975D744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DCD8B-6E36-4DAD-8412-2C9608665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B334-A2AB-4A4F-AC3D-2FC2B0858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0A9A8-FD01-4814-A9E4-9A6D5D19F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F796E-B669-4F04-A836-18712AA48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2392E-6DB1-462C-A6A3-8D12BB73B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61240"/>
            <a:ext cx="297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B0A22-EC3D-441C-AF5A-7ED95A014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F2D21-F142-45E7-96A8-C3F3A75ED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Noto Sans CJK SC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35F6-9E0C-49A6-B169-65AA17B57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6BE6-235F-40B6-B54C-776EABFFF1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7B44-3BE2-400D-81BF-2A9CC7052C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BA68-E0BB-42CF-946E-A45696058E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3292-A241-4DE7-9363-D86D5F26FF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1C4D-150A-42A2-AE44-7547A99B3C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B971-8302-4680-9D17-31B1FC08B65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52D5-0739-4F0A-86F0-EF1516AABEE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BACD-AEBC-4F9A-9A24-609A29C818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FAC4-4BE2-4E42-9CC5-59FB9FD529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2EE7-1334-4B38-A7E9-7BA77E9EAE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C003F-11C0-4729-B1E9-26E737D0A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F2A7-17D8-44B3-9670-382ADFB219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C3E7C-EBFB-4000-B6DB-BF8DBE3AE05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8F9C0-2B71-4484-894C-C1F7A8BCA3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91314-A7B5-4005-902C-2E36B84C20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9C7C9-A4BB-495F-B4DA-A539B657BE6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9FD89-2B7B-43FA-B0AC-108D4705A4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909CA-6BCF-4D1C-99BE-5D9A4602A5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03C20-684F-4A15-8C8B-53480141E6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3C139-BEE0-4A08-BBEC-03926AA354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44046-4C33-4206-867B-CF9FE593C75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0587E-575F-438E-8799-5A5B9A87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4C86-5A07-45C9-99BA-A0852B742E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07710-A0E8-4787-AED2-EFD15FB8B5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B9A82-208E-4731-BA68-F5FA4C4182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DDDF1-631A-4864-AE98-A226175EB72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1720D-423F-4299-BFBA-250646AE25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78A12-EB21-498C-BC86-14B6B84296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B7774-73DC-45FF-9247-FEBBD92758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8C4BC-7776-4A5B-8042-D3B2FB8183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F1F78-D3EE-4B7D-B14E-69BCA00771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E32F8-A827-43B2-8522-9C273D2FD68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14F04-36A2-4941-AD5F-54AB11F37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1A7D-9268-441A-9C12-6562D337A8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C3103-06B7-4642-9370-B52AA82ACEC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2C54E-9C18-41D1-BF28-484CF59696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83457-857B-4653-8909-3559FDA68F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AA88-FD80-4798-8154-A05B942049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947B-2769-49C2-BC19-54A76173DB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B524-351B-40EC-9EB7-9442134DF2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0B34-3DAA-46AB-A463-EE0DBBBC75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1DA03-B803-4518-BCB2-BA86A5F49B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D9C1-BF79-444E-AF91-3FD590898E3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63F1-9215-4F9D-A2CF-ED69934A1A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58B6-F113-4F4C-926A-68AD6020945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EA80-3DBC-4B2F-94BC-2BD5202FA6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8E93-4D9B-4B1C-BE87-1292C592D99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C5A4-F2A1-44DE-977F-7A72BEF1A8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C4D1-DC55-4B17-A6E0-1D73686BAD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35C1-822D-4812-B511-D0140FE424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202F-4A18-4D53-8E85-668D3728B7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26C7-2263-4345-861D-0231DCB88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6E7C-1686-4443-91E1-D52BDE4EF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C015-2C9E-4F42-A45E-33E9DDA81F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65BC-A227-44FC-B825-AF7EAB2F8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C4E9-D80B-4EBD-8505-FC336D3B0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2768-D97B-43B3-A1FC-9ACB1A71A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F2DA-DB00-4FB0-ABE0-3D1BDF50BB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D8C9-1A48-4C87-9A54-975D24CB49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12B0-4116-4DA9-A57A-E800C9482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998F-B1C7-43E5-8643-EA832BFEFA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4B3-E08E-43C5-A932-5E17DAEF75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A40-A8A8-42C1-AE9E-EA18EDA44D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B7B-63F4-4721-AD40-E8010C4BCE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1FC-81BC-4459-B4BA-30EAF47B73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D62-D553-494B-A0CD-06E16A2FF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2116-B534-41DD-BFCA-5E55ADB1B2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95E-F06A-4744-8D30-4A3F5D1392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A4D-D9FD-4CA6-8DC3-178560BD2E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D5F-EA96-4AF2-967C-510EC22358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088-5B06-4FD5-BC5F-8C1D252111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98A-9E74-42F1-AD0D-4930F5C760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B89-8159-42E6-85FB-04805CC868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61F-3DDA-471A-8914-BBDD286D47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07B52-204A-4D19-AF45-D7DF37B209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B368D-32BD-42F0-98AE-68C820904B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F49FA-283D-49C7-A35F-01B5AFD2C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93EA-480E-4AD0-9AE2-AB0DAE3B1F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24CF0-EEA6-4BFB-9FA6-9759683CB0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DC4CF-6404-4747-A041-EEF06D17BC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5BBEB-EA61-413F-8BAE-EBE6EE6056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55766-0EC6-4E1C-B244-BBEC2B244B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EEE90-3537-4F46-9F3B-06C149C663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A1602-AEA9-4EA6-8525-38D0DAF559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3D083-3B22-4A02-B7EB-86385B7EA6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A1048-A74C-41FE-B3E1-88A61AF02E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2110-A9F7-4A45-B176-FD7D709BC7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49A6-69DE-4F70-AC2D-6347C3FEC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4C83-4E62-4B31-A160-EB0CE1F220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065F4-E788-4C98-B1E5-B1A75825D5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0F73C-F5F7-4AA8-B421-A317B5EF09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043F2-8C4B-4399-B9C4-8E284AC39A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DF8F-133D-4039-A3A3-36DC817A6F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49F75-0AFE-40CE-A0F1-EED7CC9DE1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D221-BFF5-4997-A536-D0DE656475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45BDF-875D-4FC4-9B72-A869A622D1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07618-EC47-4C90-8C63-2893654424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1553-9A1B-4181-8B30-8B206327BD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4082B-1527-4AF1-8524-41312461C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A0C9-8624-40D5-BFF6-59A1AD1DF1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D2722-721E-4267-AF66-8721640071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FD2-5D2D-42CE-9200-434151E5BD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3E9D-CF97-45C6-BD37-C324A7C9C3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3128-65C7-4370-9E88-25122A56BC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44E1-34F5-4A10-994D-62FD898AC8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E6D3-213D-43FA-BA38-A3FBC16F5E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FA85-A6B8-4D95-911E-309CA6DC0C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C03E-3A54-465D-B809-3DCD41016B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592-B37C-40C1-9718-8E9330624B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80D-C61F-467B-A37D-982F5FED7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8E7A-4CDC-44E4-9CE2-AA5C2DDCE1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421D-E724-4642-9B2D-2D239D86AB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88A8-BE02-4480-A1AE-A69EE1850F2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99B3-F97C-4CF2-A9F5-CC0EEB93E2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7D310-A960-4E8B-8A2F-AE2C779789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317AB-9CEA-422F-822F-2C88465E16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E92D7-AC47-4CEB-AFA2-CE6D5DE1A2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6CE29-F37D-473D-A649-10FD99A97B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A76DA-A6C8-4703-A36A-3B8C3CF4BF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CBD45-217A-4A8A-95E1-8EEFCE84035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9A540-5E6F-49A7-BF01-D7C26164C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675B-9BB8-447D-9C05-85359C7707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1E506-8157-4183-8A27-596E2CD0E4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828BB-ACD2-46DB-9665-C6221A6378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0D246-3B5C-4B9D-B865-705D33A408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FB3B6-E2DC-4555-8C04-EBC4AED376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FBDC0-4D21-4C29-BCB3-0B2A70CB33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D4FEC-D33B-4E6A-8BE8-349A2ECBED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90DC3-6E9A-4945-B46A-ACA5B4F816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A7023-A41A-41AD-B9FC-4E2A0589DC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4BF33-8CD6-4BF5-A9B3-2F14C5EA8E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37B65-AF92-4864-A55C-F1ACA3047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C610-9EDD-48DF-BB38-3FDDB8F27C5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10F13-6AF8-4F09-A2D5-E11EBA1D63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F291C-C12A-499A-94CD-6F144F3ACC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DB3D2-55B5-4933-9DEF-8C3E47A596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D5B22-4382-4C00-B02D-F44FB17322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C1AB9-05F4-4F41-AD6B-3C727946AD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7760" y="3819600"/>
            <a:ext cx="37918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167C4-7D24-449C-8CED-5A88B2BD68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44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0720" y="3819600"/>
            <a:ext cx="2502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0BF32-32FF-44A9-BC4E-3B52961591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379F-00E5-415C-B54A-993D732DCD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1613-1317-4DBC-B2FD-76F34AFA8B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9CCF-B86F-4472-A146-428B33E9E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4E25-7CDA-4C40-A491-2C03B2F78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E740-E961-4627-8121-C256FCBFFD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2FA2-A2DD-421E-8B94-0DE723CF7D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2EC3-1581-4D3E-BB0B-70E442D033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F4A4-24FC-4EC9-B5E5-306CCBEF2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30C6D-59B7-4E8D-92D3-3C31236AC4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D1405-088F-4382-8E0A-0FFDF419A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5EFAD-04E7-4452-BF3C-7A74384DD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62652-D87C-4890-9C8C-747227337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4B020-CC38-41D1-8D48-542F70DE10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42581-342A-412E-A3DD-092DE35618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1"/>
          <p:cNvSpPr/>
          <p:nvPr/>
        </p:nvSpPr>
        <p:spPr>
          <a:xfrm>
            <a:off x="533520" y="1295280"/>
            <a:ext cx="8076960" cy="1800"/>
          </a:xfrm>
          <a:prstGeom prst="line">
            <a:avLst/>
          </a:prstGeom>
          <a:ln cap="sq"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10E1E-94AE-48E9-9AE6-6E927738A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inkage.rockefeller.edu/wli/zipf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A4444-43C3-46CD-A0F7-B0C05BA1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Properties and Langu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65349-7A65-4AE8-BA44-1EFAC64D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delbrot (1954) Cor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more general form gives a bit better f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4"/>
              <p:cNvSpPr txBox="1"/>
              <p:nvPr/>
            </p:nvSpPr>
            <p:spPr>
              <a:xfrm>
                <a:off x="1676520" y="2438280"/>
                <a:ext cx="5943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=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+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B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For constants </m:t>
                    </m:r>
                    <m:r>
                      <m:rPr>
                        <m:lit/>
                        <m:nor/>
                      </m:rPr>
                      <m:t xml:space="preserve">P,B,ρ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55F01-E1B2-4642-BEDB-8291A4F0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delbrot 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3279600" y="6095880"/>
            <a:ext cx="29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 = 1.15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BEDDB-4571-433A-9221-D78B85C6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s for Zipf’s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pf’s explanation was his “principle of least effort.” Balance between speaker’s desire for a small vocabulary and hearer’s desire for a large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ate (1955-61) between Mandelbrot and H. Simon over expla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explanation is “rich get rich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(1992) shows that just random typing of letters including a space will generate “words” with a Zipfian distrib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linkage.rockefeller.edu/wli/zipf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E7347-01BA-488E-A10F-3CDC4EE7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 Impact on 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opwords will account for a large fraction of text so eliminating them greatly reduces inverted-index storage co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ings list for most remaining words in the inverted index will be short since they are rare, making retrieval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d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most words, gathering sufficient data for meaningful statistical analysis (e.g. for correlation analysis for query expansion) is difficult since they are extremely r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2E173-C800-496C-8DD6-F7932FFF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ocabulary Grow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size of the overall vocabulary (number of unique words) grow with the size of the corp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determines how the size of the inverted index will scale with the size of the corp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not really upper-bounded due to proper names, typ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26425-5248-4214-99BD-6F4B82D1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ps’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ize of the vocabulary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the corpus in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consta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.4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0.6   (approx. square-roo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4"/>
              <p:cNvSpPr txBox="1"/>
              <p:nvPr/>
            </p:nvSpPr>
            <p:spPr>
              <a:xfrm>
                <a:off x="1595520" y="2666880"/>
                <a:ext cx="6041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=Kn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with constants 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&lt;β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5C83B7-7DF2-41C0-914D-8358DB28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ps’ Law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552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48A4C-6A9A-478C-861E-AB5754AE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nation for Heaps’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rived from Zipf’s law by assuming documents are generated by randomly sampling words from a Zipfia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8FAB2-8457-4D85-99A9-B622F783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roperties of 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the frequency of different words distribu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vocabulary size grow with the size of a corp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factors affect the performance of information retrieval and can be used to select appropriate term weights and other aspects of an IR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965D3-CEA2-464C-84D0-55949A06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Frequ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words are very comm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280" indent="-2581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 most frequent words (e.g. “the”, “of”) can account for about 10% of word occur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ds are very r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280" indent="-2581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lf the words in a corpus appear only once, calle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hapax legomena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(Greek for “read only once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0320" indent="-3103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a “heavy tailed” or “long tailed” distribution, since most of the probability mass is in the “tail” compared to an exponential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C1B97-6F3D-4153-A254-9894BC22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Word Frequency Data</a:t>
            </a:r>
            <a:br>
              <a:rPr sz="36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from B. Croft, UM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78720" cy="48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094F5-8E89-49EB-8CC6-0BD93FEE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an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The numerical position of a word in a list sorted by decreasing frequenc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 (1949) “discovered” th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robability of word of ran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total number of word occur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2057400" y="2971800"/>
                <a:ext cx="1047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809880" y="3200400"/>
                <a:ext cx="403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=k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constant 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6"/>
              <p:cNvSpPr txBox="1"/>
              <p:nvPr/>
            </p:nvSpPr>
            <p:spPr>
              <a:xfrm>
                <a:off x="1523880" y="5257800"/>
                <a:ext cx="62485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for corpus ind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F870A-B602-43BB-ABE2-EA23C09F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 and Term Weigh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hn (1958) suggested that both extremely common and extremely uncommon words were not very useful for index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valence of Zipfian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tems exhibit a Zipfia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tion of 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alth of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scovered by sociologist/economist Pareto in 19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rity of books, movies, music, web-pages, 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pularity of consumer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ris Anderson’s “long tai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70FA1-4575-45D3-BA4F-6C4DB528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0879F-6875-4D05-A125-EB23E11F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oes Real Data Fit Zipf’s La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w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a power la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’s law is a power law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log-log plot, power laws give a straight line with slop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pf is quite accurate except for very high and low ra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1828800" y="3962520"/>
                <a:ext cx="5257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+c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98D94-3DC5-4E94-9462-B485D97EA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t to Zipf for Brown Corp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730680" y="60958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11960" cy="46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21-09-20T20:02:00Z</dcterms:modified>
  <cp:revision>84</cp:revision>
  <dc:subject/>
  <dc:title>Intelligent Information Retrieval and Web Search</dc:title>
</cp:coreProperties>
</file>