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776D-713A-4165-A8CF-019ACAFED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F7A3-0344-40D5-A921-F73760ED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3D30-D12F-4034-8446-B94379651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51A1-F33F-4D4B-BC8F-A3344F8A5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04B-A667-4B96-AFF0-425FC8B69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2858-38FA-46A3-87F7-BD99C62A4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E26F-CA99-40E7-A98E-3A9285F3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78E-0D83-4248-9EB8-B7CEFBDC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575-70DB-40BD-AC63-2CE85CDE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A9C-CAC2-4FC2-9C40-724D176BE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B644-8EE5-49E8-B2C4-4A4BA8D6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DA65-E926-42D0-A4F8-47D66657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A582-A5F1-4DB3-B097-6DF256BE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5C4B0-1CD1-4044-B8B3-B6B97B53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1EA63-985D-4324-9AFF-FA1701F2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1134C6-9F71-4F77-8CE5-C7313878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25FD0-41A3-4F2B-9740-4103427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F8DFF2-C5DE-4FA2-A591-03489013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C480CF-BD45-4B9A-8683-E6991CC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9377D-1F21-4A28-AB99-500242F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56D80-BA95-4E71-8D4E-1A8AC628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05129-9B4B-40C5-AFAF-393EE449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B434E3-0D24-4A82-AFBE-D8CB3638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8417-FE13-44CB-8D77-649F10F6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BB7F5A-3AA4-4C4C-A177-8FD81F14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33C55D-7B73-49FD-93C6-EE8E2AC8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77645C-DAB7-40EC-B990-680B534E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C4007D-7005-4BD9-9158-90A339F4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4851B5-D603-4C7F-BD4A-91245CD7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419CF1-1AE5-4C98-955E-DA562E8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48B294-EB26-41E4-839C-265901B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0531FA-E698-4861-9352-F6F36E9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BB844B-0549-4507-8DA1-33BBD2F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E6EF54-9824-4CE6-B5E9-FE1C674C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54BA-61FD-44EF-8F8D-2E2F8EC4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2E564-B5C0-44B4-A026-410FFBC8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1E19A6-9859-407A-BBC5-C24436B5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04527A-39E4-4D9C-A58B-0A1C273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32782-526F-4A29-AB4B-1FF759F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4F68B6-30B8-4EE5-A4BF-45EA0EE9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0281B2-2A51-4A90-84D7-949DC948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31B2D0-FEAE-452A-A0D9-E825FE75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96C765-8AA1-43EA-B717-6B7D0A30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CB8CA4-98A5-4EA5-BA1B-E6E5778E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D606D5-9277-4C6B-B817-FBC8D676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D7C26-BB18-4980-AE6A-F9D2FEDE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5DAD5B-5A31-4C65-8C10-BBBC0953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F7B03B-6CAF-4079-923F-5BD15A20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579F42-EDA5-4C82-ACE1-EB984ABA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76660F-A110-43BE-9AE1-E3C6E018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D9E588-99CB-45D4-9DFD-D8393CD6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581AB0-7064-4A84-A392-996115AF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D819FE-8D8A-45DB-8348-2F0D75C1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9B9430-D97F-414A-AEA6-AE629E39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824A54-116D-414E-96F7-B19FA0E8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4F574E-7935-48B1-A1E5-F2A8C607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89F41-E3F9-4EAB-A491-CB44F9B2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E48A11-7817-4EAD-BAC6-5866B89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33F518-16F1-4D28-92D6-76C45A8A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3CD3E1-3994-4A8B-B19C-EF25F7D4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7D8F78-0F3D-4C81-8741-4E5082E7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1F2C32-53BC-4C70-B116-A180311E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69C61-AA49-4F9C-B7F5-35140A1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B97E6-631E-4B57-B319-07D66BA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1F59-4091-4BCA-9350-E9982CF0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07A04-1620-4485-9320-9A833AE2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777CD-E87F-4FBB-8236-1A77273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7CE9-E8C3-4CB3-9ECA-5AFF962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A8ECA-D42C-468E-8FE3-258F41FF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705B5-C994-49EB-A7EC-DC55DD23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D687A-6997-4EFD-AD35-47BA875E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DD39A-DF29-4CFF-8A62-3A9B827B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41897-474F-4604-ADD0-BC5213BE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A7054-A2EB-43DA-B223-B86092B4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D03B2-7A88-435F-B08F-3C3C97B8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0D2BC-53F5-46C2-98DB-AB8CF4D1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C2E48-7732-4062-9ACA-237BFA71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E8BF6-63C7-4882-BE46-C2EFD7FB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6D44-85C5-45D6-98EA-C1564475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5EE30-851D-431C-9D48-E625869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1974E-F063-4BA4-8E93-AD9F7F46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F3F35-A5D6-405C-9A71-625618F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48BE0-4E80-472E-8006-001BAE76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DC07F-D4C6-407B-8C1D-DD12301B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6C2D1-7A2F-4901-9DC3-96180DE1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9B596-8A74-4929-9741-CF6F442E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66306-D4A6-4EF1-9DA7-4982D359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A2377-D21B-486C-8362-95EA0DC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70A33-F440-4374-9BB9-4C7FB871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F24D-5C76-46F8-993D-FCFD0382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E9639-DEDB-4A99-B299-B2DB5BC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7EDB5-89F3-4B18-998E-CA517667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07568-03E6-46F6-BE28-9D5C3DF2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E994D-35EC-473A-8F72-08A04BA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D10D7-25E3-4B6A-960A-3834B0E1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2ABF0-6A94-4344-A764-0DC86AB9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68C294-D8A8-42B6-AED6-F1E9630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D619E-BFDE-4CB5-B2F1-02897BC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13D0C-0299-491D-BECB-84C88EBC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F21D7-CFA2-4DEC-865B-A50B87EB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2C5E-D0AA-4543-9B9E-B55E9A2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4E2B4-C83E-4A17-9C16-AED122B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ADE1C-55AF-41D5-BA28-E91A1A46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D01AE-C273-470F-B902-AEE4AE17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2F858-7B6F-4F19-A05E-68D5E562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ABD47-5E26-4189-96F6-E11C10E7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5D257-358B-4B01-B56D-C2156EDB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F6DA3-9F08-4A26-B633-4E46410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59F53-723C-4CDE-BD07-8502BBA3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2B0C6-8BF3-4274-BD82-6E11EF3A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E90FD-6070-4D00-8F95-46199CEF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9999-2F79-4F99-8B67-D2397E58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6AFFF-5C44-4C20-985D-B952C940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8141B-55C1-49FB-ACF5-5CF9FB3A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06237-3BA1-4F8C-9174-5734B0E5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69C5F-E177-4B19-95FD-A02519A4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ABDCA-C17E-4540-9708-F93817BC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CB925-2037-49B4-81D5-F90ACDC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E1669-9AD3-4E94-8E8F-1EE0EC80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FD13E-83C8-4618-9DF9-C86C0947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63736-18D1-4D08-ACD5-B6AD4A9D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E2D54-8012-46FD-83F5-9601238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D4B1-8DDF-4E41-9177-01086074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FC2B9-F7BD-4966-98B3-D5F094FE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550E5-7300-4B84-851B-FD0607FE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90753-E946-41E6-9E74-03D6A38A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9E378-C624-4730-A60B-B3CCCD88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62E48-7BD5-4DE0-80A1-E6FC24D3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4183E-B646-4501-8CE2-A1CBFEFE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173C7-9799-4B19-B66C-13FCEC65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B6BDB-F64B-4A80-8304-6C71E328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71379-0A1F-418D-8262-7B426774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3BEFA-8229-4239-97FB-98FD7DD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31FE-8AA1-4ACB-95EB-8FE1DACD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F6C0F-7F40-4049-88BE-D50E057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C1DAC-04BD-4B11-91B4-DB3DCD4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9DB2A-F354-4B2C-97F2-D0657431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0F5C6-D190-48DE-8AA8-44A5BC59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FB7FA-A926-4015-B05B-EE00E7F2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F0E96-9852-41C7-A216-780FEDB9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A469C-7980-41D5-B7C6-AD86FEE7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FAACB-DA63-4EA4-A9A8-A8E67AE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89366E-181E-4A58-97AE-5449C4E8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989BEC-BB46-490B-8F4D-7AE340E2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E008-B09B-459E-8B8F-A093CD6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839E2-E7C5-4996-925A-90881C4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1BA21-45D4-4B88-88E7-7302D38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E16F3-4E1C-4D7D-8FF0-A18E62E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41338-3A19-4AAA-BA42-25D6C1D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E2B1A9-1C98-4926-8538-5E855408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E110C-C0A8-4431-B26F-83753A85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8F6CF9-69D5-45A6-94E7-A0A053C4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5332E6-DB27-4386-8C55-8325CBB6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6766E0-E2B9-4E25-8972-EB7A7E3F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EA192-6D44-48B4-80C6-2EA8D1E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8374-6FFF-475B-9B3B-E662668C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03DD-B15C-4F05-8D8F-DACD0C778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6F99-A3F9-4416-BD46-066053046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C436-1A73-4C77-9D47-A83189406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5460-6AD1-4D9B-8CBA-8DEB25EE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479D-7B09-4AF7-80CB-A48E655B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355D-AC4F-446C-9860-BFEC4AADD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2436-9E1A-409E-8760-C8AC57454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F7EA-5B9F-484B-8C5B-41A9C010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671-E273-4EC2-8ED8-DF8CFE19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9526-226A-4B55-982B-C294526E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9E20-E2AA-4457-9485-576AF02BC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ooney/ir-course/search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orthernlight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4430-9CEE-4EBE-A70C-13829DA2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5686-159D-4870-A414-B87749DA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r Query Lengt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tend to enter short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udy in 1998 gave average length of 2.35 word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that queries are getting lo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" descr="http://a5.files.readwrite.com/image/upload/c_fit,cs_srgb,w_620/MTIyNDQxMjM2NjQzNjA1Nzg1.png"/>
          <p:cNvPicPr/>
          <p:nvPr/>
        </p:nvPicPr>
        <p:blipFill>
          <a:blip r:embed="rId1"/>
          <a:stretch/>
        </p:blipFill>
        <p:spPr>
          <a:xfrm>
            <a:off x="1905120" y="3225960"/>
            <a:ext cx="52005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eech Queries are Long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687920"/>
          </a:xfrm>
          <a:prstGeom prst="rect">
            <a:avLst/>
          </a:prstGeom>
          <a:ln w="0">
            <a:noFill/>
          </a:ln>
        </p:spPr>
      </p:pic>
      <p:sp>
        <p:nvSpPr>
          <p:cNvPr id="5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A75-D894-41F2-9CAD-E350136F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2" descr="words-in-voice"/>
          <p:cNvPicPr/>
          <p:nvPr/>
        </p:nvPicPr>
        <p:blipFill>
          <a:blip r:embed="rId2"/>
          <a:stretch/>
        </p:blipFill>
        <p:spPr>
          <a:xfrm>
            <a:off x="1900080" y="2095560"/>
            <a:ext cx="5343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927-71AE-479A-93C1-A9A5989B4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Interf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arch engines of course need a web-based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page must accept a query string and submit it within an HTML &l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m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on the server must process requests and generate HTML text for the top ranked documents with pointers to the original and/or cached web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rogram must also allow for requests for more relevant documents for a previous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B18F-6201-4894-ABFD-C6711D7D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bmit For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supports various types of program input in forms, inclu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xt box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nu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eck box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dio butt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user submits a form, string values for var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ent to the server program for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rogram uses these values to compute an appropriate HTML response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CE66-B417-4D15-85B1-029850EDF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Search Submit For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57760" y="1523880"/>
            <a:ext cx="9204480" cy="43628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rm action="http://prospero.cs.utexas.edu:8082/servlet/irs.Search" method="POST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 &lt;b&gt; Enter your query: &lt;/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type="text" name="query" size=40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 &lt;b&gt;Search Database: &lt;/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lect name="directory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tion selected value="/u/mooney/ir-code/corpora/cs-faculty/"&gt; UT CS Facul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tion value="/u/mooney/ir-code/corpora/yahoo-science/"&gt; Yahoo Sc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lect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 &lt;b&gt;Use Relevance Feedback: &lt;/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type="checkbox" name="feedback" value="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r&gt; &lt;b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type="submit" value="Submit Query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type="reset" value="Reset Form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orm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8FD-22C3-4591-A80F-3E9387827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ava Servl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’s approach to processing web form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runs on Web server and builds pages on the f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code supporting sample interface i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u/mooney/ir-code/irs/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916B-AB6B-417D-8BB9-6B9ED66B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Simple Search Servl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re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meter, creates or selects existing InvertedIndex for the appropriate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the query with VSR to get ranked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out HTML ordered list of 10 results starting at the rank of the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tem includ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nk to the original URL saved by the spider in the top of the document in BASE ta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ame link with page &lt;TITLE&gt; extracted from fi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ditional link to local cached fi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retrievals not already shown, creates a submit form for “</a:t>
            </a:r>
            <a:r>
              <a:rPr b="0" lang="en-US" sz="2800" spc="-1" strike="noStrike">
                <a:solidFill>
                  <a:srgbClr val="990033"/>
                </a:solidFill>
                <a:latin typeface="Arial Narrow"/>
              </a:rPr>
              <a:t>More 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starting from the next ranked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7809-2AA6-4E7C-A5C4-D9D9A9B9D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Search Interface Refine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“</a:t>
            </a:r>
            <a:r>
              <a:rPr b="0" lang="en-US" sz="3200" spc="-1" strike="noStrike">
                <a:solidFill>
                  <a:srgbClr val="990033"/>
                </a:solidFill>
                <a:latin typeface="Arial Narrow"/>
              </a:rPr>
              <a:t>More 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requests, stores current ranked list with the user session and displays next set in the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relevance feedback interaction with “radio buttons” for 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UT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” 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” and 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HTM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7550-DAA3-4DC8-AF0C-45F83E386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Search Interface Refine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search terms in the displayed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vided in cached file on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Googl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“advanced”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rasal search (“..”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ndatory terms (+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gated term (-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nguage prefere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erse link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e prefere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translation of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6578-8E21-4FAB-9BC6-F4780A0E1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search results into coherent “clusters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icrowave dish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ne group of on food recipes or cookwar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other group on satellite TV reception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stin bat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ne group on the local flying mammal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ne group on the local hockey team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Northern L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d to group results into “folders” based on a pre-established categorization of pages (like DMOZ categori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is to dynamically cluster search results into groups of similar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21-09-27T14:24:22Z</dcterms:modified>
  <cp:revision>61</cp:revision>
  <dc:subject/>
  <dc:title>Intelligent Information Retrieval and Web Search</dc:title>
</cp:coreProperties>
</file>