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5E98-BE58-43CF-BF65-826BC6A5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271-A6FA-4100-B13D-7AEAD7FC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7C6D-6736-4DE2-9B8A-3DF5DC1F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D802-2949-4E32-B855-E4B7F681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104-04B8-4A16-9309-CAAC0200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485-2715-409A-BB4F-8ABD866C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3BB-39EF-4559-8D07-C86BE8A8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480E-C131-4CC1-B7A9-4CC3E762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CC5-7159-47FF-A298-AD4689931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15BC-49A0-47E1-915B-412F0C41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8BB-00A4-472C-9D2C-773E8A7E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378B-75EB-4B52-8E80-6424EBC4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BA89-88D6-444E-9CA0-F6B96A81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DBFA2-84A1-4C3B-8958-3DC731D8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2E783-36B0-4D3F-BDBC-60A13A3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660A4-0676-4681-B815-63F18CD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FEEE4-AD38-42BA-AF8E-B78B865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2C0604-13FE-4C4F-9C92-C84A1C7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3C230-2113-40E3-A1F2-CD6C20B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B56D5-E51A-43F9-9141-438642F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A20DA-9F5A-4E42-ADA1-ED0F084D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CCE2D-C9FB-40A5-9812-4F29C4B2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6BB36-FFA8-4168-AD51-F04D603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F433-FE89-4F6F-B7D7-002E3A6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E04F9-4F74-44C1-A1CE-42D36FEA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11CE4-05A8-4AC1-92F4-D71696D5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13CF73-25CA-4285-96E7-9A2A6585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3550C-5929-4962-B012-9FCF3EF0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9EC04-4EBD-4468-B52E-B1E366A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95DA41-36C0-49CE-A963-07993FE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15DA3-8963-41B3-8BEC-995E5C6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A056B-AA09-4FC5-8DA1-1B75AA6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61BD6-5039-4EC7-BD81-00023C4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A2263-C6E8-4562-BE94-5E7E7B8A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F818-EDCA-49C4-95F9-112F3EF9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36C2AA-A9DC-409E-9103-F4AF64FA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3E9F19-5775-40E0-B72A-11E80D5E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61AF4E-1266-4D1E-A022-E58D48F0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F98C56-43DC-42BD-9EC6-6732EC6E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7E7454-01EB-4995-8EFA-FAC5F6B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5F8F74-612B-4B2F-8E45-C23AEFE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3FC362-8C3B-488A-BCB7-22CFFD37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24D434-2548-480A-A7CD-FA93760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9A5FF3-1189-4541-A499-45826AD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95ED3-9F81-417E-A180-D68F698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DD0A-78EF-4ADB-86C2-E6292AA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1AB275-D4D9-462E-9D7E-2134AB8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95DC3F-9F61-43A3-B9D5-CE1B9229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77CA41-B732-4F68-8B1E-0B47D82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8E5BA6-9F9D-4147-AEE0-7E04DB45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865492-1C3A-4819-A167-B1143DE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2E599B-A205-4583-8D22-D5BA68B0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846B20-DE31-4518-90C4-FDED878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DD1A63-E948-4536-B8FB-AA5AC2D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90BFBB-0638-4135-8197-45A0C85C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11D082-36B4-41A2-9EC9-FDDA1D6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3A2B7-95A2-4238-ABA4-2A830240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DCD0CE-F4D7-4A2A-9F90-8FB1D93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35B0A0-6CBB-46BA-8230-9639565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1B33AA-33DC-4DCD-B854-47817D21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E2D093-E44C-459D-8E6D-796D33DC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843A7F-780F-4E73-A56A-F12A6FC6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F19D-77D0-43FB-92F8-536EAE50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BC081-99A1-4A40-ADCD-567180A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E5792-BDB9-4BBE-B833-B095A6E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40BA-C6B0-4251-B483-E1E4F3B3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269A0-0ADA-471E-BB28-EF8053E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63D0-EA2C-463E-8185-BBA9B441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9693-D0FB-4B9B-8442-668C29E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B461-0B8D-4A14-B9C5-1663360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0AD9-6CFD-4588-B2BD-34F2DA5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BF29-81DC-439D-ADE7-1AD84840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BFAE-A2D3-4ABE-85D0-4470E1EA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8736F-2A33-4A26-B9B3-C522B5B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EBB45-121C-4863-A51F-8C3CF24B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4FD50-BCB9-48A1-91F4-0106F53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BBF1B-FCEE-4172-B757-DC037F47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4B4D3-9AC6-47F5-9F62-A2A33DB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BAE6-2A94-4686-9F93-9013867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D1E28-6B4E-4D8E-B105-8C95414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60E90-D399-4048-B386-A9FB2BA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4E568-E448-441B-87D2-0BF7BBD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EADDA-DA46-4ADD-A9B3-053C67E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ACCEF-CAC2-4693-97B5-14962BB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AB6B3-A1B0-47B3-9BA8-8D8F5D11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C3973-F403-4954-9ED5-26BBB1CF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D1EBC-66A8-4F26-B19F-FD35BE64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41531-2660-42C2-B97D-7757213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4EA37-6456-469C-A5CD-39B8C110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B747-3B10-42BF-810F-7557636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BA72D-FCDA-459F-99D8-255D5490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29ABF-C4D2-4B61-AAE0-FA7577F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34D8D-085D-4E02-88EE-3F690DF8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AF56F-A8B8-4A5E-A8B2-A94B1A5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E787A-3643-4640-883A-5A3C7160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89B96-CB4E-4F64-8000-ADE7E0A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CC13A-64F0-4BFF-A5E5-26A0D6A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A0232-5F66-4817-93D2-F1BD74A6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D2908-BAB1-4D59-9A6C-C7AC1C97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35BB3-5370-44EA-BF90-D3436F9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1C98-5C60-4CC5-82E0-7BD4776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36648-CB94-44EF-8BD6-96663D1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B662C-D1EC-4280-A868-8EA1FD0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6B988-C620-415B-9BBC-44EC66E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2CC01-AE13-467E-BD80-6874A73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1E336-D6A6-45FE-9BE8-A0F8BC1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06CE4-B04A-4528-A5FE-E42FFF9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2C68C-BE02-4EFC-A88C-8E6CDCC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2E8DB-9273-4E1C-9FA8-E8DD69A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A4D21-31E4-45C2-A095-9F173114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00419-70CF-4E97-A6EF-D3FBF1D4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CF6C-F749-4C9D-ACB4-5449A95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21A85-845D-4B7B-A057-E728AB0F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3E06A-2839-432C-9237-EF038142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F1251-FD27-4C4F-85AA-ECBF2A7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59E58-7140-4274-A271-3D5E9BA3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182B5-F332-45F1-A11E-46E28807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41816-1D85-489E-9591-0460DD4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ED79F-6FAC-473A-A10A-6584A01A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B6274-723B-492C-935D-F008A9B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59CF7-F52B-462F-8CFD-E68402C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149DF-A0E9-46FA-8A94-18A27CB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FA01-451B-4366-B477-EBDA2CC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26BC2-6626-410A-84B4-A34E1994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CDA78-41DB-438E-B37D-1D2175A7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AFDF1-3B8B-4CD9-AF19-E6DCF8B9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7477D-9509-49F8-B722-91124668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2A3CA-52EE-4011-B229-7C40742C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FFE74-607B-4CD0-90A0-9A342A4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566E7-BF71-4D66-846E-FE6D2F0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E0899-6608-4B43-A425-8F7FF52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BB01A-BD13-413B-8437-DC75077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AB258-F3F5-44AF-80D6-3080D21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569A-A7EB-4703-AF4C-62A8BBE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40AE3-F1EB-414C-958E-CF3BD48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84C41-4327-4150-BBF4-9E5585B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34B4F-94B8-4B14-991D-DDE9E20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FD58F-BF2F-4734-BBA9-555EC002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D3EA4-298B-4374-8FF2-819B07A9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BBA12-8261-4B2E-AF27-CB43E73B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13B6D-6003-44A8-ADA2-E158A78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21D77-071E-42FA-A260-81F6345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BB262-859C-4C3E-82C7-75A5EEF8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66AFA-502C-4515-ADC7-0BF15027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3652-002B-487D-A467-A9C855D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70707-922B-445B-A02D-4CA3696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862AB-5C8E-4F86-B7EC-890D1F1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E6A5E-13B8-4A94-A2CE-2AB6214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326DA-7FA2-4BEB-B322-F3309A6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548AC-71A5-4402-B446-7A72D99D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5BA8C-2996-4809-A708-829E5A3F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67FC0-BE6E-427D-A526-7D8F8B43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E669D8-1FF8-4394-A735-D54DF0A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DF82A-AF37-4B58-BED5-E6299D8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95C84-710E-43A4-81F2-77E4AC52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F8B-F929-4568-B82F-0AFF4413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9BD1-313C-497C-842D-8D327769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7AC-0964-4E30-BA51-624DA146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6AF-7CB6-421D-9D77-36EA15F3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DA9-4519-49F7-BDF6-6438221A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C069-B5B8-4FCE-914F-E4B75538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673-2D47-477F-9168-969650CE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A41F-40DD-4733-BDA7-4D653558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807-6996-409B-84BF-2544A114A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7A68-DBA4-4CA5-9D40-F17D8CAB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009F-5BF7-4F61-AAA2-3B6118F0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786-3EF4-4F0F-9328-06593ED2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search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orthernlight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7B81-F976-4210-849E-50403D45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9837-9E77-4010-A90F-953F1F5A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r Query Lengt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tend to enter short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udy in 1998 gave average length of 2.35 wor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that queries are getting l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" descr="http://a5.files.readwrite.com/image/upload/c_fit,cs_srgb,w_620/MTIyNDQxMjM2NjQzNjA1Nzg1.png"/>
          <p:cNvPicPr/>
          <p:nvPr/>
        </p:nvPicPr>
        <p:blipFill>
          <a:blip r:embed="rId1"/>
          <a:stretch/>
        </p:blipFill>
        <p:spPr>
          <a:xfrm>
            <a:off x="1905120" y="3225960"/>
            <a:ext cx="52005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eech Queries are Long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5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C1B-9B6D-42E8-A8E6-13E8168C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2" descr="words-in-voice"/>
          <p:cNvPicPr/>
          <p:nvPr/>
        </p:nvPicPr>
        <p:blipFill>
          <a:blip r:embed="rId2"/>
          <a:stretch/>
        </p:blipFill>
        <p:spPr>
          <a:xfrm>
            <a:off x="1900080" y="2095560"/>
            <a:ext cx="5343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13D-D88A-4AE1-BFE0-B52D52D1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Interf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 of course need a web-based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page must accept a query string and submit it within an HTML &l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m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on the server must process requests and generate HTML text for the top ranked documents with pointers to the original and/or cached web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 must also allow for requests for more relevant documents for a previous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D26-EA34-417F-A1DD-7B777ABE0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bmit For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supports various types of program input in forms,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xt box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nu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ck box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dio butt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r submits a form, string values for var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nt to the server program for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 uses these values to compute an appropriate HTML respons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70F-B8D9-429B-A5A1-FE4FA69B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Search Submit For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57760" y="1523880"/>
            <a:ext cx="9204480" cy="43628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rm action="http://prospero.cs.utexas.edu:8082/servlet/irs.Search" method="POST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 Enter your query: 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text" name="query" size=4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Search Database: &lt;/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lect name="directory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tion selected value="/u/mooney/ir-code/corpora/cs-faculty/"&gt; UT CS Facul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tion value="/u/mooney/ir-code/corpora/yahoo-science/"&gt; Yahoo Sc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lect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Use Relevance Feedback: &lt;/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checkbox" name="feedback" value="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r&gt; &lt;b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submit" value="Submit Query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reset" value="Reset Form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orm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0D5E-2BBC-494B-8714-8431B7262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ervl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’s approach to processing web form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uns on Web server and builds pages on the f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code supporting sample interface i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u/mooney/ir-code/irs/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5C94-D86F-4674-9889-19ACF7F7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imple Search Servl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, creates or selects existing InvertedIndex for the appropriate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the query with VSR to get ranked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out HTML ordered list of 10 results starting at the rank of th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m includ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k to the original URL saved by the spider in the top of the document in BASE ta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me link with page &lt;TITLE&gt; extracted from fi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itional link to local cached fi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retrievals not already shown, creates a submit form for “</a:t>
            </a:r>
            <a:r>
              <a:rPr b="0" lang="en-US" sz="2800" spc="-1" strike="noStrike">
                <a:solidFill>
                  <a:srgbClr val="990033"/>
                </a:solidFill>
                <a:latin typeface="Arial Narrow"/>
              </a:rPr>
              <a:t>More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starting from the next ranke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1C4-4CA1-46C6-8A66-0383B1A1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Search Interface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“</a:t>
            </a:r>
            <a:r>
              <a:rPr b="0" lang="en-US" sz="3200" spc="-1" strike="noStrike">
                <a:solidFill>
                  <a:srgbClr val="990033"/>
                </a:solidFill>
                <a:latin typeface="Arial Narrow"/>
              </a:rPr>
              <a:t>More 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requests, stores current ranked list with the user session and displays next set in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relevance feedback interaction with “radio buttons” for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”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” and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HTM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BF6-C458-464F-BA6B-B46C1596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earch Interface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search terms in the displayed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vided in cached file o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Googl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“advanced”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rasal search (“..”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ndatory terms (+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gated term (-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nguage prefere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erse link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e prefere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 o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3270-372C-4B87-9738-29B76326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earch results into coherent “clusters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crowave dish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f on food recipes or cookwar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other group on satellite TV reception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stin bat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n the local flying mammal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n the local hockey team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Northern L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d to group results into “folders” based on a pre-established categorization of pages (like DMOZ categor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is to dynamically cluster search results into groups of similar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27T14:24:22Z</dcterms:modified>
  <cp:revision>61</cp:revision>
  <dc:subject/>
  <dc:title>Intelligent Information Retrieval and Web Search</dc:title>
</cp:coreProperties>
</file>