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C16B-C3EF-4C09-8834-21CE2D5D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B9D8-08EA-4210-AA1B-561A87B8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A93779-51B6-48BE-901D-715304C9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5FBCC0-D896-468A-BA15-37178A84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8B4C34-8DCB-4904-8CBB-083507B0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BB3A20-4E1F-4921-898F-440E900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792037-D193-41CB-8177-DC6A5F89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3D126-2C0D-4C11-8DDC-BA6B7B1D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FE3AD-5D7C-4346-B235-ED32A37D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24B6A4-C7C7-4E0A-8D47-CA111162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07484B-5941-4EBB-9D70-5327F277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4AF850-4FC6-43C2-AF6A-EB3D00C5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71BE-DF5D-4D38-A39C-D99410F1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BDD4FB-9089-433E-B827-FF9BA7D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3CAD59-C143-47E8-B4D8-B8E17A2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7BFBA2-D1EA-46B8-B46F-F1EE33CC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5C3A8D-EC27-4563-B3C0-F4FB94B9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EDC81A-C282-41AC-B0D8-098DA04C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F1F151-EE75-4EB4-AA60-6A74F0A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B5C442-DE32-4D34-AA5D-F63B5136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0C43CB-7A4A-4584-B904-7DF3961A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F8C1A5-B470-4B6A-B86F-6BDB7A0F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EECFEF-9A8F-48BB-A588-D3D5476E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FA21-4DC3-4260-B594-2C104907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CCF915-65C5-467B-8DE2-AFB64BC9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85D86B-F84A-4FBF-A99A-E989F30B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6B6DB7-FFA4-4B44-87AF-C76C26F3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6566F5-8CF4-4213-8A98-B9310A69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3F0B7B-ED23-4DDB-BC0C-455F62D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DA04E6-E448-4904-871E-25C79AED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B102C7-A931-4937-B844-ACE11153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341AD2-3BAA-4210-8371-B4F174B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9E71A9-27F4-41C7-8438-40FFAFE9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076672-B191-4DA0-9652-5BF093DF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CBCB4-427C-43A6-8499-45C0DB12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815088-A261-4F4C-B4A0-0E278758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A66A6C-BEC5-4C06-9A1A-AE0B2162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DDB74C-5978-4B0A-92DC-239261BD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F5B663-3449-4857-902B-698A78BB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E36F4A-A4F3-40B9-A374-6278585A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BC3C8F-9461-441C-B3E4-46B8F1E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85740B-5521-40AC-A499-4EF32C09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719D2C-9562-434A-A3D2-CA3EE0B2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ABD4F5-3725-43AE-A414-4EF7ED67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DF49B6-BE5C-4BF0-93C8-F5FE709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71DD1-D8AA-44CC-B958-70A2DC22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68FFAA-CAD8-4668-AA83-B263E69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EA1DC2-D3CB-4EFA-8983-43171F49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E0329C-B2E1-4DC4-84D5-ADC89528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63A5D7-7A80-4A0A-A431-A0C6D77E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E2995A-A4D8-4937-8571-7423AD91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85B67-8925-48DB-94AD-8D97C646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6F420-4246-4D42-B284-1FC59021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654E9-F43B-4A31-A2DF-6AD8D872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1FD59-E89C-440C-A00D-5E820B0A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80468-058E-4CB6-997D-368CE44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3202-4088-466C-97EE-9CAB0534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62351-8B0B-4B07-8AA9-438F6902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277FB-FB6D-41F3-BE09-E56211EB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23E5D-9AE9-4BCC-B5CF-BE7D86F0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D57CC-B9AC-4DA3-A7DD-B2D8797D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23370-04D3-4DB2-8FE1-30E94C21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64CFE-220F-473A-B95F-027E3674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A0D3A-BDEF-4E6E-BB98-B15C9E5D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24208-EF5D-419C-A33C-0ECBAFA5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6A965-8075-4A4C-A905-379BEBEE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FEF19-2B8A-4E38-91A8-3EA98E4C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B285-AA14-46E7-BB6C-FEA19774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FA2E5-C87F-4F63-A118-D257B9FD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462D2-AD04-4549-A8AA-10BC7B98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4BC7F-43E7-4078-AD75-92FF23A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EC290-2894-4EDA-9782-E5E832D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BC7F0-4738-46AD-965C-A0DDE407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86477-C07D-420F-AC3F-A73B8C02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CCEFB-6D4F-43E2-B6FD-51ABD5D8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F9E10-CBEF-40F1-B59B-54498069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EAF35-A32A-4FC5-A93D-B254DC9A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CED56-9394-4355-9F56-CA5C1B8B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DF76-819C-45A5-A842-18025A23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B7174-1855-4544-A6B4-DD79CD5C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64554-4573-4F5C-960E-F22AB501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86D15-6F43-43F9-9832-CE93E30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945E6-E2C0-4D1F-8973-4449046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8F832-AF62-4EB7-8C85-DDD88C0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B6A73-8D37-41AA-87E2-99DE2FD2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67561-27AE-4091-BE7B-46B8B44C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640C3-D1AB-4C91-ADA4-6214C7E7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20AA1-B14E-40C4-A312-2BDD095B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0A5AE6-E408-49E3-9AA4-E0284FAD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0FA5-D434-41C1-94D5-3053E42B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9025A-EFD4-4992-984A-E3CFB9AF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F1248E-5FFD-4F85-81CD-CFB73154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C2E21-AB74-40D3-BEC3-DCA6BE00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4B205-5FC4-4970-866C-468D7AB8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EA4A6-68E1-494F-A77B-9400731C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F7E96-BCD8-4F47-B9F1-856F8B96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390DB-7757-4BE8-8A7B-7BB5D74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63FD1-08F5-4D7A-ABCA-4C16C6F1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09D93-15A0-4F44-AC07-C7B34E17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06574-DD91-4D77-AF06-407B1F92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ED38-B456-4DF3-9602-11774795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DCB49-E183-43E0-9FBA-B26B658A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7D1D9-B91C-4069-B6C1-B979EF27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5CA58-2E16-43B4-A8F7-37253838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0B462-AB0E-4B34-9055-527E2ABD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4824E-A56A-4D68-8ECE-9BA2D13A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DD965-AA61-4B07-9A9A-06BAD059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18F3C-9818-4128-A883-D30EA493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05834-3CBA-4D61-9C9B-02A6485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2D15A-A8DE-4DD2-A913-18CAE66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BCB16-8383-44A2-ADDD-BD5EE27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AA06-B11C-4E33-9309-DC57EE0F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7E54B-74C0-4A6A-9AC7-53C13EBE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9A8F0-6B34-4509-ADEA-A0B62DFE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F39A6-6D45-472D-86D1-F89BA45A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53D10-CAB0-4D05-858E-73A20F37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5AA91-A912-4811-8A95-0B690E38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A66EF-D228-4BD1-886C-70C299AB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7F2A2-202F-4E2D-A05D-CE29542B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02BE8-A19C-4E24-B81D-9A6C2AB6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93DFA-36D0-4625-9281-9F58793F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F71A5-CBFC-4E59-B96C-1D88A0A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2904-0265-4906-903D-8FB7B748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F1B29-C669-4C91-A168-92EA11C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923B5-2890-4199-A7F1-B82C70C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798CB-CB4B-4676-8BD4-0B8D46BA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AA445-5675-4489-85DE-F1BB5ABC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C8270-FA8D-45DA-91C2-B7880D98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6ABBB-50D4-46A4-9B96-349928A5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10A1C-695B-469C-9EA0-6ED05AA0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59035C-198F-4311-AA53-B376363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0B2CBA-DF1C-480C-99E9-DA508BA1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D00CD4-6EBA-4A86-8CCB-94FA5F0C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0210-63BF-4083-8C7B-955CF2CA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576D4-9005-4FEA-A142-55A8816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9A816-DCFF-4B8F-AF28-6E59616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E4C773-8999-4310-98D6-B19A194B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2CFE73-2BB0-4DA8-ADAC-7793ED2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1B7509-14F9-4CEC-B024-83E8C52D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3A0497-FC6E-47CB-B41A-DD24202C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1CE418-1502-4920-B081-CD5065C5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181717-9AE1-41A9-90E0-E68F494C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C2B234-97C0-4A10-95AF-1BB997C1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AE2D8-6D21-4595-996A-271F713F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4A6E-EA85-43C3-A69B-25B02BC8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D3DC-F5D0-41D1-8A01-21242D00A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3FFB-A330-431E-ABA2-9AC3C5E0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E36D-00A5-4F54-9C86-8A691D49C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2AF7-EC14-4CDB-A5EE-0057F316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DAE4-3E58-438D-837E-14D442A6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551D-2157-4945-9803-E2E432A83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BD22-73B2-4A66-AFA6-B679AEC55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AD9F-59BE-4FB5-A632-9550F377E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A9C-E845-4BCC-8A84-79E1ED874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6308-2328-4781-A3F5-463C4B2C3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C47C-5B8E-4CD9-A897-239ACF150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tanley_Milgram" TargetMode="External"/><Relationship Id="rId2" Type="http://schemas.openxmlformats.org/officeDocument/2006/relationships/hyperlink" Target="https://oracleofbacon.org/" TargetMode="Externa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moz.org/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CC98-3B55-4520-823B-6BE89626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Web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8794-610E-411E-94B9-D46E8A21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wth of Web Pages Index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558080" y="51055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ngineW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3108240" y="6242040"/>
            <a:ext cx="641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1748520" y="5715000"/>
            <a:ext cx="645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ssuming 20KB per page,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1 billion pages is about 20 terabytes of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304920" y="1752480"/>
            <a:ext cx="3429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7" name="Text Box 11"/>
          <p:cNvSpPr/>
          <p:nvPr/>
        </p:nvSpPr>
        <p:spPr>
          <a:xfrm rot="16200000">
            <a:off x="-702720" y="276012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illions of Pag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7086600" y="1371600"/>
            <a:ext cx="2209680" cy="28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oog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ktomi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TheWe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om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tavis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39" name="Picture 6" descr="sizes-trend"/>
          <p:cNvPicPr/>
          <p:nvPr/>
        </p:nvPicPr>
        <p:blipFill>
          <a:blip r:embed="rId1"/>
          <a:stretch/>
        </p:blipFill>
        <p:spPr>
          <a:xfrm>
            <a:off x="990720" y="1371600"/>
            <a:ext cx="6476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Size of the We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A8FD-92CE-42F7-84B3-66B9814E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43" name="Picture 9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39D-05A4-4D33-9DFF-4D99B36F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’s Law on the We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in-links/out-links to/from a page has a Zipfian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web pages has a Zipfian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hits to a web page has a Zipfian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048A-2818-4AF5-8397-6D152004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ipfs Law and Web Page Popu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49" name="Picture 4" descr="zipf_curve_9607"/>
          <p:cNvPicPr/>
          <p:nvPr/>
        </p:nvPicPr>
        <p:blipFill>
          <a:blip r:embed="rId1"/>
          <a:stretch/>
        </p:blipFill>
        <p:spPr>
          <a:xfrm>
            <a:off x="1600200" y="1981080"/>
            <a:ext cx="568656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6B03-FB3D-4ECF-B3F8-BED54086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all World” (Scale-Free) 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networks and six degrees of sepa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Stanley Milgram Experim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law distribution of in and out deg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from purely random 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 get richer” generation of graphs (preferential attachm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vin Bacon g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Oracle of Bac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do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 in biochemistry, roads, telecommunications, Internet, etc are “small word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A219-4C69-4148-88B5-FD01895EA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ual Hierarchical Web Taxonom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ah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ach of using human editors to assemble a large hierarchically structured directory of web pages (closed in 201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en Directory Pro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imilar approach based on the distributed labor of volunteer editors (“net-citizens provide the collective brain”). Used by most other search engines. Started by Netsc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dmoz.org/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CC6D-FE99-4F56-A8E2-1221434E3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siness Models for Web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rs pay for banner ads on the site that do not depend on a user’s qu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PM: Cost Per Mille (thousand impressions)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for each ad displa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PC: Cost Per Click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only when user clicks on ad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TR: Click Through Rate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action of ad impressions that result in clicks throughs. CPC = CPM / (CTR * 1000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PA: Cost Per Action (Acquisition)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only when user actually makes a purchase on target sit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rs bid for “keywords”. Ads for highest bidders displayed when user query contains a purchased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PC: Pay Per Click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PC for bid word ad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 Google AdWords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EF28-63BA-423F-BD90-7BBDF7AB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Business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, banner ads paid thru CPM were the n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To Inc. formed in 1997 and originates and patents bidding and PPC business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 introduces AdWords in fall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To renamed Overture in Oct.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ure sues Google for use of PPC in Apr.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ure acquired by Yahoo in Oct.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 settles with Overture/Yahoo for 2.7 million shares of Class A common stock in Aug. 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6879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9150-B35E-4382-ACA9-48B28B497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65" name="Picture 2" descr="Where Does Google Make Its Money? [ infographic ]"/>
          <p:cNvPicPr/>
          <p:nvPr/>
        </p:nvPicPr>
        <p:blipFill>
          <a:blip r:embed="rId2"/>
          <a:stretch/>
        </p:blipFill>
        <p:spPr>
          <a:xfrm>
            <a:off x="2514600" y="-1523880"/>
            <a:ext cx="4214880" cy="84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AAA5-9F6F-49FE-8CE6-971BD04B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ffiliates Progra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a website, you can generate income by becoming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ffil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agreeing to post ads relevant to the topic of your s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users click on your impression of an ad, you get some percentage of the CPC or PPC income that is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gle introduces AdSense affiliates program in 200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D2F4-612C-4027-843D-CE405257A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World Wide We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Tim Berners-Lee in 1990 at CERN to organize research documents available on the Int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dea of documents available by FTP with the idea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yper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nk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initial HTTP network protocol, URLs, HTML, and first “web serv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F4E4-6D7C-43B8-86F6-6FA4E9E6A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Document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classification into a given hierarchy is labor intensive, subjective, and error-pr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categorization methods provide a way to automatically classify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methods based on training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recog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ystem on a labeled set of examp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ervised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categorization is a topic we will discuss later in th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83DB-F428-4480-83E8-02394582D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Document Hierarch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hierarchy development is labor intensive, subjective, and error-pr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nice to automatically construct a meaningful hierarchical taxonomy from a corpus o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possible with hierarchical text clustering (unsupervised learn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ierarchical Agglomerative Clustering (HAC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clustering is a another topic we will discuss later in th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57B2-7FB0-46A4-8DC7-873C83AF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Using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3657600" y="3276720"/>
            <a:ext cx="2971800" cy="3147840"/>
            <a:chOff x="3657600" y="3276720"/>
            <a:chExt cx="2971800" cy="3147840"/>
          </a:xfrm>
        </p:grpSpPr>
        <p:grpSp>
          <p:nvGrpSpPr>
            <p:cNvPr id="578" name="Group 4"/>
            <p:cNvGrpSpPr/>
            <p:nvPr/>
          </p:nvGrpSpPr>
          <p:grpSpPr>
            <a:xfrm>
              <a:off x="3657600" y="3276720"/>
              <a:ext cx="2971800" cy="3147840"/>
              <a:chOff x="3657600" y="3276720"/>
              <a:chExt cx="2971800" cy="3147840"/>
            </a:xfrm>
          </p:grpSpPr>
          <p:pic>
            <p:nvPicPr>
              <p:cNvPr id="579" name="Picture 5" descr="amconfus"/>
              <p:cNvPicPr/>
              <p:nvPr/>
            </p:nvPicPr>
            <p:blipFill>
              <a:blip r:embed="rId1"/>
              <a:stretch/>
            </p:blipFill>
            <p:spPr>
              <a:xfrm>
                <a:off x="3657600" y="4419720"/>
                <a:ext cx="932040" cy="20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AutoShape 6"/>
              <p:cNvSpPr/>
              <p:nvPr/>
            </p:nvSpPr>
            <p:spPr>
              <a:xfrm>
                <a:off x="4495680" y="3276720"/>
                <a:ext cx="1295640" cy="914400"/>
              </a:xfrm>
              <a:prstGeom prst="wedgeRoundRectCallout">
                <a:avLst>
                  <a:gd name="adj1" fmla="val -59314"/>
                  <a:gd name="adj2" fmla="val 106944"/>
                  <a:gd name="adj3" fmla="val 16667"/>
                </a:avLst>
              </a:prstGeom>
              <a:solidFill>
                <a:srgbClr val="11d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581" name="Line 7"/>
              <p:cNvSpPr/>
              <p:nvPr/>
            </p:nvSpPr>
            <p:spPr>
              <a:xfrm>
                <a:off x="5791320" y="38098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582" name="Rectangle 8"/>
            <p:cNvSpPr/>
            <p:nvPr/>
          </p:nvSpPr>
          <p:spPr>
            <a:xfrm>
              <a:off x="4648320" y="3352680"/>
              <a:ext cx="94608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583" name="Rectangle 9"/>
          <p:cNvSpPr/>
          <p:nvPr/>
        </p:nvSpPr>
        <p:spPr>
          <a:xfrm>
            <a:off x="6629400" y="320040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84" name="Group 10"/>
          <p:cNvGrpSpPr/>
          <p:nvPr/>
        </p:nvGrpSpPr>
        <p:grpSpPr>
          <a:xfrm>
            <a:off x="5183640" y="4267080"/>
            <a:ext cx="3350880" cy="2011320"/>
            <a:chOff x="5183640" y="4267080"/>
            <a:chExt cx="3350880" cy="2011320"/>
          </a:xfrm>
        </p:grpSpPr>
        <p:sp>
          <p:nvSpPr>
            <p:cNvPr id="585" name="Oval 11"/>
            <p:cNvSpPr/>
            <p:nvPr/>
          </p:nvSpPr>
          <p:spPr>
            <a:xfrm>
              <a:off x="6781680" y="4952880"/>
              <a:ext cx="175284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86" name="Line 12"/>
            <p:cNvSpPr/>
            <p:nvPr/>
          </p:nvSpPr>
          <p:spPr>
            <a:xfrm>
              <a:off x="7620120" y="4267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5486400" y="4724280"/>
              <a:ext cx="12193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88" name="Text Box 14"/>
            <p:cNvSpPr/>
            <p:nvPr/>
          </p:nvSpPr>
          <p:spPr>
            <a:xfrm>
              <a:off x="5183640" y="4724280"/>
              <a:ext cx="1794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 Page1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 Page2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 Page3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589" name="Line 15"/>
          <p:cNvSpPr/>
          <p:nvPr/>
        </p:nvSpPr>
        <p:spPr>
          <a:xfrm>
            <a:off x="76201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90" name="Group 16"/>
          <p:cNvGrpSpPr/>
          <p:nvPr/>
        </p:nvGrpSpPr>
        <p:grpSpPr>
          <a:xfrm>
            <a:off x="6248520" y="1828800"/>
            <a:ext cx="2209680" cy="914400"/>
            <a:chOff x="6248520" y="1828800"/>
            <a:chExt cx="2209680" cy="914400"/>
          </a:xfrm>
        </p:grpSpPr>
        <p:sp>
          <p:nvSpPr>
            <p:cNvPr id="591" name="Oval 17"/>
            <p:cNvSpPr/>
            <p:nvPr/>
          </p:nvSpPr>
          <p:spPr>
            <a:xfrm>
              <a:off x="6781680" y="1828800"/>
              <a:ext cx="1676520" cy="914400"/>
            </a:xfrm>
            <a:prstGeom prst="ellipse">
              <a:avLst/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pu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2" name="Line 18"/>
            <p:cNvSpPr/>
            <p:nvPr/>
          </p:nvSpPr>
          <p:spPr>
            <a:xfrm>
              <a:off x="6248520" y="2286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593" name="Group 19"/>
          <p:cNvGrpSpPr/>
          <p:nvPr/>
        </p:nvGrpSpPr>
        <p:grpSpPr>
          <a:xfrm>
            <a:off x="838080" y="1523880"/>
            <a:ext cx="2743200" cy="2210040"/>
            <a:chOff x="838080" y="1523880"/>
            <a:chExt cx="2743200" cy="2210040"/>
          </a:xfrm>
        </p:grpSpPr>
        <p:sp>
          <p:nvSpPr>
            <p:cNvPr id="594" name="Cloud"/>
            <p:cNvSpPr/>
            <p:nvPr/>
          </p:nvSpPr>
          <p:spPr>
            <a:xfrm>
              <a:off x="838080" y="1523880"/>
              <a:ext cx="2743200" cy="221004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333360 h 2210040"/>
                <a:gd name="textAreaBottom" fmla="*/ 177372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5" name="Text Box 21"/>
            <p:cNvSpPr/>
            <p:nvPr/>
          </p:nvSpPr>
          <p:spPr>
            <a:xfrm>
              <a:off x="1829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596" name="Group 22"/>
            <p:cNvGrpSpPr/>
            <p:nvPr/>
          </p:nvGrpSpPr>
          <p:grpSpPr>
            <a:xfrm>
              <a:off x="1600200" y="2209680"/>
              <a:ext cx="1371240" cy="1219320"/>
              <a:chOff x="1600200" y="2209680"/>
              <a:chExt cx="1371240" cy="1219320"/>
            </a:xfrm>
          </p:grpSpPr>
          <p:grpSp>
            <p:nvGrpSpPr>
              <p:cNvPr id="597" name="Group 23"/>
              <p:cNvGrpSpPr/>
              <p:nvPr/>
            </p:nvGrpSpPr>
            <p:grpSpPr>
              <a:xfrm>
                <a:off x="1600200" y="2561400"/>
                <a:ext cx="259920" cy="304920"/>
                <a:chOff x="1600200" y="2561400"/>
                <a:chExt cx="259920" cy="304920"/>
              </a:xfrm>
            </p:grpSpPr>
            <p:sp>
              <p:nvSpPr>
                <p:cNvPr id="598" name="Rectangle 24"/>
                <p:cNvSpPr/>
                <p:nvPr/>
              </p:nvSpPr>
              <p:spPr>
                <a:xfrm>
                  <a:off x="1600200" y="256140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Line 25"/>
                <p:cNvSpPr/>
                <p:nvPr/>
              </p:nvSpPr>
              <p:spPr>
                <a:xfrm>
                  <a:off x="1671120" y="259632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Line 26"/>
                <p:cNvSpPr/>
                <p:nvPr/>
              </p:nvSpPr>
              <p:spPr>
                <a:xfrm>
                  <a:off x="1623600" y="26258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Line 27"/>
                <p:cNvSpPr/>
                <p:nvPr/>
              </p:nvSpPr>
              <p:spPr>
                <a:xfrm>
                  <a:off x="1623600" y="26550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Line 28"/>
                <p:cNvSpPr/>
                <p:nvPr/>
              </p:nvSpPr>
              <p:spPr>
                <a:xfrm>
                  <a:off x="1623600" y="26845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Line 29"/>
                <p:cNvSpPr/>
                <p:nvPr/>
              </p:nvSpPr>
              <p:spPr>
                <a:xfrm>
                  <a:off x="1623600" y="2713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Line 30"/>
                <p:cNvSpPr/>
                <p:nvPr/>
              </p:nvSpPr>
              <p:spPr>
                <a:xfrm>
                  <a:off x="1671120" y="27432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Line 31"/>
                <p:cNvSpPr/>
                <p:nvPr/>
              </p:nvSpPr>
              <p:spPr>
                <a:xfrm>
                  <a:off x="1623600" y="27723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Line 32"/>
                <p:cNvSpPr/>
                <p:nvPr/>
              </p:nvSpPr>
              <p:spPr>
                <a:xfrm>
                  <a:off x="1623600" y="28018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Line 33"/>
                <p:cNvSpPr/>
                <p:nvPr/>
              </p:nvSpPr>
              <p:spPr>
                <a:xfrm>
                  <a:off x="1623600" y="28314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Group 34"/>
              <p:cNvGrpSpPr/>
              <p:nvPr/>
            </p:nvGrpSpPr>
            <p:grpSpPr>
              <a:xfrm>
                <a:off x="2191320" y="2702160"/>
                <a:ext cx="259920" cy="304920"/>
                <a:chOff x="2191320" y="2702160"/>
                <a:chExt cx="259920" cy="304920"/>
              </a:xfrm>
            </p:grpSpPr>
            <p:sp>
              <p:nvSpPr>
                <p:cNvPr id="609" name="Rectangle 35"/>
                <p:cNvSpPr/>
                <p:nvPr/>
              </p:nvSpPr>
              <p:spPr>
                <a:xfrm>
                  <a:off x="2191320" y="270216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Line 36"/>
                <p:cNvSpPr/>
                <p:nvPr/>
              </p:nvSpPr>
              <p:spPr>
                <a:xfrm>
                  <a:off x="2262240" y="27370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Line 37"/>
                <p:cNvSpPr/>
                <p:nvPr/>
              </p:nvSpPr>
              <p:spPr>
                <a:xfrm>
                  <a:off x="2214720" y="27666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Line 38"/>
                <p:cNvSpPr/>
                <p:nvPr/>
              </p:nvSpPr>
              <p:spPr>
                <a:xfrm>
                  <a:off x="2214720" y="27957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Line 39"/>
                <p:cNvSpPr/>
                <p:nvPr/>
              </p:nvSpPr>
              <p:spPr>
                <a:xfrm>
                  <a:off x="2214720" y="28252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Line 40"/>
                <p:cNvSpPr/>
                <p:nvPr/>
              </p:nvSpPr>
              <p:spPr>
                <a:xfrm>
                  <a:off x="2214720" y="28544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Line 41"/>
                <p:cNvSpPr/>
                <p:nvPr/>
              </p:nvSpPr>
              <p:spPr>
                <a:xfrm>
                  <a:off x="2262240" y="288396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Line 42"/>
                <p:cNvSpPr/>
                <p:nvPr/>
              </p:nvSpPr>
              <p:spPr>
                <a:xfrm>
                  <a:off x="2214720" y="2913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Line 43"/>
                <p:cNvSpPr/>
                <p:nvPr/>
              </p:nvSpPr>
              <p:spPr>
                <a:xfrm>
                  <a:off x="2214720" y="2942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Line 44"/>
                <p:cNvSpPr/>
                <p:nvPr/>
              </p:nvSpPr>
              <p:spPr>
                <a:xfrm>
                  <a:off x="2214720" y="2972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Group 45"/>
              <p:cNvGrpSpPr/>
              <p:nvPr/>
            </p:nvGrpSpPr>
            <p:grpSpPr>
              <a:xfrm>
                <a:off x="1883880" y="3124080"/>
                <a:ext cx="259920" cy="304920"/>
                <a:chOff x="1883880" y="3124080"/>
                <a:chExt cx="259920" cy="304920"/>
              </a:xfrm>
            </p:grpSpPr>
            <p:sp>
              <p:nvSpPr>
                <p:cNvPr id="620" name="Rectangle 46"/>
                <p:cNvSpPr/>
                <p:nvPr/>
              </p:nvSpPr>
              <p:spPr>
                <a:xfrm>
                  <a:off x="1883880" y="312408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Line 47"/>
                <p:cNvSpPr/>
                <p:nvPr/>
              </p:nvSpPr>
              <p:spPr>
                <a:xfrm>
                  <a:off x="1954800" y="31590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Line 48"/>
                <p:cNvSpPr/>
                <p:nvPr/>
              </p:nvSpPr>
              <p:spPr>
                <a:xfrm>
                  <a:off x="1907280" y="31885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Line 49"/>
                <p:cNvSpPr/>
                <p:nvPr/>
              </p:nvSpPr>
              <p:spPr>
                <a:xfrm>
                  <a:off x="1907280" y="3217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50"/>
                <p:cNvSpPr/>
                <p:nvPr/>
              </p:nvSpPr>
              <p:spPr>
                <a:xfrm>
                  <a:off x="1907280" y="32472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Line 51"/>
                <p:cNvSpPr/>
                <p:nvPr/>
              </p:nvSpPr>
              <p:spPr>
                <a:xfrm>
                  <a:off x="1907280" y="32763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Line 52"/>
                <p:cNvSpPr/>
                <p:nvPr/>
              </p:nvSpPr>
              <p:spPr>
                <a:xfrm>
                  <a:off x="1954800" y="33058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Line 53"/>
                <p:cNvSpPr/>
                <p:nvPr/>
              </p:nvSpPr>
              <p:spPr>
                <a:xfrm>
                  <a:off x="1907280" y="33350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Line 54"/>
                <p:cNvSpPr/>
                <p:nvPr/>
              </p:nvSpPr>
              <p:spPr>
                <a:xfrm>
                  <a:off x="1907280" y="33645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55"/>
                <p:cNvSpPr/>
                <p:nvPr/>
              </p:nvSpPr>
              <p:spPr>
                <a:xfrm>
                  <a:off x="1907280" y="33940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56"/>
              <p:cNvGrpSpPr/>
              <p:nvPr/>
            </p:nvGrpSpPr>
            <p:grpSpPr>
              <a:xfrm>
                <a:off x="2711520" y="2913120"/>
                <a:ext cx="259920" cy="304920"/>
                <a:chOff x="2711520" y="2913120"/>
                <a:chExt cx="259920" cy="304920"/>
              </a:xfrm>
            </p:grpSpPr>
            <p:sp>
              <p:nvSpPr>
                <p:cNvPr id="631" name="Rectangle 57"/>
                <p:cNvSpPr/>
                <p:nvPr/>
              </p:nvSpPr>
              <p:spPr>
                <a:xfrm>
                  <a:off x="2711520" y="291312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58"/>
                <p:cNvSpPr/>
                <p:nvPr/>
              </p:nvSpPr>
              <p:spPr>
                <a:xfrm>
                  <a:off x="2782440" y="294804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59"/>
                <p:cNvSpPr/>
                <p:nvPr/>
              </p:nvSpPr>
              <p:spPr>
                <a:xfrm>
                  <a:off x="2734920" y="29775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Line 60"/>
                <p:cNvSpPr/>
                <p:nvPr/>
              </p:nvSpPr>
              <p:spPr>
                <a:xfrm>
                  <a:off x="2734920" y="30067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Line 61"/>
                <p:cNvSpPr/>
                <p:nvPr/>
              </p:nvSpPr>
              <p:spPr>
                <a:xfrm>
                  <a:off x="2734920" y="30362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Line 62"/>
                <p:cNvSpPr/>
                <p:nvPr/>
              </p:nvSpPr>
              <p:spPr>
                <a:xfrm>
                  <a:off x="2734920" y="30654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Line 63"/>
                <p:cNvSpPr/>
                <p:nvPr/>
              </p:nvSpPr>
              <p:spPr>
                <a:xfrm>
                  <a:off x="2782440" y="309492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64"/>
                <p:cNvSpPr/>
                <p:nvPr/>
              </p:nvSpPr>
              <p:spPr>
                <a:xfrm>
                  <a:off x="2734920" y="31240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65"/>
                <p:cNvSpPr/>
                <p:nvPr/>
              </p:nvSpPr>
              <p:spPr>
                <a:xfrm>
                  <a:off x="2734920" y="31536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Line 66"/>
                <p:cNvSpPr/>
                <p:nvPr/>
              </p:nvSpPr>
              <p:spPr>
                <a:xfrm>
                  <a:off x="2734920" y="3183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67"/>
              <p:cNvGrpSpPr/>
              <p:nvPr/>
            </p:nvGrpSpPr>
            <p:grpSpPr>
              <a:xfrm>
                <a:off x="2049480" y="2209680"/>
                <a:ext cx="259920" cy="304920"/>
                <a:chOff x="2049480" y="2209680"/>
                <a:chExt cx="259920" cy="304920"/>
              </a:xfrm>
            </p:grpSpPr>
            <p:sp>
              <p:nvSpPr>
                <p:cNvPr id="642" name="Rectangle 68"/>
                <p:cNvSpPr/>
                <p:nvPr/>
              </p:nvSpPr>
              <p:spPr>
                <a:xfrm>
                  <a:off x="2049480" y="2209680"/>
                  <a:ext cx="259920" cy="304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69"/>
                <p:cNvSpPr/>
                <p:nvPr/>
              </p:nvSpPr>
              <p:spPr>
                <a:xfrm>
                  <a:off x="2120400" y="224460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Line 70"/>
                <p:cNvSpPr/>
                <p:nvPr/>
              </p:nvSpPr>
              <p:spPr>
                <a:xfrm>
                  <a:off x="2072880" y="22741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71"/>
                <p:cNvSpPr/>
                <p:nvPr/>
              </p:nvSpPr>
              <p:spPr>
                <a:xfrm>
                  <a:off x="2072880" y="23032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72"/>
                <p:cNvSpPr/>
                <p:nvPr/>
              </p:nvSpPr>
              <p:spPr>
                <a:xfrm>
                  <a:off x="2072880" y="23328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Line 73"/>
                <p:cNvSpPr/>
                <p:nvPr/>
              </p:nvSpPr>
              <p:spPr>
                <a:xfrm>
                  <a:off x="2072880" y="23619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Line 74"/>
                <p:cNvSpPr/>
                <p:nvPr/>
              </p:nvSpPr>
              <p:spPr>
                <a:xfrm>
                  <a:off x="2120400" y="23914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Line 75"/>
                <p:cNvSpPr/>
                <p:nvPr/>
              </p:nvSpPr>
              <p:spPr>
                <a:xfrm>
                  <a:off x="2072880" y="2420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76"/>
                <p:cNvSpPr/>
                <p:nvPr/>
              </p:nvSpPr>
              <p:spPr>
                <a:xfrm>
                  <a:off x="2072880" y="2450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77"/>
                <p:cNvSpPr/>
                <p:nvPr/>
              </p:nvSpPr>
              <p:spPr>
                <a:xfrm>
                  <a:off x="2072880" y="2479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Group 78"/>
              <p:cNvGrpSpPr/>
              <p:nvPr/>
            </p:nvGrpSpPr>
            <p:grpSpPr>
              <a:xfrm>
                <a:off x="2688120" y="2444040"/>
                <a:ext cx="259920" cy="304560"/>
                <a:chOff x="2688120" y="2444040"/>
                <a:chExt cx="259920" cy="304560"/>
              </a:xfrm>
            </p:grpSpPr>
            <p:sp>
              <p:nvSpPr>
                <p:cNvPr id="653" name="Rectangle 79"/>
                <p:cNvSpPr/>
                <p:nvPr/>
              </p:nvSpPr>
              <p:spPr>
                <a:xfrm>
                  <a:off x="2688120" y="2444040"/>
                  <a:ext cx="259920" cy="304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cc00"/>
                    </a:buClr>
                    <a:buFont typeface="Times New Roman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80"/>
                <p:cNvSpPr/>
                <p:nvPr/>
              </p:nvSpPr>
              <p:spPr>
                <a:xfrm>
                  <a:off x="2759040" y="247896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Line 81"/>
                <p:cNvSpPr/>
                <p:nvPr/>
              </p:nvSpPr>
              <p:spPr>
                <a:xfrm>
                  <a:off x="2711520" y="25084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82"/>
                <p:cNvSpPr/>
                <p:nvPr/>
              </p:nvSpPr>
              <p:spPr>
                <a:xfrm>
                  <a:off x="2711520" y="253764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Line 83"/>
                <p:cNvSpPr/>
                <p:nvPr/>
              </p:nvSpPr>
              <p:spPr>
                <a:xfrm>
                  <a:off x="2711520" y="2567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84"/>
                <p:cNvSpPr/>
                <p:nvPr/>
              </p:nvSpPr>
              <p:spPr>
                <a:xfrm>
                  <a:off x="2711520" y="259632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Line 85"/>
                <p:cNvSpPr/>
                <p:nvPr/>
              </p:nvSpPr>
              <p:spPr>
                <a:xfrm>
                  <a:off x="2759040" y="2625480"/>
                  <a:ext cx="16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Line 86"/>
                <p:cNvSpPr/>
                <p:nvPr/>
              </p:nvSpPr>
              <p:spPr>
                <a:xfrm>
                  <a:off x="2711520" y="265500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Line 87"/>
                <p:cNvSpPr/>
                <p:nvPr/>
              </p:nvSpPr>
              <p:spPr>
                <a:xfrm>
                  <a:off x="2711520" y="268416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88"/>
                <p:cNvSpPr/>
                <p:nvPr/>
              </p:nvSpPr>
              <p:spPr>
                <a:xfrm>
                  <a:off x="2711520" y="2713680"/>
                  <a:ext cx="2127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" name="Rectangle 89"/>
              <p:cNvSpPr/>
              <p:nvPr/>
            </p:nvSpPr>
            <p:spPr>
              <a:xfrm>
                <a:off x="2333160" y="2795760"/>
                <a:ext cx="94320" cy="46800"/>
              </a:xfrm>
              <a:prstGeom prst="rect">
                <a:avLst/>
              </a:prstGeom>
              <a:solidFill>
                <a:srgbClr val="11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buClr>
                    <a:srgbClr val="00cc00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4" name="Rectangle 90"/>
              <p:cNvSpPr/>
              <p:nvPr/>
            </p:nvSpPr>
            <p:spPr>
              <a:xfrm>
                <a:off x="2735280" y="2444040"/>
                <a:ext cx="189000" cy="46800"/>
              </a:xfrm>
              <a:prstGeom prst="rect">
                <a:avLst/>
              </a:prstGeom>
              <a:solidFill>
                <a:srgbClr val="98ed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buClr>
                    <a:srgbClr val="00cc00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5" name="Rectangle 91"/>
              <p:cNvSpPr/>
              <p:nvPr/>
            </p:nvSpPr>
            <p:spPr>
              <a:xfrm>
                <a:off x="1954800" y="3194640"/>
                <a:ext cx="118080" cy="70200"/>
              </a:xfrm>
              <a:prstGeom prst="rect">
                <a:avLst/>
              </a:prstGeom>
              <a:solidFill>
                <a:srgbClr val="f4f43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buClr>
                    <a:srgbClr val="00cc00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6" name="Line 92"/>
              <p:cNvSpPr/>
              <p:nvPr/>
            </p:nvSpPr>
            <p:spPr>
              <a:xfrm flipV="1">
                <a:off x="1718280" y="2349720"/>
                <a:ext cx="33120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7" name="Line 93"/>
              <p:cNvSpPr/>
              <p:nvPr/>
            </p:nvSpPr>
            <p:spPr>
              <a:xfrm>
                <a:off x="1742040" y="2748960"/>
                <a:ext cx="449280" cy="164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8" name="Line 94"/>
              <p:cNvSpPr/>
              <p:nvPr/>
            </p:nvSpPr>
            <p:spPr>
              <a:xfrm flipH="1" flipV="1">
                <a:off x="2309040" y="2350080"/>
                <a:ext cx="47268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69" name="Line 95"/>
              <p:cNvSpPr/>
              <p:nvPr/>
            </p:nvSpPr>
            <p:spPr>
              <a:xfrm flipV="1">
                <a:off x="2829960" y="2748600"/>
                <a:ext cx="0" cy="28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0" name="Line 96"/>
              <p:cNvSpPr/>
              <p:nvPr/>
            </p:nvSpPr>
            <p:spPr>
              <a:xfrm flipV="1">
                <a:off x="2049480" y="3077280"/>
                <a:ext cx="66204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1" name="Line 97"/>
              <p:cNvSpPr/>
              <p:nvPr/>
            </p:nvSpPr>
            <p:spPr>
              <a:xfrm flipH="1" flipV="1">
                <a:off x="1742040" y="2866320"/>
                <a:ext cx="283680" cy="375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2" name="Line 98"/>
              <p:cNvSpPr/>
              <p:nvPr/>
            </p:nvSpPr>
            <p:spPr>
              <a:xfrm>
                <a:off x="2167560" y="2350080"/>
                <a:ext cx="94320" cy="351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3" name="Line 99"/>
              <p:cNvSpPr/>
              <p:nvPr/>
            </p:nvSpPr>
            <p:spPr>
              <a:xfrm flipV="1">
                <a:off x="2356920" y="2631600"/>
                <a:ext cx="331200" cy="14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4" name="Line 100"/>
              <p:cNvSpPr/>
              <p:nvPr/>
            </p:nvSpPr>
            <p:spPr>
              <a:xfrm>
                <a:off x="2356920" y="2913120"/>
                <a:ext cx="354600" cy="9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Group 101"/>
          <p:cNvGrpSpPr/>
          <p:nvPr/>
        </p:nvGrpSpPr>
        <p:grpSpPr>
          <a:xfrm>
            <a:off x="3200400" y="1828800"/>
            <a:ext cx="2971800" cy="1066680"/>
            <a:chOff x="3200400" y="1828800"/>
            <a:chExt cx="2971800" cy="1066680"/>
          </a:xfrm>
        </p:grpSpPr>
        <p:sp>
          <p:nvSpPr>
            <p:cNvPr id="676" name="Line 102"/>
            <p:cNvSpPr/>
            <p:nvPr/>
          </p:nvSpPr>
          <p:spPr>
            <a:xfrm>
              <a:off x="3200400" y="2286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677" name="Group 103"/>
            <p:cNvGrpSpPr/>
            <p:nvPr/>
          </p:nvGrpSpPr>
          <p:grpSpPr>
            <a:xfrm>
              <a:off x="4114800" y="1828800"/>
              <a:ext cx="2057400" cy="1066680"/>
              <a:chOff x="4114800" y="1828800"/>
              <a:chExt cx="2057400" cy="1066680"/>
            </a:xfrm>
          </p:grpSpPr>
          <p:sp>
            <p:nvSpPr>
              <p:cNvPr id="678" name="Rectangle 104"/>
              <p:cNvSpPr/>
              <p:nvPr/>
            </p:nvSpPr>
            <p:spPr>
              <a:xfrm>
                <a:off x="4114800" y="1828800"/>
                <a:ext cx="2057400" cy="1066680"/>
              </a:xfrm>
              <a:prstGeom prst="rect">
                <a:avLst/>
              </a:prstGeom>
              <a:solidFill>
                <a:srgbClr val="98ed8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pic>
            <p:nvPicPr>
              <p:cNvPr id="679" name="Picture 105" descr="AN00080_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2286000"/>
                <a:ext cx="91440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Rectangle 106"/>
              <p:cNvSpPr/>
              <p:nvPr/>
            </p:nvSpPr>
            <p:spPr>
              <a:xfrm>
                <a:off x="4649040" y="182880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ider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27D9-83F6-4B18-A5CF-E871B041C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Pre-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d Nelson developed idea of hypertext in 196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Engelbart invented the mouse and built the first implementation of hypertext in the late 1960’s at S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ANET was developed in the early 1970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ic technology was in place in the 1970’s; but it took the PC revolution and widespread networking to inspire the web and make it practic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A7D2-46EC-4CA2-B6CB-1E2143A4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Browser 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rowsers were developed in 1992 (Erwise, ViolaWWW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3, Marc Andreessen and Eric Bina at UIUC NCSA developed the Mosaic browser and distributed it wid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essen joined with James Clark (Stanford Prof. and Silicon Graphics founder) to form Mosaic Communications Inc. in 1994 (which became Netscape to avoid conflict with UIU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 licensed the original Mosaic from UIUC and used it to build Internet Explorer in 199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E77E-9EF4-4B63-AAEE-E9B744FB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arch Engine Early 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late 1980’s many files were available by anonymous F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 Alan Emtage of McGill Univ. developed Archie (short for “archive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ssembled lists of files available on many FTP server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lowed regex search of these file nam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3, Veronica and Jughead were developed to search names of text files available through Gopher ser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A46-AFE6-466B-AA7E-E43926F5F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His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3, early web robots (spiders) were built to collect URL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nder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WEB (Archie-Like Index of the WEB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WW Worm (indexed URL’s and titles for regex search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4, Stanford grad students David Filo and Jerry Yang started manually collecting popular web sites into a topical hierarchy called Yah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2CED-A982-418D-81D3-CD9DC3CC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History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arly 1994, Brian Pinkerton developed WebCrawler as a class project at U Wash. (eventually became part of Excite and A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months later, Fuzzy Maudlin, a grad student at CMU developed Lycos.  First to use a standard IR system as developed for the DARPA Tipster project. First to index a large set of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ate 1995, DEC developed Altavista. Used a large farm of Alpha machines to quickly process large numbers of queries. Supported boolean operators, phrases, and “reverse pointer”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F8E8-C05F-4702-ABC8-04032DA4C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Search History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8, Larry Page and Sergey Brin, Ph.D. students at Stanford, started Google. Main advance is us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nk 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rank results partially based on author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lauched MSN Search in 1998 based on Inktomi (started from UC Berkeley in 1996), changed to Live Search in 2007, and Bing in 200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2E4-C8AA-4557-B0E4-91416B65D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 Challenges for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tributed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ocuments spread over millions of different web ser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olatile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Many documents change or disappear rapidly (e.g. dead lin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rge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illions of separate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structured and Redundant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uniform structure, HTML errors, up to 30% (near) duplicate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ality of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editorial control, false information, poor quality writing, typ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terogeneous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ultiple media types (images, video, VRML), languages, character set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8-10-03T14:52:24Z</dcterms:modified>
  <cp:revision>123</cp:revision>
  <dc:subject/>
  <dc:title>Intelligent Information Retrieval and Web Search</dc:title>
</cp:coreProperties>
</file>