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6E00D-5B3E-4784-B0F7-41C1646F0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2FBFB-6C68-4023-87D1-C16479C5A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9C4A1FC-A13F-436F-9E3F-BA7A9854F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3CCAC85-AA4B-4AF8-A93D-99FE261BD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2828E41-DAD5-4E31-8433-8E1224960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1FB4A57-E6F0-4BBB-A967-13457F660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D9DA289-A628-4750-9BDF-33D1EF180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53E0A2B-57AD-4FC7-8F23-75AC860A6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3C4951C-E869-46A2-90B6-263E8B25E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0C63DDB-88D6-49DB-85C7-EC0248DC2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1B2BE50-F17F-4707-8DB4-B261DAF1C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11B9720-D1D6-4C29-A2FE-4C7320BAA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BD9D0-553B-4771-992F-7153994C8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2685B9D-5081-4C95-B3FB-F1693633B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002C1BC-F3B9-4E76-A415-3F6B98ED1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A745068-ECB9-498F-948D-D907F4774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FC31C5E-5EED-4879-8610-94E315720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2324C66-EC4E-40A4-996D-A0B429DB1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224859E-947B-45CA-B3AC-E03BFD652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5ABB85E-531B-4923-81C7-DAA0F0E6E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89D51BA-85FB-4DC7-B0A8-D2A2BB27B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2685FC7-999A-4292-9D7B-C218539BC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7A42D32-0AAA-400A-A32A-1AE5CE33E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F3D83-7FED-4A60-8687-6FB939862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765436C-B558-4402-A6FA-F0E004A88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476CDDA-2C08-4C91-ADDD-250A92F35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4A7FB3C-4DB7-4C7A-9253-18B60385A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8EC3E0B-129B-4637-B162-24A636B02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63AFCF3-01F8-49C9-995D-7F12FE4AE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FEEB781-0A3B-40F8-8EF7-1550773F8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4A0C5B0-74EC-40C1-8D41-1C11CEFF8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AF7E66C-6B48-44C2-9A94-BAD85ABBC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F7378B1-0B3F-4AF4-84E7-32F1CC86E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8FF6882-CE25-4ECF-8C99-B8C7BB1A7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FEDAB3-3ED5-4295-8ECB-D5A99ECB4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897411C-3D58-4419-82F5-0747F8154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06C2E37-FB62-4A0B-A05D-863E07D06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0312DD7-1F5C-460C-8EFF-A443AFD40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E99DB5D-E7FD-4BC1-B7A8-2052006FF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51063E4-E37E-4E32-B31A-A0DAF8CC1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421E719-1F45-4C06-9BA2-68DD352B6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9D6C682-74DD-4D70-8A52-59C4A9556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238126E-8029-455F-B4C8-0398815E1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D7F0477-9B29-463F-B259-8925AEF5C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456711E-6DD9-44CF-8438-3379D1BAB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D07AEB-E336-44B9-A802-FC52FBB9D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93F3FF7-29B5-4527-9894-F4980AD67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F60E921-FEDA-48EA-BA85-67D1C7A8B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4104E43-0FEB-4C9F-B848-AE145C095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D916954-7476-4EB5-8E40-8237EA808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5751EEA-B42C-43D4-938A-4B287AF92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9C97CF-7F34-4606-8278-D0B8AFC71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5B8850-6B36-4DBD-BCAA-EB8C915C7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138642-8EFE-463D-9552-D1EECA212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299307-C0DD-4E6A-B65A-E3BFE9B5A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C92CD2-26EE-40A7-B50A-A37AC1EA2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A10A7-581F-4CD3-A5D6-D4B2B778F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704109-943B-4E11-B801-EC0E2FC9C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FF43A7-F14C-40B6-B785-9CAF878B1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F360BC-1711-47F8-8A5C-CA161474C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0AF094-9DE2-4198-A50F-F7C2CED8B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FB407A-CBCE-4AF7-B58C-279036EC9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0845A1-57D3-4AC4-B001-EBD78C485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6D387C-46EB-4AB1-872C-5D6689E51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8C035D-5831-4C20-B46D-8C6E7FED8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9A76DF-8B5B-42DD-AF4C-198A17709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2ED96A-AF40-4F9B-9C34-3830C14AC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269DD-A86F-4FC8-9E95-BAC7FBD6A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C8F9E3-7498-4833-988E-5A43F2BBA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FB7F20-2F45-41B9-8A10-540EC6A69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28F193-C19C-4A81-9BFC-5DF3908E6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813EDB-B151-475D-9325-231CF302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F1D8AE-E3D8-4BD1-B9CC-1CA165508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21FE9B-7FEF-4B0F-99E0-D887EB0C2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B7679A-8F17-4582-82DB-5EEFE9BDB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9E448D-8E16-42AA-9DAF-71443203E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C4CE75-4ACC-424F-9E0B-A934CB481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420136-EC26-4CD6-91E0-3E89D882F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B9462-7AF9-4C75-B28A-1351A8298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CBE9C6-E1B7-4E69-8394-51F12B355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15C16C-6C46-436F-8A93-9584E6342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3E93AA-71A9-4982-94DC-3A3055413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FEB5F7-9F51-4B22-9D29-70B461FC5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E4A697-95A7-4416-8A67-E84B47370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B55CA2-6FA6-4467-8EFD-91DD857C7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3BD606-6F01-49CA-8AEA-B570A5A4E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518FA3-B51B-41E0-8A92-FA279654D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5337BE-AE2B-494F-999E-B1D1AE50A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19C70D-9041-4EB0-865F-68A5E74E7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678B9-739E-498A-AB21-43BD1FC91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7F23DA-BF4F-4329-82FA-8A2BEE7F7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85FA5D-330C-4AF1-8DF8-D23D8D993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48005A-E594-4BF2-BCEC-7EECD323D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EA7EF9-A419-4123-B396-EFA8337E3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7D2683-414B-47FD-82AD-48BE3A52F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8DD186-9060-41CA-9E30-55DCA3641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E6BEFC-8ADD-43EF-B761-55565F171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F4FA12-7DA6-4FFD-92A0-37F555132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8AAC60-6343-4C85-A3E0-003DBFB4F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CF1837-424A-47F6-963C-4DAA39183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773F0-BE65-4757-B9A1-0517259B8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5E81E2-E7C3-467C-8178-908308A50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A9D4C8-AC1F-4EC2-BB44-86AA70152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D1EF45-A9DD-4608-AD5E-2C34F3286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F8ED8E-BF0D-43E6-9095-083014B62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D3A962-FFB9-42C1-9613-A0632ABE3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C83F92-40CB-404D-8A1A-F37A5FE30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5730C0-C33E-4448-AF51-3AD3310FB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5244B9-9A11-4B1E-A64F-8ADF9127C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816E9A-542C-4942-BF67-BD6062893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E94CA1-E708-47C1-9988-41F27CD1C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85479-D77A-41A5-8337-77F643CD7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26DB23-7A2D-4792-ADE8-E6D23F75B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398E8F-D98B-4825-ABC8-1F19C4089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F86B56-1C5B-4B1D-B53A-12F978BCE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71310D-41FA-4205-8DFA-66FFE8001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4F01B1-D016-49A4-A496-7F86C9EA6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DA1D3A-B5AE-4DCA-8983-FE1AC9BFF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0CEAF6-C48F-40C2-92C8-5B708830C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B4DF5D-763A-4052-8214-47379649F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F04E47-42EB-42CF-AC20-4EB1AED33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3F059D-07D5-4587-A7F9-8672E93D3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0202A-4CF9-4DE4-A058-3EDA726D5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F00141-F4CC-4F8E-BB74-ADC896FF6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69CA8A-8848-4A87-845A-98FDA5156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2CB1D4-E4B3-4257-AD12-CE4C2FD71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059D17-7AB2-420C-A003-67AFE124A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0D300D-8452-4D01-9719-38785AB7F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893DA3A-CBA1-4CAB-B51B-7442C3182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880621C-78DC-45F3-8D31-53526AFA2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2EFFF9D-493D-405E-ACFA-80150339C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CCD2771-BB17-458E-BE8D-9F3D805F8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F4E0685-3EF8-4DBF-9068-0211ADC30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D6077-9BE3-4E92-B01C-E41AB6343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33BDA18-44B8-4005-9A73-E665C54AC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90DEA8D-E7CC-4EA6-9563-DFB292871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0891C0A-B8E8-4551-B2A2-F7EADC07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93CCD8F-9479-4BD4-A92E-210F713A9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F132C4A-D6B2-4DE6-9FF0-BCCE1C471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0D7021C-0988-46E1-BD58-396CAFF6D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A2C191E-6D8A-4D6F-876C-B81347B27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0A5797E-F095-431E-AAD1-A61291F86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54665A0-5B37-413F-8820-77C6A91BB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3063509-584E-41A6-AE42-0C1D619BC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C216D-A035-4D7C-B8AA-2FE4BB8264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sldNum" idx="29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CE60D-E5ED-4581-99DE-EBC63F2648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ftr" idx="30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sldNum" idx="3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75A6A-11E0-4197-9674-C2B895FF28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ftr" idx="3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sldNum" idx="35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EFFFB-01BF-4D41-A2C0-721CA7D576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ftr" idx="36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25869-81EC-4F2F-B745-6780B2A5DE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6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8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89423-2B9A-422B-B22E-B84F88093C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9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11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887BF-EAAC-411A-AA2D-B49FF2247B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14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038E2-5756-4A59-B002-00ECBF7CA2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1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EE13D-017F-4809-B27A-F9EC3E322F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sldNum" idx="20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C1733-E7A1-4AEA-8572-ECBECD0F7D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ftr" idx="21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23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F32F1-C4DB-4F00-BCED-7AD122B5DC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ftr" idx="24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26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160E4-E90D-4B00-A451-AE59430C46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ftr" idx="27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en.wikipedia.org/wiki/Stanley_Milgram" TargetMode="External"/><Relationship Id="rId2" Type="http://schemas.openxmlformats.org/officeDocument/2006/relationships/hyperlink" Target="https://oracleofbacon.org/" TargetMode="External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dmoz.org/" TargetMode="External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83D64-2B0F-409B-89CE-6548333454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Times New Roman"/>
              </a:rPr>
              <a:t>Web Search</a:t>
            </a:r>
            <a:endParaRPr b="0" lang="en-US" sz="40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5D33B-C0E0-4FEE-AFFD-94303017D1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Growth of Web Pages Indexed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33" name="Text Box 5"/>
          <p:cNvSpPr/>
          <p:nvPr/>
        </p:nvSpPr>
        <p:spPr>
          <a:xfrm>
            <a:off x="1558080" y="510552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EngineWatc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4" name="Text Box 8"/>
          <p:cNvSpPr/>
          <p:nvPr/>
        </p:nvSpPr>
        <p:spPr>
          <a:xfrm>
            <a:off x="3108240" y="6242040"/>
            <a:ext cx="6415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5" name="Text Box 9"/>
          <p:cNvSpPr/>
          <p:nvPr/>
        </p:nvSpPr>
        <p:spPr>
          <a:xfrm>
            <a:off x="1748520" y="5715000"/>
            <a:ext cx="6451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Assuming 20KB per page, 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1 billion pages is about 20 terabytes of data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6" name="Text Box 10"/>
          <p:cNvSpPr/>
          <p:nvPr/>
        </p:nvSpPr>
        <p:spPr>
          <a:xfrm>
            <a:off x="304920" y="1752480"/>
            <a:ext cx="34290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7" name="Text Box 11"/>
          <p:cNvSpPr/>
          <p:nvPr/>
        </p:nvSpPr>
        <p:spPr>
          <a:xfrm rot="16200000">
            <a:off x="-702720" y="2760120"/>
            <a:ext cx="2743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Billions of Page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8" name="Text Box 12"/>
          <p:cNvSpPr/>
          <p:nvPr/>
        </p:nvSpPr>
        <p:spPr>
          <a:xfrm>
            <a:off x="7086600" y="1371600"/>
            <a:ext cx="2209680" cy="28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Googl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nktomi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llTheWeb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eoma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ltavista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539" name="Picture 6" descr="sizes-trend"/>
          <p:cNvPicPr/>
          <p:nvPr/>
        </p:nvPicPr>
        <p:blipFill>
          <a:blip r:embed="rId1"/>
          <a:stretch/>
        </p:blipFill>
        <p:spPr>
          <a:xfrm>
            <a:off x="990720" y="1371600"/>
            <a:ext cx="647676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urrent Size of the Web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41" name="Slide Number Placeholder 2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CD746-E9A0-4188-B45E-1660FF3882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2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543" name="Picture 9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4678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5FE28-D76B-4224-86E0-AA2CC9B510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Zipf’s Law on the Web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of in-links/out-links to/from a page has a Zipfian distrib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ngth of web pages has a Zipfian distrib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of hits to a web page has a Zipfian distrib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0F485-6024-4FDB-BC3D-12B0A82216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Zipfs Law and Web Page Popularity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549" name="Picture 4" descr="zipf_curve_9607"/>
          <p:cNvPicPr/>
          <p:nvPr/>
        </p:nvPicPr>
        <p:blipFill>
          <a:blip r:embed="rId1"/>
          <a:stretch/>
        </p:blipFill>
        <p:spPr>
          <a:xfrm>
            <a:off x="1600200" y="1981080"/>
            <a:ext cx="5686560" cy="41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BCEB8-6821-4F9E-8878-235DAEC20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mall World” (Scale-Free) Graph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cial networks and six degrees of separ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  <a:hlinkClick r:id="rId1"/>
              </a:rPr>
              <a:t>Stanley Milgram Experiment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wer law distribution of in and out degre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inct from purely random graph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ch get richer” generation of graphs (preferential attachment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vin Bacon gam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  <a:hlinkClick r:id="rId2"/>
              </a:rPr>
              <a:t>Oracle of Bacon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dos numb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works in biochemistry, roads, telecommunications, Internet, etc are “small word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97458-41A5-44DF-A87D-1BE15802F0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Manual Hierarchical Web Taxonomi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Yaho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pproach of using human editors to assemble a large hierarchically structured directory of web pages (closed in 2014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pen Directory Proj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similar approach based on the distributed labor of volunteer editors (“net-citizens provide the collective brain”). Used by most other search engines. Started by Netscap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Times New Roman"/>
                <a:hlinkClick r:id="rId1"/>
              </a:rPr>
              <a:t>http://www.dmoz.org/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C06E1-AD8F-40C2-BD26-EC5E2D6F24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usiness Models for Web Search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vertisers pay for banner ads on the site that do not depend on a user’s que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CPM: Cost Per Mille (thousand impressions)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y for each ad display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CPC: Cost Per Click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y only when user clicks on ad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CTR: Click Through Rate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raction of ad impressions that result in clicks throughs. CPC = CPM / (CTR * 1000)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CPA: Cost Per Action (Acquisition)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y only when user actually makes a purchase on target site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vertisers bid for “keywords”. Ads for highest bidders displayed when user query contains a purchased key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PC: Pay Per Click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PC for bid word ads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e.g. Google AdWords)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DBCF0-DACA-477F-AB6F-61C65BE124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History of Business Model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ly, banner ads paid thru CPM were the nor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To Inc. formed in 1997 and originates and patents bidding and PPC business mod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ogle introduces AdWords in fall 20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To renamed Overture in Oct. 200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ture sues Google for use of PPC in Apr. 200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ture acquired by Yahoo in Oct. 200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ogle settles with Overture/Yahoo for 2.7 million shares of Class A common stock in Aug. 200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772400" cy="4687920"/>
          </a:xfrm>
          <a:prstGeom prst="rect">
            <a:avLst/>
          </a:prstGeom>
          <a:ln w="0">
            <a:noFill/>
          </a:ln>
        </p:spPr>
      </p:pic>
      <p:sp>
        <p:nvSpPr>
          <p:cNvPr id="564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0AB3C-6829-48D3-8628-1FDF2C5460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565" name="Picture 2" descr="Where Does Google Make Its Money? [ infographic ]"/>
          <p:cNvPicPr/>
          <p:nvPr/>
        </p:nvPicPr>
        <p:blipFill>
          <a:blip r:embed="rId2"/>
          <a:stretch/>
        </p:blipFill>
        <p:spPr>
          <a:xfrm>
            <a:off x="2514600" y="-1523880"/>
            <a:ext cx="4214880" cy="848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D4D62-A522-496C-82FE-E3736F0CB9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ffiliates Program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you have a website, you can generate income by becoming 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ffilia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y agreeing to post ads relevant to the topic of your si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users click on your impression of an ad, you get some percentage of the CPC or PPC income that is genera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gle introduces AdSense affiliates program in 200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E8DE5-CFCE-4E08-BBB1-BB0EFC5216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he World Wide Web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ed by Tim Berners-Lee in 1990 at CERN to organize research documents available on the Intern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ed idea of documents available by FTP with the idea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ypertex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link docu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ed initial HTTP network protocol, URLs, HTML, and first “web serv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50809-F2AB-4CF8-8927-1613A38302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utomatic Document Classific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ual classification into a given hierarchy is labor intensive, subjective, and error-pr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xt categorization methods provide a way to automatically classify docu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st methods based on training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chine learn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ttern recogn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system on a labeled set of example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pervised learn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xt categorization is a topic we will discuss later in the cour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8AAB1-C1C4-4B43-B0EE-ABE62B940D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utomatic Document Hierarchi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ual hierarchy development is labor intensive, subjective, and error-pr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would nice to automatically construct a meaningful hierarchical taxonomy from a corpus of docu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possible with hierarchical text clustering (unsupervised learning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Hierarchical Agglomerative Clustering (HAC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xt clustering is a another topic we will discuss later in the cour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9C23B-0B51-42A8-8D43-DFBD2CCA07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Web Search Using IR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pSp>
        <p:nvGrpSpPr>
          <p:cNvPr id="577" name="Group 3"/>
          <p:cNvGrpSpPr/>
          <p:nvPr/>
        </p:nvGrpSpPr>
        <p:grpSpPr>
          <a:xfrm>
            <a:off x="3657600" y="3276720"/>
            <a:ext cx="2971800" cy="3147840"/>
            <a:chOff x="3657600" y="3276720"/>
            <a:chExt cx="2971800" cy="3147840"/>
          </a:xfrm>
        </p:grpSpPr>
        <p:grpSp>
          <p:nvGrpSpPr>
            <p:cNvPr id="578" name="Group 4"/>
            <p:cNvGrpSpPr/>
            <p:nvPr/>
          </p:nvGrpSpPr>
          <p:grpSpPr>
            <a:xfrm>
              <a:off x="3657600" y="3276720"/>
              <a:ext cx="2971800" cy="3147840"/>
              <a:chOff x="3657600" y="3276720"/>
              <a:chExt cx="2971800" cy="3147840"/>
            </a:xfrm>
          </p:grpSpPr>
          <p:pic>
            <p:nvPicPr>
              <p:cNvPr id="579" name="Picture 5" descr="amconfus"/>
              <p:cNvPicPr/>
              <p:nvPr/>
            </p:nvPicPr>
            <p:blipFill>
              <a:blip r:embed="rId1"/>
              <a:stretch/>
            </p:blipFill>
            <p:spPr>
              <a:xfrm>
                <a:off x="3657600" y="4419720"/>
                <a:ext cx="932040" cy="2004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0" name="AutoShape 6"/>
              <p:cNvSpPr/>
              <p:nvPr/>
            </p:nvSpPr>
            <p:spPr>
              <a:xfrm>
                <a:off x="4495680" y="3276720"/>
                <a:ext cx="1295640" cy="914400"/>
              </a:xfrm>
              <a:prstGeom prst="wedgeRoundRectCallout">
                <a:avLst>
                  <a:gd name="adj1" fmla="val -59314"/>
                  <a:gd name="adj2" fmla="val 106944"/>
                  <a:gd name="adj3" fmla="val 16667"/>
                </a:avLst>
              </a:prstGeom>
              <a:solidFill>
                <a:srgbClr val="11db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581" name="Line 7"/>
              <p:cNvSpPr/>
              <p:nvPr/>
            </p:nvSpPr>
            <p:spPr>
              <a:xfrm>
                <a:off x="5791320" y="3809880"/>
                <a:ext cx="838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sp>
          <p:nvSpPr>
            <p:cNvPr id="582" name="Rectangle 8"/>
            <p:cNvSpPr/>
            <p:nvPr/>
          </p:nvSpPr>
          <p:spPr>
            <a:xfrm>
              <a:off x="4648320" y="3352680"/>
              <a:ext cx="946080" cy="825480"/>
            </a:xfrm>
            <a:prstGeom prst="rect">
              <a:avLst/>
            </a:prstGeom>
            <a:solidFill>
              <a:srgbClr val="11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uery String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583" name="Rectangle 9"/>
          <p:cNvSpPr/>
          <p:nvPr/>
        </p:nvSpPr>
        <p:spPr>
          <a:xfrm>
            <a:off x="6629400" y="3200400"/>
            <a:ext cx="2057400" cy="1066680"/>
          </a:xfrm>
          <a:prstGeom prst="rect">
            <a:avLst/>
          </a:prstGeom>
          <a:solidFill>
            <a:srgbClr val="98ed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584" name="Group 10"/>
          <p:cNvGrpSpPr/>
          <p:nvPr/>
        </p:nvGrpSpPr>
        <p:grpSpPr>
          <a:xfrm>
            <a:off x="5183640" y="4267080"/>
            <a:ext cx="3350880" cy="2011320"/>
            <a:chOff x="5183640" y="4267080"/>
            <a:chExt cx="3350880" cy="2011320"/>
          </a:xfrm>
        </p:grpSpPr>
        <p:sp>
          <p:nvSpPr>
            <p:cNvPr id="585" name="Oval 11"/>
            <p:cNvSpPr/>
            <p:nvPr/>
          </p:nvSpPr>
          <p:spPr>
            <a:xfrm>
              <a:off x="6781680" y="4952880"/>
              <a:ext cx="1752840" cy="914400"/>
            </a:xfrm>
            <a:prstGeom prst="ellipse">
              <a:avLst/>
            </a:prstGeom>
            <a:solidFill>
              <a:srgbClr val="11dbd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anked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ocuments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86" name="Line 12"/>
            <p:cNvSpPr/>
            <p:nvPr/>
          </p:nvSpPr>
          <p:spPr>
            <a:xfrm>
              <a:off x="7620120" y="42670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87" name="Rectangle 13"/>
            <p:cNvSpPr/>
            <p:nvPr/>
          </p:nvSpPr>
          <p:spPr>
            <a:xfrm>
              <a:off x="5486400" y="4724280"/>
              <a:ext cx="1219320" cy="144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88" name="Text Box 14"/>
            <p:cNvSpPr/>
            <p:nvPr/>
          </p:nvSpPr>
          <p:spPr>
            <a:xfrm>
              <a:off x="5183640" y="4724280"/>
              <a:ext cx="179460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. Page1</a:t>
              </a:r>
              <a:endParaRPr b="0" lang="en-US" sz="1600" spc="-1" strike="noStrike">
                <a:solidFill>
                  <a:srgbClr val="333399"/>
                </a:solidFill>
                <a:latin typeface="Times New Roman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. Page2</a:t>
              </a:r>
              <a:endParaRPr b="0" lang="en-US" sz="1600" spc="-1" strike="noStrike">
                <a:solidFill>
                  <a:srgbClr val="333399"/>
                </a:solidFill>
                <a:latin typeface="Times New Roman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. Page3</a:t>
              </a:r>
              <a:endParaRPr b="0" lang="en-US" sz="1600" spc="-1" strike="noStrike">
                <a:solidFill>
                  <a:srgbClr val="333399"/>
                </a:solidFill>
                <a:latin typeface="Times New Roman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333399"/>
                </a:solidFill>
                <a:latin typeface="Times New Roman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333399"/>
                </a:solidFill>
                <a:latin typeface="Times New Roman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589" name="Line 15"/>
          <p:cNvSpPr/>
          <p:nvPr/>
        </p:nvSpPr>
        <p:spPr>
          <a:xfrm>
            <a:off x="762012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590" name="Group 16"/>
          <p:cNvGrpSpPr/>
          <p:nvPr/>
        </p:nvGrpSpPr>
        <p:grpSpPr>
          <a:xfrm>
            <a:off x="6248520" y="1828800"/>
            <a:ext cx="2209680" cy="914400"/>
            <a:chOff x="6248520" y="1828800"/>
            <a:chExt cx="2209680" cy="914400"/>
          </a:xfrm>
        </p:grpSpPr>
        <p:sp>
          <p:nvSpPr>
            <p:cNvPr id="591" name="Oval 17"/>
            <p:cNvSpPr/>
            <p:nvPr/>
          </p:nvSpPr>
          <p:spPr>
            <a:xfrm>
              <a:off x="6781680" y="1828800"/>
              <a:ext cx="1676520" cy="914400"/>
            </a:xfrm>
            <a:prstGeom prst="ellipse">
              <a:avLst/>
            </a:prstGeom>
            <a:solidFill>
              <a:srgbClr val="11dbd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ocument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rpus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92" name="Line 18"/>
            <p:cNvSpPr/>
            <p:nvPr/>
          </p:nvSpPr>
          <p:spPr>
            <a:xfrm>
              <a:off x="6248520" y="228600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593" name="Group 19"/>
          <p:cNvGrpSpPr/>
          <p:nvPr/>
        </p:nvGrpSpPr>
        <p:grpSpPr>
          <a:xfrm>
            <a:off x="838080" y="1523880"/>
            <a:ext cx="2743200" cy="2210040"/>
            <a:chOff x="838080" y="1523880"/>
            <a:chExt cx="2743200" cy="2210040"/>
          </a:xfrm>
        </p:grpSpPr>
        <p:sp>
          <p:nvSpPr>
            <p:cNvPr id="594" name="Cloud"/>
            <p:cNvSpPr/>
            <p:nvPr/>
          </p:nvSpPr>
          <p:spPr>
            <a:xfrm>
              <a:off x="838080" y="1523880"/>
              <a:ext cx="2743200" cy="2210040"/>
            </a:xfrm>
            <a:custGeom>
              <a:avLst/>
              <a:gdLst>
                <a:gd name="textAreaLeft" fmla="*/ 377640 w 2743200"/>
                <a:gd name="textAreaRight" fmla="*/ 2170440 w 2743200"/>
                <a:gd name="textAreaTop" fmla="*/ 333360 h 2210040"/>
                <a:gd name="textAreaBottom" fmla="*/ 1773720 h 221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0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1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300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7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7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0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0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50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2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10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95" name="Text Box 21"/>
            <p:cNvSpPr/>
            <p:nvPr/>
          </p:nvSpPr>
          <p:spPr>
            <a:xfrm>
              <a:off x="1829880" y="1752480"/>
              <a:ext cx="75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eb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grpSp>
          <p:nvGrpSpPr>
            <p:cNvPr id="596" name="Group 22"/>
            <p:cNvGrpSpPr/>
            <p:nvPr/>
          </p:nvGrpSpPr>
          <p:grpSpPr>
            <a:xfrm>
              <a:off x="1600200" y="2209680"/>
              <a:ext cx="1371240" cy="1219320"/>
              <a:chOff x="1600200" y="2209680"/>
              <a:chExt cx="1371240" cy="1219320"/>
            </a:xfrm>
          </p:grpSpPr>
          <p:grpSp>
            <p:nvGrpSpPr>
              <p:cNvPr id="597" name="Group 23"/>
              <p:cNvGrpSpPr/>
              <p:nvPr/>
            </p:nvGrpSpPr>
            <p:grpSpPr>
              <a:xfrm>
                <a:off x="1600200" y="2561400"/>
                <a:ext cx="259920" cy="304920"/>
                <a:chOff x="1600200" y="2561400"/>
                <a:chExt cx="259920" cy="304920"/>
              </a:xfrm>
            </p:grpSpPr>
            <p:sp>
              <p:nvSpPr>
                <p:cNvPr id="598" name="Rectangle 24"/>
                <p:cNvSpPr/>
                <p:nvPr/>
              </p:nvSpPr>
              <p:spPr>
                <a:xfrm>
                  <a:off x="1600200" y="2561400"/>
                  <a:ext cx="259920" cy="3049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buClr>
                      <a:srgbClr val="00cc00"/>
                    </a:buClr>
                    <a:buFont typeface="Times New Roman"/>
                    <a:buChar char="–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Line 25"/>
                <p:cNvSpPr/>
                <p:nvPr/>
              </p:nvSpPr>
              <p:spPr>
                <a:xfrm>
                  <a:off x="1671120" y="2596320"/>
                  <a:ext cx="16524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Line 26"/>
                <p:cNvSpPr/>
                <p:nvPr/>
              </p:nvSpPr>
              <p:spPr>
                <a:xfrm>
                  <a:off x="1623600" y="262584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Line 27"/>
                <p:cNvSpPr/>
                <p:nvPr/>
              </p:nvSpPr>
              <p:spPr>
                <a:xfrm>
                  <a:off x="1623600" y="265500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Line 28"/>
                <p:cNvSpPr/>
                <p:nvPr/>
              </p:nvSpPr>
              <p:spPr>
                <a:xfrm>
                  <a:off x="1623600" y="268452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Line 29"/>
                <p:cNvSpPr/>
                <p:nvPr/>
              </p:nvSpPr>
              <p:spPr>
                <a:xfrm>
                  <a:off x="1623600" y="271368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Line 30"/>
                <p:cNvSpPr/>
                <p:nvPr/>
              </p:nvSpPr>
              <p:spPr>
                <a:xfrm>
                  <a:off x="1671120" y="2743200"/>
                  <a:ext cx="16524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Line 31"/>
                <p:cNvSpPr/>
                <p:nvPr/>
              </p:nvSpPr>
              <p:spPr>
                <a:xfrm>
                  <a:off x="1623600" y="277236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Line 32"/>
                <p:cNvSpPr/>
                <p:nvPr/>
              </p:nvSpPr>
              <p:spPr>
                <a:xfrm>
                  <a:off x="1623600" y="280188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Line 33"/>
                <p:cNvSpPr/>
                <p:nvPr/>
              </p:nvSpPr>
              <p:spPr>
                <a:xfrm>
                  <a:off x="1623600" y="283140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8" name="Group 34"/>
              <p:cNvGrpSpPr/>
              <p:nvPr/>
            </p:nvGrpSpPr>
            <p:grpSpPr>
              <a:xfrm>
                <a:off x="2191320" y="2702160"/>
                <a:ext cx="259920" cy="304920"/>
                <a:chOff x="2191320" y="2702160"/>
                <a:chExt cx="259920" cy="304920"/>
              </a:xfrm>
            </p:grpSpPr>
            <p:sp>
              <p:nvSpPr>
                <p:cNvPr id="609" name="Rectangle 35"/>
                <p:cNvSpPr/>
                <p:nvPr/>
              </p:nvSpPr>
              <p:spPr>
                <a:xfrm>
                  <a:off x="2191320" y="2702160"/>
                  <a:ext cx="259920" cy="3049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buClr>
                      <a:srgbClr val="00cc00"/>
                    </a:buClr>
                    <a:buFont typeface="Times New Roman"/>
                    <a:buChar char="–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Line 36"/>
                <p:cNvSpPr/>
                <p:nvPr/>
              </p:nvSpPr>
              <p:spPr>
                <a:xfrm>
                  <a:off x="2262240" y="2737080"/>
                  <a:ext cx="16524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Line 37"/>
                <p:cNvSpPr/>
                <p:nvPr/>
              </p:nvSpPr>
              <p:spPr>
                <a:xfrm>
                  <a:off x="2214720" y="276660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Line 38"/>
                <p:cNvSpPr/>
                <p:nvPr/>
              </p:nvSpPr>
              <p:spPr>
                <a:xfrm>
                  <a:off x="2214720" y="279576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Line 39"/>
                <p:cNvSpPr/>
                <p:nvPr/>
              </p:nvSpPr>
              <p:spPr>
                <a:xfrm>
                  <a:off x="2214720" y="282528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Line 40"/>
                <p:cNvSpPr/>
                <p:nvPr/>
              </p:nvSpPr>
              <p:spPr>
                <a:xfrm>
                  <a:off x="2214720" y="285444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Line 41"/>
                <p:cNvSpPr/>
                <p:nvPr/>
              </p:nvSpPr>
              <p:spPr>
                <a:xfrm>
                  <a:off x="2262240" y="2883960"/>
                  <a:ext cx="16524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Line 42"/>
                <p:cNvSpPr/>
                <p:nvPr/>
              </p:nvSpPr>
              <p:spPr>
                <a:xfrm>
                  <a:off x="2214720" y="291312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Line 43"/>
                <p:cNvSpPr/>
                <p:nvPr/>
              </p:nvSpPr>
              <p:spPr>
                <a:xfrm>
                  <a:off x="2214720" y="294264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Line 44"/>
                <p:cNvSpPr/>
                <p:nvPr/>
              </p:nvSpPr>
              <p:spPr>
                <a:xfrm>
                  <a:off x="2214720" y="297216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9" name="Group 45"/>
              <p:cNvGrpSpPr/>
              <p:nvPr/>
            </p:nvGrpSpPr>
            <p:grpSpPr>
              <a:xfrm>
                <a:off x="1883880" y="3124080"/>
                <a:ext cx="259920" cy="304920"/>
                <a:chOff x="1883880" y="3124080"/>
                <a:chExt cx="259920" cy="304920"/>
              </a:xfrm>
            </p:grpSpPr>
            <p:sp>
              <p:nvSpPr>
                <p:cNvPr id="620" name="Rectangle 46"/>
                <p:cNvSpPr/>
                <p:nvPr/>
              </p:nvSpPr>
              <p:spPr>
                <a:xfrm>
                  <a:off x="1883880" y="3124080"/>
                  <a:ext cx="259920" cy="3049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buClr>
                      <a:srgbClr val="00cc00"/>
                    </a:buClr>
                    <a:buFont typeface="Times New Roman"/>
                    <a:buChar char="–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Line 47"/>
                <p:cNvSpPr/>
                <p:nvPr/>
              </p:nvSpPr>
              <p:spPr>
                <a:xfrm>
                  <a:off x="1954800" y="3159000"/>
                  <a:ext cx="16524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Line 48"/>
                <p:cNvSpPr/>
                <p:nvPr/>
              </p:nvSpPr>
              <p:spPr>
                <a:xfrm>
                  <a:off x="1907280" y="318852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Line 49"/>
                <p:cNvSpPr/>
                <p:nvPr/>
              </p:nvSpPr>
              <p:spPr>
                <a:xfrm>
                  <a:off x="1907280" y="321768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Line 50"/>
                <p:cNvSpPr/>
                <p:nvPr/>
              </p:nvSpPr>
              <p:spPr>
                <a:xfrm>
                  <a:off x="1907280" y="324720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Line 51"/>
                <p:cNvSpPr/>
                <p:nvPr/>
              </p:nvSpPr>
              <p:spPr>
                <a:xfrm>
                  <a:off x="1907280" y="327636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Line 52"/>
                <p:cNvSpPr/>
                <p:nvPr/>
              </p:nvSpPr>
              <p:spPr>
                <a:xfrm>
                  <a:off x="1954800" y="3305880"/>
                  <a:ext cx="16524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Line 53"/>
                <p:cNvSpPr/>
                <p:nvPr/>
              </p:nvSpPr>
              <p:spPr>
                <a:xfrm>
                  <a:off x="1907280" y="333504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Line 54"/>
                <p:cNvSpPr/>
                <p:nvPr/>
              </p:nvSpPr>
              <p:spPr>
                <a:xfrm>
                  <a:off x="1907280" y="336456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Line 55"/>
                <p:cNvSpPr/>
                <p:nvPr/>
              </p:nvSpPr>
              <p:spPr>
                <a:xfrm>
                  <a:off x="1907280" y="339408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0" name="Group 56"/>
              <p:cNvGrpSpPr/>
              <p:nvPr/>
            </p:nvGrpSpPr>
            <p:grpSpPr>
              <a:xfrm>
                <a:off x="2711520" y="2913120"/>
                <a:ext cx="259920" cy="304920"/>
                <a:chOff x="2711520" y="2913120"/>
                <a:chExt cx="259920" cy="304920"/>
              </a:xfrm>
            </p:grpSpPr>
            <p:sp>
              <p:nvSpPr>
                <p:cNvPr id="631" name="Rectangle 57"/>
                <p:cNvSpPr/>
                <p:nvPr/>
              </p:nvSpPr>
              <p:spPr>
                <a:xfrm>
                  <a:off x="2711520" y="2913120"/>
                  <a:ext cx="259920" cy="3049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buClr>
                      <a:srgbClr val="00cc00"/>
                    </a:buClr>
                    <a:buFont typeface="Times New Roman"/>
                    <a:buChar char="–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Line 58"/>
                <p:cNvSpPr/>
                <p:nvPr/>
              </p:nvSpPr>
              <p:spPr>
                <a:xfrm>
                  <a:off x="2782440" y="2948040"/>
                  <a:ext cx="16524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Line 59"/>
                <p:cNvSpPr/>
                <p:nvPr/>
              </p:nvSpPr>
              <p:spPr>
                <a:xfrm>
                  <a:off x="2734920" y="297756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Line 60"/>
                <p:cNvSpPr/>
                <p:nvPr/>
              </p:nvSpPr>
              <p:spPr>
                <a:xfrm>
                  <a:off x="2734920" y="300672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Line 61"/>
                <p:cNvSpPr/>
                <p:nvPr/>
              </p:nvSpPr>
              <p:spPr>
                <a:xfrm>
                  <a:off x="2734920" y="303624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Line 62"/>
                <p:cNvSpPr/>
                <p:nvPr/>
              </p:nvSpPr>
              <p:spPr>
                <a:xfrm>
                  <a:off x="2734920" y="306540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Line 63"/>
                <p:cNvSpPr/>
                <p:nvPr/>
              </p:nvSpPr>
              <p:spPr>
                <a:xfrm>
                  <a:off x="2782440" y="3094920"/>
                  <a:ext cx="16524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Line 64"/>
                <p:cNvSpPr/>
                <p:nvPr/>
              </p:nvSpPr>
              <p:spPr>
                <a:xfrm>
                  <a:off x="2734920" y="312408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Line 65"/>
                <p:cNvSpPr/>
                <p:nvPr/>
              </p:nvSpPr>
              <p:spPr>
                <a:xfrm>
                  <a:off x="2734920" y="315360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Line 66"/>
                <p:cNvSpPr/>
                <p:nvPr/>
              </p:nvSpPr>
              <p:spPr>
                <a:xfrm>
                  <a:off x="2734920" y="318312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1" name="Group 67"/>
              <p:cNvGrpSpPr/>
              <p:nvPr/>
            </p:nvGrpSpPr>
            <p:grpSpPr>
              <a:xfrm>
                <a:off x="2049480" y="2209680"/>
                <a:ext cx="259920" cy="304920"/>
                <a:chOff x="2049480" y="2209680"/>
                <a:chExt cx="259920" cy="304920"/>
              </a:xfrm>
            </p:grpSpPr>
            <p:sp>
              <p:nvSpPr>
                <p:cNvPr id="642" name="Rectangle 68"/>
                <p:cNvSpPr/>
                <p:nvPr/>
              </p:nvSpPr>
              <p:spPr>
                <a:xfrm>
                  <a:off x="2049480" y="2209680"/>
                  <a:ext cx="259920" cy="3049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buClr>
                      <a:srgbClr val="00cc00"/>
                    </a:buClr>
                    <a:buFont typeface="Times New Roman"/>
                    <a:buChar char="–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Line 69"/>
                <p:cNvSpPr/>
                <p:nvPr/>
              </p:nvSpPr>
              <p:spPr>
                <a:xfrm>
                  <a:off x="2120400" y="2244600"/>
                  <a:ext cx="16524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Line 70"/>
                <p:cNvSpPr/>
                <p:nvPr/>
              </p:nvSpPr>
              <p:spPr>
                <a:xfrm>
                  <a:off x="2072880" y="227412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Line 71"/>
                <p:cNvSpPr/>
                <p:nvPr/>
              </p:nvSpPr>
              <p:spPr>
                <a:xfrm>
                  <a:off x="2072880" y="230328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Line 72"/>
                <p:cNvSpPr/>
                <p:nvPr/>
              </p:nvSpPr>
              <p:spPr>
                <a:xfrm>
                  <a:off x="2072880" y="233280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Line 73"/>
                <p:cNvSpPr/>
                <p:nvPr/>
              </p:nvSpPr>
              <p:spPr>
                <a:xfrm>
                  <a:off x="2072880" y="236196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Line 74"/>
                <p:cNvSpPr/>
                <p:nvPr/>
              </p:nvSpPr>
              <p:spPr>
                <a:xfrm>
                  <a:off x="2120400" y="2391480"/>
                  <a:ext cx="16524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Line 75"/>
                <p:cNvSpPr/>
                <p:nvPr/>
              </p:nvSpPr>
              <p:spPr>
                <a:xfrm>
                  <a:off x="2072880" y="242064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Line 76"/>
                <p:cNvSpPr/>
                <p:nvPr/>
              </p:nvSpPr>
              <p:spPr>
                <a:xfrm>
                  <a:off x="2072880" y="245016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Line 77"/>
                <p:cNvSpPr/>
                <p:nvPr/>
              </p:nvSpPr>
              <p:spPr>
                <a:xfrm>
                  <a:off x="2072880" y="247968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2" name="Group 78"/>
              <p:cNvGrpSpPr/>
              <p:nvPr/>
            </p:nvGrpSpPr>
            <p:grpSpPr>
              <a:xfrm>
                <a:off x="2688120" y="2444040"/>
                <a:ext cx="259920" cy="304560"/>
                <a:chOff x="2688120" y="2444040"/>
                <a:chExt cx="259920" cy="304560"/>
              </a:xfrm>
            </p:grpSpPr>
            <p:sp>
              <p:nvSpPr>
                <p:cNvPr id="653" name="Rectangle 79"/>
                <p:cNvSpPr/>
                <p:nvPr/>
              </p:nvSpPr>
              <p:spPr>
                <a:xfrm>
                  <a:off x="2688120" y="2444040"/>
                  <a:ext cx="259920" cy="3045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buClr>
                      <a:srgbClr val="00cc00"/>
                    </a:buClr>
                    <a:buFont typeface="Times New Roman"/>
                    <a:buChar char="–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Line 80"/>
                <p:cNvSpPr/>
                <p:nvPr/>
              </p:nvSpPr>
              <p:spPr>
                <a:xfrm>
                  <a:off x="2759040" y="2478960"/>
                  <a:ext cx="16524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Line 81"/>
                <p:cNvSpPr/>
                <p:nvPr/>
              </p:nvSpPr>
              <p:spPr>
                <a:xfrm>
                  <a:off x="2711520" y="250848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Line 82"/>
                <p:cNvSpPr/>
                <p:nvPr/>
              </p:nvSpPr>
              <p:spPr>
                <a:xfrm>
                  <a:off x="2711520" y="253764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Line 83"/>
                <p:cNvSpPr/>
                <p:nvPr/>
              </p:nvSpPr>
              <p:spPr>
                <a:xfrm>
                  <a:off x="2711520" y="256716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Line 84"/>
                <p:cNvSpPr/>
                <p:nvPr/>
              </p:nvSpPr>
              <p:spPr>
                <a:xfrm>
                  <a:off x="2711520" y="259632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Line 85"/>
                <p:cNvSpPr/>
                <p:nvPr/>
              </p:nvSpPr>
              <p:spPr>
                <a:xfrm>
                  <a:off x="2759040" y="2625480"/>
                  <a:ext cx="16524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Line 86"/>
                <p:cNvSpPr/>
                <p:nvPr/>
              </p:nvSpPr>
              <p:spPr>
                <a:xfrm>
                  <a:off x="2711520" y="265500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Line 87"/>
                <p:cNvSpPr/>
                <p:nvPr/>
              </p:nvSpPr>
              <p:spPr>
                <a:xfrm>
                  <a:off x="2711520" y="268416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Line 88"/>
                <p:cNvSpPr/>
                <p:nvPr/>
              </p:nvSpPr>
              <p:spPr>
                <a:xfrm>
                  <a:off x="2711520" y="271368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3" name="Rectangle 89"/>
              <p:cNvSpPr/>
              <p:nvPr/>
            </p:nvSpPr>
            <p:spPr>
              <a:xfrm>
                <a:off x="2333160" y="2795760"/>
                <a:ext cx="94320" cy="46800"/>
              </a:xfrm>
              <a:prstGeom prst="rect">
                <a:avLst/>
              </a:prstGeom>
              <a:solidFill>
                <a:srgbClr val="11dbdb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lnSpc>
                    <a:spcPct val="90000"/>
                  </a:lnSpc>
                  <a:spcBef>
                    <a:spcPts val="601"/>
                  </a:spcBef>
                  <a:buClr>
                    <a:srgbClr val="00cc00"/>
                  </a:buClr>
                  <a:buFont typeface="Times New Roman"/>
                  <a:buChar char="–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664" name="Rectangle 90"/>
              <p:cNvSpPr/>
              <p:nvPr/>
            </p:nvSpPr>
            <p:spPr>
              <a:xfrm>
                <a:off x="2735280" y="2444040"/>
                <a:ext cx="189000" cy="46800"/>
              </a:xfrm>
              <a:prstGeom prst="rect">
                <a:avLst/>
              </a:prstGeom>
              <a:solidFill>
                <a:srgbClr val="98ed87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lnSpc>
                    <a:spcPct val="90000"/>
                  </a:lnSpc>
                  <a:spcBef>
                    <a:spcPts val="601"/>
                  </a:spcBef>
                  <a:buClr>
                    <a:srgbClr val="00cc00"/>
                  </a:buClr>
                  <a:buFont typeface="Times New Roman"/>
                  <a:buChar char="–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665" name="Rectangle 91"/>
              <p:cNvSpPr/>
              <p:nvPr/>
            </p:nvSpPr>
            <p:spPr>
              <a:xfrm>
                <a:off x="1954800" y="3194640"/>
                <a:ext cx="118080" cy="70200"/>
              </a:xfrm>
              <a:prstGeom prst="rect">
                <a:avLst/>
              </a:prstGeom>
              <a:solidFill>
                <a:srgbClr val="f4f432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pPr>
                  <a:lnSpc>
                    <a:spcPct val="90000"/>
                  </a:lnSpc>
                  <a:spcBef>
                    <a:spcPts val="601"/>
                  </a:spcBef>
                  <a:buClr>
                    <a:srgbClr val="00cc00"/>
                  </a:buClr>
                  <a:buFont typeface="Times New Roman"/>
                  <a:buChar char="–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666" name="Line 92"/>
              <p:cNvSpPr/>
              <p:nvPr/>
            </p:nvSpPr>
            <p:spPr>
              <a:xfrm flipV="1">
                <a:off x="1718280" y="2349720"/>
                <a:ext cx="331200" cy="304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667" name="Line 93"/>
              <p:cNvSpPr/>
              <p:nvPr/>
            </p:nvSpPr>
            <p:spPr>
              <a:xfrm>
                <a:off x="1742040" y="2748960"/>
                <a:ext cx="449280" cy="164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668" name="Line 94"/>
              <p:cNvSpPr/>
              <p:nvPr/>
            </p:nvSpPr>
            <p:spPr>
              <a:xfrm flipH="1" flipV="1">
                <a:off x="2309040" y="2350080"/>
                <a:ext cx="472680" cy="2577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669" name="Line 95"/>
              <p:cNvSpPr/>
              <p:nvPr/>
            </p:nvSpPr>
            <p:spPr>
              <a:xfrm flipV="1">
                <a:off x="2829960" y="2748600"/>
                <a:ext cx="0" cy="281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670" name="Line 96"/>
              <p:cNvSpPr/>
              <p:nvPr/>
            </p:nvSpPr>
            <p:spPr>
              <a:xfrm flipV="1">
                <a:off x="2049480" y="3077280"/>
                <a:ext cx="662040" cy="2577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671" name="Line 97"/>
              <p:cNvSpPr/>
              <p:nvPr/>
            </p:nvSpPr>
            <p:spPr>
              <a:xfrm flipH="1" flipV="1">
                <a:off x="1742040" y="2866320"/>
                <a:ext cx="283680" cy="375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672" name="Line 98"/>
              <p:cNvSpPr/>
              <p:nvPr/>
            </p:nvSpPr>
            <p:spPr>
              <a:xfrm>
                <a:off x="2167560" y="2350080"/>
                <a:ext cx="94320" cy="351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673" name="Line 99"/>
              <p:cNvSpPr/>
              <p:nvPr/>
            </p:nvSpPr>
            <p:spPr>
              <a:xfrm flipV="1">
                <a:off x="2356920" y="2631600"/>
                <a:ext cx="331200" cy="140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674" name="Line 100"/>
              <p:cNvSpPr/>
              <p:nvPr/>
            </p:nvSpPr>
            <p:spPr>
              <a:xfrm>
                <a:off x="2356920" y="2913120"/>
                <a:ext cx="354600" cy="9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75" name="Group 101"/>
          <p:cNvGrpSpPr/>
          <p:nvPr/>
        </p:nvGrpSpPr>
        <p:grpSpPr>
          <a:xfrm>
            <a:off x="3200400" y="1828800"/>
            <a:ext cx="2971800" cy="1066680"/>
            <a:chOff x="3200400" y="1828800"/>
            <a:chExt cx="2971800" cy="1066680"/>
          </a:xfrm>
        </p:grpSpPr>
        <p:sp>
          <p:nvSpPr>
            <p:cNvPr id="676" name="Line 102"/>
            <p:cNvSpPr/>
            <p:nvPr/>
          </p:nvSpPr>
          <p:spPr>
            <a:xfrm>
              <a:off x="3200400" y="22860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grpSp>
          <p:nvGrpSpPr>
            <p:cNvPr id="677" name="Group 103"/>
            <p:cNvGrpSpPr/>
            <p:nvPr/>
          </p:nvGrpSpPr>
          <p:grpSpPr>
            <a:xfrm>
              <a:off x="4114800" y="1828800"/>
              <a:ext cx="2057400" cy="1066680"/>
              <a:chOff x="4114800" y="1828800"/>
              <a:chExt cx="2057400" cy="1066680"/>
            </a:xfrm>
          </p:grpSpPr>
          <p:sp>
            <p:nvSpPr>
              <p:cNvPr id="678" name="Rectangle 104"/>
              <p:cNvSpPr/>
              <p:nvPr/>
            </p:nvSpPr>
            <p:spPr>
              <a:xfrm>
                <a:off x="4114800" y="1828800"/>
                <a:ext cx="2057400" cy="1066680"/>
              </a:xfrm>
              <a:prstGeom prst="rect">
                <a:avLst/>
              </a:prstGeom>
              <a:solidFill>
                <a:srgbClr val="98ed8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pic>
            <p:nvPicPr>
              <p:cNvPr id="679" name="Picture 105" descr="AN00080_"/>
              <p:cNvPicPr/>
              <p:nvPr/>
            </p:nvPicPr>
            <p:blipFill>
              <a:blip r:embed="rId2"/>
              <a:stretch/>
            </p:blipFill>
            <p:spPr>
              <a:xfrm>
                <a:off x="4648320" y="2286000"/>
                <a:ext cx="914400" cy="600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0" name="Rectangle 106"/>
              <p:cNvSpPr/>
              <p:nvPr/>
            </p:nvSpPr>
            <p:spPr>
              <a:xfrm>
                <a:off x="4649040" y="1828800"/>
                <a:ext cx="977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pider</a:t>
                </a:r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145BD-7C82-4CC7-875E-151A39DA59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Web Pre-History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d Nelson developed idea of hypertext in 196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Engelbart invented the mouse and built the first implementation of hypertext in the late 1960’s at SR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PANET was developed in the early 1970’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asic technology was in place in the 1970’s; but it took the PC revolution and widespread networking to inspire the web and make it practica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30965-E8D4-4D8D-92F1-18949ABCCD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Web Browser History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rly browsers were developed in 1992 (Erwise, ViolaWWW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3, Marc Andreessen and Eric Bina at UIUC NCSA developed the Mosaic browser and distributed it wid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reessen joined with James Clark (Stanford Prof. and Silicon Graphics founder) to form Mosaic Communications Inc. in 1994 (which became Netscape to avoid conflict with UIUC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rosoft licensed the original Mosaic from UIUC and used it to build Internet Explorer in 1995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FF5BB-C483-4259-AAB2-45B286E86D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earch Engine Early History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late 1980’s many files were available by anonymous FT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1990, Alan Emtage of McGill Univ. developed Archie (short for “archives”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ssembled lists of files available on many FTP servers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llowed regex search of these file names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1993, Veronica and Jughead were developed to search names of text files available through Gopher serv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BCC3F-8217-4EE6-9531-FD551A562F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Web Search History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1993, early web robots (spiders) were built to collect URL’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Wanderer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LIWEB (Archie-Like Index of the WEB)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WWW Worm (indexed URL’s and titles for regex search)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1994, Stanford grad students David Filo and Jerry Yang started manually collecting popular web sites into a topical hierarchy called Yaho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F6938-D82A-4C4C-8610-1629DF07D4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Web Search History (cont.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9246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early 1994, Brian Pinkerton developed WebCrawler as a class project at U Wash. (eventually became part of Excite and AOL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w months later, Fuzzy Maudlin, a grad student at CMU developed Lycos.  First to use a standard IR system as developed for the DARPA Tipster project. First to index a large set of pag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late 1995, DEC developed Altavista. Used a large farm of Alpha machines to quickly process large numbers of queries. Supported boolean operators, phrases, and “reverse pointer” que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CEF53-9EB3-4D4C-9A9D-DEDCA2538B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Web Search History (cont.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1998, Larry Page and Sergey Brin, Ph.D. students at Stanford, started Google. Main advance is us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nk analys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rank results partially based on authorit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crosoft lauched MSN Search in 1998 based on Inktomi (started from UC Berkeley in 1996), changed to Live Search in 2007, and Bing in 2009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32388-2A48-44A4-A7DD-1645068D41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Web Challenges for IR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07696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istributed Da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Documents spread over millions of different web serv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Volatile Da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Many documents change or disappear rapidly (e.g. dead link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Large Volu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Billions of separate docu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Unstructured and Redundant Da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No uniform structure, HTML errors, up to 30% (near) duplicate docu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Quality of Da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No editorial control, false information, poor quality writing, typo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Heterogeneous Da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ultiple media types (images, video, VRML), languages, character sets, etc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0T22:11:52Z</dcterms:created>
  <dc:creator>Raymond Mooney</dc:creator>
  <dc:description/>
  <dc:language>en-US</dc:language>
  <cp:lastModifiedBy>mooney</cp:lastModifiedBy>
  <dcterms:modified xsi:type="dcterms:W3CDTF">2018-10-03T14:52:24Z</dcterms:modified>
  <cp:revision>123</cp:revision>
  <dc:subject/>
  <dc:title>Intelligent Information Retrieval and Web Search</dc:title>
</cp:coreProperties>
</file>