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CEC53-D727-47F1-8407-E1C86839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37390-EBD7-4846-9BA4-E8A28518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BD66E-82B3-4B41-899B-F51A608A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04186-6DF0-41CF-A1AA-AA13F96C4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F4143-496A-48E3-939E-86104309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64BCC-E798-4258-ACE3-98F6E76E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B6AFD-243B-476D-AF5B-5FED6175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5EE2C-DB04-4DC3-9603-B41957F3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0DA62-56B9-40CC-B69A-CFB09ED2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61472-A6E8-4B4A-B253-C2C79200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F90F3-C41B-46E3-923B-EADEB599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91AD2-54DA-4301-89BA-7680E46A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15AC-3749-4EEA-A51F-9699A982C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AI &amp; Atheism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Mind without Mystic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theis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Life, the Universe, and Everything without Mystic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C9131-7C05-4F51-978E-EF050B6EC7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aplace, Napoleon, and Go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on the completion of his magnum opu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xposition du sy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me du mon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place is said to have had the following conversation with Napole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apoleon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“You have written this huge book on the system of the world without once mentioning the author of the universe.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aplace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“Sire, I had no need of that hypothesis.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CBB5A-2520-43A9-BCB5-47B5E60061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ualism vs. Materialis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ual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belief that mind, consciousness, cognition, and intelligence are separate and distinct from the material world and cannot be explained as purely physical proc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ne Descartes was a dualist who believed that the mind made contact with the physical body through the pineal gland at the back of the brain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terial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belief that mind, consciousness, cognition, and intelligence are physical processes that can be explained through normal scientific investigation of the material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49728-873F-46C8-BEE4-FD464CD5AE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I </a:t>
            </a:r>
            <a:r>
              <a:rPr b="0" lang="en-US" sz="3600" spc="-1" strike="noStrike">
                <a:solidFill>
                  <a:srgbClr val="3333ff"/>
                </a:solidFill>
                <a:latin typeface="Symbol"/>
                <a:ea typeface="Symbol"/>
              </a:rPr>
              <a:t>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 Materialism </a:t>
            </a:r>
            <a:r>
              <a:rPr b="0" lang="en-US" sz="3600" spc="-1" strike="noStrike">
                <a:solidFill>
                  <a:srgbClr val="3333ff"/>
                </a:solidFill>
                <a:latin typeface="Symbol"/>
                <a:ea typeface="Symbol"/>
              </a:rPr>
              <a:t>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 Atheis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2440" y="12700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ong AI seems to imply material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purely physical, deterministic machines can be intelligent, then mind is a physical phenomenon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erialism seems to imply athe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the human mind is a purely physical phenomenon (Minsky’s “meat machine”), then there is no immaterial soul or spiritual free-will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heism seems to imply material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there is no spiritual world, then mind must be a physical phenomenon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erialism seems to imply strong 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mind is a physical process and computers can emulate any physical process (strong Church-Turing thesis), then AI must be possibl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DCF57-E7EF-497D-B25B-4959870BAB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re Religion and Strong AI Compatible?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behavior is the result of physical causes in the material world, then there is no metaphysical free w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out dualism, how does human behavior and morality relate to a non-material God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truly artificially intelligent agent was created, then what would be its religious/spiritual/moral standing in relation to Go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uld we be “playing God” and thereby offend religious sensibilities by creating such a be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040AC-4F20-4BB4-9E66-D0EC5D905A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cientific Explanations of Relig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n is a ubiquitous phenomenon in human culture that itself requires expla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n may arise from “spiritual” experiences that have a neurobiological ba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V.S. Ramachandran,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Phantoms in the Brai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, Chap. 9 “God and the Limbic System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n may arise from various cognitive biases of human inference and belie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. Boyer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, Religion Explained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n may have evolved biologically and culturally to reinforce adaptive social behav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D16FF-2AF4-4E40-B652-7D5F7C7A56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 provides scientific explanations for phenomena that were previously part of the province of relig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ief in AI decreases belief in religion due to “explaining away,” a theoretically justified form of in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terialis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he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difficult to reconcile belief in strong AI with traditional religious ideas of free-will and moral responsi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35214-BC91-407F-84D1-A0FD7A2900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ciliatory Prefa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us beliefs are a very significant and personal aspect of one’s world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individual must be free to make up their own mind about religion without undue coercion from any educational or governmental autho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 condemn and decry our own governor's approval and promotion of constitutionally illegal prayer at mandatory school events. 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long as one does not contaminate one’s scientific hypotheses with un-falsifiable supernatural explanations, one can be a devout theis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ffective, productive scient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64FAA-90D2-4E6C-A279-F5B513CD3A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cience and Religion Disjoint??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ience and religion have been claimed to be compatible since they address different issues (S. Gould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Rocks of Ag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cience is about “The ages of rocks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edictive theories of the material world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ligion is about “The Rock of Ages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pirituality and morality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l that to Copernicus, Galileo, Darwin, and other scientists that have been persecuted, despised, defamed, repressed, censored, criticized and/or ignored because their science conflicted with prevailing religious belief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EDFA9-ACF6-4D0F-B948-8F148F8852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y Own Incompatible Experie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as raised as a devout Catholic with 8 years of parochial, religious edu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became an atheist because, as I learned more and more about science, I found scientific explanations for physical, psychological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thical/moral phenomen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re believable and compe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 beliefs about materialism and atheism are a fairly important component of why I believe (strong) AI must be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AC146-36BC-45D5-AFAD-C2EEC25881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cience (and AI) vs. Relig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 original motivations for religion was to provide explanations of phenomenon that are now the province of scientific explan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psychological phenomena that are traditionally explained with spiritual, non-physical causes are now the province of computational (AI) explanati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23899-EF6F-4518-83A5-6A863F9CAA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he History of Religion and Scie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1760" y="1371600"/>
            <a:ext cx="20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henomen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99520" y="137160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xpla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182880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137160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88440" y="1981080"/>
            <a:ext cx="26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under and Light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88800" y="3352680"/>
            <a:ext cx="24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 of the Unive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90600" y="243828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 of Spe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89880" y="2895480"/>
            <a:ext cx="20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 of Hum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1320" y="380988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 of 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2760" y="4267080"/>
            <a:ext cx="13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llig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1680" y="472428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ciousn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69800" y="5181480"/>
            <a:ext cx="114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e W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4960" y="198108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94960" y="243828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94960" y="289548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94960" y="335268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94960" y="380988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94960" y="426708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4960" y="472428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4960" y="518148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64800" y="1981080"/>
            <a:ext cx="363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tmospheric Electrical Dis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0920" y="335268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Big B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64440" y="2438280"/>
            <a:ext cx="334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volution by Natural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64440" y="2895480"/>
            <a:ext cx="334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volution by Natural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66960" y="3809880"/>
            <a:ext cx="22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Molecular E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33120" y="426708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Computation/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68040" y="472428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Computation/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68040" y="518148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Computation/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408D9-9784-4D3F-B47D-DE5772AC9C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laining Awa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evidence for one explanation increases, evidence for other competing explanations decre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orm of common-sense reasoning that is formalized in AI as abductive and Bayesian infer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formalization demonstrates that “explaining away” is a mathematically sound and correct form of inferen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E66AC-E451-4DD9-871B-096AA13A4E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 Bayes-Net View of Science and Relig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07120" y="1815120"/>
            <a:ext cx="878040" cy="5637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2040" y="3530520"/>
            <a:ext cx="1451520" cy="908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3530520"/>
            <a:ext cx="1523880" cy="908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2680" y="3530520"/>
            <a:ext cx="1525680" cy="908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um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72040" y="3723840"/>
            <a:ext cx="1787760" cy="520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llig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15680" y="3723840"/>
            <a:ext cx="2157840" cy="520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cious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02760" y="1815120"/>
            <a:ext cx="1625760" cy="563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B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98080" y="1815120"/>
            <a:ext cx="636840" cy="563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84" idx="4"/>
            <a:endCxn id="85" idx="0"/>
          </p:cNvCxnSpPr>
          <p:nvPr/>
        </p:nvCxnSpPr>
        <p:spPr>
          <a:xfrm flipH="1">
            <a:off x="847080" y="2364840"/>
            <a:ext cx="399240" cy="1179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4" idx="4"/>
            <a:endCxn id="86" idx="0"/>
          </p:cNvCxnSpPr>
          <p:nvPr/>
        </p:nvCxnSpPr>
        <p:spPr>
          <a:xfrm>
            <a:off x="1245960" y="2364840"/>
            <a:ext cx="1192320" cy="1179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4" idx="4"/>
            <a:endCxn id="87" idx="0"/>
          </p:cNvCxnSpPr>
          <p:nvPr/>
        </p:nvCxnSpPr>
        <p:spPr>
          <a:xfrm>
            <a:off x="1246320" y="2364840"/>
            <a:ext cx="2870640" cy="1179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4" idx="4"/>
            <a:endCxn id="88" idx="0"/>
          </p:cNvCxnSpPr>
          <p:nvPr/>
        </p:nvCxnSpPr>
        <p:spPr>
          <a:xfrm>
            <a:off x="1246320" y="2365200"/>
            <a:ext cx="4720320" cy="1372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4"/>
            <a:endCxn id="89" idx="0"/>
          </p:cNvCxnSpPr>
          <p:nvPr/>
        </p:nvCxnSpPr>
        <p:spPr>
          <a:xfrm>
            <a:off x="1245960" y="2365200"/>
            <a:ext cx="6849000" cy="1372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0" idx="4"/>
            <a:endCxn id="85" idx="0"/>
          </p:cNvCxnSpPr>
          <p:nvPr/>
        </p:nvCxnSpPr>
        <p:spPr>
          <a:xfrm flipH="1">
            <a:off x="847440" y="2364840"/>
            <a:ext cx="2069280" cy="1179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86" idx="0"/>
          </p:cNvCxnSpPr>
          <p:nvPr/>
        </p:nvCxnSpPr>
        <p:spPr>
          <a:xfrm flipH="1">
            <a:off x="2437920" y="2364840"/>
            <a:ext cx="2177280" cy="1179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endCxn id="87" idx="0"/>
          </p:cNvCxnSpPr>
          <p:nvPr/>
        </p:nvCxnSpPr>
        <p:spPr>
          <a:xfrm flipH="1">
            <a:off x="4115520" y="2364840"/>
            <a:ext cx="499320" cy="1179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1" idx="4"/>
            <a:endCxn id="88" idx="0"/>
          </p:cNvCxnSpPr>
          <p:nvPr/>
        </p:nvCxnSpPr>
        <p:spPr>
          <a:xfrm flipH="1">
            <a:off x="5965200" y="2365200"/>
            <a:ext cx="951480" cy="1372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1" idx="4"/>
            <a:endCxn id="89" idx="0"/>
          </p:cNvCxnSpPr>
          <p:nvPr/>
        </p:nvCxnSpPr>
        <p:spPr>
          <a:xfrm>
            <a:off x="6916680" y="2365200"/>
            <a:ext cx="1178640" cy="1372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776040" y="1815120"/>
            <a:ext cx="1677600" cy="563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807120" y="1815120"/>
            <a:ext cx="4646520" cy="563760"/>
            <a:chOff x="807120" y="1815120"/>
            <a:chExt cx="4646520" cy="563760"/>
          </a:xfrm>
        </p:grpSpPr>
        <p:sp>
          <p:nvSpPr>
            <p:cNvPr id="104" name=""/>
            <p:cNvSpPr/>
            <p:nvPr/>
          </p:nvSpPr>
          <p:spPr>
            <a:xfrm>
              <a:off x="807120" y="1815120"/>
              <a:ext cx="878040" cy="563760"/>
            </a:xfrm>
            <a:prstGeom prst="ellipse">
              <a:avLst/>
            </a:prstGeom>
            <a:solidFill>
              <a:srgbClr val="ff5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76040" y="1815120"/>
              <a:ext cx="1677600" cy="563760"/>
            </a:xfrm>
            <a:prstGeom prst="ellipse">
              <a:avLst/>
            </a:prstGeom>
            <a:solidFill>
              <a:srgbClr val="ff7c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volu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807120" y="1815120"/>
            <a:ext cx="4646520" cy="563760"/>
            <a:chOff x="807120" y="1815120"/>
            <a:chExt cx="4646520" cy="563760"/>
          </a:xfrm>
        </p:grpSpPr>
        <p:sp>
          <p:nvSpPr>
            <p:cNvPr id="107" name=""/>
            <p:cNvSpPr/>
            <p:nvPr/>
          </p:nvSpPr>
          <p:spPr>
            <a:xfrm>
              <a:off x="3776040" y="1815120"/>
              <a:ext cx="1677600" cy="563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volu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7120" y="1815120"/>
              <a:ext cx="878040" cy="563760"/>
            </a:xfrm>
            <a:prstGeom prst="ellipse">
              <a:avLst/>
            </a:prstGeom>
            <a:solidFill>
              <a:srgbClr val="ff7c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807120" y="1815120"/>
            <a:ext cx="2921400" cy="563760"/>
            <a:chOff x="807120" y="1815120"/>
            <a:chExt cx="2921400" cy="563760"/>
          </a:xfrm>
        </p:grpSpPr>
        <p:sp>
          <p:nvSpPr>
            <p:cNvPr id="110" name=""/>
            <p:cNvSpPr/>
            <p:nvPr/>
          </p:nvSpPr>
          <p:spPr>
            <a:xfrm>
              <a:off x="2102760" y="1815120"/>
              <a:ext cx="1625760" cy="563760"/>
            </a:xfrm>
            <a:prstGeom prst="ellipse">
              <a:avLst/>
            </a:prstGeom>
            <a:solidFill>
              <a:srgbClr val="ff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ig Ba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07120" y="1815120"/>
              <a:ext cx="878040" cy="563760"/>
            </a:xfrm>
            <a:prstGeom prst="ellipse">
              <a:avLst/>
            </a:prstGeom>
            <a:solidFill>
              <a:srgbClr val="ff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807120" y="1815120"/>
            <a:ext cx="2921400" cy="563760"/>
            <a:chOff x="807120" y="1815120"/>
            <a:chExt cx="2921400" cy="563760"/>
          </a:xfrm>
        </p:grpSpPr>
        <p:sp>
          <p:nvSpPr>
            <p:cNvPr id="113" name=""/>
            <p:cNvSpPr/>
            <p:nvPr/>
          </p:nvSpPr>
          <p:spPr>
            <a:xfrm>
              <a:off x="807120" y="1815120"/>
              <a:ext cx="878040" cy="563760"/>
            </a:xfrm>
            <a:prstGeom prst="ellipse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02760" y="1815120"/>
              <a:ext cx="1625760" cy="563760"/>
            </a:xfrm>
            <a:prstGeom prst="ellipse">
              <a:avLst/>
            </a:prstGeom>
            <a:solidFill>
              <a:srgbClr val="ff5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ig Ba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807120" y="1815120"/>
            <a:ext cx="6427800" cy="563760"/>
            <a:chOff x="807120" y="1815120"/>
            <a:chExt cx="6427800" cy="563760"/>
          </a:xfrm>
        </p:grpSpPr>
        <p:sp>
          <p:nvSpPr>
            <p:cNvPr id="116" name=""/>
            <p:cNvSpPr/>
            <p:nvPr/>
          </p:nvSpPr>
          <p:spPr>
            <a:xfrm>
              <a:off x="807120" y="1815120"/>
              <a:ext cx="878040" cy="563760"/>
            </a:xfrm>
            <a:prstGeom prst="ellipse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98080" y="1815120"/>
              <a:ext cx="636840" cy="563760"/>
            </a:xfrm>
            <a:prstGeom prst="ellipse">
              <a:avLst/>
            </a:prstGeom>
            <a:solidFill>
              <a:srgbClr val="ff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807120" y="1815120"/>
            <a:ext cx="6427800" cy="563760"/>
            <a:chOff x="807120" y="1815120"/>
            <a:chExt cx="6427800" cy="563760"/>
          </a:xfrm>
        </p:grpSpPr>
        <p:sp>
          <p:nvSpPr>
            <p:cNvPr id="119" name=""/>
            <p:cNvSpPr/>
            <p:nvPr/>
          </p:nvSpPr>
          <p:spPr>
            <a:xfrm>
              <a:off x="6598080" y="1815120"/>
              <a:ext cx="636840" cy="563760"/>
            </a:xfrm>
            <a:prstGeom prst="ellipse">
              <a:avLst/>
            </a:prstGeom>
            <a:solidFill>
              <a:srgbClr val="ff7c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7120" y="1815120"/>
              <a:ext cx="878040" cy="56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55295-CB7C-4B78-B26E-D5D50D5EEE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yesian Prior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ief in any proposition depends on its prior proba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iori, belief in the existence of entities should have very low priors (Occam’s razor); otherwise, what prevents belief in a proliferation of entiti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don’t believe in God for the same reason I don’t believe in other entities that have no real explanatory 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airi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nicorn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anta Clau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aster bunn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05E33-098F-4E50-80EC-043627D5E1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 Raymond Mooney</cp:lastModifiedBy>
  <dcterms:modified xsi:type="dcterms:W3CDTF">2002-01-08T16:22:31Z</dcterms:modified>
  <cp:revision>94</cp:revision>
  <dc:subject/>
  <dc:title>Intelligent Information Retrieval and Web Search</dc:title>
</cp:coreProperties>
</file>