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26A26D-5B67-43DA-BCF1-BDAD019DC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12C34F-80E7-42B6-9BA9-D1EB8B745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4B0EA2-FB5B-44B6-9D3C-0807F8CB4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8FBDF0-6A73-4704-996C-B568F84F9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921145-FDF8-488E-B443-72EFF8C75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7F2C56-EBC0-4B02-BFB1-4851E7DBF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B49586-0554-46D6-B330-C1F946037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7ADACE-6195-4CF5-80CD-EEFF00440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8F6447-FACA-44C9-85D4-D193E4C71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BF010B-51A0-468E-B465-AB83C8AF7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0B3E88-C6DB-453D-A97A-AC9493DF3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206CEB-713D-437A-B55B-BD5BFD475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66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4F535-CD1B-41EB-8C7C-EFF9DF3C80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ff"/>
                </a:solidFill>
                <a:latin typeface="Times New Roman"/>
              </a:rPr>
              <a:t>AI &amp; Atheism</a:t>
            </a:r>
            <a:endParaRPr b="0" lang="en-US" sz="40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Mind without Mystici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theis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Life, the Universe, and Everything without Mystici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3EF9F0-3238-4761-8CC9-6407B570386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Laplace, Napoleon, and God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0010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on the completion of his magnum opu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xposition du sys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ème du mond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Laplace is said to have had the following conversation with Napole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apoleon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: “You have written this huge book on the system of the world without once mentioning the author of the universe.”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Laplace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: “Sire, I had no need of that hypothesis.”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ECDEA9-69D0-44EC-8120-92590B0E8F2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Dualism vs. Materialism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ualis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The belief that mind, consciousness, cognition, and intelligence are separate and distinct from the material world and cannot be explained as purely physical proces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Rene Descartes was a dualist who believed that the mind made contact with the physical body through the pineal gland at the back of the brain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Materialis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The belief that mind, consciousness, cognition, and intelligence are physical processes that can be explained through normal scientific investigation of the material wor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C2F675-9D68-461B-8BF4-C4FC1333E60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AI </a:t>
            </a:r>
            <a:r>
              <a:rPr b="0" lang="en-US" sz="3600" spc="-1" strike="noStrike">
                <a:solidFill>
                  <a:srgbClr val="3333ff"/>
                </a:solidFill>
                <a:latin typeface="Symbol"/>
                <a:ea typeface="Symbol"/>
              </a:rPr>
              <a:t></a:t>
            </a: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 Materialism </a:t>
            </a:r>
            <a:r>
              <a:rPr b="0" lang="en-US" sz="3600" spc="-1" strike="noStrike">
                <a:solidFill>
                  <a:srgbClr val="3333ff"/>
                </a:solidFill>
                <a:latin typeface="Symbol"/>
                <a:ea typeface="Symbol"/>
              </a:rPr>
              <a:t></a:t>
            </a: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 Atheism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2440" y="127008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ong AI seems to imply materialis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If purely physical, deterministic machines can be intelligent, then mind is a physical phenomenon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erialism seems to imply atheis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If the human mind is a purely physical phenomenon (Minsky’s “meat machine”), then there is no immaterial soul or spiritual free-will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heism seems to imply materialis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If there is no spiritual world, then mind must be a physical phenomenon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erialism seems to imply strong A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If mind is a physical process and computers can emulate any physical process (strong Church-Turing thesis), then AI must be possible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D7928F-1BBF-4973-9DD2-E874A67A59B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Are Religion and Strong AI Compatible?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all behavior is the result of physical causes in the material world, then there is no metaphysical free wi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thout dualism, how does human behavior and morality relate to a non-material God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a truly artificially intelligent agent was created, then what would be its religious/spiritual/moral standing in relation to Go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uld we be “playing God” and thereby offend religious sensibilities by creating such a being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2807EC-A5E6-4FDE-A4DD-2004FCE4559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cientific Explanations of Relig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igion is a ubiquitous phenomenon in human culture that itself requires explan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igion may arise from “spiritual” experiences that have a neurobiological bas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V.S. Ramachandran, 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Phantoms in the Brain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, Chap. 9 “God and the Limbic System”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igion may arise from various cognitive biases of human inference and belief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P. Boyer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, Religion Explained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igion may have evolved biologically and culturally to reinforce adaptive social behavi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815D1C-F361-4F98-8A0C-09D1A0F6315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onclusion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 provides scientific explanations for phenomena that were previously part of the province of relig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lief in AI decreases belief in religion due to “explaining away,” a theoretically justified form of infere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aterialism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thei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is difficult to reconcile belief in strong AI with traditional religious ideas of free-will and moral responsibil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70BB7A-21EB-45E8-BDE9-99AAECA3A3B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onciliatory Prefac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815328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igious beliefs are a very significant and personal aspect of one’s world vie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ry individual must be free to make up their own mind about religion without undue coercion from any educational or governmental author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I condemn and decry our own governor's approval and promotion of constitutionally illegal prayer at mandatory school events.  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long as one does not contaminate one’s scientific hypotheses with un-falsifiable supernatural explanations, one can be a devout theist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effective, productive scienti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DA8548-1224-4110-9BA9-446F5350CF6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cience and Religion Disjoint??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ience and religion have been claimed to be compatible since they address different issues (S. Gould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Rocks of Ag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Science is about “The ages of rocks”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redictive theories of the material world.</a:t>
            </a:r>
            <a:endParaRPr b="0" lang="en-US" sz="2000" spc="-1" strike="noStrike">
              <a:solidFill>
                <a:srgbClr val="0066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Religion is about “The Rock of Ages”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Spirituality and morality.</a:t>
            </a:r>
            <a:endParaRPr b="0" lang="en-US" sz="2000" spc="-1" strike="noStrike">
              <a:solidFill>
                <a:srgbClr val="0066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l that to Copernicus, Galileo, Darwin, and other scientists that have been persecuted, despised, defamed, repressed, censored, criticized and/or ignored because their science conflicted with prevailing religious belief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E3859B-50EF-4139-B6D0-859AEDE5CF2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My Own Incompatible Experienc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was raised as a devout Catholic with 8 years of parochial, religious educ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became an atheist because, as I learned more and more about science, I found scientific explanations for physical, psychological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thical/moral phenomen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uc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ore believable and compell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y beliefs about materialism and atheism are a fairly important component of why I believe (strong) AI must be possi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094892-DCAF-41F3-8AC7-0BD5AA965E9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cience (and AI) vs. Relig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 of the original motivations for religion was to provide explanations of phenomenon that are now the province of scientific explan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psychological phenomena that are traditionally explained with spiritual, non-physical causes are now the province of computational (AI) explanation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A59601-0337-49C3-BDE9-4BB59A1FBE9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The History of Religion and Scienc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751760" y="1371600"/>
            <a:ext cx="203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henomen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799520" y="1371600"/>
            <a:ext cx="189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xplan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066680" y="1828800"/>
            <a:ext cx="7315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267080" y="1371600"/>
            <a:ext cx="0" cy="5334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288440" y="1981080"/>
            <a:ext cx="266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under and Lighte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288800" y="3352680"/>
            <a:ext cx="248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igin of the Univer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290600" y="2438280"/>
            <a:ext cx="196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igin of Spec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289880" y="2895480"/>
            <a:ext cx="203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igin of Huma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291320" y="3809880"/>
            <a:ext cx="161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igin of Lif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292760" y="4267080"/>
            <a:ext cx="138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llig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91680" y="4724280"/>
            <a:ext cx="174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ciousnes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369800" y="5181480"/>
            <a:ext cx="114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ee Wi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494960" y="1981080"/>
            <a:ext cx="62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G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494960" y="2438280"/>
            <a:ext cx="62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G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494960" y="2895480"/>
            <a:ext cx="62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G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494960" y="3352680"/>
            <a:ext cx="62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G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494960" y="3809880"/>
            <a:ext cx="62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G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494960" y="4267080"/>
            <a:ext cx="62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G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494960" y="4724280"/>
            <a:ext cx="62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G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494960" y="5181480"/>
            <a:ext cx="62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G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64800" y="1981080"/>
            <a:ext cx="363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Atmospheric Electrical Discha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570920" y="335268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Big Ba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564440" y="2438280"/>
            <a:ext cx="334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Evolution by Natural Se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564440" y="2895480"/>
            <a:ext cx="334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Evolution by Natural Se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566960" y="3809880"/>
            <a:ext cx="229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Molecular Ev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33120" y="4267080"/>
            <a:ext cx="185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Computation/A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568040" y="4724280"/>
            <a:ext cx="185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Computation/A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568040" y="5181480"/>
            <a:ext cx="185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Computation/A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01ABE5-9165-486B-95D8-71715E5F16B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plaining Away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92468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evidence for one explanation increases, evidence for other competing explanations decreas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form of common-sense reasoning that is formalized in AI as abductive and Bayesian infere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formalization demonstrates that “explaining away” is a mathematically sound and correct form of inferenc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C4996E-52F4-45EB-8635-27BEA032BC7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A Bayes-Net View of Science and Relig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07120" y="1815120"/>
            <a:ext cx="878040" cy="5637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2040" y="3530520"/>
            <a:ext cx="1451520" cy="9082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iver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676520" y="3530520"/>
            <a:ext cx="1523880" cy="9082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f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352680" y="3530520"/>
            <a:ext cx="1525680" cy="9082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uma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072040" y="3723840"/>
            <a:ext cx="1787760" cy="5202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llig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015680" y="3723840"/>
            <a:ext cx="2157840" cy="5202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cious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102760" y="1815120"/>
            <a:ext cx="1625760" cy="5637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Ba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598080" y="1815120"/>
            <a:ext cx="636840" cy="5637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2" name=""/>
          <p:cNvCxnSpPr>
            <a:stCxn id="84" idx="4"/>
            <a:endCxn id="85" idx="0"/>
          </p:cNvCxnSpPr>
          <p:nvPr/>
        </p:nvCxnSpPr>
        <p:spPr>
          <a:xfrm flipH="1">
            <a:off x="847080" y="2364840"/>
            <a:ext cx="399240" cy="11790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" name=""/>
          <p:cNvCxnSpPr>
            <a:stCxn id="84" idx="4"/>
            <a:endCxn id="86" idx="0"/>
          </p:cNvCxnSpPr>
          <p:nvPr/>
        </p:nvCxnSpPr>
        <p:spPr>
          <a:xfrm>
            <a:off x="1245960" y="2364840"/>
            <a:ext cx="1192320" cy="11790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4" name=""/>
          <p:cNvCxnSpPr>
            <a:stCxn id="84" idx="4"/>
            <a:endCxn id="87" idx="0"/>
          </p:cNvCxnSpPr>
          <p:nvPr/>
        </p:nvCxnSpPr>
        <p:spPr>
          <a:xfrm>
            <a:off x="1246320" y="2364840"/>
            <a:ext cx="2870640" cy="11790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" name=""/>
          <p:cNvCxnSpPr>
            <a:stCxn id="84" idx="4"/>
            <a:endCxn id="88" idx="0"/>
          </p:cNvCxnSpPr>
          <p:nvPr/>
        </p:nvCxnSpPr>
        <p:spPr>
          <a:xfrm>
            <a:off x="1246320" y="2365200"/>
            <a:ext cx="4720320" cy="13723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84" idx="4"/>
            <a:endCxn id="89" idx="0"/>
          </p:cNvCxnSpPr>
          <p:nvPr/>
        </p:nvCxnSpPr>
        <p:spPr>
          <a:xfrm>
            <a:off x="1245960" y="2365200"/>
            <a:ext cx="6849000" cy="13723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90" idx="4"/>
            <a:endCxn id="85" idx="0"/>
          </p:cNvCxnSpPr>
          <p:nvPr/>
        </p:nvCxnSpPr>
        <p:spPr>
          <a:xfrm flipH="1">
            <a:off x="847440" y="2364840"/>
            <a:ext cx="2069280" cy="11790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endCxn id="86" idx="0"/>
          </p:cNvCxnSpPr>
          <p:nvPr/>
        </p:nvCxnSpPr>
        <p:spPr>
          <a:xfrm flipH="1">
            <a:off x="2437920" y="2364840"/>
            <a:ext cx="2177280" cy="11790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endCxn id="87" idx="0"/>
          </p:cNvCxnSpPr>
          <p:nvPr/>
        </p:nvCxnSpPr>
        <p:spPr>
          <a:xfrm flipH="1">
            <a:off x="4115520" y="2364840"/>
            <a:ext cx="499320" cy="11790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1" idx="4"/>
            <a:endCxn id="88" idx="0"/>
          </p:cNvCxnSpPr>
          <p:nvPr/>
        </p:nvCxnSpPr>
        <p:spPr>
          <a:xfrm flipH="1">
            <a:off x="5965200" y="2365200"/>
            <a:ext cx="951480" cy="13723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1" idx="4"/>
            <a:endCxn id="89" idx="0"/>
          </p:cNvCxnSpPr>
          <p:nvPr/>
        </p:nvCxnSpPr>
        <p:spPr>
          <a:xfrm>
            <a:off x="6916680" y="2365200"/>
            <a:ext cx="1178640" cy="13723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3776040" y="1815120"/>
            <a:ext cx="1677600" cy="5637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807120" y="1815120"/>
            <a:ext cx="4646520" cy="563760"/>
            <a:chOff x="807120" y="1815120"/>
            <a:chExt cx="4646520" cy="563760"/>
          </a:xfrm>
        </p:grpSpPr>
        <p:sp>
          <p:nvSpPr>
            <p:cNvPr id="104" name=""/>
            <p:cNvSpPr/>
            <p:nvPr/>
          </p:nvSpPr>
          <p:spPr>
            <a:xfrm>
              <a:off x="807120" y="1815120"/>
              <a:ext cx="878040" cy="563760"/>
            </a:xfrm>
            <a:prstGeom prst="ellipse">
              <a:avLst/>
            </a:prstGeom>
            <a:solidFill>
              <a:srgbClr val="ff5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o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776040" y="1815120"/>
              <a:ext cx="1677600" cy="563760"/>
            </a:xfrm>
            <a:prstGeom prst="ellipse">
              <a:avLst/>
            </a:prstGeom>
            <a:solidFill>
              <a:srgbClr val="ff7c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volu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807120" y="1815120"/>
            <a:ext cx="4646520" cy="563760"/>
            <a:chOff x="807120" y="1815120"/>
            <a:chExt cx="4646520" cy="563760"/>
          </a:xfrm>
        </p:grpSpPr>
        <p:sp>
          <p:nvSpPr>
            <p:cNvPr id="107" name=""/>
            <p:cNvSpPr/>
            <p:nvPr/>
          </p:nvSpPr>
          <p:spPr>
            <a:xfrm>
              <a:off x="3776040" y="1815120"/>
              <a:ext cx="1677600" cy="563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volu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07120" y="1815120"/>
              <a:ext cx="878040" cy="563760"/>
            </a:xfrm>
            <a:prstGeom prst="ellipse">
              <a:avLst/>
            </a:prstGeom>
            <a:solidFill>
              <a:srgbClr val="ff7c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o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807120" y="1815120"/>
            <a:ext cx="2921400" cy="563760"/>
            <a:chOff x="807120" y="1815120"/>
            <a:chExt cx="2921400" cy="563760"/>
          </a:xfrm>
        </p:grpSpPr>
        <p:sp>
          <p:nvSpPr>
            <p:cNvPr id="110" name=""/>
            <p:cNvSpPr/>
            <p:nvPr/>
          </p:nvSpPr>
          <p:spPr>
            <a:xfrm>
              <a:off x="2102760" y="1815120"/>
              <a:ext cx="1625760" cy="563760"/>
            </a:xfrm>
            <a:prstGeom prst="ellipse">
              <a:avLst/>
            </a:prstGeom>
            <a:solidFill>
              <a:srgbClr val="ff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ig Ba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07120" y="1815120"/>
              <a:ext cx="878040" cy="563760"/>
            </a:xfrm>
            <a:prstGeom prst="ellipse">
              <a:avLst/>
            </a:prstGeom>
            <a:solidFill>
              <a:srgbClr val="ff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o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807120" y="1815120"/>
            <a:ext cx="2921400" cy="563760"/>
            <a:chOff x="807120" y="1815120"/>
            <a:chExt cx="2921400" cy="563760"/>
          </a:xfrm>
        </p:grpSpPr>
        <p:sp>
          <p:nvSpPr>
            <p:cNvPr id="113" name=""/>
            <p:cNvSpPr/>
            <p:nvPr/>
          </p:nvSpPr>
          <p:spPr>
            <a:xfrm>
              <a:off x="807120" y="1815120"/>
              <a:ext cx="878040" cy="563760"/>
            </a:xfrm>
            <a:prstGeom prst="ellipse">
              <a:avLst/>
            </a:prstGeom>
            <a:solidFill>
              <a:srgbClr val="ff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o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102760" y="1815120"/>
              <a:ext cx="1625760" cy="563760"/>
            </a:xfrm>
            <a:prstGeom prst="ellipse">
              <a:avLst/>
            </a:prstGeom>
            <a:solidFill>
              <a:srgbClr val="ff5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ig Ba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807120" y="1815120"/>
            <a:ext cx="6427800" cy="563760"/>
            <a:chOff x="807120" y="1815120"/>
            <a:chExt cx="6427800" cy="563760"/>
          </a:xfrm>
        </p:grpSpPr>
        <p:sp>
          <p:nvSpPr>
            <p:cNvPr id="116" name=""/>
            <p:cNvSpPr/>
            <p:nvPr/>
          </p:nvSpPr>
          <p:spPr>
            <a:xfrm>
              <a:off x="807120" y="1815120"/>
              <a:ext cx="878040" cy="563760"/>
            </a:xfrm>
            <a:prstGeom prst="ellipse">
              <a:avLst/>
            </a:prstGeom>
            <a:solidFill>
              <a:srgbClr val="ff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o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598080" y="1815120"/>
              <a:ext cx="636840" cy="563760"/>
            </a:xfrm>
            <a:prstGeom prst="ellipse">
              <a:avLst/>
            </a:prstGeom>
            <a:solidFill>
              <a:srgbClr val="ff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807120" y="1815120"/>
            <a:ext cx="6427800" cy="563760"/>
            <a:chOff x="807120" y="1815120"/>
            <a:chExt cx="6427800" cy="563760"/>
          </a:xfrm>
        </p:grpSpPr>
        <p:sp>
          <p:nvSpPr>
            <p:cNvPr id="119" name=""/>
            <p:cNvSpPr/>
            <p:nvPr/>
          </p:nvSpPr>
          <p:spPr>
            <a:xfrm>
              <a:off x="6598080" y="1815120"/>
              <a:ext cx="636840" cy="563760"/>
            </a:xfrm>
            <a:prstGeom prst="ellipse">
              <a:avLst/>
            </a:prstGeom>
            <a:solidFill>
              <a:srgbClr val="ff7c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807120" y="1815120"/>
              <a:ext cx="878040" cy="563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o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8E3AD7-43BC-48B8-9B86-83C97009A59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Bayesian Prior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lief in any proposition depends on its prior probabil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riori, belief in the existence of entities should have very low priors (Occam’s razor); otherwise, what prevents belief in a proliferation of entiti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don’t believe in God for the same reason I don’t believe in other entities that have no real explanatory pow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Fairies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Unicorns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Santa Claus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Easter bunny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EE2CC8-EA7D-4254-9BD6-FF0A654C1AE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0T22:11:52Z</dcterms:created>
  <dc:creator>Raymond Mooney</dc:creator>
  <dc:description/>
  <dc:language>en-US</dc:language>
  <cp:lastModifiedBy> Raymond Mooney</cp:lastModifiedBy>
  <dcterms:modified xsi:type="dcterms:W3CDTF">2002-01-08T16:22:31Z</dcterms:modified>
  <cp:revision>94</cp:revision>
  <dc:subject/>
  <dc:title>Intelligent Information Retrieval and Web Search</dc:title>
</cp:coreProperties>
</file>