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F88A-9AD5-4368-B8AF-E76FEC058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D326-7B19-4465-BE43-4BA906C8B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A825-E98C-48DD-BF49-8D4E62F07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1428-3AD4-43ED-9D74-A2D322570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3B21-5D68-4F8E-8B1B-BAEF6C6D7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7748-EE5C-4C7D-A658-3AF1A238D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B00B-A5A5-448A-AD6A-755594604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18B2-E585-4C30-87BA-02B72D188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AE1C-8DD8-4F7E-A0CD-BE6E3BF13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rewritten without changing mea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1334-C55E-4C55-A6E2-93B50DF36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79AA-8A68-4882-A40F-EE57107B0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F15C-A8C5-4745-9A23-62908CD3A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D594-1D3A-4C43-8356-ECBF5D20E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4EE0-FE64-4A82-9FB2-2F8277740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0B1E-C8C1-4566-8022-EBD8059CF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8B4F-5EFB-48A8-AFCD-2E5F911FC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4C7E-BD03-4F6B-8F24-35C1066BE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AE9F-9009-4AFB-8CA5-F101B9C88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C27E-F1B8-4E38-B8AA-056859C30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4EE8-298F-4E14-BA64-3288CFD4D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B7AA-3A2B-4DD7-A548-13112623D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6B77-78B9-4280-9107-1323DB66F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5571-5DC8-460A-8EE4-1AD15A489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6B87-2AE4-4A41-94D2-CB1CD9269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FD7A-C215-48F3-9574-AE1FC2107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4224-6EDB-4480-9BF2-82CE1DA1B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8E90-9D58-4C68-B3B2-FC3B42347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9303-A3A9-4D18-A98D-ADFA43D71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2B66-54B8-461D-9A4D-E460ABFF4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6731-BCF9-4E78-854E-CD16C2705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2371-47A0-4D1D-9995-0DA8F8E97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903F-4BD6-4BE9-8CA8-59D03CAFA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EA59-9272-4312-9CD0-9E3F11697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9D27-E943-4F63-B7B1-5FD4058ED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AC7E-C6DA-4274-958E-BEE674A00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D933-5361-4B38-9FF9-1ECF9D1AC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E6AD-0293-492D-AFF8-682228170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AEC5-A191-4D6A-B7BC-1B64848CF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F3A7-5490-44BC-8C6D-9BB9A0DF3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169A-7A47-4BAD-929F-DAAEC51E9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E667-3A05-473B-A4BF-F793EE556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94D4-6A43-48C3-BBCB-3312FAF8A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CB51-A2BD-459C-BBA2-DCFD51509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389A-F7E0-4A7C-9DE0-400445BB5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D3BA-4107-4354-944E-EB56A2C41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943A-7AB4-4952-BD04-8F52B7F85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03B3-0CF7-41B3-91A9-E488A9F50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2AD1-224E-43C9-BC14-BCA0DC019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C25E-B856-4A65-8C2F-42176988C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E7C8-A2F7-4E3A-A513-ACC5F0DBC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0F91-4E97-43DB-83B0-B3C99F375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0E8A-FE5F-43CB-B09A-9EAF7FF76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91F0-1175-4FC6-B5A4-AF53CB57F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AB1D-DCFF-4467-BF9D-A78A87BA4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4A90-C55B-4769-91DC-77A25D95E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4E56-29BB-4447-8A14-3E3D00538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8832-9F41-4C56-AB6A-879ACE37C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1AFA-C64A-49BD-BEA8-EF16565D8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43C3-FDE2-4653-B050-87F626426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D164-7FD5-4671-ABD7-0ED701796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4D80-5DD7-4D11-9420-878C82E99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DD9D-640B-4FAA-A565-A238A6C47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682A-BBE9-40AB-A748-36FF792FC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20EB-44A7-47FA-8C14-25C61EAC0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B52E-7556-417B-9C96-3312A48AA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D5FD-D6D6-49EE-9B73-4803432A8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84B4-BDFF-4826-BA46-B509552A2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B809-0099-43B7-8A85-0C65557C4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4992-771B-4A7A-8114-F12A92A98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2A9A-4DE5-446C-B780-59541C1DA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473FB-7906-45E5-A0F5-09494B2C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A67C7-3306-4BD3-837E-B1A33EB6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EDB5-2DD7-4BA7-B026-A33B31DE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6729-977B-412D-8CEF-02C6E5D5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DD5B-B9CA-48C6-B217-89486E04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3457-AEA8-4707-AE2B-54E38ED8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B5BD-090E-4ECF-A08A-E0A99B97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5728-1C43-4429-8417-7A62C712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2A9D-4AF8-4344-ACB7-8276D20E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3A53-F95D-4E5D-9A94-F6D294AD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9429-BB41-480E-8E85-8183E4F7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37CC7-C21B-45D5-AECD-69BBD052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5D75-7A44-4D0E-B499-C14BE5B7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C80C-BE01-4820-B638-E5536DD7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3757-8DEB-467E-8944-023CC7FE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178C-92C2-4310-A68A-15692EDE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A816-3847-4115-9B9D-ACA45C56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65F12-9222-4D01-B583-3726186B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BD224-510B-452F-94A0-EBF7F93F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3C56-32C7-4243-BA64-71577DD5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58F38-EA60-4843-BF22-43FE6461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17AE6-A5BC-4BD5-BAAA-6FCB7C49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03C5A-3C74-42D1-9477-C79ABC59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52FAF-38F0-4D94-B941-46CB8B5A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35F9-C1C9-4A6B-B95E-9E8337CC5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4360-9FBA-4545-BDC0-5D90A14E9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7013-E8EE-4343-A467-17BD06003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Learning by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pping and Revising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ational Knowledg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mond J. Mo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cknowledgement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ly Mihalkova, Tuyen Huy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1918-2BCE-47C3-9C4B-6634EDF8C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ulti-Relational Data Challenge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280" y="15876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cannot be effectively represented as feature ve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ions for connected facts are not independent.       (e.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dFor(brando, coppolo), Movie(godFather, brand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a is not i.i.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quire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ollective inferenc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lass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Taskar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1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ngle independent exampl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ga-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ften contains information about a large number of interconnected entities and can vary in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eave one university out  testing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Craven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1998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L and SRL and I.I.D.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Machine Learning assumes exampl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 and  Identically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1FA6-3B17-4779-AD34-9363D278A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396000" y="4191120"/>
            <a:ext cx="391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RL breaks the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at examples are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4724280" y="396252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L breaks the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at test examples are dra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om the same distribution as the training in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1371600" y="2438280"/>
            <a:ext cx="2057400" cy="52236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038480" y="2438280"/>
            <a:ext cx="1752840" cy="52236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2"/>
          <p:cNvSpPr/>
          <p:nvPr/>
        </p:nvSpPr>
        <p:spPr>
          <a:xfrm flipH="1">
            <a:off x="2354400" y="2960640"/>
            <a:ext cx="46080" cy="123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3"/>
          <p:cNvSpPr/>
          <p:nvPr/>
        </p:nvSpPr>
        <p:spPr>
          <a:xfrm>
            <a:off x="4915080" y="2960640"/>
            <a:ext cx="1752480" cy="100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0A97-AD4D-4E26-9EB7-930E69D32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ulti-Relational Domai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s about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ademic departments (UW-CSE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ovies (IMDB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chemical dom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utagenesis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zheimer drug desig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d text dom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ebKB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ra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9CC5-E2D5-48A7-8F5C-D261F2128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ational Learning Metho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ve Logic Programming (IL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duces sets of first-order rul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t appropriate for probabilistic reaso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If a student wrote a paper with a professor, then the professor is the student’s advisor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L models &amp; learning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LP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Muggleton, 1996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M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Koller, 1999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LPs 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Kersting &amp; De Raedt,  2001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MN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Taskar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2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LN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Richardson &amp; Domingos, 2006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86" name="Group 7"/>
          <p:cNvGrpSpPr/>
          <p:nvPr/>
        </p:nvGrpSpPr>
        <p:grpSpPr>
          <a:xfrm>
            <a:off x="1496880" y="5257800"/>
            <a:ext cx="4522680" cy="917280"/>
            <a:chOff x="1496880" y="5257800"/>
            <a:chExt cx="4522680" cy="917280"/>
          </a:xfrm>
        </p:grpSpPr>
        <p:sp>
          <p:nvSpPr>
            <p:cNvPr id="187" name="Oval 5"/>
            <p:cNvSpPr/>
            <p:nvPr/>
          </p:nvSpPr>
          <p:spPr>
            <a:xfrm>
              <a:off x="1496880" y="5257800"/>
              <a:ext cx="838440" cy="609840"/>
            </a:xfrm>
            <a:prstGeom prst="ellipse">
              <a:avLst/>
            </a:pr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6"/>
            <p:cNvSpPr/>
            <p:nvPr/>
          </p:nvSpPr>
          <p:spPr>
            <a:xfrm>
              <a:off x="2597400" y="5715360"/>
              <a:ext cx="342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Markov logic networ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E725-EB27-4FA5-9858-5C9928B09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MLN Transfer</a:t>
            </a:r>
            <a:br>
              <a:rPr sz="3200"/>
            </a:b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Mihalkova, Huynh, &amp; Mooney, 2007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09480" y="14479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wo multi-relational domains,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a Markov logic network learned in the Source to the Target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pping the Source predicates to the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vising the mappe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8"/>
          <p:cNvGrpSpPr/>
          <p:nvPr/>
        </p:nvGrpSpPr>
        <p:grpSpPr>
          <a:xfrm>
            <a:off x="609480" y="1981080"/>
            <a:ext cx="7772400" cy="2449440"/>
            <a:chOff x="609480" y="1981080"/>
            <a:chExt cx="7772400" cy="2449440"/>
          </a:xfrm>
        </p:grpSpPr>
        <p:sp>
          <p:nvSpPr>
            <p:cNvPr id="193" name="Rectangle 4"/>
            <p:cNvSpPr/>
            <p:nvPr/>
          </p:nvSpPr>
          <p:spPr>
            <a:xfrm>
              <a:off x="4647960" y="2449440"/>
              <a:ext cx="3733920" cy="1981080"/>
            </a:xfrm>
            <a:prstGeom prst="rect">
              <a:avLst/>
            </a:prstGeom>
            <a:noFill/>
            <a:ln w="31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MD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rector(A) Actor(A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vie(T, A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orkedFor(A, 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5"/>
            <p:cNvSpPr/>
            <p:nvPr/>
          </p:nvSpPr>
          <p:spPr>
            <a:xfrm>
              <a:off x="609480" y="2449440"/>
              <a:ext cx="3809880" cy="1981080"/>
            </a:xfrm>
            <a:prstGeom prst="rect">
              <a:avLst/>
            </a:prstGeom>
            <a:noFill/>
            <a:ln w="31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W-C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fessor(A) Student(A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ublication(T, A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visedBy(A, 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6"/>
            <p:cNvSpPr/>
            <p:nvPr/>
          </p:nvSpPr>
          <p:spPr>
            <a:xfrm>
              <a:off x="665280" y="19810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Sourc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7"/>
            <p:cNvSpPr/>
            <p:nvPr/>
          </p:nvSpPr>
          <p:spPr>
            <a:xfrm>
              <a:off x="4696560" y="19843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Target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CF19-361F-4CC9-A519-59E32DEB0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irst-Order Logic Bas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Litera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predicate (or its negation) applied to constants and/or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Gliteral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Ground literal;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WorkedFor(brando, coppola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Vliteral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Variablized literal; </a:t>
            </a:r>
            <a:r>
              <a:rPr b="0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WorkedFor(A, B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ssume predicates have typed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 example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Movie(godFather, coppola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4011480" y="4038480"/>
            <a:ext cx="3012480" cy="914400"/>
            <a:chOff x="4011480" y="4038480"/>
            <a:chExt cx="3012480" cy="914400"/>
          </a:xfrm>
        </p:grpSpPr>
        <p:sp>
          <p:nvSpPr>
            <p:cNvPr id="201" name="Text Box 5"/>
            <p:cNvSpPr/>
            <p:nvPr/>
          </p:nvSpPr>
          <p:spPr>
            <a:xfrm>
              <a:off x="4011480" y="4038480"/>
              <a:ext cx="1589400" cy="914400"/>
            </a:xfrm>
            <a:prstGeom prst="rect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ovie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"/>
            <p:cNvSpPr/>
            <p:nvPr/>
          </p:nvSpPr>
          <p:spPr>
            <a:xfrm>
              <a:off x="5775840" y="4038480"/>
              <a:ext cx="1248120" cy="914400"/>
            </a:xfrm>
            <a:prstGeom prst="rect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4B28-212E-42B7-B14C-2C165228B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irst-Order Claus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use: A disjunction of lit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140680" cy="482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8344080" cy="482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"/>
          <p:cNvPicPr/>
          <p:nvPr/>
        </p:nvPicPr>
        <p:blipFill>
          <a:blip r:embed="rId3"/>
          <a:stretch/>
        </p:blipFill>
        <p:spPr>
          <a:xfrm>
            <a:off x="533520" y="4800600"/>
            <a:ext cx="8343720" cy="482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4"/>
          <a:stretch/>
        </p:blipFill>
        <p:spPr>
          <a:xfrm>
            <a:off x="228600" y="5562720"/>
            <a:ext cx="8763120" cy="4730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8"/>
          <p:cNvSpPr/>
          <p:nvPr/>
        </p:nvSpPr>
        <p:spPr>
          <a:xfrm>
            <a:off x="457200" y="34290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rewritten as a set of ru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BF5D-FD0F-4C40-84C0-CF391073C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74600" y="1639800"/>
          <a:ext cx="8839080" cy="1314360"/>
        </p:xfrm>
        <a:graphic>
          <a:graphicData uri="http://schemas.openxmlformats.org/drawingml/2006/table">
            <a:tbl>
              <a:tblPr/>
              <a:tblGrid>
                <a:gridCol w="2133720"/>
                <a:gridCol w="3429000"/>
                <a:gridCol w="327636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or(pacin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edFor(pacino, coppol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ie(godFather, pacin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or(bran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edFor(brando, coppol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ie(godFather, bran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r(coppol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ie(godFather, coppol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presenting the Dat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3198960"/>
            <a:ext cx="7772400" cy="28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osed world assum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gliterals listed are true; the rest are fals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C71A-CF75-4E4B-9508-C4FD4C9DF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Markov Logic Networks</a:t>
            </a:r>
            <a:br>
              <a:rPr sz="3200"/>
            </a:b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Richardson &amp; Domingos, 2006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77600"/>
            <a:ext cx="777240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f first-order clauses, each assigned a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r weight indicates stronger belief that the clause should 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auses are called th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structur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ML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304920" y="3962520"/>
            <a:ext cx="8610480" cy="1785600"/>
            <a:chOff x="304920" y="3962520"/>
            <a:chExt cx="8610480" cy="1785600"/>
          </a:xfrm>
        </p:grpSpPr>
        <p:pic>
          <p:nvPicPr>
            <p:cNvPr id="219" name="Picture 5" descr=""/>
            <p:cNvPicPr/>
            <p:nvPr/>
          </p:nvPicPr>
          <p:blipFill>
            <a:blip r:embed="rId1"/>
            <a:stretch/>
          </p:blipFill>
          <p:spPr>
            <a:xfrm>
              <a:off x="1143000" y="4120920"/>
              <a:ext cx="4133880" cy="3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6" descr=""/>
            <p:cNvPicPr/>
            <p:nvPr/>
          </p:nvPicPr>
          <p:blipFill>
            <a:blip r:embed="rId2"/>
            <a:stretch/>
          </p:blipFill>
          <p:spPr>
            <a:xfrm>
              <a:off x="1143000" y="4647960"/>
              <a:ext cx="5581800" cy="3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7" descr=""/>
            <p:cNvPicPr/>
            <p:nvPr/>
          </p:nvPicPr>
          <p:blipFill>
            <a:blip r:embed="rId3"/>
            <a:stretch/>
          </p:blipFill>
          <p:spPr>
            <a:xfrm>
              <a:off x="1143000" y="5181480"/>
              <a:ext cx="76960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8"/>
            <p:cNvSpPr/>
            <p:nvPr/>
          </p:nvSpPr>
          <p:spPr>
            <a:xfrm>
              <a:off x="382320" y="40366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9"/>
            <p:cNvSpPr/>
            <p:nvPr/>
          </p:nvSpPr>
          <p:spPr>
            <a:xfrm>
              <a:off x="380880" y="4922640"/>
              <a:ext cx="60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0"/>
            <p:cNvSpPr/>
            <p:nvPr/>
          </p:nvSpPr>
          <p:spPr>
            <a:xfrm>
              <a:off x="380520" y="457164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1"/>
            <p:cNvSpPr/>
            <p:nvPr/>
          </p:nvSpPr>
          <p:spPr>
            <a:xfrm>
              <a:off x="304920" y="3962520"/>
              <a:ext cx="8610480" cy="1676160"/>
            </a:xfrm>
            <a:prstGeom prst="rect">
              <a:avLst/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395F-8527-47B4-AB6C-C1690ACE2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Markov Networks</a:t>
            </a:r>
            <a:br>
              <a:rPr sz="3200"/>
            </a:b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Pearl, 1988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cise representation of the joint probability distribution of a set of random variables using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4"/>
          <p:cNvSpPr/>
          <p:nvPr/>
        </p:nvSpPr>
        <p:spPr>
          <a:xfrm>
            <a:off x="1600200" y="4541040"/>
            <a:ext cx="1825560" cy="16844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"/>
          <p:cNvSpPr/>
          <p:nvPr/>
        </p:nvSpPr>
        <p:spPr>
          <a:xfrm>
            <a:off x="1339560" y="2887920"/>
            <a:ext cx="2489760" cy="10216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6"/>
          <p:cNvGrpSpPr/>
          <p:nvPr/>
        </p:nvGrpSpPr>
        <p:grpSpPr>
          <a:xfrm>
            <a:off x="107640" y="4035960"/>
            <a:ext cx="5234760" cy="649800"/>
            <a:chOff x="107640" y="4035960"/>
            <a:chExt cx="5234760" cy="649800"/>
          </a:xfrm>
        </p:grpSpPr>
        <p:sp>
          <p:nvSpPr>
            <p:cNvPr id="232" name="Oval 7"/>
            <p:cNvSpPr/>
            <p:nvPr/>
          </p:nvSpPr>
          <p:spPr>
            <a:xfrm>
              <a:off x="107640" y="4035960"/>
              <a:ext cx="2285280" cy="6498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lgorith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8"/>
            <p:cNvSpPr/>
            <p:nvPr/>
          </p:nvSpPr>
          <p:spPr>
            <a:xfrm>
              <a:off x="2544120" y="4035960"/>
              <a:ext cx="2798280" cy="6498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peri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9"/>
          <p:cNvGrpSpPr/>
          <p:nvPr/>
        </p:nvGrpSpPr>
        <p:grpSpPr>
          <a:xfrm>
            <a:off x="1249200" y="3768840"/>
            <a:ext cx="2694600" cy="1187280"/>
            <a:chOff x="1249200" y="3768840"/>
            <a:chExt cx="2694600" cy="1187280"/>
          </a:xfrm>
        </p:grpSpPr>
        <p:cxnSp>
          <p:nvCxnSpPr>
            <p:cNvPr id="235" name="AutoShape 10"/>
            <p:cNvCxnSpPr>
              <a:stCxn id="232" idx="0"/>
              <a:endCxn id="230" idx="3"/>
            </p:cNvCxnSpPr>
            <p:nvPr/>
          </p:nvCxnSpPr>
          <p:spPr>
            <a:xfrm flipV="1">
              <a:off x="1249200" y="3768840"/>
              <a:ext cx="532800" cy="255960"/>
            </a:xfrm>
            <a:prstGeom prst="straightConnector1">
              <a:avLst/>
            </a:prstGeom>
            <a:ln w="28440">
              <a:solidFill>
                <a:srgbClr val="b2b2b2"/>
              </a:solidFill>
              <a:miter/>
            </a:ln>
          </p:spPr>
        </p:cxnSp>
        <p:cxnSp>
          <p:nvCxnSpPr>
            <p:cNvPr id="236" name="AutoShape 11"/>
            <p:cNvCxnSpPr>
              <a:stCxn id="230" idx="5"/>
              <a:endCxn id="233" idx="0"/>
            </p:cNvCxnSpPr>
            <p:nvPr/>
          </p:nvCxnSpPr>
          <p:spPr>
            <a:xfrm>
              <a:off x="3386160" y="3768840"/>
              <a:ext cx="558000" cy="255960"/>
            </a:xfrm>
            <a:prstGeom prst="straightConnector1">
              <a:avLst/>
            </a:prstGeom>
            <a:ln w="28440">
              <a:solidFill>
                <a:srgbClr val="b2b2b2"/>
              </a:solidFill>
              <a:miter/>
            </a:ln>
          </p:spPr>
        </p:cxnSp>
        <p:cxnSp>
          <p:nvCxnSpPr>
            <p:cNvPr id="237" name="AutoShape 12"/>
            <p:cNvCxnSpPr>
              <a:stCxn id="232" idx="4"/>
              <a:endCxn id="229" idx="1"/>
            </p:cNvCxnSpPr>
            <p:nvPr/>
          </p:nvCxnSpPr>
          <p:spPr>
            <a:xfrm>
              <a:off x="1249200" y="4696920"/>
              <a:ext cx="618480" cy="259560"/>
            </a:xfrm>
            <a:prstGeom prst="straightConnector1">
              <a:avLst/>
            </a:prstGeom>
            <a:ln w="28440">
              <a:solidFill>
                <a:srgbClr val="b2b2b2"/>
              </a:solidFill>
              <a:miter/>
            </a:ln>
          </p:spPr>
        </p:cxnSp>
        <p:cxnSp>
          <p:nvCxnSpPr>
            <p:cNvPr id="238" name="AutoShape 13"/>
            <p:cNvCxnSpPr>
              <a:stCxn id="233" idx="4"/>
              <a:endCxn id="229" idx="7"/>
            </p:cNvCxnSpPr>
            <p:nvPr/>
          </p:nvCxnSpPr>
          <p:spPr>
            <a:xfrm flipH="1">
              <a:off x="3158280" y="4696920"/>
              <a:ext cx="785160" cy="259560"/>
            </a:xfrm>
            <a:prstGeom prst="straightConnector1">
              <a:avLst/>
            </a:prstGeom>
            <a:ln w="28440">
              <a:solidFill>
                <a:srgbClr val="b2b2b2"/>
              </a:solidFill>
              <a:miter/>
            </a:ln>
          </p:spPr>
        </p:cxnSp>
      </p:grpSp>
      <p:graphicFrame>
        <p:nvGraphicFramePr>
          <p:cNvPr id="239" name=""/>
          <p:cNvGraphicFramePr/>
          <p:nvPr/>
        </p:nvGraphicFramePr>
        <p:xfrm>
          <a:off x="5334120" y="2895480"/>
          <a:ext cx="3200400" cy="200052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762120"/>
              </a:tblGrid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8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 Box 48"/>
          <p:cNvSpPr/>
          <p:nvPr/>
        </p:nvSpPr>
        <p:spPr>
          <a:xfrm>
            <a:off x="4038480" y="5118480"/>
            <a:ext cx="3962520" cy="161856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probability distribution can be represented as the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produc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a set of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unc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fined over the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cliqu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2"/>
          <p:cNvSpPr/>
          <p:nvPr/>
        </p:nvSpPr>
        <p:spPr>
          <a:xfrm>
            <a:off x="5328720" y="2438280"/>
            <a:ext cx="20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Joi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F6CE-8F84-4FBA-BA69-59AEA770E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machine learning methods learn each new task from scratch, failing to utilize previously learned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learning concerns using knowledge acquired in a previous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sk to facilitate learning in a related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ar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ssume significant training data was available in the source domain but limited training data is available in the target doma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exploiting knowledge from the source, learning in the target can 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ore accurat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Learned knowledge makes better predictions.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aster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Training time is reduce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687A-CD16-443E-BCDD-027B2EB77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514600" y="5486400"/>
            <a:ext cx="4267080" cy="4827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rkov Network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5029200" cy="1141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6476760" cy="112896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7"/>
          <p:cNvGrpSpPr/>
          <p:nvPr/>
        </p:nvGrpSpPr>
        <p:grpSpPr>
          <a:xfrm>
            <a:off x="2931840" y="5334120"/>
            <a:ext cx="5785560" cy="1374480"/>
            <a:chOff x="2931840" y="5334120"/>
            <a:chExt cx="5785560" cy="1374480"/>
          </a:xfrm>
        </p:grpSpPr>
        <p:sp>
          <p:nvSpPr>
            <p:cNvPr id="249" name="Oval 8"/>
            <p:cNvSpPr/>
            <p:nvPr/>
          </p:nvSpPr>
          <p:spPr>
            <a:xfrm>
              <a:off x="5029200" y="5486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9"/>
            <p:cNvSpPr/>
            <p:nvPr/>
          </p:nvSpPr>
          <p:spPr>
            <a:xfrm>
              <a:off x="5562720" y="5334120"/>
              <a:ext cx="1218960" cy="76176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" name="AutoShape 10"/>
            <p:cNvCxnSpPr>
              <a:stCxn id="249" idx="3"/>
            </p:cNvCxnSpPr>
            <p:nvPr/>
          </p:nvCxnSpPr>
          <p:spPr>
            <a:xfrm flipH="1">
              <a:off x="4114440" y="5955840"/>
              <a:ext cx="992880" cy="369000"/>
            </a:xfrm>
            <a:prstGeom prst="straightConnector1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252" name="AutoShape 11"/>
            <p:cNvCxnSpPr>
              <a:stCxn id="250" idx="5"/>
            </p:cNvCxnSpPr>
            <p:nvPr/>
          </p:nvCxnSpPr>
          <p:spPr>
            <a:xfrm>
              <a:off x="6603840" y="5999040"/>
              <a:ext cx="788400" cy="326160"/>
            </a:xfrm>
            <a:prstGeom prst="straightConnector1">
              <a:avLst/>
            </a:prstGeom>
            <a:ln w="28440">
              <a:solidFill>
                <a:srgbClr val="006600"/>
              </a:solidFill>
              <a:miter/>
            </a:ln>
          </p:spPr>
        </p:cxnSp>
        <p:sp>
          <p:nvSpPr>
            <p:cNvPr id="253" name="Text Box 12"/>
            <p:cNvSpPr/>
            <p:nvPr/>
          </p:nvSpPr>
          <p:spPr>
            <a:xfrm>
              <a:off x="2931840" y="6247440"/>
              <a:ext cx="130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Tahoma"/>
                </a:rPr>
                <a:t>we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3"/>
            <p:cNvSpPr/>
            <p:nvPr/>
          </p:nvSpPr>
          <p:spPr>
            <a:xfrm>
              <a:off x="7345080" y="6248880"/>
              <a:ext cx="137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Tahoma"/>
                </a:rPr>
                <a:t>fea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480A-DE1B-4452-B7BE-D8980EFC1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ound Markov Network for an MLN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LNs are templates for constructing Markov networks for a given set of consta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clude a node for each type-consistent grounding (a gliteral) of each predicate in the ML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wo nodes are connected by an edge if their corresponding gliterals appear together in any grounding of any clause in the ML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clude a feature for each grounding of each clause in the MLN with weight equal to the weight of the claus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7238880" y="6629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47EA-AB77-4294-B18D-57584D82B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0" y="0"/>
            <a:ext cx="2286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coppol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brando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godFa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514440" y="79200"/>
            <a:ext cx="2476440" cy="246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>
            <a:off x="514440" y="396720"/>
            <a:ext cx="3632040" cy="266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3"/>
          <a:stretch/>
        </p:blipFill>
        <p:spPr>
          <a:xfrm>
            <a:off x="514440" y="758880"/>
            <a:ext cx="4168800" cy="2221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-3240" y="1584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-3240" y="334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-1800" y="6523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60480" y="33480"/>
            <a:ext cx="4663800" cy="99684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0"/>
          <p:cNvSpPr/>
          <p:nvPr/>
        </p:nvSpPr>
        <p:spPr>
          <a:xfrm>
            <a:off x="1447920" y="3657600"/>
            <a:ext cx="2743200" cy="5335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1523880" y="37339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ie(godFather, 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2"/>
          <p:cNvSpPr/>
          <p:nvPr/>
        </p:nvSpPr>
        <p:spPr>
          <a:xfrm>
            <a:off x="4876920" y="3657600"/>
            <a:ext cx="2819160" cy="5335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5130360" y="3733920"/>
            <a:ext cx="236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ie(godFather,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4"/>
          <p:cNvSpPr/>
          <p:nvPr/>
        </p:nvSpPr>
        <p:spPr>
          <a:xfrm>
            <a:off x="1905120" y="4648320"/>
            <a:ext cx="3047760" cy="53316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2025360" y="4724280"/>
            <a:ext cx="25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edFor(coppola, 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6"/>
          <p:cNvSpPr/>
          <p:nvPr/>
        </p:nvSpPr>
        <p:spPr>
          <a:xfrm>
            <a:off x="5181480" y="4648320"/>
            <a:ext cx="3124440" cy="53316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5377320" y="472428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edFor(coppola, 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8"/>
          <p:cNvSpPr/>
          <p:nvPr/>
        </p:nvSpPr>
        <p:spPr>
          <a:xfrm>
            <a:off x="914400" y="2590920"/>
            <a:ext cx="2819520" cy="60948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9"/>
          <p:cNvSpPr/>
          <p:nvPr/>
        </p:nvSpPr>
        <p:spPr>
          <a:xfrm>
            <a:off x="1034640" y="2743200"/>
            <a:ext cx="24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edFor(brando, 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0"/>
          <p:cNvSpPr/>
          <p:nvPr/>
        </p:nvSpPr>
        <p:spPr>
          <a:xfrm>
            <a:off x="3962520" y="2590920"/>
            <a:ext cx="2895480" cy="60948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4082760" y="2743200"/>
            <a:ext cx="25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edFor(brando, 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2"/>
          <p:cNvSpPr/>
          <p:nvPr/>
        </p:nvSpPr>
        <p:spPr>
          <a:xfrm>
            <a:off x="2666880" y="1752480"/>
            <a:ext cx="1905120" cy="5335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2666880" y="18288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or(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4"/>
          <p:cNvSpPr/>
          <p:nvPr/>
        </p:nvSpPr>
        <p:spPr>
          <a:xfrm>
            <a:off x="3962520" y="1295280"/>
            <a:ext cx="1904760" cy="45720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5"/>
          <p:cNvSpPr/>
          <p:nvPr/>
        </p:nvSpPr>
        <p:spPr>
          <a:xfrm>
            <a:off x="4087440" y="129528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or(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6"/>
          <p:cNvSpPr/>
          <p:nvPr/>
        </p:nvSpPr>
        <p:spPr>
          <a:xfrm>
            <a:off x="4267080" y="5486400"/>
            <a:ext cx="2133720" cy="5335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7"/>
          <p:cNvSpPr/>
          <p:nvPr/>
        </p:nvSpPr>
        <p:spPr>
          <a:xfrm>
            <a:off x="4404600" y="55627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or(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8"/>
          <p:cNvSpPr/>
          <p:nvPr/>
        </p:nvSpPr>
        <p:spPr>
          <a:xfrm>
            <a:off x="2971800" y="6095880"/>
            <a:ext cx="1905120" cy="45720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3096000" y="609588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or(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0"/>
          <p:cNvGrpSpPr/>
          <p:nvPr/>
        </p:nvGrpSpPr>
        <p:grpSpPr>
          <a:xfrm>
            <a:off x="3428280" y="4127040"/>
            <a:ext cx="1861200" cy="506520"/>
            <a:chOff x="3428280" y="4127040"/>
            <a:chExt cx="1861200" cy="506520"/>
          </a:xfrm>
        </p:grpSpPr>
        <p:cxnSp>
          <p:nvCxnSpPr>
            <p:cNvPr id="288" name="AutoShape 31"/>
            <p:cNvCxnSpPr>
              <a:stCxn id="269" idx="3"/>
              <a:endCxn id="271" idx="0"/>
            </p:cNvCxnSpPr>
            <p:nvPr/>
          </p:nvCxnSpPr>
          <p:spPr>
            <a:xfrm flipH="1">
              <a:off x="3428640" y="4127040"/>
              <a:ext cx="1861200" cy="506880"/>
            </a:xfrm>
            <a:prstGeom prst="straightConnector1">
              <a:avLst/>
            </a:prstGeom>
            <a:ln w="50760">
              <a:solidFill>
                <a:srgbClr val="008000"/>
              </a:solidFill>
              <a:miter/>
            </a:ln>
          </p:spPr>
        </p:cxnSp>
        <p:cxnSp>
          <p:nvCxnSpPr>
            <p:cNvPr id="289" name="AutoShape 32"/>
            <p:cNvCxnSpPr>
              <a:stCxn id="267" idx="5"/>
              <a:endCxn id="271" idx="0"/>
            </p:cNvCxnSpPr>
            <p:nvPr/>
          </p:nvCxnSpPr>
          <p:spPr>
            <a:xfrm flipH="1">
              <a:off x="3428280" y="4127040"/>
              <a:ext cx="361080" cy="506880"/>
            </a:xfrm>
            <a:prstGeom prst="straightConnector1">
              <a:avLst/>
            </a:prstGeom>
            <a:ln w="50760">
              <a:solidFill>
                <a:srgbClr val="008000"/>
              </a:solidFill>
              <a:miter/>
            </a:ln>
          </p:spPr>
        </p:cxnSp>
      </p:grpSp>
      <p:cxnSp>
        <p:nvCxnSpPr>
          <p:cNvPr id="290" name="AutoShape 33"/>
          <p:cNvCxnSpPr>
            <a:stCxn id="269" idx="4"/>
            <a:endCxn id="273" idx="0"/>
          </p:cNvCxnSpPr>
          <p:nvPr/>
        </p:nvCxnSpPr>
        <p:spPr>
          <a:xfrm>
            <a:off x="6286680" y="4204800"/>
            <a:ext cx="457920" cy="429480"/>
          </a:xfrm>
          <a:prstGeom prst="straightConnector1">
            <a:avLst/>
          </a:prstGeom>
          <a:ln w="50760">
            <a:solidFill>
              <a:srgbClr val="008000"/>
            </a:solidFill>
            <a:miter/>
          </a:ln>
        </p:spPr>
      </p:cxnSp>
      <p:grpSp>
        <p:nvGrpSpPr>
          <p:cNvPr id="291" name="Group 34"/>
          <p:cNvGrpSpPr/>
          <p:nvPr/>
        </p:nvGrpSpPr>
        <p:grpSpPr>
          <a:xfrm>
            <a:off x="3789360" y="3214440"/>
            <a:ext cx="1621080" cy="709560"/>
            <a:chOff x="3789360" y="3214440"/>
            <a:chExt cx="1621080" cy="709560"/>
          </a:xfrm>
        </p:grpSpPr>
        <p:cxnSp>
          <p:nvCxnSpPr>
            <p:cNvPr id="292" name="AutoShape 35"/>
            <p:cNvCxnSpPr>
              <a:stCxn id="268" idx="3"/>
              <a:endCxn id="269" idx="2"/>
            </p:cNvCxnSpPr>
            <p:nvPr/>
          </p:nvCxnSpPr>
          <p:spPr>
            <a:xfrm>
              <a:off x="4190760" y="3903480"/>
              <a:ext cx="686520" cy="20880"/>
            </a:xfrm>
            <a:prstGeom prst="straightConnector1">
              <a:avLst/>
            </a:prstGeom>
            <a:ln w="50760">
              <a:solidFill>
                <a:srgbClr val="008000"/>
              </a:solidFill>
              <a:miter/>
            </a:ln>
          </p:spPr>
        </p:cxnSp>
        <p:cxnSp>
          <p:nvCxnSpPr>
            <p:cNvPr id="293" name="AutoShape 36"/>
            <p:cNvCxnSpPr>
              <a:stCxn id="277" idx="4"/>
              <a:endCxn id="269" idx="1"/>
            </p:cNvCxnSpPr>
            <p:nvPr/>
          </p:nvCxnSpPr>
          <p:spPr>
            <a:xfrm flipH="1">
              <a:off x="5288760" y="3214800"/>
              <a:ext cx="121320" cy="506880"/>
            </a:xfrm>
            <a:prstGeom prst="straightConnector1">
              <a:avLst/>
            </a:prstGeom>
            <a:ln w="50760">
              <a:solidFill>
                <a:srgbClr val="008000"/>
              </a:solidFill>
              <a:miter/>
            </a:ln>
          </p:spPr>
        </p:cxnSp>
        <p:cxnSp>
          <p:nvCxnSpPr>
            <p:cNvPr id="294" name="AutoShape 37"/>
            <p:cNvCxnSpPr>
              <a:stCxn id="267" idx="7"/>
              <a:endCxn id="277" idx="4"/>
            </p:cNvCxnSpPr>
            <p:nvPr/>
          </p:nvCxnSpPr>
          <p:spPr>
            <a:xfrm flipV="1">
              <a:off x="3789360" y="3214440"/>
              <a:ext cx="1621440" cy="506880"/>
            </a:xfrm>
            <a:prstGeom prst="straightConnector1">
              <a:avLst/>
            </a:prstGeom>
            <a:ln w="50760">
              <a:solidFill>
                <a:srgbClr val="008000"/>
              </a:solidFill>
              <a:miter/>
            </a:ln>
          </p:spPr>
        </p:cxnSp>
      </p:grpSp>
      <p:cxnSp>
        <p:nvCxnSpPr>
          <p:cNvPr id="295" name="AutoShape 38"/>
          <p:cNvCxnSpPr>
            <a:stCxn id="267" idx="0"/>
            <a:endCxn id="275" idx="4"/>
          </p:cNvCxnSpPr>
          <p:nvPr/>
        </p:nvCxnSpPr>
        <p:spPr>
          <a:xfrm flipH="1" flipV="1">
            <a:off x="2323800" y="3214440"/>
            <a:ext cx="496080" cy="429120"/>
          </a:xfrm>
          <a:prstGeom prst="straightConnector1">
            <a:avLst/>
          </a:prstGeom>
          <a:ln w="50760">
            <a:solidFill>
              <a:srgbClr val="008000"/>
            </a:solidFill>
            <a:miter/>
          </a:ln>
        </p:spPr>
      </p:cxnSp>
      <p:cxnSp>
        <p:nvCxnSpPr>
          <p:cNvPr id="296" name="AutoShape 39"/>
          <p:cNvCxnSpPr/>
          <p:nvPr/>
        </p:nvCxnSpPr>
        <p:spPr>
          <a:xfrm flipH="1">
            <a:off x="3923640" y="5955840"/>
            <a:ext cx="656280" cy="126360"/>
          </a:xfrm>
          <a:prstGeom prst="straightConnector1">
            <a:avLst/>
          </a:prstGeom>
          <a:ln w="50760">
            <a:solidFill>
              <a:srgbClr val="ff0080"/>
            </a:solidFill>
            <a:miter/>
          </a:ln>
        </p:spPr>
      </p:cxnSp>
      <p:cxnSp>
        <p:nvCxnSpPr>
          <p:cNvPr id="297" name="AutoShape 40"/>
          <p:cNvCxnSpPr/>
          <p:nvPr/>
        </p:nvCxnSpPr>
        <p:spPr>
          <a:xfrm flipH="1">
            <a:off x="4291920" y="1766520"/>
            <a:ext cx="623160" cy="50040"/>
          </a:xfrm>
          <a:prstGeom prst="straightConnector1">
            <a:avLst/>
          </a:prstGeom>
          <a:ln w="50760">
            <a:solidFill>
              <a:srgbClr val="ff0080"/>
            </a:solidFill>
            <a:miter/>
          </a:ln>
        </p:spPr>
      </p:cxnSp>
      <p:sp>
        <p:nvSpPr>
          <p:cNvPr id="298" name="AutoShape 41"/>
          <p:cNvSpPr/>
          <p:nvPr/>
        </p:nvSpPr>
        <p:spPr>
          <a:xfrm>
            <a:off x="4876920" y="152280"/>
            <a:ext cx="533160" cy="152640"/>
          </a:xfrm>
          <a:prstGeom prst="parallelogram">
            <a:avLst>
              <a:gd name="adj" fmla="val 87323"/>
            </a:avLst>
          </a:prstGeom>
          <a:solidFill>
            <a:srgbClr val="ff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AutoShape 42"/>
          <p:cNvCxnSpPr/>
          <p:nvPr/>
        </p:nvCxnSpPr>
        <p:spPr>
          <a:xfrm flipH="1" flipV="1">
            <a:off x="3428280" y="5195160"/>
            <a:ext cx="1151640" cy="354600"/>
          </a:xfrm>
          <a:prstGeom prst="straightConnector1">
            <a:avLst/>
          </a:prstGeom>
          <a:ln w="50760">
            <a:solidFill>
              <a:srgbClr val="400080"/>
            </a:solidFill>
            <a:miter/>
          </a:ln>
        </p:spPr>
      </p:cxnSp>
      <p:cxnSp>
        <p:nvCxnSpPr>
          <p:cNvPr id="300" name="AutoShape 43"/>
          <p:cNvCxnSpPr/>
          <p:nvPr/>
        </p:nvCxnSpPr>
        <p:spPr>
          <a:xfrm flipV="1">
            <a:off x="5334120" y="5195160"/>
            <a:ext cx="1410480" cy="276840"/>
          </a:xfrm>
          <a:prstGeom prst="straightConnector1">
            <a:avLst/>
          </a:prstGeom>
          <a:ln w="50760">
            <a:solidFill>
              <a:srgbClr val="400080"/>
            </a:solidFill>
            <a:miter/>
          </a:ln>
        </p:spPr>
      </p:cxnSp>
      <p:cxnSp>
        <p:nvCxnSpPr>
          <p:cNvPr id="301" name="AutoShape 44"/>
          <p:cNvCxnSpPr/>
          <p:nvPr/>
        </p:nvCxnSpPr>
        <p:spPr>
          <a:xfrm flipH="1">
            <a:off x="2323800" y="2222280"/>
            <a:ext cx="622800" cy="354600"/>
          </a:xfrm>
          <a:prstGeom prst="straightConnector1">
            <a:avLst/>
          </a:prstGeom>
          <a:ln w="50760">
            <a:solidFill>
              <a:srgbClr val="400080"/>
            </a:solidFill>
            <a:miter/>
          </a:ln>
        </p:spPr>
      </p:cxnSp>
      <p:cxnSp>
        <p:nvCxnSpPr>
          <p:cNvPr id="302" name="AutoShape 45"/>
          <p:cNvCxnSpPr/>
          <p:nvPr/>
        </p:nvCxnSpPr>
        <p:spPr>
          <a:xfrm>
            <a:off x="4292640" y="2222280"/>
            <a:ext cx="1117800" cy="354600"/>
          </a:xfrm>
          <a:prstGeom prst="straightConnector1">
            <a:avLst/>
          </a:prstGeom>
          <a:ln w="50760">
            <a:solidFill>
              <a:srgbClr val="400080"/>
            </a:solidFill>
            <a:miter/>
          </a:ln>
        </p:spPr>
      </p:cxnSp>
      <p:sp>
        <p:nvSpPr>
          <p:cNvPr id="303" name="AutoShape 46"/>
          <p:cNvSpPr/>
          <p:nvPr/>
        </p:nvSpPr>
        <p:spPr>
          <a:xfrm>
            <a:off x="4800600" y="457200"/>
            <a:ext cx="533520" cy="152280"/>
          </a:xfrm>
          <a:prstGeom prst="parallelogram">
            <a:avLst>
              <a:gd name="adj" fmla="val 87589"/>
            </a:avLst>
          </a:prstGeom>
          <a:solidFill>
            <a:srgbClr val="4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47"/>
          <p:cNvSpPr/>
          <p:nvPr/>
        </p:nvSpPr>
        <p:spPr>
          <a:xfrm>
            <a:off x="4724280" y="762120"/>
            <a:ext cx="533520" cy="152280"/>
          </a:xfrm>
          <a:prstGeom prst="parallelogram">
            <a:avLst>
              <a:gd name="adj" fmla="val 875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FAFC-5206-4966-8CF7-5E23045AF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LN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6985080" cy="136188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5"/>
          <p:cNvGrpSpPr/>
          <p:nvPr/>
        </p:nvGrpSpPr>
        <p:grpSpPr>
          <a:xfrm>
            <a:off x="1143000" y="4115160"/>
            <a:ext cx="6019920" cy="1734840"/>
            <a:chOff x="1143000" y="4115160"/>
            <a:chExt cx="6019920" cy="1734840"/>
          </a:xfrm>
        </p:grpSpPr>
        <p:sp>
          <p:nvSpPr>
            <p:cNvPr id="309" name="Text Box 6"/>
            <p:cNvSpPr/>
            <p:nvPr/>
          </p:nvSpPr>
          <p:spPr>
            <a:xfrm>
              <a:off x="1185840" y="4115160"/>
              <a:ext cx="59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mpare to log-linear Markov network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Picture 7" descr=""/>
            <p:cNvPicPr/>
            <p:nvPr/>
          </p:nvPicPr>
          <p:blipFill>
            <a:blip r:embed="rId2"/>
            <a:stretch/>
          </p:blipFill>
          <p:spPr>
            <a:xfrm>
              <a:off x="1143000" y="4800600"/>
              <a:ext cx="6019920" cy="104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1" name="Group 8"/>
          <p:cNvGrpSpPr/>
          <p:nvPr/>
        </p:nvGrpSpPr>
        <p:grpSpPr>
          <a:xfrm>
            <a:off x="2507760" y="1279440"/>
            <a:ext cx="6331320" cy="1552680"/>
            <a:chOff x="2507760" y="1279440"/>
            <a:chExt cx="6331320" cy="1552680"/>
          </a:xfrm>
        </p:grpSpPr>
        <p:grpSp>
          <p:nvGrpSpPr>
            <p:cNvPr id="312" name="Group 9"/>
            <p:cNvGrpSpPr/>
            <p:nvPr/>
          </p:nvGrpSpPr>
          <p:grpSpPr>
            <a:xfrm>
              <a:off x="6095880" y="1279440"/>
              <a:ext cx="2743200" cy="1552680"/>
              <a:chOff x="6095880" y="1279440"/>
              <a:chExt cx="2743200" cy="1552680"/>
            </a:xfrm>
          </p:grpSpPr>
          <p:sp>
            <p:nvSpPr>
              <p:cNvPr id="313" name="Oval 10"/>
              <p:cNvSpPr/>
              <p:nvPr/>
            </p:nvSpPr>
            <p:spPr>
              <a:xfrm>
                <a:off x="6095880" y="237492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4" name="AutoShape 11"/>
              <p:cNvCxnSpPr>
                <a:stCxn id="313" idx="7"/>
              </p:cNvCxnSpPr>
              <p:nvPr/>
            </p:nvCxnSpPr>
            <p:spPr>
              <a:xfrm flipV="1">
                <a:off x="6486120" y="1650960"/>
                <a:ext cx="2353320" cy="776880"/>
              </a:xfrm>
              <a:prstGeom prst="straightConnector1">
                <a:avLst/>
              </a:prstGeom>
              <a:ln w="28440">
                <a:solidFill>
                  <a:srgbClr val="006600"/>
                </a:solidFill>
                <a:miter/>
              </a:ln>
            </p:spPr>
          </p:cxnSp>
          <p:sp>
            <p:nvSpPr>
              <p:cNvPr id="315" name="Text Box 12"/>
              <p:cNvSpPr/>
              <p:nvPr/>
            </p:nvSpPr>
            <p:spPr>
              <a:xfrm rot="20562600">
                <a:off x="6562080" y="1594800"/>
                <a:ext cx="2184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00"/>
                    </a:solidFill>
                    <a:latin typeface="Tahoma"/>
                  </a:rPr>
                  <a:t>all groundings of f</a:t>
                </a:r>
                <a:r>
                  <a:rPr b="0" lang="en-US" sz="1800" spc="-1" strike="noStrike" baseline="-25000">
                    <a:solidFill>
                      <a:srgbClr val="0066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13"/>
            <p:cNvGrpSpPr/>
            <p:nvPr/>
          </p:nvGrpSpPr>
          <p:grpSpPr>
            <a:xfrm>
              <a:off x="2507760" y="1656360"/>
              <a:ext cx="2709000" cy="1099800"/>
              <a:chOff x="2507760" y="1656360"/>
              <a:chExt cx="2709000" cy="1099800"/>
            </a:xfrm>
          </p:grpSpPr>
          <p:sp>
            <p:nvSpPr>
              <p:cNvPr id="317" name="Oval 14"/>
              <p:cNvSpPr/>
              <p:nvPr/>
            </p:nvSpPr>
            <p:spPr>
              <a:xfrm>
                <a:off x="4648320" y="2374920"/>
                <a:ext cx="380880" cy="381240"/>
              </a:xfrm>
              <a:prstGeom prst="ellipse">
                <a:avLst/>
              </a:prstGeom>
              <a:noFill/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8" name="AutoShape 15"/>
              <p:cNvCxnSpPr>
                <a:stCxn id="317" idx="1"/>
              </p:cNvCxnSpPr>
              <p:nvPr/>
            </p:nvCxnSpPr>
            <p:spPr>
              <a:xfrm flipH="1" flipV="1">
                <a:off x="2513880" y="1993320"/>
                <a:ext cx="2189880" cy="423000"/>
              </a:xfrm>
              <a:prstGeom prst="straightConnector1">
                <a:avLst/>
              </a:prstGeom>
              <a:ln w="28440">
                <a:solidFill>
                  <a:srgbClr val="006600"/>
                </a:solidFill>
                <a:miter/>
              </a:ln>
            </p:spPr>
          </p:cxnSp>
          <p:sp>
            <p:nvSpPr>
              <p:cNvPr id="319" name="Text Box 16"/>
              <p:cNvSpPr/>
              <p:nvPr/>
            </p:nvSpPr>
            <p:spPr>
              <a:xfrm rot="685200">
                <a:off x="2517480" y="1918800"/>
                <a:ext cx="268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00"/>
                    </a:solidFill>
                    <a:latin typeface="Tahoma"/>
                  </a:rPr>
                  <a:t>all clauses in the mod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Line 17"/>
          <p:cNvSpPr/>
          <p:nvPr/>
        </p:nvSpPr>
        <p:spPr>
          <a:xfrm>
            <a:off x="5181480" y="2590920"/>
            <a:ext cx="228600" cy="220968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>
            <a:off x="5638680" y="2666880"/>
            <a:ext cx="228600" cy="213372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5642-BDE7-4B83-A22E-B2A63301C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LN Equation Intui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sible world (a truth assignment to all gliterals) becomes exponentially less likely as the total weight of all the grounded clauses it violates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D401-0A54-4FBF-AAA6-2D1657CE2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LN Infer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07696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ruth assignments for given set of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evi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literals, infer the probability that each member of set of unknown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qu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literals is tr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69CA-E16E-463F-A786-BB7CC6C35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457200" y="304920"/>
            <a:ext cx="8305920" cy="6248160"/>
          </a:xfrm>
          <a:prstGeom prst="rect">
            <a:avLst/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"/>
          <p:cNvSpPr/>
          <p:nvPr/>
        </p:nvSpPr>
        <p:spPr>
          <a:xfrm>
            <a:off x="1981080" y="4267080"/>
            <a:ext cx="3048120" cy="53352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2101320" y="4343400"/>
            <a:ext cx="25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edFor(coppola, 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"/>
          <p:cNvSpPr/>
          <p:nvPr/>
        </p:nvSpPr>
        <p:spPr>
          <a:xfrm>
            <a:off x="5257800" y="4267080"/>
            <a:ext cx="3124080" cy="53352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5453640" y="43434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edFor(coppola, 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7"/>
          <p:cNvSpPr/>
          <p:nvPr/>
        </p:nvSpPr>
        <p:spPr>
          <a:xfrm>
            <a:off x="990720" y="2209680"/>
            <a:ext cx="2819160" cy="60984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1110960" y="2362320"/>
            <a:ext cx="24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edFor(brando, 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9"/>
          <p:cNvSpPr/>
          <p:nvPr/>
        </p:nvSpPr>
        <p:spPr>
          <a:xfrm>
            <a:off x="4038480" y="2209680"/>
            <a:ext cx="2895840" cy="60984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4158720" y="2362320"/>
            <a:ext cx="25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edFor(brando, 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2743200" y="1371600"/>
            <a:ext cx="1905120" cy="53352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2743200" y="1447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or(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3"/>
          <p:cNvSpPr/>
          <p:nvPr/>
        </p:nvSpPr>
        <p:spPr>
          <a:xfrm>
            <a:off x="4038480" y="914400"/>
            <a:ext cx="1905120" cy="45720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4163760" y="91440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or(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5"/>
          <p:cNvSpPr/>
          <p:nvPr/>
        </p:nvSpPr>
        <p:spPr>
          <a:xfrm>
            <a:off x="4343400" y="5105520"/>
            <a:ext cx="2133720" cy="53316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4480920" y="518148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or(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7"/>
          <p:cNvSpPr/>
          <p:nvPr/>
        </p:nvSpPr>
        <p:spPr>
          <a:xfrm>
            <a:off x="3048120" y="5715000"/>
            <a:ext cx="1904760" cy="45720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3172320" y="571500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or(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AutoShape 19"/>
          <p:cNvCxnSpPr/>
          <p:nvPr/>
        </p:nvCxnSpPr>
        <p:spPr>
          <a:xfrm>
            <a:off x="4267080" y="3537000"/>
            <a:ext cx="672480" cy="720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47" name="AutoShape 20"/>
          <p:cNvCxnSpPr>
            <a:stCxn id="348" idx="3"/>
            <a:endCxn id="330" idx="0"/>
          </p:cNvCxnSpPr>
          <p:nvPr/>
        </p:nvCxnSpPr>
        <p:spPr>
          <a:xfrm flipH="1">
            <a:off x="3504960" y="3744720"/>
            <a:ext cx="1861200" cy="51012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49" name="AutoShape 21"/>
          <p:cNvCxnSpPr>
            <a:stCxn id="350" idx="5"/>
            <a:endCxn id="330" idx="0"/>
          </p:cNvCxnSpPr>
          <p:nvPr/>
        </p:nvCxnSpPr>
        <p:spPr>
          <a:xfrm flipH="1">
            <a:off x="3504600" y="3744720"/>
            <a:ext cx="361080" cy="51012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51" name="AutoShape 22"/>
          <p:cNvCxnSpPr>
            <a:stCxn id="348" idx="4"/>
            <a:endCxn id="332" idx="0"/>
          </p:cNvCxnSpPr>
          <p:nvPr/>
        </p:nvCxnSpPr>
        <p:spPr>
          <a:xfrm>
            <a:off x="6362640" y="3822480"/>
            <a:ext cx="457920" cy="43236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52" name="AutoShape 23"/>
          <p:cNvCxnSpPr>
            <a:stCxn id="336" idx="4"/>
            <a:endCxn id="348" idx="1"/>
          </p:cNvCxnSpPr>
          <p:nvPr/>
        </p:nvCxnSpPr>
        <p:spPr>
          <a:xfrm flipH="1">
            <a:off x="5365080" y="2831760"/>
            <a:ext cx="121320" cy="51012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53" name="AutoShape 24"/>
          <p:cNvCxnSpPr>
            <a:stCxn id="350" idx="7"/>
            <a:endCxn id="336" idx="4"/>
          </p:cNvCxnSpPr>
          <p:nvPr/>
        </p:nvCxnSpPr>
        <p:spPr>
          <a:xfrm flipV="1">
            <a:off x="3865680" y="2831400"/>
            <a:ext cx="1621440" cy="51012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54" name="AutoShape 25"/>
          <p:cNvCxnSpPr>
            <a:stCxn id="350" idx="0"/>
            <a:endCxn id="334" idx="4"/>
          </p:cNvCxnSpPr>
          <p:nvPr/>
        </p:nvCxnSpPr>
        <p:spPr>
          <a:xfrm flipH="1" flipV="1">
            <a:off x="2399760" y="2831400"/>
            <a:ext cx="495720" cy="43236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55" name="AutoShape 26"/>
          <p:cNvCxnSpPr>
            <a:stCxn id="342" idx="1"/>
            <a:endCxn id="330" idx="4"/>
          </p:cNvCxnSpPr>
          <p:nvPr/>
        </p:nvCxnSpPr>
        <p:spPr>
          <a:xfrm flipH="1" flipV="1">
            <a:off x="3504600" y="4812840"/>
            <a:ext cx="1151640" cy="35784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56" name="AutoShape 27"/>
          <p:cNvCxnSpPr>
            <a:stCxn id="342" idx="0"/>
            <a:endCxn id="332" idx="4"/>
          </p:cNvCxnSpPr>
          <p:nvPr/>
        </p:nvCxnSpPr>
        <p:spPr>
          <a:xfrm flipV="1">
            <a:off x="5410080" y="4812840"/>
            <a:ext cx="1410480" cy="28008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57" name="AutoShape 28"/>
          <p:cNvCxnSpPr>
            <a:stCxn id="342" idx="3"/>
            <a:endCxn id="344" idx="0"/>
          </p:cNvCxnSpPr>
          <p:nvPr/>
        </p:nvCxnSpPr>
        <p:spPr>
          <a:xfrm flipH="1">
            <a:off x="3999960" y="5573520"/>
            <a:ext cx="656280" cy="12924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58" name="AutoShape 29"/>
          <p:cNvCxnSpPr>
            <a:stCxn id="338" idx="3"/>
            <a:endCxn id="334" idx="0"/>
          </p:cNvCxnSpPr>
          <p:nvPr/>
        </p:nvCxnSpPr>
        <p:spPr>
          <a:xfrm flipH="1">
            <a:off x="2400120" y="1839960"/>
            <a:ext cx="622800" cy="35784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59" name="AutoShape 30"/>
          <p:cNvCxnSpPr>
            <a:stCxn id="338" idx="5"/>
            <a:endCxn id="336" idx="0"/>
          </p:cNvCxnSpPr>
          <p:nvPr/>
        </p:nvCxnSpPr>
        <p:spPr>
          <a:xfrm>
            <a:off x="4368960" y="1839960"/>
            <a:ext cx="1117800" cy="35784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60" name="AutoShape 31"/>
          <p:cNvCxnSpPr>
            <a:stCxn id="340" idx="4"/>
            <a:endCxn id="338" idx="7"/>
          </p:cNvCxnSpPr>
          <p:nvPr/>
        </p:nvCxnSpPr>
        <p:spPr>
          <a:xfrm flipH="1">
            <a:off x="4368600" y="1384200"/>
            <a:ext cx="622800" cy="5328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sp>
        <p:nvSpPr>
          <p:cNvPr id="361" name="Text Box 32"/>
          <p:cNvSpPr/>
          <p:nvPr/>
        </p:nvSpPr>
        <p:spPr>
          <a:xfrm>
            <a:off x="1600200" y="3048120"/>
            <a:ext cx="18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3"/>
          <p:cNvSpPr/>
          <p:nvPr/>
        </p:nvSpPr>
        <p:spPr>
          <a:xfrm>
            <a:off x="1600200" y="3352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ie(godFather, 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4"/>
          <p:cNvSpPr/>
          <p:nvPr/>
        </p:nvSpPr>
        <p:spPr>
          <a:xfrm>
            <a:off x="5206680" y="3352680"/>
            <a:ext cx="236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ie(godFather,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35"/>
          <p:cNvSpPr/>
          <p:nvPr/>
        </p:nvSpPr>
        <p:spPr>
          <a:xfrm>
            <a:off x="1523880" y="3276720"/>
            <a:ext cx="2743200" cy="53316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36"/>
          <p:cNvSpPr/>
          <p:nvPr/>
        </p:nvSpPr>
        <p:spPr>
          <a:xfrm>
            <a:off x="4952880" y="3276720"/>
            <a:ext cx="2819520" cy="53316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7"/>
          <p:cNvSpPr/>
          <p:nvPr/>
        </p:nvSpPr>
        <p:spPr>
          <a:xfrm>
            <a:off x="5334120" y="533520"/>
            <a:ext cx="18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38"/>
          <p:cNvGrpSpPr/>
          <p:nvPr/>
        </p:nvGrpSpPr>
        <p:grpSpPr>
          <a:xfrm>
            <a:off x="1546200" y="991440"/>
            <a:ext cx="6248520" cy="4649040"/>
            <a:chOff x="1546200" y="991440"/>
            <a:chExt cx="6248520" cy="4649040"/>
          </a:xfrm>
        </p:grpSpPr>
        <p:sp>
          <p:nvSpPr>
            <p:cNvPr id="366" name="Oval 39"/>
            <p:cNvSpPr/>
            <p:nvPr/>
          </p:nvSpPr>
          <p:spPr>
            <a:xfrm>
              <a:off x="4343400" y="5106960"/>
              <a:ext cx="2133720" cy="533520"/>
            </a:xfrm>
            <a:prstGeom prst="ellipse">
              <a:avLst/>
            </a:prstGeom>
            <a:solidFill>
              <a:srgbClr val="00cc99">
                <a:alpha val="40000"/>
              </a:srgbClr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40"/>
            <p:cNvSpPr/>
            <p:nvPr/>
          </p:nvSpPr>
          <p:spPr>
            <a:xfrm>
              <a:off x="2765520" y="1373040"/>
              <a:ext cx="1904760" cy="533520"/>
            </a:xfrm>
            <a:prstGeom prst="ellipse">
              <a:avLst/>
            </a:prstGeom>
            <a:solidFill>
              <a:srgbClr val="00cc99">
                <a:alpha val="40000"/>
              </a:srgbClr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41"/>
            <p:cNvSpPr/>
            <p:nvPr/>
          </p:nvSpPr>
          <p:spPr>
            <a:xfrm>
              <a:off x="3358440" y="9914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42"/>
            <p:cNvSpPr/>
            <p:nvPr/>
          </p:nvSpPr>
          <p:spPr>
            <a:xfrm>
              <a:off x="7266960" y="297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43"/>
            <p:cNvSpPr/>
            <p:nvPr/>
          </p:nvSpPr>
          <p:spPr>
            <a:xfrm>
              <a:off x="1628280" y="297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44"/>
            <p:cNvSpPr/>
            <p:nvPr/>
          </p:nvSpPr>
          <p:spPr>
            <a:xfrm>
              <a:off x="6400440" y="510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45"/>
            <p:cNvSpPr/>
            <p:nvPr/>
          </p:nvSpPr>
          <p:spPr>
            <a:xfrm>
              <a:off x="1546200" y="3278160"/>
              <a:ext cx="2743200" cy="533520"/>
            </a:xfrm>
            <a:prstGeom prst="ellipse">
              <a:avLst/>
            </a:prstGeom>
            <a:solidFill>
              <a:srgbClr val="00cc99">
                <a:alpha val="40000"/>
              </a:srgbClr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46"/>
            <p:cNvSpPr/>
            <p:nvPr/>
          </p:nvSpPr>
          <p:spPr>
            <a:xfrm>
              <a:off x="4975200" y="3278160"/>
              <a:ext cx="2819520" cy="533520"/>
            </a:xfrm>
            <a:prstGeom prst="ellipse">
              <a:avLst/>
            </a:prstGeom>
            <a:solidFill>
              <a:srgbClr val="00cc99">
                <a:alpha val="40000"/>
              </a:srgbClr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47"/>
          <p:cNvGrpSpPr/>
          <p:nvPr/>
        </p:nvGrpSpPr>
        <p:grpSpPr>
          <a:xfrm>
            <a:off x="1221480" y="610200"/>
            <a:ext cx="6751800" cy="5473800"/>
            <a:chOff x="1221480" y="610200"/>
            <a:chExt cx="6751800" cy="5473800"/>
          </a:xfrm>
        </p:grpSpPr>
        <p:sp>
          <p:nvSpPr>
            <p:cNvPr id="375" name="Text Box 48"/>
            <p:cNvSpPr/>
            <p:nvPr/>
          </p:nvSpPr>
          <p:spPr>
            <a:xfrm>
              <a:off x="5564880" y="6102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49"/>
            <p:cNvSpPr/>
            <p:nvPr/>
          </p:nvSpPr>
          <p:spPr>
            <a:xfrm>
              <a:off x="6324480" y="190584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50"/>
            <p:cNvSpPr/>
            <p:nvPr/>
          </p:nvSpPr>
          <p:spPr>
            <a:xfrm>
              <a:off x="1221480" y="190584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51"/>
            <p:cNvSpPr/>
            <p:nvPr/>
          </p:nvSpPr>
          <p:spPr>
            <a:xfrm>
              <a:off x="2593080" y="57157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52"/>
            <p:cNvSpPr/>
            <p:nvPr/>
          </p:nvSpPr>
          <p:spPr>
            <a:xfrm>
              <a:off x="7469640" y="38869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53"/>
            <p:cNvSpPr/>
            <p:nvPr/>
          </p:nvSpPr>
          <p:spPr>
            <a:xfrm>
              <a:off x="1602360" y="41155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6049-DA16-4941-B35B-11ED6FB27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LN Inference Algorith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bbs Sampling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Richardson &amp; Domingos, 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-SA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Poon &amp; Domingos, 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D0EC-EF31-46C1-B330-2465EB026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LN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-learning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Richardson &amp; Domingos, 2006; Lowd &amp; Domingos, 200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erformed using optimization method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-learning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Kok &amp; Domingos,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ceeds in iterations of beam search, adding the best-performing clause after each iteration to the ML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lauses are evaluated using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PLL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cor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79A6-36C7-4BEF-8F95-4A8F5307E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PLL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Kok &amp; Domingos, 2005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ed pseudo log-likeli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5"/>
          <p:cNvGrpSpPr/>
          <p:nvPr/>
        </p:nvGrpSpPr>
        <p:grpSpPr>
          <a:xfrm>
            <a:off x="3809880" y="2057040"/>
            <a:ext cx="4110120" cy="1513440"/>
            <a:chOff x="3809880" y="2057040"/>
            <a:chExt cx="4110120" cy="1513440"/>
          </a:xfrm>
        </p:grpSpPr>
        <p:sp>
          <p:nvSpPr>
            <p:cNvPr id="391" name="Text Box 6"/>
            <p:cNvSpPr/>
            <p:nvPr/>
          </p:nvSpPr>
          <p:spPr>
            <a:xfrm>
              <a:off x="3809880" y="2379240"/>
              <a:ext cx="4110120" cy="119124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mpute the likelihood of the data according to the model and take 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"/>
            <p:cNvSpPr/>
            <p:nvPr/>
          </p:nvSpPr>
          <p:spPr>
            <a:xfrm flipV="1">
              <a:off x="5105520" y="2057040"/>
              <a:ext cx="0" cy="3049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8"/>
          <p:cNvGrpSpPr/>
          <p:nvPr/>
        </p:nvGrpSpPr>
        <p:grpSpPr>
          <a:xfrm>
            <a:off x="2362320" y="2057400"/>
            <a:ext cx="3887640" cy="2961000"/>
            <a:chOff x="2362320" y="2057400"/>
            <a:chExt cx="3887640" cy="2961000"/>
          </a:xfrm>
        </p:grpSpPr>
        <p:sp>
          <p:nvSpPr>
            <p:cNvPr id="394" name="Text Box 9"/>
            <p:cNvSpPr/>
            <p:nvPr/>
          </p:nvSpPr>
          <p:spPr>
            <a:xfrm>
              <a:off x="2362320" y="3827160"/>
              <a:ext cx="3887640" cy="119124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or each gliteral, condition on its Markov blanket for tracta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0"/>
            <p:cNvSpPr/>
            <p:nvPr/>
          </p:nvSpPr>
          <p:spPr>
            <a:xfrm flipV="1">
              <a:off x="3048120" y="2057400"/>
              <a:ext cx="0" cy="17524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4"/>
          <p:cNvGrpSpPr/>
          <p:nvPr/>
        </p:nvGrpSpPr>
        <p:grpSpPr>
          <a:xfrm>
            <a:off x="380880" y="2057400"/>
            <a:ext cx="5040360" cy="4117680"/>
            <a:chOff x="380880" y="2057400"/>
            <a:chExt cx="5040360" cy="4117680"/>
          </a:xfrm>
        </p:grpSpPr>
        <p:sp>
          <p:nvSpPr>
            <p:cNvPr id="397" name="Text Box 15"/>
            <p:cNvSpPr/>
            <p:nvPr/>
          </p:nvSpPr>
          <p:spPr>
            <a:xfrm>
              <a:off x="380880" y="5349600"/>
              <a:ext cx="5040360" cy="82548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ight it so that predicates with greater arity do not domin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 flipV="1">
              <a:off x="1143000" y="2057400"/>
              <a:ext cx="0" cy="32767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87AB-C5EC-4F82-8ACF-9762BB095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Learning Curv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37124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learning increases accuracy in the target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traight Connector 5"/>
          <p:cNvSpPr/>
          <p:nvPr/>
        </p:nvSpPr>
        <p:spPr>
          <a:xfrm flipH="1">
            <a:off x="1522080" y="2592360"/>
            <a:ext cx="3240" cy="350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8"/>
          <p:cNvSpPr/>
          <p:nvPr/>
        </p:nvSpPr>
        <p:spPr>
          <a:xfrm>
            <a:off x="1523880" y="6095880"/>
            <a:ext cx="67820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377080" y="61675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training data in target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 rot="16200000">
            <a:off x="-81720" y="353772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ive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3"/>
          <p:cNvGrpSpPr/>
          <p:nvPr/>
        </p:nvGrpSpPr>
        <p:grpSpPr>
          <a:xfrm>
            <a:off x="1523880" y="3048120"/>
            <a:ext cx="6620760" cy="2527200"/>
            <a:chOff x="1523880" y="3048120"/>
            <a:chExt cx="6620760" cy="2527200"/>
          </a:xfrm>
        </p:grpSpPr>
        <p:sp>
          <p:nvSpPr>
            <p:cNvPr id="104" name="Freeform 13"/>
            <p:cNvSpPr/>
            <p:nvPr/>
          </p:nvSpPr>
          <p:spPr>
            <a:xfrm>
              <a:off x="1523880" y="3048120"/>
              <a:ext cx="6233040" cy="2527200"/>
            </a:xfrm>
            <a:prstGeom prst="pie">
              <a:avLst/>
            </a:pr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7"/>
            <p:cNvSpPr/>
            <p:nvPr/>
          </p:nvSpPr>
          <p:spPr>
            <a:xfrm>
              <a:off x="6333120" y="3124080"/>
              <a:ext cx="181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NO TRANS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31"/>
          <p:cNvGrpSpPr/>
          <p:nvPr/>
        </p:nvGrpSpPr>
        <p:grpSpPr>
          <a:xfrm>
            <a:off x="1515960" y="2590920"/>
            <a:ext cx="7088400" cy="2222280"/>
            <a:chOff x="1515960" y="2590920"/>
            <a:chExt cx="7088400" cy="2222280"/>
          </a:xfrm>
        </p:grpSpPr>
        <p:sp>
          <p:nvSpPr>
            <p:cNvPr id="107" name="Freeform 16"/>
            <p:cNvSpPr/>
            <p:nvPr/>
          </p:nvSpPr>
          <p:spPr>
            <a:xfrm>
              <a:off x="1515960" y="2971800"/>
              <a:ext cx="6220800" cy="1841400"/>
            </a:xfrm>
            <a:prstGeom prst="pie">
              <a:avLst/>
            </a:pr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18"/>
            <p:cNvSpPr/>
            <p:nvPr/>
          </p:nvSpPr>
          <p:spPr>
            <a:xfrm>
              <a:off x="5427360" y="2590920"/>
              <a:ext cx="31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TRANSFER FROM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4"/>
          <p:cNvGrpSpPr/>
          <p:nvPr/>
        </p:nvGrpSpPr>
        <p:grpSpPr>
          <a:xfrm>
            <a:off x="384480" y="4724280"/>
            <a:ext cx="1139400" cy="932400"/>
            <a:chOff x="384480" y="4724280"/>
            <a:chExt cx="1139400" cy="932400"/>
          </a:xfrm>
        </p:grpSpPr>
        <p:sp>
          <p:nvSpPr>
            <p:cNvPr id="110" name="Left Brace 20"/>
            <p:cNvSpPr/>
            <p:nvPr/>
          </p:nvSpPr>
          <p:spPr>
            <a:xfrm>
              <a:off x="1143000" y="4724280"/>
              <a:ext cx="380880" cy="83844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9720 h 838440"/>
                <a:gd name="textAreaBottom" fmla="*/ 8287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09"/>
                    <a:pt x="10800" y="818"/>
                  </a:cubicBezTo>
                  <a:lnTo>
                    <a:pt x="10800" y="9982"/>
                  </a:lnTo>
                  <a:cubicBezTo>
                    <a:pt x="10800" y="10391"/>
                    <a:pt x="5400" y="10800"/>
                    <a:pt x="0" y="10800"/>
                  </a:cubicBezTo>
                  <a:cubicBezTo>
                    <a:pt x="5400" y="10800"/>
                    <a:pt x="10800" y="11209"/>
                    <a:pt x="10800" y="11618"/>
                  </a:cubicBezTo>
                  <a:lnTo>
                    <a:pt x="10800" y="20782"/>
                  </a:lnTo>
                  <a:cubicBezTo>
                    <a:pt x="10800" y="21191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21"/>
            <p:cNvSpPr/>
            <p:nvPr/>
          </p:nvSpPr>
          <p:spPr>
            <a:xfrm>
              <a:off x="384480" y="4952880"/>
              <a:ext cx="80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5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50"/>
                  </a:solidFill>
                  <a:latin typeface="Times New Roman"/>
                </a:rPr>
                <a:t>sta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32"/>
          <p:cNvGrpSpPr/>
          <p:nvPr/>
        </p:nvGrpSpPr>
        <p:grpSpPr>
          <a:xfrm>
            <a:off x="1828440" y="3693960"/>
            <a:ext cx="2311560" cy="1621800"/>
            <a:chOff x="1828440" y="3693960"/>
            <a:chExt cx="2311560" cy="1621800"/>
          </a:xfrm>
        </p:grpSpPr>
        <p:sp>
          <p:nvSpPr>
            <p:cNvPr id="113" name="Straight Connector 26"/>
            <p:cNvSpPr/>
            <p:nvPr/>
          </p:nvSpPr>
          <p:spPr>
            <a:xfrm flipH="1">
              <a:off x="1828440" y="3693960"/>
              <a:ext cx="11880" cy="1222920"/>
            </a:xfrm>
            <a:prstGeom prst="line">
              <a:avLst/>
            </a:prstGeom>
            <a:ln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27"/>
            <p:cNvSpPr/>
            <p:nvPr/>
          </p:nvSpPr>
          <p:spPr>
            <a:xfrm>
              <a:off x="1834920" y="461196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Times New Roman"/>
                </a:rPr>
                <a:t>Advantage fro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Times New Roman"/>
                </a:rPr>
                <a:t>Limited targe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lchem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-source package of MLN software provided by UW that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ference algorith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eight learning algorith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tructure learning algorith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ample data set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ur software uses and extends Alchem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2658-C92D-47F9-876A-3B9875734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12CA-B8AE-40CF-BA3E-DD72A9166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AMAR</a:t>
            </a:r>
            <a:br>
              <a:rPr sz="3200"/>
            </a:b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ransfer via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utomatic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pping And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evision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086600" y="3133800"/>
            <a:ext cx="1905120" cy="11329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MDB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4"/>
          <p:cNvGrpSpPr/>
          <p:nvPr/>
        </p:nvGrpSpPr>
        <p:grpSpPr>
          <a:xfrm>
            <a:off x="1143000" y="1828800"/>
            <a:ext cx="5928840" cy="1871280"/>
            <a:chOff x="1143000" y="1828800"/>
            <a:chExt cx="5928840" cy="1871280"/>
          </a:xfrm>
        </p:grpSpPr>
        <p:sp>
          <p:nvSpPr>
            <p:cNvPr id="406" name="Rectangle 5"/>
            <p:cNvSpPr/>
            <p:nvPr/>
          </p:nvSpPr>
          <p:spPr>
            <a:xfrm>
              <a:off x="1143000" y="2286000"/>
              <a:ext cx="4419720" cy="83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6"/>
            <p:cNvSpPr/>
            <p:nvPr/>
          </p:nvSpPr>
          <p:spPr>
            <a:xfrm>
              <a:off x="3276720" y="182880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8" name="AutoShape 7"/>
            <p:cNvCxnSpPr>
              <a:stCxn id="404" idx="1"/>
              <a:endCxn id="406" idx="3"/>
            </p:cNvCxnSpPr>
            <p:nvPr/>
          </p:nvCxnSpPr>
          <p:spPr>
            <a:xfrm rot="10800000">
              <a:off x="5562000" y="2704320"/>
              <a:ext cx="1510200" cy="996120"/>
            </a:xfrm>
            <a:prstGeom prst="curvedConnector5">
              <a:avLst>
                <a:gd name="adj1" fmla="val 49523"/>
                <a:gd name="adj2" fmla="val 50000"/>
                <a:gd name="adj3" fmla="val 49523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409" name="Group 8"/>
          <p:cNvGrpSpPr/>
          <p:nvPr/>
        </p:nvGrpSpPr>
        <p:grpSpPr>
          <a:xfrm>
            <a:off x="1066680" y="3733920"/>
            <a:ext cx="5928840" cy="1611360"/>
            <a:chOff x="1066680" y="3733920"/>
            <a:chExt cx="5928840" cy="1611360"/>
          </a:xfrm>
        </p:grpSpPr>
        <p:sp>
          <p:nvSpPr>
            <p:cNvPr id="410" name="Rectangle 9"/>
            <p:cNvSpPr/>
            <p:nvPr/>
          </p:nvSpPr>
          <p:spPr>
            <a:xfrm>
              <a:off x="1066680" y="4506840"/>
              <a:ext cx="4419720" cy="838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R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10"/>
            <p:cNvSpPr/>
            <p:nvPr/>
          </p:nvSpPr>
          <p:spPr>
            <a:xfrm>
              <a:off x="3276360" y="4049640"/>
              <a:ext cx="45720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2" name="AutoShape 11"/>
            <p:cNvCxnSpPr>
              <a:stCxn id="404" idx="1"/>
              <a:endCxn id="410" idx="3"/>
            </p:cNvCxnSpPr>
            <p:nvPr/>
          </p:nvCxnSpPr>
          <p:spPr>
            <a:xfrm flipV="1" rot="10800000">
              <a:off x="5485680" y="3733920"/>
              <a:ext cx="1510200" cy="1192680"/>
            </a:xfrm>
            <a:prstGeom prst="curvedConnector5">
              <a:avLst>
                <a:gd name="adj1" fmla="val 49523"/>
                <a:gd name="adj2" fmla="val 50000"/>
                <a:gd name="adj3" fmla="val 49523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413" name="Group 12"/>
          <p:cNvGrpSpPr/>
          <p:nvPr/>
        </p:nvGrpSpPr>
        <p:grpSpPr>
          <a:xfrm>
            <a:off x="-152280" y="3200400"/>
            <a:ext cx="6705360" cy="779760"/>
            <a:chOff x="-152280" y="3200400"/>
            <a:chExt cx="6705360" cy="779760"/>
          </a:xfrm>
        </p:grpSpPr>
        <p:sp>
          <p:nvSpPr>
            <p:cNvPr id="414" name="AutoShape 13"/>
            <p:cNvSpPr/>
            <p:nvPr/>
          </p:nvSpPr>
          <p:spPr>
            <a:xfrm>
              <a:off x="3276720" y="320040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4"/>
            <p:cNvSpPr/>
            <p:nvPr/>
          </p:nvSpPr>
          <p:spPr>
            <a:xfrm>
              <a:off x="-152280" y="3581280"/>
              <a:ext cx="670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5"/>
          <p:cNvGrpSpPr/>
          <p:nvPr/>
        </p:nvGrpSpPr>
        <p:grpSpPr>
          <a:xfrm>
            <a:off x="0" y="5562720"/>
            <a:ext cx="8001000" cy="856080"/>
            <a:chOff x="0" y="5562720"/>
            <a:chExt cx="8001000" cy="856080"/>
          </a:xfrm>
        </p:grpSpPr>
        <p:sp>
          <p:nvSpPr>
            <p:cNvPr id="417" name="AutoShape 16"/>
            <p:cNvSpPr/>
            <p:nvPr/>
          </p:nvSpPr>
          <p:spPr>
            <a:xfrm>
              <a:off x="3352680" y="556272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7"/>
            <p:cNvSpPr/>
            <p:nvPr/>
          </p:nvSpPr>
          <p:spPr>
            <a:xfrm>
              <a:off x="0" y="60199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Relative(A,B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25"/>
          <p:cNvGrpSpPr/>
          <p:nvPr/>
        </p:nvGrpSpPr>
        <p:grpSpPr>
          <a:xfrm>
            <a:off x="-533520" y="1371600"/>
            <a:ext cx="9706680" cy="398880"/>
            <a:chOff x="-533520" y="1371600"/>
            <a:chExt cx="9706680" cy="398880"/>
          </a:xfrm>
        </p:grpSpPr>
        <p:sp>
          <p:nvSpPr>
            <p:cNvPr id="420" name="Rectangle 19"/>
            <p:cNvSpPr/>
            <p:nvPr/>
          </p:nvSpPr>
          <p:spPr>
            <a:xfrm>
              <a:off x="-533520" y="1371600"/>
              <a:ext cx="739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Publication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AdvisedBy(A,B) → Publication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0"/>
            <p:cNvSpPr/>
            <p:nvPr/>
          </p:nvSpPr>
          <p:spPr>
            <a:xfrm>
              <a:off x="6471720" y="1371600"/>
              <a:ext cx="27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clause from UW-CS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21"/>
          <p:cNvGrpSpPr/>
          <p:nvPr/>
        </p:nvGrpSpPr>
        <p:grpSpPr>
          <a:xfrm>
            <a:off x="5562720" y="1828800"/>
            <a:ext cx="3375360" cy="1008720"/>
            <a:chOff x="5562720" y="1828800"/>
            <a:chExt cx="3375360" cy="1008720"/>
          </a:xfrm>
        </p:grpSpPr>
        <p:sp>
          <p:nvSpPr>
            <p:cNvPr id="423" name="Text Box 22"/>
            <p:cNvSpPr/>
            <p:nvPr/>
          </p:nvSpPr>
          <p:spPr>
            <a:xfrm>
              <a:off x="5963760" y="1828800"/>
              <a:ext cx="2974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redicate Mapping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ublication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Mov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visedBy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Worked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3"/>
            <p:cNvSpPr/>
            <p:nvPr/>
          </p:nvSpPr>
          <p:spPr>
            <a:xfrm flipV="1">
              <a:off x="5562720" y="2050920"/>
              <a:ext cx="457200" cy="3808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Oval 24"/>
          <p:cNvSpPr/>
          <p:nvPr/>
        </p:nvSpPr>
        <p:spPr>
          <a:xfrm>
            <a:off x="457200" y="1752480"/>
            <a:ext cx="6019920" cy="190512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C731-E45F-4464-8E52-0291799D3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dicate Mapp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lause is mapped independently of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gorithm considers all possible ways to map a clause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ach predicate in the source clause is mapped to some target predicat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ach argument type in the source is mapped to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actl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one argument type in the targe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apped clause is evaluated by measuring its WPLL for the target data, and the most accurate mapping is ke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5CEC-2CB6-4D6B-9D79-9AC63C25B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dicate Mapp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36360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4"/>
          <p:cNvGrpSpPr/>
          <p:nvPr/>
        </p:nvGrpSpPr>
        <p:grpSpPr>
          <a:xfrm>
            <a:off x="368280" y="2194200"/>
            <a:ext cx="8431560" cy="1404360"/>
            <a:chOff x="368280" y="2194200"/>
            <a:chExt cx="8431560" cy="1404360"/>
          </a:xfrm>
        </p:grpSpPr>
        <p:sp>
          <p:nvSpPr>
            <p:cNvPr id="433" name="Rectangle 5"/>
            <p:cNvSpPr/>
            <p:nvPr/>
          </p:nvSpPr>
          <p:spPr>
            <a:xfrm>
              <a:off x="533520" y="2194200"/>
              <a:ext cx="8076960" cy="8254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ublication(title, person)                  Movie(name, pers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6"/>
            <p:cNvSpPr/>
            <p:nvPr/>
          </p:nvSpPr>
          <p:spPr>
            <a:xfrm>
              <a:off x="368280" y="3138840"/>
              <a:ext cx="8431560" cy="4597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dvisedBy(person, person)      WorkedFor(person, pers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7"/>
            <p:cNvSpPr/>
            <p:nvPr/>
          </p:nvSpPr>
          <p:spPr>
            <a:xfrm>
              <a:off x="4191120" y="2590920"/>
              <a:ext cx="761760" cy="0"/>
            </a:xfrm>
            <a:prstGeom prst="line">
              <a:avLst/>
            </a:prstGeom>
            <a:ln w="2844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8"/>
            <p:cNvSpPr/>
            <p:nvPr/>
          </p:nvSpPr>
          <p:spPr>
            <a:xfrm>
              <a:off x="4343400" y="3352680"/>
              <a:ext cx="380880" cy="0"/>
            </a:xfrm>
            <a:prstGeom prst="line">
              <a:avLst/>
            </a:prstGeom>
            <a:ln w="2844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7" name="Picture 9" descr=""/>
          <p:cNvPicPr/>
          <p:nvPr/>
        </p:nvPicPr>
        <p:blipFill>
          <a:blip r:embed="rId2"/>
          <a:stretch/>
        </p:blipFill>
        <p:spPr>
          <a:xfrm>
            <a:off x="304920" y="5638680"/>
            <a:ext cx="8534160" cy="412920"/>
          </a:xfrm>
          <a:prstGeom prst="rect">
            <a:avLst/>
          </a:prstGeom>
          <a:ln w="0">
            <a:noFill/>
          </a:ln>
        </p:spPr>
      </p:pic>
      <p:sp>
        <p:nvSpPr>
          <p:cNvPr id="438" name="TextBox 10"/>
          <p:cNvSpPr/>
          <p:nvPr/>
        </p:nvSpPr>
        <p:spPr>
          <a:xfrm>
            <a:off x="2301480" y="3886200"/>
            <a:ext cx="470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istent Type M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→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→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D531-02F1-47F4-BA20-3B412C9F9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228600" y="1522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dicate Mapping Exampl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363600"/>
          </a:xfrm>
          <a:prstGeom prst="rect">
            <a:avLst/>
          </a:prstGeom>
          <a:ln w="0">
            <a:noFill/>
          </a:ln>
        </p:spPr>
      </p:pic>
      <p:grpSp>
        <p:nvGrpSpPr>
          <p:cNvPr id="442" name="Group 4"/>
          <p:cNvGrpSpPr/>
          <p:nvPr/>
        </p:nvGrpSpPr>
        <p:grpSpPr>
          <a:xfrm>
            <a:off x="457200" y="2224080"/>
            <a:ext cx="8237520" cy="1404720"/>
            <a:chOff x="457200" y="2224080"/>
            <a:chExt cx="8237520" cy="1404720"/>
          </a:xfrm>
        </p:grpSpPr>
        <p:sp>
          <p:nvSpPr>
            <p:cNvPr id="443" name="Rectangle 5"/>
            <p:cNvSpPr/>
            <p:nvPr/>
          </p:nvSpPr>
          <p:spPr>
            <a:xfrm>
              <a:off x="465120" y="2224080"/>
              <a:ext cx="8229600" cy="4597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ublication(title, person)                 Gender(person, gen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6"/>
            <p:cNvSpPr/>
            <p:nvPr/>
          </p:nvSpPr>
          <p:spPr>
            <a:xfrm>
              <a:off x="457200" y="2803320"/>
              <a:ext cx="8237520" cy="8254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dvisedBy(person, person)         SameGender(gend, gen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7"/>
            <p:cNvSpPr/>
            <p:nvPr/>
          </p:nvSpPr>
          <p:spPr>
            <a:xfrm>
              <a:off x="4351320" y="2469960"/>
              <a:ext cx="769680" cy="0"/>
            </a:xfrm>
            <a:prstGeom prst="line">
              <a:avLst/>
            </a:prstGeom>
            <a:ln w="2844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8"/>
            <p:cNvSpPr/>
            <p:nvPr/>
          </p:nvSpPr>
          <p:spPr>
            <a:xfrm>
              <a:off x="4503600" y="3232080"/>
              <a:ext cx="384120" cy="0"/>
            </a:xfrm>
            <a:prstGeom prst="line">
              <a:avLst/>
            </a:prstGeom>
            <a:ln w="2844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7" name="Picture 9" descr=""/>
          <p:cNvPicPr/>
          <p:nvPr/>
        </p:nvPicPr>
        <p:blipFill>
          <a:blip r:embed="rId2"/>
          <a:stretch/>
        </p:blipFill>
        <p:spPr>
          <a:xfrm>
            <a:off x="228600" y="5486400"/>
            <a:ext cx="8572680" cy="390600"/>
          </a:xfrm>
          <a:prstGeom prst="rect">
            <a:avLst/>
          </a:prstGeom>
          <a:ln w="0">
            <a:noFill/>
          </a:ln>
        </p:spPr>
      </p:pic>
      <p:sp>
        <p:nvSpPr>
          <p:cNvPr id="448" name="TextBox 10"/>
          <p:cNvSpPr/>
          <p:nvPr/>
        </p:nvSpPr>
        <p:spPr>
          <a:xfrm>
            <a:off x="2377800" y="3733920"/>
            <a:ext cx="470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istent Type M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→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→ g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2503-73DF-4F16-AE87-F13E22053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AMAR</a:t>
            </a:r>
            <a:br>
              <a:rPr sz="3200"/>
            </a:b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Transfer via Automatic Mapping And Revision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086600" y="3133800"/>
            <a:ext cx="1905120" cy="11329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MDB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4"/>
          <p:cNvGrpSpPr/>
          <p:nvPr/>
        </p:nvGrpSpPr>
        <p:grpSpPr>
          <a:xfrm>
            <a:off x="1143000" y="1828800"/>
            <a:ext cx="5928840" cy="1871280"/>
            <a:chOff x="1143000" y="1828800"/>
            <a:chExt cx="5928840" cy="1871280"/>
          </a:xfrm>
        </p:grpSpPr>
        <p:sp>
          <p:nvSpPr>
            <p:cNvPr id="453" name="Rectangle 5"/>
            <p:cNvSpPr/>
            <p:nvPr/>
          </p:nvSpPr>
          <p:spPr>
            <a:xfrm>
              <a:off x="1143000" y="2286000"/>
              <a:ext cx="4419720" cy="83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6"/>
            <p:cNvSpPr/>
            <p:nvPr/>
          </p:nvSpPr>
          <p:spPr>
            <a:xfrm>
              <a:off x="3276720" y="182880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5" name="AutoShape 7"/>
            <p:cNvCxnSpPr>
              <a:stCxn id="451" idx="1"/>
              <a:endCxn id="453" idx="3"/>
            </p:cNvCxnSpPr>
            <p:nvPr/>
          </p:nvCxnSpPr>
          <p:spPr>
            <a:xfrm rot="10800000">
              <a:off x="5562000" y="2704320"/>
              <a:ext cx="1510200" cy="996120"/>
            </a:xfrm>
            <a:prstGeom prst="curvedConnector5">
              <a:avLst>
                <a:gd name="adj1" fmla="val 49523"/>
                <a:gd name="adj2" fmla="val 50000"/>
                <a:gd name="adj3" fmla="val 49523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456" name="Group 8"/>
          <p:cNvGrpSpPr/>
          <p:nvPr/>
        </p:nvGrpSpPr>
        <p:grpSpPr>
          <a:xfrm>
            <a:off x="1066680" y="3733920"/>
            <a:ext cx="5928840" cy="1611360"/>
            <a:chOff x="1066680" y="3733920"/>
            <a:chExt cx="5928840" cy="1611360"/>
          </a:xfrm>
        </p:grpSpPr>
        <p:sp>
          <p:nvSpPr>
            <p:cNvPr id="457" name="Rectangle 9"/>
            <p:cNvSpPr/>
            <p:nvPr/>
          </p:nvSpPr>
          <p:spPr>
            <a:xfrm>
              <a:off x="1066680" y="4506840"/>
              <a:ext cx="4419720" cy="838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R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0"/>
            <p:cNvSpPr/>
            <p:nvPr/>
          </p:nvSpPr>
          <p:spPr>
            <a:xfrm>
              <a:off x="3276360" y="4049640"/>
              <a:ext cx="45720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9" name="AutoShape 11"/>
            <p:cNvCxnSpPr>
              <a:stCxn id="451" idx="1"/>
              <a:endCxn id="457" idx="3"/>
            </p:cNvCxnSpPr>
            <p:nvPr/>
          </p:nvCxnSpPr>
          <p:spPr>
            <a:xfrm flipV="1" rot="10800000">
              <a:off x="5485680" y="3733920"/>
              <a:ext cx="1510200" cy="1192680"/>
            </a:xfrm>
            <a:prstGeom prst="curvedConnector5">
              <a:avLst>
                <a:gd name="adj1" fmla="val 49523"/>
                <a:gd name="adj2" fmla="val 50000"/>
                <a:gd name="adj3" fmla="val 49523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460" name="Group 12"/>
          <p:cNvGrpSpPr/>
          <p:nvPr/>
        </p:nvGrpSpPr>
        <p:grpSpPr>
          <a:xfrm>
            <a:off x="-152280" y="3200400"/>
            <a:ext cx="6705360" cy="779760"/>
            <a:chOff x="-152280" y="3200400"/>
            <a:chExt cx="6705360" cy="779760"/>
          </a:xfrm>
        </p:grpSpPr>
        <p:sp>
          <p:nvSpPr>
            <p:cNvPr id="461" name="AutoShape 13"/>
            <p:cNvSpPr/>
            <p:nvPr/>
          </p:nvSpPr>
          <p:spPr>
            <a:xfrm>
              <a:off x="3276720" y="320040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4"/>
            <p:cNvSpPr/>
            <p:nvPr/>
          </p:nvSpPr>
          <p:spPr>
            <a:xfrm>
              <a:off x="-152280" y="3581280"/>
              <a:ext cx="670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5"/>
          <p:cNvGrpSpPr/>
          <p:nvPr/>
        </p:nvGrpSpPr>
        <p:grpSpPr>
          <a:xfrm>
            <a:off x="0" y="5562720"/>
            <a:ext cx="8001000" cy="856080"/>
            <a:chOff x="0" y="5562720"/>
            <a:chExt cx="8001000" cy="856080"/>
          </a:xfrm>
        </p:grpSpPr>
        <p:sp>
          <p:nvSpPr>
            <p:cNvPr id="464" name="AutoShape 16"/>
            <p:cNvSpPr/>
            <p:nvPr/>
          </p:nvSpPr>
          <p:spPr>
            <a:xfrm>
              <a:off x="3352680" y="556272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7"/>
            <p:cNvSpPr/>
            <p:nvPr/>
          </p:nvSpPr>
          <p:spPr>
            <a:xfrm>
              <a:off x="0" y="60199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Relative(A,B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8"/>
          <p:cNvGrpSpPr/>
          <p:nvPr/>
        </p:nvGrpSpPr>
        <p:grpSpPr>
          <a:xfrm>
            <a:off x="-533520" y="1371600"/>
            <a:ext cx="9706680" cy="398880"/>
            <a:chOff x="-533520" y="1371600"/>
            <a:chExt cx="9706680" cy="398880"/>
          </a:xfrm>
        </p:grpSpPr>
        <p:sp>
          <p:nvSpPr>
            <p:cNvPr id="467" name="Rectangle 19"/>
            <p:cNvSpPr/>
            <p:nvPr/>
          </p:nvSpPr>
          <p:spPr>
            <a:xfrm>
              <a:off x="-533520" y="1371600"/>
              <a:ext cx="739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Publication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AdvisedBy(A,B) → Publication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0"/>
            <p:cNvSpPr/>
            <p:nvPr/>
          </p:nvSpPr>
          <p:spPr>
            <a:xfrm>
              <a:off x="6471720" y="1371600"/>
              <a:ext cx="27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clause from UW-CS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Oval 24"/>
          <p:cNvSpPr/>
          <p:nvPr/>
        </p:nvSpPr>
        <p:spPr>
          <a:xfrm>
            <a:off x="533520" y="4038480"/>
            <a:ext cx="6019560" cy="190512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FE60-2976-4934-8769-83A9C5B3F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Learning as Rev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04920" y="1523880"/>
            <a:ext cx="464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ard mapped source MLN as an approximate model for the target task that needs to be accurately and efficiently revi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our general approach is similar to that taken by theory revision system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Richards &amp; Mooney, 199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ions are proposed in a bottom-up fash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5486040" y="1447920"/>
            <a:ext cx="3353040" cy="2437920"/>
            <a:chOff x="5486040" y="1447920"/>
            <a:chExt cx="3353040" cy="2437920"/>
          </a:xfrm>
        </p:grpSpPr>
        <p:sp>
          <p:nvSpPr>
            <p:cNvPr id="474" name="Oval 5"/>
            <p:cNvSpPr/>
            <p:nvPr/>
          </p:nvSpPr>
          <p:spPr>
            <a:xfrm>
              <a:off x="5757840" y="2133360"/>
              <a:ext cx="217476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6"/>
            <p:cNvSpPr/>
            <p:nvPr/>
          </p:nvSpPr>
          <p:spPr>
            <a:xfrm>
              <a:off x="5986440" y="236196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Source ML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7"/>
            <p:cNvSpPr/>
            <p:nvPr/>
          </p:nvSpPr>
          <p:spPr>
            <a:xfrm flipH="1">
              <a:off x="5486040" y="2895480"/>
              <a:ext cx="6346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8"/>
            <p:cNvSpPr/>
            <p:nvPr/>
          </p:nvSpPr>
          <p:spPr>
            <a:xfrm flipH="1">
              <a:off x="5757840" y="2971800"/>
              <a:ext cx="54432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9"/>
            <p:cNvSpPr/>
            <p:nvPr/>
          </p:nvSpPr>
          <p:spPr>
            <a:xfrm flipH="1">
              <a:off x="6028920" y="3047760"/>
              <a:ext cx="4539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0"/>
            <p:cNvSpPr/>
            <p:nvPr/>
          </p:nvSpPr>
          <p:spPr>
            <a:xfrm flipH="1">
              <a:off x="6392880" y="3047760"/>
              <a:ext cx="271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1"/>
            <p:cNvSpPr/>
            <p:nvPr/>
          </p:nvSpPr>
          <p:spPr>
            <a:xfrm>
              <a:off x="6754680" y="30477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2"/>
            <p:cNvSpPr/>
            <p:nvPr/>
          </p:nvSpPr>
          <p:spPr>
            <a:xfrm>
              <a:off x="6935760" y="3047760"/>
              <a:ext cx="180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3"/>
            <p:cNvSpPr/>
            <p:nvPr/>
          </p:nvSpPr>
          <p:spPr>
            <a:xfrm>
              <a:off x="7116480" y="3047760"/>
              <a:ext cx="363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4"/>
            <p:cNvSpPr/>
            <p:nvPr/>
          </p:nvSpPr>
          <p:spPr>
            <a:xfrm>
              <a:off x="7389720" y="2971800"/>
              <a:ext cx="45252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15"/>
            <p:cNvSpPr/>
            <p:nvPr/>
          </p:nvSpPr>
          <p:spPr>
            <a:xfrm>
              <a:off x="7570800" y="2895480"/>
              <a:ext cx="5428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16"/>
            <p:cNvSpPr/>
            <p:nvPr/>
          </p:nvSpPr>
          <p:spPr>
            <a:xfrm>
              <a:off x="7661160" y="2895480"/>
              <a:ext cx="7254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17"/>
            <p:cNvSpPr/>
            <p:nvPr/>
          </p:nvSpPr>
          <p:spPr>
            <a:xfrm>
              <a:off x="7842240" y="2743200"/>
              <a:ext cx="99684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8"/>
            <p:cNvSpPr/>
            <p:nvPr/>
          </p:nvSpPr>
          <p:spPr>
            <a:xfrm>
              <a:off x="7751520" y="2819160"/>
              <a:ext cx="816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9"/>
            <p:cNvSpPr/>
            <p:nvPr/>
          </p:nvSpPr>
          <p:spPr>
            <a:xfrm>
              <a:off x="6845040" y="3047760"/>
              <a:ext cx="90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0"/>
            <p:cNvSpPr/>
            <p:nvPr/>
          </p:nvSpPr>
          <p:spPr>
            <a:xfrm>
              <a:off x="7026120" y="3047760"/>
              <a:ext cx="2732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1"/>
            <p:cNvSpPr/>
            <p:nvPr/>
          </p:nvSpPr>
          <p:spPr>
            <a:xfrm flipH="1">
              <a:off x="6211440" y="3047760"/>
              <a:ext cx="361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2"/>
            <p:cNvSpPr/>
            <p:nvPr/>
          </p:nvSpPr>
          <p:spPr>
            <a:xfrm flipH="1">
              <a:off x="5847840" y="2971800"/>
              <a:ext cx="5446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3"/>
            <p:cNvSpPr/>
            <p:nvPr/>
          </p:nvSpPr>
          <p:spPr>
            <a:xfrm flipH="1">
              <a:off x="6573600" y="3047760"/>
              <a:ext cx="90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4"/>
            <p:cNvSpPr/>
            <p:nvPr/>
          </p:nvSpPr>
          <p:spPr>
            <a:xfrm>
              <a:off x="7299360" y="2971800"/>
              <a:ext cx="3618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25"/>
            <p:cNvSpPr/>
            <p:nvPr/>
          </p:nvSpPr>
          <p:spPr>
            <a:xfrm>
              <a:off x="5833800" y="1447920"/>
              <a:ext cx="1828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Tahoma"/>
                </a:rPr>
                <a:t>Top-down</a:t>
              </a: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26"/>
          <p:cNvGrpSpPr/>
          <p:nvPr/>
        </p:nvGrpSpPr>
        <p:grpSpPr>
          <a:xfrm>
            <a:off x="5352480" y="1447920"/>
            <a:ext cx="3486240" cy="4875840"/>
            <a:chOff x="5352480" y="1447920"/>
            <a:chExt cx="3486240" cy="4875840"/>
          </a:xfrm>
        </p:grpSpPr>
        <p:cxnSp>
          <p:nvCxnSpPr>
            <p:cNvPr id="496" name="AutoShape 27"/>
            <p:cNvCxnSpPr>
              <a:stCxn id="497" idx="2"/>
              <a:endCxn id="498" idx="1"/>
            </p:cNvCxnSpPr>
            <p:nvPr/>
          </p:nvCxnSpPr>
          <p:spPr>
            <a:xfrm flipV="1" rot="10800000">
              <a:off x="5581080" y="2390400"/>
              <a:ext cx="57600" cy="2081520"/>
            </a:xfrm>
            <a:prstGeom prst="bentConnector3">
              <a:avLst>
                <a:gd name="adj1" fmla="val 5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99" name="Group 28"/>
            <p:cNvGrpSpPr/>
            <p:nvPr/>
          </p:nvGrpSpPr>
          <p:grpSpPr>
            <a:xfrm>
              <a:off x="5638680" y="2057400"/>
              <a:ext cx="3124080" cy="1294560"/>
              <a:chOff x="5638680" y="2057400"/>
              <a:chExt cx="3124080" cy="1294560"/>
            </a:xfrm>
          </p:grpSpPr>
          <p:sp>
            <p:nvSpPr>
              <p:cNvPr id="497" name="Oval 29"/>
              <p:cNvSpPr/>
              <p:nvPr/>
            </p:nvSpPr>
            <p:spPr>
              <a:xfrm>
                <a:off x="5638680" y="2057400"/>
                <a:ext cx="2205000" cy="665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30"/>
              <p:cNvSpPr/>
              <p:nvPr/>
            </p:nvSpPr>
            <p:spPr>
              <a:xfrm>
                <a:off x="5822640" y="2222640"/>
                <a:ext cx="229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Source ML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31"/>
              <p:cNvSpPr/>
              <p:nvPr/>
            </p:nvSpPr>
            <p:spPr>
              <a:xfrm flipH="1">
                <a:off x="5913720" y="2667240"/>
                <a:ext cx="367560" cy="66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32"/>
              <p:cNvSpPr/>
              <p:nvPr/>
            </p:nvSpPr>
            <p:spPr>
              <a:xfrm>
                <a:off x="6649560" y="274212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33"/>
              <p:cNvSpPr/>
              <p:nvPr/>
            </p:nvSpPr>
            <p:spPr>
              <a:xfrm>
                <a:off x="7016760" y="2722680"/>
                <a:ext cx="36756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34"/>
              <p:cNvSpPr/>
              <p:nvPr/>
            </p:nvSpPr>
            <p:spPr>
              <a:xfrm>
                <a:off x="7476480" y="2631240"/>
                <a:ext cx="551160" cy="66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35"/>
              <p:cNvSpPr/>
              <p:nvPr/>
            </p:nvSpPr>
            <p:spPr>
              <a:xfrm>
                <a:off x="7752240" y="2520720"/>
                <a:ext cx="1010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6"/>
            <p:cNvGrpSpPr/>
            <p:nvPr/>
          </p:nvGrpSpPr>
          <p:grpSpPr>
            <a:xfrm>
              <a:off x="5410080" y="3352680"/>
              <a:ext cx="3428640" cy="2971080"/>
              <a:chOff x="5410080" y="3352680"/>
              <a:chExt cx="3428640" cy="2971080"/>
            </a:xfrm>
          </p:grpSpPr>
          <p:sp>
            <p:nvSpPr>
              <p:cNvPr id="507" name="Oval 37"/>
              <p:cNvSpPr/>
              <p:nvPr/>
            </p:nvSpPr>
            <p:spPr>
              <a:xfrm>
                <a:off x="5410080" y="5320440"/>
                <a:ext cx="2485440" cy="10033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Target Train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Dat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38"/>
              <p:cNvSpPr/>
              <p:nvPr/>
            </p:nvSpPr>
            <p:spPr>
              <a:xfrm>
                <a:off x="5581080" y="3969720"/>
                <a:ext cx="2400120" cy="100332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Data-Driv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Revis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Propos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39"/>
              <p:cNvSpPr/>
              <p:nvPr/>
            </p:nvSpPr>
            <p:spPr>
              <a:xfrm flipV="1">
                <a:off x="6695640" y="4973400"/>
                <a:ext cx="0" cy="30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40"/>
              <p:cNvSpPr/>
              <p:nvPr/>
            </p:nvSpPr>
            <p:spPr>
              <a:xfrm>
                <a:off x="5838480" y="3429360"/>
                <a:ext cx="514080" cy="5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41"/>
              <p:cNvSpPr/>
              <p:nvPr/>
            </p:nvSpPr>
            <p:spPr>
              <a:xfrm flipV="1">
                <a:off x="7295760" y="3352680"/>
                <a:ext cx="1542960" cy="61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Text Box 42"/>
            <p:cNvSpPr/>
            <p:nvPr/>
          </p:nvSpPr>
          <p:spPr>
            <a:xfrm>
              <a:off x="5943600" y="144792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Tahoma"/>
                </a:rPr>
                <a:t>Bottom-u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1CD4-E76B-44C6-84D0-0C180A3EE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5"/>
          <p:cNvSpPr/>
          <p:nvPr/>
        </p:nvSpPr>
        <p:spPr>
          <a:xfrm>
            <a:off x="533520" y="5029200"/>
            <a:ext cx="6629400" cy="15238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-TAMA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452520" y="3048120"/>
            <a:ext cx="25146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4"/>
          <p:cNvGrpSpPr/>
          <p:nvPr/>
        </p:nvGrpSpPr>
        <p:grpSpPr>
          <a:xfrm>
            <a:off x="452520" y="1752480"/>
            <a:ext cx="2438280" cy="1143000"/>
            <a:chOff x="452520" y="1752480"/>
            <a:chExt cx="2438280" cy="1143000"/>
          </a:xfrm>
        </p:grpSpPr>
        <p:grpSp>
          <p:nvGrpSpPr>
            <p:cNvPr id="517" name="Group 5"/>
            <p:cNvGrpSpPr/>
            <p:nvPr/>
          </p:nvGrpSpPr>
          <p:grpSpPr>
            <a:xfrm>
              <a:off x="452520" y="1752480"/>
              <a:ext cx="2438280" cy="228600"/>
              <a:chOff x="452520" y="1752480"/>
              <a:chExt cx="2438280" cy="228600"/>
            </a:xfrm>
          </p:grpSpPr>
          <p:sp>
            <p:nvSpPr>
              <p:cNvPr id="518" name="Rectangle 6"/>
              <p:cNvSpPr/>
              <p:nvPr/>
            </p:nvSpPr>
            <p:spPr>
              <a:xfrm>
                <a:off x="452520" y="17524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7"/>
              <p:cNvSpPr/>
              <p:nvPr/>
            </p:nvSpPr>
            <p:spPr>
              <a:xfrm>
                <a:off x="2585880" y="17524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8"/>
            <p:cNvGrpSpPr/>
            <p:nvPr/>
          </p:nvGrpSpPr>
          <p:grpSpPr>
            <a:xfrm>
              <a:off x="452520" y="1981080"/>
              <a:ext cx="2438280" cy="228600"/>
              <a:chOff x="452520" y="1981080"/>
              <a:chExt cx="2438280" cy="228600"/>
            </a:xfrm>
          </p:grpSpPr>
          <p:sp>
            <p:nvSpPr>
              <p:cNvPr id="521" name="Rectangle 9"/>
              <p:cNvSpPr/>
              <p:nvPr/>
            </p:nvSpPr>
            <p:spPr>
              <a:xfrm>
                <a:off x="452520" y="19810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10"/>
              <p:cNvSpPr/>
              <p:nvPr/>
            </p:nvSpPr>
            <p:spPr>
              <a:xfrm>
                <a:off x="2585880" y="19810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11"/>
            <p:cNvGrpSpPr/>
            <p:nvPr/>
          </p:nvGrpSpPr>
          <p:grpSpPr>
            <a:xfrm>
              <a:off x="452520" y="2209680"/>
              <a:ext cx="2438280" cy="228600"/>
              <a:chOff x="452520" y="2209680"/>
              <a:chExt cx="2438280" cy="228600"/>
            </a:xfrm>
          </p:grpSpPr>
          <p:sp>
            <p:nvSpPr>
              <p:cNvPr id="524" name="Rectangle 12"/>
              <p:cNvSpPr/>
              <p:nvPr/>
            </p:nvSpPr>
            <p:spPr>
              <a:xfrm>
                <a:off x="452520" y="22096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13"/>
              <p:cNvSpPr/>
              <p:nvPr/>
            </p:nvSpPr>
            <p:spPr>
              <a:xfrm>
                <a:off x="2585880" y="22096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14"/>
            <p:cNvGrpSpPr/>
            <p:nvPr/>
          </p:nvGrpSpPr>
          <p:grpSpPr>
            <a:xfrm>
              <a:off x="452520" y="2438280"/>
              <a:ext cx="2438280" cy="228600"/>
              <a:chOff x="452520" y="2438280"/>
              <a:chExt cx="2438280" cy="228600"/>
            </a:xfrm>
          </p:grpSpPr>
          <p:sp>
            <p:nvSpPr>
              <p:cNvPr id="527" name="Rectangle 15"/>
              <p:cNvSpPr/>
              <p:nvPr/>
            </p:nvSpPr>
            <p:spPr>
              <a:xfrm>
                <a:off x="452520" y="24382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16"/>
              <p:cNvSpPr/>
              <p:nvPr/>
            </p:nvSpPr>
            <p:spPr>
              <a:xfrm>
                <a:off x="2585880" y="24382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17"/>
            <p:cNvGrpSpPr/>
            <p:nvPr/>
          </p:nvGrpSpPr>
          <p:grpSpPr>
            <a:xfrm>
              <a:off x="452520" y="2666880"/>
              <a:ext cx="2438280" cy="228600"/>
              <a:chOff x="452520" y="2666880"/>
              <a:chExt cx="2438280" cy="228600"/>
            </a:xfrm>
          </p:grpSpPr>
          <p:sp>
            <p:nvSpPr>
              <p:cNvPr id="530" name="Rectangle 18"/>
              <p:cNvSpPr/>
              <p:nvPr/>
            </p:nvSpPr>
            <p:spPr>
              <a:xfrm>
                <a:off x="452520" y="26668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19"/>
              <p:cNvSpPr/>
              <p:nvPr/>
            </p:nvSpPr>
            <p:spPr>
              <a:xfrm>
                <a:off x="2585880" y="26668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2" name="Group 20"/>
          <p:cNvGrpSpPr/>
          <p:nvPr/>
        </p:nvGrpSpPr>
        <p:grpSpPr>
          <a:xfrm>
            <a:off x="2890800" y="1752480"/>
            <a:ext cx="2743200" cy="1599840"/>
            <a:chOff x="2890800" y="1752480"/>
            <a:chExt cx="2743200" cy="1599840"/>
          </a:xfrm>
        </p:grpSpPr>
        <p:sp>
          <p:nvSpPr>
            <p:cNvPr id="533" name="Oval 21"/>
            <p:cNvSpPr/>
            <p:nvPr/>
          </p:nvSpPr>
          <p:spPr>
            <a:xfrm>
              <a:off x="3576600" y="1752480"/>
              <a:ext cx="1981440" cy="137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22"/>
            <p:cNvSpPr/>
            <p:nvPr/>
          </p:nvSpPr>
          <p:spPr>
            <a:xfrm>
              <a:off x="3500640" y="190512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Self-diagnosi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3"/>
            <p:cNvSpPr/>
            <p:nvPr/>
          </p:nvSpPr>
          <p:spPr>
            <a:xfrm flipV="1">
              <a:off x="2967120" y="2742840"/>
              <a:ext cx="762120" cy="6094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>
              <a:off x="2890800" y="2133720"/>
              <a:ext cx="762120" cy="75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Rectangle 26"/>
          <p:cNvSpPr/>
          <p:nvPr/>
        </p:nvSpPr>
        <p:spPr>
          <a:xfrm>
            <a:off x="3043080" y="5486400"/>
            <a:ext cx="5335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7"/>
          <p:cNvSpPr/>
          <p:nvPr/>
        </p:nvSpPr>
        <p:spPr>
          <a:xfrm>
            <a:off x="3043080" y="5791320"/>
            <a:ext cx="5335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8"/>
          <p:cNvSpPr/>
          <p:nvPr/>
        </p:nvSpPr>
        <p:spPr>
          <a:xfrm>
            <a:off x="3048120" y="6095880"/>
            <a:ext cx="5331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6472080" y="5486400"/>
            <a:ext cx="5335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30"/>
          <p:cNvSpPr/>
          <p:nvPr/>
        </p:nvSpPr>
        <p:spPr>
          <a:xfrm>
            <a:off x="7543800" y="5181480"/>
            <a:ext cx="1600200" cy="703800"/>
          </a:xfrm>
          <a:prstGeom prst="borderCallout1">
            <a:avLst>
              <a:gd name="adj1" fmla="val 18750"/>
              <a:gd name="adj2" fmla="val -8333"/>
              <a:gd name="adj3" fmla="val 27347"/>
              <a:gd name="adj4" fmla="val -22106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WP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2"/>
          <p:cNvSpPr/>
          <p:nvPr/>
        </p:nvSpPr>
        <p:spPr>
          <a:xfrm>
            <a:off x="6477120" y="5791320"/>
            <a:ext cx="5331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33"/>
          <p:cNvGrpSpPr/>
          <p:nvPr/>
        </p:nvGrpSpPr>
        <p:grpSpPr>
          <a:xfrm>
            <a:off x="5557680" y="1676520"/>
            <a:ext cx="3281400" cy="1143000"/>
            <a:chOff x="5557680" y="1676520"/>
            <a:chExt cx="3281400" cy="1143000"/>
          </a:xfrm>
        </p:grpSpPr>
        <p:sp>
          <p:nvSpPr>
            <p:cNvPr id="544" name="Line 34"/>
            <p:cNvSpPr/>
            <p:nvPr/>
          </p:nvSpPr>
          <p:spPr>
            <a:xfrm>
              <a:off x="5557680" y="2438280"/>
              <a:ext cx="83844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35"/>
            <p:cNvGrpSpPr/>
            <p:nvPr/>
          </p:nvGrpSpPr>
          <p:grpSpPr>
            <a:xfrm>
              <a:off x="6400800" y="1676520"/>
              <a:ext cx="2438280" cy="1143000"/>
              <a:chOff x="6400800" y="1676520"/>
              <a:chExt cx="2438280" cy="1143000"/>
            </a:xfrm>
          </p:grpSpPr>
          <p:grpSp>
            <p:nvGrpSpPr>
              <p:cNvPr id="546" name="Group 36"/>
              <p:cNvGrpSpPr/>
              <p:nvPr/>
            </p:nvGrpSpPr>
            <p:grpSpPr>
              <a:xfrm>
                <a:off x="6400800" y="1676520"/>
                <a:ext cx="2438280" cy="228600"/>
                <a:chOff x="6400800" y="1676520"/>
                <a:chExt cx="2438280" cy="228600"/>
              </a:xfrm>
            </p:grpSpPr>
            <p:sp>
              <p:nvSpPr>
                <p:cNvPr id="547" name="Rectangle 37"/>
                <p:cNvSpPr/>
                <p:nvPr/>
              </p:nvSpPr>
              <p:spPr>
                <a:xfrm>
                  <a:off x="6400800" y="16765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Rectangle 38"/>
                <p:cNvSpPr/>
                <p:nvPr/>
              </p:nvSpPr>
              <p:spPr>
                <a:xfrm>
                  <a:off x="8534160" y="16765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Group 39"/>
              <p:cNvGrpSpPr/>
              <p:nvPr/>
            </p:nvGrpSpPr>
            <p:grpSpPr>
              <a:xfrm>
                <a:off x="6400800" y="1905120"/>
                <a:ext cx="2438280" cy="228600"/>
                <a:chOff x="6400800" y="1905120"/>
                <a:chExt cx="2438280" cy="228600"/>
              </a:xfrm>
            </p:grpSpPr>
            <p:sp>
              <p:nvSpPr>
                <p:cNvPr id="550" name="Rectangle 40"/>
                <p:cNvSpPr/>
                <p:nvPr/>
              </p:nvSpPr>
              <p:spPr>
                <a:xfrm>
                  <a:off x="6400800" y="19051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Rectangle 41"/>
                <p:cNvSpPr/>
                <p:nvPr/>
              </p:nvSpPr>
              <p:spPr>
                <a:xfrm>
                  <a:off x="8534160" y="19051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Group 42"/>
              <p:cNvGrpSpPr/>
              <p:nvPr/>
            </p:nvGrpSpPr>
            <p:grpSpPr>
              <a:xfrm>
                <a:off x="6400800" y="2133720"/>
                <a:ext cx="2438280" cy="228600"/>
                <a:chOff x="6400800" y="2133720"/>
                <a:chExt cx="2438280" cy="228600"/>
              </a:xfrm>
            </p:grpSpPr>
            <p:sp>
              <p:nvSpPr>
                <p:cNvPr id="553" name="Rectangle 43"/>
                <p:cNvSpPr/>
                <p:nvPr/>
              </p:nvSpPr>
              <p:spPr>
                <a:xfrm>
                  <a:off x="6400800" y="21337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Rectangle 44"/>
                <p:cNvSpPr/>
                <p:nvPr/>
              </p:nvSpPr>
              <p:spPr>
                <a:xfrm>
                  <a:off x="8534160" y="21337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5" name="Group 45"/>
              <p:cNvGrpSpPr/>
              <p:nvPr/>
            </p:nvGrpSpPr>
            <p:grpSpPr>
              <a:xfrm>
                <a:off x="6400800" y="2362320"/>
                <a:ext cx="2438280" cy="228600"/>
                <a:chOff x="6400800" y="2362320"/>
                <a:chExt cx="2438280" cy="228600"/>
              </a:xfrm>
            </p:grpSpPr>
            <p:sp>
              <p:nvSpPr>
                <p:cNvPr id="556" name="Rectangle 46"/>
                <p:cNvSpPr/>
                <p:nvPr/>
              </p:nvSpPr>
              <p:spPr>
                <a:xfrm>
                  <a:off x="6400800" y="23623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Rectangle 47"/>
                <p:cNvSpPr/>
                <p:nvPr/>
              </p:nvSpPr>
              <p:spPr>
                <a:xfrm>
                  <a:off x="8534160" y="23623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Group 48"/>
              <p:cNvGrpSpPr/>
              <p:nvPr/>
            </p:nvGrpSpPr>
            <p:grpSpPr>
              <a:xfrm>
                <a:off x="6400800" y="2590920"/>
                <a:ext cx="2438280" cy="228600"/>
                <a:chOff x="6400800" y="2590920"/>
                <a:chExt cx="2438280" cy="228600"/>
              </a:xfrm>
            </p:grpSpPr>
            <p:sp>
              <p:nvSpPr>
                <p:cNvPr id="559" name="Rectangle 49"/>
                <p:cNvSpPr/>
                <p:nvPr/>
              </p:nvSpPr>
              <p:spPr>
                <a:xfrm>
                  <a:off x="6400800" y="25909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Rectangle 50"/>
                <p:cNvSpPr/>
                <p:nvPr/>
              </p:nvSpPr>
              <p:spPr>
                <a:xfrm>
                  <a:off x="8534160" y="25909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1" name="Group 51"/>
          <p:cNvGrpSpPr/>
          <p:nvPr/>
        </p:nvGrpSpPr>
        <p:grpSpPr>
          <a:xfrm>
            <a:off x="6553080" y="1676520"/>
            <a:ext cx="1834920" cy="1143000"/>
            <a:chOff x="6553080" y="1676520"/>
            <a:chExt cx="1834920" cy="1143000"/>
          </a:xfrm>
        </p:grpSpPr>
        <p:sp>
          <p:nvSpPr>
            <p:cNvPr id="562" name="Rectangle 52"/>
            <p:cNvSpPr/>
            <p:nvPr/>
          </p:nvSpPr>
          <p:spPr>
            <a:xfrm>
              <a:off x="6559200" y="2590920"/>
              <a:ext cx="18288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oo L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53"/>
            <p:cNvSpPr/>
            <p:nvPr/>
          </p:nvSpPr>
          <p:spPr>
            <a:xfrm>
              <a:off x="6559200" y="2133720"/>
              <a:ext cx="1828800" cy="2286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oo Sh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54"/>
            <p:cNvSpPr/>
            <p:nvPr/>
          </p:nvSpPr>
          <p:spPr>
            <a:xfrm>
              <a:off x="6559200" y="2362320"/>
              <a:ext cx="182880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55"/>
            <p:cNvSpPr/>
            <p:nvPr/>
          </p:nvSpPr>
          <p:spPr>
            <a:xfrm>
              <a:off x="6553080" y="1676520"/>
              <a:ext cx="18288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oo L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56"/>
            <p:cNvSpPr/>
            <p:nvPr/>
          </p:nvSpPr>
          <p:spPr>
            <a:xfrm>
              <a:off x="6553080" y="1905120"/>
              <a:ext cx="182880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57"/>
          <p:cNvGrpSpPr/>
          <p:nvPr/>
        </p:nvGrpSpPr>
        <p:grpSpPr>
          <a:xfrm>
            <a:off x="6138720" y="1752480"/>
            <a:ext cx="2857320" cy="2943720"/>
            <a:chOff x="6138720" y="1752480"/>
            <a:chExt cx="2857320" cy="2943720"/>
          </a:xfrm>
        </p:grpSpPr>
        <p:sp>
          <p:nvSpPr>
            <p:cNvPr id="568" name="Oval 58"/>
            <p:cNvSpPr/>
            <p:nvPr/>
          </p:nvSpPr>
          <p:spPr>
            <a:xfrm>
              <a:off x="6214680" y="3352680"/>
              <a:ext cx="2286000" cy="12952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9"/>
            <p:cNvSpPr/>
            <p:nvPr/>
          </p:nvSpPr>
          <p:spPr>
            <a:xfrm>
              <a:off x="6367320" y="350496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irected Beam 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0"/>
            <p:cNvSpPr/>
            <p:nvPr/>
          </p:nvSpPr>
          <p:spPr>
            <a:xfrm>
              <a:off x="8119800" y="2285640"/>
              <a:ext cx="596880" cy="1295640"/>
            </a:xfrm>
            <a:prstGeom prst="pie">
              <a:avLst/>
            </a:prstGeom>
            <a:noFill/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1"/>
            <p:cNvSpPr/>
            <p:nvPr/>
          </p:nvSpPr>
          <p:spPr>
            <a:xfrm>
              <a:off x="8272080" y="1752480"/>
              <a:ext cx="723960" cy="1981080"/>
            </a:xfrm>
            <a:prstGeom prst="pie">
              <a:avLst/>
            </a:prstGeom>
            <a:noFill/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2"/>
            <p:cNvSpPr/>
            <p:nvPr/>
          </p:nvSpPr>
          <p:spPr>
            <a:xfrm>
              <a:off x="6138720" y="2742840"/>
              <a:ext cx="444240" cy="838440"/>
            </a:xfrm>
            <a:prstGeom prst="pie">
              <a:avLst/>
            </a:prstGeom>
            <a:noFill/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Line 64"/>
          <p:cNvSpPr/>
          <p:nvPr/>
        </p:nvSpPr>
        <p:spPr>
          <a:xfrm flipH="1">
            <a:off x="6395760" y="4648320"/>
            <a:ext cx="685800" cy="3808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6"/>
          <p:cNvSpPr/>
          <p:nvPr/>
        </p:nvSpPr>
        <p:spPr>
          <a:xfrm>
            <a:off x="76212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Candidate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104"/>
          <p:cNvGrpSpPr/>
          <p:nvPr/>
        </p:nvGrpSpPr>
        <p:grpSpPr>
          <a:xfrm>
            <a:off x="609480" y="5486400"/>
            <a:ext cx="2438280" cy="838080"/>
            <a:chOff x="609480" y="5486400"/>
            <a:chExt cx="2438280" cy="838080"/>
          </a:xfrm>
        </p:grpSpPr>
        <p:grpSp>
          <p:nvGrpSpPr>
            <p:cNvPr id="576" name="Group 67"/>
            <p:cNvGrpSpPr/>
            <p:nvPr/>
          </p:nvGrpSpPr>
          <p:grpSpPr>
            <a:xfrm>
              <a:off x="609480" y="5486400"/>
              <a:ext cx="2438280" cy="228600"/>
              <a:chOff x="609480" y="5486400"/>
              <a:chExt cx="2438280" cy="228600"/>
            </a:xfrm>
          </p:grpSpPr>
          <p:sp>
            <p:nvSpPr>
              <p:cNvPr id="577" name="Rectangle 68"/>
              <p:cNvSpPr/>
              <p:nvPr/>
            </p:nvSpPr>
            <p:spPr>
              <a:xfrm>
                <a:off x="609480" y="548640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ew Clause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69"/>
              <p:cNvSpPr/>
              <p:nvPr/>
            </p:nvSpPr>
            <p:spPr>
              <a:xfrm>
                <a:off x="2742840" y="548640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70"/>
            <p:cNvGrpSpPr/>
            <p:nvPr/>
          </p:nvGrpSpPr>
          <p:grpSpPr>
            <a:xfrm>
              <a:off x="609480" y="5791320"/>
              <a:ext cx="2438280" cy="228600"/>
              <a:chOff x="609480" y="5791320"/>
              <a:chExt cx="2438280" cy="228600"/>
            </a:xfrm>
          </p:grpSpPr>
          <p:sp>
            <p:nvSpPr>
              <p:cNvPr id="580" name="Rectangle 71"/>
              <p:cNvSpPr/>
              <p:nvPr/>
            </p:nvSpPr>
            <p:spPr>
              <a:xfrm>
                <a:off x="609480" y="579132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ew Clause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72"/>
              <p:cNvSpPr/>
              <p:nvPr/>
            </p:nvSpPr>
            <p:spPr>
              <a:xfrm>
                <a:off x="2742840" y="579132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73"/>
            <p:cNvGrpSpPr/>
            <p:nvPr/>
          </p:nvGrpSpPr>
          <p:grpSpPr>
            <a:xfrm>
              <a:off x="609480" y="6095880"/>
              <a:ext cx="2438280" cy="228600"/>
              <a:chOff x="609480" y="6095880"/>
              <a:chExt cx="2438280" cy="228600"/>
            </a:xfrm>
          </p:grpSpPr>
          <p:sp>
            <p:nvSpPr>
              <p:cNvPr id="583" name="Rectangle 74"/>
              <p:cNvSpPr/>
              <p:nvPr/>
            </p:nvSpPr>
            <p:spPr>
              <a:xfrm>
                <a:off x="609480" y="60958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New Clause 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75"/>
              <p:cNvSpPr/>
              <p:nvPr/>
            </p:nvSpPr>
            <p:spPr>
              <a:xfrm>
                <a:off x="2742840" y="60958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5" name="Oval 94"/>
          <p:cNvSpPr/>
          <p:nvPr/>
        </p:nvSpPr>
        <p:spPr>
          <a:xfrm>
            <a:off x="3429000" y="3352680"/>
            <a:ext cx="1981080" cy="13716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cla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96"/>
          <p:cNvSpPr/>
          <p:nvPr/>
        </p:nvSpPr>
        <p:spPr>
          <a:xfrm>
            <a:off x="4876920" y="4648320"/>
            <a:ext cx="304560" cy="3808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97"/>
          <p:cNvGrpSpPr/>
          <p:nvPr/>
        </p:nvGrpSpPr>
        <p:grpSpPr>
          <a:xfrm>
            <a:off x="4038480" y="5486400"/>
            <a:ext cx="2438280" cy="228600"/>
            <a:chOff x="4038480" y="5486400"/>
            <a:chExt cx="2438280" cy="228600"/>
          </a:xfrm>
        </p:grpSpPr>
        <p:sp>
          <p:nvSpPr>
            <p:cNvPr id="588" name="Rectangle 98"/>
            <p:cNvSpPr/>
            <p:nvPr/>
          </p:nvSpPr>
          <p:spPr>
            <a:xfrm>
              <a:off x="4038480" y="5486400"/>
              <a:ext cx="21333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ew Clause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99"/>
            <p:cNvSpPr/>
            <p:nvPr/>
          </p:nvSpPr>
          <p:spPr>
            <a:xfrm>
              <a:off x="6171840" y="5486400"/>
              <a:ext cx="30492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00"/>
          <p:cNvGrpSpPr/>
          <p:nvPr/>
        </p:nvGrpSpPr>
        <p:grpSpPr>
          <a:xfrm>
            <a:off x="4038480" y="5791320"/>
            <a:ext cx="2438280" cy="228600"/>
            <a:chOff x="4038480" y="5791320"/>
            <a:chExt cx="2438280" cy="228600"/>
          </a:xfrm>
        </p:grpSpPr>
        <p:sp>
          <p:nvSpPr>
            <p:cNvPr id="591" name="Rectangle 101"/>
            <p:cNvSpPr/>
            <p:nvPr/>
          </p:nvSpPr>
          <p:spPr>
            <a:xfrm>
              <a:off x="4038480" y="5791320"/>
              <a:ext cx="21333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ew Clause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02"/>
            <p:cNvSpPr/>
            <p:nvPr/>
          </p:nvSpPr>
          <p:spPr>
            <a:xfrm>
              <a:off x="6171840" y="5791320"/>
              <a:ext cx="30492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Line 103"/>
          <p:cNvSpPr/>
          <p:nvPr/>
        </p:nvSpPr>
        <p:spPr>
          <a:xfrm>
            <a:off x="2971800" y="3505320"/>
            <a:ext cx="500040" cy="4093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90"/>
          <p:cNvGrpSpPr/>
          <p:nvPr/>
        </p:nvGrpSpPr>
        <p:grpSpPr>
          <a:xfrm>
            <a:off x="380880" y="5715000"/>
            <a:ext cx="6858000" cy="685800"/>
            <a:chOff x="380880" y="5715000"/>
            <a:chExt cx="6858000" cy="685800"/>
          </a:xfrm>
        </p:grpSpPr>
        <p:sp>
          <p:nvSpPr>
            <p:cNvPr id="595" name="Oval 91"/>
            <p:cNvSpPr/>
            <p:nvPr/>
          </p:nvSpPr>
          <p:spPr>
            <a:xfrm>
              <a:off x="3962520" y="5715000"/>
              <a:ext cx="3276360" cy="380880"/>
            </a:xfrm>
            <a:prstGeom prst="ellipse">
              <a:avLst/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92"/>
            <p:cNvSpPr/>
            <p:nvPr/>
          </p:nvSpPr>
          <p:spPr>
            <a:xfrm>
              <a:off x="380880" y="6019920"/>
              <a:ext cx="3429000" cy="380880"/>
            </a:xfrm>
            <a:prstGeom prst="ellipse">
              <a:avLst/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851A-831B-4F49-9195-542E7FA45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-TAMAR: Self-Diagnosi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apped source MLN to make inferences in the target and observe the behavior of each cl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sider each predicate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in the domain in tur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Gibbs sampling to infer truth values for the gliterals of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using the remaining gliterals as evidenc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in the clauses containing gliterals of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based on whether they behave as desired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ons are focused only on clauses in the “Bad” b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5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D113-E1AA-4E0C-9322-323ECCFE8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lf-Diagnosis: Clause Bi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152280" y="1225080"/>
            <a:ext cx="5550120" cy="150444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ctor(brando) Director(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godFather, brando) Movie(godFather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rainMaker, coppola) WorkedFor(brando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6019920" y="1447920"/>
            <a:ext cx="2743200" cy="10951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glite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or(bran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6021000" y="2894400"/>
            <a:ext cx="18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5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281560" cy="28404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19"/>
          <p:cNvSpPr/>
          <p:nvPr/>
        </p:nvSpPr>
        <p:spPr>
          <a:xfrm>
            <a:off x="304920" y="1752480"/>
            <a:ext cx="2590560" cy="38124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1"/>
          <p:cNvSpPr/>
          <p:nvPr/>
        </p:nvSpPr>
        <p:spPr>
          <a:xfrm>
            <a:off x="1219320" y="1371600"/>
            <a:ext cx="1523880" cy="38088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7"/>
          <p:cNvSpPr/>
          <p:nvPr/>
        </p:nvSpPr>
        <p:spPr>
          <a:xfrm>
            <a:off x="7591320" y="289440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8D3E-6CB1-42D0-83A2-237AF20BC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cent Work on Transfer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DARPA program on Transfer Learning has led to significant recent research in th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work focuses on feature-vector class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ierarchical Baye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Yu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5; Lawrence &amp; Platt, 2004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formative Bayesian Prior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Raina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5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oosting for transfer learning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Dai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7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ructural Correspondence Learning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Blitzer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7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work focuses on Reinforcement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Value-function transfe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Taylor &amp; Stone, 2005; 2007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dvice-based policy transfe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Torrey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5; 2007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5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FE6B-F452-49F5-8A70-D7BE5CAB5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lf-Diagnosis: Clause Bi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1" name="Rectangle 3"/>
          <p:cNvSpPr/>
          <p:nvPr/>
        </p:nvSpPr>
        <p:spPr>
          <a:xfrm>
            <a:off x="152280" y="1225080"/>
            <a:ext cx="5550120" cy="150444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ctor(brando) Director(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godFather, brando) Movie(godFather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rainMaker, coppola) WorkedFor(brando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6019920" y="1447920"/>
            <a:ext cx="2743200" cy="10951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glite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or(bran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6021000" y="2894400"/>
            <a:ext cx="18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6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281560" cy="28404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7"/>
          <p:cNvSpPr/>
          <p:nvPr/>
        </p:nvSpPr>
        <p:spPr>
          <a:xfrm>
            <a:off x="2819520" y="2133720"/>
            <a:ext cx="2819160" cy="38088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8"/>
          <p:cNvSpPr/>
          <p:nvPr/>
        </p:nvSpPr>
        <p:spPr>
          <a:xfrm>
            <a:off x="1219320" y="1447920"/>
            <a:ext cx="1523880" cy="38088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7591320" y="289440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10" descr=""/>
          <p:cNvPicPr/>
          <p:nvPr/>
        </p:nvPicPr>
        <p:blipFill>
          <a:blip r:embed="rId2"/>
          <a:stretch/>
        </p:blipFill>
        <p:spPr>
          <a:xfrm>
            <a:off x="76320" y="3809880"/>
            <a:ext cx="5735520" cy="2844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11"/>
          <p:cNvSpPr/>
          <p:nvPr/>
        </p:nvSpPr>
        <p:spPr>
          <a:xfrm>
            <a:off x="6096960" y="3656520"/>
            <a:ext cx="18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7673760" y="365652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5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BB94-5CC2-4EEF-B943-669FF8B9A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lf-Diagnosis: Clause Bi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152280" y="1225080"/>
            <a:ext cx="5550120" cy="150444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ctor(brando) Director(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godFather, brando) Movie(godFather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rainMaker, coppola) WorkedFor(brando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6019920" y="1447920"/>
            <a:ext cx="2743200" cy="10951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glite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or(bran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6021000" y="2894400"/>
            <a:ext cx="18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6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281560" cy="28404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8"/>
          <p:cNvSpPr/>
          <p:nvPr/>
        </p:nvSpPr>
        <p:spPr>
          <a:xfrm>
            <a:off x="1219320" y="1447920"/>
            <a:ext cx="1523880" cy="38088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7591320" y="289440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0" descr=""/>
          <p:cNvPicPr/>
          <p:nvPr/>
        </p:nvPicPr>
        <p:blipFill>
          <a:blip r:embed="rId2"/>
          <a:stretch/>
        </p:blipFill>
        <p:spPr>
          <a:xfrm>
            <a:off x="76320" y="3809880"/>
            <a:ext cx="5735520" cy="28440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11"/>
          <p:cNvSpPr/>
          <p:nvPr/>
        </p:nvSpPr>
        <p:spPr>
          <a:xfrm>
            <a:off x="6096960" y="3656520"/>
            <a:ext cx="18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2"/>
          <p:cNvSpPr/>
          <p:nvPr/>
        </p:nvSpPr>
        <p:spPr>
          <a:xfrm>
            <a:off x="7673760" y="365652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3" descr=""/>
          <p:cNvPicPr/>
          <p:nvPr/>
        </p:nvPicPr>
        <p:blipFill>
          <a:blip r:embed="rId3"/>
          <a:stretch/>
        </p:blipFill>
        <p:spPr>
          <a:xfrm>
            <a:off x="228600" y="4724280"/>
            <a:ext cx="5632560" cy="27936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14"/>
          <p:cNvSpPr/>
          <p:nvPr/>
        </p:nvSpPr>
        <p:spPr>
          <a:xfrm>
            <a:off x="6090480" y="4570920"/>
            <a:ext cx="19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r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5"/>
          <p:cNvSpPr/>
          <p:nvPr/>
        </p:nvSpPr>
        <p:spPr>
          <a:xfrm>
            <a:off x="7812000" y="4570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5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8BF3-9B7B-4882-A8A4-18900BF95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lf-Diagnosis: Clause Bi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152280" y="1225080"/>
            <a:ext cx="5550120" cy="150444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ctor(brando) Director(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godFather, brando) Movie(godFather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rainMaker, coppola) WorkedFor(brando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6019920" y="1447920"/>
            <a:ext cx="2743200" cy="10951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glite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or(bran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6021000" y="2894400"/>
            <a:ext cx="18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6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281560" cy="28404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8"/>
          <p:cNvSpPr/>
          <p:nvPr/>
        </p:nvSpPr>
        <p:spPr>
          <a:xfrm>
            <a:off x="7591320" y="289440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9" descr=""/>
          <p:cNvPicPr/>
          <p:nvPr/>
        </p:nvPicPr>
        <p:blipFill>
          <a:blip r:embed="rId2"/>
          <a:stretch/>
        </p:blipFill>
        <p:spPr>
          <a:xfrm>
            <a:off x="76320" y="3809880"/>
            <a:ext cx="5735520" cy="28440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10"/>
          <p:cNvSpPr/>
          <p:nvPr/>
        </p:nvSpPr>
        <p:spPr>
          <a:xfrm>
            <a:off x="6096960" y="3656520"/>
            <a:ext cx="18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7673760" y="365652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12" descr=""/>
          <p:cNvPicPr/>
          <p:nvPr/>
        </p:nvPicPr>
        <p:blipFill>
          <a:blip r:embed="rId3"/>
          <a:stretch/>
        </p:blipFill>
        <p:spPr>
          <a:xfrm>
            <a:off x="228600" y="4724280"/>
            <a:ext cx="5632560" cy="27936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13"/>
          <p:cNvSpPr/>
          <p:nvPr/>
        </p:nvSpPr>
        <p:spPr>
          <a:xfrm>
            <a:off x="6090480" y="4570920"/>
            <a:ext cx="19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r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7812000" y="4570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15"/>
          <p:cNvGrpSpPr/>
          <p:nvPr/>
        </p:nvGrpSpPr>
        <p:grpSpPr>
          <a:xfrm>
            <a:off x="0" y="5562720"/>
            <a:ext cx="6019920" cy="582480"/>
            <a:chOff x="0" y="5562720"/>
            <a:chExt cx="6019920" cy="582480"/>
          </a:xfrm>
        </p:grpSpPr>
        <p:pic>
          <p:nvPicPr>
            <p:cNvPr id="649" name="Picture 16" descr=""/>
            <p:cNvPicPr/>
            <p:nvPr/>
          </p:nvPicPr>
          <p:blipFill>
            <a:blip r:embed="rId4"/>
            <a:stretch/>
          </p:blipFill>
          <p:spPr>
            <a:xfrm>
              <a:off x="0" y="5562720"/>
              <a:ext cx="601992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17" descr=""/>
            <p:cNvPicPr/>
            <p:nvPr/>
          </p:nvPicPr>
          <p:blipFill>
            <a:blip r:embed="rId5"/>
            <a:stretch/>
          </p:blipFill>
          <p:spPr>
            <a:xfrm>
              <a:off x="4038840" y="5867640"/>
              <a:ext cx="1981080" cy="27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Rectangle 18"/>
          <p:cNvSpPr/>
          <p:nvPr/>
        </p:nvSpPr>
        <p:spPr>
          <a:xfrm>
            <a:off x="1219320" y="1447920"/>
            <a:ext cx="1523880" cy="38088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0"/>
          <p:cNvSpPr/>
          <p:nvPr/>
        </p:nvSpPr>
        <p:spPr>
          <a:xfrm>
            <a:off x="6090480" y="5409000"/>
            <a:ext cx="19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r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1"/>
          <p:cNvSpPr/>
          <p:nvPr/>
        </p:nvSpPr>
        <p:spPr>
          <a:xfrm>
            <a:off x="7826400" y="540900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25"/>
          <p:cNvGrpSpPr/>
          <p:nvPr/>
        </p:nvGrpSpPr>
        <p:grpSpPr>
          <a:xfrm>
            <a:off x="6709680" y="3314520"/>
            <a:ext cx="1152360" cy="2931840"/>
            <a:chOff x="6709680" y="3314520"/>
            <a:chExt cx="1152360" cy="2931840"/>
          </a:xfrm>
        </p:grpSpPr>
        <p:sp>
          <p:nvSpPr>
            <p:cNvPr id="655" name="Rectangle 26"/>
            <p:cNvSpPr/>
            <p:nvPr/>
          </p:nvSpPr>
          <p:spPr>
            <a:xfrm rot="19081800">
              <a:off x="6677640" y="3670920"/>
              <a:ext cx="1207800" cy="3682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ength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27"/>
            <p:cNvSpPr/>
            <p:nvPr/>
          </p:nvSpPr>
          <p:spPr>
            <a:xfrm rot="19040400">
              <a:off x="6839640" y="5576400"/>
              <a:ext cx="1034280" cy="3682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hort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6419-89E9-45AF-9383-116F4BE98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ructure Revi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304920" y="1295280"/>
            <a:ext cx="8534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directed beam sear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teral deletions attempted only from clauses marked for short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teral additions attempted only for clauses marked for length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is much faster since search space is constrain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miting the clauses considered for upd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stricting the type of updates allow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591B-3F5D-4BED-9C10-91AD12067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w Clause Discove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Relational Pathfinding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Richards &amp; Mooney, 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4"/>
          <p:cNvSpPr/>
          <p:nvPr/>
        </p:nvSpPr>
        <p:spPr>
          <a:xfrm>
            <a:off x="1827360" y="3048120"/>
            <a:ext cx="1295280" cy="68580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1904400" y="312408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6"/>
          <p:cNvSpPr/>
          <p:nvPr/>
        </p:nvSpPr>
        <p:spPr>
          <a:xfrm>
            <a:off x="5195880" y="3048120"/>
            <a:ext cx="1447920" cy="68580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5257800" y="312408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p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8"/>
          <p:cNvSpPr/>
          <p:nvPr/>
        </p:nvSpPr>
        <p:spPr>
          <a:xfrm>
            <a:off x="3198960" y="4800600"/>
            <a:ext cx="1676160" cy="68580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3198960" y="4890960"/>
            <a:ext cx="18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d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10"/>
          <p:cNvSpPr/>
          <p:nvPr/>
        </p:nvSpPr>
        <p:spPr>
          <a:xfrm>
            <a:off x="5942160" y="4800600"/>
            <a:ext cx="1752480" cy="68580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6020280" y="489096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n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1" name="AutoShape 12"/>
          <p:cNvCxnSpPr>
            <a:stCxn id="663" idx="6"/>
            <a:endCxn id="665" idx="2"/>
          </p:cNvCxnSpPr>
          <p:nvPr/>
        </p:nvCxnSpPr>
        <p:spPr>
          <a:xfrm>
            <a:off x="3136680" y="3390480"/>
            <a:ext cx="2045160" cy="108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672" name="AutoShape 13"/>
          <p:cNvCxnSpPr>
            <a:stCxn id="663" idx="4"/>
            <a:endCxn id="667" idx="1"/>
          </p:cNvCxnSpPr>
          <p:nvPr/>
        </p:nvCxnSpPr>
        <p:spPr>
          <a:xfrm>
            <a:off x="2475000" y="3747960"/>
            <a:ext cx="970560" cy="113904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673" name="AutoShape 14"/>
          <p:cNvCxnSpPr>
            <a:stCxn id="667" idx="7"/>
            <a:endCxn id="665" idx="4"/>
          </p:cNvCxnSpPr>
          <p:nvPr/>
        </p:nvCxnSpPr>
        <p:spPr>
          <a:xfrm flipV="1">
            <a:off x="4628880" y="3747600"/>
            <a:ext cx="1291320" cy="113904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674" name="AutoShape 15"/>
          <p:cNvCxnSpPr>
            <a:stCxn id="665" idx="5"/>
            <a:endCxn id="669" idx="0"/>
          </p:cNvCxnSpPr>
          <p:nvPr/>
        </p:nvCxnSpPr>
        <p:spPr>
          <a:xfrm>
            <a:off x="6431040" y="3647880"/>
            <a:ext cx="388080" cy="113868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sp>
        <p:nvSpPr>
          <p:cNvPr id="675" name="Text Box 16"/>
          <p:cNvSpPr/>
          <p:nvPr/>
        </p:nvSpPr>
        <p:spPr>
          <a:xfrm>
            <a:off x="3198960" y="29718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ed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7"/>
          <p:cNvSpPr/>
          <p:nvPr/>
        </p:nvSpPr>
        <p:spPr>
          <a:xfrm rot="3025800">
            <a:off x="2214720" y="4269240"/>
            <a:ext cx="13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8"/>
          <p:cNvSpPr/>
          <p:nvPr/>
        </p:nvSpPr>
        <p:spPr>
          <a:xfrm rot="19152600">
            <a:off x="4875480" y="4190760"/>
            <a:ext cx="13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9"/>
          <p:cNvSpPr/>
          <p:nvPr/>
        </p:nvSpPr>
        <p:spPr>
          <a:xfrm rot="4203000">
            <a:off x="6238440" y="389304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0"/>
          <p:cNvSpPr/>
          <p:nvPr/>
        </p:nvSpPr>
        <p:spPr>
          <a:xfrm>
            <a:off x="1357920" y="2067120"/>
            <a:ext cx="5878800" cy="88236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ctor(brando) Director(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godFather, brando) Movie(godFather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rainMaker, coppola) WorkedFor(brando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21"/>
          <p:cNvGrpSpPr/>
          <p:nvPr/>
        </p:nvGrpSpPr>
        <p:grpSpPr>
          <a:xfrm>
            <a:off x="2513160" y="3733920"/>
            <a:ext cx="3429000" cy="1143000"/>
            <a:chOff x="2513160" y="3733920"/>
            <a:chExt cx="3429000" cy="1143000"/>
          </a:xfrm>
        </p:grpSpPr>
        <p:sp>
          <p:nvSpPr>
            <p:cNvPr id="681" name="Line 22"/>
            <p:cNvSpPr/>
            <p:nvPr/>
          </p:nvSpPr>
          <p:spPr>
            <a:xfrm>
              <a:off x="2513160" y="3733920"/>
              <a:ext cx="914400" cy="114300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23"/>
            <p:cNvSpPr/>
            <p:nvPr/>
          </p:nvSpPr>
          <p:spPr>
            <a:xfrm flipH="1">
              <a:off x="4646880" y="3733920"/>
              <a:ext cx="1295280" cy="114300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3" name="Picture 24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8839080" cy="426960"/>
          </a:xfrm>
          <a:prstGeom prst="rect">
            <a:avLst/>
          </a:prstGeom>
          <a:ln w="0">
            <a:noFill/>
          </a:ln>
        </p:spPr>
      </p:pic>
      <p:grpSp>
        <p:nvGrpSpPr>
          <p:cNvPr id="684" name="Group 25"/>
          <p:cNvGrpSpPr/>
          <p:nvPr/>
        </p:nvGrpSpPr>
        <p:grpSpPr>
          <a:xfrm>
            <a:off x="3886200" y="5867280"/>
            <a:ext cx="2793960" cy="787680"/>
            <a:chOff x="3886200" y="5867280"/>
            <a:chExt cx="2793960" cy="787680"/>
          </a:xfrm>
        </p:grpSpPr>
        <p:pic>
          <p:nvPicPr>
            <p:cNvPr id="685" name="Picture 26" descr=""/>
            <p:cNvPicPr/>
            <p:nvPr/>
          </p:nvPicPr>
          <p:blipFill>
            <a:blip r:embed="rId2"/>
            <a:stretch/>
          </p:blipFill>
          <p:spPr>
            <a:xfrm>
              <a:off x="3886200" y="6172200"/>
              <a:ext cx="279396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AutoShape 27"/>
            <p:cNvSpPr/>
            <p:nvPr/>
          </p:nvSpPr>
          <p:spPr>
            <a:xfrm rot="5400000">
              <a:off x="5105160" y="4647960"/>
              <a:ext cx="304920" cy="27432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Text Box 28"/>
          <p:cNvSpPr/>
          <p:nvPr/>
        </p:nvSpPr>
        <p:spPr>
          <a:xfrm>
            <a:off x="3200400" y="29718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rked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690F-B3FC-43A1-B870-2BD0B0415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ight Rev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6769080" y="2821680"/>
            <a:ext cx="1406520" cy="9601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MD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4"/>
          <p:cNvGrpSpPr/>
          <p:nvPr/>
        </p:nvGrpSpPr>
        <p:grpSpPr>
          <a:xfrm>
            <a:off x="2381400" y="1917720"/>
            <a:ext cx="4387320" cy="1384200"/>
            <a:chOff x="2381400" y="1917720"/>
            <a:chExt cx="4387320" cy="1384200"/>
          </a:xfrm>
        </p:grpSpPr>
        <p:sp>
          <p:nvSpPr>
            <p:cNvPr id="692" name="Rectangle 5"/>
            <p:cNvSpPr/>
            <p:nvPr/>
          </p:nvSpPr>
          <p:spPr>
            <a:xfrm>
              <a:off x="2381400" y="2235240"/>
              <a:ext cx="3262680" cy="5821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6"/>
            <p:cNvSpPr/>
            <p:nvPr/>
          </p:nvSpPr>
          <p:spPr>
            <a:xfrm>
              <a:off x="3956400" y="1917720"/>
              <a:ext cx="337320" cy="264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4" name="AutoShape 7"/>
            <p:cNvCxnSpPr>
              <a:stCxn id="690" idx="1"/>
              <a:endCxn id="692" idx="3"/>
            </p:cNvCxnSpPr>
            <p:nvPr/>
          </p:nvCxnSpPr>
          <p:spPr>
            <a:xfrm rot="10800000">
              <a:off x="5643360" y="2525760"/>
              <a:ext cx="1125360" cy="776160"/>
            </a:xfrm>
            <a:prstGeom prst="curvedConnector5">
              <a:avLst>
                <a:gd name="adj1" fmla="val 49984"/>
                <a:gd name="adj2" fmla="val 49976"/>
                <a:gd name="adj3" fmla="val 49984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695" name="Group 8"/>
          <p:cNvGrpSpPr/>
          <p:nvPr/>
        </p:nvGrpSpPr>
        <p:grpSpPr>
          <a:xfrm>
            <a:off x="2324160" y="3300840"/>
            <a:ext cx="4444920" cy="1059840"/>
            <a:chOff x="2324160" y="3300840"/>
            <a:chExt cx="4444920" cy="1059840"/>
          </a:xfrm>
        </p:grpSpPr>
        <p:sp>
          <p:nvSpPr>
            <p:cNvPr id="696" name="Rectangle 9"/>
            <p:cNvSpPr/>
            <p:nvPr/>
          </p:nvSpPr>
          <p:spPr>
            <a:xfrm>
              <a:off x="2324160" y="3778200"/>
              <a:ext cx="3263400" cy="582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R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10"/>
            <p:cNvSpPr/>
            <p:nvPr/>
          </p:nvSpPr>
          <p:spPr>
            <a:xfrm>
              <a:off x="3955680" y="3460680"/>
              <a:ext cx="337320" cy="264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8" name="AutoShape 11"/>
            <p:cNvCxnSpPr>
              <a:stCxn id="690" idx="1"/>
              <a:endCxn id="696" idx="3"/>
            </p:cNvCxnSpPr>
            <p:nvPr/>
          </p:nvCxnSpPr>
          <p:spPr>
            <a:xfrm flipV="1" rot="10800000">
              <a:off x="5586840" y="3300840"/>
              <a:ext cx="1182240" cy="768600"/>
            </a:xfrm>
            <a:prstGeom prst="curvedConnector5">
              <a:avLst>
                <a:gd name="adj1" fmla="val 49984"/>
                <a:gd name="adj2" fmla="val 50000"/>
                <a:gd name="adj3" fmla="val 49984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sp>
        <p:nvSpPr>
          <p:cNvPr id="699" name="AutoShape 13"/>
          <p:cNvSpPr/>
          <p:nvPr/>
        </p:nvSpPr>
        <p:spPr>
          <a:xfrm>
            <a:off x="3956040" y="2870280"/>
            <a:ext cx="338040" cy="264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4"/>
          <p:cNvSpPr/>
          <p:nvPr/>
        </p:nvSpPr>
        <p:spPr>
          <a:xfrm>
            <a:off x="685800" y="304812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ovie(T,A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WorkedFor(A,B) → Movie(T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6"/>
          <p:cNvSpPr/>
          <p:nvPr/>
        </p:nvSpPr>
        <p:spPr>
          <a:xfrm>
            <a:off x="3962520" y="4419720"/>
            <a:ext cx="338040" cy="264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7"/>
          <p:cNvSpPr/>
          <p:nvPr/>
        </p:nvSpPr>
        <p:spPr>
          <a:xfrm>
            <a:off x="304920" y="4648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ovie(T,A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WorkedFor(A,B)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Relative(A,B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→ Movie(T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9"/>
          <p:cNvSpPr/>
          <p:nvPr/>
        </p:nvSpPr>
        <p:spPr>
          <a:xfrm>
            <a:off x="0" y="1447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ublication(T,A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AdvisedBy(A,B) → Publication(T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108"/>
          <p:cNvGrpSpPr/>
          <p:nvPr/>
        </p:nvGrpSpPr>
        <p:grpSpPr>
          <a:xfrm>
            <a:off x="2362320" y="5092560"/>
            <a:ext cx="3263760" cy="900360"/>
            <a:chOff x="2362320" y="5092560"/>
            <a:chExt cx="3263760" cy="900360"/>
          </a:xfrm>
        </p:grpSpPr>
        <p:sp>
          <p:nvSpPr>
            <p:cNvPr id="705" name="Rectangle 9"/>
            <p:cNvSpPr/>
            <p:nvPr/>
          </p:nvSpPr>
          <p:spPr>
            <a:xfrm>
              <a:off x="2362320" y="5410440"/>
              <a:ext cx="3263760" cy="582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LN Weight 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10"/>
            <p:cNvSpPr/>
            <p:nvPr/>
          </p:nvSpPr>
          <p:spPr>
            <a:xfrm>
              <a:off x="3994200" y="5092560"/>
              <a:ext cx="337320" cy="264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109"/>
          <p:cNvGrpSpPr/>
          <p:nvPr/>
        </p:nvGrpSpPr>
        <p:grpSpPr>
          <a:xfrm>
            <a:off x="228600" y="6095880"/>
            <a:ext cx="7924680" cy="627120"/>
            <a:chOff x="228600" y="6095880"/>
            <a:chExt cx="7924680" cy="627120"/>
          </a:xfrm>
        </p:grpSpPr>
        <p:sp>
          <p:nvSpPr>
            <p:cNvPr id="708" name="AutoShape 10"/>
            <p:cNvSpPr/>
            <p:nvPr/>
          </p:nvSpPr>
          <p:spPr>
            <a:xfrm>
              <a:off x="3962160" y="6095880"/>
              <a:ext cx="337320" cy="264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7"/>
            <p:cNvSpPr/>
            <p:nvPr/>
          </p:nvSpPr>
          <p:spPr>
            <a:xfrm>
              <a:off x="228600" y="632412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50"/>
                  </a:solidFill>
                  <a:latin typeface="Times New Roman"/>
                </a:rPr>
                <a:t>0.8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  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Relative(A,B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8B20-51D5-4928-9F98-A7BC646A2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s: Domai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W-C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a about members of the UW CSE departm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dicates include Professor, Student, AdvisedBy, TaughtBy, Publication, etc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a about 20 mov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dicates include Actor, Director, Movie, WorkedFor, Genre, etc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ntity relations from the original WebKB domain         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Craven et al. 1998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dicates include Faculty, Student, Project, CourseTA, etc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CAA3-7222-4030-9097-D86FB79C5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ataset Statist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5" name="Text Box 3"/>
          <p:cNvSpPr/>
          <p:nvPr/>
        </p:nvSpPr>
        <p:spPr>
          <a:xfrm>
            <a:off x="479520" y="1297080"/>
            <a:ext cx="54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s organized a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ega-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685800" y="1748520"/>
            <a:ext cx="7696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mega-example contains information about a group of related ent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ga-examples are independent and disconnected from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380880" y="3809880"/>
          <a:ext cx="8305920" cy="2703600"/>
        </p:xfrm>
        <a:graphic>
          <a:graphicData uri="http://schemas.openxmlformats.org/drawingml/2006/table">
            <a:tbl>
              <a:tblPr/>
              <a:tblGrid>
                <a:gridCol w="1209960"/>
                <a:gridCol w="1206360"/>
                <a:gridCol w="1208160"/>
                <a:gridCol w="1023840"/>
                <a:gridCol w="1219320"/>
                <a:gridCol w="1218960"/>
                <a:gridCol w="12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Mega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True Gliter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 # Gliter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6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-C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6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,8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K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8,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nually Developed Source KB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85800" y="15238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W-KB is a hand-built knowledge base (set of clauses) for the UW-CSE dom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used as a source domain, transfer learning is a form of theory refinement that also includes mapping to a new domain with a different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E0A1-B7DE-478B-8E2A-E4E4B3789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1812-6D7A-4436-8EBA-680C5E338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stems Compar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A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mplete transfer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crK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lgorithm of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Kok &amp; Domingos (200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arning from scr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K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lgorithm of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Kok &amp; Domingos (200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orming transfer, using M-TAMAR to produce a ma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0F66-D6F5-4E20-80B5-10F757170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ilar Research Proble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Task Learning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Caruana, 19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earn multiple tasks simultaneously; each one helped by the other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-Long Learning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Thrun, 19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ransfer learning from a number of prior source problems, picking the correct source problems to us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2532-001C-49F2-BAE9-F45239050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thodology: Training &amp; Tes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learning curves using  leave-one-out  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ach run keeps one mega-example for testing and trains on  the remaining ones, provided one by on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urves are averages over all run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d learned MLN by performing inference for all gliterals of each predicate in turn, providing the rest as evidence, and averaging the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6623-6323-4F97-99AB-90EDADB19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thodology: Metrics</a:t>
            </a:r>
            <a:br>
              <a:rPr sz="36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Kok &amp; Domingos (2005)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nditional Log Likeli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log of the probability predicted by the model that a gliteral has the correct truth value given in the data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veraged over all test gliteral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rea under the precision recall (PR)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duce a PR curve by varying the probability threshold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mpute the area under this curv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225A-2288-41BA-85F4-C356AFBCA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trics to Summarize Curv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Ratio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Cohen et al. 200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ives overall idea of improvement achieved over learning from scratch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733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2263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DF45-9AEF-4EE6-B2D8-02197A665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Scenario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/target pairs tes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ebKB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MD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W-CS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MD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W-KB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MD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ebKB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UW-C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MDB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UW-C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KB not used as a target since one mega-example is sufficient to learn an accurate theory for its limited predicate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50BE-2037-4CC9-8D69-02467987C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8" name="Object 2"/>
          <p:cNvGraphicFramePr/>
          <p:nvPr/>
        </p:nvGraphicFramePr>
        <p:xfrm>
          <a:off x="3240" y="457200"/>
          <a:ext cx="9140760" cy="624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457200"/>
                    <a:ext cx="914076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0" name="Group 7"/>
          <p:cNvGrpSpPr/>
          <p:nvPr/>
        </p:nvGrpSpPr>
        <p:grpSpPr>
          <a:xfrm>
            <a:off x="0" y="1368720"/>
            <a:ext cx="8229600" cy="4617720"/>
            <a:chOff x="0" y="1368720"/>
            <a:chExt cx="8229600" cy="4617720"/>
          </a:xfrm>
        </p:grpSpPr>
        <p:sp>
          <p:nvSpPr>
            <p:cNvPr id="741" name="Line 3"/>
            <p:cNvSpPr/>
            <p:nvPr/>
          </p:nvSpPr>
          <p:spPr>
            <a:xfrm>
              <a:off x="0" y="3657600"/>
              <a:ext cx="8229600" cy="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4"/>
            <p:cNvSpPr/>
            <p:nvPr/>
          </p:nvSpPr>
          <p:spPr>
            <a:xfrm rot="16200000">
              <a:off x="-770760" y="22921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sitive Trans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6"/>
            <p:cNvSpPr/>
            <p:nvPr/>
          </p:nvSpPr>
          <p:spPr>
            <a:xfrm rot="16200000">
              <a:off x="-814320" y="462060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egative Trans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50A4-20C1-43AD-B75D-4084B7B5D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Object 2"/>
          <p:cNvGraphicFramePr/>
          <p:nvPr/>
        </p:nvGraphicFramePr>
        <p:xfrm>
          <a:off x="0" y="457200"/>
          <a:ext cx="9140760" cy="624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076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7" name="Group 8"/>
          <p:cNvGrpSpPr/>
          <p:nvPr/>
        </p:nvGrpSpPr>
        <p:grpSpPr>
          <a:xfrm>
            <a:off x="0" y="1140120"/>
            <a:ext cx="8229600" cy="4617720"/>
            <a:chOff x="0" y="1140120"/>
            <a:chExt cx="8229600" cy="4617720"/>
          </a:xfrm>
        </p:grpSpPr>
        <p:sp>
          <p:nvSpPr>
            <p:cNvPr id="748" name="Line 9"/>
            <p:cNvSpPr/>
            <p:nvPr/>
          </p:nvSpPr>
          <p:spPr>
            <a:xfrm>
              <a:off x="0" y="3429000"/>
              <a:ext cx="8229600" cy="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0"/>
            <p:cNvSpPr/>
            <p:nvPr/>
          </p:nvSpPr>
          <p:spPr>
            <a:xfrm rot="16200000">
              <a:off x="-770760" y="20635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sitive Trans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11"/>
            <p:cNvSpPr/>
            <p:nvPr/>
          </p:nvSpPr>
          <p:spPr>
            <a:xfrm rot="16200000">
              <a:off x="-814320" y="439200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egative Trans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DCA6-3EE0-4128-981F-83BC4754E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Learning Curv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753" name="Picture 3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11812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4"/>
          <p:cNvSpPr/>
          <p:nvPr/>
        </p:nvSpPr>
        <p:spPr>
          <a:xfrm>
            <a:off x="3505320" y="4944240"/>
            <a:ext cx="3343320" cy="10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K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KD, Han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MAR, Han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K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M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3218-3F0B-46DF-96B5-D1890798D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6" name="Object 2"/>
          <p:cNvGraphicFramePr/>
          <p:nvPr/>
        </p:nvGraphicFramePr>
        <p:xfrm>
          <a:off x="0" y="457200"/>
          <a:ext cx="9144000" cy="625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8" name="Group 3"/>
          <p:cNvGrpSpPr/>
          <p:nvPr/>
        </p:nvGrpSpPr>
        <p:grpSpPr>
          <a:xfrm>
            <a:off x="1523880" y="3976560"/>
            <a:ext cx="6324840" cy="854280"/>
            <a:chOff x="1523880" y="3976560"/>
            <a:chExt cx="6324840" cy="854280"/>
          </a:xfrm>
        </p:grpSpPr>
        <p:sp>
          <p:nvSpPr>
            <p:cNvPr id="759" name="Rectangle 4"/>
            <p:cNvSpPr/>
            <p:nvPr/>
          </p:nvSpPr>
          <p:spPr>
            <a:xfrm>
              <a:off x="1523880" y="4495680"/>
              <a:ext cx="609840" cy="335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8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5"/>
            <p:cNvSpPr/>
            <p:nvPr/>
          </p:nvSpPr>
          <p:spPr>
            <a:xfrm>
              <a:off x="2971800" y="4495680"/>
              <a:ext cx="609480" cy="335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.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6"/>
            <p:cNvSpPr/>
            <p:nvPr/>
          </p:nvSpPr>
          <p:spPr>
            <a:xfrm>
              <a:off x="4343400" y="4495680"/>
              <a:ext cx="609480" cy="335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.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7"/>
            <p:cNvSpPr/>
            <p:nvPr/>
          </p:nvSpPr>
          <p:spPr>
            <a:xfrm>
              <a:off x="5791320" y="4495680"/>
              <a:ext cx="609480" cy="335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.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8"/>
            <p:cNvSpPr/>
            <p:nvPr/>
          </p:nvSpPr>
          <p:spPr>
            <a:xfrm>
              <a:off x="7238880" y="4495680"/>
              <a:ext cx="609840" cy="335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9"/>
            <p:cNvSpPr/>
            <p:nvPr/>
          </p:nvSpPr>
          <p:spPr>
            <a:xfrm>
              <a:off x="2183040" y="3976560"/>
              <a:ext cx="5199120" cy="3988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umber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econds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to find best mapping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uture Research Iss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685440" y="152388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realistic application doma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 to other SRL models (e.g. SLPs, BLP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flexible predicate 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low argument ordering or arity to chang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ap 1 predicate to conjunction of  &gt; 1 predicat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dvisedBy(X,Y)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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Movie(M,X)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Director(M,Y)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8626-892F-4018-8B8D-462ACC173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ultiple Source Transf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fro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rce problems to a given target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ich clauses to map and revise from different source ML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E634-B3B9-4A22-8886-D4BBE8F6A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A134-30EA-4A2B-9C15-0E96EE7AB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gical Paradig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knowledge and data in binary symbolic logic such as First Order Predicate Calcul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Rich representation that handles arbitrary sets of objects, with properties, relations, quantifi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ble to handle uncertain knowledge and probabilistic reaso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urce Sele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useful source domains from a large number of previously learned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ly, picking source domain(s) is sub-linear in the number of previously learned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2910-A7FC-4ED3-B18C-4F6EFD636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8B8F-6FAA-4F37-9BB3-BE9FFCC76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TAMAR, a complete transfer system for SRL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aps relational knowledge in the source to the target domai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vises the mapped knowledge to further improve accuracy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ed experimentally that TAMAR improves speed and accuracy over existing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estions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151920" y="1676520"/>
            <a:ext cx="8991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ed papers a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</a:rPr>
              <a:t>http://www.cs.utexas.edu/users/ml/publication/transfer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9015-C69A-4EE8-8256-3B2AE3E53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5DE8-ED8D-4A2F-AF0C-5983AAD53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hy MLNs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 the expressivity of first-order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an apply insights from IL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 the flexibility of probabilistic graphical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an deal with noisy &amp; uncertain environme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irecte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o not need to learn causal directio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ume all other SRL models that are special cases of first-order logic or probabilistic graphical models [Richardson 04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ly available software package: Alche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269B-19B3-45E1-98AB-A86126E28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dicate Mapping Com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cular source predicate can be mapped to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rget predicates in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is makes our approach context sensitiv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sca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 the worst-case, the number of mappings is exponential in the number of predicat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number of predicates in a clause is generally much smaller than the total number of predicates in a domai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3CC6-C34A-49C6-856F-0A5FC09CF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ationship to Structure Mapping Engine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Falkenheiner et al., 1989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stem for mapping relations using analogy based on a psychological the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s are evaluated based only on the structural relational similarity between the two dom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consider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apped knowledge in the target when determining the preferred ma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s a single global mapping for a given source &amp; tar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4A7D-F959-4C49-B3BE-3ABF48FA7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ummary of Methodolog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MLNs for each point on learning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inference over learn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ize inference results using 2 metrics: CLL and AUC, thus producing two learning cu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ize each learning curve using transfer ratio and percentage improvement from one mega-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AAF7-2417-45DA-ADB0-D91174C91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3" name="Object 2"/>
          <p:cNvGraphicFramePr/>
          <p:nvPr/>
        </p:nvGraphicFramePr>
        <p:xfrm>
          <a:off x="0" y="608040"/>
          <a:ext cx="9140760" cy="624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8040"/>
                    <a:ext cx="914076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0AA9-1274-4465-B5FA-0B3975827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Object 2"/>
          <p:cNvGraphicFramePr/>
          <p:nvPr/>
        </p:nvGraphicFramePr>
        <p:xfrm>
          <a:off x="0" y="608040"/>
          <a:ext cx="9140760" cy="624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8040"/>
                    <a:ext cx="914076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6887-F7C7-4338-A772-6B4EAEF09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Paradig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knowledge and data as a fixed set of random variables with a joint probability distribu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andles uncertain knowledge and probabilistic reaso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ble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arbitrary sets of objects, with properties, relations, quantifi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772C-5290-441B-8A12-CF055B21C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istical Relational Learning (SRL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machine learning methods assume i.i.d. examples represented as fixed-length feature ve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domains require learning and making inferences about unbounded sets of entities that are richly relationally conn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L methods attempt to integrate methods from predicate logic and probabilistic graphical models to handle such structured, multi-relational da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88FE-CBC7-4C38-9809-F2A51A4F9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152280" y="1295280"/>
            <a:ext cx="8763120" cy="281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49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istical Relational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1752480"/>
          <a:ext cx="1143000" cy="124488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828800" y="1773360"/>
          <a:ext cx="1066680" cy="8650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867280" y="1752480"/>
          <a:ext cx="2743200" cy="2103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dFa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dFa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dFa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eet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200400" y="1752480"/>
          <a:ext cx="2286000" cy="13114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56"/>
          <p:cNvSpPr/>
          <p:nvPr/>
        </p:nvSpPr>
        <p:spPr>
          <a:xfrm>
            <a:off x="457200" y="1371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7"/>
          <p:cNvSpPr/>
          <p:nvPr/>
        </p:nvSpPr>
        <p:spPr>
          <a:xfrm>
            <a:off x="5867280" y="1371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8"/>
          <p:cNvSpPr/>
          <p:nvPr/>
        </p:nvSpPr>
        <p:spPr>
          <a:xfrm>
            <a:off x="1676520" y="1371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9"/>
          <p:cNvSpPr/>
          <p:nvPr/>
        </p:nvSpPr>
        <p:spPr>
          <a:xfrm>
            <a:off x="342900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orked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0"/>
          <p:cNvSpPr/>
          <p:nvPr/>
        </p:nvSpPr>
        <p:spPr>
          <a:xfrm>
            <a:off x="457200" y="3733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Relatio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1"/>
          <p:cNvSpPr/>
          <p:nvPr/>
        </p:nvSpPr>
        <p:spPr>
          <a:xfrm>
            <a:off x="2895480" y="4114800"/>
            <a:ext cx="3886200" cy="1271520"/>
          </a:xfrm>
          <a:prstGeom prst="downArrow">
            <a:avLst>
              <a:gd name="adj1" fmla="val 52630"/>
              <a:gd name="adj2" fmla="val 70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2"/>
          <p:cNvSpPr/>
          <p:nvPr/>
        </p:nvSpPr>
        <p:spPr>
          <a:xfrm>
            <a:off x="3352680" y="5562720"/>
            <a:ext cx="533520" cy="380880"/>
          </a:xfrm>
          <a:prstGeom prst="ellipse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63"/>
          <p:cNvSpPr/>
          <p:nvPr/>
        </p:nvSpPr>
        <p:spPr>
          <a:xfrm>
            <a:off x="5181480" y="6172200"/>
            <a:ext cx="533520" cy="380880"/>
          </a:xfrm>
          <a:prstGeom prst="ellipse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4"/>
          <p:cNvSpPr/>
          <p:nvPr/>
        </p:nvSpPr>
        <p:spPr>
          <a:xfrm>
            <a:off x="4114800" y="6248520"/>
            <a:ext cx="533520" cy="380880"/>
          </a:xfrm>
          <a:prstGeom prst="ellipse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5"/>
          <p:cNvSpPr/>
          <p:nvPr/>
        </p:nvSpPr>
        <p:spPr>
          <a:xfrm>
            <a:off x="4495680" y="5486400"/>
            <a:ext cx="533520" cy="380880"/>
          </a:xfrm>
          <a:prstGeom prst="ellipse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6"/>
          <p:cNvSpPr/>
          <p:nvPr/>
        </p:nvSpPr>
        <p:spPr>
          <a:xfrm>
            <a:off x="5257800" y="5562720"/>
            <a:ext cx="533520" cy="380880"/>
          </a:xfrm>
          <a:prstGeom prst="ellipse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7"/>
          <p:cNvSpPr/>
          <p:nvPr/>
        </p:nvSpPr>
        <p:spPr>
          <a:xfrm>
            <a:off x="6477120" y="6095880"/>
            <a:ext cx="533160" cy="381240"/>
          </a:xfrm>
          <a:prstGeom prst="ellipse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8"/>
          <p:cNvSpPr/>
          <p:nvPr/>
        </p:nvSpPr>
        <p:spPr>
          <a:xfrm>
            <a:off x="3733920" y="5943600"/>
            <a:ext cx="457200" cy="3808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9"/>
          <p:cNvSpPr/>
          <p:nvPr/>
        </p:nvSpPr>
        <p:spPr>
          <a:xfrm flipV="1">
            <a:off x="3886200" y="5638680"/>
            <a:ext cx="609480" cy="763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0"/>
          <p:cNvSpPr/>
          <p:nvPr/>
        </p:nvSpPr>
        <p:spPr>
          <a:xfrm flipV="1">
            <a:off x="4572000" y="5867280"/>
            <a:ext cx="762120" cy="4572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1"/>
          <p:cNvSpPr/>
          <p:nvPr/>
        </p:nvSpPr>
        <p:spPr>
          <a:xfrm>
            <a:off x="4952880" y="5791320"/>
            <a:ext cx="304920" cy="4572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2"/>
          <p:cNvSpPr/>
          <p:nvPr/>
        </p:nvSpPr>
        <p:spPr>
          <a:xfrm>
            <a:off x="5486400" y="5943600"/>
            <a:ext cx="0" cy="2286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3"/>
          <p:cNvSpPr/>
          <p:nvPr/>
        </p:nvSpPr>
        <p:spPr>
          <a:xfrm flipH="1" flipV="1">
            <a:off x="5790960" y="5791320"/>
            <a:ext cx="685800" cy="4572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4"/>
          <p:cNvSpPr/>
          <p:nvPr/>
        </p:nvSpPr>
        <p:spPr>
          <a:xfrm flipH="1">
            <a:off x="5714640" y="6248520"/>
            <a:ext cx="762120" cy="759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5"/>
          <p:cNvSpPr/>
          <p:nvPr/>
        </p:nvSpPr>
        <p:spPr>
          <a:xfrm>
            <a:off x="609480" y="5334120"/>
            <a:ext cx="7925040" cy="137160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6"/>
          <p:cNvSpPr/>
          <p:nvPr/>
        </p:nvSpPr>
        <p:spPr>
          <a:xfrm>
            <a:off x="685800" y="541008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abilistic Graphic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9"/>
          <p:cNvGrpSpPr/>
          <p:nvPr/>
        </p:nvGrpSpPr>
        <p:grpSpPr>
          <a:xfrm>
            <a:off x="1371600" y="1295280"/>
            <a:ext cx="7569360" cy="2324160"/>
            <a:chOff x="1371600" y="1295280"/>
            <a:chExt cx="7569360" cy="2324160"/>
          </a:xfrm>
        </p:grpSpPr>
        <p:sp>
          <p:nvSpPr>
            <p:cNvPr id="159" name="Freeform 85"/>
            <p:cNvSpPr/>
            <p:nvPr/>
          </p:nvSpPr>
          <p:spPr>
            <a:xfrm>
              <a:off x="3949560" y="2286000"/>
              <a:ext cx="4775400" cy="1092240"/>
            </a:xfrm>
            <a:prstGeom prst="pie">
              <a:avLst/>
            </a:prstGeom>
            <a:noFill/>
            <a:ln w="284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88"/>
            <p:cNvGrpSpPr/>
            <p:nvPr/>
          </p:nvGrpSpPr>
          <p:grpSpPr>
            <a:xfrm>
              <a:off x="1371600" y="1295280"/>
              <a:ext cx="7569360" cy="2324160"/>
              <a:chOff x="1371600" y="1295280"/>
              <a:chExt cx="7569360" cy="2324160"/>
            </a:xfrm>
          </p:grpSpPr>
          <p:sp>
            <p:nvSpPr>
              <p:cNvPr id="161" name="Freeform 78"/>
              <p:cNvSpPr/>
              <p:nvPr/>
            </p:nvSpPr>
            <p:spPr>
              <a:xfrm>
                <a:off x="1371600" y="1295280"/>
                <a:ext cx="1917720" cy="774720"/>
              </a:xfrm>
              <a:prstGeom prst="pie">
                <a:avLst/>
              </a:prstGeom>
              <a:noFill/>
              <a:ln w="3168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79"/>
              <p:cNvSpPr/>
              <p:nvPr/>
            </p:nvSpPr>
            <p:spPr>
              <a:xfrm>
                <a:off x="1371600" y="2362320"/>
                <a:ext cx="1905120" cy="520560"/>
              </a:xfrm>
              <a:prstGeom prst="pie">
                <a:avLst/>
              </a:prstGeom>
              <a:noFill/>
              <a:ln w="284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80"/>
              <p:cNvSpPr/>
              <p:nvPr/>
            </p:nvSpPr>
            <p:spPr>
              <a:xfrm>
                <a:off x="2793960" y="1359000"/>
                <a:ext cx="2819520" cy="622080"/>
              </a:xfrm>
              <a:prstGeom prst="pie">
                <a:avLst/>
              </a:prstGeom>
              <a:noFill/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81"/>
              <p:cNvSpPr/>
              <p:nvPr/>
            </p:nvSpPr>
            <p:spPr>
              <a:xfrm>
                <a:off x="2311560" y="2057400"/>
                <a:ext cx="3454200" cy="800280"/>
              </a:xfrm>
              <a:prstGeom prst="pie">
                <a:avLst/>
              </a:prstGeom>
              <a:noFill/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82"/>
              <p:cNvSpPr/>
              <p:nvPr/>
            </p:nvSpPr>
            <p:spPr>
              <a:xfrm>
                <a:off x="5410080" y="1371600"/>
                <a:ext cx="3530880" cy="1638360"/>
              </a:xfrm>
              <a:prstGeom prst="pie">
                <a:avLst/>
              </a:prstGeom>
              <a:noFill/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84"/>
              <p:cNvSpPr/>
              <p:nvPr/>
            </p:nvSpPr>
            <p:spPr>
              <a:xfrm>
                <a:off x="4114800" y="1638360"/>
                <a:ext cx="4419720" cy="469800"/>
              </a:xfrm>
              <a:prstGeom prst="pie">
                <a:avLst/>
              </a:prstGeom>
              <a:noFill/>
              <a:ln w="3168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87"/>
              <p:cNvSpPr/>
              <p:nvPr/>
            </p:nvSpPr>
            <p:spPr>
              <a:xfrm>
                <a:off x="5638680" y="3124080"/>
                <a:ext cx="3009960" cy="495360"/>
              </a:xfrm>
              <a:prstGeom prst="pie">
                <a:avLst/>
              </a:prstGeom>
              <a:noFill/>
              <a:ln w="284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8-09-29T23:43:56Z</dcterms:modified>
  <cp:revision>116</cp:revision>
  <dc:subject/>
  <dc:title>Intelligent Information Retrieval and Web Search</dc:title>
</cp:coreProperties>
</file>