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59D-5570-4A0A-A83D-4B544F7C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697-D0CE-4AE6-8861-9BA881E06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61B7-CB23-401B-8C84-492BD066F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79F-11C5-4EA9-A0AC-377170F5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D39A-0CB3-42B9-9AD0-41BD14808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E0B7-5020-457F-8912-03EE79ED2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2AFA-1B7B-4CBE-B520-056F76D0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A69-2331-40C3-BC9F-D49A1B335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0CD-0877-4CF3-8D78-23430BDD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rewritten without changing mea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5900-1B70-49B8-B098-7F7C6CF0D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107-0186-4847-B377-FDDF4C79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08F0-AF17-4235-A32D-6908AA924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786-D3FC-4FDB-BC43-19C16F536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D6F3-31A9-46DA-99A5-3AA283D2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1FE-D790-45C4-ACFE-C30BAEB4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7319-59E9-474A-855B-18BA12E9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4B63-F5EE-4217-9EF6-BB647B91A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015A-F386-4CFC-876E-4C4F86EC2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650-E060-475B-8DAE-DDD9E1887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5F94-EB27-40AB-B5A4-A1987109D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CD1B-350E-4536-BD74-57002547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8A7-DA4F-44B0-BC60-B43B9C2C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6C02-398D-4E38-B832-65A60BF5D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D02-407C-489D-B91B-11DF5BFD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003-A871-4AF7-8C9B-D569890B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561C-6A4D-4996-BB4A-F526C5AD3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D0C-6E06-4F37-A056-6EBE052F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0C1E-D882-40E7-BDDC-1FA48DDC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7E90-4820-4322-8BAE-39BFC3324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5A3-6DF9-4579-BED1-A4E6B364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AB69-F3C6-4AB3-B78A-96DB3AB1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3FC-AF91-42F1-AD0D-79C8F669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E290-69FB-4CC4-999E-2700E77C5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B4A9-BCA8-426A-994A-4400D8056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02D3-6FF5-42DC-9919-FFD3B5F6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26A0-CD48-4937-9341-B5D849B8F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98C-619F-4AD6-8DBA-6A3F1469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14D-4EF0-461B-B550-6DF2AA599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2C0-5A5B-4B6F-B458-7D98770D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D21-B53E-42AC-A841-A08B91B1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FC24-81E4-4B6C-90BC-75A12842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13E-7871-44FC-B138-3D404FBE1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AAF5-4BDB-480B-AF3B-92726199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00B9-55AD-4133-AE02-C90D2719A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348E-7CE3-4649-9008-3278D409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06D5-B652-45A1-BDE1-39534BEE2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9D9-BD97-48C8-9934-0F58F828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6DD3-895E-408E-881B-0FEBB8CFB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EAF2-4769-458F-8F6E-3A47A0B2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F92-E238-45A3-A7FA-81925434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AE3-B44E-4771-9979-49ECE2D77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92F-D401-458C-8196-9808F5CE9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619-8300-41C0-9FCA-2D77031F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F51D-3ABF-47DB-9A3F-5EE11C254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067-80F2-4B7E-B994-39C3C8FB5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670-4E74-4E32-9495-9F7A5439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18F-422E-48F0-83D5-61DCEEC4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BCA8-6E9F-4894-ADD4-76908164A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4134-CF92-4B81-8070-B38A874C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6546-9381-41B8-8236-5F79320FC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8E9-14C6-43AA-ABFB-622221F5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852-6CD8-4969-89C2-0AC554F25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872-7D0F-4488-895E-F27814A0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106A-F2AE-40BD-9826-42D14E35B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4E85-4A38-4985-BB12-67F65BA33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053E-B272-48A5-BD8D-75F1D5C6B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D0A-B5D9-4DDD-9914-2DB2B68B6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34A0-2967-4192-8AAF-C2FCE7F5F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8D1-4CE5-4C15-92AD-B4E0E5A5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D257-3767-441E-AE8A-78612743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A130-EEB1-4FCE-8472-1ABF39A3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97E6-EF5A-41B3-ACED-6CC98E88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D04A-7C45-4015-A768-F4B30EA5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9A1E-8EA5-460F-9675-F070D6CA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05F6-76ED-4049-BA5C-C8270F34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EAD-AC33-420F-B54A-AC6F596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AC97-5CB2-4EBA-954C-80396AA0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C2F-4693-42C9-80E5-E134515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B856-22A2-4DA7-8032-A18A5286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B0F-D2F7-45E6-AC92-6220976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E9F4-86E0-4FAA-B585-CB93028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ACB5-E9C0-4B0B-878E-1B692A6E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2988-E586-4561-8B70-7BE46D6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A40-D2F2-45A3-AA49-D5CE1A0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32B-F696-4A60-860C-935777CA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DF02-6631-4941-A721-CC1A5B36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EB6-CD69-4537-852F-C7DBACEE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ED96-CBD5-4DCC-9A3C-5E91227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20C2-D376-469A-BE98-A6485EDA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8AE0-0E90-4EDC-9858-3265D33F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3DE9-E85E-4CD2-A3D3-89E128A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F7ED-70E0-4F53-AAE1-1E5162F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532F-D817-47FB-A93A-C8BBE16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964B-964B-46C9-BC36-778AB78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640E-B266-4605-B091-0ECCB3EF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DA58-6A1D-4D4D-AB27-0600A1BD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8E7-A057-4402-84DB-A6C1B07E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by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pping and Revis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Knowled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cknowledgem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ly Mihalkova, Tuyen Huy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2B27-5455-4B9F-99C5-3DB5BF914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Relational Data Challeng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587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cannot be effectively represented as featur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ons for connected facts are not independent.       (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dFor(brando, coppolo), Movie(godFather, brand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is not i.i.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llective inferenc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lass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ska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1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independent exampl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ga-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ten contains information about a large number of interconnected entities and can vary in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ve one university out  test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Craven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199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L and SRL and I.I.D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Machine Learning assumes exampl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 and  Identical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8F7-AC7B-411C-B925-187BCEBE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396000" y="4191120"/>
            <a:ext cx="39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examples a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724280" y="3962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test examples are dra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same distribution as the training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1371600" y="2438280"/>
            <a:ext cx="2057400" cy="5223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038480" y="2438280"/>
            <a:ext cx="1752840" cy="5223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2"/>
          <p:cNvSpPr/>
          <p:nvPr/>
        </p:nvSpPr>
        <p:spPr>
          <a:xfrm flipH="1">
            <a:off x="2354400" y="2960640"/>
            <a:ext cx="46080" cy="123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3"/>
          <p:cNvSpPr/>
          <p:nvPr/>
        </p:nvSpPr>
        <p:spPr>
          <a:xfrm>
            <a:off x="4915080" y="2960640"/>
            <a:ext cx="1752480" cy="100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BDE9-C056-4202-AD52-D967E39E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Relational Doma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s about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ademic departments (UW-CSE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ovies (IMDB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tagenesi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zheimer drug desig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text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bK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a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073C-CEC2-4C54-97F4-8B4AB816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Learning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Logic Programming (IL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duces sets of first-order rul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t appropriate for probabilistic reaso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f a student wrote a paper with a professor, then the professor is the student’s advisor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L models &amp; learning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LP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Muggleton, 199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M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Koller, 1999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LPs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Kersting &amp; De Raedt,  2001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MN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ska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LN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ichardson &amp; Domingos, 200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1496880" y="5257800"/>
            <a:ext cx="4522680" cy="917280"/>
            <a:chOff x="1496880" y="5257800"/>
            <a:chExt cx="4522680" cy="917280"/>
          </a:xfrm>
        </p:grpSpPr>
        <p:sp>
          <p:nvSpPr>
            <p:cNvPr id="187" name="Oval 5"/>
            <p:cNvSpPr/>
            <p:nvPr/>
          </p:nvSpPr>
          <p:spPr>
            <a:xfrm>
              <a:off x="1496880" y="5257800"/>
              <a:ext cx="838440" cy="609840"/>
            </a:xfrm>
            <a:prstGeom prst="ellipse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2597400" y="5715360"/>
              <a:ext cx="34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Markov logic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A7F-9194-4968-A637-40E71C4C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LN Transfer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, Huynh, &amp; Mooney, 2007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094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wo multi-relational domain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a Markov logic network learned in the Source to the Targe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pping the Source predicates to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sing the mapp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609480" y="1981080"/>
            <a:ext cx="7772400" cy="2449440"/>
            <a:chOff x="609480" y="1981080"/>
            <a:chExt cx="7772400" cy="2449440"/>
          </a:xfrm>
        </p:grpSpPr>
        <p:sp>
          <p:nvSpPr>
            <p:cNvPr id="193" name="Rectangle 4"/>
            <p:cNvSpPr/>
            <p:nvPr/>
          </p:nvSpPr>
          <p:spPr>
            <a:xfrm>
              <a:off x="4647960" y="2449440"/>
              <a:ext cx="373392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or(A) Actor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vie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orkedFor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609480" y="2449440"/>
              <a:ext cx="380988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W-C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essor(A) Student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ation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isedBy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665280" y="19810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Sourc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4696560" y="19843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Target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128E-4E8D-40EE-A74A-AEDB0228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-Order Logic Bas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redicate (or its negation) applied to constants and/or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literal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Ground literal;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rkedFor(brando, coppola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Vliteral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Variablized literal; </a:t>
            </a:r>
            <a:r>
              <a:rPr b="0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rkedFor(A, B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predicates have type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example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ovie(godFather, coppola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4011480" y="4038480"/>
            <a:ext cx="3012480" cy="914400"/>
            <a:chOff x="4011480" y="4038480"/>
            <a:chExt cx="3012480" cy="914400"/>
          </a:xfrm>
        </p:grpSpPr>
        <p:sp>
          <p:nvSpPr>
            <p:cNvPr id="201" name="Text Box 5"/>
            <p:cNvSpPr/>
            <p:nvPr/>
          </p:nvSpPr>
          <p:spPr>
            <a:xfrm>
              <a:off x="4011480" y="4038480"/>
              <a:ext cx="1589400" cy="9144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ovie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5775840" y="4038480"/>
              <a:ext cx="1248120" cy="9144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C0C-4A10-4637-A6E7-C473136B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rst-Order Clau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use: A disjunction of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140680" cy="482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34408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834372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228600" y="5562720"/>
            <a:ext cx="8763120" cy="4730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8"/>
          <p:cNvSpPr/>
          <p:nvPr/>
        </p:nvSpPr>
        <p:spPr>
          <a:xfrm>
            <a:off x="457200" y="34290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written as a set of r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00C5-4DD2-4DE4-954F-277AE3B1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4600" y="1639800"/>
          <a:ext cx="8839080" cy="1314360"/>
        </p:xfrm>
        <a:graphic>
          <a:graphicData uri="http://schemas.openxmlformats.org/drawingml/2006/table">
            <a:tbl>
              <a:tblPr/>
              <a:tblGrid>
                <a:gridCol w="2133720"/>
                <a:gridCol w="3429000"/>
                <a:gridCol w="32763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r(pacin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dFor(pacino, 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(godFather, pacin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r(bran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dFor(brando, 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(godFather, bran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r(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(godFather, coppo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ing the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198960"/>
            <a:ext cx="777240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osed world assum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gliterals listed are true; the rest are fal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E13F-55F0-4F9D-8AEF-3D12107E4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arkov Logic Networks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on &amp; Domingos, 2006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760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irst-order clauses, each assigned a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weight indicates stronger belief that the clause should 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uses are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ML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304920" y="3962520"/>
            <a:ext cx="8610480" cy="1785600"/>
            <a:chOff x="304920" y="3962520"/>
            <a:chExt cx="8610480" cy="1785600"/>
          </a:xfrm>
        </p:grpSpPr>
        <p:pic>
          <p:nvPicPr>
            <p:cNvPr id="219" name="Picture 5" descr=""/>
            <p:cNvPicPr/>
            <p:nvPr/>
          </p:nvPicPr>
          <p:blipFill>
            <a:blip r:embed="rId1"/>
            <a:stretch/>
          </p:blipFill>
          <p:spPr>
            <a:xfrm>
              <a:off x="1143000" y="4120920"/>
              <a:ext cx="413388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6" descr=""/>
            <p:cNvPicPr/>
            <p:nvPr/>
          </p:nvPicPr>
          <p:blipFill>
            <a:blip r:embed="rId2"/>
            <a:stretch/>
          </p:blipFill>
          <p:spPr>
            <a:xfrm>
              <a:off x="1143000" y="4647960"/>
              <a:ext cx="558180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7" descr=""/>
            <p:cNvPicPr/>
            <p:nvPr/>
          </p:nvPicPr>
          <p:blipFill>
            <a:blip r:embed="rId3"/>
            <a:stretch/>
          </p:blipFill>
          <p:spPr>
            <a:xfrm>
              <a:off x="1143000" y="5181480"/>
              <a:ext cx="76960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8"/>
            <p:cNvSpPr/>
            <p:nvPr/>
          </p:nvSpPr>
          <p:spPr>
            <a:xfrm>
              <a:off x="382320" y="40366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380880" y="4922640"/>
              <a:ext cx="60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380520" y="45716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304920" y="3962520"/>
              <a:ext cx="8610480" cy="1676160"/>
            </a:xfrm>
            <a:prstGeom prst="rect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A44-C304-4AFC-A6D6-BFD89EBC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arkov Networks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Pearl, 1988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cise representation of the joint probability distribution of a set of random variables using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1600200" y="4541040"/>
            <a:ext cx="1825560" cy="1684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1339560" y="2887920"/>
            <a:ext cx="2489760" cy="10216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107640" y="4035960"/>
            <a:ext cx="5234760" cy="649800"/>
            <a:chOff x="107640" y="4035960"/>
            <a:chExt cx="5234760" cy="649800"/>
          </a:xfrm>
        </p:grpSpPr>
        <p:sp>
          <p:nvSpPr>
            <p:cNvPr id="232" name="Oval 7"/>
            <p:cNvSpPr/>
            <p:nvPr/>
          </p:nvSpPr>
          <p:spPr>
            <a:xfrm>
              <a:off x="107640" y="4035960"/>
              <a:ext cx="2285280" cy="6498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lgorith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"/>
            <p:cNvSpPr/>
            <p:nvPr/>
          </p:nvSpPr>
          <p:spPr>
            <a:xfrm>
              <a:off x="2544120" y="4035960"/>
              <a:ext cx="2798280" cy="6498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peri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9"/>
          <p:cNvGrpSpPr/>
          <p:nvPr/>
        </p:nvGrpSpPr>
        <p:grpSpPr>
          <a:xfrm>
            <a:off x="1249200" y="3768840"/>
            <a:ext cx="2694600" cy="1187280"/>
            <a:chOff x="1249200" y="3768840"/>
            <a:chExt cx="2694600" cy="1187280"/>
          </a:xfrm>
        </p:grpSpPr>
        <p:cxnSp>
          <p:nvCxnSpPr>
            <p:cNvPr id="235" name="AutoShape 10"/>
            <p:cNvCxnSpPr>
              <a:stCxn id="232" idx="0"/>
              <a:endCxn id="230" idx="3"/>
            </p:cNvCxnSpPr>
            <p:nvPr/>
          </p:nvCxnSpPr>
          <p:spPr>
            <a:xfrm flipV="1">
              <a:off x="1249200" y="3768840"/>
              <a:ext cx="532800" cy="2559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  <p:cxnSp>
          <p:nvCxnSpPr>
            <p:cNvPr id="236" name="AutoShape 11"/>
            <p:cNvCxnSpPr>
              <a:stCxn id="230" idx="5"/>
              <a:endCxn id="233" idx="0"/>
            </p:cNvCxnSpPr>
            <p:nvPr/>
          </p:nvCxnSpPr>
          <p:spPr>
            <a:xfrm>
              <a:off x="3386160" y="3768840"/>
              <a:ext cx="558000" cy="2559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  <p:cxnSp>
          <p:nvCxnSpPr>
            <p:cNvPr id="237" name="AutoShape 12"/>
            <p:cNvCxnSpPr>
              <a:stCxn id="232" idx="4"/>
              <a:endCxn id="229" idx="1"/>
            </p:cNvCxnSpPr>
            <p:nvPr/>
          </p:nvCxnSpPr>
          <p:spPr>
            <a:xfrm>
              <a:off x="1249200" y="4696920"/>
              <a:ext cx="618480" cy="2595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  <p:cxnSp>
          <p:nvCxnSpPr>
            <p:cNvPr id="238" name="AutoShape 13"/>
            <p:cNvCxnSpPr>
              <a:stCxn id="233" idx="4"/>
              <a:endCxn id="229" idx="7"/>
            </p:cNvCxnSpPr>
            <p:nvPr/>
          </p:nvCxnSpPr>
          <p:spPr>
            <a:xfrm flipH="1">
              <a:off x="3158280" y="4696920"/>
              <a:ext cx="785160" cy="259560"/>
            </a:xfrm>
            <a:prstGeom prst="straightConnector1">
              <a:avLst/>
            </a:prstGeom>
            <a:ln w="28440">
              <a:solidFill>
                <a:srgbClr val="b2b2b2"/>
              </a:solidFill>
              <a:miter/>
            </a:ln>
          </p:spPr>
        </p:cxnSp>
      </p:grpSp>
      <p:graphicFrame>
        <p:nvGraphicFramePr>
          <p:cNvPr id="239" name=""/>
          <p:cNvGraphicFramePr/>
          <p:nvPr/>
        </p:nvGraphicFramePr>
        <p:xfrm>
          <a:off x="5334120" y="2895480"/>
          <a:ext cx="3200400" cy="20005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76212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8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008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48"/>
          <p:cNvSpPr/>
          <p:nvPr/>
        </p:nvSpPr>
        <p:spPr>
          <a:xfrm>
            <a:off x="4038480" y="5118480"/>
            <a:ext cx="3962520" cy="161856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probability distribution can be represented as the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pro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set of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d over the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cliq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5328720" y="24382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J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E3DE-181C-4772-BD78-3A19044E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machine learning methods learn each new task from scratch, failing to utilize previously learne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learning concerns using knowledge acquired in a previou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 to facilitate learning in a relate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ume significant training data was available in the source domain but limited training data is available in the target dom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exploiting knowledge from the source, learning in the target can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re accurat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Learned knowledge makes better predictions.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aste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Training time is reduc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03ED-3771-4C72-A833-D5A60B62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514600" y="5486400"/>
            <a:ext cx="4267080" cy="4827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rkov Network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029200" cy="1141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476760" cy="11289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7"/>
          <p:cNvGrpSpPr/>
          <p:nvPr/>
        </p:nvGrpSpPr>
        <p:grpSpPr>
          <a:xfrm>
            <a:off x="2931840" y="5334120"/>
            <a:ext cx="5785560" cy="1374480"/>
            <a:chOff x="2931840" y="5334120"/>
            <a:chExt cx="5785560" cy="1374480"/>
          </a:xfrm>
        </p:grpSpPr>
        <p:sp>
          <p:nvSpPr>
            <p:cNvPr id="249" name="Oval 8"/>
            <p:cNvSpPr/>
            <p:nvPr/>
          </p:nvSpPr>
          <p:spPr>
            <a:xfrm>
              <a:off x="5029200" y="5486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5562720" y="5334120"/>
              <a:ext cx="1218960" cy="76176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9" idx="3"/>
            </p:cNvCxnSpPr>
            <p:nvPr/>
          </p:nvCxnSpPr>
          <p:spPr>
            <a:xfrm flipH="1">
              <a:off x="4114440" y="5955840"/>
              <a:ext cx="992880" cy="369000"/>
            </a:xfrm>
            <a:prstGeom prst="straightConnector1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52" name="AutoShape 11"/>
            <p:cNvCxnSpPr>
              <a:stCxn id="250" idx="5"/>
            </p:cNvCxnSpPr>
            <p:nvPr/>
          </p:nvCxnSpPr>
          <p:spPr>
            <a:xfrm>
              <a:off x="6603840" y="5999040"/>
              <a:ext cx="788400" cy="326160"/>
            </a:xfrm>
            <a:prstGeom prst="straightConnector1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253" name="Text Box 12"/>
            <p:cNvSpPr/>
            <p:nvPr/>
          </p:nvSpPr>
          <p:spPr>
            <a:xfrm>
              <a:off x="2931840" y="624744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ahoma"/>
                </a:rPr>
                <a:t>we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7345080" y="6248880"/>
              <a:ext cx="13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ahoma"/>
                </a:rPr>
                <a:t>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4F56-4CC5-48AD-A52C-C35DA4A8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 Markov Network for an ML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Ns are templates for constructing Markov networks for a given set of 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 a node for each type-consistent grounding (a gliteral) of each predicate in the ML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wo nodes are connected by an edge if their corresponding gliterals appear together in any grounding of any clause in the ML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 a feature for each grounding of each clause in the MLN with weight equal to the weight of the claus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77D-1ADE-4656-AA60-B78D8C7ED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0" y="0"/>
            <a:ext cx="228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coppol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brando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godFa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514440" y="79200"/>
            <a:ext cx="2476440" cy="24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514440" y="396720"/>
            <a:ext cx="3632040" cy="266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514440" y="758880"/>
            <a:ext cx="4168800" cy="22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-3240" y="158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-3240" y="334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-1800" y="6523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60480" y="33480"/>
            <a:ext cx="4663800" cy="99684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1447920" y="3657600"/>
            <a:ext cx="274320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523880" y="3733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4876920" y="3657600"/>
            <a:ext cx="281916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130360" y="373392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1905120" y="4648320"/>
            <a:ext cx="3047760" cy="53316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2025360" y="472428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"/>
          <p:cNvSpPr/>
          <p:nvPr/>
        </p:nvSpPr>
        <p:spPr>
          <a:xfrm>
            <a:off x="5181480" y="4648320"/>
            <a:ext cx="3124440" cy="53316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5377320" y="472428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8"/>
          <p:cNvSpPr/>
          <p:nvPr/>
        </p:nvSpPr>
        <p:spPr>
          <a:xfrm>
            <a:off x="914400" y="2590920"/>
            <a:ext cx="2819520" cy="60948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1034640" y="274320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3962520" y="2590920"/>
            <a:ext cx="2895480" cy="60948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082760" y="274320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2"/>
          <p:cNvSpPr/>
          <p:nvPr/>
        </p:nvSpPr>
        <p:spPr>
          <a:xfrm>
            <a:off x="2666880" y="1752480"/>
            <a:ext cx="190512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2666880" y="1828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3962520" y="1295280"/>
            <a:ext cx="1904760" cy="45720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4087440" y="129528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6"/>
          <p:cNvSpPr/>
          <p:nvPr/>
        </p:nvSpPr>
        <p:spPr>
          <a:xfrm>
            <a:off x="4267080" y="5486400"/>
            <a:ext cx="2133720" cy="5335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4404600" y="55627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8"/>
          <p:cNvSpPr/>
          <p:nvPr/>
        </p:nvSpPr>
        <p:spPr>
          <a:xfrm>
            <a:off x="2971800" y="6095880"/>
            <a:ext cx="1905120" cy="45720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3096000" y="6095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0"/>
          <p:cNvGrpSpPr/>
          <p:nvPr/>
        </p:nvGrpSpPr>
        <p:grpSpPr>
          <a:xfrm>
            <a:off x="3428280" y="4127040"/>
            <a:ext cx="1861200" cy="506520"/>
            <a:chOff x="3428280" y="4127040"/>
            <a:chExt cx="1861200" cy="506520"/>
          </a:xfrm>
        </p:grpSpPr>
        <p:cxnSp>
          <p:nvCxnSpPr>
            <p:cNvPr id="288" name="AutoShape 31"/>
            <p:cNvCxnSpPr>
              <a:stCxn id="269" idx="3"/>
              <a:endCxn id="271" idx="0"/>
            </p:cNvCxnSpPr>
            <p:nvPr/>
          </p:nvCxnSpPr>
          <p:spPr>
            <a:xfrm flipH="1">
              <a:off x="3428640" y="4127040"/>
              <a:ext cx="186120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  <p:cxnSp>
          <p:nvCxnSpPr>
            <p:cNvPr id="289" name="AutoShape 32"/>
            <p:cNvCxnSpPr>
              <a:stCxn id="267" idx="5"/>
              <a:endCxn id="271" idx="0"/>
            </p:cNvCxnSpPr>
            <p:nvPr/>
          </p:nvCxnSpPr>
          <p:spPr>
            <a:xfrm flipH="1">
              <a:off x="3428280" y="4127040"/>
              <a:ext cx="36108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</p:grpSp>
      <p:cxnSp>
        <p:nvCxnSpPr>
          <p:cNvPr id="290" name="AutoShape 33"/>
          <p:cNvCxnSpPr>
            <a:stCxn id="269" idx="4"/>
            <a:endCxn id="273" idx="0"/>
          </p:cNvCxnSpPr>
          <p:nvPr/>
        </p:nvCxnSpPr>
        <p:spPr>
          <a:xfrm>
            <a:off x="6286680" y="4204800"/>
            <a:ext cx="457920" cy="429480"/>
          </a:xfrm>
          <a:prstGeom prst="straightConnector1">
            <a:avLst/>
          </a:prstGeom>
          <a:ln w="50760">
            <a:solidFill>
              <a:srgbClr val="008000"/>
            </a:solidFill>
            <a:miter/>
          </a:ln>
        </p:spPr>
      </p:cxnSp>
      <p:grpSp>
        <p:nvGrpSpPr>
          <p:cNvPr id="291" name="Group 34"/>
          <p:cNvGrpSpPr/>
          <p:nvPr/>
        </p:nvGrpSpPr>
        <p:grpSpPr>
          <a:xfrm>
            <a:off x="3789360" y="3214440"/>
            <a:ext cx="1621080" cy="709560"/>
            <a:chOff x="3789360" y="3214440"/>
            <a:chExt cx="1621080" cy="709560"/>
          </a:xfrm>
        </p:grpSpPr>
        <p:cxnSp>
          <p:nvCxnSpPr>
            <p:cNvPr id="292" name="AutoShape 35"/>
            <p:cNvCxnSpPr>
              <a:stCxn id="268" idx="3"/>
              <a:endCxn id="269" idx="2"/>
            </p:cNvCxnSpPr>
            <p:nvPr/>
          </p:nvCxnSpPr>
          <p:spPr>
            <a:xfrm>
              <a:off x="4190760" y="3903480"/>
              <a:ext cx="686520" cy="20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  <p:cxnSp>
          <p:nvCxnSpPr>
            <p:cNvPr id="293" name="AutoShape 36"/>
            <p:cNvCxnSpPr>
              <a:stCxn id="277" idx="4"/>
              <a:endCxn id="269" idx="1"/>
            </p:cNvCxnSpPr>
            <p:nvPr/>
          </p:nvCxnSpPr>
          <p:spPr>
            <a:xfrm flipH="1">
              <a:off x="5288760" y="3214800"/>
              <a:ext cx="12132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  <p:cxnSp>
          <p:nvCxnSpPr>
            <p:cNvPr id="294" name="AutoShape 37"/>
            <p:cNvCxnSpPr>
              <a:stCxn id="267" idx="7"/>
              <a:endCxn id="277" idx="4"/>
            </p:cNvCxnSpPr>
            <p:nvPr/>
          </p:nvCxnSpPr>
          <p:spPr>
            <a:xfrm flipV="1">
              <a:off x="3789360" y="3214440"/>
              <a:ext cx="1621440" cy="50688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</a:ln>
          </p:spPr>
        </p:cxnSp>
      </p:grpSp>
      <p:cxnSp>
        <p:nvCxnSpPr>
          <p:cNvPr id="295" name="AutoShape 38"/>
          <p:cNvCxnSpPr>
            <a:stCxn id="267" idx="0"/>
            <a:endCxn id="275" idx="4"/>
          </p:cNvCxnSpPr>
          <p:nvPr/>
        </p:nvCxnSpPr>
        <p:spPr>
          <a:xfrm flipH="1" flipV="1">
            <a:off x="2323800" y="3214440"/>
            <a:ext cx="496080" cy="429120"/>
          </a:xfrm>
          <a:prstGeom prst="straightConnector1">
            <a:avLst/>
          </a:prstGeom>
          <a:ln w="50760">
            <a:solidFill>
              <a:srgbClr val="008000"/>
            </a:solidFill>
            <a:miter/>
          </a:ln>
        </p:spPr>
      </p:cxnSp>
      <p:cxnSp>
        <p:nvCxnSpPr>
          <p:cNvPr id="296" name="AutoShape 39"/>
          <p:cNvCxnSpPr/>
          <p:nvPr/>
        </p:nvCxnSpPr>
        <p:spPr>
          <a:xfrm flipH="1">
            <a:off x="3923640" y="5955840"/>
            <a:ext cx="656280" cy="126360"/>
          </a:xfrm>
          <a:prstGeom prst="straightConnector1">
            <a:avLst/>
          </a:prstGeom>
          <a:ln w="50760">
            <a:solidFill>
              <a:srgbClr val="ff0080"/>
            </a:solidFill>
            <a:miter/>
          </a:ln>
        </p:spPr>
      </p:cxnSp>
      <p:cxnSp>
        <p:nvCxnSpPr>
          <p:cNvPr id="297" name="AutoShape 40"/>
          <p:cNvCxnSpPr/>
          <p:nvPr/>
        </p:nvCxnSpPr>
        <p:spPr>
          <a:xfrm flipH="1">
            <a:off x="4291920" y="1766520"/>
            <a:ext cx="623160" cy="50040"/>
          </a:xfrm>
          <a:prstGeom prst="straightConnector1">
            <a:avLst/>
          </a:prstGeom>
          <a:ln w="50760">
            <a:solidFill>
              <a:srgbClr val="ff0080"/>
            </a:solidFill>
            <a:miter/>
          </a:ln>
        </p:spPr>
      </p:cxnSp>
      <p:sp>
        <p:nvSpPr>
          <p:cNvPr id="298" name="AutoShape 41"/>
          <p:cNvSpPr/>
          <p:nvPr/>
        </p:nvSpPr>
        <p:spPr>
          <a:xfrm>
            <a:off x="4876920" y="152280"/>
            <a:ext cx="533160" cy="152640"/>
          </a:xfrm>
          <a:prstGeom prst="parallelogram">
            <a:avLst>
              <a:gd name="adj" fmla="val 87323"/>
            </a:avLst>
          </a:prstGeom>
          <a:solidFill>
            <a:srgbClr val="ff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AutoShape 42"/>
          <p:cNvCxnSpPr/>
          <p:nvPr/>
        </p:nvCxnSpPr>
        <p:spPr>
          <a:xfrm flipH="1" flipV="1">
            <a:off x="3428280" y="5195160"/>
            <a:ext cx="1151640" cy="35460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cxnSp>
        <p:nvCxnSpPr>
          <p:cNvPr id="300" name="AutoShape 43"/>
          <p:cNvCxnSpPr/>
          <p:nvPr/>
        </p:nvCxnSpPr>
        <p:spPr>
          <a:xfrm flipV="1">
            <a:off x="5334120" y="5195160"/>
            <a:ext cx="1410480" cy="27684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cxnSp>
        <p:nvCxnSpPr>
          <p:cNvPr id="301" name="AutoShape 44"/>
          <p:cNvCxnSpPr/>
          <p:nvPr/>
        </p:nvCxnSpPr>
        <p:spPr>
          <a:xfrm flipH="1">
            <a:off x="2323800" y="2222280"/>
            <a:ext cx="622800" cy="35460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cxnSp>
        <p:nvCxnSpPr>
          <p:cNvPr id="302" name="AutoShape 45"/>
          <p:cNvCxnSpPr/>
          <p:nvPr/>
        </p:nvCxnSpPr>
        <p:spPr>
          <a:xfrm>
            <a:off x="4292640" y="2222280"/>
            <a:ext cx="1117800" cy="354600"/>
          </a:xfrm>
          <a:prstGeom prst="straightConnector1">
            <a:avLst/>
          </a:prstGeom>
          <a:ln w="50760">
            <a:solidFill>
              <a:srgbClr val="400080"/>
            </a:solidFill>
            <a:miter/>
          </a:ln>
        </p:spPr>
      </p:cxnSp>
      <p:sp>
        <p:nvSpPr>
          <p:cNvPr id="303" name="AutoShape 46"/>
          <p:cNvSpPr/>
          <p:nvPr/>
        </p:nvSpPr>
        <p:spPr>
          <a:xfrm>
            <a:off x="4800600" y="457200"/>
            <a:ext cx="533520" cy="152280"/>
          </a:xfrm>
          <a:prstGeom prst="parallelogram">
            <a:avLst>
              <a:gd name="adj" fmla="val 87589"/>
            </a:avLst>
          </a:prstGeom>
          <a:solidFill>
            <a:srgbClr val="4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7"/>
          <p:cNvSpPr/>
          <p:nvPr/>
        </p:nvSpPr>
        <p:spPr>
          <a:xfrm>
            <a:off x="4724280" y="762120"/>
            <a:ext cx="533520" cy="152280"/>
          </a:xfrm>
          <a:prstGeom prst="parallelogram">
            <a:avLst>
              <a:gd name="adj" fmla="val 875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16AA-0060-4B3E-BCE1-C033A64A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6985080" cy="136188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5"/>
          <p:cNvGrpSpPr/>
          <p:nvPr/>
        </p:nvGrpSpPr>
        <p:grpSpPr>
          <a:xfrm>
            <a:off x="1143000" y="4115160"/>
            <a:ext cx="6019920" cy="1734840"/>
            <a:chOff x="1143000" y="4115160"/>
            <a:chExt cx="6019920" cy="1734840"/>
          </a:xfrm>
        </p:grpSpPr>
        <p:sp>
          <p:nvSpPr>
            <p:cNvPr id="309" name="Text Box 6"/>
            <p:cNvSpPr/>
            <p:nvPr/>
          </p:nvSpPr>
          <p:spPr>
            <a:xfrm>
              <a:off x="1185840" y="4115160"/>
              <a:ext cx="59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mpare to log-linear Markov network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7" descr=""/>
            <p:cNvPicPr/>
            <p:nvPr/>
          </p:nvPicPr>
          <p:blipFill>
            <a:blip r:embed="rId2"/>
            <a:stretch/>
          </p:blipFill>
          <p:spPr>
            <a:xfrm>
              <a:off x="1143000" y="4800600"/>
              <a:ext cx="6019920" cy="104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oup 8"/>
          <p:cNvGrpSpPr/>
          <p:nvPr/>
        </p:nvGrpSpPr>
        <p:grpSpPr>
          <a:xfrm>
            <a:off x="2507760" y="1279440"/>
            <a:ext cx="6331320" cy="1552680"/>
            <a:chOff x="2507760" y="1279440"/>
            <a:chExt cx="6331320" cy="1552680"/>
          </a:xfrm>
        </p:grpSpPr>
        <p:grpSp>
          <p:nvGrpSpPr>
            <p:cNvPr id="312" name="Group 9"/>
            <p:cNvGrpSpPr/>
            <p:nvPr/>
          </p:nvGrpSpPr>
          <p:grpSpPr>
            <a:xfrm>
              <a:off x="6095880" y="1279440"/>
              <a:ext cx="2743200" cy="1552680"/>
              <a:chOff x="6095880" y="1279440"/>
              <a:chExt cx="2743200" cy="1552680"/>
            </a:xfrm>
          </p:grpSpPr>
          <p:sp>
            <p:nvSpPr>
              <p:cNvPr id="313" name="Oval 10"/>
              <p:cNvSpPr/>
              <p:nvPr/>
            </p:nvSpPr>
            <p:spPr>
              <a:xfrm>
                <a:off x="6095880" y="23749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AutoShape 11"/>
              <p:cNvCxnSpPr>
                <a:stCxn id="313" idx="7"/>
              </p:cNvCxnSpPr>
              <p:nvPr/>
            </p:nvCxnSpPr>
            <p:spPr>
              <a:xfrm flipV="1">
                <a:off x="6486120" y="1650960"/>
                <a:ext cx="2353320" cy="776880"/>
              </a:xfrm>
              <a:prstGeom prst="straightConnector1">
                <a:avLst/>
              </a:prstGeom>
              <a:ln w="28440">
                <a:solidFill>
                  <a:srgbClr val="006600"/>
                </a:solidFill>
                <a:miter/>
              </a:ln>
            </p:spPr>
          </p:cxnSp>
          <p:sp>
            <p:nvSpPr>
              <p:cNvPr id="315" name="Text Box 12"/>
              <p:cNvSpPr/>
              <p:nvPr/>
            </p:nvSpPr>
            <p:spPr>
              <a:xfrm rot="20562600">
                <a:off x="6562080" y="1594800"/>
                <a:ext cx="2184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ahoma"/>
                  </a:rPr>
                  <a:t>all groundings of f</a:t>
                </a:r>
                <a:r>
                  <a:rPr b="0" lang="en-US" sz="1800" spc="-1" strike="noStrike" baseline="-25000">
                    <a:solidFill>
                      <a:srgbClr val="0066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3"/>
            <p:cNvGrpSpPr/>
            <p:nvPr/>
          </p:nvGrpSpPr>
          <p:grpSpPr>
            <a:xfrm>
              <a:off x="2507760" y="1656360"/>
              <a:ext cx="2709000" cy="1099800"/>
              <a:chOff x="2507760" y="1656360"/>
              <a:chExt cx="2709000" cy="1099800"/>
            </a:xfrm>
          </p:grpSpPr>
          <p:sp>
            <p:nvSpPr>
              <p:cNvPr id="317" name="Oval 14"/>
              <p:cNvSpPr/>
              <p:nvPr/>
            </p:nvSpPr>
            <p:spPr>
              <a:xfrm>
                <a:off x="4648320" y="2374920"/>
                <a:ext cx="380880" cy="381240"/>
              </a:xfrm>
              <a:prstGeom prst="ellipse">
                <a:avLst/>
              </a:prstGeom>
              <a:noFill/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8" name="AutoShape 15"/>
              <p:cNvCxnSpPr>
                <a:stCxn id="317" idx="1"/>
              </p:cNvCxnSpPr>
              <p:nvPr/>
            </p:nvCxnSpPr>
            <p:spPr>
              <a:xfrm flipH="1" flipV="1">
                <a:off x="2513880" y="1993320"/>
                <a:ext cx="2189880" cy="423000"/>
              </a:xfrm>
              <a:prstGeom prst="straightConnector1">
                <a:avLst/>
              </a:prstGeom>
              <a:ln w="28440">
                <a:solidFill>
                  <a:srgbClr val="006600"/>
                </a:solidFill>
                <a:miter/>
              </a:ln>
            </p:spPr>
          </p:cxnSp>
          <p:sp>
            <p:nvSpPr>
              <p:cNvPr id="319" name="Text Box 16"/>
              <p:cNvSpPr/>
              <p:nvPr/>
            </p:nvSpPr>
            <p:spPr>
              <a:xfrm rot="685200">
                <a:off x="2517480" y="1918800"/>
                <a:ext cx="268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00"/>
                    </a:solidFill>
                    <a:latin typeface="Tahoma"/>
                  </a:rPr>
                  <a:t>all clauses in the 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Line 17"/>
          <p:cNvSpPr/>
          <p:nvPr/>
        </p:nvSpPr>
        <p:spPr>
          <a:xfrm>
            <a:off x="5181480" y="2590920"/>
            <a:ext cx="228600" cy="220968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5638680" y="2666880"/>
            <a:ext cx="228600" cy="21337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89E-7824-40DB-A76B-4CB6D090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Equation Intui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sible world (a truth assignment to all gliterals) becomes exponentially less likely as the total weight of all the grounded clauses it violates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BC8A-90C6-4831-9C8B-794BB08F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Infer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ruth assignments for given set of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literals, infer the probability that each member of set of unknown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qu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literals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6510-CB98-414A-9ABD-2EDBC768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1981080" y="4267080"/>
            <a:ext cx="3048120" cy="5335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101320" y="434340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5257800" y="4267080"/>
            <a:ext cx="3124080" cy="5335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453640" y="43434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coppola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990720" y="2209680"/>
            <a:ext cx="2819160" cy="60984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1110960" y="236232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4038480" y="2209680"/>
            <a:ext cx="2895840" cy="60984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158720" y="2362320"/>
            <a:ext cx="25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edFor(brando, 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2743200" y="1371600"/>
            <a:ext cx="1905120" cy="5335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27432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4038480" y="914400"/>
            <a:ext cx="1905120" cy="45720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4163760" y="91440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5"/>
          <p:cNvSpPr/>
          <p:nvPr/>
        </p:nvSpPr>
        <p:spPr>
          <a:xfrm>
            <a:off x="4343400" y="5105520"/>
            <a:ext cx="2133720" cy="5331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480920" y="51814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3048120" y="5715000"/>
            <a:ext cx="1904760" cy="45720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3172320" y="57150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or(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AutoShape 19"/>
          <p:cNvCxnSpPr/>
          <p:nvPr/>
        </p:nvCxnSpPr>
        <p:spPr>
          <a:xfrm>
            <a:off x="4267080" y="3537000"/>
            <a:ext cx="672480" cy="720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47" name="AutoShape 20"/>
          <p:cNvCxnSpPr>
            <a:stCxn id="348" idx="3"/>
            <a:endCxn id="330" idx="0"/>
          </p:cNvCxnSpPr>
          <p:nvPr/>
        </p:nvCxnSpPr>
        <p:spPr>
          <a:xfrm flipH="1">
            <a:off x="3504960" y="3744720"/>
            <a:ext cx="186120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49" name="AutoShape 21"/>
          <p:cNvCxnSpPr>
            <a:stCxn id="350" idx="5"/>
            <a:endCxn id="330" idx="0"/>
          </p:cNvCxnSpPr>
          <p:nvPr/>
        </p:nvCxnSpPr>
        <p:spPr>
          <a:xfrm flipH="1">
            <a:off x="3504600" y="3744720"/>
            <a:ext cx="36108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1" name="AutoShape 22"/>
          <p:cNvCxnSpPr>
            <a:stCxn id="348" idx="4"/>
            <a:endCxn id="332" idx="0"/>
          </p:cNvCxnSpPr>
          <p:nvPr/>
        </p:nvCxnSpPr>
        <p:spPr>
          <a:xfrm>
            <a:off x="6362640" y="3822480"/>
            <a:ext cx="457920" cy="43236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2" name="AutoShape 23"/>
          <p:cNvCxnSpPr>
            <a:stCxn id="336" idx="4"/>
            <a:endCxn id="348" idx="1"/>
          </p:cNvCxnSpPr>
          <p:nvPr/>
        </p:nvCxnSpPr>
        <p:spPr>
          <a:xfrm flipH="1">
            <a:off x="5365080" y="2831760"/>
            <a:ext cx="12132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3" name="AutoShape 24"/>
          <p:cNvCxnSpPr>
            <a:stCxn id="350" idx="7"/>
            <a:endCxn id="336" idx="4"/>
          </p:cNvCxnSpPr>
          <p:nvPr/>
        </p:nvCxnSpPr>
        <p:spPr>
          <a:xfrm flipV="1">
            <a:off x="3865680" y="2831400"/>
            <a:ext cx="1621440" cy="51012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4" name="AutoShape 25"/>
          <p:cNvCxnSpPr>
            <a:stCxn id="350" idx="0"/>
            <a:endCxn id="334" idx="4"/>
          </p:cNvCxnSpPr>
          <p:nvPr/>
        </p:nvCxnSpPr>
        <p:spPr>
          <a:xfrm flipH="1" flipV="1">
            <a:off x="2399760" y="2831400"/>
            <a:ext cx="495720" cy="43236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5" name="AutoShape 26"/>
          <p:cNvCxnSpPr>
            <a:stCxn id="342" idx="1"/>
            <a:endCxn id="330" idx="4"/>
          </p:cNvCxnSpPr>
          <p:nvPr/>
        </p:nvCxnSpPr>
        <p:spPr>
          <a:xfrm flipH="1" flipV="1">
            <a:off x="3504600" y="4812840"/>
            <a:ext cx="1151640" cy="3578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6" name="AutoShape 27"/>
          <p:cNvCxnSpPr>
            <a:stCxn id="342" idx="0"/>
            <a:endCxn id="332" idx="4"/>
          </p:cNvCxnSpPr>
          <p:nvPr/>
        </p:nvCxnSpPr>
        <p:spPr>
          <a:xfrm flipV="1">
            <a:off x="5410080" y="4812840"/>
            <a:ext cx="1410480" cy="28008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7" name="AutoShape 28"/>
          <p:cNvCxnSpPr>
            <a:stCxn id="342" idx="3"/>
            <a:endCxn id="344" idx="0"/>
          </p:cNvCxnSpPr>
          <p:nvPr/>
        </p:nvCxnSpPr>
        <p:spPr>
          <a:xfrm flipH="1">
            <a:off x="3999960" y="5573520"/>
            <a:ext cx="656280" cy="1292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8" name="AutoShape 29"/>
          <p:cNvCxnSpPr>
            <a:stCxn id="338" idx="3"/>
            <a:endCxn id="334" idx="0"/>
          </p:cNvCxnSpPr>
          <p:nvPr/>
        </p:nvCxnSpPr>
        <p:spPr>
          <a:xfrm flipH="1">
            <a:off x="2400120" y="1839960"/>
            <a:ext cx="622800" cy="3578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59" name="AutoShape 30"/>
          <p:cNvCxnSpPr>
            <a:stCxn id="338" idx="5"/>
            <a:endCxn id="336" idx="0"/>
          </p:cNvCxnSpPr>
          <p:nvPr/>
        </p:nvCxnSpPr>
        <p:spPr>
          <a:xfrm>
            <a:off x="4368960" y="1839960"/>
            <a:ext cx="1117800" cy="35784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cxnSp>
        <p:nvCxnSpPr>
          <p:cNvPr id="360" name="AutoShape 31"/>
          <p:cNvCxnSpPr>
            <a:stCxn id="340" idx="4"/>
            <a:endCxn id="338" idx="7"/>
          </p:cNvCxnSpPr>
          <p:nvPr/>
        </p:nvCxnSpPr>
        <p:spPr>
          <a:xfrm flipH="1">
            <a:off x="4368600" y="1384200"/>
            <a:ext cx="622800" cy="53280"/>
          </a:xfrm>
          <a:prstGeom prst="straightConnector1">
            <a:avLst/>
          </a:prstGeom>
          <a:ln w="25560">
            <a:solidFill>
              <a:srgbClr val="b2b2b2"/>
            </a:solidFill>
            <a:miter/>
          </a:ln>
        </p:spPr>
      </p:cxnSp>
      <p:sp>
        <p:nvSpPr>
          <p:cNvPr id="361" name="Text Box 32"/>
          <p:cNvSpPr/>
          <p:nvPr/>
        </p:nvSpPr>
        <p:spPr>
          <a:xfrm>
            <a:off x="1600200" y="304812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1600200" y="3352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 br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4"/>
          <p:cNvSpPr/>
          <p:nvPr/>
        </p:nvSpPr>
        <p:spPr>
          <a:xfrm>
            <a:off x="5206680" y="335268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(godFather,copp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5"/>
          <p:cNvSpPr/>
          <p:nvPr/>
        </p:nvSpPr>
        <p:spPr>
          <a:xfrm>
            <a:off x="1523880" y="3276720"/>
            <a:ext cx="2743200" cy="5331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36"/>
          <p:cNvSpPr/>
          <p:nvPr/>
        </p:nvSpPr>
        <p:spPr>
          <a:xfrm>
            <a:off x="4952880" y="3276720"/>
            <a:ext cx="2819520" cy="5331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5334120" y="53352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38"/>
          <p:cNvGrpSpPr/>
          <p:nvPr/>
        </p:nvGrpSpPr>
        <p:grpSpPr>
          <a:xfrm>
            <a:off x="1546200" y="991440"/>
            <a:ext cx="6248520" cy="4649040"/>
            <a:chOff x="1546200" y="991440"/>
            <a:chExt cx="6248520" cy="4649040"/>
          </a:xfrm>
        </p:grpSpPr>
        <p:sp>
          <p:nvSpPr>
            <p:cNvPr id="366" name="Oval 39"/>
            <p:cNvSpPr/>
            <p:nvPr/>
          </p:nvSpPr>
          <p:spPr>
            <a:xfrm>
              <a:off x="4343400" y="5106960"/>
              <a:ext cx="213372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0"/>
            <p:cNvSpPr/>
            <p:nvPr/>
          </p:nvSpPr>
          <p:spPr>
            <a:xfrm>
              <a:off x="2765520" y="1373040"/>
              <a:ext cx="190476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1"/>
            <p:cNvSpPr/>
            <p:nvPr/>
          </p:nvSpPr>
          <p:spPr>
            <a:xfrm>
              <a:off x="3358440" y="9914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2"/>
            <p:cNvSpPr/>
            <p:nvPr/>
          </p:nvSpPr>
          <p:spPr>
            <a:xfrm>
              <a:off x="7266960" y="297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3"/>
            <p:cNvSpPr/>
            <p:nvPr/>
          </p:nvSpPr>
          <p:spPr>
            <a:xfrm>
              <a:off x="1628280" y="297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4"/>
            <p:cNvSpPr/>
            <p:nvPr/>
          </p:nvSpPr>
          <p:spPr>
            <a:xfrm>
              <a:off x="6400440" y="510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5"/>
            <p:cNvSpPr/>
            <p:nvPr/>
          </p:nvSpPr>
          <p:spPr>
            <a:xfrm>
              <a:off x="1546200" y="3278160"/>
              <a:ext cx="274320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46"/>
            <p:cNvSpPr/>
            <p:nvPr/>
          </p:nvSpPr>
          <p:spPr>
            <a:xfrm>
              <a:off x="4975200" y="3278160"/>
              <a:ext cx="2819520" cy="533520"/>
            </a:xfrm>
            <a:prstGeom prst="ellipse">
              <a:avLst/>
            </a:prstGeom>
            <a:solidFill>
              <a:srgbClr val="00cc99">
                <a:alpha val="40000"/>
              </a:srgbClr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7"/>
          <p:cNvGrpSpPr/>
          <p:nvPr/>
        </p:nvGrpSpPr>
        <p:grpSpPr>
          <a:xfrm>
            <a:off x="1221480" y="610200"/>
            <a:ext cx="6751800" cy="5473800"/>
            <a:chOff x="1221480" y="610200"/>
            <a:chExt cx="6751800" cy="5473800"/>
          </a:xfrm>
        </p:grpSpPr>
        <p:sp>
          <p:nvSpPr>
            <p:cNvPr id="375" name="Text Box 48"/>
            <p:cNvSpPr/>
            <p:nvPr/>
          </p:nvSpPr>
          <p:spPr>
            <a:xfrm>
              <a:off x="5564880" y="6102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9"/>
            <p:cNvSpPr/>
            <p:nvPr/>
          </p:nvSpPr>
          <p:spPr>
            <a:xfrm>
              <a:off x="6324480" y="19058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0"/>
            <p:cNvSpPr/>
            <p:nvPr/>
          </p:nvSpPr>
          <p:spPr>
            <a:xfrm>
              <a:off x="1221480" y="19058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1"/>
            <p:cNvSpPr/>
            <p:nvPr/>
          </p:nvSpPr>
          <p:spPr>
            <a:xfrm>
              <a:off x="2593080" y="57157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2"/>
            <p:cNvSpPr/>
            <p:nvPr/>
          </p:nvSpPr>
          <p:spPr>
            <a:xfrm>
              <a:off x="7469640" y="38869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53"/>
            <p:cNvSpPr/>
            <p:nvPr/>
          </p:nvSpPr>
          <p:spPr>
            <a:xfrm>
              <a:off x="1602360" y="4115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C25-33E5-4A59-94A6-C9C3F806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Inference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bbs Sampl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on &amp; Domingos,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-SA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Poon &amp; Domingos,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D0D0-91B9-4619-93A6-BC96A331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-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on &amp; Domingos, 2006; Lowd &amp; Domingos,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formed using optimization method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-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Kok &amp; Domingos,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ceeds in iterations of beam search, adding the best-performing clause after each iteration to the ML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auses are evaluated using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PLL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cor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184A-2AA7-4FCD-8E60-281E413A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PLL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Kok &amp; Domingos, 2005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pseudo log-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3809880" y="2057040"/>
            <a:ext cx="4110120" cy="1513440"/>
            <a:chOff x="3809880" y="2057040"/>
            <a:chExt cx="4110120" cy="1513440"/>
          </a:xfrm>
        </p:grpSpPr>
        <p:sp>
          <p:nvSpPr>
            <p:cNvPr id="391" name="Text Box 6"/>
            <p:cNvSpPr/>
            <p:nvPr/>
          </p:nvSpPr>
          <p:spPr>
            <a:xfrm>
              <a:off x="3809880" y="2379240"/>
              <a:ext cx="4110120" cy="11912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mpute the likelihood of the data according to the model and take 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 flipV="1">
              <a:off x="5105520" y="2057040"/>
              <a:ext cx="0" cy="304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8"/>
          <p:cNvGrpSpPr/>
          <p:nvPr/>
        </p:nvGrpSpPr>
        <p:grpSpPr>
          <a:xfrm>
            <a:off x="2362320" y="2057400"/>
            <a:ext cx="3887640" cy="2961000"/>
            <a:chOff x="2362320" y="2057400"/>
            <a:chExt cx="3887640" cy="2961000"/>
          </a:xfrm>
        </p:grpSpPr>
        <p:sp>
          <p:nvSpPr>
            <p:cNvPr id="394" name="Text Box 9"/>
            <p:cNvSpPr/>
            <p:nvPr/>
          </p:nvSpPr>
          <p:spPr>
            <a:xfrm>
              <a:off x="2362320" y="3827160"/>
              <a:ext cx="3887640" cy="11912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or each gliteral, condition on its Markov blanket for trac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0"/>
            <p:cNvSpPr/>
            <p:nvPr/>
          </p:nvSpPr>
          <p:spPr>
            <a:xfrm flipV="1">
              <a:off x="3048120" y="2057400"/>
              <a:ext cx="0" cy="1752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380880" y="2057400"/>
            <a:ext cx="5040360" cy="4117680"/>
            <a:chOff x="380880" y="2057400"/>
            <a:chExt cx="5040360" cy="4117680"/>
          </a:xfrm>
        </p:grpSpPr>
        <p:sp>
          <p:nvSpPr>
            <p:cNvPr id="397" name="Text Box 15"/>
            <p:cNvSpPr/>
            <p:nvPr/>
          </p:nvSpPr>
          <p:spPr>
            <a:xfrm>
              <a:off x="380880" y="5349600"/>
              <a:ext cx="5040360" cy="825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ight it so that predicates with greater arity do not domin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143000" y="2057400"/>
              <a:ext cx="0" cy="3276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E24B-DDC3-41C2-8558-354FF1CE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2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learning increases accuracy in the targe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5"/>
          <p:cNvSpPr/>
          <p:nvPr/>
        </p:nvSpPr>
        <p:spPr>
          <a:xfrm flipH="1">
            <a:off x="1522080" y="2592360"/>
            <a:ext cx="324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1523880" y="6095880"/>
            <a:ext cx="6782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377080" y="6167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training data in targe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 rot="16200000">
            <a:off x="-81720" y="35377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3"/>
          <p:cNvGrpSpPr/>
          <p:nvPr/>
        </p:nvGrpSpPr>
        <p:grpSpPr>
          <a:xfrm>
            <a:off x="1523880" y="3048120"/>
            <a:ext cx="6620760" cy="2527200"/>
            <a:chOff x="1523880" y="3048120"/>
            <a:chExt cx="6620760" cy="2527200"/>
          </a:xfrm>
        </p:grpSpPr>
        <p:sp>
          <p:nvSpPr>
            <p:cNvPr id="104" name="Freeform 13"/>
            <p:cNvSpPr/>
            <p:nvPr/>
          </p:nvSpPr>
          <p:spPr>
            <a:xfrm>
              <a:off x="1523880" y="3048120"/>
              <a:ext cx="6233040" cy="252720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7"/>
            <p:cNvSpPr/>
            <p:nvPr/>
          </p:nvSpPr>
          <p:spPr>
            <a:xfrm>
              <a:off x="6333120" y="312408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NO TRANS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1515960" y="2590920"/>
            <a:ext cx="7088400" cy="2222280"/>
            <a:chOff x="1515960" y="2590920"/>
            <a:chExt cx="7088400" cy="2222280"/>
          </a:xfrm>
        </p:grpSpPr>
        <p:sp>
          <p:nvSpPr>
            <p:cNvPr id="107" name="Freeform 16"/>
            <p:cNvSpPr/>
            <p:nvPr/>
          </p:nvSpPr>
          <p:spPr>
            <a:xfrm>
              <a:off x="1515960" y="2971800"/>
              <a:ext cx="6220800" cy="184140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8"/>
            <p:cNvSpPr/>
            <p:nvPr/>
          </p:nvSpPr>
          <p:spPr>
            <a:xfrm>
              <a:off x="5427360" y="2590920"/>
              <a:ext cx="31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TRANSFER FROM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384480" y="4724280"/>
            <a:ext cx="1139400" cy="932400"/>
            <a:chOff x="384480" y="4724280"/>
            <a:chExt cx="1139400" cy="932400"/>
          </a:xfrm>
        </p:grpSpPr>
        <p:sp>
          <p:nvSpPr>
            <p:cNvPr id="110" name="Left Brace 20"/>
            <p:cNvSpPr/>
            <p:nvPr/>
          </p:nvSpPr>
          <p:spPr>
            <a:xfrm>
              <a:off x="1143000" y="4724280"/>
              <a:ext cx="380880" cy="8384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9720 h 838440"/>
                <a:gd name="textAreaBottom" fmla="*/ 8287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1"/>
            <p:cNvSpPr/>
            <p:nvPr/>
          </p:nvSpPr>
          <p:spPr>
            <a:xfrm>
              <a:off x="384480" y="4952880"/>
              <a:ext cx="80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1828440" y="3693960"/>
            <a:ext cx="2311560" cy="1621800"/>
            <a:chOff x="1828440" y="3693960"/>
            <a:chExt cx="2311560" cy="1621800"/>
          </a:xfrm>
        </p:grpSpPr>
        <p:sp>
          <p:nvSpPr>
            <p:cNvPr id="113" name="Straight Connector 26"/>
            <p:cNvSpPr/>
            <p:nvPr/>
          </p:nvSpPr>
          <p:spPr>
            <a:xfrm flipH="1">
              <a:off x="1828440" y="3693960"/>
              <a:ext cx="11880" cy="12229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7"/>
            <p:cNvSpPr/>
            <p:nvPr/>
          </p:nvSpPr>
          <p:spPr>
            <a:xfrm>
              <a:off x="1834920" y="461196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Advantage fr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Limited targe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lchem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source package of MLN software provided by UW that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ference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ight learning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ructure learning algorith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mple data se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ur software uses and extends Alche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349-6D89-43A0-9F2F-D6258874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C655-27B0-4CCC-919D-0D601911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ansfer via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tomatic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pping And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406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AutoShape 7"/>
            <p:cNvCxnSpPr>
              <a:stCxn id="404" idx="1"/>
              <a:endCxn id="406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09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410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2" name="AutoShape 11"/>
            <p:cNvCxnSpPr>
              <a:stCxn id="404" idx="1"/>
              <a:endCxn id="410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13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414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417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25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420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1"/>
          <p:cNvGrpSpPr/>
          <p:nvPr/>
        </p:nvGrpSpPr>
        <p:grpSpPr>
          <a:xfrm>
            <a:off x="5562720" y="1828800"/>
            <a:ext cx="3375360" cy="1008720"/>
            <a:chOff x="5562720" y="1828800"/>
            <a:chExt cx="3375360" cy="1008720"/>
          </a:xfrm>
        </p:grpSpPr>
        <p:sp>
          <p:nvSpPr>
            <p:cNvPr id="423" name="Text Box 22"/>
            <p:cNvSpPr/>
            <p:nvPr/>
          </p:nvSpPr>
          <p:spPr>
            <a:xfrm>
              <a:off x="5963760" y="1828800"/>
              <a:ext cx="297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redicate Mapp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ublication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Mov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visedB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Worked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 flipV="1">
              <a:off x="5562720" y="2050920"/>
              <a:ext cx="457200" cy="38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457200" y="1752480"/>
            <a:ext cx="601992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1C36-DE9D-4F89-80F4-42B316A61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use is mapped independently of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considers all possible ways to map a clause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predicate in the source clause is mapped to some target predicat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argument type in the source is mapped to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actl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ne argument type in the targe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pped clause is evaluated by measuring its WPLL for the target data, and the most accurate mapping is k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3A7-7279-4D13-9766-9280097E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636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4"/>
          <p:cNvGrpSpPr/>
          <p:nvPr/>
        </p:nvGrpSpPr>
        <p:grpSpPr>
          <a:xfrm>
            <a:off x="368280" y="2194200"/>
            <a:ext cx="8431560" cy="1404360"/>
            <a:chOff x="368280" y="2194200"/>
            <a:chExt cx="8431560" cy="1404360"/>
          </a:xfrm>
        </p:grpSpPr>
        <p:sp>
          <p:nvSpPr>
            <p:cNvPr id="433" name="Rectangle 5"/>
            <p:cNvSpPr/>
            <p:nvPr/>
          </p:nvSpPr>
          <p:spPr>
            <a:xfrm>
              <a:off x="533520" y="2194200"/>
              <a:ext cx="8076960" cy="8254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ublication(title, person)                  Movie(name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368280" y="3138840"/>
              <a:ext cx="843156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visedBy(person, person)      WorkedFor(person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"/>
            <p:cNvSpPr/>
            <p:nvPr/>
          </p:nvSpPr>
          <p:spPr>
            <a:xfrm>
              <a:off x="4191120" y="2590920"/>
              <a:ext cx="76176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8"/>
            <p:cNvSpPr/>
            <p:nvPr/>
          </p:nvSpPr>
          <p:spPr>
            <a:xfrm>
              <a:off x="4343400" y="3352680"/>
              <a:ext cx="38088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Picture 9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8534160" cy="4129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0"/>
          <p:cNvSpPr/>
          <p:nvPr/>
        </p:nvSpPr>
        <p:spPr>
          <a:xfrm>
            <a:off x="2301480" y="3886200"/>
            <a:ext cx="47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stent Type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→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→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106-0788-42FC-8D80-77891A54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6360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4"/>
          <p:cNvGrpSpPr/>
          <p:nvPr/>
        </p:nvGrpSpPr>
        <p:grpSpPr>
          <a:xfrm>
            <a:off x="457200" y="2224080"/>
            <a:ext cx="8237520" cy="1404720"/>
            <a:chOff x="457200" y="2224080"/>
            <a:chExt cx="8237520" cy="1404720"/>
          </a:xfrm>
        </p:grpSpPr>
        <p:sp>
          <p:nvSpPr>
            <p:cNvPr id="443" name="Rectangle 5"/>
            <p:cNvSpPr/>
            <p:nvPr/>
          </p:nvSpPr>
          <p:spPr>
            <a:xfrm>
              <a:off x="465120" y="2224080"/>
              <a:ext cx="822960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ublication(title, person)                 Gender(person, gen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6"/>
            <p:cNvSpPr/>
            <p:nvPr/>
          </p:nvSpPr>
          <p:spPr>
            <a:xfrm>
              <a:off x="457200" y="2803320"/>
              <a:ext cx="8237520" cy="8254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visedBy(person, person)         SameGender(gend, gen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>
              <a:off x="4351320" y="2469960"/>
              <a:ext cx="76968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>
              <a:off x="4503600" y="3232080"/>
              <a:ext cx="38412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Picture 9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8572680" cy="3906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0"/>
          <p:cNvSpPr/>
          <p:nvPr/>
        </p:nvSpPr>
        <p:spPr>
          <a:xfrm>
            <a:off x="2377800" y="3733920"/>
            <a:ext cx="47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stent Type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→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→ 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823-6B86-4BC2-B5E1-ADCB5A3C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Transfer via Automatic Mapping And R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453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AutoShape 7"/>
            <p:cNvCxnSpPr>
              <a:stCxn id="451" idx="1"/>
              <a:endCxn id="453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56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457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AutoShape 11"/>
            <p:cNvCxnSpPr>
              <a:stCxn id="451" idx="1"/>
              <a:endCxn id="457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460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461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464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8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467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Oval 24"/>
          <p:cNvSpPr/>
          <p:nvPr/>
        </p:nvSpPr>
        <p:spPr>
          <a:xfrm>
            <a:off x="533520" y="4038480"/>
            <a:ext cx="601956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D727-0AFB-46B8-95F5-D5D0FBA7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as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04920" y="1523880"/>
            <a:ext cx="464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 mapped source MLN as an approximate model for the target task that needs to be accurately and efficiently rev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our general approach is similar to that taken by theory revision system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ichards &amp; Mooney, 19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s are proposed in a bottom-u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5486040" y="1447920"/>
            <a:ext cx="3353040" cy="2437920"/>
            <a:chOff x="5486040" y="1447920"/>
            <a:chExt cx="3353040" cy="2437920"/>
          </a:xfrm>
        </p:grpSpPr>
        <p:sp>
          <p:nvSpPr>
            <p:cNvPr id="474" name="Oval 5"/>
            <p:cNvSpPr/>
            <p:nvPr/>
          </p:nvSpPr>
          <p:spPr>
            <a:xfrm>
              <a:off x="5757840" y="2133360"/>
              <a:ext cx="217476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"/>
            <p:cNvSpPr/>
            <p:nvPr/>
          </p:nvSpPr>
          <p:spPr>
            <a:xfrm>
              <a:off x="5986440" y="236196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ource ML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"/>
            <p:cNvSpPr/>
            <p:nvPr/>
          </p:nvSpPr>
          <p:spPr>
            <a:xfrm flipH="1">
              <a:off x="5486040" y="2895480"/>
              <a:ext cx="63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8"/>
            <p:cNvSpPr/>
            <p:nvPr/>
          </p:nvSpPr>
          <p:spPr>
            <a:xfrm flipH="1">
              <a:off x="5757840" y="2971800"/>
              <a:ext cx="5443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9"/>
            <p:cNvSpPr/>
            <p:nvPr/>
          </p:nvSpPr>
          <p:spPr>
            <a:xfrm flipH="1">
              <a:off x="6028920" y="3047760"/>
              <a:ext cx="453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0"/>
            <p:cNvSpPr/>
            <p:nvPr/>
          </p:nvSpPr>
          <p:spPr>
            <a:xfrm flipH="1">
              <a:off x="6392880" y="3047760"/>
              <a:ext cx="27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1"/>
            <p:cNvSpPr/>
            <p:nvPr/>
          </p:nvSpPr>
          <p:spPr>
            <a:xfrm>
              <a:off x="6754680" y="30477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>
              <a:off x="6935760" y="3047760"/>
              <a:ext cx="18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3"/>
            <p:cNvSpPr/>
            <p:nvPr/>
          </p:nvSpPr>
          <p:spPr>
            <a:xfrm>
              <a:off x="7116480" y="3047760"/>
              <a:ext cx="363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4"/>
            <p:cNvSpPr/>
            <p:nvPr/>
          </p:nvSpPr>
          <p:spPr>
            <a:xfrm>
              <a:off x="7389720" y="2971800"/>
              <a:ext cx="4525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7570800" y="2895480"/>
              <a:ext cx="542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6"/>
            <p:cNvSpPr/>
            <p:nvPr/>
          </p:nvSpPr>
          <p:spPr>
            <a:xfrm>
              <a:off x="7661160" y="2895480"/>
              <a:ext cx="7254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7"/>
            <p:cNvSpPr/>
            <p:nvPr/>
          </p:nvSpPr>
          <p:spPr>
            <a:xfrm>
              <a:off x="7842240" y="2743200"/>
              <a:ext cx="9968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7751520" y="2819160"/>
              <a:ext cx="816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9"/>
            <p:cNvSpPr/>
            <p:nvPr/>
          </p:nvSpPr>
          <p:spPr>
            <a:xfrm>
              <a:off x="684504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0"/>
            <p:cNvSpPr/>
            <p:nvPr/>
          </p:nvSpPr>
          <p:spPr>
            <a:xfrm>
              <a:off x="7026120" y="3047760"/>
              <a:ext cx="2732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1"/>
            <p:cNvSpPr/>
            <p:nvPr/>
          </p:nvSpPr>
          <p:spPr>
            <a:xfrm flipH="1">
              <a:off x="6211440" y="3047760"/>
              <a:ext cx="36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2"/>
            <p:cNvSpPr/>
            <p:nvPr/>
          </p:nvSpPr>
          <p:spPr>
            <a:xfrm flipH="1">
              <a:off x="5847840" y="2971800"/>
              <a:ext cx="54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3"/>
            <p:cNvSpPr/>
            <p:nvPr/>
          </p:nvSpPr>
          <p:spPr>
            <a:xfrm flipH="1">
              <a:off x="657360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4"/>
            <p:cNvSpPr/>
            <p:nvPr/>
          </p:nvSpPr>
          <p:spPr>
            <a:xfrm>
              <a:off x="7299360" y="2971800"/>
              <a:ext cx="361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25"/>
            <p:cNvSpPr/>
            <p:nvPr/>
          </p:nvSpPr>
          <p:spPr>
            <a:xfrm>
              <a:off x="5833800" y="144792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Top-down</a:t>
              </a: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5352480" y="1447920"/>
            <a:ext cx="3486240" cy="4875840"/>
            <a:chOff x="5352480" y="1447920"/>
            <a:chExt cx="3486240" cy="4875840"/>
          </a:xfrm>
        </p:grpSpPr>
        <p:cxnSp>
          <p:nvCxnSpPr>
            <p:cNvPr id="496" name="AutoShape 27"/>
            <p:cNvCxnSpPr>
              <a:stCxn id="497" idx="2"/>
              <a:endCxn id="498" idx="1"/>
            </p:cNvCxnSpPr>
            <p:nvPr/>
          </p:nvCxnSpPr>
          <p:spPr>
            <a:xfrm flipV="1" rot="10800000">
              <a:off x="5581080" y="2390400"/>
              <a:ext cx="57600" cy="2081520"/>
            </a:xfrm>
            <a:prstGeom prst="bentConnector3">
              <a:avLst>
                <a:gd name="adj1" fmla="val 5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99" name="Group 28"/>
            <p:cNvGrpSpPr/>
            <p:nvPr/>
          </p:nvGrpSpPr>
          <p:grpSpPr>
            <a:xfrm>
              <a:off x="5638680" y="2057400"/>
              <a:ext cx="3124080" cy="1294560"/>
              <a:chOff x="5638680" y="2057400"/>
              <a:chExt cx="3124080" cy="1294560"/>
            </a:xfrm>
          </p:grpSpPr>
          <p:sp>
            <p:nvSpPr>
              <p:cNvPr id="497" name="Oval 29"/>
              <p:cNvSpPr/>
              <p:nvPr/>
            </p:nvSpPr>
            <p:spPr>
              <a:xfrm>
                <a:off x="5638680" y="2057400"/>
                <a:ext cx="2205000" cy="665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30"/>
              <p:cNvSpPr/>
              <p:nvPr/>
            </p:nvSpPr>
            <p:spPr>
              <a:xfrm>
                <a:off x="5822640" y="2222640"/>
                <a:ext cx="229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ource ML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1"/>
              <p:cNvSpPr/>
              <p:nvPr/>
            </p:nvSpPr>
            <p:spPr>
              <a:xfrm flipH="1">
                <a:off x="5913720" y="2667240"/>
                <a:ext cx="3675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2"/>
              <p:cNvSpPr/>
              <p:nvPr/>
            </p:nvSpPr>
            <p:spPr>
              <a:xfrm>
                <a:off x="6649560" y="274212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33"/>
              <p:cNvSpPr/>
              <p:nvPr/>
            </p:nvSpPr>
            <p:spPr>
              <a:xfrm>
                <a:off x="7016760" y="2722680"/>
                <a:ext cx="367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34"/>
              <p:cNvSpPr/>
              <p:nvPr/>
            </p:nvSpPr>
            <p:spPr>
              <a:xfrm>
                <a:off x="7476480" y="2631240"/>
                <a:ext cx="5511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5"/>
              <p:cNvSpPr/>
              <p:nvPr/>
            </p:nvSpPr>
            <p:spPr>
              <a:xfrm>
                <a:off x="7752240" y="2520720"/>
                <a:ext cx="1010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6"/>
            <p:cNvGrpSpPr/>
            <p:nvPr/>
          </p:nvGrpSpPr>
          <p:grpSpPr>
            <a:xfrm>
              <a:off x="5410080" y="3352680"/>
              <a:ext cx="3428640" cy="2971080"/>
              <a:chOff x="5410080" y="3352680"/>
              <a:chExt cx="3428640" cy="2971080"/>
            </a:xfrm>
          </p:grpSpPr>
          <p:sp>
            <p:nvSpPr>
              <p:cNvPr id="507" name="Oval 37"/>
              <p:cNvSpPr/>
              <p:nvPr/>
            </p:nvSpPr>
            <p:spPr>
              <a:xfrm>
                <a:off x="5410080" y="5320440"/>
                <a:ext cx="2485440" cy="10033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Target Train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8"/>
              <p:cNvSpPr/>
              <p:nvPr/>
            </p:nvSpPr>
            <p:spPr>
              <a:xfrm>
                <a:off x="5581080" y="3969720"/>
                <a:ext cx="2400120" cy="10033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-Driv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Revi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pos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6695640" y="4973400"/>
                <a:ext cx="0" cy="30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5838480" y="3429360"/>
                <a:ext cx="51408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 flipV="1">
                <a:off x="7295760" y="3352680"/>
                <a:ext cx="15429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Text Box 42"/>
            <p:cNvSpPr/>
            <p:nvPr/>
          </p:nvSpPr>
          <p:spPr>
            <a:xfrm>
              <a:off x="5943600" y="144792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Bottom-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05D9-9D73-49F0-988F-7AA7A292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5"/>
          <p:cNvSpPr/>
          <p:nvPr/>
        </p:nvSpPr>
        <p:spPr>
          <a:xfrm>
            <a:off x="533520" y="5029200"/>
            <a:ext cx="6629400" cy="15238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TAMA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452520" y="3048120"/>
            <a:ext cx="2514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452520" y="1752480"/>
            <a:ext cx="2438280" cy="1143000"/>
            <a:chOff x="452520" y="1752480"/>
            <a:chExt cx="2438280" cy="1143000"/>
          </a:xfrm>
        </p:grpSpPr>
        <p:grpSp>
          <p:nvGrpSpPr>
            <p:cNvPr id="517" name="Group 5"/>
            <p:cNvGrpSpPr/>
            <p:nvPr/>
          </p:nvGrpSpPr>
          <p:grpSpPr>
            <a:xfrm>
              <a:off x="452520" y="1752480"/>
              <a:ext cx="2438280" cy="228600"/>
              <a:chOff x="452520" y="1752480"/>
              <a:chExt cx="2438280" cy="228600"/>
            </a:xfrm>
          </p:grpSpPr>
          <p:sp>
            <p:nvSpPr>
              <p:cNvPr id="518" name="Rectangle 6"/>
              <p:cNvSpPr/>
              <p:nvPr/>
            </p:nvSpPr>
            <p:spPr>
              <a:xfrm>
                <a:off x="452520" y="17524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7"/>
              <p:cNvSpPr/>
              <p:nvPr/>
            </p:nvSpPr>
            <p:spPr>
              <a:xfrm>
                <a:off x="2585880" y="17524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452520" y="1981080"/>
              <a:ext cx="2438280" cy="228600"/>
              <a:chOff x="452520" y="1981080"/>
              <a:chExt cx="2438280" cy="228600"/>
            </a:xfrm>
          </p:grpSpPr>
          <p:sp>
            <p:nvSpPr>
              <p:cNvPr id="521" name="Rectangle 9"/>
              <p:cNvSpPr/>
              <p:nvPr/>
            </p:nvSpPr>
            <p:spPr>
              <a:xfrm>
                <a:off x="452520" y="19810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0"/>
              <p:cNvSpPr/>
              <p:nvPr/>
            </p:nvSpPr>
            <p:spPr>
              <a:xfrm>
                <a:off x="2585880" y="19810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1"/>
            <p:cNvGrpSpPr/>
            <p:nvPr/>
          </p:nvGrpSpPr>
          <p:grpSpPr>
            <a:xfrm>
              <a:off x="452520" y="2209680"/>
              <a:ext cx="2438280" cy="228600"/>
              <a:chOff x="452520" y="2209680"/>
              <a:chExt cx="2438280" cy="228600"/>
            </a:xfrm>
          </p:grpSpPr>
          <p:sp>
            <p:nvSpPr>
              <p:cNvPr id="524" name="Rectangle 12"/>
              <p:cNvSpPr/>
              <p:nvPr/>
            </p:nvSpPr>
            <p:spPr>
              <a:xfrm>
                <a:off x="452520" y="22096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3"/>
              <p:cNvSpPr/>
              <p:nvPr/>
            </p:nvSpPr>
            <p:spPr>
              <a:xfrm>
                <a:off x="2585880" y="22096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4"/>
            <p:cNvGrpSpPr/>
            <p:nvPr/>
          </p:nvGrpSpPr>
          <p:grpSpPr>
            <a:xfrm>
              <a:off x="452520" y="2438280"/>
              <a:ext cx="2438280" cy="228600"/>
              <a:chOff x="452520" y="2438280"/>
              <a:chExt cx="2438280" cy="228600"/>
            </a:xfrm>
          </p:grpSpPr>
          <p:sp>
            <p:nvSpPr>
              <p:cNvPr id="527" name="Rectangle 15"/>
              <p:cNvSpPr/>
              <p:nvPr/>
            </p:nvSpPr>
            <p:spPr>
              <a:xfrm>
                <a:off x="452520" y="24382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6"/>
              <p:cNvSpPr/>
              <p:nvPr/>
            </p:nvSpPr>
            <p:spPr>
              <a:xfrm>
                <a:off x="2585880" y="24382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7"/>
            <p:cNvGrpSpPr/>
            <p:nvPr/>
          </p:nvGrpSpPr>
          <p:grpSpPr>
            <a:xfrm>
              <a:off x="452520" y="2666880"/>
              <a:ext cx="2438280" cy="228600"/>
              <a:chOff x="452520" y="2666880"/>
              <a:chExt cx="2438280" cy="228600"/>
            </a:xfrm>
          </p:grpSpPr>
          <p:sp>
            <p:nvSpPr>
              <p:cNvPr id="530" name="Rectangle 18"/>
              <p:cNvSpPr/>
              <p:nvPr/>
            </p:nvSpPr>
            <p:spPr>
              <a:xfrm>
                <a:off x="452520" y="2666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9"/>
              <p:cNvSpPr/>
              <p:nvPr/>
            </p:nvSpPr>
            <p:spPr>
              <a:xfrm>
                <a:off x="2585880" y="2666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20"/>
          <p:cNvGrpSpPr/>
          <p:nvPr/>
        </p:nvGrpSpPr>
        <p:grpSpPr>
          <a:xfrm>
            <a:off x="2890800" y="1752480"/>
            <a:ext cx="2743200" cy="1599840"/>
            <a:chOff x="2890800" y="1752480"/>
            <a:chExt cx="2743200" cy="1599840"/>
          </a:xfrm>
        </p:grpSpPr>
        <p:sp>
          <p:nvSpPr>
            <p:cNvPr id="533" name="Oval 21"/>
            <p:cNvSpPr/>
            <p:nvPr/>
          </p:nvSpPr>
          <p:spPr>
            <a:xfrm>
              <a:off x="3576600" y="1752480"/>
              <a:ext cx="1981440" cy="137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3500640" y="190512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elf-diagno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 flipV="1">
              <a:off x="2967120" y="2742840"/>
              <a:ext cx="762120" cy="6094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2890800" y="2133720"/>
              <a:ext cx="762120" cy="75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26"/>
          <p:cNvSpPr/>
          <p:nvPr/>
        </p:nvSpPr>
        <p:spPr>
          <a:xfrm>
            <a:off x="3043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7"/>
          <p:cNvSpPr/>
          <p:nvPr/>
        </p:nvSpPr>
        <p:spPr>
          <a:xfrm>
            <a:off x="3043080" y="579132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3048120" y="609588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6472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0"/>
          <p:cNvSpPr/>
          <p:nvPr/>
        </p:nvSpPr>
        <p:spPr>
          <a:xfrm>
            <a:off x="7543800" y="5181480"/>
            <a:ext cx="1600200" cy="703800"/>
          </a:xfrm>
          <a:prstGeom prst="borderCallout1">
            <a:avLst>
              <a:gd name="adj1" fmla="val 18750"/>
              <a:gd name="adj2" fmla="val -8333"/>
              <a:gd name="adj3" fmla="val 27347"/>
              <a:gd name="adj4" fmla="val -22106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6477120" y="579132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33"/>
          <p:cNvGrpSpPr/>
          <p:nvPr/>
        </p:nvGrpSpPr>
        <p:grpSpPr>
          <a:xfrm>
            <a:off x="5557680" y="1676520"/>
            <a:ext cx="3281400" cy="1143000"/>
            <a:chOff x="5557680" y="1676520"/>
            <a:chExt cx="3281400" cy="1143000"/>
          </a:xfrm>
        </p:grpSpPr>
        <p:sp>
          <p:nvSpPr>
            <p:cNvPr id="544" name="Line 34"/>
            <p:cNvSpPr/>
            <p:nvPr/>
          </p:nvSpPr>
          <p:spPr>
            <a:xfrm>
              <a:off x="5557680" y="2438280"/>
              <a:ext cx="838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35"/>
            <p:cNvGrpSpPr/>
            <p:nvPr/>
          </p:nvGrpSpPr>
          <p:grpSpPr>
            <a:xfrm>
              <a:off x="6400800" y="1676520"/>
              <a:ext cx="2438280" cy="1143000"/>
              <a:chOff x="6400800" y="1676520"/>
              <a:chExt cx="2438280" cy="1143000"/>
            </a:xfrm>
          </p:grpSpPr>
          <p:grpSp>
            <p:nvGrpSpPr>
              <p:cNvPr id="546" name="Group 36"/>
              <p:cNvGrpSpPr/>
              <p:nvPr/>
            </p:nvGrpSpPr>
            <p:grpSpPr>
              <a:xfrm>
                <a:off x="6400800" y="1676520"/>
                <a:ext cx="2438280" cy="228600"/>
                <a:chOff x="6400800" y="1676520"/>
                <a:chExt cx="2438280" cy="228600"/>
              </a:xfrm>
            </p:grpSpPr>
            <p:sp>
              <p:nvSpPr>
                <p:cNvPr id="547" name="Rectangle 37"/>
                <p:cNvSpPr/>
                <p:nvPr/>
              </p:nvSpPr>
              <p:spPr>
                <a:xfrm>
                  <a:off x="6400800" y="16765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38"/>
                <p:cNvSpPr/>
                <p:nvPr/>
              </p:nvSpPr>
              <p:spPr>
                <a:xfrm>
                  <a:off x="8534160" y="16765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39"/>
              <p:cNvGrpSpPr/>
              <p:nvPr/>
            </p:nvGrpSpPr>
            <p:grpSpPr>
              <a:xfrm>
                <a:off x="6400800" y="1905120"/>
                <a:ext cx="2438280" cy="228600"/>
                <a:chOff x="6400800" y="1905120"/>
                <a:chExt cx="2438280" cy="228600"/>
              </a:xfrm>
            </p:grpSpPr>
            <p:sp>
              <p:nvSpPr>
                <p:cNvPr id="550" name="Rectangle 40"/>
                <p:cNvSpPr/>
                <p:nvPr/>
              </p:nvSpPr>
              <p:spPr>
                <a:xfrm>
                  <a:off x="6400800" y="19051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41"/>
                <p:cNvSpPr/>
                <p:nvPr/>
              </p:nvSpPr>
              <p:spPr>
                <a:xfrm>
                  <a:off x="8534160" y="19051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42"/>
              <p:cNvGrpSpPr/>
              <p:nvPr/>
            </p:nvGrpSpPr>
            <p:grpSpPr>
              <a:xfrm>
                <a:off x="6400800" y="2133720"/>
                <a:ext cx="2438280" cy="228600"/>
                <a:chOff x="6400800" y="2133720"/>
                <a:chExt cx="2438280" cy="228600"/>
              </a:xfrm>
            </p:grpSpPr>
            <p:sp>
              <p:nvSpPr>
                <p:cNvPr id="553" name="Rectangle 43"/>
                <p:cNvSpPr/>
                <p:nvPr/>
              </p:nvSpPr>
              <p:spPr>
                <a:xfrm>
                  <a:off x="6400800" y="21337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44"/>
                <p:cNvSpPr/>
                <p:nvPr/>
              </p:nvSpPr>
              <p:spPr>
                <a:xfrm>
                  <a:off x="8534160" y="21337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Group 45"/>
              <p:cNvGrpSpPr/>
              <p:nvPr/>
            </p:nvGrpSpPr>
            <p:grpSpPr>
              <a:xfrm>
                <a:off x="6400800" y="2362320"/>
                <a:ext cx="2438280" cy="228600"/>
                <a:chOff x="6400800" y="2362320"/>
                <a:chExt cx="2438280" cy="228600"/>
              </a:xfrm>
            </p:grpSpPr>
            <p:sp>
              <p:nvSpPr>
                <p:cNvPr id="556" name="Rectangle 46"/>
                <p:cNvSpPr/>
                <p:nvPr/>
              </p:nvSpPr>
              <p:spPr>
                <a:xfrm>
                  <a:off x="6400800" y="23623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47"/>
                <p:cNvSpPr/>
                <p:nvPr/>
              </p:nvSpPr>
              <p:spPr>
                <a:xfrm>
                  <a:off x="8534160" y="23623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48"/>
              <p:cNvGrpSpPr/>
              <p:nvPr/>
            </p:nvGrpSpPr>
            <p:grpSpPr>
              <a:xfrm>
                <a:off x="6400800" y="2590920"/>
                <a:ext cx="2438280" cy="228600"/>
                <a:chOff x="6400800" y="2590920"/>
                <a:chExt cx="2438280" cy="228600"/>
              </a:xfrm>
            </p:grpSpPr>
            <p:sp>
              <p:nvSpPr>
                <p:cNvPr id="559" name="Rectangle 49"/>
                <p:cNvSpPr/>
                <p:nvPr/>
              </p:nvSpPr>
              <p:spPr>
                <a:xfrm>
                  <a:off x="6400800" y="25909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50"/>
                <p:cNvSpPr/>
                <p:nvPr/>
              </p:nvSpPr>
              <p:spPr>
                <a:xfrm>
                  <a:off x="8534160" y="25909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1" name="Group 51"/>
          <p:cNvGrpSpPr/>
          <p:nvPr/>
        </p:nvGrpSpPr>
        <p:grpSpPr>
          <a:xfrm>
            <a:off x="6553080" y="1676520"/>
            <a:ext cx="1834920" cy="1143000"/>
            <a:chOff x="6553080" y="1676520"/>
            <a:chExt cx="1834920" cy="1143000"/>
          </a:xfrm>
        </p:grpSpPr>
        <p:sp>
          <p:nvSpPr>
            <p:cNvPr id="562" name="Rectangle 52"/>
            <p:cNvSpPr/>
            <p:nvPr/>
          </p:nvSpPr>
          <p:spPr>
            <a:xfrm>
              <a:off x="6559200" y="25909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3"/>
            <p:cNvSpPr/>
            <p:nvPr/>
          </p:nvSpPr>
          <p:spPr>
            <a:xfrm>
              <a:off x="6559200" y="2133720"/>
              <a:ext cx="1828800" cy="228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Sh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4"/>
            <p:cNvSpPr/>
            <p:nvPr/>
          </p:nvSpPr>
          <p:spPr>
            <a:xfrm>
              <a:off x="6559200" y="23623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55"/>
            <p:cNvSpPr/>
            <p:nvPr/>
          </p:nvSpPr>
          <p:spPr>
            <a:xfrm>
              <a:off x="6553080" y="16765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6"/>
            <p:cNvSpPr/>
            <p:nvPr/>
          </p:nvSpPr>
          <p:spPr>
            <a:xfrm>
              <a:off x="6553080" y="19051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57"/>
          <p:cNvGrpSpPr/>
          <p:nvPr/>
        </p:nvGrpSpPr>
        <p:grpSpPr>
          <a:xfrm>
            <a:off x="6138720" y="1752480"/>
            <a:ext cx="2857320" cy="2943720"/>
            <a:chOff x="6138720" y="1752480"/>
            <a:chExt cx="2857320" cy="2943720"/>
          </a:xfrm>
        </p:grpSpPr>
        <p:sp>
          <p:nvSpPr>
            <p:cNvPr id="568" name="Oval 58"/>
            <p:cNvSpPr/>
            <p:nvPr/>
          </p:nvSpPr>
          <p:spPr>
            <a:xfrm>
              <a:off x="6214680" y="3352680"/>
              <a:ext cx="2286000" cy="12952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9"/>
            <p:cNvSpPr/>
            <p:nvPr/>
          </p:nvSpPr>
          <p:spPr>
            <a:xfrm>
              <a:off x="6367320" y="35049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irected Beam 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0"/>
            <p:cNvSpPr/>
            <p:nvPr/>
          </p:nvSpPr>
          <p:spPr>
            <a:xfrm>
              <a:off x="8119800" y="2285640"/>
              <a:ext cx="596880" cy="1295640"/>
            </a:xfrm>
            <a:prstGeom prst="pie">
              <a:avLst/>
            </a:pr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1"/>
            <p:cNvSpPr/>
            <p:nvPr/>
          </p:nvSpPr>
          <p:spPr>
            <a:xfrm>
              <a:off x="8272080" y="1752480"/>
              <a:ext cx="723960" cy="198108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2"/>
            <p:cNvSpPr/>
            <p:nvPr/>
          </p:nvSpPr>
          <p:spPr>
            <a:xfrm>
              <a:off x="6138720" y="2742840"/>
              <a:ext cx="444240" cy="83844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Line 64"/>
          <p:cNvSpPr/>
          <p:nvPr/>
        </p:nvSpPr>
        <p:spPr>
          <a:xfrm flipH="1">
            <a:off x="6395760" y="4648320"/>
            <a:ext cx="68580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6"/>
          <p:cNvSpPr/>
          <p:nvPr/>
        </p:nvSpPr>
        <p:spPr>
          <a:xfrm>
            <a:off x="76212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andidat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04"/>
          <p:cNvGrpSpPr/>
          <p:nvPr/>
        </p:nvGrpSpPr>
        <p:grpSpPr>
          <a:xfrm>
            <a:off x="609480" y="5486400"/>
            <a:ext cx="2438280" cy="838080"/>
            <a:chOff x="609480" y="5486400"/>
            <a:chExt cx="2438280" cy="838080"/>
          </a:xfrm>
        </p:grpSpPr>
        <p:grpSp>
          <p:nvGrpSpPr>
            <p:cNvPr id="576" name="Group 67"/>
            <p:cNvGrpSpPr/>
            <p:nvPr/>
          </p:nvGrpSpPr>
          <p:grpSpPr>
            <a:xfrm>
              <a:off x="609480" y="5486400"/>
              <a:ext cx="2438280" cy="228600"/>
              <a:chOff x="609480" y="5486400"/>
              <a:chExt cx="2438280" cy="228600"/>
            </a:xfrm>
          </p:grpSpPr>
          <p:sp>
            <p:nvSpPr>
              <p:cNvPr id="577" name="Rectangle 68"/>
              <p:cNvSpPr/>
              <p:nvPr/>
            </p:nvSpPr>
            <p:spPr>
              <a:xfrm>
                <a:off x="609480" y="548640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9"/>
              <p:cNvSpPr/>
              <p:nvPr/>
            </p:nvSpPr>
            <p:spPr>
              <a:xfrm>
                <a:off x="2742840" y="548640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70"/>
            <p:cNvGrpSpPr/>
            <p:nvPr/>
          </p:nvGrpSpPr>
          <p:grpSpPr>
            <a:xfrm>
              <a:off x="609480" y="5791320"/>
              <a:ext cx="2438280" cy="228600"/>
              <a:chOff x="609480" y="5791320"/>
              <a:chExt cx="2438280" cy="228600"/>
            </a:xfrm>
          </p:grpSpPr>
          <p:sp>
            <p:nvSpPr>
              <p:cNvPr id="580" name="Rectangle 71"/>
              <p:cNvSpPr/>
              <p:nvPr/>
            </p:nvSpPr>
            <p:spPr>
              <a:xfrm>
                <a:off x="609480" y="57913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72"/>
              <p:cNvSpPr/>
              <p:nvPr/>
            </p:nvSpPr>
            <p:spPr>
              <a:xfrm>
                <a:off x="2742840" y="579132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73"/>
            <p:cNvGrpSpPr/>
            <p:nvPr/>
          </p:nvGrpSpPr>
          <p:grpSpPr>
            <a:xfrm>
              <a:off x="609480" y="6095880"/>
              <a:ext cx="2438280" cy="228600"/>
              <a:chOff x="609480" y="6095880"/>
              <a:chExt cx="2438280" cy="228600"/>
            </a:xfrm>
          </p:grpSpPr>
          <p:sp>
            <p:nvSpPr>
              <p:cNvPr id="583" name="Rectangle 74"/>
              <p:cNvSpPr/>
              <p:nvPr/>
            </p:nvSpPr>
            <p:spPr>
              <a:xfrm>
                <a:off x="609480" y="6095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New Clause 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5"/>
              <p:cNvSpPr/>
              <p:nvPr/>
            </p:nvSpPr>
            <p:spPr>
              <a:xfrm>
                <a:off x="2742840" y="6095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Oval 94"/>
          <p:cNvSpPr/>
          <p:nvPr/>
        </p:nvSpPr>
        <p:spPr>
          <a:xfrm>
            <a:off x="3429000" y="3352680"/>
            <a:ext cx="1981080" cy="13716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cl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6"/>
          <p:cNvSpPr/>
          <p:nvPr/>
        </p:nvSpPr>
        <p:spPr>
          <a:xfrm>
            <a:off x="4876920" y="4648320"/>
            <a:ext cx="30456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97"/>
          <p:cNvGrpSpPr/>
          <p:nvPr/>
        </p:nvGrpSpPr>
        <p:grpSpPr>
          <a:xfrm>
            <a:off x="4038480" y="5486400"/>
            <a:ext cx="2438280" cy="228600"/>
            <a:chOff x="4038480" y="5486400"/>
            <a:chExt cx="2438280" cy="228600"/>
          </a:xfrm>
        </p:grpSpPr>
        <p:sp>
          <p:nvSpPr>
            <p:cNvPr id="588" name="Rectangle 98"/>
            <p:cNvSpPr/>
            <p:nvPr/>
          </p:nvSpPr>
          <p:spPr>
            <a:xfrm>
              <a:off x="4038480" y="548640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99"/>
            <p:cNvSpPr/>
            <p:nvPr/>
          </p:nvSpPr>
          <p:spPr>
            <a:xfrm>
              <a:off x="6171840" y="548640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00"/>
          <p:cNvGrpSpPr/>
          <p:nvPr/>
        </p:nvGrpSpPr>
        <p:grpSpPr>
          <a:xfrm>
            <a:off x="4038480" y="5791320"/>
            <a:ext cx="2438280" cy="228600"/>
            <a:chOff x="4038480" y="5791320"/>
            <a:chExt cx="2438280" cy="228600"/>
          </a:xfrm>
        </p:grpSpPr>
        <p:sp>
          <p:nvSpPr>
            <p:cNvPr id="591" name="Rectangle 101"/>
            <p:cNvSpPr/>
            <p:nvPr/>
          </p:nvSpPr>
          <p:spPr>
            <a:xfrm>
              <a:off x="4038480" y="579132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02"/>
            <p:cNvSpPr/>
            <p:nvPr/>
          </p:nvSpPr>
          <p:spPr>
            <a:xfrm>
              <a:off x="6171840" y="579132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Line 103"/>
          <p:cNvSpPr/>
          <p:nvPr/>
        </p:nvSpPr>
        <p:spPr>
          <a:xfrm>
            <a:off x="2971800" y="3505320"/>
            <a:ext cx="500040" cy="40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90"/>
          <p:cNvGrpSpPr/>
          <p:nvPr/>
        </p:nvGrpSpPr>
        <p:grpSpPr>
          <a:xfrm>
            <a:off x="380880" y="5715000"/>
            <a:ext cx="6858000" cy="685800"/>
            <a:chOff x="380880" y="5715000"/>
            <a:chExt cx="6858000" cy="685800"/>
          </a:xfrm>
        </p:grpSpPr>
        <p:sp>
          <p:nvSpPr>
            <p:cNvPr id="595" name="Oval 91"/>
            <p:cNvSpPr/>
            <p:nvPr/>
          </p:nvSpPr>
          <p:spPr>
            <a:xfrm>
              <a:off x="3962520" y="5715000"/>
              <a:ext cx="327636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2"/>
            <p:cNvSpPr/>
            <p:nvPr/>
          </p:nvSpPr>
          <p:spPr>
            <a:xfrm>
              <a:off x="380880" y="6019920"/>
              <a:ext cx="342900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C85E-2D20-4D34-82A3-888E6721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TAMAR: Self-Diagno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pped source MLN to make inferences in the target and observe the behavior of each cl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ider each predicat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in the domain in tur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Gibbs sampling to infer truth values for the gliterals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 using the remaining gliterals as evidenc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in the clauses containing gliterals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based on whether they behave as desire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s are focused only on clauses in the “Bad”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56C-6F6E-464F-B059-D2208B19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5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9"/>
          <p:cNvSpPr/>
          <p:nvPr/>
        </p:nvSpPr>
        <p:spPr>
          <a:xfrm>
            <a:off x="304920" y="1752480"/>
            <a:ext cx="2590560" cy="38124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1"/>
          <p:cNvSpPr/>
          <p:nvPr/>
        </p:nvSpPr>
        <p:spPr>
          <a:xfrm>
            <a:off x="1219320" y="137160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7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47EE-BC52-46C2-8664-8D0BF76C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ent Work on 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DARPA program on Transfer Learning has led to significant recent research 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feature-vector class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erarchical Baye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Yu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Lawrence &amp; Platt, 2004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ve Bayesian Prior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aina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osting for transfer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Dai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uctural Correspondence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litze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Reinforcement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alue-function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ylor &amp; Stone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vice-based policy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orrey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1A4-3F49-4528-A528-31A4827F2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"/>
          <p:cNvSpPr/>
          <p:nvPr/>
        </p:nvSpPr>
        <p:spPr>
          <a:xfrm>
            <a:off x="2819520" y="2133720"/>
            <a:ext cx="281916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1219320" y="144792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0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5735520" cy="284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1"/>
          <p:cNvSpPr/>
          <p:nvPr/>
        </p:nvSpPr>
        <p:spPr>
          <a:xfrm>
            <a:off x="6096960" y="365652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7673760" y="3656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B666-5744-4BFD-A032-F1972547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8"/>
          <p:cNvSpPr/>
          <p:nvPr/>
        </p:nvSpPr>
        <p:spPr>
          <a:xfrm>
            <a:off x="1219320" y="144792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0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5735520" cy="2844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1"/>
          <p:cNvSpPr/>
          <p:nvPr/>
        </p:nvSpPr>
        <p:spPr>
          <a:xfrm>
            <a:off x="6096960" y="365652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7673760" y="3656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3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5632560" cy="2793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4"/>
          <p:cNvSpPr/>
          <p:nvPr/>
        </p:nvSpPr>
        <p:spPr>
          <a:xfrm>
            <a:off x="6090480" y="4570920"/>
            <a:ext cx="19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r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7812000" y="4570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2B5B-4E70-4BCB-BE0F-43A9B288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lf-Diagnosis: Clause B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52280" y="1225080"/>
            <a:ext cx="5550120" cy="150444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019920" y="1447920"/>
            <a:ext cx="2743200" cy="1095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glit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(br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6021000" y="289440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281560" cy="2840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8"/>
          <p:cNvSpPr/>
          <p:nvPr/>
        </p:nvSpPr>
        <p:spPr>
          <a:xfrm>
            <a:off x="7591320" y="28944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5735520" cy="2844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0"/>
          <p:cNvSpPr/>
          <p:nvPr/>
        </p:nvSpPr>
        <p:spPr>
          <a:xfrm>
            <a:off x="6096960" y="3656520"/>
            <a:ext cx="18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7673760" y="36565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2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5632560" cy="2793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3"/>
          <p:cNvSpPr/>
          <p:nvPr/>
        </p:nvSpPr>
        <p:spPr>
          <a:xfrm>
            <a:off x="6090480" y="4570920"/>
            <a:ext cx="19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r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7812000" y="4570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5"/>
          <p:cNvGrpSpPr/>
          <p:nvPr/>
        </p:nvGrpSpPr>
        <p:grpSpPr>
          <a:xfrm>
            <a:off x="0" y="5562720"/>
            <a:ext cx="6019920" cy="582480"/>
            <a:chOff x="0" y="5562720"/>
            <a:chExt cx="6019920" cy="582480"/>
          </a:xfrm>
        </p:grpSpPr>
        <p:pic>
          <p:nvPicPr>
            <p:cNvPr id="649" name="Picture 16" descr=""/>
            <p:cNvPicPr/>
            <p:nvPr/>
          </p:nvPicPr>
          <p:blipFill>
            <a:blip r:embed="rId4"/>
            <a:stretch/>
          </p:blipFill>
          <p:spPr>
            <a:xfrm>
              <a:off x="0" y="5562720"/>
              <a:ext cx="60199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17" descr=""/>
            <p:cNvPicPr/>
            <p:nvPr/>
          </p:nvPicPr>
          <p:blipFill>
            <a:blip r:embed="rId5"/>
            <a:stretch/>
          </p:blipFill>
          <p:spPr>
            <a:xfrm>
              <a:off x="4038840" y="5867640"/>
              <a:ext cx="19810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Rectangle 18"/>
          <p:cNvSpPr/>
          <p:nvPr/>
        </p:nvSpPr>
        <p:spPr>
          <a:xfrm>
            <a:off x="1219320" y="1447920"/>
            <a:ext cx="1523880" cy="38088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6090480" y="5409000"/>
            <a:ext cx="19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rreleva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7826400" y="540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25"/>
          <p:cNvGrpSpPr/>
          <p:nvPr/>
        </p:nvGrpSpPr>
        <p:grpSpPr>
          <a:xfrm>
            <a:off x="6709680" y="3314520"/>
            <a:ext cx="1152360" cy="2931840"/>
            <a:chOff x="6709680" y="3314520"/>
            <a:chExt cx="1152360" cy="2931840"/>
          </a:xfrm>
        </p:grpSpPr>
        <p:sp>
          <p:nvSpPr>
            <p:cNvPr id="655" name="Rectangle 26"/>
            <p:cNvSpPr/>
            <p:nvPr/>
          </p:nvSpPr>
          <p:spPr>
            <a:xfrm rot="19081800">
              <a:off x="6677640" y="3670920"/>
              <a:ext cx="1207800" cy="368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engt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7"/>
            <p:cNvSpPr/>
            <p:nvPr/>
          </p:nvSpPr>
          <p:spPr>
            <a:xfrm rot="19040400">
              <a:off x="6839640" y="5576400"/>
              <a:ext cx="1034280" cy="368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ort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A32-6977-4EDD-859F-5558479E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Revi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04920" y="129528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directed beam 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deletions attempted only from clauses marked for short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additions attempted only for clauses marked for length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is much faster since search space is constra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miting the clauses considered for up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stricting the type of update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7615-DB1A-4A18-A961-D11D6FF8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lause Discove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Relational Pathfind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ichards &amp; Mooney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1827360" y="3048120"/>
            <a:ext cx="129528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904400" y="31240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5195880" y="3048120"/>
            <a:ext cx="144792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5257800" y="31240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3198960" y="4800600"/>
            <a:ext cx="167616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3198960" y="4890960"/>
            <a:ext cx="18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5942160" y="4800600"/>
            <a:ext cx="1752480" cy="6858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6020280" y="489096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AutoShape 12"/>
          <p:cNvCxnSpPr>
            <a:stCxn id="663" idx="6"/>
            <a:endCxn id="665" idx="2"/>
          </p:cNvCxnSpPr>
          <p:nvPr/>
        </p:nvCxnSpPr>
        <p:spPr>
          <a:xfrm>
            <a:off x="3136680" y="3390480"/>
            <a:ext cx="2045160" cy="10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672" name="AutoShape 13"/>
          <p:cNvCxnSpPr>
            <a:stCxn id="663" idx="4"/>
            <a:endCxn id="667" idx="1"/>
          </p:cNvCxnSpPr>
          <p:nvPr/>
        </p:nvCxnSpPr>
        <p:spPr>
          <a:xfrm>
            <a:off x="2475000" y="3747960"/>
            <a:ext cx="970560" cy="11390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673" name="AutoShape 14"/>
          <p:cNvCxnSpPr>
            <a:stCxn id="667" idx="7"/>
            <a:endCxn id="665" idx="4"/>
          </p:cNvCxnSpPr>
          <p:nvPr/>
        </p:nvCxnSpPr>
        <p:spPr>
          <a:xfrm flipV="1">
            <a:off x="4628880" y="3747600"/>
            <a:ext cx="1291320" cy="11390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674" name="AutoShape 15"/>
          <p:cNvCxnSpPr>
            <a:stCxn id="665" idx="5"/>
            <a:endCxn id="669" idx="0"/>
          </p:cNvCxnSpPr>
          <p:nvPr/>
        </p:nvCxnSpPr>
        <p:spPr>
          <a:xfrm>
            <a:off x="6431040" y="3647880"/>
            <a:ext cx="388080" cy="11386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675" name="Text Box 16"/>
          <p:cNvSpPr/>
          <p:nvPr/>
        </p:nvSpPr>
        <p:spPr>
          <a:xfrm>
            <a:off x="319896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d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7"/>
          <p:cNvSpPr/>
          <p:nvPr/>
        </p:nvSpPr>
        <p:spPr>
          <a:xfrm rot="3025800">
            <a:off x="2214720" y="426924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8"/>
          <p:cNvSpPr/>
          <p:nvPr/>
        </p:nvSpPr>
        <p:spPr>
          <a:xfrm rot="19152600">
            <a:off x="4875480" y="419076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9"/>
          <p:cNvSpPr/>
          <p:nvPr/>
        </p:nvSpPr>
        <p:spPr>
          <a:xfrm rot="4203000">
            <a:off x="6238440" y="38930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0"/>
          <p:cNvSpPr/>
          <p:nvPr/>
        </p:nvSpPr>
        <p:spPr>
          <a:xfrm>
            <a:off x="1357920" y="2067120"/>
            <a:ext cx="5878800" cy="88236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tor(brando) Director(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godFather, brando) Movie(godFather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vie(rainMaker, coppola) WorkedFor(brando, coppo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1"/>
          <p:cNvGrpSpPr/>
          <p:nvPr/>
        </p:nvGrpSpPr>
        <p:grpSpPr>
          <a:xfrm>
            <a:off x="2513160" y="3733920"/>
            <a:ext cx="3429000" cy="1143000"/>
            <a:chOff x="2513160" y="3733920"/>
            <a:chExt cx="3429000" cy="1143000"/>
          </a:xfrm>
        </p:grpSpPr>
        <p:sp>
          <p:nvSpPr>
            <p:cNvPr id="681" name="Line 22"/>
            <p:cNvSpPr/>
            <p:nvPr/>
          </p:nvSpPr>
          <p:spPr>
            <a:xfrm>
              <a:off x="2513160" y="3733920"/>
              <a:ext cx="914400" cy="11430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 flipH="1">
              <a:off x="4646880" y="3733920"/>
              <a:ext cx="1295280" cy="11430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3" name="Picture 24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8839080" cy="42696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25"/>
          <p:cNvGrpSpPr/>
          <p:nvPr/>
        </p:nvGrpSpPr>
        <p:grpSpPr>
          <a:xfrm>
            <a:off x="3886200" y="5867280"/>
            <a:ext cx="2793960" cy="787680"/>
            <a:chOff x="3886200" y="5867280"/>
            <a:chExt cx="2793960" cy="787680"/>
          </a:xfrm>
        </p:grpSpPr>
        <p:pic>
          <p:nvPicPr>
            <p:cNvPr id="685" name="Picture 26" descr=""/>
            <p:cNvPicPr/>
            <p:nvPr/>
          </p:nvPicPr>
          <p:blipFill>
            <a:blip r:embed="rId2"/>
            <a:stretch/>
          </p:blipFill>
          <p:spPr>
            <a:xfrm>
              <a:off x="3886200" y="6172200"/>
              <a:ext cx="27939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AutoShape 27"/>
            <p:cNvSpPr/>
            <p:nvPr/>
          </p:nvSpPr>
          <p:spPr>
            <a:xfrm rot="5400000">
              <a:off x="5105160" y="4647960"/>
              <a:ext cx="304920" cy="27432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28"/>
          <p:cNvSpPr/>
          <p:nvPr/>
        </p:nvSpPr>
        <p:spPr>
          <a:xfrm>
            <a:off x="320040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ked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7567-46BB-4FF3-9727-7B44CDF7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ight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6769080" y="2821680"/>
            <a:ext cx="1406520" cy="960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2381400" y="1917720"/>
            <a:ext cx="4387320" cy="1384200"/>
            <a:chOff x="2381400" y="1917720"/>
            <a:chExt cx="4387320" cy="1384200"/>
          </a:xfrm>
        </p:grpSpPr>
        <p:sp>
          <p:nvSpPr>
            <p:cNvPr id="692" name="Rectangle 5"/>
            <p:cNvSpPr/>
            <p:nvPr/>
          </p:nvSpPr>
          <p:spPr>
            <a:xfrm>
              <a:off x="2381400" y="2235240"/>
              <a:ext cx="3262680" cy="582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6"/>
            <p:cNvSpPr/>
            <p:nvPr/>
          </p:nvSpPr>
          <p:spPr>
            <a:xfrm>
              <a:off x="3956400" y="191772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4" name="AutoShape 7"/>
            <p:cNvCxnSpPr>
              <a:stCxn id="690" idx="1"/>
              <a:endCxn id="692" idx="3"/>
            </p:cNvCxnSpPr>
            <p:nvPr/>
          </p:nvCxnSpPr>
          <p:spPr>
            <a:xfrm rot="10800000">
              <a:off x="5643360" y="2525760"/>
              <a:ext cx="1125360" cy="776160"/>
            </a:xfrm>
            <a:prstGeom prst="curvedConnector5">
              <a:avLst>
                <a:gd name="adj1" fmla="val 49984"/>
                <a:gd name="adj2" fmla="val 49976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695" name="Group 8"/>
          <p:cNvGrpSpPr/>
          <p:nvPr/>
        </p:nvGrpSpPr>
        <p:grpSpPr>
          <a:xfrm>
            <a:off x="2324160" y="3300840"/>
            <a:ext cx="4444920" cy="1059840"/>
            <a:chOff x="2324160" y="3300840"/>
            <a:chExt cx="4444920" cy="1059840"/>
          </a:xfrm>
        </p:grpSpPr>
        <p:sp>
          <p:nvSpPr>
            <p:cNvPr id="696" name="Rectangle 9"/>
            <p:cNvSpPr/>
            <p:nvPr/>
          </p:nvSpPr>
          <p:spPr>
            <a:xfrm>
              <a:off x="2324160" y="3778200"/>
              <a:ext cx="326340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0"/>
            <p:cNvSpPr/>
            <p:nvPr/>
          </p:nvSpPr>
          <p:spPr>
            <a:xfrm>
              <a:off x="3955680" y="346068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8" name="AutoShape 11"/>
            <p:cNvCxnSpPr>
              <a:stCxn id="690" idx="1"/>
              <a:endCxn id="696" idx="3"/>
            </p:cNvCxnSpPr>
            <p:nvPr/>
          </p:nvCxnSpPr>
          <p:spPr>
            <a:xfrm flipV="1" rot="10800000">
              <a:off x="5586840" y="3300840"/>
              <a:ext cx="1182240" cy="768600"/>
            </a:xfrm>
            <a:prstGeom prst="curvedConnector5">
              <a:avLst>
                <a:gd name="adj1" fmla="val 49984"/>
                <a:gd name="adj2" fmla="val 50000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699" name="AutoShape 13"/>
          <p:cNvSpPr/>
          <p:nvPr/>
        </p:nvSpPr>
        <p:spPr>
          <a:xfrm>
            <a:off x="3956040" y="287028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4"/>
          <p:cNvSpPr/>
          <p:nvPr/>
        </p:nvSpPr>
        <p:spPr>
          <a:xfrm>
            <a:off x="685800" y="304812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6"/>
          <p:cNvSpPr/>
          <p:nvPr/>
        </p:nvSpPr>
        <p:spPr>
          <a:xfrm>
            <a:off x="3962520" y="441972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7"/>
          <p:cNvSpPr/>
          <p:nvPr/>
        </p:nvSpPr>
        <p:spPr>
          <a:xfrm>
            <a:off x="304920" y="464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Relative(A,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9"/>
          <p:cNvSpPr/>
          <p:nvPr/>
        </p:nvSpPr>
        <p:spPr>
          <a:xfrm>
            <a:off x="0" y="1447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ublication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dvisedBy(A,B) → Publication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108"/>
          <p:cNvGrpSpPr/>
          <p:nvPr/>
        </p:nvGrpSpPr>
        <p:grpSpPr>
          <a:xfrm>
            <a:off x="2362320" y="5092560"/>
            <a:ext cx="3263760" cy="900360"/>
            <a:chOff x="2362320" y="5092560"/>
            <a:chExt cx="3263760" cy="900360"/>
          </a:xfrm>
        </p:grpSpPr>
        <p:sp>
          <p:nvSpPr>
            <p:cNvPr id="705" name="Rectangle 9"/>
            <p:cNvSpPr/>
            <p:nvPr/>
          </p:nvSpPr>
          <p:spPr>
            <a:xfrm>
              <a:off x="2362320" y="5410440"/>
              <a:ext cx="326376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LN Weight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10"/>
            <p:cNvSpPr/>
            <p:nvPr/>
          </p:nvSpPr>
          <p:spPr>
            <a:xfrm>
              <a:off x="3994200" y="509256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09"/>
          <p:cNvGrpSpPr/>
          <p:nvPr/>
        </p:nvGrpSpPr>
        <p:grpSpPr>
          <a:xfrm>
            <a:off x="228600" y="6095880"/>
            <a:ext cx="7924680" cy="627120"/>
            <a:chOff x="228600" y="6095880"/>
            <a:chExt cx="7924680" cy="627120"/>
          </a:xfrm>
        </p:grpSpPr>
        <p:sp>
          <p:nvSpPr>
            <p:cNvPr id="708" name="AutoShape 10"/>
            <p:cNvSpPr/>
            <p:nvPr/>
          </p:nvSpPr>
          <p:spPr>
            <a:xfrm>
              <a:off x="3962160" y="609588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7"/>
            <p:cNvSpPr/>
            <p:nvPr/>
          </p:nvSpPr>
          <p:spPr>
            <a:xfrm>
              <a:off x="228600" y="63241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0.8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  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6641-A22A-47A1-971C-47A08667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s: Domai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-C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members of the UW CSE departm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Professor, Student, AdvisedBy, TaughtBy, Publication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20 mov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Actor, Director, Movie, WorkedFor, Genre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tity relations from the original WebKB domain    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Craven et al. 199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Faculty, Student, Project, CourseTA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F4F-130F-4147-AFA4-9835C987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set Statis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479520" y="1297080"/>
            <a:ext cx="54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organized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ga-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5800" y="1748520"/>
            <a:ext cx="7696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ga-example contains information about a group of related e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ga-examples are independent and disconnected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380880" y="3809880"/>
          <a:ext cx="8305920" cy="2703600"/>
        </p:xfrm>
        <a:graphic>
          <a:graphicData uri="http://schemas.openxmlformats.org/drawingml/2006/table">
            <a:tbl>
              <a:tblPr/>
              <a:tblGrid>
                <a:gridCol w="1209960"/>
                <a:gridCol w="1206360"/>
                <a:gridCol w="1208160"/>
                <a:gridCol w="1023840"/>
                <a:gridCol w="1219320"/>
                <a:gridCol w="1218960"/>
                <a:gridCol w="12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Meg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True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 #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-C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,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ually Developed Source K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W-KB is a hand-built knowledge base (set of clauses) for the UW-CSE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used as a source domain, transfer learning is a form of theory refinement that also includes mapping to a new domain with a different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4C3E-06BA-4C79-B3C7-FCA6E88B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4145-41C9-4584-BF02-DB263050D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stems Compar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lete transfe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rK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rning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K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orming transfer, using M-TAMAR to produce a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92AF-B206-45CC-8AF9-E2B6E164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 Research Probl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Task 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Caruana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arn multiple tasks simultaneously; each one helped by the other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-Long Learning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Thrun, 19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ransfer learning from a number of prior source problems, picking the correct source problems to us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DF7-0279-4FA4-874D-4174D21A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Training &amp;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using  leave-one-out 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ach run keeps one mega-example for testing and trains on  the remaining ones, provided one by on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ves are averages over all ru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learned MLN by performing inference for all gliterals of each predicate in turn, providing the rest as evidence, and averaging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C50F-77D2-4767-A727-BB322AC2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Metrics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ditional Log 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log of the probability predicted by the model that a gliteral has the correct truth value given in the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eraged over all test gliteral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ea under the precision recall (PR)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duce a PR curve by varying the probability threshold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ute the area under this curv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F2FA-7CC2-4A39-B0E6-ECBC8DF0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s to Summarize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Ratio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Cohen et al.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ives overall idea of improvement achieved over learning from scrat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226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7325-C25D-42A3-BD55-88141A05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Scenario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/target pairs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CS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D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KB not used as a target since one mega-example is sufficient to learn an accurate theory for its limited predicat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8000-3954-495F-B1AA-7130686E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Object 2"/>
          <p:cNvGraphicFramePr/>
          <p:nvPr/>
        </p:nvGraphicFramePr>
        <p:xfrm>
          <a:off x="3240" y="45720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45720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0" name="Group 7"/>
          <p:cNvGrpSpPr/>
          <p:nvPr/>
        </p:nvGrpSpPr>
        <p:grpSpPr>
          <a:xfrm>
            <a:off x="0" y="1368720"/>
            <a:ext cx="8229600" cy="4617720"/>
            <a:chOff x="0" y="1368720"/>
            <a:chExt cx="8229600" cy="4617720"/>
          </a:xfrm>
        </p:grpSpPr>
        <p:sp>
          <p:nvSpPr>
            <p:cNvPr id="741" name="Line 3"/>
            <p:cNvSpPr/>
            <p:nvPr/>
          </p:nvSpPr>
          <p:spPr>
            <a:xfrm>
              <a:off x="0" y="365760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4"/>
            <p:cNvSpPr/>
            <p:nvPr/>
          </p:nvSpPr>
          <p:spPr>
            <a:xfrm rot="16200000">
              <a:off x="-770760" y="22921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 rot="16200000">
              <a:off x="-814320" y="462060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88F5-3582-49B4-9528-BD74F09FD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0" y="45720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7" name="Group 8"/>
          <p:cNvGrpSpPr/>
          <p:nvPr/>
        </p:nvGrpSpPr>
        <p:grpSpPr>
          <a:xfrm>
            <a:off x="0" y="1140120"/>
            <a:ext cx="8229600" cy="4617720"/>
            <a:chOff x="0" y="1140120"/>
            <a:chExt cx="8229600" cy="4617720"/>
          </a:xfrm>
        </p:grpSpPr>
        <p:sp>
          <p:nvSpPr>
            <p:cNvPr id="748" name="Line 9"/>
            <p:cNvSpPr/>
            <p:nvPr/>
          </p:nvSpPr>
          <p:spPr>
            <a:xfrm>
              <a:off x="0" y="342900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 rot="16200000">
              <a:off x="-770760" y="20635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1"/>
            <p:cNvSpPr/>
            <p:nvPr/>
          </p:nvSpPr>
          <p:spPr>
            <a:xfrm rot="16200000">
              <a:off x="-814320" y="439200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D7D-EED6-40DD-A7AB-DC83A7DF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4"/>
          <p:cNvSpPr/>
          <p:nvPr/>
        </p:nvSpPr>
        <p:spPr>
          <a:xfrm>
            <a:off x="3505320" y="4944240"/>
            <a:ext cx="3343320" cy="10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7A77-6AB9-4C28-85DD-AC49513D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Object 2"/>
          <p:cNvGraphicFramePr/>
          <p:nvPr/>
        </p:nvGraphicFramePr>
        <p:xfrm>
          <a:off x="0" y="457200"/>
          <a:ext cx="91440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8" name="Group 3"/>
          <p:cNvGrpSpPr/>
          <p:nvPr/>
        </p:nvGrpSpPr>
        <p:grpSpPr>
          <a:xfrm>
            <a:off x="1523880" y="3976560"/>
            <a:ext cx="6324840" cy="854280"/>
            <a:chOff x="1523880" y="3976560"/>
            <a:chExt cx="6324840" cy="854280"/>
          </a:xfrm>
        </p:grpSpPr>
        <p:sp>
          <p:nvSpPr>
            <p:cNvPr id="759" name="Rectangle 4"/>
            <p:cNvSpPr/>
            <p:nvPr/>
          </p:nvSpPr>
          <p:spPr>
            <a:xfrm>
              <a:off x="1523880" y="4495680"/>
              <a:ext cx="60984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5"/>
            <p:cNvSpPr/>
            <p:nvPr/>
          </p:nvSpPr>
          <p:spPr>
            <a:xfrm>
              <a:off x="2971800" y="4495680"/>
              <a:ext cx="60948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6"/>
            <p:cNvSpPr/>
            <p:nvPr/>
          </p:nvSpPr>
          <p:spPr>
            <a:xfrm>
              <a:off x="4343400" y="4495680"/>
              <a:ext cx="60948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.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7"/>
            <p:cNvSpPr/>
            <p:nvPr/>
          </p:nvSpPr>
          <p:spPr>
            <a:xfrm>
              <a:off x="5791320" y="4495680"/>
              <a:ext cx="60948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8"/>
            <p:cNvSpPr/>
            <p:nvPr/>
          </p:nvSpPr>
          <p:spPr>
            <a:xfrm>
              <a:off x="7238880" y="4495680"/>
              <a:ext cx="609840" cy="335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2183040" y="3976560"/>
              <a:ext cx="5199120" cy="3988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umbe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econds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o find best mapp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Research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realistic application dom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to other SRL models (e.g. SLPs, BLP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flexible predicat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ow argument ordering or arity to chan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p 1 predicate to conjunction of  &gt; 1 predica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dvisedBy(X,Y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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Movie(M,X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Director(M,Y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119F-6A2B-47B4-971A-4FAA986C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e Source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fro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blems to a given target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ich clauses to map and revise from different source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7E8F-13A1-469D-AA8D-08397288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837-6E76-4DC6-84AC-F15541427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ical Paradig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knowledge and data in binary symbolic logic such as First Order Predicate Calcul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ich representation that handles arbitrary sets of objects, with properties, relations, quant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ble to handle uncertain knowledge and probabilistic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urce Se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seful source domains from a larg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picking source domain(s) is sub-linear in th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A4C-0D88-4FB5-9C36-CCED9296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4F26-6D1C-4D96-A1F5-19BE2E05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TAMAR, a complete transfer system for SRL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ps relational knowledge in the source to the target domai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vises the mapped knowledge to further improve accurac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ed experimentally that TAMAR improves speed and accuracy over exist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51920" y="1676520"/>
            <a:ext cx="8991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papers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</a:rPr>
              <a:t>http://www.cs.utexas.edu/users/ml/publication/transf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1F73-FE2E-42EC-AF09-ACD4CB13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4EC7-86BF-4E44-9471-C392DBA4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y ML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expressivity of 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apply insights from IL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flexibility of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deal with noisy &amp; uncertain environ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re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 not need to learn causal dire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ume all other SRL models that are special cases of first-order logic or probabilistic graphical models [Richardson 0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ly available software package: Alch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8CE-EE6A-45FE-B073-64CBBCAB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source predicate can be mapped to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 predicates in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is makes our approach context sensitiv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ca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the worst-case, the number of mappings is exponential in the number of predicat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umber of predicates in a clause is generally much smaller than the total number of predicates in a domai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300D-76ED-4E81-9C27-BE05E97F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ship to Structure Mapping Engine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Falkenheiner et al., 198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for mapping relations using analogy based on a psychological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s are evaluated based only on the structural relational similarity between the two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onsider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pped knowledge in the target when determining the preferred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s a single global mapping for a given source &amp;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7A30-66B3-43FC-986D-FBB96B21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mmary of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LNs for each point on 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ference over learn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inference results using 2 metrics: CLL and AUC, thus producing two learning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each learning curve using transfer ratio and percentage improvement from one mega-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A1DC-69A4-4AEC-B34D-99150985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AD64-5247-4E8F-8EA1-AF2BCD78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FA92-C46F-4B0D-A650-83DFCB58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Paradig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knowledge and data as a fixed set of random variables with a joint probability distrib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ndles uncertain knowledge and probabilistic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ble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arbitrary sets of objects, with properties, relations, quant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E60-62BB-468C-A6BD-22BC0D93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Relational Learning (SR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achine learning methods assume i.i.d. examples represented as fixed-length feature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omains require learning and making inferences about unbounded sets of entities that are richly relationally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methods attempt to integrate methods from predicate logic and probabilistic graphical models to handle such structured, multi-relational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522-1660-4173-88EC-704818FF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152280" y="1295280"/>
            <a:ext cx="876312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49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Relation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1752480"/>
          <a:ext cx="1143000" cy="12448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28800" y="1773360"/>
          <a:ext cx="1066680" cy="8650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867280" y="1752480"/>
          <a:ext cx="2743200" cy="2103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et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00400" y="1752480"/>
          <a:ext cx="2286000" cy="13114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56"/>
          <p:cNvSpPr/>
          <p:nvPr/>
        </p:nvSpPr>
        <p:spPr>
          <a:xfrm>
            <a:off x="4572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7"/>
          <p:cNvSpPr/>
          <p:nvPr/>
        </p:nvSpPr>
        <p:spPr>
          <a:xfrm>
            <a:off x="586728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8"/>
          <p:cNvSpPr/>
          <p:nvPr/>
        </p:nvSpPr>
        <p:spPr>
          <a:xfrm>
            <a:off x="167652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9"/>
          <p:cNvSpPr/>
          <p:nvPr/>
        </p:nvSpPr>
        <p:spPr>
          <a:xfrm>
            <a:off x="34290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orked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0"/>
          <p:cNvSpPr/>
          <p:nvPr/>
        </p:nvSpPr>
        <p:spPr>
          <a:xfrm>
            <a:off x="457200" y="3733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Rela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1"/>
          <p:cNvSpPr/>
          <p:nvPr/>
        </p:nvSpPr>
        <p:spPr>
          <a:xfrm>
            <a:off x="2895480" y="4114800"/>
            <a:ext cx="3886200" cy="1271520"/>
          </a:xfrm>
          <a:prstGeom prst="downArrow">
            <a:avLst>
              <a:gd name="adj1" fmla="val 52630"/>
              <a:gd name="adj2" fmla="val 70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2"/>
          <p:cNvSpPr/>
          <p:nvPr/>
        </p:nvSpPr>
        <p:spPr>
          <a:xfrm>
            <a:off x="3352680" y="556272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3"/>
          <p:cNvSpPr/>
          <p:nvPr/>
        </p:nvSpPr>
        <p:spPr>
          <a:xfrm>
            <a:off x="5181480" y="617220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4"/>
          <p:cNvSpPr/>
          <p:nvPr/>
        </p:nvSpPr>
        <p:spPr>
          <a:xfrm>
            <a:off x="4114800" y="624852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5"/>
          <p:cNvSpPr/>
          <p:nvPr/>
        </p:nvSpPr>
        <p:spPr>
          <a:xfrm>
            <a:off x="4495680" y="548640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6"/>
          <p:cNvSpPr/>
          <p:nvPr/>
        </p:nvSpPr>
        <p:spPr>
          <a:xfrm>
            <a:off x="5257800" y="5562720"/>
            <a:ext cx="533520" cy="38088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7"/>
          <p:cNvSpPr/>
          <p:nvPr/>
        </p:nvSpPr>
        <p:spPr>
          <a:xfrm>
            <a:off x="6477120" y="6095880"/>
            <a:ext cx="533160" cy="38124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8"/>
          <p:cNvSpPr/>
          <p:nvPr/>
        </p:nvSpPr>
        <p:spPr>
          <a:xfrm>
            <a:off x="3733920" y="5943600"/>
            <a:ext cx="457200" cy="3808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9"/>
          <p:cNvSpPr/>
          <p:nvPr/>
        </p:nvSpPr>
        <p:spPr>
          <a:xfrm flipV="1">
            <a:off x="3886200" y="5638680"/>
            <a:ext cx="609480" cy="76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0"/>
          <p:cNvSpPr/>
          <p:nvPr/>
        </p:nvSpPr>
        <p:spPr>
          <a:xfrm flipV="1">
            <a:off x="4572000" y="5867280"/>
            <a:ext cx="76212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1"/>
          <p:cNvSpPr/>
          <p:nvPr/>
        </p:nvSpPr>
        <p:spPr>
          <a:xfrm>
            <a:off x="4952880" y="5791320"/>
            <a:ext cx="30492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2"/>
          <p:cNvSpPr/>
          <p:nvPr/>
        </p:nvSpPr>
        <p:spPr>
          <a:xfrm>
            <a:off x="5486400" y="594360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3"/>
          <p:cNvSpPr/>
          <p:nvPr/>
        </p:nvSpPr>
        <p:spPr>
          <a:xfrm flipH="1" flipV="1">
            <a:off x="5790960" y="5791320"/>
            <a:ext cx="68580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4"/>
          <p:cNvSpPr/>
          <p:nvPr/>
        </p:nvSpPr>
        <p:spPr>
          <a:xfrm flipH="1">
            <a:off x="5714640" y="6248520"/>
            <a:ext cx="762120" cy="759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5"/>
          <p:cNvSpPr/>
          <p:nvPr/>
        </p:nvSpPr>
        <p:spPr>
          <a:xfrm>
            <a:off x="609480" y="5334120"/>
            <a:ext cx="7925040" cy="137160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685800" y="54100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Graphic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9"/>
          <p:cNvGrpSpPr/>
          <p:nvPr/>
        </p:nvGrpSpPr>
        <p:grpSpPr>
          <a:xfrm>
            <a:off x="1371600" y="1295280"/>
            <a:ext cx="7569360" cy="2324160"/>
            <a:chOff x="1371600" y="1295280"/>
            <a:chExt cx="7569360" cy="2324160"/>
          </a:xfrm>
        </p:grpSpPr>
        <p:sp>
          <p:nvSpPr>
            <p:cNvPr id="159" name="Freeform 85"/>
            <p:cNvSpPr/>
            <p:nvPr/>
          </p:nvSpPr>
          <p:spPr>
            <a:xfrm>
              <a:off x="3949560" y="2286000"/>
              <a:ext cx="4775400" cy="1092240"/>
            </a:xfrm>
            <a:prstGeom prst="pie">
              <a:avLst/>
            </a:prstGeom>
            <a:noFill/>
            <a:ln w="284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88"/>
            <p:cNvGrpSpPr/>
            <p:nvPr/>
          </p:nvGrpSpPr>
          <p:grpSpPr>
            <a:xfrm>
              <a:off x="1371600" y="1295280"/>
              <a:ext cx="7569360" cy="2324160"/>
              <a:chOff x="1371600" y="1295280"/>
              <a:chExt cx="7569360" cy="2324160"/>
            </a:xfrm>
          </p:grpSpPr>
          <p:sp>
            <p:nvSpPr>
              <p:cNvPr id="161" name="Freeform 78"/>
              <p:cNvSpPr/>
              <p:nvPr/>
            </p:nvSpPr>
            <p:spPr>
              <a:xfrm>
                <a:off x="1371600" y="1295280"/>
                <a:ext cx="1917720" cy="774720"/>
              </a:xfrm>
              <a:prstGeom prst="pie">
                <a:avLst/>
              </a:prstGeom>
              <a:noFill/>
              <a:ln w="3168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9"/>
              <p:cNvSpPr/>
              <p:nvPr/>
            </p:nvSpPr>
            <p:spPr>
              <a:xfrm>
                <a:off x="1371600" y="2362320"/>
                <a:ext cx="1905120" cy="520560"/>
              </a:xfrm>
              <a:prstGeom prst="pie">
                <a:avLst/>
              </a:pr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80"/>
              <p:cNvSpPr/>
              <p:nvPr/>
            </p:nvSpPr>
            <p:spPr>
              <a:xfrm>
                <a:off x="2793960" y="1359000"/>
                <a:ext cx="2819520" cy="622080"/>
              </a:xfrm>
              <a:prstGeom prst="pie">
                <a:avLst/>
              </a:prstGeom>
              <a:noFill/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1"/>
              <p:cNvSpPr/>
              <p:nvPr/>
            </p:nvSpPr>
            <p:spPr>
              <a:xfrm>
                <a:off x="2311560" y="2057400"/>
                <a:ext cx="3454200" cy="800280"/>
              </a:xfrm>
              <a:prstGeom prst="pie">
                <a:avLst/>
              </a:prstGeom>
              <a:noFill/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82"/>
              <p:cNvSpPr/>
              <p:nvPr/>
            </p:nvSpPr>
            <p:spPr>
              <a:xfrm>
                <a:off x="5410080" y="1371600"/>
                <a:ext cx="3530880" cy="1638360"/>
              </a:xfrm>
              <a:prstGeom prst="pie">
                <a:avLst/>
              </a:prstGeom>
              <a:noFill/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4"/>
              <p:cNvSpPr/>
              <p:nvPr/>
            </p:nvSpPr>
            <p:spPr>
              <a:xfrm>
                <a:off x="4114800" y="1638360"/>
                <a:ext cx="4419720" cy="469800"/>
              </a:xfrm>
              <a:prstGeom prst="pie">
                <a:avLst/>
              </a:prstGeom>
              <a:noFill/>
              <a:ln w="3168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87"/>
              <p:cNvSpPr/>
              <p:nvPr/>
            </p:nvSpPr>
            <p:spPr>
              <a:xfrm>
                <a:off x="5638680" y="3124080"/>
                <a:ext cx="3009960" cy="495360"/>
              </a:xfrm>
              <a:prstGeom prst="pie">
                <a:avLst/>
              </a:pr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09-29T23:43:56Z</dcterms:modified>
  <cp:revision>116</cp:revision>
  <dc:subject/>
  <dc:title>Intelligent Information Retrieval and Web Search</dc:title>
</cp:coreProperties>
</file>