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E8D0C71C-B1F0-44AF-9575-F33385182A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an outline slides for scissor overview, integrated model(augment Collins’s parsemodel),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internal node includes both a syntactic and semantic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PT captures the semantic interpretation of individual words and the basic predicate-argument structure of the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ll(null) – doesn’t has corresponding concepts in the target language, so it’s labeled as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test on Clang corpora.  It’s also tested on an benchmark corpora of semantic pa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Geoquery example: how many cities are there in the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– using the same evaluation method in previou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 using partial mat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esn’t make sense, player 2 instead of player 3, left instead of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how correct, then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 what’s precision, what’s re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9388-D02B-4C9C-90E0-B6E021CB1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A99E-1ACC-446D-AB55-B8DEC0069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DD04-1545-4E51-AFF7-553B5FDA8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9458-11F0-4D00-8E95-5690DCCBB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81F8-D985-491B-9404-D6B951F8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038BE-5E1A-47E8-A9BC-9117499A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FB38-32E3-4789-A6DC-E61A0A19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A387-F0D6-408C-806C-4555365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796C8-C413-484C-AEF6-CD6BD23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95CB-5B7F-42F3-958E-CCA23D6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9F8F3-5740-4647-A0B6-62D2831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B9C8-36C4-4744-B643-3B2D17B79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72ED3-7D2E-47A1-813D-53EF5A7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BA898-A8E0-42E0-829E-47DA791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C5C43-79E6-4AF1-9A56-10ADE60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9FD50-24E3-4149-9DF5-391A7E69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4A5A9-353D-4A36-A69D-13540DA1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64BC-19B1-4CD7-8DA4-CC16B3713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D4E5-C7BF-452B-8D38-06C437990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64FA-2D48-4623-93F1-BE5D809E7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89CD-EF04-48B7-82DE-53481474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5421-3342-4FF4-BFC8-833C45FCB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ED33-2161-47AD-B618-F31118291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1258-6276-4972-894F-BA087FE06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1B6-285B-4A24-951F-0FAA1D7FC2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719-DC50-416C-9DE0-8B726E972C37}" type="slidenum">
              <a:rPr b="1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AB5-7070-451D-A86D-3C33891D98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earning for Semantic Parsing of Natural Lang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54160" y="607860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17720" y="617220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ember 19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6160" y="2430360"/>
            <a:ext cx="4403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ifang Ge, Rohit Kate, Yuk Wah W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Zelle, Cynth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ur Semantic-Parser Learner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L+WOLFIE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Zelle &amp; Mooney, 1996; Thompson &amp; Mooney, 1999, 20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eparates parser-learning and semantic-lexicon learning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Learns a deterministic parser using ILP technique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mproved ILP algorithm for CHILL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T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Kate, Wong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Learns symbolic transformation rules for mapping directly from NL to LF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Wong &amp; Mooney, in prep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Uses syntax-based statistical machine translation method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SP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Kate &amp; Mooney, in prep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a fairly standard approach to compositional semantics [Jurafsky and Martin, 2000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 statistical parser is used to generate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ally augmented parse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AP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ugment Collins’ head-driven model 2 to incorporate semantic label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late SAPT into a complete formal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eaning repres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M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mposition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tegrate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yntax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s to ge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ptimal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presen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8560" y="0"/>
            <a:ext cx="722520" cy="1219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52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R: bowner(player(our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10680" y="3543480"/>
            <a:ext cx="6621840" cy="2096640"/>
            <a:chOff x="1210680" y="3543480"/>
            <a:chExt cx="6621840" cy="2096640"/>
          </a:xfrm>
        </p:grpSpPr>
        <p:sp>
          <p:nvSpPr>
            <p:cNvPr id="160" name=""/>
            <p:cNvSpPr/>
            <p:nvPr/>
          </p:nvSpPr>
          <p:spPr>
            <a:xfrm>
              <a:off x="15271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6104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6100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75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530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020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06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5512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7840" y="44128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9680" y="44128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89600" y="484488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252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5000" y="44128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5268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199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7360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556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488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5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78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98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4624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0448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2800" y="3803400"/>
              <a:ext cx="11300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9778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4880" y="4184280"/>
              <a:ext cx="144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48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4068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108320"/>
              <a:ext cx="8474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2448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23280" y="3543480"/>
            <a:ext cx="6622200" cy="2096640"/>
            <a:chOff x="1223280" y="3543480"/>
            <a:chExt cx="6622200" cy="2096640"/>
          </a:xfrm>
        </p:grpSpPr>
        <p:sp>
          <p:nvSpPr>
            <p:cNvPr id="192" name=""/>
            <p:cNvSpPr/>
            <p:nvPr/>
          </p:nvSpPr>
          <p:spPr>
            <a:xfrm>
              <a:off x="15397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7400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7396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01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656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146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32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808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0440" y="4412880"/>
              <a:ext cx="109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62640" y="4412880"/>
              <a:ext cx="12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02920" y="4844880"/>
              <a:ext cx="8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4548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600" y="4412880"/>
              <a:ext cx="88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6564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25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56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852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5748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48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91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24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750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0574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3803400"/>
              <a:ext cx="11304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9904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57480" y="4184280"/>
              <a:ext cx="180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574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194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7000" y="4108320"/>
              <a:ext cx="847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37080" y="4647960"/>
              <a:ext cx="53316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06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verview of 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ISSO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33840" y="2133720"/>
            <a:ext cx="24764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ted Semantic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1148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2270160"/>
            <a:ext cx="2286000" cy="2532600"/>
            <a:chOff x="762120" y="2270160"/>
            <a:chExt cx="2286000" cy="2532600"/>
          </a:xfrm>
        </p:grpSpPr>
        <p:sp>
          <p:nvSpPr>
            <p:cNvPr id="227" name=""/>
            <p:cNvSpPr/>
            <p:nvPr/>
          </p:nvSpPr>
          <p:spPr>
            <a:xfrm>
              <a:off x="762120" y="2270160"/>
              <a:ext cx="22860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 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29240" y="3048120"/>
            <a:ext cx="2286000" cy="914400"/>
            <a:chOff x="4629240" y="3048120"/>
            <a:chExt cx="2286000" cy="914400"/>
          </a:xfrm>
        </p:grpSpPr>
        <p:sp>
          <p:nvSpPr>
            <p:cNvPr id="230" name=""/>
            <p:cNvSpPr/>
            <p:nvPr/>
          </p:nvSpPr>
          <p:spPr>
            <a:xfrm>
              <a:off x="4629240" y="3581280"/>
              <a:ext cx="228600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72240" y="3048120"/>
              <a:ext cx="0" cy="45720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33840" y="3962520"/>
            <a:ext cx="2476440" cy="1371600"/>
            <a:chOff x="4533840" y="3962520"/>
            <a:chExt cx="2476440" cy="1371600"/>
          </a:xfrm>
        </p:grpSpPr>
        <p:sp>
          <p:nvSpPr>
            <p:cNvPr id="233" name=""/>
            <p:cNvSpPr/>
            <p:nvPr/>
          </p:nvSpPr>
          <p:spPr>
            <a:xfrm>
              <a:off x="4533840" y="457200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mpose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2240" y="39625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91080" y="5334120"/>
            <a:ext cx="2362320" cy="1218960"/>
            <a:chOff x="4591080" y="5334120"/>
            <a:chExt cx="2362320" cy="1218960"/>
          </a:xfrm>
        </p:grpSpPr>
        <p:sp>
          <p:nvSpPr>
            <p:cNvPr id="236" name=""/>
            <p:cNvSpPr/>
            <p:nvPr/>
          </p:nvSpPr>
          <p:spPr>
            <a:xfrm>
              <a:off x="4591080" y="5943600"/>
              <a:ext cx="2362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2240" y="53341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838080" y="1127160"/>
            <a:ext cx="6229440" cy="3675600"/>
            <a:chOff x="838080" y="1127160"/>
            <a:chExt cx="6229440" cy="3675600"/>
          </a:xfrm>
        </p:grpSpPr>
        <p:sp>
          <p:nvSpPr>
            <p:cNvPr id="239" name=""/>
            <p:cNvSpPr/>
            <p:nvPr/>
          </p:nvSpPr>
          <p:spPr>
            <a:xfrm>
              <a:off x="5772240" y="1736640"/>
              <a:ext cx="0" cy="38124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76600" y="1127160"/>
              <a:ext cx="25909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L Sen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8120" y="2209680"/>
            <a:ext cx="1600200" cy="381240"/>
            <a:chOff x="3048120" y="2209680"/>
            <a:chExt cx="1600200" cy="381240"/>
          </a:xfrm>
        </p:grpSpPr>
        <p:sp>
          <p:nvSpPr>
            <p:cNvPr id="243" name=""/>
            <p:cNvSpPr/>
            <p:nvPr/>
          </p:nvSpPr>
          <p:spPr>
            <a:xfrm>
              <a:off x="3048120" y="259092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2209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 SAPT Parser Implem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labels added to Bikel’s (2004) open-source version of the Collins statistical par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ad-driven derivation of production rules augmented to also generate semantic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 estimates during training employ an augmented smoothing technique to account for additional data sparsity created by semantic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sing of test sentences to find the most probable SAPT is performed using a standard beam-search constrained version of CKY chart-parsing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4880" y="3056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45600" y="3056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45680" y="23702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800" y="2370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480" y="1714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92320" y="23702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9440" y="3032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9440" y="3048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27720" y="23623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990720" y="2743200"/>
            <a:ext cx="2971440" cy="2622960"/>
            <a:chOff x="990720" y="2743200"/>
            <a:chExt cx="2971440" cy="2622960"/>
          </a:xfrm>
        </p:grpSpPr>
        <p:sp>
          <p:nvSpPr>
            <p:cNvPr id="346" name=""/>
            <p:cNvSpPr/>
            <p:nvPr/>
          </p:nvSpPr>
          <p:spPr>
            <a:xfrm flipV="1">
              <a:off x="1371600" y="2743200"/>
              <a:ext cx="8380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742840" y="2743200"/>
              <a:ext cx="121932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49672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player(team,unu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675440" y="236232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our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65200" y="17366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90720" y="2133720"/>
            <a:ext cx="3276360" cy="3430800"/>
            <a:chOff x="990720" y="2133720"/>
            <a:chExt cx="3276360" cy="3430800"/>
          </a:xfrm>
        </p:grpSpPr>
        <p:sp>
          <p:nvSpPr>
            <p:cNvPr id="353" name=""/>
            <p:cNvSpPr/>
            <p:nvPr/>
          </p:nvSpPr>
          <p:spPr>
            <a:xfrm>
              <a:off x="990720" y="51656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bowner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819520" y="2133720"/>
              <a:ext cx="1447560" cy="3045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452760" y="16765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player(our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ASP</a:t>
            </a:r>
            <a:br>
              <a:rPr sz="28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Machine Translation Approach to Semantic Pars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 semantic grammar of the natura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machine transla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chronous context-free grammars (SCFG) (Wu, 1997; Melamed, 2004; Chiang, 2005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alignments (Brown et al., 1993; Och &amp; Ney, 2003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he name: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ord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lignment-based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mantic </a:t>
            </a:r>
            <a:r>
              <a:rPr b="1" lang="en-US" sz="2800" spc="-1" strike="noStrike">
                <a:solidFill>
                  <a:srgbClr val="962d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 (SCFG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Aho &amp; Ullman (1972) as a theory of compilers that comb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singl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a pair of 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single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iling, Machine Translation, and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FG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 models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P: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to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fo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antic par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tac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research in natural-language learning has addressed “low-level” syntactic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rphology (e.g. past-tense gener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t-of-speech tagg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hallow syntactic parsing (chunking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9960" y="2666880"/>
            <a:ext cx="27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9960" y="31464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9600" y="3633840"/>
            <a:ext cx="20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240" y="411480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ext-Free Semantic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398360" y="4735440"/>
            <a:ext cx="703440" cy="711000"/>
            <a:chOff x="7398360" y="4735440"/>
            <a:chExt cx="703440" cy="711000"/>
          </a:xfrm>
        </p:grpSpPr>
        <p:sp>
          <p:nvSpPr>
            <p:cNvPr id="369" name=""/>
            <p:cNvSpPr/>
            <p:nvPr/>
          </p:nvSpPr>
          <p:spPr>
            <a:xfrm>
              <a:off x="7398360" y="50781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50080" y="4735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354720" y="3940200"/>
            <a:ext cx="1854360" cy="715680"/>
            <a:chOff x="6354720" y="3940200"/>
            <a:chExt cx="1854360" cy="715680"/>
          </a:xfrm>
        </p:grpSpPr>
        <p:sp>
          <p:nvSpPr>
            <p:cNvPr id="372" name=""/>
            <p:cNvSpPr/>
            <p:nvPr/>
          </p:nvSpPr>
          <p:spPr>
            <a:xfrm>
              <a:off x="6354720" y="42811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90720" y="42876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553080" y="3940200"/>
              <a:ext cx="571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24760" y="3940200"/>
              <a:ext cx="619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753440" y="1828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49640" y="2678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3600" y="2662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60880" y="2671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1320" y="2295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400640" y="2286000"/>
            <a:ext cx="853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4560" y="2286000"/>
            <a:ext cx="898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64040" y="3516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94000" y="3500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49920" y="3510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07120" y="3133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91000" y="3124080"/>
            <a:ext cx="8193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0360" y="3124080"/>
            <a:ext cx="857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ions of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433692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transformation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Kate, Wong &amp; Mooney (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40760" y="2529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9080" y="25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3429000"/>
            <a:ext cx="2362320" cy="76320"/>
          </a:xfrm>
          <a:custGeom>
            <a:avLst/>
            <a:gdLst/>
            <a:ahLst/>
            <a:rect l="l" t="t" r="r" b="b"/>
            <a:pathLst>
              <a:path w="1440" h="48">
                <a:moveTo>
                  <a:pt x="0" y="0"/>
                </a:moveTo>
                <a:lnTo>
                  <a:pt x="0" y="48"/>
                </a:lnTo>
                <a:lnTo>
                  <a:pt x="1440" y="48"/>
                </a:lnTo>
                <a:lnTo>
                  <a:pt x="1440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399" name="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32280" y="5889240"/>
              <a:ext cx="1523880" cy="7632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402" name="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3440" y="5896080"/>
              <a:ext cx="1447920" cy="7560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405" name="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49880" y="5891040"/>
              <a:ext cx="1524240" cy="76320"/>
            </a:xfrm>
            <a:custGeom>
              <a:avLst/>
              <a:gdLst/>
              <a:ahLst/>
              <a:rect l="l" t="t" r="r" b="b"/>
              <a:pathLst>
                <a:path w="1632" h="48">
                  <a:moveTo>
                    <a:pt x="0" y="0"/>
                  </a:moveTo>
                  <a:lnTo>
                    <a:pt x="0" y="48"/>
                  </a:lnTo>
                  <a:lnTo>
                    <a:pt x="1632" y="48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chronous Context-Free Gramma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410" name="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413" name="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419" name="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427" name="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433" name="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439" name="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445" name="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74960" y="2895480"/>
            <a:ext cx="3581280" cy="76320"/>
          </a:xfrm>
          <a:custGeom>
            <a:avLst/>
            <a:gdLst/>
            <a:ahLst/>
            <a:rect l="l" t="t" r="r" b="b"/>
            <a:pathLst>
              <a:path w="2112" h="48">
                <a:moveTo>
                  <a:pt x="0" y="0"/>
                </a:moveTo>
                <a:lnTo>
                  <a:pt x="0" y="48"/>
                </a:lnTo>
                <a:lnTo>
                  <a:pt x="2112" y="48"/>
                </a:lnTo>
                <a:lnTo>
                  <a:pt x="211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89360" y="3689280"/>
            <a:ext cx="3112920" cy="7452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38520" y="4495680"/>
            <a:ext cx="2841840" cy="76320"/>
          </a:xfrm>
          <a:custGeom>
            <a:avLst/>
            <a:gdLst/>
            <a:ahLst/>
            <a:rect l="l" t="t" r="r" b="b"/>
            <a:pathLst>
              <a:path w="1488" h="48">
                <a:moveTo>
                  <a:pt x="0" y="0"/>
                </a:moveTo>
                <a:lnTo>
                  <a:pt x="0" y="48"/>
                </a:lnTo>
                <a:lnTo>
                  <a:pt x="1488" y="48"/>
                </a:lnTo>
                <a:lnTo>
                  <a:pt x="1488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456" name="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tart symbol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RL terminals) = {answer, capital, loc_2, (, )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NL words)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hi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xicon) =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arameters of probabilistic model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sing Model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8320" y="4943520"/>
            <a:ext cx="40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9760" y="3521160"/>
            <a:ext cx="526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answer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3882960"/>
            <a:ext cx="1828800" cy="7956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69400" y="4002120"/>
            <a:ext cx="520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capital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38680" y="4373640"/>
            <a:ext cx="1708200" cy="824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8320" y="4459320"/>
            <a:ext cx="447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loc_2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3680" y="4822920"/>
            <a:ext cx="1905120" cy="968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501" name="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26000" y="4970520"/>
              <a:ext cx="1447920" cy="7632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504" name="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35480" y="5462640"/>
              <a:ext cx="152388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537" name="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26000" y="4970520"/>
              <a:ext cx="1447920" cy="7632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540" name="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35480" y="5462640"/>
              <a:ext cx="1523880" cy="763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579" name="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63440" y="4718160"/>
              <a:ext cx="1103400" cy="8244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582" name="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49520" y="5133960"/>
              <a:ext cx="1193760" cy="745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586" name="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8600" y="4718160"/>
              <a:ext cx="1076040" cy="82440"/>
            </a:xfrm>
            <a:custGeom>
              <a:avLst/>
              <a:gdLst/>
              <a:ahLst/>
              <a:rect l="l" t="t" r="r" b="b"/>
              <a:pathLst>
                <a:path w="912" h="48">
                  <a:moveTo>
                    <a:pt x="0" y="0"/>
                  </a:moveTo>
                  <a:lnTo>
                    <a:pt x="0" y="48"/>
                  </a:lnTo>
                  <a:lnTo>
                    <a:pt x="912" y="48"/>
                  </a:lnTo>
                  <a:lnTo>
                    <a:pt x="912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589" name="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34080" y="5133960"/>
              <a:ext cx="1166760" cy="74520"/>
            </a:xfrm>
            <a:custGeom>
              <a:avLst/>
              <a:gdLst/>
              <a:ahLst/>
              <a:rect l="l" t="t" r="r" b="b"/>
              <a:pathLst>
                <a:path w="960" h="48">
                  <a:moveTo>
                    <a:pt x="0" y="0"/>
                  </a:moveTo>
                  <a:lnTo>
                    <a:pt x="0" y="48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604" name="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607" name="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67080" y="6095880"/>
            <a:ext cx="838440" cy="22860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52" y="156"/>
                  <a:pt x="376" y="168"/>
                  <a:pt x="288" y="144"/>
                </a:cubicBezTo>
                <a:cubicBezTo>
                  <a:pt x="200" y="120"/>
                  <a:pt x="100" y="60"/>
                  <a:pt x="0" y="0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20120" y="6095880"/>
            <a:ext cx="914400" cy="228600"/>
          </a:xfrm>
          <a:custGeom>
            <a:avLst/>
            <a:gdLst/>
            <a:ahLst/>
            <a:rect l="l" t="t" r="r" b="b"/>
            <a:pathLst>
              <a:path w="576" h="168">
                <a:moveTo>
                  <a:pt x="0" y="144"/>
                </a:moveTo>
                <a:cubicBezTo>
                  <a:pt x="96" y="156"/>
                  <a:pt x="192" y="168"/>
                  <a:pt x="288" y="144"/>
                </a:cubicBezTo>
                <a:cubicBezTo>
                  <a:pt x="384" y="120"/>
                  <a:pt x="480" y="60"/>
                  <a:pt x="576" y="0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457200" y="3505320"/>
            <a:ext cx="8229600" cy="243828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on-terminals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tart symbol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RL terminals) = {answer, capital, loc_2, (, ), 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NL words)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hi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}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xicon) =</a:t>
            </a:r>
            <a:br>
              <a:rPr sz="2200"/>
            </a:br>
            <a:br>
              <a:rPr sz="22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arameters of probabilistic mod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sing Model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68320" y="4943520"/>
            <a:ext cx="40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i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tateid('ohio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69760" y="3521160"/>
            <a:ext cx="526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answer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3882960"/>
            <a:ext cx="1828800" cy="7956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69400" y="4002120"/>
            <a:ext cx="520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pi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capital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4373640"/>
            <a:ext cx="1708200" cy="824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8320" y="4459320"/>
            <a:ext cx="447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loc_2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03680" y="4822920"/>
            <a:ext cx="1905120" cy="96840"/>
          </a:xfrm>
          <a:custGeom>
            <a:avLst/>
            <a:gdLst/>
            <a:ahLst/>
            <a:rect l="l" t="t" r="r" b="b"/>
            <a:pathLst>
              <a:path w="1632" h="48">
                <a:moveTo>
                  <a:pt x="0" y="0"/>
                </a:moveTo>
                <a:lnTo>
                  <a:pt x="0" y="48"/>
                </a:lnTo>
                <a:lnTo>
                  <a:pt x="1632" y="48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WA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"/>
          <p:cNvCxnSpPr>
            <a:stCxn id="628" idx="2"/>
            <a:endCxn id="629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9" idx="2"/>
            <a:endCxn id="630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5" name=""/>
          <p:cNvCxnSpPr>
            <a:stCxn id="629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85560" y="26305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89520" y="41212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sing model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0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"/>
          <p:cNvCxnSpPr>
            <a:stCxn id="630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xical Acquisi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are extracted from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word align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an NL sentenc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its correct M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ach training example,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1393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or semantic analysis has been restricted to relatively “shallow” meaning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sense disambiguation (e.g. SENSEVAL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mantic role assignment (determining agent, patient, instrument, etc., e.g. FrameNet, PropBank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rd Alignmen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48495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pping from French words to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n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ressed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4600" y="403848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d    the    program    has    been   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99400" y="2133720"/>
            <a:ext cx="61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   programme    a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té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mis    e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2590920"/>
            <a:ext cx="76176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0" y="48"/>
                </a:lnTo>
                <a:lnTo>
                  <a:pt x="480" y="864"/>
                </a:lnTo>
                <a:lnTo>
                  <a:pt x="48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2480" y="2590920"/>
            <a:ext cx="76212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0" y="48"/>
                </a:lnTo>
                <a:lnTo>
                  <a:pt x="480" y="864"/>
                </a:lnTo>
                <a:lnTo>
                  <a:pt x="48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2590920"/>
            <a:ext cx="609480" cy="144756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48"/>
                </a:lnTo>
                <a:lnTo>
                  <a:pt x="384" y="864"/>
                </a:lnTo>
                <a:lnTo>
                  <a:pt x="384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5680" y="2590920"/>
            <a:ext cx="838440" cy="1447560"/>
          </a:xfrm>
          <a:custGeom>
            <a:avLst/>
            <a:gdLst/>
            <a:ahLst/>
            <a:rect l="l" t="t" r="r" b="b"/>
            <a:pathLst>
              <a:path w="528" h="912">
                <a:moveTo>
                  <a:pt x="0" y="0"/>
                </a:moveTo>
                <a:lnTo>
                  <a:pt x="0" y="48"/>
                </a:lnTo>
                <a:lnTo>
                  <a:pt x="528" y="864"/>
                </a:lnTo>
                <a:lnTo>
                  <a:pt x="528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2590920"/>
            <a:ext cx="1524240" cy="144756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0"/>
                </a:moveTo>
                <a:lnTo>
                  <a:pt x="0" y="48"/>
                </a:lnTo>
                <a:lnTo>
                  <a:pt x="960" y="864"/>
                </a:lnTo>
                <a:lnTo>
                  <a:pt x="96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2590920"/>
            <a:ext cx="914400" cy="1371600"/>
          </a:xfrm>
          <a:custGeom>
            <a:avLst/>
            <a:gdLst/>
            <a:ahLst/>
            <a:rect l="l" t="t" r="r" b="b"/>
            <a:pathLst>
              <a:path w="576" h="864">
                <a:moveTo>
                  <a:pt x="0" y="0"/>
                </a:moveTo>
                <a:lnTo>
                  <a:pt x="0" y="48"/>
                </a:lnTo>
                <a:lnTo>
                  <a:pt x="576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05720" y="2590920"/>
            <a:ext cx="228600" cy="13716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144" y="0"/>
                </a:moveTo>
                <a:lnTo>
                  <a:pt x="144" y="48"/>
                </a:lnTo>
                <a:lnTo>
                  <a:pt x="0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xical Acquisi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a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statistical word alignment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BM Model 5) on 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most prob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o-1 word alignments for each train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xtr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from these word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ll extracted transform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rd Alignment for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48495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to introduce syntactic tokens such as par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72520" y="4040280"/>
            <a:ext cx="678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(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true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)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do  our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{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1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} 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 pos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half  our  </a:t>
            </a:r>
            <a:r>
              <a:rPr b="1" lang="en-US" sz="2200" spc="-1" strike="noStrike">
                <a:solidFill>
                  <a:srgbClr val="962dff"/>
                </a:solidFill>
                <a:latin typeface="Arial"/>
              </a:rPr>
              <a:t>)  )  ) 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74400" y="2133720"/>
            <a:ext cx="65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goalie    should    always    stay    in    our   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2590920"/>
            <a:ext cx="1752480" cy="144756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0" y="0"/>
                </a:moveTo>
                <a:lnTo>
                  <a:pt x="0" y="48"/>
                </a:lnTo>
                <a:lnTo>
                  <a:pt x="1104" y="864"/>
                </a:lnTo>
                <a:lnTo>
                  <a:pt x="1104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2590920"/>
            <a:ext cx="533160" cy="1447560"/>
          </a:xfrm>
          <a:custGeom>
            <a:avLst/>
            <a:gdLst/>
            <a:ahLst/>
            <a:rect l="l" t="t" r="r" b="b"/>
            <a:pathLst>
              <a:path w="336" h="912">
                <a:moveTo>
                  <a:pt x="336" y="0"/>
                </a:moveTo>
                <a:lnTo>
                  <a:pt x="336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2590920"/>
            <a:ext cx="2667240" cy="1447560"/>
          </a:xfrm>
          <a:custGeom>
            <a:avLst/>
            <a:gdLst/>
            <a:ahLst/>
            <a:rect l="l" t="t" r="r" b="b"/>
            <a:pathLst>
              <a:path w="1680" h="912">
                <a:moveTo>
                  <a:pt x="1680" y="0"/>
                </a:moveTo>
                <a:lnTo>
                  <a:pt x="168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81480" y="2590920"/>
            <a:ext cx="381240" cy="144756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240" y="0"/>
                </a:moveTo>
                <a:lnTo>
                  <a:pt x="24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59092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672" y="48"/>
                </a:lnTo>
                <a:lnTo>
                  <a:pt x="0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2590920"/>
            <a:ext cx="228600" cy="144756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lnTo>
                  <a:pt x="144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5880" y="2590920"/>
            <a:ext cx="1524240" cy="144756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960" y="0"/>
                </a:moveTo>
                <a:lnTo>
                  <a:pt x="960" y="48"/>
                </a:lnTo>
                <a:lnTo>
                  <a:pt x="0" y="864"/>
                </a:lnTo>
                <a:lnTo>
                  <a:pt x="0" y="9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5410080" y="2286000"/>
            <a:ext cx="863640" cy="380880"/>
          </a:xfrm>
          <a:custGeom>
            <a:avLst/>
            <a:gdLst/>
            <a:ahLst/>
            <a:rect l="l" t="t" r="r" b="b"/>
            <a:pathLst>
              <a:path w="544" h="240">
                <a:moveTo>
                  <a:pt x="0" y="0"/>
                </a:moveTo>
                <a:cubicBezTo>
                  <a:pt x="208" y="28"/>
                  <a:pt x="416" y="56"/>
                  <a:pt x="480" y="96"/>
                </a:cubicBezTo>
                <a:cubicBezTo>
                  <a:pt x="544" y="136"/>
                  <a:pt x="464" y="188"/>
                  <a:pt x="384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286000"/>
            <a:ext cx="2197080" cy="914400"/>
          </a:xfrm>
          <a:custGeom>
            <a:avLst/>
            <a:gdLst/>
            <a:ahLst/>
            <a:rect l="l" t="t" r="r" b="b"/>
            <a:pathLst>
              <a:path w="1384" h="576">
                <a:moveTo>
                  <a:pt x="0" y="0"/>
                </a:moveTo>
                <a:cubicBezTo>
                  <a:pt x="508" y="72"/>
                  <a:pt x="1016" y="144"/>
                  <a:pt x="1200" y="240"/>
                </a:cubicBezTo>
                <a:cubicBezTo>
                  <a:pt x="1384" y="336"/>
                  <a:pt x="1244" y="456"/>
                  <a:pt x="1104" y="576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3352680"/>
            <a:ext cx="1155600" cy="381240"/>
          </a:xfrm>
          <a:custGeom>
            <a:avLst/>
            <a:gdLst/>
            <a:ahLst/>
            <a:rect l="l" t="t" r="r" b="b"/>
            <a:pathLst>
              <a:path w="728" h="240">
                <a:moveTo>
                  <a:pt x="624" y="0"/>
                </a:moveTo>
                <a:cubicBezTo>
                  <a:pt x="676" y="52"/>
                  <a:pt x="728" y="104"/>
                  <a:pt x="624" y="144"/>
                </a:cubicBezTo>
                <a:cubicBezTo>
                  <a:pt x="520" y="184"/>
                  <a:pt x="260" y="212"/>
                  <a:pt x="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76920" y="3352680"/>
            <a:ext cx="2400120" cy="914400"/>
          </a:xfrm>
          <a:custGeom>
            <a:avLst/>
            <a:gdLst/>
            <a:ahLst/>
            <a:rect l="l" t="t" r="r" b="b"/>
            <a:pathLst>
              <a:path w="1512" h="576">
                <a:moveTo>
                  <a:pt x="1296" y="0"/>
                </a:moveTo>
                <a:cubicBezTo>
                  <a:pt x="1404" y="120"/>
                  <a:pt x="1512" y="240"/>
                  <a:pt x="1296" y="336"/>
                </a:cubicBezTo>
                <a:cubicBezTo>
                  <a:pt x="1080" y="432"/>
                  <a:pt x="540" y="504"/>
                  <a:pt x="0" y="576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53080" y="3352680"/>
            <a:ext cx="1689120" cy="1447920"/>
          </a:xfrm>
          <a:custGeom>
            <a:avLst/>
            <a:gdLst/>
            <a:ahLst/>
            <a:rect l="l" t="t" r="r" b="b"/>
            <a:pathLst>
              <a:path w="1064" h="912">
                <a:moveTo>
                  <a:pt x="912" y="0"/>
                </a:moveTo>
                <a:cubicBezTo>
                  <a:pt x="988" y="188"/>
                  <a:pt x="1064" y="376"/>
                  <a:pt x="912" y="528"/>
                </a:cubicBezTo>
                <a:cubicBezTo>
                  <a:pt x="760" y="680"/>
                  <a:pt x="380" y="796"/>
                  <a:pt x="0" y="912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4952880"/>
            <a:ext cx="749160" cy="381240"/>
          </a:xfrm>
          <a:custGeom>
            <a:avLst/>
            <a:gdLst/>
            <a:ahLst/>
            <a:rect l="l" t="t" r="r" b="b"/>
            <a:pathLst>
              <a:path w="472" h="240">
                <a:moveTo>
                  <a:pt x="0" y="0"/>
                </a:moveTo>
                <a:cubicBezTo>
                  <a:pt x="196" y="28"/>
                  <a:pt x="392" y="56"/>
                  <a:pt x="432" y="96"/>
                </a:cubicBezTo>
                <a:cubicBezTo>
                  <a:pt x="472" y="136"/>
                  <a:pt x="356" y="188"/>
                  <a:pt x="24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5486400"/>
            <a:ext cx="799920" cy="380880"/>
          </a:xfrm>
          <a:custGeom>
            <a:avLst/>
            <a:gdLst/>
            <a:ahLst/>
            <a:rect l="l" t="t" r="r" b="b"/>
            <a:pathLst>
              <a:path w="504" h="240">
                <a:moveTo>
                  <a:pt x="432" y="0"/>
                </a:moveTo>
                <a:cubicBezTo>
                  <a:pt x="468" y="52"/>
                  <a:pt x="504" y="104"/>
                  <a:pt x="432" y="144"/>
                </a:cubicBezTo>
                <a:cubicBezTo>
                  <a:pt x="360" y="184"/>
                  <a:pt x="180" y="212"/>
                  <a:pt x="0" y="240"/>
                </a:cubicBezTo>
              </a:path>
            </a:pathLst>
          </a:custGeom>
          <a:noFill/>
          <a:ln w="28440">
            <a:solidFill>
              <a:srgbClr val="d7a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458200" y="1981080"/>
            <a:ext cx="0" cy="4114800"/>
          </a:xfrm>
          <a:prstGeom prst="line">
            <a:avLst/>
          </a:prstGeom>
          <a:ln w="76320">
            <a:solidFill>
              <a:srgbClr val="d7a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 of MRL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73240" y="19558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91720" y="2482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2000" y="30099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000" y="3538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16360" y="4065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00040" y="45943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15720" y="51213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73960" y="5649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25040" y="195588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3600" y="24829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23960" y="300996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7200" y="35384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26840" y="406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3600" y="45943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5400" y="51213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27200" y="5649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28800" y="2666880"/>
            <a:ext cx="1600200" cy="1600200"/>
          </a:xfrm>
          <a:custGeom>
            <a:avLst/>
            <a:gdLst/>
            <a:ahLst/>
            <a:rect l="l" t="t" r="r" b="b"/>
            <a:pathLst>
              <a:path w="1008" h="1008">
                <a:moveTo>
                  <a:pt x="0" y="0"/>
                </a:moveTo>
                <a:lnTo>
                  <a:pt x="48" y="0"/>
                </a:lnTo>
                <a:lnTo>
                  <a:pt x="960" y="1008"/>
                </a:lnTo>
                <a:lnTo>
                  <a:pt x="1008" y="10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28800" y="320040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2666880"/>
            <a:ext cx="1600200" cy="1067040"/>
          </a:xfrm>
          <a:custGeom>
            <a:avLst/>
            <a:gdLst/>
            <a:ahLst/>
            <a:rect l="l" t="t" r="r" b="b"/>
            <a:pathLst>
              <a:path w="1008" h="672">
                <a:moveTo>
                  <a:pt x="0" y="672"/>
                </a:moveTo>
                <a:lnTo>
                  <a:pt x="48" y="672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4267080"/>
            <a:ext cx="1600200" cy="53352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800600"/>
            <a:ext cx="1523880" cy="1440"/>
          </a:xfrm>
          <a:custGeom>
            <a:avLst/>
            <a:gdLst/>
            <a:ahLst/>
            <a:rect l="l" t="t" r="r" b="b"/>
            <a:pathLst>
              <a:path w="960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28800" y="5334120"/>
            <a:ext cx="1600200" cy="5331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8800" y="5334120"/>
            <a:ext cx="1600200" cy="5331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48" y="336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28800" y="4267080"/>
            <a:ext cx="1600200" cy="53352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48" y="0"/>
                </a:lnTo>
                <a:lnTo>
                  <a:pt x="960" y="336"/>
                </a:lnTo>
                <a:lnTo>
                  <a:pt x="1008" y="336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4800600"/>
            <a:ext cx="1523880" cy="1440"/>
          </a:xfrm>
          <a:custGeom>
            <a:avLst/>
            <a:gdLst/>
            <a:ahLst/>
            <a:rect l="l" t="t" r="r" b="b"/>
            <a:pathLst>
              <a:path w="960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34320" y="373392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top-down, left-most derivation of an </a:t>
            </a: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un-ambiguous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11840" y="4836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-to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24480" y="4114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29000" y="4495680"/>
            <a:ext cx="1752480" cy="38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4114800"/>
            <a:ext cx="76212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5720" y="40989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73960" y="44956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27200" y="449568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48" y="24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228120" y="5486400"/>
            <a:ext cx="26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630720" y="411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29000" y="4495680"/>
            <a:ext cx="1752480" cy="38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8080" y="4114800"/>
            <a:ext cx="99072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24480" y="4114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965600" y="5487840"/>
            <a:ext cx="5214960" cy="459720"/>
            <a:chOff x="1965600" y="5487840"/>
            <a:chExt cx="5214960" cy="459720"/>
          </a:xfrm>
        </p:grpSpPr>
        <p:sp>
          <p:nvSpPr>
            <p:cNvPr id="741" name=""/>
            <p:cNvSpPr/>
            <p:nvPr/>
          </p:nvSpPr>
          <p:spPr>
            <a:xfrm>
              <a:off x="1965600" y="548784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EA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l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 (half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EA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05440" y="5868720"/>
              <a:ext cx="2438280" cy="763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0"/>
                  </a:moveTo>
                  <a:lnTo>
                    <a:pt x="0" y="48"/>
                  </a:lnTo>
                  <a:lnTo>
                    <a:pt x="1536" y="48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066680" y="4495680"/>
            <a:ext cx="762120" cy="38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29000" y="4114800"/>
            <a:ext cx="304812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73960" y="44956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7200" y="449568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43434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240"/>
                </a:moveTo>
                <a:lnTo>
                  <a:pt x="48" y="24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81480" y="4495680"/>
            <a:ext cx="711360" cy="228600"/>
          </a:xfrm>
          <a:custGeom>
            <a:avLst/>
            <a:gdLst/>
            <a:ahLst/>
            <a:rect l="l" t="t" r="r" b="b"/>
            <a:pathLst>
              <a:path w="448" h="144">
                <a:moveTo>
                  <a:pt x="384" y="0"/>
                </a:moveTo>
                <a:cubicBezTo>
                  <a:pt x="416" y="36"/>
                  <a:pt x="448" y="72"/>
                  <a:pt x="384" y="96"/>
                </a:cubicBezTo>
                <a:cubicBezTo>
                  <a:pt x="320" y="120"/>
                  <a:pt x="160" y="132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63120" y="33526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22520" y="373392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(half ou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" y="4114800"/>
            <a:ext cx="137160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4114800"/>
            <a:ext cx="259092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29000" y="3733920"/>
            <a:ext cx="335268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90720" y="3352680"/>
            <a:ext cx="83808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0720" y="411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438200" y="5487840"/>
            <a:ext cx="6299640" cy="459720"/>
            <a:chOff x="1438200" y="5487840"/>
            <a:chExt cx="6299640" cy="459720"/>
          </a:xfrm>
        </p:grpSpPr>
        <p:sp>
          <p:nvSpPr>
            <p:cNvPr id="779" name=""/>
            <p:cNvSpPr/>
            <p:nvPr/>
          </p:nvSpPr>
          <p:spPr>
            <a:xfrm>
              <a:off x="1438200" y="5487840"/>
              <a:ext cx="62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y in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 (pos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REG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76920" y="5869080"/>
              <a:ext cx="2133360" cy="745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0"/>
                  </a:moveTo>
                  <a:lnTo>
                    <a:pt x="0" y="48"/>
                  </a:lnTo>
                  <a:lnTo>
                    <a:pt x="1536" y="48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ract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73240" y="1828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9172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92000" y="25909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2000" y="2971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16360" y="3352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37339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25040" y="181296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23600" y="21938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3960" y="2590920"/>
            <a:ext cx="51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27200" y="29718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6840" y="33526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23600" y="373392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28800" y="243828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48" y="0"/>
                </a:lnTo>
                <a:lnTo>
                  <a:pt x="960" y="720"/>
                </a:lnTo>
                <a:lnTo>
                  <a:pt x="1008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28800" y="2819520"/>
            <a:ext cx="1600200" cy="1440"/>
          </a:xfrm>
          <a:custGeom>
            <a:avLst/>
            <a:gdLst/>
            <a:ahLst/>
            <a:rect l="l" t="t" r="r" b="b"/>
            <a:pathLst>
              <a:path w="1008" h="1">
                <a:moveTo>
                  <a:pt x="0" y="0"/>
                </a:moveTo>
                <a:lnTo>
                  <a:pt x="48" y="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28800" y="2438280"/>
            <a:ext cx="1600200" cy="76212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48" y="480"/>
                </a:lnTo>
                <a:lnTo>
                  <a:pt x="960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35812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0" y="0"/>
                </a:moveTo>
                <a:lnTo>
                  <a:pt x="48" y="0"/>
                </a:lnTo>
                <a:lnTo>
                  <a:pt x="960" y="240"/>
                </a:lnTo>
                <a:lnTo>
                  <a:pt x="1008" y="2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28800" y="396252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82880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lf 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19920" y="4114800"/>
            <a:ext cx="34272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144" y="0"/>
                </a:moveTo>
                <a:cubicBezTo>
                  <a:pt x="180" y="36"/>
                  <a:pt x="216" y="72"/>
                  <a:pt x="192" y="96"/>
                </a:cubicBezTo>
                <a:cubicBezTo>
                  <a:pt x="168" y="120"/>
                  <a:pt x="84" y="132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maximum-entropy model:</a:t>
            </a:r>
            <a:br>
              <a:rPr sz="2800"/>
            </a:br>
            <a:br>
              <a:rPr sz="2800"/>
            </a:br>
            <a:br>
              <a:rPr sz="1900"/>
            </a:br>
            <a:r>
              <a:rPr b="0" lang="en-US" sz="1900" spc="-1" strike="noStrike">
                <a:solidFill>
                  <a:srgbClr val="962d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number of times each transformation rule is used in a deriv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translation is the yield of most probable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844640" y="1700280"/>
                <a:ext cx="4952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Parsing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2266920" y="4849920"/>
            <a:ext cx="41864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conditional log-likelihood criter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rrect derivations are not included in training data, parameter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earned in an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un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EM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d with </a:t>
            </a:r>
            <a:r>
              <a:rPr b="0" lang="en-US" sz="2800" spc="-1" strike="noStrike">
                <a:solidFill>
                  <a:srgbClr val="962dff"/>
                </a:solidFill>
                <a:latin typeface="Times New Roman"/>
              </a:rPr>
              <a:t>improved iterative sca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hidden variables are correct derivations (Riezler et al.,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2228760" y="1816200"/>
            <a:ext cx="425448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rnel-bas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us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terpretation b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antic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s semantic parser from NL sentences paired with their respective MRs given MRL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s of MRL are treated like semantic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M classifier is trained for each production with string subsequence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ifiers are used to compositionally build MRs of  the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720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rnel Fun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rne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imilarit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doma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aps any two objec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ir similarity sc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(x,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n-by-n matrix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K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symmetric and positive-semidefinite, then the kernel function calculates the dot-product of th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implicit feature ve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ome high-dimensional featur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 algorithms which use the data only to compute similarity can b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kerne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Support Vector Machines, Nearest Neighbor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1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2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3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4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ide of 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left penal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eft pen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5+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kernel between two strings as the number of common subsequences between them [Lodhi et al., 200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subsequences become the implicit feature vectors and the kernel computes their    dot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 side of our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r left penalty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s,t) 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rmalized String Subsequence Kern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04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the kernel (range [0,1]) to remove any bias due to different string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dhi et al. [2002] give O(n|s||t|) for computing string subsequence ker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Text Categorization [Lodhi et al, 2002] and Information Extraction [Bunescu &amp; Mooney, 2005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422360" y="2392200"/>
                <a:ext cx="5648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maliz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rt Vector Machin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17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M’s are classifiers that learn linear separators that maximiz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data and the classification bound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’s allow SVM’s to learn non-linear separators by implicitly mapping data to a higher-dimensional featur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343320" y="3862440"/>
            <a:ext cx="3686040" cy="2995200"/>
            <a:chOff x="3343320" y="3862440"/>
            <a:chExt cx="3686040" cy="2995200"/>
          </a:xfrm>
        </p:grpSpPr>
        <p:sp>
          <p:nvSpPr>
            <p:cNvPr id="834" name=""/>
            <p:cNvSpPr/>
            <p:nvPr/>
          </p:nvSpPr>
          <p:spPr>
            <a:xfrm flipV="1">
              <a:off x="3465000" y="4299840"/>
              <a:ext cx="0" cy="255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43320" y="6760440"/>
              <a:ext cx="36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240" y="49356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85120" y="52362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22640" y="569520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7884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60160" y="473400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78840" y="550296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6360" y="563112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04680" y="531072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19000" y="5299920"/>
              <a:ext cx="7992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8600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80960" y="607968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99440" y="6517440"/>
              <a:ext cx="7992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61400" y="556704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8040" y="598248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30520" y="627192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49720" y="5502960"/>
              <a:ext cx="80280" cy="741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82080" y="423072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32520" y="42948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96240" y="4935600"/>
              <a:ext cx="80280" cy="745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885120" y="4230720"/>
              <a:ext cx="1935360" cy="24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5090400" y="5159880"/>
              <a:ext cx="229320" cy="15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7360" y="5256000"/>
              <a:ext cx="206280" cy="1839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83600" y="5924880"/>
              <a:ext cx="206280" cy="18432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55640" y="5241240"/>
              <a:ext cx="206280" cy="1843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4527000" y="5844240"/>
              <a:ext cx="220680" cy="14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4564440" y="5375880"/>
              <a:ext cx="222120" cy="14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80760" y="4383000"/>
              <a:ext cx="1815120" cy="226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695760" y="4078080"/>
              <a:ext cx="1866600" cy="232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5515200" y="3862440"/>
              <a:ext cx="1100520" cy="624600"/>
              <a:chOff x="5515200" y="3862440"/>
              <a:chExt cx="1100520" cy="624600"/>
            </a:xfrm>
          </p:grpSpPr>
          <p:sp>
            <p:nvSpPr>
              <p:cNvPr id="865" name=""/>
              <p:cNvSpPr/>
              <p:nvPr/>
            </p:nvSpPr>
            <p:spPr>
              <a:xfrm>
                <a:off x="5515200" y="4134600"/>
                <a:ext cx="498600" cy="352440"/>
              </a:xfrm>
              <a:prstGeom prst="line">
                <a:avLst/>
              </a:prstGeom>
              <a:ln w="9360">
                <a:solidFill>
                  <a:srgbClr val="3399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83960" y="3862440"/>
                <a:ext cx="10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000000"/>
                    </a:solidFill>
                    <a:latin typeface="Times New Roman"/>
                  </a:rPr>
                  <a:t>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: RoboCu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a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80" y="5502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76720"/>
            <a:ext cx="3657600" cy="1371600"/>
          </a:xfrm>
          <a:prstGeom prst="wedgeEllipseCallout">
            <a:avLst>
              <a:gd name="adj1" fmla="val -61240"/>
              <a:gd name="adj2" fmla="val 27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宋体"/>
              </a:rPr>
              <a:t>If the ball is in our penalty area, then all our players except player 4 should stay in our hal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5349960"/>
            <a:ext cx="422424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Gulim"/>
                <a:ea typeface="Gulim"/>
              </a:rPr>
              <a:t>((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bpos (penalty-area ou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(do (player-except our{4}) (</a:t>
            </a:r>
            <a:r>
              <a:rPr b="1" i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pos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 (half ou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64832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040" y="4724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KRISP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36240" y="3274920"/>
            <a:ext cx="335376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 string-kernel-b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VM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35160" y="4849920"/>
            <a:ext cx="334008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87920" y="2468520"/>
            <a:ext cx="0" cy="768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87920" y="4119480"/>
            <a:ext cx="0" cy="730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14640" y="2314440"/>
            <a:ext cx="0" cy="2651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14640" y="4965840"/>
            <a:ext cx="9205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377040" y="4965840"/>
            <a:ext cx="80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183440" y="2008080"/>
            <a:ext cx="0" cy="2957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6377040" y="2008080"/>
            <a:ext cx="806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60520" y="55022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377040" y="55022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7800" y="5195880"/>
            <a:ext cx="245736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77040" y="5195880"/>
            <a:ext cx="23050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35160" y="1623960"/>
            <a:ext cx="3341880" cy="825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llect positi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60520" y="185436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460520" y="2314440"/>
            <a:ext cx="1574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08600" y="14320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RL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61880" y="19699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L sent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M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08200" y="5618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vel NL sen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54800" y="56563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M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0" y="285264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seman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rivations (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d incorr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619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52340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 of KRISP’s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defin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emantic Deriv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NL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probability of a semantic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ing of an NL sentence involves finding its most probable semantic der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forward to obtain MR from  a semantic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616400" y="1662120"/>
            <a:ext cx="5950440" cy="3019320"/>
            <a:chOff x="1616400" y="1662120"/>
            <a:chExt cx="5950440" cy="3019320"/>
          </a:xfrm>
        </p:grpSpPr>
        <p:sp>
          <p:nvSpPr>
            <p:cNvPr id="895" name=""/>
            <p:cNvSpPr/>
            <p:nvPr/>
          </p:nvSpPr>
          <p:spPr>
            <a:xfrm>
              <a:off x="3183120" y="1662120"/>
              <a:ext cx="16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560" y="1779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16400" y="22003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00840" y="33145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08760" y="2162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40360" y="266040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97320" y="3314520"/>
              <a:ext cx="13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62440" y="26604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RAVERSE_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07240" y="38512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07640" y="43131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tate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62600" y="4311720"/>
              <a:ext cx="8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‘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xas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52480" y="385128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15640" y="316044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raverse_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2070360" y="2046240"/>
              <a:ext cx="1382400" cy="269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52760" y="2046240"/>
              <a:ext cx="998640" cy="191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645000" y="2430360"/>
              <a:ext cx="882720" cy="307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27720" y="2430360"/>
              <a:ext cx="922320" cy="307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06840" y="293040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949640" y="2930400"/>
              <a:ext cx="538200" cy="460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88200" y="2930400"/>
              <a:ext cx="922320" cy="500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582720"/>
              <a:ext cx="0" cy="42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48680" y="3544920"/>
              <a:ext cx="0" cy="42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910120" y="4120920"/>
              <a:ext cx="500040" cy="344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48680" y="4120920"/>
              <a:ext cx="614160" cy="268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" y="10987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 parse with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on-terminals on the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27720" y="20080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35120" y="25066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3800" y="33526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44640" y="335448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47520" y="40435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51560" y="4119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92960" y="458136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95640" y="2814480"/>
            <a:ext cx="14209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5302080" y="3621240"/>
            <a:ext cx="38448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62520" y="3621240"/>
            <a:ext cx="161316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7400" y="1098720"/>
            <a:ext cx="52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 parse with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roductions on the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27720" y="20080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35120" y="25066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3800" y="33526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44640" y="335448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71560" y="40435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51560" y="4119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458136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95640" y="2814480"/>
            <a:ext cx="14209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302080" y="3621240"/>
            <a:ext cx="38448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62520" y="3621240"/>
            <a:ext cx="161316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3080" y="109872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Derivation: Each nod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covers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 NL sub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08200" y="3659040"/>
            <a:ext cx="142056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8200" y="5349960"/>
            <a:ext cx="3417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2228760" y="3658680"/>
            <a:ext cx="203544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4417920" y="4311720"/>
            <a:ext cx="922320" cy="1076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7920" y="5388120"/>
            <a:ext cx="2803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5340240" y="4311360"/>
            <a:ext cx="1881360" cy="1114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7375320" y="4888080"/>
            <a:ext cx="30780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413480" y="5388120"/>
            <a:ext cx="92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7683480" y="4887720"/>
            <a:ext cx="65232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Derivation of an NL Senten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39640" y="5272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Which rivers run through the states bordering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688120" y="200808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SW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answer(RIVER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 [1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506680"/>
            <a:ext cx="42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IVER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(STATE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1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2000" y="3352680"/>
            <a:ext cx="36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AVERSE_2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traverse_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1..4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05040" y="3354480"/>
            <a:ext cx="38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5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192720" y="4081320"/>
            <a:ext cx="29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ATEI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8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53360" y="458136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ID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‘texas’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[8..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4200" y="2274840"/>
            <a:ext cx="0" cy="34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306520" y="2814480"/>
            <a:ext cx="168912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57480" y="2814480"/>
            <a:ext cx="1459080" cy="53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378040" y="3621240"/>
            <a:ext cx="384120" cy="460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62520" y="3621240"/>
            <a:ext cx="1689120" cy="498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43880" y="4389480"/>
            <a:ext cx="0" cy="268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120" y="1123920"/>
            <a:ext cx="69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Derivation: Each node contains a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the substring of NL sentence i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808200" y="3659040"/>
            <a:ext cx="142056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8200" y="5349960"/>
            <a:ext cx="3417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2228760" y="3658680"/>
            <a:ext cx="2035440" cy="16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339720" y="4005360"/>
            <a:ext cx="3843720" cy="1382760"/>
            <a:chOff x="3339720" y="4005360"/>
            <a:chExt cx="3843720" cy="1382760"/>
          </a:xfrm>
        </p:grpSpPr>
        <p:sp>
          <p:nvSpPr>
            <p:cNvPr id="981" name=""/>
            <p:cNvSpPr/>
            <p:nvPr/>
          </p:nvSpPr>
          <p:spPr>
            <a:xfrm>
              <a:off x="3339720" y="4005360"/>
              <a:ext cx="30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NEXT_TO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next_to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, [5..7]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417920" y="4311720"/>
              <a:ext cx="92232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17920" y="5388120"/>
              <a:ext cx="2727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5302080" y="4273560"/>
              <a:ext cx="1881360" cy="111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 flipH="1">
            <a:off x="7375320" y="4888080"/>
            <a:ext cx="30780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413480" y="5388120"/>
            <a:ext cx="92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7683480" y="4887720"/>
            <a:ext cx="652320" cy="500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85960" y="584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87040" y="5659560"/>
            <a:ext cx="75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1                2            3             4             5          6                   7                   8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ty of a Semantic Der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P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[i..j]) be the probability that produc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vers the substring s[i..j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.g.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EXT_TO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next_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he states bord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the string-kernel-based SVM classifiers trained for each produc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a semantic derivatio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1768320" y="5897520"/>
                <a:ext cx="52628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3" name=""/>
          <p:cNvSpPr/>
          <p:nvPr/>
        </p:nvSpPr>
        <p:spPr>
          <a:xfrm>
            <a:off x="2187000" y="22766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(NEXT_TO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, [5..7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3265560" y="2622600"/>
            <a:ext cx="922320" cy="1036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5560" y="3659040"/>
            <a:ext cx="2727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4187880" y="2622240"/>
            <a:ext cx="1843200" cy="1036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12920" y="35812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the states b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81480" y="3929040"/>
            <a:ext cx="22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5           6             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ing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st Probable Semantic Der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4120" y="13161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by extending Earley’s [1970] context-free grammar pars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algorithm which generates and compactly stores each subtree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 greedy approximation search, with beam wid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eturn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st probable derivations it f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15960" y="11631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NL sentences paired with their respective MRs a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s MR par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s in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iteration, for every producti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ose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 MR parses use that produc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remaining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05120" y="1163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94760" y="1432080"/>
            <a:ext cx="8487360" cy="2425680"/>
            <a:chOff x="194760" y="1432080"/>
            <a:chExt cx="8487360" cy="2425680"/>
          </a:xfrm>
        </p:grpSpPr>
        <p:sp>
          <p:nvSpPr>
            <p:cNvPr id="1006" name=""/>
            <p:cNvSpPr/>
            <p:nvPr/>
          </p:nvSpPr>
          <p:spPr>
            <a:xfrm>
              <a:off x="231840" y="1892160"/>
              <a:ext cx="3801960" cy="1965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ich rivers run through the states bordering texa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at is the most populated state bordering oklahoma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what is the largest city in states that border california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40200" y="1892160"/>
              <a:ext cx="3841920" cy="1878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state has the highest population ?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states does the delaware river run through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ich states have cities named austin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is the lowest point of the state with the largest area 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4760" y="1432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osi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24720" y="14320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ega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072960" y="1469880"/>
              <a:ext cx="1306440" cy="38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79760" y="1469880"/>
              <a:ext cx="1268640" cy="38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255120" y="5502240"/>
            <a:ext cx="3041280" cy="748800"/>
            <a:chOff x="3255120" y="5502240"/>
            <a:chExt cx="3041280" cy="748800"/>
          </a:xfrm>
        </p:grpSpPr>
        <p:sp>
          <p:nvSpPr>
            <p:cNvPr id="1013" name=""/>
            <p:cNvSpPr/>
            <p:nvPr/>
          </p:nvSpPr>
          <p:spPr>
            <a:xfrm>
              <a:off x="4687920" y="550224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255120" y="5810400"/>
              <a:ext cx="304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TAT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EXT_TO(STAT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(s[i..j]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347480" y="3813120"/>
            <a:ext cx="4339080" cy="1689120"/>
            <a:chOff x="1347480" y="3813120"/>
            <a:chExt cx="4339080" cy="1689120"/>
          </a:xfrm>
        </p:grpSpPr>
        <p:grpSp>
          <p:nvGrpSpPr>
            <p:cNvPr id="1016" name=""/>
            <p:cNvGrpSpPr/>
            <p:nvPr/>
          </p:nvGrpSpPr>
          <p:grpSpPr>
            <a:xfrm>
              <a:off x="1347480" y="4351320"/>
              <a:ext cx="4338720" cy="1150920"/>
              <a:chOff x="1347480" y="4351320"/>
              <a:chExt cx="4338720" cy="115092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4225680" y="4543200"/>
                <a:ext cx="1120680" cy="774360"/>
                <a:chOff x="4225680" y="4543200"/>
                <a:chExt cx="1120680" cy="774360"/>
              </a:xfrm>
            </p:grpSpPr>
            <p:sp>
              <p:nvSpPr>
                <p:cNvPr id="1018" name=""/>
                <p:cNvSpPr/>
                <p:nvPr/>
              </p:nvSpPr>
              <p:spPr>
                <a:xfrm flipV="1">
                  <a:off x="4262400" y="4604400"/>
                  <a:ext cx="0" cy="71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225680" y="5290920"/>
                  <a:ext cx="1120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548240" y="47818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390200" y="486576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32320" y="4993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32756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74080" y="47257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327560" y="49402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369320" y="4975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8840" y="48866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26160" y="488376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72500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997160" y="5100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637880" y="52232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808880" y="49579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652640" y="507384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829760" y="51544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018040" y="49402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602240" y="45853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769640" y="460332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062680" y="4781880"/>
                  <a:ext cx="24120" cy="205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390200" y="4585320"/>
                  <a:ext cx="588600" cy="67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>
                  <a:off x="4756680" y="4844160"/>
                  <a:ext cx="6948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557960" y="487116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633200" y="505800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807080" y="4867200"/>
                  <a:ext cx="62640" cy="51120"/>
                </a:xfrm>
                <a:prstGeom prst="ellipse">
                  <a:avLst/>
                </a:pr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 flipV="1">
                  <a:off x="4585680" y="5034960"/>
                  <a:ext cx="66960" cy="4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>
                  <a:off x="4599720" y="4903560"/>
                  <a:ext cx="6444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4510800" y="4627800"/>
                  <a:ext cx="551880" cy="631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4332600" y="4543200"/>
                  <a:ext cx="567720" cy="649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3611160" y="4351320"/>
                <a:ext cx="2075040" cy="1150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47480" y="4619520"/>
                <a:ext cx="21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tring-kernel-bas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VM classif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3073320" y="3851280"/>
              <a:ext cx="1459080" cy="460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495680" y="3813120"/>
              <a:ext cx="1190880" cy="49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88200" y="9367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oQuery: A Database Query Applic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application for U.S. geography database containing about 800 fa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238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41680" y="29066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133720"/>
            <a:ext cx="2438640" cy="1523880"/>
          </a:xfrm>
          <a:prstGeom prst="wedgeEllipseCallout">
            <a:avLst>
              <a:gd name="adj1" fmla="val -71287"/>
              <a:gd name="adj2" fmla="val 131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宋体"/>
              </a:rPr>
              <a:t>How many cities are there in the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160" y="44956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32320"/>
            <a:ext cx="3962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answer(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unt(B, (city(B), loc(B, 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nst(C, countryid(USA))),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796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520" y="49528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se classifiers P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[i..j]), obtain th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st semantic derivations of each training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se derivations will give the correct MR, calle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orrect deri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me will give incorrect MRs, calle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ncorrect deriv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next iteration, collect positives from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ost probable correct der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negatives from incorrect derivations with higher probability than the most probable correct deriv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RISP’s Training Algorithm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805120" y="11635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</a:t>
            </a:r>
            <a:r>
              <a:rPr b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NEXT_TO(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1840" y="1892160"/>
            <a:ext cx="3801960" cy="19749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the states bordering tex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 bordering oklaho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s that border california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s which share b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宋体"/>
              </a:rPr>
              <a:t>next to state of 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宋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40200" y="1892160"/>
            <a:ext cx="3841920" cy="220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state has the highest population ?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states does the delaware river run through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 states have cities named austin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is the lowest point of the state with the largest area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 rivers run through states b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4760" y="14320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24720" y="1432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150720" y="1508040"/>
            <a:ext cx="1382760" cy="34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33840" y="1508040"/>
            <a:ext cx="1190520" cy="34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255120" y="5502240"/>
            <a:ext cx="3041280" cy="748800"/>
            <a:chOff x="3255120" y="5502240"/>
            <a:chExt cx="3041280" cy="748800"/>
          </a:xfrm>
        </p:grpSpPr>
        <p:sp>
          <p:nvSpPr>
            <p:cNvPr id="1064" name=""/>
            <p:cNvSpPr/>
            <p:nvPr/>
          </p:nvSpPr>
          <p:spPr>
            <a:xfrm>
              <a:off x="4687920" y="5502240"/>
              <a:ext cx="0" cy="384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55120" y="5810400"/>
              <a:ext cx="304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TAT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EXT_TO(STAT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(s[i..j]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347480" y="4351320"/>
            <a:ext cx="4338720" cy="1150920"/>
            <a:chOff x="1347480" y="4351320"/>
            <a:chExt cx="4338720" cy="1150920"/>
          </a:xfrm>
        </p:grpSpPr>
        <p:grpSp>
          <p:nvGrpSpPr>
            <p:cNvPr id="1067" name=""/>
            <p:cNvGrpSpPr/>
            <p:nvPr/>
          </p:nvGrpSpPr>
          <p:grpSpPr>
            <a:xfrm>
              <a:off x="4225680" y="4543200"/>
              <a:ext cx="1120680" cy="774360"/>
              <a:chOff x="4225680" y="4543200"/>
              <a:chExt cx="1120680" cy="774360"/>
            </a:xfrm>
          </p:grpSpPr>
          <p:sp>
            <p:nvSpPr>
              <p:cNvPr id="1068" name=""/>
              <p:cNvSpPr/>
              <p:nvPr/>
            </p:nvSpPr>
            <p:spPr>
              <a:xfrm flipV="1">
                <a:off x="4262400" y="4604400"/>
                <a:ext cx="0" cy="71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25680" y="5290920"/>
                <a:ext cx="1120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48240" y="47818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390200" y="486576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432320" y="4993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32756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74080" y="47257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27560" y="49402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69320" y="4975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78840" y="48866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826160" y="488376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72500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97160" y="5100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37880" y="52232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08880" y="49579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652640" y="507384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829760" y="51544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18040" y="49402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602240" y="45853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69640" y="460332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62680" y="4781880"/>
                <a:ext cx="24120" cy="20520"/>
              </a:xfrm>
              <a:prstGeom prst="octagon">
                <a:avLst>
                  <a:gd name="adj" fmla="val 2928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4390200" y="4585320"/>
                <a:ext cx="588600" cy="67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4756680" y="4844160"/>
                <a:ext cx="694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57960" y="487116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633200" y="505800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07080" y="4867200"/>
                <a:ext cx="62640" cy="511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4585680" y="5034960"/>
                <a:ext cx="6696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4599720" y="4903560"/>
                <a:ext cx="6444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510800" y="4627800"/>
                <a:ext cx="551880" cy="63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4332600" y="4543200"/>
                <a:ext cx="567720" cy="649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3611160" y="4351320"/>
              <a:ext cx="2075040" cy="1150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47480" y="4619520"/>
              <a:ext cx="21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ring-kernel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VM 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3035160" y="3889440"/>
            <a:ext cx="1497240" cy="42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4495320" y="4081320"/>
            <a:ext cx="1228680" cy="230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1640" y="9367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Corpor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300 randomly selected pieces of coaching advice from the log files of the 2003 RoboCup Coach Competi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2.52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4.24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0 queries for the given U.S. geography databa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6.87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5.32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ed using standard 10-fold cross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output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exactly matches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the correct representa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the resulting query retrieves the same answer as the correct represent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1730520" y="4427640"/>
                <a:ext cx="56847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844640" y="5656320"/>
                <a:ext cx="53593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ntenc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61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15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455760" y="990720"/>
            <a:ext cx="8078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539640" y="990720"/>
            <a:ext cx="82234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ore methods that can automatically generate SAPTs to minimize the annotation effort for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semantic parsers just from sentences paired with “perceptual contex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semantic parsers is an important and challenging problem in natural-languag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obtained promising results on several applications using a variety of approaches with different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others have explored this problem, I would encourage others to consid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nd larger corpora are needed for training and testing semantic parser 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Semantic Pars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programming robust semantic parsers is difficult due to the complexity of the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s can be learned automatically from sentences paired with their logical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138" name="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141" name="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72040" y="4905000"/>
            <a:ext cx="1704240" cy="994680"/>
            <a:chOff x="5972040" y="4905000"/>
            <a:chExt cx="1704240" cy="994680"/>
          </a:xfrm>
        </p:grpSpPr>
        <p:sp>
          <p:nvSpPr>
            <p:cNvPr id="144" name=""/>
            <p:cNvSpPr/>
            <p:nvPr/>
          </p:nvSpPr>
          <p:spPr>
            <a:xfrm>
              <a:off x="6322320" y="490500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72040" y="537516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147" name="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96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apers on learning semantic parsers are on-lin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publication/ls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rpora can be downloaded fro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nldata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Question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ineering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language-learning research strives for broad coverage while sacrificing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caling up by dumbing down”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semantic parsing currently entails domain 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-dependent natural-language interfaces have a large potent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kes developing specific applications more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orpora can be easily developed by tagging  existing corpora of formal statements with natural-language glo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gnitive Science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atural-language learning methods require supervised training data that is not available to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eneral lack of negative feedback on grammar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o POS-tagged or treebank data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a child can infer the likely meaning of an utterance from context, N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 pairs are more cognitively plausibl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aymond J. Mooney</cp:lastModifiedBy>
  <dcterms:modified xsi:type="dcterms:W3CDTF">2005-12-11T00:05:51Z</dcterms:modified>
  <cp:revision>1767</cp:revision>
  <dc:subject/>
  <dc:title>Content-Boosted Collaborative Filtering</dc:title>
</cp:coreProperties>
</file>