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fld id="{4B98D1A5-826E-4D73-A76C-20CEBEB778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sert an outline slides for scissor overview, integrated model(augment Collins’s parsemodel),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internal node includes both a syntactic and semantic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APT captures the semantic interpretation of individual words and the basic predicate-argument structure of the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nstituent , has th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the filler from its children which meet the argument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nstituent , has th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the filler from its children which meet the argument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all(null) – doesn’t has corresponding concepts in the target language, so it’s labeled as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nstituent , has th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the filler from its children which meet the argument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test on Clang corpora.  It’s also tested on an benchmark corpora of semantic par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 Geoquery example: how many cities are there in the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eoquery – using the same evaluation method in previou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hy not using partial mat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oesn’t make sense, player 2 instead of player 3, left instead of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ion, first show correct, then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plain what’s precision, what’s re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294A8-83EB-4601-9A6D-E3D89EAEA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BE62-DCD4-4748-A9D7-7E4444372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A053-0087-4E64-83BC-41DE094B5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FEE2-8FA2-4FB2-8A64-B9A7014FE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9DC7F-4C9D-476B-8EEC-0DDC9BDC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557B3-0C17-49EC-AA7C-31053874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44A8E-09FD-4E42-BEAB-0CF3DF2E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41C8D-DA93-4A44-85F4-DD1C6973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CE1F5-1189-4F3E-81FC-F5CC71F6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BD257-A1D4-43DE-A5E2-7C5676CD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81B7D-7FCC-4DAE-8913-900F52CB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5E49-7EAD-4E64-BF85-FA6824D9A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EE5FB-4C58-4749-8BBA-D97DA205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1C5B1-0A0E-4B36-A780-21BAA782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BC613-764A-43B3-AF5E-A0604451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E1D12-EFA8-4C5F-88E1-8D570670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08C05-BE78-4C04-9876-2FE45520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9AD3-F5FF-4F8D-A12B-E31479F1C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5466-196A-47B5-92E5-2C70823C9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7F3E-6096-4C42-ABA5-B0EE7158B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A505D-BD6C-451D-BEFA-5548E9C85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0AC9-95CD-4E3C-90FD-40CCDF933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A43C-A13C-401A-A851-03735109D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4F001-A523-4A96-A57E-440E7BFFF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3D24-92C5-4DA4-A758-E1766B4AED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A5D8-504A-4BCD-BFFE-6CF3876DB67F}" type="slidenum">
              <a:rPr b="1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15400" cy="660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D495-02A0-4E24-A259-6DDEE3E13A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507000"/>
            <a:ext cx="2438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06200"/>
            <a:ext cx="2057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Machine Learn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209680"/>
            <a:ext cx="7770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114800" y="5181480"/>
            <a:ext cx="985680" cy="97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57680" y="4038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Machine Learn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419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Department of Computer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57680" y="48006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University of Texas at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.cs.cmu.edu/projects/objewa/images/wasp.jpg&amp;imgrefurl=http://graphics.cs.cmu.edu/projects/objewa/&amp;h=512&amp;w=512&amp;sz=75&amp;tbnid=IURvayonOqIJ:&amp;tbnh=128&amp;tbnw=128&amp;hl=en&amp;start=63&amp;prev=/images%3Fq%3Dwasp%26start%3D60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Learning for Semantic Parsing of Natural Langu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54160" y="6078600"/>
            <a:ext cx="922320" cy="506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17720" y="617220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cember 19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6160" y="2430360"/>
            <a:ext cx="4403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ymond J. M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uifang Ge, Rohit Kate, Yuk Wah W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ohn Zelle, Cynth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ur Semantic-Parser Learners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L+WOLFIE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Zelle &amp; Mooney, 1996; Thompson &amp; Mooney, 1999, 200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Separates parser-learning and semantic-lexicon learning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Learns a deterministic parser using ILP techniques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CK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Tang &amp; Mooney,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mproved ILP algorithm for CHILL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T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Kate, Wong &amp; Mooney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Learns symbolic transformation rules for mapping directly from NL to LF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SSOR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(Ge &amp; Mooney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Integrates semantic interpretation into Collins’ statistical syntactic parser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Wong &amp; Mooney, in prepa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Uses syntax-based statistical machine translation methods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SP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Kate &amp; Mooney, in prepa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Uses a series of SVM classifiers employing a string-kernel to iteratively build semantic representations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a fairly standard approach to compositional semantics [Jurafsky and Martin, 2000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 statistical parser is used to generate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ally augmented parse tre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SAP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ugment Collins’ head-driven model 2 to incorporate semantic label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late SAPT into a complete formal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eaning represen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M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CISS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: 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mantic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omposition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ntegrate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yntax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mantics to ge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ptimal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presen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28560" y="0"/>
            <a:ext cx="722520" cy="1219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33720" y="52722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MR: bowner(player(our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210680" y="3543480"/>
            <a:ext cx="6621840" cy="2096640"/>
            <a:chOff x="1210680" y="3543480"/>
            <a:chExt cx="6621840" cy="2096640"/>
          </a:xfrm>
        </p:grpSpPr>
        <p:sp>
          <p:nvSpPr>
            <p:cNvPr id="160" name=""/>
            <p:cNvSpPr/>
            <p:nvPr/>
          </p:nvSpPr>
          <p:spPr>
            <a:xfrm>
              <a:off x="1527120" y="481464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61040" y="48146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61000" y="48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67560" y="48146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53040" y="5271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02080" y="527184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0680" y="441288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-t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55120" y="44128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17840" y="44128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-un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9680" y="441288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89600" y="4844880"/>
              <a:ext cx="87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32520" y="484488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5000" y="441288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52680" y="387972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19920" y="387972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73600" y="354348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5560" y="471780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488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56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786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19800" y="518148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462440" y="5184360"/>
              <a:ext cx="180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044880" y="3803400"/>
              <a:ext cx="12016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92800" y="3803400"/>
              <a:ext cx="11300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977840" y="4184280"/>
              <a:ext cx="98892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4880" y="4184280"/>
              <a:ext cx="144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4880" y="4184280"/>
              <a:ext cx="77796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406840" y="4108320"/>
              <a:ext cx="42372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4400" y="4108320"/>
              <a:ext cx="84744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324480" y="4647960"/>
              <a:ext cx="53352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0" y="4647960"/>
              <a:ext cx="53352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223280" y="3543480"/>
            <a:ext cx="6622200" cy="2096640"/>
            <a:chOff x="1223280" y="3543480"/>
            <a:chExt cx="6622200" cy="2096640"/>
          </a:xfrm>
        </p:grpSpPr>
        <p:sp>
          <p:nvSpPr>
            <p:cNvPr id="192" name=""/>
            <p:cNvSpPr/>
            <p:nvPr/>
          </p:nvSpPr>
          <p:spPr>
            <a:xfrm>
              <a:off x="1539720" y="481464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74000" y="48146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73960" y="48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80160" y="48146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65640" y="5271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14680" y="527184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23280" y="441288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t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8080" y="44128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30440" y="4412880"/>
              <a:ext cx="109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un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62640" y="4412880"/>
              <a:ext cx="124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02920" y="4844880"/>
              <a:ext cx="87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45480" y="484488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57600" y="4412880"/>
              <a:ext cx="88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65640" y="387972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2520" y="387972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560" y="354348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3852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57480" y="471780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482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912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2400" y="518148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75040" y="5184360"/>
              <a:ext cx="180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057480" y="3803400"/>
              <a:ext cx="12016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3803400"/>
              <a:ext cx="11304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990440" y="4184280"/>
              <a:ext cx="98892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57480" y="4184280"/>
              <a:ext cx="180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57480" y="4184280"/>
              <a:ext cx="77796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419440" y="4108320"/>
              <a:ext cx="42372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77000" y="4108320"/>
              <a:ext cx="8478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337080" y="4647960"/>
              <a:ext cx="53316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70600" y="4647960"/>
              <a:ext cx="53352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Overview of 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ISSO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33840" y="2133720"/>
            <a:ext cx="24764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tegrated Semantic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41148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62120" y="2270160"/>
            <a:ext cx="2286000" cy="2532600"/>
            <a:chOff x="762120" y="2270160"/>
            <a:chExt cx="2286000" cy="2532600"/>
          </a:xfrm>
        </p:grpSpPr>
        <p:sp>
          <p:nvSpPr>
            <p:cNvPr id="227" name=""/>
            <p:cNvSpPr/>
            <p:nvPr/>
          </p:nvSpPr>
          <p:spPr>
            <a:xfrm>
              <a:off x="762120" y="2270160"/>
              <a:ext cx="22860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APT 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4403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629240" y="3048120"/>
            <a:ext cx="2286000" cy="914400"/>
            <a:chOff x="4629240" y="3048120"/>
            <a:chExt cx="2286000" cy="914400"/>
          </a:xfrm>
        </p:grpSpPr>
        <p:sp>
          <p:nvSpPr>
            <p:cNvPr id="230" name=""/>
            <p:cNvSpPr/>
            <p:nvPr/>
          </p:nvSpPr>
          <p:spPr>
            <a:xfrm>
              <a:off x="4629240" y="3581280"/>
              <a:ext cx="228600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A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72240" y="3048120"/>
              <a:ext cx="0" cy="45720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33840" y="3962520"/>
            <a:ext cx="2476440" cy="1371600"/>
            <a:chOff x="4533840" y="3962520"/>
            <a:chExt cx="2476440" cy="1371600"/>
          </a:xfrm>
        </p:grpSpPr>
        <p:sp>
          <p:nvSpPr>
            <p:cNvPr id="233" name=""/>
            <p:cNvSpPr/>
            <p:nvPr/>
          </p:nvSpPr>
          <p:spPr>
            <a:xfrm>
              <a:off x="4533840" y="4572000"/>
              <a:ext cx="2476440" cy="7621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mposeM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72240" y="3962520"/>
              <a:ext cx="0" cy="60948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591080" y="5334120"/>
            <a:ext cx="2362320" cy="1218960"/>
            <a:chOff x="4591080" y="5334120"/>
            <a:chExt cx="2362320" cy="1218960"/>
          </a:xfrm>
        </p:grpSpPr>
        <p:sp>
          <p:nvSpPr>
            <p:cNvPr id="236" name=""/>
            <p:cNvSpPr/>
            <p:nvPr/>
          </p:nvSpPr>
          <p:spPr>
            <a:xfrm>
              <a:off x="4591080" y="5943600"/>
              <a:ext cx="2362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72240" y="5334120"/>
              <a:ext cx="0" cy="60948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838080" y="1127160"/>
            <a:ext cx="6229440" cy="3675600"/>
            <a:chOff x="838080" y="1127160"/>
            <a:chExt cx="6229440" cy="3675600"/>
          </a:xfrm>
        </p:grpSpPr>
        <p:sp>
          <p:nvSpPr>
            <p:cNvPr id="239" name=""/>
            <p:cNvSpPr/>
            <p:nvPr/>
          </p:nvSpPr>
          <p:spPr>
            <a:xfrm>
              <a:off x="5772240" y="1736640"/>
              <a:ext cx="0" cy="38124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76600" y="1127160"/>
              <a:ext cx="25909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L Sen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080" y="4403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ES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048120" y="2209680"/>
            <a:ext cx="1600200" cy="381240"/>
            <a:chOff x="3048120" y="2209680"/>
            <a:chExt cx="1600200" cy="381240"/>
          </a:xfrm>
        </p:grpSpPr>
        <p:sp>
          <p:nvSpPr>
            <p:cNvPr id="243" name=""/>
            <p:cNvSpPr/>
            <p:nvPr/>
          </p:nvSpPr>
          <p:spPr>
            <a:xfrm>
              <a:off x="3048120" y="2590920"/>
              <a:ext cx="137160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22096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CISSOR SAPT Parser Implement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labels added to Bikel’s (2004) open-source version of the Collins statistical par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ad-driven derivation of production rules augmented to also generate semantic lab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 estimates during training employ an augmented smoothing technique to account for additional data sparsity created by semantic lab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sing of test sentences to find the most probable SAPT is performed using a standard beam-search constrained version of CKY chart-parsing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oseM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5200" y="3597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15000" y="3597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66880" y="35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32080" y="359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79200" y="4098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73680" y="40989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8920" y="3056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4880" y="30560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76880" y="3056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u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45600" y="3056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056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7224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95800" y="3044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45680" y="23702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1800" y="23702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480" y="17146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272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1468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400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45240" y="4000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947000" y="400212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819520" y="209556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209556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705360" y="33908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390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371600" y="270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2705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270504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100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oseM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5200" y="3597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15000" y="3597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66880" y="35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32080" y="359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79200" y="4098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73680" y="40989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98920" y="3056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96040" y="30560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76880" y="3056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u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92240" y="30560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7056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7224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95800" y="3044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92320" y="23702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64080" y="23702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57280" y="17146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272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1468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00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45240" y="4000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947000" y="400212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819520" y="209556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209556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705360" y="33908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3390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371600" y="270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2320" y="2705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0504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4100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244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oseM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25200" y="3597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15000" y="3597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66880" y="35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32080" y="359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200" y="4098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73680" y="40989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98920" y="3056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96040" y="30560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76880" y="3056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u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92240" y="30560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7056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7224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64080" y="23702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57280" y="17146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272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1468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400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3412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45240" y="4000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947000" y="400212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819520" y="209556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209556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705360" y="33908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3390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371600" y="270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62320" y="2705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62320" y="270504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4100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244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9440" y="3032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320" y="23464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9440" y="30481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27720" y="23623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990720" y="2743200"/>
            <a:ext cx="2971440" cy="2622960"/>
            <a:chOff x="990720" y="2743200"/>
            <a:chExt cx="2971440" cy="2622960"/>
          </a:xfrm>
        </p:grpSpPr>
        <p:sp>
          <p:nvSpPr>
            <p:cNvPr id="346" name=""/>
            <p:cNvSpPr/>
            <p:nvPr/>
          </p:nvSpPr>
          <p:spPr>
            <a:xfrm flipV="1">
              <a:off x="1371600" y="2743200"/>
              <a:ext cx="83808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742840" y="2743200"/>
              <a:ext cx="121932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90720" y="496728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player(team,unu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675440" y="236232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(our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38320" y="23464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65200" y="17366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990720" y="2133720"/>
            <a:ext cx="3276360" cy="3430800"/>
            <a:chOff x="990720" y="2133720"/>
            <a:chExt cx="3276360" cy="3430800"/>
          </a:xfrm>
        </p:grpSpPr>
        <p:sp>
          <p:nvSpPr>
            <p:cNvPr id="353" name=""/>
            <p:cNvSpPr/>
            <p:nvPr/>
          </p:nvSpPr>
          <p:spPr>
            <a:xfrm>
              <a:off x="990720" y="516564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bowner(play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819520" y="2133720"/>
              <a:ext cx="1447560" cy="3045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452760" y="167652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player(our,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ASP</a:t>
            </a:r>
            <a:br>
              <a:rPr sz="28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Machine Translation Approach to Semantic Pars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 semantic grammar of the natural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machine translation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nchronous context-free grammars (SCFG) (Wu, 1997; Melamed, 2004; Chiang, 2005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d alignments (Brown et al., 1993; Och &amp; Ney, 2003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he name: </a:t>
            </a:r>
            <a:r>
              <a:rPr b="1" lang="en-US" sz="2800" spc="-1" strike="noStrike">
                <a:solidFill>
                  <a:srgbClr val="962dff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ord </a:t>
            </a:r>
            <a:r>
              <a:rPr b="1" lang="en-US" sz="2800" spc="-1" strike="noStrike">
                <a:solidFill>
                  <a:srgbClr val="962d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lignment-based </a:t>
            </a:r>
            <a:r>
              <a:rPr b="1" lang="en-US" sz="2800" spc="-1" strike="noStrike">
                <a:solidFill>
                  <a:srgbClr val="962d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emantic </a:t>
            </a:r>
            <a:r>
              <a:rPr b="1" lang="en-US" sz="2800" spc="-1" strike="noStrike">
                <a:solidFill>
                  <a:srgbClr val="962d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a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nchronous Context-Free Grammars (SCFG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Aho &amp; Ullman (1972) as a theory of compilers that combin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single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a pair of str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single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iling, Machine Translation, and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FG: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for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 to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for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i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gnment models: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 to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trans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P: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 to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for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antic par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ntactic Natural Language Learn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putational research in natural-language learning has addressed “low-level” syntactic proce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orphology (e.g. past-tense generati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art-of-speech tagg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hallow syntactic parsing (chunking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ntactic pars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59960" y="2666880"/>
            <a:ext cx="27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9960" y="314640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p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9600" y="3633840"/>
            <a:ext cx="20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9240" y="411480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text-Free Semantic Gramma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398360" y="4735440"/>
            <a:ext cx="703440" cy="711000"/>
            <a:chOff x="7398360" y="4735440"/>
            <a:chExt cx="703440" cy="711000"/>
          </a:xfrm>
        </p:grpSpPr>
        <p:sp>
          <p:nvSpPr>
            <p:cNvPr id="369" name=""/>
            <p:cNvSpPr/>
            <p:nvPr/>
          </p:nvSpPr>
          <p:spPr>
            <a:xfrm>
              <a:off x="7398360" y="507816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h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50080" y="47354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354720" y="3940200"/>
            <a:ext cx="1854360" cy="715680"/>
            <a:chOff x="6354720" y="3940200"/>
            <a:chExt cx="1854360" cy="715680"/>
          </a:xfrm>
        </p:grpSpPr>
        <p:sp>
          <p:nvSpPr>
            <p:cNvPr id="372" name=""/>
            <p:cNvSpPr/>
            <p:nvPr/>
          </p:nvSpPr>
          <p:spPr>
            <a:xfrm>
              <a:off x="6354720" y="42811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90720" y="428760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553080" y="3940200"/>
              <a:ext cx="571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24760" y="3940200"/>
              <a:ext cx="619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753440" y="18288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49640" y="2678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3600" y="2662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60880" y="2671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1320" y="2295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400640" y="2286000"/>
            <a:ext cx="853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54560" y="2286000"/>
            <a:ext cx="898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64040" y="3516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94000" y="3500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49920" y="35100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07120" y="3133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391000" y="3124080"/>
            <a:ext cx="8193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10360" y="3124080"/>
            <a:ext cx="857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95480" y="289548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10080" y="289548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2909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(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ions of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nchronous Context-Free Gramma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433692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ed to as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transformation 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Kate, Wong &amp; Mooney (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40760" y="2529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9080" y="2529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3429000"/>
            <a:ext cx="2362320" cy="76320"/>
          </a:xfrm>
          <a:custGeom>
            <a:avLst/>
            <a:gdLst/>
            <a:ahLst/>
            <a:rect l="l" t="t" r="r" b="b"/>
            <a:pathLst>
              <a:path w="1440" h="48">
                <a:moveTo>
                  <a:pt x="0" y="0"/>
                </a:moveTo>
                <a:lnTo>
                  <a:pt x="0" y="48"/>
                </a:lnTo>
                <a:lnTo>
                  <a:pt x="1440" y="48"/>
                </a:lnTo>
                <a:lnTo>
                  <a:pt x="1440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906640" y="558792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state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396520" y="5576760"/>
            <a:ext cx="4349520" cy="388800"/>
            <a:chOff x="2396520" y="5576760"/>
            <a:chExt cx="4349520" cy="388800"/>
          </a:xfrm>
        </p:grpSpPr>
        <p:sp>
          <p:nvSpPr>
            <p:cNvPr id="399" name=""/>
            <p:cNvSpPr/>
            <p:nvPr/>
          </p:nvSpPr>
          <p:spPr>
            <a:xfrm>
              <a:off x="2396520" y="5576760"/>
              <a:ext cx="434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QU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i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 answer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32280" y="5889240"/>
              <a:ext cx="1523880" cy="76320"/>
            </a:xfrm>
            <a:custGeom>
              <a:avLst/>
              <a:gdLst/>
              <a:ahLst/>
              <a:rect l="l" t="t" r="r" b="b"/>
              <a:pathLst>
                <a:path w="1632" h="48">
                  <a:moveTo>
                    <a:pt x="0" y="0"/>
                  </a:moveTo>
                  <a:lnTo>
                    <a:pt x="0" y="48"/>
                  </a:lnTo>
                  <a:lnTo>
                    <a:pt x="1632" y="48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421720" y="5573880"/>
            <a:ext cx="4299120" cy="397800"/>
            <a:chOff x="2421720" y="5573880"/>
            <a:chExt cx="4299120" cy="397800"/>
          </a:xfrm>
        </p:grpSpPr>
        <p:sp>
          <p:nvSpPr>
            <p:cNvPr id="402" name=""/>
            <p:cNvSpPr/>
            <p:nvPr/>
          </p:nvSpPr>
          <p:spPr>
            <a:xfrm>
              <a:off x="2421720" y="5573880"/>
              <a:ext cx="42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capit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43440" y="5896080"/>
              <a:ext cx="1447920" cy="75600"/>
            </a:xfrm>
            <a:custGeom>
              <a:avLst/>
              <a:gdLst/>
              <a:ahLst/>
              <a:rect l="l" t="t" r="r" b="b"/>
              <a:pathLst>
                <a:path w="1632" h="48">
                  <a:moveTo>
                    <a:pt x="0" y="0"/>
                  </a:moveTo>
                  <a:lnTo>
                    <a:pt x="0" y="48"/>
                  </a:lnTo>
                  <a:lnTo>
                    <a:pt x="1632" y="48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719800" y="5576760"/>
            <a:ext cx="3703320" cy="390600"/>
            <a:chOff x="2719800" y="5576760"/>
            <a:chExt cx="3703320" cy="390600"/>
          </a:xfrm>
        </p:grpSpPr>
        <p:sp>
          <p:nvSpPr>
            <p:cNvPr id="405" name=""/>
            <p:cNvSpPr/>
            <p:nvPr/>
          </p:nvSpPr>
          <p:spPr>
            <a:xfrm>
              <a:off x="2719800" y="5576760"/>
              <a:ext cx="370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49880" y="5891040"/>
              <a:ext cx="1524240" cy="76320"/>
            </a:xfrm>
            <a:custGeom>
              <a:avLst/>
              <a:gdLst/>
              <a:ahLst/>
              <a:rect l="l" t="t" r="r" b="b"/>
              <a:pathLst>
                <a:path w="1632" h="48">
                  <a:moveTo>
                    <a:pt x="0" y="0"/>
                  </a:moveTo>
                  <a:lnTo>
                    <a:pt x="0" y="48"/>
                  </a:lnTo>
                  <a:lnTo>
                    <a:pt x="1632" y="48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573840" y="556416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of O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nchronous Context-Free Gramma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75920" y="4624560"/>
            <a:ext cx="703440" cy="711000"/>
            <a:chOff x="4075920" y="4624560"/>
            <a:chExt cx="703440" cy="711000"/>
          </a:xfrm>
        </p:grpSpPr>
        <p:sp>
          <p:nvSpPr>
            <p:cNvPr id="410" name=""/>
            <p:cNvSpPr/>
            <p:nvPr/>
          </p:nvSpPr>
          <p:spPr>
            <a:xfrm>
              <a:off x="4075920" y="496728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h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4624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028680" y="3828960"/>
            <a:ext cx="1854360" cy="716040"/>
            <a:chOff x="3028680" y="3828960"/>
            <a:chExt cx="1854360" cy="716040"/>
          </a:xfrm>
        </p:grpSpPr>
        <p:sp>
          <p:nvSpPr>
            <p:cNvPr id="413" name=""/>
            <p:cNvSpPr/>
            <p:nvPr/>
          </p:nvSpPr>
          <p:spPr>
            <a:xfrm>
              <a:off x="3028680" y="4170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4680" y="4176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227040" y="3828960"/>
              <a:ext cx="571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98720" y="3828960"/>
              <a:ext cx="619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430640" y="1717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85440" y="2166840"/>
            <a:ext cx="2512080" cy="768600"/>
            <a:chOff x="685440" y="2166840"/>
            <a:chExt cx="2512080" cy="768600"/>
          </a:xfrm>
        </p:grpSpPr>
        <p:sp>
          <p:nvSpPr>
            <p:cNvPr id="419" name=""/>
            <p:cNvSpPr/>
            <p:nvPr/>
          </p:nvSpPr>
          <p:spPr>
            <a:xfrm>
              <a:off x="2495520" y="256716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440" y="255096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38440" y="2560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28880" y="2176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1045800" y="2166840"/>
              <a:ext cx="88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32120" y="2166840"/>
              <a:ext cx="86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451840" y="1717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779360" y="2174760"/>
            <a:ext cx="2357280" cy="744480"/>
            <a:chOff x="4779360" y="2174760"/>
            <a:chExt cx="2357280" cy="744480"/>
          </a:xfrm>
        </p:grpSpPr>
        <p:sp>
          <p:nvSpPr>
            <p:cNvPr id="427" name=""/>
            <p:cNvSpPr/>
            <p:nvPr/>
          </p:nvSpPr>
          <p:spPr>
            <a:xfrm>
              <a:off x="4779360" y="255096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905440" y="2184480"/>
              <a:ext cx="522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143320" y="2174760"/>
              <a:ext cx="809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3320" y="2174760"/>
              <a:ext cx="409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3320" y="2174760"/>
              <a:ext cx="942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314320" y="3022560"/>
            <a:ext cx="2280960" cy="717480"/>
            <a:chOff x="5314320" y="3022560"/>
            <a:chExt cx="2280960" cy="717480"/>
          </a:xfrm>
        </p:grpSpPr>
        <p:sp>
          <p:nvSpPr>
            <p:cNvPr id="433" name=""/>
            <p:cNvSpPr/>
            <p:nvPr/>
          </p:nvSpPr>
          <p:spPr>
            <a:xfrm>
              <a:off x="5314320" y="3371760"/>
              <a:ext cx="22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pital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359760" y="3033720"/>
              <a:ext cx="950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597640" y="3024360"/>
              <a:ext cx="85104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48680" y="3024360"/>
              <a:ext cx="3682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48680" y="3022560"/>
              <a:ext cx="9014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723640" y="3828960"/>
            <a:ext cx="2382840" cy="709560"/>
            <a:chOff x="5723640" y="3828960"/>
            <a:chExt cx="2382840" cy="709560"/>
          </a:xfrm>
        </p:grpSpPr>
        <p:sp>
          <p:nvSpPr>
            <p:cNvPr id="439" name=""/>
            <p:cNvSpPr/>
            <p:nvPr/>
          </p:nvSpPr>
          <p:spPr>
            <a:xfrm flipH="1">
              <a:off x="5987880" y="3828960"/>
              <a:ext cx="9273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15240" y="3828960"/>
              <a:ext cx="36828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23640" y="4170240"/>
              <a:ext cx="23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_2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673320" y="3828960"/>
              <a:ext cx="2415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15240" y="3828960"/>
              <a:ext cx="9777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167880" y="4622760"/>
            <a:ext cx="2291400" cy="712800"/>
            <a:chOff x="6167880" y="4622760"/>
            <a:chExt cx="2291400" cy="712800"/>
          </a:xfrm>
        </p:grpSpPr>
        <p:sp>
          <p:nvSpPr>
            <p:cNvPr id="445" name=""/>
            <p:cNvSpPr/>
            <p:nvPr/>
          </p:nvSpPr>
          <p:spPr>
            <a:xfrm>
              <a:off x="6167880" y="4967280"/>
              <a:ext cx="229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eid    (    'ohio'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238520" y="4624560"/>
              <a:ext cx="730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553080" y="4624560"/>
              <a:ext cx="7588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16640" y="4622760"/>
              <a:ext cx="4554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6640" y="4622760"/>
              <a:ext cx="8366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494080" y="1905120"/>
            <a:ext cx="2819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74960" y="2895480"/>
            <a:ext cx="3581280" cy="76320"/>
          </a:xfrm>
          <a:custGeom>
            <a:avLst/>
            <a:gdLst/>
            <a:ahLst/>
            <a:rect l="l" t="t" r="r" b="b"/>
            <a:pathLst>
              <a:path w="2112" h="48">
                <a:moveTo>
                  <a:pt x="0" y="0"/>
                </a:moveTo>
                <a:lnTo>
                  <a:pt x="0" y="48"/>
                </a:lnTo>
                <a:lnTo>
                  <a:pt x="2112" y="48"/>
                </a:lnTo>
                <a:lnTo>
                  <a:pt x="211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89360" y="3689280"/>
            <a:ext cx="3112920" cy="7452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38520" y="4495680"/>
            <a:ext cx="2841840" cy="76320"/>
          </a:xfrm>
          <a:custGeom>
            <a:avLst/>
            <a:gdLst/>
            <a:ahLst/>
            <a:rect l="l" t="t" r="r" b="b"/>
            <a:pathLst>
              <a:path w="1488" h="48">
                <a:moveTo>
                  <a:pt x="0" y="0"/>
                </a:moveTo>
                <a:lnTo>
                  <a:pt x="0" y="48"/>
                </a:lnTo>
                <a:lnTo>
                  <a:pt x="1488" y="48"/>
                </a:lnTo>
                <a:lnTo>
                  <a:pt x="1488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50520" y="5562720"/>
            <a:ext cx="43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(capital(loc_2(stateid('ohio'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742760" y="3016080"/>
            <a:ext cx="2404080" cy="735120"/>
            <a:chOff x="1742760" y="3016080"/>
            <a:chExt cx="2404080" cy="735120"/>
          </a:xfrm>
        </p:grpSpPr>
        <p:sp>
          <p:nvSpPr>
            <p:cNvPr id="456" name=""/>
            <p:cNvSpPr/>
            <p:nvPr/>
          </p:nvSpPr>
          <p:spPr>
            <a:xfrm>
              <a:off x="3444840" y="33829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42760" y="33670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21000" y="33764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78200" y="3025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995120" y="3016080"/>
              <a:ext cx="88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1440" y="3016080"/>
              <a:ext cx="86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on-terminals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QU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…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start symbol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QU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RL terminals) = {answer, capital, loc_2, (, ), …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NL words) = 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hi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…}</a:t>
            </a:r>
            <a:br>
              <a:rPr sz="2200"/>
            </a:br>
            <a:br>
              <a:rPr sz="22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lexicon) =</a:t>
            </a:r>
            <a:br>
              <a:rPr sz="2200"/>
            </a:br>
            <a:br>
              <a:rPr sz="22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parameters of probabilistic model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sing Model of WAS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68320" y="4943520"/>
            <a:ext cx="40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stateid('ohio'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69760" y="3521160"/>
            <a:ext cx="526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QUE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answer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62720" y="3882960"/>
            <a:ext cx="1828800" cy="7956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669400" y="4002120"/>
            <a:ext cx="520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api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capital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38680" y="4373640"/>
            <a:ext cx="1708200" cy="8244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68320" y="4459320"/>
            <a:ext cx="447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T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loc_2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3680" y="4822920"/>
            <a:ext cx="1905120" cy="9684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stic Parsing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8040" y="39877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7976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84400" y="3319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20400" y="33256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282760" y="2971800"/>
            <a:ext cx="571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54440" y="2971800"/>
            <a:ext cx="618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92160" y="1920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83000" y="1905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95320" y="2592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540040" y="2290680"/>
            <a:ext cx="9540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778280" y="2281320"/>
            <a:ext cx="85104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29320" y="228132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29320" y="2279520"/>
            <a:ext cx="9018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168520" y="297180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297180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04640" y="331956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854680" y="297180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5880" y="2971800"/>
            <a:ext cx="97812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8880" y="3987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419520" y="367812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734080" y="367812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97640" y="367668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97640" y="367668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220760" y="2590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9280" y="2597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72920" y="2286000"/>
            <a:ext cx="571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44600" y="2286000"/>
            <a:ext cx="619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08080" y="563868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state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626920" y="4648320"/>
            <a:ext cx="3892320" cy="398520"/>
            <a:chOff x="2626920" y="4648320"/>
            <a:chExt cx="3892320" cy="398520"/>
          </a:xfrm>
        </p:grpSpPr>
        <p:sp>
          <p:nvSpPr>
            <p:cNvPr id="501" name=""/>
            <p:cNvSpPr/>
            <p:nvPr/>
          </p:nvSpPr>
          <p:spPr>
            <a:xfrm>
              <a:off x="2626920" y="4648320"/>
              <a:ext cx="38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pital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26000" y="4970520"/>
              <a:ext cx="1447920" cy="76320"/>
            </a:xfrm>
            <a:custGeom>
              <a:avLst/>
              <a:gdLst/>
              <a:ahLst/>
              <a:rect l="l" t="t" r="r" b="b"/>
              <a:pathLst>
                <a:path w="912" h="48">
                  <a:moveTo>
                    <a:pt x="0" y="0"/>
                  </a:moveTo>
                  <a:lnTo>
                    <a:pt x="0" y="48"/>
                  </a:lnTo>
                  <a:lnTo>
                    <a:pt x="912" y="48"/>
                  </a:lnTo>
                  <a:lnTo>
                    <a:pt x="91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721240" y="5146560"/>
            <a:ext cx="3702960" cy="392400"/>
            <a:chOff x="2721240" y="5146560"/>
            <a:chExt cx="3702960" cy="392400"/>
          </a:xfrm>
        </p:grpSpPr>
        <p:sp>
          <p:nvSpPr>
            <p:cNvPr id="504" name=""/>
            <p:cNvSpPr/>
            <p:nvPr/>
          </p:nvSpPr>
          <p:spPr>
            <a:xfrm>
              <a:off x="2721240" y="5146560"/>
              <a:ext cx="370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35480" y="5462640"/>
              <a:ext cx="1523880" cy="76320"/>
            </a:xfrm>
            <a:custGeom>
              <a:avLst/>
              <a:gdLst/>
              <a:ahLst/>
              <a:rect l="l" t="t" r="r" b="b"/>
              <a:pathLst>
                <a:path w="960" h="48">
                  <a:moveTo>
                    <a:pt x="0" y="0"/>
                  </a:moveTo>
                  <a:lnTo>
                    <a:pt x="0" y="48"/>
                  </a:lnTo>
                  <a:lnTo>
                    <a:pt x="960" y="48"/>
                  </a:lnTo>
                  <a:lnTo>
                    <a:pt x="960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02640" y="179244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stic Parsing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8040" y="39877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7976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84400" y="3319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40200" y="3325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82760" y="2971800"/>
            <a:ext cx="571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54440" y="2971800"/>
            <a:ext cx="618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92160" y="1920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3000" y="1905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320" y="2592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5540040" y="2290680"/>
            <a:ext cx="9540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778280" y="2281320"/>
            <a:ext cx="85104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29320" y="228132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29320" y="2279520"/>
            <a:ext cx="9018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5168520" y="297180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297180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24440" y="33195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854680" y="297180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5880" y="2971800"/>
            <a:ext cx="97812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74800" y="39877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6419520" y="367812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734080" y="367812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497640" y="367668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97640" y="367668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20760" y="2590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19280" y="2597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672920" y="2286000"/>
            <a:ext cx="571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44600" y="2286000"/>
            <a:ext cx="619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53800" y="56386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river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626920" y="4648320"/>
            <a:ext cx="3892320" cy="398520"/>
            <a:chOff x="2626920" y="4648320"/>
            <a:chExt cx="3892320" cy="398520"/>
          </a:xfrm>
        </p:grpSpPr>
        <p:sp>
          <p:nvSpPr>
            <p:cNvPr id="537" name=""/>
            <p:cNvSpPr/>
            <p:nvPr/>
          </p:nvSpPr>
          <p:spPr>
            <a:xfrm>
              <a:off x="2626920" y="4648320"/>
              <a:ext cx="38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pital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26000" y="4970520"/>
              <a:ext cx="1447920" cy="76320"/>
            </a:xfrm>
            <a:custGeom>
              <a:avLst/>
              <a:gdLst/>
              <a:ahLst/>
              <a:rect l="l" t="t" r="r" b="b"/>
              <a:pathLst>
                <a:path w="912" h="48">
                  <a:moveTo>
                    <a:pt x="0" y="0"/>
                  </a:moveTo>
                  <a:lnTo>
                    <a:pt x="0" y="48"/>
                  </a:lnTo>
                  <a:lnTo>
                    <a:pt x="912" y="48"/>
                  </a:lnTo>
                  <a:lnTo>
                    <a:pt x="91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760840" y="5146560"/>
            <a:ext cx="3623760" cy="392400"/>
            <a:chOff x="2760840" y="5146560"/>
            <a:chExt cx="3623760" cy="392400"/>
          </a:xfrm>
        </p:grpSpPr>
        <p:sp>
          <p:nvSpPr>
            <p:cNvPr id="540" name=""/>
            <p:cNvSpPr/>
            <p:nvPr/>
          </p:nvSpPr>
          <p:spPr>
            <a:xfrm>
              <a:off x="2760840" y="5146560"/>
              <a:ext cx="362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R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R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35480" y="5462640"/>
              <a:ext cx="1523880" cy="76320"/>
            </a:xfrm>
            <a:custGeom>
              <a:avLst/>
              <a:gdLst/>
              <a:ahLst/>
              <a:rect l="l" t="t" r="r" b="b"/>
              <a:pathLst>
                <a:path w="960" h="48">
                  <a:moveTo>
                    <a:pt x="0" y="0"/>
                  </a:moveTo>
                  <a:lnTo>
                    <a:pt x="0" y="48"/>
                  </a:lnTo>
                  <a:lnTo>
                    <a:pt x="960" y="48"/>
                  </a:lnTo>
                  <a:lnTo>
                    <a:pt x="960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602640" y="179244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04920" y="1523880"/>
            <a:ext cx="4190760" cy="480060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39560" y="17413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1880" y="24289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596600" y="2127240"/>
            <a:ext cx="9540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834840" y="2117880"/>
            <a:ext cx="8506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85880" y="2117880"/>
            <a:ext cx="3682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85880" y="2116080"/>
            <a:ext cx="90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225440" y="2808360"/>
            <a:ext cx="9273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52800" y="280836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61200" y="315612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910880" y="2808360"/>
            <a:ext cx="2415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52800" y="2808360"/>
            <a:ext cx="9777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05440" y="38242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476080" y="351468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790640" y="351468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554200" y="351324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54200" y="351324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stic Parsing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10160" y="17413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22120" y="24289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767560" y="2127240"/>
            <a:ext cx="9504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005080" y="2117880"/>
            <a:ext cx="8506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56120" y="2117880"/>
            <a:ext cx="36864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56120" y="2116080"/>
            <a:ext cx="90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5395680" y="280836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23040" y="280836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51600" y="315612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6081840" y="280836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2808360"/>
            <a:ext cx="9777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01960" y="382428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647040" y="3514680"/>
            <a:ext cx="7272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960880" y="3514680"/>
            <a:ext cx="75852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724800" y="3513240"/>
            <a:ext cx="4554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24800" y="351324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2600" y="5305320"/>
            <a:ext cx="26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 stateid('ohio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71520" y="4446720"/>
            <a:ext cx="3077640" cy="353880"/>
            <a:chOff x="371520" y="4446720"/>
            <a:chExt cx="3077640" cy="353880"/>
          </a:xfrm>
        </p:grpSpPr>
        <p:sp>
          <p:nvSpPr>
            <p:cNvPr id="579" name=""/>
            <p:cNvSpPr/>
            <p:nvPr/>
          </p:nvSpPr>
          <p:spPr>
            <a:xfrm>
              <a:off x="371520" y="4446720"/>
              <a:ext cx="30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ital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/ capital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63440" y="4718160"/>
              <a:ext cx="1103400" cy="82440"/>
            </a:xfrm>
            <a:custGeom>
              <a:avLst/>
              <a:gdLst/>
              <a:ahLst/>
              <a:rect l="l" t="t" r="r" b="b"/>
              <a:pathLst>
                <a:path w="912" h="48">
                  <a:moveTo>
                    <a:pt x="0" y="0"/>
                  </a:moveTo>
                  <a:lnTo>
                    <a:pt x="0" y="48"/>
                  </a:lnTo>
                  <a:lnTo>
                    <a:pt x="912" y="48"/>
                  </a:lnTo>
                  <a:lnTo>
                    <a:pt x="91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74760" y="4869000"/>
            <a:ext cx="2925720" cy="339480"/>
            <a:chOff x="374760" y="4869000"/>
            <a:chExt cx="2925720" cy="339480"/>
          </a:xfrm>
        </p:grpSpPr>
        <p:sp>
          <p:nvSpPr>
            <p:cNvPr id="582" name=""/>
            <p:cNvSpPr/>
            <p:nvPr/>
          </p:nvSpPr>
          <p:spPr>
            <a:xfrm>
              <a:off x="374760" y="4869000"/>
              <a:ext cx="29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/ loc_2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49520" y="5133960"/>
              <a:ext cx="1193760" cy="74520"/>
            </a:xfrm>
            <a:custGeom>
              <a:avLst/>
              <a:gdLst/>
              <a:ahLst/>
              <a:rect l="l" t="t" r="r" b="b"/>
              <a:pathLst>
                <a:path w="960" h="48">
                  <a:moveTo>
                    <a:pt x="0" y="0"/>
                  </a:moveTo>
                  <a:lnTo>
                    <a:pt x="0" y="48"/>
                  </a:lnTo>
                  <a:lnTo>
                    <a:pt x="960" y="48"/>
                  </a:lnTo>
                  <a:lnTo>
                    <a:pt x="960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488480" y="5305320"/>
            <a:ext cx="25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I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 riverid('ohio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486680" y="4446720"/>
            <a:ext cx="3077640" cy="353880"/>
            <a:chOff x="4486680" y="4446720"/>
            <a:chExt cx="3077640" cy="353880"/>
          </a:xfrm>
        </p:grpSpPr>
        <p:sp>
          <p:nvSpPr>
            <p:cNvPr id="586" name=""/>
            <p:cNvSpPr/>
            <p:nvPr/>
          </p:nvSpPr>
          <p:spPr>
            <a:xfrm>
              <a:off x="4486680" y="4446720"/>
              <a:ext cx="30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ital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/ capital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78600" y="4718160"/>
              <a:ext cx="1076040" cy="82440"/>
            </a:xfrm>
            <a:custGeom>
              <a:avLst/>
              <a:gdLst/>
              <a:ahLst/>
              <a:rect l="l" t="t" r="r" b="b"/>
              <a:pathLst>
                <a:path w="912" h="48">
                  <a:moveTo>
                    <a:pt x="0" y="0"/>
                  </a:moveTo>
                  <a:lnTo>
                    <a:pt x="0" y="48"/>
                  </a:lnTo>
                  <a:lnTo>
                    <a:pt x="912" y="48"/>
                  </a:lnTo>
                  <a:lnTo>
                    <a:pt x="91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489920" y="4869000"/>
            <a:ext cx="2867400" cy="339480"/>
            <a:chOff x="4489920" y="4869000"/>
            <a:chExt cx="2867400" cy="339480"/>
          </a:xfrm>
        </p:grpSpPr>
        <p:sp>
          <p:nvSpPr>
            <p:cNvPr id="589" name=""/>
            <p:cNvSpPr/>
            <p:nvPr/>
          </p:nvSpPr>
          <p:spPr>
            <a:xfrm>
              <a:off x="4489920" y="4869000"/>
              <a:ext cx="286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RIV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/ loc_2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RIV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734080" y="5133960"/>
              <a:ext cx="1166760" cy="74520"/>
            </a:xfrm>
            <a:custGeom>
              <a:avLst/>
              <a:gdLst/>
              <a:ahLst/>
              <a:rect l="l" t="t" r="r" b="b"/>
              <a:pathLst>
                <a:path w="960" h="48">
                  <a:moveTo>
                    <a:pt x="0" y="0"/>
                  </a:moveTo>
                  <a:lnTo>
                    <a:pt x="0" y="48"/>
                  </a:lnTo>
                  <a:lnTo>
                    <a:pt x="960" y="48"/>
                  </a:lnTo>
                  <a:lnTo>
                    <a:pt x="960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46248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62480" y="484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462480" y="528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192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2280" y="4846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21920" y="528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62520" y="4495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4738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202600" y="4495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54880" y="47386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462480" y="5729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22280" y="5729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036240" y="5272200"/>
            <a:ext cx="1078560" cy="368280"/>
            <a:chOff x="3036240" y="5272200"/>
            <a:chExt cx="1078560" cy="368280"/>
          </a:xfrm>
        </p:grpSpPr>
        <p:sp>
          <p:nvSpPr>
            <p:cNvPr id="604" name=""/>
            <p:cNvSpPr/>
            <p:nvPr/>
          </p:nvSpPr>
          <p:spPr>
            <a:xfrm>
              <a:off x="3048120" y="56386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36240" y="5272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075080" y="5272200"/>
            <a:ext cx="1284840" cy="368280"/>
            <a:chOff x="7075080" y="5272200"/>
            <a:chExt cx="1284840" cy="368280"/>
          </a:xfrm>
        </p:grpSpPr>
        <p:sp>
          <p:nvSpPr>
            <p:cNvPr id="607" name=""/>
            <p:cNvSpPr/>
            <p:nvPr/>
          </p:nvSpPr>
          <p:spPr>
            <a:xfrm>
              <a:off x="7086600" y="5638680"/>
              <a:ext cx="127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75080" y="5272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483480" y="5729400"/>
            <a:ext cx="390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of Oh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(     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53360" y="5729400"/>
            <a:ext cx="403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of Oh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exp(       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3560" y="152388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04680" y="152388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153760" y="61102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267080" y="6095880"/>
            <a:ext cx="838440" cy="228600"/>
          </a:xfrm>
          <a:custGeom>
            <a:avLst/>
            <a:gdLst/>
            <a:ahLst/>
            <a:rect l="l" t="t" r="r" b="b"/>
            <a:pathLst>
              <a:path w="528" h="168">
                <a:moveTo>
                  <a:pt x="528" y="144"/>
                </a:moveTo>
                <a:cubicBezTo>
                  <a:pt x="452" y="156"/>
                  <a:pt x="376" y="168"/>
                  <a:pt x="288" y="144"/>
                </a:cubicBezTo>
                <a:cubicBezTo>
                  <a:pt x="200" y="120"/>
                  <a:pt x="100" y="60"/>
                  <a:pt x="0" y="0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20120" y="6095880"/>
            <a:ext cx="914400" cy="228600"/>
          </a:xfrm>
          <a:custGeom>
            <a:avLst/>
            <a:gdLst/>
            <a:ahLst/>
            <a:rect l="l" t="t" r="r" b="b"/>
            <a:pathLst>
              <a:path w="576" h="168">
                <a:moveTo>
                  <a:pt x="0" y="144"/>
                </a:moveTo>
                <a:cubicBezTo>
                  <a:pt x="96" y="156"/>
                  <a:pt x="192" y="168"/>
                  <a:pt x="288" y="144"/>
                </a:cubicBezTo>
                <a:cubicBezTo>
                  <a:pt x="384" y="120"/>
                  <a:pt x="480" y="60"/>
                  <a:pt x="576" y="0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457200" y="3505320"/>
            <a:ext cx="8229600" cy="24382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on-terminals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QU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…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start symbol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QU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RL terminals) = {answer, capital, loc_2, (, ), …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NL words) = 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hi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…}</a:t>
            </a:r>
            <a:br>
              <a:rPr sz="2200"/>
            </a:br>
            <a:br>
              <a:rPr sz="22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lexicon) =</a:t>
            </a:r>
            <a:br>
              <a:rPr sz="2200"/>
            </a:br>
            <a:br>
              <a:rPr sz="22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parameters of probabilistic mode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sing Model of WAS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68320" y="4943520"/>
            <a:ext cx="40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stateid('ohio'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69760" y="3521160"/>
            <a:ext cx="526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QUE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answer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562720" y="3882960"/>
            <a:ext cx="1828800" cy="7956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69400" y="4002120"/>
            <a:ext cx="520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api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capital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38680" y="4373640"/>
            <a:ext cx="1708200" cy="8244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68320" y="4459320"/>
            <a:ext cx="447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T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loc_2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603680" y="4822920"/>
            <a:ext cx="1905120" cy="9684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 flipH="1">
            <a:off x="380880" y="4632480"/>
            <a:ext cx="8305920" cy="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 of WAS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387600" y="2098800"/>
            <a:ext cx="290880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xical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0760" y="3584520"/>
            <a:ext cx="328212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81200" y="5257800"/>
            <a:ext cx="272124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c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1" name=""/>
          <p:cNvCxnSpPr>
            <a:stCxn id="628" idx="2"/>
            <a:endCxn id="629" idx="0"/>
          </p:cNvCxnSpPr>
          <p:nvPr/>
        </p:nvCxnSpPr>
        <p:spPr>
          <a:xfrm>
            <a:off x="4841640" y="2555640"/>
            <a:ext cx="1080" cy="102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2" name=""/>
          <p:cNvCxnSpPr>
            <a:stCxn id="629" idx="2"/>
            <a:endCxn id="630" idx="0"/>
          </p:cNvCxnSpPr>
          <p:nvPr/>
        </p:nvCxnSpPr>
        <p:spPr>
          <a:xfrm>
            <a:off x="4841640" y="4041720"/>
            <a:ext cx="1080" cy="121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"/>
          <p:cNvCxnSpPr/>
          <p:nvPr/>
        </p:nvCxnSpPr>
        <p:spPr>
          <a:xfrm flipH="1">
            <a:off x="415080" y="2422080"/>
            <a:ext cx="2963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34" name=""/>
          <p:cNvCxnSpPr/>
          <p:nvPr/>
        </p:nvCxnSpPr>
        <p:spPr>
          <a:xfrm flipH="1">
            <a:off x="415080" y="2269800"/>
            <a:ext cx="2963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35" name=""/>
          <p:cNvCxnSpPr>
            <a:stCxn id="629" idx="1"/>
          </p:cNvCxnSpPr>
          <p:nvPr/>
        </p:nvCxnSpPr>
        <p:spPr>
          <a:xfrm rot="10800000">
            <a:off x="2802960" y="2412360"/>
            <a:ext cx="396000" cy="14004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6" name=""/>
          <p:cNvSpPr/>
          <p:nvPr/>
        </p:nvSpPr>
        <p:spPr>
          <a:xfrm>
            <a:off x="343080" y="1849320"/>
            <a:ext cx="29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</a:rPr>
              <a:t>Unambiguous CF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of M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2000" y="24559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ining se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85560" y="26305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xic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89520" y="412128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sing model parameterized b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0" name=""/>
          <p:cNvCxnSpPr>
            <a:stCxn id="630" idx="1"/>
          </p:cNvCxnSpPr>
          <p:nvPr/>
        </p:nvCxnSpPr>
        <p:spPr>
          <a:xfrm flipH="1">
            <a:off x="415080" y="5486040"/>
            <a:ext cx="30646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341640" y="50706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 sentenc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"/>
          <p:cNvCxnSpPr>
            <a:stCxn id="630" idx="3"/>
          </p:cNvCxnSpPr>
          <p:nvPr/>
        </p:nvCxnSpPr>
        <p:spPr>
          <a:xfrm>
            <a:off x="6203520" y="5486040"/>
            <a:ext cx="2483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3" name=""/>
          <p:cNvSpPr/>
          <p:nvPr/>
        </p:nvSpPr>
        <p:spPr>
          <a:xfrm>
            <a:off x="7065000" y="507348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MR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6560" y="42242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4840" y="4670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xical Acquisi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rules are extracted from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word align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an NL sentence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its correct M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each training example,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Natural Language Learn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3720" y="1393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for semantic analysis has been restricted to relatively “shallow” meaning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d sense disambiguation (e.g. SENSEVAL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mantic role assignment (determining agent, patient, instrument, etc., e.g. FrameNet, PropBank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formation extrac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ord Alignme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4849560"/>
            <a:ext cx="77724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pping from French words to thei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an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ressed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4600" y="4038480"/>
            <a:ext cx="60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nd    the    program    has    been   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499400" y="2133720"/>
            <a:ext cx="614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   programme    a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té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mis    en   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2590920"/>
            <a:ext cx="761760" cy="144756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0" y="0"/>
                </a:moveTo>
                <a:lnTo>
                  <a:pt x="0" y="48"/>
                </a:lnTo>
                <a:lnTo>
                  <a:pt x="480" y="864"/>
                </a:lnTo>
                <a:lnTo>
                  <a:pt x="48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52480" y="2590920"/>
            <a:ext cx="762120" cy="144756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0" y="0"/>
                </a:moveTo>
                <a:lnTo>
                  <a:pt x="0" y="48"/>
                </a:lnTo>
                <a:lnTo>
                  <a:pt x="480" y="864"/>
                </a:lnTo>
                <a:lnTo>
                  <a:pt x="48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962520" y="2590920"/>
            <a:ext cx="609480" cy="1447560"/>
          </a:xfrm>
          <a:custGeom>
            <a:avLst/>
            <a:gdLst/>
            <a:ahLst/>
            <a:rect l="l" t="t" r="r" b="b"/>
            <a:pathLst>
              <a:path w="384" h="912">
                <a:moveTo>
                  <a:pt x="0" y="0"/>
                </a:moveTo>
                <a:lnTo>
                  <a:pt x="0" y="48"/>
                </a:lnTo>
                <a:lnTo>
                  <a:pt x="384" y="864"/>
                </a:lnTo>
                <a:lnTo>
                  <a:pt x="384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95680" y="2590920"/>
            <a:ext cx="838440" cy="1447560"/>
          </a:xfrm>
          <a:custGeom>
            <a:avLst/>
            <a:gdLst/>
            <a:ahLst/>
            <a:rect l="l" t="t" r="r" b="b"/>
            <a:pathLst>
              <a:path w="528" h="912">
                <a:moveTo>
                  <a:pt x="0" y="0"/>
                </a:moveTo>
                <a:lnTo>
                  <a:pt x="0" y="48"/>
                </a:lnTo>
                <a:lnTo>
                  <a:pt x="528" y="864"/>
                </a:lnTo>
                <a:lnTo>
                  <a:pt x="528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81480" y="2590920"/>
            <a:ext cx="1524240" cy="144756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0" y="0"/>
                </a:moveTo>
                <a:lnTo>
                  <a:pt x="0" y="48"/>
                </a:lnTo>
                <a:lnTo>
                  <a:pt x="960" y="864"/>
                </a:lnTo>
                <a:lnTo>
                  <a:pt x="96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1320" y="2590920"/>
            <a:ext cx="914400" cy="1371600"/>
          </a:xfrm>
          <a:custGeom>
            <a:avLst/>
            <a:gdLst/>
            <a:ahLst/>
            <a:rect l="l" t="t" r="r" b="b"/>
            <a:pathLst>
              <a:path w="576" h="864">
                <a:moveTo>
                  <a:pt x="0" y="0"/>
                </a:moveTo>
                <a:lnTo>
                  <a:pt x="0" y="48"/>
                </a:lnTo>
                <a:lnTo>
                  <a:pt x="576" y="8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705720" y="2590920"/>
            <a:ext cx="228600" cy="13716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144" y="0"/>
                </a:moveTo>
                <a:lnTo>
                  <a:pt x="144" y="48"/>
                </a:lnTo>
                <a:lnTo>
                  <a:pt x="0" y="8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xical Acquisi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 a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statistical word alignment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BM Model 5) on training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most prob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o-1 word alignments for each train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Extra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rules from these word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 all extracted transform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ord Alignment for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4849560"/>
            <a:ext cx="77724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w to introduce syntactic tokens such as pare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172520" y="4040280"/>
            <a:ext cx="678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62dff"/>
                </a:solidFill>
                <a:latin typeface="Arial"/>
              </a:rPr>
              <a:t>(  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 true  </a:t>
            </a:r>
            <a:r>
              <a:rPr b="1" lang="en-US" sz="2200" spc="-1" strike="noStrike">
                <a:solidFill>
                  <a:srgbClr val="962dff"/>
                </a:solidFill>
                <a:latin typeface="Arial"/>
              </a:rPr>
              <a:t>)  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 do  our  </a:t>
            </a:r>
            <a:r>
              <a:rPr b="1" lang="en-US" sz="2200" spc="-1" strike="noStrike">
                <a:solidFill>
                  <a:srgbClr val="962dff"/>
                </a:solidFill>
                <a:latin typeface="Arial"/>
              </a:rPr>
              <a:t>{ 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1  </a:t>
            </a:r>
            <a:r>
              <a:rPr b="1" lang="en-US" sz="2200" spc="-1" strike="noStrike">
                <a:solidFill>
                  <a:srgbClr val="962dff"/>
                </a:solidFill>
                <a:latin typeface="Arial"/>
              </a:rPr>
              <a:t>}  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 pos  </a:t>
            </a:r>
            <a:r>
              <a:rPr b="1" lang="en-US" sz="2200" spc="-1" strike="noStrike">
                <a:solidFill>
                  <a:srgbClr val="962dff"/>
                </a:solidFill>
                <a:latin typeface="Arial"/>
              </a:rPr>
              <a:t>( 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half  our  </a:t>
            </a:r>
            <a:r>
              <a:rPr b="1" lang="en-US" sz="2200" spc="-1" strike="noStrike">
                <a:solidFill>
                  <a:srgbClr val="962dff"/>
                </a:solidFill>
                <a:latin typeface="Arial"/>
              </a:rPr>
              <a:t>)  )  ) 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74400" y="2133720"/>
            <a:ext cx="65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   goalie    should    always    stay    in    our   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14600" y="2590920"/>
            <a:ext cx="1752480" cy="1447560"/>
          </a:xfrm>
          <a:custGeom>
            <a:avLst/>
            <a:gdLst/>
            <a:ahLst/>
            <a:rect l="l" t="t" r="r" b="b"/>
            <a:pathLst>
              <a:path w="1104" h="912">
                <a:moveTo>
                  <a:pt x="0" y="0"/>
                </a:moveTo>
                <a:lnTo>
                  <a:pt x="0" y="48"/>
                </a:lnTo>
                <a:lnTo>
                  <a:pt x="1104" y="864"/>
                </a:lnTo>
                <a:lnTo>
                  <a:pt x="1104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2590920"/>
            <a:ext cx="533160" cy="1447560"/>
          </a:xfrm>
          <a:custGeom>
            <a:avLst/>
            <a:gdLst/>
            <a:ahLst/>
            <a:rect l="l" t="t" r="r" b="b"/>
            <a:pathLst>
              <a:path w="336" h="912">
                <a:moveTo>
                  <a:pt x="336" y="0"/>
                </a:moveTo>
                <a:lnTo>
                  <a:pt x="336" y="48"/>
                </a:lnTo>
                <a:lnTo>
                  <a:pt x="0" y="864"/>
                </a:lnTo>
                <a:lnTo>
                  <a:pt x="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1080" y="2590920"/>
            <a:ext cx="2667240" cy="1447560"/>
          </a:xfrm>
          <a:custGeom>
            <a:avLst/>
            <a:gdLst/>
            <a:ahLst/>
            <a:rect l="l" t="t" r="r" b="b"/>
            <a:pathLst>
              <a:path w="1680" h="912">
                <a:moveTo>
                  <a:pt x="1680" y="0"/>
                </a:moveTo>
                <a:lnTo>
                  <a:pt x="1680" y="48"/>
                </a:lnTo>
                <a:lnTo>
                  <a:pt x="0" y="864"/>
                </a:lnTo>
                <a:lnTo>
                  <a:pt x="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81480" y="2590920"/>
            <a:ext cx="381240" cy="1447560"/>
          </a:xfrm>
          <a:custGeom>
            <a:avLst/>
            <a:gdLst/>
            <a:ahLst/>
            <a:rect l="l" t="t" r="r" b="b"/>
            <a:pathLst>
              <a:path w="240" h="912">
                <a:moveTo>
                  <a:pt x="240" y="0"/>
                </a:moveTo>
                <a:lnTo>
                  <a:pt x="240" y="48"/>
                </a:lnTo>
                <a:lnTo>
                  <a:pt x="0" y="864"/>
                </a:lnTo>
                <a:lnTo>
                  <a:pt x="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2590920"/>
            <a:ext cx="106704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672" y="0"/>
                </a:moveTo>
                <a:lnTo>
                  <a:pt x="672" y="48"/>
                </a:lnTo>
                <a:lnTo>
                  <a:pt x="0" y="8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29400" y="2590920"/>
            <a:ext cx="228600" cy="144756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lnTo>
                  <a:pt x="144" y="48"/>
                </a:lnTo>
                <a:lnTo>
                  <a:pt x="0" y="864"/>
                </a:lnTo>
                <a:lnTo>
                  <a:pt x="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95880" y="2590920"/>
            <a:ext cx="1524240" cy="144756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960" y="0"/>
                </a:moveTo>
                <a:lnTo>
                  <a:pt x="960" y="48"/>
                </a:lnTo>
                <a:lnTo>
                  <a:pt x="0" y="864"/>
                </a:lnTo>
                <a:lnTo>
                  <a:pt x="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5410080" y="2286000"/>
            <a:ext cx="863640" cy="380880"/>
          </a:xfrm>
          <a:custGeom>
            <a:avLst/>
            <a:gdLst/>
            <a:ahLst/>
            <a:rect l="l" t="t" r="r" b="b"/>
            <a:pathLst>
              <a:path w="544" h="240">
                <a:moveTo>
                  <a:pt x="0" y="0"/>
                </a:moveTo>
                <a:cubicBezTo>
                  <a:pt x="208" y="28"/>
                  <a:pt x="416" y="56"/>
                  <a:pt x="480" y="96"/>
                </a:cubicBezTo>
                <a:cubicBezTo>
                  <a:pt x="544" y="136"/>
                  <a:pt x="464" y="188"/>
                  <a:pt x="384" y="240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286000"/>
            <a:ext cx="2197080" cy="914400"/>
          </a:xfrm>
          <a:custGeom>
            <a:avLst/>
            <a:gdLst/>
            <a:ahLst/>
            <a:rect l="l" t="t" r="r" b="b"/>
            <a:pathLst>
              <a:path w="1384" h="576">
                <a:moveTo>
                  <a:pt x="0" y="0"/>
                </a:moveTo>
                <a:cubicBezTo>
                  <a:pt x="508" y="72"/>
                  <a:pt x="1016" y="144"/>
                  <a:pt x="1200" y="240"/>
                </a:cubicBezTo>
                <a:cubicBezTo>
                  <a:pt x="1384" y="336"/>
                  <a:pt x="1244" y="456"/>
                  <a:pt x="1104" y="576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05520" y="3352680"/>
            <a:ext cx="1155600" cy="381240"/>
          </a:xfrm>
          <a:custGeom>
            <a:avLst/>
            <a:gdLst/>
            <a:ahLst/>
            <a:rect l="l" t="t" r="r" b="b"/>
            <a:pathLst>
              <a:path w="728" h="240">
                <a:moveTo>
                  <a:pt x="624" y="0"/>
                </a:moveTo>
                <a:cubicBezTo>
                  <a:pt x="676" y="52"/>
                  <a:pt x="728" y="104"/>
                  <a:pt x="624" y="144"/>
                </a:cubicBezTo>
                <a:cubicBezTo>
                  <a:pt x="520" y="184"/>
                  <a:pt x="260" y="212"/>
                  <a:pt x="0" y="240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876920" y="3352680"/>
            <a:ext cx="2400120" cy="914400"/>
          </a:xfrm>
          <a:custGeom>
            <a:avLst/>
            <a:gdLst/>
            <a:ahLst/>
            <a:rect l="l" t="t" r="r" b="b"/>
            <a:pathLst>
              <a:path w="1512" h="576">
                <a:moveTo>
                  <a:pt x="1296" y="0"/>
                </a:moveTo>
                <a:cubicBezTo>
                  <a:pt x="1404" y="120"/>
                  <a:pt x="1512" y="240"/>
                  <a:pt x="1296" y="336"/>
                </a:cubicBezTo>
                <a:cubicBezTo>
                  <a:pt x="1080" y="432"/>
                  <a:pt x="540" y="504"/>
                  <a:pt x="0" y="576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53080" y="3352680"/>
            <a:ext cx="1689120" cy="1447920"/>
          </a:xfrm>
          <a:custGeom>
            <a:avLst/>
            <a:gdLst/>
            <a:ahLst/>
            <a:rect l="l" t="t" r="r" b="b"/>
            <a:pathLst>
              <a:path w="1064" h="912">
                <a:moveTo>
                  <a:pt x="912" y="0"/>
                </a:moveTo>
                <a:cubicBezTo>
                  <a:pt x="988" y="188"/>
                  <a:pt x="1064" y="376"/>
                  <a:pt x="912" y="528"/>
                </a:cubicBezTo>
                <a:cubicBezTo>
                  <a:pt x="760" y="680"/>
                  <a:pt x="380" y="796"/>
                  <a:pt x="0" y="912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43600" y="4952880"/>
            <a:ext cx="749160" cy="381240"/>
          </a:xfrm>
          <a:custGeom>
            <a:avLst/>
            <a:gdLst/>
            <a:ahLst/>
            <a:rect l="l" t="t" r="r" b="b"/>
            <a:pathLst>
              <a:path w="472" h="240">
                <a:moveTo>
                  <a:pt x="0" y="0"/>
                </a:moveTo>
                <a:cubicBezTo>
                  <a:pt x="196" y="28"/>
                  <a:pt x="392" y="56"/>
                  <a:pt x="432" y="96"/>
                </a:cubicBezTo>
                <a:cubicBezTo>
                  <a:pt x="472" y="136"/>
                  <a:pt x="356" y="188"/>
                  <a:pt x="240" y="240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5486400"/>
            <a:ext cx="799920" cy="380880"/>
          </a:xfrm>
          <a:custGeom>
            <a:avLst/>
            <a:gdLst/>
            <a:ahLst/>
            <a:rect l="l" t="t" r="r" b="b"/>
            <a:pathLst>
              <a:path w="504" h="240">
                <a:moveTo>
                  <a:pt x="432" y="0"/>
                </a:moveTo>
                <a:cubicBezTo>
                  <a:pt x="468" y="52"/>
                  <a:pt x="504" y="104"/>
                  <a:pt x="432" y="144"/>
                </a:cubicBezTo>
                <a:cubicBezTo>
                  <a:pt x="360" y="184"/>
                  <a:pt x="180" y="212"/>
                  <a:pt x="0" y="240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458200" y="1981080"/>
            <a:ext cx="0" cy="4114800"/>
          </a:xfrm>
          <a:prstGeom prst="line">
            <a:avLst/>
          </a:prstGeom>
          <a:ln w="76320">
            <a:solidFill>
              <a:srgbClr val="d7a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e of MRL Gramma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73240" y="195588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91720" y="248292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92000" y="30099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000" y="3538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16360" y="40654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00040" y="4594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15720" y="51213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73960" y="56498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25040" y="195588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3600" y="24829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23960" y="3009960"/>
            <a:ext cx="51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27200" y="35384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26840" y="40654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23600" y="4594320"/>
            <a:ext cx="31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5400" y="51213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lf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27200" y="5649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828800" y="2666880"/>
            <a:ext cx="1600200" cy="1600200"/>
          </a:xfrm>
          <a:custGeom>
            <a:avLst/>
            <a:gdLst/>
            <a:ahLst/>
            <a:rect l="l" t="t" r="r" b="b"/>
            <a:pathLst>
              <a:path w="1008" h="1008">
                <a:moveTo>
                  <a:pt x="0" y="0"/>
                </a:moveTo>
                <a:lnTo>
                  <a:pt x="48" y="0"/>
                </a:lnTo>
                <a:lnTo>
                  <a:pt x="960" y="1008"/>
                </a:lnTo>
                <a:lnTo>
                  <a:pt x="1008" y="10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28800" y="3200400"/>
            <a:ext cx="1600200" cy="1440"/>
          </a:xfrm>
          <a:custGeom>
            <a:avLst/>
            <a:gdLst/>
            <a:ahLst/>
            <a:rect l="l" t="t" r="r" b="b"/>
            <a:pathLst>
              <a:path w="1008" h="1">
                <a:moveTo>
                  <a:pt x="0" y="0"/>
                </a:moveTo>
                <a:lnTo>
                  <a:pt x="48" y="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2666880"/>
            <a:ext cx="1600200" cy="1067040"/>
          </a:xfrm>
          <a:custGeom>
            <a:avLst/>
            <a:gdLst/>
            <a:ahLst/>
            <a:rect l="l" t="t" r="r" b="b"/>
            <a:pathLst>
              <a:path w="1008" h="672">
                <a:moveTo>
                  <a:pt x="0" y="672"/>
                </a:moveTo>
                <a:lnTo>
                  <a:pt x="48" y="672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4267080"/>
            <a:ext cx="1600200" cy="53352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0"/>
                </a:moveTo>
                <a:lnTo>
                  <a:pt x="48" y="0"/>
                </a:lnTo>
                <a:lnTo>
                  <a:pt x="960" y="33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800600"/>
            <a:ext cx="1523880" cy="1440"/>
          </a:xfrm>
          <a:custGeom>
            <a:avLst/>
            <a:gdLst/>
            <a:ahLst/>
            <a:rect l="l" t="t" r="r" b="b"/>
            <a:pathLst>
              <a:path w="960" h="1">
                <a:moveTo>
                  <a:pt x="0" y="0"/>
                </a:moveTo>
                <a:lnTo>
                  <a:pt x="48" y="0"/>
                </a:lnTo>
                <a:lnTo>
                  <a:pt x="9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28800" y="5334120"/>
            <a:ext cx="1600200" cy="53316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0"/>
                </a:moveTo>
                <a:lnTo>
                  <a:pt x="48" y="0"/>
                </a:lnTo>
                <a:lnTo>
                  <a:pt x="960" y="33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8800" y="5334120"/>
            <a:ext cx="1600200" cy="53316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336"/>
                </a:moveTo>
                <a:lnTo>
                  <a:pt x="48" y="336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28800" y="4267080"/>
            <a:ext cx="1600200" cy="53352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0"/>
                </a:moveTo>
                <a:lnTo>
                  <a:pt x="48" y="0"/>
                </a:lnTo>
                <a:lnTo>
                  <a:pt x="960" y="336"/>
                </a:lnTo>
                <a:lnTo>
                  <a:pt x="1008" y="336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28800" y="4800600"/>
            <a:ext cx="1523880" cy="1440"/>
          </a:xfrm>
          <a:custGeom>
            <a:avLst/>
            <a:gdLst/>
            <a:ahLst/>
            <a:rect l="l" t="t" r="r" b="b"/>
            <a:pathLst>
              <a:path w="960" h="1">
                <a:moveTo>
                  <a:pt x="0" y="0"/>
                </a:moveTo>
                <a:lnTo>
                  <a:pt x="48" y="0"/>
                </a:lnTo>
                <a:lnTo>
                  <a:pt x="960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934320" y="3733920"/>
            <a:ext cx="15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</a:rPr>
              <a:t>top-down, left-most derivation of an </a:t>
            </a:r>
            <a:r>
              <a:rPr b="1" i="1" lang="en-US" sz="1800" spc="-1" strike="noStrike">
                <a:solidFill>
                  <a:srgbClr val="962dff"/>
                </a:solidFill>
                <a:latin typeface="Arial"/>
              </a:rPr>
              <a:t>un-ambiguous 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11840" y="48369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n-to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924480" y="4114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429000" y="4495680"/>
            <a:ext cx="1752480" cy="38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66680" y="4114800"/>
            <a:ext cx="762120" cy="380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tracting Transformation Rul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173240" y="18288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91720" y="22096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92000" y="25909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92000" y="2971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116360" y="33526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00040" y="37339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15720" y="4098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73960" y="449568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25040" y="181296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23600" y="21938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23960" y="2590920"/>
            <a:ext cx="51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27200" y="297180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26840" y="33526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23600" y="3733920"/>
            <a:ext cx="31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29000" y="4114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lf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27200" y="449568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28800" y="243828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48" y="0"/>
                </a:lnTo>
                <a:lnTo>
                  <a:pt x="960" y="720"/>
                </a:lnTo>
                <a:lnTo>
                  <a:pt x="1008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28800" y="2819520"/>
            <a:ext cx="1600200" cy="1440"/>
          </a:xfrm>
          <a:custGeom>
            <a:avLst/>
            <a:gdLst/>
            <a:ahLst/>
            <a:rect l="l" t="t" r="r" b="b"/>
            <a:pathLst>
              <a:path w="1008" h="1">
                <a:moveTo>
                  <a:pt x="0" y="0"/>
                </a:moveTo>
                <a:lnTo>
                  <a:pt x="48" y="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828800" y="2438280"/>
            <a:ext cx="1600200" cy="762120"/>
          </a:xfrm>
          <a:custGeom>
            <a:avLst/>
            <a:gdLst/>
            <a:ahLst/>
            <a:rect l="l" t="t" r="r" b="b"/>
            <a:pathLst>
              <a:path w="1008" h="480">
                <a:moveTo>
                  <a:pt x="0" y="480"/>
                </a:moveTo>
                <a:lnTo>
                  <a:pt x="48" y="48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28800" y="3581280"/>
            <a:ext cx="1600200" cy="38124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0"/>
                </a:moveTo>
                <a:lnTo>
                  <a:pt x="48" y="0"/>
                </a:lnTo>
                <a:lnTo>
                  <a:pt x="960" y="240"/>
                </a:lnTo>
                <a:lnTo>
                  <a:pt x="1008" y="2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28800" y="3962520"/>
            <a:ext cx="1523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28800" y="43434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0"/>
                </a:moveTo>
                <a:lnTo>
                  <a:pt x="48" y="0"/>
                </a:lnTo>
                <a:lnTo>
                  <a:pt x="960" y="240"/>
                </a:lnTo>
                <a:lnTo>
                  <a:pt x="1008" y="2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28800" y="43434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48" y="24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228120" y="5486400"/>
            <a:ext cx="26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630720" y="4110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429000" y="4495680"/>
            <a:ext cx="1752480" cy="38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38080" y="4114800"/>
            <a:ext cx="990720" cy="380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924480" y="4114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965600" y="5487840"/>
            <a:ext cx="5214960" cy="459720"/>
            <a:chOff x="1965600" y="5487840"/>
            <a:chExt cx="5214960" cy="459720"/>
          </a:xfrm>
        </p:grpSpPr>
        <p:sp>
          <p:nvSpPr>
            <p:cNvPr id="741" name=""/>
            <p:cNvSpPr/>
            <p:nvPr/>
          </p:nvSpPr>
          <p:spPr>
            <a:xfrm>
              <a:off x="1965600" y="5487840"/>
              <a:ext cx="52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REG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TEA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l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 (half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TEA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05440" y="5868720"/>
              <a:ext cx="2438280" cy="76320"/>
            </a:xfrm>
            <a:custGeom>
              <a:avLst/>
              <a:gdLst/>
              <a:ahLst/>
              <a:rect l="l" t="t" r="r" b="b"/>
              <a:pathLst>
                <a:path w="1536" h="48">
                  <a:moveTo>
                    <a:pt x="0" y="0"/>
                  </a:moveTo>
                  <a:lnTo>
                    <a:pt x="0" y="48"/>
                  </a:lnTo>
                  <a:lnTo>
                    <a:pt x="1536" y="48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1066680" y="4495680"/>
            <a:ext cx="762120" cy="38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29000" y="4114800"/>
            <a:ext cx="3048120" cy="380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tracting Transformation Rul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73240" y="18288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91720" y="22096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92000" y="25909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92000" y="2971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16360" y="33526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400040" y="37339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73960" y="449568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425040" y="181296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423600" y="21938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3960" y="2590920"/>
            <a:ext cx="51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427200" y="297180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26840" y="33526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3600" y="3733920"/>
            <a:ext cx="31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29000" y="4114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lf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27200" y="449568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28800" y="243828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48" y="0"/>
                </a:lnTo>
                <a:lnTo>
                  <a:pt x="960" y="720"/>
                </a:lnTo>
                <a:lnTo>
                  <a:pt x="1008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28800" y="2819520"/>
            <a:ext cx="1600200" cy="1440"/>
          </a:xfrm>
          <a:custGeom>
            <a:avLst/>
            <a:gdLst/>
            <a:ahLst/>
            <a:rect l="l" t="t" r="r" b="b"/>
            <a:pathLst>
              <a:path w="1008" h="1">
                <a:moveTo>
                  <a:pt x="0" y="0"/>
                </a:moveTo>
                <a:lnTo>
                  <a:pt x="48" y="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28800" y="2438280"/>
            <a:ext cx="1600200" cy="762120"/>
          </a:xfrm>
          <a:custGeom>
            <a:avLst/>
            <a:gdLst/>
            <a:ahLst/>
            <a:rect l="l" t="t" r="r" b="b"/>
            <a:pathLst>
              <a:path w="1008" h="480">
                <a:moveTo>
                  <a:pt x="0" y="480"/>
                </a:moveTo>
                <a:lnTo>
                  <a:pt x="48" y="48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28800" y="3581280"/>
            <a:ext cx="1600200" cy="38124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0"/>
                </a:moveTo>
                <a:lnTo>
                  <a:pt x="48" y="0"/>
                </a:lnTo>
                <a:lnTo>
                  <a:pt x="960" y="240"/>
                </a:lnTo>
                <a:lnTo>
                  <a:pt x="1008" y="2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28800" y="3962520"/>
            <a:ext cx="1523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43434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0"/>
                </a:moveTo>
                <a:lnTo>
                  <a:pt x="48" y="0"/>
                </a:lnTo>
                <a:lnTo>
                  <a:pt x="960" y="240"/>
                </a:lnTo>
                <a:lnTo>
                  <a:pt x="1008" y="2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43434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48" y="24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28800" y="43434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429000" y="4114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lf 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181480" y="4495680"/>
            <a:ext cx="711360" cy="228600"/>
          </a:xfrm>
          <a:custGeom>
            <a:avLst/>
            <a:gdLst/>
            <a:ahLst/>
            <a:rect l="l" t="t" r="r" b="b"/>
            <a:pathLst>
              <a:path w="448" h="144">
                <a:moveTo>
                  <a:pt x="384" y="0"/>
                </a:moveTo>
                <a:cubicBezTo>
                  <a:pt x="416" y="36"/>
                  <a:pt x="448" y="72"/>
                  <a:pt x="384" y="96"/>
                </a:cubicBezTo>
                <a:cubicBezTo>
                  <a:pt x="320" y="120"/>
                  <a:pt x="160" y="132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63120" y="335268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22520" y="373392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s (half ou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7200" y="4114800"/>
            <a:ext cx="1371600" cy="380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29000" y="4114800"/>
            <a:ext cx="2590920" cy="380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429000" y="3733920"/>
            <a:ext cx="3352680" cy="380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90720" y="3352680"/>
            <a:ext cx="83808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0720" y="4110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438200" y="5487840"/>
            <a:ext cx="6299640" cy="459720"/>
            <a:chOff x="1438200" y="5487840"/>
            <a:chExt cx="6299640" cy="459720"/>
          </a:xfrm>
        </p:grpSpPr>
        <p:sp>
          <p:nvSpPr>
            <p:cNvPr id="779" name=""/>
            <p:cNvSpPr/>
            <p:nvPr/>
          </p:nvSpPr>
          <p:spPr>
            <a:xfrm>
              <a:off x="1438200" y="5487840"/>
              <a:ext cx="62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y in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REG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 (pos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REG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76920" y="5869080"/>
              <a:ext cx="2133360" cy="74520"/>
            </a:xfrm>
            <a:custGeom>
              <a:avLst/>
              <a:gdLst/>
              <a:ahLst/>
              <a:rect l="l" t="t" r="r" b="b"/>
              <a:pathLst>
                <a:path w="1536" h="48">
                  <a:moveTo>
                    <a:pt x="0" y="0"/>
                  </a:moveTo>
                  <a:lnTo>
                    <a:pt x="0" y="48"/>
                  </a:lnTo>
                  <a:lnTo>
                    <a:pt x="1536" y="48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tracting Transformation Rul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73240" y="18288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91720" y="22096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92000" y="25909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92000" y="2971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16360" y="33526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0040" y="37339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425040" y="181296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423600" y="21938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23960" y="2590920"/>
            <a:ext cx="51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27200" y="297180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426840" y="33526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423600" y="3733920"/>
            <a:ext cx="31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28800" y="243828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48" y="0"/>
                </a:lnTo>
                <a:lnTo>
                  <a:pt x="960" y="720"/>
                </a:lnTo>
                <a:lnTo>
                  <a:pt x="1008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828800" y="2819520"/>
            <a:ext cx="1600200" cy="1440"/>
          </a:xfrm>
          <a:custGeom>
            <a:avLst/>
            <a:gdLst/>
            <a:ahLst/>
            <a:rect l="l" t="t" r="r" b="b"/>
            <a:pathLst>
              <a:path w="1008" h="1">
                <a:moveTo>
                  <a:pt x="0" y="0"/>
                </a:moveTo>
                <a:lnTo>
                  <a:pt x="48" y="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828800" y="2438280"/>
            <a:ext cx="1600200" cy="762120"/>
          </a:xfrm>
          <a:custGeom>
            <a:avLst/>
            <a:gdLst/>
            <a:ahLst/>
            <a:rect l="l" t="t" r="r" b="b"/>
            <a:pathLst>
              <a:path w="1008" h="480">
                <a:moveTo>
                  <a:pt x="0" y="480"/>
                </a:moveTo>
                <a:lnTo>
                  <a:pt x="48" y="48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828800" y="3581280"/>
            <a:ext cx="1600200" cy="38124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0"/>
                </a:moveTo>
                <a:lnTo>
                  <a:pt x="48" y="0"/>
                </a:lnTo>
                <a:lnTo>
                  <a:pt x="960" y="240"/>
                </a:lnTo>
                <a:lnTo>
                  <a:pt x="1008" y="2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28800" y="3962520"/>
            <a:ext cx="1523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828800" y="43434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29000" y="4114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lf 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19920" y="4114800"/>
            <a:ext cx="342720" cy="228600"/>
          </a:xfrm>
          <a:custGeom>
            <a:avLst/>
            <a:gdLst/>
            <a:ahLst/>
            <a:rect l="l" t="t" r="r" b="b"/>
            <a:pathLst>
              <a:path w="216" h="144">
                <a:moveTo>
                  <a:pt x="144" y="0"/>
                </a:moveTo>
                <a:cubicBezTo>
                  <a:pt x="180" y="36"/>
                  <a:pt x="216" y="72"/>
                  <a:pt x="192" y="96"/>
                </a:cubicBezTo>
                <a:cubicBezTo>
                  <a:pt x="168" y="120"/>
                  <a:pt x="84" y="132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maximum-entropy model:</a:t>
            </a:r>
            <a:br>
              <a:rPr sz="2800"/>
            </a:br>
            <a:br>
              <a:rPr sz="2800"/>
            </a:br>
            <a:br>
              <a:rPr sz="1900"/>
            </a:br>
            <a:r>
              <a:rPr b="0" lang="en-US" sz="1900" spc="-1" strike="noStrike">
                <a:solidFill>
                  <a:srgbClr val="962d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number of times each transformation rule is used in a deriv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translation is the yield of most probable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1844640" y="1700280"/>
                <a:ext cx="4952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stic Parsing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2266920" y="4849920"/>
            <a:ext cx="41864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conditional log-likelihood criter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correct derivations are not included in training data, parameter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learned in an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unsuperv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EM 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bined with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improved iterative sca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hidden variables are correct derivations (Riezler et al.,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2228760" y="1816200"/>
            <a:ext cx="425448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RISP: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rnel-bas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bus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terpretation by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mantic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s semantic parser from NL sentences paired with their respective MRs given MRL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ons of MRL are treated like semantic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M classifier is trained for each production with string subsequence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lassifiers are used to compositionally build MRs of  the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7207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ps a natural-language sentence to a complete, detailed semantic representa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ogical f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eaning represen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applications, the desired outpu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o application doma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CLang: RoboCup Coach Language 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GeoQuery: A Database Query Application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rnel Func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ernel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imilarity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doma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maps any two object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ir similarity sco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(x,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n-by-n matrix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K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)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symmetric and positive-semidefinite, then the kernel function calculates the dot-product of the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implicit feature vec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some high-dimensional featur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earning algorithms which use the data only to compute similarity can be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kernel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.g. Support Vector Machines, Nearest Neighbor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 side of our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r left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f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ide of our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f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1+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 side of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ou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ou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ft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2+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 side of our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penal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r left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penal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pena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3+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 side of our penalty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r left penalty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4+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f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ide of our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penal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ft penal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left pena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5+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 side of our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r left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rmalized 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04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e the kernel (range [0,1]) to remove any bias due to different string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dhi et al. [2002] give O(n|s||t|) for computing string subsequence ker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Text Categorization [Lodhi et al, 2002] and Information Extraction [Bunescu &amp; Mooney, 2005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1422360" y="2392200"/>
                <a:ext cx="5648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malize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pport Vector Machin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1748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M’s are classifiers that learn linear separators that maximiz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data and the classification bound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’s allow SVM’s to learn non-linear separators by implicitly mapping data to a higher-dimensional feature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3343320" y="3862440"/>
            <a:ext cx="3686040" cy="2995200"/>
            <a:chOff x="3343320" y="3862440"/>
            <a:chExt cx="3686040" cy="2995200"/>
          </a:xfrm>
        </p:grpSpPr>
        <p:sp>
          <p:nvSpPr>
            <p:cNvPr id="834" name=""/>
            <p:cNvSpPr/>
            <p:nvPr/>
          </p:nvSpPr>
          <p:spPr>
            <a:xfrm flipV="1">
              <a:off x="3465000" y="4299840"/>
              <a:ext cx="0" cy="255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343320" y="6760440"/>
              <a:ext cx="368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04240" y="493560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85120" y="523620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022640" y="569520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678840" y="607968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160160" y="473400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678840" y="550296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16360" y="563112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504680" y="531072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19000" y="5299920"/>
              <a:ext cx="79920" cy="745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986000" y="607968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80960" y="607968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99440" y="6517440"/>
              <a:ext cx="79920" cy="745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261400" y="556704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48040" y="598248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30520" y="627192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49720" y="550296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82080" y="423072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32520" y="429480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96240" y="493560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3885120" y="4230720"/>
              <a:ext cx="1935360" cy="24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>
              <a:off x="5090400" y="5159880"/>
              <a:ext cx="229320" cy="15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7360" y="5256000"/>
              <a:ext cx="206280" cy="1839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83600" y="5924880"/>
              <a:ext cx="206280" cy="18432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255640" y="5241240"/>
              <a:ext cx="206280" cy="1843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4527000" y="5844240"/>
              <a:ext cx="220680" cy="14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4564440" y="5375880"/>
              <a:ext cx="222120" cy="14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280760" y="4383000"/>
              <a:ext cx="1815120" cy="2265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3695760" y="4078080"/>
              <a:ext cx="1866600" cy="2329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5515200" y="3862440"/>
              <a:ext cx="1100520" cy="624600"/>
              <a:chOff x="5515200" y="3862440"/>
              <a:chExt cx="1100520" cy="624600"/>
            </a:xfrm>
          </p:grpSpPr>
          <p:sp>
            <p:nvSpPr>
              <p:cNvPr id="865" name=""/>
              <p:cNvSpPr/>
              <p:nvPr/>
            </p:nvSpPr>
            <p:spPr>
              <a:xfrm>
                <a:off x="5515200" y="4134600"/>
                <a:ext cx="498600" cy="352440"/>
              </a:xfrm>
              <a:prstGeom prst="line">
                <a:avLst/>
              </a:prstGeom>
              <a:ln w="9360">
                <a:solidFill>
                  <a:srgbClr val="3399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583960" y="3862440"/>
                <a:ext cx="103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400" spc="-1" strike="noStrike">
                    <a:solidFill>
                      <a:srgbClr val="000000"/>
                    </a:solidFill>
                    <a:latin typeface="Times New Roman"/>
                  </a:rPr>
                  <a:t>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Lan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: RoboCup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oa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Lan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u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 RoboCup Coach competition teams compete to coach simulated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aching instructions are given in a formal language called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3219480" cy="2400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72200" y="38098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Simulated socce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C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80" y="55022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CL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276720"/>
            <a:ext cx="3657600" cy="1371600"/>
          </a:xfrm>
          <a:prstGeom prst="wedgeEllipseCallout">
            <a:avLst>
              <a:gd name="adj1" fmla="val -61240"/>
              <a:gd name="adj2" fmla="val 27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宋体"/>
              </a:rPr>
              <a:t>If the ball is in our penalty area, then all our players except player 4 should stay in our hal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5349960"/>
            <a:ext cx="422424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Gulim"/>
                <a:ea typeface="Gulim"/>
              </a:rPr>
              <a:t>((</a:t>
            </a:r>
            <a:r>
              <a:rPr b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bpos (penalty-area ou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(do (player-except our{4}) (</a:t>
            </a:r>
            <a:r>
              <a:rPr b="1" i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pos</a:t>
            </a:r>
            <a:r>
              <a:rPr b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 (half our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4038480"/>
            <a:ext cx="609480" cy="60984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648320"/>
            <a:ext cx="0" cy="6858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040" y="472428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宋体"/>
              </a:rPr>
              <a:t>Semantic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57150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 of KRIS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36240" y="3274920"/>
            <a:ext cx="3353760" cy="825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ain string-kernel-ba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VM class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035160" y="4849920"/>
            <a:ext cx="3340080" cy="825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687920" y="2468520"/>
            <a:ext cx="0" cy="768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687920" y="4119480"/>
            <a:ext cx="0" cy="730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114640" y="2314440"/>
            <a:ext cx="0" cy="2651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114640" y="4965840"/>
            <a:ext cx="9205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377040" y="4965840"/>
            <a:ext cx="80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183440" y="2008080"/>
            <a:ext cx="0" cy="29577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6377040" y="2008080"/>
            <a:ext cx="8064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460520" y="5502240"/>
            <a:ext cx="1574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377040" y="5502240"/>
            <a:ext cx="1574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77800" y="5195880"/>
            <a:ext cx="245736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377040" y="5195880"/>
            <a:ext cx="230508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35160" y="1623960"/>
            <a:ext cx="3341880" cy="825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llect positiv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gativ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460520" y="1854360"/>
            <a:ext cx="1574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460520" y="2314440"/>
            <a:ext cx="1574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308600" y="14320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RL 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61880" y="196992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L sente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ith M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08200" y="56181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vel NL sent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54800" y="56563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st M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74800" y="285264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st seman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rivations (corr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d incorr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4619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52340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 of KRISP’s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rst define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Semantic Deriv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NL sen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fine probability of a semantic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parsing of an NL sentence involves finding its most probable semantic der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forward to obtain MR from  a semantic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Derivation of an NL Sente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1616400" y="1662120"/>
            <a:ext cx="5950440" cy="3019320"/>
            <a:chOff x="1616400" y="1662120"/>
            <a:chExt cx="5950440" cy="3019320"/>
          </a:xfrm>
        </p:grpSpPr>
        <p:sp>
          <p:nvSpPr>
            <p:cNvPr id="895" name=""/>
            <p:cNvSpPr/>
            <p:nvPr/>
          </p:nvSpPr>
          <p:spPr>
            <a:xfrm>
              <a:off x="3183120" y="1662120"/>
              <a:ext cx="161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959560" y="177948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616400" y="22003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00840" y="331452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208760" y="21621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040360" y="266040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97320" y="3314520"/>
              <a:ext cx="13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NEXT_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962440" y="266040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RAVERSE_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07240" y="385128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TATE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07640" y="431316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tate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62600" y="4311720"/>
              <a:ext cx="8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‘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xas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52480" y="385128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next_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15640" y="316044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raverse_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2070360" y="2046240"/>
              <a:ext cx="1382400" cy="269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52760" y="2046240"/>
              <a:ext cx="998640" cy="191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645000" y="2430360"/>
              <a:ext cx="882720" cy="307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27720" y="2430360"/>
              <a:ext cx="922320" cy="307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606840" y="2930400"/>
              <a:ext cx="0" cy="3841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949640" y="2930400"/>
              <a:ext cx="538200" cy="460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488200" y="2930400"/>
              <a:ext cx="922320" cy="500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11840" y="3582720"/>
              <a:ext cx="0" cy="422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48680" y="3544920"/>
              <a:ext cx="0" cy="422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910120" y="4120920"/>
              <a:ext cx="500040" cy="344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48680" y="4120920"/>
              <a:ext cx="614160" cy="268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539640" y="52722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Which rivers run through the states bordering Tex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5600" y="109872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 parse with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on-terminals on the 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Derivation of an NL Sente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9640" y="52722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Which rivers run through the states bordering Tex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727720" y="20080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NSWER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answer(RI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35120" y="25066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IVER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TRAVERSE_2(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13800" y="33526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TRAVERSE_2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traverse_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44640" y="335448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(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647520" y="404352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EXT_TO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451560" y="41194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STATE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492960" y="458136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ID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‘texa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994200" y="2274840"/>
            <a:ext cx="0" cy="345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306520" y="2814480"/>
            <a:ext cx="1689120" cy="53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995640" y="2814480"/>
            <a:ext cx="1420920" cy="53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5302080" y="3621240"/>
            <a:ext cx="384480" cy="460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62520" y="3621240"/>
            <a:ext cx="1613160" cy="460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643880" y="4389480"/>
            <a:ext cx="0" cy="26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7400" y="1098720"/>
            <a:ext cx="52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 parse with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productions on the 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Derivation of an NL Sente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9640" y="52722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Which rivers run through the states bordering Tex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27720" y="20080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NSWER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answer(RI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35120" y="25066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IVER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TRAVERSE_2(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13800" y="33526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TRAVERSE_2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traverse_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44640" y="335448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(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71560" y="404352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EXT_TO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51560" y="41194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STATE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458136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ID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‘texa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94200" y="2274840"/>
            <a:ext cx="0" cy="345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2306520" y="2814480"/>
            <a:ext cx="1689120" cy="53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995640" y="2814480"/>
            <a:ext cx="1420920" cy="53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5302080" y="3621240"/>
            <a:ext cx="384480" cy="460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62520" y="3621240"/>
            <a:ext cx="1613160" cy="460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43880" y="4389480"/>
            <a:ext cx="0" cy="26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3080" y="1098720"/>
            <a:ext cx="71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Derivation: Each node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covers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 NL sub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808200" y="3659040"/>
            <a:ext cx="1420560" cy="16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8200" y="5349960"/>
            <a:ext cx="3417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2228760" y="3658680"/>
            <a:ext cx="2035440" cy="16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4417920" y="4311720"/>
            <a:ext cx="922320" cy="1076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7920" y="5388120"/>
            <a:ext cx="28036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5340240" y="4311360"/>
            <a:ext cx="1881360" cy="1114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7375320" y="4888080"/>
            <a:ext cx="307800" cy="500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413480" y="5388120"/>
            <a:ext cx="922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 flipV="1">
            <a:off x="7683480" y="4887720"/>
            <a:ext cx="652320" cy="500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Derivation of an NL Sente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39640" y="52722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Which rivers run through the states bordering Tex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688120" y="2008080"/>
            <a:ext cx="37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NSWER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answer(RIVER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, [1..9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533680" y="2506680"/>
            <a:ext cx="42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IVER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TRAVERSE_2(STATE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[1..9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2000" y="3352680"/>
            <a:ext cx="36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TRAVERSE_2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traverse_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[1..4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05040" y="3354480"/>
            <a:ext cx="38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(STATE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[5..9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192720" y="4081320"/>
            <a:ext cx="29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STATEID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[8..9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453360" y="458136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ID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‘texas’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[8..9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94200" y="2274840"/>
            <a:ext cx="0" cy="345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306520" y="2814480"/>
            <a:ext cx="1689120" cy="53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957480" y="2814480"/>
            <a:ext cx="1459080" cy="53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5378040" y="3621240"/>
            <a:ext cx="384120" cy="460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62520" y="3621240"/>
            <a:ext cx="1689120" cy="498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643880" y="4389480"/>
            <a:ext cx="0" cy="26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9120" y="1123920"/>
            <a:ext cx="692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Derivation: Each node contains a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d the substring of NL sentence it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cov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808200" y="3659040"/>
            <a:ext cx="1420560" cy="16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08200" y="5349960"/>
            <a:ext cx="3417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flipV="1">
            <a:off x="2228760" y="3658680"/>
            <a:ext cx="2035440" cy="16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339720" y="4005360"/>
            <a:ext cx="3843720" cy="1382760"/>
            <a:chOff x="3339720" y="4005360"/>
            <a:chExt cx="3843720" cy="1382760"/>
          </a:xfrm>
        </p:grpSpPr>
        <p:sp>
          <p:nvSpPr>
            <p:cNvPr id="981" name=""/>
            <p:cNvSpPr/>
            <p:nvPr/>
          </p:nvSpPr>
          <p:spPr>
            <a:xfrm>
              <a:off x="3339720" y="4005360"/>
              <a:ext cx="300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(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NEXT_TO </a:t>
              </a:r>
              <a:r>
                <a:rPr b="0" lang="en-US" sz="18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 next_to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, [5..7]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4417920" y="4311720"/>
              <a:ext cx="92232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17920" y="5388120"/>
              <a:ext cx="2727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flipV="1">
              <a:off x="5302080" y="4273560"/>
              <a:ext cx="1881360" cy="111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 flipH="1">
            <a:off x="7375320" y="4888080"/>
            <a:ext cx="307800" cy="500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413480" y="5388120"/>
            <a:ext cx="922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7683480" y="4887720"/>
            <a:ext cx="652320" cy="500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85960" y="584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87040" y="5659560"/>
            <a:ext cx="75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1                2            3             4             5          6                   7                   8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ty of a Semantic Der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009800"/>
            <a:ext cx="77724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P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[i..j]) be the probability that productio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vers the substring s[i..j]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.g.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EXT_TO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next_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“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he states bord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ed from the string-kernel-based SVM classifiers trained for each productio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of a semantic derivation 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1768320" y="5897520"/>
                <a:ext cx="52628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3" name=""/>
          <p:cNvSpPr/>
          <p:nvPr/>
        </p:nvSpPr>
        <p:spPr>
          <a:xfrm>
            <a:off x="2187000" y="227664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(NEXT_TO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, [5..7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3265560" y="2622600"/>
            <a:ext cx="922320" cy="1036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65560" y="3659040"/>
            <a:ext cx="2727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4187880" y="2622240"/>
            <a:ext cx="1843200" cy="1036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112920" y="35812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the states bor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81480" y="3929040"/>
            <a:ext cx="22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5           6              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uting th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st Probable Semantic Der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54120" y="13161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by extending Earley’s [1970] context-free grammar parsing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 algorithm which generates and compactly stores each subtree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a greedy approximation search, with beam wid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return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st probable derivations it fi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RISP’s Training Algorith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15960" y="11631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NL sentences paired with their respective MRs as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s MR par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s in it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first iteration, for every productio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ose sentences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osi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 MR parses use that production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e remaining sentences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egativ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RISP’s Training Algorithm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05120" y="116352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(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94760" y="1432080"/>
            <a:ext cx="8487360" cy="2425680"/>
            <a:chOff x="194760" y="1432080"/>
            <a:chExt cx="8487360" cy="2425680"/>
          </a:xfrm>
        </p:grpSpPr>
        <p:sp>
          <p:nvSpPr>
            <p:cNvPr id="1006" name=""/>
            <p:cNvSpPr/>
            <p:nvPr/>
          </p:nvSpPr>
          <p:spPr>
            <a:xfrm>
              <a:off x="231840" y="1892160"/>
              <a:ext cx="3801960" cy="1965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which rivers run through the states bordering texa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what is the most populated state bordering oklahoma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what is the largest city in states that border california 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840200" y="1892160"/>
              <a:ext cx="3841920" cy="1878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what state has the highest population ?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what states does the delaware river run through 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which states have cities named austin 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what is the lowest point of the state with the largest area 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94760" y="143208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ositi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24720" y="143208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egati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072960" y="1469880"/>
              <a:ext cx="1306440" cy="384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79760" y="1469880"/>
              <a:ext cx="1268640" cy="384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3255120" y="5502240"/>
            <a:ext cx="3041280" cy="748800"/>
            <a:chOff x="3255120" y="5502240"/>
            <a:chExt cx="3041280" cy="748800"/>
          </a:xfrm>
        </p:grpSpPr>
        <p:sp>
          <p:nvSpPr>
            <p:cNvPr id="1013" name=""/>
            <p:cNvSpPr/>
            <p:nvPr/>
          </p:nvSpPr>
          <p:spPr>
            <a:xfrm>
              <a:off x="4687920" y="5502240"/>
              <a:ext cx="0" cy="3841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255120" y="5810400"/>
              <a:ext cx="304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TAT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NEXT_TO(STATE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(s[i..j]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347480" y="3813120"/>
            <a:ext cx="4339080" cy="1689120"/>
            <a:chOff x="1347480" y="3813120"/>
            <a:chExt cx="4339080" cy="1689120"/>
          </a:xfrm>
        </p:grpSpPr>
        <p:grpSp>
          <p:nvGrpSpPr>
            <p:cNvPr id="1016" name=""/>
            <p:cNvGrpSpPr/>
            <p:nvPr/>
          </p:nvGrpSpPr>
          <p:grpSpPr>
            <a:xfrm>
              <a:off x="1347480" y="4351320"/>
              <a:ext cx="4338720" cy="1150920"/>
              <a:chOff x="1347480" y="4351320"/>
              <a:chExt cx="4338720" cy="1150920"/>
            </a:xfrm>
          </p:grpSpPr>
          <p:grpSp>
            <p:nvGrpSpPr>
              <p:cNvPr id="1017" name=""/>
              <p:cNvGrpSpPr/>
              <p:nvPr/>
            </p:nvGrpSpPr>
            <p:grpSpPr>
              <a:xfrm>
                <a:off x="4225680" y="4543200"/>
                <a:ext cx="1120680" cy="774360"/>
                <a:chOff x="4225680" y="4543200"/>
                <a:chExt cx="1120680" cy="774360"/>
              </a:xfrm>
            </p:grpSpPr>
            <p:sp>
              <p:nvSpPr>
                <p:cNvPr id="1018" name=""/>
                <p:cNvSpPr/>
                <p:nvPr/>
              </p:nvSpPr>
              <p:spPr>
                <a:xfrm flipV="1">
                  <a:off x="4262400" y="4604400"/>
                  <a:ext cx="0" cy="71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225680" y="5290920"/>
                  <a:ext cx="1120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548240" y="478188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390200" y="486576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432320" y="499392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327560" y="510084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474080" y="472572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327560" y="494028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369320" y="497592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578840" y="488664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826160" y="488376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725000" y="510084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997160" y="510084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637880" y="522324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808880" y="495792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652640" y="507384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829760" y="515448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5018040" y="494028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602240" y="458532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769640" y="460332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5062680" y="478188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4390200" y="4585320"/>
                  <a:ext cx="588600" cy="676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H="1" flipV="1">
                  <a:off x="4756680" y="4844160"/>
                  <a:ext cx="69480" cy="4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557960" y="4871160"/>
                  <a:ext cx="62640" cy="51120"/>
                </a:xfrm>
                <a:prstGeom prst="ellipse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633200" y="5058000"/>
                  <a:ext cx="62640" cy="51120"/>
                </a:xfrm>
                <a:prstGeom prst="ellipse">
                  <a:avLst/>
                </a:prstGeom>
                <a:noFill/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807080" y="4867200"/>
                  <a:ext cx="62640" cy="51120"/>
                </a:xfrm>
                <a:prstGeom prst="ellipse">
                  <a:avLst/>
                </a:pr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H="1" flipV="1">
                  <a:off x="4585680" y="5034960"/>
                  <a:ext cx="66960" cy="4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 flipV="1">
                  <a:off x="4599720" y="4903560"/>
                  <a:ext cx="6444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V="1">
                  <a:off x="4510800" y="4627800"/>
                  <a:ext cx="551880" cy="6314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V="1">
                  <a:off x="4332600" y="4543200"/>
                  <a:ext cx="567720" cy="6494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8" name=""/>
              <p:cNvSpPr/>
              <p:nvPr/>
            </p:nvSpPr>
            <p:spPr>
              <a:xfrm>
                <a:off x="3611160" y="4351320"/>
                <a:ext cx="2075040" cy="1150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347480" y="4619520"/>
                <a:ext cx="21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tring-kernel-bas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VM classifi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0" name=""/>
            <p:cNvSpPr/>
            <p:nvPr/>
          </p:nvSpPr>
          <p:spPr>
            <a:xfrm>
              <a:off x="3073320" y="3851280"/>
              <a:ext cx="1459080" cy="460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4495680" y="3813120"/>
              <a:ext cx="1190880" cy="49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88200" y="9367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oQuery: A Database Query Applic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application for U.S. geography database containing about 800 fa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lle &amp; Mooney, 199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2385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441680" y="29066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2133720"/>
            <a:ext cx="2438640" cy="1523880"/>
          </a:xfrm>
          <a:prstGeom prst="wedgeEllipseCallout">
            <a:avLst>
              <a:gd name="adj1" fmla="val -71287"/>
              <a:gd name="adj2" fmla="val 131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宋体"/>
              </a:rPr>
              <a:t>How many cities are there in the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160" y="44956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432320"/>
            <a:ext cx="3962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answer(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ount(B, (city(B), loc(B, C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onst(C, countryid(USA))),A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3657600"/>
            <a:ext cx="0" cy="7621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7960" y="37339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宋体"/>
              </a:rPr>
              <a:t>Semantic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962520" y="495288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RISP’s Training Algorithm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se classifiers P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[i..j]), obtain th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st semantic derivations of each training sen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se derivations will give the correct MR, calle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correct deriv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me will give incorrect MRs, calle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incorrect deriv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next iteration, collect positives from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most probable correct der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 negatives from incorrect derivations with higher probability than the most probable correct deriva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RISP’s Training Algorithm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805120" y="116352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(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31840" y="1892160"/>
            <a:ext cx="3801960" cy="19749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宋体"/>
              </a:rPr>
              <a:t>the states bordering texa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bordering oklaho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s that border california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s which share b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宋体"/>
              </a:rPr>
              <a:t>next to state of 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宋体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840200" y="1892160"/>
            <a:ext cx="3841920" cy="2203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what state has the highest population ?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what states does the delaware river run through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which states have cities named austin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what is the lowest point of the state with the largest area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which rivers run through states bord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94760" y="14320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os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524720" y="1432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g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150720" y="1508040"/>
            <a:ext cx="1382760" cy="34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33840" y="1508040"/>
            <a:ext cx="1190520" cy="34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3255120" y="5502240"/>
            <a:ext cx="3041280" cy="748800"/>
            <a:chOff x="3255120" y="5502240"/>
            <a:chExt cx="3041280" cy="748800"/>
          </a:xfrm>
        </p:grpSpPr>
        <p:sp>
          <p:nvSpPr>
            <p:cNvPr id="1064" name=""/>
            <p:cNvSpPr/>
            <p:nvPr/>
          </p:nvSpPr>
          <p:spPr>
            <a:xfrm>
              <a:off x="4687920" y="5502240"/>
              <a:ext cx="0" cy="3841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55120" y="5810400"/>
              <a:ext cx="304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TAT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NEXT_TO(STATE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(s[i..j]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347480" y="4351320"/>
            <a:ext cx="4338720" cy="1150920"/>
            <a:chOff x="1347480" y="4351320"/>
            <a:chExt cx="4338720" cy="1150920"/>
          </a:xfrm>
        </p:grpSpPr>
        <p:grpSp>
          <p:nvGrpSpPr>
            <p:cNvPr id="1067" name=""/>
            <p:cNvGrpSpPr/>
            <p:nvPr/>
          </p:nvGrpSpPr>
          <p:grpSpPr>
            <a:xfrm>
              <a:off x="4225680" y="4543200"/>
              <a:ext cx="1120680" cy="774360"/>
              <a:chOff x="4225680" y="4543200"/>
              <a:chExt cx="1120680" cy="774360"/>
            </a:xfrm>
          </p:grpSpPr>
          <p:sp>
            <p:nvSpPr>
              <p:cNvPr id="1068" name=""/>
              <p:cNvSpPr/>
              <p:nvPr/>
            </p:nvSpPr>
            <p:spPr>
              <a:xfrm flipV="1">
                <a:off x="4262400" y="4604400"/>
                <a:ext cx="0" cy="71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225680" y="5290920"/>
                <a:ext cx="1120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548240" y="478188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390200" y="486576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432320" y="499392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327560" y="510084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74080" y="472572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327560" y="494028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369320" y="497592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78840" y="488664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826160" y="488376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725000" y="510084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997160" y="510084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637880" y="522324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08880" y="495792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652640" y="507384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829760" y="515448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18040" y="494028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602240" y="458532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769640" y="460332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62680" y="478188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4390200" y="4585320"/>
                <a:ext cx="588600" cy="67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 flipV="1">
                <a:off x="4756680" y="4844160"/>
                <a:ext cx="694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557960" y="4871160"/>
                <a:ext cx="62640" cy="511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633200" y="5058000"/>
                <a:ext cx="62640" cy="51120"/>
              </a:xfrm>
              <a:prstGeom prst="ellipse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07080" y="4867200"/>
                <a:ext cx="62640" cy="511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4585680" y="5034960"/>
                <a:ext cx="6696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flipV="1">
                <a:off x="4599720" y="4903560"/>
                <a:ext cx="6444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510800" y="4627800"/>
                <a:ext cx="551880" cy="631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4332600" y="4543200"/>
                <a:ext cx="567720" cy="649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3611160" y="4351320"/>
              <a:ext cx="2075040" cy="1150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47480" y="4619520"/>
              <a:ext cx="21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ring-kernel-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VM 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3035160" y="3889440"/>
            <a:ext cx="1497240" cy="42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4495320" y="4081320"/>
            <a:ext cx="1228680" cy="230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1640" y="93672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Experimental Corpor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300 randomly selected pieces of coaching advice from the log files of the 2003 RoboCup Coach Competi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2.52 words on average in NL sentenc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14.24 tokens on average in formal expressio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eoQu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lle &amp; Mooney, 199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50 queries for the given U.S. geography databas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6.87 words on average in NL sentenc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5.32 tokens on average in formal expressio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Experimental Methodolog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valuated using standard 10-fold cross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rrec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CLang: output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exactly matches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the correct representa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Geoquery: the resulting query retrieves the same answer as the correct representation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1730520" y="4427640"/>
                <a:ext cx="568476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rrec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mple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ses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le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ses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1844640" y="5656320"/>
                <a:ext cx="53593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rrec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mple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ses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entences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Precision Learning Curve for CLa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0614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Recall Learning Curve for CLa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1154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Precision Learning Curve for GeoQu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455760" y="990720"/>
            <a:ext cx="8078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Recall Learning Curve for Geoqu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539640" y="990720"/>
            <a:ext cx="82234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ture 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plore methods that can automatically generate SAPTs to minimize the annotation effort for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I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arning semantic parsers just from sentences paired with “perceptual contex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semantic parsers is an important and challenging problem in natural-language lea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obtained promising results on several applications using a variety of approaches with different strengths and weakn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any others have explored this problem, I would encourage others to consid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and larger corpora are needed for training and testing semantic parser in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arning Semantic Parse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programming robust semantic parsers is difficult due to the complexity of the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parsers can be learned automatically from sentences paired with their logical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9800" y="368604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457440" y="3856320"/>
            <a:ext cx="2666880" cy="703800"/>
            <a:chOff x="3457440" y="3856320"/>
            <a:chExt cx="2666880" cy="703800"/>
          </a:xfrm>
        </p:grpSpPr>
        <p:sp>
          <p:nvSpPr>
            <p:cNvPr id="138" name=""/>
            <p:cNvSpPr/>
            <p:nvPr/>
          </p:nvSpPr>
          <p:spPr>
            <a:xfrm>
              <a:off x="4163400" y="3856320"/>
              <a:ext cx="19609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mantic-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7440" y="4155840"/>
              <a:ext cx="70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824120" y="4905000"/>
            <a:ext cx="2395440" cy="994680"/>
            <a:chOff x="1824120" y="4905000"/>
            <a:chExt cx="2395440" cy="994680"/>
          </a:xfrm>
        </p:grpSpPr>
        <p:sp>
          <p:nvSpPr>
            <p:cNvPr id="141" name=""/>
            <p:cNvSpPr/>
            <p:nvPr/>
          </p:nvSpPr>
          <p:spPr>
            <a:xfrm>
              <a:off x="1824120" y="490500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57440" y="5375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72040" y="4905000"/>
            <a:ext cx="1704240" cy="994680"/>
            <a:chOff x="5972040" y="4905000"/>
            <a:chExt cx="1704240" cy="994680"/>
          </a:xfrm>
        </p:grpSpPr>
        <p:sp>
          <p:nvSpPr>
            <p:cNvPr id="144" name=""/>
            <p:cNvSpPr/>
            <p:nvPr/>
          </p:nvSpPr>
          <p:spPr>
            <a:xfrm>
              <a:off x="6322320" y="4905000"/>
              <a:ext cx="135396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g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72040" y="537516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219560" y="4537080"/>
            <a:ext cx="1752480" cy="1242360"/>
            <a:chOff x="4219560" y="4537080"/>
            <a:chExt cx="1752480" cy="1242360"/>
          </a:xfrm>
        </p:grpSpPr>
        <p:sp>
          <p:nvSpPr>
            <p:cNvPr id="147" name=""/>
            <p:cNvSpPr/>
            <p:nvPr/>
          </p:nvSpPr>
          <p:spPr>
            <a:xfrm>
              <a:off x="4219560" y="507564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57640" y="4537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996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apers on learning semantic parsers are on-line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utexas.edu/~ml/publication/ls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corpora can be downloaded fro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utexas.edu/~ml/nldata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                            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Question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gineering Mot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putational language-learning research strives for broad coverage while sacrificing dep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caling up by dumbing down”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semantic parsing currently entails domain depen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-dependent natural-language interfaces have a large potential 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makes developing specific applications more tra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corpora can be easily developed by tagging  existing corpora of formal statements with natural-language glo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gnitive Science Mot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natural-language learning methods require supervised training data that is not available to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eneral lack of negative feedback on grammar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No POS-tagged or treebank data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a child can infer the likely meaning of an utterance from context, N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 pairs are more cognitively plausible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07:47:29Z</dcterms:created>
  <dc:creator>melville</dc:creator>
  <dc:description/>
  <dc:language>en-US</dc:language>
  <cp:lastModifiedBy>Raymond J. Mooney</cp:lastModifiedBy>
  <dcterms:modified xsi:type="dcterms:W3CDTF">2005-12-11T00:05:51Z</dcterms:modified>
  <cp:revision>1767</cp:revision>
  <dc:subject/>
  <dc:title>Content-Boosted Collaborative Filtering</dc:title>
</cp:coreProperties>
</file>