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39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40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41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EEC1-DCB3-457A-83B2-BC564054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0300-FFD1-45E5-A7F5-9F3D7C88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4950-3EC7-4188-B0D5-3C6EA6DE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E6F1-0F37-4C01-8441-EAD64147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5CD6-EED4-465A-93C1-2AEB2A5BC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CD0-4CDE-47D9-95FF-9F54D8C32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BF0-0E07-4614-9B31-6CF7AE2E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1656-75D6-47E9-A8CB-B8B5E8DB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0F8-527A-43F2-8EAA-98550BC9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C69-B3E4-4D3B-8D81-324A8770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B7E-7568-4B8B-A96A-8B0E951E7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9844-4FE0-4E0A-BC15-2496CE6F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81C7-D3B1-4E6E-AE29-DF4659084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situation of a child in a room observing the perceptu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learning language, many things happening in a room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E15F-9FB6-4BC8-9A75-1DCD748E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17E5-E679-4562-AB27-67AEE0498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CA1-865F-456B-89ED-9EBDFEA6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9A7-0598-474D-8BBE-F96AE0B4C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E01-AEB5-4621-BBE6-56AF5622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2040-576D-4395-A713-417E0B43B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387-F84E-4B7C-864C-BE5EF7D2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891-9482-46F1-B780-000CF873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1A4-DCB4-41C1-93B8-5A748801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436C-1291-4484-92BD-7E0BA8C3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4762-628E-4D33-A2BF-5E4C4884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is that when a child or a computer hears this sentence then these things were happ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7874-646A-4429-83E7-3FB5551E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2BD9-72AB-4622-A4CE-C5E533069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FCC4-3AA4-4D79-A97E-ED1983FD2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475B-8BA0-42AC-B8EF-018CD4637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6DBA-D416-4C92-9941-F5589984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36E3-94E0-4903-89DB-306496E6F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278-E9B9-4FEF-89C5-2738BF38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953-B3D6-4815-8A59-3AD75D13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9A8-309B-4136-9E28-94225B16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C37C-5AA2-421C-8F23-4847B4B2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biguous data is cheaper to obtain, it’s reasonable to expect more data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FFD-2DA6-4ECA-AA32-1C7BFE7ED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C7AE-6F4F-4068-9CF9-750E4F9D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62A-B0A2-4A3F-AFCB-DF8014BD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041-430F-48E2-92F4-2441D831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613F-2062-4422-8154-461A610F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1F8B-01EF-4FAA-948E-174FF8915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8F1-9343-4B12-9418-4E077F2C7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B5FD-C4B5-485D-830E-425F31D6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178-B7E2-4177-9A4D-0362480A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EB5E-3A6A-4E68-ADF7-94FB371E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D5D-7415-45ED-819B-159F077A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7AB-4E15-42F7-AF31-5EC92EAF2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5AD6-C46E-4854-AE41-1E69FC8F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7F1-DD00-477D-9CC1-8F77C4C69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FF6A-7D2D-477E-9D9B-751C2EC5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147-A09F-4A50-BB22-E1F0DEBC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24D-2F18-4940-A93E-E78B4B064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EBF5-9685-4A9D-BDB4-CDA31584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E1C-FA8D-4FBF-858C-0E9E95DE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614-BE81-4C68-A3AE-23DD3CEB5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3E3A-8D68-4F47-B09F-676FE7D43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0CAB-9E75-4855-B266-97871926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1AC-8FEB-42FD-AA4D-C3EBEFBD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621-7E79-4606-9B22-B7B18C7C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6D3-CDEE-4B2A-B182-7D7D0E6B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FBCF-CA2F-4AEE-B728-ADFE30EA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67AB-5345-4BF0-B306-80E93E189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253-07A0-45D2-86BE-EBD5EC77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1141-5FC6-4A7D-A6C4-670ACC92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40F0-8582-4677-AFCD-EDCEEBF5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E2D4-B845-489A-A643-29B2B62B6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F8B-874A-433E-B1CF-DEC5BA231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C2C-E6FF-41BC-AEFE-EA580BDC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C04-B9F0-4BC9-892F-D23CCBB1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E538-4EDD-4F51-99D8-9F3440ED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2070-1F9B-4BEE-AD4A-BA3A7A09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11EC-D8FA-4425-8CBB-E5BD9729A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287-BB1C-47E8-B4BF-3CC0B4739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4FD5-241B-4346-BA4B-B5F3595D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80FA-C473-489B-AD0D-9DAA834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AAB30-C06B-42B9-B24A-BEC7744D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819CF6-4EB2-4162-ABDC-D80726F1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EE8897-1D09-44A5-96D2-848850C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00DF0C-B4C1-49FC-A6F2-74C2E73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0E7DE-6B81-4AAC-BDA6-E647394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9B02D7-BC1B-45BE-861E-F5163EB9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23047-2268-45B7-B8C2-28A0BCD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6BBEF6-3A7F-4E92-AD45-EBACFA62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18B48F-3625-461A-A6E5-128E6AA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B4F2D-9E8B-4B24-90CF-4DD85A51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5BB4-7622-4F5C-AC7D-B51E88A3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9F6D3-4EF2-42A0-B9C9-D19F4E1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95C5D-F81F-4F1E-813C-F3F99E86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0020C-DB17-4F47-9409-DAAE4CD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147CA-FC0E-4A34-979D-8D905025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BF025-C587-4C39-82C4-BB4C7F7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65D7B-CCB7-43DF-BBF7-9279F60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BCCA3-A1B9-4A14-B806-E17BC8B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FDFFC-C361-42F2-96FF-345B9936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45855-03C1-4173-B2B5-9D8934D3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FF318-284D-4034-9D1B-52F0E99A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C241-42D3-459E-B101-48F71807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66385-1A18-4DFC-986D-79888DE9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42CF7-39E1-4A27-8B5F-93A1F9A2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83C9F-D17A-4CE8-B942-68538B26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12A5C-F5A5-4645-8875-4DDE91A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F84B3-9624-4A17-B771-7C5C7E7D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0B74D-6689-4223-9378-93B393BA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1E597-F32B-46D9-8074-07921CCF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1AEAC-2835-4B51-82BE-6E3E4FD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4D2D3-C72A-49B9-AC24-B5335E3D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69C54-7301-4667-81AE-C2C49CF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62919-BF04-45FF-BDB7-8205BD66D93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60287-8A7B-4DFC-BB57-D8B31DC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AF48F-8176-4535-A33D-2F8FF012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D1888-AD5F-4351-8CB0-FF75F067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798E40-A06E-4AD8-9FA4-B23387C7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5AB359-D00A-4630-8511-1865E3A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51E3E7-D221-4030-96CE-BB1A10D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4B4F8F-D1A6-4A47-9279-F181C214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ABCB76-E70E-449B-B148-F0B819B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551AB9-4473-4DD9-824A-99B3DEE6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083B6A-2976-417B-A6BF-050101E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21178-AB1C-4434-86FC-2A207473EA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90D1DF-B008-43D0-AE9A-F01C2AA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41743-D76F-4E7B-8C3B-C52C60F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8EA9D3-A418-4EE8-B924-8DBF9E87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FF917D-85BF-40D7-B93E-FF1D0A7B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061B1A-14D7-4E93-8872-AE9F5D5B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8CFA0-270D-49CF-A5C3-D947C0EA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91F27-2800-45D8-8BC8-5E3DB9D3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56907-18D1-4E95-860C-C80295D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CC144-29F6-48AB-BAAB-285870C2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1AB05-6910-4F5A-A25C-3FEE9175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E6F6-F671-4CF7-B767-19ACD82E3D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959CA-9035-4DCE-84C7-3102D6E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23D9B-185A-4B19-BE34-42933F6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196A0-86FE-4074-88B5-361BF9A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80900-8C2C-4EE7-B82A-58FBE1B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8A801-20A4-47AF-8FF5-BFE2AD6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E8DBA-1D0A-40E2-9F7A-434C901B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DC796-9C96-4017-972A-D40F65D7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C7BE56-0C54-48D6-901B-D46EC481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E4E913-FAF9-465B-9970-19F960C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941300-C669-4B27-9CC9-CEB3E439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06BDF-8891-4CFA-841E-2EB036A449F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64CBE2-D168-440A-B2BF-216BDAE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8ABE7C-B9FE-499E-B5EC-FF907BC7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097AE6-5D88-49CE-BA75-CCB439F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85E7E7-768D-45CC-8765-D740046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CBBF07-1F6F-4419-B760-F096E7A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20EA68-3E39-4DF6-B47A-5C4E0047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DE6A15-B8A5-4A38-AD12-F1457C9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4DBE19-EE13-4DEB-BCC7-37797FE2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A66B63-475B-46A0-A5A9-83790927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E1B34-D5AC-4B24-9E71-D127B856F74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4C23-381C-49E5-9E49-A745D180DFD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A4B7C-F210-4CDC-BB32-C4573C4F7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6145-A169-4D8D-A67F-5AD4651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7A920-9CD2-45FD-B786-60F37C054B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8DFF8-ABAE-42E4-8DA6-E1C9CDE830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A1DEE-A9E5-4A75-9581-F796DFB625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BF700-68E1-4D2E-A884-E7A222A434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C8AFD-C49E-442B-95DC-515E4AC02D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6C66-8BB4-4787-A284-86CCBDA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51B8F-2C75-436B-AED2-ADAF3195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D9FB0-A98F-4AC5-A41A-D2374EC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C0256-6250-4E66-B6A4-E3B4444C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B073-896C-4E63-B7AE-C42F100B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4679F-3682-42DB-8075-8CA8E56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BBC10-EE85-40AC-A0A6-549DBEE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2BFD3-AECB-42FC-B982-AEB38C9E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96210-08CB-4FDA-99F6-095DF18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A1308-E724-42E8-B477-4957636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6868B-5B90-4123-A810-19D1B3B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6B4B8-414B-4826-B0A4-77E6040D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F2E82-15E3-4867-9194-5325AAA1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E9BEA-9602-4547-9CE8-9ACD6D23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82355-F6C7-484D-BFB9-48FF4132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63A4-9C18-4089-BB26-13AB2FB1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798EA-9DDF-44EC-A1B1-1EABB7F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13CAD-41B2-40F4-B0E2-0BC171D9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C7334-D2AF-4B54-9A5E-C98D5789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48B6C-C256-4BBC-82DE-524F933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F7791-D2FE-4A88-A21A-AF2EB309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88544-9110-4C43-A2D9-B1BDFB8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504B4-47D5-4082-860A-CAD48424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EEAF4-F3FA-4261-9F89-8372FC9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63654-23D7-4F83-8124-69A62372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8F8D3-1A13-420C-A954-81F9D9E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4E28-BF8F-47F8-B23B-A440036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0B6F5-1534-46E5-9420-5E91DA5E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11234B-E1F4-4E1E-A155-A5E1BD5A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6A2AD-F845-4B27-A995-79B1BE34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F399D3-6360-48C3-8150-224DED1E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2EFCCD-BD23-41B6-BDB2-D98721B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12EBCD-482C-467C-845F-980916CE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71ED4A-0929-4BE2-B8A3-BD6F138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6EB49-3658-4815-9B5D-07F1815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57CD7-2836-4504-91C8-EF218CF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89256-2A89-43EB-B19C-ED301753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9F52-72FD-4DB3-9E54-6A480C9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6DB2C-8B1D-4FAE-9030-CC78BDC8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5F60D-9335-4E42-94DF-6F04F853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73DF0-0925-4E74-9205-47A007A0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2D019-4292-40AD-8C57-2BF0A0C0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36B58-C792-4DE9-8356-5A51A7D1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69E562-471A-456F-BF9A-6815BA1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FC6B5-E095-4268-A7FB-8E1F5F5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F28AA-2C8A-4173-9E51-222C52F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BB1010-18E0-424B-B088-63C58695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57989-F017-4ACB-8182-5CF55CB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20BB-18FF-4791-BC85-C483AFB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49BCA-1405-45FD-8E09-197324D5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4771A-D6B4-4286-BA5B-B621D78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4034AC-FE28-4023-BEDA-EC22E78D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96B3BC-F07D-40C5-A082-71B3CE64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8CE2E-0F87-4C34-BE76-20C4BF7F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2D5BDE-6C2F-4F13-BA0C-68109691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329177-0E4C-48EE-9021-22328575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D4328-720C-49A1-9B50-426EB24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3796A3-55F3-4854-BFEA-3C00B226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9DB13-C262-4428-90B9-06C5F32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DEC9-BD88-4687-B191-E4A31AEF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1704F-BC36-4AE7-8A02-F929427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B839D-24E7-4F38-B521-9356CB3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F894C-D86D-47D8-8B99-27BE36E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6599E-E16D-4EA8-9074-871DF3E6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40ADC-2751-4CCA-8191-1C9C4E6A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4AE20-942B-4F36-8DFD-D1F38506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9B533-B31B-45A1-9B4D-476B0403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D0BEC-F87A-41E9-AA3E-AB866214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D569F8-57AD-47A8-9AC2-2EA5A5FD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CB6219-41BF-424B-AA8D-B88E2FED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995-0EFD-49AF-86CA-A3447EBA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6888-7040-4F27-93D6-CFEBF88E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185-6859-4DFD-AE84-280B9B420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89D4-032C-4198-BED5-DDF443F4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F5F-96D1-457E-914E-BC8FD367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A10C-0C72-4275-8EC4-03DF6143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2"/>
          <p:cNvSpPr/>
          <p:nvPr/>
        </p:nvSpPr>
        <p:spPr>
          <a:xfrm>
            <a:off x="846000" y="227664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4" descr="seal1"/>
          <p:cNvPicPr/>
          <p:nvPr/>
        </p:nvPicPr>
        <p:blipFill>
          <a:blip r:embed="rId2"/>
          <a:stretch/>
        </p:blipFill>
        <p:spPr>
          <a:xfrm>
            <a:off x="7145280" y="5121360"/>
            <a:ext cx="1370160" cy="1357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2230920" y="3659040"/>
            <a:ext cx="5083560" cy="1787400"/>
            <a:chOff x="2230920" y="3659040"/>
            <a:chExt cx="5083560" cy="1787400"/>
          </a:xfrm>
        </p:grpSpPr>
        <p:sp>
          <p:nvSpPr>
            <p:cNvPr id="589" name="Text Box 7"/>
            <p:cNvSpPr/>
            <p:nvPr/>
          </p:nvSpPr>
          <p:spPr>
            <a:xfrm>
              <a:off x="2690640" y="365904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Machine Learning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8"/>
            <p:cNvSpPr/>
            <p:nvPr/>
          </p:nvSpPr>
          <p:spPr>
            <a:xfrm>
              <a:off x="2230920" y="4081320"/>
              <a:ext cx="50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2459520" y="45050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4545000" y="4927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3" name="Picture 11" descr="tex-logo-small"/>
          <p:cNvPicPr/>
          <p:nvPr/>
        </p:nvPicPr>
        <p:blipFill>
          <a:blip r:embed="rId3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D9D3-F634-4425-9562-1A3C2E7A2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9D2-71D3-4375-A924-2F825D206919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9625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734-8F08-4B0A-B8AA-5F942BB9BB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CFF-7BEA-429A-8A2C-0222E3C6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6771-CEA9-46BC-9056-6E67077D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0BC-D0A8-463F-8C0F-EAEAF9CED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D2D-8F8A-44F2-84C7-5BE2493B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1729-25F4-46FA-83FB-259E616C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11F-C3DE-4C7D-AE91-EFBAF9CB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AB91-87EB-4A3F-AF20-F9F647C3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earning Language from its Perceptual Context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hit 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38E-1EF1-41CB-A9C1-F5C28FED2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9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057-FED2-4372-8B64-DA555D2D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A6C-DE03-4645-BA98-C9202E1D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2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7F3-5BEE-4A80-A449-176B052B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2"/>
          <p:cNvSpPr/>
          <p:nvPr/>
        </p:nvSpPr>
        <p:spPr>
          <a:xfrm flipV="1" rot="10800000">
            <a:off x="6222600" y="3655800"/>
            <a:ext cx="1575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Compi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Aho &amp;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Freeform 13"/>
          <p:cNvSpPr/>
          <p:nvPr/>
        </p:nvSpPr>
        <p:spPr>
          <a:xfrm rot="10800000">
            <a:off x="72370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4"/>
          <p:cNvSpPr/>
          <p:nvPr/>
        </p:nvSpPr>
        <p:spPr>
          <a:xfrm flipH="1" rot="10800000">
            <a:off x="66268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5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9CE9-B70D-49F3-8C1A-360E9C361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s (S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Aho &amp; Ullman (1972) as a theory of compilers that comb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yntax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de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 pair of st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1A7-F2C9-4E15-84D6-9E5E8E5F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28954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54100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1066680" y="29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duction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2842920" y="2529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8"/>
          <p:cNvSpPr/>
          <p:nvPr/>
        </p:nvSpPr>
        <p:spPr>
          <a:xfrm>
            <a:off x="5420520" y="2529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9"/>
          <p:cNvSpPr/>
          <p:nvPr/>
        </p:nvSpPr>
        <p:spPr>
          <a:xfrm>
            <a:off x="4724280" y="3429000"/>
            <a:ext cx="236232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0138-548B-4141-B83A-D74CAD5E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"/>
          <p:cNvSpPr/>
          <p:nvPr/>
        </p:nvSpPr>
        <p:spPr>
          <a:xfrm>
            <a:off x="2906640" y="5587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3"/>
          <p:cNvGrpSpPr/>
          <p:nvPr/>
        </p:nvGrpSpPr>
        <p:grpSpPr>
          <a:xfrm>
            <a:off x="2396520" y="5576760"/>
            <a:ext cx="4349520" cy="388800"/>
            <a:chOff x="2396520" y="5576760"/>
            <a:chExt cx="4349520" cy="388800"/>
          </a:xfrm>
        </p:grpSpPr>
        <p:sp>
          <p:nvSpPr>
            <p:cNvPr id="777" name="Text Box 4"/>
            <p:cNvSpPr/>
            <p:nvPr/>
          </p:nvSpPr>
          <p:spPr>
            <a:xfrm>
              <a:off x="2396520" y="5576760"/>
              <a:ext cx="43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U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answer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4832280" y="58892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6"/>
          <p:cNvGrpSpPr/>
          <p:nvPr/>
        </p:nvGrpSpPr>
        <p:grpSpPr>
          <a:xfrm>
            <a:off x="2421720" y="5573880"/>
            <a:ext cx="4299120" cy="397800"/>
            <a:chOff x="2421720" y="5573880"/>
            <a:chExt cx="4299120" cy="397800"/>
          </a:xfrm>
        </p:grpSpPr>
        <p:sp>
          <p:nvSpPr>
            <p:cNvPr id="780" name="Text Box 7"/>
            <p:cNvSpPr/>
            <p:nvPr/>
          </p:nvSpPr>
          <p:spPr>
            <a:xfrm>
              <a:off x="2421720" y="5573880"/>
              <a:ext cx="42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capi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8"/>
            <p:cNvSpPr/>
            <p:nvPr/>
          </p:nvSpPr>
          <p:spPr>
            <a:xfrm>
              <a:off x="4843440" y="5896080"/>
              <a:ext cx="1447920" cy="7560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9"/>
          <p:cNvGrpSpPr/>
          <p:nvPr/>
        </p:nvGrpSpPr>
        <p:grpSpPr>
          <a:xfrm>
            <a:off x="2719800" y="5576760"/>
            <a:ext cx="3703320" cy="390600"/>
            <a:chOff x="2719800" y="5576760"/>
            <a:chExt cx="3703320" cy="390600"/>
          </a:xfrm>
        </p:grpSpPr>
        <p:sp>
          <p:nvSpPr>
            <p:cNvPr id="783" name="Text Box 10"/>
            <p:cNvSpPr/>
            <p:nvPr/>
          </p:nvSpPr>
          <p:spPr>
            <a:xfrm>
              <a:off x="2719800" y="5576760"/>
              <a:ext cx="37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11"/>
            <p:cNvSpPr/>
            <p:nvPr/>
          </p:nvSpPr>
          <p:spPr>
            <a:xfrm>
              <a:off x="4349880" y="5891040"/>
              <a:ext cx="152424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Text Box 12"/>
          <p:cNvSpPr/>
          <p:nvPr/>
        </p:nvSpPr>
        <p:spPr>
          <a:xfrm>
            <a:off x="573840" y="55641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87" name="Group 14"/>
          <p:cNvGrpSpPr/>
          <p:nvPr/>
        </p:nvGrpSpPr>
        <p:grpSpPr>
          <a:xfrm>
            <a:off x="4075920" y="4624560"/>
            <a:ext cx="703440" cy="711000"/>
            <a:chOff x="4075920" y="4624560"/>
            <a:chExt cx="703440" cy="711000"/>
          </a:xfrm>
        </p:grpSpPr>
        <p:sp>
          <p:nvSpPr>
            <p:cNvPr id="788" name="Text Box 15"/>
            <p:cNvSpPr/>
            <p:nvPr/>
          </p:nvSpPr>
          <p:spPr>
            <a:xfrm>
              <a:off x="4075920" y="49672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4427640" y="462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17"/>
          <p:cNvGrpSpPr/>
          <p:nvPr/>
        </p:nvGrpSpPr>
        <p:grpSpPr>
          <a:xfrm>
            <a:off x="3028680" y="3828960"/>
            <a:ext cx="1854360" cy="716040"/>
            <a:chOff x="3028680" y="3828960"/>
            <a:chExt cx="1854360" cy="716040"/>
          </a:xfrm>
        </p:grpSpPr>
        <p:sp>
          <p:nvSpPr>
            <p:cNvPr id="791" name="Text Box 18"/>
            <p:cNvSpPr/>
            <p:nvPr/>
          </p:nvSpPr>
          <p:spPr>
            <a:xfrm>
              <a:off x="3028680" y="4170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19"/>
            <p:cNvSpPr/>
            <p:nvPr/>
          </p:nvSpPr>
          <p:spPr>
            <a:xfrm>
              <a:off x="3964680" y="4176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 flipH="1">
              <a:off x="3227040" y="3828960"/>
              <a:ext cx="571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1"/>
            <p:cNvSpPr/>
            <p:nvPr/>
          </p:nvSpPr>
          <p:spPr>
            <a:xfrm>
              <a:off x="3798720" y="3828960"/>
              <a:ext cx="619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Text Box 22"/>
          <p:cNvSpPr/>
          <p:nvPr/>
        </p:nvSpPr>
        <p:spPr>
          <a:xfrm>
            <a:off x="14306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23"/>
          <p:cNvGrpSpPr/>
          <p:nvPr/>
        </p:nvGrpSpPr>
        <p:grpSpPr>
          <a:xfrm>
            <a:off x="685440" y="2166840"/>
            <a:ext cx="2512080" cy="768600"/>
            <a:chOff x="685440" y="2166840"/>
            <a:chExt cx="2512080" cy="768600"/>
          </a:xfrm>
        </p:grpSpPr>
        <p:sp>
          <p:nvSpPr>
            <p:cNvPr id="797" name="Text Box 24"/>
            <p:cNvSpPr/>
            <p:nvPr/>
          </p:nvSpPr>
          <p:spPr>
            <a:xfrm>
              <a:off x="2495520" y="2567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25"/>
            <p:cNvSpPr/>
            <p:nvPr/>
          </p:nvSpPr>
          <p:spPr>
            <a:xfrm>
              <a:off x="685440" y="255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6"/>
            <p:cNvSpPr/>
            <p:nvPr/>
          </p:nvSpPr>
          <p:spPr>
            <a:xfrm>
              <a:off x="1738440" y="2560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1928880" y="2176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 flipH="1">
              <a:off x="1045800" y="216684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932120" y="216684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ext Box 30"/>
          <p:cNvSpPr/>
          <p:nvPr/>
        </p:nvSpPr>
        <p:spPr>
          <a:xfrm>
            <a:off x="54518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Group 31"/>
          <p:cNvGrpSpPr/>
          <p:nvPr/>
        </p:nvGrpSpPr>
        <p:grpSpPr>
          <a:xfrm>
            <a:off x="4779360" y="2174760"/>
            <a:ext cx="2357280" cy="744480"/>
            <a:chOff x="4779360" y="2174760"/>
            <a:chExt cx="2357280" cy="744480"/>
          </a:xfrm>
        </p:grpSpPr>
        <p:sp>
          <p:nvSpPr>
            <p:cNvPr id="805" name="Text Box 32"/>
            <p:cNvSpPr/>
            <p:nvPr/>
          </p:nvSpPr>
          <p:spPr>
            <a:xfrm>
              <a:off x="4779360" y="25509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swer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3"/>
            <p:cNvSpPr/>
            <p:nvPr/>
          </p:nvSpPr>
          <p:spPr>
            <a:xfrm flipH="1">
              <a:off x="5905440" y="2184480"/>
              <a:ext cx="522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4"/>
            <p:cNvSpPr/>
            <p:nvPr/>
          </p:nvSpPr>
          <p:spPr>
            <a:xfrm flipH="1">
              <a:off x="5143320" y="2174760"/>
              <a:ext cx="809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5"/>
            <p:cNvSpPr/>
            <p:nvPr/>
          </p:nvSpPr>
          <p:spPr>
            <a:xfrm>
              <a:off x="5953320" y="2174760"/>
              <a:ext cx="4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6"/>
            <p:cNvSpPr/>
            <p:nvPr/>
          </p:nvSpPr>
          <p:spPr>
            <a:xfrm>
              <a:off x="5953320" y="2174760"/>
              <a:ext cx="94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37"/>
          <p:cNvGrpSpPr/>
          <p:nvPr/>
        </p:nvGrpSpPr>
        <p:grpSpPr>
          <a:xfrm>
            <a:off x="5314320" y="3022560"/>
            <a:ext cx="2280960" cy="717480"/>
            <a:chOff x="5314320" y="3022560"/>
            <a:chExt cx="2280960" cy="717480"/>
          </a:xfrm>
        </p:grpSpPr>
        <p:sp>
          <p:nvSpPr>
            <p:cNvPr id="811" name="Text Box 38"/>
            <p:cNvSpPr/>
            <p:nvPr/>
          </p:nvSpPr>
          <p:spPr>
            <a:xfrm>
              <a:off x="5314320" y="3371760"/>
              <a:ext cx="22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9"/>
            <p:cNvSpPr/>
            <p:nvPr/>
          </p:nvSpPr>
          <p:spPr>
            <a:xfrm flipH="1">
              <a:off x="6359760" y="3033720"/>
              <a:ext cx="950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0"/>
            <p:cNvSpPr/>
            <p:nvPr/>
          </p:nvSpPr>
          <p:spPr>
            <a:xfrm flipH="1">
              <a:off x="5597640" y="3024360"/>
              <a:ext cx="85104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1"/>
            <p:cNvSpPr/>
            <p:nvPr/>
          </p:nvSpPr>
          <p:spPr>
            <a:xfrm>
              <a:off x="6448680" y="3024360"/>
              <a:ext cx="3682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42"/>
            <p:cNvSpPr/>
            <p:nvPr/>
          </p:nvSpPr>
          <p:spPr>
            <a:xfrm>
              <a:off x="6448680" y="3022560"/>
              <a:ext cx="9014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43"/>
          <p:cNvGrpSpPr/>
          <p:nvPr/>
        </p:nvGrpSpPr>
        <p:grpSpPr>
          <a:xfrm>
            <a:off x="5723640" y="3828960"/>
            <a:ext cx="2382840" cy="709560"/>
            <a:chOff x="5723640" y="3828960"/>
            <a:chExt cx="2382840" cy="709560"/>
          </a:xfrm>
        </p:grpSpPr>
        <p:sp>
          <p:nvSpPr>
            <p:cNvPr id="817" name="Line 44"/>
            <p:cNvSpPr/>
            <p:nvPr/>
          </p:nvSpPr>
          <p:spPr>
            <a:xfrm flipH="1">
              <a:off x="5987880" y="3828960"/>
              <a:ext cx="9273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45"/>
            <p:cNvSpPr/>
            <p:nvPr/>
          </p:nvSpPr>
          <p:spPr>
            <a:xfrm>
              <a:off x="6915240" y="3828960"/>
              <a:ext cx="36828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46"/>
            <p:cNvSpPr/>
            <p:nvPr/>
          </p:nvSpPr>
          <p:spPr>
            <a:xfrm>
              <a:off x="5723640" y="417024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c_2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47"/>
            <p:cNvSpPr/>
            <p:nvPr/>
          </p:nvSpPr>
          <p:spPr>
            <a:xfrm flipH="1">
              <a:off x="6673320" y="3828960"/>
              <a:ext cx="2415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48"/>
            <p:cNvSpPr/>
            <p:nvPr/>
          </p:nvSpPr>
          <p:spPr>
            <a:xfrm>
              <a:off x="6915240" y="3828960"/>
              <a:ext cx="9777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Group 49"/>
          <p:cNvGrpSpPr/>
          <p:nvPr/>
        </p:nvGrpSpPr>
        <p:grpSpPr>
          <a:xfrm>
            <a:off x="6167880" y="4622760"/>
            <a:ext cx="2291400" cy="712800"/>
            <a:chOff x="6167880" y="4622760"/>
            <a:chExt cx="2291400" cy="712800"/>
          </a:xfrm>
        </p:grpSpPr>
        <p:sp>
          <p:nvSpPr>
            <p:cNvPr id="823" name="Text Box 50"/>
            <p:cNvSpPr/>
            <p:nvPr/>
          </p:nvSpPr>
          <p:spPr>
            <a:xfrm>
              <a:off x="6167880" y="4967280"/>
              <a:ext cx="229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teid    (    'ohio'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51"/>
            <p:cNvSpPr/>
            <p:nvPr/>
          </p:nvSpPr>
          <p:spPr>
            <a:xfrm flipH="1">
              <a:off x="7238520" y="4624560"/>
              <a:ext cx="730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52"/>
            <p:cNvSpPr/>
            <p:nvPr/>
          </p:nvSpPr>
          <p:spPr>
            <a:xfrm flipH="1">
              <a:off x="6553080" y="4624560"/>
              <a:ext cx="758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53"/>
            <p:cNvSpPr/>
            <p:nvPr/>
          </p:nvSpPr>
          <p:spPr>
            <a:xfrm>
              <a:off x="7316640" y="4622760"/>
              <a:ext cx="4554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54"/>
            <p:cNvSpPr/>
            <p:nvPr/>
          </p:nvSpPr>
          <p:spPr>
            <a:xfrm>
              <a:off x="7316640" y="4622760"/>
              <a:ext cx="836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Line 55"/>
          <p:cNvSpPr/>
          <p:nvPr/>
        </p:nvSpPr>
        <p:spPr>
          <a:xfrm>
            <a:off x="2494080" y="1905120"/>
            <a:ext cx="2819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reeform 56"/>
          <p:cNvSpPr/>
          <p:nvPr/>
        </p:nvSpPr>
        <p:spPr>
          <a:xfrm>
            <a:off x="2874960" y="2895480"/>
            <a:ext cx="358128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57"/>
          <p:cNvSpPr/>
          <p:nvPr/>
        </p:nvSpPr>
        <p:spPr>
          <a:xfrm>
            <a:off x="3789360" y="3689280"/>
            <a:ext cx="3112920" cy="745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reeform 58"/>
          <p:cNvSpPr/>
          <p:nvPr/>
        </p:nvSpPr>
        <p:spPr>
          <a:xfrm>
            <a:off x="4538520" y="4495680"/>
            <a:ext cx="284184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9"/>
          <p:cNvSpPr/>
          <p:nvPr/>
        </p:nvSpPr>
        <p:spPr>
          <a:xfrm>
            <a:off x="4250520" y="55627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swer(capital(loc_2(stateid('ohio'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Group 60"/>
          <p:cNvGrpSpPr/>
          <p:nvPr/>
        </p:nvGrpSpPr>
        <p:grpSpPr>
          <a:xfrm>
            <a:off x="1742760" y="3016080"/>
            <a:ext cx="2404080" cy="735120"/>
            <a:chOff x="1742760" y="3016080"/>
            <a:chExt cx="2404080" cy="735120"/>
          </a:xfrm>
        </p:grpSpPr>
        <p:sp>
          <p:nvSpPr>
            <p:cNvPr id="834" name="Text Box 61"/>
            <p:cNvSpPr/>
            <p:nvPr/>
          </p:nvSpPr>
          <p:spPr>
            <a:xfrm>
              <a:off x="3444840" y="33829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62"/>
            <p:cNvSpPr/>
            <p:nvPr/>
          </p:nvSpPr>
          <p:spPr>
            <a:xfrm>
              <a:off x="1742760" y="3367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63"/>
            <p:cNvSpPr/>
            <p:nvPr/>
          </p:nvSpPr>
          <p:spPr>
            <a:xfrm>
              <a:off x="2421000" y="33764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64"/>
            <p:cNvSpPr/>
            <p:nvPr/>
          </p:nvSpPr>
          <p:spPr>
            <a:xfrm>
              <a:off x="2878200" y="3025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65"/>
            <p:cNvSpPr/>
            <p:nvPr/>
          </p:nvSpPr>
          <p:spPr>
            <a:xfrm flipH="1">
              <a:off x="1995120" y="301608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66"/>
            <p:cNvSpPr/>
            <p:nvPr/>
          </p:nvSpPr>
          <p:spPr>
            <a:xfrm>
              <a:off x="2881440" y="301608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2A0-0B11-47EA-AD67-D413657F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3020400" y="3325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4904640" y="33195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1"/>
          <p:cNvSpPr/>
          <p:nvPr/>
        </p:nvSpPr>
        <p:spPr>
          <a:xfrm>
            <a:off x="5348880" y="398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0"/>
          <p:cNvSpPr/>
          <p:nvPr/>
        </p:nvSpPr>
        <p:spPr>
          <a:xfrm>
            <a:off x="2908080" y="563868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871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34"/>
          <p:cNvGrpSpPr/>
          <p:nvPr/>
        </p:nvGrpSpPr>
        <p:grpSpPr>
          <a:xfrm>
            <a:off x="2721240" y="5146560"/>
            <a:ext cx="3702960" cy="392400"/>
            <a:chOff x="2721240" y="5146560"/>
            <a:chExt cx="3702960" cy="392400"/>
          </a:xfrm>
        </p:grpSpPr>
        <p:sp>
          <p:nvSpPr>
            <p:cNvPr id="874" name="Text Box 35"/>
            <p:cNvSpPr/>
            <p:nvPr/>
          </p:nvSpPr>
          <p:spPr>
            <a:xfrm>
              <a:off x="2721240" y="5146560"/>
              <a:ext cx="37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1940-21BB-4A6B-8F8F-3EEF5FA9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9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3040200" y="332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8"/>
          <p:cNvSpPr/>
          <p:nvPr/>
        </p:nvSpPr>
        <p:spPr>
          <a:xfrm>
            <a:off x="4924440" y="3319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21"/>
          <p:cNvSpPr/>
          <p:nvPr/>
        </p:nvSpPr>
        <p:spPr>
          <a:xfrm>
            <a:off x="5374800" y="39877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30"/>
          <p:cNvSpPr/>
          <p:nvPr/>
        </p:nvSpPr>
        <p:spPr>
          <a:xfrm>
            <a:off x="2953800" y="56386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908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Group 34"/>
          <p:cNvGrpSpPr/>
          <p:nvPr/>
        </p:nvGrpSpPr>
        <p:grpSpPr>
          <a:xfrm>
            <a:off x="2760840" y="5146560"/>
            <a:ext cx="3623760" cy="392400"/>
            <a:chOff x="2760840" y="5146560"/>
            <a:chExt cx="3623760" cy="392400"/>
          </a:xfrm>
        </p:grpSpPr>
        <p:sp>
          <p:nvSpPr>
            <p:cNvPr id="911" name="Text Box 35"/>
            <p:cNvSpPr/>
            <p:nvPr/>
          </p:nvSpPr>
          <p:spPr>
            <a:xfrm>
              <a:off x="2760840" y="5146560"/>
              <a:ext cx="36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6CC-A759-4F21-B735-11FFEA01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"/>
          <p:cNvSpPr/>
          <p:nvPr/>
        </p:nvSpPr>
        <p:spPr>
          <a:xfrm>
            <a:off x="304920" y="1523880"/>
            <a:ext cx="4190760" cy="480060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3"/>
          <p:cNvSpPr/>
          <p:nvPr/>
        </p:nvSpPr>
        <p:spPr>
          <a:xfrm>
            <a:off x="13395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55188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5"/>
          <p:cNvSpPr/>
          <p:nvPr/>
        </p:nvSpPr>
        <p:spPr>
          <a:xfrm flipH="1">
            <a:off x="1596600" y="2127240"/>
            <a:ext cx="9540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6"/>
          <p:cNvSpPr/>
          <p:nvPr/>
        </p:nvSpPr>
        <p:spPr>
          <a:xfrm flipH="1">
            <a:off x="83484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7"/>
          <p:cNvSpPr/>
          <p:nvPr/>
        </p:nvSpPr>
        <p:spPr>
          <a:xfrm>
            <a:off x="1685880" y="21178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8"/>
          <p:cNvSpPr/>
          <p:nvPr/>
        </p:nvSpPr>
        <p:spPr>
          <a:xfrm>
            <a:off x="168588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9"/>
          <p:cNvSpPr/>
          <p:nvPr/>
        </p:nvSpPr>
        <p:spPr>
          <a:xfrm flipH="1">
            <a:off x="1225440" y="2808360"/>
            <a:ext cx="9273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10"/>
          <p:cNvSpPr/>
          <p:nvPr/>
        </p:nvSpPr>
        <p:spPr>
          <a:xfrm>
            <a:off x="215280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961200" y="31561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2"/>
          <p:cNvSpPr/>
          <p:nvPr/>
        </p:nvSpPr>
        <p:spPr>
          <a:xfrm flipH="1">
            <a:off x="1910880" y="2808360"/>
            <a:ext cx="2415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3"/>
          <p:cNvSpPr/>
          <p:nvPr/>
        </p:nvSpPr>
        <p:spPr>
          <a:xfrm>
            <a:off x="215280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1405440" y="3824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15"/>
          <p:cNvSpPr/>
          <p:nvPr/>
        </p:nvSpPr>
        <p:spPr>
          <a:xfrm flipH="1">
            <a:off x="2476080" y="351468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16"/>
          <p:cNvSpPr/>
          <p:nvPr/>
        </p:nvSpPr>
        <p:spPr>
          <a:xfrm flipH="1">
            <a:off x="1790640" y="351468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17"/>
          <p:cNvSpPr/>
          <p:nvPr/>
        </p:nvSpPr>
        <p:spPr>
          <a:xfrm>
            <a:off x="2554200" y="351324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18"/>
          <p:cNvSpPr/>
          <p:nvPr/>
        </p:nvSpPr>
        <p:spPr>
          <a:xfrm>
            <a:off x="25542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3" name="Text Box 20"/>
          <p:cNvSpPr/>
          <p:nvPr/>
        </p:nvSpPr>
        <p:spPr>
          <a:xfrm>
            <a:off x="55101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1"/>
          <p:cNvSpPr/>
          <p:nvPr/>
        </p:nvSpPr>
        <p:spPr>
          <a:xfrm>
            <a:off x="472212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"/>
          <p:cNvSpPr/>
          <p:nvPr/>
        </p:nvSpPr>
        <p:spPr>
          <a:xfrm flipH="1">
            <a:off x="5767560" y="2127240"/>
            <a:ext cx="9504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23"/>
          <p:cNvSpPr/>
          <p:nvPr/>
        </p:nvSpPr>
        <p:spPr>
          <a:xfrm flipH="1">
            <a:off x="500508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24"/>
          <p:cNvSpPr/>
          <p:nvPr/>
        </p:nvSpPr>
        <p:spPr>
          <a:xfrm>
            <a:off x="5856120" y="2117880"/>
            <a:ext cx="36864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25"/>
          <p:cNvSpPr/>
          <p:nvPr/>
        </p:nvSpPr>
        <p:spPr>
          <a:xfrm>
            <a:off x="585612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26"/>
          <p:cNvSpPr/>
          <p:nvPr/>
        </p:nvSpPr>
        <p:spPr>
          <a:xfrm flipH="1">
            <a:off x="5395680" y="280836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7"/>
          <p:cNvSpPr/>
          <p:nvPr/>
        </p:nvSpPr>
        <p:spPr>
          <a:xfrm>
            <a:off x="632304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28"/>
          <p:cNvSpPr/>
          <p:nvPr/>
        </p:nvSpPr>
        <p:spPr>
          <a:xfrm>
            <a:off x="5151600" y="31561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29"/>
          <p:cNvSpPr/>
          <p:nvPr/>
        </p:nvSpPr>
        <p:spPr>
          <a:xfrm flipH="1">
            <a:off x="6081840" y="280836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30"/>
          <p:cNvSpPr/>
          <p:nvPr/>
        </p:nvSpPr>
        <p:spPr>
          <a:xfrm>
            <a:off x="632304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1"/>
          <p:cNvSpPr/>
          <p:nvPr/>
        </p:nvSpPr>
        <p:spPr>
          <a:xfrm>
            <a:off x="5601960" y="38242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32"/>
          <p:cNvSpPr/>
          <p:nvPr/>
        </p:nvSpPr>
        <p:spPr>
          <a:xfrm flipH="1">
            <a:off x="6647040" y="3514680"/>
            <a:ext cx="727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33"/>
          <p:cNvSpPr/>
          <p:nvPr/>
        </p:nvSpPr>
        <p:spPr>
          <a:xfrm flipH="1">
            <a:off x="5960880" y="3514680"/>
            <a:ext cx="7585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4"/>
          <p:cNvSpPr/>
          <p:nvPr/>
        </p:nvSpPr>
        <p:spPr>
          <a:xfrm>
            <a:off x="6724800" y="3513240"/>
            <a:ext cx="4554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35"/>
          <p:cNvSpPr/>
          <p:nvPr/>
        </p:nvSpPr>
        <p:spPr>
          <a:xfrm>
            <a:off x="67248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36"/>
          <p:cNvSpPr/>
          <p:nvPr/>
        </p:nvSpPr>
        <p:spPr>
          <a:xfrm>
            <a:off x="372600" y="5305320"/>
            <a:ext cx="26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Group 37"/>
          <p:cNvGrpSpPr/>
          <p:nvPr/>
        </p:nvGrpSpPr>
        <p:grpSpPr>
          <a:xfrm>
            <a:off x="371520" y="4446720"/>
            <a:ext cx="3077640" cy="353880"/>
            <a:chOff x="371520" y="4446720"/>
            <a:chExt cx="3077640" cy="353880"/>
          </a:xfrm>
        </p:grpSpPr>
        <p:sp>
          <p:nvSpPr>
            <p:cNvPr id="951" name="Text Box 38"/>
            <p:cNvSpPr/>
            <p:nvPr/>
          </p:nvSpPr>
          <p:spPr>
            <a:xfrm>
              <a:off x="37152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39"/>
            <p:cNvSpPr/>
            <p:nvPr/>
          </p:nvSpPr>
          <p:spPr>
            <a:xfrm>
              <a:off x="1963440" y="4718160"/>
              <a:ext cx="110340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40"/>
          <p:cNvGrpSpPr/>
          <p:nvPr/>
        </p:nvGrpSpPr>
        <p:grpSpPr>
          <a:xfrm>
            <a:off x="374760" y="4869000"/>
            <a:ext cx="2925720" cy="339480"/>
            <a:chOff x="374760" y="4869000"/>
            <a:chExt cx="2925720" cy="339480"/>
          </a:xfrm>
        </p:grpSpPr>
        <p:sp>
          <p:nvSpPr>
            <p:cNvPr id="954" name="Text Box 41"/>
            <p:cNvSpPr/>
            <p:nvPr/>
          </p:nvSpPr>
          <p:spPr>
            <a:xfrm>
              <a:off x="374760" y="4869000"/>
              <a:ext cx="29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42"/>
            <p:cNvSpPr/>
            <p:nvPr/>
          </p:nvSpPr>
          <p:spPr>
            <a:xfrm>
              <a:off x="1649520" y="5133960"/>
              <a:ext cx="1193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43"/>
          <p:cNvSpPr/>
          <p:nvPr/>
        </p:nvSpPr>
        <p:spPr>
          <a:xfrm>
            <a:off x="4488480" y="5305320"/>
            <a:ext cx="25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Group 44"/>
          <p:cNvGrpSpPr/>
          <p:nvPr/>
        </p:nvGrpSpPr>
        <p:grpSpPr>
          <a:xfrm>
            <a:off x="4486680" y="4446720"/>
            <a:ext cx="3077640" cy="353880"/>
            <a:chOff x="4486680" y="4446720"/>
            <a:chExt cx="3077640" cy="353880"/>
          </a:xfrm>
        </p:grpSpPr>
        <p:sp>
          <p:nvSpPr>
            <p:cNvPr id="958" name="Text Box 45"/>
            <p:cNvSpPr/>
            <p:nvPr/>
          </p:nvSpPr>
          <p:spPr>
            <a:xfrm>
              <a:off x="448668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46"/>
            <p:cNvSpPr/>
            <p:nvPr/>
          </p:nvSpPr>
          <p:spPr>
            <a:xfrm>
              <a:off x="6078600" y="4718160"/>
              <a:ext cx="107604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Group 47"/>
          <p:cNvGrpSpPr/>
          <p:nvPr/>
        </p:nvGrpSpPr>
        <p:grpSpPr>
          <a:xfrm>
            <a:off x="4489920" y="4869000"/>
            <a:ext cx="2867400" cy="339480"/>
            <a:chOff x="4489920" y="4869000"/>
            <a:chExt cx="2867400" cy="339480"/>
          </a:xfrm>
        </p:grpSpPr>
        <p:sp>
          <p:nvSpPr>
            <p:cNvPr id="961" name="Text Box 48"/>
            <p:cNvSpPr/>
            <p:nvPr/>
          </p:nvSpPr>
          <p:spPr>
            <a:xfrm>
              <a:off x="4489920" y="486900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49"/>
            <p:cNvSpPr/>
            <p:nvPr/>
          </p:nvSpPr>
          <p:spPr>
            <a:xfrm>
              <a:off x="5734080" y="5133960"/>
              <a:ext cx="1166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50"/>
          <p:cNvSpPr/>
          <p:nvPr/>
        </p:nvSpPr>
        <p:spPr>
          <a:xfrm>
            <a:off x="346248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3462480" y="484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52"/>
          <p:cNvSpPr/>
          <p:nvPr/>
        </p:nvSpPr>
        <p:spPr>
          <a:xfrm>
            <a:off x="346248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53"/>
          <p:cNvSpPr/>
          <p:nvPr/>
        </p:nvSpPr>
        <p:spPr>
          <a:xfrm>
            <a:off x="76219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54"/>
          <p:cNvSpPr/>
          <p:nvPr/>
        </p:nvSpPr>
        <p:spPr>
          <a:xfrm>
            <a:off x="7622280" y="48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5"/>
          <p:cNvSpPr/>
          <p:nvPr/>
        </p:nvSpPr>
        <p:spPr>
          <a:xfrm>
            <a:off x="762192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6"/>
          <p:cNvSpPr/>
          <p:nvPr/>
        </p:nvSpPr>
        <p:spPr>
          <a:xfrm>
            <a:off x="396252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57"/>
          <p:cNvSpPr/>
          <p:nvPr/>
        </p:nvSpPr>
        <p:spPr>
          <a:xfrm>
            <a:off x="4114800" y="4738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8"/>
          <p:cNvSpPr/>
          <p:nvPr/>
        </p:nvSpPr>
        <p:spPr>
          <a:xfrm>
            <a:off x="820260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9"/>
          <p:cNvSpPr/>
          <p:nvPr/>
        </p:nvSpPr>
        <p:spPr>
          <a:xfrm>
            <a:off x="8354880" y="4738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60"/>
          <p:cNvSpPr/>
          <p:nvPr/>
        </p:nvSpPr>
        <p:spPr>
          <a:xfrm>
            <a:off x="3462480" y="5729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1"/>
          <p:cNvSpPr/>
          <p:nvPr/>
        </p:nvSpPr>
        <p:spPr>
          <a:xfrm>
            <a:off x="7622280" y="5729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62"/>
          <p:cNvGrpSpPr/>
          <p:nvPr/>
        </p:nvGrpSpPr>
        <p:grpSpPr>
          <a:xfrm>
            <a:off x="3036240" y="5272200"/>
            <a:ext cx="1078560" cy="368280"/>
            <a:chOff x="3036240" y="5272200"/>
            <a:chExt cx="1078560" cy="368280"/>
          </a:xfrm>
        </p:grpSpPr>
        <p:sp>
          <p:nvSpPr>
            <p:cNvPr id="976" name="Line 63"/>
            <p:cNvSpPr/>
            <p:nvPr/>
          </p:nvSpPr>
          <p:spPr>
            <a:xfrm>
              <a:off x="3048120" y="56386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64"/>
            <p:cNvSpPr/>
            <p:nvPr/>
          </p:nvSpPr>
          <p:spPr>
            <a:xfrm>
              <a:off x="303624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Group 65"/>
          <p:cNvGrpSpPr/>
          <p:nvPr/>
        </p:nvGrpSpPr>
        <p:grpSpPr>
          <a:xfrm>
            <a:off x="7075080" y="5272200"/>
            <a:ext cx="1284840" cy="368280"/>
            <a:chOff x="7075080" y="5272200"/>
            <a:chExt cx="1284840" cy="368280"/>
          </a:xfrm>
        </p:grpSpPr>
        <p:sp>
          <p:nvSpPr>
            <p:cNvPr id="979" name="Line 66"/>
            <p:cNvSpPr/>
            <p:nvPr/>
          </p:nvSpPr>
          <p:spPr>
            <a:xfrm>
              <a:off x="7086600" y="5638680"/>
              <a:ext cx="127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67"/>
            <p:cNvSpPr/>
            <p:nvPr/>
          </p:nvSpPr>
          <p:spPr>
            <a:xfrm>
              <a:off x="707508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Text Box 68"/>
          <p:cNvSpPr/>
          <p:nvPr/>
        </p:nvSpPr>
        <p:spPr>
          <a:xfrm>
            <a:off x="483480" y="5729400"/>
            <a:ext cx="39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(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69"/>
          <p:cNvSpPr/>
          <p:nvPr/>
        </p:nvSpPr>
        <p:spPr>
          <a:xfrm>
            <a:off x="4653360" y="5729400"/>
            <a:ext cx="403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exp(  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70"/>
          <p:cNvSpPr/>
          <p:nvPr/>
        </p:nvSpPr>
        <p:spPr>
          <a:xfrm>
            <a:off x="31356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71"/>
          <p:cNvSpPr/>
          <p:nvPr/>
        </p:nvSpPr>
        <p:spPr>
          <a:xfrm>
            <a:off x="450468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72"/>
          <p:cNvSpPr/>
          <p:nvPr/>
        </p:nvSpPr>
        <p:spPr>
          <a:xfrm>
            <a:off x="5153760" y="611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73"/>
          <p:cNvSpPr/>
          <p:nvPr/>
        </p:nvSpPr>
        <p:spPr>
          <a:xfrm>
            <a:off x="4267080" y="6095880"/>
            <a:ext cx="83844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74"/>
          <p:cNvSpPr/>
          <p:nvPr/>
        </p:nvSpPr>
        <p:spPr>
          <a:xfrm>
            <a:off x="7620120" y="6095880"/>
            <a:ext cx="91440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tate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state-of-the-art NLP systems are constructed by training on large supervis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ctic Pars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enn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enseE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 Role Label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rop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Hansards corpu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such annotated corpora is difficult, expensive, and time consu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D1D6-12B6-4A21-B269-85FD050B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AB91-EBEB-41BD-9938-2E40DB9B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"/>
          <p:cNvSpPr/>
          <p:nvPr/>
        </p:nvSpPr>
        <p:spPr>
          <a:xfrm flipH="1">
            <a:off x="380880" y="4632480"/>
            <a:ext cx="830592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verview of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1" name="Text Box 4"/>
          <p:cNvSpPr/>
          <p:nvPr/>
        </p:nvSpPr>
        <p:spPr>
          <a:xfrm>
            <a:off x="3387600" y="2098800"/>
            <a:ext cx="290880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xical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3200760" y="3584520"/>
            <a:ext cx="328212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6"/>
          <p:cNvSpPr/>
          <p:nvPr/>
        </p:nvSpPr>
        <p:spPr>
          <a:xfrm>
            <a:off x="3481200" y="5257800"/>
            <a:ext cx="272124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mantic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AutoShape 7"/>
          <p:cNvCxnSpPr>
            <a:stCxn id="991" idx="2"/>
            <a:endCxn id="992" idx="0"/>
          </p:cNvCxnSpPr>
          <p:nvPr/>
        </p:nvCxnSpPr>
        <p:spPr>
          <a:xfrm>
            <a:off x="4841640" y="2555640"/>
            <a:ext cx="108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8"/>
          <p:cNvCxnSpPr>
            <a:stCxn id="992" idx="2"/>
            <a:endCxn id="993" idx="0"/>
          </p:cNvCxnSpPr>
          <p:nvPr/>
        </p:nvCxnSpPr>
        <p:spPr>
          <a:xfrm>
            <a:off x="4841640" y="4041720"/>
            <a:ext cx="108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9"/>
          <p:cNvCxnSpPr/>
          <p:nvPr/>
        </p:nvCxnSpPr>
        <p:spPr>
          <a:xfrm flipH="1">
            <a:off x="415080" y="242208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97" name="AutoShape 10"/>
          <p:cNvCxnSpPr/>
          <p:nvPr/>
        </p:nvCxnSpPr>
        <p:spPr>
          <a:xfrm flipH="1">
            <a:off x="415080" y="226980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98" name="AutoShape 11"/>
          <p:cNvCxnSpPr>
            <a:stCxn id="992" idx="1"/>
          </p:cNvCxnSpPr>
          <p:nvPr/>
        </p:nvCxnSpPr>
        <p:spPr>
          <a:xfrm rot="10800000">
            <a:off x="2802960" y="2412360"/>
            <a:ext cx="396000" cy="1400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99" name="Text Box 12"/>
          <p:cNvSpPr/>
          <p:nvPr/>
        </p:nvSpPr>
        <p:spPr>
          <a:xfrm>
            <a:off x="343080" y="184932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  <a:ea typeface="宋体"/>
              </a:rPr>
              <a:t>Unambiguous CF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M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3"/>
          <p:cNvSpPr/>
          <p:nvPr/>
        </p:nvSpPr>
        <p:spPr>
          <a:xfrm>
            <a:off x="342000" y="2455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ing s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4921560" y="26305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xic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an SCF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5"/>
          <p:cNvSpPr/>
          <p:nvPr/>
        </p:nvSpPr>
        <p:spPr>
          <a:xfrm>
            <a:off x="4900680" y="4121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FG  parameterized b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3" name="AutoShape 16"/>
          <p:cNvCxnSpPr>
            <a:stCxn id="993" idx="1"/>
          </p:cNvCxnSpPr>
          <p:nvPr/>
        </p:nvCxnSpPr>
        <p:spPr>
          <a:xfrm flipH="1">
            <a:off x="415080" y="5486040"/>
            <a:ext cx="3064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04" name="Text Box 17"/>
          <p:cNvSpPr/>
          <p:nvPr/>
        </p:nvSpPr>
        <p:spPr>
          <a:xfrm>
            <a:off x="341640" y="50706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put sent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5" name="AutoShape 18"/>
          <p:cNvCxnSpPr>
            <a:stCxn id="993" idx="3"/>
          </p:cNvCxnSpPr>
          <p:nvPr/>
        </p:nvCxnSpPr>
        <p:spPr>
          <a:xfrm>
            <a:off x="6203520" y="5486040"/>
            <a:ext cx="248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6" name="Text Box 19"/>
          <p:cNvSpPr/>
          <p:nvPr/>
        </p:nvSpPr>
        <p:spPr>
          <a:xfrm>
            <a:off x="7065000" y="50734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tput M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0"/>
          <p:cNvSpPr/>
          <p:nvPr/>
        </p:nvSpPr>
        <p:spPr>
          <a:xfrm>
            <a:off x="286560" y="42242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1"/>
          <p:cNvSpPr/>
          <p:nvPr/>
        </p:nvSpPr>
        <p:spPr>
          <a:xfrm>
            <a:off x="294840" y="4670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16B5-7961-48A8-8645-BE992658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een a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inverse of semantic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337840" y="5334120"/>
            <a:ext cx="44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(true) (do our {1} (pos (half our))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2009160" y="274320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ie should always stay in our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6"/>
          <p:cNvSpPr/>
          <p:nvPr/>
        </p:nvSpPr>
        <p:spPr>
          <a:xfrm>
            <a:off x="3505320" y="3276720"/>
            <a:ext cx="761760" cy="1904760"/>
          </a:xfrm>
          <a:custGeom>
            <a:avLst/>
            <a:gdLst>
              <a:gd name="textAreaLeft" fmla="*/ 101880 w 761760"/>
              <a:gd name="textAreaRight" fmla="*/ 659880 w 76176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1297080" y="39765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62dff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Group 8"/>
          <p:cNvGrpSpPr/>
          <p:nvPr/>
        </p:nvGrpSpPr>
        <p:grpSpPr>
          <a:xfrm>
            <a:off x="4876920" y="3276360"/>
            <a:ext cx="3122640" cy="1904760"/>
            <a:chOff x="4876920" y="3276360"/>
            <a:chExt cx="3122640" cy="1904760"/>
          </a:xfrm>
        </p:grpSpPr>
        <p:sp>
          <p:nvSpPr>
            <p:cNvPr id="1017" name="AutoShape 9"/>
            <p:cNvSpPr/>
            <p:nvPr/>
          </p:nvSpPr>
          <p:spPr>
            <a:xfrm rot="10800000">
              <a:off x="4876920" y="3276360"/>
              <a:ext cx="761760" cy="190476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33360 h 1904760"/>
                <a:gd name="textAreaBottom" fmla="*/ 138096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10"/>
            <p:cNvSpPr/>
            <p:nvPr/>
          </p:nvSpPr>
          <p:spPr>
            <a:xfrm>
              <a:off x="5735520" y="4052880"/>
              <a:ext cx="22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Tactical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A748-FF6F-437E-B2A4-CBB999D7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607680" y="359424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actical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on by Inverting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Same synchronous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for both generation and semantic par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5"/>
          <p:cNvSpPr/>
          <p:nvPr/>
        </p:nvSpPr>
        <p:spPr>
          <a:xfrm>
            <a:off x="28954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6"/>
          <p:cNvSpPr/>
          <p:nvPr/>
        </p:nvSpPr>
        <p:spPr>
          <a:xfrm>
            <a:off x="54100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1066680" y="4586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2840400" y="4205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9"/>
          <p:cNvSpPr/>
          <p:nvPr/>
        </p:nvSpPr>
        <p:spPr>
          <a:xfrm>
            <a:off x="5418360" y="4205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reeform 10"/>
          <p:cNvSpPr/>
          <p:nvPr/>
        </p:nvSpPr>
        <p:spPr>
          <a:xfrm>
            <a:off x="4724280" y="5105520"/>
            <a:ext cx="2362320" cy="7596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11"/>
          <p:cNvGrpSpPr/>
          <p:nvPr/>
        </p:nvGrpSpPr>
        <p:grpSpPr>
          <a:xfrm>
            <a:off x="3584160" y="3305160"/>
            <a:ext cx="1047960" cy="1038240"/>
            <a:chOff x="3584160" y="3305160"/>
            <a:chExt cx="1047960" cy="1038240"/>
          </a:xfrm>
        </p:grpSpPr>
        <p:sp>
          <p:nvSpPr>
            <p:cNvPr id="1030" name="Text Box 12"/>
            <p:cNvSpPr/>
            <p:nvPr/>
          </p:nvSpPr>
          <p:spPr>
            <a:xfrm>
              <a:off x="3584160" y="3305160"/>
              <a:ext cx="10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AutoShape 13"/>
            <p:cNvSpPr/>
            <p:nvPr/>
          </p:nvSpPr>
          <p:spPr>
            <a:xfrm>
              <a:off x="39942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14"/>
          <p:cNvGrpSpPr/>
          <p:nvPr/>
        </p:nvGrpSpPr>
        <p:grpSpPr>
          <a:xfrm>
            <a:off x="5951880" y="3305160"/>
            <a:ext cx="1343520" cy="1038240"/>
            <a:chOff x="5951880" y="3305160"/>
            <a:chExt cx="1343520" cy="1038240"/>
          </a:xfrm>
        </p:grpSpPr>
        <p:sp>
          <p:nvSpPr>
            <p:cNvPr id="1033" name="Text Box 15"/>
            <p:cNvSpPr/>
            <p:nvPr/>
          </p:nvSpPr>
          <p:spPr>
            <a:xfrm>
              <a:off x="5951880" y="3305160"/>
              <a:ext cx="134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62dff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AutoShape 16"/>
            <p:cNvSpPr/>
            <p:nvPr/>
          </p:nvSpPr>
          <p:spPr>
            <a:xfrm>
              <a:off x="65088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62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Text Box 17"/>
          <p:cNvSpPr/>
          <p:nvPr/>
        </p:nvSpPr>
        <p:spPr>
          <a:xfrm>
            <a:off x="608760" y="35942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62dff"/>
                </a:solidFill>
                <a:latin typeface="Arial"/>
              </a:rPr>
              <a:t>Semantic par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0.07378 -0.05324 C 0.08923 -0.06528 0.1125 -0.07199 0.13663 -0.07199 C 0.16423 -0.07199 0.18628 -0.06528 0.20173 -0.05324 L 0.27569 0 E">
                                      <p:cBhvr>
                                        <p:cTn id="213" dur="2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 L -0.07292 -0.05324 C -0.08837 -0.06528 -0.11146 -0.07199 -0.13542 -0.07199 C -0.16285 -0.07199 -0.18472 -0.06528 -0.20017 -0.05324 L -0.27361 0 E">
                                      <p:cBhvr>
                                        <p:cTn id="215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5718-391D-4C72-95FF-6C205088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supervised language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RPA Learning by Reading Pro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8F5-6BAB-4077-B04B-51BF0763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Grou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ings of many words are grounded in our perception of the physical world: red, ball, cup, run, hit, fal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mbol Grounding: Harnad (1990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any abstract words and meanings are metaphorical abstractions of terms grounded in the physical world: up, down, over, 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koff and Johnson’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etaphors We Live B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ts difficult to put my words into idea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LP work represents meaning without any connection to perception; circularly defining the meanings of words in terms of other words or meaningless symbols with no firm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D329-0F2C-43B3-945E-69D50D3B1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grpSp>
        <p:nvGrpSpPr>
          <p:cNvPr id="1048" name="Group 7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49" name="Text Box 8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9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0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1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2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Rectangle 13"/>
          <p:cNvSpPr/>
          <p:nvPr/>
        </p:nvSpPr>
        <p:spPr>
          <a:xfrm>
            <a:off x="3413160" y="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50560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2752560" y="654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simultaneously exposed to perceptual contexts and natural language utterances should be able to learn the underlying languag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of sentences associated with multiple potential M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skind (1996) uses this type “referentially uncertain” training data to learn meanings of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ng meaning representations from perceptual data is a difficult unsolv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r system directly works with symbolic M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896-EB91-41F0-9B12-BC54A3244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7"/>
          <p:cNvSpPr/>
          <p:nvPr/>
        </p:nvSpPr>
        <p:spPr>
          <a:xfrm>
            <a:off x="250272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67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B35E-C12C-48AA-A05E-AC804DC55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2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1needlewoman2"/>
          <p:cNvPicPr/>
          <p:nvPr/>
        </p:nvPicPr>
        <p:blipFill>
          <a:blip r:embed="rId2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1girl154-med"/>
          <p:cNvPicPr/>
          <p:nvPr/>
        </p:nvPicPr>
        <p:blipFill>
          <a:blip r:embed="rId3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1girl134-med"/>
          <p:cNvPicPr/>
          <p:nvPr/>
        </p:nvPicPr>
        <p:blipFill>
          <a:blip r:embed="rId4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6" descr="1man351-med"/>
          <p:cNvPicPr/>
          <p:nvPr/>
        </p:nvPicPr>
        <p:blipFill>
          <a:blip r:embed="rId5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80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955-1931-484F-A03F-41BB8B2A3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2" descr="1girl154-med"/>
          <p:cNvPicPr/>
          <p:nvPr/>
        </p:nvPicPr>
        <p:blipFill>
          <a:blip r:embed="rId1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1girl134-med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1man351-med"/>
          <p:cNvPicPr/>
          <p:nvPr/>
        </p:nvPicPr>
        <p:blipFill>
          <a:blip r:embed="rId3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89" name="Text Box 5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Picture 6" descr="1workstation75-med"/>
          <p:cNvPicPr/>
          <p:nvPr/>
        </p:nvPicPr>
        <p:blipFill>
          <a:blip r:embed="rId4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91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93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886-950C-457A-93B3-4631FD06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BC16-8583-4E59-AD80-F06F3578D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1man351-med"/>
          <p:cNvPicPr/>
          <p:nvPr/>
        </p:nvPicPr>
        <p:blipFill>
          <a:blip r:embed="rId2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4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Picture 6" descr="1workstation75-med"/>
          <p:cNvPicPr/>
          <p:nvPr/>
        </p:nvPicPr>
        <p:blipFill>
          <a:blip r:embed="rId3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04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106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8F56-6AC5-4224-A766-BE571DC0C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3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4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5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Picture 6" descr="1workstation75-med"/>
          <p:cNvPicPr/>
          <p:nvPr/>
        </p:nvPicPr>
        <p:blipFill>
          <a:blip r:embed="rId2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17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119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A3D-1BEA-433B-AE54-D1DB46276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5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7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Picture 8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9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-5158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Group 12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136" name="Text Box 13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4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15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16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17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635-0F7A-49EC-B5C9-952D61E11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5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6" name="Picture 6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7"/>
          <p:cNvSpPr/>
          <p:nvPr/>
        </p:nvSpPr>
        <p:spPr>
          <a:xfrm>
            <a:off x="4258440" y="510552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ommy is ironing a shi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xt 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5716800" y="441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10"/>
          <p:cNvSpPr/>
          <p:nvPr/>
        </p:nvSpPr>
        <p:spPr>
          <a:xfrm flipH="1">
            <a:off x="2742840" y="45720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1"/>
          <p:cNvSpPr/>
          <p:nvPr/>
        </p:nvSpPr>
        <p:spPr>
          <a:xfrm flipH="1" flipV="1">
            <a:off x="1600200" y="2590560"/>
            <a:ext cx="419112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2"/>
          <p:cNvSpPr/>
          <p:nvPr/>
        </p:nvSpPr>
        <p:spPr>
          <a:xfrm flipH="1" flipV="1">
            <a:off x="4876920" y="3200400"/>
            <a:ext cx="91440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3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odel of ambiguous supervision corresponds to the type of data that will be gathered from a temporal sequence of perceptual contexts with occasional language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each sentence has exactly one meaning in its perceptual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ently extended to handle sentences with no meaning in its perceptual contex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aning is associated with at most on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e Ambiguous Corpu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228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22860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228600" y="3809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228600" y="4648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228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5851440" y="1992240"/>
            <a:ext cx="138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5789880" y="17524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5788800" y="1295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5790600" y="2209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5785200" y="266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79168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5790240" y="3886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5790240" y="434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5791320" y="48006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5793120" y="525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8"/>
          <p:cNvSpPr/>
          <p:nvPr/>
        </p:nvSpPr>
        <p:spPr>
          <a:xfrm>
            <a:off x="5790960" y="57913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9"/>
          <p:cNvSpPr/>
          <p:nvPr/>
        </p:nvSpPr>
        <p:spPr>
          <a:xfrm flipV="1">
            <a:off x="3505320" y="152532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20"/>
          <p:cNvSpPr/>
          <p:nvPr/>
        </p:nvSpPr>
        <p:spPr>
          <a:xfrm flipV="1">
            <a:off x="3505320" y="1981080"/>
            <a:ext cx="228600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21"/>
          <p:cNvSpPr/>
          <p:nvPr/>
        </p:nvSpPr>
        <p:spPr>
          <a:xfrm flipV="1">
            <a:off x="3314880" y="243828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22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23"/>
          <p:cNvSpPr/>
          <p:nvPr/>
        </p:nvSpPr>
        <p:spPr>
          <a:xfrm>
            <a:off x="3352680" y="2895480"/>
            <a:ext cx="251460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4"/>
          <p:cNvSpPr/>
          <p:nvPr/>
        </p:nvSpPr>
        <p:spPr>
          <a:xfrm>
            <a:off x="3352680" y="2895480"/>
            <a:ext cx="25146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5"/>
          <p:cNvSpPr/>
          <p:nvPr/>
        </p:nvSpPr>
        <p:spPr>
          <a:xfrm flipV="1">
            <a:off x="2438280" y="243792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6"/>
          <p:cNvSpPr/>
          <p:nvPr/>
        </p:nvSpPr>
        <p:spPr>
          <a:xfrm flipV="1">
            <a:off x="2438280" y="289512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27"/>
          <p:cNvSpPr/>
          <p:nvPr/>
        </p:nvSpPr>
        <p:spPr>
          <a:xfrm flipV="1">
            <a:off x="2514600" y="3657600"/>
            <a:ext cx="327672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2438280" y="4038480"/>
            <a:ext cx="327672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2438280" y="4038480"/>
            <a:ext cx="34290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30"/>
          <p:cNvSpPr/>
          <p:nvPr/>
        </p:nvSpPr>
        <p:spPr>
          <a:xfrm flipV="1">
            <a:off x="3276720" y="411444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1"/>
          <p:cNvSpPr/>
          <p:nvPr/>
        </p:nvSpPr>
        <p:spPr>
          <a:xfrm flipV="1">
            <a:off x="3276720" y="4571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2"/>
          <p:cNvSpPr/>
          <p:nvPr/>
        </p:nvSpPr>
        <p:spPr>
          <a:xfrm>
            <a:off x="3276720" y="487692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3"/>
          <p:cNvSpPr/>
          <p:nvPr/>
        </p:nvSpPr>
        <p:spPr>
          <a:xfrm flipV="1">
            <a:off x="2590920" y="5028840"/>
            <a:ext cx="327636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4"/>
          <p:cNvSpPr/>
          <p:nvPr/>
        </p:nvSpPr>
        <p:spPr>
          <a:xfrm flipV="1">
            <a:off x="2590920" y="5486040"/>
            <a:ext cx="3200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35"/>
          <p:cNvSpPr/>
          <p:nvPr/>
        </p:nvSpPr>
        <p:spPr>
          <a:xfrm>
            <a:off x="2590920" y="5638680"/>
            <a:ext cx="320040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36"/>
          <p:cNvSpPr/>
          <p:nvPr/>
        </p:nvSpPr>
        <p:spPr>
          <a:xfrm>
            <a:off x="2439360" y="6248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a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7"/>
          <p:cNvSpPr/>
          <p:nvPr/>
        </p:nvSpPr>
        <p:spPr>
          <a:xfrm>
            <a:off x="2752560" y="592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38"/>
          <p:cNvSpPr/>
          <p:nvPr/>
        </p:nvSpPr>
        <p:spPr>
          <a:xfrm>
            <a:off x="3649680" y="5888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39"/>
          <p:cNvSpPr/>
          <p:nvPr/>
        </p:nvSpPr>
        <p:spPr>
          <a:xfrm>
            <a:off x="3633840" y="637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self-training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3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9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F550-DF44-410C-875C-E1D91682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GeoQuery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A Database Query 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ry application for U.S. geography datab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657600" cy="23860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13"/>
          <p:cNvGrpSpPr/>
          <p:nvPr/>
        </p:nvGrpSpPr>
        <p:grpSpPr>
          <a:xfrm>
            <a:off x="4149720" y="2362320"/>
            <a:ext cx="4079880" cy="1523880"/>
            <a:chOff x="4149720" y="2362320"/>
            <a:chExt cx="4079880" cy="1523880"/>
          </a:xfrm>
        </p:grpSpPr>
        <p:sp>
          <p:nvSpPr>
            <p:cNvPr id="654" name="Text Box 5"/>
            <p:cNvSpPr/>
            <p:nvPr/>
          </p:nvSpPr>
          <p:spPr>
            <a:xfrm>
              <a:off x="4149720" y="28526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6"/>
            <p:cNvSpPr/>
            <p:nvPr/>
          </p:nvSpPr>
          <p:spPr>
            <a:xfrm>
              <a:off x="5340240" y="2362320"/>
              <a:ext cx="2889360" cy="1523880"/>
            </a:xfrm>
            <a:prstGeom prst="wedgeEllipseCallout">
              <a:avLst>
                <a:gd name="adj1" fmla="val -66648"/>
                <a:gd name="adj2" fmla="val -26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w many states does the Mississippi run through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15"/>
          <p:cNvGrpSpPr/>
          <p:nvPr/>
        </p:nvGrpSpPr>
        <p:grpSpPr>
          <a:xfrm>
            <a:off x="3962160" y="4432320"/>
            <a:ext cx="4876920" cy="1923480"/>
            <a:chOff x="3962160" y="4432320"/>
            <a:chExt cx="4876920" cy="1923480"/>
          </a:xfrm>
        </p:grpSpPr>
        <p:sp>
          <p:nvSpPr>
            <p:cNvPr id="657" name="Text Box 7"/>
            <p:cNvSpPr/>
            <p:nvPr/>
          </p:nvSpPr>
          <p:spPr>
            <a:xfrm>
              <a:off x="3962160" y="44956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8"/>
            <p:cNvSpPr/>
            <p:nvPr/>
          </p:nvSpPr>
          <p:spPr>
            <a:xfrm>
              <a:off x="4876920" y="4432320"/>
              <a:ext cx="3962160" cy="19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swer(A, count(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state(B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=riverid(mississippi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raverse(C,B)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4"/>
          <p:cNvGrpSpPr/>
          <p:nvPr/>
        </p:nvGrpSpPr>
        <p:grpSpPr>
          <a:xfrm>
            <a:off x="4610160" y="3774960"/>
            <a:ext cx="2247840" cy="644760"/>
            <a:chOff x="4610160" y="3774960"/>
            <a:chExt cx="2247840" cy="644760"/>
          </a:xfrm>
        </p:grpSpPr>
        <p:sp>
          <p:nvSpPr>
            <p:cNvPr id="660" name="Line 9"/>
            <p:cNvSpPr/>
            <p:nvPr/>
          </p:nvSpPr>
          <p:spPr>
            <a:xfrm>
              <a:off x="6858000" y="3885840"/>
              <a:ext cx="0" cy="533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10"/>
            <p:cNvSpPr/>
            <p:nvPr/>
          </p:nvSpPr>
          <p:spPr>
            <a:xfrm>
              <a:off x="4610160" y="377496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Line 11"/>
          <p:cNvSpPr/>
          <p:nvPr/>
        </p:nvSpPr>
        <p:spPr>
          <a:xfrm flipH="1">
            <a:off x="3962520" y="54100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lowchart: Magnetic Disk 19"/>
          <p:cNvSpPr/>
          <p:nvPr/>
        </p:nvSpPr>
        <p:spPr>
          <a:xfrm>
            <a:off x="2666880" y="4800600"/>
            <a:ext cx="1360440" cy="1564200"/>
          </a:xfrm>
          <a:prstGeom prst="flowChartMagneticDisk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21"/>
          <p:cNvGrpSpPr/>
          <p:nvPr/>
        </p:nvGrpSpPr>
        <p:grpSpPr>
          <a:xfrm>
            <a:off x="1219320" y="5334120"/>
            <a:ext cx="1447560" cy="459720"/>
            <a:chOff x="1219320" y="5334120"/>
            <a:chExt cx="1447560" cy="459720"/>
          </a:xfrm>
        </p:grpSpPr>
        <p:sp>
          <p:nvSpPr>
            <p:cNvPr id="665" name="TextBox 17"/>
            <p:cNvSpPr/>
            <p:nvPr/>
          </p:nvSpPr>
          <p:spPr>
            <a:xfrm>
              <a:off x="1219320" y="5334120"/>
              <a:ext cx="4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 flipH="1">
              <a:off x="1752480" y="5562720"/>
              <a:ext cx="914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1356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6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0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3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5" name="Object 3"/>
          <p:cNvGraphicFramePr/>
          <p:nvPr/>
        </p:nvGraphicFramePr>
        <p:xfrm>
          <a:off x="214200" y="1459080"/>
          <a:ext cx="892980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59080"/>
                    <a:ext cx="89298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sults on Ambig-ChildWorld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92D-2437-4E60-9AE9-7A3AB74E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hallen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1EB5-2F56-4AC3-A7C4-624B070F2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513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1514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1516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1518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1519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1523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1524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1529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1530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2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1535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6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1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AF79-6BA9-4AB4-B2FE-26F53CB4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673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宋体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677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681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5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ortscasting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DF2-7CBC-4550-AE95-58B64501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647-3673-419A-9E38-903DA61F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-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teration of EM-like training produces very noisy training data (&gt; 50% err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ISP is better than WASP at handling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 prevents overfit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ing kernel allows partial matc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RISP does not support language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ain KRISPER just to determine the best NL→MR matc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rain WASP on the resulting unambiguously 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D9EE-29D9-4598-8A8B-5C8D4332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-GE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KRISPER and WASPER, the correct MR for each sentence is chosen based on maximizing the confidence of semantic parsing (NL→M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WASPER-GEN 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→N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each potential NL/MR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NIST MT score (alternative to BLEU score)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DB21-9351-4616-936A-28FDFE78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tactical generation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strategic gene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EC7-5AB3-4225-95DD-64748172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518C-AD91-491A-9E67-490D88EE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DCAF-0029-4705-B589-4D0B7A52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NL/MR matching that indicates which events were described, but this is not provided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stimated matching computed by KRISPER, WASPER or WASPER-GE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a version of EM to determine the probability of mentioning each event type just based on strategic info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9EE-0EAB-4CE4-B60F-A0BE7695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terative Generation Strategy Learning (IGS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estimates the likelihood of commenting on each event type from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elf-training iterations to improve estimates (à la 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events not associated with any NL as negative evidence for commenting on that event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46E-3142-4A67-9806-A10C0259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689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692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697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EM-based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Matching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various methods assign MRs to sentences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evaluate correc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Matc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02" name="Object 4"/>
          <p:cNvGraphicFramePr/>
          <p:nvPr/>
        </p:nvGraphicFramePr>
        <p:xfrm>
          <a:off x="453960" y="1523880"/>
          <a:ext cx="81136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523880"/>
                    <a:ext cx="81136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learned parser maps sentences to their correct meaning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gold-standard matches to determine the correct MR for each sentence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MR mus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 gold-standard to count a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07" name="Picture 4" descr="parse-results-average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NL generator produces English sentences for chosen MR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IST score to compare generated sentence to the one in the gold-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11" name="Picture 4" descr="generator-results-nist-average"/>
          <p:cNvPicPr/>
          <p:nvPr/>
        </p:nvPicPr>
        <p:blipFill>
          <a:blip r:embed="rId1"/>
          <a:stretch/>
        </p:blipFill>
        <p:spPr>
          <a:xfrm>
            <a:off x="762120" y="13446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est games, measure how accurately the system determines which perceived events to commen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subset of events chosen by the system to the subset chosen by the human annotator (as given by the gold-standard matc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15" name="Object 4"/>
          <p:cNvGraphicFramePr/>
          <p:nvPr/>
        </p:nvGraphicFramePr>
        <p:xfrm>
          <a:off x="533520" y="1371600"/>
          <a:ext cx="8097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97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2885-A4AA-47CA-AC11-C56CB5B9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Zelle &amp; Mooney, 1996; Thompson &amp; Mooney, 1999, 2003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Box 4"/>
          <p:cNvSpPr/>
          <p:nvPr/>
        </p:nvSpPr>
        <p:spPr>
          <a:xfrm>
            <a:off x="52200" y="42670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5"/>
          <p:cNvSpPr/>
          <p:nvPr/>
        </p:nvSpPr>
        <p:spPr>
          <a:xfrm>
            <a:off x="52200" y="480060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Quasi Turing 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380520" y="1295280"/>
            <a:ext cx="8534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ed 4 fluent English speakers to evaluate overall quality of sports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icked a 2 minute segment from each of the 4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uman judge evaluated 8 commented game clips, each of the 4 segments commented once by a human and once by the machine when tested on that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 clips presented to each judge were shown in random counter-balanced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s were not told which ones were human or machin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E2E-BFE2-405D-A479-8E1970DD8A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21" name=""/>
          <p:cNvGraphicFramePr/>
          <p:nvPr/>
        </p:nvGraphicFramePr>
        <p:xfrm>
          <a:off x="304920" y="2133720"/>
          <a:ext cx="8458200" cy="310824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17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FE8A-ADD3-4676-AE83-9113E56D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Huma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57200" y="2133720"/>
          <a:ext cx="8458200" cy="219384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17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E542-98C7-428A-8353-A87C6003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mediate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ategic generation information to improve resolution of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WASP’s ability to handle noisy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simulated perception to extract more detailed and interesting symbolic facts from the simula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 Research Dir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from ambiguous/weak supervisio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Siskind,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Multiple Instance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es weak supervision for classification in the form of positive “bags” which contain at least on positive instanc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Dietterich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earning with Structur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es I/O are complex data structures (e.g. strings or graphs) rather than simple vectors and class label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aki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,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tructured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Multiple Instance Lear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an input string is paired with a set of possible MRs, one of which is likely to be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nger Term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learning situated language in a computer video-game environment 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Gorniak &amp; Roy,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ach game AI’s how to talk to you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captioned images or video using computer vision to extract objects, relations, and events from real perceptual dat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Fleischman &amp; Roy, 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atant Talk Advertise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Watch, Listen &amp; Learn: Co-training on Captioned Images and Vide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. Gupta, J. Kim, K. Grauman, and R. Moon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Supervised Learning session,     Thursday, 11:40, R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83A-A342-4C8F-AEB9-8A768705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language learning work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developed language learning systems that can learn from sentences paired with an ambiguous perceptual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evaluated it on learning to sportscast simulated Robocup games where it learns to commentate games almost as well as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to connect language and perception is an important and exciting resear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8A1-1D5E-4529-A43F-61314686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WASP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A Machine Translation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statistical machine transl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Synchronous context-free grammars (SCFG) (Wu, 1997; Melamed, 2004; Chiang, 2005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ord alignments (Brown et al., 1993; Och &amp; Ney, 2003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nce the name: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W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or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lignment-base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S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emantic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P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4" descr="was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5D0-7526-4CBC-AF2C-971AF024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5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6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8-09-03T16:01:24Z</dcterms:modified>
  <cp:revision>191</cp:revision>
  <dc:subject/>
  <dc:title>Intelligent Information Retrieval and Web Search</dc:title>
</cp:coreProperties>
</file>