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F618-2DFE-48F2-8639-5E65ACEB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8A6A-1F7E-42C2-B79F-2C7C6D4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06D7-2725-4221-8AA3-F5C0F22D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D93E-B655-4D04-93CC-C629BCE9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5C52-A0ED-4458-B0F3-80AEE1F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912B-6FF0-4F92-A75E-4D8EEC84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3D80-675E-4BE9-AAA2-7F3D3F15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7A71-015F-4BF7-9236-66EC26E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F91F-E0B7-4D34-BFD5-811D2AB9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A31B-0E42-4B65-9403-C204BCB1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1118-F3EF-4ECD-BC53-F124711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A295-ECB6-4B38-A010-5F5CD4C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59E-5DDC-4D0F-BFC5-65D9201C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Computing as an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Experimental Science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or</a:t>
            </a:r>
            <a:br>
              <a:rPr sz="40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Dijkstra"/>
              </a:rPr>
              <a:t>Exaggerated Formalist Rhetoric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Dijkstra"/>
              </a:rPr>
              <a:t>Considered Harmfu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t.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F4C6-D6A2-4114-B009-891B37DF26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Problems with Empirical Specif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-language question answ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ing spam from em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al of documents or images for a web-search query that a human user finds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ng the secondary or tertiary structure of proteins from amino-aci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images or movies that are still “acceptable” to human per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ring images or visualizations that humans perceive as natural or useful for solving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8491-AEC4-4A26-962D-A01DC8FFD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oosing the Right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roblem is easily formalized, one should attempt to prove one’s algorithms and program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roblem is empirical, one should run well-designed, controlled experiments on real data, using multiple trials, and analyze the statistical significance of results with respect to a well-defined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D245-77CA-4F05-A498-D04AA50AA6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and Empirical Input Distribu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clear formal input distributions that lend themselves to theoretical average-case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“empirical” input distributions that depend on phenomena in the physical (biological/ psychological/ social) world that, at least currently, have no adequate mathematical formaliz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1DBC-A1D2-41A6-A86E-32DD0C80A6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erage-Case Analysis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sort a list of randomly ordered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mpirical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un a typical user program, where program behavior can vary with respec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cality of memory referenc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ability of branch outcom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uman-written programs for solving typical human problems exhibit regularities not present in programs randomly generated by any known statistical distribution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70BF-E9DD-43B8-8455-90F609AF1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Empirical Problem Distribu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traveling-salesman problems encountered in applications and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scheduling problems encountered in applications and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roblems for automated theorem pro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PTP problem se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FD91-6663-4A50-B781-56E8CAA77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ology 10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ropriate, meaningful measure of perform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aracter error rat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thod A has lower character error rate than method B on English non-cursive handwri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set of realistic benchmark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llions of words of human-labeled handwritten text from a diverse set of English writ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separation of training (development) and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ed hand-written text that the developers have never se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0DD6-8A89-4F1A-A403-E6CCC7D98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ology 101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ll-controlled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only difference between the two conditions is the algorithm being tested (e.g. same training and test data)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trials on different independent data sets in order to measure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analysis demonstrating significant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nificant t-test result (p&lt; 0.05) on the difference between the mean character error rates of A and B in order to reject the “null hypothesis” that performance difference is attributable to random varia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C860-0A0B-43B8-811A-2D0330595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S as Poor Experimental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computer scientists’ experimental methodology is severely l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” computer science frequently means hacking-up a new system and illustrating performance on a few demo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ok Ma, no hand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ncing bear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when quantitative results are gathered and presented, frequently there is 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early stated hypothesis that is being tested by a well-controlled experi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asure of variance or statistical analysis of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CEE3-ED39-4135-870D-D9E58F2AAF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Poor Experimental Methodology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f a Turing-Award Winner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y own research area of machine learning has become one of the most experimentally rigorous areas in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CML-01 paper on classifying gene-expression data co-authored by R. Karp was properly criticized during Q&amp;A after the presentation for lacking statistical analysis of its experimental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apse by leading computer scientists was quite surprising to m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 graduate stu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9C61-A94F-4C98-A7DB-30BB428978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S Education in Experimental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ost natural and social sciences, experimental methodology and statistical analysis of results is specifically taught in laboratory or statistics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cientists receive virtually no formal training in basic experimental methodology or statistical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had to learn it from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sychologist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have to teach it in a C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uat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urse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curricula assume theory is the only source of rig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C6A6-98E9-4CD2-9FEF-172EDD2F4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ilosophy and Methodology Mat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’s beliefs about the philosophy and methodology of computer scie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pa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problems on which one chooses to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approach one takes to these probl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ne’s perception of the significance of results and the quality of others’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ne’s beliefs about the education and training of students and CS curriculum issu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8ECE-D11A-46F5-9374-6EAB2E97B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sapplied Form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researchers misapply formal methods to fundamentally empiric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cular formal specification or input distribution is assumed and analy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evidence, this formalism is motivated by, or claimed to be relevant to, some important empiric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an insignificant theoretical result that has little or no bearing on the problem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mpirical problems, experimental evidence must be presented to demonstrate that a particular formalism truly characterizes the actu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6786-8849-41CA-BA32-631D30B8F0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auty is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Our Primary Busines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, striving for elegant formalism leads some computer scientists to study mathematical problems that are mere caricatures of important empiric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focus on what can be proven and ignore the complexity of the re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g theorems about caricatures of empirical problems contributes little to either theoretical or applied computer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should focus on demonstrably solving interesting, important problems, not on formulating elegant formalisms that do not reflect re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AC6E-5BF8-42A0-B19D-7AE381AEF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pler vs. Kea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Kepler wasted years of his life trying to model planetary orbits with elegant, beautiful circles before empirical data forced him to realize that astronomical reality was more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Keats makes nice poetry but lousy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auty is truth,              Beauty is in the eye of the behold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uth beauty.                  Beauty is only skin deep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ience, truth is a theory that accurately predicts relevant empiric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809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4EE0-EDC5-454A-806C-CAF3633CDF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Analysis of Formal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 problem may have a clear formal definition, theoretical analysis may currently be in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s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nlinear dynamic syst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ellular autom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ndom satisfiability probl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experimental analysis may also be the best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 may result in conjectures that may subsequently be pr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FAAB-7572-4099-8825-5ABE9E3010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njectures in mathematics originate from empirical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ermat’s last theor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ldbach’s conjectu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N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al aspects of mathematics have generally not been publicized or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ly due to influence from computer science, mathematics has begun to embrace its experimental s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erimental Mathematic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journal (started 1992)    (www.expmath.org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C0DD-82DA-4A4B-9CF3-0637FD4AA0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pistem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believe that mathematical proof is a fundamentally more trustworthy source of knowledge than experi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s as the “Queen of the science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lieve this erroneous belief is based on a long tradition of rationalism that ignores the fact that mathematics is a human enterprise, and therefore equally based in the empiric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ism vs. empiricism is a 2,400 year long philosophical debate, which, apparently, continues today to impact computer science method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B8AF-B252-4EBE-B5A3-DB9F89B9F3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al Basis of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athematical proofs rely on accepting a set of fundamental axioms without pro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proved that eve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xioms of arithmetic can not be proven form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sflash! (1931) “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l knocks Queen from throne”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humans are willing to accept these axioms based on intuitions that are based on empirical experience and/or innate pre-conceptions that have evolved to increase survival and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tuitions may be misl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n-Euclidian geometry and General Relativ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athematics: The Loss of Certain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M. Kline, 1982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7BBE-8E39-4EEC-8A44-09718105D6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ilosophy of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lato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ystical belief in a non-material world of mathematical concepts to which humans somehow have infallibl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lieve a much more scientifically defensible view is that mathematics is based on human psychological processing that is grounded in the mater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commend the following recent boo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umber Sense: How the Mind Creates Mathematic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S. Dehaene, 2000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here Mathematics Comes From: How the Embodied Mind Brings Mathematics into Be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G. Lakoff &amp; R. Nu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z, 200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he Math Gene: How Mathematical Thinking Evolv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K.J. Devlin, 200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6F73-6962-4FF8-B6F5-8EAB23C399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diction to exaggerated formalist rhetoric, experimental computer science can be well-motivated and rigor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mputational problems are fundamentally empirical and properly approached using experimental methodolo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right thing to do is to prove a theorem, sometimes to run an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eoretical CS, rigorous experimental CS is relatively imm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in experimental CS requires changes to existing educational practice and curric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6CF1-1F68-46C2-B1FA-B9886CA631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grams as Mathematical Objec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uter program is a formally defined mathematical object, i.e. a Turing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such a mathematical object can be formally pro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ness according to a formal specific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min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me and space complexity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orst case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erage case (assuming a formal specification of the input distribution)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E982-40C1-448C-B65D-9ABA4B460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Dijkstra"/>
              </a:rPr>
              <a:t>Exaggerated Formalist Rhetoric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ince programs are formal mathematical objects, experiments and empirical analysis have no place in computer 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Computer science is mathematics and consists of definitions, theorems, and proo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Without theorems, there is no rigorous science, just unprincipled ha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tudents primarily need to be taught appropriate mathematics and how to prove theor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tudents do not need to be taught experimental methodology appropriate for natural and social scie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AF91-7820-4F4F-9A4C-FF0C07F0C3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and Empirical Specif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clear, mathematical, formal specif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se lend themselves to theoretical analysi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“empirical” specifications that depend on physical (biological/psychological/social) phenomena that, at least currently, have no adequate mathematical formaliz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qui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perimenta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alysi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F532-032A-4754-AE4D-B20C111C9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Tale of Two Bug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malists’ Poster 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Intel Pentium division bug illustrates a problem (floating-point division) that has a clear formal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erimentalists’ Poster 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pple Newton’s insufficiently accurate hand-writing recognition illustrates a problem whose specification relies on a psychological phenomenon with no known formalization: human visual perception of written langu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BC70-2BEC-4641-BE74-018376A71F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386080" cy="2490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5440" y="220968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4382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4382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3960" y="220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5105520"/>
            <a:ext cx="6648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ijkstra"/>
              </a:rPr>
              <a:t>Only formal verification can prevent bugs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ijkstra"/>
              <a:ea typeface="Dijkstr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43160" y="4267080"/>
            <a:ext cx="65815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CPU is a terrible thing to waste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8B85-C97D-44CD-9C22-D10EA59636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43480" y="1357200"/>
            <a:ext cx="1635120" cy="270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2120" y="2362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jkstra"/>
              </a:rPr>
              <a:t>Final exam 9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438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2438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2313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5943600"/>
            <a:ext cx="7581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ly experiments can ensure accurac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5318280" cy="154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6320" y="228600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no1 exon q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2E9A-DEC2-41A3-8867-19329984F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ist $100K Challenge Problem!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believe that hand-writing recognition can be given a formal specification suitable for mathematical verification, then I strongly encourage you to write it d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y life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ou can formulate such a specification and use it to develop and verify hand-writing recognition software and demonstrate perfect accuracy on a standard, realistic benchmark datas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will personally award you a $100,000 prize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9E1F-17E8-4EA9-9C21-AFA2746AC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4-09-07T00:05:11Z</dcterms:modified>
  <cp:revision>153</cp:revision>
  <dc:subject/>
  <dc:title>Intelligent Information Retrieval and Web Search</dc:title>
</cp:coreProperties>
</file>