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A919-B3FB-41A7-9157-2BD22602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DD46-4656-4F21-9CFC-906B387B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BB939-A818-4EA8-BDE5-1059F3C3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2A8D-A25A-4E73-AA31-4EB47A02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B276-B8BC-4938-8BC9-8DA6783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92BC-633C-43C2-97CA-C8BB3B1C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62AF-72D7-4D73-8EBA-9F153E0B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ACD9-CA0B-460A-BCEA-F1B19AC0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1758-DEB8-4C86-9748-13B22457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2340-AF16-4A3B-B169-82A589B3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2B99-5E29-458C-9095-2698545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9550-4623-49C5-B03C-F373BFB2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C776-7B91-478B-96D6-EFEFAD372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Computing as an 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Experimental Science 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or</a:t>
            </a:r>
            <a:br>
              <a:rPr sz="40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Dijkstra"/>
              </a:rPr>
              <a:t>Exaggerated Formalist Rhetoric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Dijkstra"/>
              </a:rPr>
              <a:t>Considered Harmfu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mond J.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t. of Computer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87A3-0650-420A-82AE-507167C964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Problems with Empirical Specif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-language question answ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ing spam from em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ieval of documents or images for a web-search query that a human user finds 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ing the secondary or tertiary structure of proteins from amino-acid seq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 compression of images or movies that are still “acceptable” to human per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ering images or visualizations that humans perceive as natural or useful for solving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F370-3591-48EB-ABBC-2176547787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hoosing the Right Methodolo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roblem is easily formalized, one should attempt to prove one’s algorithms and program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roblem is empirical, one should run well-designed, controlled experiments on real data, using multiple trials, and analyze the statistical significance of results with respect to a well-defined hypo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4C97-B3F7-4E36-BD7E-B2DF4B17E3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al and Empirical Input Distribu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have clear formal input distributions that lend themselves to theoretical average-case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have “empirical” input distributions that depend on phenomena in the physical (biological/ psychological/ social) world that, at least currently, have no adequate mathematical formaliz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14888-8D94-4717-8F8C-0508727215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verage-Case Analysis 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to sort a list of randomly ordered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mpirical Distrib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to run a typical user program, where program behavior can vary with respect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cality of memory referenc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tability of branch outcom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Human-written programs for solving typical human problems exhibit regularities not present in programs randomly generated by any known statistical distribution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25CC-17E0-4537-AB15-2339119222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Empirical Problem Distribu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traveling-salesman problems encountered in applications and indus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scheduling problems encountered in applications and indus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problems for automated theorem pro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PTP problem set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65F8-CB64-40F1-A7F3-E2647E805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Methodology 10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propriate, meaningful measure of perform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aracter error rat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ear hypo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thod A has lower character error rate than method B on English non-cursive handwrit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rge set of realistic benchmark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illions of words of human-labeled handwritten text from a diverse set of English writ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ear separation of training (development) and tes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ed hand-written text that the developers have never see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B049-1EF3-4F4B-8539-4E28E5D302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Methodology 101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ll-controlled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only difference between the two conditions is the algorithm being tested (e.g. same training and test data)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trials on different independent data sets in order to measure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analysis demonstrating significant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gnificant t-test result (p&lt; 0.05) on the difference between the mean character error rates of A and B in order to reject the “null hypothesis” that performance difference is attributable to random variati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2B18-BEBD-4436-900B-1371B80298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S as Poor Experimental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, computer scientists’ experimental methodology is severely l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” computer science frequently means hacking-up a new system and illustrating performance on a few demo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ok Ma, no hand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ncing bear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when quantitative results are gathered and presented, frequently there is 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early stated hypothesis that is being tested by a well-controlled experi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asure of variance or statistical analysis of resul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B26C-B3C7-4419-AB1B-FA4B9A8747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Poor Experimental Methodology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f a Turing-Award Winner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y own research area of machine learning has become one of the most experimentally rigorous areas in 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CML-01 paper on classifying gene-expression data co-authored by R. Karp was properly criticized during Q&amp;A after the presentation for lacking statistical analysis of its experimental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apse by leading computer scientists was quite surprising to m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ear graduate stu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F67B-A17C-4C81-9047-A74DBFF48B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S Education in Experimental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ost natural and social sciences, experimental methodology and statistical analysis of results is specifically taught in laboratory or statistics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cientists receive virtually no formal training in basic experimental methodology or statistical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had to learn it from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sychologist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have to teach it in a C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raduat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urse!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 curricula assume theory is the only source of rig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ACB3-6290-4694-B083-3A3208D1DD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ilosophy and Methodology Matt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’s beliefs about the philosophy and methodology of computer scien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a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mpa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problems on which one chooses to wor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approach one takes to these problem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ne’s perception of the significance of results and the quality of others’ work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ne’s beliefs about the education and training of students and CS curriculum issu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650D-5B37-4420-9C9A-92ABBA79BC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isapplied Formalis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researchers misapply formal methods to fundamentally empiric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cular formal specification or input distribution is assumed and analy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evidence, this formalism is motivated by, or claimed to be relevant to, some important empirical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 is an insignificant theoretical result that has little or no bearing on the problem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mpirical problems, experimental evidence must be presented to demonstrate that a particular formalism truly characterizes the actual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6C73-2D5E-4F01-A33B-251EE526C3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eauty is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Our Primary Busines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ly, striving for elegant formalism leads some computer scientists to study mathematical problems that are mere caricatures of important empiric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focus on what can be proven and ignore the complexity of the real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ng theorems about caricatures of empirical problems contributes little to either theoretical or applied computer sc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 should focus on demonstrably solving interesting, important problems, not on formulating elegant formalisms that do not reflect re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5A68-23F0-4DC4-8844-DFC5D51FBE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epler vs. Kea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 Kepler wasted years of his life trying to model planetary orbits with elegant, beautiful circles before empirical data forced him to realize that astronomical reality was more compl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 Keats makes nice poetry but lousy sc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eauty is truth,              Beauty is in the eye of the beholde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uth beauty.                  Beauty is only skin deep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cience, truth is a theory that accurately predicts relevant empirical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809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684C-98D5-4171-9785-386A73C2A2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Analysis of Formal Probl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a problem may have a clear formal definition, theoretical analysis may currently be in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es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nlinear dynamic system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ellular autom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ndom satisfiability problem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experimental analysis may also be the best appro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tion may result in conjectures that may subsequently be pro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1D49F-B243-42ED-81D4-A865FFC62B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Mathema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njectures in mathematics originate from empirical observ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ermat’s last theor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oldbach’s conjectu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N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al aspects of mathematics have generally not been publicized or apprec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ly due to influence from computer science, mathematics has begun to embrace its experimental si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xperimental Mathematic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journal (started 1992)    (www.expmath.org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68CA-4E0B-4591-939C-6081E94B24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pistemolo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believe that mathematical proof is a fundamentally more trustworthy source of knowledge than experi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thematics as the “Queen of the science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believe this erroneous belief is based on a long tradition of rationalism that ignores the fact that mathematics is a human enterprise, and therefore equally based in the empiric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ism vs. empiricism is a 2,400 year long philosophical debate, which, apparently, continues today to impact computer science method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7F05-601A-4FFF-A0D1-EACC477114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pirical Basis of Mathema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athematical proofs rely on accepting a set of fundamental axioms without proo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 proved that eve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axioms of arithmetic can not be proven form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wsflash! (1931) “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l knocks Queen from throne”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humans are willing to accept these axioms based on intuitions that are based on empirical experience and/or innate pre-conceptions that have evolved to increase survival and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tuitions may be misl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n-Euclidian geometry and General Relativ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athematics: The Loss of Certaint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M. Kline, 1982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D801-9430-4EF3-B135-CC34B3F683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ilosophy of Mathema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lato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ystical belief in a non-material world of mathematical concepts to which humans somehow have infallible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believe a much more scientifically defensible view is that mathematics is based on human psychological processing that is grounded in the materi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commend the following recent boo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umber Sense: How the Mind Creates Mathematic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S. Dehaene, 2000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here Mathematics Comes From: How the Embodied Mind Brings Mathematics into Be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G. Lakoff &amp; R. Nu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z, 2001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The Math Gene: How Mathematical Thinking Evolve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K.J. Devlin, 2001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A9CA7-A5A1-4435-B498-C125ABABD0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diction to exaggerated formalist rhetoric, experimental computer science can be well-motivated and rigor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mputational problems are fundamentally empirical and properly approached using experimental methodolo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right thing to do is to prove a theorem, sometimes to run an e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theoretical CS, rigorous experimental CS is relatively imm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 in experimental CS requires changes to existing educational practice and curric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670D-06EA-42F0-8575-42785FA0A7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grams as Mathematical Objec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uter program is a formally defined mathematical object, i.e. a Turing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of such a mathematical object can be formally pro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rrectness according to a formal specificatio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rminatio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ime and space complexity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Worst case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verage case (assuming a formal specification of the input distribution)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F1D0-820A-464A-8348-3756721E4E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Dijkstra"/>
              </a:rPr>
              <a:t>Exaggerated Formalist Rhetoric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Dijks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jkstra"/>
              </a:rPr>
              <a:t>Since programs are formal mathematical objects, experiments and empirical analysis have no place in computer sc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Dijks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jkstra"/>
              </a:rPr>
              <a:t>Computer science is mathematics and consists of definitions, theorems, and proo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Dijks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jkstra"/>
              </a:rPr>
              <a:t>Without theorems, there is no rigorous science, just unprincipled hac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Dijks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jkstra"/>
              </a:rPr>
              <a:t>Students primarily need to be taught appropriate mathematics and how to prove theor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Dijks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jkstra"/>
              </a:rPr>
              <a:t>Students do not need to be taught experimental methodology appropriate for natural and social scien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D271-31B3-4552-A2DC-294556BEA7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al and Empirical Specif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have clear, mathematical, formal specif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se lend themselves to theoretical analysi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have “empirical” specifications that depend on physical (biological/psychological/social) phenomena that, at least currently, have no adequate mathematical formaliz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s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quir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perimental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nalysi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E4CB-B2ED-4F03-9F06-84A1AB9CBA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Tale of Two Bug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malists’ Poster 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Intel Pentium division bug illustrates a problem (floating-point division) that has a clear formal defin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perimentalists’ Poster 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pple Newton’s insufficiently accurate hand-writing recognition illustrates a problem whose specification relies on a psychological phenomenon with no known formalization: human visual perception of written langu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DFDB-F4A5-40B8-940D-23105C6A31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386080" cy="2490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5440" y="220968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43828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243828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3960" y="2209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5105520"/>
            <a:ext cx="6648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ijkstra"/>
              </a:rPr>
              <a:t>Only formal verification can prevent bugs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ijkstra"/>
              <a:ea typeface="Dijkstr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43160" y="4267080"/>
            <a:ext cx="65815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 CPU is a terrible thing to waste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0744-7573-4EDB-B8CB-687EB57A41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43480" y="1357200"/>
            <a:ext cx="1635120" cy="270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2120" y="23623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jkstra"/>
              </a:rPr>
              <a:t>Final exam 9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24382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24382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21640" y="2313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5943600"/>
            <a:ext cx="7581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ly experiments can ensure accurac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81080" y="4191120"/>
            <a:ext cx="5318280" cy="1541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16320" y="228600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no1 exon q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DF40-0E9D-4140-9FCD-E32B805786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alist $100K Challenge Problem!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believe that hand-writing recognition can be given a formal specification suitable for mathematical verification, then I strongly encourage you to write it dow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y life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ou can formulate such a specification and use it to develop and verify hand-writing recognition software and demonstrate perfect accuracy on a standard, realistic benchmark datase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will personally award you a $100,000 prize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CC22-7A61-43B5-BE1B-225EE681F7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J. Mooney</cp:lastModifiedBy>
  <dcterms:modified xsi:type="dcterms:W3CDTF">2004-09-07T00:05:11Z</dcterms:modified>
  <cp:revision>153</cp:revision>
  <dc:subject/>
  <dc:title>Intelligent Information Retrieval and Web Search</dc:title>
</cp:coreProperties>
</file>