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8522BE3A-DFB6-4163-93DD-ACA6C96D52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an outline slides for scissor overview, integrated model(augment Collins’s parsemodel),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internal node includes both a syntactic and semantic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PT captures the semantic interpretation of individual words and the basic predicate-argument structure of the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ll(null) – doesn’t has corresponding concepts in the target language, so it’s labeled as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nstituent , has th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the filler from its children which meet the argument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ive model defin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 learns a model of the joint probability, p(x,y) of the inputs x and the label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scriminative modelthe posterior p(y|x)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tree first, then the red rect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The estimation of the probability of each rule, for example,  S-&gt;NP VP, is separated into several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, then 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This is modeled as Markov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lc, then 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mod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subcat requirement is changed, do not expect an 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, stop to generate more lef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 righ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 generate a node, it must also generate the semantic part of the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item1, 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sub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the red rect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, then 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left syntactic/semantic, then right syntactic/sem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mod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subcat requirement is changed, do not expect an 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, stop to generate more lef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 right mod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 all * b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use one slide for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test on Clang corpora.  It’s also tested on an benchmark corpora of semantic par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Geoquery example: how many cities are there in the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– using the same evaluation method in previou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 using partial mat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esn’t make sense, player 2 instead of player 3, left instead of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ion, first show correct, then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 what’s precision, what’s re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LT-st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 Map string to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LT-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 tree to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e take syntax into account , but one doesn’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3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宋体"/>
              </a:rPr>
              <a:t>When given sufficient training data,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 SCISSOR outperforms all other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CHILL is slightly better than SCISSOR on recall, but much worse on pr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Maybe should give F measure, but need to introduce i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- So overall, Scissor output all oth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lvl="1" marL="457200">
              <a:spcBef>
                <a:spcPts val="3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宋体"/>
              </a:rPr>
              <a:t>When given sufficient training data,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  <a:ea typeface="宋体"/>
              </a:rPr>
              <a:t> SCISSOR outperforms all other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iller: They are not used to deal with the complex tasks as we did here in which multiple nested predicates must be extra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r task than ours which deal with multiple related predica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se: not work on complex meaning representation languages like Clang,  designed specifically for database inte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B958-1F93-4731-8C7E-7657651E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9C82-A6CA-4282-A4E6-CA3D6E805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365B-96C8-403B-8E8F-E8297BB7D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6DD8-6EA6-4349-BFAB-2216A796C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8CA69-B222-4EB0-86A7-5B9DF76A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0E4B2-3DF3-4747-82B2-486EA0E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F11E5-D8C9-4D69-BCD7-AE1F477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63A20-E28A-42A8-999F-8DC3A1B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F349-E3DE-4389-8B39-7E7C170C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5C10-8E33-4DAD-A484-3E368D35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AC0D-299F-409A-BFEF-A52A7DC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EF87-B2A3-4AD4-AAC6-A1EC17D5E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DF6B-5F0D-457E-9AB1-C9A3B4C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69A88-4F98-498A-B838-FFFEE92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6DED0-CF11-4336-81E2-06C223DC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35CD-5534-4B0F-89AF-936570EC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E9877-70B0-4D99-8B4E-517067C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3B25-77C5-43C0-810D-1A950194F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C388-9191-4C57-A19B-B4FDA452C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A8F1-1619-44B5-9E4E-0520F06DF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1CB6-37B8-43A3-90A0-A3BD941A3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551D-DF1E-4A3B-BD8C-86925B1F5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00D9-3A3D-4BEA-97A0-AEE56C997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8C83-056A-4CCE-9F8D-65183E71D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805-60DF-4565-9FDC-AF21731C53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6D0-4AC7-4C40-8920-E35EBAB57A80}" type="slidenum">
              <a:rPr b="1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7E83-01BF-4CA2-ACCC-C5B4993ECB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earning for Semantic Parsing of Natural Lang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54160" y="607860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63960" y="617220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ly 3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6160" y="2430360"/>
            <a:ext cx="4403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ifang Ge, Rohit Kate, Yuk Wah W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Zelle, Cynth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ur Semantic-Parser Learner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L+WOLFI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Zelle &amp; Mooney, 1996; Thompson &amp; Mooney, 1999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eparates parser-learning and semantic-lexicon learning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earns a deterministic parser using ILP techniques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T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Kate, Wong &amp; Mooney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earns symbolic transformation rules for mapping directly from NL to LF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SS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Ge &amp; Mooney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tegrates semantic interpretation into a statistical syntactic parser (Collins model-3)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L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Zelle &amp; Mooney, 1992-96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 acquisition system using Inductive Logic Programming (ILP) to induce a parser written in Pro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a parsing “shell” written in Prolog and learns to control the operators of this parser to produce the given I/O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 semantic lexicon, which for each word gives one or more possible semantic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must disambiguate words, introduce proper semantic representations for each, and then put them together in the right way to produce a proper representation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ILL Examp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Geographical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ample training pair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u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ál es el capital del estado con la población más grande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nswer(C, (capital(S,C), largest(P, (state(S), population(S,P))))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ample semantic lexic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u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ál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:             answer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apital:          capital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estado:           state(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ás grande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:  largest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blación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:     population(_,_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LFI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hompson &amp; Mooney, 1995-1999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s a semantic lexicon for CHILL from the same corpus of semantically annotated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hypotheses for word meanings by 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st isomorphic common subgra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by meanings of sentences in which the word app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greedy-covering style algorithm to learn a small lexicon sufficient to allow compositional construction of the correct representation from the word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LFIE + CHILL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mantic Parser Acquisi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93640" y="173952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81280" y="1910160"/>
            <a:ext cx="2590920" cy="703800"/>
            <a:chOff x="3581280" y="1910160"/>
            <a:chExt cx="2590920" cy="703800"/>
          </a:xfrm>
        </p:grpSpPr>
        <p:sp>
          <p:nvSpPr>
            <p:cNvPr id="164" name=""/>
            <p:cNvSpPr/>
            <p:nvPr/>
          </p:nvSpPr>
          <p:spPr>
            <a:xfrm>
              <a:off x="4267080" y="1910160"/>
              <a:ext cx="19051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LF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xicon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2209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024280" y="5397120"/>
            <a:ext cx="2395440" cy="994680"/>
            <a:chOff x="2024280" y="5397120"/>
            <a:chExt cx="2395440" cy="994680"/>
          </a:xfrm>
        </p:grpSpPr>
        <p:sp>
          <p:nvSpPr>
            <p:cNvPr id="167" name=""/>
            <p:cNvSpPr/>
            <p:nvPr/>
          </p:nvSpPr>
          <p:spPr>
            <a:xfrm>
              <a:off x="2024280" y="539712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7600" y="5867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72200" y="5473440"/>
            <a:ext cx="1704240" cy="994680"/>
            <a:chOff x="6172200" y="5473440"/>
            <a:chExt cx="1704240" cy="994680"/>
          </a:xfrm>
        </p:grpSpPr>
        <p:sp>
          <p:nvSpPr>
            <p:cNvPr id="170" name=""/>
            <p:cNvSpPr/>
            <p:nvPr/>
          </p:nvSpPr>
          <p:spPr>
            <a:xfrm>
              <a:off x="6522480" y="547344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2200" y="5943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63280" y="2590920"/>
            <a:ext cx="1684440" cy="1438920"/>
            <a:chOff x="4463280" y="2590920"/>
            <a:chExt cx="1684440" cy="1438920"/>
          </a:xfrm>
        </p:grpSpPr>
        <p:sp>
          <p:nvSpPr>
            <p:cNvPr id="173" name=""/>
            <p:cNvSpPr/>
            <p:nvPr/>
          </p:nvSpPr>
          <p:spPr>
            <a:xfrm>
              <a:off x="4463280" y="3035160"/>
              <a:ext cx="168444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manti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xi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7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419720" y="5105520"/>
            <a:ext cx="1752480" cy="1242360"/>
            <a:chOff x="4419720" y="5105520"/>
            <a:chExt cx="1752480" cy="1242360"/>
          </a:xfrm>
        </p:grpSpPr>
        <p:sp>
          <p:nvSpPr>
            <p:cNvPr id="176" name=""/>
            <p:cNvSpPr/>
            <p:nvPr/>
          </p:nvSpPr>
          <p:spPr>
            <a:xfrm>
              <a:off x="4419720" y="564408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5105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90920" y="2727360"/>
            <a:ext cx="3657600" cy="2401200"/>
            <a:chOff x="2590920" y="2727360"/>
            <a:chExt cx="3657600" cy="2401200"/>
          </a:xfrm>
        </p:grpSpPr>
        <p:sp>
          <p:nvSpPr>
            <p:cNvPr id="179" name=""/>
            <p:cNvSpPr/>
            <p:nvPr/>
          </p:nvSpPr>
          <p:spPr>
            <a:xfrm>
              <a:off x="4343400" y="4424760"/>
              <a:ext cx="19051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2727360"/>
              <a:ext cx="213336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 us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n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retation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sform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attern-based transformation rules which map natural language phrases to formal language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are repeatedly applied to the sentence to construct  its formal language ex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mal Language Gramma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L:      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If our player 4 has the ball, our player 4 should sh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ng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(bowner our {4}) (do our {4} shoot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ng Pa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UL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CONDITION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IV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do TEAM UNUM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sh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85800" y="2209680"/>
            <a:ext cx="7239240" cy="2140560"/>
            <a:chOff x="685800" y="2209680"/>
            <a:chExt cx="7239240" cy="2140560"/>
          </a:xfrm>
        </p:grpSpPr>
        <p:sp>
          <p:nvSpPr>
            <p:cNvPr id="187" name=""/>
            <p:cNvSpPr/>
            <p:nvPr/>
          </p:nvSpPr>
          <p:spPr>
            <a:xfrm>
              <a:off x="3381120" y="22096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160" y="280836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720" y="2808360"/>
              <a:ext cx="153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5880" y="341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6440" y="341784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720" y="34178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82760" y="341784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341784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bow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0960" y="341784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0240" y="34178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8120" y="38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5520" y="395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7280" y="38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21000" y="38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387504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665080" y="2502000"/>
              <a:ext cx="114300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2503440"/>
              <a:ext cx="1752480" cy="380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294920" y="3112920"/>
              <a:ext cx="106668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311292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1960" y="3112920"/>
              <a:ext cx="91440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3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67080" y="3112920"/>
              <a:ext cx="129528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33400" y="3112920"/>
              <a:ext cx="22860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360" y="3112920"/>
              <a:ext cx="60984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360" y="3112920"/>
              <a:ext cx="167652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148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3646440"/>
              <a:ext cx="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1160" y="37227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formation Rule Represent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has two components: a natural languag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associated formal languag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tring-based rules: used to convert natural language sentence directly to formal languag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ree-based rules: used to convert syntactic tree to formal languag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3276720"/>
          <a:ext cx="7467480" cy="1063440"/>
        </p:xfrm>
        <a:graphic>
          <a:graphicData uri="http://schemas.openxmlformats.org/drawingml/2006/table">
            <a:tbl>
              <a:tblPr/>
              <a:tblGrid>
                <a:gridCol w="2133720"/>
                <a:gridCol w="53337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-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has [1] 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4038480"/>
          <a:ext cx="6934320" cy="2657520"/>
        </p:xfrm>
        <a:graphic>
          <a:graphicData uri="http://schemas.openxmlformats.org/drawingml/2006/table">
            <a:tbl>
              <a:tblPr/>
              <a:tblGrid>
                <a:gridCol w="1447920"/>
                <a:gridCol w="54864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e-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3126240" y="4038480"/>
            <a:ext cx="4844520" cy="2227680"/>
            <a:chOff x="3126240" y="4038480"/>
            <a:chExt cx="4844520" cy="2227680"/>
          </a:xfrm>
        </p:grpSpPr>
        <p:sp>
          <p:nvSpPr>
            <p:cNvPr id="221" name=""/>
            <p:cNvSpPr/>
            <p:nvPr/>
          </p:nvSpPr>
          <p:spPr>
            <a:xfrm>
              <a:off x="3735720" y="4648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2680" y="450684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2800" y="49640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VB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6120" y="49528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8560" y="5410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21400" y="54212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1880" y="5867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3320" y="5867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800" y="54100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6240" y="51814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5880" y="518148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113360" y="4343400"/>
              <a:ext cx="915840" cy="3826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4343400"/>
              <a:ext cx="129528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657240" y="4952880"/>
              <a:ext cx="30492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2520" y="4952880"/>
              <a:ext cx="60948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714640" y="4800600"/>
              <a:ext cx="68580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4800600"/>
              <a:ext cx="76212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52578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81320" y="5257800"/>
              <a:ext cx="38124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2920" y="5257800"/>
              <a:ext cx="45720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57150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6080" y="57150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720" y="4038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Arial"/>
                  <a:ea typeface="宋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65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281952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  <a:ea typeface="宋体"/>
              </a:rPr>
              <a:t>word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19560" y="312408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u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layer  4  has  the  ball,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ur  player  4  should  sh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has  the  ball,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should  shoot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1068120" y="1295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8360" y="1295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03240" y="1316160"/>
            <a:ext cx="901440" cy="1008000"/>
            <a:chOff x="903240" y="1316160"/>
            <a:chExt cx="901440" cy="1008000"/>
          </a:xfrm>
        </p:grpSpPr>
        <p:sp>
          <p:nvSpPr>
            <p:cNvPr id="266" name=""/>
            <p:cNvSpPr/>
            <p:nvPr/>
          </p:nvSpPr>
          <p:spPr>
            <a:xfrm>
              <a:off x="90324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3004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864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270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ntac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research in natural-language learning has addressed “low-level” syntactic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rphology (e.g. past-tense generatio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t-of-speech tagg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hallow 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ntactic pars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has  the  ball,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player  4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887400" y="1316160"/>
            <a:ext cx="901440" cy="1008000"/>
            <a:chOff x="887400" y="1316160"/>
            <a:chExt cx="901440" cy="1008000"/>
          </a:xfrm>
        </p:grpSpPr>
        <p:sp>
          <p:nvSpPr>
            <p:cNvPr id="282" name=""/>
            <p:cNvSpPr/>
            <p:nvPr/>
          </p:nvSpPr>
          <p:spPr>
            <a:xfrm>
              <a:off x="8874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42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428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286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7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298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02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52480" y="1295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lay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1295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lay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08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12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shoot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24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28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32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36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340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1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52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56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60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64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568640" y="128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h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 has  the  ball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377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381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385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389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393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916200" y="1316160"/>
            <a:ext cx="901440" cy="1008000"/>
            <a:chOff x="916200" y="1316160"/>
            <a:chExt cx="901440" cy="1008000"/>
          </a:xfrm>
        </p:grpSpPr>
        <p:sp>
          <p:nvSpPr>
            <p:cNvPr id="405" name=""/>
            <p:cNvSpPr/>
            <p:nvPr/>
          </p:nvSpPr>
          <p:spPr>
            <a:xfrm>
              <a:off x="9162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30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716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09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06200" y="1316160"/>
            <a:ext cx="959400" cy="1008000"/>
            <a:chOff x="1906200" y="1316160"/>
            <a:chExt cx="959400" cy="1008000"/>
          </a:xfrm>
        </p:grpSpPr>
        <p:sp>
          <p:nvSpPr>
            <p:cNvPr id="413" name=""/>
            <p:cNvSpPr/>
            <p:nvPr/>
          </p:nvSpPr>
          <p:spPr>
            <a:xfrm>
              <a:off x="190620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00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907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17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21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856600" y="129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has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th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26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should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7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38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42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46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50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1" name=""/>
          <p:cNvGrpSpPr/>
          <p:nvPr/>
        </p:nvGrpSpPr>
        <p:grpSpPr>
          <a:xfrm>
            <a:off x="4573800" y="1316160"/>
            <a:ext cx="901440" cy="1008000"/>
            <a:chOff x="4573800" y="1316160"/>
            <a:chExt cx="901440" cy="1008000"/>
          </a:xfrm>
        </p:grpSpPr>
        <p:sp>
          <p:nvSpPr>
            <p:cNvPr id="462" name=""/>
            <p:cNvSpPr/>
            <p:nvPr/>
          </p:nvSpPr>
          <p:spPr>
            <a:xfrm>
              <a:off x="4573800" y="131616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0600" y="19252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292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639760" y="1316160"/>
            <a:ext cx="959400" cy="1008000"/>
            <a:chOff x="5639760" y="1316160"/>
            <a:chExt cx="959400" cy="1008000"/>
          </a:xfrm>
        </p:grpSpPr>
        <p:sp>
          <p:nvSpPr>
            <p:cNvPr id="466" name=""/>
            <p:cNvSpPr/>
            <p:nvPr/>
          </p:nvSpPr>
          <p:spPr>
            <a:xfrm>
              <a:off x="5639760" y="1316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01560" y="192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2432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468560" y="1316160"/>
            <a:ext cx="1143720" cy="1008000"/>
            <a:chOff x="7468560" y="1316160"/>
            <a:chExt cx="1143720" cy="1008000"/>
          </a:xfrm>
        </p:grpSpPr>
        <p:sp>
          <p:nvSpPr>
            <p:cNvPr id="470" name=""/>
            <p:cNvSpPr/>
            <p:nvPr/>
          </p:nvSpPr>
          <p:spPr>
            <a:xfrm>
              <a:off x="7468560" y="131616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08320" y="192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4348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74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09960" y="1278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479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,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0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491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495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ample of 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f                                               ,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914400" y="3276720"/>
          <a:ext cx="1474920" cy="825480"/>
        </p:xfrm>
        <a:graphic>
          <a:graphicData uri="http://schemas.openxmlformats.org/drawingml/2006/table">
            <a:tbl>
              <a:tblPr/>
              <a:tblGrid>
                <a:gridCol w="14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429000" y="3276720"/>
          <a:ext cx="1335240" cy="838080"/>
        </p:xfrm>
        <a:graphic>
          <a:graphicData uri="http://schemas.openxmlformats.org/drawingml/2006/table">
            <a:tbl>
              <a:tblPr/>
              <a:tblGrid>
                <a:gridCol w="1335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laye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UM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9920" y="3276720"/>
          <a:ext cx="1766880" cy="83808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04920" y="4419720"/>
          <a:ext cx="4309920" cy="1041120"/>
        </p:xfrm>
        <a:graphic>
          <a:graphicData uri="http://schemas.openxmlformats.org/drawingml/2006/table">
            <a:tbl>
              <a:tblPr/>
              <a:tblGrid>
                <a:gridCol w="430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as [1] 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owner TEAM {UNUM}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2286000" y="5638680"/>
          <a:ext cx="4710240" cy="1041480"/>
        </p:xfrm>
        <a:graphic>
          <a:graphicData uri="http://schemas.openxmlformats.org/drawingml/2006/table">
            <a:tbl>
              <a:tblPr/>
              <a:tblGrid>
                <a:gridCol w="4710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AM UN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hould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do TEAM {UNUM}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952880" y="4419720"/>
          <a:ext cx="3805200" cy="104112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RECTIVE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ULE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CONDITION DIRE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1824840" y="1316160"/>
            <a:ext cx="1959120" cy="1008000"/>
            <a:chOff x="1824840" y="1316160"/>
            <a:chExt cx="1959120" cy="1008000"/>
          </a:xfrm>
        </p:grpSpPr>
        <p:sp>
          <p:nvSpPr>
            <p:cNvPr id="507" name=""/>
            <p:cNvSpPr/>
            <p:nvPr/>
          </p:nvSpPr>
          <p:spPr>
            <a:xfrm>
              <a:off x="1965600" y="1316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4840" y="19252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bowner our {4}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69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481360" y="1316160"/>
            <a:ext cx="2066040" cy="1008000"/>
            <a:chOff x="5481360" y="1316160"/>
            <a:chExt cx="2066040" cy="1008000"/>
          </a:xfrm>
        </p:grpSpPr>
        <p:sp>
          <p:nvSpPr>
            <p:cNvPr id="511" name=""/>
            <p:cNvSpPr/>
            <p:nvPr/>
          </p:nvSpPr>
          <p:spPr>
            <a:xfrm>
              <a:off x="5714640" y="131616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DIR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81360" y="1925280"/>
              <a:ext cx="20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do our {4} shoo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856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968840" y="1316160"/>
            <a:ext cx="4079160" cy="1008000"/>
            <a:chOff x="1968840" y="1316160"/>
            <a:chExt cx="4079160" cy="1008000"/>
          </a:xfrm>
        </p:grpSpPr>
        <p:sp>
          <p:nvSpPr>
            <p:cNvPr id="515" name=""/>
            <p:cNvSpPr/>
            <p:nvPr/>
          </p:nvSpPr>
          <p:spPr>
            <a:xfrm>
              <a:off x="3538800" y="131616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68840" y="1925280"/>
              <a:ext cx="40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((bowner our {4}) (do our {4} shoot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65400" y="1620720"/>
              <a:ext cx="0" cy="38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Natural Language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1393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for semantic analysis has been restricted to relatively small, isolated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d sense disambiguation (e.g. SENSEVAL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mantic role assignment (determining agent, patient, instrument, etc., e.g. FrameNet, PropBank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formation extrac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Transformation Rul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uces rules from a corpora of NL sentences paired with their formal 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 are learned for each production by bottom-up rul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ose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 formal representations’ parses use that produc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remaining sentence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es greedy-covering,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bottom-up rule in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ethod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ly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generalizes pos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hey start covering nega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2209680"/>
            <a:ext cx="380988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all is in REGION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 REGION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ball is in the REGION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ball is in the REGION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it is in RP1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side rectangle ( -54 , -36 , 0 , 36 )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it is in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4280" y="2209680"/>
            <a:ext cx="381024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20600" y="144792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438280" y="1752480"/>
            <a:ext cx="152424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66320" y="1714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20280" y="17524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05160" y="1633680"/>
            <a:ext cx="2286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175248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String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os 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position player UNUM at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the ball is in REGION, position player UNUM near the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ighest scoring common sub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371600" y="4495680"/>
                <a:ext cx="6095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or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ps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String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os 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osition player U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the ball is in REGION,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osition player U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ar the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ighest scoring common sub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Generalization:</a:t>
            </a: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6600"/>
                </a:solidFill>
                <a:latin typeface="Times New Roman"/>
              </a:rPr>
              <a:t>position player UNUM [2]  REG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371600" y="4495680"/>
                <a:ext cx="6095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or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ps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Tree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enalty-area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                                    Patte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mon subgraphs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59880" y="2174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2720" y="30481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983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841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29160" y="3699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19160" y="369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560" y="36576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43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05120" y="25909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2590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43200" y="25909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52352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2880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4560" y="4040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18600" y="4267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7964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36600" y="2860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P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0704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512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77480" y="3470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0536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90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324480" y="2590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590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25909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15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296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ation of Tree Patter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O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penalty-area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attern 1:                                    Patte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mon subgraphs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59880" y="2174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2720" y="30481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983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4160" y="3048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29160" y="3699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19160" y="369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90560" y="36576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43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905120" y="2590920"/>
            <a:ext cx="83808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2590920"/>
            <a:ext cx="45720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43200" y="2590920"/>
            <a:ext cx="106668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523520" y="3352680"/>
            <a:ext cx="30492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86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4560" y="4040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18600" y="4267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7964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6600" y="2860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P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0704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5120" y="2860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77480" y="3470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0536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49080" y="3429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324480" y="2590920"/>
            <a:ext cx="4572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590920"/>
            <a:ext cx="45720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2590920"/>
            <a:ext cx="13716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320040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15200" y="320040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296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8920" y="4572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50480" y="57913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70160" y="5181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15000" y="5791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32280" y="5181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486400" y="4911840"/>
            <a:ext cx="28584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72240" y="4911840"/>
            <a:ext cx="32364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72240" y="4911840"/>
            <a:ext cx="1085760" cy="3459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556272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48680" y="56037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宋体"/>
              </a:rPr>
              <a:t>Gener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96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105160" y="5486400"/>
            <a:ext cx="22860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1905120"/>
            <a:ext cx="380988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42120" y="114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361960" y="1447920"/>
            <a:ext cx="152388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90360" y="14097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43960" y="1447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96440" y="441972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-up Rule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19720" y="4800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30280" y="4005360"/>
            <a:ext cx="201312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647960" y="4005360"/>
            <a:ext cx="195876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144792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91440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ball is [2]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87692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it is in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"/>
          <p:cNvGrpSpPr/>
          <p:nvPr/>
        </p:nvGrpSpPr>
        <p:grpSpPr>
          <a:xfrm>
            <a:off x="1371600" y="1951200"/>
            <a:ext cx="2895480" cy="1479240"/>
            <a:chOff x="1371600" y="1951200"/>
            <a:chExt cx="2895480" cy="1479240"/>
          </a:xfrm>
        </p:grpSpPr>
        <p:sp>
          <p:nvSpPr>
            <p:cNvPr id="627" name=""/>
            <p:cNvSpPr/>
            <p:nvPr/>
          </p:nvSpPr>
          <p:spPr>
            <a:xfrm>
              <a:off x="1371600" y="1951200"/>
              <a:ext cx="99072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42880" y="2211480"/>
              <a:ext cx="914400" cy="120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38280" y="2468520"/>
              <a:ext cx="1143000" cy="12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24080" y="2743200"/>
              <a:ext cx="1143000" cy="12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15880" y="3308400"/>
              <a:ext cx="1143000" cy="12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28600" y="3170160"/>
            <a:ext cx="3138480" cy="531720"/>
            <a:chOff x="1128600" y="3170160"/>
            <a:chExt cx="3138480" cy="531720"/>
          </a:xfrm>
        </p:grpSpPr>
        <p:sp>
          <p:nvSpPr>
            <p:cNvPr id="633" name=""/>
            <p:cNvSpPr/>
            <p:nvPr/>
          </p:nvSpPr>
          <p:spPr>
            <a:xfrm>
              <a:off x="3352680" y="3581280"/>
              <a:ext cx="914400" cy="120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28600" y="3170160"/>
              <a:ext cx="83844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685800" y="1905120"/>
            <a:ext cx="38685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all is in REGION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 REGION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 ball is in the REGION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ball is in the REGION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it is in REG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ball is inside REGION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 it is in REGION 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 Pro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1905120"/>
            <a:ext cx="380988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our player 6 has the ball then he should take a shot on go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layer 4 has the ball , it should pass the ball to player 2 or 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DR5C3 is true , then player 2 , 3 , 7 and 8 should pass the ball to player 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play on , if players 6 , 7 or 8 is in REGION , they should pass the ball to players 9 , 10 or 1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"Clear_Condition" , players 2 , 3 , 7 or 5 should clear the ball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it is before the kick off , after our goal or after the opponent's goal , position player 3 at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condition MDR4C9 is met , then players 4-6 should pass the ball to player 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Pass_11 then player 11 should pass to player 9 and no one el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42120" y="114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DITION 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(bpos REG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361960" y="1447920"/>
            <a:ext cx="152388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0360" y="14097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43960" y="14479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96440" y="441972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-up Rule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4800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30280" y="4005360"/>
            <a:ext cx="201312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647960" y="4005360"/>
            <a:ext cx="1958760" cy="4903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2880" y="1447920"/>
            <a:ext cx="167652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91440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ball is [2]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876920" y="5410080"/>
          <a:ext cx="3352680" cy="8636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it is in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bpos REG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>
            <a:off x="685800" y="1905120"/>
            <a:ext cx="38685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, our player 7 is in REGION and no opponent is around our player 7 within 1.5 dist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and not in REGION then player 3 should intercept the bal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ring normal play if the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then player 7 , 9 and 11 should dribble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the play mode is normal and the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then our player 2 should pass the ball to the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players except the goalie should pass the ball to REGION if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the   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then player 10 should position itself at REGION with a ball attraction of REGION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yer 2 should pass the ball to REGION if   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le Learning for All Produ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rules for productions should cooperate globally to generate complete semantic pa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ly cover every positive example by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r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ubset of these rules which best cooperate to generate complete semantic parses on the training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752480" y="3962520"/>
            <a:ext cx="4724280" cy="1344600"/>
            <a:chOff x="1752480" y="3962520"/>
            <a:chExt cx="4724280" cy="134460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1752480" y="4496040"/>
                  <a:ext cx="47242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oodness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pos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 rot="5278800">
              <a:off x="3847680" y="415296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5326800">
              <a:off x="5409720" y="3656520"/>
              <a:ext cx="228600" cy="175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360 h 1752120"/>
                <a:gd name="textAreaBottom" fmla="*/ 1706760 h 17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6360" y="403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cover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52520" y="39625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accu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a fairly standard approach to compositional semantics [Jurafsky and Martin, 2000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 statistical parser is used to generate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ally augmented parse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AP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ugment Collins’ head-driven model 2 (Bikel’s implementation, 2004) to incorporate semantic label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late SAPT into a complete formal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eaning repres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M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CISS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mposition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tegrate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yntax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mantics to ge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ptimal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presen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28560" y="228600"/>
            <a:ext cx="587520" cy="990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2133720" y="52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R: bowner(player(our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10680" y="3543480"/>
            <a:ext cx="6621840" cy="2096640"/>
            <a:chOff x="1210680" y="3543480"/>
            <a:chExt cx="6621840" cy="2096640"/>
          </a:xfrm>
        </p:grpSpPr>
        <p:sp>
          <p:nvSpPr>
            <p:cNvPr id="664" name=""/>
            <p:cNvSpPr/>
            <p:nvPr/>
          </p:nvSpPr>
          <p:spPr>
            <a:xfrm>
              <a:off x="15271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6104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6100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5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530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020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106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5512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7840" y="44128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49680" y="44128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89600" y="484488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252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45000" y="44128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268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199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7360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556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4488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5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786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198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4624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0448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92800" y="3803400"/>
              <a:ext cx="11300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19778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44880" y="4184280"/>
              <a:ext cx="144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448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4068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864400" y="4108320"/>
              <a:ext cx="8474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32448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580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223280" y="3543480"/>
            <a:ext cx="6622200" cy="2096640"/>
            <a:chOff x="1223280" y="3543480"/>
            <a:chExt cx="6622200" cy="2096640"/>
          </a:xfrm>
        </p:grpSpPr>
        <p:sp>
          <p:nvSpPr>
            <p:cNvPr id="696" name=""/>
            <p:cNvSpPr/>
            <p:nvPr/>
          </p:nvSpPr>
          <p:spPr>
            <a:xfrm>
              <a:off x="1539720" y="48146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74000" y="4814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3960" y="48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80160" y="4814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65640" y="5271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14680" y="52718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23280" y="441288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68080" y="44128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0440" y="4412880"/>
              <a:ext cx="109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62640" y="4412880"/>
              <a:ext cx="12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02920" y="4844880"/>
              <a:ext cx="8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45480" y="48448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57600" y="4412880"/>
              <a:ext cx="88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5640" y="387972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2520" y="38797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86560" y="35434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852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57480" y="471780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48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91200" y="4717800"/>
              <a:ext cx="14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32400" y="5181480"/>
              <a:ext cx="1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7475040" y="5184360"/>
              <a:ext cx="180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057480" y="3803400"/>
              <a:ext cx="12016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05400" y="3803400"/>
              <a:ext cx="11304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990440" y="4184280"/>
              <a:ext cx="98892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57480" y="4184280"/>
              <a:ext cx="180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57480" y="4184280"/>
              <a:ext cx="7779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5419440" y="4108320"/>
              <a:ext cx="4237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7000" y="4108320"/>
              <a:ext cx="847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37080" y="4647960"/>
              <a:ext cx="53316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0600" y="4647960"/>
              <a:ext cx="533520" cy="3045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mantic Pars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natural-language sentence to a complete, detailed semantic representation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gic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the desired outpu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 application dom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RoboCup Coach Language 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A Database Query Application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verview of 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CISSO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33840" y="2133720"/>
            <a:ext cx="24764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ted Semantic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41148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62120" y="2270160"/>
            <a:ext cx="2286000" cy="2532600"/>
            <a:chOff x="762120" y="2270160"/>
            <a:chExt cx="2286000" cy="2532600"/>
          </a:xfrm>
        </p:grpSpPr>
        <p:sp>
          <p:nvSpPr>
            <p:cNvPr id="731" name=""/>
            <p:cNvSpPr/>
            <p:nvPr/>
          </p:nvSpPr>
          <p:spPr>
            <a:xfrm>
              <a:off x="762120" y="2270160"/>
              <a:ext cx="22860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 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29240" y="3048120"/>
            <a:ext cx="2286000" cy="914400"/>
            <a:chOff x="4629240" y="3048120"/>
            <a:chExt cx="2286000" cy="914400"/>
          </a:xfrm>
        </p:grpSpPr>
        <p:sp>
          <p:nvSpPr>
            <p:cNvPr id="734" name=""/>
            <p:cNvSpPr/>
            <p:nvPr/>
          </p:nvSpPr>
          <p:spPr>
            <a:xfrm>
              <a:off x="4629240" y="3581280"/>
              <a:ext cx="228600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72240" y="3048120"/>
              <a:ext cx="0" cy="45720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533840" y="3962520"/>
            <a:ext cx="2476440" cy="1371600"/>
            <a:chOff x="4533840" y="3962520"/>
            <a:chExt cx="2476440" cy="1371600"/>
          </a:xfrm>
        </p:grpSpPr>
        <p:sp>
          <p:nvSpPr>
            <p:cNvPr id="737" name=""/>
            <p:cNvSpPr/>
            <p:nvPr/>
          </p:nvSpPr>
          <p:spPr>
            <a:xfrm>
              <a:off x="4533840" y="457200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mpose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72240" y="39625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591080" y="5334120"/>
            <a:ext cx="2362320" cy="1218960"/>
            <a:chOff x="4591080" y="5334120"/>
            <a:chExt cx="2362320" cy="1218960"/>
          </a:xfrm>
        </p:grpSpPr>
        <p:sp>
          <p:nvSpPr>
            <p:cNvPr id="740" name=""/>
            <p:cNvSpPr/>
            <p:nvPr/>
          </p:nvSpPr>
          <p:spPr>
            <a:xfrm>
              <a:off x="4591080" y="5943600"/>
              <a:ext cx="2362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72240" y="5334120"/>
              <a:ext cx="0" cy="60948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8080" y="1127160"/>
            <a:ext cx="6229440" cy="3675600"/>
            <a:chOff x="838080" y="1127160"/>
            <a:chExt cx="6229440" cy="3675600"/>
          </a:xfrm>
        </p:grpSpPr>
        <p:sp>
          <p:nvSpPr>
            <p:cNvPr id="743" name=""/>
            <p:cNvSpPr/>
            <p:nvPr/>
          </p:nvSpPr>
          <p:spPr>
            <a:xfrm>
              <a:off x="5772240" y="1736640"/>
              <a:ext cx="0" cy="38124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6600" y="1127160"/>
              <a:ext cx="25909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L Sen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8080" y="4403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048120" y="2209680"/>
            <a:ext cx="1600200" cy="381240"/>
            <a:chOff x="3048120" y="2209680"/>
            <a:chExt cx="1600200" cy="381240"/>
          </a:xfrm>
        </p:grpSpPr>
        <p:sp>
          <p:nvSpPr>
            <p:cNvPr id="747" name=""/>
            <p:cNvSpPr/>
            <p:nvPr/>
          </p:nvSpPr>
          <p:spPr>
            <a:xfrm>
              <a:off x="3048120" y="259092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6720" y="2209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54880" y="3056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45600" y="3056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45680" y="23702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1800" y="23702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91480" y="1714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95800" y="3044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92320" y="23702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oseM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25200" y="3597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5000" y="3597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66880" y="35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32080" y="359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79200" y="4098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73680" y="40989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98920" y="3056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96040" y="30560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76880" y="3056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u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692240" y="30560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056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72240" y="35942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64080" y="23702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57280" y="171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272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1468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4004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34876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45240" y="4000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947000" y="4002120"/>
            <a:ext cx="14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819520" y="209556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48320" y="209556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6705360" y="33908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3390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600" y="270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62320" y="27050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2320" y="270504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4100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27050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9440" y="3032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9440" y="3048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7720" y="23623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990720" y="2743200"/>
            <a:ext cx="2971440" cy="2622960"/>
            <a:chOff x="990720" y="2743200"/>
            <a:chExt cx="2971440" cy="2622960"/>
          </a:xfrm>
        </p:grpSpPr>
        <p:sp>
          <p:nvSpPr>
            <p:cNvPr id="848" name=""/>
            <p:cNvSpPr/>
            <p:nvPr/>
          </p:nvSpPr>
          <p:spPr>
            <a:xfrm flipV="1">
              <a:off x="1371600" y="2743200"/>
              <a:ext cx="8380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2742840" y="2743200"/>
              <a:ext cx="121932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496728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player(team,unu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675440" y="236232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player(our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38320" y="23464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65200" y="17366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990720" y="2133720"/>
            <a:ext cx="3276360" cy="3430800"/>
            <a:chOff x="990720" y="2133720"/>
            <a:chExt cx="3276360" cy="3430800"/>
          </a:xfrm>
        </p:grpSpPr>
        <p:sp>
          <p:nvSpPr>
            <p:cNvPr id="855" name=""/>
            <p:cNvSpPr/>
            <p:nvPr/>
          </p:nvSpPr>
          <p:spPr>
            <a:xfrm>
              <a:off x="990720" y="51656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bowner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819520" y="2133720"/>
              <a:ext cx="1447560" cy="3045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3452760" y="16765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bowner(player(our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llins’ Head-Driven Model 2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generative, lexicaliz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node on the tree has a syntactic label, it is also lexicalized with its head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229040" y="3119400"/>
            <a:ext cx="6286320" cy="2673720"/>
            <a:chOff x="1229040" y="3119400"/>
            <a:chExt cx="6286320" cy="2673720"/>
          </a:xfrm>
        </p:grpSpPr>
        <p:sp>
          <p:nvSpPr>
            <p:cNvPr id="861" name=""/>
            <p:cNvSpPr/>
            <p:nvPr/>
          </p:nvSpPr>
          <p:spPr>
            <a:xfrm>
              <a:off x="1323720" y="53942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8920" y="53942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70200" y="5394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60560" y="53942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48920" y="53942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7240" y="53942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29040" y="49687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6348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0352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23200" y="4968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3120" y="4968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22800" y="49687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37560" y="451152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29920" y="39574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76120" y="395748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62720" y="31194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4160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60560" y="53290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5128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9428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3584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289560" y="4871880"/>
              <a:ext cx="3542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70800" y="4871880"/>
              <a:ext cx="33948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37440" y="53290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952520" y="4262400"/>
              <a:ext cx="68580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42624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599840" y="433872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19520" y="433872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19520" y="4338720"/>
              <a:ext cx="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95120" y="3500280"/>
              <a:ext cx="1295640" cy="5335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91120" y="3500280"/>
              <a:ext cx="1523880" cy="5335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752480" y="3124080"/>
            <a:ext cx="51055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160" y="4343400"/>
            <a:ext cx="176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48040" y="2879640"/>
            <a:ext cx="8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NP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4240" y="4802040"/>
            <a:ext cx="23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NP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09440" y="4800600"/>
            <a:ext cx="22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48040" y="2879640"/>
            <a:ext cx="8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NP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2800" y="5334120"/>
            <a:ext cx="426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NP(play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LEFT, {NP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2800" y="5334120"/>
            <a:ext cx="426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9708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828440" y="22860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960" y="5334120"/>
            <a:ext cx="439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74400" y="5334120"/>
            <a:ext cx="348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LEFT, 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: RoboCu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oa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an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uag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80" y="5502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C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76720"/>
            <a:ext cx="3657600" cy="1371600"/>
          </a:xfrm>
          <a:prstGeom prst="wedgeEllipseCallout">
            <a:avLst>
              <a:gd name="adj1" fmla="val -61240"/>
              <a:gd name="adj2" fmla="val 27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宋体"/>
              </a:rPr>
              <a:t>If the ball is in our penalty area, then all our players except player 4 should stay in our hal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5349960"/>
            <a:ext cx="422424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Gulim"/>
                <a:ea typeface="Gulim"/>
              </a:rPr>
              <a:t>((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bpos (penalty-area ou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(do (player-except our{4}) (</a:t>
            </a:r>
            <a:r>
              <a:rPr b="1" i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pos</a:t>
            </a:r>
            <a:r>
              <a:rPr b="1" lang="en-US" sz="1600" spc="-1" strike="noStrike">
                <a:solidFill>
                  <a:srgbClr val="3333cc"/>
                </a:solidFill>
                <a:latin typeface="Gulim"/>
                <a:ea typeface="Gulim"/>
              </a:rPr>
              <a:t> (half ou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64832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040" y="4724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948480" y="1905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80440" y="2498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28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07960" y="2498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352680" y="22860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48040" y="287964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720" y="2879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9708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828440" y="228600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2144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22860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320" y="4343400"/>
            <a:ext cx="189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VP | S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4240" y="4802040"/>
            <a:ext cx="231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NP} | S, VP, h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856240" y="4800600"/>
            <a:ext cx="24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{} | S, VP, has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79960" y="5334120"/>
            <a:ext cx="439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NP(player) | S, VP, has, LEFT, {NP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921560" y="5334120"/>
            <a:ext cx="361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TOP | S, VP, has, LEFT, {})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1000" y="5807160"/>
            <a:ext cx="363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S, VP, has, RIGHT, {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odeling Rule Productions as Markov Proces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Integrating Semantic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the same Markov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semantic label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each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semantic subca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ive semantic subcategorization preferenc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</a:rPr>
              <a:t>bown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takes a </a:t>
            </a: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imes New Roman"/>
                <a:ea typeface="宋体"/>
              </a:rPr>
              <a:t>play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as its argument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57560" y="3570120"/>
            <a:ext cx="7542360" cy="2451600"/>
            <a:chOff x="457560" y="3570120"/>
            <a:chExt cx="7542360" cy="2451600"/>
          </a:xfrm>
        </p:grpSpPr>
        <p:sp>
          <p:nvSpPr>
            <p:cNvPr id="967" name=""/>
            <p:cNvSpPr/>
            <p:nvPr/>
          </p:nvSpPr>
          <p:spPr>
            <a:xfrm>
              <a:off x="888840" y="56228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94560" y="56228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55880" y="56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19400" y="5622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07760" y="56228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56080" y="56228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560" y="5197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04760" y="519732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01480" y="51973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88120" y="5197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16600" y="5222880"/>
              <a:ext cx="10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14160" y="5197320"/>
              <a:ext cx="108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28920" y="4740120"/>
              <a:ext cx="167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null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95200" y="4186080"/>
              <a:ext cx="21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57200" y="4186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play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96720" y="357012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宋体"/>
                </a:rPr>
                <a:t>-bowner</a:t>
              </a: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(has</a:t>
              </a:r>
              <a:r>
                <a:rPr b="1" lang="en-US" sz="1800" spc="-1" strike="noStrike">
                  <a:solidFill>
                    <a:srgbClr val="006666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0636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620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369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2531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9432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548040" y="5100480"/>
              <a:ext cx="35388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929280" y="5100480"/>
              <a:ext cx="33984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9628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211360" y="4491000"/>
              <a:ext cx="68580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97520" y="44910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1294920" y="457200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14600" y="456696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14600" y="4566960"/>
              <a:ext cx="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2590560" y="3886200"/>
              <a:ext cx="14479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38480" y="3886200"/>
              <a:ext cx="1905120" cy="4572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2520" y="3565440"/>
            <a:ext cx="6286320" cy="2456280"/>
            <a:chOff x="992520" y="3565440"/>
            <a:chExt cx="6286320" cy="2456280"/>
          </a:xfrm>
        </p:grpSpPr>
        <p:sp>
          <p:nvSpPr>
            <p:cNvPr id="999" name=""/>
            <p:cNvSpPr/>
            <p:nvPr/>
          </p:nvSpPr>
          <p:spPr>
            <a:xfrm>
              <a:off x="1087200" y="56228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2400" y="562284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33680" y="56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24040" y="5622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12400" y="56228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60720" y="56228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92520" y="51973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PRP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22696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6700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86320" y="5197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46600" y="51973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86280" y="5197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1040" y="474012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b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93400" y="41860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VP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39600" y="418608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NP(play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26200" y="35654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Arial"/>
                  <a:ea typeface="宋体"/>
                </a:rPr>
                <a:t>S(h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0508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24040" y="5557680"/>
              <a:ext cx="180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6147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5776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993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053040" y="5100480"/>
              <a:ext cx="3542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34280" y="5100480"/>
              <a:ext cx="339480" cy="763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00920" y="5557680"/>
              <a:ext cx="1440" cy="1224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716000" y="4491000"/>
              <a:ext cx="685800" cy="7621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02160" y="4491000"/>
              <a:ext cx="9907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363320" y="4567320"/>
              <a:ext cx="1219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83000" y="4567320"/>
              <a:ext cx="99036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83000" y="4567320"/>
              <a:ext cx="0" cy="76176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743200" y="3886200"/>
              <a:ext cx="129528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38480" y="3886200"/>
              <a:ext cx="121932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VP-bowner(has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18520" y="4038480"/>
            <a:ext cx="3239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VP-bown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{NP}-{player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17440" y="4521240"/>
            <a:ext cx="3876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124080" y="29811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NP}-{playe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21840" y="29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{ }-{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6360" y="5003640"/>
            <a:ext cx="7072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NP-player(player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LEFT, {NP}-{player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29811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{NP}-{playe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21840" y="298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16720" y="5003640"/>
            <a:ext cx="7072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19600" y="5486400"/>
            <a:ext cx="507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LEFT, 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16360" y="5003640"/>
            <a:ext cx="7198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856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914040" y="227016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19240" y="5970600"/>
            <a:ext cx="5217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| </a:t>
            </a:r>
            <a:r>
              <a:rPr b="0" lang="en-US" sz="1700" spc="-1" strike="noStrike">
                <a:solidFill>
                  <a:srgbClr val="006666"/>
                </a:solidFill>
                <a:latin typeface="Arial"/>
                <a:ea typeface="宋体"/>
              </a:rPr>
              <a:t>S-bowner, VP-bowner, has, RIGHT, {}-{}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458160" y="18892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S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390120" y="2482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VP-bowner(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265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141200" y="2482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-player(p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30640" y="295596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619160" y="2955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宋体"/>
              </a:rPr>
              <a:t>{ }-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819160" y="22701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856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914040" y="227016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831280" y="2498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227016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4240" y="5486400"/>
            <a:ext cx="5200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STOP | S-bowner, VP-bowner, has, LEFT, {}-{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16360" y="5003640"/>
            <a:ext cx="7198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NP-player(player) | S-bowner, VP-bowner, has, LEFT, {NP}-{player}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9240" y="4521240"/>
            <a:ext cx="456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l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NP}-{player} | S-bowner, VP-bowner, ha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62080" y="4521240"/>
            <a:ext cx="4002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{}-{}| S-bowner, VP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3520" y="4038480"/>
            <a:ext cx="3365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(VP-bowner | S-bowner, has)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  <a:ea typeface="宋体"/>
              </a:rPr>
              <a:t>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dding Semantic Labels into the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mooth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label in SAPT is the combination of a syntactic label and a semantic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ases data spa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Bayes rule to break the parameter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 | P, w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,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em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) ×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(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em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| P, w,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  <a:ea typeface="宋体"/>
              </a:rPr>
              <a:t>sy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 in th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Corpor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300 randomly selected pieces of coaching advice from the log files of the 2003 RoboCup Coach Competiti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2.52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4.24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oQu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0 queries for the given U.S. geography databa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6.87 words on average in NL sentenc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5.32 tokens on average in formal express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oQuery: A Database Query Applic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application for U.S. geography database containing about 800 fa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lle &amp; Mooney, 199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238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41680" y="29066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133720"/>
            <a:ext cx="2438640" cy="1523880"/>
          </a:xfrm>
          <a:prstGeom prst="wedgeEllipseCallout">
            <a:avLst>
              <a:gd name="adj1" fmla="val -71287"/>
              <a:gd name="adj2" fmla="val 131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宋体"/>
              </a:rPr>
              <a:t>How many cities are there in the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160" y="44956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32320"/>
            <a:ext cx="3962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answer(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unt(B, (city(B), loc(B, 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onst(C, countryid(USA))),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796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Semantic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520" y="49528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Experimental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ed using standard 10-fold cross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ntactic parses for tree-based version of SILT were obtained by training Collins’ parser [Bikel, 2004] on WSJ treebank and gold-standard parses of training sent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Lang: output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exactly matche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 the correct representa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eoquery: the resulting query retrieves the same answer as the correct representation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2362320" y="4876920"/>
                <a:ext cx="4087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cis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2438280" y="5867280"/>
                <a:ext cx="3922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call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rr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le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ses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ntences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ared Syste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Tang &amp; Mooney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arn control rules for parsing based on Inductive Logic Programming (ILP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Kate, Wong, and Mooney, 20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arns pattern-based transformation rules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L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-string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L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-tree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Ge and Mooney, 20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ntegrated syntactic/semantic statistical parser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he original hand-built parser on Geoquery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1 Measure Learning Curve for CLa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-76320" y="914400"/>
            <a:ext cx="85345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Precision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call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1 Measure Learning Curve for Geoquer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-73080" y="914400"/>
            <a:ext cx="84582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Related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Zettlemoyer and Collins, 2005] use Combinatorial Categorial Grammar (CCG) formalism to learn a statistical semantic par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quires an initial CCG syntactic grammar of English.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ISE [Popescu, 2003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esigned to work specially on NL database interface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ot a learning system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ller et al., 1996; Miller et al., 200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an approach similar to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rain a statistical parser integrating syntax and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es not utilize subcat informa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ask: Information Extra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ore methods that can automatically generate SAPTs to minimize the annotation effort for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of methods from statistical MT (e.g. word alignment) for semantic par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semantic parsers just from sentences paired with “perceptual contex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arning Semantic Parser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programming robust semantic parsers is difficult due to the complexity of the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parsers can be learned automatically from sentences paired with their logical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138" name="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141" name="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72040" y="4905000"/>
            <a:ext cx="1704240" cy="994680"/>
            <a:chOff x="5972040" y="4905000"/>
            <a:chExt cx="1704240" cy="994680"/>
          </a:xfrm>
        </p:grpSpPr>
        <p:sp>
          <p:nvSpPr>
            <p:cNvPr id="144" name=""/>
            <p:cNvSpPr/>
            <p:nvPr/>
          </p:nvSpPr>
          <p:spPr>
            <a:xfrm>
              <a:off x="6322320" y="4905000"/>
              <a:ext cx="135396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72040" y="537516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147" name="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textually Ambiguou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ntence Mean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ences are uttered in complex situations composed of numerous potential mea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assume each sentence is annotated with multiple possible meanings inferred from context (Siskind, 199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ultiple instance learning (Dietterich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., 1997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context meaning is represented as a semantic network, sentence meaning could be assumed to be any connected subgraph of th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Ambiguous Contex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67652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71960" y="2590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6368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600200" y="48006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485720" y="4800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600200" y="5638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1143000" y="36576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1599840" y="28954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990720" y="43434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687680" y="2933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905120" y="5181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447200" y="37339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370520" y="4267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057400" y="1523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enile caresses canine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053880" y="5105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97144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2209320" y="358128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42900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352320" y="3886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0860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352680" y="4648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514600" y="2362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428280" y="28954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057400" y="266688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124080" y="2666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209680" y="2666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337920" y="25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420800" y="3657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633200" y="430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724280" y="51055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657240" y="396252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95288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0292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705720" y="3200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s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556040" y="3733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l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6248520" y="3505320"/>
            <a:ext cx="8380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315200" y="3505320"/>
            <a:ext cx="45720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400800" y="3505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529040" y="3390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562720" y="4876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90960" y="42670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in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095880" y="45720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5257800" y="4648320"/>
            <a:ext cx="5335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4440" y="40384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5180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4832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23888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4114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4120" y="4495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71840" y="4572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ineering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utational language-learning research strives for broad coverage while sacrificing dep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caling up by dumbing down”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semantic parsing currently entails domain 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-dependent natural-language interfaces have a large potent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kes developing specific applications more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orpora can be easily developed by tagging  existing corpora of formal statements with natural-language glo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semantic parsers is an important and challenging problem in natural-language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obtained promising results on several applications using a variety of approaches with different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others have explored this problem, I would encourage others to consid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nd larger corpora are needed for training and testing semantic parser 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96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apers on learning semantic parsers are on-lin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publication/ls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rpora can be downloaded fro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utexas.edu/~ml/nldata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Question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gnitive Science Motiv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atural-language learning methods require supervised training data that is not available to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eneral lack of negative feedback on grammar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o POS-tagged or treebank data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a child can infer the likely meaning of an utterance from context, N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 pairs are more cognitively plausibl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 </cp:lastModifiedBy>
  <dcterms:modified xsi:type="dcterms:W3CDTF">2005-07-28T20:38:39Z</dcterms:modified>
  <cp:revision>1742</cp:revision>
  <dc:subject/>
  <dc:title>Content-Boosted Collaborative Filtering</dc:title>
</cp:coreProperties>
</file>