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media/image29.wmf" ContentType="image/x-wmf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media/image5.png" ContentType="image/png"/>
  <Override PartName="/ppt/media/image10.jpeg" ContentType="image/jpeg"/>
  <Override PartName="/ppt/media/image28.png" ContentType="image/png"/>
  <Override PartName="/ppt/media/image31.wmf" ContentType="image/x-wmf"/>
  <Override PartName="/ppt/media/image9.wmf" ContentType="image/x-wmf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png" ContentType="image/png"/>
  <Override PartName="/ppt/media/image27.png" ContentType="image/png"/>
  <Override PartName="/ppt/media/image3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</p:sldMasterIdLst>
  <p:notesMasterIdLst>
    <p:notesMasterId r:id="rId72"/>
  </p:notesMasterIdLst>
  <p:sldIdLst>
    <p:sldId id="256" r:id="rId73"/>
    <p:sldId id="257" r:id="rId74"/>
    <p:sldId id="258" r:id="rId75"/>
    <p:sldId id="259" r:id="rId76"/>
    <p:sldId id="260" r:id="rId77"/>
    <p:sldId id="261" r:id="rId78"/>
    <p:sldId id="262" r:id="rId79"/>
    <p:sldId id="263" r:id="rId80"/>
    <p:sldId id="264" r:id="rId81"/>
    <p:sldId id="265" r:id="rId82"/>
    <p:sldId id="266" r:id="rId83"/>
    <p:sldId id="267" r:id="rId84"/>
    <p:sldId id="268" r:id="rId85"/>
    <p:sldId id="269" r:id="rId86"/>
    <p:sldId id="270" r:id="rId87"/>
    <p:sldId id="271" r:id="rId88"/>
    <p:sldId id="272" r:id="rId89"/>
    <p:sldId id="273" r:id="rId90"/>
    <p:sldId id="274" r:id="rId91"/>
    <p:sldId id="275" r:id="rId92"/>
    <p:sldId id="276" r:id="rId93"/>
    <p:sldId id="277" r:id="rId94"/>
    <p:sldId id="278" r:id="rId95"/>
    <p:sldId id="279" r:id="rId96"/>
    <p:sldId id="280" r:id="rId97"/>
    <p:sldId id="281" r:id="rId98"/>
    <p:sldId id="282" r:id="rId99"/>
    <p:sldId id="283" r:id="rId100"/>
    <p:sldId id="284" r:id="rId101"/>
    <p:sldId id="285" r:id="rId102"/>
    <p:sldId id="286" r:id="rId103"/>
    <p:sldId id="287" r:id="rId104"/>
    <p:sldId id="288" r:id="rId105"/>
    <p:sldId id="289" r:id="rId106"/>
    <p:sldId id="290" r:id="rId107"/>
    <p:sldId id="291" r:id="rId108"/>
    <p:sldId id="292" r:id="rId109"/>
    <p:sldId id="293" r:id="rId110"/>
    <p:sldId id="294" r:id="rId111"/>
    <p:sldId id="295" r:id="rId112"/>
    <p:sldId id="296" r:id="rId113"/>
    <p:sldId id="297" r:id="rId114"/>
    <p:sldId id="298" r:id="rId115"/>
    <p:sldId id="299" r:id="rId116"/>
    <p:sldId id="300" r:id="rId117"/>
    <p:sldId id="301" r:id="rId118"/>
    <p:sldId id="302" r:id="rId119"/>
    <p:sldId id="303" r:id="rId120"/>
    <p:sldId id="304" r:id="rId121"/>
    <p:sldId id="305" r:id="rId122"/>
    <p:sldId id="306" r:id="rId123"/>
    <p:sldId id="307" r:id="rId124"/>
    <p:sldId id="308" r:id="rId125"/>
    <p:sldId id="309" r:id="rId126"/>
    <p:sldId id="310" r:id="rId127"/>
    <p:sldId id="311" r:id="rId128"/>
    <p:sldId id="312" r:id="rId129"/>
    <p:sldId id="313" r:id="rId130"/>
    <p:sldId id="314" r:id="rId131"/>
    <p:sldId id="315" r:id="rId132"/>
    <p:sldId id="316" r:id="rId133"/>
    <p:sldId id="317" r:id="rId134"/>
    <p:sldId id="318" r:id="rId135"/>
    <p:sldId id="319" r:id="rId136"/>
    <p:sldId id="320" r:id="rId137"/>
    <p:sldId id="321" r:id="rId138"/>
    <p:sldId id="322" r:id="rId139"/>
    <p:sldId id="323" r:id="rId140"/>
    <p:sldId id="324" r:id="rId141"/>
    <p:sldId id="325" r:id="rId142"/>
    <p:sldId id="326" r:id="rId143"/>
    <p:sldId id="327" r:id="rId144"/>
    <p:sldId id="328" r:id="rId145"/>
    <p:sldId id="329" r:id="rId146"/>
    <p:sldId id="330" r:id="rId147"/>
    <p:sldId id="331" r:id="rId148"/>
    <p:sldId id="332" r:id="rId149"/>
    <p:sldId id="333" r:id="rId150"/>
    <p:sldId id="334" r:id="rId151"/>
    <p:sldId id="335" r:id="rId152"/>
    <p:sldId id="336" r:id="rId153"/>
    <p:sldId id="337" r:id="rId154"/>
    <p:sldId id="338" r:id="rId155"/>
    <p:sldId id="339" r:id="rId156"/>
    <p:sldId id="340" r:id="rId15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notesMaster" Target="notesMasters/notesMaster1.xml"/><Relationship Id="rId73" Type="http://schemas.openxmlformats.org/officeDocument/2006/relationships/slide" Target="slides/slide1.xml"/><Relationship Id="rId74" Type="http://schemas.openxmlformats.org/officeDocument/2006/relationships/slide" Target="slides/slide2.xml"/><Relationship Id="rId75" Type="http://schemas.openxmlformats.org/officeDocument/2006/relationships/slide" Target="slides/slide3.xml"/><Relationship Id="rId76" Type="http://schemas.openxmlformats.org/officeDocument/2006/relationships/slide" Target="slides/slide4.xml"/><Relationship Id="rId77" Type="http://schemas.openxmlformats.org/officeDocument/2006/relationships/slide" Target="slides/slide5.xml"/><Relationship Id="rId78" Type="http://schemas.openxmlformats.org/officeDocument/2006/relationships/slide" Target="slides/slide6.xml"/><Relationship Id="rId79" Type="http://schemas.openxmlformats.org/officeDocument/2006/relationships/slide" Target="slides/slide7.xml"/><Relationship Id="rId80" Type="http://schemas.openxmlformats.org/officeDocument/2006/relationships/slide" Target="slides/slide8.xml"/><Relationship Id="rId81" Type="http://schemas.openxmlformats.org/officeDocument/2006/relationships/slide" Target="slides/slide9.xml"/><Relationship Id="rId82" Type="http://schemas.openxmlformats.org/officeDocument/2006/relationships/slide" Target="slides/slide10.xml"/><Relationship Id="rId83" Type="http://schemas.openxmlformats.org/officeDocument/2006/relationships/slide" Target="slides/slide11.xml"/><Relationship Id="rId84" Type="http://schemas.openxmlformats.org/officeDocument/2006/relationships/slide" Target="slides/slide12.xml"/><Relationship Id="rId85" Type="http://schemas.openxmlformats.org/officeDocument/2006/relationships/slide" Target="slides/slide13.xml"/><Relationship Id="rId86" Type="http://schemas.openxmlformats.org/officeDocument/2006/relationships/slide" Target="slides/slide14.xml"/><Relationship Id="rId87" Type="http://schemas.openxmlformats.org/officeDocument/2006/relationships/slide" Target="slides/slide15.xml"/><Relationship Id="rId88" Type="http://schemas.openxmlformats.org/officeDocument/2006/relationships/slide" Target="slides/slide16.xml"/><Relationship Id="rId89" Type="http://schemas.openxmlformats.org/officeDocument/2006/relationships/slide" Target="slides/slide17.xml"/><Relationship Id="rId90" Type="http://schemas.openxmlformats.org/officeDocument/2006/relationships/slide" Target="slides/slide18.xml"/><Relationship Id="rId91" Type="http://schemas.openxmlformats.org/officeDocument/2006/relationships/slide" Target="slides/slide19.xml"/><Relationship Id="rId92" Type="http://schemas.openxmlformats.org/officeDocument/2006/relationships/slide" Target="slides/slide20.xml"/><Relationship Id="rId93" Type="http://schemas.openxmlformats.org/officeDocument/2006/relationships/slide" Target="slides/slide21.xml"/><Relationship Id="rId94" Type="http://schemas.openxmlformats.org/officeDocument/2006/relationships/slide" Target="slides/slide22.xml"/><Relationship Id="rId95" Type="http://schemas.openxmlformats.org/officeDocument/2006/relationships/slide" Target="slides/slide23.xml"/><Relationship Id="rId96" Type="http://schemas.openxmlformats.org/officeDocument/2006/relationships/slide" Target="slides/slide24.xml"/><Relationship Id="rId97" Type="http://schemas.openxmlformats.org/officeDocument/2006/relationships/slide" Target="slides/slide25.xml"/><Relationship Id="rId98" Type="http://schemas.openxmlformats.org/officeDocument/2006/relationships/slide" Target="slides/slide26.xml"/><Relationship Id="rId99" Type="http://schemas.openxmlformats.org/officeDocument/2006/relationships/slide" Target="slides/slide27.xml"/><Relationship Id="rId100" Type="http://schemas.openxmlformats.org/officeDocument/2006/relationships/slide" Target="slides/slide28.xml"/><Relationship Id="rId101" Type="http://schemas.openxmlformats.org/officeDocument/2006/relationships/slide" Target="slides/slide29.xml"/><Relationship Id="rId102" Type="http://schemas.openxmlformats.org/officeDocument/2006/relationships/slide" Target="slides/slide30.xml"/><Relationship Id="rId103" Type="http://schemas.openxmlformats.org/officeDocument/2006/relationships/slide" Target="slides/slide31.xml"/><Relationship Id="rId104" Type="http://schemas.openxmlformats.org/officeDocument/2006/relationships/slide" Target="slides/slide32.xml"/><Relationship Id="rId105" Type="http://schemas.openxmlformats.org/officeDocument/2006/relationships/slide" Target="slides/slide33.xml"/><Relationship Id="rId106" Type="http://schemas.openxmlformats.org/officeDocument/2006/relationships/slide" Target="slides/slide34.xml"/><Relationship Id="rId107" Type="http://schemas.openxmlformats.org/officeDocument/2006/relationships/slide" Target="slides/slide35.xml"/><Relationship Id="rId108" Type="http://schemas.openxmlformats.org/officeDocument/2006/relationships/slide" Target="slides/slide36.xml"/><Relationship Id="rId109" Type="http://schemas.openxmlformats.org/officeDocument/2006/relationships/slide" Target="slides/slide37.xml"/><Relationship Id="rId110" Type="http://schemas.openxmlformats.org/officeDocument/2006/relationships/slide" Target="slides/slide38.xml"/><Relationship Id="rId111" Type="http://schemas.openxmlformats.org/officeDocument/2006/relationships/slide" Target="slides/slide39.xml"/><Relationship Id="rId112" Type="http://schemas.openxmlformats.org/officeDocument/2006/relationships/slide" Target="slides/slide40.xml"/><Relationship Id="rId113" Type="http://schemas.openxmlformats.org/officeDocument/2006/relationships/slide" Target="slides/slide41.xml"/><Relationship Id="rId114" Type="http://schemas.openxmlformats.org/officeDocument/2006/relationships/slide" Target="slides/slide42.xml"/><Relationship Id="rId115" Type="http://schemas.openxmlformats.org/officeDocument/2006/relationships/slide" Target="slides/slide43.xml"/><Relationship Id="rId116" Type="http://schemas.openxmlformats.org/officeDocument/2006/relationships/slide" Target="slides/slide44.xml"/><Relationship Id="rId117" Type="http://schemas.openxmlformats.org/officeDocument/2006/relationships/slide" Target="slides/slide45.xml"/><Relationship Id="rId118" Type="http://schemas.openxmlformats.org/officeDocument/2006/relationships/slide" Target="slides/slide46.xml"/><Relationship Id="rId119" Type="http://schemas.openxmlformats.org/officeDocument/2006/relationships/slide" Target="slides/slide47.xml"/><Relationship Id="rId120" Type="http://schemas.openxmlformats.org/officeDocument/2006/relationships/slide" Target="slides/slide48.xml"/><Relationship Id="rId121" Type="http://schemas.openxmlformats.org/officeDocument/2006/relationships/slide" Target="slides/slide49.xml"/><Relationship Id="rId122" Type="http://schemas.openxmlformats.org/officeDocument/2006/relationships/slide" Target="slides/slide50.xml"/><Relationship Id="rId123" Type="http://schemas.openxmlformats.org/officeDocument/2006/relationships/slide" Target="slides/slide51.xml"/><Relationship Id="rId124" Type="http://schemas.openxmlformats.org/officeDocument/2006/relationships/slide" Target="slides/slide52.xml"/><Relationship Id="rId125" Type="http://schemas.openxmlformats.org/officeDocument/2006/relationships/slide" Target="slides/slide53.xml"/><Relationship Id="rId126" Type="http://schemas.openxmlformats.org/officeDocument/2006/relationships/slide" Target="slides/slide54.xml"/><Relationship Id="rId127" Type="http://schemas.openxmlformats.org/officeDocument/2006/relationships/slide" Target="slides/slide55.xml"/><Relationship Id="rId128" Type="http://schemas.openxmlformats.org/officeDocument/2006/relationships/slide" Target="slides/slide56.xml"/><Relationship Id="rId129" Type="http://schemas.openxmlformats.org/officeDocument/2006/relationships/slide" Target="slides/slide57.xml"/><Relationship Id="rId130" Type="http://schemas.openxmlformats.org/officeDocument/2006/relationships/slide" Target="slides/slide58.xml"/><Relationship Id="rId131" Type="http://schemas.openxmlformats.org/officeDocument/2006/relationships/slide" Target="slides/slide59.xml"/><Relationship Id="rId132" Type="http://schemas.openxmlformats.org/officeDocument/2006/relationships/slide" Target="slides/slide60.xml"/><Relationship Id="rId133" Type="http://schemas.openxmlformats.org/officeDocument/2006/relationships/slide" Target="slides/slide61.xml"/><Relationship Id="rId134" Type="http://schemas.openxmlformats.org/officeDocument/2006/relationships/slide" Target="slides/slide62.xml"/><Relationship Id="rId135" Type="http://schemas.openxmlformats.org/officeDocument/2006/relationships/slide" Target="slides/slide63.xml"/><Relationship Id="rId136" Type="http://schemas.openxmlformats.org/officeDocument/2006/relationships/slide" Target="slides/slide64.xml"/><Relationship Id="rId137" Type="http://schemas.openxmlformats.org/officeDocument/2006/relationships/slide" Target="slides/slide65.xml"/><Relationship Id="rId138" Type="http://schemas.openxmlformats.org/officeDocument/2006/relationships/slide" Target="slides/slide66.xml"/><Relationship Id="rId139" Type="http://schemas.openxmlformats.org/officeDocument/2006/relationships/slide" Target="slides/slide67.xml"/><Relationship Id="rId140" Type="http://schemas.openxmlformats.org/officeDocument/2006/relationships/slide" Target="slides/slide68.xml"/><Relationship Id="rId141" Type="http://schemas.openxmlformats.org/officeDocument/2006/relationships/slide" Target="slides/slide69.xml"/><Relationship Id="rId142" Type="http://schemas.openxmlformats.org/officeDocument/2006/relationships/slide" Target="slides/slide70.xml"/><Relationship Id="rId143" Type="http://schemas.openxmlformats.org/officeDocument/2006/relationships/slide" Target="slides/slide71.xml"/><Relationship Id="rId144" Type="http://schemas.openxmlformats.org/officeDocument/2006/relationships/slide" Target="slides/slide72.xml"/><Relationship Id="rId145" Type="http://schemas.openxmlformats.org/officeDocument/2006/relationships/slide" Target="slides/slide73.xml"/><Relationship Id="rId146" Type="http://schemas.openxmlformats.org/officeDocument/2006/relationships/slide" Target="slides/slide74.xml"/><Relationship Id="rId147" Type="http://schemas.openxmlformats.org/officeDocument/2006/relationships/slide" Target="slides/slide75.xml"/><Relationship Id="rId148" Type="http://schemas.openxmlformats.org/officeDocument/2006/relationships/slide" Target="slides/slide76.xml"/><Relationship Id="rId149" Type="http://schemas.openxmlformats.org/officeDocument/2006/relationships/slide" Target="slides/slide77.xml"/><Relationship Id="rId150" Type="http://schemas.openxmlformats.org/officeDocument/2006/relationships/slide" Target="slides/slide78.xml"/><Relationship Id="rId151" Type="http://schemas.openxmlformats.org/officeDocument/2006/relationships/slide" Target="slides/slide79.xml"/><Relationship Id="rId152" Type="http://schemas.openxmlformats.org/officeDocument/2006/relationships/slide" Target="slides/slide80.xml"/><Relationship Id="rId153" Type="http://schemas.openxmlformats.org/officeDocument/2006/relationships/slide" Target="slides/slide81.xml"/><Relationship Id="rId154" Type="http://schemas.openxmlformats.org/officeDocument/2006/relationships/slide" Target="slides/slide82.xml"/><Relationship Id="rId155" Type="http://schemas.openxmlformats.org/officeDocument/2006/relationships/slide" Target="slides/slide83.xml"/><Relationship Id="rId156" Type="http://schemas.openxmlformats.org/officeDocument/2006/relationships/slide" Target="slides/slide84.xml"/><Relationship Id="rId157" Type="http://schemas.openxmlformats.org/officeDocument/2006/relationships/slide" Target="slides/slide85.xml"/><Relationship Id="rId1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 type="dt" idx="20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5"/>
          <p:cNvSpPr>
            <a:spLocks noGrp="1"/>
          </p:cNvSpPr>
          <p:nvPr>
            <p:ph type="ftr" idx="20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6"/>
          <p:cNvSpPr>
            <a:spLocks noGrp="1"/>
          </p:cNvSpPr>
          <p:nvPr>
            <p:ph type="sldNum" idx="20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1179-E025-45B4-8056-28B53D432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1B15-1D40-4FBF-AA54-B4B6FEEDA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4D47-6B12-4F7E-A62C-034F8CAF5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6E89-7093-4A90-8048-3D17D3146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7849-CD88-42D4-8F99-14A75855E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07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33FE-86EF-4230-ABE7-846A9F9A9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2A7D-C0F4-4D66-88CD-617FAA5F3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A790-5522-493B-B47B-844936A3D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897B-5B2A-4205-9140-29B5CB50F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DD98-9728-443D-B86C-01D2FC938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F309-1C08-4B51-A5DD-700195E4E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D80F-1E64-4701-B9EC-0C7367CE5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C45D-B5F9-4EED-A285-D9D46588A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E980-CF09-4F25-B640-C7768A3AA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D1F9-F7D0-4EE4-A13D-406A7803B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A0D1-0857-4351-8966-B5BEDDB3C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CB53-45E8-4FD7-A74C-69FDF0B4E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C870-DABC-4F0F-A75D-3CB4DD294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35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9260-CBFD-4404-874F-89053D590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A153-E532-43A9-B6D3-E6E56740E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55BE-B955-4659-AE4C-CB245AEB8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5630-42B9-4E8E-9C92-6E052BD68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C5A8-2711-4ED7-A321-BA69E24D5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DAC8-56E8-4A13-9F19-92194CCC3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3A5B-B303-44F8-A79E-457003799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AA84-19D8-4D96-871A-EC1253878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383D-450C-4EB7-A85E-68C37752C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D708-1D03-4A87-B53E-579BA8EDB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4B6F-CE3F-4220-8873-62C635221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8C64-A448-4B24-B671-AC12EEE25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FE6D-615D-47C8-A588-EDB480FB4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7FE2-535A-4C1D-B745-7FC5AC2D0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8807-F3BD-4557-9CD3-488D660A2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AA3C-76D3-4826-B31E-139EA3A8B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C63F-9398-45E5-9FAA-4A266E695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126-2299-4340-9777-110347612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C6A6-C50E-4FC7-BBAD-2DACFB76C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390-686E-4CE4-893C-452E93F8F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B8AA-58D8-4A05-9982-997838000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6E71-EE9C-4374-9E5B-EBA62A38E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44D2-F911-485D-BF1C-E211A23F7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FC2F-747F-453C-B8FB-993D40EF1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D350-BAFF-4D2B-8B88-A9B2D50D9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EA95-9456-4D3D-A7CB-A7DDEB495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9939-8516-4D35-ABA2-95CF5ECF2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DA03-C291-489F-8708-5F3997B82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1EC8-5506-482A-ABA0-D20AC26BF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37E5-C306-4464-B9BD-76F068DBB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67C1-1886-4F41-B043-D73520A69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4809-A16C-4501-A7CE-0C291D9C7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0D63-2E40-4EC0-930F-4D2ACE6E6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5AD0-26DF-4241-A7DD-97C0417FA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AC0A-2DDF-4CA6-AAD3-FFBB40DF1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4CA6-C86E-4BBB-AD35-40B6D2B84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989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A21B-E00B-4E9C-9D2B-3E19BD780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2B86-80E9-4A93-9E49-012D780CC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4708-3EC9-4D3F-8D07-47D7EA3AF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4156-FA06-4CAD-AF40-77795EB43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698F-AF9C-4E88-8358-F47E67C15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F7CB-338E-4E01-AD88-E80054A7D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549B-7A88-48DF-9E6D-1B30EAE5E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7AB5-EADD-4D09-B5CD-F07576BE2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DDE2-75E5-4848-B44E-240B98E2B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6DF0-C7A3-4283-ABFA-DCD85AF0B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8D40-10E1-4692-990A-1A2F16602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177E-04F1-4570-B0E2-8104E634E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FA5F-E368-4D5A-8C43-9D95F94A1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2723-C69C-444E-A95D-1FE21C06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03FD-18FC-4ECE-8137-3B71E9E9F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DA65-8065-401C-9D74-55DCD0366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9993-BDE2-4E29-AE2C-21A459FB4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0250-D2A7-467B-98C5-5A4527D1A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8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F2BE-279F-4E93-8658-8C6CC70F1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6A18-4233-4CB6-9A0B-6887C2C22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8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0F76-8606-4B6A-84B1-5FB88BEB2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E024-4D9D-4867-A07B-3BB2A4468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1DFC2-E052-46C8-9FD2-84608137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5960-6E2B-4C86-AC32-B30FE048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3C3B95-B4E8-4FB8-8A0B-E414F3C2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990FCC-7DEF-4360-8159-D704AB2D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8D3255-4B8E-4FEB-BA04-1FB8203C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167D1F-B858-466C-BE04-BA6810F0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EE0F4D-45C7-4E19-A04E-E3A2C4CF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2BC69-583A-4FDF-953D-0ACBC271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E639C3-6FFB-4CFA-8A80-2743E94D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4DF86D-2512-43EE-BD28-7F7150B1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6D9BE-D333-44C6-AB08-25425261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401C5-BC26-422D-A7E6-6120BCA5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01A6-8D5E-4717-A5F1-8B2A00C9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63D2C-1F2C-4A9C-AF94-8237E55B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AD747-382E-46F4-B6F6-15EDABA3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668A7-7B91-4DB3-85ED-051FDBD4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A34CC-D315-4DA1-9CAC-EDE4C0A0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1F49A-5F7E-41FF-9731-37B9CE89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255DF-3E18-45AE-8324-AB4DB853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1DE2E-1182-42B0-9812-75115577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F7711-E268-4A2F-A6B8-B0D74ECF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DC2B3-5073-4F57-A2B8-5C54DD42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22D5C-6935-4DF1-9D10-FACC9EE9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7369-7023-4365-9B30-5FDDF44F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9C95A-D8B8-4C78-BAE4-A1D78425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84DD6-822A-4127-8D8B-C5001EFF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9D337-14F0-4CC8-9497-994819B3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5E495-8623-409E-BAFA-C21052DB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EAFE0-9288-4D8A-B314-0A239EC9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014DD-6424-49E3-9F4E-3A1BAA7D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EA6FF-CDBC-47B1-9782-63DABC20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C681C-C920-4B96-A2DF-9403B327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F43D1-559A-48C3-A831-4F16B5E3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74E76-FBC9-478D-BEF4-B58E66F7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AC1AF-F32F-49A3-93DE-29ACDFDE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9017A-DC95-4138-8700-AB9F6612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5974C-ACA6-4F1D-9C8C-4DC857B9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9F7BC2-3DF2-419B-8A22-1E00B7C2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CB89C3-7A71-49BF-A53C-E29E8079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FB3366-922F-4363-B36D-EB9DCC1B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21202B-853F-4AD7-9DDC-74FE8AEC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63CE2E-A9B0-487A-9B19-611E8F27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6D616D-35D4-4AA2-AA94-516C8C4C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885515-2B4F-44C5-83C3-55185380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D11684-10C9-42F9-9693-716FC6A9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33B219-3CA5-4C0F-A371-D055C2CB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621C87-505A-410D-B573-370A7BC1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3304D6-7C5E-4E8C-837B-B73B4344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8DC3D3-5A42-4DA4-8762-6607491D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186F8-11E9-47EF-9E34-FB5F4CE8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5C58F-5FBA-4D41-B1A7-BC188C11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4F8F9-B160-451B-AB03-12D68A67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B04E7-B9E9-453F-A4F8-AA22881A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B46CB-FEB4-4979-94B5-D1428E85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5C103-80EB-4235-89EA-006323BE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134CE-90BB-473A-B9C7-47CD93B3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3217D-3783-41CE-AE78-D8E9A50C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9304B-8D2B-4610-98B1-C996F023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E8BB5-994C-4DA1-B86A-54FA7006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30FFC-73E4-42C2-8C7F-F10123B4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ADB21-02C1-4A38-87E6-C10FAE68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AEE8B7-3764-4A9D-94A7-6180B646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02759E-0D22-4122-8684-54ED73D6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183347-A0DC-4171-9203-BA2E881C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96CA4A-59AF-47AD-A4DA-FE5D2E30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781749-6563-499E-A55B-999F3941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4FFBBE-F70B-4856-87F1-961C81CD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5C7695-7184-4365-9AE3-6724898D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B88A49-0C6C-44E7-9964-7E2F54FB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5D0A31-4542-4D86-8858-811CA042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FF6CCE-87ED-4534-A0E7-29A126DE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F45E23-416E-44BF-9C41-FB92ACC0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C34ACE-BC41-4872-8437-01B8789F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E9E908-1F77-4FFC-AA8E-F3BF7F3A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8FFD67-5D5B-43F1-BB32-68C2B37A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B2CD52-D924-45CD-9D67-FD1FF4CE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00E145-8163-4795-836E-2B719B91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DE785EF-428C-45F8-96BD-0389BC0C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479284-E204-4C00-8AEB-C4C2EE7C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561363-4735-42E1-AA9F-47DD9E39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796E1D-3307-4151-BD02-8E4CB60E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E26FC2-C0FF-4463-94F8-2EF5287C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3E7023-3A98-46AB-B3FD-8B6D4659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EF0DDE-33B7-47BD-B2B0-48811697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E22B8A1-F08A-4DA7-B0D6-24CC57E3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F6B76C-1D4B-427A-898E-EB28E2E5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991AA0-C73E-402F-B503-A40E2557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71954D-C301-4B8C-BEDA-55F2EEAD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497115A-F9A9-4DFE-8E56-56727DB6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6E3DE8-EAF5-4A9D-BC38-FBB0A219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562B91-B32A-40E9-A563-E30433F8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6CAFF6-096B-44A1-AF9E-D2AA37B7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082691C-4426-4C3E-A3B0-90AC0211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72E707-EDBF-421F-857D-1F2C32C9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B54CFF-680D-4BEB-9B0B-FE226B89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8599087-5591-431B-A196-5C8308CE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8CDD11-BE91-4F60-8441-8E21D821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562C2B-C658-489A-8B51-35299319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32FA617-C722-400E-BE06-09C299AC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61E894-B618-4EAC-8BB5-FE8A31A4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A2DB6B-6281-4FB9-8769-3A11A654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BFA756-6D3D-4275-A365-3C4B0EED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3353A5-FCC9-43D0-A2FD-32730417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35C6C3-81C7-4060-A116-34E847E2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E062-6718-4B98-ADF3-2D86E936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280272-8297-4E98-BD15-A13FC5BB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213E81-72A8-47CF-A763-245819F0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FC6483-315B-4181-8C9B-B02730C6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30C86CB-36C7-4EF0-81FF-42575497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8E38983-E99B-405B-8D94-D74205FB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8E41495-E653-48B3-B4C1-ADD768F4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77929EE-AD85-43AA-A10E-15568450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F3FB079-5A54-4333-9C1B-9EA88A04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ADFED81-2774-4F63-AB74-08E98A31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22AD34D-5EDD-4D4F-A925-AA43A90E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2EDC99-F44F-4A67-91C2-7BA22C2A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375AA26-AED0-47DD-BD70-197D1053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C41B6E5-8DDF-4C11-B1A5-22BF7A8C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63503A0-C895-4F40-97E3-6076C1C4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46D4544-46F3-464B-8869-9093A66E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6CCF55A-BC19-410B-A460-A7E69F99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47153CF-6CBC-41BE-B91E-241CEEAC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B3DD0F-E288-47EE-8B32-54CAA02B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A4C7D53-2D94-41D0-8E92-36D03BEF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E1E9D6-3C2C-448B-BD3B-50667B5B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DC68BC-BFD9-4C6E-99C6-47052138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22328F-9F97-4BCA-824B-185DB76A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897276C-DBE8-49BF-8AE2-721352F2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CD7188-8B4C-4327-A487-0595A544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B02034-18D2-425C-8138-61FAA171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70A34D-1FF7-4E13-8D4E-A76CBF5C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F41D13-AE51-4E51-A769-B18B5753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809F3C-3C30-4905-A11C-94B2E209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FBD7B84-CA99-4F70-B526-74A8B784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E08B3A9-9D31-456C-BDC7-1A86E909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61582B0-BBBF-4433-919D-1D9018A3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D4FFA85-0F73-4506-BE9A-205A94BB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465DE43-A6CA-4134-B11E-630F67BC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FBAA9C6-DC1A-4C96-BB07-7F132137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ECCB2C2-181E-45E2-8D67-C2BA2FB1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80189C7-789A-4221-8793-E2153BFC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6F4C180-696A-4A8B-8060-D8CD0A68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B5BB8FD-5A34-4E08-BDC6-F50DFE14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84924AD-6B94-4B84-8484-39540DC2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40386D-8D06-48F8-BBDC-1CB893DF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79C6629-99AB-45DB-AE6E-B597F3C1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B80EAD-9AD5-4D5F-B5CE-62E96CFF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754B18-21E4-4D14-931C-4E3269FE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F616A75-2F43-4029-A139-A9E80623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61513C-C9A9-47AC-A674-1842A7C9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85EEAAF-1DD4-411E-AD6D-E2841FCC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DD16307-A043-415D-99C9-19421186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163DF6B-ED1C-4DBF-B200-82CE4230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04B7FFA-F1AA-4C69-AD3E-CF03FF16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787BC73-0E99-4B3C-8975-45934E7C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B6330-B5F6-4A5F-9915-3AFB6F6415F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905A878-CEE5-4AA6-B898-50DA8202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E8ADB9-87D8-4DF8-8FE9-044A29BE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23CEB1-5BA0-4555-9233-6F3785A5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03227C2-2C96-44A1-B6EB-B7B15DAA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E46DA9D-AEFD-4B83-A7B7-16232AE5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8B7A61-0ADC-4F15-91D7-3F6C9E7B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55D551-D4BD-4D92-8349-E4DEF3E0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9DADA9B-2259-413C-BF7C-C93E168C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7D3CCEC-235A-4866-9C63-E5B5C8E0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4A4FA8E-A7FC-4F09-8C32-14737A23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6DB4E-8F58-4252-8E2D-6B6EFAB3651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2AC0701-F60F-409F-91B1-F49BC9AF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724214-C0CE-464A-BD8D-D4741C40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754A68A-54D6-4B58-B377-192AF4E1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395CC7E-CAE6-4C83-807E-1B88E795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CFE1227-806E-4DF9-95CD-CBF00FCD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6329CDE-4C39-4456-92AF-4D77FA2A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1460B4-BA42-47B5-B655-ABA62CDC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C9B33D1-1C39-4EF0-B009-F52DEAFE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3B76584-F792-4A4F-A63D-7CE9083D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3E0AFF9-C203-482E-8080-9C14C788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AB482-7179-492C-B76B-3E099E1E16F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1D4169-F9FC-4F1D-AD85-B81B6F8C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3FD8DA1-CA62-4C88-80B1-21BD10B8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D7CD7D0-BA84-4535-A728-D1D60EE0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1BB0C7-827F-488D-AB19-D4CD293C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81AEB06-B8A0-4F73-B230-F42B8B2F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9AA325-E235-4255-A042-0D98292F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1DFF8E5-B9E3-49DA-BFBF-DFC7EB16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462BAE2-5D39-4ADA-9C94-4036604F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68B81CF-5146-4476-BB11-E4872B6D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CD1515E-414C-4450-B6DF-6E4EBD29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CD580-BBB9-4830-8E3E-6DB3B4EDE13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9C1958F-F93E-45F0-A95F-016DC9D6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950AB9C-45B2-4ED0-BA4F-3D8C836C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8F3D957-F0B4-47C4-9989-FDAF9B33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D80FE45-7649-4A4F-BDB4-8CBC2067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B826E81-9475-49A4-A50A-09C75D79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21AA2E-402E-4EF1-AE92-2418CA19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9CDC57-2206-44C3-9D77-B6AC51E9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5A6FDA2-4750-4B42-A0ED-23397D79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30EA0F7-2807-43FD-B8A6-B9DAED40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51B4A7F-2102-473C-9F5C-026FC116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03EA6-987D-432E-8E5B-1C8208E9F59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FAAC68A-F8C1-47C3-AF98-56EC47A8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45AB2E5-B8BF-490C-92D4-7BD720E9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7C17768-8144-4B3C-BDF2-EDFFF851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003E404-52F0-4892-9D69-60AE2F11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C6971CE-355F-408A-AED8-DCD7C6CD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8BC8F7B-7F32-4E3B-8363-55E1FBF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19197AD-2E02-431D-8353-25583347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2CEAA17-1404-4DC7-95A5-5333AA7F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F05ABF7-CFEF-4983-8981-B320F76C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E98591F-4EE4-4D77-9563-DA29D9AB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328C-B3BA-4111-98FB-0218F6F7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4698A-C2D9-4B5C-A7BA-0BECFC61C24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651BC56-50C1-4D42-8837-9360E237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D69CA1-BAE3-408D-BAA8-7EC78362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220FC14-B333-4E1C-9042-8594370B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9B88093-0800-46A3-A074-40E473C2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C8CA9C9-41BB-46F2-8A37-60ADBD06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C50036A-49AF-4260-926E-F671A878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6BEF9A2-FAB9-4ABF-B612-DF5B96E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9FED9E5-1A9A-4036-9DEE-26441125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038F19F-A2FB-4D79-A232-B7A64D65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99EC4F8-01A7-4BE7-955C-10118482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4505F-1053-4CE4-9295-3523C3F3F6A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DDD8BEA-60B7-4BEB-B7B4-F8A4810E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553750-0260-4C1F-BDEA-F6D019B3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3DED891-64F8-4AE2-88A7-A81BBBDE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A4B748B-F00B-4A2E-8E25-44B48B36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2B738B2-A65E-4688-A90F-54E84884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C0183FD-C915-4AE8-97AD-9BF4B00F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1101443-431E-4B85-B547-2E6F57B8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7C363E4-5C91-4EC0-8C0F-A3AE9C3C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445B85D-8546-4F61-9597-B602D0EB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5BB5723-DE60-4CBC-95A2-7A3814F5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6FC32-0E8D-45C7-A2D7-EBE8C49B8E85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C7F7470-FABB-4510-91B8-2F4F6915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DB3A1D9-B52B-4C1A-81F0-92C7B778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0E43809-62F0-4E21-9C8F-572C8EAF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B2F8091-20B0-41C6-B247-2B631D30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24BE7D4-F22B-46CD-A9CE-0DB85037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3972E9A-3FEA-49CA-ABD4-FAB85366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728641A-47FF-4656-A487-3DEB4DD0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91E8A64-D753-4EFE-9AED-F760CF7D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8A853A5-453D-4082-8300-66E567F5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26ECE54-71DE-4561-AF77-7A89AB9B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D64A3-0EE7-4C08-B262-7C911D583062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41FB64F-F63D-4B7F-B1E0-167EEE7B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E014FF2-D195-4ECC-959C-5D7D9BA5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2407CB3-44A2-4224-BF95-64EC1EE3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C784D86-4547-4DE2-9B2E-E7FA4601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76DAE08-C80F-436F-A7BD-B493EB38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D704E03-B92E-46B6-9280-494FAB19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1EDBCF6-4EFC-46BF-AC0D-F90744F1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BD277BA-EF77-47EF-A27C-6A91D864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3FC5F2F-C963-4EEB-82FD-2F2EF9B3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16244B7-4E79-4697-AA0A-4D041325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116FB-402D-498C-A08A-F9D9ACDA9D3C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499417B-F134-4EC0-87DA-E66A28D4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862DDB3-D9B5-4790-8ED5-A562F047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3404E8D-D3F1-4DE2-B39E-773779D7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2B8AF47-78B0-4833-B606-FB253A4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BAA1FF9-3C44-4561-A2F8-F3E8E64D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C62166E-3CE2-4E39-A0DE-21263137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FA9186F-B06D-4287-934F-0BF2AD02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AF7BA52-4BE0-4042-B2AF-2E900778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BED00D3-EEEC-452C-BDAC-0A7ACE29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4FC2C6C-D4D9-4CE4-A1D0-44B8AF52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F0FBE-7200-4E74-A60C-E7A49DA016AE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0578535-3785-4E4F-A7A6-431AF554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211627F-29B3-4AA7-AA5E-200E31B4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CA2D686-5300-4D7F-AA8F-6ACF367A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D7B5535-EB11-479A-BA13-7D435E2D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9B52D49-1ECD-462A-836F-3DFBA983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620B554-EB84-4B7B-BFCE-6BEAAAFE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CB27D9A-8645-4B3F-85CB-2EDE212C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CE889A5-0ED9-469F-829A-5CF60927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B2BED14-3787-4813-BEA3-FB6502F0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B7170AE-201E-4EE4-9A30-EDA7E963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ABADB-32A8-4952-AC95-B5975D48BB8B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0D9234A-9195-4E8F-B9A7-4861AE75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700BA7A-0CCF-4F5B-8098-C10A5103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2802330-F04B-47B0-8435-33603477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A2F9339-7E9E-44C8-B924-C2A06BB1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84B0109-1D80-4047-A2BA-D6022ACA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2F6F6E0-57FA-420C-A25A-737B2CCF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214D4E6-F09B-40BB-9C51-9723747C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3EC709A-8B68-4C28-9BBD-DC104DFD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A5736FD-23A5-426C-A7FD-4A07BD2C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FB092D7-A859-4A75-9A1F-2ECB8E5A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F307A-CD76-4705-AD4D-687E72DC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DD7BB56-E4CE-4ECC-8BC8-EA4943CB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8E9A58B-0C09-4844-AD88-50F002F2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2D81A9A-B169-486A-927B-0F464F98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3865FB4-96ED-4492-9B3D-E6CE56E7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6D0F6A0-6DEB-4277-B53A-8B247DC9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57E0742-B363-4460-806C-6F94B753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0EE0EFD-9DC4-45DE-AA3D-9DE4943F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A0AA166-07DC-44E1-83B8-64437890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6AEFD05-BB22-43BB-B8CE-2E55B901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18D4996-2B17-476C-9BEE-46A7298F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8AA91-D54D-4DE7-A00A-C97C47BA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1DF942B-C74E-4374-A78F-A5023639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D66EADA-C490-4599-91A9-FAED2306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FCB9F85-6891-40FA-AC65-19A1A315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AAEB054-4047-4897-87E5-8CF091B1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888AD5C-F4B4-4CCB-95E1-DBDD6B0D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68013A8-D4BE-4BA3-BB50-A7B9FAF0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0186B0A-3694-4DEC-9903-57039EC4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2E902C3-600B-4F76-90DA-8EB59953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79C1AF5-AEAF-4E4B-A404-C8CB339F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8C2C9FD-3FB4-48BE-A310-FA8847D3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E5A7F-6F09-4ECA-B242-C4BDAB17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0F92645-C83B-4CDD-B3D5-722F1A03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D3A1AF6-C7BE-420F-8647-C9BF9A7A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8EA4CB8-D425-4B13-B3EB-4A6FA1DD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DACFEF5-C1AA-49C6-A9C4-30834A04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A9B1EC2-5E79-4943-B183-03C582C2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4AAEA16-6F87-4F91-9B85-002584ED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8EED56F-4EBE-4499-9129-A68DF907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51E6F3B-B214-4972-BE95-F677A740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50042D2-9D32-4BFE-830F-E5B7B154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7A39F20-3217-4F20-8229-517509AC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B44EC-3FC9-42B1-B9F7-98D88528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0A8F6-5021-442E-8F6C-01AA74C5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88996AD-3577-438A-9BB4-B7CD7CA1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E9F92F6-FD34-450E-B11C-6B8D87F3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FFCFCB2-EF2A-4CD5-8AD4-90A3DB18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A494330-C1D1-40AC-9F72-265B7D66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D498F7A-E780-4C90-8CC5-F23D60DA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8F24F37-9C5F-4281-9D8D-561A9677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46B6CD5-38E8-49FB-9CA9-BEB315EB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8861539-3D4C-4385-9DB3-D607A1FB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CA0223A-2A84-41A9-9989-0613B03A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3507BB7-E1B4-4176-A820-6C9FBEF0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5CEB4-74EC-4ECC-97E1-F579A206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E031CB9-86F0-488C-87D5-A83F6F58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67D838D-96D2-464F-84E9-E0497D1F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AADC008-E8DC-4A85-8CE8-E2D36E91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F9BB411-5B94-4F0A-B818-0C7EE6C3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2AA662F-F1B9-45CC-A0BB-49D8CA58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A3D4AEC-AB59-40FA-94B0-9F49C7BC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7284CE3-322E-4E91-831C-178C8849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86EA35C-0F1E-45F0-9DDF-3F275746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0FF8796-A2C3-42A0-B2DE-74045DFA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798FCDC-5440-4F89-BECB-2A270C21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C05A0-D40E-43FD-9447-F1A4662B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15FB0EC-7C13-4284-AB0E-FFB3E8E6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0C2D29D-F23D-4E9F-AB46-FDEEA8AF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B6868E2-1FE7-4656-85C8-76CC33FB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72CA00E-5F0B-4478-A74B-10A22DF6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4AFC264-71D4-44E6-B347-E090714D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75853B7-9261-4DE7-A10D-6CF80B82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130626E-53C8-46A5-903C-E7045E80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C0DDC3F-213E-491C-80DC-926D08B8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A6352DC-0711-4209-912B-E56EF051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9797C52-E46D-4908-BA50-58FA0957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9A546-C22B-41C1-A8E0-F2C25A50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1403F06-15E7-4F05-BBEC-C5E8E992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720DDD5-864D-41AB-8AF3-0C7CDC08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25F3053-194E-4601-B9EF-FAC86B52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445FC5B-1FA0-4BEA-B10F-563108DB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55D20C5-B4CE-4CA3-8BB7-1B942018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E1C93C2-8662-487D-B635-8FB9A2D8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ED19178-7622-4831-9740-CFBBB85A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3667D42-0FE6-48B0-A316-E35DCE7D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64BA492-8557-47E5-9887-87AE2246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8DEC7B5-5B33-4EC8-828E-3EEA3B1F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0F1E7-FD46-4D04-9A86-58DDBCDE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6F79E8A-0B9C-487D-A96A-F303D375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7AA51CF-67A5-4BE4-8FCE-11E79AAD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45FBD11-1B4B-4E6B-8A7F-81EC5889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D6CA74B-E0D5-4512-9D7E-3D0DFD62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E5A8922-3A66-42C4-B6BF-D4496A80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E9CE704-8AA5-408F-AE87-23500466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68F8D7E-AF89-4D82-A043-53007141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3D54EC7-E22C-46B5-B4EC-AB74BEF3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B1D7EAF-CD6D-46AF-84CC-F564D65F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146E426-FFD8-4B64-9B9D-A9021E55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E1FC7-3E65-46C7-8559-7C2A8285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2928C51-B164-44B7-867D-DEA797BC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F62EC45-0CC6-4F7E-86F4-5584F19D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7E6EDB2-E5ED-43F0-9E78-49B57CA7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F68C7C0-3E3E-4108-A30B-D056582D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7050822-DF89-4133-B9FD-2216C0A6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6886B52-C536-4543-89E7-6500A654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9E42413-4DCA-48A3-9FB9-363864F1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74C6D41-643F-4187-BC2F-799B87F6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F484127-CDF7-412A-BD53-D9D369DA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2C45717-2935-405C-9D36-984EB486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5F65E-2C61-4106-956E-AABB19F2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304FB45-CF20-431A-81C0-F910298B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83619C7-0C1B-4240-A43F-9F97209F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0BB158C-DB81-4BEA-BC24-EB8E645D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A29AF2D-FF36-41BE-8CD8-63D1B22E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F37CE98-5D35-4063-976D-AB39EC69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C055E8B-A362-491C-92A1-912BED8E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9020F0C-C527-4DC0-95F5-025C4D92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9F289E0-7057-4369-BB24-B54748D4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E04F0A3-01A7-4CA8-A731-CB1B6FDB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9E8EC64-893C-46B4-A4F0-FEE926B7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E4F0E-1F50-4C69-B18B-6ED18652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D27ED69-76DC-4AEE-AB21-90558F2C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F1EF6A0-DAF0-4F4F-90A1-2D762977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C4A7D8E-A826-49E8-B189-9EB7CE47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F2AD725-68D3-43DE-A249-A2E08505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5F90228-5CD9-4D45-94FB-C2D8B096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31B6775-5299-4719-A600-549F928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2D8B1EB-DF68-48E1-B9C6-EB11A092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4710C42-0738-474C-9A22-E418DA21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1BFDC92-1875-46D2-923F-B52AFB66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6F3D8AA-D198-486F-87A2-BA90F858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BDE89-9F54-4E43-88FB-61E341D8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73DC95A-059B-449A-A315-090ADEE6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AE2409A-66DA-4551-989C-DB38D24D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CF88D1F-5B68-4CA1-9E96-8F230DFE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64736A5-517A-42E7-8ACB-22549B76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F04B892-5FD8-46CA-8228-70CA0BCE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E9C13F3-6983-4D0C-82ED-33142E5F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F5A4912-1019-4E9D-9B2C-FE6062B4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C52FE79-EAFF-4853-A4D5-0C72A20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BCA33A5-94A2-47AF-BE6E-29523358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DD8385A-891F-4846-9038-C4D26782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760B90-A1FB-4536-A70C-E0B5034E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B2DBE03-43A5-4036-9659-223623F1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9DE480F-0385-4E3F-B1BB-85F1B31A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BAD65B7-73A3-4DB3-B4CA-9CC97BDD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C7469E8-3321-4093-9149-391ACBA7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FDC8217-F31C-4110-82BF-7421874B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5E963B8-194A-4E82-A055-7EF5F5C2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ED56270-4B81-4BEB-9870-A42E07C3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3F39EB6-71C9-49C6-8D89-856A5A1D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1DB60E9-1A1C-4DF6-B5F2-D5A5CD41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563C961-16D6-4071-A713-2B4CE67C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0F35B-F7D4-423E-86A4-D646BA56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DD689-C9F5-4D78-835A-75E2B2E7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7C24CBC-E603-49A4-812B-5B206C17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4CCD668-925B-4956-9738-AC762B15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B83E155-B6D6-414D-BE2E-EF7F0D28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299C198-4E1A-495A-979D-B9002552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9F6524C-8595-4BD9-90DD-90D1D486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25A8D9E-62B1-4FE3-9928-B95D198F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E9DA634-55DB-43E6-A1C0-803FC540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BB2D9F4-6490-4965-94F5-0E9AFC83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B44A289-C149-443E-93FF-DAE477F9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69433B4-9AF5-48B7-B4EA-0823774C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CA88F-46CA-4546-8E51-4F48192A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E7B5589-716D-42B6-8403-93B2B956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9F4F92C-61BF-47F2-A9D3-A3AD0FC2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F92C805-FBDB-4676-8AB7-2B88DB59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93251C1-329E-4430-A6BB-CF785428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94E6443-51BB-491D-983D-DB01A2EB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81A62CA-F0A5-4643-8E49-57FF7DA0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2775734-C57B-47AC-9FF4-FDCD92CD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D60B1A3-A043-4616-9F01-4CC6B4F3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41F4D59-A652-4B27-BC2D-DF06CBC7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273B8BC-1C5A-4C2A-991F-E20A0ED6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1DE3F-4165-4A4C-AB92-8CC05DB4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12DF00F-1A03-4F6C-98BA-94DDB747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70151EE-C38E-4239-83BB-18B8D81C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94FCF40-CABF-4A6D-8577-88213BA7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B98C305-0F5A-4862-B29F-9E20B602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CA15F5E-7CEF-4195-96AB-6DBD58BE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9C390E2-9D3A-4257-AC9F-483B0FC6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696606F-9AC1-427B-B1EB-A59DFC0A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4E25B81-8D92-4812-A5D6-707B76AA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A76F9B8-751D-461E-AA41-346B23A5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6C0D66D-5FA8-49B6-B04D-64515F64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2213B1-0F9C-4119-A931-612E32FA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9DD781D-6D6F-48B5-BCB2-DFE61E15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42BFD6B-C53F-43C7-97DE-6AF7BCAD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B86962E-DA20-4FA7-A839-BBB8BCD3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BCF7380-B777-4BBE-A911-2E253267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0D9E0EA-E797-409E-B864-02C84DD0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C1161A0-3237-469E-BC1E-782D1F60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8A248EE-AC16-46CA-B0C3-6ACFD40D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2DD8947-AEB1-43F7-B27B-16B4101C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018636A-4371-4107-AF2F-C9F2E904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EA570C0-007B-4254-80DC-9C977B55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F43E4-74B4-495E-8623-BD081E21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AD9571B-75EB-4531-8C92-B4B67C01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78C2578-E831-492E-B85F-72496496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9751464-AF92-4C9A-8B1D-64D339E7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ED31978-6C80-41FA-B3C0-A9483AE3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FBB814B-01A9-4627-824A-011B5E1F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23D72F9-DF7E-4BEF-AADD-9A771728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EB9BDBA-7522-493C-AD22-AE7E751F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35EA34B-B8C1-4A7F-A5E9-CE989CF9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6D6490C-4864-4299-B453-AF8CCDDE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464770C-54A7-4353-9EFA-A5810622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B1CD8-BD4C-4F29-BB60-0DF6809F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1E8618B-64B1-4D15-A8F8-5A092D3A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BCF6A3A-5FC9-4BF5-872E-BE8A2A97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9C0E978-1CE4-4167-B8D9-586CCE5B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F45A08D-4280-48D6-AA49-1D452187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08E68B0-CB50-4B63-BDB8-4F0180B8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1A29617-A32D-450E-AEE1-0D0E40C7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D88F6AD-7CF9-4F1F-AA58-5C39F8FC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6A566AD-BE84-441E-AF67-99C9E3D0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B890EF9-FD90-4F85-859F-BF095E29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461B7B6-079C-48E2-9C92-82032CF4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1F8FF-8F09-442F-A5CD-733C147E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833A38E-76A7-4345-97F5-CB093D8B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74A4943-677E-4176-AA6D-940431A5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29BF2E6-3A57-499D-B366-EE7B1145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C26020A-81ED-4869-83EF-5E3D6EF1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7AC9176-73BC-4B17-8FED-3C34DE3A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B52263F-AD3F-4162-B9B9-AFF8E212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7D7CDE0-1DE6-40F7-9ACE-F96815A5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51DEC87-62DA-487D-9842-9315E473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2A54FB4-E62D-4630-AC2A-26E66A0D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2E19823-2318-4D42-AD27-8D4287CE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947AFF-A0E5-4802-A48B-8AB064BC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9AE3B6A-AAE3-48FB-8E65-9BC4505C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21186A8-8A0B-4CC5-99F0-0F5D5848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5935764-65FF-400D-882A-5F7857B1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BA14525-7B92-4781-9056-A1645A5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5DD95DC-273D-48F2-83A8-76B91799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62AF2BC-D329-4F4A-97D9-D0B5F84E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97FB73F-526A-4CA2-AF27-26854F43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9FFE460-D051-4AB2-B323-9C66A6E2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3E2DA42-5C96-4EB7-B46E-269337A6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1140545-2122-459A-BEC6-CB7528F5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E8F57D-3B56-4418-9D76-98EFBE19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9447D2F-2C70-479A-B179-3A78AEF9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003F8B6-D67F-4437-84B9-5558AF49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CC75995-B477-4CE9-BE3C-448E4B04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D1F3EC1-1A84-4FBA-8B5E-3DC90AE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4050AC0-A05B-493E-9638-00F51520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965FB70-0729-4A73-91DA-94DF1E93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4D335A6-5F78-4E0E-8F69-37C075CC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459DD4B-5D56-4135-8454-A58DD78B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17B7997-8867-4DA8-92C2-F450E107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98B20B1-910A-44F2-B31B-B04CC1E7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7A209-39A7-44A4-BF1E-E9CB07FE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69B5706-80E8-4F85-9F4B-80828851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9D6CF4C-C2E9-4FE3-A806-DC417400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A35D7B3-44FA-48F5-8C11-50C942BF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D038810-7A93-4EA2-9240-DFFA08A7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C9B0B2C-DB7B-45C0-85AD-2E1A5472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BCCF349-2EF5-490E-B6DC-6564AFD0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3BF3072-61FF-499A-84B3-5FDDD62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8E65512-399F-4FA4-A8BE-99330E46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AE760B1-EBD4-4567-B5A0-8E1C7915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167062F-DD74-47D0-890F-D68C56EC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BE9C-B577-423A-8F51-9060F254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24412C-BEC0-4312-8524-4AA75683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BFBA9A6-873E-4A7B-A084-A04BE036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428BE31-0126-4D92-965E-3DC2FF7D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0AC3494-EA51-4F3A-BAF5-B5C90940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99A2B3C-B961-4D45-ACF1-24D7C7F4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1F87A19-3E27-45CF-868E-97FBF60C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EBEDD48-4525-42E2-851C-0CA33A3F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646C860-1F2E-41F4-BA12-B8C19E7C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8161D69-C39F-4645-B7CB-825E9E77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6B34631-303D-4734-B23C-F5B76D6D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4C542B7-DDD6-456D-9A22-35F3DE16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EF4C9-9F43-40DC-BAE7-884D7E3A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5C61839-3028-4668-940C-1767D3EA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E6B1C97-ADED-45C6-8478-5D34DF6D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FD9E057-F2A0-4ADA-A108-224B8CBB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1C2879D-8B0F-41F0-9F29-46E057C6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21CF4BB-02DB-4816-9012-238677C1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E571943-7B6D-40C8-8514-25D74B97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501C544-10DC-44C8-B31E-81CF5533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7D08AC9-8EF9-49A5-B32E-C0A823DA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75DF4B0-FBC1-4228-B85D-3C54F3F9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9CA2D9F-A786-42C9-A051-FE7C6643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50C1E-8B9A-45C9-AB24-B53BE4EB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6B6595C-B6D6-4A19-8A13-AB10A8EC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8498C33-879B-44DF-B662-53C247D2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C66590CB-B88B-4ACA-8C0D-418615C9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C623A44-D7BA-48B6-985C-BD855372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C076C26E-900A-4632-8061-EF9D3660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3639BA1-8446-471A-A058-0868F484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D23AB4B-C32A-43F9-9EEF-CB2505A6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BD9D70F-599C-4429-885D-4A2E22FB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364DAB4-4583-485F-ABEE-6485F475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3D70299-9F43-4E6E-BC42-EC49A9C1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8235F-B154-4B4E-A378-8738BE44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CF82DF2-8947-4D63-95EE-F7F0C5ED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D7DFB97-71DE-4233-91DB-60EE61BA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CCB1591-14A3-47FF-8F3A-BF541F33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8A44065-E4F1-4918-9442-8E1E6A96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49BE158-0ECA-4D05-8B21-328A60A1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6EF71D7-18DE-4E5E-9DCB-2523BC25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34940C4-F771-4BBE-9F71-E6FDBD8B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0CAE828-F3BE-4913-96F0-240ECEDB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856CA93-BD8D-4151-B199-FC5CD4C9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ED18FCD-6EC1-4AC1-8091-7CDC3286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7E238-7187-4E2A-9BD4-7CA6168B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F95F33F-88CA-4D06-9148-AA0ACA02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F87B585-E0F5-4398-B887-51A75814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051D736-D4E6-4239-8600-B84CA3C7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330F2C9-96E5-4432-96AC-FD939459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19756C7-AF89-4DD1-BA16-E7289AC2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E4AB6AE-9F61-461B-8A72-907CF0D0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1C4894E-DBE1-445C-A584-9578DB5C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CF114DD-CFEC-40AE-938F-F4090357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732A23B-EBBC-474C-B8F7-A15A474F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229CC76-EDB5-4EF4-9B75-198D1E50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2846A-84BD-40D0-9D4F-DD178086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CD512CD-3B71-4E23-B93F-63D21488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8CADBD7-24C7-4CC0-9983-D2083F9E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2D5891D-2B3F-4D3D-B296-5513B192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7405B8D-80BC-423A-BD72-084DB3F4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3AE901B-4AB7-408E-BCB5-6DB7FF77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284B5FC-DA80-48B9-AF45-CDA547D8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B28AFF1-40CA-45A7-B8E9-28FEFB3E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BC5456A-70F6-4BEF-A0ED-7C5EE59C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EDE271A-194F-4EE4-9778-11741645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D415C0A-874C-41E1-B8A7-BA2C18AD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EFAED-74C7-44A4-BEF8-52AA94DA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570E52A-6BFC-4218-8D95-52B8ADFC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C471E2E-CA97-4AC9-A62F-CA6E476D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AB4C0F0-98C3-4B55-9B5C-7065E0D0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0B230A5-1740-4783-8876-12BAF90D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AF420AE-AA35-4D2A-9CF2-1CE3B052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BDDAB96-FEDA-4680-8C62-BE259045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B3E5F3B-1803-4A04-9BE7-EF5EBA7A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7340A0A-25BB-4808-9BAD-018D8E8C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5A05429-E9C0-452F-838E-46B1C630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F7134C5-6CF3-4AFA-B4CE-FF8BE527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7FB17-6D9E-4291-816B-FCBD26E3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89714E2-E21D-4886-8A54-9BECE9BC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178F164-40CE-4489-870C-CE4B8DB9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8E7F96F-D084-4953-A971-EFB37954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EF8293A-3A94-4864-BEB4-020CDCE5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C2B7A33-2245-4228-B5E9-18CB186B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B836B11-C63B-4225-8473-DE41EA17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08C4011-E9E9-4800-A904-77F6072F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5739087-246A-4927-88FA-14302A4F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B8AF90D-9F60-4A66-BB9E-7DD1FD64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1642EE3-1D73-4AA1-9DE2-B1D64286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B8A1E-DFD8-4E38-AC0F-8628FCA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089B7CD-F0C6-4EF5-9C38-5111BA42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C93E28C-9B6C-4758-ADB7-4774881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173DD47-11A3-4D3A-BED8-9A99C33F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5E3A565-A64F-48C0-95CE-0AB88896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E76FE03-A41E-4BB7-966A-76293902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00C6C8E-5237-412E-9D16-0167062C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EF3A455-E076-41F0-91DA-1C017A25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412997E-5F01-4866-A279-B31A815F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1BC03B3-FCE2-4C32-AD88-0E4F0109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0B069CC-24E6-4560-AD6B-5621EE4D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3EABF-E823-440E-9808-C2AAFB86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D060D07-59CC-41A0-8B9E-947324AD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413B35C-DDA5-46E4-B154-F29322EA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D920D5D-8C0F-4425-A299-4C9C0331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83CD743-6783-4FC1-8A13-BE44FAAA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06048FD-E894-400C-9731-CA07A8C2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AD04045-E4D3-4E74-BD8A-52E3E67A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29E08DC-CA12-4115-83AD-D7449F0E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85E9346-3720-48F7-A38F-27ED0DAD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8E38D24C-B1F7-4804-99BA-8EC0C585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300C291-E665-4779-9A15-ABECE156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DF9D-6EDF-44BB-BA6B-6A7247BB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F75FA-E910-4D4C-8466-CEEF43E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9E712A6-847F-4C2B-8ECD-AB490A50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E03A5B4-3C20-4878-9430-1AE702DD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CC593EF-0E3D-4836-A199-F1C3CCA7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83B116F-2C5C-4D95-9668-16457C8C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4F34F1A-1B3F-4411-912B-835719CD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301E0F4-C8BC-40C0-A0BB-CEFC2DC3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CD55A40-03C7-4204-A7D8-84A5648F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718ACD3-3B19-45C7-A434-60EDCDAF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27EF5D5-1CC8-449A-875F-33ACCECE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F5E1978-EC00-430D-8177-C6D83CD9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4DDCC-8F22-4880-A31E-015B082D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636A672-5330-4065-97F8-58CC0327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6973BAD-C03F-48DE-9637-B4F66E01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084B8650-A1C8-47E7-9FE8-667784E0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2370C463-249B-450E-9D2F-7D3367EB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349B34BC-0CDA-4511-94DE-57C4B811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01087DE-C8E0-4332-B437-AE3218AF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A61BDF9-C7BC-4C55-9376-2C085CF1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421B10F9-2CC9-4485-B667-A429BB8D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A228407D-35C0-453F-9736-B406EC68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0DF22E19-150E-43A1-AD65-524CDA26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D80DB-3F7B-4705-9429-E4C48804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B2C9B809-448C-4C5D-AFAF-47EAA407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718D4AFF-73B6-4AF7-8E64-DB4D285B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E29D7442-2A48-453C-B51B-DB29C8C4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69E2440D-C4F9-465C-8B9A-15D9A5FC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A32B5F48-BC96-40D3-9858-C825A7A3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44C8CC48-77A7-42D8-B92E-F28211C7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8F37125E-3980-4A63-9C0B-54FDCD59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07B47FB6-4647-4317-A113-2F1FE895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1AE0D19A-F94B-463D-8FAA-3BE1BE25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02CC63C6-F71E-4629-AE98-9A9B2EC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CCCEE3-D5E5-44DA-B898-6FFE76D7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6E90FA6A-8851-476B-8957-F7C0FAF2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D6757DB0-EE10-463E-A815-788EC758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D9268AA2-95D0-4111-B40D-FA38E84A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2C9CE4B8-6EA7-4EDE-BE49-4434E576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5B9C54D3-18D9-4C68-A8F9-99C6E988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BFA18428-4303-4170-A364-70B04FFB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07D55F75-9E24-41CD-82C8-8E5BCF3B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345EE8CC-2F12-4903-B91F-A132DEF2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A9C05BBB-B50E-453C-9E03-50ACACE8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A7DB586B-FDB7-42C2-984C-F72E76C2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0F547C-ECC1-4566-A3D3-7D9D77E5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D41C8B22-3148-4C10-B4E4-9A5C2024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D36ADE49-59EE-431C-8CBA-8CA4C17D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D57BB320-6633-4B29-BCBB-75D4E8BC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1A2A8B6F-419E-4E3E-A621-21724D35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2014C6BF-B3AA-43D7-A325-43B98446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D8323643-E030-4893-AAED-04C30DD5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47C1FBAB-2385-4C52-BFF5-11E9B4EE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A479C23C-52BC-4A93-BE51-B7F63F91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AA5145CD-7DA1-4AC7-ABBD-23BE9F0E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4966EE1A-8C80-465A-A769-6E5FFB98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C17D17-97D8-4E49-8150-A057E342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9A162BF2-C245-4041-8409-A6FB6F9C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743770B9-4F52-4182-A10F-F82909D4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97AB1DA2-6589-476D-8B63-62D6E856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3817F8F5-2374-40AA-8EE1-42809EFB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5B7C9243-B938-44A0-89AE-F02679B8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DC7F5866-3874-448A-9F06-2FF5C241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A92234C7-9976-4C85-AE18-5A3151F6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F6A87414-AA9E-4297-89CD-F9D194CF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1E3733A8-8867-48F9-ADB9-BB89C89A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811038A0-65FD-47BE-A67A-E3A4F865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287C05-4FEC-46D1-B212-6DB2F3A9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9C555F54-241A-468F-9177-146AF672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0D61E8F6-1F0E-4973-AB89-439A880D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8D37AF84-6846-4980-96CE-0FA58F6F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892452B5-CC17-4F20-9032-4C146B96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4531DA87-ADAC-4094-8591-E1F84568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343EEC66-05E6-4A4B-B584-5D8CAA9E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65D3571C-BF0E-442F-8213-FBE694AA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2CE6C240-8AED-4011-AC96-9724DFD6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EE9E38E1-6301-40B2-A0E2-125E189C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4626FC2-7CC6-4794-BB86-F4CB5EA1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79227-367D-48BB-9053-95767D37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BCB3F83-F51B-4A65-AA6E-55F3C204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D6D374F-F417-40C3-8AEB-2F3B12BC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02CC362-61F0-4881-94DD-A27EFCC7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3D54B85-46FF-43E4-902F-9C995CEB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54A9077-BB07-44AC-8B4D-8B612B8C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5AD6CC8-9970-4FF5-A50C-7A1C331D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7011F1D-AD68-4E9E-A68A-5D6B0AE1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D8696C6-4502-4708-8E4B-4CADD753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460B761-8D65-4D26-B4BD-C67F6A8E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7699E5D-643D-43FA-98B6-04BC5EF9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529CC5-C205-41AF-B540-4A20752E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E12BC6A-0F5E-4C89-8304-81165FEE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0E61816E-C8C0-4994-B9BB-4CE1EC48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D439B558-B981-4D42-8803-F493551D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1B350D2B-D115-4EAC-A826-A0E165CC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38B2E348-9625-453F-8479-C56F4F83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4F14C139-7558-4DB4-B1EA-BEAD1B55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66C23623-7B2A-4D45-9B4A-00F9BD96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EB136C07-914A-4139-9CEE-5D0EE22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82378B2-A1E5-4982-97AF-7B6943AC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C2FB5A0-95F0-4515-84ED-8F7DEA86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0430B2-5000-4408-A426-9B389401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419A48F0-375A-4BCC-B1FB-65B1CE9E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81DC1039-C00F-40E2-871A-8674D5F3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E26626DF-A1C2-4B98-815D-E9B6FA4B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33A2D3D0-1CEE-4CFF-83AA-46B9C66B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470AD7D4-A51E-4760-ADC7-DF576501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4A62D1B1-2FD1-4F9C-A0C6-5D968127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FB84D327-8BE4-4DD7-8210-06D083AF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88BC2279-4488-4C2D-B156-5005D3B7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C18316E7-E90D-4418-A4FB-D8098502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692978E6-641A-494B-9A43-8317B874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7504-7218-453D-B4B1-8BCFF40D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A6247B-3777-4125-AA02-B5CACF35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673D9E14-9012-4735-B279-C5927619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D107FC78-7ACF-4DBE-9791-D850592E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662EF25D-C9F5-4582-AA4A-34C8F3D5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06E58535-4136-456C-822F-726B6F65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DC0F2693-FD76-4573-A899-73F05608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2FE6290D-C815-438C-981E-8863C1C1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44A488C8-6DFF-44BE-9300-C55D6BC8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4BC5093C-60AE-4B12-9B4A-734886F9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AF6EE298-BFA9-4A95-B407-AB541A02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C608CBF7-E108-4BAB-B6CD-A99299DD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163F49-C64E-408B-874E-F9DA56B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A028AD04-C805-4F9F-BF4D-A26DF02A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FA135FA6-20AA-4976-BF59-AFCB5302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2C2CD5DF-F4C1-4673-A352-66F5369A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78261C82-281C-434A-9122-87E13622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EBE35BE5-89A6-43A4-9508-9F350754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3092FBBA-415C-4056-9785-5FB5FF16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E3807FE4-D2A9-455F-BE8F-60FA818D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A87D7D8-C065-4CC3-9725-FBD886A3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B4ADEA31-F259-4D5C-8347-BE765F6B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1E7574CB-1377-4A3A-AC97-BC1DC208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9B0CC4-AF0C-40E3-BC62-22A1E770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FA471142-C475-4306-9E46-2660273E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252DBF32-B064-4E11-817B-BEFF92DF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3AE3420C-1310-40EF-B1AE-38A10605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2C79F22A-7CF4-4ACD-AA8D-7F6174E3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C791B039-E0AB-4C85-ACFD-E4BBE011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38C4B974-B0BB-4EB7-85BC-7A03DF60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AEF77FB6-1AC8-4CD1-B13A-B60DE54F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08058FE-D6DB-453F-B819-B6C8C0B6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2E11818A-89BC-48F1-8F30-5DC39E8E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FE335805-300A-4C14-A8FB-837FA787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75BF2B-6674-4959-AF29-BD2EAB2B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66FECC09-99A1-414B-9109-BCA518D4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774B68A9-A7B8-45CE-B2BA-BB667B51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3BAC3DDB-A807-4FA2-95E7-0182DF6B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CE21420-841B-459A-8230-FAFBE7E2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4DA462A4-69F3-4DF4-9A40-6032C6CA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8F3BC0EF-BDB8-4297-93FD-7F5A4408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82253632-5C11-40DA-B9C9-1FEB24F2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BC21B1BF-79E9-4F41-A65F-22C96E23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27CD5892-B2E7-479A-B311-E4B4E24A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BDA8BE53-4D70-443A-AC2E-907F7476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2759A0-E9EB-47EA-AA11-1063018C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2E351E94-500B-42E6-8541-3C3331A4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5BB22-9B58-4010-B5CA-0CA5E7C1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B906C4-F46B-4DB9-83A8-23AF9DDF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B269D-7A0D-4760-9E0A-7D934629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7906F-1429-47E0-9DD3-E7F5E8BC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664231-CBA2-47D1-9DDE-BA5DEABB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FD9CE-BADB-4164-9080-02332773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02C56-FDC9-4718-9B7F-01CE6186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292997-7E3E-42F7-ACCE-F32355D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CD800A-56D7-4252-BF26-92C9D868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ECF307-4684-44B6-98D6-F35E7732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1C303-2B5A-4CD3-9E0B-1E1663C3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1CF12-E3D9-4226-A5F4-824125E0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E63DF-7E3A-4459-B0A8-EE3B8A12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01AA03-D1A6-428A-ACDC-560C03A5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A03D41-DC16-4CAB-B81F-FE4A541B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D34C7D-CD9B-4B31-B0F0-7D0C0265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B1ED-E74B-4010-8565-0C14BE9AC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3EDD-28D5-4473-B62B-D2F9ACA2E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67A7-7D59-4F16-B183-8B843D264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ftr" idx="2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sldNum" idx="3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BD31-048C-4DB4-8359-E259CA086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3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3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F770-3495-4CEA-AF44-F90619770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3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sldNum" idx="3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8640-12C5-4815-A39A-880735E1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ftr" idx="3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4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68C7-91C6-441C-9F63-69DB1BCBF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4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4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7ABC-B41C-4843-95A8-2CDE912B8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ftr" idx="4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sldNum" idx="4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B092-DE17-4F21-962B-F8F6FEEE3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ftr" idx="4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4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4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892D-B3F4-4C00-AC15-012605814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ftr" idx="5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sldNum" idx="5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43E8-7F19-4C42-ACE1-5F8AA0A17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ftr" idx="5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962520" y="63244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DE1D-46CD-4287-9B24-8A533F556F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sldNum" idx="5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8A6B-F496-4ED1-9228-37D7B0204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ftr" idx="5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798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5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C6C4-7ADE-4E5E-BE4C-3EE3384ECC47}" type="datetime">
              <a:rPr b="0" lang="en-US" sz="1400" spc="-1" strike="noStrike">
                <a:solidFill>
                  <a:srgbClr val="3b3d84"/>
                </a:solidFill>
                <a:latin typeface="Gill Sans MT"/>
              </a:rPr>
              <a:t>07/31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5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59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D936-B76D-4536-A76E-ECC03267F30C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2983-9797-4684-ACB6-FB44938F0749}" type="datetime">
              <a:rPr b="0" lang="en-US" sz="1400" spc="-1" strike="noStrike">
                <a:solidFill>
                  <a:srgbClr val="3b3d84"/>
                </a:solidFill>
                <a:latin typeface="Gill Sans MT"/>
              </a:rPr>
              <a:t>07/31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839E-04BF-4F74-9FDA-3EA99D6761AA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CE92-3508-4687-8F5C-0233A410CAB5}" type="datetime">
              <a:rPr b="0" lang="en-US" sz="1400" spc="-1" strike="noStrike">
                <a:solidFill>
                  <a:srgbClr val="3b3d84"/>
                </a:solidFill>
                <a:latin typeface="Gill Sans MT"/>
              </a:rPr>
              <a:t>07/31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1946-1F96-4D2D-815C-A39CAA3F80F4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99A0-4B60-4D41-97F7-8DEC2E7BB468}" type="datetime">
              <a:rPr b="0" lang="en-US" sz="1400" spc="-1" strike="noStrike">
                <a:solidFill>
                  <a:srgbClr val="3b3d84"/>
                </a:solidFill>
                <a:latin typeface="Gill Sans MT"/>
              </a:rPr>
              <a:t>07/31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325E-786D-4FD7-9B4F-AC8D3BEEEDDD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7C4A-7FC9-41BD-B9C2-CADFD90CFE98}" type="datetime">
              <a:rPr b="0" lang="en-US" sz="1400" spc="-1" strike="noStrike">
                <a:solidFill>
                  <a:srgbClr val="3b3d84"/>
                </a:solidFill>
                <a:latin typeface="Gill Sans MT"/>
              </a:rPr>
              <a:t>07/31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E3CD-799F-45E6-ADCE-03ED23A09DEA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7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6DE0-45F3-4D58-9DE5-79DF97A09943}" type="datetime">
              <a:rPr b="0" lang="en-US" sz="1400" spc="-1" strike="noStrike">
                <a:solidFill>
                  <a:srgbClr val="3b3d84"/>
                </a:solidFill>
                <a:latin typeface="Gill Sans MT"/>
              </a:rPr>
              <a:t>07/31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7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7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FB39-D890-4263-BB6A-686A228C1B3E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sldNum" idx="7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37EE-EB2D-4A9E-B985-0D39A3C69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ftr" idx="7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7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sldNum" idx="7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199D-5381-4F5B-AD25-ED947BD77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ftr" idx="8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8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sldNum" idx="8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3EC1-7D22-4183-BF6F-D80FEA111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ftr" idx="8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1722-4447-4333-980A-DA08B7437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ED75-4C86-478D-BBEF-E4ED74C742F0}" type="slidenum">
              <a:rPr b="1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dt" idx="8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 type="sldNum" idx="8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DD04-2413-44F7-835F-ABD6FDAEE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 type="ftr" idx="8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8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sldNum" idx="8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4663-534C-42DD-B925-FEFE7CCBB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ftr" idx="8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9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sldNum" idx="9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CC4D-E86B-4897-8AB4-A58D74B0E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ftr" idx="9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9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sldNum" idx="9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475F-48C4-44DE-8C38-8C5BEFCB2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ftr" idx="9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9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sldNum" idx="9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2A58-6E80-480B-B138-25ED051D4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ftr" idx="9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9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sldNum" idx="10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D9F2-21CB-4906-AC07-DBBE4E00E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ftr" idx="10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sldNum" idx="10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583B-E440-47DE-9DF5-659B46C2F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ftr" idx="10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10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sldNum" idx="10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0BB2-6978-4906-89F1-83662325D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ftr" idx="10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 type="dt" idx="1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 type="ftr" idx="1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 type="sldNum" idx="1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26C2-ED9B-4FFC-A58B-2600FA16FFEE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dt" idx="1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 type="ftr" idx="1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 type="sldNum" idx="1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1562-D808-402F-8F7E-1406EAB96342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9BF4-3858-40D6-86FD-9F63AC3CD7EC}" type="datetime">
              <a: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rPr>
              <a:t>07/31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0856-9EF3-4139-97A0-5C02F1CD5D7E}" type="slidenum">
              <a: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 type="dt" idx="1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 type="ftr" idx="1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 type="sldNum" idx="1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3ECF-CCF8-4D03-A8DA-9705BB0DCAB7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dt" idx="1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 type="sldNum" idx="1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0438-78B7-4437-988E-9F68A3E61DF7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1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 type="ftr" idx="1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 type="sldNum" idx="1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E9FA-B497-4FE0-87FC-3E80083618AD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dt" idx="1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ftr" idx="1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sldNum" idx="1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5EB5-E746-454C-81E4-00DBED1B11C4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 type="dt" idx="1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 type="ftr" idx="1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 type="sldNum" idx="1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A726-4D0A-45C3-944A-D002550391B3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dt" idx="1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 type="ftr" idx="1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 type="sldNum" idx="1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FEED-B24C-4E1A-81BA-64F195DB6221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 type="dt" idx="1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 type="ftr" idx="1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 type="sldNum" idx="1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E283-1F46-4A7C-89F4-481637ABDDA0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 type="dt" idx="1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 type="ftr" idx="1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 type="sldNum" idx="1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947A-A97C-472B-A851-54004555FE87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3298-96A6-4935-B4FA-FFF558E37EFF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 type="dt" idx="14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 type="sldNum" idx="14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1FFC-0332-4082-8DBE-354DB1FBA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5"/>
          <p:cNvSpPr>
            <a:spLocks noGrp="1"/>
          </p:cNvSpPr>
          <p:nvPr>
            <p:ph type="ftr" idx="14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CB13-CCF0-4942-98E2-46F7E37C0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 type="dt" idx="14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 type="sldNum" idx="14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6271-2632-4024-8AEF-56235C256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 type="ftr" idx="14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 type="dt" idx="14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 type="sldNum" idx="14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05D2-5945-4DD9-ADD2-E3C98AEA1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 type="ftr" idx="14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dt" idx="15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 type="sldNum" idx="15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9563-C2EB-4517-AAEB-F500308E8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 type="ftr" idx="15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 type="dt" idx="15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 type="sldNum" idx="15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0058-AC6B-46DC-A52A-9F1435768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PlaceHolder 5"/>
          <p:cNvSpPr>
            <a:spLocks noGrp="1"/>
          </p:cNvSpPr>
          <p:nvPr>
            <p:ph type="ftr" idx="15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 type="dt" idx="15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 type="sldNum" idx="15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FCEB-024E-433B-9CD4-0CB319359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 type="ftr" idx="15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 type="dt" idx="15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 type="sldNum" idx="16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DB31-6F80-4C6A-B7B7-3827BA522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5"/>
          <p:cNvSpPr>
            <a:spLocks noGrp="1"/>
          </p:cNvSpPr>
          <p:nvPr>
            <p:ph type="ftr" idx="16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 type="dt" idx="16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 type="sldNum" idx="16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CD7C-5CAB-4C07-8522-664138BF1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5"/>
          <p:cNvSpPr>
            <a:spLocks noGrp="1"/>
          </p:cNvSpPr>
          <p:nvPr>
            <p:ph type="ftr" idx="16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 type="dt" idx="16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 type="sldNum" idx="16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94B3-CA8B-4412-8743-C6A11BBE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5"/>
          <p:cNvSpPr>
            <a:spLocks noGrp="1"/>
          </p:cNvSpPr>
          <p:nvPr>
            <p:ph type="ftr" idx="16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dt" idx="16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16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83E8-EC93-415B-85C9-3C7B5FA1B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5"/>
          <p:cNvSpPr>
            <a:spLocks noGrp="1"/>
          </p:cNvSpPr>
          <p:nvPr>
            <p:ph type="ftr" idx="17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 type="dt" idx="17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 type="sldNum" idx="17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7ACD-DE88-4B9E-971F-9A3F0710E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5"/>
          <p:cNvSpPr>
            <a:spLocks noGrp="1"/>
          </p:cNvSpPr>
          <p:nvPr>
            <p:ph type="ftr" idx="17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18A6-2B59-4791-ADEE-0B3AADC99B5E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 type="dt" idx="17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 type="ftr" idx="1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 type="sldNum" idx="17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CF6F-4898-49CE-B4D2-6D805C3212D2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 type="dt" idx="17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 type="ftr" idx="1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5"/>
          <p:cNvSpPr>
            <a:spLocks noGrp="1"/>
          </p:cNvSpPr>
          <p:nvPr>
            <p:ph type="sldNum" idx="17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ABA7-3728-4C5C-B52F-1DCE64A62557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 type="dt" idx="18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 type="ftr" idx="1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 type="sldNum" idx="18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6EDC-F018-490C-B847-97FF1F377FC1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dt" idx="18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ftr" idx="1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5"/>
          <p:cNvSpPr>
            <a:spLocks noGrp="1"/>
          </p:cNvSpPr>
          <p:nvPr>
            <p:ph type="sldNum" idx="18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1F4B-DBEB-45EC-8D42-B6A3B0F80701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dt" idx="18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 type="ftr" idx="1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5"/>
          <p:cNvSpPr>
            <a:spLocks noGrp="1"/>
          </p:cNvSpPr>
          <p:nvPr>
            <p:ph type="sldNum" idx="18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A0CB-6288-4990-9E3F-797706F53496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 type="dt" idx="18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 type="ftr" idx="1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5"/>
          <p:cNvSpPr>
            <a:spLocks noGrp="1"/>
          </p:cNvSpPr>
          <p:nvPr>
            <p:ph type="sldNum" idx="19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CFEA-C357-4706-9175-E3793181FE04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 type="dt" idx="19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4"/>
          <p:cNvSpPr>
            <a:spLocks noGrp="1"/>
          </p:cNvSpPr>
          <p:nvPr>
            <p:ph type="ftr" idx="1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5"/>
          <p:cNvSpPr>
            <a:spLocks noGrp="1"/>
          </p:cNvSpPr>
          <p:nvPr>
            <p:ph type="sldNum" idx="19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03B6-60C2-4A22-A24B-EB4B1DF8EFFD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 type="dt" idx="19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4"/>
          <p:cNvSpPr>
            <a:spLocks noGrp="1"/>
          </p:cNvSpPr>
          <p:nvPr>
            <p:ph type="ftr" idx="1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5"/>
          <p:cNvSpPr>
            <a:spLocks noGrp="1"/>
          </p:cNvSpPr>
          <p:nvPr>
            <p:ph type="sldNum" idx="19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6705-3598-49C7-94B9-8AC27FCCB689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 type="dt" idx="19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 type="ftr" idx="19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 type="sldNum" idx="20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DEDA-32CA-4487-BE78-E3B92902D5E4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846" name="PlaceHolder 3"/>
          <p:cNvSpPr>
            <a:spLocks noGrp="1"/>
          </p:cNvSpPr>
          <p:nvPr>
            <p:ph type="dt" idx="20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4"/>
          <p:cNvSpPr>
            <a:spLocks noGrp="1"/>
          </p:cNvSpPr>
          <p:nvPr>
            <p:ph type="ftr" idx="20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5"/>
          <p:cNvSpPr>
            <a:spLocks noGrp="1"/>
          </p:cNvSpPr>
          <p:nvPr>
            <p:ph type="sldNum" idx="20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EA1D-B100-4622-ABF7-573E6394C152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F2E0-5A21-481C-8BCA-4EF6C93F2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dt" idx="20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ftr" idx="2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sldNum" idx="20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9A68-5C4E-467A-8647-A01EF6EE0AE7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1377-3765-4CEE-8A44-3A55D8343F19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C5CD-5A1F-446C-96FD-7B49A1A24496}" type="datetime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D2DE-CB5B-4B16-AC84-68FC590A21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8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israelimages.com/" TargetMode="External"/><Relationship Id="rId2" Type="http://schemas.openxmlformats.org/officeDocument/2006/relationships/slideLayout" Target="../slideLayouts/slideLayout12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9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457.xml"/><Relationship Id="rId6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8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89.xml"/><Relationship Id="rId6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89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.cs.cmu.edu/projects/objewa/images/wasp.jpg&amp;imgrefurl=http://graphics.cs.cmu.edu/projects/objewa/&amp;h=512&amp;w=512&amp;sz=75&amp;tbnid=IURvayonOqIJ:&amp;tbnh=128&amp;tbnw=128&amp;hl=en&amp;start=63&amp;prev=/images%3Fq%3Dwasp%26start%3D60%26svnum%3D10%26hl%3Den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EE2B-95AD-4E85-AA4E-F4DE9EC42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Using Perception to Supervise Language Learning and 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Language to Supervise Perception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epartment of Computer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Rectangle 5"/>
          <p:cNvSpPr/>
          <p:nvPr/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Joint work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Chen, Sonal Gup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ohyun Kim, Rohit Kate, Kristen Gra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</a:t>
            </a:r>
            <a:br>
              <a:rPr sz="3600"/>
            </a:b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 String Kernel/SVM Approach to Semantic Parsing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Productions in the formal grammar defining the MR are treated like semantic conce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An SVM classifier is trained for each production using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string subsequence kern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SimSun"/>
              </a:rPr>
              <a:t>(Lodhi et al.,200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to recognize phrases that refer to this conc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set of string classifiers is used with a version of Early’s CFG parser to compositionally build the most probable MR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0" name="Picture 4" descr="200crisp"/>
          <p:cNvPicPr/>
          <p:nvPr/>
        </p:nvPicPr>
        <p:blipFill>
          <a:blip r:embed="rId1"/>
          <a:stretch/>
        </p:blipFill>
        <p:spPr>
          <a:xfrm>
            <a:off x="168120" y="46080"/>
            <a:ext cx="7207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3BA5-5EA0-480D-AE2D-0541AF64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Language from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ual Con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do not learn language from annotated corp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ther do they learn language from just reading the newspaper, surfing the web, or listening to the ra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nsupervised language lear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RPA Learning by Reading Progra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way to learn language is to perceive language in the context of its use in the physical and social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quires inferring the meaning of utterances from their perceptual cont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ous Supervision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 system simultaneously exposed to perceptual contexts and natural language utterances should be able to learn the underlying language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ide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data of sentences associated with multiple potential M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skind (1996) uses this type “referentially uncertain” training data to learn meanings of word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ing meaning representations from perceptual data is a difficult unsolved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ur system directly works with symbolic M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E44D-B81E-42F2-BC99-FFDE2AED3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ctable Challenge Problem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to Be a Sportscast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realistic data of natural language used in a representative context while avoiding difficult issues in computer perception (i.e. speech and vi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textually annotated traces of activity in a simulated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aces of games in the Robocup simulator paired with textual sportscaster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E12C-BF3E-4E4A-A88F-7325EAAED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nded Language Learning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 Robocup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021" name="Picture 4" descr="soccer1"/>
          <p:cNvPicPr/>
          <p:nvPr/>
        </p:nvPicPr>
        <p:blipFill>
          <a:blip r:embed="rId1"/>
          <a:stretch/>
        </p:blipFill>
        <p:spPr>
          <a:xfrm>
            <a:off x="914400" y="1981080"/>
            <a:ext cx="2457360" cy="1832040"/>
          </a:xfrm>
          <a:prstGeom prst="rect">
            <a:avLst/>
          </a:prstGeom>
          <a:ln w="0">
            <a:noFill/>
          </a:ln>
        </p:spPr>
      </p:pic>
      <p:sp>
        <p:nvSpPr>
          <p:cNvPr id="3022" name="Text Box 5"/>
          <p:cNvSpPr/>
          <p:nvPr/>
        </p:nvSpPr>
        <p:spPr>
          <a:xfrm>
            <a:off x="914760" y="152388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obocup 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3" name="Picture 9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1260360" cy="1447920"/>
          </a:xfrm>
          <a:prstGeom prst="rect">
            <a:avLst/>
          </a:prstGeom>
          <a:ln w="0">
            <a:noFill/>
          </a:ln>
        </p:spPr>
      </p:pic>
      <p:sp>
        <p:nvSpPr>
          <p:cNvPr id="3024" name="Text Box 10"/>
          <p:cNvSpPr/>
          <p:nvPr/>
        </p:nvSpPr>
        <p:spPr>
          <a:xfrm>
            <a:off x="1266840" y="42958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portsc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5" name="Group 46"/>
          <p:cNvGrpSpPr/>
          <p:nvPr/>
        </p:nvGrpSpPr>
        <p:grpSpPr>
          <a:xfrm>
            <a:off x="3352680" y="2514600"/>
            <a:ext cx="2895840" cy="914400"/>
            <a:chOff x="3352680" y="2514600"/>
            <a:chExt cx="2895840" cy="914400"/>
          </a:xfrm>
        </p:grpSpPr>
        <p:grpSp>
          <p:nvGrpSpPr>
            <p:cNvPr id="3026" name="Group 12"/>
            <p:cNvGrpSpPr/>
            <p:nvPr/>
          </p:nvGrpSpPr>
          <p:grpSpPr>
            <a:xfrm>
              <a:off x="4267080" y="2514600"/>
              <a:ext cx="1981440" cy="914400"/>
              <a:chOff x="4267080" y="2514600"/>
              <a:chExt cx="1981440" cy="914400"/>
            </a:xfrm>
          </p:grpSpPr>
          <p:sp>
            <p:nvSpPr>
              <p:cNvPr id="3027" name="Rectangle 6"/>
              <p:cNvSpPr/>
              <p:nvPr/>
            </p:nvSpPr>
            <p:spPr>
              <a:xfrm>
                <a:off x="4267080" y="2514600"/>
                <a:ext cx="198144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Text Box 8"/>
              <p:cNvSpPr/>
              <p:nvPr/>
            </p:nvSpPr>
            <p:spPr>
              <a:xfrm>
                <a:off x="4664880" y="2614680"/>
                <a:ext cx="123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imulat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9" name="Line 25"/>
            <p:cNvSpPr/>
            <p:nvPr/>
          </p:nvSpPr>
          <p:spPr>
            <a:xfrm>
              <a:off x="3352680" y="28954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0" name="Group 47"/>
          <p:cNvGrpSpPr/>
          <p:nvPr/>
        </p:nvGrpSpPr>
        <p:grpSpPr>
          <a:xfrm>
            <a:off x="6248520" y="2514600"/>
            <a:ext cx="2590560" cy="761760"/>
            <a:chOff x="6248520" y="2514600"/>
            <a:chExt cx="2590560" cy="761760"/>
          </a:xfrm>
        </p:grpSpPr>
        <p:grpSp>
          <p:nvGrpSpPr>
            <p:cNvPr id="3031" name="Group 27"/>
            <p:cNvGrpSpPr/>
            <p:nvPr/>
          </p:nvGrpSpPr>
          <p:grpSpPr>
            <a:xfrm>
              <a:off x="6934320" y="2514600"/>
              <a:ext cx="1904760" cy="761760"/>
              <a:chOff x="6934320" y="2514600"/>
              <a:chExt cx="1904760" cy="761760"/>
            </a:xfrm>
          </p:grpSpPr>
          <p:sp>
            <p:nvSpPr>
              <p:cNvPr id="3032" name="Oval 23"/>
              <p:cNvSpPr/>
              <p:nvPr/>
            </p:nvSpPr>
            <p:spPr>
              <a:xfrm>
                <a:off x="6934320" y="2514600"/>
                <a:ext cx="1904760" cy="761760"/>
              </a:xfrm>
              <a:prstGeom prst="ellipse">
                <a:avLst/>
              </a:prstGeom>
              <a:solidFill>
                <a:srgbClr val="ff5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Text Box 24"/>
              <p:cNvSpPr/>
              <p:nvPr/>
            </p:nvSpPr>
            <p:spPr>
              <a:xfrm>
                <a:off x="7084800" y="2666880"/>
                <a:ext cx="171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ived Fac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4" name="Line 26"/>
            <p:cNvSpPr/>
            <p:nvPr/>
          </p:nvSpPr>
          <p:spPr>
            <a:xfrm>
              <a:off x="6248520" y="28954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5" name="AutoShape 11"/>
          <p:cNvSpPr/>
          <p:nvPr/>
        </p:nvSpPr>
        <p:spPr>
          <a:xfrm>
            <a:off x="2590920" y="4648320"/>
            <a:ext cx="1523880" cy="457200"/>
          </a:xfrm>
          <a:prstGeom prst="wedgeEllipseCallout">
            <a:avLst>
              <a:gd name="adj1" fmla="val -89064"/>
              <a:gd name="adj2" fmla="val 8506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6" name="Group 50"/>
          <p:cNvGrpSpPr/>
          <p:nvPr/>
        </p:nvGrpSpPr>
        <p:grpSpPr>
          <a:xfrm>
            <a:off x="4114800" y="3276720"/>
            <a:ext cx="3733920" cy="2133360"/>
            <a:chOff x="4114800" y="3276720"/>
            <a:chExt cx="3733920" cy="2133360"/>
          </a:xfrm>
        </p:grpSpPr>
        <p:grpSp>
          <p:nvGrpSpPr>
            <p:cNvPr id="3037" name="Group 31"/>
            <p:cNvGrpSpPr/>
            <p:nvPr/>
          </p:nvGrpSpPr>
          <p:grpSpPr>
            <a:xfrm>
              <a:off x="4647240" y="4495680"/>
              <a:ext cx="2062800" cy="914400"/>
              <a:chOff x="4647240" y="4495680"/>
              <a:chExt cx="2062800" cy="914400"/>
            </a:xfrm>
          </p:grpSpPr>
          <p:sp>
            <p:nvSpPr>
              <p:cNvPr id="3038" name="Rectangle 20"/>
              <p:cNvSpPr/>
              <p:nvPr/>
            </p:nvSpPr>
            <p:spPr>
              <a:xfrm>
                <a:off x="4724280" y="4495680"/>
                <a:ext cx="198072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Text Box 21"/>
              <p:cNvSpPr/>
              <p:nvPr/>
            </p:nvSpPr>
            <p:spPr>
              <a:xfrm>
                <a:off x="4647240" y="4572000"/>
                <a:ext cx="206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round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anguage Learn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0" name="Line 28"/>
            <p:cNvSpPr/>
            <p:nvPr/>
          </p:nvSpPr>
          <p:spPr>
            <a:xfrm flipH="1">
              <a:off x="6019920" y="3276720"/>
              <a:ext cx="182880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Line 30"/>
            <p:cNvSpPr/>
            <p:nvPr/>
          </p:nvSpPr>
          <p:spPr>
            <a:xfrm>
              <a:off x="4114800" y="48769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2" name="Group 51"/>
          <p:cNvGrpSpPr/>
          <p:nvPr/>
        </p:nvGrpSpPr>
        <p:grpSpPr>
          <a:xfrm>
            <a:off x="5187600" y="4653720"/>
            <a:ext cx="3408120" cy="1938240"/>
            <a:chOff x="5187600" y="4653720"/>
            <a:chExt cx="3408120" cy="1938240"/>
          </a:xfrm>
        </p:grpSpPr>
        <p:sp>
          <p:nvSpPr>
            <p:cNvPr id="3043" name="Rectangle 32"/>
            <p:cNvSpPr/>
            <p:nvPr/>
          </p:nvSpPr>
          <p:spPr>
            <a:xfrm>
              <a:off x="7396920" y="4653720"/>
              <a:ext cx="119880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Rectangle 33"/>
            <p:cNvSpPr/>
            <p:nvPr/>
          </p:nvSpPr>
          <p:spPr>
            <a:xfrm>
              <a:off x="5187600" y="5949360"/>
              <a:ext cx="108288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Line 34"/>
            <p:cNvSpPr/>
            <p:nvPr/>
          </p:nvSpPr>
          <p:spPr>
            <a:xfrm>
              <a:off x="5638680" y="54100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Line 35"/>
            <p:cNvSpPr/>
            <p:nvPr/>
          </p:nvSpPr>
          <p:spPr>
            <a:xfrm>
              <a:off x="6705720" y="49528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Line 40"/>
            <p:cNvSpPr/>
            <p:nvPr/>
          </p:nvSpPr>
          <p:spPr>
            <a:xfrm>
              <a:off x="6705720" y="54100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Line 42"/>
            <p:cNvSpPr/>
            <p:nvPr/>
          </p:nvSpPr>
          <p:spPr>
            <a:xfrm flipV="1">
              <a:off x="7257960" y="5291280"/>
              <a:ext cx="42408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Line 43"/>
            <p:cNvSpPr/>
            <p:nvPr/>
          </p:nvSpPr>
          <p:spPr>
            <a:xfrm flipH="1">
              <a:off x="6276960" y="6005520"/>
              <a:ext cx="409680" cy="2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Oval 37"/>
            <p:cNvSpPr/>
            <p:nvPr/>
          </p:nvSpPr>
          <p:spPr>
            <a:xfrm>
              <a:off x="6553080" y="5639400"/>
              <a:ext cx="1143000" cy="4770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1" name="Line 44"/>
          <p:cNvSpPr/>
          <p:nvPr/>
        </p:nvSpPr>
        <p:spPr>
          <a:xfrm>
            <a:off x="7924680" y="327672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AutoShape 45"/>
          <p:cNvSpPr/>
          <p:nvPr/>
        </p:nvSpPr>
        <p:spPr>
          <a:xfrm>
            <a:off x="7772400" y="5715000"/>
            <a:ext cx="1371600" cy="380880"/>
          </a:xfrm>
          <a:prstGeom prst="wedgeEllipseCallout">
            <a:avLst>
              <a:gd name="adj1" fmla="val -26736"/>
              <a:gd name="adj2" fmla="val -1616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4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5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9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3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6 ( C1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5 ( C1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22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(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ortscasting Data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77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human textual commentary for the 4 Robocup championship games from 2001-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events/game = 2,61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sentences/game = 50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ntence matched to all events within previous 5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MRs/sentence =  2.5 (min 1, max 12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annotated with correct matchings of sentences to MRs (for evaluation purposes onl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990A-DF83-4771-BB36-72B7F4B31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Language and 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Language Processing (NLP) and Computer Vision (CV) are both very challenging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Learning (ML) is now extensively used to automate the construction of both effective NLP and CV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uses supervised ML and requires difficult and expensive human annotation of large text or image/video corpora for trai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it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-like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learn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ervision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Kate &amp; Mooney, AAAI-0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n iterative EM-like self-training method to gradually converge on a correct meaning for each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3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Rectangle 36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18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Rectangle 35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Rectangle 37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4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Rectangle 35"/>
          <p:cNvSpPr/>
          <p:nvPr/>
        </p:nvSpPr>
        <p:spPr>
          <a:xfrm>
            <a:off x="190080" y="1173240"/>
            <a:ext cx="88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esulting NL-MR pairs are weighted and given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Text Box 37"/>
          <p:cNvSpPr/>
          <p:nvPr/>
        </p:nvSpPr>
        <p:spPr>
          <a:xfrm>
            <a:off x="3725640" y="1995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Text Box 39"/>
          <p:cNvSpPr/>
          <p:nvPr/>
        </p:nvSpPr>
        <p:spPr>
          <a:xfrm>
            <a:off x="3716280" y="2376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Text Box 40"/>
          <p:cNvSpPr/>
          <p:nvPr/>
        </p:nvSpPr>
        <p:spPr>
          <a:xfrm>
            <a:off x="3487680" y="28335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Text Box 41"/>
          <p:cNvSpPr/>
          <p:nvPr/>
        </p:nvSpPr>
        <p:spPr>
          <a:xfrm>
            <a:off x="3944880" y="2986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Text Box 42"/>
          <p:cNvSpPr/>
          <p:nvPr/>
        </p:nvSpPr>
        <p:spPr>
          <a:xfrm>
            <a:off x="3792240" y="3214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Text Box 43"/>
          <p:cNvSpPr/>
          <p:nvPr/>
        </p:nvSpPr>
        <p:spPr>
          <a:xfrm>
            <a:off x="33541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Text Box 44"/>
          <p:cNvSpPr/>
          <p:nvPr/>
        </p:nvSpPr>
        <p:spPr>
          <a:xfrm>
            <a:off x="257328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Text Box 45"/>
          <p:cNvSpPr/>
          <p:nvPr/>
        </p:nvSpPr>
        <p:spPr>
          <a:xfrm>
            <a:off x="304956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Text Box 46"/>
          <p:cNvSpPr/>
          <p:nvPr/>
        </p:nvSpPr>
        <p:spPr>
          <a:xfrm>
            <a:off x="3335040" y="40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Text Box 47"/>
          <p:cNvSpPr/>
          <p:nvPr/>
        </p:nvSpPr>
        <p:spPr>
          <a:xfrm>
            <a:off x="3201840" y="4357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Text Box 48"/>
          <p:cNvSpPr/>
          <p:nvPr/>
        </p:nvSpPr>
        <p:spPr>
          <a:xfrm>
            <a:off x="2725560" y="4419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Text Box 49"/>
          <p:cNvSpPr/>
          <p:nvPr/>
        </p:nvSpPr>
        <p:spPr>
          <a:xfrm>
            <a:off x="3259080" y="489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Text Box 50"/>
          <p:cNvSpPr/>
          <p:nvPr/>
        </p:nvSpPr>
        <p:spPr>
          <a:xfrm>
            <a:off x="3735360" y="4967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Text Box 51"/>
          <p:cNvSpPr/>
          <p:nvPr/>
        </p:nvSpPr>
        <p:spPr>
          <a:xfrm>
            <a:off x="3278160" y="5195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Text Box 52"/>
          <p:cNvSpPr/>
          <p:nvPr/>
        </p:nvSpPr>
        <p:spPr>
          <a:xfrm>
            <a:off x="2820960" y="55767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Text Box 53"/>
          <p:cNvSpPr/>
          <p:nvPr/>
        </p:nvSpPr>
        <p:spPr>
          <a:xfrm>
            <a:off x="3278160" y="5805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Text Box 54"/>
          <p:cNvSpPr/>
          <p:nvPr/>
        </p:nvSpPr>
        <p:spPr>
          <a:xfrm>
            <a:off x="2877840" y="6033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7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Rectangle 36"/>
          <p:cNvSpPr/>
          <p:nvPr/>
        </p:nvSpPr>
        <p:spPr>
          <a:xfrm>
            <a:off x="649440" y="1143000"/>
            <a:ext cx="832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Estimate the confidence of each NL-MR pair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trained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0" name="Group 56"/>
          <p:cNvGrpSpPr/>
          <p:nvPr/>
        </p:nvGrpSpPr>
        <p:grpSpPr>
          <a:xfrm>
            <a:off x="2519280" y="1811160"/>
            <a:ext cx="1953000" cy="4591080"/>
            <a:chOff x="2519280" y="1811160"/>
            <a:chExt cx="1953000" cy="4591080"/>
          </a:xfrm>
        </p:grpSpPr>
        <p:sp>
          <p:nvSpPr>
            <p:cNvPr id="3341" name="Text Box 37"/>
            <p:cNvSpPr/>
            <p:nvPr/>
          </p:nvSpPr>
          <p:spPr>
            <a:xfrm>
              <a:off x="3671640" y="19954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Rectangle 38"/>
            <p:cNvSpPr/>
            <p:nvPr/>
          </p:nvSpPr>
          <p:spPr>
            <a:xfrm>
              <a:off x="3624120" y="18111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Text Box 39"/>
            <p:cNvSpPr/>
            <p:nvPr/>
          </p:nvSpPr>
          <p:spPr>
            <a:xfrm>
              <a:off x="3662280" y="2376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Text Box 40"/>
            <p:cNvSpPr/>
            <p:nvPr/>
          </p:nvSpPr>
          <p:spPr>
            <a:xfrm>
              <a:off x="3433680" y="28335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Text Box 41"/>
            <p:cNvSpPr/>
            <p:nvPr/>
          </p:nvSpPr>
          <p:spPr>
            <a:xfrm>
              <a:off x="3890880" y="29862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Text Box 42"/>
            <p:cNvSpPr/>
            <p:nvPr/>
          </p:nvSpPr>
          <p:spPr>
            <a:xfrm>
              <a:off x="3738240" y="32148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Text Box 43"/>
            <p:cNvSpPr/>
            <p:nvPr/>
          </p:nvSpPr>
          <p:spPr>
            <a:xfrm>
              <a:off x="3300120" y="34290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Text Box 44"/>
            <p:cNvSpPr/>
            <p:nvPr/>
          </p:nvSpPr>
          <p:spPr>
            <a:xfrm>
              <a:off x="299556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Text Box 45"/>
            <p:cNvSpPr/>
            <p:nvPr/>
          </p:nvSpPr>
          <p:spPr>
            <a:xfrm>
              <a:off x="3281040" y="4052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Text Box 46"/>
            <p:cNvSpPr/>
            <p:nvPr/>
          </p:nvSpPr>
          <p:spPr>
            <a:xfrm>
              <a:off x="3205080" y="4890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Text Box 47"/>
            <p:cNvSpPr/>
            <p:nvPr/>
          </p:nvSpPr>
          <p:spPr>
            <a:xfrm>
              <a:off x="3681360" y="4967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Text Box 48"/>
            <p:cNvSpPr/>
            <p:nvPr/>
          </p:nvSpPr>
          <p:spPr>
            <a:xfrm>
              <a:off x="3224160" y="5195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Text Box 49"/>
            <p:cNvSpPr/>
            <p:nvPr/>
          </p:nvSpPr>
          <p:spPr>
            <a:xfrm>
              <a:off x="2766960" y="5576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Text Box 50"/>
            <p:cNvSpPr/>
            <p:nvPr/>
          </p:nvSpPr>
          <p:spPr>
            <a:xfrm>
              <a:off x="3224160" y="5805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8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Text Box 51"/>
            <p:cNvSpPr/>
            <p:nvPr/>
          </p:nvSpPr>
          <p:spPr>
            <a:xfrm>
              <a:off x="2823840" y="6033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Text Box 53"/>
            <p:cNvSpPr/>
            <p:nvPr/>
          </p:nvSpPr>
          <p:spPr>
            <a:xfrm>
              <a:off x="251928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Text Box 54"/>
            <p:cNvSpPr/>
            <p:nvPr/>
          </p:nvSpPr>
          <p:spPr>
            <a:xfrm>
              <a:off x="2693880" y="4433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9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Text Box 55"/>
            <p:cNvSpPr/>
            <p:nvPr/>
          </p:nvSpPr>
          <p:spPr>
            <a:xfrm>
              <a:off x="3151080" y="4267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1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Rectangle 52"/>
          <p:cNvSpPr/>
          <p:nvPr/>
        </p:nvSpPr>
        <p:spPr>
          <a:xfrm>
            <a:off x="178920" y="35352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Text Box 53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Text Box 54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Text Box 55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5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Text Box 52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Text Box 53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Text Box 54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8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Line 20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Line 21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Line 22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Line 2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Rectangle 24"/>
          <p:cNvSpPr/>
          <p:nvPr/>
        </p:nvSpPr>
        <p:spPr>
          <a:xfrm>
            <a:off x="646200" y="868320"/>
            <a:ext cx="773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Give the best pair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 in the next iter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peat until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Rectangle 25"/>
          <p:cNvSpPr/>
          <p:nvPr/>
        </p:nvSpPr>
        <p:spPr>
          <a:xfrm>
            <a:off x="1741320" y="-3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9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P with EM-like retraining to handle ambiguous training d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ugmentation as added to KRISP to create KRIS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BD0A-3077-46D6-820D-C9307B7A4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-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9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teration of EM-like training produces very noisy training data (&gt; 50% erro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ISP is better than WASP at handling noisy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VM prevents overfitt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ring kernel allows partial match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KRISP does not support language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rain KRISPER just to determine the best NL→MR matc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rain WASP on the resulting unambiguously supervis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F99A-4788-4258-8C95-554015D7A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ross-Supervision of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and 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aturally co-occurring perceptual input to supervise languag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aturally co-occurring linguistic input to supervise visual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Text Box 4"/>
          <p:cNvSpPr/>
          <p:nvPr/>
        </p:nvSpPr>
        <p:spPr>
          <a:xfrm>
            <a:off x="2509200" y="541008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 cylinder on top of  a red c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2" name="Group 28"/>
          <p:cNvGrpSpPr/>
          <p:nvPr/>
        </p:nvGrpSpPr>
        <p:grpSpPr>
          <a:xfrm>
            <a:off x="3962520" y="3505320"/>
            <a:ext cx="1218960" cy="1904760"/>
            <a:chOff x="3962520" y="3505320"/>
            <a:chExt cx="1218960" cy="1904760"/>
          </a:xfrm>
        </p:grpSpPr>
        <p:sp>
          <p:nvSpPr>
            <p:cNvPr id="2943" name="AutoShape 5"/>
            <p:cNvSpPr/>
            <p:nvPr/>
          </p:nvSpPr>
          <p:spPr>
            <a:xfrm>
              <a:off x="3962520" y="4419720"/>
              <a:ext cx="1218960" cy="990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AutoShape 6"/>
            <p:cNvSpPr/>
            <p:nvPr/>
          </p:nvSpPr>
          <p:spPr>
            <a:xfrm>
              <a:off x="4191120" y="3505320"/>
              <a:ext cx="685800" cy="1218960"/>
            </a:xfrm>
            <a:prstGeom prst="can">
              <a:avLst>
                <a:gd name="adj" fmla="val 25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5" name="Group 26"/>
          <p:cNvGrpSpPr/>
          <p:nvPr/>
        </p:nvGrpSpPr>
        <p:grpSpPr>
          <a:xfrm>
            <a:off x="609480" y="3580920"/>
            <a:ext cx="3353040" cy="2057760"/>
            <a:chOff x="609480" y="3580920"/>
            <a:chExt cx="3353040" cy="2057760"/>
          </a:xfrm>
        </p:grpSpPr>
        <p:sp>
          <p:nvSpPr>
            <p:cNvPr id="2946" name="Rectangle 7"/>
            <p:cNvSpPr/>
            <p:nvPr/>
          </p:nvSpPr>
          <p:spPr>
            <a:xfrm>
              <a:off x="609480" y="4196520"/>
              <a:ext cx="1359000" cy="6426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Line 10"/>
            <p:cNvSpPr/>
            <p:nvPr/>
          </p:nvSpPr>
          <p:spPr>
            <a:xfrm flipH="1" flipV="1">
              <a:off x="1904760" y="4876920"/>
              <a:ext cx="68580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Text Box 11"/>
            <p:cNvSpPr/>
            <p:nvPr/>
          </p:nvSpPr>
          <p:spPr>
            <a:xfrm rot="2995800">
              <a:off x="2040840" y="4952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Text Box 13"/>
            <p:cNvSpPr/>
            <p:nvPr/>
          </p:nvSpPr>
          <p:spPr>
            <a:xfrm>
              <a:off x="213120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per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0" name="Group 17"/>
            <p:cNvGrpSpPr/>
            <p:nvPr/>
          </p:nvGrpSpPr>
          <p:grpSpPr>
            <a:xfrm>
              <a:off x="1981080" y="3580920"/>
              <a:ext cx="1981440" cy="1829160"/>
              <a:chOff x="1981080" y="3580920"/>
              <a:chExt cx="1981440" cy="1829160"/>
            </a:xfrm>
          </p:grpSpPr>
          <p:sp>
            <p:nvSpPr>
              <p:cNvPr id="2951" name="Line 14"/>
              <p:cNvSpPr/>
              <p:nvPr/>
            </p:nvSpPr>
            <p:spPr>
              <a:xfrm flipH="1">
                <a:off x="1981080" y="4419720"/>
                <a:ext cx="1524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Line 15"/>
              <p:cNvSpPr/>
              <p:nvPr/>
            </p:nvSpPr>
            <p:spPr>
              <a:xfrm flipV="1">
                <a:off x="3505320" y="3580920"/>
                <a:ext cx="45720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Line 16"/>
              <p:cNvSpPr/>
              <p:nvPr/>
            </p:nvSpPr>
            <p:spPr>
              <a:xfrm>
                <a:off x="3505320" y="4419720"/>
                <a:ext cx="30456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4" name="Group 27"/>
          <p:cNvGrpSpPr/>
          <p:nvPr/>
        </p:nvGrpSpPr>
        <p:grpSpPr>
          <a:xfrm>
            <a:off x="5181480" y="3580920"/>
            <a:ext cx="3340080" cy="2496600"/>
            <a:chOff x="5181480" y="3580920"/>
            <a:chExt cx="3340080" cy="2496600"/>
          </a:xfrm>
        </p:grpSpPr>
        <p:grpSp>
          <p:nvGrpSpPr>
            <p:cNvPr id="2955" name="Group 18"/>
            <p:cNvGrpSpPr/>
            <p:nvPr/>
          </p:nvGrpSpPr>
          <p:grpSpPr>
            <a:xfrm>
              <a:off x="5181480" y="3580920"/>
              <a:ext cx="1981440" cy="1829160"/>
              <a:chOff x="5181480" y="3580920"/>
              <a:chExt cx="1981440" cy="1829160"/>
            </a:xfrm>
          </p:grpSpPr>
          <p:sp>
            <p:nvSpPr>
              <p:cNvPr id="2956" name="Line 19"/>
              <p:cNvSpPr/>
              <p:nvPr/>
            </p:nvSpPr>
            <p:spPr>
              <a:xfrm>
                <a:off x="5638680" y="4419720"/>
                <a:ext cx="1524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Line 20"/>
              <p:cNvSpPr/>
              <p:nvPr/>
            </p:nvSpPr>
            <p:spPr>
              <a:xfrm flipH="1" flipV="1">
                <a:off x="5181480" y="3580920"/>
                <a:ext cx="45720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Line 21"/>
              <p:cNvSpPr/>
              <p:nvPr/>
            </p:nvSpPr>
            <p:spPr>
              <a:xfrm flipH="1">
                <a:off x="5334120" y="4419720"/>
                <a:ext cx="30456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9" name="Rectangle 22"/>
            <p:cNvSpPr/>
            <p:nvPr/>
          </p:nvSpPr>
          <p:spPr>
            <a:xfrm>
              <a:off x="7162920" y="4120560"/>
              <a:ext cx="1358640" cy="6426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is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Line 23"/>
            <p:cNvSpPr/>
            <p:nvPr/>
          </p:nvSpPr>
          <p:spPr>
            <a:xfrm flipV="1">
              <a:off x="6858000" y="4800240"/>
              <a:ext cx="60948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Text Box 24"/>
            <p:cNvSpPr/>
            <p:nvPr/>
          </p:nvSpPr>
          <p:spPr>
            <a:xfrm>
              <a:off x="5866200" y="3962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Text Box 25"/>
            <p:cNvSpPr/>
            <p:nvPr/>
          </p:nvSpPr>
          <p:spPr>
            <a:xfrm rot="18526800">
              <a:off x="6551640" y="518076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per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ER-GE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97" name=""/>
          <p:cNvSpPr txBox="1"/>
          <p:nvPr/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KRISPER and WASPER, the correct MR for each sentence is chosen based on maximizing the confidence of semantic parsing (NL→M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WASPER-GEN determines the best matching based 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→N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 each potential NL/MR pair by using the currently trained WA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NIST MT score between the generated sentence and the potential matching sent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DFDF-754B-4648-8A30-4CE5472BB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0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requires not only knowing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y something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ctical 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ut also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ay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ategic 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utomated sportscasting, one must be able to effectively choose which events to describ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A2E5-F7AA-4023-B619-696A3ACBA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7A29-3DB8-4648-8D47-D86429FF9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Rectangle 4"/>
          <p:cNvSpPr/>
          <p:nvPr/>
        </p:nvSpPr>
        <p:spPr>
          <a:xfrm>
            <a:off x="2819520" y="1600200"/>
            <a:ext cx="3581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0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16D3-3AD1-4D20-A93E-0B4FADA5B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Rectangle 4"/>
          <p:cNvSpPr/>
          <p:nvPr/>
        </p:nvSpPr>
        <p:spPr>
          <a:xfrm>
            <a:off x="2819520" y="1600200"/>
            <a:ext cx="3581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7 ,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6 ,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2 ,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turnover ( purple3 , pink9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0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event type (e.g. pass, kick) estimate the probability that it is described by the sportsc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NL/MR matching that indicates which events were described, but this is not provided in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estimated matching computed by KRISPER, WASPER or WASPER-GE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a version of EM to determine the probability of mentioning each event type just based on strategic info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DF6A-EEFA-40DD-8141-6AAD951EF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terative Generation Strategy Learning (IGSL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estimates the likelihood of commenting on each event type from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elf-training iterations to improve estimates (à la 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m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clip commentated using WASPER-GEN with EM-based strategic generation, since this gave the best results fo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TTS was used to synthesize speech from textual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trained for Korean to illustrate language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17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3B6B-99FB-4C1A-B503-DDD0A219D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8" name="2004-commentary-movie.wmv" descr=""/>
          <p:cNvPicPr/>
          <p:nvPr/>
        </p:nvPicPr>
        <p:blipFill>
          <a:blip r:embed="rId1"/>
          <a:stretch/>
        </p:blipFill>
        <p:spPr>
          <a:xfrm>
            <a:off x="304920" y="-30240"/>
            <a:ext cx="86104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351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351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3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0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38E5-BF6E-42AC-BFCA-945D857F0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1" name="2004hangul_video_result.wmv" descr=""/>
          <p:cNvPicPr/>
          <p:nvPr/>
        </p:nvPicPr>
        <p:blipFill>
          <a:blip r:embed="rId1"/>
          <a:stretch/>
        </p:blipFill>
        <p:spPr>
          <a:xfrm>
            <a:off x="26676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3521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3521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3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3" name=""/>
          <p:cNvSpPr txBox="1"/>
          <p:nvPr/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learning curves by training on all combinations of 1 to 3 games and testing on all games not used for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andom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random choice of possible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old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correct matching of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system’s annotations that are correc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gold-standard annotations correctly produc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-measur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Harmonic mean of precision and rec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Perception to Supervise Language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to Sportscast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(Chen &amp; Mooney, ICML-08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learned parser maps sentences to their correct meanings in the test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gold-standard matches to determine the correct MR for each sentence that has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MR mus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xa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 gold-standard to count as corr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527" name="Picture 4" descr="parse-results-average"/>
          <p:cNvPicPr/>
          <p:nvPr/>
        </p:nvPicPr>
        <p:blipFill>
          <a:blip r:embed="rId1"/>
          <a:stretch/>
        </p:blipFill>
        <p:spPr>
          <a:xfrm>
            <a:off x="838080" y="13716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NL generator produces English sentences for chosen MRs in the test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gold-standard matches to determine the correct sentence for each MR that has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IST score to compare generated sentence to the one in the gold-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531" name="Picture 4" descr="generator-results-nist-average"/>
          <p:cNvPicPr/>
          <p:nvPr/>
        </p:nvPicPr>
        <p:blipFill>
          <a:blip r:embed="rId1"/>
          <a:stretch/>
        </p:blipFill>
        <p:spPr>
          <a:xfrm>
            <a:off x="762120" y="13446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3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test games, measure how accurately the system determines which perceived events to comment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he subset of events chosen by the system to the subset chosen by the human annotator (as given by the gold-standard match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535" name="Object 4"/>
          <p:cNvGraphicFramePr/>
          <p:nvPr/>
        </p:nvGraphicFramePr>
        <p:xfrm>
          <a:off x="533520" y="1371600"/>
          <a:ext cx="80978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0978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Quasi Turing 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38" name=""/>
          <p:cNvSpPr txBox="1"/>
          <p:nvPr/>
        </p:nvSpPr>
        <p:spPr>
          <a:xfrm>
            <a:off x="380520" y="1295280"/>
            <a:ext cx="8534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ed 4 fluent English speakers to evaluate overall quality of sportsca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picked a 2 minute segment from each of the 4 g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uman judge evaluated 8 commented game clips, each of the 4 segments commented once by a human and once by the machine when tested on that game (and trained on the 3 other gam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 clips presented to each judge were shown in random counter-balanced or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es were not told which ones were human or machine gene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914E-8631-4680-8226-47BC14F004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541" name=""/>
          <p:cNvGraphicFramePr/>
          <p:nvPr/>
        </p:nvGraphicFramePr>
        <p:xfrm>
          <a:off x="304920" y="2133720"/>
          <a:ext cx="8458200" cy="3108240"/>
        </p:xfrm>
        <a:graphic>
          <a:graphicData uri="http://schemas.openxmlformats.org/drawingml/2006/table">
            <a:tbl>
              <a:tblPr/>
              <a:tblGrid>
                <a:gridCol w="2114280"/>
                <a:gridCol w="2114640"/>
                <a:gridCol w="2114640"/>
                <a:gridCol w="2114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 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w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l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fl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ber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354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73CE-5E50-4443-9596-CFF3F64DF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Human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544" name=""/>
          <p:cNvGraphicFramePr/>
          <p:nvPr/>
        </p:nvGraphicFramePr>
        <p:xfrm>
          <a:off x="457200" y="2133720"/>
          <a:ext cx="8458200" cy="219384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ment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sp>
        <p:nvSpPr>
          <p:cNvPr id="354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15F3-456C-490E-8422-332E6F755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-Training with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isual and Textual Views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(Gupta, Kim, Grauman &amp; Mooney, ECML-08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4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1550-6D31-4364-AB2F-D7980832E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C60F-F935-4342-AC52-2B4FD995C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maps a natural-language sentence to a complete, detailed semantic representa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logical f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meaning represen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For many applications, the desired outpu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ample test appl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CLang: RoboCup Coach Language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Multi-Modal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mage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4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both images or videos and their textual captions for class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emi-supervised learning to exploit unlabeled training data in addition to labeled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-tra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Blum and Mitchell, 1998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ing visual and textual vie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 both language supervising vision  and vision supervis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2F6F-011B-472D-904F-5CD3FE5B0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Sample Classified Captioned Imag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552" name="Picture 6" descr="desert3.jpeg"/>
          <p:cNvPicPr/>
          <p:nvPr/>
        </p:nvPicPr>
        <p:blipFill>
          <a:blip r:embed="rId1"/>
          <a:stretch/>
        </p:blipFill>
        <p:spPr>
          <a:xfrm>
            <a:off x="5257800" y="1371600"/>
            <a:ext cx="3048120" cy="2006640"/>
          </a:xfrm>
          <a:prstGeom prst="rect">
            <a:avLst/>
          </a:prstGeom>
          <a:ln w="0">
            <a:noFill/>
          </a:ln>
        </p:spPr>
      </p:pic>
      <p:pic>
        <p:nvPicPr>
          <p:cNvPr id="3553" name="Picture 7" descr="trees1.jpeg"/>
          <p:cNvPicPr/>
          <p:nvPr/>
        </p:nvPicPr>
        <p:blipFill>
          <a:blip r:embed="rId2"/>
          <a:stretch/>
        </p:blipFill>
        <p:spPr>
          <a:xfrm>
            <a:off x="1905120" y="4114800"/>
            <a:ext cx="2960640" cy="1968480"/>
          </a:xfrm>
          <a:prstGeom prst="rect">
            <a:avLst/>
          </a:prstGeom>
          <a:ln w="0">
            <a:noFill/>
          </a:ln>
        </p:spPr>
      </p:pic>
      <p:pic>
        <p:nvPicPr>
          <p:cNvPr id="3554" name="Picture 8" descr="trees4.jpeg"/>
          <p:cNvPicPr/>
          <p:nvPr/>
        </p:nvPicPr>
        <p:blipFill>
          <a:blip r:embed="rId3"/>
          <a:stretch/>
        </p:blipFill>
        <p:spPr>
          <a:xfrm>
            <a:off x="5257800" y="41148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3555" name="Rectangle 7"/>
          <p:cNvSpPr/>
          <p:nvPr/>
        </p:nvSpPr>
        <p:spPr>
          <a:xfrm>
            <a:off x="1935360" y="3352680"/>
            <a:ext cx="289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ltivating farming at Nabata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ins of the Ancient Avd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Rectangle 8"/>
          <p:cNvSpPr/>
          <p:nvPr/>
        </p:nvSpPr>
        <p:spPr>
          <a:xfrm>
            <a:off x="5285880" y="3352680"/>
            <a:ext cx="24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douin Leads His Donk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at Carries Load Of St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Rectangle 9"/>
          <p:cNvSpPr/>
          <p:nvPr/>
        </p:nvSpPr>
        <p:spPr>
          <a:xfrm>
            <a:off x="1938240" y="609444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ex Eating In The 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Rectangle 10"/>
          <p:cNvSpPr/>
          <p:nvPr/>
        </p:nvSpPr>
        <p:spPr>
          <a:xfrm>
            <a:off x="5276520" y="6095880"/>
            <a:ext cx="241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ance To Mikveh Isra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ricultur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9" name="Picture 11" descr="13666"/>
          <p:cNvPicPr/>
          <p:nvPr/>
        </p:nvPicPr>
        <p:blipFill>
          <a:blip r:embed="rId4"/>
          <a:stretch/>
        </p:blipFill>
        <p:spPr>
          <a:xfrm>
            <a:off x="1905120" y="1371600"/>
            <a:ext cx="3043080" cy="2028960"/>
          </a:xfrm>
          <a:prstGeom prst="rect">
            <a:avLst/>
          </a:prstGeom>
          <a:ln w="0">
            <a:noFill/>
          </a:ln>
        </p:spPr>
      </p:pic>
      <p:sp>
        <p:nvSpPr>
          <p:cNvPr id="3560" name="Line 12"/>
          <p:cNvSpPr/>
          <p:nvPr/>
        </p:nvSpPr>
        <p:spPr>
          <a:xfrm>
            <a:off x="533520" y="396252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Rectangle 13"/>
          <p:cNvSpPr/>
          <p:nvPr/>
        </p:nvSpPr>
        <p:spPr>
          <a:xfrm>
            <a:off x="464040" y="2057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Rectangle 14"/>
          <p:cNvSpPr/>
          <p:nvPr/>
        </p:nvSpPr>
        <p:spPr>
          <a:xfrm>
            <a:off x="447120" y="4800600"/>
            <a:ext cx="1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08C4-2000-4A5F-ABBC-E6C820A7BA96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Semi-supervised learning paradigm that exploits two mutually independent and sufficient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Features of dataset can be divided into two s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Gulim"/>
              </a:rPr>
              <a:t>The instance space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Gulim"/>
              </a:rPr>
              <a:t>Each example: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Proven to be effective in several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Malgun Gothic"/>
              </a:rPr>
              <a:t>Web page classification (content and hyperlink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Malgun Gothic"/>
              </a:rPr>
              <a:t>E-mail classification (header and body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7" name="Object 4"/>
              <p:cNvSpPr txBox="1"/>
              <p:nvPr/>
            </p:nvSpPr>
            <p:spPr>
              <a:xfrm>
                <a:off x="3429000" y="3124080"/>
                <a:ext cx="1511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Object 6"/>
              <p:cNvSpPr txBox="1"/>
              <p:nvPr/>
            </p:nvSpPr>
            <p:spPr>
              <a:xfrm>
                <a:off x="3429000" y="3505320"/>
                <a:ext cx="1665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7CDF-7621-4C75-B511-A8ADCB8FC223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572" name=""/>
          <p:cNvGraphicFramePr/>
          <p:nvPr/>
        </p:nvGraphicFramePr>
        <p:xfrm>
          <a:off x="5181480" y="4419720"/>
          <a:ext cx="533520" cy="16002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573" name="TextBox 41"/>
          <p:cNvSpPr/>
          <p:nvPr/>
        </p:nvSpPr>
        <p:spPr>
          <a:xfrm>
            <a:off x="838080" y="4572000"/>
            <a:ext cx="11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iti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abel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Oval 42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Oval 43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6" name=""/>
          <p:cNvGraphicFramePr/>
          <p:nvPr/>
        </p:nvGraphicFramePr>
        <p:xfrm>
          <a:off x="2209680" y="4419720"/>
          <a:ext cx="2895840" cy="160020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91E4-CF61-476C-BE9C-EEB94C6BCCF3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80" name="TextBox 41"/>
          <p:cNvSpPr/>
          <p:nvPr/>
        </p:nvSpPr>
        <p:spPr>
          <a:xfrm>
            <a:off x="838080" y="4572000"/>
            <a:ext cx="11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iti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abel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Oval 42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Oval 43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TextBox 22"/>
          <p:cNvSpPr/>
          <p:nvPr/>
        </p:nvSpPr>
        <p:spPr>
          <a:xfrm>
            <a:off x="3226680" y="15238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upervised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4" name=""/>
          <p:cNvGraphicFramePr/>
          <p:nvPr/>
        </p:nvGraphicFramePr>
        <p:xfrm>
          <a:off x="220968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85" name=""/>
          <p:cNvGraphicFramePr/>
          <p:nvPr/>
        </p:nvGraphicFramePr>
        <p:xfrm>
          <a:off x="480060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86" name=""/>
          <p:cNvGraphicFramePr/>
          <p:nvPr/>
        </p:nvGraphicFramePr>
        <p:xfrm>
          <a:off x="3733920" y="4419720"/>
          <a:ext cx="533160" cy="16002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87" name=""/>
          <p:cNvGraphicFramePr/>
          <p:nvPr/>
        </p:nvGraphicFramePr>
        <p:xfrm>
          <a:off x="6324480" y="4419720"/>
          <a:ext cx="533520" cy="16002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588" name="Line 87"/>
          <p:cNvSpPr/>
          <p:nvPr/>
        </p:nvSpPr>
        <p:spPr>
          <a:xfrm flipV="1">
            <a:off x="3124080" y="3414600"/>
            <a:ext cx="0" cy="10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Line 88"/>
          <p:cNvSpPr/>
          <p:nvPr/>
        </p:nvSpPr>
        <p:spPr>
          <a:xfrm flipV="1">
            <a:off x="5410080" y="3414600"/>
            <a:ext cx="0" cy="10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000" fill="hold"/>
                                        <p:tgtEl>
                                          <p:spTgt spid="3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9978b"/>
                                      </p:to>
                                    </p:animClr>
                                    <p:set>
                                      <p:cBhvr>
                                        <p:cTn id="115" dur="1000" fill="hold"/>
                                        <p:tgtEl>
                                          <p:spTgt spid="3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7" dur="1000" fill="hold"/>
                                        <p:tgtEl>
                                          <p:spTgt spid="3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d8bc7"/>
                                      </p:to>
                                    </p:animClr>
                                    <p:set>
                                      <p:cBhvr>
                                        <p:cTn id="118" dur="1000" fill="hold"/>
                                        <p:tgtEl>
                                          <p:spTgt spid="3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3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3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3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61BB-FE27-4693-A6FA-805762E87E74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93" name="TextBox 41"/>
          <p:cNvSpPr/>
          <p:nvPr/>
        </p:nvSpPr>
        <p:spPr>
          <a:xfrm>
            <a:off x="838080" y="4572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labeled 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Oval 42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d895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Oval 43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6" name=""/>
          <p:cNvGraphicFramePr/>
          <p:nvPr/>
        </p:nvGraphicFramePr>
        <p:xfrm>
          <a:off x="243828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97" name=""/>
          <p:cNvGraphicFramePr/>
          <p:nvPr/>
        </p:nvGraphicFramePr>
        <p:xfrm>
          <a:off x="388620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98" name=""/>
          <p:cNvGraphicFramePr/>
          <p:nvPr/>
        </p:nvGraphicFramePr>
        <p:xfrm>
          <a:off x="5334120" y="4419720"/>
          <a:ext cx="533160" cy="16002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7971-7344-4F3B-A586-F8E4546265D4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2" name="TextBox 41"/>
          <p:cNvSpPr/>
          <p:nvPr/>
        </p:nvSpPr>
        <p:spPr>
          <a:xfrm>
            <a:off x="228600" y="457200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Part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Labe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TextBox 22"/>
          <p:cNvSpPr/>
          <p:nvPr/>
        </p:nvSpPr>
        <p:spPr>
          <a:xfrm>
            <a:off x="3287160" y="137160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assify mo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fident 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Oval 24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Oval 26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d895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6" name=""/>
          <p:cNvGraphicFramePr/>
          <p:nvPr/>
        </p:nvGraphicFramePr>
        <p:xfrm>
          <a:off x="220968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07" name=""/>
          <p:cNvGraphicFramePr/>
          <p:nvPr/>
        </p:nvGraphicFramePr>
        <p:xfrm>
          <a:off x="480060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08" name=""/>
          <p:cNvGraphicFramePr/>
          <p:nvPr/>
        </p:nvGraphicFramePr>
        <p:xfrm>
          <a:off x="3733920" y="4419720"/>
          <a:ext cx="533160" cy="16002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09" name=""/>
          <p:cNvGraphicFramePr/>
          <p:nvPr/>
        </p:nvGraphicFramePr>
        <p:xfrm>
          <a:off x="6324480" y="4419720"/>
          <a:ext cx="533520" cy="16002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0" name=""/>
          <p:cNvGraphicFramePr/>
          <p:nvPr/>
        </p:nvGraphicFramePr>
        <p:xfrm>
          <a:off x="3733920" y="4419720"/>
          <a:ext cx="533160" cy="16002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1" name=""/>
          <p:cNvGraphicFramePr/>
          <p:nvPr/>
        </p:nvGraphicFramePr>
        <p:xfrm>
          <a:off x="6324480" y="4419720"/>
          <a:ext cx="533520" cy="16002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612" name="Line 104"/>
          <p:cNvSpPr/>
          <p:nvPr/>
        </p:nvSpPr>
        <p:spPr>
          <a:xfrm>
            <a:off x="3124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Line 105"/>
          <p:cNvSpPr/>
          <p:nvPr/>
        </p:nvSpPr>
        <p:spPr>
          <a:xfrm>
            <a:off x="548640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Line 106"/>
          <p:cNvSpPr/>
          <p:nvPr/>
        </p:nvSpPr>
        <p:spPr>
          <a:xfrm flipH="1">
            <a:off x="43434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Line 107"/>
          <p:cNvSpPr/>
          <p:nvPr/>
        </p:nvSpPr>
        <p:spPr>
          <a:xfrm flipH="1">
            <a:off x="434340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Line 108"/>
          <p:cNvSpPr/>
          <p:nvPr/>
        </p:nvSpPr>
        <p:spPr>
          <a:xfrm>
            <a:off x="4343400" y="502920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Line 109"/>
          <p:cNvSpPr/>
          <p:nvPr/>
        </p:nvSpPr>
        <p:spPr>
          <a:xfrm>
            <a:off x="4343400" y="579132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3220-561C-4841-A7E0-039C302C821D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21" name="TextBox 41"/>
          <p:cNvSpPr/>
          <p:nvPr/>
        </p:nvSpPr>
        <p:spPr>
          <a:xfrm>
            <a:off x="228600" y="457200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Labe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TextBox 22"/>
          <p:cNvSpPr/>
          <p:nvPr/>
        </p:nvSpPr>
        <p:spPr>
          <a:xfrm>
            <a:off x="3298680" y="152388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bel all views in 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Oval 17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Oval 19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d895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5" name=""/>
          <p:cNvGraphicFramePr/>
          <p:nvPr/>
        </p:nvGraphicFramePr>
        <p:xfrm>
          <a:off x="220968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6" name=""/>
          <p:cNvGraphicFramePr/>
          <p:nvPr/>
        </p:nvGraphicFramePr>
        <p:xfrm>
          <a:off x="480060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7" name=""/>
          <p:cNvGraphicFramePr/>
          <p:nvPr/>
        </p:nvGraphicFramePr>
        <p:xfrm>
          <a:off x="3733920" y="4419720"/>
          <a:ext cx="533160" cy="16002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e4b2c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e4b2c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8" name=""/>
          <p:cNvGraphicFramePr/>
          <p:nvPr/>
        </p:nvGraphicFramePr>
        <p:xfrm>
          <a:off x="6324480" y="4419720"/>
          <a:ext cx="533520" cy="16002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fd7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fd7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629" name="Line 76"/>
          <p:cNvSpPr/>
          <p:nvPr/>
        </p:nvSpPr>
        <p:spPr>
          <a:xfrm>
            <a:off x="3124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Line 77"/>
          <p:cNvSpPr/>
          <p:nvPr/>
        </p:nvSpPr>
        <p:spPr>
          <a:xfrm>
            <a:off x="548640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Line 82"/>
          <p:cNvSpPr/>
          <p:nvPr/>
        </p:nvSpPr>
        <p:spPr>
          <a:xfrm flipH="1">
            <a:off x="43434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Line 83"/>
          <p:cNvSpPr/>
          <p:nvPr/>
        </p:nvSpPr>
        <p:spPr>
          <a:xfrm flipH="1">
            <a:off x="434340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Line 84"/>
          <p:cNvSpPr/>
          <p:nvPr/>
        </p:nvSpPr>
        <p:spPr>
          <a:xfrm>
            <a:off x="4343400" y="502920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Line 85"/>
          <p:cNvSpPr/>
          <p:nvPr/>
        </p:nvSpPr>
        <p:spPr>
          <a:xfrm>
            <a:off x="4343400" y="579132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F8E1-AE07-4FF8-8F59-98D5526AE9E1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38" name="TextBox 15"/>
          <p:cNvSpPr/>
          <p:nvPr/>
        </p:nvSpPr>
        <p:spPr>
          <a:xfrm>
            <a:off x="3429000" y="16002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train Class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Oval 17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Oval 20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d895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1" name=""/>
          <p:cNvGraphicFramePr/>
          <p:nvPr/>
        </p:nvGraphicFramePr>
        <p:xfrm>
          <a:off x="220968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2" name=""/>
          <p:cNvGraphicFramePr/>
          <p:nvPr/>
        </p:nvGraphicFramePr>
        <p:xfrm>
          <a:off x="480060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3" name=""/>
          <p:cNvGraphicFramePr/>
          <p:nvPr/>
        </p:nvGraphicFramePr>
        <p:xfrm>
          <a:off x="3733920" y="4419720"/>
          <a:ext cx="533160" cy="16002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e4b2c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e4b2c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4" name=""/>
          <p:cNvGraphicFramePr/>
          <p:nvPr/>
        </p:nvGraphicFramePr>
        <p:xfrm>
          <a:off x="6324480" y="4419720"/>
          <a:ext cx="533520" cy="16002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fd7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fd7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645" name="Line 75"/>
          <p:cNvSpPr/>
          <p:nvPr/>
        </p:nvSpPr>
        <p:spPr>
          <a:xfrm flipV="1">
            <a:off x="3124080" y="3414600"/>
            <a:ext cx="0" cy="10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Line 76"/>
          <p:cNvSpPr/>
          <p:nvPr/>
        </p:nvSpPr>
        <p:spPr>
          <a:xfrm flipV="1">
            <a:off x="5410080" y="3414600"/>
            <a:ext cx="0" cy="10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3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175" dur="2000" fill="hold"/>
                                        <p:tgtEl>
                                          <p:spTgt spid="3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3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7164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3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3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3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3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3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2FB8-9126-4CBC-A418-ACB8D6AE6363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50" name="TextBox 15"/>
          <p:cNvSpPr/>
          <p:nvPr/>
        </p:nvSpPr>
        <p:spPr>
          <a:xfrm>
            <a:off x="457200" y="13716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bel a new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Oval 17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Oval 20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c96d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3" name=""/>
          <p:cNvGraphicFramePr/>
          <p:nvPr/>
        </p:nvGraphicFramePr>
        <p:xfrm>
          <a:off x="3886200" y="4419720"/>
          <a:ext cx="639720" cy="401400"/>
        </p:xfrm>
        <a:graphic>
          <a:graphicData uri="http://schemas.openxmlformats.org/drawingml/2006/table">
            <a:tbl>
              <a:tblPr/>
              <a:tblGrid>
                <a:gridCol w="371520"/>
                <a:gridCol w="2682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3654" name="Down Arrow 28"/>
          <p:cNvSpPr/>
          <p:nvPr/>
        </p:nvSpPr>
        <p:spPr>
          <a:xfrm>
            <a:off x="4648320" y="4952880"/>
            <a:ext cx="304560" cy="304920"/>
          </a:xfrm>
          <a:prstGeom prst="down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5" name=""/>
          <p:cNvGraphicFramePr/>
          <p:nvPr/>
        </p:nvGraphicFramePr>
        <p:xfrm>
          <a:off x="2438280" y="4419720"/>
          <a:ext cx="1447920" cy="3999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6" name=""/>
          <p:cNvGraphicFramePr/>
          <p:nvPr/>
        </p:nvGraphicFramePr>
        <p:xfrm>
          <a:off x="4952880" y="4400640"/>
          <a:ext cx="1447920" cy="3999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7" name=""/>
          <p:cNvGraphicFramePr/>
          <p:nvPr/>
        </p:nvGraphicFramePr>
        <p:xfrm>
          <a:off x="3352680" y="5410080"/>
          <a:ext cx="2895840" cy="4017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8" name=""/>
          <p:cNvGraphicFramePr/>
          <p:nvPr/>
        </p:nvGraphicFramePr>
        <p:xfrm>
          <a:off x="6248520" y="5410080"/>
          <a:ext cx="365040" cy="401760"/>
        </p:xfrm>
        <a:graphic>
          <a:graphicData uri="http://schemas.openxmlformats.org/drawingml/2006/table">
            <a:tbl>
              <a:tblPr/>
              <a:tblGrid>
                <a:gridCol w="3650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59" name=""/>
          <p:cNvGraphicFramePr/>
          <p:nvPr/>
        </p:nvGraphicFramePr>
        <p:xfrm>
          <a:off x="6400800" y="4398840"/>
          <a:ext cx="665280" cy="401760"/>
        </p:xfrm>
        <a:graphic>
          <a:graphicData uri="http://schemas.openxmlformats.org/drawingml/2006/table">
            <a:tbl>
              <a:tblPr/>
              <a:tblGrid>
                <a:gridCol w="216000"/>
                <a:gridCol w="44928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0" name="Line 118"/>
          <p:cNvSpPr/>
          <p:nvPr/>
        </p:nvSpPr>
        <p:spPr>
          <a:xfrm>
            <a:off x="3124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Line 119"/>
          <p:cNvSpPr/>
          <p:nvPr/>
        </p:nvSpPr>
        <p:spPr>
          <a:xfrm>
            <a:off x="548640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2" name=""/>
          <p:cNvGraphicFramePr/>
          <p:nvPr/>
        </p:nvGraphicFramePr>
        <p:xfrm>
          <a:off x="3505320" y="1351080"/>
          <a:ext cx="2813040" cy="401400"/>
        </p:xfrm>
        <a:graphic>
          <a:graphicData uri="http://schemas.openxmlformats.org/drawingml/2006/table">
            <a:tbl>
              <a:tblPr/>
              <a:tblGrid>
                <a:gridCol w="1447560"/>
                <a:gridCol w="1365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3" name=""/>
          <p:cNvGraphicFramePr/>
          <p:nvPr/>
        </p:nvGraphicFramePr>
        <p:xfrm>
          <a:off x="6400800" y="1351080"/>
          <a:ext cx="380880" cy="40140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4" name=""/>
          <p:cNvGraphicFramePr/>
          <p:nvPr/>
        </p:nvGraphicFramePr>
        <p:xfrm>
          <a:off x="3886200" y="4419720"/>
          <a:ext cx="639720" cy="401400"/>
        </p:xfrm>
        <a:graphic>
          <a:graphicData uri="http://schemas.openxmlformats.org/drawingml/2006/table">
            <a:tbl>
              <a:tblPr/>
              <a:tblGrid>
                <a:gridCol w="63972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5" name=""/>
          <p:cNvGraphicFramePr/>
          <p:nvPr/>
        </p:nvGraphicFramePr>
        <p:xfrm>
          <a:off x="6400800" y="4398840"/>
          <a:ext cx="639720" cy="401760"/>
        </p:xfrm>
        <a:graphic>
          <a:graphicData uri="http://schemas.openxmlformats.org/drawingml/2006/table">
            <a:tbl>
              <a:tblPr/>
              <a:tblGrid>
                <a:gridCol w="63972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7644-DB35-4F98-A34A-BF68E93D1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C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: RoboCup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C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oac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uag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n RoboCup Coach competition teams compete to coach simulated soccer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coaching instructions are given in a formal language called C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0" name="Picture 4" descr="soccer1"/>
          <p:cNvPicPr/>
          <p:nvPr/>
        </p:nvPicPr>
        <p:blipFill>
          <a:blip r:embed="rId1"/>
          <a:stretch/>
        </p:blipFill>
        <p:spPr>
          <a:xfrm>
            <a:off x="5638680" y="4267080"/>
            <a:ext cx="3219480" cy="2400480"/>
          </a:xfrm>
          <a:prstGeom prst="rect">
            <a:avLst/>
          </a:prstGeom>
          <a:ln w="0">
            <a:noFill/>
          </a:ln>
        </p:spPr>
      </p:pic>
      <p:sp>
        <p:nvSpPr>
          <p:cNvPr id="2971" name="Text Box 5"/>
          <p:cNvSpPr/>
          <p:nvPr/>
        </p:nvSpPr>
        <p:spPr>
          <a:xfrm>
            <a:off x="6172200" y="38098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SimSun"/>
              </a:rPr>
              <a:t>Simulated socce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2" name="Group 16"/>
          <p:cNvGrpSpPr/>
          <p:nvPr/>
        </p:nvGrpSpPr>
        <p:grpSpPr>
          <a:xfrm>
            <a:off x="0" y="3276720"/>
            <a:ext cx="4952880" cy="1371600"/>
            <a:chOff x="0" y="3276720"/>
            <a:chExt cx="4952880" cy="1371600"/>
          </a:xfrm>
        </p:grpSpPr>
        <p:sp>
          <p:nvSpPr>
            <p:cNvPr id="2973" name="Text Box 6"/>
            <p:cNvSpPr/>
            <p:nvPr/>
          </p:nvSpPr>
          <p:spPr>
            <a:xfrm>
              <a:off x="0" y="41911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SimSun"/>
                </a:rPr>
                <a:t>C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AutoShape 8"/>
            <p:cNvSpPr/>
            <p:nvPr/>
          </p:nvSpPr>
          <p:spPr>
            <a:xfrm>
              <a:off x="1295280" y="3276720"/>
              <a:ext cx="3657600" cy="1371600"/>
            </a:xfrm>
            <a:prstGeom prst="wedgeEllipseCallout">
              <a:avLst>
                <a:gd name="adj1" fmla="val -61240"/>
                <a:gd name="adj2" fmla="val 273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  <a:ea typeface="SimSun"/>
                </a:rPr>
                <a:t>If the ball is in our penalty area, then all our players except player 4 should stay in our ha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5" name="Rectangle 9"/>
          <p:cNvSpPr/>
          <p:nvPr/>
        </p:nvSpPr>
        <p:spPr>
          <a:xfrm>
            <a:off x="91440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6" name="Group 18"/>
          <p:cNvGrpSpPr/>
          <p:nvPr/>
        </p:nvGrpSpPr>
        <p:grpSpPr>
          <a:xfrm>
            <a:off x="0" y="5349960"/>
            <a:ext cx="5032440" cy="951120"/>
            <a:chOff x="0" y="5349960"/>
            <a:chExt cx="5032440" cy="951120"/>
          </a:xfrm>
        </p:grpSpPr>
        <p:sp>
          <p:nvSpPr>
            <p:cNvPr id="2977" name="Text Box 7"/>
            <p:cNvSpPr/>
            <p:nvPr/>
          </p:nvSpPr>
          <p:spPr>
            <a:xfrm>
              <a:off x="0" y="54864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SimSun"/>
                </a:rPr>
                <a:t>C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Text Box 10"/>
            <p:cNvSpPr/>
            <p:nvPr/>
          </p:nvSpPr>
          <p:spPr>
            <a:xfrm>
              <a:off x="807840" y="5349960"/>
              <a:ext cx="4224600" cy="9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(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bpos (penalty-area our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do (player-except our{4}) (</a:t>
              </a:r>
              <a:r>
                <a:rPr b="1" i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pos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 (half our)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9" name="AutoShape 11"/>
          <p:cNvSpPr/>
          <p:nvPr/>
        </p:nvSpPr>
        <p:spPr>
          <a:xfrm>
            <a:off x="990720" y="4038480"/>
            <a:ext cx="609480" cy="60984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0" name="Group 17"/>
          <p:cNvGrpSpPr/>
          <p:nvPr/>
        </p:nvGrpSpPr>
        <p:grpSpPr>
          <a:xfrm>
            <a:off x="914040" y="4648320"/>
            <a:ext cx="2210040" cy="685800"/>
            <a:chOff x="914040" y="4648320"/>
            <a:chExt cx="2210040" cy="685800"/>
          </a:xfrm>
        </p:grpSpPr>
        <p:sp>
          <p:nvSpPr>
            <p:cNvPr id="2981" name="Line 12"/>
            <p:cNvSpPr/>
            <p:nvPr/>
          </p:nvSpPr>
          <p:spPr>
            <a:xfrm>
              <a:off x="3124080" y="4648320"/>
              <a:ext cx="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Text Box 13"/>
            <p:cNvSpPr/>
            <p:nvPr/>
          </p:nvSpPr>
          <p:spPr>
            <a:xfrm>
              <a:off x="914040" y="472428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  <a:ea typeface="SimSun"/>
                </a:rPr>
                <a:t>Semantic Par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3" name="Line 14"/>
          <p:cNvSpPr/>
          <p:nvPr/>
        </p:nvSpPr>
        <p:spPr>
          <a:xfrm>
            <a:off x="5029200" y="57150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Footer Placeholder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Slide Number Placeholder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676F-3D20-4FF5-9055-287E4416DFC4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seline - Individual View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mage/Video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Only image/video features ar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ext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Only textual features are u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Footer Placeholder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Slide Number Placeholder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A240-5496-4D90-B720-50A4099B6CD7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Baseline - </a:t>
            </a:r>
            <a:r>
              <a:rPr b="0" lang="en-US" sz="3200" spc="-1" strike="noStrike">
                <a:solidFill>
                  <a:srgbClr val="cc0000"/>
                </a:solidFill>
                <a:latin typeface="Bookman Old Style"/>
              </a:rPr>
              <a:t>Early Fusion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catenate visual and textual featu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674" name=""/>
          <p:cNvGraphicFramePr/>
          <p:nvPr/>
        </p:nvGraphicFramePr>
        <p:xfrm>
          <a:off x="4876920" y="1981080"/>
          <a:ext cx="533160" cy="8002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5" name=""/>
          <p:cNvGraphicFramePr/>
          <p:nvPr/>
        </p:nvGraphicFramePr>
        <p:xfrm>
          <a:off x="1905120" y="1981080"/>
          <a:ext cx="2895480" cy="80028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sp>
        <p:nvSpPr>
          <p:cNvPr id="3676" name="AutoShape 41"/>
          <p:cNvSpPr/>
          <p:nvPr/>
        </p:nvSpPr>
        <p:spPr>
          <a:xfrm>
            <a:off x="3276720" y="29718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Oval 43"/>
          <p:cNvSpPr/>
          <p:nvPr/>
        </p:nvSpPr>
        <p:spPr>
          <a:xfrm>
            <a:off x="2438280" y="3581280"/>
            <a:ext cx="2057400" cy="12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Rectangle 45"/>
          <p:cNvSpPr/>
          <p:nvPr/>
        </p:nvSpPr>
        <p:spPr>
          <a:xfrm>
            <a:off x="3737160" y="29718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AutoShape 47"/>
          <p:cNvSpPr/>
          <p:nvPr/>
        </p:nvSpPr>
        <p:spPr>
          <a:xfrm>
            <a:off x="3286080" y="49528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Rectangle 48"/>
          <p:cNvSpPr/>
          <p:nvPr/>
        </p:nvSpPr>
        <p:spPr>
          <a:xfrm>
            <a:off x="3745800" y="49528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1" name=""/>
          <p:cNvGraphicFramePr/>
          <p:nvPr/>
        </p:nvGraphicFramePr>
        <p:xfrm>
          <a:off x="1981080" y="5770440"/>
          <a:ext cx="2895840" cy="4017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2" name=""/>
          <p:cNvGraphicFramePr/>
          <p:nvPr/>
        </p:nvGraphicFramePr>
        <p:xfrm>
          <a:off x="4876920" y="5770440"/>
          <a:ext cx="365040" cy="401760"/>
        </p:xfrm>
        <a:graphic>
          <a:graphicData uri="http://schemas.openxmlformats.org/drawingml/2006/table">
            <a:tbl>
              <a:tblPr/>
              <a:tblGrid>
                <a:gridCol w="3650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Footer Placeholder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Slide Number Placeholder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2F3F-39AE-4AC0-9BA2-45F684F2CE53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Baseline - </a:t>
            </a:r>
            <a:r>
              <a:rPr b="0" lang="en-US" sz="3200" spc="-1" strike="noStrike">
                <a:solidFill>
                  <a:srgbClr val="cc0000"/>
                </a:solidFill>
                <a:latin typeface="Bookman Old Style"/>
              </a:rPr>
              <a:t>Late Fusion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3686" name="Oval 42"/>
          <p:cNvSpPr/>
          <p:nvPr/>
        </p:nvSpPr>
        <p:spPr>
          <a:xfrm>
            <a:off x="4800600" y="2743200"/>
            <a:ext cx="2057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Oval 43"/>
          <p:cNvSpPr/>
          <p:nvPr/>
        </p:nvSpPr>
        <p:spPr>
          <a:xfrm>
            <a:off x="2362320" y="2743200"/>
            <a:ext cx="2057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8" name=""/>
          <p:cNvGraphicFramePr/>
          <p:nvPr/>
        </p:nvGraphicFramePr>
        <p:xfrm>
          <a:off x="2438280" y="1219320"/>
          <a:ext cx="1447920" cy="79992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9" name=""/>
          <p:cNvGraphicFramePr/>
          <p:nvPr/>
        </p:nvGraphicFramePr>
        <p:xfrm>
          <a:off x="4724280" y="1219320"/>
          <a:ext cx="1447920" cy="79992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0" name=""/>
          <p:cNvGraphicFramePr/>
          <p:nvPr/>
        </p:nvGraphicFramePr>
        <p:xfrm>
          <a:off x="3962520" y="1219320"/>
          <a:ext cx="533160" cy="7999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1" name=""/>
          <p:cNvGraphicFramePr/>
          <p:nvPr/>
        </p:nvGraphicFramePr>
        <p:xfrm>
          <a:off x="6248520" y="1219320"/>
          <a:ext cx="533160" cy="7999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3692" name="Line 112"/>
          <p:cNvSpPr/>
          <p:nvPr/>
        </p:nvSpPr>
        <p:spPr>
          <a:xfrm>
            <a:off x="327672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Line 113"/>
          <p:cNvSpPr/>
          <p:nvPr/>
        </p:nvSpPr>
        <p:spPr>
          <a:xfrm>
            <a:off x="579132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Rectangle 114"/>
          <p:cNvSpPr/>
          <p:nvPr/>
        </p:nvSpPr>
        <p:spPr>
          <a:xfrm>
            <a:off x="3813120" y="22096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5" name=""/>
          <p:cNvGraphicFramePr/>
          <p:nvPr/>
        </p:nvGraphicFramePr>
        <p:xfrm>
          <a:off x="4114800" y="4932360"/>
          <a:ext cx="639720" cy="401760"/>
        </p:xfrm>
        <a:graphic>
          <a:graphicData uri="http://schemas.openxmlformats.org/drawingml/2006/table">
            <a:tbl>
              <a:tblPr/>
              <a:tblGrid>
                <a:gridCol w="371520"/>
                <a:gridCol w="268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3696" name="Down Arrow 28"/>
          <p:cNvSpPr/>
          <p:nvPr/>
        </p:nvSpPr>
        <p:spPr>
          <a:xfrm>
            <a:off x="4876920" y="5465880"/>
            <a:ext cx="304560" cy="3045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7" name=""/>
          <p:cNvGraphicFramePr/>
          <p:nvPr/>
        </p:nvGraphicFramePr>
        <p:xfrm>
          <a:off x="2666880" y="4932360"/>
          <a:ext cx="1447920" cy="3999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8" name=""/>
          <p:cNvGraphicFramePr/>
          <p:nvPr/>
        </p:nvGraphicFramePr>
        <p:xfrm>
          <a:off x="5181480" y="4913280"/>
          <a:ext cx="1447920" cy="3999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9" name=""/>
          <p:cNvGraphicFramePr/>
          <p:nvPr/>
        </p:nvGraphicFramePr>
        <p:xfrm>
          <a:off x="3581280" y="5923080"/>
          <a:ext cx="2895840" cy="40140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0" name=""/>
          <p:cNvGraphicFramePr/>
          <p:nvPr/>
        </p:nvGraphicFramePr>
        <p:xfrm>
          <a:off x="6477120" y="5923080"/>
          <a:ext cx="365040" cy="401400"/>
        </p:xfrm>
        <a:graphic>
          <a:graphicData uri="http://schemas.openxmlformats.org/drawingml/2006/table">
            <a:tbl>
              <a:tblPr/>
              <a:tblGrid>
                <a:gridCol w="36504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01" name=""/>
          <p:cNvGraphicFramePr/>
          <p:nvPr/>
        </p:nvGraphicFramePr>
        <p:xfrm>
          <a:off x="6629400" y="4911840"/>
          <a:ext cx="665280" cy="401400"/>
        </p:xfrm>
        <a:graphic>
          <a:graphicData uri="http://schemas.openxmlformats.org/drawingml/2006/table">
            <a:tbl>
              <a:tblPr/>
              <a:tblGrid>
                <a:gridCol w="216000"/>
                <a:gridCol w="44928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2" name="Line 157"/>
          <p:cNvSpPr/>
          <p:nvPr/>
        </p:nvSpPr>
        <p:spPr>
          <a:xfrm>
            <a:off x="3352680" y="39416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Line 158"/>
          <p:cNvSpPr/>
          <p:nvPr/>
        </p:nvSpPr>
        <p:spPr>
          <a:xfrm>
            <a:off x="5715000" y="39416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4" name=""/>
          <p:cNvGraphicFramePr/>
          <p:nvPr/>
        </p:nvGraphicFramePr>
        <p:xfrm>
          <a:off x="4114800" y="4932360"/>
          <a:ext cx="639720" cy="401760"/>
        </p:xfrm>
        <a:graphic>
          <a:graphicData uri="http://schemas.openxmlformats.org/drawingml/2006/table">
            <a:tbl>
              <a:tblPr/>
              <a:tblGrid>
                <a:gridCol w="63972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5" name=""/>
          <p:cNvGraphicFramePr/>
          <p:nvPr/>
        </p:nvGraphicFramePr>
        <p:xfrm>
          <a:off x="6629400" y="4911840"/>
          <a:ext cx="639720" cy="401400"/>
        </p:xfrm>
        <a:graphic>
          <a:graphicData uri="http://schemas.openxmlformats.org/drawingml/2006/table">
            <a:tbl>
              <a:tblPr/>
              <a:tblGrid>
                <a:gridCol w="63972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06" name="Rectangle 172"/>
          <p:cNvSpPr/>
          <p:nvPr/>
        </p:nvSpPr>
        <p:spPr>
          <a:xfrm>
            <a:off x="3800160" y="398772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el a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10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e4b2c"/>
                                      </p:to>
                                    </p:animClr>
                                    <p:set>
                                      <p:cBhvr>
                                        <p:cTn id="257" dur="10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9" dur="1000" fill="hold"/>
                                        <p:tgtEl>
                                          <p:spTgt spid="3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27ca3"/>
                                      </p:to>
                                    </p:animClr>
                                    <p:set>
                                      <p:cBhvr>
                                        <p:cTn id="260" dur="1000" fill="hold"/>
                                        <p:tgtEl>
                                          <p:spTgt spid="3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74D3-C293-4DC9-A03F-81F8FAFE76BC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Image Dataset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ur captioned image data is taken from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ＭＳ Ｐゴシック"/>
              </a:rPr>
              <a:t>(Bekkerman &amp; Jeon CVPR ‘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ＭＳ Ｐゴシック"/>
                <a:hlinkClick r:id="rId1"/>
              </a:rPr>
              <a:t>www.israelimages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ists of images with short text ca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d two classes, Desert and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total of 362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and Visual Featur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1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ext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standard bag of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mag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tandard bag of visual words that capture texture and color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B749-1485-4A17-9D86-49A2521DC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50CB-FD4F-4E6A-A45C-30AD300C3283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Experimental Methodolog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st set is disjoint fr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labeled and unlabeled training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plotting learning curves, vary the percentage of training examples labeled, rest used as unlabeled data for co-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VM with RBF kernel is used as base classifier for both visual and text classif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experiments are evaluated with 10 iterations of 10-fold cross-valid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Curves for Israel Imag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C8D6-B0D0-43FE-B895-C3EB86CAD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0" name="Picture 6" descr="fig2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Closed Captions to Supervise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ctivity Recognition in Videos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(Gupta &amp; Mooney, VCL-09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FEB6-AFAE-4B0F-B40A-2EE2027C4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ctivity Recognition in Vide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ing activities in video generally uses supervised learning trained on human-labeled video cl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guistic information in closed captions (CCs)  can be used as “weak supervision” for training activity recogniz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ally trained activity recognizers can be used to improve precision of video retrieva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2428-03AC-4F50-B7BA-519B3D16B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ample Soccer Videos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3727" name="Rectangle 3"/>
          <p:cNvSpPr/>
          <p:nvPr/>
        </p:nvSpPr>
        <p:spPr>
          <a:xfrm>
            <a:off x="314280" y="595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Rectangle 4"/>
          <p:cNvSpPr/>
          <p:nvPr/>
        </p:nvSpPr>
        <p:spPr>
          <a:xfrm>
            <a:off x="2441160" y="1434960"/>
            <a:ext cx="2195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I do not th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ere is any real inten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just trying to make 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he gets his body acros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but it was a free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kick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Rectangle 5"/>
          <p:cNvSpPr/>
          <p:nvPr/>
        </p:nvSpPr>
        <p:spPr>
          <a:xfrm>
            <a:off x="2506320" y="3216240"/>
            <a:ext cx="83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Lo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kick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Rectangle 6"/>
          <p:cNvSpPr/>
          <p:nvPr/>
        </p:nvSpPr>
        <p:spPr>
          <a:xfrm>
            <a:off x="2503440" y="4800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Goal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kick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Rectangle 7"/>
          <p:cNvSpPr/>
          <p:nvPr/>
        </p:nvSpPr>
        <p:spPr>
          <a:xfrm>
            <a:off x="7143840" y="146376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Good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ave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wel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Rectangle 8"/>
          <p:cNvSpPr/>
          <p:nvPr/>
        </p:nvSpPr>
        <p:spPr>
          <a:xfrm>
            <a:off x="7080120" y="3124080"/>
            <a:ext cx="198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I think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made a wonderfu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fingertip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ave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ther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Rectangle 9"/>
          <p:cNvSpPr/>
          <p:nvPr/>
        </p:nvSpPr>
        <p:spPr>
          <a:xfrm>
            <a:off x="7129440" y="4740120"/>
            <a:ext cx="164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d it is a re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chopped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ave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Rectangle 10"/>
          <p:cNvSpPr/>
          <p:nvPr/>
        </p:nvSpPr>
        <p:spPr>
          <a:xfrm>
            <a:off x="1818360" y="7621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ＭＳ Ｐゴシック"/>
              </a:rPr>
              <a:t>K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Rectangle 11"/>
          <p:cNvSpPr/>
          <p:nvPr/>
        </p:nvSpPr>
        <p:spPr>
          <a:xfrm>
            <a:off x="6302520" y="685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ＭＳ Ｐゴシック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6" name="kick2-new.mpg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133360" cy="1454400"/>
          </a:xfrm>
          <a:prstGeom prst="rect">
            <a:avLst/>
          </a:prstGeom>
          <a:ln w="0">
            <a:noFill/>
          </a:ln>
        </p:spPr>
      </p:pic>
      <p:pic>
        <p:nvPicPr>
          <p:cNvPr id="3737" name="kick3.mpg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2209680" cy="1506240"/>
          </a:xfrm>
          <a:prstGeom prst="rect">
            <a:avLst/>
          </a:prstGeom>
          <a:ln w="0">
            <a:noFill/>
          </a:ln>
        </p:spPr>
      </p:pic>
      <p:pic>
        <p:nvPicPr>
          <p:cNvPr id="3738" name="kick4.mpg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2209680" cy="1506240"/>
          </a:xfrm>
          <a:prstGeom prst="rect">
            <a:avLst/>
          </a:prstGeom>
          <a:ln w="0">
            <a:noFill/>
          </a:ln>
        </p:spPr>
      </p:pic>
      <p:pic>
        <p:nvPicPr>
          <p:cNvPr id="3739" name="save1.mpg" descr=""/>
          <p:cNvPicPr/>
          <p:nvPr/>
        </p:nvPicPr>
        <p:blipFill>
          <a:blip r:embed="rId4"/>
          <a:stretch/>
        </p:blipFill>
        <p:spPr>
          <a:xfrm>
            <a:off x="4800600" y="1219320"/>
            <a:ext cx="2235240" cy="1523880"/>
          </a:xfrm>
          <a:prstGeom prst="rect">
            <a:avLst/>
          </a:prstGeom>
          <a:ln w="0">
            <a:noFill/>
          </a:ln>
        </p:spPr>
      </p:pic>
      <p:pic>
        <p:nvPicPr>
          <p:cNvPr id="3740" name="save2.mpg" descr=""/>
          <p:cNvPicPr/>
          <p:nvPr/>
        </p:nvPicPr>
        <p:blipFill>
          <a:blip r:embed="rId5"/>
          <a:stretch/>
        </p:blipFill>
        <p:spPr>
          <a:xfrm>
            <a:off x="4800600" y="2819520"/>
            <a:ext cx="2209680" cy="1506240"/>
          </a:xfrm>
          <a:prstGeom prst="rect">
            <a:avLst/>
          </a:prstGeom>
          <a:ln w="0">
            <a:noFill/>
          </a:ln>
        </p:spPr>
      </p:pic>
      <p:pic>
        <p:nvPicPr>
          <p:cNvPr id="3741" name="save3.mpg" descr=""/>
          <p:cNvPicPr/>
          <p:nvPr/>
        </p:nvPicPr>
        <p:blipFill>
          <a:blip r:embed="rId6"/>
          <a:stretch/>
        </p:blipFill>
        <p:spPr>
          <a:xfrm>
            <a:off x="4876920" y="4419720"/>
            <a:ext cx="2235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8476" fill="hold"/>
                                        <p:tgtEl>
                                          <p:spTgt spid="3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476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8476" fill="hold"/>
                                        <p:tgtEl>
                                          <p:spTgt spid="3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6952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5987" fill="hold"/>
                                        <p:tgtEl>
                                          <p:spTgt spid="3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2939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8476" fill="hold"/>
                                        <p:tgtEl>
                                          <p:spTgt spid="3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1415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8476" fill="hold"/>
                                        <p:tgtEl>
                                          <p:spTgt spid="3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9891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5987" fill="hold"/>
                                        <p:tgtEl>
                                          <p:spTgt spid="3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3736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3736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8" dur="1" fill="hold"/>
                                        <p:tgtEl>
                                          <p:spTgt spid="3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737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3737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3" dur="1" fill="hold"/>
                                        <p:tgtEl>
                                          <p:spTgt spid="3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373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373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8" dur="1" fill="hold"/>
                                        <p:tgtEl>
                                          <p:spTgt spid="3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73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73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3" dur="1" fill="hold"/>
                                        <p:tgtEl>
                                          <p:spTgt spid="3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3740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3740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3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3741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374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3" dur="1" fill="hold"/>
                                        <p:tgtEl>
                                          <p:spTgt spid="3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6767-C912-4632-9833-CCEA68D02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Manually programming robust semantic parsers is difficult due to the complexity of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Semantic parsers can be learned automatically from sentences paired with their logical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Oval 4"/>
          <p:cNvSpPr/>
          <p:nvPr/>
        </p:nvSpPr>
        <p:spPr>
          <a:xfrm>
            <a:off x="1369800" y="368604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8" name="Group 5"/>
          <p:cNvGrpSpPr/>
          <p:nvPr/>
        </p:nvGrpSpPr>
        <p:grpSpPr>
          <a:xfrm>
            <a:off x="3457440" y="3856320"/>
            <a:ext cx="2666880" cy="703800"/>
            <a:chOff x="3457440" y="3856320"/>
            <a:chExt cx="2666880" cy="703800"/>
          </a:xfrm>
        </p:grpSpPr>
        <p:sp>
          <p:nvSpPr>
            <p:cNvPr id="2989" name="Rectangle 6"/>
            <p:cNvSpPr/>
            <p:nvPr/>
          </p:nvSpPr>
          <p:spPr>
            <a:xfrm>
              <a:off x="4163400" y="3856320"/>
              <a:ext cx="19609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emantic-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Line 7"/>
            <p:cNvSpPr/>
            <p:nvPr/>
          </p:nvSpPr>
          <p:spPr>
            <a:xfrm>
              <a:off x="3457440" y="4155840"/>
              <a:ext cx="70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1" name="Group 8"/>
          <p:cNvGrpSpPr/>
          <p:nvPr/>
        </p:nvGrpSpPr>
        <p:grpSpPr>
          <a:xfrm>
            <a:off x="1824120" y="4905000"/>
            <a:ext cx="2395440" cy="994680"/>
            <a:chOff x="1824120" y="4905000"/>
            <a:chExt cx="2395440" cy="994680"/>
          </a:xfrm>
        </p:grpSpPr>
        <p:sp>
          <p:nvSpPr>
            <p:cNvPr id="2992" name="Oval 9"/>
            <p:cNvSpPr/>
            <p:nvPr/>
          </p:nvSpPr>
          <p:spPr>
            <a:xfrm>
              <a:off x="1824120" y="490500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Line 10"/>
            <p:cNvSpPr/>
            <p:nvPr/>
          </p:nvSpPr>
          <p:spPr>
            <a:xfrm>
              <a:off x="3457440" y="53751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4" name="Oval 11"/>
          <p:cNvSpPr/>
          <p:nvPr/>
        </p:nvSpPr>
        <p:spPr>
          <a:xfrm>
            <a:off x="6305400" y="4913640"/>
            <a:ext cx="153540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Line 12"/>
          <p:cNvSpPr/>
          <p:nvPr/>
        </p:nvSpPr>
        <p:spPr>
          <a:xfrm>
            <a:off x="5954760" y="538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6" name="Group 13"/>
          <p:cNvGrpSpPr/>
          <p:nvPr/>
        </p:nvGrpSpPr>
        <p:grpSpPr>
          <a:xfrm>
            <a:off x="4219560" y="4537080"/>
            <a:ext cx="1752480" cy="1242360"/>
            <a:chOff x="4219560" y="4537080"/>
            <a:chExt cx="1752480" cy="1242360"/>
          </a:xfrm>
        </p:grpSpPr>
        <p:sp>
          <p:nvSpPr>
            <p:cNvPr id="2997" name="Rectangle 14"/>
            <p:cNvSpPr/>
            <p:nvPr/>
          </p:nvSpPr>
          <p:spPr>
            <a:xfrm>
              <a:off x="4219560" y="507564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Line 15"/>
            <p:cNvSpPr/>
            <p:nvPr/>
          </p:nvSpPr>
          <p:spPr>
            <a:xfrm>
              <a:off x="5057640" y="4537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Rectangle 2"/>
          <p:cNvSpPr/>
          <p:nvPr/>
        </p:nvSpPr>
        <p:spPr>
          <a:xfrm>
            <a:off x="2445120" y="996840"/>
            <a:ext cx="2242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If you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defending a lead, y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row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back takes it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far up the pitch and 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row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-in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Rectangle 3"/>
          <p:cNvSpPr/>
          <p:nvPr/>
        </p:nvSpPr>
        <p:spPr>
          <a:xfrm>
            <a:off x="2461680" y="4959360"/>
            <a:ext cx="175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d Ca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evez has wo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row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Rectangle 4"/>
          <p:cNvSpPr/>
          <p:nvPr/>
        </p:nvSpPr>
        <p:spPr>
          <a:xfrm>
            <a:off x="2454480" y="2901960"/>
            <a:ext cx="170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hot for a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row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Rectangle 5"/>
          <p:cNvSpPr/>
          <p:nvPr/>
        </p:nvSpPr>
        <p:spPr>
          <a:xfrm>
            <a:off x="7167960" y="2825640"/>
            <a:ext cx="2066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When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re going to pass it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e back, it is a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pure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touch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Rectangle 6"/>
          <p:cNvSpPr/>
          <p:nvPr/>
        </p:nvSpPr>
        <p:spPr>
          <a:xfrm>
            <a:off x="7169400" y="4883040"/>
            <a:ext cx="2091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Look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at, Henry, again, 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had time on the ball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ake another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ouch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d prepare that b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properly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Rectangle 7"/>
          <p:cNvSpPr/>
          <p:nvPr/>
        </p:nvSpPr>
        <p:spPr>
          <a:xfrm>
            <a:off x="7205040" y="1006560"/>
            <a:ext cx="201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ll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needed was a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ouch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Rectangle 8"/>
          <p:cNvSpPr/>
          <p:nvPr/>
        </p:nvSpPr>
        <p:spPr>
          <a:xfrm>
            <a:off x="1344960" y="15228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ＭＳ Ｐゴシック"/>
              </a:rPr>
              <a:t>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Rectangle 9"/>
          <p:cNvSpPr/>
          <p:nvPr/>
        </p:nvSpPr>
        <p:spPr>
          <a:xfrm>
            <a:off x="6106320" y="1522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ＭＳ Ｐゴシック"/>
              </a:rPr>
              <a:t>To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0" name="throw1.mpg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2346480" cy="1600200"/>
          </a:xfrm>
          <a:prstGeom prst="rect">
            <a:avLst/>
          </a:prstGeom>
          <a:ln w="0">
            <a:noFill/>
          </a:ln>
        </p:spPr>
      </p:pic>
      <p:pic>
        <p:nvPicPr>
          <p:cNvPr id="3751" name="throw2.mpg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2362320" cy="1611360"/>
          </a:xfrm>
          <a:prstGeom prst="rect">
            <a:avLst/>
          </a:prstGeom>
          <a:ln w="0">
            <a:noFill/>
          </a:ln>
        </p:spPr>
      </p:pic>
      <p:pic>
        <p:nvPicPr>
          <p:cNvPr id="3752" name="throw4.mpg" descr=""/>
          <p:cNvPicPr/>
          <p:nvPr/>
        </p:nvPicPr>
        <p:blipFill>
          <a:blip r:embed="rId3"/>
          <a:stretch/>
        </p:blipFill>
        <p:spPr>
          <a:xfrm>
            <a:off x="152280" y="4495680"/>
            <a:ext cx="2362320" cy="1611360"/>
          </a:xfrm>
          <a:prstGeom prst="rect">
            <a:avLst/>
          </a:prstGeom>
          <a:ln w="0">
            <a:noFill/>
          </a:ln>
        </p:spPr>
      </p:pic>
      <p:pic>
        <p:nvPicPr>
          <p:cNvPr id="3753" name="touch2.mpg" descr=""/>
          <p:cNvPicPr/>
          <p:nvPr/>
        </p:nvPicPr>
        <p:blipFill>
          <a:blip r:embed="rId4"/>
          <a:stretch/>
        </p:blipFill>
        <p:spPr>
          <a:xfrm>
            <a:off x="4876920" y="838080"/>
            <a:ext cx="2361960" cy="1611360"/>
          </a:xfrm>
          <a:prstGeom prst="rect">
            <a:avLst/>
          </a:prstGeom>
          <a:ln w="0">
            <a:noFill/>
          </a:ln>
        </p:spPr>
      </p:pic>
      <p:pic>
        <p:nvPicPr>
          <p:cNvPr id="3754" name="touch3.mpg" descr=""/>
          <p:cNvPicPr/>
          <p:nvPr/>
        </p:nvPicPr>
        <p:blipFill>
          <a:blip r:embed="rId5"/>
          <a:stretch/>
        </p:blipFill>
        <p:spPr>
          <a:xfrm>
            <a:off x="4876920" y="2743200"/>
            <a:ext cx="2361960" cy="1611360"/>
          </a:xfrm>
          <a:prstGeom prst="rect">
            <a:avLst/>
          </a:prstGeom>
          <a:ln w="0">
            <a:noFill/>
          </a:ln>
        </p:spPr>
      </p:pic>
      <p:pic>
        <p:nvPicPr>
          <p:cNvPr id="3755" name="touch4.mpg" descr=""/>
          <p:cNvPicPr/>
          <p:nvPr/>
        </p:nvPicPr>
        <p:blipFill>
          <a:blip r:embed="rId6"/>
          <a:stretch/>
        </p:blipFill>
        <p:spPr>
          <a:xfrm>
            <a:off x="4876920" y="4484520"/>
            <a:ext cx="23619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5987" fill="hold"/>
                                        <p:tgtEl>
                                          <p:spTgt spid="3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987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7975" fill="hold"/>
                                        <p:tgtEl>
                                          <p:spTgt spid="3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3962"/>
                            </p:stCondLst>
                            <p:childTnLst>
                              <p:par>
                                <p:cTn id="3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8476" fill="hold"/>
                                        <p:tgtEl>
                                          <p:spTgt spid="37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2438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8476" fill="hold"/>
                                        <p:tgtEl>
                                          <p:spTgt spid="3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914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8476" fill="hold"/>
                                        <p:tgtEl>
                                          <p:spTgt spid="3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939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8476" fill="hold"/>
                                        <p:tgtEl>
                                          <p:spTgt spid="37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50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750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9" dur="1" fill="hold"/>
                                        <p:tgtEl>
                                          <p:spTgt spid="3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3751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3751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4" dur="1" fill="hold"/>
                                        <p:tgtEl>
                                          <p:spTgt spid="3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3752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3752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9" dur="1" fill="hold"/>
                                        <p:tgtEl>
                                          <p:spTgt spid="37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3753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3753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4" dur="1" fill="hold"/>
                                        <p:tgtEl>
                                          <p:spTgt spid="3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3754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3754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9" dur="1" fill="hold"/>
                                        <p:tgtEl>
                                          <p:spTgt spid="3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3755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3755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4" dur="1" fill="hold"/>
                                        <p:tgtEl>
                                          <p:spTgt spid="37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3709-03A0-4D4A-903C-5B7E283C81B0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Video Closed-Cap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s contains both relevant and irrelevant infor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Beautiful pull-back.” </a:t>
            </a:r>
            <a:r>
              <a:rPr b="1" i="1" lang="en-US" sz="2800" spc="-1" strike="noStrike">
                <a:solidFill>
                  <a:srgbClr val="8a1516"/>
                </a:solidFill>
                <a:latin typeface="Times New Roman"/>
              </a:rPr>
              <a:t>releva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hey scored in the last kick of the gam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gainst the Czech Republic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”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irreleva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hat is a fairly good tackle.” </a:t>
            </a:r>
            <a:r>
              <a:rPr b="1" i="1" lang="en-US" sz="2800" spc="-1" strike="noStrike">
                <a:solidFill>
                  <a:srgbClr val="8a1516"/>
                </a:solidFill>
                <a:latin typeface="Times New Roman"/>
              </a:rPr>
              <a:t>releva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urkey can be well-pleased with th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way they started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”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irreleva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novel caption classifier to </a:t>
            </a:r>
            <a:r>
              <a:rPr b="1" i="1" lang="en-US" sz="3200" spc="-1" strike="noStrike">
                <a:solidFill>
                  <a:srgbClr val="8a1516"/>
                </a:solidFill>
                <a:latin typeface="Times New Roman"/>
              </a:rPr>
              <a:t>ran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trieved video clips by relev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CAE5-59A8-4FF2-96D3-99E98FF5126F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Rectangle 18"/>
          <p:cNvSpPr/>
          <p:nvPr/>
        </p:nvSpPr>
        <p:spPr>
          <a:xfrm>
            <a:off x="4944960" y="1222200"/>
            <a:ext cx="22654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Manually Labeled Ca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Rectangle 25"/>
          <p:cNvSpPr/>
          <p:nvPr/>
        </p:nvSpPr>
        <p:spPr>
          <a:xfrm>
            <a:off x="168120" y="5181480"/>
            <a:ext cx="838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Rectangle 26"/>
          <p:cNvSpPr/>
          <p:nvPr/>
        </p:nvSpPr>
        <p:spPr>
          <a:xfrm>
            <a:off x="168120" y="5791320"/>
            <a:ext cx="1143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Captio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Line 41"/>
          <p:cNvSpPr/>
          <p:nvPr/>
        </p:nvSpPr>
        <p:spPr>
          <a:xfrm>
            <a:off x="320760" y="4307040"/>
            <a:ext cx="8493120" cy="1440"/>
          </a:xfrm>
          <a:prstGeom prst="line">
            <a:avLst/>
          </a:prstGeom>
          <a:ln w="3240">
            <a:solidFill>
              <a:srgbClr val="1f47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Rectangle 42"/>
          <p:cNvSpPr/>
          <p:nvPr/>
        </p:nvSpPr>
        <p:spPr>
          <a:xfrm>
            <a:off x="7326360" y="205740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Rectangle 43"/>
          <p:cNvSpPr/>
          <p:nvPr/>
        </p:nvSpPr>
        <p:spPr>
          <a:xfrm>
            <a:off x="7675560" y="54799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Rectangle 49"/>
          <p:cNvSpPr/>
          <p:nvPr/>
        </p:nvSpPr>
        <p:spPr>
          <a:xfrm>
            <a:off x="253080" y="1219320"/>
            <a:ext cx="102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Captio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Vid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7" name="Group 57"/>
          <p:cNvGrpSpPr/>
          <p:nvPr/>
        </p:nvGrpSpPr>
        <p:grpSpPr>
          <a:xfrm>
            <a:off x="3292560" y="2118960"/>
            <a:ext cx="1752480" cy="1867680"/>
            <a:chOff x="3292560" y="2118960"/>
            <a:chExt cx="1752480" cy="1867680"/>
          </a:xfrm>
        </p:grpSpPr>
        <p:sp>
          <p:nvSpPr>
            <p:cNvPr id="3768" name="Rectangle 9"/>
            <p:cNvSpPr/>
            <p:nvPr/>
          </p:nvSpPr>
          <p:spPr>
            <a:xfrm>
              <a:off x="3292560" y="2997360"/>
              <a:ext cx="1752480" cy="98928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1f47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lass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69" name="Straight Arrow Connector 60"/>
            <p:cNvCxnSpPr/>
            <p:nvPr/>
          </p:nvCxnSpPr>
          <p:spPr>
            <a:xfrm flipH="1">
              <a:off x="4128840" y="2118960"/>
              <a:ext cx="2160" cy="7642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</p:grpSp>
      <p:cxnSp>
        <p:nvCxnSpPr>
          <p:cNvPr id="3770" name="Straight Arrow Connector 72"/>
          <p:cNvCxnSpPr/>
          <p:nvPr/>
        </p:nvCxnSpPr>
        <p:spPr>
          <a:xfrm>
            <a:off x="4205880" y="3962160"/>
            <a:ext cx="610200" cy="991080"/>
          </a:xfrm>
          <a:prstGeom prst="straightConnector1">
            <a:avLst/>
          </a:prstGeom>
          <a:ln w="15840">
            <a:solidFill>
              <a:srgbClr val="1f4786"/>
            </a:solidFill>
            <a:miter/>
            <a:tailEnd len="lg" type="stealth" w="lg"/>
          </a:ln>
        </p:spPr>
      </p:cxnSp>
      <p:cxnSp>
        <p:nvCxnSpPr>
          <p:cNvPr id="3771" name="Straight Arrow Connector 74"/>
          <p:cNvCxnSpPr/>
          <p:nvPr/>
        </p:nvCxnSpPr>
        <p:spPr>
          <a:xfrm flipH="1">
            <a:off x="5425560" y="3962160"/>
            <a:ext cx="612000" cy="991080"/>
          </a:xfrm>
          <a:prstGeom prst="straightConnector1">
            <a:avLst/>
          </a:prstGeom>
          <a:ln w="15840">
            <a:solidFill>
              <a:srgbClr val="1f4786"/>
            </a:solidFill>
            <a:miter/>
            <a:tailEnd len="lg" type="stealth" w="lg"/>
          </a:ln>
        </p:spPr>
      </p:cxnSp>
      <p:grpSp>
        <p:nvGrpSpPr>
          <p:cNvPr id="3772" name="Group 42"/>
          <p:cNvGrpSpPr/>
          <p:nvPr/>
        </p:nvGrpSpPr>
        <p:grpSpPr>
          <a:xfrm>
            <a:off x="5730840" y="5275440"/>
            <a:ext cx="1981080" cy="821880"/>
            <a:chOff x="5730840" y="5275440"/>
            <a:chExt cx="1981080" cy="821880"/>
          </a:xfrm>
        </p:grpSpPr>
        <p:sp>
          <p:nvSpPr>
            <p:cNvPr id="3773" name="Rectangle 38"/>
            <p:cNvSpPr/>
            <p:nvPr/>
          </p:nvSpPr>
          <p:spPr>
            <a:xfrm>
              <a:off x="6237360" y="5275440"/>
              <a:ext cx="147456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Ranked Lis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 Cli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74" name="Straight Arrow Connector 86"/>
            <p:cNvCxnSpPr/>
            <p:nvPr/>
          </p:nvCxnSpPr>
          <p:spPr>
            <a:xfrm>
              <a:off x="5730840" y="5715000"/>
              <a:ext cx="837360" cy="216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</p:grpSp>
      <p:grpSp>
        <p:nvGrpSpPr>
          <p:cNvPr id="3775" name="Group 59"/>
          <p:cNvGrpSpPr/>
          <p:nvPr/>
        </p:nvGrpSpPr>
        <p:grpSpPr>
          <a:xfrm>
            <a:off x="853920" y="4964040"/>
            <a:ext cx="2192400" cy="1636920"/>
            <a:chOff x="853920" y="4964040"/>
            <a:chExt cx="2192400" cy="1636920"/>
          </a:xfrm>
        </p:grpSpPr>
        <p:cxnSp>
          <p:nvCxnSpPr>
            <p:cNvPr id="3776" name="Straight Arrow Connector 83"/>
            <p:cNvCxnSpPr/>
            <p:nvPr/>
          </p:nvCxnSpPr>
          <p:spPr>
            <a:xfrm>
              <a:off x="855720" y="5396040"/>
              <a:ext cx="837360" cy="216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cxnSp>
          <p:nvCxnSpPr>
            <p:cNvPr id="3777" name="Straight Arrow Connector 85"/>
            <p:cNvCxnSpPr/>
            <p:nvPr/>
          </p:nvCxnSpPr>
          <p:spPr>
            <a:xfrm>
              <a:off x="853920" y="6172200"/>
              <a:ext cx="837360" cy="216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grpSp>
          <p:nvGrpSpPr>
            <p:cNvPr id="3778" name="Group 45"/>
            <p:cNvGrpSpPr/>
            <p:nvPr/>
          </p:nvGrpSpPr>
          <p:grpSpPr>
            <a:xfrm>
              <a:off x="1768320" y="4964040"/>
              <a:ext cx="1278000" cy="1636920"/>
              <a:chOff x="1768320" y="4964040"/>
              <a:chExt cx="1278000" cy="1636920"/>
            </a:xfrm>
          </p:grpSpPr>
          <p:sp>
            <p:nvSpPr>
              <p:cNvPr id="3779" name="AutoShape 12"/>
              <p:cNvSpPr/>
              <p:nvPr/>
            </p:nvSpPr>
            <p:spPr>
              <a:xfrm>
                <a:off x="1768320" y="4964040"/>
                <a:ext cx="1278000" cy="1636920"/>
              </a:xfrm>
              <a:prstGeom prst="flowChartProcess">
                <a:avLst/>
              </a:prstGeom>
              <a:solidFill>
                <a:srgbClr val="99ccff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Rectangle 13"/>
              <p:cNvSpPr/>
              <p:nvPr/>
            </p:nvSpPr>
            <p:spPr>
              <a:xfrm>
                <a:off x="1844640" y="5265720"/>
                <a:ext cx="1143000" cy="10652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aption Based Video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etrie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81" name="Group 51"/>
          <p:cNvGrpSpPr/>
          <p:nvPr/>
        </p:nvGrpSpPr>
        <p:grpSpPr>
          <a:xfrm>
            <a:off x="1235160" y="787320"/>
            <a:ext cx="1811160" cy="1636920"/>
            <a:chOff x="1235160" y="787320"/>
            <a:chExt cx="1811160" cy="1636920"/>
          </a:xfrm>
        </p:grpSpPr>
        <p:grpSp>
          <p:nvGrpSpPr>
            <p:cNvPr id="3782" name="Group 44"/>
            <p:cNvGrpSpPr/>
            <p:nvPr/>
          </p:nvGrpSpPr>
          <p:grpSpPr>
            <a:xfrm>
              <a:off x="1768320" y="787320"/>
              <a:ext cx="1278000" cy="1636920"/>
              <a:chOff x="1768320" y="787320"/>
              <a:chExt cx="1278000" cy="1636920"/>
            </a:xfrm>
          </p:grpSpPr>
          <p:sp>
            <p:nvSpPr>
              <p:cNvPr id="3783" name="AutoShape 12"/>
              <p:cNvSpPr/>
              <p:nvPr/>
            </p:nvSpPr>
            <p:spPr>
              <a:xfrm>
                <a:off x="1768320" y="787320"/>
                <a:ext cx="1278000" cy="1636920"/>
              </a:xfrm>
              <a:prstGeom prst="flowChartProcess">
                <a:avLst/>
              </a:prstGeom>
              <a:solidFill>
                <a:srgbClr val="99ccff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Rectangle 13"/>
              <p:cNvSpPr/>
              <p:nvPr/>
            </p:nvSpPr>
            <p:spPr>
              <a:xfrm>
                <a:off x="1844640" y="1089000"/>
                <a:ext cx="1143000" cy="10652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aption Based Video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etrie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Line 50"/>
            <p:cNvSpPr/>
            <p:nvPr/>
          </p:nvSpPr>
          <p:spPr>
            <a:xfrm>
              <a:off x="1235160" y="1585800"/>
              <a:ext cx="533160" cy="0"/>
            </a:xfrm>
            <a:prstGeom prst="line">
              <a:avLst/>
            </a:prstGeom>
            <a:ln w="9360">
              <a:solidFill>
                <a:srgbClr val="1f478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6" name="Group 53"/>
          <p:cNvGrpSpPr/>
          <p:nvPr/>
        </p:nvGrpSpPr>
        <p:grpSpPr>
          <a:xfrm>
            <a:off x="3063960" y="1219320"/>
            <a:ext cx="2057400" cy="821880"/>
            <a:chOff x="3063960" y="1219320"/>
            <a:chExt cx="2057400" cy="821880"/>
          </a:xfrm>
        </p:grpSpPr>
        <p:sp>
          <p:nvSpPr>
            <p:cNvPr id="3787" name="Rectangle 17"/>
            <p:cNvSpPr/>
            <p:nvPr/>
          </p:nvSpPr>
          <p:spPr>
            <a:xfrm>
              <a:off x="3597120" y="1219320"/>
              <a:ext cx="1524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Automatical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Label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 Cli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Line 52"/>
            <p:cNvSpPr/>
            <p:nvPr/>
          </p:nvSpPr>
          <p:spPr>
            <a:xfrm>
              <a:off x="3063960" y="1585800"/>
              <a:ext cx="533160" cy="0"/>
            </a:xfrm>
            <a:prstGeom prst="line">
              <a:avLst/>
            </a:prstGeom>
            <a:ln w="9360">
              <a:solidFill>
                <a:srgbClr val="1f478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9" name="Group 60"/>
          <p:cNvGrpSpPr/>
          <p:nvPr/>
        </p:nvGrpSpPr>
        <p:grpSpPr>
          <a:xfrm>
            <a:off x="2987640" y="4968720"/>
            <a:ext cx="2763720" cy="1636920"/>
            <a:chOff x="2987640" y="4968720"/>
            <a:chExt cx="2763720" cy="1636920"/>
          </a:xfrm>
        </p:grpSpPr>
        <p:grpSp>
          <p:nvGrpSpPr>
            <p:cNvPr id="3790" name="Group 39"/>
            <p:cNvGrpSpPr/>
            <p:nvPr/>
          </p:nvGrpSpPr>
          <p:grpSpPr>
            <a:xfrm>
              <a:off x="4473720" y="4968720"/>
              <a:ext cx="1277640" cy="1636920"/>
              <a:chOff x="4473720" y="4968720"/>
              <a:chExt cx="1277640" cy="1636920"/>
            </a:xfrm>
          </p:grpSpPr>
          <p:sp>
            <p:nvSpPr>
              <p:cNvPr id="3791" name="AutoShape 12"/>
              <p:cNvSpPr/>
              <p:nvPr/>
            </p:nvSpPr>
            <p:spPr>
              <a:xfrm>
                <a:off x="4473720" y="4968720"/>
                <a:ext cx="1277640" cy="1636920"/>
              </a:xfrm>
              <a:prstGeom prst="flowChartProcess">
                <a:avLst/>
              </a:prstGeom>
              <a:solidFill>
                <a:srgbClr val="00ccff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Rectangle 13"/>
              <p:cNvSpPr/>
              <p:nvPr/>
            </p:nvSpPr>
            <p:spPr>
              <a:xfrm>
                <a:off x="4511520" y="5449680"/>
                <a:ext cx="1218960" cy="5785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ank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3" name="Rectangle 29"/>
            <p:cNvSpPr/>
            <p:nvPr/>
          </p:nvSpPr>
          <p:spPr>
            <a:xfrm>
              <a:off x="2987640" y="5181480"/>
              <a:ext cx="1447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Retriev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li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Line 54"/>
            <p:cNvSpPr/>
            <p:nvPr/>
          </p:nvSpPr>
          <p:spPr>
            <a:xfrm>
              <a:off x="3063960" y="5762520"/>
              <a:ext cx="1371600" cy="0"/>
            </a:xfrm>
            <a:prstGeom prst="line">
              <a:avLst/>
            </a:prstGeom>
            <a:ln w="9360">
              <a:solidFill>
                <a:srgbClr val="1f478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5" name="Group 58"/>
          <p:cNvGrpSpPr/>
          <p:nvPr/>
        </p:nvGrpSpPr>
        <p:grpSpPr>
          <a:xfrm>
            <a:off x="5197320" y="2118960"/>
            <a:ext cx="1752840" cy="1881720"/>
            <a:chOff x="5197320" y="2118960"/>
            <a:chExt cx="1752840" cy="1881720"/>
          </a:xfrm>
        </p:grpSpPr>
        <p:sp>
          <p:nvSpPr>
            <p:cNvPr id="3796" name="Rectangle 9"/>
            <p:cNvSpPr/>
            <p:nvPr/>
          </p:nvSpPr>
          <p:spPr>
            <a:xfrm>
              <a:off x="5197320" y="3011400"/>
              <a:ext cx="1752840" cy="98928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1f47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lass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97" name="Straight Arrow Connector 60"/>
            <p:cNvCxnSpPr/>
            <p:nvPr/>
          </p:nvCxnSpPr>
          <p:spPr>
            <a:xfrm flipH="1">
              <a:off x="6109920" y="2118960"/>
              <a:ext cx="2160" cy="7642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</p:grpSp>
      <p:sp>
        <p:nvSpPr>
          <p:cNvPr id="3798" name="TextBox 41"/>
          <p:cNvSpPr/>
          <p:nvPr/>
        </p:nvSpPr>
        <p:spPr>
          <a:xfrm>
            <a:off x="3762000" y="228600"/>
            <a:ext cx="45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Osaka"/>
              </a:rPr>
              <a:t>SYSTE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DD38-26B3-4D60-AB7C-EB1A3C041632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Rectangle 38"/>
          <p:cNvSpPr/>
          <p:nvPr/>
        </p:nvSpPr>
        <p:spPr>
          <a:xfrm>
            <a:off x="1676520" y="527040"/>
            <a:ext cx="1447560" cy="18288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1" name="Group 78"/>
          <p:cNvGrpSpPr/>
          <p:nvPr/>
        </p:nvGrpSpPr>
        <p:grpSpPr>
          <a:xfrm>
            <a:off x="152280" y="609480"/>
            <a:ext cx="8645760" cy="5818320"/>
            <a:chOff x="152280" y="609480"/>
            <a:chExt cx="8645760" cy="5818320"/>
          </a:xfrm>
        </p:grpSpPr>
        <p:sp>
          <p:nvSpPr>
            <p:cNvPr id="3802" name="Rectangle 18"/>
            <p:cNvSpPr/>
            <p:nvPr/>
          </p:nvSpPr>
          <p:spPr>
            <a:xfrm>
              <a:off x="4929120" y="1044720"/>
              <a:ext cx="2265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Manually Labeled Ca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Rectangle 25"/>
            <p:cNvSpPr/>
            <p:nvPr/>
          </p:nvSpPr>
          <p:spPr>
            <a:xfrm>
              <a:off x="152280" y="5003640"/>
              <a:ext cx="838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Qu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Rectangle 26"/>
            <p:cNvSpPr/>
            <p:nvPr/>
          </p:nvSpPr>
          <p:spPr>
            <a:xfrm>
              <a:off x="152280" y="5613480"/>
              <a:ext cx="11430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Line 41"/>
            <p:cNvSpPr/>
            <p:nvPr/>
          </p:nvSpPr>
          <p:spPr>
            <a:xfrm>
              <a:off x="304920" y="4129200"/>
              <a:ext cx="8493120" cy="1440"/>
            </a:xfrm>
            <a:prstGeom prst="line">
              <a:avLst/>
            </a:prstGeom>
            <a:ln w="3240">
              <a:solidFill>
                <a:srgbClr val="1f478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Rectangle 42"/>
            <p:cNvSpPr/>
            <p:nvPr/>
          </p:nvSpPr>
          <p:spPr>
            <a:xfrm>
              <a:off x="7310520" y="1879560"/>
              <a:ext cx="12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Rectangle 43"/>
            <p:cNvSpPr/>
            <p:nvPr/>
          </p:nvSpPr>
          <p:spPr>
            <a:xfrm>
              <a:off x="7659720" y="530208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Rectangle 49"/>
            <p:cNvSpPr/>
            <p:nvPr/>
          </p:nvSpPr>
          <p:spPr>
            <a:xfrm>
              <a:off x="251640" y="1041480"/>
              <a:ext cx="102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9" name="Group 86"/>
            <p:cNvGrpSpPr/>
            <p:nvPr/>
          </p:nvGrpSpPr>
          <p:grpSpPr>
            <a:xfrm>
              <a:off x="3276720" y="1941120"/>
              <a:ext cx="1752480" cy="1867680"/>
              <a:chOff x="3276720" y="1941120"/>
              <a:chExt cx="1752480" cy="1867680"/>
            </a:xfrm>
          </p:grpSpPr>
          <p:sp>
            <p:nvSpPr>
              <p:cNvPr id="3810" name="Rectangle 9"/>
              <p:cNvSpPr/>
              <p:nvPr/>
            </p:nvSpPr>
            <p:spPr>
              <a:xfrm>
                <a:off x="3276720" y="2819520"/>
                <a:ext cx="1752480" cy="989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 </a:t>
                </a: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assif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11" name="Straight Arrow Connector 60"/>
              <p:cNvCxnSpPr/>
              <p:nvPr/>
            </p:nvCxnSpPr>
            <p:spPr>
              <a:xfrm flipH="1">
                <a:off x="4113000" y="1941120"/>
                <a:ext cx="2160" cy="76428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  <p:cxnSp>
          <p:nvCxnSpPr>
            <p:cNvPr id="3812" name="Straight Arrow Connector 72"/>
            <p:cNvCxnSpPr/>
            <p:nvPr/>
          </p:nvCxnSpPr>
          <p:spPr>
            <a:xfrm>
              <a:off x="4190040" y="3784320"/>
              <a:ext cx="610200" cy="9910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cxnSp>
          <p:nvCxnSpPr>
            <p:cNvPr id="3813" name="Straight Arrow Connector 74"/>
            <p:cNvCxnSpPr/>
            <p:nvPr/>
          </p:nvCxnSpPr>
          <p:spPr>
            <a:xfrm flipH="1">
              <a:off x="5409720" y="3784320"/>
              <a:ext cx="612000" cy="9910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grpSp>
          <p:nvGrpSpPr>
            <p:cNvPr id="3814" name="Group 91"/>
            <p:cNvGrpSpPr/>
            <p:nvPr/>
          </p:nvGrpSpPr>
          <p:grpSpPr>
            <a:xfrm>
              <a:off x="5715000" y="5097600"/>
              <a:ext cx="1981080" cy="821880"/>
              <a:chOff x="5715000" y="5097600"/>
              <a:chExt cx="1981080" cy="821880"/>
            </a:xfrm>
          </p:grpSpPr>
          <p:sp>
            <p:nvSpPr>
              <p:cNvPr id="3815" name="Rectangle 38"/>
              <p:cNvSpPr/>
              <p:nvPr/>
            </p:nvSpPr>
            <p:spPr>
              <a:xfrm>
                <a:off x="6221520" y="5097600"/>
                <a:ext cx="147456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anked Lis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16" name="Straight Arrow Connector 86"/>
              <p:cNvCxnSpPr/>
              <p:nvPr/>
            </p:nvCxnSpPr>
            <p:spPr>
              <a:xfrm>
                <a:off x="5715000" y="553716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  <p:grpSp>
          <p:nvGrpSpPr>
            <p:cNvPr id="3817" name="Group 94"/>
            <p:cNvGrpSpPr/>
            <p:nvPr/>
          </p:nvGrpSpPr>
          <p:grpSpPr>
            <a:xfrm>
              <a:off x="838080" y="4786200"/>
              <a:ext cx="2192400" cy="1636920"/>
              <a:chOff x="838080" y="4786200"/>
              <a:chExt cx="2192400" cy="1636920"/>
            </a:xfrm>
          </p:grpSpPr>
          <p:cxnSp>
            <p:nvCxnSpPr>
              <p:cNvPr id="3818" name="Straight Arrow Connector 83"/>
              <p:cNvCxnSpPr/>
              <p:nvPr/>
            </p:nvCxnSpPr>
            <p:spPr>
              <a:xfrm>
                <a:off x="839880" y="521820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  <p:cxnSp>
            <p:nvCxnSpPr>
              <p:cNvPr id="3819" name="Straight Arrow Connector 85"/>
              <p:cNvCxnSpPr/>
              <p:nvPr/>
            </p:nvCxnSpPr>
            <p:spPr>
              <a:xfrm>
                <a:off x="838080" y="599436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  <p:grpSp>
            <p:nvGrpSpPr>
              <p:cNvPr id="3820" name="Group 97"/>
              <p:cNvGrpSpPr/>
              <p:nvPr/>
            </p:nvGrpSpPr>
            <p:grpSpPr>
              <a:xfrm>
                <a:off x="1752480" y="4786200"/>
                <a:ext cx="1278000" cy="1636920"/>
                <a:chOff x="1752480" y="4786200"/>
                <a:chExt cx="1278000" cy="1636920"/>
              </a:xfrm>
            </p:grpSpPr>
            <p:sp>
              <p:nvSpPr>
                <p:cNvPr id="3821" name="AutoShape 12"/>
                <p:cNvSpPr/>
                <p:nvPr/>
              </p:nvSpPr>
              <p:spPr>
                <a:xfrm>
                  <a:off x="1752480" y="4786200"/>
                  <a:ext cx="1278000" cy="1636920"/>
                </a:xfrm>
                <a:prstGeom prst="flowChartProcess">
                  <a:avLst/>
                </a:prstGeom>
                <a:solidFill>
                  <a:srgbClr val="99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Rectangle 13"/>
                <p:cNvSpPr/>
                <p:nvPr/>
              </p:nvSpPr>
              <p:spPr>
                <a:xfrm>
                  <a:off x="1828800" y="5087880"/>
                  <a:ext cx="1143000" cy="106524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Caption Based 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etrie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3" name="Group 100"/>
            <p:cNvGrpSpPr/>
            <p:nvPr/>
          </p:nvGrpSpPr>
          <p:grpSpPr>
            <a:xfrm>
              <a:off x="1219320" y="609480"/>
              <a:ext cx="1811160" cy="1636920"/>
              <a:chOff x="1219320" y="609480"/>
              <a:chExt cx="1811160" cy="1636920"/>
            </a:xfrm>
          </p:grpSpPr>
          <p:grpSp>
            <p:nvGrpSpPr>
              <p:cNvPr id="3824" name="Group 101"/>
              <p:cNvGrpSpPr/>
              <p:nvPr/>
            </p:nvGrpSpPr>
            <p:grpSpPr>
              <a:xfrm>
                <a:off x="1752480" y="609480"/>
                <a:ext cx="1278000" cy="1636920"/>
                <a:chOff x="1752480" y="609480"/>
                <a:chExt cx="1278000" cy="1636920"/>
              </a:xfrm>
            </p:grpSpPr>
            <p:sp>
              <p:nvSpPr>
                <p:cNvPr id="3825" name="AutoShape 12"/>
                <p:cNvSpPr/>
                <p:nvPr/>
              </p:nvSpPr>
              <p:spPr>
                <a:xfrm>
                  <a:off x="1752480" y="609480"/>
                  <a:ext cx="1278000" cy="1636920"/>
                </a:xfrm>
                <a:prstGeom prst="flowChartProcess">
                  <a:avLst/>
                </a:prstGeom>
                <a:solidFill>
                  <a:srgbClr val="99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Rectangle 13"/>
                <p:cNvSpPr/>
                <p:nvPr/>
              </p:nvSpPr>
              <p:spPr>
                <a:xfrm>
                  <a:off x="1828800" y="911160"/>
                  <a:ext cx="1143000" cy="106524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Caption Based 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etrie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7" name="Line 104"/>
              <p:cNvSpPr/>
              <p:nvPr/>
            </p:nvSpPr>
            <p:spPr>
              <a:xfrm>
                <a:off x="1219320" y="1407960"/>
                <a:ext cx="53316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8" name="Group 105"/>
            <p:cNvGrpSpPr/>
            <p:nvPr/>
          </p:nvGrpSpPr>
          <p:grpSpPr>
            <a:xfrm>
              <a:off x="3048120" y="1041480"/>
              <a:ext cx="2057400" cy="821880"/>
              <a:chOff x="3048120" y="1041480"/>
              <a:chExt cx="2057400" cy="821880"/>
            </a:xfrm>
          </p:grpSpPr>
          <p:sp>
            <p:nvSpPr>
              <p:cNvPr id="3829" name="Rectangle 17"/>
              <p:cNvSpPr/>
              <p:nvPr/>
            </p:nvSpPr>
            <p:spPr>
              <a:xfrm>
                <a:off x="3581280" y="1041480"/>
                <a:ext cx="152424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Automatic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Labeled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Line 107"/>
              <p:cNvSpPr/>
              <p:nvPr/>
            </p:nvSpPr>
            <p:spPr>
              <a:xfrm>
                <a:off x="3048120" y="1407960"/>
                <a:ext cx="53316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Group 108"/>
            <p:cNvGrpSpPr/>
            <p:nvPr/>
          </p:nvGrpSpPr>
          <p:grpSpPr>
            <a:xfrm>
              <a:off x="2971800" y="4790880"/>
              <a:ext cx="2763720" cy="1636920"/>
              <a:chOff x="2971800" y="4790880"/>
              <a:chExt cx="2763720" cy="1636920"/>
            </a:xfrm>
          </p:grpSpPr>
          <p:grpSp>
            <p:nvGrpSpPr>
              <p:cNvPr id="3832" name="Group 39"/>
              <p:cNvGrpSpPr/>
              <p:nvPr/>
            </p:nvGrpSpPr>
            <p:grpSpPr>
              <a:xfrm>
                <a:off x="4457880" y="4790880"/>
                <a:ext cx="1277640" cy="1636920"/>
                <a:chOff x="4457880" y="4790880"/>
                <a:chExt cx="1277640" cy="1636920"/>
              </a:xfrm>
            </p:grpSpPr>
            <p:sp>
              <p:nvSpPr>
                <p:cNvPr id="3833" name="AutoShape 12"/>
                <p:cNvSpPr/>
                <p:nvPr/>
              </p:nvSpPr>
              <p:spPr>
                <a:xfrm>
                  <a:off x="4457880" y="4790880"/>
                  <a:ext cx="1277640" cy="1636920"/>
                </a:xfrm>
                <a:prstGeom prst="flowChartProcess">
                  <a:avLst/>
                </a:prstGeom>
                <a:solidFill>
                  <a:srgbClr val="00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Rectangle 13"/>
                <p:cNvSpPr/>
                <p:nvPr/>
              </p:nvSpPr>
              <p:spPr>
                <a:xfrm>
                  <a:off x="4495680" y="5271840"/>
                  <a:ext cx="1218960" cy="5785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ank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5" name="Rectangle 29"/>
              <p:cNvSpPr/>
              <p:nvPr/>
            </p:nvSpPr>
            <p:spPr>
              <a:xfrm>
                <a:off x="2971800" y="5003640"/>
                <a:ext cx="144792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etriev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Line 113"/>
              <p:cNvSpPr/>
              <p:nvPr/>
            </p:nvSpPr>
            <p:spPr>
              <a:xfrm>
                <a:off x="3048120" y="5584680"/>
                <a:ext cx="137160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Group 114"/>
            <p:cNvGrpSpPr/>
            <p:nvPr/>
          </p:nvGrpSpPr>
          <p:grpSpPr>
            <a:xfrm>
              <a:off x="5181480" y="1941120"/>
              <a:ext cx="1752840" cy="1881720"/>
              <a:chOff x="5181480" y="1941120"/>
              <a:chExt cx="1752840" cy="1881720"/>
            </a:xfrm>
          </p:grpSpPr>
          <p:sp>
            <p:nvSpPr>
              <p:cNvPr id="3838" name="Rectangle 9"/>
              <p:cNvSpPr/>
              <p:nvPr/>
            </p:nvSpPr>
            <p:spPr>
              <a:xfrm>
                <a:off x="5181480" y="2833560"/>
                <a:ext cx="1752840" cy="989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ap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 </a:t>
                </a: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assif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39" name="Straight Arrow Connector 60"/>
              <p:cNvCxnSpPr/>
              <p:nvPr/>
            </p:nvCxnSpPr>
            <p:spPr>
              <a:xfrm flipH="1">
                <a:off x="6094080" y="1941120"/>
                <a:ext cx="2160" cy="76428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D9B1-0D4B-4980-914A-C546FB9D8CA6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Retrieving and Labeling Data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510516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15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all closed caption sentences that contain exactly one of the set of activity keyword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1f47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786"/>
                </a:solidFill>
                <a:latin typeface="Arial"/>
              </a:rPr>
              <a:t>kick, save, throw, touch</a:t>
            </a:r>
            <a:endParaRPr b="0" lang="en-US" sz="2400" spc="-1" strike="noStrike">
              <a:solidFill>
                <a:srgbClr val="1f478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15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Arial"/>
              </a:rPr>
              <a:t>Extract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clips of 8 sec around the corresponding time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15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Arial"/>
              </a:rPr>
              <a:t>Label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the clips with corresponding classe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grpSp>
        <p:nvGrpSpPr>
          <p:cNvPr id="3843" name="Group 18"/>
          <p:cNvGrpSpPr/>
          <p:nvPr/>
        </p:nvGrpSpPr>
        <p:grpSpPr>
          <a:xfrm>
            <a:off x="1219320" y="1219320"/>
            <a:ext cx="3716280" cy="1602720"/>
            <a:chOff x="1219320" y="1219320"/>
            <a:chExt cx="3716280" cy="1602720"/>
          </a:xfrm>
        </p:grpSpPr>
        <p:pic>
          <p:nvPicPr>
            <p:cNvPr id="3844" name="Picture 5" descr="FilmStrip"/>
            <p:cNvPicPr/>
            <p:nvPr/>
          </p:nvPicPr>
          <p:blipFill>
            <a:blip r:embed="rId1"/>
            <a:stretch/>
          </p:blipFill>
          <p:spPr>
            <a:xfrm>
              <a:off x="1219320" y="1219320"/>
              <a:ext cx="342900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5" name="Rectangle 6"/>
            <p:cNvSpPr/>
            <p:nvPr/>
          </p:nvSpPr>
          <p:spPr>
            <a:xfrm>
              <a:off x="1668600" y="236232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…</a:t>
              </a:r>
              <a:r>
                <a:rPr b="0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What a nice</a:t>
              </a:r>
              <a:r>
                <a:rPr b="1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 kick</a:t>
              </a:r>
              <a:r>
                <a:rPr b="0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!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6" name="Group 7"/>
          <p:cNvGrpSpPr/>
          <p:nvPr/>
        </p:nvGrpSpPr>
        <p:grpSpPr>
          <a:xfrm>
            <a:off x="2057400" y="990720"/>
            <a:ext cx="2514600" cy="1447560"/>
            <a:chOff x="2057400" y="990720"/>
            <a:chExt cx="2514600" cy="1447560"/>
          </a:xfrm>
        </p:grpSpPr>
        <p:sp>
          <p:nvSpPr>
            <p:cNvPr id="3847" name="Line 8"/>
            <p:cNvSpPr/>
            <p:nvPr/>
          </p:nvSpPr>
          <p:spPr>
            <a:xfrm>
              <a:off x="2057400" y="99072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Line 9"/>
            <p:cNvSpPr/>
            <p:nvPr/>
          </p:nvSpPr>
          <p:spPr>
            <a:xfrm>
              <a:off x="4572000" y="99072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9" name="Group 10"/>
          <p:cNvGrpSpPr/>
          <p:nvPr/>
        </p:nvGrpSpPr>
        <p:grpSpPr>
          <a:xfrm>
            <a:off x="1219320" y="3254400"/>
            <a:ext cx="2133360" cy="2612520"/>
            <a:chOff x="1219320" y="3254400"/>
            <a:chExt cx="2133360" cy="2612520"/>
          </a:xfrm>
        </p:grpSpPr>
        <p:pic>
          <p:nvPicPr>
            <p:cNvPr id="3850" name="Picture 11" descr="FilmStrip"/>
            <p:cNvPicPr/>
            <p:nvPr/>
          </p:nvPicPr>
          <p:blipFill>
            <a:blip r:embed="rId2"/>
            <a:srcRect l="0" t="0" r="22218" b="2177"/>
            <a:stretch/>
          </p:blipFill>
          <p:spPr>
            <a:xfrm>
              <a:off x="1219320" y="3254400"/>
              <a:ext cx="21333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1" name="Picture 12" descr="FilmStrip"/>
            <p:cNvPicPr/>
            <p:nvPr/>
          </p:nvPicPr>
          <p:blipFill>
            <a:blip r:embed="rId3"/>
            <a:srcRect l="0" t="0" r="22218" b="2177"/>
            <a:stretch/>
          </p:blipFill>
          <p:spPr>
            <a:xfrm>
              <a:off x="1219320" y="4160520"/>
              <a:ext cx="21333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2" name="Picture 13" descr="FilmStrip"/>
            <p:cNvPicPr/>
            <p:nvPr/>
          </p:nvPicPr>
          <p:blipFill>
            <a:blip r:embed="rId4"/>
            <a:srcRect l="0" t="0" r="22218" b="2177"/>
            <a:stretch/>
          </p:blipFill>
          <p:spPr>
            <a:xfrm>
              <a:off x="1219320" y="5074920"/>
              <a:ext cx="213336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3" name="Group 14"/>
          <p:cNvGrpSpPr/>
          <p:nvPr/>
        </p:nvGrpSpPr>
        <p:grpSpPr>
          <a:xfrm>
            <a:off x="3428280" y="3287880"/>
            <a:ext cx="999000" cy="2278800"/>
            <a:chOff x="3428280" y="3287880"/>
            <a:chExt cx="999000" cy="2278800"/>
          </a:xfrm>
        </p:grpSpPr>
        <p:sp>
          <p:nvSpPr>
            <p:cNvPr id="3854" name="Rectangle 15"/>
            <p:cNvSpPr/>
            <p:nvPr/>
          </p:nvSpPr>
          <p:spPr>
            <a:xfrm>
              <a:off x="3436560" y="328788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k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Rectangle 16"/>
            <p:cNvSpPr/>
            <p:nvPr/>
          </p:nvSpPr>
          <p:spPr>
            <a:xfrm>
              <a:off x="3431880" y="4178520"/>
              <a:ext cx="8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s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Rectangle 17"/>
            <p:cNvSpPr/>
            <p:nvPr/>
          </p:nvSpPr>
          <p:spPr>
            <a:xfrm>
              <a:off x="3428280" y="5106960"/>
              <a:ext cx="99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tou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4170-6C71-4816-9184-2B203E1C2E11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Rectangle 2"/>
          <p:cNvSpPr/>
          <p:nvPr/>
        </p:nvSpPr>
        <p:spPr>
          <a:xfrm>
            <a:off x="3200400" y="2590920"/>
            <a:ext cx="1905120" cy="11430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9" name="Group 42"/>
          <p:cNvGrpSpPr/>
          <p:nvPr/>
        </p:nvGrpSpPr>
        <p:grpSpPr>
          <a:xfrm>
            <a:off x="152280" y="496800"/>
            <a:ext cx="8645760" cy="5818320"/>
            <a:chOff x="152280" y="496800"/>
            <a:chExt cx="8645760" cy="5818320"/>
          </a:xfrm>
        </p:grpSpPr>
        <p:sp>
          <p:nvSpPr>
            <p:cNvPr id="3860" name="Rectangle 18"/>
            <p:cNvSpPr/>
            <p:nvPr/>
          </p:nvSpPr>
          <p:spPr>
            <a:xfrm>
              <a:off x="4929120" y="932040"/>
              <a:ext cx="2265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Manually Labeled Ca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Rectangle 25"/>
            <p:cNvSpPr/>
            <p:nvPr/>
          </p:nvSpPr>
          <p:spPr>
            <a:xfrm>
              <a:off x="152280" y="4890960"/>
              <a:ext cx="838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Qu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Rectangle 26"/>
            <p:cNvSpPr/>
            <p:nvPr/>
          </p:nvSpPr>
          <p:spPr>
            <a:xfrm>
              <a:off x="152280" y="5500800"/>
              <a:ext cx="11430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Line 41"/>
            <p:cNvSpPr/>
            <p:nvPr/>
          </p:nvSpPr>
          <p:spPr>
            <a:xfrm>
              <a:off x="304920" y="4016520"/>
              <a:ext cx="8493120" cy="1440"/>
            </a:xfrm>
            <a:prstGeom prst="line">
              <a:avLst/>
            </a:prstGeom>
            <a:ln w="3240">
              <a:solidFill>
                <a:srgbClr val="1f478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Rectangle 42"/>
            <p:cNvSpPr/>
            <p:nvPr/>
          </p:nvSpPr>
          <p:spPr>
            <a:xfrm>
              <a:off x="7310520" y="1766880"/>
              <a:ext cx="12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Rectangle 43"/>
            <p:cNvSpPr/>
            <p:nvPr/>
          </p:nvSpPr>
          <p:spPr>
            <a:xfrm>
              <a:off x="7659720" y="518940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Rectangle 49"/>
            <p:cNvSpPr/>
            <p:nvPr/>
          </p:nvSpPr>
          <p:spPr>
            <a:xfrm>
              <a:off x="196200" y="928800"/>
              <a:ext cx="102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7" name="Group 50"/>
            <p:cNvGrpSpPr/>
            <p:nvPr/>
          </p:nvGrpSpPr>
          <p:grpSpPr>
            <a:xfrm>
              <a:off x="3276720" y="1828440"/>
              <a:ext cx="1752480" cy="1867680"/>
              <a:chOff x="3276720" y="1828440"/>
              <a:chExt cx="1752480" cy="1867680"/>
            </a:xfrm>
          </p:grpSpPr>
          <p:sp>
            <p:nvSpPr>
              <p:cNvPr id="3868" name="Rectangle 9"/>
              <p:cNvSpPr/>
              <p:nvPr/>
            </p:nvSpPr>
            <p:spPr>
              <a:xfrm>
                <a:off x="3276720" y="2706840"/>
                <a:ext cx="1752480" cy="989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 </a:t>
                </a: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assif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69" name="Straight Arrow Connector 60"/>
              <p:cNvCxnSpPr/>
              <p:nvPr/>
            </p:nvCxnSpPr>
            <p:spPr>
              <a:xfrm flipH="1">
                <a:off x="4113000" y="1828440"/>
                <a:ext cx="2160" cy="76428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  <p:cxnSp>
          <p:nvCxnSpPr>
            <p:cNvPr id="3870" name="Straight Arrow Connector 72"/>
            <p:cNvCxnSpPr/>
            <p:nvPr/>
          </p:nvCxnSpPr>
          <p:spPr>
            <a:xfrm>
              <a:off x="4190040" y="3671640"/>
              <a:ext cx="610200" cy="9910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cxnSp>
          <p:nvCxnSpPr>
            <p:cNvPr id="3871" name="Straight Arrow Connector 74"/>
            <p:cNvCxnSpPr/>
            <p:nvPr/>
          </p:nvCxnSpPr>
          <p:spPr>
            <a:xfrm flipH="1">
              <a:off x="5409720" y="3671640"/>
              <a:ext cx="612000" cy="9910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grpSp>
          <p:nvGrpSpPr>
            <p:cNvPr id="3872" name="Group 55"/>
            <p:cNvGrpSpPr/>
            <p:nvPr/>
          </p:nvGrpSpPr>
          <p:grpSpPr>
            <a:xfrm>
              <a:off x="5715000" y="4984920"/>
              <a:ext cx="1981080" cy="821880"/>
              <a:chOff x="5715000" y="4984920"/>
              <a:chExt cx="1981080" cy="821880"/>
            </a:xfrm>
          </p:grpSpPr>
          <p:sp>
            <p:nvSpPr>
              <p:cNvPr id="3873" name="Rectangle 38"/>
              <p:cNvSpPr/>
              <p:nvPr/>
            </p:nvSpPr>
            <p:spPr>
              <a:xfrm>
                <a:off x="6221520" y="4984920"/>
                <a:ext cx="147456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anked Lis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74" name="Straight Arrow Connector 86"/>
              <p:cNvCxnSpPr/>
              <p:nvPr/>
            </p:nvCxnSpPr>
            <p:spPr>
              <a:xfrm>
                <a:off x="5715000" y="542448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  <p:grpSp>
          <p:nvGrpSpPr>
            <p:cNvPr id="3875" name="Group 58"/>
            <p:cNvGrpSpPr/>
            <p:nvPr/>
          </p:nvGrpSpPr>
          <p:grpSpPr>
            <a:xfrm>
              <a:off x="838080" y="4673520"/>
              <a:ext cx="2192400" cy="1636920"/>
              <a:chOff x="838080" y="4673520"/>
              <a:chExt cx="2192400" cy="1636920"/>
            </a:xfrm>
          </p:grpSpPr>
          <p:cxnSp>
            <p:nvCxnSpPr>
              <p:cNvPr id="3876" name="Straight Arrow Connector 83"/>
              <p:cNvCxnSpPr/>
              <p:nvPr/>
            </p:nvCxnSpPr>
            <p:spPr>
              <a:xfrm>
                <a:off x="839880" y="510552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  <p:cxnSp>
            <p:nvCxnSpPr>
              <p:cNvPr id="3877" name="Straight Arrow Connector 85"/>
              <p:cNvCxnSpPr/>
              <p:nvPr/>
            </p:nvCxnSpPr>
            <p:spPr>
              <a:xfrm>
                <a:off x="838080" y="588168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  <p:grpSp>
            <p:nvGrpSpPr>
              <p:cNvPr id="3878" name="Group 61"/>
              <p:cNvGrpSpPr/>
              <p:nvPr/>
            </p:nvGrpSpPr>
            <p:grpSpPr>
              <a:xfrm>
                <a:off x="1752480" y="4673520"/>
                <a:ext cx="1278000" cy="1636920"/>
                <a:chOff x="1752480" y="4673520"/>
                <a:chExt cx="1278000" cy="1636920"/>
              </a:xfrm>
            </p:grpSpPr>
            <p:sp>
              <p:nvSpPr>
                <p:cNvPr id="3879" name="AutoShape 12"/>
                <p:cNvSpPr/>
                <p:nvPr/>
              </p:nvSpPr>
              <p:spPr>
                <a:xfrm>
                  <a:off x="1752480" y="4673520"/>
                  <a:ext cx="1278000" cy="1636920"/>
                </a:xfrm>
                <a:prstGeom prst="flowChartProcess">
                  <a:avLst/>
                </a:prstGeom>
                <a:solidFill>
                  <a:srgbClr val="99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Rectangle 13"/>
                <p:cNvSpPr/>
                <p:nvPr/>
              </p:nvSpPr>
              <p:spPr>
                <a:xfrm>
                  <a:off x="1828800" y="4975200"/>
                  <a:ext cx="1143000" cy="106524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Caption Based 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etrie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1" name="Group 64"/>
            <p:cNvGrpSpPr/>
            <p:nvPr/>
          </p:nvGrpSpPr>
          <p:grpSpPr>
            <a:xfrm>
              <a:off x="1219320" y="496800"/>
              <a:ext cx="1811160" cy="1636920"/>
              <a:chOff x="1219320" y="496800"/>
              <a:chExt cx="1811160" cy="1636920"/>
            </a:xfrm>
          </p:grpSpPr>
          <p:grpSp>
            <p:nvGrpSpPr>
              <p:cNvPr id="3882" name="Group 65"/>
              <p:cNvGrpSpPr/>
              <p:nvPr/>
            </p:nvGrpSpPr>
            <p:grpSpPr>
              <a:xfrm>
                <a:off x="1752480" y="496800"/>
                <a:ext cx="1278000" cy="1636920"/>
                <a:chOff x="1752480" y="496800"/>
                <a:chExt cx="1278000" cy="1636920"/>
              </a:xfrm>
            </p:grpSpPr>
            <p:sp>
              <p:nvSpPr>
                <p:cNvPr id="3883" name="AutoShape 12"/>
                <p:cNvSpPr/>
                <p:nvPr/>
              </p:nvSpPr>
              <p:spPr>
                <a:xfrm>
                  <a:off x="1752480" y="496800"/>
                  <a:ext cx="1278000" cy="1636920"/>
                </a:xfrm>
                <a:prstGeom prst="flowChartProcess">
                  <a:avLst/>
                </a:prstGeom>
                <a:solidFill>
                  <a:srgbClr val="99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Rectangle 13"/>
                <p:cNvSpPr/>
                <p:nvPr/>
              </p:nvSpPr>
              <p:spPr>
                <a:xfrm>
                  <a:off x="1828800" y="798480"/>
                  <a:ext cx="1143000" cy="106524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Caption Based 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etrie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5" name="Line 68"/>
              <p:cNvSpPr/>
              <p:nvPr/>
            </p:nvSpPr>
            <p:spPr>
              <a:xfrm>
                <a:off x="1219320" y="1295280"/>
                <a:ext cx="53316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6" name="Group 69"/>
            <p:cNvGrpSpPr/>
            <p:nvPr/>
          </p:nvGrpSpPr>
          <p:grpSpPr>
            <a:xfrm>
              <a:off x="3048120" y="928800"/>
              <a:ext cx="2057400" cy="821880"/>
              <a:chOff x="3048120" y="928800"/>
              <a:chExt cx="2057400" cy="821880"/>
            </a:xfrm>
          </p:grpSpPr>
          <p:sp>
            <p:nvSpPr>
              <p:cNvPr id="3887" name="Rectangle 17"/>
              <p:cNvSpPr/>
              <p:nvPr/>
            </p:nvSpPr>
            <p:spPr>
              <a:xfrm>
                <a:off x="3581280" y="928800"/>
                <a:ext cx="152424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Automatic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Labeled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Line 71"/>
              <p:cNvSpPr/>
              <p:nvPr/>
            </p:nvSpPr>
            <p:spPr>
              <a:xfrm>
                <a:off x="3048120" y="1295280"/>
                <a:ext cx="53316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9" name="Group 72"/>
            <p:cNvGrpSpPr/>
            <p:nvPr/>
          </p:nvGrpSpPr>
          <p:grpSpPr>
            <a:xfrm>
              <a:off x="2971800" y="4678200"/>
              <a:ext cx="2763720" cy="1636920"/>
              <a:chOff x="2971800" y="4678200"/>
              <a:chExt cx="2763720" cy="1636920"/>
            </a:xfrm>
          </p:grpSpPr>
          <p:grpSp>
            <p:nvGrpSpPr>
              <p:cNvPr id="3890" name="Group 39"/>
              <p:cNvGrpSpPr/>
              <p:nvPr/>
            </p:nvGrpSpPr>
            <p:grpSpPr>
              <a:xfrm>
                <a:off x="4457880" y="4678200"/>
                <a:ext cx="1277640" cy="1636920"/>
                <a:chOff x="4457880" y="4678200"/>
                <a:chExt cx="1277640" cy="1636920"/>
              </a:xfrm>
            </p:grpSpPr>
            <p:sp>
              <p:nvSpPr>
                <p:cNvPr id="3891" name="AutoShape 12"/>
                <p:cNvSpPr/>
                <p:nvPr/>
              </p:nvSpPr>
              <p:spPr>
                <a:xfrm>
                  <a:off x="4457880" y="4678200"/>
                  <a:ext cx="1277640" cy="1636920"/>
                </a:xfrm>
                <a:prstGeom prst="flowChartProcess">
                  <a:avLst/>
                </a:prstGeom>
                <a:solidFill>
                  <a:srgbClr val="00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Rectangle 13"/>
                <p:cNvSpPr/>
                <p:nvPr/>
              </p:nvSpPr>
              <p:spPr>
                <a:xfrm>
                  <a:off x="4495680" y="5159160"/>
                  <a:ext cx="1218960" cy="5785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ank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3" name="Rectangle 29"/>
              <p:cNvSpPr/>
              <p:nvPr/>
            </p:nvSpPr>
            <p:spPr>
              <a:xfrm>
                <a:off x="2971800" y="4890960"/>
                <a:ext cx="144792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etriev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Line 77"/>
              <p:cNvSpPr/>
              <p:nvPr/>
            </p:nvSpPr>
            <p:spPr>
              <a:xfrm>
                <a:off x="3048120" y="5472000"/>
                <a:ext cx="137160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5" name="Group 78"/>
            <p:cNvGrpSpPr/>
            <p:nvPr/>
          </p:nvGrpSpPr>
          <p:grpSpPr>
            <a:xfrm>
              <a:off x="5181480" y="1828440"/>
              <a:ext cx="1752840" cy="1881720"/>
              <a:chOff x="5181480" y="1828440"/>
              <a:chExt cx="1752840" cy="1881720"/>
            </a:xfrm>
          </p:grpSpPr>
          <p:sp>
            <p:nvSpPr>
              <p:cNvPr id="3896" name="Rectangle 9"/>
              <p:cNvSpPr/>
              <p:nvPr/>
            </p:nvSpPr>
            <p:spPr>
              <a:xfrm>
                <a:off x="5181480" y="2720880"/>
                <a:ext cx="1752840" cy="989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ap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 </a:t>
                </a: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assif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97" name="Straight Arrow Connector 60"/>
              <p:cNvCxnSpPr/>
              <p:nvPr/>
            </p:nvCxnSpPr>
            <p:spPr>
              <a:xfrm flipH="1">
                <a:off x="6094080" y="1828440"/>
                <a:ext cx="2160" cy="76428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053A-478A-4674-88B3-9314323EE747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ideo Classifi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 visual features from cl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istogram of oriented gradients and optical flow in space-time volum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Laptev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ICCV 07; CVPR 08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present as ‘bag of visual words’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utomatically labeled video clips to train activity classif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Melville and Mooney, IJCAI 0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n ensemble based classifi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orks well with </a:t>
            </a:r>
            <a:r>
              <a:rPr b="1" lang="en-US" sz="2800" spc="-1" strike="noStrike">
                <a:solidFill>
                  <a:srgbClr val="8a1516"/>
                </a:solidFill>
                <a:latin typeface="Times New Roman"/>
              </a:rPr>
              <a:t>nois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nd limited training data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89BB-3617-4A66-A058-BFAEC3EB486E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Rectangle 2"/>
          <p:cNvSpPr/>
          <p:nvPr/>
        </p:nvSpPr>
        <p:spPr>
          <a:xfrm>
            <a:off x="5105520" y="2666880"/>
            <a:ext cx="1904760" cy="10670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3" name="Group 42"/>
          <p:cNvGrpSpPr/>
          <p:nvPr/>
        </p:nvGrpSpPr>
        <p:grpSpPr>
          <a:xfrm>
            <a:off x="152280" y="496800"/>
            <a:ext cx="8645760" cy="5818320"/>
            <a:chOff x="152280" y="496800"/>
            <a:chExt cx="8645760" cy="5818320"/>
          </a:xfrm>
        </p:grpSpPr>
        <p:sp>
          <p:nvSpPr>
            <p:cNvPr id="3904" name="Rectangle 18"/>
            <p:cNvSpPr/>
            <p:nvPr/>
          </p:nvSpPr>
          <p:spPr>
            <a:xfrm>
              <a:off x="4929120" y="932040"/>
              <a:ext cx="2265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Manually Labeled Ca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Rectangle 25"/>
            <p:cNvSpPr/>
            <p:nvPr/>
          </p:nvSpPr>
          <p:spPr>
            <a:xfrm>
              <a:off x="152280" y="4890960"/>
              <a:ext cx="838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Qu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Rectangle 26"/>
            <p:cNvSpPr/>
            <p:nvPr/>
          </p:nvSpPr>
          <p:spPr>
            <a:xfrm>
              <a:off x="152280" y="5500800"/>
              <a:ext cx="11430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Line 41"/>
            <p:cNvSpPr/>
            <p:nvPr/>
          </p:nvSpPr>
          <p:spPr>
            <a:xfrm>
              <a:off x="304920" y="4016520"/>
              <a:ext cx="8493120" cy="1440"/>
            </a:xfrm>
            <a:prstGeom prst="line">
              <a:avLst/>
            </a:prstGeom>
            <a:ln w="3240">
              <a:solidFill>
                <a:srgbClr val="1f478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Rectangle 42"/>
            <p:cNvSpPr/>
            <p:nvPr/>
          </p:nvSpPr>
          <p:spPr>
            <a:xfrm>
              <a:off x="7310520" y="1766880"/>
              <a:ext cx="12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Rectangle 43"/>
            <p:cNvSpPr/>
            <p:nvPr/>
          </p:nvSpPr>
          <p:spPr>
            <a:xfrm>
              <a:off x="7659720" y="518940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Rectangle 49"/>
            <p:cNvSpPr/>
            <p:nvPr/>
          </p:nvSpPr>
          <p:spPr>
            <a:xfrm>
              <a:off x="197640" y="928800"/>
              <a:ext cx="102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1" name="Group 50"/>
            <p:cNvGrpSpPr/>
            <p:nvPr/>
          </p:nvGrpSpPr>
          <p:grpSpPr>
            <a:xfrm>
              <a:off x="3276720" y="1828440"/>
              <a:ext cx="1752480" cy="1867680"/>
              <a:chOff x="3276720" y="1828440"/>
              <a:chExt cx="1752480" cy="1867680"/>
            </a:xfrm>
          </p:grpSpPr>
          <p:sp>
            <p:nvSpPr>
              <p:cNvPr id="3912" name="Rectangle 9"/>
              <p:cNvSpPr/>
              <p:nvPr/>
            </p:nvSpPr>
            <p:spPr>
              <a:xfrm>
                <a:off x="3276720" y="2706840"/>
                <a:ext cx="1752480" cy="989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 </a:t>
                </a: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assif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13" name="Straight Arrow Connector 60"/>
              <p:cNvCxnSpPr/>
              <p:nvPr/>
            </p:nvCxnSpPr>
            <p:spPr>
              <a:xfrm flipH="1">
                <a:off x="4113000" y="1828440"/>
                <a:ext cx="2160" cy="76428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  <p:cxnSp>
          <p:nvCxnSpPr>
            <p:cNvPr id="3914" name="Straight Arrow Connector 72"/>
            <p:cNvCxnSpPr/>
            <p:nvPr/>
          </p:nvCxnSpPr>
          <p:spPr>
            <a:xfrm>
              <a:off x="4190040" y="3671640"/>
              <a:ext cx="610200" cy="9910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cxnSp>
          <p:nvCxnSpPr>
            <p:cNvPr id="3915" name="Straight Arrow Connector 74"/>
            <p:cNvCxnSpPr/>
            <p:nvPr/>
          </p:nvCxnSpPr>
          <p:spPr>
            <a:xfrm flipH="1">
              <a:off x="5409720" y="3671640"/>
              <a:ext cx="612000" cy="9910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grpSp>
          <p:nvGrpSpPr>
            <p:cNvPr id="3916" name="Group 55"/>
            <p:cNvGrpSpPr/>
            <p:nvPr/>
          </p:nvGrpSpPr>
          <p:grpSpPr>
            <a:xfrm>
              <a:off x="5715000" y="4984920"/>
              <a:ext cx="1981080" cy="821880"/>
              <a:chOff x="5715000" y="4984920"/>
              <a:chExt cx="1981080" cy="821880"/>
            </a:xfrm>
          </p:grpSpPr>
          <p:sp>
            <p:nvSpPr>
              <p:cNvPr id="3917" name="Rectangle 38"/>
              <p:cNvSpPr/>
              <p:nvPr/>
            </p:nvSpPr>
            <p:spPr>
              <a:xfrm>
                <a:off x="6221520" y="4984920"/>
                <a:ext cx="147456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anked Lis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18" name="Straight Arrow Connector 86"/>
              <p:cNvCxnSpPr/>
              <p:nvPr/>
            </p:nvCxnSpPr>
            <p:spPr>
              <a:xfrm>
                <a:off x="5715000" y="542448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  <p:grpSp>
          <p:nvGrpSpPr>
            <p:cNvPr id="3919" name="Group 58"/>
            <p:cNvGrpSpPr/>
            <p:nvPr/>
          </p:nvGrpSpPr>
          <p:grpSpPr>
            <a:xfrm>
              <a:off x="838080" y="4673520"/>
              <a:ext cx="2192400" cy="1636920"/>
              <a:chOff x="838080" y="4673520"/>
              <a:chExt cx="2192400" cy="1636920"/>
            </a:xfrm>
          </p:grpSpPr>
          <p:cxnSp>
            <p:nvCxnSpPr>
              <p:cNvPr id="3920" name="Straight Arrow Connector 83"/>
              <p:cNvCxnSpPr/>
              <p:nvPr/>
            </p:nvCxnSpPr>
            <p:spPr>
              <a:xfrm>
                <a:off x="839880" y="510552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  <p:cxnSp>
            <p:nvCxnSpPr>
              <p:cNvPr id="3921" name="Straight Arrow Connector 85"/>
              <p:cNvCxnSpPr/>
              <p:nvPr/>
            </p:nvCxnSpPr>
            <p:spPr>
              <a:xfrm>
                <a:off x="838080" y="588168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  <p:grpSp>
            <p:nvGrpSpPr>
              <p:cNvPr id="3922" name="Group 61"/>
              <p:cNvGrpSpPr/>
              <p:nvPr/>
            </p:nvGrpSpPr>
            <p:grpSpPr>
              <a:xfrm>
                <a:off x="1752480" y="4673520"/>
                <a:ext cx="1278000" cy="1636920"/>
                <a:chOff x="1752480" y="4673520"/>
                <a:chExt cx="1278000" cy="1636920"/>
              </a:xfrm>
            </p:grpSpPr>
            <p:sp>
              <p:nvSpPr>
                <p:cNvPr id="3923" name="AutoShape 12"/>
                <p:cNvSpPr/>
                <p:nvPr/>
              </p:nvSpPr>
              <p:spPr>
                <a:xfrm>
                  <a:off x="1752480" y="4673520"/>
                  <a:ext cx="1278000" cy="1636920"/>
                </a:xfrm>
                <a:prstGeom prst="flowChartProcess">
                  <a:avLst/>
                </a:prstGeom>
                <a:solidFill>
                  <a:srgbClr val="99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Rectangle 13"/>
                <p:cNvSpPr/>
                <p:nvPr/>
              </p:nvSpPr>
              <p:spPr>
                <a:xfrm>
                  <a:off x="1828800" y="4975200"/>
                  <a:ext cx="1143000" cy="106524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Caption Based 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etrie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5" name="Group 64"/>
            <p:cNvGrpSpPr/>
            <p:nvPr/>
          </p:nvGrpSpPr>
          <p:grpSpPr>
            <a:xfrm>
              <a:off x="1219320" y="496800"/>
              <a:ext cx="1811160" cy="1636920"/>
              <a:chOff x="1219320" y="496800"/>
              <a:chExt cx="1811160" cy="1636920"/>
            </a:xfrm>
          </p:grpSpPr>
          <p:grpSp>
            <p:nvGrpSpPr>
              <p:cNvPr id="3926" name="Group 65"/>
              <p:cNvGrpSpPr/>
              <p:nvPr/>
            </p:nvGrpSpPr>
            <p:grpSpPr>
              <a:xfrm>
                <a:off x="1752480" y="496800"/>
                <a:ext cx="1278000" cy="1636920"/>
                <a:chOff x="1752480" y="496800"/>
                <a:chExt cx="1278000" cy="1636920"/>
              </a:xfrm>
            </p:grpSpPr>
            <p:sp>
              <p:nvSpPr>
                <p:cNvPr id="3927" name="AutoShape 12"/>
                <p:cNvSpPr/>
                <p:nvPr/>
              </p:nvSpPr>
              <p:spPr>
                <a:xfrm>
                  <a:off x="1752480" y="496800"/>
                  <a:ext cx="1278000" cy="1636920"/>
                </a:xfrm>
                <a:prstGeom prst="flowChartProcess">
                  <a:avLst/>
                </a:prstGeom>
                <a:solidFill>
                  <a:srgbClr val="99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Rectangle 13"/>
                <p:cNvSpPr/>
                <p:nvPr/>
              </p:nvSpPr>
              <p:spPr>
                <a:xfrm>
                  <a:off x="1828800" y="798480"/>
                  <a:ext cx="1143000" cy="106524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Caption Based 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etrie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9" name="Line 68"/>
              <p:cNvSpPr/>
              <p:nvPr/>
            </p:nvSpPr>
            <p:spPr>
              <a:xfrm>
                <a:off x="1219320" y="1295280"/>
                <a:ext cx="53316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0" name="Group 69"/>
            <p:cNvGrpSpPr/>
            <p:nvPr/>
          </p:nvGrpSpPr>
          <p:grpSpPr>
            <a:xfrm>
              <a:off x="3048120" y="928800"/>
              <a:ext cx="2057400" cy="821880"/>
              <a:chOff x="3048120" y="928800"/>
              <a:chExt cx="2057400" cy="821880"/>
            </a:xfrm>
          </p:grpSpPr>
          <p:sp>
            <p:nvSpPr>
              <p:cNvPr id="3931" name="Rectangle 17"/>
              <p:cNvSpPr/>
              <p:nvPr/>
            </p:nvSpPr>
            <p:spPr>
              <a:xfrm>
                <a:off x="3581280" y="928800"/>
                <a:ext cx="152424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Automatic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Labeled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Line 71"/>
              <p:cNvSpPr/>
              <p:nvPr/>
            </p:nvSpPr>
            <p:spPr>
              <a:xfrm>
                <a:off x="3048120" y="1295280"/>
                <a:ext cx="53316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3" name="Group 72"/>
            <p:cNvGrpSpPr/>
            <p:nvPr/>
          </p:nvGrpSpPr>
          <p:grpSpPr>
            <a:xfrm>
              <a:off x="2971800" y="4678200"/>
              <a:ext cx="2763720" cy="1636920"/>
              <a:chOff x="2971800" y="4678200"/>
              <a:chExt cx="2763720" cy="1636920"/>
            </a:xfrm>
          </p:grpSpPr>
          <p:grpSp>
            <p:nvGrpSpPr>
              <p:cNvPr id="3934" name="Group 39"/>
              <p:cNvGrpSpPr/>
              <p:nvPr/>
            </p:nvGrpSpPr>
            <p:grpSpPr>
              <a:xfrm>
                <a:off x="4457880" y="4678200"/>
                <a:ext cx="1277640" cy="1636920"/>
                <a:chOff x="4457880" y="4678200"/>
                <a:chExt cx="1277640" cy="1636920"/>
              </a:xfrm>
            </p:grpSpPr>
            <p:sp>
              <p:nvSpPr>
                <p:cNvPr id="3935" name="AutoShape 12"/>
                <p:cNvSpPr/>
                <p:nvPr/>
              </p:nvSpPr>
              <p:spPr>
                <a:xfrm>
                  <a:off x="4457880" y="4678200"/>
                  <a:ext cx="1277640" cy="1636920"/>
                </a:xfrm>
                <a:prstGeom prst="flowChartProcess">
                  <a:avLst/>
                </a:prstGeom>
                <a:solidFill>
                  <a:srgbClr val="00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Rectangle 13"/>
                <p:cNvSpPr/>
                <p:nvPr/>
              </p:nvSpPr>
              <p:spPr>
                <a:xfrm>
                  <a:off x="4495680" y="5159160"/>
                  <a:ext cx="1218960" cy="5785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ank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7" name="Rectangle 29"/>
              <p:cNvSpPr/>
              <p:nvPr/>
            </p:nvSpPr>
            <p:spPr>
              <a:xfrm>
                <a:off x="2971800" y="4890960"/>
                <a:ext cx="144792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etriev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Line 77"/>
              <p:cNvSpPr/>
              <p:nvPr/>
            </p:nvSpPr>
            <p:spPr>
              <a:xfrm>
                <a:off x="3048120" y="5472000"/>
                <a:ext cx="137160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9" name="Group 78"/>
            <p:cNvGrpSpPr/>
            <p:nvPr/>
          </p:nvGrpSpPr>
          <p:grpSpPr>
            <a:xfrm>
              <a:off x="5181480" y="1828440"/>
              <a:ext cx="1752840" cy="1881720"/>
              <a:chOff x="5181480" y="1828440"/>
              <a:chExt cx="1752840" cy="1881720"/>
            </a:xfrm>
          </p:grpSpPr>
          <p:sp>
            <p:nvSpPr>
              <p:cNvPr id="3940" name="Rectangle 9"/>
              <p:cNvSpPr/>
              <p:nvPr/>
            </p:nvSpPr>
            <p:spPr>
              <a:xfrm>
                <a:off x="5181480" y="2720880"/>
                <a:ext cx="1752840" cy="989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ap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 </a:t>
                </a: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assif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41" name="Straight Arrow Connector 60"/>
              <p:cNvCxnSpPr/>
              <p:nvPr/>
            </p:nvCxnSpPr>
            <p:spPr>
              <a:xfrm flipH="1">
                <a:off x="6094080" y="1828440"/>
                <a:ext cx="2160" cy="76428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9937-15EB-43DE-823B-7ACD89A2F736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aption Classifi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tscasters talk about both events on the field as well as othe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9% of the captions in our dataset are ‘irrelevant’ to the current ev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es relevant vs. irrelevant ca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dependent of the query clas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VM string classifi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s a subsequence kernel that measures how many subsequences are shared by two strings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(Lodhi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 02, Bunescu and Mooney 05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re accurate than a “bag of words” classifier since it takes word order into accou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DC82-4B81-43DC-BE5F-82F937CED43F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trieving and Ranking Videos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os retrieved using captions, same way as bef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ays of ran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babilities given by video classifier (VIDEO)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babilities given by caption classifier (CAPTION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ng the ran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eighted late fusion of rankings from VIDEO and CAPTIO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948" name="Object 2"/>
          <p:cNvGraphicFramePr/>
          <p:nvPr/>
        </p:nvGraphicFramePr>
        <p:xfrm>
          <a:off x="1143000" y="5638680"/>
          <a:ext cx="601812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638680"/>
                    <a:ext cx="60181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0" name="Object 3"/>
          <p:cNvGraphicFramePr/>
          <p:nvPr/>
        </p:nvGraphicFramePr>
        <p:xfrm>
          <a:off x="4800600" y="6019920"/>
          <a:ext cx="408312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6019920"/>
                    <a:ext cx="40831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B0D4-EC7E-4B65-BCDE-1150113A7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Our Semantic-Parser Learner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HILL+WOLFIE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SimSun"/>
              </a:rPr>
              <a:t>(Zelle &amp; Mooney, 1996; Thompson &amp; Mooney, 1999, 2003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Separates parser-learning and semantic-lexicon learning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Learns a deterministic parser using ILP technique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CK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SimSun"/>
              </a:rPr>
              <a:t>(Tang &amp; Mooney,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Improved ILP algorithm for CHILL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ILT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SimSun"/>
              </a:rPr>
              <a:t>(Kate, Wong &amp; Mooney, 2005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Learns symbolic transformation rules for mapping directly from NL to M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CISSOR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SimSun"/>
              </a:rPr>
              <a:t>(Ge &amp; Mooney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Integrates semantic interpretation into Collins’ statistical syntactic parse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AS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SimSun"/>
              </a:rPr>
              <a:t>(Wong &amp; Mooney, 2006;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Uses syntax-based statistical machine translation method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RISP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SimSun"/>
              </a:rPr>
              <a:t>(Kate &amp; Mooney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Uses a series of SVM classifiers employing a string-kernel to iteratively build semantic representation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TextBox 4"/>
          <p:cNvSpPr/>
          <p:nvPr/>
        </p:nvSpPr>
        <p:spPr>
          <a:xfrm>
            <a:off x="52200" y="426708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TextBox 5"/>
          <p:cNvSpPr/>
          <p:nvPr/>
        </p:nvSpPr>
        <p:spPr>
          <a:xfrm>
            <a:off x="49680" y="487692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A6BA-B319-4D24-A0FC-9AAFD0FE1D4A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23 soccer games recorded from TV broadcas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vg. length: 1 hr 50 mi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vg. number of captions: 1,246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aption Classifi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rained on hand labeled 4 separate game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: MAP score: Mean Averaged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y: Leave one-game-out cross-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: ranking clips random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BB62-EDF3-43A2-AC43-DD09BFD48E02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ataset Statis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957" name=""/>
          <p:cNvGraphicFramePr/>
          <p:nvPr/>
        </p:nvGraphicFramePr>
        <p:xfrm>
          <a:off x="1219320" y="1828800"/>
          <a:ext cx="6933960" cy="406404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40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a1516"/>
                          </a:solidFill>
                          <a:latin typeface="Palatino"/>
                        </a:rPr>
                        <a:t>Quer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a1516"/>
                          </a:solidFill>
                          <a:latin typeface="Palatino"/>
                        </a:rPr>
                        <a:t>#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a1516"/>
                          </a:solidFill>
                          <a:latin typeface="Palatino"/>
                        </a:rPr>
                        <a:t># Cor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a1516"/>
                          </a:solidFill>
                          <a:latin typeface="Palatino"/>
                        </a:rPr>
                        <a:t>% No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K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0.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S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1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Th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55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2B5F-E237-4B1B-930B-6A60450DE983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trieval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960" name="Object 2"/>
          <p:cNvGraphicFramePr/>
          <p:nvPr/>
        </p:nvGraphicFramePr>
        <p:xfrm>
          <a:off x="380880" y="1600200"/>
          <a:ext cx="10827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10827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2" name="TextBox 4"/>
          <p:cNvSpPr/>
          <p:nvPr/>
        </p:nvSpPr>
        <p:spPr>
          <a:xfrm rot="16200000">
            <a:off x="-1397160" y="3227400"/>
            <a:ext cx="34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 Average Precision (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6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al (not simulated) visual context to supervise languag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ore sophisticated linguistic analysis to supervise visual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938E-5F1D-4F85-AD19-20EE3D5BD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2861-D89B-4F70-9FA8-B5544AF70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Current language and visual learning uses expensive, unrealistic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Naturally occurring perceptual context can be used to supervise language learn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Learning to sportscast simulated Robocup gam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Naturally occurring linguistic context can be used to supervise learning for computer vi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Using multi-modal co-training to improve classification of captioned images and video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Using closed-captions to automatically train activity recognizers and improve video retriev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70" name=""/>
          <p:cNvSpPr txBox="1"/>
          <p:nvPr/>
        </p:nvSpPr>
        <p:spPr>
          <a:xfrm>
            <a:off x="103320" y="160344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evant Papers 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http://www.cs.utexas.edu/users/ml/publication/clam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0971-62A6-43EF-A4FE-EEC003B60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6CD3-A334-480A-AB51-1357AABB4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WASP</a:t>
            </a:r>
            <a:br>
              <a:rPr sz="3200"/>
            </a:b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SimSun"/>
              </a:rPr>
              <a:t>A Machine Translation Approach to Semantic Parsing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Uses latest statistical machine translation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Synchronous context-free grammars (SCFG)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SimSun"/>
              </a:rPr>
              <a:t>(Wu, 1997; Melamed, 2004; Chiang, 2005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Statistical word alignment                                     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SimSun"/>
              </a:rPr>
              <a:t>(Brown et al., 1993; Och &amp; Ney, 2003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SCFG supports bo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Semantic Parsing:  NL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 M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Tactical Generation: MR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 N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07" name="Picture 4" descr="was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9-07-10T14:47:22Z</dcterms:modified>
  <cp:revision>238</cp:revision>
  <dc:subject/>
  <dc:title>Intelligent Information Retrieval and Web Search</dc:title>
</cp:coreProperties>
</file>