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4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4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theme/theme71.xml" ContentType="application/vnd.openxmlformats-officedocument.theme+xml"/>
  <Override PartName="/ppt/theme/theme29.xml" ContentType="application/vnd.openxmlformats-officedocument.theme+xml"/>
  <Override PartName="/ppt/theme/theme69.xml" ContentType="application/vnd.openxmlformats-officedocument.theme+xml"/>
  <Override PartName="/ppt/theme/theme32.xml" ContentType="application/vnd.openxmlformats-officedocument.theme+xml"/>
  <Override PartName="/ppt/theme/theme70.xml" ContentType="application/vnd.openxmlformats-officedocument.theme+xml"/>
  <Override PartName="/ppt/theme/theme28.xml" ContentType="application/vnd.openxmlformats-officedocument.theme+xml"/>
  <Override PartName="/ppt/theme/theme68.xml" ContentType="application/vnd.openxmlformats-officedocument.theme+xml"/>
  <Override PartName="/ppt/theme/theme31.xml" ContentType="application/vnd.openxmlformats-officedocument.theme+xml"/>
  <Override PartName="/ppt/theme/theme67.xml" ContentType="application/vnd.openxmlformats-officedocument.theme+xml"/>
  <Override PartName="/ppt/theme/theme30.xml" ContentType="application/vnd.openxmlformats-officedocument.theme+xml"/>
  <Override PartName="/ppt/theme/theme65.xml" ContentType="application/vnd.openxmlformats-officedocument.theme+xml"/>
  <Override PartName="/ppt/theme/theme64.xml" ContentType="application/vnd.openxmlformats-officedocument.theme+xml"/>
  <Override PartName="/ppt/theme/theme66.xml" ContentType="application/vnd.openxmlformats-officedocument.theme+xml"/>
  <Override PartName="/ppt/theme/theme63.xml" ContentType="application/vnd.openxmlformats-officedocument.theme+xml"/>
  <Override PartName="/ppt/theme/theme62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media/image29.wmf" ContentType="image/x-wmf"/>
  <Override PartName="/ppt/media/image7.png" ContentType="image/png"/>
  <Override PartName="/ppt/media/image1.jpeg" ContentType="image/jpeg"/>
  <Override PartName="/ppt/media/image14.jpeg" ContentType="image/jpeg"/>
  <Override PartName="/ppt/media/image8.png" ContentType="image/png"/>
  <Override PartName="/ppt/media/image5.png" ContentType="image/png"/>
  <Override PartName="/ppt/media/image10.jpeg" ContentType="image/jpeg"/>
  <Override PartName="/ppt/media/image28.png" ContentType="image/png"/>
  <Override PartName="/ppt/media/image31.wmf" ContentType="image/x-wmf"/>
  <Override PartName="/ppt/media/image9.wmf" ContentType="image/x-wmf"/>
  <Override PartName="/ppt/media/image6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media/image26.png" ContentType="image/png"/>
  <Override PartName="/ppt/media/image27.png" ContentType="image/png"/>
  <Override PartName="/ppt/media/image3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</p:sldMasterIdLst>
  <p:notesMasterIdLst>
    <p:notesMasterId r:id="rId72"/>
  </p:notesMasterIdLst>
  <p:sldIdLst>
    <p:sldId id="256" r:id="rId73"/>
    <p:sldId id="257" r:id="rId74"/>
    <p:sldId id="258" r:id="rId75"/>
    <p:sldId id="259" r:id="rId76"/>
    <p:sldId id="260" r:id="rId77"/>
    <p:sldId id="261" r:id="rId78"/>
    <p:sldId id="262" r:id="rId79"/>
    <p:sldId id="263" r:id="rId80"/>
    <p:sldId id="264" r:id="rId81"/>
    <p:sldId id="265" r:id="rId82"/>
    <p:sldId id="266" r:id="rId83"/>
    <p:sldId id="267" r:id="rId84"/>
    <p:sldId id="268" r:id="rId85"/>
    <p:sldId id="269" r:id="rId86"/>
    <p:sldId id="270" r:id="rId87"/>
    <p:sldId id="271" r:id="rId88"/>
    <p:sldId id="272" r:id="rId89"/>
    <p:sldId id="273" r:id="rId90"/>
    <p:sldId id="274" r:id="rId91"/>
    <p:sldId id="275" r:id="rId92"/>
    <p:sldId id="276" r:id="rId93"/>
    <p:sldId id="277" r:id="rId94"/>
    <p:sldId id="278" r:id="rId95"/>
    <p:sldId id="279" r:id="rId96"/>
    <p:sldId id="280" r:id="rId97"/>
    <p:sldId id="281" r:id="rId98"/>
    <p:sldId id="282" r:id="rId99"/>
    <p:sldId id="283" r:id="rId100"/>
    <p:sldId id="284" r:id="rId101"/>
    <p:sldId id="285" r:id="rId102"/>
    <p:sldId id="286" r:id="rId103"/>
    <p:sldId id="287" r:id="rId104"/>
    <p:sldId id="288" r:id="rId105"/>
    <p:sldId id="289" r:id="rId106"/>
    <p:sldId id="290" r:id="rId107"/>
    <p:sldId id="291" r:id="rId108"/>
    <p:sldId id="292" r:id="rId109"/>
    <p:sldId id="293" r:id="rId110"/>
    <p:sldId id="294" r:id="rId111"/>
    <p:sldId id="295" r:id="rId112"/>
    <p:sldId id="296" r:id="rId113"/>
    <p:sldId id="297" r:id="rId114"/>
    <p:sldId id="298" r:id="rId115"/>
    <p:sldId id="299" r:id="rId116"/>
    <p:sldId id="300" r:id="rId117"/>
    <p:sldId id="301" r:id="rId118"/>
    <p:sldId id="302" r:id="rId119"/>
    <p:sldId id="303" r:id="rId120"/>
    <p:sldId id="304" r:id="rId121"/>
    <p:sldId id="305" r:id="rId122"/>
    <p:sldId id="306" r:id="rId123"/>
    <p:sldId id="307" r:id="rId124"/>
    <p:sldId id="308" r:id="rId125"/>
    <p:sldId id="309" r:id="rId126"/>
    <p:sldId id="310" r:id="rId127"/>
    <p:sldId id="311" r:id="rId128"/>
    <p:sldId id="312" r:id="rId129"/>
    <p:sldId id="313" r:id="rId130"/>
    <p:sldId id="314" r:id="rId131"/>
    <p:sldId id="315" r:id="rId132"/>
    <p:sldId id="316" r:id="rId133"/>
    <p:sldId id="317" r:id="rId134"/>
    <p:sldId id="318" r:id="rId135"/>
    <p:sldId id="319" r:id="rId136"/>
    <p:sldId id="320" r:id="rId137"/>
    <p:sldId id="321" r:id="rId138"/>
    <p:sldId id="322" r:id="rId139"/>
    <p:sldId id="323" r:id="rId140"/>
    <p:sldId id="324" r:id="rId141"/>
    <p:sldId id="325" r:id="rId142"/>
    <p:sldId id="326" r:id="rId143"/>
    <p:sldId id="327" r:id="rId144"/>
    <p:sldId id="328" r:id="rId145"/>
    <p:sldId id="329" r:id="rId146"/>
    <p:sldId id="330" r:id="rId147"/>
    <p:sldId id="331" r:id="rId148"/>
    <p:sldId id="332" r:id="rId149"/>
    <p:sldId id="333" r:id="rId150"/>
    <p:sldId id="334" r:id="rId151"/>
    <p:sldId id="335" r:id="rId152"/>
    <p:sldId id="336" r:id="rId153"/>
    <p:sldId id="337" r:id="rId154"/>
    <p:sldId id="338" r:id="rId155"/>
    <p:sldId id="339" r:id="rId156"/>
    <p:sldId id="340" r:id="rId15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notesMaster" Target="notesMasters/notesMaster1.xml"/><Relationship Id="rId73" Type="http://schemas.openxmlformats.org/officeDocument/2006/relationships/slide" Target="slides/slide1.xml"/><Relationship Id="rId74" Type="http://schemas.openxmlformats.org/officeDocument/2006/relationships/slide" Target="slides/slide2.xml"/><Relationship Id="rId75" Type="http://schemas.openxmlformats.org/officeDocument/2006/relationships/slide" Target="slides/slide3.xml"/><Relationship Id="rId76" Type="http://schemas.openxmlformats.org/officeDocument/2006/relationships/slide" Target="slides/slide4.xml"/><Relationship Id="rId77" Type="http://schemas.openxmlformats.org/officeDocument/2006/relationships/slide" Target="slides/slide5.xml"/><Relationship Id="rId78" Type="http://schemas.openxmlformats.org/officeDocument/2006/relationships/slide" Target="slides/slide6.xml"/><Relationship Id="rId79" Type="http://schemas.openxmlformats.org/officeDocument/2006/relationships/slide" Target="slides/slide7.xml"/><Relationship Id="rId80" Type="http://schemas.openxmlformats.org/officeDocument/2006/relationships/slide" Target="slides/slide8.xml"/><Relationship Id="rId81" Type="http://schemas.openxmlformats.org/officeDocument/2006/relationships/slide" Target="slides/slide9.xml"/><Relationship Id="rId82" Type="http://schemas.openxmlformats.org/officeDocument/2006/relationships/slide" Target="slides/slide10.xml"/><Relationship Id="rId83" Type="http://schemas.openxmlformats.org/officeDocument/2006/relationships/slide" Target="slides/slide11.xml"/><Relationship Id="rId84" Type="http://schemas.openxmlformats.org/officeDocument/2006/relationships/slide" Target="slides/slide12.xml"/><Relationship Id="rId85" Type="http://schemas.openxmlformats.org/officeDocument/2006/relationships/slide" Target="slides/slide13.xml"/><Relationship Id="rId86" Type="http://schemas.openxmlformats.org/officeDocument/2006/relationships/slide" Target="slides/slide14.xml"/><Relationship Id="rId87" Type="http://schemas.openxmlformats.org/officeDocument/2006/relationships/slide" Target="slides/slide15.xml"/><Relationship Id="rId88" Type="http://schemas.openxmlformats.org/officeDocument/2006/relationships/slide" Target="slides/slide16.xml"/><Relationship Id="rId89" Type="http://schemas.openxmlformats.org/officeDocument/2006/relationships/slide" Target="slides/slide17.xml"/><Relationship Id="rId90" Type="http://schemas.openxmlformats.org/officeDocument/2006/relationships/slide" Target="slides/slide18.xml"/><Relationship Id="rId91" Type="http://schemas.openxmlformats.org/officeDocument/2006/relationships/slide" Target="slides/slide19.xml"/><Relationship Id="rId92" Type="http://schemas.openxmlformats.org/officeDocument/2006/relationships/slide" Target="slides/slide20.xml"/><Relationship Id="rId93" Type="http://schemas.openxmlformats.org/officeDocument/2006/relationships/slide" Target="slides/slide21.xml"/><Relationship Id="rId94" Type="http://schemas.openxmlformats.org/officeDocument/2006/relationships/slide" Target="slides/slide22.xml"/><Relationship Id="rId95" Type="http://schemas.openxmlformats.org/officeDocument/2006/relationships/slide" Target="slides/slide23.xml"/><Relationship Id="rId96" Type="http://schemas.openxmlformats.org/officeDocument/2006/relationships/slide" Target="slides/slide24.xml"/><Relationship Id="rId97" Type="http://schemas.openxmlformats.org/officeDocument/2006/relationships/slide" Target="slides/slide25.xml"/><Relationship Id="rId98" Type="http://schemas.openxmlformats.org/officeDocument/2006/relationships/slide" Target="slides/slide26.xml"/><Relationship Id="rId99" Type="http://schemas.openxmlformats.org/officeDocument/2006/relationships/slide" Target="slides/slide27.xml"/><Relationship Id="rId100" Type="http://schemas.openxmlformats.org/officeDocument/2006/relationships/slide" Target="slides/slide28.xml"/><Relationship Id="rId101" Type="http://schemas.openxmlformats.org/officeDocument/2006/relationships/slide" Target="slides/slide29.xml"/><Relationship Id="rId102" Type="http://schemas.openxmlformats.org/officeDocument/2006/relationships/slide" Target="slides/slide30.xml"/><Relationship Id="rId103" Type="http://schemas.openxmlformats.org/officeDocument/2006/relationships/slide" Target="slides/slide31.xml"/><Relationship Id="rId104" Type="http://schemas.openxmlformats.org/officeDocument/2006/relationships/slide" Target="slides/slide32.xml"/><Relationship Id="rId105" Type="http://schemas.openxmlformats.org/officeDocument/2006/relationships/slide" Target="slides/slide33.xml"/><Relationship Id="rId106" Type="http://schemas.openxmlformats.org/officeDocument/2006/relationships/slide" Target="slides/slide34.xml"/><Relationship Id="rId107" Type="http://schemas.openxmlformats.org/officeDocument/2006/relationships/slide" Target="slides/slide35.xml"/><Relationship Id="rId108" Type="http://schemas.openxmlformats.org/officeDocument/2006/relationships/slide" Target="slides/slide36.xml"/><Relationship Id="rId109" Type="http://schemas.openxmlformats.org/officeDocument/2006/relationships/slide" Target="slides/slide37.xml"/><Relationship Id="rId110" Type="http://schemas.openxmlformats.org/officeDocument/2006/relationships/slide" Target="slides/slide38.xml"/><Relationship Id="rId111" Type="http://schemas.openxmlformats.org/officeDocument/2006/relationships/slide" Target="slides/slide39.xml"/><Relationship Id="rId112" Type="http://schemas.openxmlformats.org/officeDocument/2006/relationships/slide" Target="slides/slide40.xml"/><Relationship Id="rId113" Type="http://schemas.openxmlformats.org/officeDocument/2006/relationships/slide" Target="slides/slide41.xml"/><Relationship Id="rId114" Type="http://schemas.openxmlformats.org/officeDocument/2006/relationships/slide" Target="slides/slide42.xml"/><Relationship Id="rId115" Type="http://schemas.openxmlformats.org/officeDocument/2006/relationships/slide" Target="slides/slide43.xml"/><Relationship Id="rId116" Type="http://schemas.openxmlformats.org/officeDocument/2006/relationships/slide" Target="slides/slide44.xml"/><Relationship Id="rId117" Type="http://schemas.openxmlformats.org/officeDocument/2006/relationships/slide" Target="slides/slide45.xml"/><Relationship Id="rId118" Type="http://schemas.openxmlformats.org/officeDocument/2006/relationships/slide" Target="slides/slide46.xml"/><Relationship Id="rId119" Type="http://schemas.openxmlformats.org/officeDocument/2006/relationships/slide" Target="slides/slide47.xml"/><Relationship Id="rId120" Type="http://schemas.openxmlformats.org/officeDocument/2006/relationships/slide" Target="slides/slide48.xml"/><Relationship Id="rId121" Type="http://schemas.openxmlformats.org/officeDocument/2006/relationships/slide" Target="slides/slide49.xml"/><Relationship Id="rId122" Type="http://schemas.openxmlformats.org/officeDocument/2006/relationships/slide" Target="slides/slide50.xml"/><Relationship Id="rId123" Type="http://schemas.openxmlformats.org/officeDocument/2006/relationships/slide" Target="slides/slide51.xml"/><Relationship Id="rId124" Type="http://schemas.openxmlformats.org/officeDocument/2006/relationships/slide" Target="slides/slide52.xml"/><Relationship Id="rId125" Type="http://schemas.openxmlformats.org/officeDocument/2006/relationships/slide" Target="slides/slide53.xml"/><Relationship Id="rId126" Type="http://schemas.openxmlformats.org/officeDocument/2006/relationships/slide" Target="slides/slide54.xml"/><Relationship Id="rId127" Type="http://schemas.openxmlformats.org/officeDocument/2006/relationships/slide" Target="slides/slide55.xml"/><Relationship Id="rId128" Type="http://schemas.openxmlformats.org/officeDocument/2006/relationships/slide" Target="slides/slide56.xml"/><Relationship Id="rId129" Type="http://schemas.openxmlformats.org/officeDocument/2006/relationships/slide" Target="slides/slide57.xml"/><Relationship Id="rId130" Type="http://schemas.openxmlformats.org/officeDocument/2006/relationships/slide" Target="slides/slide58.xml"/><Relationship Id="rId131" Type="http://schemas.openxmlformats.org/officeDocument/2006/relationships/slide" Target="slides/slide59.xml"/><Relationship Id="rId132" Type="http://schemas.openxmlformats.org/officeDocument/2006/relationships/slide" Target="slides/slide60.xml"/><Relationship Id="rId133" Type="http://schemas.openxmlformats.org/officeDocument/2006/relationships/slide" Target="slides/slide61.xml"/><Relationship Id="rId134" Type="http://schemas.openxmlformats.org/officeDocument/2006/relationships/slide" Target="slides/slide62.xml"/><Relationship Id="rId135" Type="http://schemas.openxmlformats.org/officeDocument/2006/relationships/slide" Target="slides/slide63.xml"/><Relationship Id="rId136" Type="http://schemas.openxmlformats.org/officeDocument/2006/relationships/slide" Target="slides/slide64.xml"/><Relationship Id="rId137" Type="http://schemas.openxmlformats.org/officeDocument/2006/relationships/slide" Target="slides/slide65.xml"/><Relationship Id="rId138" Type="http://schemas.openxmlformats.org/officeDocument/2006/relationships/slide" Target="slides/slide66.xml"/><Relationship Id="rId139" Type="http://schemas.openxmlformats.org/officeDocument/2006/relationships/slide" Target="slides/slide67.xml"/><Relationship Id="rId140" Type="http://schemas.openxmlformats.org/officeDocument/2006/relationships/slide" Target="slides/slide68.xml"/><Relationship Id="rId141" Type="http://schemas.openxmlformats.org/officeDocument/2006/relationships/slide" Target="slides/slide69.xml"/><Relationship Id="rId142" Type="http://schemas.openxmlformats.org/officeDocument/2006/relationships/slide" Target="slides/slide70.xml"/><Relationship Id="rId143" Type="http://schemas.openxmlformats.org/officeDocument/2006/relationships/slide" Target="slides/slide71.xml"/><Relationship Id="rId144" Type="http://schemas.openxmlformats.org/officeDocument/2006/relationships/slide" Target="slides/slide72.xml"/><Relationship Id="rId145" Type="http://schemas.openxmlformats.org/officeDocument/2006/relationships/slide" Target="slides/slide73.xml"/><Relationship Id="rId146" Type="http://schemas.openxmlformats.org/officeDocument/2006/relationships/slide" Target="slides/slide74.xml"/><Relationship Id="rId147" Type="http://schemas.openxmlformats.org/officeDocument/2006/relationships/slide" Target="slides/slide75.xml"/><Relationship Id="rId148" Type="http://schemas.openxmlformats.org/officeDocument/2006/relationships/slide" Target="slides/slide76.xml"/><Relationship Id="rId149" Type="http://schemas.openxmlformats.org/officeDocument/2006/relationships/slide" Target="slides/slide77.xml"/><Relationship Id="rId150" Type="http://schemas.openxmlformats.org/officeDocument/2006/relationships/slide" Target="slides/slide78.xml"/><Relationship Id="rId151" Type="http://schemas.openxmlformats.org/officeDocument/2006/relationships/slide" Target="slides/slide79.xml"/><Relationship Id="rId152" Type="http://schemas.openxmlformats.org/officeDocument/2006/relationships/slide" Target="slides/slide80.xml"/><Relationship Id="rId153" Type="http://schemas.openxmlformats.org/officeDocument/2006/relationships/slide" Target="slides/slide81.xml"/><Relationship Id="rId154" Type="http://schemas.openxmlformats.org/officeDocument/2006/relationships/slide" Target="slides/slide82.xml"/><Relationship Id="rId155" Type="http://schemas.openxmlformats.org/officeDocument/2006/relationships/slide" Target="slides/slide83.xml"/><Relationship Id="rId156" Type="http://schemas.openxmlformats.org/officeDocument/2006/relationships/slide" Target="slides/slide84.xml"/><Relationship Id="rId157" Type="http://schemas.openxmlformats.org/officeDocument/2006/relationships/slide" Target="slides/slide85.xml"/><Relationship Id="rId1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PlaceHolder 2"/>
          <p:cNvSpPr>
            <a:spLocks noGrp="1"/>
          </p:cNvSpPr>
          <p:nvPr>
            <p:ph type="dt" idx="20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30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PlaceHolder 5"/>
          <p:cNvSpPr>
            <a:spLocks noGrp="1"/>
          </p:cNvSpPr>
          <p:nvPr>
            <p:ph type="ftr" idx="20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PlaceHolder 6"/>
          <p:cNvSpPr>
            <a:spLocks noGrp="1"/>
          </p:cNvSpPr>
          <p:nvPr>
            <p:ph type="sldNum" idx="20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A5D8-8790-434C-B93D-AA276AA6B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97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E3E3-6F6C-4145-9158-0E55BE5F4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00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F3C1-80B2-4E8D-B664-90A866488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00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F4DE-40BB-4DE7-A727-A4D9EFB12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5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DA5F-4159-454D-A2E5-59E4AD9FF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4007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00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F14B-566E-4B64-A123-64BF22004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01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4F88-4AA1-4E0E-9ABF-96B0BDB92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5056-78B5-4C2D-872B-7C008415B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01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6359-62C5-4C16-AEC0-52D34D3B0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8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3187-037B-4595-9310-C3828F7C7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9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02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DA80-1AFE-4EAD-ACF5-92C8A24A5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2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535B-C52A-44E2-B9F9-C94861EED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3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02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45F2-403D-4521-8150-556AC3808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6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6FED-2252-45DA-9B65-35E24BEA7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7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02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9077-65D8-4657-B468-EED6B03E5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03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6AE5-3D1B-475E-9A69-A01634876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97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3700-5102-4F3D-9CD2-81FF3994F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3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21B8-5389-4ADE-AA47-2DAE1D3BD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4035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6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8D77-27DA-4531-B8E6-9447578F7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403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9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BA25-F521-4F7C-B35B-702AB9ECB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404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2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95F7-E866-4F7C-A9D8-C9B747624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404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5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E9FA-0BDE-48DF-9907-CE3149683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404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8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8181-FB5E-4DAA-83E6-3BA4CAD1A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405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1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269D-D91C-45BE-8042-BB176E357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405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ADE3-6F7B-4D75-BB3E-DAEF4D00E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405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05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D80F-5003-42C4-A1CC-2A65793FA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06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FD06-5B7C-442C-97B3-D854D9AA0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97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552D-6CEB-4F1A-8C45-9BE220A53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06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4BFC-1F93-445C-B408-D627E0C12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06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99E5-EC12-4E34-8D00-7B2BE36B3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07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C60F-4EAB-468F-9C59-6F5E88452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07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73E0-6D0F-4073-9E9C-4F1F4D970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07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BCAD-CF1C-476B-BA1A-111ACFD05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07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86A6-BA3C-4BFA-A549-4571ECC35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08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3CA7-5735-45BF-A91A-0C634A482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08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DAF5-3FEA-42CB-B4FA-75D7EFEAB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08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A1FB-27F8-48D0-86E4-BEDFED958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09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8D4C-8E32-4A2E-9FBD-E61443B5C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98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ACC3-F504-4F72-9134-CD62A6CF7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09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70E8-BD1B-4293-8EF2-63A761090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09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983B-D3C8-40C1-BBE3-41716D4E7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0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E0AC-559A-4D3C-A9B6-9BD0EFE9B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0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ACD2-EABA-4DBD-A71F-B18E4AFDC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0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BD6E-2657-4776-9F93-F7BDD555B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0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0215-0AB6-4C65-AA52-3EB0CEFC3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1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6010-B1B4-48DB-A11C-5DA38FCA0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1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BD88-5B3A-4382-A54C-CB9221286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1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11E5-1AEB-473C-9521-9C491ED1A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2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0F87-86FA-4A05-B33D-47AB315A3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98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040F-4188-4C94-92F0-4C08D0DA0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2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DF63-6CE0-4DE9-BC94-3BE80F720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2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12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1623-42D8-4708-AFD1-F772ABF1C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3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13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08AC-8D9A-43F7-A378-C1EFFBF15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7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34BA-EB64-4540-8B24-7779ED349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3989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3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08AA-138C-47C4-9B80-434D7ECF0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3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AC2A-4778-4927-8AF0-D4DF10D55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3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9A83-0812-448B-81B3-DE8CCCA0B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4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D17B-60C8-4D15-A15D-BE80E9997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99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C752-10FA-458E-A410-6E3FE0AF1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7396-F32C-461A-9609-874CF6C2F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4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7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05AD-8E3B-4F15-8777-B8419D0EF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0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BAEB-5CF2-4BA6-9431-518055DD7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5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937B-A80D-48AE-B146-583563795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5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6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BC8E-6020-487B-9709-26EFE69BD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15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9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73F7-27AF-43AE-B092-0F799CDC8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6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2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BE6C-BFCD-4AFB-97E1-F926FD43B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16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5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B8D3-CD23-43ED-89A8-7C595004E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6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8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A3DD-AC9A-45B4-A052-39CC71DD1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7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99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7627-472E-4A66-9F58-AD8E59E27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1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31D9-D3DA-4732-88AC-E228C1D2C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7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06A0-D234-4291-AE18-C25A6AD00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7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7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FDC7-B7BA-4DAC-A6FC-44C97DEA0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7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8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A04D-232F-4926-81B5-3623F9202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8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DC45-9408-4AF0-AE37-A4902DBE4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8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FFC1-B613-4E0C-957C-096B94032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99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5F7C-4310-482F-8CF6-BE90E25E8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9763E-2A7B-46B0-B2E0-DAC7CE79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79BFF-C4D7-4251-9F45-CE9E12EA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35CDD9-ECF2-40D3-AF39-A85FA1BA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FC1DB4-B232-4E28-9B4F-F1B7E328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8A9FDD-E379-4DE2-BF00-23DED251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9C39A8-1584-472F-949D-527470BE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0FCDB1-62C8-46F7-9CC9-950DBB03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0C6DC2-C934-4277-AD02-8935CCFC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366BEF-A67E-4809-90F0-645F5CC2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3C599A-7C1A-4410-8172-2D23F422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546297-B174-4528-AF9A-2FCEA3E1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101267-ED14-4ABC-940B-2736DD92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2381B-35B1-497D-B5F5-A92B186B1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6EF9D2-53BD-454E-9F25-86F1BD2B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644573-2B78-4AA3-B532-8F3AC3DD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E69C60-0EF7-40CB-9371-C19A8DD7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118855-906B-4F5C-AA79-8DFE6C4E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123EDE-0F8C-4ED7-8AB3-84460D93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7A95D1-7879-4765-9D09-F43953EA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A474E9-A3F5-4744-9A17-018EB0A0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4AB70B-9CC2-444F-B9DE-B9122A59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4C6BB4-5D43-4090-9F69-CAEDC804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6585E0-8CDB-4AC4-83D1-1D0AA192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9164B-1B5F-48E2-93BE-B6172CF6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E00498-326F-4578-963C-2D15DB72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72453C-45D8-43AF-BFEA-0B9EC9C3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2CCF51-37B5-42CA-B121-C0527F1D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A7388A-4457-463A-9C4C-69F908A9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ECAC54-6E76-40AD-BEE4-2085B9C9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69DF4C-8759-432E-9664-C1ED5DD1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45F1C0-28D7-4138-B084-C49FB620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017478-40D8-459C-B04A-87FB660C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376327-5C78-4D72-8E67-EA83FDD0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EB2609-53FF-43FB-82E7-85C7F87D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186123-3257-4E67-8603-9AA9D7BA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A8F7FB-A549-40BE-AD82-9902F781B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7E117B-FFB9-4034-A9D6-8BD0183A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42A2521-1C1A-4443-A409-55DF408B5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2054679-D65C-4BBD-A277-F085BCCB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B1A0686-F4BE-4F67-BC4A-62461E3A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16AC952-B4BB-404A-B6F1-38C872D5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B2134B6-5465-49FF-B9C0-D820AA91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2367B28-07E7-4462-BC03-2961BDCE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C77DCC4-8623-4ED9-8EC3-EF8527B4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1922CF-590C-4648-89B7-FC10CA3E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5B9DF5F-7179-4E93-8797-764EC04C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DA94FF-F389-4480-BBCA-637939BA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3A43D5-151F-4F6A-AF8D-E7BD2A0A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32A0753-1E1B-425D-8BB4-592009EBA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6B0F6B-986F-4F08-8F27-37653BD9C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A54D55-60C7-4C30-85F2-5D4FDE84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1060E0-EE51-4853-ACE4-5592F625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DC8E4E-4FB4-4464-B1A1-E5D2AE70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BCD936-03F4-4AB6-AAB5-2473303F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465EC8-2075-4CD8-95E3-62DE3ABB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B3B900-9161-48B7-8D84-7DB24E17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03347A-6439-4066-95C4-39E46FC3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0E02C5-0958-4905-909E-E9D1038D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233A42-BC48-4043-8B5E-5C40350C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E2441F-F86A-4DDB-BC48-98CF34CD7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00B03B-92E8-45D2-8230-EB834D8CF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A0319C0-C66F-40E6-9860-135C3D29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E01D456-CA21-4429-B57B-DB278BBF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EA699AC-5030-4FAC-ADB8-738B2F4A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0062FE8-45E3-47BD-BAEF-35E56634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F9CE26E-2EF5-4EA0-B972-F027B8B0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EB5D553-5034-4E24-9F1E-4F72B542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60C2A43-7593-470E-BD9B-E9D9D3E4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AC61455-DDE8-4BD5-AF02-1E075E10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CA34F7E-BFB0-456B-8C35-70DC8757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326C5E9-1A01-4574-91ED-2DCA3683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FED7F9F-F470-4518-8BDB-749E4F004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1800347-18AB-4EB5-826F-C08F5B805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FDA8E4A-E08E-4B07-84F3-FA1613154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E4CBB04-B6AC-47F3-988A-58AF20CB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0CB4B37-707E-4FFD-839D-B5332891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4162684-DC00-4FD0-A1C4-9CE5FF36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B95FC81-37CC-4DCF-80B3-1ABC7B00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A2FB4C5-DBF7-4BDB-BC45-82BC5E76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49F4C6A-A05F-41D2-87B3-640FAAD7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DF41A45-6756-451D-9039-280D846B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2D1FD12-6E38-4D0E-A54C-BD42F8BE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9F9B4A9-0DA6-4ED4-A7B9-39AD721B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93CAF76-5CAF-4193-8306-824B7624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82AFCE1-A703-427E-AFE9-715F5810E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4075E2E-182F-4760-A99A-66F3C3E19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0F295E7-876C-4FFE-A2E8-8F9F4D60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552BEB9-44B8-4592-8197-15327710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BC929D0-1F6E-494C-AD19-B02956FA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9E63067-AA91-4471-8BC9-136B52BF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766D13D-93AC-4DF0-BE52-9EFEF388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E2CE388-0CCC-4934-B92F-92A56E53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2CDB1AE-24C1-44E5-A034-D27F19EA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1D185D4-0F63-4341-A248-0CB402DD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6D13E27-D18F-4323-80D0-62D863DE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9B899B0-9B17-4DC3-A4CB-FE250DA6A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333E9DB-B441-4034-B890-A170CFC2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88C051E-28C6-44D1-9DE8-F13A0E38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EDF5BBF-8366-4EAC-BC84-FDE2F55E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1A77908-A1F1-441C-B8F7-F01FAAC6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B4A44FC-15CB-4B4C-BB31-874D1C8A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9B8C938-7F7B-4358-8413-AD9A507D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7446A5D-3AC4-4528-B91D-563920D5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634D431-02C9-4EE7-A773-CC8C82C9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95999-1ECF-4B93-9D7A-C8B34320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F469955-B7F3-4347-A78D-5514C786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03B2442-69BE-4A08-BC45-21AE6E60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500A3A3-1FF1-4733-99EB-97B31295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B73C787-97C5-4507-8A97-D3FDDFBB5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AA036D9-E70A-4572-97B3-043F9F261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C9FCFA1-AAD8-4912-9B12-F49832F99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CD4A31E-DC5D-42D1-A1D7-413735F6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DB76547-73D7-4EA0-89AC-8C3003E9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DB12BC9-8EDD-444E-9EB2-805EB76F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9CE3A1B-3494-454D-911D-0DFFF884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0F3DCA1-31A0-44AF-9E46-E9169BDD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6FFEB3B-D9D8-425A-8D3D-C8AA6682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59E977E-A275-41FA-A961-FBB9A09B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9A66D9F-D5AC-435F-BD83-E09C574F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A8AD5C4-90EB-40F1-97A1-9EA667E7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0A69256-098A-43EA-A447-35516B87C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EF6D93F-B74C-428E-B7EA-A75695827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A17F7E1-85E5-4C68-8DFE-73B973FCB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3C9EF18-3863-4206-88FF-A0CE13DA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922B805-2284-44D9-8E3C-D0A7BEA8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54916A5-1D4E-4C90-BF4A-B156E64A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0E8C33A-0525-4DB3-97C4-1CFC4457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D0B4228-0A6F-4DEE-AFE3-74203553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C304661-DC9A-44D3-A3CA-5DC3DF57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8910BD9-0C15-4EDA-9CDB-98E06C91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8E8AB40-6134-428B-85F0-C734A485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2FBA500-62B9-4880-9B86-F89CA975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94DC3CB-4DC6-4CE8-9A38-20766985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6323022-C2BB-46A1-92B0-303058E21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7EFFC24-B600-4288-9247-E4413AC90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E1F4A3B-8D5A-488F-A904-06A2FF40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1AEF762-8FFD-4955-B055-C3CEC8D7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CF2621E-8415-47E2-827B-0BF754BD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95064F5-A001-45F3-9BC4-CD532B50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FFA4465-8829-46DE-96AF-1D0012C4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B67C9BE-EDA9-4BAB-B2C6-21D7FDF0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3D1E2AF-B1B4-4ADE-9EC3-23D57E0D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8E6E50A-7424-44F0-970C-115FF7D5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708FE56-5BA3-4387-A951-EA0ADC52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9C5156D-C9DE-4707-BE38-135C13DD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FFF393A-1CFC-4EFA-BD05-9DD604E7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AFE73F2-3666-4BE4-ABE7-5E24A7AD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1FC2155-203F-4197-9861-99A20E37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5DA0C4A-6361-4A60-8D1F-A625FC86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27656FB-989D-4E7F-8C1E-11CFE957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173BE16-744D-4B8C-AB88-2813D9FC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87163F8-D21A-4EEB-A4C9-1624A168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8E57855-AAFE-4240-9EF1-181725CE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AA1DA6C-72A7-4D24-A4DA-ED32D0B4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0756147-1F9C-4CDE-85AA-E8862208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6954A-C4C8-4226-BA59-9772C4D9D3B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D186C0D-A3CE-4A9B-A3F8-E095EDF6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B104FB2-5059-4496-9ECC-EB025BD15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4CF36E4-EEBA-4770-B788-CF53DEC8B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F6F3014-81FF-419B-BB09-7BDF7EE7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1385EC8-4C4D-4DCE-B0F9-AACC88E9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2F48BD8-499B-4B5B-8575-55D1027D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C370A51-B99E-4F0A-B302-61D80CD1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217E00E-417B-4AAF-8A41-62135DD2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604A9E6-AFC3-42BA-B9FB-244EE987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E5C6610-89E9-43F4-AE20-E5FFF1FD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AFD13-D315-4AC6-8674-F6CFCAD20C9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30AF12A-093C-4971-8C7F-E9D13520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D07B74B-8E29-49DA-B617-C9DBA781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E5FD551-B726-4966-8530-B243B716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17839BB-630F-46A0-9648-0D05CCE1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DF16840-EB7E-484F-9F70-E14685E88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6A4B133-86F5-4841-B495-F61BEC6FF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D547BFE-89D6-4F12-8BD2-33EB7DF9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A822409-E2C5-4307-B039-3A032A24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EF0ECD8-6B92-47BC-94A0-FE40AD81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7AC8005-258C-4CDE-85E6-105192FC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9E5DF-7C6E-4B28-A29A-6AC0B02E041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7E56257-7F91-4172-9847-EE65397A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8422DDA-A775-48D1-8B03-B4482FD8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0C9CDEA-32C3-4B6B-9F21-13AEB34A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195CE73-A1B0-45E5-97CC-E7C93F03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C0E9647-93BF-4C5C-9D1E-B35530BD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AB573E7-3FC0-40EE-940D-ABEB5C6E5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4A63EBE-DF1C-474C-9EB7-978AD52FC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B48E21F-1F5C-49E8-A679-51A2F2A9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91161CF-C3FA-4468-BA31-386264B8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37781D3-E79F-470C-94E7-BF67719D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CFFC2-923B-4917-B893-2B6B27482145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C6402AA-6792-4981-84A4-6A789D6C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F65F4D0-7E18-44B1-8BC0-71124061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4046649-0071-4280-BC5D-71B6A1C7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9C75983-E640-40CD-95B4-217F2F6C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123BE00-7523-4EDE-B286-E8A588D0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7E34FF8-8959-4134-8A48-E22427E6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E9D63E8-C811-4EAE-9902-D52F5656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6C4A00D-A1E4-4EC4-BDAB-3D425A6D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A58957D-352F-46E3-894E-72BCAC21A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8296637-CEF8-458D-9299-225E3EDB5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43CE8-226F-4B47-A2BB-A08287122C4D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6E3BB0B-514A-49BF-B77D-31B65D98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A7D0EA9-B8B7-4CC6-AAEF-380945D6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462CDBC-2DF1-4A21-8EA8-DBB4D1CB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C5BB39E-15AA-40CB-9E27-B9AE5211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B001933-FF03-41A2-80A6-84ECC870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997D7A2-F712-4251-B900-1C9432C3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B04BFAA-73B1-433C-8055-32D8CDF0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98E0683-AE33-4E5D-A009-B6D50A6C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3F48059-92BF-42F1-959F-50CB010D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01A4ABC-9362-4321-8B17-C3A75F2A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4C075-3C0C-4BA7-93E8-3CB8F9EC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E3328-3679-46CA-93FF-47ED9E2CB594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9C895F7-1D90-4209-AD8A-B3B48379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513DB4E-9368-4660-BF4F-49D901D8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215F0CA-471B-4C81-8C5C-AC7902DD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E869626-9542-49A9-A1A2-C1210056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9645FFB-D0B5-4911-BF44-4ACC53C7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376B826-250C-4884-9413-46C67719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0C38F55-34B0-4EC5-85A7-26DA7028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9CE6B95-8F98-48FA-BD8B-1383CD8C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212D95E-437C-401B-A478-DE1D5A74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9F4784E-2A80-478F-A466-441E49F3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34693-9918-4150-8F49-B23089D95FF5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04DAB19-DECC-4E52-99DD-784BD544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833C00C-0C14-4C22-BA39-39770055E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03C5A38-D297-43ED-93D2-5015E718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FF4F74B-EFA8-481E-A972-BAE66577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CB77C95-D0BB-4E06-91CD-24F52558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DA9F92C-468C-4797-9B54-4DBDA224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00E0FB9-1393-435E-A38F-98EB373E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1B4FA91-16D2-40BC-81E1-E9777B3E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59082A3-0F16-42BC-A135-4B50F024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C912C6B-AD55-4F71-9F1D-293D10BF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8F7BB-71A3-47F5-A270-CE813F000F0A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BE6FC49-1E59-411E-B68E-C46DB526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EC86E55-D8FA-4D30-945D-244098DD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18F10DD-235E-46E2-B55A-2353F57D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2DABF95-4AD8-4B55-B184-18DFC230F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DEAAB59-E8F4-4583-BB6E-B5A1BDAD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9DEF376-0541-43D2-B68F-15A12BF8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888D660-AA6C-417F-AC7D-FBFB83CA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1A2CDAB-DF00-418C-9A46-A831607A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A3DEC62-3FFC-455E-957F-587F10B3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9A57B98-618C-48B7-A9FD-4BBF6DCF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12FBF-D67F-4D3B-A25C-19A1BA301E87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A32A894-31B1-40F5-A1F9-53A2DC1D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AB8715F-1C88-4A9C-9B13-41221071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53A622E-0511-498E-B8F6-906DB62C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E85838A-8506-4802-BEA4-D399785E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23F3C04-81A3-4CB9-8B1C-90BAC7AF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04C4DF3-D5A0-42E0-A15C-CC622A1C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176299D-E033-49F8-8318-221FCD923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8031C4A-B60A-4BD8-B4AD-A412720E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9291F52-BFD9-4F23-A794-FA8D49A9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C6F54C8-8832-4170-83F2-A4789371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BA7AF-A4E0-4915-9CC6-25E648049BE7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864C6FD-ABE5-4949-916B-5482E5F5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DA9F171-9383-44F3-A8E1-D2F8908B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AB11ECB-8773-44EC-96F5-F0C9B533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27EBFA9-7B56-466C-BDF5-8DA5A792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7D5D8D5-263F-4F53-AD74-38DD7C28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B5E71F7-6260-4086-AA42-C63D49E3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ED176D7-C6F0-45DC-865C-E4DD24E7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0E517D7-75C9-408D-8ADA-3B033746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780B87F-178C-4515-8A3B-D040C45D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70F958C-E35D-47E7-A468-9638CF8B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B9AA2-1A13-4E56-B9AF-E9802BB48F94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BCDB114C-241D-408C-91DD-2A8963F8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795C45F-E255-4A84-BC85-2E4CDFF4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CDEE620-8ED8-4999-BAFB-079A5F2D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F9274430-E8DE-4194-BF93-A83C852F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397F15AF-3E3B-41E1-9D90-65292256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F5B1977B-1E1E-4519-88A3-34B8C0D8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F23D633-DE11-429D-9718-DAFA1767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2BFD5A2-7E2F-4C23-8864-6D0951ED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546FDBC0-5FF5-4FD9-9D6F-1CD98782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CD0B38A0-4B99-400E-AE8D-6F89BFD4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5A32C-D748-4A26-A94F-CE1A116BFDDD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E1D2CC9B-BF4D-452A-9592-3EE62258E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069707C-D8E7-4DE1-A75B-35FE3AAA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7E1BD96-7973-440C-B1A3-D94A191E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2F1AD9E-431B-437B-9543-75784AEA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E9FBCD2-162F-4FEA-962F-A8AD073F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56FD6C6-435C-47C3-A5BE-7BB17A05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E545DFF-50D2-482E-8F4F-F1954875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28CB38D-238A-48E3-A589-E55F1AB1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366BBF9-21EC-4C4E-931D-547480AB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B473914-8B51-4C69-837B-720D5D8A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3004C2-262D-48F7-8235-F8A37CEB3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749AC42-610D-4749-A94F-1E95099B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9FDCBC3-49B7-4256-8D2D-45C21D21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A92A4FC-E55C-4AFE-83B2-979D9BFC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FCB8E5B3-5EE2-4916-B521-AFB3CEED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D2ACAB3-EA34-40C6-92BC-9BAC162F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D459DEE-D8BC-4797-B8F0-0589E4F6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EE8BD570-FA85-4932-82FD-41F85BFA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268F024-D4D7-4230-A13C-FCA68735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F29EDFEB-3FC8-409C-9783-239B9E0C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530EF1AA-B00B-4A8A-B5E7-7E5DAFC3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C8461D-7DAF-4522-A03B-A6F6CB84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2ECC773A-F8A6-487B-91C0-7C18D066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3B84565-0661-4C25-ADD3-D7F11D88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E0BA705A-F6CF-4867-B953-AB78954F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0E18CF0E-7A3B-4509-9774-912D50F3B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CD01474-6672-49D4-A9C8-07A762456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1E40CC8-0420-4A95-AED1-E764B7254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322E15A-451F-4434-961C-23C1F895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1689C87-1B26-4F7B-9630-85A798F3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BE864CF-ABDC-4552-83FB-7E710532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782842D-BD77-4921-BB37-5BF692B7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4C5F2D-B0A8-41C6-BD50-56D49F1F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864ADB2-81C8-47E2-BB64-1C3F484E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A4C1515-1653-4A7D-AE31-D27950B3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20D73BC-00BD-4690-A85B-0BA16A35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323670C-FCE5-4D6D-98C0-964C75A1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1430FB9-FC21-4CB0-9BB8-BD219132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BFAFB2B-C991-46A0-A9D2-7FE35655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73AAE5C-25C2-41B2-A653-135D55EC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A787F86-7677-42A9-9586-5A17BDE8B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1D0AD8E-6519-4521-836F-BEFEA207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0DCA4D9-24B0-4D05-90A7-C727322D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737AF-0287-492D-AF74-3BDEC992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A1A274-48FD-4965-A116-47145227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D4F33DA-12BB-4B6B-B4CB-B31A6182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E94B375-3DEA-4E05-A093-AEF9CB95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2E7E1F3-F2FD-47F9-9EE4-9D7BE666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F879CE7-44D7-4F80-AA6C-DA189BEB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23C141C-C7F2-4BDF-B266-A54F10AF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F6B4D50-F19D-413A-8257-755430DF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EFB9C60-2D03-460D-BD0C-9BC7AC5D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4837C46-1FBD-42AD-B7E5-779543D75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C4C2697-26C3-4CAF-AD9A-BF4948A0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9329850-4095-4D8E-B1B0-8D6734D5F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DF8C3A-5642-4F04-B08C-23B309C2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86F8A69-EB66-4E6C-AE81-17E7B7B2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2F2DB4B-0885-4315-8B61-4A885A6B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395129A-3F1B-4C63-8A67-5B1BEA62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19CF304-2D8B-4FCE-B41C-4B4B548D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B82BEBE-9801-4E48-98F4-1DCB0C4A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DBB5B26-D79C-43CC-A745-3BCBA5A3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54AC53D-D2F0-4F3E-B56F-279664E5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8900955-D991-41E4-9F07-0269B8BB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F982F65-6208-40D2-AFE2-C62DFC89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A893C3E-1715-4F70-963F-B223E653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919FC9-9D4E-42CE-BF69-A67D1F5A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6B4CA7D-5950-4721-BC3D-76CF043F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7DC4F57-B653-4863-A280-4EA570BB3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6B20A45-816E-4E88-9161-FBE3FEE8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38B132D0-D0E1-44AC-B8C2-DD8A90BE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D0898928-1319-4694-9FBE-66EFCCA4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8E9824D-246A-4283-BF49-F5DBE8E6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3D5B068E-5353-4C8F-8C9C-15C1061A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398A883B-D008-4C07-9782-447B72CD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B4469F1-04CB-48A6-AD15-21D552CC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6271D595-9C3B-41EC-AF9F-09D8DF1A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E55D23-9D23-4402-8D97-CD779262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283D072-9714-45F9-B954-C79BADCC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2119F47-395E-4D2B-93D6-C54B74156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4451435-9C46-4920-8E88-91070F79F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ED58DD4-B3BB-49DF-ADD4-490603C24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6766E50-CA63-4CD0-BF35-9527359D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A4122BC-81CA-4B37-BDBF-EAF91990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EBC59DF-DB27-4B06-B890-A0ABA5F8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838E78C-F36E-43A2-B1FE-59E44DF9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CEB9ACE-400A-4257-8896-76981F48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498BAF5-867F-43DD-8C44-516117D4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5909BA-5360-4952-BECB-A456CE87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CE8BA2B-A468-4045-9931-B2B8A066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280EA00-0E69-4E96-A689-00466E81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1CF5FBD-1E1C-44B6-AE90-53DAC6F7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B091AB0-9144-4682-8E27-43DB49428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4DCD190-4914-4B43-A743-9C284F5E1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8E3F0E4-DD89-4FBA-A214-11A591DF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77A8D48-6C85-47FF-A130-A0D78289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DB6584C-375D-4051-BC60-D840D9C5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F828265-58AB-48AE-B2C7-426C039A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557EED9-84CC-475D-BC08-896E8EF5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4B12BE-E905-433B-83AD-EB300C62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0518D9A-E4F6-4434-A5AB-059FECD3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5603B31-5284-47D4-9B8C-0656829D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69C002A-1482-4BD7-926B-F920F696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B9594B8-0C98-40AD-BC07-B200D64D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FF63892-6E53-4C70-A0F1-FDE0E516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C392A2F-7AEC-4255-8CC0-28F6A5F4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DB72F00-13B0-40BA-BD05-DED833F88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75C2078-D6F1-416C-A2C6-928868B01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BCBC6065-F3E7-4F8E-B4A2-A8DD03AB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CC25FD6-22C7-4B5D-920B-EF905540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8CEC78-CAA4-481E-BC81-A347C45B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5102B89-5B90-480D-9E2B-3DE45F8A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EE6D5A8-21B7-4090-9043-D8968AE3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FB70A35-AE62-43BF-ABEA-B69C6B5B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EFB7AFD0-4026-495E-B3BB-9E9AAFB9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F68ECF1-B747-4580-9626-925713F9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FA4C707-DF06-4CD2-9E3E-150DE310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9190954-53A1-43DA-9301-028E2F53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1F699FB-DCB6-435A-8C25-A552409E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EC329E80-07B3-44F7-B1A2-30C2B69A3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4CB7094-DE9B-4D6B-9BC2-6D2CF174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9F0921-89CB-4E71-8FCB-85DD815E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03D8640D-07F5-4FF6-A965-FFDEAC91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7ACC0098-8F3B-45C6-AAFB-4F20B093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B0422B0-EB27-45B3-B492-3ADBBB5E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C1F92D2F-70D7-48FA-99FB-07173805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D777CDB-4F12-42F7-B9EB-1A119411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5452122-2489-474E-9565-F4718758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A2E7218-0C55-495B-8828-E380821D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7A39BED2-BEC1-45F8-9E93-B617516D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3EEACCB-468E-4CE0-A3A1-FBE16BC6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1D533FE-5A39-4E28-A333-CFDECBD1D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167CEE-E1D8-4386-A10F-74CE7E181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7D5BD1AC-4CDC-438D-A072-3C8DDD182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FCA3DCFE-2A5F-4E48-A0A4-1F19DA13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F23FA893-A133-4DA3-9215-35DA298A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94BA013-4BD3-49BE-8608-67A380A9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F9CA0F3-0EA6-47FA-B27A-7B5431D2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B95B55C7-052D-4898-8659-D5A06019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B97CDD19-FEB7-49B5-8D4C-66CB0CB0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7A26F9A2-8C28-4F34-ABF3-D6A02481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612367D4-9372-4E3D-B19C-485E492F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A8974CFE-52B1-44A9-9BB0-1330DE41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8BDCA3-56D4-4DBC-AB38-4C1463B49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CACC4D10-03CE-461F-8AC5-4088E4B1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11DD0A3-3675-4930-B41D-23D4C54EE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ED3E1732-65BD-4EBF-A961-E25C8C9B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9041D654-3C69-4B3A-A082-FCE5A52E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714D279-4E8A-45A8-AC86-5161913A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4BA83A5-0F14-41B5-86F4-AF1D1236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F294E96-BDFF-4D25-B936-76840244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552B0217-5583-4BC2-97F2-0410CB4C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F562A29-0871-492F-A2A3-E22666AB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5D809474-1E03-48C9-A9F9-A51DB202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E70AA-A507-4BB1-9E09-D20E574B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128851-F01C-45FA-82DD-C2E994DC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17A64A13-F4A5-4503-BE2B-664BE184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0912A306-C5E2-43D4-83BE-83198096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5EA0A758-8E2E-42BC-846E-A3CB6CE6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38E6E84C-A64C-47AB-B2E3-51488A773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FD6F025D-4609-4012-8443-AA4F4874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E1A8B62C-E958-4CD3-8DB1-885E623D4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6D68B5F5-304D-489B-9FFF-F5E3520D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CB366956-52D9-44BC-A5EF-C559F8F8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7BA85A99-C901-4A6D-ADEA-03415B4A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6D0064E4-EECA-4653-B54C-C7EBEE68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E37C0A-6457-413C-A4B7-A5492E64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0297EF6C-EE7E-460E-B806-B22BA1FA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96DD545D-5D77-4F79-A204-DF03E4AE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28409204-B63A-4738-8645-91D7C86E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D16A745C-6659-44DC-9F60-8FE6BED9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CFDB10F6-BFDA-40CA-AE20-5C54790C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45ACA98E-1DB3-45E0-919E-F9C0AFA38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8B8B0310-BE5B-4DDD-92DA-4D975C704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2CCC8C36-49EA-497F-98EF-7A6EB3081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4784F265-3C88-4D81-8A1C-A5C33AD4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D07C20AD-967B-4F8E-9E98-B31D4AF2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0330D7-1F53-40FE-99C6-C3A53EC7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406D4601-2A0A-4FDC-BB50-A45D32BD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B73CBFB5-BC35-46D0-97DD-0D934B64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EA1EA06B-054E-4942-9232-7FC2ADC9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185F1408-EF22-457C-A755-780142D2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C2BB18DF-FE57-46E3-9F04-BB107757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471C58E5-5FBB-4A4B-B223-C74DA136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3C1FC20F-B5DE-4EF0-BB10-8B8342DC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0B54ADED-938B-4D32-BE7C-AE2C66FB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CDF67ADC-1AA1-4E8C-B00B-B8B150A4F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D4FD6212-5BE4-4618-A8FA-02613430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8D2315-AB56-4684-9733-7855588F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9DC672F1-DE1A-4CA5-AE7F-837D826B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2C4DEE65-39ED-4F0C-ACAD-4CF55766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3F2D824A-5A51-4041-A9E4-1F8E3869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FD0725C0-F27F-42B3-AE35-566D835B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6771EB25-C55B-4EDE-A7A1-EB4F96DB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947FC208-6419-4B6F-B04C-31926CFC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E893D5C8-58AA-4106-90D9-38265D43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944EA115-A7DD-4DD5-8A90-A9D720D5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6EA932F4-79B3-4167-90FE-F6555986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CEA1B6D6-9F97-4606-A402-CEAE02966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81711F-0574-4139-817C-5CA11921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7090F151-75D0-4BCB-961B-3DD2470B6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F90F243B-05CA-4C40-A9EA-2A585505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B6F0A9BE-A710-4219-B561-9CE29ACE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EF7E3D79-D4B5-40D0-9A20-953EFA4D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2743F3FF-4DC8-44EF-B43F-2F5F9505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DB102B6-408A-44C1-9962-22CCE1D0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ABE3432D-5DF7-4AF5-970D-46E31D3B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C632F330-A1CB-40F2-8E89-770D0599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9A257929-0FB6-4CAF-A945-1B700AEF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0793DF06-01AE-4E04-9C79-5206B6A6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F59D20-6788-428D-80CB-7108A0F7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9098BF30-001E-4978-8100-4C3F2698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32F08677-031E-43B4-A0A2-D60AB9D6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2043B89A-0F5F-45A3-AF1A-68FDF1EF8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3C434610-EC1A-46E1-88E3-757738966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AB03EFAB-1490-4CDB-A492-27701E4E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C01D2DC6-7B33-46A2-851D-B5800459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94747546-3249-428C-B05B-D994CE51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3A1FE26A-AE0A-47C3-B542-B1820320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4EF8C7E8-5B50-43C8-818C-04801845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C1EA9219-59F9-4F0F-A0B8-2AD3EF53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043B58-3DD8-452C-8289-F36D1630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AC4EFD2D-34C8-439F-9808-331B9852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4D31691C-E5BC-46E5-A2AB-2C7BC76A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09471358-EFBA-47F7-B29A-A4374AA8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DCB58E7D-ADC9-40D7-A11E-79B0FF5B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AC07E3C0-3C41-40E9-86DE-F93C9F880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0C3A2F86-4CED-4497-97D7-E609AA6D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52DF19B6-B827-4E8E-8622-5AC96310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B81435F0-237E-4AC9-B96A-BE7668EE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00A66904-99BA-4793-A57A-3F6569F7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C0EB4262-1484-412A-8248-FCFBC6C6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526BD3-36FF-4905-97B2-B7ACFD47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19B17366-9F61-41B6-80B7-E6F35BBA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11622FBE-22E8-4FAB-AD95-EDB607FE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EADD5488-2F26-49B9-AB34-3C643FFC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D511CC4E-8903-4A14-B436-82E9F703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B0D5D45D-8354-4585-8768-4225EC43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6CFB79A9-D6BF-46DC-A5DE-80AD1BFF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B29BE26B-F92F-4896-B237-178A7452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67DA9E0D-570B-489F-9AEC-7405DD1DC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C03CF4AC-F436-43AF-A53A-5B90B490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A1DC7FC2-5234-42F9-9561-B9920FFA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688783-9697-43C6-948D-0089E84C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A6416EA0-76A8-4AF8-999C-D2AABCCC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856DE9B9-D24B-431A-8CA6-F0BB0B50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1AF84CE0-F672-495E-B3D1-D3B9602C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087C8D76-982E-42A7-A3ED-7F3273C1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1C5A332F-C1BD-4801-8714-9C7F5EE7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11032DE5-9A40-4BC0-8FE3-9CD4D1C1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99AB4480-5523-4A1D-9D98-CCCFA47D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CC5E10C2-E165-4329-B608-207C656A3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5BC80804-1EEE-44C6-9717-62743B83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49126C58-15CA-4A42-9AFF-0C3D6430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4CB3B0-5614-434A-BE33-C5D8A6383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A6E96F56-DBD3-4094-B4B0-EC1E2FBD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C059C63D-5645-406B-8C81-61D31EC8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B6A65A07-905B-4DAD-B56D-CF429B98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604B3E25-DE27-4B80-9D97-DC2D756B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686B2527-0FA3-4361-87AC-8CD0521A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00A8E478-554D-4746-8EEA-03EB540E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C244A63B-1D67-4F67-95EB-ADC07B49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55450973-8482-47C5-9AC8-CF667612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C02FAFA4-95AA-44F8-B81D-95228293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D40F6B1E-8531-4348-9C17-1CBA6D335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6C635-FFF3-4147-8AB7-D224B1C0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E2233E-03AC-4273-8E01-B3B24A0F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A78B2523-87CC-4A24-BA15-BBAEC98F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B87A9C16-0659-47DC-BA3C-7AA094DE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93CF721F-641C-4C4C-9422-8B260D86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2948124-D78A-4549-87C3-84F084F6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7CAE17F2-A9A8-46E6-A988-05D38740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94D3ED84-93F4-42A2-9D58-37CB1804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38ACC73-2786-4A4F-B998-6BF67A7A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66FD2563-A50E-46E6-8392-529C6C0E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DECB9180-6270-42D4-AC30-48EC2F98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5C4F3BD9-1D1D-4E88-A803-7AB8EFF6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4D3200-804F-4B20-A94B-A9D70518D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175725E0-6E9C-403C-A02E-4213DE5E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BEE0AAE1-7C84-4C54-881F-06823FF01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D5B33CDE-9D99-4D17-9E10-BE4AFFA4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64B8E176-2F7E-482D-A9F5-489D8358C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710E95E6-9C6F-4932-AE02-22C9C282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7530F23E-A7BA-4A59-A6C5-552B621B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4F9FC5F9-0E2F-4A9C-9B6D-C9CC07F3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1FE24B60-1509-41C7-B08F-6589AAE8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4EC743C3-3AB6-4E86-A616-CD349F4C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5E11CBD8-054B-43D0-9E7A-717B6992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FB3C3E-4D8B-4114-AA52-54A5BB16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2233CF3A-51A9-4066-A272-52C84457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A04C6B4E-32EB-49CB-9990-8F63AE94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8F1075F4-7FCE-4617-BD6F-79B8BB76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9394F90B-EFA9-4070-8F0A-C92762C9C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BFD5401D-B304-48EF-B1AD-2D44F9F68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40562A63-5EF2-403F-942C-69CE8044E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EF906BA3-0251-483E-83D1-D2A888D8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0C5F6DE7-7CEB-48A9-836D-9CE0E845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CD55DDE9-5BCE-4E55-A4D4-831A3F00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8B812DE9-1B7A-420F-84F3-E8C0DFD7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8F613B-66A7-485C-BB07-C89A63B8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D67E7E2C-6C18-45C8-9B66-7403DB40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C7AA4BAF-8BA3-4805-A891-6D8FC07E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20D17CB0-67ED-4DDD-A8A0-78A570DA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3A8D8532-C7B9-4BDC-9898-F3D88D79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A171B5A2-1A03-41F7-B86E-AC8E9540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B2695A1F-B182-493B-AE20-E4BF037A2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77D7A2AE-576F-48F9-BB44-DCA1A39B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3D13A93B-E600-4810-B385-2D1CB1C19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E913CC5D-C0A8-4CA0-85C4-64A84C6B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9911E766-0C3C-46F2-8F2E-7B750968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84C5BB-485A-4EA0-83FB-EE94D25A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F3D3E2EC-FA4C-4C3F-9C96-DF7CEDD1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ACDA9184-ABBC-400C-A4FA-ECA12F1D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3F8325F5-6F55-4C89-8B79-809D17D4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75018BB8-6FF6-41A0-8577-D89D8DB0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684B4457-0839-43BA-A4AB-0E9732B4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9434692D-8A8A-4E97-BECC-14DB0537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5D8F5A99-1C63-4F96-924F-DA884207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D7FD092F-5FCA-4738-A66B-2F91F92EE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705D7488-92F1-4C8A-839B-0B88A4D7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2531A259-3986-4B7E-B47C-DED177D0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339637-FCF6-469D-95E0-CFA8CE65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7B3854B5-23E1-4C53-9298-C6280492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2BD8AD95-C962-4B5D-B6D4-60DBAC3B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584C9A32-D78B-467D-92E9-35614759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167A87D8-363F-415D-A2BD-1C40A798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A05CC122-463D-4F04-9BA8-474058E6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DA66B3E0-18DB-4A61-89EB-E284AC80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C19C6675-AD8E-4FBD-A43B-A8A3EB80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40116342-31D3-4AEE-8171-763C0CF7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27A369F8-306D-4D5D-9B0A-0A3A76D0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A46FA32E-BA80-48C3-8BD2-8499AE64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99E341-46B8-4F32-B5D5-53A64DD7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4C321F61-65CA-467B-9646-D877E26A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70B3C806-B8DF-43AC-AC80-9BC9DCEC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D5A7B7EE-AD3C-4F51-9B78-1E2BE857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ED683F68-B8BA-4C84-A532-738686DF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6C81C9D1-313F-4D9C-A4B9-ED59E830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5F414AF2-04EE-448D-B9D5-8A043D05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DBE10919-C81D-4485-9722-82880746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B39D94AD-F9C1-4419-B3BF-FE89A509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5BEE1A1F-7F36-44B8-BAB0-71D6CA82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E626B4AA-044B-4BD7-96A7-3E574F64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34F88B-201B-45B8-A4E4-49642402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4E36F9DB-FD02-47C3-9A55-4A6F8FB0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AE544B72-0C09-4C31-9AF5-11A05DD1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CDFE8506-096A-4758-9426-D3FFA78E1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F79FB525-089F-4ADC-8B75-620D90EF2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CEEB3CAD-1464-438C-8204-98A7EC4F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923FE7ED-CBB9-4897-985D-F11A1C7E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06DCDC66-8E82-46E7-BB3C-7AB7D61B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37D4C614-B754-4287-B715-19AD1F19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AD9DAA1F-E1B6-4BAB-BEFE-565F6326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B6DFB402-3F72-4450-B6B2-6FBA7AD9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F99831-7072-4190-8B99-76B9636D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6B1CFE75-40EB-4322-8D1B-8CA42DB3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A53F46BC-BE0A-4DF5-AD5C-F96F8D10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11B87267-2D53-45A8-986F-610F8EA7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5D02A197-AC90-48C3-80E4-27BDBFD28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00225F1B-1E57-454E-BB9D-4D242FB3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E909F2C2-3069-4923-9F1A-1C773524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D89AA2A6-7D77-4B10-B6BA-BD9F32F3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DBAE8A25-A473-4F28-AE2E-002640CE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4E1F4CEF-16FE-4633-92A8-8B82F907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9A3FA562-0E16-402A-8424-20F8C495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80F79F-F8DE-4D61-99BE-AF76AC95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EAA3A308-9CF2-4E73-AF06-001ABE04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7ABDDC7D-6E0E-4729-B31A-0CC637ED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A36F84CD-E484-46BC-BD5E-36B16781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ED9583A8-32D0-420F-BD2A-EC8691B1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16C7C0A1-8F9C-478F-8A8B-448DA3ED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079060F2-7355-4A49-95C9-7DD2F4BBC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5B9CBCB4-1BDE-408E-9D7F-77E5F63E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5016FDCA-1E32-4CB2-ACB5-C5F813C46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558CD041-0C72-4ED9-BA09-90A1D81E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9A88DFF6-6651-4D39-9D89-33113A15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61C13-4BB9-4BCA-875E-5AF4D4EE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EE87C1-604A-4644-B4A9-0BB56387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C48A033F-A79B-4939-9FDC-538C5179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BC7A9497-F11A-44CA-B185-3B48504C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18606DCF-167A-45F4-8CAD-E98905AF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38D0BBD6-D441-4AB9-BED9-6C3621B9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1D7C2A44-FD75-4B2A-B716-0B2AA946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96350FC5-10F9-476C-BF2E-3D2BCEC4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DC43A49A-E384-49BC-A05A-B4F80EE5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E27A39DB-CFEA-46A9-B997-402567A96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93AC1F1C-26C6-4940-96E3-E3E8EBC7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3E0CE1B2-688D-432E-B79A-C226DA72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D88165-C576-45CD-9AC8-1B9C772B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BB4F1009-982F-4ED7-A231-E35A7BD3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DD69F941-8E05-474A-BAF1-9BF9554C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6F38AF7E-1D3C-4B2C-BA72-136B4AAA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63AB2C27-C257-45A9-9E58-24D55C8D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B3514AD6-D86A-4504-9CA2-B19165F8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53EE79BD-9643-4B07-B988-4726ACF1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C9D0AA0B-E09D-4159-9F9E-439EAAF5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B5D7E660-3D0B-46C4-99A4-2B2778C5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97505A52-A1FD-4B54-AABF-BCA6CB95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91BB889E-4E94-46A6-8FA3-37ECA72A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528429-9709-4B7E-AE55-2258EC1E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F5D67CB9-BD6B-41F1-8D76-12BF58C15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925504ED-A1CF-4C17-B4BA-E53415544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23DA7007-6A9F-454F-8F46-AB63870D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1CC6EF6C-4271-4907-AD2E-155CF19D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BAE840C5-71A7-4E71-A1FD-C9DF7707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139437D2-2A05-436A-829F-8D751009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0362DFF7-296C-4053-B203-A6D3B18C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7D84E488-2B0B-41C7-BEFD-FC53E55F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C74F8875-2052-4E71-BE34-15933EB9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FE742C73-FA04-426B-9E4F-782EEE1E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724344-CB9D-4E83-85C2-D0824A7D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D0B1E898-3D80-4FB0-A094-87690F01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EB463FBB-681E-4CE9-9ED3-8F51EE825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52837FBB-D9C0-4F1F-93F2-0158CA291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69818812-DC7F-4DAE-A161-09812C84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3FC5FEC4-FD4E-4AAE-A630-9EB7878C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CF8DF1B8-63E9-4E11-84A4-98A5F5D0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F4193B18-FB72-40FA-9BA2-35711DA4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56313484-EC88-4475-A385-CF1CE960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E32E7E40-6B69-4B02-A6B7-6FCCE387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B8DD8914-D95C-4010-A9AC-673B46E6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EF96B0-FD69-43C9-B108-D4FCDCD4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DCACC599-6E29-46FF-95C6-4E94BD5D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BBB229E5-0D19-4A0A-A1B3-1700ADF3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F3741E6F-B7B4-4A3B-AA2B-44E66DC2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434ECAA7-C15E-49C9-8C93-9FBFAA57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1908391B-2F6B-4F07-9E9E-5D2EAD208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B70AFC94-48F0-41AB-8781-34C61E7BD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0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CFA76664-29BB-4A70-9872-F8A003CA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03D031E5-BE92-408A-99A4-7329BBA1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3B2E0810-E21A-4889-8B30-579A9F2A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6EB7C20B-9F4A-4E54-B0FB-AC96685F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82A0E5-4788-41ED-A80E-3DAD1D93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C5109ABF-2E40-4C6A-9872-D3FECFDD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0266710F-2FFF-4881-B4F0-E3A648C1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AC471860-2C73-41AA-A3AD-E019335C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62DCBF47-B77F-4238-B6BE-FB1CE16A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FD39FF60-435A-44BC-84AB-D8E61229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9B9BB71F-B3FA-4B9E-BC20-8950A65D1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4E185DFF-9A8F-41BB-A935-5BB6537B1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B1E7CC5A-1E8D-40CF-AC26-921E3A38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4AA555B5-4047-474D-8FAB-589DDE36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488E91B0-B46A-49A5-A7FD-0A5C0BA5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578352-839B-46D4-95A6-371361BE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1462956B-DCB9-4ABC-B43A-117195D5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AAABEDBA-69EA-419C-9034-29103CDA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AE0C906A-2762-4C2F-98EC-43F725D5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92785A1F-298C-4528-B6BB-4F40978C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2A98DDF1-C5D2-4DDA-82B3-5FE3B6D9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68016EBA-46AE-4E36-99CE-DF73F76F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0C58E92E-DC51-4FB0-AEF7-8BE513D5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13C9F9DA-B5C9-465D-A12B-B5532B80C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1FD2F656-8FF8-49F7-8122-B587480B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3F90991D-4204-413D-991C-8634D9971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9FE976-02E3-4FF8-89C9-5C2F7DF7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D7B2B90E-7DAE-4A29-9E55-A15CC4E0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9BCF52B0-5DFE-45A3-9E95-E41DCD89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A235D3B7-0A3A-4421-939E-FFDF280B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7A72CDD9-DD9E-4388-BA82-397D7110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CAA038AE-D2FF-43E5-BD84-5F31F508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61CEFB48-B683-4E69-B81C-004C392C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AB648F7B-917E-4C94-89FC-5DF3EF50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33A0FBCF-3DDF-41BC-AE4B-DBAA6A96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9E3F942F-3222-417C-B173-93601682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53191617-B68E-412E-9DE2-D8335366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CC9B81-EF0A-4A71-BA7E-FD198688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74B32A21-5D46-49AB-9F17-34A29B312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1B250097-F27F-484A-82F1-16A7E537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73C14288-D8CA-4FD4-A56E-20F4E08E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E35E7FB3-40A1-47A6-97DE-FF7D2061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8E75F9CF-30F4-4033-868B-1A7DA6DB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9E6E3328-1950-4D77-9392-EB60F039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C8D7E0F7-D094-4BE2-B95C-59EC56DE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E6B58EA3-5D17-4E18-BDD7-420C0B2A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ABAB83E7-7936-4946-A6F5-D2824F40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F0B527A0-E57D-445E-AE61-EFA26CE3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3D8020-D068-4020-B11F-D7BA29B1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B41BD671-1E12-42E3-BF8F-2D0109B4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0D3DC7E4-101F-426D-8F2E-BC6D9396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08A1F4E8-EAE5-4758-BDD7-E3B58F67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DE31E3F6-9841-4351-A895-8DFB2134A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31C4408C-94C2-4DB7-8481-DC454CA4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D26F8E89-09DC-408B-AC79-709309CC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9CF49E40-D9C9-4C9D-807B-E0329236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132C9695-CCA4-4DE4-AC27-33941DFF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0F3671BE-331F-41DC-BB76-B6C1F431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10801DD5-F640-4A81-B381-F6EC6C2D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8C896-385A-4D5B-AA83-A389797C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5BF83C-72DD-4A95-8120-EB7E6D4B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E2B598B2-2DD2-4781-8A9C-B2DF14FC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16E7B25C-7324-4647-8274-23133478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8E5984C5-CE27-4408-A59C-B816EDCD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7E72A105-7EF2-47F8-B4C4-6FECFE05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E6DB723B-6A85-4740-8D04-D713E3CA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257B3300-C88E-4394-B291-9C61252BF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6B7CD356-E870-4E5D-B15E-9D3C2ED8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2AFDDC51-7D6B-443D-AFD8-E97374B3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243F1FFD-BDF0-4C68-BCB3-76AF44EC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4750697E-C1D1-4FE1-80F0-41B5AC18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DA1849-4EE2-4DE9-AFD0-C2A97B7B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34C17EB3-A727-476A-81A6-953DC9BC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D76DD1FB-E6C9-4C66-8303-D615AE18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17CDE8C7-E1FE-411C-97B8-0B854AAB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02B7BF11-AB54-4537-AE1A-5DF7DD58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FCB58BAA-75A8-4194-A5C6-20747F3A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03145810-8A5B-4700-98DF-1AF0EC16D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D3C8D896-A773-4D2B-8D74-8BDEC289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0235D602-60D6-4D81-81DF-5A429A5A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50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39C8B244-3503-4626-869F-426681BD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A15D6B65-7B1B-461C-8FA1-6CEAC1B4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A3E236-0A3B-43A4-8ADD-6110CF9F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010EFB0E-1EC6-43C1-A000-AEAFB601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084AB3BF-163D-49B8-B802-65FE318A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39398640-ED50-4971-B4CB-265A6B48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3E5D77C4-7BE0-43CC-87B8-EA66416A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E4C32144-FC4E-4B80-A099-2E10D1A8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91CE2E10-BEBA-46C6-A304-B19F4149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B70B4B44-09DB-4688-A17C-BDFEDCA8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A038BC40-8E29-41A0-8C1F-1145AEA06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F7AEF12E-FC9F-49C0-862F-B87505912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B8417F32-0282-470D-B908-1BB7C913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120076-7F9C-4CF7-865A-82DE002B8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93848DE9-D2AA-42C8-8223-4EA2AA0A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3D6CEF5F-CBD2-4101-9E04-4D407CCF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0BC27EA1-2148-408B-8DEE-2942FB7B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E1954F1C-53E2-42F7-ACBD-19B2AD87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0EAEC46B-D891-47E2-A03A-6904960F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691FBC0C-44D5-4E3A-9C13-9913B3AB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37AC59AC-A0DA-4C81-B7C0-78611B64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9D6B972D-F626-4D27-AF03-995418C5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CB2DD748-5B55-40D6-B6EB-01E0506A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F35DA27F-52B4-4380-A5EB-BFF9E494C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A693C3-04FB-4108-8CF4-06FBAE8C8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CE2D8257-7DE9-4B2B-9663-194C0B0F8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BB1060-050B-4018-9B79-51F8454C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84762D-9278-4211-8D94-D6C7ADF5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A5BE31-3F79-49FF-88E3-580E5E44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4F70CD-A5AB-4559-A71E-DDC540C7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5481CC-5644-456F-B64A-63208E92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7D913-87D8-421A-B6C8-1C4A736F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57CF17-471A-43EE-8C8D-8E2414F4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D7CEBC-95DB-4BF1-8C74-7B7B3F59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3E9A0E-723E-44B8-BC19-773AEE48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C1C55C-9982-4F03-9863-D07EAD67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F642C3-601B-4A75-BFC5-5C8AEA45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0DB356-5CCA-4DB8-81C3-4FF6E093A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075704-E14F-44D2-8964-237A02303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2EFE3D-6EF6-4748-AB93-FC68E44F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47842C-D704-43D1-AF15-1A2113CB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111F19-49D3-4DDC-9ADE-322CE064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FF61-7EC3-4460-8483-DF17D40F8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2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678E-2A1F-40E6-944B-E11DB0643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ftr" idx="2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2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69EE-8B22-4AFF-B66B-CCB3CB2A0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ftr" idx="2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sldNum" idx="3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3F17-743D-4CEE-B691-EB80C3703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3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sldNum" idx="3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25DD-DCCE-4391-88CF-C1EB2B7CD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ftr" idx="3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3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sldNum" idx="3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9FD4-1E18-4541-A4F7-BF5F39E3E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ftr" idx="3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3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sldNum" idx="4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97E9-4C53-475F-B05D-F14F6D0D6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ftr" idx="4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4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sldNum" idx="4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F2E6-3365-485F-9C7B-47885D7E0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ftr" idx="4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sldNum" idx="4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532A-8819-4090-A062-46AAAEFA0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ftr" idx="4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4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sldNum" idx="4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2A0A-5710-457E-AE0A-97E63A6AF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ftr" idx="5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5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sldNum" idx="5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E1EB-5275-41D7-A241-0464214A7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ftr" idx="5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962520" y="63244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5A61-F417-403E-B04B-2A4BA4B082D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5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sldNum" idx="5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3391-9296-4DB3-A45B-17156F786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ftr" idx="5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798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798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d84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b3d84"/>
              </a:solidFill>
              <a:latin typeface="Bookman Old Style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989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989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dt" idx="5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b3d8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B75D-787A-468A-A4B1-8E5618445532}" type="datetime">
              <a:rPr b="0" lang="en-US" sz="1400" spc="-1" strike="noStrike">
                <a:solidFill>
                  <a:srgbClr val="3b3d84"/>
                </a:solidFill>
                <a:latin typeface="Gill Sans MT"/>
              </a:rPr>
              <a:t>07/30/26</a:t>
            </a:fld>
            <a:r>
              <a:rPr b="0" lang="en-US" sz="1400" spc="-1" strike="noStrike">
                <a:solidFill>
                  <a:srgbClr val="3b3d84"/>
                </a:solidFill>
                <a:latin typeface="Gill Sans MT"/>
              </a:rPr>
              <a:t>September 18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 type="ftr" idx="5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b3d84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3d84"/>
                </a:solidFill>
                <a:latin typeface="Gill Sans MT"/>
              </a:rPr>
              <a:t>The University of Texas at Aus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 type="sldNum" idx="59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b3d8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1F5B-5D12-4ADA-97E0-B4462F36D3E3}" type="slidenum">
              <a:rPr b="0" lang="en-US" sz="1400" spc="-1" strike="noStrike">
                <a:solidFill>
                  <a:srgbClr val="3b3d84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989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7989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98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d84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b3d84"/>
              </a:solidFill>
              <a:latin typeface="Bookman Old Style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989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989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 type="dt" idx="6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b3d8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C4FA-38B2-495C-A05C-A9849A62CB9D}" type="datetime">
              <a:rPr b="0" lang="en-US" sz="1400" spc="-1" strike="noStrike">
                <a:solidFill>
                  <a:srgbClr val="3b3d84"/>
                </a:solidFill>
                <a:latin typeface="Gill Sans MT"/>
              </a:rPr>
              <a:t>07/30/26</a:t>
            </a:fld>
            <a:r>
              <a:rPr b="0" lang="en-US" sz="1400" spc="-1" strike="noStrike">
                <a:solidFill>
                  <a:srgbClr val="3b3d84"/>
                </a:solidFill>
                <a:latin typeface="Gill Sans MT"/>
              </a:rPr>
              <a:t>September 18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 type="ftr" idx="6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b3d84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3d84"/>
                </a:solidFill>
                <a:latin typeface="Gill Sans MT"/>
              </a:rPr>
              <a:t>The University of Texas at Aus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 type="sldNum" idx="6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b3d8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555F-18F1-4CF5-8CE0-CC1685FF1558}" type="slidenum">
              <a:rPr b="0" lang="en-US" sz="1400" spc="-1" strike="noStrike">
                <a:solidFill>
                  <a:srgbClr val="3b3d84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989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7989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98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d84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b3d84"/>
              </a:solidFill>
              <a:latin typeface="Bookman Old Style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989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989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6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b3d8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1700-E910-4E27-B3AA-9C7AE13CA063}" type="datetime">
              <a:rPr b="0" lang="en-US" sz="1400" spc="-1" strike="noStrike">
                <a:solidFill>
                  <a:srgbClr val="3b3d84"/>
                </a:solidFill>
                <a:latin typeface="Gill Sans MT"/>
              </a:rPr>
              <a:t>07/30/26</a:t>
            </a:fld>
            <a:r>
              <a:rPr b="0" lang="en-US" sz="1400" spc="-1" strike="noStrike">
                <a:solidFill>
                  <a:srgbClr val="3b3d84"/>
                </a:solidFill>
                <a:latin typeface="Gill Sans MT"/>
              </a:rPr>
              <a:t>September 18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6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b3d84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3d84"/>
                </a:solidFill>
                <a:latin typeface="Gill Sans MT"/>
              </a:rPr>
              <a:t>The University of Texas at Aus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6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b3d8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84FD-38FB-4915-9AA7-B73CF1A8AF7A}" type="slidenum">
              <a:rPr b="0" lang="en-US" sz="1400" spc="-1" strike="noStrike">
                <a:solidFill>
                  <a:srgbClr val="3b3d84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989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7989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98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d84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b3d84"/>
              </a:solidFill>
              <a:latin typeface="Bookman Old Style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989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989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6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b3d8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E441-07E6-483A-8AB4-722054DBD8FB}" type="datetime">
              <a:rPr b="0" lang="en-US" sz="1400" spc="-1" strike="noStrike">
                <a:solidFill>
                  <a:srgbClr val="3b3d84"/>
                </a:solidFill>
                <a:latin typeface="Gill Sans MT"/>
              </a:rPr>
              <a:t>07/30/26</a:t>
            </a:fld>
            <a:r>
              <a:rPr b="0" lang="en-US" sz="1400" spc="-1" strike="noStrike">
                <a:solidFill>
                  <a:srgbClr val="3b3d84"/>
                </a:solidFill>
                <a:latin typeface="Gill Sans MT"/>
              </a:rPr>
              <a:t>September 18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6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b3d84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3d84"/>
                </a:solidFill>
                <a:latin typeface="Gill Sans MT"/>
              </a:rPr>
              <a:t>The University of Texas at Aus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6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b3d8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0D7F-4294-47E7-B050-D2E1632233D6}" type="slidenum">
              <a:rPr b="0" lang="en-US" sz="1400" spc="-1" strike="noStrike">
                <a:solidFill>
                  <a:srgbClr val="3b3d84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989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7989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98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d84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b3d84"/>
              </a:solidFill>
              <a:latin typeface="Bookman Old Style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989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989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dt" idx="6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b3d8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4BA6-01FD-4B84-9195-1B02737BC08A}" type="datetime">
              <a:rPr b="0" lang="en-US" sz="1400" spc="-1" strike="noStrike">
                <a:solidFill>
                  <a:srgbClr val="3b3d84"/>
                </a:solidFill>
                <a:latin typeface="Gill Sans MT"/>
              </a:rPr>
              <a:t>07/30/26</a:t>
            </a:fld>
            <a:r>
              <a:rPr b="0" lang="en-US" sz="1400" spc="-1" strike="noStrike">
                <a:solidFill>
                  <a:srgbClr val="3b3d84"/>
                </a:solidFill>
                <a:latin typeface="Gill Sans MT"/>
              </a:rPr>
              <a:t>September 18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ftr" idx="7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b3d84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3d84"/>
                </a:solidFill>
                <a:latin typeface="Gill Sans MT"/>
              </a:rPr>
              <a:t>The University of Texas at Aus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 type="sldNum" idx="7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b3d8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C521-E00A-4AD5-8BF9-E1FACE60B14A}" type="slidenum">
              <a:rPr b="0" lang="en-US" sz="1400" spc="-1" strike="noStrike">
                <a:solidFill>
                  <a:srgbClr val="3b3d84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989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7989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98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d84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b3d84"/>
              </a:solidFill>
              <a:latin typeface="Bookman Old Style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989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989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 type="dt" idx="7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b3d8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0778-D5DB-4AAC-9227-46F745C473DA}" type="datetime">
              <a:rPr b="0" lang="en-US" sz="1400" spc="-1" strike="noStrike">
                <a:solidFill>
                  <a:srgbClr val="3b3d84"/>
                </a:solidFill>
                <a:latin typeface="Gill Sans MT"/>
              </a:rPr>
              <a:t>07/30/26</a:t>
            </a:fld>
            <a:r>
              <a:rPr b="0" lang="en-US" sz="1400" spc="-1" strike="noStrike">
                <a:solidFill>
                  <a:srgbClr val="3b3d84"/>
                </a:solidFill>
                <a:latin typeface="Gill Sans MT"/>
              </a:rPr>
              <a:t>September 18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 type="ftr" idx="7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b3d84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3d84"/>
                </a:solidFill>
                <a:latin typeface="Gill Sans MT"/>
              </a:rPr>
              <a:t>The University of Texas at Aus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 type="sldNum" idx="7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b3d8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885E-0827-48BF-B249-0DA1FFFA9BFB}" type="slidenum">
              <a:rPr b="0" lang="en-US" sz="1400" spc="-1" strike="noStrike">
                <a:solidFill>
                  <a:srgbClr val="3b3d84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dt" idx="7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sldNum" idx="7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586D-A823-4A09-900A-AB842A7DC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ftr" idx="7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 type="dt" idx="7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 type="sldNum" idx="7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44FB-A357-479F-9BE5-B562BF624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 type="ftr" idx="8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 type="dt" idx="8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 type="sldNum" idx="8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5593-FB4D-4180-81CA-B2761AF71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 type="ftr" idx="8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295B-5C65-45B6-A5F1-E44EC43928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8001000" y="6400800"/>
            <a:ext cx="3808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68A8-B374-487A-94D9-7375B1A4D529}" type="slidenum">
              <a:rPr b="1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 type="dt" idx="8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 type="sldNum" idx="8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7715-AF66-4661-8B98-A49ECA2EF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 type="ftr" idx="8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 type="dt" idx="8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 type="sldNum" idx="8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D9DE-FBA9-4F5E-B334-C384246E6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 type="ftr" idx="8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 type="dt" idx="9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 type="sldNum" idx="9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1225-B687-4316-8F5A-531666102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 type="ftr" idx="9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9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sldNum" idx="9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C6A6-C811-46C7-A6FC-0D93B19A6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ftr" idx="9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 type="dt" idx="9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 type="sldNum" idx="9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6DCC-AD1E-44FD-BB74-33A87E0EC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 type="ftr" idx="9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 type="dt" idx="9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 type="sldNum" idx="10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4ACE-6A28-4CAF-AA88-42621C862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 type="ftr" idx="10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10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sldNum" idx="10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2432-E6AA-4D20-8323-0A2AE2EC6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ftr" idx="10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 type="dt" idx="10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 type="sldNum" idx="10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1A7F-61B7-47BF-8AE5-0724D75B6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5"/>
          <p:cNvSpPr>
            <a:spLocks noGrp="1"/>
          </p:cNvSpPr>
          <p:nvPr>
            <p:ph type="ftr" idx="10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 type="dt" idx="10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 type="ftr" idx="10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 type="sldNum" idx="11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CD91-7E6D-42DB-8905-74EE8A9A72C1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 type="dt" idx="1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 type="ftr" idx="1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5"/>
          <p:cNvSpPr>
            <a:spLocks noGrp="1"/>
          </p:cNvSpPr>
          <p:nvPr>
            <p:ph type="sldNum" idx="1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7A79-3893-4295-980A-50F74DA89A26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d84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b3d84"/>
              </a:solidFill>
              <a:latin typeface="Bookman Old Sty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989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989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b3d84"/>
                </a:solidFill>
                <a:latin typeface="Gill Sans MT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F0F8-1424-4DC1-AA3B-5128E650CE22}" type="datetime">
              <a:rPr b="0" lang="en-US" sz="1400" spc="-1" strike="noStrike">
                <a:solidFill>
                  <a:srgbClr val="3b3d84"/>
                </a:solidFill>
                <a:latin typeface="Gill Sans MT"/>
                <a:ea typeface="ＭＳ Ｐゴシック"/>
              </a:rPr>
              <a:t>07/30/26</a:t>
            </a:fld>
            <a:r>
              <a:rPr b="0" lang="en-US" sz="1400" spc="-1" strike="noStrike">
                <a:solidFill>
                  <a:srgbClr val="3b3d84"/>
                </a:solidFill>
                <a:latin typeface="Gill Sans MT"/>
                <a:ea typeface="ＭＳ Ｐゴシック"/>
              </a:rPr>
              <a:t>September 18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b3d84"/>
                </a:solidFill>
                <a:latin typeface="Gill Sans MT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3d84"/>
                </a:solidFill>
                <a:latin typeface="Gill Sans MT"/>
                <a:ea typeface="ＭＳ Ｐゴシック"/>
              </a:rPr>
              <a:t>The University of Texas at Aus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b3d84"/>
                </a:solidFill>
                <a:latin typeface="Gill Sans MT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2AFC-7C69-4003-8F04-95D8F5C8EB33}" type="slidenum">
              <a:rPr b="0" lang="en-US" sz="1400" spc="-1" strike="noStrike">
                <a:solidFill>
                  <a:srgbClr val="3b3d84"/>
                </a:solidFill>
                <a:latin typeface="Gill Sans MT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989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7989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98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 type="dt" idx="11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 type="ftr" idx="1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 type="sldNum" idx="11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B616-B712-47B6-B55A-88BB3FEEEAAE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dt" idx="11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 type="ftr" idx="1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5"/>
          <p:cNvSpPr>
            <a:spLocks noGrp="1"/>
          </p:cNvSpPr>
          <p:nvPr>
            <p:ph type="sldNum" idx="11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CBA3-BAD8-4C39-B0ED-766D0285F8A8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 type="dt" idx="12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4"/>
          <p:cNvSpPr>
            <a:spLocks noGrp="1"/>
          </p:cNvSpPr>
          <p:nvPr>
            <p:ph type="ftr" idx="1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PlaceHolder 5"/>
          <p:cNvSpPr>
            <a:spLocks noGrp="1"/>
          </p:cNvSpPr>
          <p:nvPr>
            <p:ph type="sldNum" idx="12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32A5-2D10-4430-B1A5-EBE64BFA34ED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 type="dt" idx="1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 type="ftr" idx="1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PlaceHolder 5"/>
          <p:cNvSpPr>
            <a:spLocks noGrp="1"/>
          </p:cNvSpPr>
          <p:nvPr>
            <p:ph type="sldNum" idx="1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B96C-DD6A-44F8-BBD4-1B4228B9E65F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1810" name="PlaceHolder 3"/>
          <p:cNvSpPr>
            <a:spLocks noGrp="1"/>
          </p:cNvSpPr>
          <p:nvPr>
            <p:ph type="dt" idx="12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PlaceHolder 4"/>
          <p:cNvSpPr>
            <a:spLocks noGrp="1"/>
          </p:cNvSpPr>
          <p:nvPr>
            <p:ph type="ftr" idx="1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5"/>
          <p:cNvSpPr>
            <a:spLocks noGrp="1"/>
          </p:cNvSpPr>
          <p:nvPr>
            <p:ph type="sldNum" idx="12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4B0A-DC2A-4D84-BACD-72D20906E8E6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 type="dt" idx="12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 type="ftr" idx="1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PlaceHolder 5"/>
          <p:cNvSpPr>
            <a:spLocks noGrp="1"/>
          </p:cNvSpPr>
          <p:nvPr>
            <p:ph type="sldNum" idx="13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E988-DF21-48B6-ADFC-FF5B58D31801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 type="dt" idx="13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PlaceHolder 4"/>
          <p:cNvSpPr>
            <a:spLocks noGrp="1"/>
          </p:cNvSpPr>
          <p:nvPr>
            <p:ph type="ftr" idx="1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PlaceHolder 5"/>
          <p:cNvSpPr>
            <a:spLocks noGrp="1"/>
          </p:cNvSpPr>
          <p:nvPr>
            <p:ph type="sldNum" idx="13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8F25-4052-40B1-B19C-161BA0C9CC2E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 type="dt" idx="13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 type="ftr" idx="1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PlaceHolder 5"/>
          <p:cNvSpPr>
            <a:spLocks noGrp="1"/>
          </p:cNvSpPr>
          <p:nvPr>
            <p:ph type="sldNum" idx="13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6C19-F7E6-421A-8FAC-C24FBB7A9EAC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 type="dt" idx="13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 type="ftr" idx="1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PlaceHolder 5"/>
          <p:cNvSpPr>
            <a:spLocks noGrp="1"/>
          </p:cNvSpPr>
          <p:nvPr>
            <p:ph type="sldNum" idx="14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3610-5EC7-4CC8-8AE7-D23826ABB299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PlaceHolder 3"/>
          <p:cNvSpPr>
            <a:spLocks noGrp="1"/>
          </p:cNvSpPr>
          <p:nvPr>
            <p:ph type="dt" idx="14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PlaceHolder 4"/>
          <p:cNvSpPr>
            <a:spLocks noGrp="1"/>
          </p:cNvSpPr>
          <p:nvPr>
            <p:ph type="sldNum" idx="14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1C3E-E20D-4D98-91D2-A331B4C99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5"/>
          <p:cNvSpPr>
            <a:spLocks noGrp="1"/>
          </p:cNvSpPr>
          <p:nvPr>
            <p:ph type="ftr" idx="14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14F2-182F-4C2F-B608-D28FB4581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 type="dt" idx="14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PlaceHolder 4"/>
          <p:cNvSpPr>
            <a:spLocks noGrp="1"/>
          </p:cNvSpPr>
          <p:nvPr>
            <p:ph type="sldNum" idx="14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9212-A439-4965-B477-DB13C7AFB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PlaceHolder 5"/>
          <p:cNvSpPr>
            <a:spLocks noGrp="1"/>
          </p:cNvSpPr>
          <p:nvPr>
            <p:ph type="ftr" idx="14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 type="dt" idx="14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PlaceHolder 4"/>
          <p:cNvSpPr>
            <a:spLocks noGrp="1"/>
          </p:cNvSpPr>
          <p:nvPr>
            <p:ph type="sldNum" idx="14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403F-0F5E-47EA-821D-2257A081A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PlaceHolder 5"/>
          <p:cNvSpPr>
            <a:spLocks noGrp="1"/>
          </p:cNvSpPr>
          <p:nvPr>
            <p:ph type="ftr" idx="14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 type="dt" idx="15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 type="sldNum" idx="15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07A5-F591-424B-B645-75D6B419F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PlaceHolder 5"/>
          <p:cNvSpPr>
            <a:spLocks noGrp="1"/>
          </p:cNvSpPr>
          <p:nvPr>
            <p:ph type="ftr" idx="15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 type="dt" idx="15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PlaceHolder 4"/>
          <p:cNvSpPr>
            <a:spLocks noGrp="1"/>
          </p:cNvSpPr>
          <p:nvPr>
            <p:ph type="sldNum" idx="15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1D68-F796-4ECE-9B90-A6ABD1BC9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PlaceHolder 5"/>
          <p:cNvSpPr>
            <a:spLocks noGrp="1"/>
          </p:cNvSpPr>
          <p:nvPr>
            <p:ph type="ftr" idx="15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PlaceHolder 3"/>
          <p:cNvSpPr>
            <a:spLocks noGrp="1"/>
          </p:cNvSpPr>
          <p:nvPr>
            <p:ph type="dt" idx="15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PlaceHolder 4"/>
          <p:cNvSpPr>
            <a:spLocks noGrp="1"/>
          </p:cNvSpPr>
          <p:nvPr>
            <p:ph type="sldNum" idx="15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8525-095C-463D-B31B-ABCA0B279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PlaceHolder 5"/>
          <p:cNvSpPr>
            <a:spLocks noGrp="1"/>
          </p:cNvSpPr>
          <p:nvPr>
            <p:ph type="ftr" idx="15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 type="dt" idx="15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PlaceHolder 4"/>
          <p:cNvSpPr>
            <a:spLocks noGrp="1"/>
          </p:cNvSpPr>
          <p:nvPr>
            <p:ph type="sldNum" idx="16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83CC-FFB6-4261-97C1-8461DD234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PlaceHolder 5"/>
          <p:cNvSpPr>
            <a:spLocks noGrp="1"/>
          </p:cNvSpPr>
          <p:nvPr>
            <p:ph type="ftr" idx="16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 type="dt" idx="16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PlaceHolder 4"/>
          <p:cNvSpPr>
            <a:spLocks noGrp="1"/>
          </p:cNvSpPr>
          <p:nvPr>
            <p:ph type="sldNum" idx="16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410A-7A13-44E9-B833-42462AB31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PlaceHolder 5"/>
          <p:cNvSpPr>
            <a:spLocks noGrp="1"/>
          </p:cNvSpPr>
          <p:nvPr>
            <p:ph type="ftr" idx="16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 type="dt" idx="16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PlaceHolder 4"/>
          <p:cNvSpPr>
            <a:spLocks noGrp="1"/>
          </p:cNvSpPr>
          <p:nvPr>
            <p:ph type="sldNum" idx="16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DA37-5458-4F85-8E21-6B91B22A9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PlaceHolder 5"/>
          <p:cNvSpPr>
            <a:spLocks noGrp="1"/>
          </p:cNvSpPr>
          <p:nvPr>
            <p:ph type="ftr" idx="16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 type="dt" idx="16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 type="sldNum" idx="16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B5F6-C474-4D6C-AB71-415266688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PlaceHolder 5"/>
          <p:cNvSpPr>
            <a:spLocks noGrp="1"/>
          </p:cNvSpPr>
          <p:nvPr>
            <p:ph type="ftr" idx="17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35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PlaceHolder 3"/>
          <p:cNvSpPr>
            <a:spLocks noGrp="1"/>
          </p:cNvSpPr>
          <p:nvPr>
            <p:ph type="dt" idx="17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PlaceHolder 4"/>
          <p:cNvSpPr>
            <a:spLocks noGrp="1"/>
          </p:cNvSpPr>
          <p:nvPr>
            <p:ph type="sldNum" idx="17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84E3-6F8C-4924-A15A-398715D6D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PlaceHolder 5"/>
          <p:cNvSpPr>
            <a:spLocks noGrp="1"/>
          </p:cNvSpPr>
          <p:nvPr>
            <p:ph type="ftr" idx="17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CE82-7C60-4744-A83C-66004113E38B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 type="dt" idx="17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 type="ftr" idx="17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PlaceHolder 5"/>
          <p:cNvSpPr>
            <a:spLocks noGrp="1"/>
          </p:cNvSpPr>
          <p:nvPr>
            <p:ph type="sldNum" idx="17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A9DD-22B4-4AF6-80F9-C91AA4F0CBD8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2518" name="PlaceHolder 3"/>
          <p:cNvSpPr>
            <a:spLocks noGrp="1"/>
          </p:cNvSpPr>
          <p:nvPr>
            <p:ph type="dt" idx="17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PlaceHolder 4"/>
          <p:cNvSpPr>
            <a:spLocks noGrp="1"/>
          </p:cNvSpPr>
          <p:nvPr>
            <p:ph type="ftr" idx="17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PlaceHolder 5"/>
          <p:cNvSpPr>
            <a:spLocks noGrp="1"/>
          </p:cNvSpPr>
          <p:nvPr>
            <p:ph type="sldNum" idx="17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34BB-3D87-4D94-BE23-F3C6DA682E28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25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2559" name="PlaceHolder 3"/>
          <p:cNvSpPr>
            <a:spLocks noGrp="1"/>
          </p:cNvSpPr>
          <p:nvPr>
            <p:ph type="dt" idx="18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PlaceHolder 4"/>
          <p:cNvSpPr>
            <a:spLocks noGrp="1"/>
          </p:cNvSpPr>
          <p:nvPr>
            <p:ph type="ftr" idx="18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PlaceHolder 5"/>
          <p:cNvSpPr>
            <a:spLocks noGrp="1"/>
          </p:cNvSpPr>
          <p:nvPr>
            <p:ph type="sldNum" idx="18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BF5D-360D-4BBD-B8C4-22BC57E6043B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 type="dt" idx="18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 type="ftr" idx="18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PlaceHolder 5"/>
          <p:cNvSpPr>
            <a:spLocks noGrp="1"/>
          </p:cNvSpPr>
          <p:nvPr>
            <p:ph type="sldNum" idx="18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1BB0-02B1-4373-8636-E8E0B89A578F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2641" name="PlaceHolder 3"/>
          <p:cNvSpPr>
            <a:spLocks noGrp="1"/>
          </p:cNvSpPr>
          <p:nvPr>
            <p:ph type="dt" idx="18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PlaceHolder 4"/>
          <p:cNvSpPr>
            <a:spLocks noGrp="1"/>
          </p:cNvSpPr>
          <p:nvPr>
            <p:ph type="ftr" idx="18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PlaceHolder 5"/>
          <p:cNvSpPr>
            <a:spLocks noGrp="1"/>
          </p:cNvSpPr>
          <p:nvPr>
            <p:ph type="sldNum" idx="18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1128-17E1-45C5-8E1E-50670D723983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26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2682" name="PlaceHolder 3"/>
          <p:cNvSpPr>
            <a:spLocks noGrp="1"/>
          </p:cNvSpPr>
          <p:nvPr>
            <p:ph type="dt" idx="18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PlaceHolder 4"/>
          <p:cNvSpPr>
            <a:spLocks noGrp="1"/>
          </p:cNvSpPr>
          <p:nvPr>
            <p:ph type="ftr" idx="19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PlaceHolder 5"/>
          <p:cNvSpPr>
            <a:spLocks noGrp="1"/>
          </p:cNvSpPr>
          <p:nvPr>
            <p:ph type="sldNum" idx="19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8FF8-2F27-4A2B-A0BF-330D34A3A3EA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27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2723" name="PlaceHolder 3"/>
          <p:cNvSpPr>
            <a:spLocks noGrp="1"/>
          </p:cNvSpPr>
          <p:nvPr>
            <p:ph type="dt" idx="19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PlaceHolder 4"/>
          <p:cNvSpPr>
            <a:spLocks noGrp="1"/>
          </p:cNvSpPr>
          <p:nvPr>
            <p:ph type="ftr" idx="19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PlaceHolder 5"/>
          <p:cNvSpPr>
            <a:spLocks noGrp="1"/>
          </p:cNvSpPr>
          <p:nvPr>
            <p:ph type="sldNum" idx="19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F902-B23B-40BB-85CE-48365E33228A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2764" name="PlaceHolder 3"/>
          <p:cNvSpPr>
            <a:spLocks noGrp="1"/>
          </p:cNvSpPr>
          <p:nvPr>
            <p:ph type="dt" idx="19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PlaceHolder 4"/>
          <p:cNvSpPr>
            <a:spLocks noGrp="1"/>
          </p:cNvSpPr>
          <p:nvPr>
            <p:ph type="ftr" idx="19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PlaceHolder 5"/>
          <p:cNvSpPr>
            <a:spLocks noGrp="1"/>
          </p:cNvSpPr>
          <p:nvPr>
            <p:ph type="sldNum" idx="19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63CE-D6CF-4EEF-B866-F1BC2153311E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2805" name="PlaceHolder 3"/>
          <p:cNvSpPr>
            <a:spLocks noGrp="1"/>
          </p:cNvSpPr>
          <p:nvPr>
            <p:ph type="dt" idx="19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PlaceHolder 4"/>
          <p:cNvSpPr>
            <a:spLocks noGrp="1"/>
          </p:cNvSpPr>
          <p:nvPr>
            <p:ph type="ftr" idx="19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PlaceHolder 5"/>
          <p:cNvSpPr>
            <a:spLocks noGrp="1"/>
          </p:cNvSpPr>
          <p:nvPr>
            <p:ph type="sldNum" idx="20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D4B2-2B3D-41DE-97C9-5CD5DD9B0DED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28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2846" name="PlaceHolder 3"/>
          <p:cNvSpPr>
            <a:spLocks noGrp="1"/>
          </p:cNvSpPr>
          <p:nvPr>
            <p:ph type="dt" idx="20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PlaceHolder 4"/>
          <p:cNvSpPr>
            <a:spLocks noGrp="1"/>
          </p:cNvSpPr>
          <p:nvPr>
            <p:ph type="ftr" idx="20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PlaceHolder 5"/>
          <p:cNvSpPr>
            <a:spLocks noGrp="1"/>
          </p:cNvSpPr>
          <p:nvPr>
            <p:ph type="sldNum" idx="20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D2A7-CEB1-47F6-BFE4-29D387A27E66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sldNum" idx="1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39D0-F32F-4EDD-B589-E9D9F793D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1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28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2887" name="PlaceHolder 3"/>
          <p:cNvSpPr>
            <a:spLocks noGrp="1"/>
          </p:cNvSpPr>
          <p:nvPr>
            <p:ph type="dt" idx="20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PlaceHolder 4"/>
          <p:cNvSpPr>
            <a:spLocks noGrp="1"/>
          </p:cNvSpPr>
          <p:nvPr>
            <p:ph type="ftr" idx="20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PlaceHolder 5"/>
          <p:cNvSpPr>
            <a:spLocks noGrp="1"/>
          </p:cNvSpPr>
          <p:nvPr>
            <p:ph type="sldNum" idx="20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58BF-5E20-4787-B70F-9200729E95AC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D380-6C54-4AD7-9DE5-658D94BA8B99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A1AC-AB02-418E-9166-722A071395ED}" type="datetime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20EE-F636-4AD6-9FB1-D194C33F41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8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israelimages.com/" TargetMode="External"/><Relationship Id="rId2" Type="http://schemas.openxmlformats.org/officeDocument/2006/relationships/slideLayout" Target="../slideLayouts/slideLayout12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25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9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457.xml"/><Relationship Id="rId6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7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9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8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9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589.xml"/><Relationship Id="rId6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9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9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589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9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raphics.cs.cmu.edu/projects/objewa/images/wasp.jpg&amp;imgrefurl=http://graphics.cs.cmu.edu/projects/objewa/&amp;h=512&amp;w=512&amp;sz=75&amp;tbnid=IURvayonOqIJ:&amp;tbnh=128&amp;tbnw=128&amp;hl=en&amp;start=63&amp;prev=/images%3Fq%3Dwasp%26start%3D60%26svnum%3D10%26hl%3Den%26lr%3D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8E16-EB8A-459D-8DEE-F2BA8EB4E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Using Perception to Supervise Language Learning and </a:t>
            </a:r>
            <a:br>
              <a:rPr sz="4000"/>
            </a:b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Language to Supervise Perception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35" name="PlaceHolder 2"/>
          <p:cNvSpPr>
            <a:spLocks noGrp="1"/>
          </p:cNvSpPr>
          <p:nvPr>
            <p:ph type="subTitle"/>
          </p:nvPr>
        </p:nvSpPr>
        <p:spPr>
          <a:xfrm>
            <a:off x="129528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y Moo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Department of Computer Sci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University of Texas at Aus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Rectangle 5"/>
          <p:cNvSpPr/>
          <p:nvPr/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Joint work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vid Chen, Sonal Gupt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ohyun Kim, Rohit Kate, Kristen Grau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RISP</a:t>
            </a:r>
            <a:br>
              <a:rPr sz="3600"/>
            </a:b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A String Kernel/SVM Approach to Semantic Parsing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Productions in the formal grammar defining the MR are treated like semantic concep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An SVM classifier is trained for each production using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string subsequence kern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  <a:ea typeface="SimSun"/>
              </a:rPr>
              <a:t>(Lodhi et al.,200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to recognize phrases that refer to this conce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set of string classifiers is used with a version of Early’s CFG parser to compositionally build the most probable MR for a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0" name="Picture 4" descr="200crisp"/>
          <p:cNvPicPr/>
          <p:nvPr/>
        </p:nvPicPr>
        <p:blipFill>
          <a:blip r:embed="rId1"/>
          <a:stretch/>
        </p:blipFill>
        <p:spPr>
          <a:xfrm>
            <a:off x="168120" y="46080"/>
            <a:ext cx="72072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A9F5-31E7-42AE-A55A-909FE1A06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Language from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ceptual Contex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ren do not learn language from annotated corp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ither do they learn language from just reading the newspaper, surfing the web, or listening to the rad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nsupervised language learn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ARPA Learning by Reading Progra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tural way to learn language is to perceive language in the context of its use in the physical and social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requires inferring the meaning of utterances from their perceptual cont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mbiguous Supervision for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Semantic Parser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 system simultaneously exposed to perceptual contexts and natural language utterances should be able to learn the underlying language semant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nsider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mbiguou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data of sentences associated with multiple potential M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iskind (1996) uses this type “referentially uncertain” training data to learn meanings of word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cting meaning representations from perceptual data is a difficult unsolved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ur system directly works with symbolic MR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7962-B694-478C-8145-A12977DB8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ractable Challenge Problem: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to Be a Sportscast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Learn from realistic data of natural language used in a representative context while avoiding difficult issues in computer perception (i.e. speech and vis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Learn from textually annotated traces of activity in a simulated enviro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races of games in the Robocup simulator paired with textual sportscaster comment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B858-F89D-4956-9237-5B9EC7BE1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ounded Language Learning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 Robocup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3021" name="Picture 4" descr="soccer1"/>
          <p:cNvPicPr/>
          <p:nvPr/>
        </p:nvPicPr>
        <p:blipFill>
          <a:blip r:embed="rId1"/>
          <a:stretch/>
        </p:blipFill>
        <p:spPr>
          <a:xfrm>
            <a:off x="914400" y="1981080"/>
            <a:ext cx="2457360" cy="1832040"/>
          </a:xfrm>
          <a:prstGeom prst="rect">
            <a:avLst/>
          </a:prstGeom>
          <a:ln w="0">
            <a:noFill/>
          </a:ln>
        </p:spPr>
      </p:pic>
      <p:sp>
        <p:nvSpPr>
          <p:cNvPr id="3022" name="Text Box 5"/>
          <p:cNvSpPr/>
          <p:nvPr/>
        </p:nvSpPr>
        <p:spPr>
          <a:xfrm>
            <a:off x="914760" y="1523880"/>
            <a:ext cx="231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Robocup Simu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3" name="Picture 9" descr=""/>
          <p:cNvPicPr/>
          <p:nvPr/>
        </p:nvPicPr>
        <p:blipFill>
          <a:blip r:embed="rId2"/>
          <a:stretch/>
        </p:blipFill>
        <p:spPr>
          <a:xfrm>
            <a:off x="1371600" y="4724280"/>
            <a:ext cx="1260360" cy="1447920"/>
          </a:xfrm>
          <a:prstGeom prst="rect">
            <a:avLst/>
          </a:prstGeom>
          <a:ln w="0">
            <a:noFill/>
          </a:ln>
        </p:spPr>
      </p:pic>
      <p:sp>
        <p:nvSpPr>
          <p:cNvPr id="3024" name="Text Box 10"/>
          <p:cNvSpPr/>
          <p:nvPr/>
        </p:nvSpPr>
        <p:spPr>
          <a:xfrm>
            <a:off x="1266840" y="42958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Sportsc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5" name="Group 46"/>
          <p:cNvGrpSpPr/>
          <p:nvPr/>
        </p:nvGrpSpPr>
        <p:grpSpPr>
          <a:xfrm>
            <a:off x="3352680" y="2514600"/>
            <a:ext cx="2895840" cy="914400"/>
            <a:chOff x="3352680" y="2514600"/>
            <a:chExt cx="2895840" cy="914400"/>
          </a:xfrm>
        </p:grpSpPr>
        <p:grpSp>
          <p:nvGrpSpPr>
            <p:cNvPr id="3026" name="Group 12"/>
            <p:cNvGrpSpPr/>
            <p:nvPr/>
          </p:nvGrpSpPr>
          <p:grpSpPr>
            <a:xfrm>
              <a:off x="4267080" y="2514600"/>
              <a:ext cx="1981440" cy="914400"/>
              <a:chOff x="4267080" y="2514600"/>
              <a:chExt cx="1981440" cy="914400"/>
            </a:xfrm>
          </p:grpSpPr>
          <p:sp>
            <p:nvSpPr>
              <p:cNvPr id="3027" name="Rectangle 6"/>
              <p:cNvSpPr/>
              <p:nvPr/>
            </p:nvSpPr>
            <p:spPr>
              <a:xfrm>
                <a:off x="4267080" y="2514600"/>
                <a:ext cx="1981440" cy="91440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Text Box 8"/>
              <p:cNvSpPr/>
              <p:nvPr/>
            </p:nvSpPr>
            <p:spPr>
              <a:xfrm>
                <a:off x="4664880" y="2614680"/>
                <a:ext cx="123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imulated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ercep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9" name="Line 25"/>
            <p:cNvSpPr/>
            <p:nvPr/>
          </p:nvSpPr>
          <p:spPr>
            <a:xfrm>
              <a:off x="3352680" y="2895480"/>
              <a:ext cx="914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0" name="Group 47"/>
          <p:cNvGrpSpPr/>
          <p:nvPr/>
        </p:nvGrpSpPr>
        <p:grpSpPr>
          <a:xfrm>
            <a:off x="6248520" y="2514600"/>
            <a:ext cx="2590560" cy="761760"/>
            <a:chOff x="6248520" y="2514600"/>
            <a:chExt cx="2590560" cy="761760"/>
          </a:xfrm>
        </p:grpSpPr>
        <p:grpSp>
          <p:nvGrpSpPr>
            <p:cNvPr id="3031" name="Group 27"/>
            <p:cNvGrpSpPr/>
            <p:nvPr/>
          </p:nvGrpSpPr>
          <p:grpSpPr>
            <a:xfrm>
              <a:off x="6934320" y="2514600"/>
              <a:ext cx="1904760" cy="761760"/>
              <a:chOff x="6934320" y="2514600"/>
              <a:chExt cx="1904760" cy="761760"/>
            </a:xfrm>
          </p:grpSpPr>
          <p:sp>
            <p:nvSpPr>
              <p:cNvPr id="3032" name="Oval 23"/>
              <p:cNvSpPr/>
              <p:nvPr/>
            </p:nvSpPr>
            <p:spPr>
              <a:xfrm>
                <a:off x="6934320" y="2514600"/>
                <a:ext cx="1904760" cy="761760"/>
              </a:xfrm>
              <a:prstGeom prst="ellipse">
                <a:avLst/>
              </a:prstGeom>
              <a:solidFill>
                <a:srgbClr val="ff505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Text Box 24"/>
              <p:cNvSpPr/>
              <p:nvPr/>
            </p:nvSpPr>
            <p:spPr>
              <a:xfrm>
                <a:off x="7084800" y="2666880"/>
                <a:ext cx="1715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erceived Fac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4" name="Line 26"/>
            <p:cNvSpPr/>
            <p:nvPr/>
          </p:nvSpPr>
          <p:spPr>
            <a:xfrm>
              <a:off x="6248520" y="289548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5" name="AutoShape 11"/>
          <p:cNvSpPr/>
          <p:nvPr/>
        </p:nvSpPr>
        <p:spPr>
          <a:xfrm>
            <a:off x="2590920" y="4648320"/>
            <a:ext cx="1523880" cy="457200"/>
          </a:xfrm>
          <a:prstGeom prst="wedgeEllipseCallout">
            <a:avLst>
              <a:gd name="adj1" fmla="val -89064"/>
              <a:gd name="adj2" fmla="val 8506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ore!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6" name="Group 50"/>
          <p:cNvGrpSpPr/>
          <p:nvPr/>
        </p:nvGrpSpPr>
        <p:grpSpPr>
          <a:xfrm>
            <a:off x="4114800" y="3276720"/>
            <a:ext cx="3733920" cy="2133360"/>
            <a:chOff x="4114800" y="3276720"/>
            <a:chExt cx="3733920" cy="2133360"/>
          </a:xfrm>
        </p:grpSpPr>
        <p:grpSp>
          <p:nvGrpSpPr>
            <p:cNvPr id="3037" name="Group 31"/>
            <p:cNvGrpSpPr/>
            <p:nvPr/>
          </p:nvGrpSpPr>
          <p:grpSpPr>
            <a:xfrm>
              <a:off x="4647240" y="4495680"/>
              <a:ext cx="2062800" cy="914400"/>
              <a:chOff x="4647240" y="4495680"/>
              <a:chExt cx="2062800" cy="914400"/>
            </a:xfrm>
          </p:grpSpPr>
          <p:sp>
            <p:nvSpPr>
              <p:cNvPr id="3038" name="Rectangle 20"/>
              <p:cNvSpPr/>
              <p:nvPr/>
            </p:nvSpPr>
            <p:spPr>
              <a:xfrm>
                <a:off x="4724280" y="4495680"/>
                <a:ext cx="1980720" cy="91440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Text Box 21"/>
              <p:cNvSpPr/>
              <p:nvPr/>
            </p:nvSpPr>
            <p:spPr>
              <a:xfrm>
                <a:off x="4647240" y="4572000"/>
                <a:ext cx="206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round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Language Learn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0" name="Line 28"/>
            <p:cNvSpPr/>
            <p:nvPr/>
          </p:nvSpPr>
          <p:spPr>
            <a:xfrm flipH="1">
              <a:off x="6019920" y="3276720"/>
              <a:ext cx="1828800" cy="1218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Line 30"/>
            <p:cNvSpPr/>
            <p:nvPr/>
          </p:nvSpPr>
          <p:spPr>
            <a:xfrm>
              <a:off x="4114800" y="487692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2" name="Group 51"/>
          <p:cNvGrpSpPr/>
          <p:nvPr/>
        </p:nvGrpSpPr>
        <p:grpSpPr>
          <a:xfrm>
            <a:off x="5187600" y="4653720"/>
            <a:ext cx="3408120" cy="1938240"/>
            <a:chOff x="5187600" y="4653720"/>
            <a:chExt cx="3408120" cy="1938240"/>
          </a:xfrm>
        </p:grpSpPr>
        <p:sp>
          <p:nvSpPr>
            <p:cNvPr id="3043" name="Rectangle 32"/>
            <p:cNvSpPr/>
            <p:nvPr/>
          </p:nvSpPr>
          <p:spPr>
            <a:xfrm>
              <a:off x="7396920" y="4653720"/>
              <a:ext cx="1198800" cy="6426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ngu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en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Rectangle 33"/>
            <p:cNvSpPr/>
            <p:nvPr/>
          </p:nvSpPr>
          <p:spPr>
            <a:xfrm>
              <a:off x="5187600" y="5949360"/>
              <a:ext cx="1082880" cy="6426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mant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Line 34"/>
            <p:cNvSpPr/>
            <p:nvPr/>
          </p:nvSpPr>
          <p:spPr>
            <a:xfrm>
              <a:off x="5638680" y="541008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Line 35"/>
            <p:cNvSpPr/>
            <p:nvPr/>
          </p:nvSpPr>
          <p:spPr>
            <a:xfrm>
              <a:off x="6705720" y="495288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Line 40"/>
            <p:cNvSpPr/>
            <p:nvPr/>
          </p:nvSpPr>
          <p:spPr>
            <a:xfrm>
              <a:off x="6705720" y="541008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Line 42"/>
            <p:cNvSpPr/>
            <p:nvPr/>
          </p:nvSpPr>
          <p:spPr>
            <a:xfrm flipV="1">
              <a:off x="7257960" y="5291280"/>
              <a:ext cx="424080" cy="40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Line 43"/>
            <p:cNvSpPr/>
            <p:nvPr/>
          </p:nvSpPr>
          <p:spPr>
            <a:xfrm flipH="1">
              <a:off x="6276960" y="6005520"/>
              <a:ext cx="409680" cy="243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Oval 37"/>
            <p:cNvSpPr/>
            <p:nvPr/>
          </p:nvSpPr>
          <p:spPr>
            <a:xfrm>
              <a:off x="6553080" y="5639400"/>
              <a:ext cx="1143000" cy="477000"/>
            </a:xfrm>
            <a:prstGeom prst="ellipse">
              <a:avLst/>
            </a:prstGeom>
            <a:solidFill>
              <a:srgbClr val="ff5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CF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1" name="Line 44"/>
          <p:cNvSpPr/>
          <p:nvPr/>
        </p:nvSpPr>
        <p:spPr>
          <a:xfrm>
            <a:off x="7924680" y="327672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AutoShape 45"/>
          <p:cNvSpPr/>
          <p:nvPr/>
        </p:nvSpPr>
        <p:spPr>
          <a:xfrm>
            <a:off x="7772400" y="5715000"/>
            <a:ext cx="1371600" cy="380880"/>
          </a:xfrm>
          <a:prstGeom prst="wedgeEllipseCallout">
            <a:avLst>
              <a:gd name="adj1" fmla="val -26736"/>
              <a:gd name="adj2" fmla="val -1616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ore!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PMingLiU"/>
              </a:rPr>
              <a:t>Robocup Sportscaster Trac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54" name="Text Box 5"/>
          <p:cNvSpPr/>
          <p:nvPr/>
        </p:nvSpPr>
        <p:spPr>
          <a:xfrm>
            <a:off x="684360" y="1700280"/>
            <a:ext cx="39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Natural Language Commen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Text Box 6"/>
          <p:cNvSpPr/>
          <p:nvPr/>
        </p:nvSpPr>
        <p:spPr>
          <a:xfrm>
            <a:off x="5334120" y="1700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Meaning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Line 5"/>
          <p:cNvSpPr/>
          <p:nvPr/>
        </p:nvSpPr>
        <p:spPr>
          <a:xfrm>
            <a:off x="533520" y="160020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Rectangle 3"/>
          <p:cNvSpPr/>
          <p:nvPr/>
        </p:nvSpPr>
        <p:spPr>
          <a:xfrm>
            <a:off x="685800" y="2666880"/>
            <a:ext cx="4267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goalie turns the ball over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Rectangle 4"/>
          <p:cNvSpPr/>
          <p:nvPr/>
        </p:nvSpPr>
        <p:spPr>
          <a:xfrm>
            <a:off x="5638680" y="21337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dPass ( Purple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Rectangle 3"/>
          <p:cNvSpPr/>
          <p:nvPr/>
        </p:nvSpPr>
        <p:spPr>
          <a:xfrm>
            <a:off x="685800" y="42670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looks around for a team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Rectangle 3"/>
          <p:cNvSpPr/>
          <p:nvPr/>
        </p:nvSpPr>
        <p:spPr>
          <a:xfrm>
            <a:off x="685800" y="35812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the ball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Rectangle 3"/>
          <p:cNvSpPr/>
          <p:nvPr/>
        </p:nvSpPr>
        <p:spPr>
          <a:xfrm>
            <a:off x="685800" y="32767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team is very sloppy 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Rectangle 3"/>
          <p:cNvSpPr/>
          <p:nvPr/>
        </p:nvSpPr>
        <p:spPr>
          <a:xfrm>
            <a:off x="685800" y="51055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makes a long pass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Rectangle 3"/>
          <p:cNvSpPr/>
          <p:nvPr/>
        </p:nvSpPr>
        <p:spPr>
          <a:xfrm>
            <a:off x="685800" y="594360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back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Rectangle 4"/>
          <p:cNvSpPr/>
          <p:nvPr/>
        </p:nvSpPr>
        <p:spPr>
          <a:xfrm>
            <a:off x="5638680" y="24382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turnover ( Purple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Rectangle 4"/>
          <p:cNvSpPr/>
          <p:nvPr/>
        </p:nvSpPr>
        <p:spPr>
          <a:xfrm>
            <a:off x="5638680" y="52578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1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Rectangle 4"/>
          <p:cNvSpPr/>
          <p:nvPr/>
        </p:nvSpPr>
        <p:spPr>
          <a:xfrm>
            <a:off x="5638680" y="5715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Rectangle 4"/>
          <p:cNvSpPr/>
          <p:nvPr/>
        </p:nvSpPr>
        <p:spPr>
          <a:xfrm>
            <a:off x="5638680" y="4572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llstop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Rectangle 4"/>
          <p:cNvSpPr/>
          <p:nvPr/>
        </p:nvSpPr>
        <p:spPr>
          <a:xfrm>
            <a:off x="5638680" y="30481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Rectangle 4"/>
          <p:cNvSpPr/>
          <p:nvPr/>
        </p:nvSpPr>
        <p:spPr>
          <a:xfrm>
            <a:off x="5638680" y="42670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Rectangle 4"/>
          <p:cNvSpPr/>
          <p:nvPr/>
        </p:nvSpPr>
        <p:spPr>
          <a:xfrm>
            <a:off x="5638680" y="27432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Rectangle 4"/>
          <p:cNvSpPr/>
          <p:nvPr/>
        </p:nvSpPr>
        <p:spPr>
          <a:xfrm>
            <a:off x="5638680" y="33526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Rectangle 4"/>
          <p:cNvSpPr/>
          <p:nvPr/>
        </p:nvSpPr>
        <p:spPr>
          <a:xfrm>
            <a:off x="5638680" y="49528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Rectangle 4"/>
          <p:cNvSpPr/>
          <p:nvPr/>
        </p:nvSpPr>
        <p:spPr>
          <a:xfrm>
            <a:off x="5638680" y="54864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PMingLiU"/>
              </a:rPr>
              <a:t>Robocup Sportscaster Trac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75" name="Text Box 5"/>
          <p:cNvSpPr/>
          <p:nvPr/>
        </p:nvSpPr>
        <p:spPr>
          <a:xfrm>
            <a:off x="684360" y="1700280"/>
            <a:ext cx="39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Natural Language Commen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Text Box 6"/>
          <p:cNvSpPr/>
          <p:nvPr/>
        </p:nvSpPr>
        <p:spPr>
          <a:xfrm>
            <a:off x="5334120" y="1700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Meaning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Line 7"/>
          <p:cNvSpPr/>
          <p:nvPr/>
        </p:nvSpPr>
        <p:spPr>
          <a:xfrm flipH="1">
            <a:off x="4724280" y="2438280"/>
            <a:ext cx="99072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Line 8"/>
          <p:cNvSpPr/>
          <p:nvPr/>
        </p:nvSpPr>
        <p:spPr>
          <a:xfrm flipH="1">
            <a:off x="4724280" y="2743200"/>
            <a:ext cx="99072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Line 9"/>
          <p:cNvSpPr/>
          <p:nvPr/>
        </p:nvSpPr>
        <p:spPr>
          <a:xfrm flipH="1">
            <a:off x="4114440" y="274320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Line 10"/>
          <p:cNvSpPr/>
          <p:nvPr/>
        </p:nvSpPr>
        <p:spPr>
          <a:xfrm flipH="1">
            <a:off x="4114440" y="3048120"/>
            <a:ext cx="160020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Line 11"/>
          <p:cNvSpPr/>
          <p:nvPr/>
        </p:nvSpPr>
        <p:spPr>
          <a:xfrm flipH="1">
            <a:off x="4114440" y="3352680"/>
            <a:ext cx="152388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Line 12"/>
          <p:cNvSpPr/>
          <p:nvPr/>
        </p:nvSpPr>
        <p:spPr>
          <a:xfrm flipH="1">
            <a:off x="3809880" y="3352680"/>
            <a:ext cx="182880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3" name="Line 13"/>
          <p:cNvSpPr/>
          <p:nvPr/>
        </p:nvSpPr>
        <p:spPr>
          <a:xfrm flipH="1">
            <a:off x="3809880" y="3657600"/>
            <a:ext cx="18288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Line 14"/>
          <p:cNvSpPr/>
          <p:nvPr/>
        </p:nvSpPr>
        <p:spPr>
          <a:xfrm flipH="1">
            <a:off x="4267080" y="4572000"/>
            <a:ext cx="137160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Line 15"/>
          <p:cNvSpPr/>
          <p:nvPr/>
        </p:nvSpPr>
        <p:spPr>
          <a:xfrm flipH="1">
            <a:off x="4267080" y="4876920"/>
            <a:ext cx="137160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Line 16"/>
          <p:cNvSpPr/>
          <p:nvPr/>
        </p:nvSpPr>
        <p:spPr>
          <a:xfrm flipH="1">
            <a:off x="4267080" y="5181480"/>
            <a:ext cx="13716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Line 17"/>
          <p:cNvSpPr/>
          <p:nvPr/>
        </p:nvSpPr>
        <p:spPr>
          <a:xfrm flipH="1">
            <a:off x="3580920" y="5791320"/>
            <a:ext cx="2057400" cy="304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Line 20"/>
          <p:cNvSpPr/>
          <p:nvPr/>
        </p:nvSpPr>
        <p:spPr>
          <a:xfrm flipH="1">
            <a:off x="3580920" y="6019920"/>
            <a:ext cx="2057400" cy="75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Line 5"/>
          <p:cNvSpPr/>
          <p:nvPr/>
        </p:nvSpPr>
        <p:spPr>
          <a:xfrm>
            <a:off x="533520" y="160020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Rectangle 3"/>
          <p:cNvSpPr/>
          <p:nvPr/>
        </p:nvSpPr>
        <p:spPr>
          <a:xfrm>
            <a:off x="685800" y="2666880"/>
            <a:ext cx="4267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goalie turns the ball over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Rectangle 4"/>
          <p:cNvSpPr/>
          <p:nvPr/>
        </p:nvSpPr>
        <p:spPr>
          <a:xfrm>
            <a:off x="5638680" y="21337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dPass ( Purple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Rectangle 3"/>
          <p:cNvSpPr/>
          <p:nvPr/>
        </p:nvSpPr>
        <p:spPr>
          <a:xfrm>
            <a:off x="685800" y="42670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looks around for a team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Rectangle 3"/>
          <p:cNvSpPr/>
          <p:nvPr/>
        </p:nvSpPr>
        <p:spPr>
          <a:xfrm>
            <a:off x="685800" y="35812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the ball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Rectangle 3"/>
          <p:cNvSpPr/>
          <p:nvPr/>
        </p:nvSpPr>
        <p:spPr>
          <a:xfrm>
            <a:off x="685800" y="32767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team is very sloppy 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Rectangle 3"/>
          <p:cNvSpPr/>
          <p:nvPr/>
        </p:nvSpPr>
        <p:spPr>
          <a:xfrm>
            <a:off x="685800" y="51055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makes a long pass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Rectangle 3"/>
          <p:cNvSpPr/>
          <p:nvPr/>
        </p:nvSpPr>
        <p:spPr>
          <a:xfrm>
            <a:off x="685800" y="594360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back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Rectangle 4"/>
          <p:cNvSpPr/>
          <p:nvPr/>
        </p:nvSpPr>
        <p:spPr>
          <a:xfrm>
            <a:off x="5638680" y="24382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turnover ( Purple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Rectangle 4"/>
          <p:cNvSpPr/>
          <p:nvPr/>
        </p:nvSpPr>
        <p:spPr>
          <a:xfrm>
            <a:off x="5638680" y="52578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1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Rectangle 4"/>
          <p:cNvSpPr/>
          <p:nvPr/>
        </p:nvSpPr>
        <p:spPr>
          <a:xfrm>
            <a:off x="5638680" y="5715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Rectangle 4"/>
          <p:cNvSpPr/>
          <p:nvPr/>
        </p:nvSpPr>
        <p:spPr>
          <a:xfrm>
            <a:off x="5638680" y="4572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llstop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Rectangle 4"/>
          <p:cNvSpPr/>
          <p:nvPr/>
        </p:nvSpPr>
        <p:spPr>
          <a:xfrm>
            <a:off x="5638680" y="30481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Rectangle 4"/>
          <p:cNvSpPr/>
          <p:nvPr/>
        </p:nvSpPr>
        <p:spPr>
          <a:xfrm>
            <a:off x="5638680" y="42670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Rectangle 4"/>
          <p:cNvSpPr/>
          <p:nvPr/>
        </p:nvSpPr>
        <p:spPr>
          <a:xfrm>
            <a:off x="5638680" y="27432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Rectangle 4"/>
          <p:cNvSpPr/>
          <p:nvPr/>
        </p:nvSpPr>
        <p:spPr>
          <a:xfrm>
            <a:off x="5638680" y="33526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Rectangle 4"/>
          <p:cNvSpPr/>
          <p:nvPr/>
        </p:nvSpPr>
        <p:spPr>
          <a:xfrm>
            <a:off x="5638680" y="49528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Rectangle 4"/>
          <p:cNvSpPr/>
          <p:nvPr/>
        </p:nvSpPr>
        <p:spPr>
          <a:xfrm>
            <a:off x="5638680" y="54864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Line 12"/>
          <p:cNvSpPr/>
          <p:nvPr/>
        </p:nvSpPr>
        <p:spPr>
          <a:xfrm flipH="1">
            <a:off x="3809880" y="3048120"/>
            <a:ext cx="190512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PMingLiU"/>
              </a:rPr>
              <a:t>Robocup Sportscaster Trac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09" name="Text Box 5"/>
          <p:cNvSpPr/>
          <p:nvPr/>
        </p:nvSpPr>
        <p:spPr>
          <a:xfrm>
            <a:off x="684360" y="1700280"/>
            <a:ext cx="39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Natural Language Commen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Text Box 6"/>
          <p:cNvSpPr/>
          <p:nvPr/>
        </p:nvSpPr>
        <p:spPr>
          <a:xfrm>
            <a:off x="5334120" y="1700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Meaning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Line 7"/>
          <p:cNvSpPr/>
          <p:nvPr/>
        </p:nvSpPr>
        <p:spPr>
          <a:xfrm flipH="1">
            <a:off x="4724280" y="2438280"/>
            <a:ext cx="99072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Line 8"/>
          <p:cNvSpPr/>
          <p:nvPr/>
        </p:nvSpPr>
        <p:spPr>
          <a:xfrm flipH="1">
            <a:off x="4724280" y="2743200"/>
            <a:ext cx="990720" cy="763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Line 9"/>
          <p:cNvSpPr/>
          <p:nvPr/>
        </p:nvSpPr>
        <p:spPr>
          <a:xfrm flipH="1">
            <a:off x="4114440" y="274320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Line 10"/>
          <p:cNvSpPr/>
          <p:nvPr/>
        </p:nvSpPr>
        <p:spPr>
          <a:xfrm flipH="1">
            <a:off x="4114440" y="3048120"/>
            <a:ext cx="160020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Line 11"/>
          <p:cNvSpPr/>
          <p:nvPr/>
        </p:nvSpPr>
        <p:spPr>
          <a:xfrm flipH="1">
            <a:off x="4114440" y="3352680"/>
            <a:ext cx="152388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Line 12"/>
          <p:cNvSpPr/>
          <p:nvPr/>
        </p:nvSpPr>
        <p:spPr>
          <a:xfrm flipH="1">
            <a:off x="3809880" y="3352680"/>
            <a:ext cx="18288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Line 13"/>
          <p:cNvSpPr/>
          <p:nvPr/>
        </p:nvSpPr>
        <p:spPr>
          <a:xfrm flipH="1">
            <a:off x="3809880" y="3657600"/>
            <a:ext cx="18288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Line 14"/>
          <p:cNvSpPr/>
          <p:nvPr/>
        </p:nvSpPr>
        <p:spPr>
          <a:xfrm flipH="1">
            <a:off x="4267080" y="4572000"/>
            <a:ext cx="137160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Line 15"/>
          <p:cNvSpPr/>
          <p:nvPr/>
        </p:nvSpPr>
        <p:spPr>
          <a:xfrm flipH="1">
            <a:off x="4267080" y="4876920"/>
            <a:ext cx="137160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Line 16"/>
          <p:cNvSpPr/>
          <p:nvPr/>
        </p:nvSpPr>
        <p:spPr>
          <a:xfrm flipH="1">
            <a:off x="4267080" y="5181480"/>
            <a:ext cx="13716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Line 17"/>
          <p:cNvSpPr/>
          <p:nvPr/>
        </p:nvSpPr>
        <p:spPr>
          <a:xfrm flipH="1">
            <a:off x="3580920" y="5791320"/>
            <a:ext cx="2057400" cy="304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Line 20"/>
          <p:cNvSpPr/>
          <p:nvPr/>
        </p:nvSpPr>
        <p:spPr>
          <a:xfrm flipH="1">
            <a:off x="3580920" y="6019920"/>
            <a:ext cx="2057400" cy="75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Line 5"/>
          <p:cNvSpPr/>
          <p:nvPr/>
        </p:nvSpPr>
        <p:spPr>
          <a:xfrm>
            <a:off x="533520" y="160020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Rectangle 3"/>
          <p:cNvSpPr/>
          <p:nvPr/>
        </p:nvSpPr>
        <p:spPr>
          <a:xfrm>
            <a:off x="685800" y="2666880"/>
            <a:ext cx="4267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goalie turns the ball over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Rectangle 4"/>
          <p:cNvSpPr/>
          <p:nvPr/>
        </p:nvSpPr>
        <p:spPr>
          <a:xfrm>
            <a:off x="5638680" y="21337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dPass ( Purple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Rectangle 3"/>
          <p:cNvSpPr/>
          <p:nvPr/>
        </p:nvSpPr>
        <p:spPr>
          <a:xfrm>
            <a:off x="685800" y="42670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looks around for a team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Rectangle 3"/>
          <p:cNvSpPr/>
          <p:nvPr/>
        </p:nvSpPr>
        <p:spPr>
          <a:xfrm>
            <a:off x="685800" y="35812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the ball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Rectangle 3"/>
          <p:cNvSpPr/>
          <p:nvPr/>
        </p:nvSpPr>
        <p:spPr>
          <a:xfrm>
            <a:off x="685800" y="32767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team is very sloppy 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Rectangle 3"/>
          <p:cNvSpPr/>
          <p:nvPr/>
        </p:nvSpPr>
        <p:spPr>
          <a:xfrm>
            <a:off x="685800" y="51055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makes a long pass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Rectangle 3"/>
          <p:cNvSpPr/>
          <p:nvPr/>
        </p:nvSpPr>
        <p:spPr>
          <a:xfrm>
            <a:off x="685800" y="594360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back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Rectangle 4"/>
          <p:cNvSpPr/>
          <p:nvPr/>
        </p:nvSpPr>
        <p:spPr>
          <a:xfrm>
            <a:off x="5638680" y="24382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turnover ( Purple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Rectangle 4"/>
          <p:cNvSpPr/>
          <p:nvPr/>
        </p:nvSpPr>
        <p:spPr>
          <a:xfrm>
            <a:off x="5638680" y="52578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1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Rectangle 4"/>
          <p:cNvSpPr/>
          <p:nvPr/>
        </p:nvSpPr>
        <p:spPr>
          <a:xfrm>
            <a:off x="5638680" y="5715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Rectangle 4"/>
          <p:cNvSpPr/>
          <p:nvPr/>
        </p:nvSpPr>
        <p:spPr>
          <a:xfrm>
            <a:off x="5638680" y="4572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llstop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Rectangle 4"/>
          <p:cNvSpPr/>
          <p:nvPr/>
        </p:nvSpPr>
        <p:spPr>
          <a:xfrm>
            <a:off x="5638680" y="30481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Rectangle 4"/>
          <p:cNvSpPr/>
          <p:nvPr/>
        </p:nvSpPr>
        <p:spPr>
          <a:xfrm>
            <a:off x="5638680" y="42670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Rectangle 4"/>
          <p:cNvSpPr/>
          <p:nvPr/>
        </p:nvSpPr>
        <p:spPr>
          <a:xfrm>
            <a:off x="5638680" y="27432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Rectangle 4"/>
          <p:cNvSpPr/>
          <p:nvPr/>
        </p:nvSpPr>
        <p:spPr>
          <a:xfrm>
            <a:off x="5638680" y="33526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Rectangle 4"/>
          <p:cNvSpPr/>
          <p:nvPr/>
        </p:nvSpPr>
        <p:spPr>
          <a:xfrm>
            <a:off x="5638680" y="49528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Rectangle 4"/>
          <p:cNvSpPr/>
          <p:nvPr/>
        </p:nvSpPr>
        <p:spPr>
          <a:xfrm>
            <a:off x="5638680" y="54864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Line 12"/>
          <p:cNvSpPr/>
          <p:nvPr/>
        </p:nvSpPr>
        <p:spPr>
          <a:xfrm flipH="1">
            <a:off x="3809880" y="3048120"/>
            <a:ext cx="190512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PMingLiU"/>
              </a:rPr>
              <a:t>Robocup Sportscaster Trac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43" name="Text Box 5"/>
          <p:cNvSpPr/>
          <p:nvPr/>
        </p:nvSpPr>
        <p:spPr>
          <a:xfrm>
            <a:off x="684360" y="1700280"/>
            <a:ext cx="39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Natural Language Commen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4" name="Text Box 6"/>
          <p:cNvSpPr/>
          <p:nvPr/>
        </p:nvSpPr>
        <p:spPr>
          <a:xfrm>
            <a:off x="5334120" y="1700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Meaning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Line 7"/>
          <p:cNvSpPr/>
          <p:nvPr/>
        </p:nvSpPr>
        <p:spPr>
          <a:xfrm flipH="1">
            <a:off x="4724280" y="2438280"/>
            <a:ext cx="99072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Line 8"/>
          <p:cNvSpPr/>
          <p:nvPr/>
        </p:nvSpPr>
        <p:spPr>
          <a:xfrm flipH="1">
            <a:off x="4724280" y="2743200"/>
            <a:ext cx="990720" cy="763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Line 9"/>
          <p:cNvSpPr/>
          <p:nvPr/>
        </p:nvSpPr>
        <p:spPr>
          <a:xfrm flipH="1">
            <a:off x="4114440" y="274320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8" name="Line 10"/>
          <p:cNvSpPr/>
          <p:nvPr/>
        </p:nvSpPr>
        <p:spPr>
          <a:xfrm flipH="1">
            <a:off x="4114440" y="3048120"/>
            <a:ext cx="160020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Line 11"/>
          <p:cNvSpPr/>
          <p:nvPr/>
        </p:nvSpPr>
        <p:spPr>
          <a:xfrm flipH="1">
            <a:off x="4114440" y="3352680"/>
            <a:ext cx="152388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Line 12"/>
          <p:cNvSpPr/>
          <p:nvPr/>
        </p:nvSpPr>
        <p:spPr>
          <a:xfrm flipH="1">
            <a:off x="3809880" y="3352680"/>
            <a:ext cx="18288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Line 13"/>
          <p:cNvSpPr/>
          <p:nvPr/>
        </p:nvSpPr>
        <p:spPr>
          <a:xfrm flipH="1">
            <a:off x="3809880" y="3657600"/>
            <a:ext cx="18288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Line 14"/>
          <p:cNvSpPr/>
          <p:nvPr/>
        </p:nvSpPr>
        <p:spPr>
          <a:xfrm flipH="1">
            <a:off x="4267080" y="4572000"/>
            <a:ext cx="137160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Line 15"/>
          <p:cNvSpPr/>
          <p:nvPr/>
        </p:nvSpPr>
        <p:spPr>
          <a:xfrm flipH="1">
            <a:off x="4267080" y="4876920"/>
            <a:ext cx="137160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Line 16"/>
          <p:cNvSpPr/>
          <p:nvPr/>
        </p:nvSpPr>
        <p:spPr>
          <a:xfrm flipH="1">
            <a:off x="4267080" y="5181480"/>
            <a:ext cx="13716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Line 17"/>
          <p:cNvSpPr/>
          <p:nvPr/>
        </p:nvSpPr>
        <p:spPr>
          <a:xfrm flipH="1">
            <a:off x="3580920" y="5791320"/>
            <a:ext cx="2057400" cy="304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Line 20"/>
          <p:cNvSpPr/>
          <p:nvPr/>
        </p:nvSpPr>
        <p:spPr>
          <a:xfrm flipH="1">
            <a:off x="3580920" y="6019920"/>
            <a:ext cx="2057400" cy="75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Line 5"/>
          <p:cNvSpPr/>
          <p:nvPr/>
        </p:nvSpPr>
        <p:spPr>
          <a:xfrm>
            <a:off x="533520" y="160020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Rectangle 3"/>
          <p:cNvSpPr/>
          <p:nvPr/>
        </p:nvSpPr>
        <p:spPr>
          <a:xfrm>
            <a:off x="685800" y="2666880"/>
            <a:ext cx="4267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goalie turns the ball over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Rectangle 4"/>
          <p:cNvSpPr/>
          <p:nvPr/>
        </p:nvSpPr>
        <p:spPr>
          <a:xfrm>
            <a:off x="5638680" y="21337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6 ( C1, C1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Rectangle 3"/>
          <p:cNvSpPr/>
          <p:nvPr/>
        </p:nvSpPr>
        <p:spPr>
          <a:xfrm>
            <a:off x="685800" y="42670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looks around for a team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Rectangle 3"/>
          <p:cNvSpPr/>
          <p:nvPr/>
        </p:nvSpPr>
        <p:spPr>
          <a:xfrm>
            <a:off x="685800" y="35812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the ball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Rectangle 3"/>
          <p:cNvSpPr/>
          <p:nvPr/>
        </p:nvSpPr>
        <p:spPr>
          <a:xfrm>
            <a:off x="685800" y="32767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team is very sloppy 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Rectangle 3"/>
          <p:cNvSpPr/>
          <p:nvPr/>
        </p:nvSpPr>
        <p:spPr>
          <a:xfrm>
            <a:off x="685800" y="51055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makes a long pass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Rectangle 3"/>
          <p:cNvSpPr/>
          <p:nvPr/>
        </p:nvSpPr>
        <p:spPr>
          <a:xfrm>
            <a:off x="685800" y="594360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back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Rectangle 4"/>
          <p:cNvSpPr/>
          <p:nvPr/>
        </p:nvSpPr>
        <p:spPr>
          <a:xfrm>
            <a:off x="5638680" y="24382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5 ( C1, C1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Rectangle 4"/>
          <p:cNvSpPr/>
          <p:nvPr/>
        </p:nvSpPr>
        <p:spPr>
          <a:xfrm>
            <a:off x="5638680" y="52578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2 ( C22, C1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Rectangle 4"/>
          <p:cNvSpPr/>
          <p:nvPr/>
        </p:nvSpPr>
        <p:spPr>
          <a:xfrm>
            <a:off x="5638680" y="5715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2 ( C19, C2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Rectangle 4"/>
          <p:cNvSpPr/>
          <p:nvPr/>
        </p:nvSpPr>
        <p:spPr>
          <a:xfrm>
            <a:off x="5638680" y="4572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Rectangle 4"/>
          <p:cNvSpPr/>
          <p:nvPr/>
        </p:nvSpPr>
        <p:spPr>
          <a:xfrm>
            <a:off x="5638680" y="30481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2 ( C19, C2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Rectangle 4"/>
          <p:cNvSpPr/>
          <p:nvPr/>
        </p:nvSpPr>
        <p:spPr>
          <a:xfrm>
            <a:off x="5638680" y="42670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1 ( C2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Rectangle 4"/>
          <p:cNvSpPr/>
          <p:nvPr/>
        </p:nvSpPr>
        <p:spPr>
          <a:xfrm>
            <a:off x="5638680" y="27432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1( C1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Rectangle 4"/>
          <p:cNvSpPr/>
          <p:nvPr/>
        </p:nvSpPr>
        <p:spPr>
          <a:xfrm>
            <a:off x="5638680" y="33526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1 ( C2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Rectangle 4"/>
          <p:cNvSpPr/>
          <p:nvPr/>
        </p:nvSpPr>
        <p:spPr>
          <a:xfrm>
            <a:off x="5638680" y="49528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1 ( C2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Rectangle 4"/>
          <p:cNvSpPr/>
          <p:nvPr/>
        </p:nvSpPr>
        <p:spPr>
          <a:xfrm>
            <a:off x="5638680" y="54864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1 ( C1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Line 12"/>
          <p:cNvSpPr/>
          <p:nvPr/>
        </p:nvSpPr>
        <p:spPr>
          <a:xfrm flipH="1">
            <a:off x="3809880" y="3048120"/>
            <a:ext cx="190512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portscasting Data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77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ed human textual commentary for the 4 Robocup championship games from 2001-20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vg # events/game = 2,613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vg # sentences/game = 509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entence matched to all events within previous 5 sec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vg # MRs/sentence =  2.5 (min 1, max 12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ually annotated with correct matchings of sentences to MRs (for evaluation purposes onl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6A56-AA90-4BB5-BEE8-B64ECE6BE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for Language and Vis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 Language Processing (NLP) and Computer Vision (CV) are both very challenging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hine Learning (ML) is now extensively used to automate the construction of both effective NLP and CV 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uses supervised ML and requires difficult and expensive human annotation of large text or image/video corpora for train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RISPER: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RISP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ith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-like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trai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 of 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learns 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pervision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(Kate &amp; Mooney, AAAI-07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an iterative EM-like self-training method to gradually converge on a correct meaning for each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83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Line 19"/>
          <p:cNvSpPr/>
          <p:nvPr/>
        </p:nvSpPr>
        <p:spPr>
          <a:xfrm flipV="1">
            <a:off x="3505320" y="1906200"/>
            <a:ext cx="2354040" cy="531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Line 20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Line 21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Line 22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Line 23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Line 24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Line 25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Line 26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Line 27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Line 28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Line 29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Line 30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Line 31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Line 32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Line 33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Line 34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Line 35"/>
          <p:cNvSpPr/>
          <p:nvPr/>
        </p:nvSpPr>
        <p:spPr>
          <a:xfrm>
            <a:off x="2590920" y="6019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Rectangle 36"/>
          <p:cNvSpPr/>
          <p:nvPr/>
        </p:nvSpPr>
        <p:spPr>
          <a:xfrm>
            <a:off x="278280" y="1219320"/>
            <a:ext cx="85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Assume every possible meaning for a sentence is 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18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Line 19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Line 20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Line 21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Line 22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Line 23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Line 24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Line 25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Line 26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Line 27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Line 28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Line 29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Line 30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Line 31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Line 32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Line 33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Line 34"/>
          <p:cNvSpPr/>
          <p:nvPr/>
        </p:nvSpPr>
        <p:spPr>
          <a:xfrm>
            <a:off x="2585880" y="6022800"/>
            <a:ext cx="3198960" cy="3016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Rectangle 35"/>
          <p:cNvSpPr/>
          <p:nvPr/>
        </p:nvSpPr>
        <p:spPr>
          <a:xfrm>
            <a:off x="278280" y="1219320"/>
            <a:ext cx="85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Assume every possible meaning for a sentence is 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Line 36"/>
          <p:cNvSpPr/>
          <p:nvPr/>
        </p:nvSpPr>
        <p:spPr>
          <a:xfrm flipV="1">
            <a:off x="3436920" y="1906200"/>
            <a:ext cx="2354400" cy="531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Rectangle 37"/>
          <p:cNvSpPr/>
          <p:nvPr/>
        </p:nvSpPr>
        <p:spPr>
          <a:xfrm>
            <a:off x="3624120" y="181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54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Line 19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Line 20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Line 21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Line 22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Line 23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Line 24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Line 25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Line 26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Line 27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Line 28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Line 29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Line 30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Line 31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Line 32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Line 33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Line 34"/>
          <p:cNvSpPr/>
          <p:nvPr/>
        </p:nvSpPr>
        <p:spPr>
          <a:xfrm>
            <a:off x="2585880" y="6022800"/>
            <a:ext cx="3198960" cy="3016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Rectangle 35"/>
          <p:cNvSpPr/>
          <p:nvPr/>
        </p:nvSpPr>
        <p:spPr>
          <a:xfrm>
            <a:off x="190080" y="1173240"/>
            <a:ext cx="88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Resulting NL-MR pairs are weighted and given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Line 36"/>
          <p:cNvSpPr/>
          <p:nvPr/>
        </p:nvSpPr>
        <p:spPr>
          <a:xfrm flipV="1">
            <a:off x="3436920" y="1906200"/>
            <a:ext cx="2354400" cy="531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Text Box 37"/>
          <p:cNvSpPr/>
          <p:nvPr/>
        </p:nvSpPr>
        <p:spPr>
          <a:xfrm>
            <a:off x="3725640" y="1995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Rectangle 38"/>
          <p:cNvSpPr/>
          <p:nvPr/>
        </p:nvSpPr>
        <p:spPr>
          <a:xfrm>
            <a:off x="3624120" y="181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Text Box 39"/>
          <p:cNvSpPr/>
          <p:nvPr/>
        </p:nvSpPr>
        <p:spPr>
          <a:xfrm>
            <a:off x="3716280" y="23763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Text Box 40"/>
          <p:cNvSpPr/>
          <p:nvPr/>
        </p:nvSpPr>
        <p:spPr>
          <a:xfrm>
            <a:off x="3487680" y="28335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1/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Text Box 41"/>
          <p:cNvSpPr/>
          <p:nvPr/>
        </p:nvSpPr>
        <p:spPr>
          <a:xfrm>
            <a:off x="3944880" y="29862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1/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Text Box 42"/>
          <p:cNvSpPr/>
          <p:nvPr/>
        </p:nvSpPr>
        <p:spPr>
          <a:xfrm>
            <a:off x="3792240" y="3214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1/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Text Box 43"/>
          <p:cNvSpPr/>
          <p:nvPr/>
        </p:nvSpPr>
        <p:spPr>
          <a:xfrm>
            <a:off x="3354120" y="3429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1/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Text Box 44"/>
          <p:cNvSpPr/>
          <p:nvPr/>
        </p:nvSpPr>
        <p:spPr>
          <a:xfrm>
            <a:off x="2573280" y="39006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1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Text Box 45"/>
          <p:cNvSpPr/>
          <p:nvPr/>
        </p:nvSpPr>
        <p:spPr>
          <a:xfrm>
            <a:off x="3049560" y="39006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1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Text Box 46"/>
          <p:cNvSpPr/>
          <p:nvPr/>
        </p:nvSpPr>
        <p:spPr>
          <a:xfrm>
            <a:off x="3335040" y="4052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1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Text Box 47"/>
          <p:cNvSpPr/>
          <p:nvPr/>
        </p:nvSpPr>
        <p:spPr>
          <a:xfrm>
            <a:off x="3201840" y="4357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1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Text Box 48"/>
          <p:cNvSpPr/>
          <p:nvPr/>
        </p:nvSpPr>
        <p:spPr>
          <a:xfrm>
            <a:off x="2725560" y="44197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1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Text Box 49"/>
          <p:cNvSpPr/>
          <p:nvPr/>
        </p:nvSpPr>
        <p:spPr>
          <a:xfrm>
            <a:off x="3259080" y="48909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Text Box 50"/>
          <p:cNvSpPr/>
          <p:nvPr/>
        </p:nvSpPr>
        <p:spPr>
          <a:xfrm>
            <a:off x="3735360" y="49672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Text Box 51"/>
          <p:cNvSpPr/>
          <p:nvPr/>
        </p:nvSpPr>
        <p:spPr>
          <a:xfrm>
            <a:off x="3278160" y="5195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Text Box 52"/>
          <p:cNvSpPr/>
          <p:nvPr/>
        </p:nvSpPr>
        <p:spPr>
          <a:xfrm>
            <a:off x="2820960" y="55767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Text Box 53"/>
          <p:cNvSpPr/>
          <p:nvPr/>
        </p:nvSpPr>
        <p:spPr>
          <a:xfrm>
            <a:off x="3278160" y="58053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Text Box 54"/>
          <p:cNvSpPr/>
          <p:nvPr/>
        </p:nvSpPr>
        <p:spPr>
          <a:xfrm>
            <a:off x="2877840" y="60339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5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07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Line 19"/>
          <p:cNvSpPr/>
          <p:nvPr/>
        </p:nvSpPr>
        <p:spPr>
          <a:xfrm flipV="1">
            <a:off x="3505320" y="1906200"/>
            <a:ext cx="2354040" cy="531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Line 20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Line 21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Line 22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Line 23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Line 24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Line 25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Line 26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Line 27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Line 28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Line 29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Line 30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4" name="Line 31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Line 32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Line 33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Line 34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Line 35"/>
          <p:cNvSpPr/>
          <p:nvPr/>
        </p:nvSpPr>
        <p:spPr>
          <a:xfrm>
            <a:off x="2590920" y="6019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Rectangle 36"/>
          <p:cNvSpPr/>
          <p:nvPr/>
        </p:nvSpPr>
        <p:spPr>
          <a:xfrm>
            <a:off x="649440" y="1143000"/>
            <a:ext cx="832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Estimate the confidence of each NL-MR pair us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ing trained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0" name="Group 56"/>
          <p:cNvGrpSpPr/>
          <p:nvPr/>
        </p:nvGrpSpPr>
        <p:grpSpPr>
          <a:xfrm>
            <a:off x="2519280" y="1811160"/>
            <a:ext cx="1953000" cy="4591080"/>
            <a:chOff x="2519280" y="1811160"/>
            <a:chExt cx="1953000" cy="4591080"/>
          </a:xfrm>
        </p:grpSpPr>
        <p:sp>
          <p:nvSpPr>
            <p:cNvPr id="3341" name="Text Box 37"/>
            <p:cNvSpPr/>
            <p:nvPr/>
          </p:nvSpPr>
          <p:spPr>
            <a:xfrm>
              <a:off x="3671640" y="19954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SimSun"/>
                </a:rPr>
                <a:t>0.9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Rectangle 38"/>
            <p:cNvSpPr/>
            <p:nvPr/>
          </p:nvSpPr>
          <p:spPr>
            <a:xfrm>
              <a:off x="3624120" y="181116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Text Box 39"/>
            <p:cNvSpPr/>
            <p:nvPr/>
          </p:nvSpPr>
          <p:spPr>
            <a:xfrm>
              <a:off x="3662280" y="23763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SimSun"/>
                </a:rPr>
                <a:t>0.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Text Box 40"/>
            <p:cNvSpPr/>
            <p:nvPr/>
          </p:nvSpPr>
          <p:spPr>
            <a:xfrm>
              <a:off x="3433680" y="28335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SimSun"/>
                </a:rPr>
                <a:t>0.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Text Box 41"/>
            <p:cNvSpPr/>
            <p:nvPr/>
          </p:nvSpPr>
          <p:spPr>
            <a:xfrm>
              <a:off x="3890880" y="29862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SimSun"/>
                </a:rPr>
                <a:t>0.8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Text Box 42"/>
            <p:cNvSpPr/>
            <p:nvPr/>
          </p:nvSpPr>
          <p:spPr>
            <a:xfrm>
              <a:off x="3738240" y="32148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SimSun"/>
                </a:rPr>
                <a:t>0.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Text Box 43"/>
            <p:cNvSpPr/>
            <p:nvPr/>
          </p:nvSpPr>
          <p:spPr>
            <a:xfrm>
              <a:off x="3300120" y="34290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SimSun"/>
                </a:rPr>
                <a:t>0.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Text Box 44"/>
            <p:cNvSpPr/>
            <p:nvPr/>
          </p:nvSpPr>
          <p:spPr>
            <a:xfrm>
              <a:off x="2995560" y="39006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SimSun"/>
                </a:rPr>
                <a:t>0.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Text Box 45"/>
            <p:cNvSpPr/>
            <p:nvPr/>
          </p:nvSpPr>
          <p:spPr>
            <a:xfrm>
              <a:off x="3281040" y="40528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SimSun"/>
                </a:rPr>
                <a:t>0.8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Text Box 46"/>
            <p:cNvSpPr/>
            <p:nvPr/>
          </p:nvSpPr>
          <p:spPr>
            <a:xfrm>
              <a:off x="3205080" y="48909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SimSun"/>
                </a:rPr>
                <a:t>0.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Text Box 47"/>
            <p:cNvSpPr/>
            <p:nvPr/>
          </p:nvSpPr>
          <p:spPr>
            <a:xfrm>
              <a:off x="3681360" y="49672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SimSun"/>
                </a:rPr>
                <a:t>0.8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Text Box 48"/>
            <p:cNvSpPr/>
            <p:nvPr/>
          </p:nvSpPr>
          <p:spPr>
            <a:xfrm>
              <a:off x="3224160" y="51958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SimSun"/>
                </a:rPr>
                <a:t>0.3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Text Box 49"/>
            <p:cNvSpPr/>
            <p:nvPr/>
          </p:nvSpPr>
          <p:spPr>
            <a:xfrm>
              <a:off x="2766960" y="55767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SimSun"/>
                </a:rPr>
                <a:t>0.9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Text Box 50"/>
            <p:cNvSpPr/>
            <p:nvPr/>
          </p:nvSpPr>
          <p:spPr>
            <a:xfrm>
              <a:off x="3224160" y="58053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SimSun"/>
                </a:rPr>
                <a:t>0.8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Text Box 51"/>
            <p:cNvSpPr/>
            <p:nvPr/>
          </p:nvSpPr>
          <p:spPr>
            <a:xfrm>
              <a:off x="2823840" y="60339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SimSun"/>
                </a:rPr>
                <a:t>0.3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Text Box 53"/>
            <p:cNvSpPr/>
            <p:nvPr/>
          </p:nvSpPr>
          <p:spPr>
            <a:xfrm>
              <a:off x="2519280" y="39006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SimSun"/>
                </a:rPr>
                <a:t>0.7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Text Box 54"/>
            <p:cNvSpPr/>
            <p:nvPr/>
          </p:nvSpPr>
          <p:spPr>
            <a:xfrm>
              <a:off x="2693880" y="44337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SimSun"/>
                </a:rPr>
                <a:t>0.9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Text Box 55"/>
            <p:cNvSpPr/>
            <p:nvPr/>
          </p:nvSpPr>
          <p:spPr>
            <a:xfrm>
              <a:off x="3151080" y="42670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SimSun"/>
                </a:rPr>
                <a:t>0.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61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0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Line 19"/>
          <p:cNvSpPr/>
          <p:nvPr/>
        </p:nvSpPr>
        <p:spPr>
          <a:xfrm flipV="1">
            <a:off x="3505320" y="1906200"/>
            <a:ext cx="2354040" cy="531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Line 20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Line 21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Line 22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Line 23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Line 24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Line 25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Line 26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Line 27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Line 28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Line 29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7" name="Line 30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Line 31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Line 32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Line 33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Line 34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Line 35"/>
          <p:cNvSpPr/>
          <p:nvPr/>
        </p:nvSpPr>
        <p:spPr>
          <a:xfrm>
            <a:off x="2590920" y="6019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Rectangle 36"/>
          <p:cNvSpPr/>
          <p:nvPr/>
        </p:nvSpPr>
        <p:spPr>
          <a:xfrm>
            <a:off x="647640" y="914400"/>
            <a:ext cx="829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Use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maximu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weigh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matc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a bipartite grap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the best NL-MR pair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Munkres, 1957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Text Box 37"/>
          <p:cNvSpPr/>
          <p:nvPr/>
        </p:nvSpPr>
        <p:spPr>
          <a:xfrm>
            <a:off x="3671640" y="19954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Rectangle 38"/>
          <p:cNvSpPr/>
          <p:nvPr/>
        </p:nvSpPr>
        <p:spPr>
          <a:xfrm>
            <a:off x="3624120" y="181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Text Box 39"/>
          <p:cNvSpPr/>
          <p:nvPr/>
        </p:nvSpPr>
        <p:spPr>
          <a:xfrm>
            <a:off x="3662280" y="2376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Text Box 40"/>
          <p:cNvSpPr/>
          <p:nvPr/>
        </p:nvSpPr>
        <p:spPr>
          <a:xfrm>
            <a:off x="3433680" y="28335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Text Box 41"/>
          <p:cNvSpPr/>
          <p:nvPr/>
        </p:nvSpPr>
        <p:spPr>
          <a:xfrm>
            <a:off x="3890880" y="29862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Text Box 42"/>
          <p:cNvSpPr/>
          <p:nvPr/>
        </p:nvSpPr>
        <p:spPr>
          <a:xfrm>
            <a:off x="3738240" y="32148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Text Box 43"/>
          <p:cNvSpPr/>
          <p:nvPr/>
        </p:nvSpPr>
        <p:spPr>
          <a:xfrm>
            <a:off x="3300120" y="34290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Text Box 44"/>
          <p:cNvSpPr/>
          <p:nvPr/>
        </p:nvSpPr>
        <p:spPr>
          <a:xfrm>
            <a:off x="2995560" y="39006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Text Box 45"/>
          <p:cNvSpPr/>
          <p:nvPr/>
        </p:nvSpPr>
        <p:spPr>
          <a:xfrm>
            <a:off x="3281040" y="40528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Text Box 46"/>
          <p:cNvSpPr/>
          <p:nvPr/>
        </p:nvSpPr>
        <p:spPr>
          <a:xfrm>
            <a:off x="3205080" y="48909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Text Box 47"/>
          <p:cNvSpPr/>
          <p:nvPr/>
        </p:nvSpPr>
        <p:spPr>
          <a:xfrm>
            <a:off x="3681360" y="49672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Text Box 48"/>
          <p:cNvSpPr/>
          <p:nvPr/>
        </p:nvSpPr>
        <p:spPr>
          <a:xfrm>
            <a:off x="3224160" y="51958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Text Box 49"/>
          <p:cNvSpPr/>
          <p:nvPr/>
        </p:nvSpPr>
        <p:spPr>
          <a:xfrm>
            <a:off x="2766960" y="55767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Text Box 50"/>
          <p:cNvSpPr/>
          <p:nvPr/>
        </p:nvSpPr>
        <p:spPr>
          <a:xfrm>
            <a:off x="3224160" y="5805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Text Box 51"/>
          <p:cNvSpPr/>
          <p:nvPr/>
        </p:nvSpPr>
        <p:spPr>
          <a:xfrm>
            <a:off x="2823840" y="60339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Rectangle 52"/>
          <p:cNvSpPr/>
          <p:nvPr/>
        </p:nvSpPr>
        <p:spPr>
          <a:xfrm>
            <a:off x="178920" y="353520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Text Box 53"/>
          <p:cNvSpPr/>
          <p:nvPr/>
        </p:nvSpPr>
        <p:spPr>
          <a:xfrm>
            <a:off x="2519280" y="39006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Text Box 54"/>
          <p:cNvSpPr/>
          <p:nvPr/>
        </p:nvSpPr>
        <p:spPr>
          <a:xfrm>
            <a:off x="2693880" y="44337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Text Box 55"/>
          <p:cNvSpPr/>
          <p:nvPr/>
        </p:nvSpPr>
        <p:spPr>
          <a:xfrm>
            <a:off x="3151080" y="426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3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15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Line 19"/>
          <p:cNvSpPr/>
          <p:nvPr/>
        </p:nvSpPr>
        <p:spPr>
          <a:xfrm flipV="1">
            <a:off x="3505320" y="1906200"/>
            <a:ext cx="2354040" cy="5317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Line 20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Line 21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Line 22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Line 23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Line 24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Line 25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Line 26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Line 27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9" name="Line 28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0" name="Line 29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Line 30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Line 31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Line 32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Line 33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Line 34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Line 35"/>
          <p:cNvSpPr/>
          <p:nvPr/>
        </p:nvSpPr>
        <p:spPr>
          <a:xfrm>
            <a:off x="2590920" y="6019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Rectangle 36"/>
          <p:cNvSpPr/>
          <p:nvPr/>
        </p:nvSpPr>
        <p:spPr>
          <a:xfrm>
            <a:off x="647640" y="914400"/>
            <a:ext cx="829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Use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maximu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weigh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matc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a bipartite grap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the best NL-MR pair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Munkres, 1957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Text Box 37"/>
          <p:cNvSpPr/>
          <p:nvPr/>
        </p:nvSpPr>
        <p:spPr>
          <a:xfrm>
            <a:off x="3671640" y="19954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Rectangle 38"/>
          <p:cNvSpPr/>
          <p:nvPr/>
        </p:nvSpPr>
        <p:spPr>
          <a:xfrm>
            <a:off x="3624120" y="181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Text Box 39"/>
          <p:cNvSpPr/>
          <p:nvPr/>
        </p:nvSpPr>
        <p:spPr>
          <a:xfrm>
            <a:off x="3662280" y="2376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Text Box 40"/>
          <p:cNvSpPr/>
          <p:nvPr/>
        </p:nvSpPr>
        <p:spPr>
          <a:xfrm>
            <a:off x="3433680" y="28335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Text Box 41"/>
          <p:cNvSpPr/>
          <p:nvPr/>
        </p:nvSpPr>
        <p:spPr>
          <a:xfrm>
            <a:off x="3890880" y="29862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Text Box 42"/>
          <p:cNvSpPr/>
          <p:nvPr/>
        </p:nvSpPr>
        <p:spPr>
          <a:xfrm>
            <a:off x="3738240" y="32148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Text Box 43"/>
          <p:cNvSpPr/>
          <p:nvPr/>
        </p:nvSpPr>
        <p:spPr>
          <a:xfrm>
            <a:off x="3300120" y="34290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Text Box 44"/>
          <p:cNvSpPr/>
          <p:nvPr/>
        </p:nvSpPr>
        <p:spPr>
          <a:xfrm>
            <a:off x="2995560" y="39006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Text Box 45"/>
          <p:cNvSpPr/>
          <p:nvPr/>
        </p:nvSpPr>
        <p:spPr>
          <a:xfrm>
            <a:off x="3281040" y="40528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Text Box 46"/>
          <p:cNvSpPr/>
          <p:nvPr/>
        </p:nvSpPr>
        <p:spPr>
          <a:xfrm>
            <a:off x="3205080" y="48909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Text Box 47"/>
          <p:cNvSpPr/>
          <p:nvPr/>
        </p:nvSpPr>
        <p:spPr>
          <a:xfrm>
            <a:off x="3681360" y="49672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Text Box 48"/>
          <p:cNvSpPr/>
          <p:nvPr/>
        </p:nvSpPr>
        <p:spPr>
          <a:xfrm>
            <a:off x="3224160" y="51958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Text Box 49"/>
          <p:cNvSpPr/>
          <p:nvPr/>
        </p:nvSpPr>
        <p:spPr>
          <a:xfrm>
            <a:off x="2766960" y="55767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1" name="Text Box 50"/>
          <p:cNvSpPr/>
          <p:nvPr/>
        </p:nvSpPr>
        <p:spPr>
          <a:xfrm>
            <a:off x="3224160" y="5805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Text Box 51"/>
          <p:cNvSpPr/>
          <p:nvPr/>
        </p:nvSpPr>
        <p:spPr>
          <a:xfrm>
            <a:off x="2823840" y="60339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Text Box 52"/>
          <p:cNvSpPr/>
          <p:nvPr/>
        </p:nvSpPr>
        <p:spPr>
          <a:xfrm>
            <a:off x="2519280" y="39006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Text Box 53"/>
          <p:cNvSpPr/>
          <p:nvPr/>
        </p:nvSpPr>
        <p:spPr>
          <a:xfrm>
            <a:off x="2693880" y="44337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Text Box 54"/>
          <p:cNvSpPr/>
          <p:nvPr/>
        </p:nvSpPr>
        <p:spPr>
          <a:xfrm>
            <a:off x="3151080" y="426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SimSun"/>
              </a:rPr>
              <a:t>0.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68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9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ＭＳ Ｐゴシック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ＭＳ Ｐゴシック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Line 19"/>
          <p:cNvSpPr/>
          <p:nvPr/>
        </p:nvSpPr>
        <p:spPr>
          <a:xfrm flipV="1">
            <a:off x="3505320" y="1906200"/>
            <a:ext cx="2354040" cy="5317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Line 20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Line 21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Line 22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Line 23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Rectangle 24"/>
          <p:cNvSpPr/>
          <p:nvPr/>
        </p:nvSpPr>
        <p:spPr>
          <a:xfrm>
            <a:off x="646200" y="868320"/>
            <a:ext cx="7730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Give the best pairs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P in the next itera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peat until converg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9" name="Rectangle 25"/>
          <p:cNvSpPr/>
          <p:nvPr/>
        </p:nvSpPr>
        <p:spPr>
          <a:xfrm>
            <a:off x="1741320" y="-368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ASP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91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P with EM-like retraining to handle ambiguous training dat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ugmentation as added to KRISP to create KRIS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E039-F755-4797-928C-9723C288A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RISPER-WASP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94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teration of EM-like training produces very noisy training data (&gt; 50% error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ISP is better than WASP at handling noisy training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VM prevents overfitting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tring kernel allows partial matching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KRISP does not support language gen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train KRISPER just to determine the best NL→MR match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train WASP on the resulting unambiguously supervised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8983-5AC2-41A6-B562-9D2FB80F6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ross-Supervision of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anguage and Vis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naturally co-occurring perceptual input to supervise language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naturally co-occurring linguistic input to supervise visual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Text Box 4"/>
          <p:cNvSpPr/>
          <p:nvPr/>
        </p:nvSpPr>
        <p:spPr>
          <a:xfrm>
            <a:off x="2509200" y="5410080"/>
            <a:ext cx="44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 cylinder on top of  a red cu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2" name="Group 28"/>
          <p:cNvGrpSpPr/>
          <p:nvPr/>
        </p:nvGrpSpPr>
        <p:grpSpPr>
          <a:xfrm>
            <a:off x="3962520" y="3505320"/>
            <a:ext cx="1218960" cy="1904760"/>
            <a:chOff x="3962520" y="3505320"/>
            <a:chExt cx="1218960" cy="1904760"/>
          </a:xfrm>
        </p:grpSpPr>
        <p:sp>
          <p:nvSpPr>
            <p:cNvPr id="2943" name="AutoShape 5"/>
            <p:cNvSpPr/>
            <p:nvPr/>
          </p:nvSpPr>
          <p:spPr>
            <a:xfrm>
              <a:off x="3962520" y="4419720"/>
              <a:ext cx="1218960" cy="9903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AutoShape 6"/>
            <p:cNvSpPr/>
            <p:nvPr/>
          </p:nvSpPr>
          <p:spPr>
            <a:xfrm>
              <a:off x="4191120" y="3505320"/>
              <a:ext cx="685800" cy="1218960"/>
            </a:xfrm>
            <a:prstGeom prst="can">
              <a:avLst>
                <a:gd name="adj" fmla="val 25000"/>
              </a:avLst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5" name="Group 26"/>
          <p:cNvGrpSpPr/>
          <p:nvPr/>
        </p:nvGrpSpPr>
        <p:grpSpPr>
          <a:xfrm>
            <a:off x="609480" y="3580920"/>
            <a:ext cx="3353040" cy="2057760"/>
            <a:chOff x="609480" y="3580920"/>
            <a:chExt cx="3353040" cy="2057760"/>
          </a:xfrm>
        </p:grpSpPr>
        <p:sp>
          <p:nvSpPr>
            <p:cNvPr id="2946" name="Rectangle 7"/>
            <p:cNvSpPr/>
            <p:nvPr/>
          </p:nvSpPr>
          <p:spPr>
            <a:xfrm>
              <a:off x="609480" y="4196520"/>
              <a:ext cx="1359000" cy="642600"/>
            </a:xfrm>
            <a:prstGeom prst="rect">
              <a:avLst/>
            </a:prstGeom>
            <a:solidFill>
              <a:srgbClr val="99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ar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Line 10"/>
            <p:cNvSpPr/>
            <p:nvPr/>
          </p:nvSpPr>
          <p:spPr>
            <a:xfrm flipH="1" flipV="1">
              <a:off x="1904760" y="4876920"/>
              <a:ext cx="685800" cy="761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Text Box 11"/>
            <p:cNvSpPr/>
            <p:nvPr/>
          </p:nvSpPr>
          <p:spPr>
            <a:xfrm rot="2995800">
              <a:off x="2040840" y="49525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Text Box 13"/>
            <p:cNvSpPr/>
            <p:nvPr/>
          </p:nvSpPr>
          <p:spPr>
            <a:xfrm>
              <a:off x="2131200" y="3962520"/>
              <a:ext cx="146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upervi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0" name="Group 17"/>
            <p:cNvGrpSpPr/>
            <p:nvPr/>
          </p:nvGrpSpPr>
          <p:grpSpPr>
            <a:xfrm>
              <a:off x="1981080" y="3580920"/>
              <a:ext cx="1981440" cy="1829160"/>
              <a:chOff x="1981080" y="3580920"/>
              <a:chExt cx="1981440" cy="1829160"/>
            </a:xfrm>
          </p:grpSpPr>
          <p:sp>
            <p:nvSpPr>
              <p:cNvPr id="2951" name="Line 14"/>
              <p:cNvSpPr/>
              <p:nvPr/>
            </p:nvSpPr>
            <p:spPr>
              <a:xfrm flipH="1">
                <a:off x="1981080" y="4419720"/>
                <a:ext cx="15242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Line 15"/>
              <p:cNvSpPr/>
              <p:nvPr/>
            </p:nvSpPr>
            <p:spPr>
              <a:xfrm flipV="1">
                <a:off x="3505320" y="3580920"/>
                <a:ext cx="457200" cy="83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Line 16"/>
              <p:cNvSpPr/>
              <p:nvPr/>
            </p:nvSpPr>
            <p:spPr>
              <a:xfrm>
                <a:off x="3505320" y="4419720"/>
                <a:ext cx="304560" cy="99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4" name="Group 27"/>
          <p:cNvGrpSpPr/>
          <p:nvPr/>
        </p:nvGrpSpPr>
        <p:grpSpPr>
          <a:xfrm>
            <a:off x="5181480" y="3580920"/>
            <a:ext cx="3340080" cy="2496600"/>
            <a:chOff x="5181480" y="3580920"/>
            <a:chExt cx="3340080" cy="2496600"/>
          </a:xfrm>
        </p:grpSpPr>
        <p:grpSp>
          <p:nvGrpSpPr>
            <p:cNvPr id="2955" name="Group 18"/>
            <p:cNvGrpSpPr/>
            <p:nvPr/>
          </p:nvGrpSpPr>
          <p:grpSpPr>
            <a:xfrm>
              <a:off x="5181480" y="3580920"/>
              <a:ext cx="1981440" cy="1829160"/>
              <a:chOff x="5181480" y="3580920"/>
              <a:chExt cx="1981440" cy="1829160"/>
            </a:xfrm>
          </p:grpSpPr>
          <p:sp>
            <p:nvSpPr>
              <p:cNvPr id="2956" name="Line 19"/>
              <p:cNvSpPr/>
              <p:nvPr/>
            </p:nvSpPr>
            <p:spPr>
              <a:xfrm>
                <a:off x="5638680" y="4419720"/>
                <a:ext cx="15242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Line 20"/>
              <p:cNvSpPr/>
              <p:nvPr/>
            </p:nvSpPr>
            <p:spPr>
              <a:xfrm flipH="1" flipV="1">
                <a:off x="5181480" y="3580920"/>
                <a:ext cx="457200" cy="83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Line 21"/>
              <p:cNvSpPr/>
              <p:nvPr/>
            </p:nvSpPr>
            <p:spPr>
              <a:xfrm flipH="1">
                <a:off x="5334120" y="4419720"/>
                <a:ext cx="304560" cy="99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9" name="Rectangle 22"/>
            <p:cNvSpPr/>
            <p:nvPr/>
          </p:nvSpPr>
          <p:spPr>
            <a:xfrm>
              <a:off x="7162920" y="4120560"/>
              <a:ext cx="1358640" cy="642600"/>
            </a:xfrm>
            <a:prstGeom prst="rect">
              <a:avLst/>
            </a:prstGeom>
            <a:solidFill>
              <a:srgbClr val="99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Vis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ar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Line 23"/>
            <p:cNvSpPr/>
            <p:nvPr/>
          </p:nvSpPr>
          <p:spPr>
            <a:xfrm flipV="1">
              <a:off x="6858000" y="4800240"/>
              <a:ext cx="609480" cy="762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Text Box 24"/>
            <p:cNvSpPr/>
            <p:nvPr/>
          </p:nvSpPr>
          <p:spPr>
            <a:xfrm>
              <a:off x="5866200" y="39625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Text Box 25"/>
            <p:cNvSpPr/>
            <p:nvPr/>
          </p:nvSpPr>
          <p:spPr>
            <a:xfrm rot="18526800">
              <a:off x="6551640" y="5180760"/>
              <a:ext cx="146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upervi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ASPER-GE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97" name=""/>
          <p:cNvSpPr txBox="1"/>
          <p:nvPr/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KRISPER and WASPER, the correct MR for each sentence is chosen based on maximizing the confidence of semantic parsing (NL→M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, WASPER-GEN determines the best matching based 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ne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→N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e each potential NL/MR pair by using the currently trained WAS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ener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NIST MT score between the generated sentence and the potential matching senten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3B72-1CA3-4CD2-9CBA-69C928214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00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ion requires not only knowing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say something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actical gene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ut also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ha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ay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rategic gene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utomated sportscasting, one must be able to effectively choose which events to describ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0B3A-B62B-493A-8D9A-2B6F369C9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of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0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C646-AC71-4007-ADB5-3E349AC67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Rectangle 4"/>
          <p:cNvSpPr/>
          <p:nvPr/>
        </p:nvSpPr>
        <p:spPr>
          <a:xfrm>
            <a:off x="2819520" y="1600200"/>
            <a:ext cx="35812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7 , purple6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6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6 , purple2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2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2 , purple3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3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badPass ( purple3 , pink9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turnover ( purple3 , pink9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of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0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6EF0-E041-4A3F-894E-FA6EC0630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Rectangle 4"/>
          <p:cNvSpPr/>
          <p:nvPr/>
        </p:nvSpPr>
        <p:spPr>
          <a:xfrm>
            <a:off x="2819520" y="1600200"/>
            <a:ext cx="35812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PMingLiU"/>
              </a:rPr>
              <a:t>pass ( purple7 , purple6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6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PMingLiU"/>
              </a:rPr>
              <a:t>pass ( purple6 , purple2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2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PMingLiU"/>
              </a:rPr>
              <a:t>pass ( purple2 , purple3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3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badPass ( purple3 , pink9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turnover ( purple3 , pink9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for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09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event type (e.g. pass, kick) estimate the probability that it is described by the sportsc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NL/MR matching that indicates which events were described, but this is not provided in the ambiguous train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Use estimated matching computed by KRISPER, WASPER or WASPER-GEN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Use a version of EM to determine the probability of mentioning each event type just based on strategic info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1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56DE-C352-427E-9DA5-6877687A9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terative Generation Strategy Learning (IGSL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estimates the likelihood of commenting on each event type from the ambiguous train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elf-training iterations to improve estimates (à la E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Rectangle 4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emo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me clip commentated using WASPER-GEN with EM-based strategic generation, since this gave the best results for gen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TTS was used to synthesize speech from textual out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trained for Korean to illustrate language independ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17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FD20-F7BA-4483-80C2-ED637175C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8" name="2004-commentary-movie.wmv" descr=""/>
          <p:cNvPicPr/>
          <p:nvPr/>
        </p:nvPicPr>
        <p:blipFill>
          <a:blip r:embed="rId1"/>
          <a:stretch/>
        </p:blipFill>
        <p:spPr>
          <a:xfrm>
            <a:off x="304920" y="-30240"/>
            <a:ext cx="861048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3518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3518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2" dur="1" fill="hold"/>
                                        <p:tgtEl>
                                          <p:spTgt spid="35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0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D5D8-5E42-40C5-8DE4-EBAA93B39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1" name="2004hangul_video_result.wmv" descr=""/>
          <p:cNvPicPr/>
          <p:nvPr/>
        </p:nvPicPr>
        <p:blipFill>
          <a:blip r:embed="rId1"/>
          <a:stretch/>
        </p:blipFill>
        <p:spPr>
          <a:xfrm>
            <a:off x="26676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3521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3521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8" dur="1" fill="hold"/>
                                        <p:tgtEl>
                                          <p:spTgt spid="35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erimental Evalu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3" name=""/>
          <p:cNvSpPr txBox="1"/>
          <p:nvPr/>
        </p:nvSpPr>
        <p:spPr>
          <a:xfrm>
            <a:off x="53352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d learning curves by training on all combinations of 1 to 3 games and testing on all games not used for trai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li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Random Matching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WASP trained on random choice of possible MR for each comment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Gold Matching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WASP trained on correct matching of MR for each comment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r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recis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% of system’s annotations that are correc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Recall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% of gold-standard annotations correctly produce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F-measur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Harmonic mean of precision and recal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Using Perception to Supervise Language: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to Sportscast</a:t>
            </a:r>
            <a:br>
              <a:rPr sz="3600"/>
            </a:b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(Chen &amp; Mooney, ICML-08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aluating Semantic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5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how accurately learned parser maps sentences to their correct meanings in the test ga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gold-standard matches to determine the correct MR for each sentence that has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d MR must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exact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ch gold-standard to count as correc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 on Semantic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3527" name="Picture 4" descr="parse-results-average"/>
          <p:cNvPicPr/>
          <p:nvPr/>
        </p:nvPicPr>
        <p:blipFill>
          <a:blip r:embed="rId1"/>
          <a:stretch/>
        </p:blipFill>
        <p:spPr>
          <a:xfrm>
            <a:off x="838080" y="137160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aluating Tactical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9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how accurately NL generator produces English sentences for chosen MRs in the test ga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gold-standard matches to determine the correct sentence for each MR that has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NIST score to compare generated sentence to the one in the gold-stand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 on Tactical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3531" name="Picture 4" descr="generator-results-nist-average"/>
          <p:cNvPicPr/>
          <p:nvPr/>
        </p:nvPicPr>
        <p:blipFill>
          <a:blip r:embed="rId1"/>
          <a:stretch/>
        </p:blipFill>
        <p:spPr>
          <a:xfrm>
            <a:off x="762120" y="1344600"/>
            <a:ext cx="716256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aluating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33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test games, measure how accurately the system determines which perceived events to comment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the subset of events chosen by the system to the subset chosen by the human annotator (as given by the gold-standard matching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 on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3535" name="Object 4"/>
          <p:cNvGraphicFramePr/>
          <p:nvPr/>
        </p:nvGraphicFramePr>
        <p:xfrm>
          <a:off x="533520" y="1371600"/>
          <a:ext cx="809784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71600"/>
                    <a:ext cx="809784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uman Evaluation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Quasi Turing Test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38" name=""/>
          <p:cNvSpPr txBox="1"/>
          <p:nvPr/>
        </p:nvSpPr>
        <p:spPr>
          <a:xfrm>
            <a:off x="380520" y="1295280"/>
            <a:ext cx="85345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ed 4 fluent English speakers to evaluate overall quality of sportsca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ly picked a 2 minute segment from each of the 4 g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human judge evaluated 8 commented game clips, each of the 4 segments commented once by a human and once by the machine when tested on that game (and trained on the 3 other gam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8 clips presented to each judge were shown in random counter-balanced ord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dges were not told which ones were human or machine gener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B67A-F7DC-4AE8-B064-0EABC6BEA2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uman Evaluation Metr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3541" name=""/>
          <p:cNvGraphicFramePr/>
          <p:nvPr/>
        </p:nvGraphicFramePr>
        <p:xfrm>
          <a:off x="304920" y="2133720"/>
          <a:ext cx="8458200" cy="3108240"/>
        </p:xfrm>
        <a:graphic>
          <a:graphicData uri="http://schemas.openxmlformats.org/drawingml/2006/table">
            <a:tbl>
              <a:tblPr/>
              <a:tblGrid>
                <a:gridCol w="2114280"/>
                <a:gridCol w="2114640"/>
                <a:gridCol w="2114640"/>
                <a:gridCol w="2114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c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glis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lu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mantic Correctn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portscasting A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aw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w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ll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u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-n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meti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e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fl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re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bber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i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</a:tbl>
          </a:graphicData>
        </a:graphic>
      </p:graphicFrame>
      <p:sp>
        <p:nvSpPr>
          <p:cNvPr id="354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0EE0-8D6F-4906-A6D4-91CC8DD40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 on Human Evalu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3544" name=""/>
          <p:cNvGraphicFramePr/>
          <p:nvPr/>
        </p:nvGraphicFramePr>
        <p:xfrm>
          <a:off x="457200" y="2133720"/>
          <a:ext cx="8458200" cy="219384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menta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gl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lu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mantic Correctn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portsc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h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Differ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.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.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</a:tbl>
          </a:graphicData>
        </a:graphic>
      </p:graphicFrame>
      <p:sp>
        <p:nvSpPr>
          <p:cNvPr id="354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0C89-45CF-46AD-9572-1BA1B1292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6" name="PlaceHolder 1"/>
          <p:cNvSpPr>
            <a:spLocks noGrp="1"/>
          </p:cNvSpPr>
          <p:nvPr>
            <p:ph type="title"/>
          </p:nvPr>
        </p:nvSpPr>
        <p:spPr>
          <a:xfrm>
            <a:off x="152280" y="2130120"/>
            <a:ext cx="8839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-Training with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Visual and Textual Views</a:t>
            </a:r>
            <a:br>
              <a:rPr sz="3600"/>
            </a:b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(Gupta, Kim, Grauman &amp; Mooney, ECML-08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4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42BF-8A97-4C98-80E1-5B38DFC0D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AFBB-7A0D-4461-A360-DB0C50B86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SimSun"/>
              </a:rPr>
              <a:t>Semantic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SimSun"/>
              </a:rPr>
              <a:t>semantic pars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maps a natural-language sentence to a complete, detailed semantic representation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SimSun"/>
              </a:rPr>
              <a:t>logical for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SimSun"/>
              </a:rPr>
              <a:t>meaning represent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SimSun"/>
              </a:rPr>
              <a:t>M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For many applications, the desired output is immediately executable by another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Sample test applic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SimSun"/>
              </a:rPr>
              <a:t>CLang: RoboCup Coach Language 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i-Supervised Multi-Modal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mage Classific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49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both images or videos and their textual captions for classif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emi-supervised learning to exploit unlabeled training data in addition to labeled train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?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-trai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(Blum and Mitchell, 1998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sing visual and textual vie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lustrates both language supervising vision  and vision supervis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FC66-E14A-4DD2-B8C1-DA07A68E1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ＭＳ Ｐゴシック"/>
              </a:rPr>
              <a:t>Sample Classified Captioned Imag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3552" name="Picture 6" descr="desert3.jpeg"/>
          <p:cNvPicPr/>
          <p:nvPr/>
        </p:nvPicPr>
        <p:blipFill>
          <a:blip r:embed="rId1"/>
          <a:stretch/>
        </p:blipFill>
        <p:spPr>
          <a:xfrm>
            <a:off x="5257800" y="1371600"/>
            <a:ext cx="3048120" cy="2006640"/>
          </a:xfrm>
          <a:prstGeom prst="rect">
            <a:avLst/>
          </a:prstGeom>
          <a:ln w="0">
            <a:noFill/>
          </a:ln>
        </p:spPr>
      </p:pic>
      <p:pic>
        <p:nvPicPr>
          <p:cNvPr id="3553" name="Picture 7" descr="trees1.jpeg"/>
          <p:cNvPicPr/>
          <p:nvPr/>
        </p:nvPicPr>
        <p:blipFill>
          <a:blip r:embed="rId2"/>
          <a:stretch/>
        </p:blipFill>
        <p:spPr>
          <a:xfrm>
            <a:off x="1905120" y="4114800"/>
            <a:ext cx="2960640" cy="1968480"/>
          </a:xfrm>
          <a:prstGeom prst="rect">
            <a:avLst/>
          </a:prstGeom>
          <a:ln w="0">
            <a:noFill/>
          </a:ln>
        </p:spPr>
      </p:pic>
      <p:pic>
        <p:nvPicPr>
          <p:cNvPr id="3554" name="Picture 8" descr="trees4.jpeg"/>
          <p:cNvPicPr/>
          <p:nvPr/>
        </p:nvPicPr>
        <p:blipFill>
          <a:blip r:embed="rId3"/>
          <a:stretch/>
        </p:blipFill>
        <p:spPr>
          <a:xfrm>
            <a:off x="5257800" y="4114800"/>
            <a:ext cx="2971800" cy="1981080"/>
          </a:xfrm>
          <a:prstGeom prst="rect">
            <a:avLst/>
          </a:prstGeom>
          <a:ln w="0">
            <a:noFill/>
          </a:ln>
        </p:spPr>
      </p:pic>
      <p:sp>
        <p:nvSpPr>
          <p:cNvPr id="3555" name="Rectangle 7"/>
          <p:cNvSpPr/>
          <p:nvPr/>
        </p:nvSpPr>
        <p:spPr>
          <a:xfrm>
            <a:off x="1935360" y="3352680"/>
            <a:ext cx="289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ltivating farming at Nabata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ins of the Ancient Avd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Rectangle 8"/>
          <p:cNvSpPr/>
          <p:nvPr/>
        </p:nvSpPr>
        <p:spPr>
          <a:xfrm>
            <a:off x="5285880" y="3352680"/>
            <a:ext cx="248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douin Leads His Donke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at Carries Load Of Str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Rectangle 9"/>
          <p:cNvSpPr/>
          <p:nvPr/>
        </p:nvSpPr>
        <p:spPr>
          <a:xfrm>
            <a:off x="1938240" y="6094440"/>
            <a:ext cx="230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ex Eating In The N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Rectangle 10"/>
          <p:cNvSpPr/>
          <p:nvPr/>
        </p:nvSpPr>
        <p:spPr>
          <a:xfrm>
            <a:off x="5276520" y="6095880"/>
            <a:ext cx="241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ance To Mikveh Isra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ricultural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9" name="Picture 11" descr="13666"/>
          <p:cNvPicPr/>
          <p:nvPr/>
        </p:nvPicPr>
        <p:blipFill>
          <a:blip r:embed="rId4"/>
          <a:stretch/>
        </p:blipFill>
        <p:spPr>
          <a:xfrm>
            <a:off x="1905120" y="1371600"/>
            <a:ext cx="3043080" cy="2028960"/>
          </a:xfrm>
          <a:prstGeom prst="rect">
            <a:avLst/>
          </a:prstGeom>
          <a:ln w="0">
            <a:noFill/>
          </a:ln>
        </p:spPr>
      </p:pic>
      <p:sp>
        <p:nvSpPr>
          <p:cNvPr id="3560" name="Line 12"/>
          <p:cNvSpPr/>
          <p:nvPr/>
        </p:nvSpPr>
        <p:spPr>
          <a:xfrm>
            <a:off x="533520" y="3962520"/>
            <a:ext cx="8076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Rectangle 13"/>
          <p:cNvSpPr/>
          <p:nvPr/>
        </p:nvSpPr>
        <p:spPr>
          <a:xfrm>
            <a:off x="464040" y="205740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Rectangle 14"/>
          <p:cNvSpPr/>
          <p:nvPr/>
        </p:nvSpPr>
        <p:spPr>
          <a:xfrm>
            <a:off x="447120" y="4800600"/>
            <a:ext cx="10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3" name="Foot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ity of Texas at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Slide Number Placeholder 2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1C49-CD43-4EE1-8D06-F0CCEBE15807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ＭＳ Ｐゴシック"/>
              </a:rPr>
              <a:t>Co-trai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algun Gothic"/>
              </a:rPr>
              <a:t>Semi-supervised learning paradigm that exploits two mutually independent and sufficient 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algun Gothic"/>
              </a:rPr>
              <a:t>Features of dataset can be divided into two se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Gulim"/>
              </a:rPr>
              <a:t>The instance space: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Gulim"/>
              </a:rPr>
              <a:t>Each example: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algun Gothic"/>
              </a:rPr>
              <a:t>Proven to be effective in several dom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Malgun Gothic"/>
              </a:rPr>
              <a:t>Web page classification (content and hyperlink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Malgun Gothic"/>
              </a:rPr>
              <a:t>E-mail classification (header and body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7" name="Object 4"/>
              <p:cNvSpPr txBox="1"/>
              <p:nvPr/>
            </p:nvSpPr>
            <p:spPr>
              <a:xfrm>
                <a:off x="3429000" y="3124080"/>
                <a:ext cx="15112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8" name="Object 6"/>
              <p:cNvSpPr txBox="1"/>
              <p:nvPr/>
            </p:nvSpPr>
            <p:spPr>
              <a:xfrm>
                <a:off x="3429000" y="3505320"/>
                <a:ext cx="16653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Foot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ity of Texas at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Slide Number Placeholder 2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D7C4-8D79-4C2F-B4D6-31BE77BC89E0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ＭＳ Ｐゴシック"/>
              </a:rPr>
              <a:t>Co-trai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3572" name=""/>
          <p:cNvGraphicFramePr/>
          <p:nvPr/>
        </p:nvGraphicFramePr>
        <p:xfrm>
          <a:off x="5181480" y="4419720"/>
          <a:ext cx="533520" cy="16002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3573" name="TextBox 41"/>
          <p:cNvSpPr/>
          <p:nvPr/>
        </p:nvSpPr>
        <p:spPr>
          <a:xfrm>
            <a:off x="838080" y="4572000"/>
            <a:ext cx="11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nitial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abel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nst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Oval 42"/>
          <p:cNvSpPr/>
          <p:nvPr/>
        </p:nvSpPr>
        <p:spPr>
          <a:xfrm>
            <a:off x="4419720" y="2209680"/>
            <a:ext cx="2057400" cy="121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Oval 43"/>
          <p:cNvSpPr/>
          <p:nvPr/>
        </p:nvSpPr>
        <p:spPr>
          <a:xfrm>
            <a:off x="2133720" y="2209680"/>
            <a:ext cx="2057400" cy="121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xt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6" name=""/>
          <p:cNvGraphicFramePr/>
          <p:nvPr/>
        </p:nvGraphicFramePr>
        <p:xfrm>
          <a:off x="2209680" y="4419720"/>
          <a:ext cx="2895840" cy="160020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7" name="Foot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ity of Texas at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Slide Number Placeholder 2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38BC-C6D0-4865-8F9A-6AEAC5BB815A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ＭＳ Ｐゴシック"/>
              </a:rPr>
              <a:t>Co-trai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80" name="TextBox 41"/>
          <p:cNvSpPr/>
          <p:nvPr/>
        </p:nvSpPr>
        <p:spPr>
          <a:xfrm>
            <a:off x="838080" y="4572000"/>
            <a:ext cx="11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nitial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abel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nst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Oval 42"/>
          <p:cNvSpPr/>
          <p:nvPr/>
        </p:nvSpPr>
        <p:spPr>
          <a:xfrm>
            <a:off x="4419720" y="2209680"/>
            <a:ext cx="2057400" cy="121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Oval 43"/>
          <p:cNvSpPr/>
          <p:nvPr/>
        </p:nvSpPr>
        <p:spPr>
          <a:xfrm>
            <a:off x="2133720" y="2209680"/>
            <a:ext cx="2057400" cy="121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xt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TextBox 22"/>
          <p:cNvSpPr/>
          <p:nvPr/>
        </p:nvSpPr>
        <p:spPr>
          <a:xfrm>
            <a:off x="3226680" y="152388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upervised 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4" name=""/>
          <p:cNvGraphicFramePr/>
          <p:nvPr/>
        </p:nvGraphicFramePr>
        <p:xfrm>
          <a:off x="2209680" y="4419720"/>
          <a:ext cx="1447920" cy="160020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85" name=""/>
          <p:cNvGraphicFramePr/>
          <p:nvPr/>
        </p:nvGraphicFramePr>
        <p:xfrm>
          <a:off x="4800600" y="4419720"/>
          <a:ext cx="1447920" cy="160020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86" name=""/>
          <p:cNvGraphicFramePr/>
          <p:nvPr/>
        </p:nvGraphicFramePr>
        <p:xfrm>
          <a:off x="3733920" y="4419720"/>
          <a:ext cx="533160" cy="160020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87" name=""/>
          <p:cNvGraphicFramePr/>
          <p:nvPr/>
        </p:nvGraphicFramePr>
        <p:xfrm>
          <a:off x="6324480" y="4419720"/>
          <a:ext cx="533520" cy="16002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3588" name="Line 87"/>
          <p:cNvSpPr/>
          <p:nvPr/>
        </p:nvSpPr>
        <p:spPr>
          <a:xfrm flipV="1">
            <a:off x="3124080" y="3414600"/>
            <a:ext cx="0" cy="10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Line 88"/>
          <p:cNvSpPr/>
          <p:nvPr/>
        </p:nvSpPr>
        <p:spPr>
          <a:xfrm flipV="1">
            <a:off x="5410080" y="3414600"/>
            <a:ext cx="0" cy="10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1000" fill="hold"/>
                                        <p:tgtEl>
                                          <p:spTgt spid="3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9978b"/>
                                      </p:to>
                                    </p:animClr>
                                    <p:set>
                                      <p:cBhvr>
                                        <p:cTn id="115" dur="1000" fill="hold"/>
                                        <p:tgtEl>
                                          <p:spTgt spid="3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1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7" dur="1000" fill="hold"/>
                                        <p:tgtEl>
                                          <p:spTgt spid="3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d8bc7"/>
                                      </p:to>
                                    </p:animClr>
                                    <p:set>
                                      <p:cBhvr>
                                        <p:cTn id="118" dur="1000" fill="hold"/>
                                        <p:tgtEl>
                                          <p:spTgt spid="3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3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3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3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3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3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Foot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ity of Texas at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Slide Number Placeholder 2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9F6A-4643-4B18-9D50-2A43B1529332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ＭＳ Ｐゴシック"/>
              </a:rPr>
              <a:t>Co-trai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93" name="TextBox 41"/>
          <p:cNvSpPr/>
          <p:nvPr/>
        </p:nvSpPr>
        <p:spPr>
          <a:xfrm>
            <a:off x="838080" y="4572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nlabeled Inst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Oval 42"/>
          <p:cNvSpPr/>
          <p:nvPr/>
        </p:nvSpPr>
        <p:spPr>
          <a:xfrm>
            <a:off x="4419720" y="2209680"/>
            <a:ext cx="2057400" cy="1219320"/>
          </a:xfrm>
          <a:prstGeom prst="ellipse">
            <a:avLst/>
          </a:prstGeom>
          <a:solidFill>
            <a:srgbClr val="d8958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Oval 43"/>
          <p:cNvSpPr/>
          <p:nvPr/>
        </p:nvSpPr>
        <p:spPr>
          <a:xfrm>
            <a:off x="2133720" y="2209680"/>
            <a:ext cx="2057400" cy="12193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xt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6" name=""/>
          <p:cNvGraphicFramePr/>
          <p:nvPr/>
        </p:nvGraphicFramePr>
        <p:xfrm>
          <a:off x="2438280" y="4419720"/>
          <a:ext cx="1447920" cy="160020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97" name=""/>
          <p:cNvGraphicFramePr/>
          <p:nvPr/>
        </p:nvGraphicFramePr>
        <p:xfrm>
          <a:off x="3886200" y="4419720"/>
          <a:ext cx="1447920" cy="160020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98" name=""/>
          <p:cNvGraphicFramePr/>
          <p:nvPr/>
        </p:nvGraphicFramePr>
        <p:xfrm>
          <a:off x="5334120" y="4419720"/>
          <a:ext cx="533160" cy="160020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Foot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ity of Texas at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Slide Number Placeholder 2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D7BC-B377-4F11-9775-A940ED7C7CED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ＭＳ Ｐゴシック"/>
              </a:rPr>
              <a:t>Co-trai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2" name="TextBox 41"/>
          <p:cNvSpPr/>
          <p:nvPr/>
        </p:nvSpPr>
        <p:spPr>
          <a:xfrm>
            <a:off x="228600" y="4572000"/>
            <a:ext cx="17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algun Gothic"/>
              </a:rPr>
              <a:t>Parti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algun Gothic"/>
              </a:rPr>
              <a:t>Labe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algun Gothic"/>
              </a:rPr>
              <a:t>Inst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3" name="TextBox 22"/>
          <p:cNvSpPr/>
          <p:nvPr/>
        </p:nvSpPr>
        <p:spPr>
          <a:xfrm>
            <a:off x="3287160" y="1371600"/>
            <a:ext cx="22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assify mo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nfident inst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Oval 24"/>
          <p:cNvSpPr/>
          <p:nvPr/>
        </p:nvSpPr>
        <p:spPr>
          <a:xfrm>
            <a:off x="2133720" y="2209680"/>
            <a:ext cx="2057400" cy="12193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xt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Oval 26"/>
          <p:cNvSpPr/>
          <p:nvPr/>
        </p:nvSpPr>
        <p:spPr>
          <a:xfrm>
            <a:off x="4419720" y="2209680"/>
            <a:ext cx="2057400" cy="1219320"/>
          </a:xfrm>
          <a:prstGeom prst="ellipse">
            <a:avLst/>
          </a:prstGeom>
          <a:solidFill>
            <a:srgbClr val="d8958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6" name=""/>
          <p:cNvGraphicFramePr/>
          <p:nvPr/>
        </p:nvGraphicFramePr>
        <p:xfrm>
          <a:off x="2209680" y="4419720"/>
          <a:ext cx="1447920" cy="160020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07" name=""/>
          <p:cNvGraphicFramePr/>
          <p:nvPr/>
        </p:nvGraphicFramePr>
        <p:xfrm>
          <a:off x="4800600" y="4419720"/>
          <a:ext cx="1447920" cy="160020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08" name=""/>
          <p:cNvGraphicFramePr/>
          <p:nvPr/>
        </p:nvGraphicFramePr>
        <p:xfrm>
          <a:off x="3733920" y="4419720"/>
          <a:ext cx="533160" cy="160020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09" name=""/>
          <p:cNvGraphicFramePr/>
          <p:nvPr/>
        </p:nvGraphicFramePr>
        <p:xfrm>
          <a:off x="6324480" y="4419720"/>
          <a:ext cx="533520" cy="16002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10" name=""/>
          <p:cNvGraphicFramePr/>
          <p:nvPr/>
        </p:nvGraphicFramePr>
        <p:xfrm>
          <a:off x="3733920" y="4419720"/>
          <a:ext cx="533160" cy="160020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11" name=""/>
          <p:cNvGraphicFramePr/>
          <p:nvPr/>
        </p:nvGraphicFramePr>
        <p:xfrm>
          <a:off x="6324480" y="4419720"/>
          <a:ext cx="533520" cy="16002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3612" name="Line 104"/>
          <p:cNvSpPr/>
          <p:nvPr/>
        </p:nvSpPr>
        <p:spPr>
          <a:xfrm>
            <a:off x="312408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Line 105"/>
          <p:cNvSpPr/>
          <p:nvPr/>
        </p:nvSpPr>
        <p:spPr>
          <a:xfrm>
            <a:off x="548640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Line 106"/>
          <p:cNvSpPr/>
          <p:nvPr/>
        </p:nvSpPr>
        <p:spPr>
          <a:xfrm flipH="1">
            <a:off x="4343400" y="4648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Line 107"/>
          <p:cNvSpPr/>
          <p:nvPr/>
        </p:nvSpPr>
        <p:spPr>
          <a:xfrm flipH="1">
            <a:off x="434340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6" name="Line 108"/>
          <p:cNvSpPr/>
          <p:nvPr/>
        </p:nvSpPr>
        <p:spPr>
          <a:xfrm>
            <a:off x="4343400" y="5029200"/>
            <a:ext cx="38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Line 109"/>
          <p:cNvSpPr/>
          <p:nvPr/>
        </p:nvSpPr>
        <p:spPr>
          <a:xfrm>
            <a:off x="4343400" y="5791320"/>
            <a:ext cx="38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Foot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ity of Texas at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9" name="Slide Number Placeholder 2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B4D7-83C7-4EB7-AB52-EBEE41237D2F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ＭＳ Ｐゴシック"/>
              </a:rPr>
              <a:t>Co-trai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21" name="TextBox 41"/>
          <p:cNvSpPr/>
          <p:nvPr/>
        </p:nvSpPr>
        <p:spPr>
          <a:xfrm>
            <a:off x="228600" y="4572000"/>
            <a:ext cx="17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algun Gothic"/>
              </a:rPr>
              <a:t>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algun Gothic"/>
              </a:rPr>
              <a:t>Labe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algun Gothic"/>
              </a:rPr>
              <a:t>Inst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TextBox 22"/>
          <p:cNvSpPr/>
          <p:nvPr/>
        </p:nvSpPr>
        <p:spPr>
          <a:xfrm>
            <a:off x="3298680" y="1523880"/>
            <a:ext cx="30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abel all views in inst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Oval 17"/>
          <p:cNvSpPr/>
          <p:nvPr/>
        </p:nvSpPr>
        <p:spPr>
          <a:xfrm>
            <a:off x="2133720" y="2209680"/>
            <a:ext cx="2057400" cy="12193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xt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4" name="Oval 19"/>
          <p:cNvSpPr/>
          <p:nvPr/>
        </p:nvSpPr>
        <p:spPr>
          <a:xfrm>
            <a:off x="4419720" y="2209680"/>
            <a:ext cx="2057400" cy="1219320"/>
          </a:xfrm>
          <a:prstGeom prst="ellipse">
            <a:avLst/>
          </a:prstGeom>
          <a:solidFill>
            <a:srgbClr val="d8958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25" name=""/>
          <p:cNvGraphicFramePr/>
          <p:nvPr/>
        </p:nvGraphicFramePr>
        <p:xfrm>
          <a:off x="2209680" y="4419720"/>
          <a:ext cx="1447920" cy="160020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26" name=""/>
          <p:cNvGraphicFramePr/>
          <p:nvPr/>
        </p:nvGraphicFramePr>
        <p:xfrm>
          <a:off x="4800600" y="4419720"/>
          <a:ext cx="1447920" cy="160020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27" name=""/>
          <p:cNvGraphicFramePr/>
          <p:nvPr/>
        </p:nvGraphicFramePr>
        <p:xfrm>
          <a:off x="3733920" y="4419720"/>
          <a:ext cx="533160" cy="160020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e4b2c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e4b2c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28" name=""/>
          <p:cNvGraphicFramePr/>
          <p:nvPr/>
        </p:nvGraphicFramePr>
        <p:xfrm>
          <a:off x="6324480" y="4419720"/>
          <a:ext cx="533520" cy="16002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91fd7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91fd7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3629" name="Line 76"/>
          <p:cNvSpPr/>
          <p:nvPr/>
        </p:nvSpPr>
        <p:spPr>
          <a:xfrm>
            <a:off x="312408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Line 77"/>
          <p:cNvSpPr/>
          <p:nvPr/>
        </p:nvSpPr>
        <p:spPr>
          <a:xfrm>
            <a:off x="548640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1" name="Line 82"/>
          <p:cNvSpPr/>
          <p:nvPr/>
        </p:nvSpPr>
        <p:spPr>
          <a:xfrm flipH="1">
            <a:off x="4343400" y="4648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2" name="Line 83"/>
          <p:cNvSpPr/>
          <p:nvPr/>
        </p:nvSpPr>
        <p:spPr>
          <a:xfrm flipH="1">
            <a:off x="434340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3" name="Line 84"/>
          <p:cNvSpPr/>
          <p:nvPr/>
        </p:nvSpPr>
        <p:spPr>
          <a:xfrm>
            <a:off x="4343400" y="5029200"/>
            <a:ext cx="38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Line 85"/>
          <p:cNvSpPr/>
          <p:nvPr/>
        </p:nvSpPr>
        <p:spPr>
          <a:xfrm>
            <a:off x="4343400" y="5791320"/>
            <a:ext cx="38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Foot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ity of Texas at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6" name="Slide Number Placeholder 2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C656-73C3-4FDA-AA22-B68A133E8651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ＭＳ Ｐゴシック"/>
              </a:rPr>
              <a:t>Co-trai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38" name="TextBox 15"/>
          <p:cNvSpPr/>
          <p:nvPr/>
        </p:nvSpPr>
        <p:spPr>
          <a:xfrm>
            <a:off x="3429000" y="160020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train Classif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Oval 17"/>
          <p:cNvSpPr/>
          <p:nvPr/>
        </p:nvSpPr>
        <p:spPr>
          <a:xfrm>
            <a:off x="2133720" y="2209680"/>
            <a:ext cx="2057400" cy="12193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xt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0" name="Oval 20"/>
          <p:cNvSpPr/>
          <p:nvPr/>
        </p:nvSpPr>
        <p:spPr>
          <a:xfrm>
            <a:off x="4419720" y="2209680"/>
            <a:ext cx="2057400" cy="1219320"/>
          </a:xfrm>
          <a:prstGeom prst="ellipse">
            <a:avLst/>
          </a:prstGeom>
          <a:solidFill>
            <a:srgbClr val="d8958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1" name=""/>
          <p:cNvGraphicFramePr/>
          <p:nvPr/>
        </p:nvGraphicFramePr>
        <p:xfrm>
          <a:off x="2209680" y="4419720"/>
          <a:ext cx="1447920" cy="160020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42" name=""/>
          <p:cNvGraphicFramePr/>
          <p:nvPr/>
        </p:nvGraphicFramePr>
        <p:xfrm>
          <a:off x="4800600" y="4419720"/>
          <a:ext cx="1447920" cy="160020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43" name=""/>
          <p:cNvGraphicFramePr/>
          <p:nvPr/>
        </p:nvGraphicFramePr>
        <p:xfrm>
          <a:off x="3733920" y="4419720"/>
          <a:ext cx="533160" cy="160020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e4b2c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e4b2c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44" name=""/>
          <p:cNvGraphicFramePr/>
          <p:nvPr/>
        </p:nvGraphicFramePr>
        <p:xfrm>
          <a:off x="6324480" y="4419720"/>
          <a:ext cx="533520" cy="16002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91fd7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91fd7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3645" name="Line 75"/>
          <p:cNvSpPr/>
          <p:nvPr/>
        </p:nvSpPr>
        <p:spPr>
          <a:xfrm flipV="1">
            <a:off x="3124080" y="3414600"/>
            <a:ext cx="0" cy="10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Line 76"/>
          <p:cNvSpPr/>
          <p:nvPr/>
        </p:nvSpPr>
        <p:spPr>
          <a:xfrm flipV="1">
            <a:off x="5410080" y="3414600"/>
            <a:ext cx="0" cy="10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2000" fill="hold"/>
                                        <p:tgtEl>
                                          <p:spTgt spid="3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  <p:set>
                                      <p:cBhvr>
                                        <p:cTn id="175" dur="2000" fill="hold"/>
                                        <p:tgtEl>
                                          <p:spTgt spid="3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2000" fill="hold"/>
                                        <p:tgtEl>
                                          <p:spTgt spid="3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7164"/>
                                      </p:to>
                                    </p:animClr>
                                    <p:set>
                                      <p:cBhvr>
                                        <p:cTn id="178" dur="2000" fill="hold"/>
                                        <p:tgtEl>
                                          <p:spTgt spid="3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2000"/>
                                        <p:tgtEl>
                                          <p:spTgt spid="3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2000"/>
                                        <p:tgtEl>
                                          <p:spTgt spid="3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3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3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3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3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Foot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ity of Texas at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Slide Number Placeholder 2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1DA3-8317-41E2-BA46-0C6896F732A7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ＭＳ Ｐゴシック"/>
              </a:rPr>
              <a:t>Co-trai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50" name="TextBox 15"/>
          <p:cNvSpPr/>
          <p:nvPr/>
        </p:nvSpPr>
        <p:spPr>
          <a:xfrm>
            <a:off x="457200" y="13716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bel a new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Oval 17"/>
          <p:cNvSpPr/>
          <p:nvPr/>
        </p:nvSpPr>
        <p:spPr>
          <a:xfrm>
            <a:off x="2133720" y="2209680"/>
            <a:ext cx="2057400" cy="1219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xt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Oval 20"/>
          <p:cNvSpPr/>
          <p:nvPr/>
        </p:nvSpPr>
        <p:spPr>
          <a:xfrm>
            <a:off x="4419720" y="2209680"/>
            <a:ext cx="2057400" cy="1219320"/>
          </a:xfrm>
          <a:prstGeom prst="ellipse">
            <a:avLst/>
          </a:prstGeom>
          <a:solidFill>
            <a:srgbClr val="c96d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3" name=""/>
          <p:cNvGraphicFramePr/>
          <p:nvPr/>
        </p:nvGraphicFramePr>
        <p:xfrm>
          <a:off x="3886200" y="4419720"/>
          <a:ext cx="639720" cy="401400"/>
        </p:xfrm>
        <a:graphic>
          <a:graphicData uri="http://schemas.openxmlformats.org/drawingml/2006/table">
            <a:tbl>
              <a:tblPr/>
              <a:tblGrid>
                <a:gridCol w="371520"/>
                <a:gridCol w="2682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3654" name="Down Arrow 28"/>
          <p:cNvSpPr/>
          <p:nvPr/>
        </p:nvSpPr>
        <p:spPr>
          <a:xfrm>
            <a:off x="4648320" y="4952880"/>
            <a:ext cx="304560" cy="304920"/>
          </a:xfrm>
          <a:prstGeom prst="downArrow">
            <a:avLst>
              <a:gd name="adj1" fmla="val 50000"/>
              <a:gd name="adj2" fmla="val 50059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5" name=""/>
          <p:cNvGraphicFramePr/>
          <p:nvPr/>
        </p:nvGraphicFramePr>
        <p:xfrm>
          <a:off x="2438280" y="4419720"/>
          <a:ext cx="1447920" cy="3999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56" name=""/>
          <p:cNvGraphicFramePr/>
          <p:nvPr/>
        </p:nvGraphicFramePr>
        <p:xfrm>
          <a:off x="4952880" y="4400640"/>
          <a:ext cx="1447920" cy="3999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57" name=""/>
          <p:cNvGraphicFramePr/>
          <p:nvPr/>
        </p:nvGraphicFramePr>
        <p:xfrm>
          <a:off x="3352680" y="5410080"/>
          <a:ext cx="2895840" cy="4017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58" name=""/>
          <p:cNvGraphicFramePr/>
          <p:nvPr/>
        </p:nvGraphicFramePr>
        <p:xfrm>
          <a:off x="6248520" y="5410080"/>
          <a:ext cx="365040" cy="401760"/>
        </p:xfrm>
        <a:graphic>
          <a:graphicData uri="http://schemas.openxmlformats.org/drawingml/2006/table">
            <a:tbl>
              <a:tblPr/>
              <a:tblGrid>
                <a:gridCol w="36504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59" name=""/>
          <p:cNvGraphicFramePr/>
          <p:nvPr/>
        </p:nvGraphicFramePr>
        <p:xfrm>
          <a:off x="6400800" y="4398840"/>
          <a:ext cx="665280" cy="401760"/>
        </p:xfrm>
        <a:graphic>
          <a:graphicData uri="http://schemas.openxmlformats.org/drawingml/2006/table">
            <a:tbl>
              <a:tblPr/>
              <a:tblGrid>
                <a:gridCol w="216000"/>
                <a:gridCol w="44928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60" name="Line 118"/>
          <p:cNvSpPr/>
          <p:nvPr/>
        </p:nvSpPr>
        <p:spPr>
          <a:xfrm>
            <a:off x="312408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Line 119"/>
          <p:cNvSpPr/>
          <p:nvPr/>
        </p:nvSpPr>
        <p:spPr>
          <a:xfrm>
            <a:off x="548640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2" name=""/>
          <p:cNvGraphicFramePr/>
          <p:nvPr/>
        </p:nvGraphicFramePr>
        <p:xfrm>
          <a:off x="3505320" y="1351080"/>
          <a:ext cx="2813040" cy="401400"/>
        </p:xfrm>
        <a:graphic>
          <a:graphicData uri="http://schemas.openxmlformats.org/drawingml/2006/table">
            <a:tbl>
              <a:tblPr/>
              <a:tblGrid>
                <a:gridCol w="1447560"/>
                <a:gridCol w="1365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63" name=""/>
          <p:cNvGraphicFramePr/>
          <p:nvPr/>
        </p:nvGraphicFramePr>
        <p:xfrm>
          <a:off x="6400800" y="1351080"/>
          <a:ext cx="380880" cy="40140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64" name=""/>
          <p:cNvGraphicFramePr/>
          <p:nvPr/>
        </p:nvGraphicFramePr>
        <p:xfrm>
          <a:off x="3886200" y="4419720"/>
          <a:ext cx="639720" cy="401400"/>
        </p:xfrm>
        <a:graphic>
          <a:graphicData uri="http://schemas.openxmlformats.org/drawingml/2006/table">
            <a:tbl>
              <a:tblPr/>
              <a:tblGrid>
                <a:gridCol w="63972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65" name=""/>
          <p:cNvGraphicFramePr/>
          <p:nvPr/>
        </p:nvGraphicFramePr>
        <p:xfrm>
          <a:off x="6400800" y="4398840"/>
          <a:ext cx="639720" cy="401760"/>
        </p:xfrm>
        <a:graphic>
          <a:graphicData uri="http://schemas.openxmlformats.org/drawingml/2006/table">
            <a:tbl>
              <a:tblPr/>
              <a:tblGrid>
                <a:gridCol w="63972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936F-A684-495C-A2CB-BB88956FA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SimSun"/>
              </a:rPr>
              <a:t>CLang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SimSun"/>
              </a:rPr>
              <a:t>: RoboCup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SimSun"/>
              </a:rPr>
              <a:t>C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SimSun"/>
              </a:rPr>
              <a:t>oach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SimSun"/>
              </a:rPr>
              <a:t>Lang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SimSun"/>
              </a:rPr>
              <a:t>uag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In RoboCup Coach competition teams compete to coach simulated soccer p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The coaching instructions are given in a formal language called CL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0" name="Picture 4" descr="soccer1"/>
          <p:cNvPicPr/>
          <p:nvPr/>
        </p:nvPicPr>
        <p:blipFill>
          <a:blip r:embed="rId1"/>
          <a:stretch/>
        </p:blipFill>
        <p:spPr>
          <a:xfrm>
            <a:off x="5638680" y="4267080"/>
            <a:ext cx="3219480" cy="2400480"/>
          </a:xfrm>
          <a:prstGeom prst="rect">
            <a:avLst/>
          </a:prstGeom>
          <a:ln w="0">
            <a:noFill/>
          </a:ln>
        </p:spPr>
      </p:pic>
      <p:sp>
        <p:nvSpPr>
          <p:cNvPr id="2971" name="Text Box 5"/>
          <p:cNvSpPr/>
          <p:nvPr/>
        </p:nvSpPr>
        <p:spPr>
          <a:xfrm>
            <a:off x="6172200" y="3809880"/>
            <a:ext cx="216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SimSun"/>
              </a:rPr>
              <a:t>Simulated soccer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2" name="Group 16"/>
          <p:cNvGrpSpPr/>
          <p:nvPr/>
        </p:nvGrpSpPr>
        <p:grpSpPr>
          <a:xfrm>
            <a:off x="0" y="3276720"/>
            <a:ext cx="4952880" cy="1371600"/>
            <a:chOff x="0" y="3276720"/>
            <a:chExt cx="4952880" cy="1371600"/>
          </a:xfrm>
        </p:grpSpPr>
        <p:sp>
          <p:nvSpPr>
            <p:cNvPr id="2973" name="Text Box 6"/>
            <p:cNvSpPr/>
            <p:nvPr/>
          </p:nvSpPr>
          <p:spPr>
            <a:xfrm>
              <a:off x="0" y="41911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  <a:ea typeface="SimSun"/>
                </a:rPr>
                <a:t>Coa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AutoShape 8"/>
            <p:cNvSpPr/>
            <p:nvPr/>
          </p:nvSpPr>
          <p:spPr>
            <a:xfrm>
              <a:off x="1295280" y="3276720"/>
              <a:ext cx="3657600" cy="1371600"/>
            </a:xfrm>
            <a:prstGeom prst="wedgeEllipseCallout">
              <a:avLst>
                <a:gd name="adj1" fmla="val -61240"/>
                <a:gd name="adj2" fmla="val 2731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Arial"/>
                  <a:ea typeface="SimSun"/>
                </a:rPr>
                <a:t>If the ball is in our penalty area, then all our players except player 4 should stay in our half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5" name="Rectangle 9"/>
          <p:cNvSpPr/>
          <p:nvPr/>
        </p:nvSpPr>
        <p:spPr>
          <a:xfrm>
            <a:off x="914400" y="403848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6" name="Group 18"/>
          <p:cNvGrpSpPr/>
          <p:nvPr/>
        </p:nvGrpSpPr>
        <p:grpSpPr>
          <a:xfrm>
            <a:off x="0" y="5349960"/>
            <a:ext cx="5032440" cy="951120"/>
            <a:chOff x="0" y="5349960"/>
            <a:chExt cx="5032440" cy="951120"/>
          </a:xfrm>
        </p:grpSpPr>
        <p:sp>
          <p:nvSpPr>
            <p:cNvPr id="2977" name="Text Box 7"/>
            <p:cNvSpPr/>
            <p:nvPr/>
          </p:nvSpPr>
          <p:spPr>
            <a:xfrm>
              <a:off x="0" y="54864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  <a:ea typeface="SimSun"/>
                </a:rPr>
                <a:t>CLa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Text Box 10"/>
            <p:cNvSpPr/>
            <p:nvPr/>
          </p:nvSpPr>
          <p:spPr>
            <a:xfrm>
              <a:off x="807840" y="5349960"/>
              <a:ext cx="4224600" cy="95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cc"/>
                  </a:solidFill>
                  <a:latin typeface="Gulim"/>
                  <a:ea typeface="Gulim"/>
                </a:rPr>
                <a:t>((</a:t>
              </a:r>
              <a:r>
                <a:rPr b="1" lang="en-US" sz="1600" spc="-1" strike="noStrike">
                  <a:solidFill>
                    <a:srgbClr val="3333cc"/>
                  </a:solidFill>
                  <a:latin typeface="Gulim"/>
                  <a:ea typeface="Gulim"/>
                </a:rPr>
                <a:t>bpos (penalty-area our)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Gulim"/>
                  <a:ea typeface="Gulim"/>
                </a:rPr>
                <a:t>(do (player-except our{4}) (</a:t>
              </a:r>
              <a:r>
                <a:rPr b="1" i="1" lang="en-US" sz="1600" spc="-1" strike="noStrike">
                  <a:solidFill>
                    <a:srgbClr val="3333cc"/>
                  </a:solidFill>
                  <a:latin typeface="Gulim"/>
                  <a:ea typeface="Gulim"/>
                </a:rPr>
                <a:t>pos</a:t>
              </a:r>
              <a:r>
                <a:rPr b="1" lang="en-US" sz="1600" spc="-1" strike="noStrike">
                  <a:solidFill>
                    <a:srgbClr val="3333cc"/>
                  </a:solidFill>
                  <a:latin typeface="Gulim"/>
                  <a:ea typeface="Gulim"/>
                </a:rPr>
                <a:t> (half our))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9" name="AutoShape 11"/>
          <p:cNvSpPr/>
          <p:nvPr/>
        </p:nvSpPr>
        <p:spPr>
          <a:xfrm>
            <a:off x="990720" y="4038480"/>
            <a:ext cx="609480" cy="609840"/>
          </a:xfrm>
          <a:prstGeom prst="flowChartMagnetic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0" name="Group 17"/>
          <p:cNvGrpSpPr/>
          <p:nvPr/>
        </p:nvGrpSpPr>
        <p:grpSpPr>
          <a:xfrm>
            <a:off x="914040" y="4648320"/>
            <a:ext cx="2210040" cy="685800"/>
            <a:chOff x="914040" y="4648320"/>
            <a:chExt cx="2210040" cy="685800"/>
          </a:xfrm>
        </p:grpSpPr>
        <p:sp>
          <p:nvSpPr>
            <p:cNvPr id="2981" name="Line 12"/>
            <p:cNvSpPr/>
            <p:nvPr/>
          </p:nvSpPr>
          <p:spPr>
            <a:xfrm>
              <a:off x="3124080" y="4648320"/>
              <a:ext cx="0" cy="6858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Text Box 13"/>
            <p:cNvSpPr/>
            <p:nvPr/>
          </p:nvSpPr>
          <p:spPr>
            <a:xfrm>
              <a:off x="914040" y="4724280"/>
              <a:ext cx="217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Arial"/>
                  <a:ea typeface="SimSun"/>
                </a:rPr>
                <a:t>Semantic Pars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3" name="Line 14"/>
          <p:cNvSpPr/>
          <p:nvPr/>
        </p:nvSpPr>
        <p:spPr>
          <a:xfrm>
            <a:off x="5029200" y="5715000"/>
            <a:ext cx="60948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Footer Placeholder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3d84"/>
                </a:solidFill>
                <a:latin typeface="Gill Sans MT"/>
              </a:rPr>
              <a:t>The University of Texas at Aus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Slide Number Placeholder 2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28A9-D456-4841-9021-E8ECC0FB9B6C}" type="slidenum">
              <a:rPr b="0" lang="en-US" sz="1400" spc="-1" strike="noStrike">
                <a:solidFill>
                  <a:srgbClr val="3b3d84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aseline - Individual View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mage/Video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Only image/video features ar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72880" indent="-272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Text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Only textual features are us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0" name="Footer Placeholder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3d84"/>
                </a:solidFill>
                <a:latin typeface="Gill Sans MT"/>
              </a:rPr>
              <a:t>The University of Texas at Aus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Slide Number Placeholder 2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29F0-F8A7-4E97-8FAA-5A1DB2E796B3}" type="slidenum">
              <a:rPr b="0" lang="en-US" sz="1400" spc="-1" strike="noStrike">
                <a:solidFill>
                  <a:srgbClr val="3b3d84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d84"/>
                </a:solidFill>
                <a:latin typeface="Bookman Old Style"/>
              </a:rPr>
              <a:t>Baseline - </a:t>
            </a:r>
            <a:r>
              <a:rPr b="0" lang="en-US" sz="3200" spc="-1" strike="noStrike">
                <a:solidFill>
                  <a:srgbClr val="cc0000"/>
                </a:solidFill>
                <a:latin typeface="Bookman Old Style"/>
              </a:rPr>
              <a:t>Early Fusion</a:t>
            </a:r>
            <a:endParaRPr b="0" lang="en-US" sz="3200" spc="-1" strike="noStrike">
              <a:solidFill>
                <a:srgbClr val="3b3d84"/>
              </a:solidFill>
              <a:latin typeface="Bookman Old Style"/>
            </a:endParaRPr>
          </a:p>
        </p:txBody>
      </p:sp>
      <p:sp>
        <p:nvSpPr>
          <p:cNvPr id="36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catenate visual and textual featur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674" name=""/>
          <p:cNvGraphicFramePr/>
          <p:nvPr/>
        </p:nvGraphicFramePr>
        <p:xfrm>
          <a:off x="4876920" y="1981080"/>
          <a:ext cx="533160" cy="80028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75" name=""/>
          <p:cNvGraphicFramePr/>
          <p:nvPr/>
        </p:nvGraphicFramePr>
        <p:xfrm>
          <a:off x="1905120" y="1981080"/>
          <a:ext cx="2895480" cy="80028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</a:tblGrid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</a:tbl>
          </a:graphicData>
        </a:graphic>
      </p:graphicFrame>
      <p:sp>
        <p:nvSpPr>
          <p:cNvPr id="3676" name="AutoShape 41"/>
          <p:cNvSpPr/>
          <p:nvPr/>
        </p:nvSpPr>
        <p:spPr>
          <a:xfrm>
            <a:off x="3276720" y="297180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Oval 43"/>
          <p:cNvSpPr/>
          <p:nvPr/>
        </p:nvSpPr>
        <p:spPr>
          <a:xfrm>
            <a:off x="2438280" y="3581280"/>
            <a:ext cx="2057400" cy="121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Rectangle 45"/>
          <p:cNvSpPr/>
          <p:nvPr/>
        </p:nvSpPr>
        <p:spPr>
          <a:xfrm>
            <a:off x="3737160" y="297180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AutoShape 47"/>
          <p:cNvSpPr/>
          <p:nvPr/>
        </p:nvSpPr>
        <p:spPr>
          <a:xfrm>
            <a:off x="3286080" y="49528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Rectangle 48"/>
          <p:cNvSpPr/>
          <p:nvPr/>
        </p:nvSpPr>
        <p:spPr>
          <a:xfrm>
            <a:off x="3745800" y="495288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1" name=""/>
          <p:cNvGraphicFramePr/>
          <p:nvPr/>
        </p:nvGraphicFramePr>
        <p:xfrm>
          <a:off x="1981080" y="5770440"/>
          <a:ext cx="2895840" cy="4017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82" name=""/>
          <p:cNvGraphicFramePr/>
          <p:nvPr/>
        </p:nvGraphicFramePr>
        <p:xfrm>
          <a:off x="4876920" y="5770440"/>
          <a:ext cx="365040" cy="401760"/>
        </p:xfrm>
        <a:graphic>
          <a:graphicData uri="http://schemas.openxmlformats.org/drawingml/2006/table">
            <a:tbl>
              <a:tblPr/>
              <a:tblGrid>
                <a:gridCol w="36504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Footer Placeholder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3d84"/>
                </a:solidFill>
                <a:latin typeface="Gill Sans MT"/>
              </a:rPr>
              <a:t>The University of Texas at Aus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Slide Number Placeholder 2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A082-2DE8-492C-ADC2-96FE88EEA3B7}" type="slidenum">
              <a:rPr b="0" lang="en-US" sz="1400" spc="-1" strike="noStrike">
                <a:solidFill>
                  <a:srgbClr val="3b3d84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d84"/>
                </a:solidFill>
                <a:latin typeface="Bookman Old Style"/>
              </a:rPr>
              <a:t>Baseline - </a:t>
            </a:r>
            <a:r>
              <a:rPr b="0" lang="en-US" sz="3200" spc="-1" strike="noStrike">
                <a:solidFill>
                  <a:srgbClr val="cc0000"/>
                </a:solidFill>
                <a:latin typeface="Bookman Old Style"/>
              </a:rPr>
              <a:t>Late Fusion</a:t>
            </a:r>
            <a:endParaRPr b="0" lang="en-US" sz="3200" spc="-1" strike="noStrike">
              <a:solidFill>
                <a:srgbClr val="3b3d84"/>
              </a:solidFill>
              <a:latin typeface="Bookman Old Style"/>
            </a:endParaRPr>
          </a:p>
        </p:txBody>
      </p:sp>
      <p:sp>
        <p:nvSpPr>
          <p:cNvPr id="3686" name="Oval 42"/>
          <p:cNvSpPr/>
          <p:nvPr/>
        </p:nvSpPr>
        <p:spPr>
          <a:xfrm>
            <a:off x="4800600" y="2743200"/>
            <a:ext cx="2057400" cy="1219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Oval 43"/>
          <p:cNvSpPr/>
          <p:nvPr/>
        </p:nvSpPr>
        <p:spPr>
          <a:xfrm>
            <a:off x="2362320" y="2743200"/>
            <a:ext cx="2057400" cy="1219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xt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8" name=""/>
          <p:cNvGraphicFramePr/>
          <p:nvPr/>
        </p:nvGraphicFramePr>
        <p:xfrm>
          <a:off x="2438280" y="1219320"/>
          <a:ext cx="1447920" cy="79992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7ca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89" name=""/>
          <p:cNvGraphicFramePr/>
          <p:nvPr/>
        </p:nvGraphicFramePr>
        <p:xfrm>
          <a:off x="4724280" y="1219320"/>
          <a:ext cx="1447920" cy="79992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90" name=""/>
          <p:cNvGraphicFramePr/>
          <p:nvPr/>
        </p:nvGraphicFramePr>
        <p:xfrm>
          <a:off x="3962520" y="1219320"/>
          <a:ext cx="533160" cy="7999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91" name=""/>
          <p:cNvGraphicFramePr/>
          <p:nvPr/>
        </p:nvGraphicFramePr>
        <p:xfrm>
          <a:off x="6248520" y="1219320"/>
          <a:ext cx="533160" cy="7999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3692" name="Line 112"/>
          <p:cNvSpPr/>
          <p:nvPr/>
        </p:nvSpPr>
        <p:spPr>
          <a:xfrm>
            <a:off x="3276720" y="2057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Line 113"/>
          <p:cNvSpPr/>
          <p:nvPr/>
        </p:nvSpPr>
        <p:spPr>
          <a:xfrm>
            <a:off x="5791320" y="2057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Rectangle 114"/>
          <p:cNvSpPr/>
          <p:nvPr/>
        </p:nvSpPr>
        <p:spPr>
          <a:xfrm>
            <a:off x="3813120" y="220968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5" name=""/>
          <p:cNvGraphicFramePr/>
          <p:nvPr/>
        </p:nvGraphicFramePr>
        <p:xfrm>
          <a:off x="4114800" y="4932360"/>
          <a:ext cx="639720" cy="401760"/>
        </p:xfrm>
        <a:graphic>
          <a:graphicData uri="http://schemas.openxmlformats.org/drawingml/2006/table">
            <a:tbl>
              <a:tblPr/>
              <a:tblGrid>
                <a:gridCol w="371520"/>
                <a:gridCol w="26820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3696" name="Down Arrow 28"/>
          <p:cNvSpPr/>
          <p:nvPr/>
        </p:nvSpPr>
        <p:spPr>
          <a:xfrm>
            <a:off x="4876920" y="5465880"/>
            <a:ext cx="304560" cy="3045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7" name=""/>
          <p:cNvGraphicFramePr/>
          <p:nvPr/>
        </p:nvGraphicFramePr>
        <p:xfrm>
          <a:off x="2666880" y="4932360"/>
          <a:ext cx="1447920" cy="3999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7ca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98" name=""/>
          <p:cNvGraphicFramePr/>
          <p:nvPr/>
        </p:nvGraphicFramePr>
        <p:xfrm>
          <a:off x="5181480" y="4913280"/>
          <a:ext cx="1447920" cy="3999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99" name=""/>
          <p:cNvGraphicFramePr/>
          <p:nvPr/>
        </p:nvGraphicFramePr>
        <p:xfrm>
          <a:off x="3581280" y="5923080"/>
          <a:ext cx="2895840" cy="40140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Tex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Visual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958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00" name=""/>
          <p:cNvGraphicFramePr/>
          <p:nvPr/>
        </p:nvGraphicFramePr>
        <p:xfrm>
          <a:off x="6477120" y="5923080"/>
          <a:ext cx="365040" cy="401400"/>
        </p:xfrm>
        <a:graphic>
          <a:graphicData uri="http://schemas.openxmlformats.org/drawingml/2006/table">
            <a:tbl>
              <a:tblPr/>
              <a:tblGrid>
                <a:gridCol w="36504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01" name=""/>
          <p:cNvGraphicFramePr/>
          <p:nvPr/>
        </p:nvGraphicFramePr>
        <p:xfrm>
          <a:off x="6629400" y="4911840"/>
          <a:ext cx="665280" cy="401400"/>
        </p:xfrm>
        <a:graphic>
          <a:graphicData uri="http://schemas.openxmlformats.org/drawingml/2006/table">
            <a:tbl>
              <a:tblPr/>
              <a:tblGrid>
                <a:gridCol w="216000"/>
                <a:gridCol w="44928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2" name="Line 157"/>
          <p:cNvSpPr/>
          <p:nvPr/>
        </p:nvSpPr>
        <p:spPr>
          <a:xfrm>
            <a:off x="3352680" y="394164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3" name="Line 158"/>
          <p:cNvSpPr/>
          <p:nvPr/>
        </p:nvSpPr>
        <p:spPr>
          <a:xfrm>
            <a:off x="5715000" y="394164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04" name=""/>
          <p:cNvGraphicFramePr/>
          <p:nvPr/>
        </p:nvGraphicFramePr>
        <p:xfrm>
          <a:off x="4114800" y="4932360"/>
          <a:ext cx="639720" cy="401760"/>
        </p:xfrm>
        <a:graphic>
          <a:graphicData uri="http://schemas.openxmlformats.org/drawingml/2006/table">
            <a:tbl>
              <a:tblPr/>
              <a:tblGrid>
                <a:gridCol w="63972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05" name=""/>
          <p:cNvGraphicFramePr/>
          <p:nvPr/>
        </p:nvGraphicFramePr>
        <p:xfrm>
          <a:off x="6629400" y="4911840"/>
          <a:ext cx="639720" cy="401400"/>
        </p:xfrm>
        <a:graphic>
          <a:graphicData uri="http://schemas.openxmlformats.org/drawingml/2006/table">
            <a:tbl>
              <a:tblPr/>
              <a:tblGrid>
                <a:gridCol w="63972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06" name="Rectangle 172"/>
          <p:cNvSpPr/>
          <p:nvPr/>
        </p:nvSpPr>
        <p:spPr>
          <a:xfrm>
            <a:off x="3800160" y="3987720"/>
            <a:ext cx="19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bel a n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1000" fill="hold"/>
                                        <p:tgtEl>
                                          <p:spTgt spid="36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e4b2c"/>
                                      </p:to>
                                    </p:animClr>
                                    <p:set>
                                      <p:cBhvr>
                                        <p:cTn id="257" dur="1000" fill="hold"/>
                                        <p:tgtEl>
                                          <p:spTgt spid="36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1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59" dur="1000" fill="hold"/>
                                        <p:tgtEl>
                                          <p:spTgt spid="3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27ca3"/>
                                      </p:to>
                                    </p:animClr>
                                    <p:set>
                                      <p:cBhvr>
                                        <p:cTn id="260" dur="1000" fill="hold"/>
                                        <p:tgtEl>
                                          <p:spTgt spid="3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7" name="Foot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ity of Texas at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Slide Number Placeholder 2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800D-41AE-441C-BA5B-2E12B385612D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ＭＳ Ｐゴシック"/>
              </a:rPr>
              <a:t>Image Dataset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1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ur captioned image data is taken from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ＭＳ Ｐゴシック"/>
              </a:rPr>
              <a:t>(Bekkerman &amp; Jeon CVPR ‘0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ＭＳ Ｐゴシック"/>
                <a:hlinkClick r:id="rId1"/>
              </a:rPr>
              <a:t>www.israelimages.c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5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sists of images with short text cap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5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sed two classes, Desert and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5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 total of 362 in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ext and Visual Featur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12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Text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standard bag of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Image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tandard bag of visual words that capture texture and color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CBA7-5515-48D1-B057-2352803E7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4" name="Foot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ity of Texas at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5" name="Slide Number Placeholder 2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2A7B-A92F-4882-B9ED-C0D619E59CAF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ＭＳ Ｐゴシック"/>
              </a:rPr>
              <a:t>Experimental Methodolog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est set is disjoint fro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labeled and unlabeled training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plotting learning curves, vary the percentage of training examples labeled, rest used as unlabeled data for co-trai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VM with RBF kernel is used as base classifier for both visual and text classif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ll experiments are evaluated with 10 iterations of 10-fold cross-valid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Curves for Israel Imag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1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C66B-E089-4A82-9057-8416F4269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0" name="Picture 6" descr="fig2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Using Closed Captions to Supervise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ctivity Recognition in Videos</a:t>
            </a:r>
            <a:br>
              <a:rPr sz="3600"/>
            </a:b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(Gupta &amp; Mooney, VCL-09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1AD9-D59D-43DC-B0DA-A1E08F545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ctivity Recognition in Video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4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gnizing activities in video generally uses supervised learning trained on human-labeled video cli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guistic information in closed captions (CCs)  can be used as “weak supervision” for training activity recogniz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ally trained activity recognizers can be used to improve precision of video retrieval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D4C1-7192-456E-AE6F-4649CBBDE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ample Soccer Videos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3727" name="Rectangle 3"/>
          <p:cNvSpPr/>
          <p:nvPr/>
        </p:nvSpPr>
        <p:spPr>
          <a:xfrm>
            <a:off x="314280" y="5958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Rectangle 4"/>
          <p:cNvSpPr/>
          <p:nvPr/>
        </p:nvSpPr>
        <p:spPr>
          <a:xfrm>
            <a:off x="2441160" y="1434960"/>
            <a:ext cx="2195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I do not th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there is any real inten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just trying to make 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he gets his body acros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but it was a free </a:t>
            </a: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kick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 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Rectangle 5"/>
          <p:cNvSpPr/>
          <p:nvPr/>
        </p:nvSpPr>
        <p:spPr>
          <a:xfrm>
            <a:off x="2506320" y="3216240"/>
            <a:ext cx="83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Love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kick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Rectangle 6"/>
          <p:cNvSpPr/>
          <p:nvPr/>
        </p:nvSpPr>
        <p:spPr>
          <a:xfrm>
            <a:off x="2503440" y="480060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Goal </a:t>
            </a: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kick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Rectangle 7"/>
          <p:cNvSpPr/>
          <p:nvPr/>
        </p:nvSpPr>
        <p:spPr>
          <a:xfrm>
            <a:off x="7143840" y="146376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Good </a:t>
            </a: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save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 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wel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Rectangle 8"/>
          <p:cNvSpPr/>
          <p:nvPr/>
        </p:nvSpPr>
        <p:spPr>
          <a:xfrm>
            <a:off x="7080120" y="3124080"/>
            <a:ext cx="198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I think br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made a wonderfu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fingertip </a:t>
            </a: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save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 there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Rectangle 9"/>
          <p:cNvSpPr/>
          <p:nvPr/>
        </p:nvSpPr>
        <p:spPr>
          <a:xfrm>
            <a:off x="7129440" y="4740120"/>
            <a:ext cx="164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And it is a re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chopped </a:t>
            </a: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save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Rectangle 10"/>
          <p:cNvSpPr/>
          <p:nvPr/>
        </p:nvSpPr>
        <p:spPr>
          <a:xfrm>
            <a:off x="1818360" y="7621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1516"/>
                </a:solidFill>
                <a:latin typeface="Palatino"/>
                <a:ea typeface="ＭＳ Ｐゴシック"/>
              </a:rPr>
              <a:t>K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5" name="Rectangle 11"/>
          <p:cNvSpPr/>
          <p:nvPr/>
        </p:nvSpPr>
        <p:spPr>
          <a:xfrm>
            <a:off x="6302520" y="6858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1516"/>
                </a:solidFill>
                <a:latin typeface="Palatino"/>
                <a:ea typeface="ＭＳ Ｐゴシック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6" name="kick2-new.mpg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2133360" cy="1454400"/>
          </a:xfrm>
          <a:prstGeom prst="rect">
            <a:avLst/>
          </a:prstGeom>
          <a:ln w="0">
            <a:noFill/>
          </a:ln>
        </p:spPr>
      </p:pic>
      <p:pic>
        <p:nvPicPr>
          <p:cNvPr id="3737" name="kick3.mpg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2209680" cy="1506240"/>
          </a:xfrm>
          <a:prstGeom prst="rect">
            <a:avLst/>
          </a:prstGeom>
          <a:ln w="0">
            <a:noFill/>
          </a:ln>
        </p:spPr>
      </p:pic>
      <p:pic>
        <p:nvPicPr>
          <p:cNvPr id="3738" name="kick4.mpg" descr=""/>
          <p:cNvPicPr/>
          <p:nvPr/>
        </p:nvPicPr>
        <p:blipFill>
          <a:blip r:embed="rId3"/>
          <a:stretch/>
        </p:blipFill>
        <p:spPr>
          <a:xfrm>
            <a:off x="304920" y="4419720"/>
            <a:ext cx="2209680" cy="1506240"/>
          </a:xfrm>
          <a:prstGeom prst="rect">
            <a:avLst/>
          </a:prstGeom>
          <a:ln w="0">
            <a:noFill/>
          </a:ln>
        </p:spPr>
      </p:pic>
      <p:pic>
        <p:nvPicPr>
          <p:cNvPr id="3739" name="save1.mpg" descr=""/>
          <p:cNvPicPr/>
          <p:nvPr/>
        </p:nvPicPr>
        <p:blipFill>
          <a:blip r:embed="rId4"/>
          <a:stretch/>
        </p:blipFill>
        <p:spPr>
          <a:xfrm>
            <a:off x="4800600" y="1219320"/>
            <a:ext cx="2235240" cy="1523880"/>
          </a:xfrm>
          <a:prstGeom prst="rect">
            <a:avLst/>
          </a:prstGeom>
          <a:ln w="0">
            <a:noFill/>
          </a:ln>
        </p:spPr>
      </p:pic>
      <p:pic>
        <p:nvPicPr>
          <p:cNvPr id="3740" name="save2.mpg" descr=""/>
          <p:cNvPicPr/>
          <p:nvPr/>
        </p:nvPicPr>
        <p:blipFill>
          <a:blip r:embed="rId5"/>
          <a:stretch/>
        </p:blipFill>
        <p:spPr>
          <a:xfrm>
            <a:off x="4800600" y="2819520"/>
            <a:ext cx="2209680" cy="1506240"/>
          </a:xfrm>
          <a:prstGeom prst="rect">
            <a:avLst/>
          </a:prstGeom>
          <a:ln w="0">
            <a:noFill/>
          </a:ln>
        </p:spPr>
      </p:pic>
      <p:pic>
        <p:nvPicPr>
          <p:cNvPr id="3741" name="save3.mpg" descr=""/>
          <p:cNvPicPr/>
          <p:nvPr/>
        </p:nvPicPr>
        <p:blipFill>
          <a:blip r:embed="rId6"/>
          <a:stretch/>
        </p:blipFill>
        <p:spPr>
          <a:xfrm>
            <a:off x="4876920" y="4419720"/>
            <a:ext cx="2235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8476" fill="hold"/>
                                        <p:tgtEl>
                                          <p:spTgt spid="37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8476"/>
                            </p:stCondLst>
                            <p:childTnLst>
                              <p:par>
                                <p:cTn id="3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8476" fill="hold"/>
                                        <p:tgtEl>
                                          <p:spTgt spid="37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6952"/>
                            </p:stCondLst>
                            <p:childTnLst>
                              <p:par>
                                <p:cTn id="3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4" dur="15987" fill="hold"/>
                                        <p:tgtEl>
                                          <p:spTgt spid="37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2939"/>
                            </p:stCondLst>
                            <p:childTnLst>
                              <p:par>
                                <p:cTn id="3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7" dur="8476" fill="hold"/>
                                        <p:tgtEl>
                                          <p:spTgt spid="37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1415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8476" fill="hold"/>
                                        <p:tgtEl>
                                          <p:spTgt spid="37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49891"/>
                            </p:stCondLst>
                            <p:childTnLst>
                              <p:par>
                                <p:cTn id="3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15987" fill="hold"/>
                                        <p:tgtEl>
                                          <p:spTgt spid="37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3736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3736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8" dur="1" fill="hold"/>
                                        <p:tgtEl>
                                          <p:spTgt spid="37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3737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3737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3" dur="1" fill="hold"/>
                                        <p:tgtEl>
                                          <p:spTgt spid="37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3738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3738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8" dur="1" fill="hold"/>
                                        <p:tgtEl>
                                          <p:spTgt spid="37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3739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3739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3" dur="1" fill="hold"/>
                                        <p:tgtEl>
                                          <p:spTgt spid="37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3740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3740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8" dur="1" fill="hold"/>
                                        <p:tgtEl>
                                          <p:spTgt spid="37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9" restart="whenNotActive" nodeType="interactiveSeq" fill="hold">
                <p:stCondLst>
                  <p:cond evt="onClick">
                    <p:tgtEl>
                      <p:spTgt spid="3741"/>
                    </p:tgtEl>
                  </p:cond>
                </p:stCondLst>
                <p:childTnLst>
                  <p:par>
                    <p:cTn id="340" fill="hold">
                      <p:stCondLst>
                        <p:cond evt="onClick">
                          <p:tgtEl>
                            <p:spTgt spid="3741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3" dur="1" fill="hold"/>
                                        <p:tgtEl>
                                          <p:spTgt spid="37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DD9F-DF5E-4D9F-9497-291745730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SimSun"/>
              </a:rPr>
              <a:t>Learning Semantic Parser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Manually programming robust semantic parsers is difficult due to the complexity of the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Semantic parsers can be learned automatically from sentences paired with their logical fo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Oval 4"/>
          <p:cNvSpPr/>
          <p:nvPr/>
        </p:nvSpPr>
        <p:spPr>
          <a:xfrm>
            <a:off x="1369800" y="3686040"/>
            <a:ext cx="2127960" cy="994680"/>
          </a:xfrm>
          <a:prstGeom prst="ellipse">
            <a:avLst/>
          </a:prstGeom>
          <a:solidFill>
            <a:srgbClr val="5f6d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NL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M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Training Ex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8" name="Group 5"/>
          <p:cNvGrpSpPr/>
          <p:nvPr/>
        </p:nvGrpSpPr>
        <p:grpSpPr>
          <a:xfrm>
            <a:off x="3457440" y="3856320"/>
            <a:ext cx="2666880" cy="703800"/>
            <a:chOff x="3457440" y="3856320"/>
            <a:chExt cx="2666880" cy="703800"/>
          </a:xfrm>
        </p:grpSpPr>
        <p:sp>
          <p:nvSpPr>
            <p:cNvPr id="2989" name="Rectangle 6"/>
            <p:cNvSpPr/>
            <p:nvPr/>
          </p:nvSpPr>
          <p:spPr>
            <a:xfrm>
              <a:off x="4163400" y="3856320"/>
              <a:ext cx="1960920" cy="703800"/>
            </a:xfrm>
            <a:prstGeom prst="rect">
              <a:avLst/>
            </a:prstGeom>
            <a:solidFill>
              <a:srgbClr val="ff3b3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Semantic-Par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Line 7"/>
            <p:cNvSpPr/>
            <p:nvPr/>
          </p:nvSpPr>
          <p:spPr>
            <a:xfrm>
              <a:off x="3457440" y="4155840"/>
              <a:ext cx="70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1" name="Group 8"/>
          <p:cNvGrpSpPr/>
          <p:nvPr/>
        </p:nvGrpSpPr>
        <p:grpSpPr>
          <a:xfrm>
            <a:off x="1824120" y="4905000"/>
            <a:ext cx="2395440" cy="994680"/>
            <a:chOff x="1824120" y="4905000"/>
            <a:chExt cx="2395440" cy="994680"/>
          </a:xfrm>
        </p:grpSpPr>
        <p:sp>
          <p:nvSpPr>
            <p:cNvPr id="2992" name="Oval 9"/>
            <p:cNvSpPr/>
            <p:nvPr/>
          </p:nvSpPr>
          <p:spPr>
            <a:xfrm>
              <a:off x="1824120" y="4905000"/>
              <a:ext cx="1677600" cy="994680"/>
            </a:xfrm>
            <a:prstGeom prst="ellipse">
              <a:avLst/>
            </a:prstGeom>
            <a:solidFill>
              <a:srgbClr val="5f6d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Natur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Line 10"/>
            <p:cNvSpPr/>
            <p:nvPr/>
          </p:nvSpPr>
          <p:spPr>
            <a:xfrm>
              <a:off x="3457440" y="53751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4" name="Oval 11"/>
          <p:cNvSpPr/>
          <p:nvPr/>
        </p:nvSpPr>
        <p:spPr>
          <a:xfrm>
            <a:off x="6305400" y="4913640"/>
            <a:ext cx="1535400" cy="994680"/>
          </a:xfrm>
          <a:prstGeom prst="ellipse">
            <a:avLst/>
          </a:prstGeom>
          <a:solidFill>
            <a:srgbClr val="5f6d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Mea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R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Line 12"/>
          <p:cNvSpPr/>
          <p:nvPr/>
        </p:nvSpPr>
        <p:spPr>
          <a:xfrm>
            <a:off x="5954760" y="5388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6" name="Group 13"/>
          <p:cNvGrpSpPr/>
          <p:nvPr/>
        </p:nvGrpSpPr>
        <p:grpSpPr>
          <a:xfrm>
            <a:off x="4219560" y="4537080"/>
            <a:ext cx="1752480" cy="1242360"/>
            <a:chOff x="4219560" y="4537080"/>
            <a:chExt cx="1752480" cy="1242360"/>
          </a:xfrm>
        </p:grpSpPr>
        <p:sp>
          <p:nvSpPr>
            <p:cNvPr id="2997" name="Rectangle 14"/>
            <p:cNvSpPr/>
            <p:nvPr/>
          </p:nvSpPr>
          <p:spPr>
            <a:xfrm>
              <a:off x="4219560" y="5075640"/>
              <a:ext cx="1752480" cy="703800"/>
            </a:xfrm>
            <a:prstGeom prst="rect">
              <a:avLst/>
            </a:prstGeom>
            <a:solidFill>
              <a:srgbClr val="ff3b3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Seman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Par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Line 15"/>
            <p:cNvSpPr/>
            <p:nvPr/>
          </p:nvSpPr>
          <p:spPr>
            <a:xfrm>
              <a:off x="5057640" y="45370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2" name="Rectangle 2"/>
          <p:cNvSpPr/>
          <p:nvPr/>
        </p:nvSpPr>
        <p:spPr>
          <a:xfrm>
            <a:off x="2445120" y="996840"/>
            <a:ext cx="2242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If you 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defending a lead, y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throw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 back takes it t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far up the pitch and g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a </a:t>
            </a: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throw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-in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3" name="Rectangle 3"/>
          <p:cNvSpPr/>
          <p:nvPr/>
        </p:nvSpPr>
        <p:spPr>
          <a:xfrm>
            <a:off x="2461680" y="4959360"/>
            <a:ext cx="1752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And Car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Tevez has won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throw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4" name="Rectangle 4"/>
          <p:cNvSpPr/>
          <p:nvPr/>
        </p:nvSpPr>
        <p:spPr>
          <a:xfrm>
            <a:off x="2454480" y="2901960"/>
            <a:ext cx="170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An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shot for a </a:t>
            </a: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throw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Rectangle 5"/>
          <p:cNvSpPr/>
          <p:nvPr/>
        </p:nvSpPr>
        <p:spPr>
          <a:xfrm>
            <a:off x="7167960" y="2825640"/>
            <a:ext cx="2066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When th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are going to pass it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the back, it is a real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pure</a:t>
            </a: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 touch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Rectangle 6"/>
          <p:cNvSpPr/>
          <p:nvPr/>
        </p:nvSpPr>
        <p:spPr>
          <a:xfrm>
            <a:off x="7169400" y="4883040"/>
            <a:ext cx="2091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Look 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that, Henry, again, 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had time on the ball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take another </a:t>
            </a: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touch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and prepare that b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properly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Rectangle 7"/>
          <p:cNvSpPr/>
          <p:nvPr/>
        </p:nvSpPr>
        <p:spPr>
          <a:xfrm>
            <a:off x="7205040" y="1006560"/>
            <a:ext cx="201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All 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needed was a </a:t>
            </a: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touch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8" name="Rectangle 8"/>
          <p:cNvSpPr/>
          <p:nvPr/>
        </p:nvSpPr>
        <p:spPr>
          <a:xfrm>
            <a:off x="1344960" y="152280"/>
            <a:ext cx="11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1516"/>
                </a:solidFill>
                <a:latin typeface="Palatino"/>
                <a:ea typeface="ＭＳ Ｐゴシック"/>
              </a:rPr>
              <a:t>Th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Rectangle 9"/>
          <p:cNvSpPr/>
          <p:nvPr/>
        </p:nvSpPr>
        <p:spPr>
          <a:xfrm>
            <a:off x="6106320" y="1522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1516"/>
                </a:solidFill>
                <a:latin typeface="Palatino"/>
                <a:ea typeface="ＭＳ Ｐゴシック"/>
              </a:rPr>
              <a:t>To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0" name="throw1.mpg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2346480" cy="1600200"/>
          </a:xfrm>
          <a:prstGeom prst="rect">
            <a:avLst/>
          </a:prstGeom>
          <a:ln w="0">
            <a:noFill/>
          </a:ln>
        </p:spPr>
      </p:pic>
      <p:pic>
        <p:nvPicPr>
          <p:cNvPr id="3751" name="throw2.mpg" descr=""/>
          <p:cNvPicPr/>
          <p:nvPr/>
        </p:nvPicPr>
        <p:blipFill>
          <a:blip r:embed="rId2"/>
          <a:stretch/>
        </p:blipFill>
        <p:spPr>
          <a:xfrm>
            <a:off x="152280" y="2743200"/>
            <a:ext cx="2362320" cy="1611360"/>
          </a:xfrm>
          <a:prstGeom prst="rect">
            <a:avLst/>
          </a:prstGeom>
          <a:ln w="0">
            <a:noFill/>
          </a:ln>
        </p:spPr>
      </p:pic>
      <p:pic>
        <p:nvPicPr>
          <p:cNvPr id="3752" name="throw4.mpg" descr=""/>
          <p:cNvPicPr/>
          <p:nvPr/>
        </p:nvPicPr>
        <p:blipFill>
          <a:blip r:embed="rId3"/>
          <a:stretch/>
        </p:blipFill>
        <p:spPr>
          <a:xfrm>
            <a:off x="152280" y="4495680"/>
            <a:ext cx="2362320" cy="1611360"/>
          </a:xfrm>
          <a:prstGeom prst="rect">
            <a:avLst/>
          </a:prstGeom>
          <a:ln w="0">
            <a:noFill/>
          </a:ln>
        </p:spPr>
      </p:pic>
      <p:pic>
        <p:nvPicPr>
          <p:cNvPr id="3753" name="touch2.mpg" descr=""/>
          <p:cNvPicPr/>
          <p:nvPr/>
        </p:nvPicPr>
        <p:blipFill>
          <a:blip r:embed="rId4"/>
          <a:stretch/>
        </p:blipFill>
        <p:spPr>
          <a:xfrm>
            <a:off x="4876920" y="838080"/>
            <a:ext cx="2361960" cy="1611360"/>
          </a:xfrm>
          <a:prstGeom prst="rect">
            <a:avLst/>
          </a:prstGeom>
          <a:ln w="0">
            <a:noFill/>
          </a:ln>
        </p:spPr>
      </p:pic>
      <p:pic>
        <p:nvPicPr>
          <p:cNvPr id="3754" name="touch3.mpg" descr=""/>
          <p:cNvPicPr/>
          <p:nvPr/>
        </p:nvPicPr>
        <p:blipFill>
          <a:blip r:embed="rId5"/>
          <a:stretch/>
        </p:blipFill>
        <p:spPr>
          <a:xfrm>
            <a:off x="4876920" y="2743200"/>
            <a:ext cx="2361960" cy="1611360"/>
          </a:xfrm>
          <a:prstGeom prst="rect">
            <a:avLst/>
          </a:prstGeom>
          <a:ln w="0">
            <a:noFill/>
          </a:ln>
        </p:spPr>
      </p:pic>
      <p:pic>
        <p:nvPicPr>
          <p:cNvPr id="3755" name="touch4.mpg" descr=""/>
          <p:cNvPicPr/>
          <p:nvPr/>
        </p:nvPicPr>
        <p:blipFill>
          <a:blip r:embed="rId6"/>
          <a:stretch/>
        </p:blipFill>
        <p:spPr>
          <a:xfrm>
            <a:off x="4876920" y="4484520"/>
            <a:ext cx="23619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9" dur="15987" fill="hold"/>
                                        <p:tgtEl>
                                          <p:spTgt spid="37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987"/>
                            </p:stCondLst>
                            <p:childTnLst>
                              <p:par>
                                <p:cTn id="3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7975" fill="hold"/>
                                        <p:tgtEl>
                                          <p:spTgt spid="37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3962"/>
                            </p:stCondLst>
                            <p:childTnLst>
                              <p:par>
                                <p:cTn id="3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5" dur="8476" fill="hold"/>
                                        <p:tgtEl>
                                          <p:spTgt spid="37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2438"/>
                            </p:stCondLst>
                            <p:childTnLst>
                              <p:par>
                                <p:cTn id="3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8" dur="8476" fill="hold"/>
                                        <p:tgtEl>
                                          <p:spTgt spid="37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914"/>
                            </p:stCondLst>
                            <p:childTnLst>
                              <p:par>
                                <p:cTn id="3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1" dur="8476" fill="hold"/>
                                        <p:tgtEl>
                                          <p:spTgt spid="37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9390"/>
                            </p:stCondLst>
                            <p:childTnLst>
                              <p:par>
                                <p:cTn id="3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4" dur="8476" fill="hold"/>
                                        <p:tgtEl>
                                          <p:spTgt spid="37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3750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3750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9" dur="1" fill="hold"/>
                                        <p:tgtEl>
                                          <p:spTgt spid="37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3751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3751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4" dur="1" fill="hold"/>
                                        <p:tgtEl>
                                          <p:spTgt spid="37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3752"/>
                    </p:tgtEl>
                  </p:cond>
                </p:stCondLst>
                <p:childTnLst>
                  <p:par>
                    <p:cTn id="376" fill="hold">
                      <p:stCondLst>
                        <p:cond evt="onClick">
                          <p:tgtEl>
                            <p:spTgt spid="3752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9" dur="1" fill="hold"/>
                                        <p:tgtEl>
                                          <p:spTgt spid="37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3753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3753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4" dur="1" fill="hold"/>
                                        <p:tgtEl>
                                          <p:spTgt spid="37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3754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3754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9" dur="1" fill="hold"/>
                                        <p:tgtEl>
                                          <p:spTgt spid="37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3755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3755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4" dur="1" fill="hold"/>
                                        <p:tgtEl>
                                          <p:spTgt spid="37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Slide Numb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49F1-5A10-4503-BA47-A763E34FDF11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Using Video Closed-Cap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s contains both relevant and irrelevant inform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Beautiful pull-back.” </a:t>
            </a:r>
            <a:r>
              <a:rPr b="1" i="1" lang="en-US" sz="2800" spc="-1" strike="noStrike">
                <a:solidFill>
                  <a:srgbClr val="8a1516"/>
                </a:solidFill>
                <a:latin typeface="Times New Roman"/>
              </a:rPr>
              <a:t>relevan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They scored in the last kick of the game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against the Czech Republic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.” </a:t>
            </a: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irrelevan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That is a fairly good tackle.” </a:t>
            </a:r>
            <a:r>
              <a:rPr b="1" i="1" lang="en-US" sz="2800" spc="-1" strike="noStrike">
                <a:solidFill>
                  <a:srgbClr val="8a1516"/>
                </a:solidFill>
                <a:latin typeface="Times New Roman"/>
              </a:rPr>
              <a:t>relevan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Turkey can be well-pleased with the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way they started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.” </a:t>
            </a: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irrelevan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novel caption classifier to </a:t>
            </a:r>
            <a:r>
              <a:rPr b="1" i="1" lang="en-US" sz="3200" spc="-1" strike="noStrike">
                <a:solidFill>
                  <a:srgbClr val="8a1516"/>
                </a:solidFill>
                <a:latin typeface="Times New Roman"/>
              </a:rPr>
              <a:t>ran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trieved video clips by relev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11B9-5C47-4511-ACCE-8BA1A89B9A83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0" name="Rectangle 18"/>
          <p:cNvSpPr/>
          <p:nvPr/>
        </p:nvSpPr>
        <p:spPr>
          <a:xfrm>
            <a:off x="4944960" y="1222200"/>
            <a:ext cx="22654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786"/>
                </a:solidFill>
                <a:latin typeface="Calibri"/>
                <a:ea typeface="ＭＳ Ｐゴシック"/>
              </a:rPr>
              <a:t>Manually Labeled Ca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1" name="Rectangle 25"/>
          <p:cNvSpPr/>
          <p:nvPr/>
        </p:nvSpPr>
        <p:spPr>
          <a:xfrm>
            <a:off x="168120" y="5181480"/>
            <a:ext cx="8384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786"/>
                </a:solidFill>
                <a:latin typeface="Calibri"/>
                <a:ea typeface="ＭＳ Ｐゴシック"/>
              </a:rPr>
              <a:t>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2" name="Rectangle 26"/>
          <p:cNvSpPr/>
          <p:nvPr/>
        </p:nvSpPr>
        <p:spPr>
          <a:xfrm>
            <a:off x="168120" y="5791320"/>
            <a:ext cx="11430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786"/>
                </a:solidFill>
                <a:latin typeface="Calibri"/>
                <a:ea typeface="ＭＳ Ｐゴシック"/>
              </a:rPr>
              <a:t>Captio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786"/>
                </a:solidFill>
                <a:latin typeface="Calibri"/>
                <a:ea typeface="ＭＳ Ｐゴシック"/>
              </a:rPr>
              <a:t>Vid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3" name="Line 41"/>
          <p:cNvSpPr/>
          <p:nvPr/>
        </p:nvSpPr>
        <p:spPr>
          <a:xfrm>
            <a:off x="320760" y="4307040"/>
            <a:ext cx="8493120" cy="1440"/>
          </a:xfrm>
          <a:prstGeom prst="line">
            <a:avLst/>
          </a:prstGeom>
          <a:ln w="3240">
            <a:solidFill>
              <a:srgbClr val="1f478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4" name="Rectangle 42"/>
          <p:cNvSpPr/>
          <p:nvPr/>
        </p:nvSpPr>
        <p:spPr>
          <a:xfrm>
            <a:off x="7326360" y="205740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786"/>
                </a:solidFill>
                <a:latin typeface="Calibri"/>
                <a:ea typeface="ＭＳ Ｐゴシック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5" name="Rectangle 43"/>
          <p:cNvSpPr/>
          <p:nvPr/>
        </p:nvSpPr>
        <p:spPr>
          <a:xfrm>
            <a:off x="7675560" y="547992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786"/>
                </a:solidFill>
                <a:latin typeface="Calibri"/>
                <a:ea typeface="ＭＳ Ｐゴシック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6" name="Rectangle 49"/>
          <p:cNvSpPr/>
          <p:nvPr/>
        </p:nvSpPr>
        <p:spPr>
          <a:xfrm>
            <a:off x="253080" y="1219320"/>
            <a:ext cx="102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786"/>
                </a:solidFill>
                <a:latin typeface="Calibri"/>
                <a:ea typeface="ＭＳ Ｐゴシック"/>
              </a:rPr>
              <a:t>Captio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786"/>
                </a:solidFill>
                <a:latin typeface="Calibri"/>
                <a:ea typeface="ＭＳ Ｐゴシック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786"/>
                </a:solidFill>
                <a:latin typeface="Calibri"/>
                <a:ea typeface="ＭＳ Ｐゴシック"/>
              </a:rPr>
              <a:t>Vide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7" name="Group 57"/>
          <p:cNvGrpSpPr/>
          <p:nvPr/>
        </p:nvGrpSpPr>
        <p:grpSpPr>
          <a:xfrm>
            <a:off x="3292560" y="2118960"/>
            <a:ext cx="1752480" cy="1867680"/>
            <a:chOff x="3292560" y="2118960"/>
            <a:chExt cx="1752480" cy="1867680"/>
          </a:xfrm>
        </p:grpSpPr>
        <p:sp>
          <p:nvSpPr>
            <p:cNvPr id="3768" name="Rectangle 9"/>
            <p:cNvSpPr/>
            <p:nvPr/>
          </p:nvSpPr>
          <p:spPr>
            <a:xfrm>
              <a:off x="3292560" y="2997360"/>
              <a:ext cx="1752480" cy="98928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1f47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Vide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Classif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69" name="Straight Arrow Connector 60"/>
            <p:cNvCxnSpPr/>
            <p:nvPr/>
          </p:nvCxnSpPr>
          <p:spPr>
            <a:xfrm flipH="1">
              <a:off x="4128840" y="2118960"/>
              <a:ext cx="2160" cy="764280"/>
            </a:xfrm>
            <a:prstGeom prst="straightConnector1">
              <a:avLst/>
            </a:prstGeom>
            <a:ln w="15840">
              <a:solidFill>
                <a:srgbClr val="1f4786"/>
              </a:solidFill>
              <a:miter/>
              <a:tailEnd len="lg" type="stealth" w="lg"/>
            </a:ln>
          </p:spPr>
        </p:cxnSp>
      </p:grpSp>
      <p:cxnSp>
        <p:nvCxnSpPr>
          <p:cNvPr id="3770" name="Straight Arrow Connector 72"/>
          <p:cNvCxnSpPr/>
          <p:nvPr/>
        </p:nvCxnSpPr>
        <p:spPr>
          <a:xfrm>
            <a:off x="4205880" y="3962160"/>
            <a:ext cx="610200" cy="991080"/>
          </a:xfrm>
          <a:prstGeom prst="straightConnector1">
            <a:avLst/>
          </a:prstGeom>
          <a:ln w="15840">
            <a:solidFill>
              <a:srgbClr val="1f4786"/>
            </a:solidFill>
            <a:miter/>
            <a:tailEnd len="lg" type="stealth" w="lg"/>
          </a:ln>
        </p:spPr>
      </p:cxnSp>
      <p:cxnSp>
        <p:nvCxnSpPr>
          <p:cNvPr id="3771" name="Straight Arrow Connector 74"/>
          <p:cNvCxnSpPr/>
          <p:nvPr/>
        </p:nvCxnSpPr>
        <p:spPr>
          <a:xfrm flipH="1">
            <a:off x="5425560" y="3962160"/>
            <a:ext cx="612000" cy="991080"/>
          </a:xfrm>
          <a:prstGeom prst="straightConnector1">
            <a:avLst/>
          </a:prstGeom>
          <a:ln w="15840">
            <a:solidFill>
              <a:srgbClr val="1f4786"/>
            </a:solidFill>
            <a:miter/>
            <a:tailEnd len="lg" type="stealth" w="lg"/>
          </a:ln>
        </p:spPr>
      </p:cxnSp>
      <p:grpSp>
        <p:nvGrpSpPr>
          <p:cNvPr id="3772" name="Group 42"/>
          <p:cNvGrpSpPr/>
          <p:nvPr/>
        </p:nvGrpSpPr>
        <p:grpSpPr>
          <a:xfrm>
            <a:off x="5730840" y="5275440"/>
            <a:ext cx="1981080" cy="821880"/>
            <a:chOff x="5730840" y="5275440"/>
            <a:chExt cx="1981080" cy="821880"/>
          </a:xfrm>
        </p:grpSpPr>
        <p:sp>
          <p:nvSpPr>
            <p:cNvPr id="3773" name="Rectangle 38"/>
            <p:cNvSpPr/>
            <p:nvPr/>
          </p:nvSpPr>
          <p:spPr>
            <a:xfrm>
              <a:off x="6237360" y="5275440"/>
              <a:ext cx="147456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Ranked Lis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o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Video Cli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74" name="Straight Arrow Connector 86"/>
            <p:cNvCxnSpPr/>
            <p:nvPr/>
          </p:nvCxnSpPr>
          <p:spPr>
            <a:xfrm>
              <a:off x="5730840" y="5715000"/>
              <a:ext cx="837360" cy="2160"/>
            </a:xfrm>
            <a:prstGeom prst="straightConnector1">
              <a:avLst/>
            </a:prstGeom>
            <a:ln w="15840">
              <a:solidFill>
                <a:srgbClr val="1f4786"/>
              </a:solidFill>
              <a:miter/>
              <a:tailEnd len="lg" type="stealth" w="lg"/>
            </a:ln>
          </p:spPr>
        </p:cxnSp>
      </p:grpSp>
      <p:grpSp>
        <p:nvGrpSpPr>
          <p:cNvPr id="3775" name="Group 59"/>
          <p:cNvGrpSpPr/>
          <p:nvPr/>
        </p:nvGrpSpPr>
        <p:grpSpPr>
          <a:xfrm>
            <a:off x="853920" y="4964040"/>
            <a:ext cx="2192400" cy="1636920"/>
            <a:chOff x="853920" y="4964040"/>
            <a:chExt cx="2192400" cy="1636920"/>
          </a:xfrm>
        </p:grpSpPr>
        <p:cxnSp>
          <p:nvCxnSpPr>
            <p:cNvPr id="3776" name="Straight Arrow Connector 83"/>
            <p:cNvCxnSpPr/>
            <p:nvPr/>
          </p:nvCxnSpPr>
          <p:spPr>
            <a:xfrm>
              <a:off x="855720" y="5396040"/>
              <a:ext cx="837360" cy="2160"/>
            </a:xfrm>
            <a:prstGeom prst="straightConnector1">
              <a:avLst/>
            </a:prstGeom>
            <a:ln w="15840">
              <a:solidFill>
                <a:srgbClr val="1f4786"/>
              </a:solidFill>
              <a:miter/>
              <a:tailEnd len="lg" type="stealth" w="lg"/>
            </a:ln>
          </p:spPr>
        </p:cxnSp>
        <p:cxnSp>
          <p:nvCxnSpPr>
            <p:cNvPr id="3777" name="Straight Arrow Connector 85"/>
            <p:cNvCxnSpPr/>
            <p:nvPr/>
          </p:nvCxnSpPr>
          <p:spPr>
            <a:xfrm>
              <a:off x="853920" y="6172200"/>
              <a:ext cx="837360" cy="2160"/>
            </a:xfrm>
            <a:prstGeom prst="straightConnector1">
              <a:avLst/>
            </a:prstGeom>
            <a:ln w="15840">
              <a:solidFill>
                <a:srgbClr val="1f4786"/>
              </a:solidFill>
              <a:miter/>
              <a:tailEnd len="lg" type="stealth" w="lg"/>
            </a:ln>
          </p:spPr>
        </p:cxnSp>
        <p:grpSp>
          <p:nvGrpSpPr>
            <p:cNvPr id="3778" name="Group 45"/>
            <p:cNvGrpSpPr/>
            <p:nvPr/>
          </p:nvGrpSpPr>
          <p:grpSpPr>
            <a:xfrm>
              <a:off x="1768320" y="4964040"/>
              <a:ext cx="1278000" cy="1636920"/>
              <a:chOff x="1768320" y="4964040"/>
              <a:chExt cx="1278000" cy="1636920"/>
            </a:xfrm>
          </p:grpSpPr>
          <p:sp>
            <p:nvSpPr>
              <p:cNvPr id="3779" name="AutoShape 12"/>
              <p:cNvSpPr/>
              <p:nvPr/>
            </p:nvSpPr>
            <p:spPr>
              <a:xfrm>
                <a:off x="1768320" y="4964040"/>
                <a:ext cx="1278000" cy="1636920"/>
              </a:xfrm>
              <a:prstGeom prst="flowChartProcess">
                <a:avLst/>
              </a:prstGeom>
              <a:solidFill>
                <a:srgbClr val="99ccff"/>
              </a:solidFill>
              <a:ln w="19080">
                <a:solidFill>
                  <a:srgbClr val="1f47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Rectangle 13"/>
              <p:cNvSpPr/>
              <p:nvPr/>
            </p:nvSpPr>
            <p:spPr>
              <a:xfrm>
                <a:off x="1844640" y="5265720"/>
                <a:ext cx="1143000" cy="106524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Caption Based Video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Retrie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81" name="Group 51"/>
          <p:cNvGrpSpPr/>
          <p:nvPr/>
        </p:nvGrpSpPr>
        <p:grpSpPr>
          <a:xfrm>
            <a:off x="1235160" y="787320"/>
            <a:ext cx="1811160" cy="1636920"/>
            <a:chOff x="1235160" y="787320"/>
            <a:chExt cx="1811160" cy="1636920"/>
          </a:xfrm>
        </p:grpSpPr>
        <p:grpSp>
          <p:nvGrpSpPr>
            <p:cNvPr id="3782" name="Group 44"/>
            <p:cNvGrpSpPr/>
            <p:nvPr/>
          </p:nvGrpSpPr>
          <p:grpSpPr>
            <a:xfrm>
              <a:off x="1768320" y="787320"/>
              <a:ext cx="1278000" cy="1636920"/>
              <a:chOff x="1768320" y="787320"/>
              <a:chExt cx="1278000" cy="1636920"/>
            </a:xfrm>
          </p:grpSpPr>
          <p:sp>
            <p:nvSpPr>
              <p:cNvPr id="3783" name="AutoShape 12"/>
              <p:cNvSpPr/>
              <p:nvPr/>
            </p:nvSpPr>
            <p:spPr>
              <a:xfrm>
                <a:off x="1768320" y="787320"/>
                <a:ext cx="1278000" cy="1636920"/>
              </a:xfrm>
              <a:prstGeom prst="flowChartProcess">
                <a:avLst/>
              </a:prstGeom>
              <a:solidFill>
                <a:srgbClr val="99ccff"/>
              </a:solidFill>
              <a:ln w="19080">
                <a:solidFill>
                  <a:srgbClr val="1f47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Rectangle 13"/>
              <p:cNvSpPr/>
              <p:nvPr/>
            </p:nvSpPr>
            <p:spPr>
              <a:xfrm>
                <a:off x="1844640" y="1089000"/>
                <a:ext cx="1143000" cy="106524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Caption Based Video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Retrie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5" name="Line 50"/>
            <p:cNvSpPr/>
            <p:nvPr/>
          </p:nvSpPr>
          <p:spPr>
            <a:xfrm>
              <a:off x="1235160" y="1585800"/>
              <a:ext cx="533160" cy="0"/>
            </a:xfrm>
            <a:prstGeom prst="line">
              <a:avLst/>
            </a:prstGeom>
            <a:ln w="9360">
              <a:solidFill>
                <a:srgbClr val="1f4786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6" name="Group 53"/>
          <p:cNvGrpSpPr/>
          <p:nvPr/>
        </p:nvGrpSpPr>
        <p:grpSpPr>
          <a:xfrm>
            <a:off x="3063960" y="1219320"/>
            <a:ext cx="2057400" cy="821880"/>
            <a:chOff x="3063960" y="1219320"/>
            <a:chExt cx="2057400" cy="821880"/>
          </a:xfrm>
        </p:grpSpPr>
        <p:sp>
          <p:nvSpPr>
            <p:cNvPr id="3787" name="Rectangle 17"/>
            <p:cNvSpPr/>
            <p:nvPr/>
          </p:nvSpPr>
          <p:spPr>
            <a:xfrm>
              <a:off x="3597120" y="1219320"/>
              <a:ext cx="15242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Automaticall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Labele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Video Cli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Line 52"/>
            <p:cNvSpPr/>
            <p:nvPr/>
          </p:nvSpPr>
          <p:spPr>
            <a:xfrm>
              <a:off x="3063960" y="1585800"/>
              <a:ext cx="533160" cy="0"/>
            </a:xfrm>
            <a:prstGeom prst="line">
              <a:avLst/>
            </a:prstGeom>
            <a:ln w="9360">
              <a:solidFill>
                <a:srgbClr val="1f4786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9" name="Group 60"/>
          <p:cNvGrpSpPr/>
          <p:nvPr/>
        </p:nvGrpSpPr>
        <p:grpSpPr>
          <a:xfrm>
            <a:off x="2987640" y="4968720"/>
            <a:ext cx="2763720" cy="1636920"/>
            <a:chOff x="2987640" y="4968720"/>
            <a:chExt cx="2763720" cy="1636920"/>
          </a:xfrm>
        </p:grpSpPr>
        <p:grpSp>
          <p:nvGrpSpPr>
            <p:cNvPr id="3790" name="Group 39"/>
            <p:cNvGrpSpPr/>
            <p:nvPr/>
          </p:nvGrpSpPr>
          <p:grpSpPr>
            <a:xfrm>
              <a:off x="4473720" y="4968720"/>
              <a:ext cx="1277640" cy="1636920"/>
              <a:chOff x="4473720" y="4968720"/>
              <a:chExt cx="1277640" cy="1636920"/>
            </a:xfrm>
          </p:grpSpPr>
          <p:sp>
            <p:nvSpPr>
              <p:cNvPr id="3791" name="AutoShape 12"/>
              <p:cNvSpPr/>
              <p:nvPr/>
            </p:nvSpPr>
            <p:spPr>
              <a:xfrm>
                <a:off x="4473720" y="4968720"/>
                <a:ext cx="1277640" cy="1636920"/>
              </a:xfrm>
              <a:prstGeom prst="flowChartProcess">
                <a:avLst/>
              </a:prstGeom>
              <a:solidFill>
                <a:srgbClr val="00ccff"/>
              </a:solidFill>
              <a:ln w="19080">
                <a:solidFill>
                  <a:srgbClr val="1f47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Rectangle 13"/>
              <p:cNvSpPr/>
              <p:nvPr/>
            </p:nvSpPr>
            <p:spPr>
              <a:xfrm>
                <a:off x="4511520" y="5449680"/>
                <a:ext cx="1218960" cy="57852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Video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Rank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3" name="Rectangle 29"/>
            <p:cNvSpPr/>
            <p:nvPr/>
          </p:nvSpPr>
          <p:spPr>
            <a:xfrm>
              <a:off x="2987640" y="5181480"/>
              <a:ext cx="144792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Retriev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Cli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Line 54"/>
            <p:cNvSpPr/>
            <p:nvPr/>
          </p:nvSpPr>
          <p:spPr>
            <a:xfrm>
              <a:off x="3063960" y="5762520"/>
              <a:ext cx="1371600" cy="0"/>
            </a:xfrm>
            <a:prstGeom prst="line">
              <a:avLst/>
            </a:prstGeom>
            <a:ln w="9360">
              <a:solidFill>
                <a:srgbClr val="1f4786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5" name="Group 58"/>
          <p:cNvGrpSpPr/>
          <p:nvPr/>
        </p:nvGrpSpPr>
        <p:grpSpPr>
          <a:xfrm>
            <a:off x="5197320" y="2118960"/>
            <a:ext cx="1752840" cy="1881720"/>
            <a:chOff x="5197320" y="2118960"/>
            <a:chExt cx="1752840" cy="1881720"/>
          </a:xfrm>
        </p:grpSpPr>
        <p:sp>
          <p:nvSpPr>
            <p:cNvPr id="3796" name="Rectangle 9"/>
            <p:cNvSpPr/>
            <p:nvPr/>
          </p:nvSpPr>
          <p:spPr>
            <a:xfrm>
              <a:off x="5197320" y="3011400"/>
              <a:ext cx="1752840" cy="98928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1f47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Ca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Classif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97" name="Straight Arrow Connector 60"/>
            <p:cNvCxnSpPr/>
            <p:nvPr/>
          </p:nvCxnSpPr>
          <p:spPr>
            <a:xfrm flipH="1">
              <a:off x="6109920" y="2118960"/>
              <a:ext cx="2160" cy="764280"/>
            </a:xfrm>
            <a:prstGeom prst="straightConnector1">
              <a:avLst/>
            </a:prstGeom>
            <a:ln w="15840">
              <a:solidFill>
                <a:srgbClr val="1f4786"/>
              </a:solidFill>
              <a:miter/>
              <a:tailEnd len="lg" type="stealth" w="lg"/>
            </a:ln>
          </p:spPr>
        </p:cxnSp>
      </p:grpSp>
      <p:sp>
        <p:nvSpPr>
          <p:cNvPr id="3798" name="TextBox 41"/>
          <p:cNvSpPr/>
          <p:nvPr/>
        </p:nvSpPr>
        <p:spPr>
          <a:xfrm>
            <a:off x="3762000" y="228600"/>
            <a:ext cx="45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Osaka"/>
              </a:rPr>
              <a:t>SYSTEM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C185-4229-4389-AB5F-07A455D8F511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0" name="Rectangle 38"/>
          <p:cNvSpPr/>
          <p:nvPr/>
        </p:nvSpPr>
        <p:spPr>
          <a:xfrm>
            <a:off x="1676520" y="527040"/>
            <a:ext cx="1447560" cy="182880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1" name="Group 78"/>
          <p:cNvGrpSpPr/>
          <p:nvPr/>
        </p:nvGrpSpPr>
        <p:grpSpPr>
          <a:xfrm>
            <a:off x="152280" y="609480"/>
            <a:ext cx="8645760" cy="5818320"/>
            <a:chOff x="152280" y="609480"/>
            <a:chExt cx="8645760" cy="5818320"/>
          </a:xfrm>
        </p:grpSpPr>
        <p:sp>
          <p:nvSpPr>
            <p:cNvPr id="3802" name="Rectangle 18"/>
            <p:cNvSpPr/>
            <p:nvPr/>
          </p:nvSpPr>
          <p:spPr>
            <a:xfrm>
              <a:off x="4929120" y="1044720"/>
              <a:ext cx="226548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Manually Labeled Cap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Rectangle 25"/>
            <p:cNvSpPr/>
            <p:nvPr/>
          </p:nvSpPr>
          <p:spPr>
            <a:xfrm>
              <a:off x="152280" y="5003640"/>
              <a:ext cx="8384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Que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Rectangle 26"/>
            <p:cNvSpPr/>
            <p:nvPr/>
          </p:nvSpPr>
          <p:spPr>
            <a:xfrm>
              <a:off x="152280" y="5613480"/>
              <a:ext cx="114300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Captio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Vide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Line 41"/>
            <p:cNvSpPr/>
            <p:nvPr/>
          </p:nvSpPr>
          <p:spPr>
            <a:xfrm>
              <a:off x="304920" y="4129200"/>
              <a:ext cx="8493120" cy="1440"/>
            </a:xfrm>
            <a:prstGeom prst="line">
              <a:avLst/>
            </a:prstGeom>
            <a:ln w="3240">
              <a:solidFill>
                <a:srgbClr val="1f478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Rectangle 42"/>
            <p:cNvSpPr/>
            <p:nvPr/>
          </p:nvSpPr>
          <p:spPr>
            <a:xfrm>
              <a:off x="7310520" y="1879560"/>
              <a:ext cx="121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Trai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Rectangle 43"/>
            <p:cNvSpPr/>
            <p:nvPr/>
          </p:nvSpPr>
          <p:spPr>
            <a:xfrm>
              <a:off x="7659720" y="530208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Tes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Rectangle 49"/>
            <p:cNvSpPr/>
            <p:nvPr/>
          </p:nvSpPr>
          <p:spPr>
            <a:xfrm>
              <a:off x="251640" y="1041480"/>
              <a:ext cx="102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Captio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Trai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Vide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9" name="Group 86"/>
            <p:cNvGrpSpPr/>
            <p:nvPr/>
          </p:nvGrpSpPr>
          <p:grpSpPr>
            <a:xfrm>
              <a:off x="3276720" y="1941120"/>
              <a:ext cx="1752480" cy="1867680"/>
              <a:chOff x="3276720" y="1941120"/>
              <a:chExt cx="1752480" cy="1867680"/>
            </a:xfrm>
          </p:grpSpPr>
          <p:sp>
            <p:nvSpPr>
              <p:cNvPr id="3810" name="Rectangle 9"/>
              <p:cNvSpPr/>
              <p:nvPr/>
            </p:nvSpPr>
            <p:spPr>
              <a:xfrm>
                <a:off x="3276720" y="2819520"/>
                <a:ext cx="1752480" cy="989280"/>
              </a:xfrm>
              <a:prstGeom prst="rect">
                <a:avLst/>
              </a:prstGeom>
              <a:solidFill>
                <a:srgbClr val="ff9900"/>
              </a:solidFill>
              <a:ln w="19080">
                <a:solidFill>
                  <a:srgbClr val="1f47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Vide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 </a:t>
                </a: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Classifi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811" name="Straight Arrow Connector 60"/>
              <p:cNvCxnSpPr/>
              <p:nvPr/>
            </p:nvCxnSpPr>
            <p:spPr>
              <a:xfrm flipH="1">
                <a:off x="4113000" y="1941120"/>
                <a:ext cx="2160" cy="764280"/>
              </a:xfrm>
              <a:prstGeom prst="straightConnector1">
                <a:avLst/>
              </a:prstGeom>
              <a:ln w="15840">
                <a:solidFill>
                  <a:srgbClr val="1f4786"/>
                </a:solidFill>
                <a:miter/>
                <a:tailEnd len="lg" type="stealth" w="lg"/>
              </a:ln>
            </p:spPr>
          </p:cxnSp>
        </p:grpSp>
        <p:cxnSp>
          <p:nvCxnSpPr>
            <p:cNvPr id="3812" name="Straight Arrow Connector 72"/>
            <p:cNvCxnSpPr/>
            <p:nvPr/>
          </p:nvCxnSpPr>
          <p:spPr>
            <a:xfrm>
              <a:off x="4190040" y="3784320"/>
              <a:ext cx="610200" cy="991080"/>
            </a:xfrm>
            <a:prstGeom prst="straightConnector1">
              <a:avLst/>
            </a:prstGeom>
            <a:ln w="15840">
              <a:solidFill>
                <a:srgbClr val="1f4786"/>
              </a:solidFill>
              <a:miter/>
              <a:tailEnd len="lg" type="stealth" w="lg"/>
            </a:ln>
          </p:spPr>
        </p:cxnSp>
        <p:cxnSp>
          <p:nvCxnSpPr>
            <p:cNvPr id="3813" name="Straight Arrow Connector 74"/>
            <p:cNvCxnSpPr/>
            <p:nvPr/>
          </p:nvCxnSpPr>
          <p:spPr>
            <a:xfrm flipH="1">
              <a:off x="5409720" y="3784320"/>
              <a:ext cx="612000" cy="991080"/>
            </a:xfrm>
            <a:prstGeom prst="straightConnector1">
              <a:avLst/>
            </a:prstGeom>
            <a:ln w="15840">
              <a:solidFill>
                <a:srgbClr val="1f4786"/>
              </a:solidFill>
              <a:miter/>
              <a:tailEnd len="lg" type="stealth" w="lg"/>
            </a:ln>
          </p:spPr>
        </p:cxnSp>
        <p:grpSp>
          <p:nvGrpSpPr>
            <p:cNvPr id="3814" name="Group 91"/>
            <p:cNvGrpSpPr/>
            <p:nvPr/>
          </p:nvGrpSpPr>
          <p:grpSpPr>
            <a:xfrm>
              <a:off x="5715000" y="5097600"/>
              <a:ext cx="1981080" cy="821880"/>
              <a:chOff x="5715000" y="5097600"/>
              <a:chExt cx="1981080" cy="821880"/>
            </a:xfrm>
          </p:grpSpPr>
          <p:sp>
            <p:nvSpPr>
              <p:cNvPr id="3815" name="Rectangle 38"/>
              <p:cNvSpPr/>
              <p:nvPr/>
            </p:nvSpPr>
            <p:spPr>
              <a:xfrm>
                <a:off x="6221520" y="5097600"/>
                <a:ext cx="1474560" cy="82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Ranked List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Video Clip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816" name="Straight Arrow Connector 86"/>
              <p:cNvCxnSpPr/>
              <p:nvPr/>
            </p:nvCxnSpPr>
            <p:spPr>
              <a:xfrm>
                <a:off x="5715000" y="5537160"/>
                <a:ext cx="837360" cy="2160"/>
              </a:xfrm>
              <a:prstGeom prst="straightConnector1">
                <a:avLst/>
              </a:prstGeom>
              <a:ln w="15840">
                <a:solidFill>
                  <a:srgbClr val="1f4786"/>
                </a:solidFill>
                <a:miter/>
                <a:tailEnd len="lg" type="stealth" w="lg"/>
              </a:ln>
            </p:spPr>
          </p:cxnSp>
        </p:grpSp>
        <p:grpSp>
          <p:nvGrpSpPr>
            <p:cNvPr id="3817" name="Group 94"/>
            <p:cNvGrpSpPr/>
            <p:nvPr/>
          </p:nvGrpSpPr>
          <p:grpSpPr>
            <a:xfrm>
              <a:off x="838080" y="4786200"/>
              <a:ext cx="2192400" cy="1636920"/>
              <a:chOff x="838080" y="4786200"/>
              <a:chExt cx="2192400" cy="1636920"/>
            </a:xfrm>
          </p:grpSpPr>
          <p:cxnSp>
            <p:nvCxnSpPr>
              <p:cNvPr id="3818" name="Straight Arrow Connector 83"/>
              <p:cNvCxnSpPr/>
              <p:nvPr/>
            </p:nvCxnSpPr>
            <p:spPr>
              <a:xfrm>
                <a:off x="839880" y="5218200"/>
                <a:ext cx="837360" cy="2160"/>
              </a:xfrm>
              <a:prstGeom prst="straightConnector1">
                <a:avLst/>
              </a:prstGeom>
              <a:ln w="15840">
                <a:solidFill>
                  <a:srgbClr val="1f4786"/>
                </a:solidFill>
                <a:miter/>
                <a:tailEnd len="lg" type="stealth" w="lg"/>
              </a:ln>
            </p:spPr>
          </p:cxnSp>
          <p:cxnSp>
            <p:nvCxnSpPr>
              <p:cNvPr id="3819" name="Straight Arrow Connector 85"/>
              <p:cNvCxnSpPr/>
              <p:nvPr/>
            </p:nvCxnSpPr>
            <p:spPr>
              <a:xfrm>
                <a:off x="838080" y="5994360"/>
                <a:ext cx="837360" cy="2160"/>
              </a:xfrm>
              <a:prstGeom prst="straightConnector1">
                <a:avLst/>
              </a:prstGeom>
              <a:ln w="15840">
                <a:solidFill>
                  <a:srgbClr val="1f4786"/>
                </a:solidFill>
                <a:miter/>
                <a:tailEnd len="lg" type="stealth" w="lg"/>
              </a:ln>
            </p:spPr>
          </p:cxnSp>
          <p:grpSp>
            <p:nvGrpSpPr>
              <p:cNvPr id="3820" name="Group 97"/>
              <p:cNvGrpSpPr/>
              <p:nvPr/>
            </p:nvGrpSpPr>
            <p:grpSpPr>
              <a:xfrm>
                <a:off x="1752480" y="4786200"/>
                <a:ext cx="1278000" cy="1636920"/>
                <a:chOff x="1752480" y="4786200"/>
                <a:chExt cx="1278000" cy="1636920"/>
              </a:xfrm>
            </p:grpSpPr>
            <p:sp>
              <p:nvSpPr>
                <p:cNvPr id="3821" name="AutoShape 12"/>
                <p:cNvSpPr/>
                <p:nvPr/>
              </p:nvSpPr>
              <p:spPr>
                <a:xfrm>
                  <a:off x="1752480" y="4786200"/>
                  <a:ext cx="1278000" cy="1636920"/>
                </a:xfrm>
                <a:prstGeom prst="flowChartProcess">
                  <a:avLst/>
                </a:prstGeom>
                <a:solidFill>
                  <a:srgbClr val="99ccff"/>
                </a:solidFill>
                <a:ln w="19080">
                  <a:solidFill>
                    <a:srgbClr val="1f47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2" name="Rectangle 13"/>
                <p:cNvSpPr/>
                <p:nvPr/>
              </p:nvSpPr>
              <p:spPr>
                <a:xfrm>
                  <a:off x="1828800" y="5087880"/>
                  <a:ext cx="1143000" cy="1065240"/>
                </a:xfrm>
                <a:prstGeom prst="rect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f4786"/>
                      </a:solidFill>
                      <a:latin typeface="Calibri"/>
                      <a:ea typeface="ＭＳ Ｐゴシック"/>
                    </a:rPr>
                    <a:t>Caption Based Vide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f4786"/>
                      </a:solidFill>
                      <a:latin typeface="Calibri"/>
                      <a:ea typeface="ＭＳ Ｐゴシック"/>
                    </a:rPr>
                    <a:t>Retriev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23" name="Group 100"/>
            <p:cNvGrpSpPr/>
            <p:nvPr/>
          </p:nvGrpSpPr>
          <p:grpSpPr>
            <a:xfrm>
              <a:off x="1219320" y="609480"/>
              <a:ext cx="1811160" cy="1636920"/>
              <a:chOff x="1219320" y="609480"/>
              <a:chExt cx="1811160" cy="1636920"/>
            </a:xfrm>
          </p:grpSpPr>
          <p:grpSp>
            <p:nvGrpSpPr>
              <p:cNvPr id="3824" name="Group 101"/>
              <p:cNvGrpSpPr/>
              <p:nvPr/>
            </p:nvGrpSpPr>
            <p:grpSpPr>
              <a:xfrm>
                <a:off x="1752480" y="609480"/>
                <a:ext cx="1278000" cy="1636920"/>
                <a:chOff x="1752480" y="609480"/>
                <a:chExt cx="1278000" cy="1636920"/>
              </a:xfrm>
            </p:grpSpPr>
            <p:sp>
              <p:nvSpPr>
                <p:cNvPr id="3825" name="AutoShape 12"/>
                <p:cNvSpPr/>
                <p:nvPr/>
              </p:nvSpPr>
              <p:spPr>
                <a:xfrm>
                  <a:off x="1752480" y="609480"/>
                  <a:ext cx="1278000" cy="1636920"/>
                </a:xfrm>
                <a:prstGeom prst="flowChartProcess">
                  <a:avLst/>
                </a:prstGeom>
                <a:solidFill>
                  <a:srgbClr val="99ccff"/>
                </a:solidFill>
                <a:ln w="19080">
                  <a:solidFill>
                    <a:srgbClr val="1f47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6" name="Rectangle 13"/>
                <p:cNvSpPr/>
                <p:nvPr/>
              </p:nvSpPr>
              <p:spPr>
                <a:xfrm>
                  <a:off x="1828800" y="911160"/>
                  <a:ext cx="1143000" cy="1065240"/>
                </a:xfrm>
                <a:prstGeom prst="rect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f4786"/>
                      </a:solidFill>
                      <a:latin typeface="Calibri"/>
                      <a:ea typeface="ＭＳ Ｐゴシック"/>
                    </a:rPr>
                    <a:t>Caption Based Vide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f4786"/>
                      </a:solidFill>
                      <a:latin typeface="Calibri"/>
                      <a:ea typeface="ＭＳ Ｐゴシック"/>
                    </a:rPr>
                    <a:t>Retriev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27" name="Line 104"/>
              <p:cNvSpPr/>
              <p:nvPr/>
            </p:nvSpPr>
            <p:spPr>
              <a:xfrm>
                <a:off x="1219320" y="1407960"/>
                <a:ext cx="533160" cy="0"/>
              </a:xfrm>
              <a:prstGeom prst="line">
                <a:avLst/>
              </a:prstGeom>
              <a:ln w="9360">
                <a:solidFill>
                  <a:srgbClr val="1f4786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8" name="Group 105"/>
            <p:cNvGrpSpPr/>
            <p:nvPr/>
          </p:nvGrpSpPr>
          <p:grpSpPr>
            <a:xfrm>
              <a:off x="3048120" y="1041480"/>
              <a:ext cx="2057400" cy="821880"/>
              <a:chOff x="3048120" y="1041480"/>
              <a:chExt cx="2057400" cy="821880"/>
            </a:xfrm>
          </p:grpSpPr>
          <p:sp>
            <p:nvSpPr>
              <p:cNvPr id="3829" name="Rectangle 17"/>
              <p:cNvSpPr/>
              <p:nvPr/>
            </p:nvSpPr>
            <p:spPr>
              <a:xfrm>
                <a:off x="3581280" y="1041480"/>
                <a:ext cx="1524240" cy="82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Automatic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Labeled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Video Clip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Line 107"/>
              <p:cNvSpPr/>
              <p:nvPr/>
            </p:nvSpPr>
            <p:spPr>
              <a:xfrm>
                <a:off x="3048120" y="1407960"/>
                <a:ext cx="533160" cy="0"/>
              </a:xfrm>
              <a:prstGeom prst="line">
                <a:avLst/>
              </a:prstGeom>
              <a:ln w="9360">
                <a:solidFill>
                  <a:srgbClr val="1f4786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1" name="Group 108"/>
            <p:cNvGrpSpPr/>
            <p:nvPr/>
          </p:nvGrpSpPr>
          <p:grpSpPr>
            <a:xfrm>
              <a:off x="2971800" y="4790880"/>
              <a:ext cx="2763720" cy="1636920"/>
              <a:chOff x="2971800" y="4790880"/>
              <a:chExt cx="2763720" cy="1636920"/>
            </a:xfrm>
          </p:grpSpPr>
          <p:grpSp>
            <p:nvGrpSpPr>
              <p:cNvPr id="3832" name="Group 39"/>
              <p:cNvGrpSpPr/>
              <p:nvPr/>
            </p:nvGrpSpPr>
            <p:grpSpPr>
              <a:xfrm>
                <a:off x="4457880" y="4790880"/>
                <a:ext cx="1277640" cy="1636920"/>
                <a:chOff x="4457880" y="4790880"/>
                <a:chExt cx="1277640" cy="1636920"/>
              </a:xfrm>
            </p:grpSpPr>
            <p:sp>
              <p:nvSpPr>
                <p:cNvPr id="3833" name="AutoShape 12"/>
                <p:cNvSpPr/>
                <p:nvPr/>
              </p:nvSpPr>
              <p:spPr>
                <a:xfrm>
                  <a:off x="4457880" y="4790880"/>
                  <a:ext cx="1277640" cy="1636920"/>
                </a:xfrm>
                <a:prstGeom prst="flowChartProcess">
                  <a:avLst/>
                </a:prstGeom>
                <a:solidFill>
                  <a:srgbClr val="00ccff"/>
                </a:solidFill>
                <a:ln w="19080">
                  <a:solidFill>
                    <a:srgbClr val="1f47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4" name="Rectangle 13"/>
                <p:cNvSpPr/>
                <p:nvPr/>
              </p:nvSpPr>
              <p:spPr>
                <a:xfrm>
                  <a:off x="4495680" y="5271840"/>
                  <a:ext cx="1218960" cy="5785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f4786"/>
                      </a:solidFill>
                      <a:latin typeface="Calibri"/>
                      <a:ea typeface="ＭＳ Ｐゴシック"/>
                    </a:rPr>
                    <a:t>Vide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f4786"/>
                      </a:solidFill>
                      <a:latin typeface="Calibri"/>
                      <a:ea typeface="ＭＳ Ｐゴシック"/>
                    </a:rPr>
                    <a:t>Rank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35" name="Rectangle 29"/>
              <p:cNvSpPr/>
              <p:nvPr/>
            </p:nvSpPr>
            <p:spPr>
              <a:xfrm>
                <a:off x="2971800" y="5003640"/>
                <a:ext cx="1447920" cy="57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Retrieve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Clip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Line 113"/>
              <p:cNvSpPr/>
              <p:nvPr/>
            </p:nvSpPr>
            <p:spPr>
              <a:xfrm>
                <a:off x="3048120" y="5584680"/>
                <a:ext cx="1371600" cy="0"/>
              </a:xfrm>
              <a:prstGeom prst="line">
                <a:avLst/>
              </a:prstGeom>
              <a:ln w="9360">
                <a:solidFill>
                  <a:srgbClr val="1f4786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7" name="Group 114"/>
            <p:cNvGrpSpPr/>
            <p:nvPr/>
          </p:nvGrpSpPr>
          <p:grpSpPr>
            <a:xfrm>
              <a:off x="5181480" y="1941120"/>
              <a:ext cx="1752840" cy="1881720"/>
              <a:chOff x="5181480" y="1941120"/>
              <a:chExt cx="1752840" cy="1881720"/>
            </a:xfrm>
          </p:grpSpPr>
          <p:sp>
            <p:nvSpPr>
              <p:cNvPr id="3838" name="Rectangle 9"/>
              <p:cNvSpPr/>
              <p:nvPr/>
            </p:nvSpPr>
            <p:spPr>
              <a:xfrm>
                <a:off x="5181480" y="2833560"/>
                <a:ext cx="1752840" cy="989280"/>
              </a:xfrm>
              <a:prstGeom prst="rect">
                <a:avLst/>
              </a:prstGeom>
              <a:solidFill>
                <a:srgbClr val="ff9900"/>
              </a:solidFill>
              <a:ln w="19080">
                <a:solidFill>
                  <a:srgbClr val="1f47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Cap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 </a:t>
                </a: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Classifi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839" name="Straight Arrow Connector 60"/>
              <p:cNvCxnSpPr/>
              <p:nvPr/>
            </p:nvCxnSpPr>
            <p:spPr>
              <a:xfrm flipH="1">
                <a:off x="6094080" y="1941120"/>
                <a:ext cx="2160" cy="764280"/>
              </a:xfrm>
              <a:prstGeom prst="straightConnector1">
                <a:avLst/>
              </a:prstGeom>
              <a:ln w="15840">
                <a:solidFill>
                  <a:srgbClr val="1f4786"/>
                </a:solidFill>
                <a:miter/>
                <a:tailEnd len="lg" type="stealth" w="lg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E2CE-448B-4DFB-A352-5A8F0FE1E3E1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Retrieving and Labeling Data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3842" name="PlaceHolder 2"/>
          <p:cNvSpPr>
            <a:spLocks noGrp="1"/>
          </p:cNvSpPr>
          <p:nvPr>
            <p:ph/>
          </p:nvPr>
        </p:nvSpPr>
        <p:spPr>
          <a:xfrm>
            <a:off x="5105160" y="1066680"/>
            <a:ext cx="38098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151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1516"/>
                </a:solidFill>
                <a:latin typeface="Arial"/>
              </a:rPr>
              <a:t>Identify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 all closed caption sentences that contain exactly one of the set of activity keywords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1f47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786"/>
                </a:solidFill>
                <a:latin typeface="Arial"/>
              </a:rPr>
              <a:t>kick, save, throw, touch</a:t>
            </a:r>
            <a:endParaRPr b="0" lang="en-US" sz="2400" spc="-1" strike="noStrike">
              <a:solidFill>
                <a:srgbClr val="1f478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151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1516"/>
                </a:solidFill>
                <a:latin typeface="Arial"/>
              </a:rPr>
              <a:t>Extract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 clips of 8 sec around the corresponding time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151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1516"/>
                </a:solidFill>
                <a:latin typeface="Arial"/>
              </a:rPr>
              <a:t>Label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 the clips with corresponding classes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grpSp>
        <p:nvGrpSpPr>
          <p:cNvPr id="3843" name="Group 18"/>
          <p:cNvGrpSpPr/>
          <p:nvPr/>
        </p:nvGrpSpPr>
        <p:grpSpPr>
          <a:xfrm>
            <a:off x="1219320" y="1219320"/>
            <a:ext cx="3716280" cy="1602720"/>
            <a:chOff x="1219320" y="1219320"/>
            <a:chExt cx="3716280" cy="1602720"/>
          </a:xfrm>
        </p:grpSpPr>
        <p:pic>
          <p:nvPicPr>
            <p:cNvPr id="3844" name="Picture 5" descr="FilmStrip"/>
            <p:cNvPicPr/>
            <p:nvPr/>
          </p:nvPicPr>
          <p:blipFill>
            <a:blip r:embed="rId1"/>
            <a:stretch/>
          </p:blipFill>
          <p:spPr>
            <a:xfrm>
              <a:off x="1219320" y="1219320"/>
              <a:ext cx="342900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5" name="Rectangle 6"/>
            <p:cNvSpPr/>
            <p:nvPr/>
          </p:nvSpPr>
          <p:spPr>
            <a:xfrm>
              <a:off x="1668600" y="2362320"/>
              <a:ext cx="326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f4786"/>
                  </a:solidFill>
                  <a:latin typeface="Palatino"/>
                  <a:ea typeface="ＭＳ Ｐゴシック"/>
                </a:rPr>
                <a:t>…</a:t>
              </a:r>
              <a:r>
                <a:rPr b="0" lang="en-US" sz="2400" spc="-1" strike="noStrike">
                  <a:solidFill>
                    <a:srgbClr val="1f4786"/>
                  </a:solidFill>
                  <a:latin typeface="Palatino"/>
                  <a:ea typeface="ＭＳ Ｐゴシック"/>
                </a:rPr>
                <a:t>What a nice</a:t>
              </a:r>
              <a:r>
                <a:rPr b="1" lang="en-US" sz="2400" spc="-1" strike="noStrike">
                  <a:solidFill>
                    <a:srgbClr val="1f4786"/>
                  </a:solidFill>
                  <a:latin typeface="Palatino"/>
                  <a:ea typeface="ＭＳ Ｐゴシック"/>
                </a:rPr>
                <a:t> kick</a:t>
              </a:r>
              <a:r>
                <a:rPr b="0" lang="en-US" sz="2400" spc="-1" strike="noStrike">
                  <a:solidFill>
                    <a:srgbClr val="1f4786"/>
                  </a:solidFill>
                  <a:latin typeface="Palatino"/>
                  <a:ea typeface="ＭＳ Ｐゴシック"/>
                </a:rPr>
                <a:t>!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6" name="Group 7"/>
          <p:cNvGrpSpPr/>
          <p:nvPr/>
        </p:nvGrpSpPr>
        <p:grpSpPr>
          <a:xfrm>
            <a:off x="2057400" y="990720"/>
            <a:ext cx="2514600" cy="1447560"/>
            <a:chOff x="2057400" y="990720"/>
            <a:chExt cx="2514600" cy="1447560"/>
          </a:xfrm>
        </p:grpSpPr>
        <p:sp>
          <p:nvSpPr>
            <p:cNvPr id="3847" name="Line 8"/>
            <p:cNvSpPr/>
            <p:nvPr/>
          </p:nvSpPr>
          <p:spPr>
            <a:xfrm>
              <a:off x="2057400" y="990720"/>
              <a:ext cx="0" cy="144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Line 9"/>
            <p:cNvSpPr/>
            <p:nvPr/>
          </p:nvSpPr>
          <p:spPr>
            <a:xfrm>
              <a:off x="4572000" y="990720"/>
              <a:ext cx="0" cy="144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9" name="Group 10"/>
          <p:cNvGrpSpPr/>
          <p:nvPr/>
        </p:nvGrpSpPr>
        <p:grpSpPr>
          <a:xfrm>
            <a:off x="1219320" y="3254400"/>
            <a:ext cx="2133360" cy="2612520"/>
            <a:chOff x="1219320" y="3254400"/>
            <a:chExt cx="2133360" cy="2612520"/>
          </a:xfrm>
        </p:grpSpPr>
        <p:pic>
          <p:nvPicPr>
            <p:cNvPr id="3850" name="Picture 11" descr="FilmStrip"/>
            <p:cNvPicPr/>
            <p:nvPr/>
          </p:nvPicPr>
          <p:blipFill>
            <a:blip r:embed="rId2"/>
            <a:srcRect l="0" t="0" r="22218" b="2177"/>
            <a:stretch/>
          </p:blipFill>
          <p:spPr>
            <a:xfrm>
              <a:off x="1219320" y="3254400"/>
              <a:ext cx="213336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1" name="Picture 12" descr="FilmStrip"/>
            <p:cNvPicPr/>
            <p:nvPr/>
          </p:nvPicPr>
          <p:blipFill>
            <a:blip r:embed="rId3"/>
            <a:srcRect l="0" t="0" r="22218" b="2177"/>
            <a:stretch/>
          </p:blipFill>
          <p:spPr>
            <a:xfrm>
              <a:off x="1219320" y="4160520"/>
              <a:ext cx="213336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2" name="Picture 13" descr="FilmStrip"/>
            <p:cNvPicPr/>
            <p:nvPr/>
          </p:nvPicPr>
          <p:blipFill>
            <a:blip r:embed="rId4"/>
            <a:srcRect l="0" t="0" r="22218" b="2177"/>
            <a:stretch/>
          </p:blipFill>
          <p:spPr>
            <a:xfrm>
              <a:off x="1219320" y="5074920"/>
              <a:ext cx="2133360" cy="79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53" name="Group 14"/>
          <p:cNvGrpSpPr/>
          <p:nvPr/>
        </p:nvGrpSpPr>
        <p:grpSpPr>
          <a:xfrm>
            <a:off x="3428280" y="3287880"/>
            <a:ext cx="999000" cy="2278800"/>
            <a:chOff x="3428280" y="3287880"/>
            <a:chExt cx="999000" cy="2278800"/>
          </a:xfrm>
        </p:grpSpPr>
        <p:sp>
          <p:nvSpPr>
            <p:cNvPr id="3854" name="Rectangle 15"/>
            <p:cNvSpPr/>
            <p:nvPr/>
          </p:nvSpPr>
          <p:spPr>
            <a:xfrm>
              <a:off x="3436560" y="328788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f4786"/>
                  </a:solidFill>
                  <a:latin typeface="Palatino"/>
                  <a:ea typeface="ＭＳ Ｐゴシック"/>
                </a:rPr>
                <a:t>ki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Rectangle 16"/>
            <p:cNvSpPr/>
            <p:nvPr/>
          </p:nvSpPr>
          <p:spPr>
            <a:xfrm>
              <a:off x="3431880" y="4178520"/>
              <a:ext cx="82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f4786"/>
                  </a:solidFill>
                  <a:latin typeface="Palatino"/>
                  <a:ea typeface="ＭＳ Ｐゴシック"/>
                </a:rPr>
                <a:t>sa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Rectangle 17"/>
            <p:cNvSpPr/>
            <p:nvPr/>
          </p:nvSpPr>
          <p:spPr>
            <a:xfrm>
              <a:off x="3428280" y="5106960"/>
              <a:ext cx="99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f4786"/>
                  </a:solidFill>
                  <a:latin typeface="Palatino"/>
                  <a:ea typeface="ＭＳ Ｐゴシック"/>
                </a:rPr>
                <a:t>tou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CF99-790D-4A92-BCAC-22C4332F40BF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8" name="Rectangle 2"/>
          <p:cNvSpPr/>
          <p:nvPr/>
        </p:nvSpPr>
        <p:spPr>
          <a:xfrm>
            <a:off x="3200400" y="2590920"/>
            <a:ext cx="1905120" cy="114300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9" name="Group 42"/>
          <p:cNvGrpSpPr/>
          <p:nvPr/>
        </p:nvGrpSpPr>
        <p:grpSpPr>
          <a:xfrm>
            <a:off x="152280" y="496800"/>
            <a:ext cx="8645760" cy="5818320"/>
            <a:chOff x="152280" y="496800"/>
            <a:chExt cx="8645760" cy="5818320"/>
          </a:xfrm>
        </p:grpSpPr>
        <p:sp>
          <p:nvSpPr>
            <p:cNvPr id="3860" name="Rectangle 18"/>
            <p:cNvSpPr/>
            <p:nvPr/>
          </p:nvSpPr>
          <p:spPr>
            <a:xfrm>
              <a:off x="4929120" y="932040"/>
              <a:ext cx="226548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Manually Labeled Cap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Rectangle 25"/>
            <p:cNvSpPr/>
            <p:nvPr/>
          </p:nvSpPr>
          <p:spPr>
            <a:xfrm>
              <a:off x="152280" y="4890960"/>
              <a:ext cx="8384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Que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Rectangle 26"/>
            <p:cNvSpPr/>
            <p:nvPr/>
          </p:nvSpPr>
          <p:spPr>
            <a:xfrm>
              <a:off x="152280" y="5500800"/>
              <a:ext cx="114300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Captio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Vide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Line 41"/>
            <p:cNvSpPr/>
            <p:nvPr/>
          </p:nvSpPr>
          <p:spPr>
            <a:xfrm>
              <a:off x="304920" y="4016520"/>
              <a:ext cx="8493120" cy="1440"/>
            </a:xfrm>
            <a:prstGeom prst="line">
              <a:avLst/>
            </a:prstGeom>
            <a:ln w="3240">
              <a:solidFill>
                <a:srgbClr val="1f478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Rectangle 42"/>
            <p:cNvSpPr/>
            <p:nvPr/>
          </p:nvSpPr>
          <p:spPr>
            <a:xfrm>
              <a:off x="7310520" y="1766880"/>
              <a:ext cx="121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Trai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Rectangle 43"/>
            <p:cNvSpPr/>
            <p:nvPr/>
          </p:nvSpPr>
          <p:spPr>
            <a:xfrm>
              <a:off x="7659720" y="518940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Tes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Rectangle 49"/>
            <p:cNvSpPr/>
            <p:nvPr/>
          </p:nvSpPr>
          <p:spPr>
            <a:xfrm>
              <a:off x="196200" y="928800"/>
              <a:ext cx="102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Captio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Trai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Vide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7" name="Group 50"/>
            <p:cNvGrpSpPr/>
            <p:nvPr/>
          </p:nvGrpSpPr>
          <p:grpSpPr>
            <a:xfrm>
              <a:off x="3276720" y="1828440"/>
              <a:ext cx="1752480" cy="1867680"/>
              <a:chOff x="3276720" y="1828440"/>
              <a:chExt cx="1752480" cy="1867680"/>
            </a:xfrm>
          </p:grpSpPr>
          <p:sp>
            <p:nvSpPr>
              <p:cNvPr id="3868" name="Rectangle 9"/>
              <p:cNvSpPr/>
              <p:nvPr/>
            </p:nvSpPr>
            <p:spPr>
              <a:xfrm>
                <a:off x="3276720" y="2706840"/>
                <a:ext cx="1752480" cy="989280"/>
              </a:xfrm>
              <a:prstGeom prst="rect">
                <a:avLst/>
              </a:prstGeom>
              <a:solidFill>
                <a:srgbClr val="ff9900"/>
              </a:solidFill>
              <a:ln w="19080">
                <a:solidFill>
                  <a:srgbClr val="1f47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Vide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 </a:t>
                </a: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Classifi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869" name="Straight Arrow Connector 60"/>
              <p:cNvCxnSpPr/>
              <p:nvPr/>
            </p:nvCxnSpPr>
            <p:spPr>
              <a:xfrm flipH="1">
                <a:off x="4113000" y="1828440"/>
                <a:ext cx="2160" cy="764280"/>
              </a:xfrm>
              <a:prstGeom prst="straightConnector1">
                <a:avLst/>
              </a:prstGeom>
              <a:ln w="15840">
                <a:solidFill>
                  <a:srgbClr val="1f4786"/>
                </a:solidFill>
                <a:miter/>
                <a:tailEnd len="lg" type="stealth" w="lg"/>
              </a:ln>
            </p:spPr>
          </p:cxnSp>
        </p:grpSp>
        <p:cxnSp>
          <p:nvCxnSpPr>
            <p:cNvPr id="3870" name="Straight Arrow Connector 72"/>
            <p:cNvCxnSpPr/>
            <p:nvPr/>
          </p:nvCxnSpPr>
          <p:spPr>
            <a:xfrm>
              <a:off x="4190040" y="3671640"/>
              <a:ext cx="610200" cy="991080"/>
            </a:xfrm>
            <a:prstGeom prst="straightConnector1">
              <a:avLst/>
            </a:prstGeom>
            <a:ln w="15840">
              <a:solidFill>
                <a:srgbClr val="1f4786"/>
              </a:solidFill>
              <a:miter/>
              <a:tailEnd len="lg" type="stealth" w="lg"/>
            </a:ln>
          </p:spPr>
        </p:cxnSp>
        <p:cxnSp>
          <p:nvCxnSpPr>
            <p:cNvPr id="3871" name="Straight Arrow Connector 74"/>
            <p:cNvCxnSpPr/>
            <p:nvPr/>
          </p:nvCxnSpPr>
          <p:spPr>
            <a:xfrm flipH="1">
              <a:off x="5409720" y="3671640"/>
              <a:ext cx="612000" cy="991080"/>
            </a:xfrm>
            <a:prstGeom prst="straightConnector1">
              <a:avLst/>
            </a:prstGeom>
            <a:ln w="15840">
              <a:solidFill>
                <a:srgbClr val="1f4786"/>
              </a:solidFill>
              <a:miter/>
              <a:tailEnd len="lg" type="stealth" w="lg"/>
            </a:ln>
          </p:spPr>
        </p:cxnSp>
        <p:grpSp>
          <p:nvGrpSpPr>
            <p:cNvPr id="3872" name="Group 55"/>
            <p:cNvGrpSpPr/>
            <p:nvPr/>
          </p:nvGrpSpPr>
          <p:grpSpPr>
            <a:xfrm>
              <a:off x="5715000" y="4984920"/>
              <a:ext cx="1981080" cy="821880"/>
              <a:chOff x="5715000" y="4984920"/>
              <a:chExt cx="1981080" cy="821880"/>
            </a:xfrm>
          </p:grpSpPr>
          <p:sp>
            <p:nvSpPr>
              <p:cNvPr id="3873" name="Rectangle 38"/>
              <p:cNvSpPr/>
              <p:nvPr/>
            </p:nvSpPr>
            <p:spPr>
              <a:xfrm>
                <a:off x="6221520" y="4984920"/>
                <a:ext cx="1474560" cy="82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Ranked List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Video Clip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874" name="Straight Arrow Connector 86"/>
              <p:cNvCxnSpPr/>
              <p:nvPr/>
            </p:nvCxnSpPr>
            <p:spPr>
              <a:xfrm>
                <a:off x="5715000" y="5424480"/>
                <a:ext cx="837360" cy="2160"/>
              </a:xfrm>
              <a:prstGeom prst="straightConnector1">
                <a:avLst/>
              </a:prstGeom>
              <a:ln w="15840">
                <a:solidFill>
                  <a:srgbClr val="1f4786"/>
                </a:solidFill>
                <a:miter/>
                <a:tailEnd len="lg" type="stealth" w="lg"/>
              </a:ln>
            </p:spPr>
          </p:cxnSp>
        </p:grpSp>
        <p:grpSp>
          <p:nvGrpSpPr>
            <p:cNvPr id="3875" name="Group 58"/>
            <p:cNvGrpSpPr/>
            <p:nvPr/>
          </p:nvGrpSpPr>
          <p:grpSpPr>
            <a:xfrm>
              <a:off x="838080" y="4673520"/>
              <a:ext cx="2192400" cy="1636920"/>
              <a:chOff x="838080" y="4673520"/>
              <a:chExt cx="2192400" cy="1636920"/>
            </a:xfrm>
          </p:grpSpPr>
          <p:cxnSp>
            <p:nvCxnSpPr>
              <p:cNvPr id="3876" name="Straight Arrow Connector 83"/>
              <p:cNvCxnSpPr/>
              <p:nvPr/>
            </p:nvCxnSpPr>
            <p:spPr>
              <a:xfrm>
                <a:off x="839880" y="5105520"/>
                <a:ext cx="837360" cy="2160"/>
              </a:xfrm>
              <a:prstGeom prst="straightConnector1">
                <a:avLst/>
              </a:prstGeom>
              <a:ln w="15840">
                <a:solidFill>
                  <a:srgbClr val="1f4786"/>
                </a:solidFill>
                <a:miter/>
                <a:tailEnd len="lg" type="stealth" w="lg"/>
              </a:ln>
            </p:spPr>
          </p:cxnSp>
          <p:cxnSp>
            <p:nvCxnSpPr>
              <p:cNvPr id="3877" name="Straight Arrow Connector 85"/>
              <p:cNvCxnSpPr/>
              <p:nvPr/>
            </p:nvCxnSpPr>
            <p:spPr>
              <a:xfrm>
                <a:off x="838080" y="5881680"/>
                <a:ext cx="837360" cy="2160"/>
              </a:xfrm>
              <a:prstGeom prst="straightConnector1">
                <a:avLst/>
              </a:prstGeom>
              <a:ln w="15840">
                <a:solidFill>
                  <a:srgbClr val="1f4786"/>
                </a:solidFill>
                <a:miter/>
                <a:tailEnd len="lg" type="stealth" w="lg"/>
              </a:ln>
            </p:spPr>
          </p:cxnSp>
          <p:grpSp>
            <p:nvGrpSpPr>
              <p:cNvPr id="3878" name="Group 61"/>
              <p:cNvGrpSpPr/>
              <p:nvPr/>
            </p:nvGrpSpPr>
            <p:grpSpPr>
              <a:xfrm>
                <a:off x="1752480" y="4673520"/>
                <a:ext cx="1278000" cy="1636920"/>
                <a:chOff x="1752480" y="4673520"/>
                <a:chExt cx="1278000" cy="1636920"/>
              </a:xfrm>
            </p:grpSpPr>
            <p:sp>
              <p:nvSpPr>
                <p:cNvPr id="3879" name="AutoShape 12"/>
                <p:cNvSpPr/>
                <p:nvPr/>
              </p:nvSpPr>
              <p:spPr>
                <a:xfrm>
                  <a:off x="1752480" y="4673520"/>
                  <a:ext cx="1278000" cy="1636920"/>
                </a:xfrm>
                <a:prstGeom prst="flowChartProcess">
                  <a:avLst/>
                </a:prstGeom>
                <a:solidFill>
                  <a:srgbClr val="99ccff"/>
                </a:solidFill>
                <a:ln w="19080">
                  <a:solidFill>
                    <a:srgbClr val="1f47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0" name="Rectangle 13"/>
                <p:cNvSpPr/>
                <p:nvPr/>
              </p:nvSpPr>
              <p:spPr>
                <a:xfrm>
                  <a:off x="1828800" y="4975200"/>
                  <a:ext cx="1143000" cy="1065240"/>
                </a:xfrm>
                <a:prstGeom prst="rect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f4786"/>
                      </a:solidFill>
                      <a:latin typeface="Calibri"/>
                      <a:ea typeface="ＭＳ Ｐゴシック"/>
                    </a:rPr>
                    <a:t>Caption Based Vide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f4786"/>
                      </a:solidFill>
                      <a:latin typeface="Calibri"/>
                      <a:ea typeface="ＭＳ Ｐゴシック"/>
                    </a:rPr>
                    <a:t>Retriev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81" name="Group 64"/>
            <p:cNvGrpSpPr/>
            <p:nvPr/>
          </p:nvGrpSpPr>
          <p:grpSpPr>
            <a:xfrm>
              <a:off x="1219320" y="496800"/>
              <a:ext cx="1811160" cy="1636920"/>
              <a:chOff x="1219320" y="496800"/>
              <a:chExt cx="1811160" cy="1636920"/>
            </a:xfrm>
          </p:grpSpPr>
          <p:grpSp>
            <p:nvGrpSpPr>
              <p:cNvPr id="3882" name="Group 65"/>
              <p:cNvGrpSpPr/>
              <p:nvPr/>
            </p:nvGrpSpPr>
            <p:grpSpPr>
              <a:xfrm>
                <a:off x="1752480" y="496800"/>
                <a:ext cx="1278000" cy="1636920"/>
                <a:chOff x="1752480" y="496800"/>
                <a:chExt cx="1278000" cy="1636920"/>
              </a:xfrm>
            </p:grpSpPr>
            <p:sp>
              <p:nvSpPr>
                <p:cNvPr id="3883" name="AutoShape 12"/>
                <p:cNvSpPr/>
                <p:nvPr/>
              </p:nvSpPr>
              <p:spPr>
                <a:xfrm>
                  <a:off x="1752480" y="496800"/>
                  <a:ext cx="1278000" cy="1636920"/>
                </a:xfrm>
                <a:prstGeom prst="flowChartProcess">
                  <a:avLst/>
                </a:prstGeom>
                <a:solidFill>
                  <a:srgbClr val="99ccff"/>
                </a:solidFill>
                <a:ln w="19080">
                  <a:solidFill>
                    <a:srgbClr val="1f47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4" name="Rectangle 13"/>
                <p:cNvSpPr/>
                <p:nvPr/>
              </p:nvSpPr>
              <p:spPr>
                <a:xfrm>
                  <a:off x="1828800" y="798480"/>
                  <a:ext cx="1143000" cy="1065240"/>
                </a:xfrm>
                <a:prstGeom prst="rect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f4786"/>
                      </a:solidFill>
                      <a:latin typeface="Calibri"/>
                      <a:ea typeface="ＭＳ Ｐゴシック"/>
                    </a:rPr>
                    <a:t>Caption Based Vide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f4786"/>
                      </a:solidFill>
                      <a:latin typeface="Calibri"/>
                      <a:ea typeface="ＭＳ Ｐゴシック"/>
                    </a:rPr>
                    <a:t>Retriev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85" name="Line 68"/>
              <p:cNvSpPr/>
              <p:nvPr/>
            </p:nvSpPr>
            <p:spPr>
              <a:xfrm>
                <a:off x="1219320" y="1295280"/>
                <a:ext cx="533160" cy="0"/>
              </a:xfrm>
              <a:prstGeom prst="line">
                <a:avLst/>
              </a:prstGeom>
              <a:ln w="9360">
                <a:solidFill>
                  <a:srgbClr val="1f4786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6" name="Group 69"/>
            <p:cNvGrpSpPr/>
            <p:nvPr/>
          </p:nvGrpSpPr>
          <p:grpSpPr>
            <a:xfrm>
              <a:off x="3048120" y="928800"/>
              <a:ext cx="2057400" cy="821880"/>
              <a:chOff x="3048120" y="928800"/>
              <a:chExt cx="2057400" cy="821880"/>
            </a:xfrm>
          </p:grpSpPr>
          <p:sp>
            <p:nvSpPr>
              <p:cNvPr id="3887" name="Rectangle 17"/>
              <p:cNvSpPr/>
              <p:nvPr/>
            </p:nvSpPr>
            <p:spPr>
              <a:xfrm>
                <a:off x="3581280" y="928800"/>
                <a:ext cx="1524240" cy="82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Automatic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Labeled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Video Clip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Line 71"/>
              <p:cNvSpPr/>
              <p:nvPr/>
            </p:nvSpPr>
            <p:spPr>
              <a:xfrm>
                <a:off x="3048120" y="1295280"/>
                <a:ext cx="533160" cy="0"/>
              </a:xfrm>
              <a:prstGeom prst="line">
                <a:avLst/>
              </a:prstGeom>
              <a:ln w="9360">
                <a:solidFill>
                  <a:srgbClr val="1f4786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9" name="Group 72"/>
            <p:cNvGrpSpPr/>
            <p:nvPr/>
          </p:nvGrpSpPr>
          <p:grpSpPr>
            <a:xfrm>
              <a:off x="2971800" y="4678200"/>
              <a:ext cx="2763720" cy="1636920"/>
              <a:chOff x="2971800" y="4678200"/>
              <a:chExt cx="2763720" cy="1636920"/>
            </a:xfrm>
          </p:grpSpPr>
          <p:grpSp>
            <p:nvGrpSpPr>
              <p:cNvPr id="3890" name="Group 39"/>
              <p:cNvGrpSpPr/>
              <p:nvPr/>
            </p:nvGrpSpPr>
            <p:grpSpPr>
              <a:xfrm>
                <a:off x="4457880" y="4678200"/>
                <a:ext cx="1277640" cy="1636920"/>
                <a:chOff x="4457880" y="4678200"/>
                <a:chExt cx="1277640" cy="1636920"/>
              </a:xfrm>
            </p:grpSpPr>
            <p:sp>
              <p:nvSpPr>
                <p:cNvPr id="3891" name="AutoShape 12"/>
                <p:cNvSpPr/>
                <p:nvPr/>
              </p:nvSpPr>
              <p:spPr>
                <a:xfrm>
                  <a:off x="4457880" y="4678200"/>
                  <a:ext cx="1277640" cy="1636920"/>
                </a:xfrm>
                <a:prstGeom prst="flowChartProcess">
                  <a:avLst/>
                </a:prstGeom>
                <a:solidFill>
                  <a:srgbClr val="00ccff"/>
                </a:solidFill>
                <a:ln w="19080">
                  <a:solidFill>
                    <a:srgbClr val="1f47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2" name="Rectangle 13"/>
                <p:cNvSpPr/>
                <p:nvPr/>
              </p:nvSpPr>
              <p:spPr>
                <a:xfrm>
                  <a:off x="4495680" y="5159160"/>
                  <a:ext cx="1218960" cy="5785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f4786"/>
                      </a:solidFill>
                      <a:latin typeface="Calibri"/>
                      <a:ea typeface="ＭＳ Ｐゴシック"/>
                    </a:rPr>
                    <a:t>Vide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f4786"/>
                      </a:solidFill>
                      <a:latin typeface="Calibri"/>
                      <a:ea typeface="ＭＳ Ｐゴシック"/>
                    </a:rPr>
                    <a:t>Rank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93" name="Rectangle 29"/>
              <p:cNvSpPr/>
              <p:nvPr/>
            </p:nvSpPr>
            <p:spPr>
              <a:xfrm>
                <a:off x="2971800" y="4890960"/>
                <a:ext cx="1447920" cy="57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Retrieve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Clip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Line 77"/>
              <p:cNvSpPr/>
              <p:nvPr/>
            </p:nvSpPr>
            <p:spPr>
              <a:xfrm>
                <a:off x="3048120" y="5472000"/>
                <a:ext cx="1371600" cy="0"/>
              </a:xfrm>
              <a:prstGeom prst="line">
                <a:avLst/>
              </a:prstGeom>
              <a:ln w="9360">
                <a:solidFill>
                  <a:srgbClr val="1f4786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5" name="Group 78"/>
            <p:cNvGrpSpPr/>
            <p:nvPr/>
          </p:nvGrpSpPr>
          <p:grpSpPr>
            <a:xfrm>
              <a:off x="5181480" y="1828440"/>
              <a:ext cx="1752840" cy="1881720"/>
              <a:chOff x="5181480" y="1828440"/>
              <a:chExt cx="1752840" cy="1881720"/>
            </a:xfrm>
          </p:grpSpPr>
          <p:sp>
            <p:nvSpPr>
              <p:cNvPr id="3896" name="Rectangle 9"/>
              <p:cNvSpPr/>
              <p:nvPr/>
            </p:nvSpPr>
            <p:spPr>
              <a:xfrm>
                <a:off x="5181480" y="2720880"/>
                <a:ext cx="1752840" cy="989280"/>
              </a:xfrm>
              <a:prstGeom prst="rect">
                <a:avLst/>
              </a:prstGeom>
              <a:solidFill>
                <a:srgbClr val="ff9900"/>
              </a:solidFill>
              <a:ln w="19080">
                <a:solidFill>
                  <a:srgbClr val="1f47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Cap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 </a:t>
                </a: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Classifi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897" name="Straight Arrow Connector 60"/>
              <p:cNvCxnSpPr/>
              <p:nvPr/>
            </p:nvCxnSpPr>
            <p:spPr>
              <a:xfrm flipH="1">
                <a:off x="6094080" y="1828440"/>
                <a:ext cx="2160" cy="764280"/>
              </a:xfrm>
              <a:prstGeom prst="straightConnector1">
                <a:avLst/>
              </a:prstGeom>
              <a:ln w="15840">
                <a:solidFill>
                  <a:srgbClr val="1f4786"/>
                </a:solidFill>
                <a:miter/>
                <a:tailEnd len="lg" type="stealth" w="lg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8" name="Slide Numb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6644-8871-4563-A89B-4BC2FB5AC804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Video Classifi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ct visual features from cli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Histogram of oriented gradients and optical flow in space-time volume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Laptev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., ICCV 07; CVPR 08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present as ‘bag of visual words’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utomatically labeled video clips to train activity classifi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R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Melville and Mooney, IJCAI 03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n ensemble based classifi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orks well with </a:t>
            </a:r>
            <a:r>
              <a:rPr b="1" lang="en-US" sz="2800" spc="-1" strike="noStrike">
                <a:solidFill>
                  <a:srgbClr val="8a1516"/>
                </a:solidFill>
                <a:latin typeface="Times New Roman"/>
              </a:rPr>
              <a:t>noisy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and limited training data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6468-2E49-434F-B27A-E86F4318367D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Rectangle 2"/>
          <p:cNvSpPr/>
          <p:nvPr/>
        </p:nvSpPr>
        <p:spPr>
          <a:xfrm>
            <a:off x="5105520" y="2666880"/>
            <a:ext cx="1904760" cy="106704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3" name="Group 42"/>
          <p:cNvGrpSpPr/>
          <p:nvPr/>
        </p:nvGrpSpPr>
        <p:grpSpPr>
          <a:xfrm>
            <a:off x="152280" y="496800"/>
            <a:ext cx="8645760" cy="5818320"/>
            <a:chOff x="152280" y="496800"/>
            <a:chExt cx="8645760" cy="5818320"/>
          </a:xfrm>
        </p:grpSpPr>
        <p:sp>
          <p:nvSpPr>
            <p:cNvPr id="3904" name="Rectangle 18"/>
            <p:cNvSpPr/>
            <p:nvPr/>
          </p:nvSpPr>
          <p:spPr>
            <a:xfrm>
              <a:off x="4929120" y="932040"/>
              <a:ext cx="226548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Manually Labeled Cap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Rectangle 25"/>
            <p:cNvSpPr/>
            <p:nvPr/>
          </p:nvSpPr>
          <p:spPr>
            <a:xfrm>
              <a:off x="152280" y="4890960"/>
              <a:ext cx="8384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Que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Rectangle 26"/>
            <p:cNvSpPr/>
            <p:nvPr/>
          </p:nvSpPr>
          <p:spPr>
            <a:xfrm>
              <a:off x="152280" y="5500800"/>
              <a:ext cx="114300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Captio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Vide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Line 41"/>
            <p:cNvSpPr/>
            <p:nvPr/>
          </p:nvSpPr>
          <p:spPr>
            <a:xfrm>
              <a:off x="304920" y="4016520"/>
              <a:ext cx="8493120" cy="1440"/>
            </a:xfrm>
            <a:prstGeom prst="line">
              <a:avLst/>
            </a:prstGeom>
            <a:ln w="3240">
              <a:solidFill>
                <a:srgbClr val="1f478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Rectangle 42"/>
            <p:cNvSpPr/>
            <p:nvPr/>
          </p:nvSpPr>
          <p:spPr>
            <a:xfrm>
              <a:off x="7310520" y="1766880"/>
              <a:ext cx="121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Trai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Rectangle 43"/>
            <p:cNvSpPr/>
            <p:nvPr/>
          </p:nvSpPr>
          <p:spPr>
            <a:xfrm>
              <a:off x="7659720" y="518940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Tes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Rectangle 49"/>
            <p:cNvSpPr/>
            <p:nvPr/>
          </p:nvSpPr>
          <p:spPr>
            <a:xfrm>
              <a:off x="197640" y="928800"/>
              <a:ext cx="102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Captio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Trai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4786"/>
                  </a:solidFill>
                  <a:latin typeface="Calibri"/>
                  <a:ea typeface="ＭＳ Ｐゴシック"/>
                </a:rPr>
                <a:t>Vide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1" name="Group 50"/>
            <p:cNvGrpSpPr/>
            <p:nvPr/>
          </p:nvGrpSpPr>
          <p:grpSpPr>
            <a:xfrm>
              <a:off x="3276720" y="1828440"/>
              <a:ext cx="1752480" cy="1867680"/>
              <a:chOff x="3276720" y="1828440"/>
              <a:chExt cx="1752480" cy="1867680"/>
            </a:xfrm>
          </p:grpSpPr>
          <p:sp>
            <p:nvSpPr>
              <p:cNvPr id="3912" name="Rectangle 9"/>
              <p:cNvSpPr/>
              <p:nvPr/>
            </p:nvSpPr>
            <p:spPr>
              <a:xfrm>
                <a:off x="3276720" y="2706840"/>
                <a:ext cx="1752480" cy="989280"/>
              </a:xfrm>
              <a:prstGeom prst="rect">
                <a:avLst/>
              </a:prstGeom>
              <a:solidFill>
                <a:srgbClr val="ff9900"/>
              </a:solidFill>
              <a:ln w="19080">
                <a:solidFill>
                  <a:srgbClr val="1f47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Vide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 </a:t>
                </a: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Classifi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913" name="Straight Arrow Connector 60"/>
              <p:cNvCxnSpPr/>
              <p:nvPr/>
            </p:nvCxnSpPr>
            <p:spPr>
              <a:xfrm flipH="1">
                <a:off x="4113000" y="1828440"/>
                <a:ext cx="2160" cy="764280"/>
              </a:xfrm>
              <a:prstGeom prst="straightConnector1">
                <a:avLst/>
              </a:prstGeom>
              <a:ln w="15840">
                <a:solidFill>
                  <a:srgbClr val="1f4786"/>
                </a:solidFill>
                <a:miter/>
                <a:tailEnd len="lg" type="stealth" w="lg"/>
              </a:ln>
            </p:spPr>
          </p:cxnSp>
        </p:grpSp>
        <p:cxnSp>
          <p:nvCxnSpPr>
            <p:cNvPr id="3914" name="Straight Arrow Connector 72"/>
            <p:cNvCxnSpPr/>
            <p:nvPr/>
          </p:nvCxnSpPr>
          <p:spPr>
            <a:xfrm>
              <a:off x="4190040" y="3671640"/>
              <a:ext cx="610200" cy="991080"/>
            </a:xfrm>
            <a:prstGeom prst="straightConnector1">
              <a:avLst/>
            </a:prstGeom>
            <a:ln w="15840">
              <a:solidFill>
                <a:srgbClr val="1f4786"/>
              </a:solidFill>
              <a:miter/>
              <a:tailEnd len="lg" type="stealth" w="lg"/>
            </a:ln>
          </p:spPr>
        </p:cxnSp>
        <p:cxnSp>
          <p:nvCxnSpPr>
            <p:cNvPr id="3915" name="Straight Arrow Connector 74"/>
            <p:cNvCxnSpPr/>
            <p:nvPr/>
          </p:nvCxnSpPr>
          <p:spPr>
            <a:xfrm flipH="1">
              <a:off x="5409720" y="3671640"/>
              <a:ext cx="612000" cy="991080"/>
            </a:xfrm>
            <a:prstGeom prst="straightConnector1">
              <a:avLst/>
            </a:prstGeom>
            <a:ln w="15840">
              <a:solidFill>
                <a:srgbClr val="1f4786"/>
              </a:solidFill>
              <a:miter/>
              <a:tailEnd len="lg" type="stealth" w="lg"/>
            </a:ln>
          </p:spPr>
        </p:cxnSp>
        <p:grpSp>
          <p:nvGrpSpPr>
            <p:cNvPr id="3916" name="Group 55"/>
            <p:cNvGrpSpPr/>
            <p:nvPr/>
          </p:nvGrpSpPr>
          <p:grpSpPr>
            <a:xfrm>
              <a:off x="5715000" y="4984920"/>
              <a:ext cx="1981080" cy="821880"/>
              <a:chOff x="5715000" y="4984920"/>
              <a:chExt cx="1981080" cy="821880"/>
            </a:xfrm>
          </p:grpSpPr>
          <p:sp>
            <p:nvSpPr>
              <p:cNvPr id="3917" name="Rectangle 38"/>
              <p:cNvSpPr/>
              <p:nvPr/>
            </p:nvSpPr>
            <p:spPr>
              <a:xfrm>
                <a:off x="6221520" y="4984920"/>
                <a:ext cx="1474560" cy="82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Ranked List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Video Clip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918" name="Straight Arrow Connector 86"/>
              <p:cNvCxnSpPr/>
              <p:nvPr/>
            </p:nvCxnSpPr>
            <p:spPr>
              <a:xfrm>
                <a:off x="5715000" y="5424480"/>
                <a:ext cx="837360" cy="2160"/>
              </a:xfrm>
              <a:prstGeom prst="straightConnector1">
                <a:avLst/>
              </a:prstGeom>
              <a:ln w="15840">
                <a:solidFill>
                  <a:srgbClr val="1f4786"/>
                </a:solidFill>
                <a:miter/>
                <a:tailEnd len="lg" type="stealth" w="lg"/>
              </a:ln>
            </p:spPr>
          </p:cxnSp>
        </p:grpSp>
        <p:grpSp>
          <p:nvGrpSpPr>
            <p:cNvPr id="3919" name="Group 58"/>
            <p:cNvGrpSpPr/>
            <p:nvPr/>
          </p:nvGrpSpPr>
          <p:grpSpPr>
            <a:xfrm>
              <a:off x="838080" y="4673520"/>
              <a:ext cx="2192400" cy="1636920"/>
              <a:chOff x="838080" y="4673520"/>
              <a:chExt cx="2192400" cy="1636920"/>
            </a:xfrm>
          </p:grpSpPr>
          <p:cxnSp>
            <p:nvCxnSpPr>
              <p:cNvPr id="3920" name="Straight Arrow Connector 83"/>
              <p:cNvCxnSpPr/>
              <p:nvPr/>
            </p:nvCxnSpPr>
            <p:spPr>
              <a:xfrm>
                <a:off x="839880" y="5105520"/>
                <a:ext cx="837360" cy="2160"/>
              </a:xfrm>
              <a:prstGeom prst="straightConnector1">
                <a:avLst/>
              </a:prstGeom>
              <a:ln w="15840">
                <a:solidFill>
                  <a:srgbClr val="1f4786"/>
                </a:solidFill>
                <a:miter/>
                <a:tailEnd len="lg" type="stealth" w="lg"/>
              </a:ln>
            </p:spPr>
          </p:cxnSp>
          <p:cxnSp>
            <p:nvCxnSpPr>
              <p:cNvPr id="3921" name="Straight Arrow Connector 85"/>
              <p:cNvCxnSpPr/>
              <p:nvPr/>
            </p:nvCxnSpPr>
            <p:spPr>
              <a:xfrm>
                <a:off x="838080" y="5881680"/>
                <a:ext cx="837360" cy="2160"/>
              </a:xfrm>
              <a:prstGeom prst="straightConnector1">
                <a:avLst/>
              </a:prstGeom>
              <a:ln w="15840">
                <a:solidFill>
                  <a:srgbClr val="1f4786"/>
                </a:solidFill>
                <a:miter/>
                <a:tailEnd len="lg" type="stealth" w="lg"/>
              </a:ln>
            </p:spPr>
          </p:cxnSp>
          <p:grpSp>
            <p:nvGrpSpPr>
              <p:cNvPr id="3922" name="Group 61"/>
              <p:cNvGrpSpPr/>
              <p:nvPr/>
            </p:nvGrpSpPr>
            <p:grpSpPr>
              <a:xfrm>
                <a:off x="1752480" y="4673520"/>
                <a:ext cx="1278000" cy="1636920"/>
                <a:chOff x="1752480" y="4673520"/>
                <a:chExt cx="1278000" cy="1636920"/>
              </a:xfrm>
            </p:grpSpPr>
            <p:sp>
              <p:nvSpPr>
                <p:cNvPr id="3923" name="AutoShape 12"/>
                <p:cNvSpPr/>
                <p:nvPr/>
              </p:nvSpPr>
              <p:spPr>
                <a:xfrm>
                  <a:off x="1752480" y="4673520"/>
                  <a:ext cx="1278000" cy="1636920"/>
                </a:xfrm>
                <a:prstGeom prst="flowChartProcess">
                  <a:avLst/>
                </a:prstGeom>
                <a:solidFill>
                  <a:srgbClr val="99ccff"/>
                </a:solidFill>
                <a:ln w="19080">
                  <a:solidFill>
                    <a:srgbClr val="1f47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4" name="Rectangle 13"/>
                <p:cNvSpPr/>
                <p:nvPr/>
              </p:nvSpPr>
              <p:spPr>
                <a:xfrm>
                  <a:off x="1828800" y="4975200"/>
                  <a:ext cx="1143000" cy="1065240"/>
                </a:xfrm>
                <a:prstGeom prst="rect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f4786"/>
                      </a:solidFill>
                      <a:latin typeface="Calibri"/>
                      <a:ea typeface="ＭＳ Ｐゴシック"/>
                    </a:rPr>
                    <a:t>Caption Based Vide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f4786"/>
                      </a:solidFill>
                      <a:latin typeface="Calibri"/>
                      <a:ea typeface="ＭＳ Ｐゴシック"/>
                    </a:rPr>
                    <a:t>Retriev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25" name="Group 64"/>
            <p:cNvGrpSpPr/>
            <p:nvPr/>
          </p:nvGrpSpPr>
          <p:grpSpPr>
            <a:xfrm>
              <a:off x="1219320" y="496800"/>
              <a:ext cx="1811160" cy="1636920"/>
              <a:chOff x="1219320" y="496800"/>
              <a:chExt cx="1811160" cy="1636920"/>
            </a:xfrm>
          </p:grpSpPr>
          <p:grpSp>
            <p:nvGrpSpPr>
              <p:cNvPr id="3926" name="Group 65"/>
              <p:cNvGrpSpPr/>
              <p:nvPr/>
            </p:nvGrpSpPr>
            <p:grpSpPr>
              <a:xfrm>
                <a:off x="1752480" y="496800"/>
                <a:ext cx="1278000" cy="1636920"/>
                <a:chOff x="1752480" y="496800"/>
                <a:chExt cx="1278000" cy="1636920"/>
              </a:xfrm>
            </p:grpSpPr>
            <p:sp>
              <p:nvSpPr>
                <p:cNvPr id="3927" name="AutoShape 12"/>
                <p:cNvSpPr/>
                <p:nvPr/>
              </p:nvSpPr>
              <p:spPr>
                <a:xfrm>
                  <a:off x="1752480" y="496800"/>
                  <a:ext cx="1278000" cy="1636920"/>
                </a:xfrm>
                <a:prstGeom prst="flowChartProcess">
                  <a:avLst/>
                </a:prstGeom>
                <a:solidFill>
                  <a:srgbClr val="99ccff"/>
                </a:solidFill>
                <a:ln w="19080">
                  <a:solidFill>
                    <a:srgbClr val="1f47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8" name="Rectangle 13"/>
                <p:cNvSpPr/>
                <p:nvPr/>
              </p:nvSpPr>
              <p:spPr>
                <a:xfrm>
                  <a:off x="1828800" y="798480"/>
                  <a:ext cx="1143000" cy="1065240"/>
                </a:xfrm>
                <a:prstGeom prst="rect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f4786"/>
                      </a:solidFill>
                      <a:latin typeface="Calibri"/>
                      <a:ea typeface="ＭＳ Ｐゴシック"/>
                    </a:rPr>
                    <a:t>Caption Based Vide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f4786"/>
                      </a:solidFill>
                      <a:latin typeface="Calibri"/>
                      <a:ea typeface="ＭＳ Ｐゴシック"/>
                    </a:rPr>
                    <a:t>Retriev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29" name="Line 68"/>
              <p:cNvSpPr/>
              <p:nvPr/>
            </p:nvSpPr>
            <p:spPr>
              <a:xfrm>
                <a:off x="1219320" y="1295280"/>
                <a:ext cx="533160" cy="0"/>
              </a:xfrm>
              <a:prstGeom prst="line">
                <a:avLst/>
              </a:prstGeom>
              <a:ln w="9360">
                <a:solidFill>
                  <a:srgbClr val="1f4786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0" name="Group 69"/>
            <p:cNvGrpSpPr/>
            <p:nvPr/>
          </p:nvGrpSpPr>
          <p:grpSpPr>
            <a:xfrm>
              <a:off x="3048120" y="928800"/>
              <a:ext cx="2057400" cy="821880"/>
              <a:chOff x="3048120" y="928800"/>
              <a:chExt cx="2057400" cy="821880"/>
            </a:xfrm>
          </p:grpSpPr>
          <p:sp>
            <p:nvSpPr>
              <p:cNvPr id="3931" name="Rectangle 17"/>
              <p:cNvSpPr/>
              <p:nvPr/>
            </p:nvSpPr>
            <p:spPr>
              <a:xfrm>
                <a:off x="3581280" y="928800"/>
                <a:ext cx="1524240" cy="82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Automatic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Labeled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Video Clip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Line 71"/>
              <p:cNvSpPr/>
              <p:nvPr/>
            </p:nvSpPr>
            <p:spPr>
              <a:xfrm>
                <a:off x="3048120" y="1295280"/>
                <a:ext cx="533160" cy="0"/>
              </a:xfrm>
              <a:prstGeom prst="line">
                <a:avLst/>
              </a:prstGeom>
              <a:ln w="9360">
                <a:solidFill>
                  <a:srgbClr val="1f4786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3" name="Group 72"/>
            <p:cNvGrpSpPr/>
            <p:nvPr/>
          </p:nvGrpSpPr>
          <p:grpSpPr>
            <a:xfrm>
              <a:off x="2971800" y="4678200"/>
              <a:ext cx="2763720" cy="1636920"/>
              <a:chOff x="2971800" y="4678200"/>
              <a:chExt cx="2763720" cy="1636920"/>
            </a:xfrm>
          </p:grpSpPr>
          <p:grpSp>
            <p:nvGrpSpPr>
              <p:cNvPr id="3934" name="Group 39"/>
              <p:cNvGrpSpPr/>
              <p:nvPr/>
            </p:nvGrpSpPr>
            <p:grpSpPr>
              <a:xfrm>
                <a:off x="4457880" y="4678200"/>
                <a:ext cx="1277640" cy="1636920"/>
                <a:chOff x="4457880" y="4678200"/>
                <a:chExt cx="1277640" cy="1636920"/>
              </a:xfrm>
            </p:grpSpPr>
            <p:sp>
              <p:nvSpPr>
                <p:cNvPr id="3935" name="AutoShape 12"/>
                <p:cNvSpPr/>
                <p:nvPr/>
              </p:nvSpPr>
              <p:spPr>
                <a:xfrm>
                  <a:off x="4457880" y="4678200"/>
                  <a:ext cx="1277640" cy="1636920"/>
                </a:xfrm>
                <a:prstGeom prst="flowChartProcess">
                  <a:avLst/>
                </a:prstGeom>
                <a:solidFill>
                  <a:srgbClr val="00ccff"/>
                </a:solidFill>
                <a:ln w="19080">
                  <a:solidFill>
                    <a:srgbClr val="1f47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6" name="Rectangle 13"/>
                <p:cNvSpPr/>
                <p:nvPr/>
              </p:nvSpPr>
              <p:spPr>
                <a:xfrm>
                  <a:off x="4495680" y="5159160"/>
                  <a:ext cx="1218960" cy="5785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f4786"/>
                      </a:solidFill>
                      <a:latin typeface="Calibri"/>
                      <a:ea typeface="ＭＳ Ｐゴシック"/>
                    </a:rPr>
                    <a:t>Vide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f4786"/>
                      </a:solidFill>
                      <a:latin typeface="Calibri"/>
                      <a:ea typeface="ＭＳ Ｐゴシック"/>
                    </a:rPr>
                    <a:t>Rank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37" name="Rectangle 29"/>
              <p:cNvSpPr/>
              <p:nvPr/>
            </p:nvSpPr>
            <p:spPr>
              <a:xfrm>
                <a:off x="2971800" y="4890960"/>
                <a:ext cx="1447920" cy="57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Retrieve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Clip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Line 77"/>
              <p:cNvSpPr/>
              <p:nvPr/>
            </p:nvSpPr>
            <p:spPr>
              <a:xfrm>
                <a:off x="3048120" y="5472000"/>
                <a:ext cx="1371600" cy="0"/>
              </a:xfrm>
              <a:prstGeom prst="line">
                <a:avLst/>
              </a:prstGeom>
              <a:ln w="9360">
                <a:solidFill>
                  <a:srgbClr val="1f4786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9" name="Group 78"/>
            <p:cNvGrpSpPr/>
            <p:nvPr/>
          </p:nvGrpSpPr>
          <p:grpSpPr>
            <a:xfrm>
              <a:off x="5181480" y="1828440"/>
              <a:ext cx="1752840" cy="1881720"/>
              <a:chOff x="5181480" y="1828440"/>
              <a:chExt cx="1752840" cy="1881720"/>
            </a:xfrm>
          </p:grpSpPr>
          <p:sp>
            <p:nvSpPr>
              <p:cNvPr id="3940" name="Rectangle 9"/>
              <p:cNvSpPr/>
              <p:nvPr/>
            </p:nvSpPr>
            <p:spPr>
              <a:xfrm>
                <a:off x="5181480" y="2720880"/>
                <a:ext cx="1752840" cy="989280"/>
              </a:xfrm>
              <a:prstGeom prst="rect">
                <a:avLst/>
              </a:prstGeom>
              <a:solidFill>
                <a:srgbClr val="ff9900"/>
              </a:solidFill>
              <a:ln w="19080">
                <a:solidFill>
                  <a:srgbClr val="1f47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Cap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 </a:t>
                </a:r>
                <a:r>
                  <a:rPr b="0" lang="en-US" sz="1600" spc="-1" strike="noStrike">
                    <a:solidFill>
                      <a:srgbClr val="1f4786"/>
                    </a:solidFill>
                    <a:latin typeface="Calibri"/>
                    <a:ea typeface="ＭＳ Ｐゴシック"/>
                  </a:rPr>
                  <a:t>Classifi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941" name="Straight Arrow Connector 60"/>
              <p:cNvCxnSpPr/>
              <p:nvPr/>
            </p:nvCxnSpPr>
            <p:spPr>
              <a:xfrm flipH="1">
                <a:off x="6094080" y="1828440"/>
                <a:ext cx="2160" cy="764280"/>
              </a:xfrm>
              <a:prstGeom prst="straightConnector1">
                <a:avLst/>
              </a:prstGeom>
              <a:ln w="15840">
                <a:solidFill>
                  <a:srgbClr val="1f4786"/>
                </a:solidFill>
                <a:miter/>
                <a:tailEnd len="lg" type="stealth" w="lg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2" name="Slide Numb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496E-91BF-47E5-9E65-B35AB4B302D5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aption Classifi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rtscasters talk about both events on the field as well as other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69% of the captions in our dataset are ‘irrelevant’ to the current event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ifies relevant vs. irrelevant ca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dependent of the query class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VM string classifi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ses a subsequence kernel that measures how many subsequences are shared by two strings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(Lodhi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</a:rPr>
              <a:t>et al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. 02, Bunescu and Mooney 05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ore accurate than a “bag of words” classifier since it takes word order into account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Slide Numb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D9B0-7421-4543-9089-8260CD2B4B8D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trieving and Ranking Videos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7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deos retrieved using captions, same way as bef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ways of ran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robabilities given by video classifier (VIDEO)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robabilities given by caption classifier (CAPTION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ing the rank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eighted late fusion of rankings from VIDEO and CAPTION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948" name="Object 2"/>
          <p:cNvGraphicFramePr/>
          <p:nvPr/>
        </p:nvGraphicFramePr>
        <p:xfrm>
          <a:off x="1143000" y="5638680"/>
          <a:ext cx="6018120" cy="4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638680"/>
                    <a:ext cx="60181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0" name="Object 3"/>
          <p:cNvGraphicFramePr/>
          <p:nvPr/>
        </p:nvGraphicFramePr>
        <p:xfrm>
          <a:off x="4800600" y="6019920"/>
          <a:ext cx="408312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6019920"/>
                    <a:ext cx="408312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A961-4815-4FA9-ADE9-D89964023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SimSun"/>
              </a:rPr>
              <a:t>Our Semantic-Parser Learners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0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CHILL+WOLFIE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SimSun"/>
              </a:rPr>
              <a:t>(Zelle &amp; Mooney, 1996; Thompson &amp; Mooney, 1999, 2003)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SimSun"/>
              </a:rPr>
              <a:t>Separates parser-learning and semantic-lexicon learning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SimSun"/>
              </a:rPr>
              <a:t>Learns a deterministic parser using ILP techniques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COCKT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SimSun"/>
              </a:rPr>
              <a:t>(Tang &amp; Mooney, 20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SimSun"/>
              </a:rPr>
              <a:t>Improved ILP algorithm for CHILL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ILT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SimSun"/>
              </a:rPr>
              <a:t>(Kate, Wong &amp; Mooney, 2005)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SimSun"/>
              </a:rPr>
              <a:t>Learns symbolic transformation rules for mapping directly from NL to MR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CISSOR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SimSun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SimSun"/>
              </a:rPr>
              <a:t>(Ge &amp; Mooney, 200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SimSun"/>
              </a:rPr>
              <a:t>Integrates semantic interpretation into Collins’ statistical syntactic parser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AS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SimSun"/>
              </a:rPr>
              <a:t>(Wong &amp; Mooney, 2006; 200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SimSun"/>
              </a:rPr>
              <a:t>Uses syntax-based statistical machine translation methods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RISP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SimSun"/>
              </a:rPr>
              <a:t>(Kate &amp; Mooney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SimSun"/>
              </a:rPr>
              <a:t>Uses a series of SVM classifiers employing a string-kernel to iteratively build semantic representations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TextBox 4"/>
          <p:cNvSpPr/>
          <p:nvPr/>
        </p:nvSpPr>
        <p:spPr>
          <a:xfrm>
            <a:off x="52200" y="4267080"/>
            <a:ext cx="5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TextBox 5"/>
          <p:cNvSpPr/>
          <p:nvPr/>
        </p:nvSpPr>
        <p:spPr>
          <a:xfrm>
            <a:off x="49680" y="4876920"/>
            <a:ext cx="5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2" name="Slide Numb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A86D-782D-4DEF-819F-99DB08183482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erimen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5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23 soccer games recorded from TV broadcas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vg. length: 1 hr 50 mi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vg. number of captions: 1,246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aption Classifi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rained on hand labeled 4 separate games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ric: MAP score: Mean Averaged Pre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ology: Leave one-game-out cross-vali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line: ranking clips random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5" name="Slide Numb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6F68-337C-4897-A2EA-D75C8E7766D7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ataset Statist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3957" name=""/>
          <p:cNvGraphicFramePr/>
          <p:nvPr/>
        </p:nvGraphicFramePr>
        <p:xfrm>
          <a:off x="1219320" y="1828800"/>
          <a:ext cx="6933960" cy="4064040"/>
        </p:xfrm>
        <a:graphic>
          <a:graphicData uri="http://schemas.openxmlformats.org/drawingml/2006/table">
            <a:tbl>
              <a:tblPr/>
              <a:tblGrid>
                <a:gridCol w="1733400"/>
                <a:gridCol w="1733760"/>
                <a:gridCol w="1733400"/>
                <a:gridCol w="173340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a1516"/>
                          </a:solidFill>
                          <a:latin typeface="Palatino"/>
                        </a:rPr>
                        <a:t>Quer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a1516"/>
                          </a:solidFill>
                          <a:latin typeface="Palatino"/>
                        </a:rPr>
                        <a:t>#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a1516"/>
                          </a:solidFill>
                          <a:latin typeface="Palatino"/>
                        </a:rPr>
                        <a:t># Corr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a1516"/>
                          </a:solidFill>
                          <a:latin typeface="Palatino"/>
                        </a:rPr>
                        <a:t>% No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K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60.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S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1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Thr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55.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1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1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8" name="Slide Numb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EAAE-D5A4-4C59-B1CC-E6B947F6032B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trieval Resul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3960" name="Object 2"/>
          <p:cNvGraphicFramePr/>
          <p:nvPr/>
        </p:nvGraphicFramePr>
        <p:xfrm>
          <a:off x="380880" y="1600200"/>
          <a:ext cx="108270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108270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2" name="TextBox 4"/>
          <p:cNvSpPr/>
          <p:nvPr/>
        </p:nvSpPr>
        <p:spPr>
          <a:xfrm rot="16200000">
            <a:off x="-1397160" y="3227400"/>
            <a:ext cx="348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n Average Precision (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64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real (not simulated) visual context to supervise language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more sophisticated linguistic analysis to supervise visual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EEDE-B246-4771-BBC7-B8A301FEC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6C3E-4C52-41E2-99EC-48E2C1530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SimSun"/>
              </a:rPr>
              <a:t>Conclu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Current language and visual learning uses expensive, unrealistic train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Naturally occurring perceptual context can be used to supervise language learn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SimSun"/>
              </a:rPr>
              <a:t>Learning to sportscast simulated Robocup game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Naturally occurring linguistic context can be used to supervise learning for computer vis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SimSun"/>
              </a:rPr>
              <a:t>Using multi-modal co-training to improve classification of captioned images and video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SimSun"/>
              </a:rPr>
              <a:t>Using closed-captions to automatically train activity recognizers and improve video retrieval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Questions?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70" name=""/>
          <p:cNvSpPr txBox="1"/>
          <p:nvPr/>
        </p:nvSpPr>
        <p:spPr>
          <a:xfrm>
            <a:off x="103320" y="1603440"/>
            <a:ext cx="9144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levant Papers a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imes New Roman"/>
              </a:rPr>
              <a:t>http://www.cs.utexas.edu/users/ml/publication/clamp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094F-D3BA-46E9-9B9B-896CD51D9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A0EB-36FA-4775-B0C8-B3A97E277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SimSun"/>
              </a:rPr>
              <a:t>WASP</a:t>
            </a:r>
            <a:br>
              <a:rPr sz="3200"/>
            </a:b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SimSun"/>
              </a:rPr>
              <a:t>A Machine Translation Approach to Semantic Parsing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Uses latest statistical machine translation techniq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SimSun"/>
              </a:rPr>
              <a:t>Synchronous context-free grammars (SCFG)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SimSun"/>
              </a:rPr>
              <a:t>(Wu, 1997; Melamed, 2004; Chiang, 2005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SimSun"/>
              </a:rPr>
              <a:t>Statistical word alignment                                      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SimSun"/>
              </a:rPr>
              <a:t>(Brown et al., 1993; Och &amp; Ney, 2003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SCFG supports bot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SimSun"/>
              </a:rPr>
              <a:t>Semantic Parsing:  NL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SimSun"/>
              </a:rPr>
              <a:t> M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SimSun"/>
              </a:rPr>
              <a:t>Tactical Generation: MR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SimSun"/>
              </a:rPr>
              <a:t> NL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007" name="Picture 4" descr="was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 Mooney</cp:lastModifiedBy>
  <dcterms:modified xsi:type="dcterms:W3CDTF">2009-07-10T14:47:22Z</dcterms:modified>
  <cp:revision>238</cp:revision>
  <dc:subject/>
  <dc:title>Intelligent Information Retrieval and Web Search</dc:title>
</cp:coreProperties>
</file>