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8DB-49B1-4BF2-8E0D-038D687D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3C2-8128-4469-BA38-C94E6DD7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908-C407-444A-8556-4F035619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CCB-CB85-4EF7-BEE8-CE870766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FD0E-1168-4E80-B3A4-CA3613BF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EDCF-8CE4-4B9C-9E1A-1083384C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D022-219A-48F8-8168-1FB7B60C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7864-8A6A-44A6-9B83-00939AEF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CC3A-80BB-4EAF-8E66-28727B74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C563-A056-435C-8630-D738678D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DD9D-5BF8-4E49-88CC-A6B0FBF0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023-8FB1-4B46-B03B-02B055BF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D147-B49B-4A40-B693-F7EC3912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FD11-CC9D-4070-8C3F-E50CBB40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4F08-ED6B-4992-B922-E588B241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52FB-2596-4CB7-BB95-28A475F0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1FA7-79AB-4FFF-BA5B-DBE1693F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C37-D347-4600-8ADE-E48F2D66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8B6-959F-457D-9BB9-9C53E344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BE1-7157-4360-8F3D-95AF3683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B7D-A55A-4ED2-93AB-5432F176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D69-EB12-405F-8158-450B4EF7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4BF-80ED-47B1-A7B9-EF1A0E12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183-65D9-487D-8B02-72204D28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order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82040" cy="626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ED09-07E6-4EB8-973B-378C928D86D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78C0-CDAF-440D-B45C-1A8CAE6F4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370560"/>
            <a:ext cx="2438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248520" y="228600"/>
            <a:ext cx="2057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001000" y="6324480"/>
            <a:ext cx="4572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A413-8469-473F-A045-932126F44BB8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order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82040" cy="6261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C217-2FE3-45EF-9D52-A64759716A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73CF-565E-423E-A0A9-CB9D4412F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6370560"/>
            <a:ext cx="2438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28600"/>
            <a:ext cx="2057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209680"/>
            <a:ext cx="7770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2971800"/>
            <a:ext cx="647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eal1" descr=""/>
          <p:cNvPicPr/>
          <p:nvPr/>
        </p:nvPicPr>
        <p:blipFill>
          <a:blip r:embed="rId3"/>
          <a:stretch/>
        </p:blipFill>
        <p:spPr>
          <a:xfrm>
            <a:off x="4038480" y="5181480"/>
            <a:ext cx="986040" cy="976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2720" y="464832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ff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mi-Supervised Clustering and its Application to Text Clustering and 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ord Linkag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33360" y="2590920"/>
            <a:ext cx="4724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ymond J. Mooney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gato Basu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khail Bilenk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indam Banerje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mi-Supervised Classific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emisupervised EM [Ghahramani:NIPS94,Nigam:ML00]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-training [Blum:COLT98]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nsductive SVM’s [Vapnik:98,Joachims:ICML99]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Known, fixed set of categories given in the labeled data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Goal is to improve classification of examples into these known categories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ustering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60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ustering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84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cond Semi-Supervised Clustering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308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cond Semi-Supervised Clustering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332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mi-Supervised Clus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group data using the categories in the initial 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extend and modify the existing set of categories as needed to reflect other regularities in th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luster a disjoint set of unlabeled data using the labeled data as a “guide” to the type of clusters des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arch-Based Semi-Supervised Clus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the clustering algorithm that searches for a good partitioning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odifying the objective function to give a reward for obeying labels on the supervised data [Demeriz:ANNIE99]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nforcing constraints (</a:t>
            </a:r>
            <a:r>
              <a:rPr b="0" i="1" lang="en-US" sz="2400" spc="-1" strike="noStrike">
                <a:solidFill>
                  <a:srgbClr val="009900"/>
                </a:solidFill>
                <a:latin typeface="Times New Roman"/>
              </a:rPr>
              <a:t>must-link, cannot-link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) on the labeled data during clustering [Wagstaff:ICML00, Wagstaff:ICML01]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Use the labeled data to initialize clusters in an iterative refinement algorithm (kMeans, EM) [Basu:ICML02]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nsupervised KMeans Clus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eans is a partitional clustering algorithm based on iterative relocation that partitions a dataset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u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 centers            randomly. Repeat unti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verg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Cluster Assignment Step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: Assign each data point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to the cluster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99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 such that L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distance of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from        (center of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99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is minimum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Center Re-estimation Step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: Re-estimate each cluster center      as the mean of the points in that cluster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733920" y="3429000"/>
                <a:ext cx="6238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764240" y="4124160"/>
                <a:ext cx="282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7620120" y="4495680"/>
                <a:ext cx="293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Means Objective Func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ly minimizes sum of squared distance between the data points and their correspond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center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ation of K cluster cen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otally random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andom perturbation from global mean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Heuristic to ensure well-separated centers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etc.</a:t>
            </a:r>
            <a:br>
              <a:rPr sz="2000"/>
            </a:b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743200" y="2895480"/>
                <a:ext cx="3124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400"/>
            </a:b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367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pervised Classification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98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066680" y="1676160"/>
            <a:ext cx="4724640" cy="419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andomly Initialize Mean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401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7144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584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sign Points to Cluster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437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7144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584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-estimate Mean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473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66520" y="266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3356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-assign Points to Cluster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509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666520" y="266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3356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-estimate Mean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545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00040" y="243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0496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-assign Points to Cluster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581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00040" y="243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0496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 Means Example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-estimate Means and Converg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617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572000" y="27432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14600" y="22096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90920" y="3886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352320" y="243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28640" y="4191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mi-Supervised KMean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ded K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Labeled data provided by user are used for initialization: initial center for cluster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s the mean of the seed points having label 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i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Seed point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nly used for initializatio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 and not in subsequent steps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ained K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Labeled data provided by user are used t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itialize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KMeans algorithm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Cluste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abels of seed data are kept unchanged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n the cluster assignment steps, and only the labels of the non-seed data are re-estimated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K Means Example</a:t>
            </a:r>
            <a:br>
              <a:rPr sz="2400"/>
            </a:b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655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95680" y="2666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14600" y="21337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14600" y="38098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K Means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itialize Means Using Labeled Data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689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95680" y="2666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14600" y="21337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14600" y="38098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1936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3792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pervised Classification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08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066680" y="1676160"/>
            <a:ext cx="4724640" cy="419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K Means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sign Points to Cluster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725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495680" y="2666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14600" y="21337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4600" y="38098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1936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3792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K Means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-estimate Means and Converg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761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495680" y="2666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514600" y="21337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14600" y="38098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66720" y="3200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437920" y="3200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milarity-Based Semi-Supervised Clus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 an adaptive similarity function to fit the label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standard clustering algorithm with the trained similarity function to cluster the unlabel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similarity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Altered Euclidian distance [Klein:ICML02]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rained Mahalanobis distance [Xing:NIPS02]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EM-trained edit distance [Bilenko:KDD03]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Single-link agglomerative [Bilenko:KDD03]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Complete-link agglomerative [Klein:ICML02]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K-means [Xing:NIPS02]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ustering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milarity Based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799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22096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14600" y="2666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57400" y="27432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36232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41972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67080" y="2590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2286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895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0481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495680" y="2666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038480" y="2362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2819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25146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146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43200" y="47242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14600" y="21337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724280" y="47242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337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24080" y="4572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81080" y="43434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0" y="4572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64832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29200" y="40384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14600" y="38098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7180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267080" y="4648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91120" y="39625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029200" y="43434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62520" y="42670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2666880" y="3505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ustering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stances Transformed by Learned Metric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834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2201760" y="2658960"/>
            <a:ext cx="8424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00360" y="284940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952640" y="2898720"/>
            <a:ext cx="85680" cy="7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51240" y="3041640"/>
            <a:ext cx="745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815080" y="2610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565600" y="2801880"/>
            <a:ext cx="82800" cy="7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38960" y="2610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324240" y="2658960"/>
            <a:ext cx="856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73360" y="2946240"/>
            <a:ext cx="88920" cy="92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940360" y="2849400"/>
            <a:ext cx="160560" cy="1508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92640" y="2658960"/>
            <a:ext cx="7956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067360" y="2871000"/>
            <a:ext cx="9036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4943520" y="2666160"/>
            <a:ext cx="8568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698920" y="3854520"/>
            <a:ext cx="9180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075120" y="414324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6313320" y="4038480"/>
            <a:ext cx="8748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77920" y="36655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97200" y="40482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28800" y="3903840"/>
            <a:ext cx="763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0" y="4038480"/>
            <a:ext cx="8748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6189840" y="3637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6811920" y="3637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429000" y="3886200"/>
            <a:ext cx="76320" cy="79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5565600" y="402048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442120" y="35812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811920" y="390384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5067360" y="37807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3200" y="25146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67280" y="3809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2666880" y="3505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ustering Exampl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ustering Result with Trained Metric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990720" y="1752120"/>
            <a:ext cx="7353360" cy="4047120"/>
            <a:chOff x="990720" y="1752120"/>
            <a:chExt cx="7353360" cy="4047120"/>
          </a:xfrm>
        </p:grpSpPr>
        <p:sp>
          <p:nvSpPr>
            <p:cNvPr id="868" name=""/>
            <p:cNvSpPr/>
            <p:nvPr/>
          </p:nvSpPr>
          <p:spPr>
            <a:xfrm flipV="1">
              <a:off x="9925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907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2201760" y="2658960"/>
            <a:ext cx="84240" cy="84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700360" y="284940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52640" y="2898720"/>
            <a:ext cx="85680" cy="79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51240" y="3041640"/>
            <a:ext cx="7452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815080" y="2610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565600" y="2801880"/>
            <a:ext cx="82800" cy="79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438960" y="26100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324240" y="2658960"/>
            <a:ext cx="8568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73360" y="2946240"/>
            <a:ext cx="88920" cy="92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40360" y="2849400"/>
            <a:ext cx="160560" cy="1508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92640" y="2658960"/>
            <a:ext cx="79560" cy="842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5067360" y="2871000"/>
            <a:ext cx="9036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943520" y="2666160"/>
            <a:ext cx="85680" cy="874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698920" y="3854520"/>
            <a:ext cx="91800" cy="84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075120" y="4143240"/>
            <a:ext cx="745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6313320" y="4038480"/>
            <a:ext cx="8748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77920" y="366552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697200" y="4048200"/>
            <a:ext cx="7488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28800" y="3903840"/>
            <a:ext cx="76320" cy="74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86000" y="4038480"/>
            <a:ext cx="8748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6189840" y="3637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6811920" y="363780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429000" y="3886200"/>
            <a:ext cx="76320" cy="79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5565600" y="4020480"/>
            <a:ext cx="7488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5442120" y="3581280"/>
            <a:ext cx="74520" cy="74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11920" y="390384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5067360" y="3780720"/>
            <a:ext cx="74520" cy="74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743200" y="25146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867280" y="3809880"/>
            <a:ext cx="15264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eriment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Objective function value for KMeans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utual Information (MI) between distributions of computed cluster labels and human-provided class labels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hange of objective function and MI with  increasing fraction of  seeding (for complete labeling and no noise)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hange of objective function and MI with  increasing noise  in seeds (for complete labeling and fixed seeding)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erimental Methodolog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algorithm is always run on the entire data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curves with 10-fold cross-valid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0% data set aside as test set whose label is always hidden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Learning curve generated by training on different “seed fractions” of  the remaining 90% of the data whose label is provided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 function is calculated over the entire data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 measure calculated only on the independent test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erimental Methodology (contd.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fold in the Seeding experi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eeds selected from training dataset by varying seed fraction from 0.0 to 1.0, in steps of 0.1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fold in the Noise experi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oise simulated by changing the labels of a fraction of the seed values to a random incorrect value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P-KMean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KMeans [Wagstaf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: ICML01] is KMeans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-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ust be in same cluster)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nnot-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annot be in same cluster) constraints on data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uster centers are chosen randomly, but as each one is chosen an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-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aints that it participates in are enforced (so that they cannot later be chosen as the center of another clus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cluster assignment step in COP-KMeans, a point is assigned to its nearest cluster without violating any of its constraints. If no such assignment exists, ab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pervised Classification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33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066680" y="1676160"/>
            <a:ext cx="4724640" cy="419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set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et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CI Iris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(3 classes; 150 instances)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MU 20 Newsgroups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(20 classes; 20,000 instances) 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Yahoo! News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(20 classes; 2,340 instances)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ubsets created for experi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mall-20 newsgroup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: random sample of 100 documents from each newsgroup, created to study effect of datasize on algorithms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fferent-3 newsgroup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: 3 very different newsgroups 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alt.atheism, rec.sport.baseball, sci.space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, created to study effect of data separability on algorithms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ame-3 newsgroup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: 3 very similar newsgroups 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comp.graphics, comp.os.ms-windows, comp.windows.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ext Data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space model with TF-IDF weighting for tex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content bearing words remo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topwords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High and low frequency words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Words of length &lt; 3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-handling soft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pherical KMeans was used as the underlying clustering algorithm: it uses cosine-similarity instead of Euclidean distance between word vectors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de base built on top of MC and SPKMeans packages developed at UT Austin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MI and Seeding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ro noise in see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[Small-20 NewsGrou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Semi-Supervised KMeans substantially better than unsupervised KMeans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371600" y="1371600"/>
          <a:ext cx="586728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586728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Objective function and Seeding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-labeling consistent with KMeans assumptions        [Small-20 NewsGrou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Obj. function of data partition increases exponentially with seed fraction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917" name="all-small-newsgroup-objVsSeed-noise-0" descr=""/>
          <p:cNvPicPr/>
          <p:nvPr/>
        </p:nvPicPr>
        <p:blipFill>
          <a:blip r:embed="rId1"/>
          <a:stretch/>
        </p:blipFill>
        <p:spPr>
          <a:xfrm>
            <a:off x="1676520" y="1425600"/>
            <a:ext cx="579600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MI and Seeding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ro noise in see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[Yahoo! New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Semi-Supervised KMeans still better than unsupervised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1447920" y="1371600"/>
          <a:ext cx="59101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5910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Objective Function and Seeding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-labeling inconsistent with KMeans assum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[Yahoo! New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Objective function of constrained algorithms decreases with seeding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924" name="all-Yaho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8626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Dataset Separability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icult datasets: lots of overlap between the clusters          [Same-3 NewsGrou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Semi-supervision gives substantial improvement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927" name="all-same" descr="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1295280" y="1371600"/>
            <a:ext cx="601992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Dataset Separability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datasets: not much overlap between the clusters      [Different-3 NewsGrou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Semi-supervision does not give substantial improvement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1295280" y="1371600"/>
          <a:ext cx="5867640" cy="41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586764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ults: Noise Resistanc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d fraction: 0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[20 NewsGrou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Seeded-KMeans  most robust against noisy seeding</a:t>
            </a:r>
            <a:endParaRPr b="0" lang="en-US" sz="18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934" name="all-small-noise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0199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ord Linkag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nd merge duplicate field values and duplicate records in a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uplicates in mailing lists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nformation integration of multiple databases of stores, restaurants, etc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atching bibliographic references in research papers (Cora/ResearchIndex)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ifferent published editions in a database of books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supervised Clustering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58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erimental Dataset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200 artificially corrupted mailing list add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295 Cora research paper ci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4 restaurant listings from Fodor’s and Zagat’s guide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675 Citeseer research paper ci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ord Linkage Exampl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990720" y="1752480"/>
          <a:ext cx="7238880" cy="1817640"/>
        </p:xfrm>
        <a:graphic>
          <a:graphicData uri="http://schemas.openxmlformats.org/drawingml/2006/table">
            <a:tbl>
              <a:tblPr/>
              <a:tblGrid>
                <a:gridCol w="1676160"/>
                <a:gridCol w="1905120"/>
                <a:gridCol w="1828800"/>
                <a:gridCol w="1143000"/>
                <a:gridCol w="6858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av Freund, H. Sebastian Seung, Eli Shamir, and Naftali Tish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, prediction, and query by commit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s in Neural Information Process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 Mate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und, Y., Seung, H.S., Shamir, E. &amp; Tishby, 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, prediction, and query by commit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s in Neural Information Process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 Mate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1" name=""/>
          <p:cNvSpPr/>
          <p:nvPr/>
        </p:nvSpPr>
        <p:spPr>
          <a:xfrm>
            <a:off x="1199160" y="1371600"/>
            <a:ext cx="70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uthor                 Title                       Venue             Address    Y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990720" y="4572000"/>
          <a:ext cx="731520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Avenue De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2nd Ave. at 10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Y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icate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Avenue De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Second A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York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3" name=""/>
          <p:cNvSpPr/>
          <p:nvPr/>
        </p:nvSpPr>
        <p:spPr>
          <a:xfrm>
            <a:off x="1431720" y="4191120"/>
            <a:ext cx="60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ame                Address                 City                   Cu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aditional Record Linkag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a static text-similarity metric to each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sine similarity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Jaccard similarity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dit distance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similarity of each field to determine overall simi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anually weighted sum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shold overall similarity to detect dupli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dit (Levenstein) Distanc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number of charac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ition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itu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eded to make two strings equiva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isspell” to “mispell” is distance 1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isspell” to “mistell” is distance 2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isspell” to “misspelling” is distance 3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mputed efficiently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lengths of the two strings being compa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dit Distance with Affine Gap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guous deletions/additions are less expensive than non-contiguous 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isspell” to “misspelling” is distance &lt; 3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cost of contiguous and non-contiguous deletions/additions determined by a manually-set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ine gap edit-distance better for identifying duplicates than Levenst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ainable Record Linkag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R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tipl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tiv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r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age us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parameterized similarity metrics for comparing each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inable edit-distance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M to set edit-operation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o combine multiple similarity metrics for each field to determine equiva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Use SVM to decide on duplicates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ainable Edit Distance</a:t>
            </a:r>
            <a:br>
              <a:rPr sz="3200"/>
            </a:b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able edit distance based on generative probabilistic model for producing matched pairs of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 trained using EM to maximize the probability of producing training pairs of equivalent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developed for Levenstein distance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tad &amp; Yianilos (199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odified for affine gap edit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mple Learned Edit Operation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xpensive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eleting/adding space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ubstituting ‘/’ for ‘-’ in phone numbers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eleting/adding ‘e’ and ‘t’ in addresses (Street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t.)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ive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eleting/adding a digit in a phone number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eleting/adding a ‘q’ in a name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bining Field Similariti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similarity is determined by combining the similarities of individual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ields are more indicative of record similarity than oth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For addresses, city similarity is less relevant than restaurant/person name or street address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For bibliographic citation, venue (i.e. conference or journal name) is less relevant than author or title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similarities should be weighted when combined to determine record simi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s should be learned using learning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RLI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cord Linkage Framework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974520" y="5562720"/>
            <a:ext cx="1080000" cy="413280"/>
            <a:chOff x="974520" y="5562720"/>
            <a:chExt cx="1080000" cy="413280"/>
          </a:xfrm>
        </p:grpSpPr>
        <p:sp>
          <p:nvSpPr>
            <p:cNvPr id="960" name=""/>
            <p:cNvSpPr/>
            <p:nvPr/>
          </p:nvSpPr>
          <p:spPr>
            <a:xfrm>
              <a:off x="974520" y="5577120"/>
              <a:ext cx="108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.Fiel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90360" y="5562720"/>
              <a:ext cx="99036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2057760" y="5562720"/>
            <a:ext cx="1064520" cy="413280"/>
            <a:chOff x="2057760" y="5562720"/>
            <a:chExt cx="1064520" cy="413280"/>
          </a:xfrm>
        </p:grpSpPr>
        <p:sp>
          <p:nvSpPr>
            <p:cNvPr id="963" name=""/>
            <p:cNvSpPr/>
            <p:nvPr/>
          </p:nvSpPr>
          <p:spPr>
            <a:xfrm>
              <a:off x="2057760" y="5577120"/>
              <a:ext cx="106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B.Fiel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073240" y="5562720"/>
              <a:ext cx="99072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156360" y="5562720"/>
            <a:ext cx="1080000" cy="413280"/>
            <a:chOff x="6156360" y="5562720"/>
            <a:chExt cx="1080000" cy="413280"/>
          </a:xfrm>
        </p:grpSpPr>
        <p:sp>
          <p:nvSpPr>
            <p:cNvPr id="966" name=""/>
            <p:cNvSpPr/>
            <p:nvPr/>
          </p:nvSpPr>
          <p:spPr>
            <a:xfrm>
              <a:off x="6156360" y="5577120"/>
              <a:ext cx="108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.Field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172200" y="5562720"/>
              <a:ext cx="99072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238880" y="5562720"/>
            <a:ext cx="1064880" cy="413280"/>
            <a:chOff x="7238880" y="5562720"/>
            <a:chExt cx="1064880" cy="413280"/>
          </a:xfrm>
        </p:grpSpPr>
        <p:sp>
          <p:nvSpPr>
            <p:cNvPr id="969" name=""/>
            <p:cNvSpPr/>
            <p:nvPr/>
          </p:nvSpPr>
          <p:spPr>
            <a:xfrm>
              <a:off x="7238880" y="5577120"/>
              <a:ext cx="106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B.Field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54720" y="5562720"/>
              <a:ext cx="99072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3260520" y="5562720"/>
            <a:ext cx="1080000" cy="413280"/>
            <a:chOff x="3260520" y="5562720"/>
            <a:chExt cx="1080000" cy="413280"/>
          </a:xfrm>
        </p:grpSpPr>
        <p:sp>
          <p:nvSpPr>
            <p:cNvPr id="972" name=""/>
            <p:cNvSpPr/>
            <p:nvPr/>
          </p:nvSpPr>
          <p:spPr>
            <a:xfrm>
              <a:off x="3260520" y="5577120"/>
              <a:ext cx="108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.Fiel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6360" y="5562720"/>
              <a:ext cx="99036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343760" y="5562720"/>
            <a:ext cx="1064520" cy="413280"/>
            <a:chOff x="4343760" y="5562720"/>
            <a:chExt cx="1064520" cy="413280"/>
          </a:xfrm>
        </p:grpSpPr>
        <p:sp>
          <p:nvSpPr>
            <p:cNvPr id="975" name=""/>
            <p:cNvSpPr/>
            <p:nvPr/>
          </p:nvSpPr>
          <p:spPr>
            <a:xfrm>
              <a:off x="4343760" y="5577120"/>
              <a:ext cx="106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B.Fiel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359240" y="5562720"/>
              <a:ext cx="99072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488200" y="533412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066680" y="4572000"/>
            <a:ext cx="761760" cy="442800"/>
            <a:chOff x="1066680" y="4572000"/>
            <a:chExt cx="761760" cy="442800"/>
          </a:xfrm>
        </p:grpSpPr>
        <p:sp>
          <p:nvSpPr>
            <p:cNvPr id="979" name=""/>
            <p:cNvSpPr/>
            <p:nvPr/>
          </p:nvSpPr>
          <p:spPr>
            <a:xfrm>
              <a:off x="1066680" y="4633920"/>
              <a:ext cx="761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203480" y="45720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754280" y="441972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144792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1447920" y="5029200"/>
            <a:ext cx="1295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4320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47920" y="5029200"/>
            <a:ext cx="12189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2286000" y="4572000"/>
            <a:ext cx="761760" cy="442800"/>
            <a:chOff x="2286000" y="4572000"/>
            <a:chExt cx="761760" cy="442800"/>
          </a:xfrm>
        </p:grpSpPr>
        <p:sp>
          <p:nvSpPr>
            <p:cNvPr id="987" name=""/>
            <p:cNvSpPr/>
            <p:nvPr/>
          </p:nvSpPr>
          <p:spPr>
            <a:xfrm>
              <a:off x="2286000" y="4633920"/>
              <a:ext cx="761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23520" y="4572000"/>
              <a:ext cx="49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3352680" y="4572000"/>
            <a:ext cx="761760" cy="442800"/>
            <a:chOff x="3352680" y="4572000"/>
            <a:chExt cx="761760" cy="442800"/>
          </a:xfrm>
        </p:grpSpPr>
        <p:sp>
          <p:nvSpPr>
            <p:cNvPr id="990" name=""/>
            <p:cNvSpPr/>
            <p:nvPr/>
          </p:nvSpPr>
          <p:spPr>
            <a:xfrm>
              <a:off x="3352680" y="4633920"/>
              <a:ext cx="761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89480" y="45720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4040280" y="441972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73392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733920" y="5029200"/>
            <a:ext cx="1295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02920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733920" y="5029200"/>
            <a:ext cx="12189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4572000" y="4572000"/>
            <a:ext cx="761760" cy="442800"/>
            <a:chOff x="4572000" y="4572000"/>
            <a:chExt cx="761760" cy="442800"/>
          </a:xfrm>
        </p:grpSpPr>
        <p:sp>
          <p:nvSpPr>
            <p:cNvPr id="998" name=""/>
            <p:cNvSpPr/>
            <p:nvPr/>
          </p:nvSpPr>
          <p:spPr>
            <a:xfrm>
              <a:off x="4572000" y="4633920"/>
              <a:ext cx="761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709520" y="4572000"/>
              <a:ext cx="49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6248520" y="4572000"/>
            <a:ext cx="761760" cy="442800"/>
            <a:chOff x="6248520" y="4572000"/>
            <a:chExt cx="761760" cy="442800"/>
          </a:xfrm>
        </p:grpSpPr>
        <p:sp>
          <p:nvSpPr>
            <p:cNvPr id="1001" name=""/>
            <p:cNvSpPr/>
            <p:nvPr/>
          </p:nvSpPr>
          <p:spPr>
            <a:xfrm>
              <a:off x="6248520" y="4633920"/>
              <a:ext cx="761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85320" y="45720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6936120" y="441972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662940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6629400" y="5029200"/>
            <a:ext cx="1295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92468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29400" y="5029200"/>
            <a:ext cx="12193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7467480" y="4572000"/>
            <a:ext cx="761760" cy="442800"/>
            <a:chOff x="7467480" y="4572000"/>
            <a:chExt cx="761760" cy="442800"/>
          </a:xfrm>
        </p:grpSpPr>
        <p:sp>
          <p:nvSpPr>
            <p:cNvPr id="1009" name=""/>
            <p:cNvSpPr/>
            <p:nvPr/>
          </p:nvSpPr>
          <p:spPr>
            <a:xfrm>
              <a:off x="7467480" y="4633920"/>
              <a:ext cx="761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605000" y="4572000"/>
              <a:ext cx="49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5564520" y="472428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962520" y="2362320"/>
            <a:ext cx="1371600" cy="53316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447920" y="2895120"/>
            <a:ext cx="281916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2666880" y="2895120"/>
            <a:ext cx="175284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733920" y="2895120"/>
            <a:ext cx="76176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flipV="1">
            <a:off x="4660560" y="2895120"/>
            <a:ext cx="29196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4876920" y="2895120"/>
            <a:ext cx="175248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5181120" y="2895120"/>
            <a:ext cx="259092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 flipV="1">
            <a:off x="4724280" y="2895480"/>
            <a:ext cx="99072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33520" y="3657600"/>
            <a:ext cx="146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Trainable similarity 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562720" y="1981080"/>
            <a:ext cx="146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Trainable  duplicat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648320" y="1752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supervised Clustering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82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rned Record Similarit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similarities used as feature vectors describing a pair of rec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M trained on these feature vectors to discriminate duplicate from non-duplicate 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similarity based on distance of feature vector from the sepa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ord Pair Classification Exampl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26" name="fig05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ustering Records into Equivalence Class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milarity-based semi-supervised clustering to identify groups of equivalent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-link agglomerative clustering to cluster records based on learned similarity metr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erimental Methodolog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fold cross-validation with equivalence classes of records randomly assigned to fo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averaged over 20 runs of cross-valid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 of duplicate detection on test data measured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Precision: 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ecall: 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F-Measure: 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2743200" y="3733920"/>
                <a:ext cx="2895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rrectlyIdentifiedDuplicatePair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ntifiedDuplicatePai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819520" y="4419720"/>
                <a:ext cx="2895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rrectlyIdentifiedDuplicatePair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rueDuplicatePai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3048120" y="5029200"/>
                <a:ext cx="2133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recision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sio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iling List Name Field Result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36" name="dbname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0106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ra Title Field Result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38" name="coratitle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10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ximum F-measure for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tecting Duplicate Field Valu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609480" y="2286000"/>
          <a:ext cx="7848720" cy="2914560"/>
        </p:xfrm>
        <a:graphic>
          <a:graphicData uri="http://schemas.openxmlformats.org/drawingml/2006/table">
            <a:tbl>
              <a:tblPr/>
              <a:tblGrid>
                <a:gridCol w="1067040"/>
                <a:gridCol w="1176120"/>
                <a:gridCol w="1219320"/>
                <a:gridCol w="1022400"/>
                <a:gridCol w="1120680"/>
                <a:gridCol w="1011240"/>
                <a:gridCol w="1231920"/>
              </a:tblGrid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es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es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es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es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t Di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f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t Di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1" name=""/>
          <p:cNvSpPr/>
          <p:nvPr/>
        </p:nvSpPr>
        <p:spPr>
          <a:xfrm>
            <a:off x="244080" y="5486400"/>
            <a:ext cx="86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-test results indicate differences are significant at .05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iling List Record Result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1066680" y="1440000"/>
            <a:ext cx="693432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staurant Record Result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990720" y="1438200"/>
            <a:ext cx="7086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bining Similarity and Search-Based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mi-Supervised Cluster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pply seeded/constrained clustering with a trained similarity metr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ed a unified framework for Euclidian distance with soft pairwise-constraints (must-link, cannot-lin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on UCI data comparing approa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mall amounts of training, seeded/constrained tends to do better than similarity-b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larger amounts of labeled data, similarity-based tends to do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ing both approaches outperforms both individual approa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mi-Supervised Learn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s labeled and unlabeled data during training to improve perform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i-supervised classification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: Training on labeled data exploits additional unlabeled data, frequently resulting in a more accurate classifier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i-supervised clustering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: Uses small amount of labeled data to aid and bias the clustering of unlabeled data.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tive Semi-Supervis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ctive learning to select the most informative labeled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developed an active approach for selecting good pairwise queries to get must-link and cannot-link constra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Should these two examples be in same or different clusters?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 on UCI and text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achieves much higher accuracy with fewer labeled training 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ture Work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metric learning for vector-space cosine-simi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Supervised learning of better token weights than TF-IDF.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ed method for text data (cosine similarity) that combines seeded/constrained with learned similarity mea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results for duplicate de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Static-active learning</a:t>
            </a:r>
            <a:endParaRPr b="0" lang="en-US" sz="2000" spc="-1" strike="noStrike">
              <a:solidFill>
                <a:srgbClr val="0099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ing external data/knowledge (e.g. from the web) for improving similarity measures for duplicate de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clus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-supervised clustering is an alternative way of combining labeled and unlabeled data in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-based and similarity-based are two alternative approa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useful applications in text-clustering and database record lin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 for these applications illustrate their ut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combined to produce even better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assification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08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90720" y="1752120"/>
            <a:ext cx="3124080" cy="358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i-Supervised Classification Exampl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33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57360" y="2421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360" y="24382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36576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053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4191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160" y="3886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37339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17524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32004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0760" y="1981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360" y="1600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360" y="27432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42670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28195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228600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22096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990720" y="1752120"/>
            <a:ext cx="3124080" cy="358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Sugato Basu</dc:creator>
  <dc:description/>
  <dc:language>en-US</dc:language>
  <cp:lastModifiedBy> Raymond Mooney</cp:lastModifiedBy>
  <dcterms:modified xsi:type="dcterms:W3CDTF">2003-12-13T20:15:44Z</dcterms:modified>
  <cp:revision>1251</cp:revision>
  <dc:subject/>
  <dc:title>KGP 2002 Talk</dc:title>
</cp:coreProperties>
</file>