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</p:sldMasterIdLst>
  <p:notesMasterIdLst>
    <p:notesMasterId r:id="rId66"/>
  </p:notesMasterIdLst>
  <p:sldIdLst>
    <p:sldId id="256" r:id="rId67"/>
    <p:sldId id="257" r:id="rId68"/>
    <p:sldId id="258" r:id="rId69"/>
    <p:sldId id="259" r:id="rId70"/>
    <p:sldId id="260" r:id="rId71"/>
    <p:sldId id="261" r:id="rId72"/>
    <p:sldId id="262" r:id="rId73"/>
    <p:sldId id="263" r:id="rId74"/>
    <p:sldId id="264" r:id="rId75"/>
    <p:sldId id="265" r:id="rId76"/>
    <p:sldId id="266" r:id="rId77"/>
    <p:sldId id="267" r:id="rId78"/>
    <p:sldId id="268" r:id="rId79"/>
    <p:sldId id="269" r:id="rId80"/>
    <p:sldId id="270" r:id="rId81"/>
    <p:sldId id="271" r:id="rId82"/>
    <p:sldId id="272" r:id="rId83"/>
    <p:sldId id="273" r:id="rId84"/>
    <p:sldId id="274" r:id="rId85"/>
    <p:sldId id="275" r:id="rId86"/>
    <p:sldId id="276" r:id="rId87"/>
    <p:sldId id="277" r:id="rId88"/>
    <p:sldId id="278" r:id="rId89"/>
    <p:sldId id="279" r:id="rId90"/>
    <p:sldId id="280" r:id="rId91"/>
    <p:sldId id="281" r:id="rId92"/>
    <p:sldId id="282" r:id="rId93"/>
    <p:sldId id="283" r:id="rId94"/>
    <p:sldId id="284" r:id="rId95"/>
    <p:sldId id="285" r:id="rId96"/>
    <p:sldId id="286" r:id="rId97"/>
    <p:sldId id="287" r:id="rId98"/>
    <p:sldId id="288" r:id="rId99"/>
    <p:sldId id="289" r:id="rId100"/>
    <p:sldId id="290" r:id="rId101"/>
    <p:sldId id="291" r:id="rId102"/>
    <p:sldId id="292" r:id="rId103"/>
    <p:sldId id="293" r:id="rId104"/>
    <p:sldId id="294" r:id="rId105"/>
    <p:sldId id="295" r:id="rId106"/>
    <p:sldId id="296" r:id="rId107"/>
    <p:sldId id="297" r:id="rId108"/>
    <p:sldId id="298" r:id="rId109"/>
    <p:sldId id="299" r:id="rId110"/>
    <p:sldId id="300" r:id="rId111"/>
    <p:sldId id="301" r:id="rId112"/>
    <p:sldId id="302" r:id="rId113"/>
    <p:sldId id="303" r:id="rId114"/>
    <p:sldId id="304" r:id="rId115"/>
    <p:sldId id="305" r:id="rId116"/>
    <p:sldId id="306" r:id="rId117"/>
    <p:sldId id="307" r:id="rId118"/>
    <p:sldId id="308" r:id="rId119"/>
    <p:sldId id="309" r:id="rId120"/>
    <p:sldId id="310" r:id="rId121"/>
    <p:sldId id="311" r:id="rId122"/>
    <p:sldId id="312" r:id="rId123"/>
    <p:sldId id="313" r:id="rId124"/>
    <p:sldId id="314" r:id="rId125"/>
    <p:sldId id="315" r:id="rId126"/>
    <p:sldId id="316" r:id="rId127"/>
    <p:sldId id="317" r:id="rId128"/>
    <p:sldId id="318" r:id="rId129"/>
    <p:sldId id="319" r:id="rId130"/>
    <p:sldId id="320" r:id="rId131"/>
    <p:sldId id="321" r:id="rId132"/>
    <p:sldId id="322" r:id="rId133"/>
    <p:sldId id="323" r:id="rId134"/>
    <p:sldId id="324" r:id="rId1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notesMaster" Target="notesMasters/notesMaster1.xml"/><Relationship Id="rId67" Type="http://schemas.openxmlformats.org/officeDocument/2006/relationships/slide" Target="slides/slide1.xml"/><Relationship Id="rId68" Type="http://schemas.openxmlformats.org/officeDocument/2006/relationships/slide" Target="slides/slide2.xml"/><Relationship Id="rId69" Type="http://schemas.openxmlformats.org/officeDocument/2006/relationships/slide" Target="slides/slide3.xml"/><Relationship Id="rId70" Type="http://schemas.openxmlformats.org/officeDocument/2006/relationships/slide" Target="slides/slide4.xml"/><Relationship Id="rId71" Type="http://schemas.openxmlformats.org/officeDocument/2006/relationships/slide" Target="slides/slide5.xml"/><Relationship Id="rId72" Type="http://schemas.openxmlformats.org/officeDocument/2006/relationships/slide" Target="slides/slide6.xml"/><Relationship Id="rId73" Type="http://schemas.openxmlformats.org/officeDocument/2006/relationships/slide" Target="slides/slide7.xml"/><Relationship Id="rId74" Type="http://schemas.openxmlformats.org/officeDocument/2006/relationships/slide" Target="slides/slide8.xml"/><Relationship Id="rId75" Type="http://schemas.openxmlformats.org/officeDocument/2006/relationships/slide" Target="slides/slide9.xml"/><Relationship Id="rId76" Type="http://schemas.openxmlformats.org/officeDocument/2006/relationships/slide" Target="slides/slide10.xml"/><Relationship Id="rId77" Type="http://schemas.openxmlformats.org/officeDocument/2006/relationships/slide" Target="slides/slide11.xml"/><Relationship Id="rId78" Type="http://schemas.openxmlformats.org/officeDocument/2006/relationships/slide" Target="slides/slide12.xml"/><Relationship Id="rId79" Type="http://schemas.openxmlformats.org/officeDocument/2006/relationships/slide" Target="slides/slide13.xml"/><Relationship Id="rId80" Type="http://schemas.openxmlformats.org/officeDocument/2006/relationships/slide" Target="slides/slide14.xml"/><Relationship Id="rId81" Type="http://schemas.openxmlformats.org/officeDocument/2006/relationships/slide" Target="slides/slide15.xml"/><Relationship Id="rId82" Type="http://schemas.openxmlformats.org/officeDocument/2006/relationships/slide" Target="slides/slide16.xml"/><Relationship Id="rId83" Type="http://schemas.openxmlformats.org/officeDocument/2006/relationships/slide" Target="slides/slide17.xml"/><Relationship Id="rId84" Type="http://schemas.openxmlformats.org/officeDocument/2006/relationships/slide" Target="slides/slide18.xml"/><Relationship Id="rId85" Type="http://schemas.openxmlformats.org/officeDocument/2006/relationships/slide" Target="slides/slide19.xml"/><Relationship Id="rId86" Type="http://schemas.openxmlformats.org/officeDocument/2006/relationships/slide" Target="slides/slide20.xml"/><Relationship Id="rId87" Type="http://schemas.openxmlformats.org/officeDocument/2006/relationships/slide" Target="slides/slide21.xml"/><Relationship Id="rId88" Type="http://schemas.openxmlformats.org/officeDocument/2006/relationships/slide" Target="slides/slide22.xml"/><Relationship Id="rId89" Type="http://schemas.openxmlformats.org/officeDocument/2006/relationships/slide" Target="slides/slide23.xml"/><Relationship Id="rId90" Type="http://schemas.openxmlformats.org/officeDocument/2006/relationships/slide" Target="slides/slide24.xml"/><Relationship Id="rId91" Type="http://schemas.openxmlformats.org/officeDocument/2006/relationships/slide" Target="slides/slide25.xml"/><Relationship Id="rId92" Type="http://schemas.openxmlformats.org/officeDocument/2006/relationships/slide" Target="slides/slide26.xml"/><Relationship Id="rId93" Type="http://schemas.openxmlformats.org/officeDocument/2006/relationships/slide" Target="slides/slide27.xml"/><Relationship Id="rId94" Type="http://schemas.openxmlformats.org/officeDocument/2006/relationships/slide" Target="slides/slide28.xml"/><Relationship Id="rId95" Type="http://schemas.openxmlformats.org/officeDocument/2006/relationships/slide" Target="slides/slide29.xml"/><Relationship Id="rId96" Type="http://schemas.openxmlformats.org/officeDocument/2006/relationships/slide" Target="slides/slide30.xml"/><Relationship Id="rId97" Type="http://schemas.openxmlformats.org/officeDocument/2006/relationships/slide" Target="slides/slide31.xml"/><Relationship Id="rId98" Type="http://schemas.openxmlformats.org/officeDocument/2006/relationships/slide" Target="slides/slide32.xml"/><Relationship Id="rId99" Type="http://schemas.openxmlformats.org/officeDocument/2006/relationships/slide" Target="slides/slide33.xml"/><Relationship Id="rId100" Type="http://schemas.openxmlformats.org/officeDocument/2006/relationships/slide" Target="slides/slide34.xml"/><Relationship Id="rId101" Type="http://schemas.openxmlformats.org/officeDocument/2006/relationships/slide" Target="slides/slide35.xml"/><Relationship Id="rId102" Type="http://schemas.openxmlformats.org/officeDocument/2006/relationships/slide" Target="slides/slide36.xml"/><Relationship Id="rId103" Type="http://schemas.openxmlformats.org/officeDocument/2006/relationships/slide" Target="slides/slide37.xml"/><Relationship Id="rId104" Type="http://schemas.openxmlformats.org/officeDocument/2006/relationships/slide" Target="slides/slide38.xml"/><Relationship Id="rId105" Type="http://schemas.openxmlformats.org/officeDocument/2006/relationships/slide" Target="slides/slide39.xml"/><Relationship Id="rId106" Type="http://schemas.openxmlformats.org/officeDocument/2006/relationships/slide" Target="slides/slide40.xml"/><Relationship Id="rId107" Type="http://schemas.openxmlformats.org/officeDocument/2006/relationships/slide" Target="slides/slide41.xml"/><Relationship Id="rId108" Type="http://schemas.openxmlformats.org/officeDocument/2006/relationships/slide" Target="slides/slide42.xml"/><Relationship Id="rId109" Type="http://schemas.openxmlformats.org/officeDocument/2006/relationships/slide" Target="slides/slide43.xml"/><Relationship Id="rId110" Type="http://schemas.openxmlformats.org/officeDocument/2006/relationships/slide" Target="slides/slide44.xml"/><Relationship Id="rId111" Type="http://schemas.openxmlformats.org/officeDocument/2006/relationships/slide" Target="slides/slide45.xml"/><Relationship Id="rId112" Type="http://schemas.openxmlformats.org/officeDocument/2006/relationships/slide" Target="slides/slide46.xml"/><Relationship Id="rId113" Type="http://schemas.openxmlformats.org/officeDocument/2006/relationships/slide" Target="slides/slide47.xml"/><Relationship Id="rId114" Type="http://schemas.openxmlformats.org/officeDocument/2006/relationships/slide" Target="slides/slide48.xml"/><Relationship Id="rId115" Type="http://schemas.openxmlformats.org/officeDocument/2006/relationships/slide" Target="slides/slide49.xml"/><Relationship Id="rId116" Type="http://schemas.openxmlformats.org/officeDocument/2006/relationships/slide" Target="slides/slide50.xml"/><Relationship Id="rId117" Type="http://schemas.openxmlformats.org/officeDocument/2006/relationships/slide" Target="slides/slide51.xml"/><Relationship Id="rId118" Type="http://schemas.openxmlformats.org/officeDocument/2006/relationships/slide" Target="slides/slide52.xml"/><Relationship Id="rId119" Type="http://schemas.openxmlformats.org/officeDocument/2006/relationships/slide" Target="slides/slide53.xml"/><Relationship Id="rId120" Type="http://schemas.openxmlformats.org/officeDocument/2006/relationships/slide" Target="slides/slide54.xml"/><Relationship Id="rId121" Type="http://schemas.openxmlformats.org/officeDocument/2006/relationships/slide" Target="slides/slide55.xml"/><Relationship Id="rId122" Type="http://schemas.openxmlformats.org/officeDocument/2006/relationships/slide" Target="slides/slide56.xml"/><Relationship Id="rId123" Type="http://schemas.openxmlformats.org/officeDocument/2006/relationships/slide" Target="slides/slide57.xml"/><Relationship Id="rId124" Type="http://schemas.openxmlformats.org/officeDocument/2006/relationships/slide" Target="slides/slide58.xml"/><Relationship Id="rId125" Type="http://schemas.openxmlformats.org/officeDocument/2006/relationships/slide" Target="slides/slide59.xml"/><Relationship Id="rId126" Type="http://schemas.openxmlformats.org/officeDocument/2006/relationships/slide" Target="slides/slide60.xml"/><Relationship Id="rId127" Type="http://schemas.openxmlformats.org/officeDocument/2006/relationships/slide" Target="slides/slide61.xml"/><Relationship Id="rId128" Type="http://schemas.openxmlformats.org/officeDocument/2006/relationships/slide" Target="slides/slide62.xml"/><Relationship Id="rId129" Type="http://schemas.openxmlformats.org/officeDocument/2006/relationships/slide" Target="slides/slide63.xml"/><Relationship Id="rId130" Type="http://schemas.openxmlformats.org/officeDocument/2006/relationships/slide" Target="slides/slide64.xml"/><Relationship Id="rId131" Type="http://schemas.openxmlformats.org/officeDocument/2006/relationships/slide" Target="slides/slide65.xml"/><Relationship Id="rId132" Type="http://schemas.openxmlformats.org/officeDocument/2006/relationships/slide" Target="slides/slide66.xml"/><Relationship Id="rId133" Type="http://schemas.openxmlformats.org/officeDocument/2006/relationships/slide" Target="slides/slide67.xml"/><Relationship Id="rId134" Type="http://schemas.openxmlformats.org/officeDocument/2006/relationships/slide" Target="slides/slide68.xml"/><Relationship Id="rId135" Type="http://schemas.openxmlformats.org/officeDocument/2006/relationships/slide" Target="slides/slide69.xml"/><Relationship Id="rId1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 type="dt" idx="186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 type="ftr" idx="187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 type="sldNum" idx="188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2CBD-1C33-45FD-8D15-57B2E5E2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7CB-2928-4A66-B98D-F21E80F2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EB5D-1B4E-4E1E-BC64-C12F02D3A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situation of a child in a room observing the perceptual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learning language, many things happening in a room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C357-7384-44CF-BE1A-40002319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EBF7-4387-4486-BD45-49393F2E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F3A1-708E-412F-9050-96D4C0593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1D2F-109C-4AAE-8FA1-3D359E7A9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B679-24B5-42D4-BBEE-B8CC9AC6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3ECA-C592-43C8-BBD4-2AAD0A26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1CC1-61B1-4C1F-B88A-65C84D410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58B9-71E0-4C71-8773-B093C8962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B7F2-E042-4F3A-9837-BADA254D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is that when a child or a computer hears this sentence then these things were happ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FB21-73D8-4AE7-877D-D7A8747F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7389-66A7-4C34-917B-C6D96079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C280-42F5-434C-A6A0-C344C9DE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52A-21E0-4F46-BF49-569B7E96B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339B-63CB-4BAD-9B1C-3A46BE8A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198-9434-490A-9716-E012F783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24B5-6A96-4585-8788-8A6F38AB6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8697-1C88-466A-A61E-AE1E0E88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D789-EFA4-45F0-9CBB-3B497068D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45EA-74B8-4CC0-B814-909AC2F4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95D-31C3-4102-886D-A67B8917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689B-61BB-4B03-9581-20348EC7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E2E8-FA52-4A84-B65E-7AEB928D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986FF-F90A-45CB-8859-D24CBBC17A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9E9D-683E-48A8-B9C5-DD842A0C4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306D-8729-4290-BC1F-AD3310BDB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BDA3-56AE-4CF9-9D64-E80C28D1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239B-2928-4537-A599-ED17E18D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E056-90AF-478D-AED6-09811DA8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BEF-5BE9-4B11-8308-29882AD6A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1E79-FE87-4E84-905B-8749E484A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E380-D889-4C2C-BA7C-0D6BA8542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653-F782-4241-8C86-8D910006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542C-27B7-4C7D-B164-B51E3FEE0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A8B0-FCDF-40C1-94BA-CEACB9DD2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3D80-EDAA-433E-8ED8-7F3909FE5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DEB2-4697-4DFE-9EDD-37EBA0334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FC4-903C-49F0-B338-EFDF9047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Korean data collected by JooHyun, but results not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5D25-AF97-490B-AECF-C90A9A973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CB67-6DEA-459E-B53F-9002AD871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E82B3-A677-4074-BCE7-43A60C3530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F4D8-A47B-4ED4-A210-7C9C8152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CBD42-368D-4CCF-9D82-8F795D1798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52FF-ECA4-43D6-A472-B5544D92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7D2A4-77DC-4813-B9C4-70C228B935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inferred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DD6-00C0-4D98-AFAB-A602F8BB1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2D1E-9F1B-4996-A327-887680F4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E762-1D22-4F94-8530-C2CA1CDA1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3D5-2254-45D6-A743-B3E69D06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E4D0-335F-4B8A-95B0-DC468401D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F0D-B85E-453F-9A25-9696DBB4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F14-B843-4893-9F2C-414347BCC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AC4-BABC-4510-AF2F-8A07A3543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77B5-949F-4154-B51B-679DE4927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F17-DFF2-44AA-97E0-A0C72272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2CAA-F6D3-460D-AD45-1846651C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9AD2-B3AE-4411-A813-2E55901AC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F6AC-046E-490E-94BB-ADA5F7027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EF2-1C30-411F-997D-A354B495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CCFB-91BC-4172-911D-795A9F60C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42D-9C52-42FC-8657-248698D4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97E18-5EE6-43A3-B76D-6BB6A9B12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554D-5338-4E41-A287-688DA0A39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6581F-05E6-43DF-A20A-6545C6DC8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A125-BBB8-4BBC-9A46-D2DE10F36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6BF1-F50F-4A4F-B89D-E091DFA1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AF0D3-3D28-41B6-8D38-42E79E66B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D8F9-808A-441B-BE93-22BF7C276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particip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hand-bu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EDE6-4D35-46DD-BE11-CF7707AB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A11B-EB67-40DC-A3B5-3860F3B3B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918B-9343-42FB-9403-31A92CE54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82B4-201B-4856-8A02-59BF421FF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E8F-6F79-4236-A4C8-7CE0B0CC4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4C42-B726-4063-8585-ECFE7BC7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B34E-C3FE-4190-9664-06CCBBAC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5EA9-5855-4F7B-81D5-05A3E7899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27E0-C4B1-44CA-8B82-5550D9ECB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A50B-E8FB-4E7A-BD4E-E9D511AA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255D-FCC5-43D3-80AB-C2FE2A59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E63C3-768C-4054-BBF5-9E3B0F7B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DA90B-A043-4590-AEAB-32E9636E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F843F-34AD-4EFC-A154-C90339B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9B9D3E-8904-4346-9D9A-4107B3F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AA592-5FA2-4FEB-B194-716699B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F6C5C8-F808-4380-94E7-891ECFEB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18F45A-1661-4B39-826E-537ACAEB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AF996-0EB5-4B5F-8A42-2B975A22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DA68E1-4BC1-4AA8-B722-3CB7DDC9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D9A8D-2DEF-4563-9A71-F217BE41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8A09-D75D-4FD4-8A0C-2A94C04C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6168A-C869-404E-B868-FA85581D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35CC8-2C2B-4C2A-B3D8-C1DA4940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D3D5A-1FF6-4392-A686-36CA9F13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E6796-8469-4B17-BF00-BB648757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682D8-5C8B-4368-B7C5-91795DC4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0B840-AA3D-4C8D-AC72-7A3D7841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A7D5E-BA32-4C5A-A8ED-1ACF22A9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8924F-1BBA-41B6-8A97-FE52468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93E93-52C1-4094-8CAA-41E8598B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4EA05-4AD8-4994-B3D3-1EA72B1F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2A94-966D-4BC4-9C2A-AFBBA0D3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AA300-BE5B-43C0-A17B-4CE6A2AB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254BE-4D91-4C4A-9C50-2FAFEE18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CEE22-EDE0-4883-8DC4-10696AC5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AC125-04B5-4ED3-8ABA-D541057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6D6FD-0B71-454D-8920-59D85522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2A904-B31F-433E-BB26-5FD8128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6CCC9-07AC-4654-8EE7-CE6CA648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E4BEC-5494-4F15-9BAB-B7EDE3D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187FF-034D-4FE3-A386-9BAEC15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25673-FD91-482E-AB49-610B290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A1E6B-C7BD-4E29-9371-2A1A307233D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9BEDD-8DBE-4CD5-AC11-64FBAF1D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91992-F3A6-43C3-9067-351C1108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F34FB-4A9A-4794-93E0-4F8FA1D3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413D8D-3B60-48E9-BEBB-B630206B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1EC256-7BB2-4793-8684-A736D1FB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6B9B0A-A5BC-423F-B4B3-38E614A8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6DC183-9E67-4981-BDD5-B4407AE8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53AA13-DEF8-4445-8FA8-9AF36441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2E08E9-7C59-4A28-A9BE-5289EB3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63B7C3-FB5F-4D32-BE84-66CF203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7AE69-F249-41AF-8737-09E2CDBEA42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98984B-DFCF-466F-80A8-0FAE7D0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7FBAE1-2A05-4134-BF9D-3AE9140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E5F823-B352-4702-B951-0A275CE4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1F2AA7-A3E3-4B3C-A86D-5485B2A2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B7684D-AEC3-4298-8E8D-E8DD5BD5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B47EF-6761-44D5-BD6C-BA3E70AB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67365-E6BF-489D-A88C-2860489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357E2-F202-4303-887B-62EF070D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78135-2CD7-41D7-8E68-A0C625F4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9790C-148D-486A-AC6A-79B5852A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7F2C5-EB14-4BF6-A8EE-02B76346B17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991DB-D00E-485C-B5FA-28CCE269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56064-0995-49EB-8FBC-B3EE0CB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57CA5-80DF-4DEB-847B-BFD7799F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20288-B11C-4B6F-894B-5675E605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D6202-E123-4508-AD54-5416D57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B082D-DA45-4B39-9829-966CEA3D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27A20-0537-418B-9371-214C1F37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089E06-8CC8-4D59-AA82-CE78DF06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17832A-38ED-4E8E-BA9C-251EC6E1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76F751-4680-495A-A1BE-8D44E4E4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B117F-4D9D-4F49-8C40-46FB607B8A8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1D94C2-811D-453C-B212-5F78B70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471B5D-0881-4A5E-B2EA-98C46D7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962E1E-976F-43A2-A946-114E2CFB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81FCB0-3B0E-4D6F-B90E-7A305FEB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CCE71A-A266-477C-ADFB-6449F86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A23C1C-8FAB-498D-867E-965C90C7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82D5DA-B3F7-4D41-87EA-82BFE65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505FAF-149F-462C-A5BD-57B492F8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EBC427-5987-4C80-8006-37BF53D1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0B26CE-7AC5-4F8D-8556-FCA36D7F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3628-92CC-4E07-9537-6EE0C3C6659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0DE66E-5D28-4C05-B092-C455AC3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AD8F9C-E2A2-468B-A1E2-587D746C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F92CE3-C672-48CF-8428-E1A6F0A0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D4E97B-E79D-4515-ADFF-A79BD9A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08B08B-E442-4AEC-B91D-F49862BF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C17248-1720-498C-820E-968BA7A5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2FDD98-D3FD-4E0D-AE64-6FB384B6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3CE8CF-EFF2-410E-8958-736B1E4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9D5BAE-11E9-4064-ADB3-608C209D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A05B9B-8CAE-498B-BCD3-A0C9B46F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27EC7-D27D-498A-9EA2-D8A4B5DCD6E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457A89-DD28-42A5-A2BB-0A695454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443311-66F3-4CEC-9E72-F5B1F398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27DBE0-2D1A-4128-ACDC-416F9FA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0029ADE-089E-4E46-9277-9E64D844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EF263C-A3E1-499B-9470-20559492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9F91F8-2741-4831-B9A9-EE71B60C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FC0B6F-D7D0-46EB-8914-6647495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2C9258-687F-4C88-B4A5-DD0EDE73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7755B2-AF19-4FB6-B1A4-A27CCC3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2A33D5-F1A7-4492-9CB3-C599BDF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58FE4-7DA2-4486-8A67-AAB9742876B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F6BF91-1DE1-42C8-8FD8-7CE591C5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4CDA83-725A-4E68-8D62-53DA6EF9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D4219B-927F-4985-8413-D7A186C3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3C452C-54DF-4E8E-893A-EF40431A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37A782-869F-47AB-9E15-BE5AEF25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4A44EB-0535-44E1-BF1B-50BE39F5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BF791C-83FC-4571-BB2C-4BED9EA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E8731E-FCC8-40CA-A3F8-5968393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304404-3824-449F-96BA-D9C9B569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BE525D-C204-4E12-BC8C-54F6464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72D9-26DE-44E9-9B73-6DBE46A2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0069-6016-4B6E-83AE-70E1D5703D7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B1731E-1A7A-4EAF-8ED6-2FFEE300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E5D5B0-732B-4FF0-8CCB-FCBBC0C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1843D5-D0D3-442B-9A3C-90CCC15E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DF9D66-15AD-44C8-8C51-838A0817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B2D25C-F515-403D-B645-2F69D0BB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F43550E-F155-4CDD-A5A2-16301CF8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A15093-B1C3-4BC1-A2E3-25B6E0BC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3EEF73-0033-43C2-B065-131E6DDD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8B4C48-CFD6-4FBA-B54B-789C4F3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7B14D5-A7FF-46AE-9F7C-39246518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65B22-5FB3-4A96-8BAB-8D980EDFCEC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1B8D33-8B65-447C-A0F3-75EECEB8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625B8E-F8DC-42B9-AA9D-667EAB7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1F0BEA3-7C66-4A59-BA75-C4E0C5F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7F1DF8-1917-46BC-A418-3A778099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7C7AA7-CFE8-4EBA-9B52-A525C66D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0CCDB3-05F1-47E9-9615-3EC070E0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32DB89-9D3A-4191-BCFB-D1242FC7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106723-0AAF-45ED-BE1C-8610A806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35DC93-382A-445C-904A-D445F5A1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660C8A-2140-4F23-A905-70D7544A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36D25-A2F3-421F-BF0D-840C9F099E7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559113-5C8D-482C-8D38-6FECBA44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5BEF59-2EB6-46F9-80B3-2C95DF9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0A09D7-66CB-4B3C-8692-1EE9A37F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2AAB11-0416-4B98-B597-B821157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1C1586-2957-4ED3-AFBF-8F73C03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087977-3033-4114-B7BA-8895C962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B2DDBC-EEF3-4D66-BD75-A5E58B9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12151B-61A4-4A24-B70D-B941C4DB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C0A576-8022-4DCA-914E-9EBF9AB2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55AA1-29AB-49A6-8869-6462C27C2F5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D4FB8-4689-4BB1-B327-2374836E040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496C6AC-4190-43A8-AAC7-3F36AFC6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055661-52D3-4805-BBA8-5AEADBFF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39A20D-8E60-47C2-A55B-3062AF21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62CEE4-EFC6-453F-A8DE-595AF2C2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71EB9A-3963-4DA3-B4EE-438F78E1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5A3529-EB40-47DA-A672-D35559B8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36D9C2-11F0-4D7F-BBC1-7DA9B14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221625-9113-489D-AF8C-8E69FA6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2BC6B9-AA0A-4A6B-B3C2-937B4C81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02BD61-E2D5-4FE4-A99A-7DEE114F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D10ABE-7FF8-47BB-841F-9ED78260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0267B6-57C0-448B-9721-6DD1E4EF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5409C0-6B66-4CFF-8D9B-DFF3E0CA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37A005-855D-4B98-9491-F4C08D3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1407E3-9C2D-4FF1-A8F6-F14E70B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0711E6-61BC-4197-B1FA-A4FD060B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5C20EE-EC22-4691-8416-4D756B08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D3BDE5-5E47-46C6-9710-12C1C17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39382A-F851-421E-93D1-CEB610F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2AF94B-6844-4B83-BF8B-3A10E93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0DCF4C-8B19-4FB8-8575-E597B86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802C86-6179-4863-A587-E573A3D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51C857-D657-45AE-B723-207A7B66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7E75E4-964C-4346-ACB8-A5FDB7FD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E1B45F-3B2C-49F2-999F-33969577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598AAC-243C-4EA9-A18F-403450F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58FC96-0341-48D1-9560-E6DC860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68FA2E-97BF-4298-8A59-25DAA2F6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A4B64F-86D3-4D1B-9F50-F52E6B9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FB3AD5-87FE-411A-A77A-5C5AD9A6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B471BD-69A7-4A31-9E35-BC8BFA7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6A44C0-56DA-4290-823E-AEDABC0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441699-ACEC-424F-A5F7-5883658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D989C0-EDE1-421F-A4F7-FA9A2C5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B4720FD-DBA8-4F0C-A578-B8997C7A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241243-68FD-4608-9AC4-8E691C11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B74ACF-1AC1-4724-BACF-7673BD94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4506A0-6CE5-4E03-B509-CBA0C55D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B8DEF62-F072-41FF-93E2-D834415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E354A3-E567-4EF9-A789-94C7BDA9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77ABFC7-3442-405E-A209-4ADF0FF0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AF723AB-76C0-444D-A717-42997D91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79026D-2CE9-4800-A41B-98D8314F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103687-8E3F-4671-8DEE-4C2974C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8B882F-607C-4448-BB3A-C902398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78CD26-F973-46A5-A36F-61740468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324634-B842-4A67-8E14-6D68FD6F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4A7F8C-66E5-4644-815A-6E332965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D92F34-5C45-4436-8825-61194638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42D152-BAE3-407C-AE31-203A3811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6EE883-CD20-48CB-B0DD-2F851F0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0D1184-D9F4-42D4-AAA7-1CA2F00C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732261-226D-43C2-84AC-45976B9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D3C3E75-A0DA-4DA1-9C4B-EC3378E8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5F60624-7B32-4111-9181-A538C72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937F33-8FBC-4C1A-9D57-71E9CA1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6FA8F0-1BEF-49F9-ADCF-A62453D8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76CF17-B3C6-4792-AE28-D429A72F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9D5C0D-9057-4407-A3F4-099DB5A7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6B37-5BBB-464D-A6B1-CDA0C7C9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74FB7B-4AAA-42F0-9D4B-9AA17A93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D30FD82-FA68-4031-AC71-B77E29AB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86C4333-28DC-4AD5-9F6B-58F414BF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86EDA9-16FB-45DE-B81F-C654206B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1DCFE6-C0A5-44FB-BB49-8F25583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5E66B1A-5D72-4B3C-81D9-EE4D742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69A591-9B0E-4722-8423-5666B7B1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A65750-4992-4927-B29D-D6BF1E7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B7821E-F60A-405F-B075-3A99AD98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A31F35-F427-4FA3-A062-2E5AC36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BE6851-9E7F-44B5-A058-C5BA49EC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9C7ACB-4118-45CD-9FC3-5B768000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E882D2-FAD0-4500-AA2E-15FDADDF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C8635F-2A75-4559-B1CD-BF311D23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685BE5-2B0B-4935-8788-B811364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A9F5B4-956B-42DB-9423-E0A82A34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4ACA48F-BECD-4AFC-AACB-0F9AA7A1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6C3397-F93F-4C53-A6D7-E92C5AD5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D47FB3-894C-4B67-94EE-4B537510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387644-0481-4E76-BAFD-FE0C160D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461B5D-D2CD-465C-8A48-BC6E52C8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122EF6-FDB8-4476-93D2-15F7BB7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2EAE42E-D20D-48F5-AC54-20A36AE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BEF2B2-2A40-4E00-B625-2F9804C1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B035607-3811-40C3-8FEA-430A9F82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0815EAA-17E7-47CB-AA79-168A6FD5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66B691-C19E-43AC-A522-795AD6E5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957EB4A-943A-48AA-850C-5C0AED72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2F16CCE-2171-4A66-AA63-F5E6613E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A3ACC95-8C7D-4925-841C-F3400271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9050160-4EFE-48FE-A2EA-2866B64A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512003-185C-4D0F-9B9B-5EEEF7B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B233BB-48FE-4053-874A-5A4E40C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92E1B0-CABE-46BE-9581-E285AE6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714E6C-CBAC-4771-95CC-9929841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F88B9C-5CC3-4187-A2E5-01A04A03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EBDF99-0A51-4C7C-94C2-1A4602D0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4F6A596-D60C-4AEF-ADA1-AD78A34C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16708A9-60B9-4A70-92E4-0F13CD58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0570B5-74E6-4E03-A334-DB256D4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F6BDC1C-AFB0-4991-A886-1914C98A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35712C-C54A-4D4C-B08B-A9167E4C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8CF28C-1D38-4770-ACE7-9A12F68C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9C85E4C-E22C-41AB-8FE3-7C4D7B53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053BDD2-7902-4659-972D-4C31A35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8CD187-6563-436C-88B8-BF50A2F7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EC7C6FB-02BE-4909-9224-410E63A7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EC01EF1-ACB7-4686-93FD-09678C5E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8A4D97-8D40-4D41-B1A9-F5AF7119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49AD7B3-2B99-4C13-ABE2-16EAB717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20362B3-F3DD-4264-8BCB-40374AD2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887D57-A820-4C6F-9682-F1947E1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BDE55B6-CC8B-4054-96D4-BF4BE965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87351A9-204F-4C6D-B78C-5647539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6101B9B-30A9-42CD-890D-BE3C85C2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4114C16-BB49-453A-A586-683B6ED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5516DA-D049-4DA3-9698-1F85D6E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D4FD3CF-F4E5-4F11-840B-6499617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BB2BD8-30EB-4EBD-8523-9E79E5F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781A5C6-467C-440A-8B73-EB4B8216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07DCC52-46A4-4F52-88C9-0E044BB0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248CE33-C7AA-4D7E-9D28-515A056D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1CC77B4-9BA2-4375-B083-CCE19D9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A13E81-D23C-4612-AA9D-89E71F70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C4E0E8-B6F7-4E38-9D18-CDA08710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58D4EA-46A2-414C-8594-4852637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4EE82A7-E874-4630-A597-DE1099F0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F2EFC04-018F-4C6A-8284-0454492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9C722D-A399-4802-99E5-FD1C0AE8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340CC2-6DDF-4394-BBA2-F98BE71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66155-01EB-4D4A-A99A-287E53A5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1624FD-1223-4E6A-88AA-799CDC8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535C3E8-4F28-4EAB-9278-311CB907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765420-5E48-4BA1-B9B7-33F4DECF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DE730C0-1114-45E4-B15F-41B68463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F1F5894-A982-4A71-AB43-F9D3A33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9DB41FA-E134-4FA3-95D8-EB07B160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78468EF-56B9-46D6-9EE8-64398E5B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F0D6F44-2CA9-46F1-8A6B-669FA00D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B2B7441-35AF-40DE-AA95-7DAA3B6E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197C585-17D7-4170-98B0-378D1C1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51C5E-B445-4A89-9CDE-876B4251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997A874-F641-4543-98BE-3369CDC4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E66239E-B4C7-4ECA-BEE1-E501277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B757E29-6938-428D-A3E1-E3D34D87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8FEA0DA-2726-4416-AC00-D23D0282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B35DC22-E634-4D96-B73A-48B3BF6A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52EEB47-34FC-4BBD-BDB5-4460726A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16BB2A1-D435-4969-8CDD-D4A7FA9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6BE91FE-894A-4D41-8C03-9B7E516A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BF33EB8-0562-4B50-AD3D-2A0FB43C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6F6B785-87D5-4F85-A669-2810DA97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0D509-E1B1-4945-AFFA-6227C209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38B973-4FEF-4A2D-AD65-AAA6557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481A463-74E4-41AA-AE56-B639F9D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7CD85A0-E79D-4A7D-A454-518774C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A9BB07-4BD9-4DA1-ADC5-6765CBB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AE55636-4ED2-4811-8898-7DA1C70A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B0BC98A-CDD6-4F15-90F3-9EF366CD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16B9DBF-E05D-4CD7-A46A-D3B4A339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4A71826-F678-4135-825B-7C6DCAC4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E31E933-09D1-481A-B803-2482A287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55D3343-C5C9-4355-80BB-CB9D75CB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FCCE-07E2-4D07-BFB0-55664F42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E8024-7AF9-4BCD-86F9-34356DAC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4078569-D2DA-4BBA-BBA4-CD695AA9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5C7440C-E6DA-41E2-A1AE-1B5F64F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CD8E1A2-76D8-46D1-9954-1CB5800C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D25CB3C-2EA0-4090-AA09-B07E455F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F654CFE-BA78-4556-81B3-2BEDA64A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2981FB9-8F06-474D-B897-61F2286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0D9D88C-6F71-4DCF-88DE-991E941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7D94D10-8F7B-431F-8588-4593C543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130D17D-146D-4D2D-B445-819F67D5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87D7D4-49D6-4868-963B-6F86E36C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AB229-9BB8-4864-9079-630470D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45873C5-F5F7-4F4D-AB42-11FA972F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9F8DBA1-B0C7-44F0-806B-40D174EC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CBB7FEB-8B6C-470E-B1BE-4264C5EA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EBA6AA5-D032-4F7C-9FC9-1DF86C1E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A09CFD4-94B0-4879-BFF5-F847975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D3DB92-1BDC-4E40-A144-88F3E0B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226B92F-F729-434E-8EB6-D45C862E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78AFD6-86F7-45C1-BD14-7D1620D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7A0F45C-27DA-4069-BC57-9CE2C3B8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E38CDC7-4F38-47C2-B5F7-5041E715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551FC-34B5-49A4-BE38-AA183CC2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26205CD-F970-4944-8E86-7C674518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A38ADD0-51ED-42D7-B415-6DDF4F55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BA02F21-3E9F-4AEC-B45C-5D76CBA3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078B379-0FF8-43D9-B11D-4C54F3C5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3AF435F-2CBB-4349-8C56-F59ECE8C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0071980-7055-4325-BE98-2E413C6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BD2ABC9-1883-42E1-886C-8492042E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9B2CD6F-DB0D-4565-AF53-05E6E48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D0D10BF-9E1B-430C-B475-A224127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B831CC9-AEBC-4634-9998-7AB4A175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B1268-FAE1-40E1-9B3D-D884023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DBF0A99-AC4A-4A64-8099-1D9AA070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8E61CC3-CC33-4301-BAEC-355AC604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5662D4B-2243-4015-875F-A482233B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247C33F-2E8B-4643-81DF-84686DF1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0F0872-4CE5-41C7-8026-A1C5505A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65D50E5-4C99-4EAB-84B0-C735B8B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010597-AE4B-4B3A-96C6-A90B7EBE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542C674-0B5A-4A10-A2A6-F5056359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D32F9C3-493C-40F9-9973-24ACC8A6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B34D265-B83F-4346-82D5-484AFC4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36E51-1B38-4FB2-B995-D72E954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07B85A2-CA93-4D80-AA08-E6353F2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5E2089-BBC9-45E0-91BD-E73EF7E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40194F-FCF3-446E-B2F5-529BB732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786B330-D06C-4150-AF0D-34F6010A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EA40115-F938-4162-9D59-0419C3CF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5D243E9-0097-4682-A0DA-9412C333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000EBCC-3E4D-4DED-9FC9-8374A31C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235FC30-0964-481B-A68C-E8B9BD3A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3943985-DFEE-4FB8-AA12-5B7E502A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A032FA7-A27B-4C8B-A0CF-7C000C6D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74B0F-7AAF-47B5-B705-D11683D6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D2F4A27-FF5B-4A23-8B62-0622457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00216E4-4044-4920-9BFA-84DFDB23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4B5CD24-F8E8-4745-87AB-8137E34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6E7B3BB-21F4-4F10-ADC3-39212A1D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0F49583-61B0-49F2-8A11-5EE5154B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E386F92-2768-49F7-B3B2-2C04D148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9BE1C00-25B2-42B0-94A4-7B228755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00F7F95-E147-41F9-A5EC-3891873F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A130C95-A189-49C3-8ABA-C462EB04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8A98F7A-2E30-4FA4-9EDA-46F56B6E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BC20B-B9FB-4D0F-8158-EBE340EB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403A090-EE88-4BCF-AFC1-32D72EB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635CA50-7011-4A24-88F1-B55D440C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72BAA9B-0211-4489-9192-B53A01D7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A1701D9-EB38-4EF5-B57F-2014D72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024B032-1D9C-4B65-8463-8331EF3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3617622-3D4E-454E-9D9B-47AF6E9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64ED180-6B64-479C-AB6F-6A24EB0A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BDCE293-750F-41D1-968E-04413475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06F8E9-48B4-4990-9FAF-F1AF8839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67751CB-72FD-47BA-99DD-5AB3F37E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CCAA7-E4EC-4FCA-84D7-07F8AEBC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BA911BA-4981-4D24-939A-9F38334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2272527-FB95-4711-BD3C-A212AF06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67038C7-711D-4101-B28B-378590E9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707D7BF-A681-4545-8C44-3DCABBA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7ADA441-B40A-4628-BC0C-46599FF3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1D83BDD-73A2-471E-A2BB-BC370B3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1A18668-C1CF-40DB-974A-2F58CABB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C0BFA0-2595-4150-92D1-8A56C21E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19D1E47-FBD3-4C87-9DB9-93D6213E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0FB406F-A015-4206-8AA6-3753C763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9E07D-40F8-4E06-816D-543AFAEA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4A69A0E-3BE7-46C7-9944-D073F1E7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A8CA1BB-5554-4388-8EFE-9852E5D3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168AC0C-2568-43A0-9254-90C690ED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3D1E9D2-7581-4179-89B4-9C89409B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51E1D32-5EA7-4114-AE82-C687F87D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B069515-CEA8-4D3F-A7AD-D10FA157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F9998AC-24A8-4271-AFD2-496BD09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0439028-D33D-4D12-8A0C-24242B3D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1B9A1EC-4A8D-4834-AEC0-0B42D86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19F287A-C09C-4B25-BE15-B65BA501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AD41D-0472-4DBA-91EE-BE50F531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52B0DFF-92A2-4D1E-AB1D-C42249F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CBD194F-8995-4AEB-B86F-7A2BFEAF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7BD9A01-FE70-4568-AC23-253C5EEE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AB10122-A0D2-4AF8-AC19-B37C12E2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BBAEFC0-A40E-4AF9-BE92-A17CD74F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713270-4095-4589-9A8B-A2C100E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431532E-9870-4E68-A8E2-FD1C624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32A91D6-A8E1-4F31-832C-9EB1139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64EEBC6-30F6-472B-8C2B-2A13787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A8A0563-FFCB-4449-B0B8-93AFBB0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26DE-2543-4565-91EE-E6765B0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79D13-1F5D-43F6-9E07-4EE3693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6068B12-A48C-4702-86E0-652B03D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A4DB739-08D7-4120-9705-1ADF1FE4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423C6A9-2516-4E11-9B10-678E4ACE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5922AFF-A453-4129-8010-FC8F1DD6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8176E63-6B0E-4C37-865C-256E8872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4A2C8F8-D720-4B60-A5DC-85FCC735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4777AF9-B65E-48B6-9D5B-080E347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3226044-3458-418C-B472-7B1C9805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0EE7506-C619-4C29-891C-E43135B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A42BDD5-10DB-403E-823F-B91CF7C4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8C20B-1FB3-4ABC-8638-4D817F75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D1BD5A0-2167-4901-A3B8-5265343C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147218F-288F-47E4-BCAA-09D0421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0D27BFF-E062-41AF-827E-8DFFF8C4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7BCAD1E-1D9E-4A4E-9779-DB9F342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09AFA7D-0200-4764-A1E9-7A7DE28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9241895-B488-420E-89E0-FC1DB90A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20F3F9A-4E68-44FB-8669-F722BA25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92FBF4A-4663-42AC-9139-0035C22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7D31092-8213-483D-8A93-CCB9381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D8FD41E-68F9-4B0B-AB92-5888A0E2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8D833-2834-4770-8E26-FE03AE2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352A013-8328-4B34-995F-B0342286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ACC93BF-FF74-43A5-B477-6FA9A9CC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9E1F1DE-CAA1-42EA-B99C-742DEEC3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5F8A354-3B5D-4C63-BE82-AE05D4A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6032FB9-D2F3-4AC7-B967-4F3231E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8ECF774-277B-423E-A7F5-4577570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28C48BA-1276-4A8B-9EDB-E4673F96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622D1BC-392F-4241-84F3-8C6DA48F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44A2F7F-358B-4513-9180-D29B99B2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DC3345D-BB1F-4E78-89D6-2930A67F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0AA90-78F2-4DA0-BBC3-D2DB347A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1D05835-DBBC-4E8F-836F-476176CE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9F59362-0082-4AF2-BC33-03A50C26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1F09906-2BEC-4755-A942-C090F1B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8D2F041-D42F-4832-998C-DE14045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576CEDE-0D64-4A3D-B2CF-F7F87F3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483A2FB-3EC2-454F-B01C-07161BF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7A4F74F-6EAD-46DA-9AEA-6B1DFF4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192542F-4765-4AF6-B53F-161FF55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DB2D83A-48DB-4CE0-BC26-24345D5A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F91FBCC-1731-44A5-B4FA-B4AEBF04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55D48-FFA9-4AF9-BC18-DF64E36C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DAFA624-AB47-42FC-AD79-2C6797B1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C0485E0-CAFA-4BD4-BF7F-18E6FAEB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250535E-0FDB-4872-BF36-9B2271EC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6B2EE0E-823A-4A63-888F-B28E2A10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BF041A0-4B92-46B9-83AA-428B777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CB30DF0-52A8-4731-BF00-3BB642F8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F36B0C1-6F59-49D2-A982-7817C26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A832F6E-7702-4182-AE8E-2286712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72D3A53-6A83-4EC1-B767-4528ED8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FE1BF32-946D-49B4-9822-1FC6D27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D15EC-C21A-4F31-BD4F-13EFFFD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5E91393-9602-48CF-83F7-3604B87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70E43A5-568A-4B7F-9C7C-E58F073D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810A177-332F-49C4-8B32-089B2CD9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A19A5DA-F15B-4E6D-BD12-63215467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D9BF59E-286E-4C01-B989-7E4BC648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ACABDEE-4C46-4AB5-B7BF-F4E8AABC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1FF3251-DC5D-4AC7-8EF7-AFC7534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8CE1667-3F2F-4635-AABC-98F100F5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B9CA9B0-C4EE-4E90-9D32-A521E740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5CE337C-A8AC-492F-994E-253B6D2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1C908-6751-45FE-851B-F0E373D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E68C317-80C3-49C8-A294-7E96F65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0A22F49-A7B1-43FD-9F03-3D6997E5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4FB237C-448C-43CD-B111-5E2AA73A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E7C040D-3715-4828-AC25-1AEB1AEB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1A7B3B1-82A2-4906-9F0D-BC7B9723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19B9A77-2032-49EB-BC7D-C33AB99D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8F8D181-EF97-4311-AA8F-4121DA55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F0F5381-F9EA-403E-ACFA-1057DAB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DC171F2-B12D-4C34-840F-B247FA2C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99FA6FA-E8B3-406D-94A1-B02AB7A3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9D67B-7748-49F8-AEE0-035EAEEF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564C33E-89C6-4CC4-8B00-926F67A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C17E998-FBAD-443C-B3F4-48FA52C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6961C70-8260-48C9-9454-EF93F724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514677C-E85F-4DA1-800F-150C1BD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F682C39-9F1F-4F22-97EB-BFC247CF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307A2E7-77A1-4403-9B07-9774BFB2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A9E182F-1DF9-419D-B51E-19C1BE1F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38DE5EC-1B20-454F-A4AA-1A4743EA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00AFDB8-B6DE-470C-8005-8AF9A10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CC3C635-4375-4CFC-8C56-6F459DAA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3F587-BD17-4D20-877B-BD98BAD1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F882D37-9615-4A95-AF16-370C72E6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99BB2CF-CFBA-448D-A877-7444E178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92AE7AE-C249-4E43-896A-5A3AD80D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FDB6F93-C199-438A-A3B3-3E9790B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AD6B03C-2CCF-478A-8705-6A1F0F1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6DBD048-B177-4314-A903-2F74077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EE79303-982A-40D0-8125-3AAB04E8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F028086-995F-47E9-ACC5-FA204923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DAAAC96-0C24-4C03-BBA3-C31E3A6C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F0C45A3-E555-429B-9CE3-CD51AA31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3D62E-47A1-4E2F-B19A-1B6EC63E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373CB7B-1FAE-4329-B8EF-931C16A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FD00FE3-EF92-47C6-B231-4E2740B3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696F20B-74C2-43D9-BD31-C9976653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7C32187-AAF5-4B25-91A1-D107196C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39E14E9-3C24-49F7-BEAE-F4241F35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9A8F6EB-F757-4A0E-8EB0-A318834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F52B2AC-EB22-4CFB-B869-81F7C21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6B9D10A-7E34-4529-A72E-1ED6B07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945DF91-6601-43D1-9F5E-E7B2524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6D109A9-814F-41EB-8998-1FBF5214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E694-C41E-4A2F-958B-0A306CA4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E5DBE-9736-49BE-AB6A-6F4FE586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1652A13-A1E6-4259-BE79-868125A9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1AFA71C-3085-4951-BBC6-60C23024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4F519AD-86C1-4B44-8EE1-905A8F7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A171F33-3210-40FF-A998-057CA42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99C0C1C-882C-4F81-A7ED-2FB0E21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E84A8AA-F7A4-40AF-A41C-5033187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9879C20-BBBC-4FCD-BDFB-9A865066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6E16EE6-EE19-4379-9107-91977918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8F05294-0547-4EB8-B043-58E8583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641EEF2-3CD7-4422-B457-448E738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97865-0405-47D9-85D9-598B3518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EB62A71-0B01-4AF7-87EB-B90ADEE1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9D6752C-CACE-41A3-AFB1-10198DB8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234C44A-784F-48C5-9DDA-8D7DF573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B8D5A13-6CB9-461F-A863-4B79390C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1A968BF-C6FB-4B62-9DEC-1EB7C1A0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EE9916F-B179-43F6-8B79-1BA38CDE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63DDB4D-79B2-4A80-851A-9559F367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15F5065-BBE1-488B-A618-BEDC163D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5710FC1-BB5F-4148-90A1-62F2875C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5EE3603-B97C-43EE-B2CB-A28DBD7C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D1423-4A62-47A7-87D7-007B1B48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3C8DA9C-C32A-4CF2-8AA8-39D2D1A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464A733-F963-4518-969F-D843E94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7A9419D-418A-48F9-9C35-14C791B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6AC1D58-4225-4632-A28E-F28F653F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43FEB8D2-FD1D-429E-B17A-48853CEE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15D3D6E-900D-4FC9-BAB1-8E618586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DF51F08-36A5-4019-BB73-6FF072B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CD16F46-5877-4367-94A4-084FAF40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2486575-4C62-45C5-8A03-902C26B7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5058E05-FF16-4B57-A875-8CB70C2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1F539-6EC2-496C-A38D-12F313A6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DE0CB2D-0394-4C7F-86B7-6E5188C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8D0644D-88D3-4405-9909-937EA761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4EE3340-F076-4B7E-B8D3-75A67DC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896C153-5AC7-4C06-B369-EF61D78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FD0D2B1-7F85-44C3-A2E6-996509E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D8DF61F-02E9-4BCE-A2FB-DE2FD209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16F92D7-909C-42ED-8AAB-E94E16C5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DC45410-BE7B-4EA1-8740-30D3F8AC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16A5C99-D5C9-4F63-818F-52DBB39C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A9D1262-5027-421E-914B-92D8052D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0062E-C449-4C60-A832-3486537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EAAD2BB-16AC-4B14-AEB6-65657E68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0B32C2D-3744-41F0-BA98-A78B1722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DFC50F8-81B0-4166-BCF9-B396EF8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894DECB-B42F-4F62-8B50-3D51663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B1BF1C8-F75F-4DEB-915A-0B507B9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B14661D-7E8E-4F12-86AD-3ED8AA56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C8FBD68-07CD-4BAC-BB24-DF56CFB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B9894C5-C536-4EEC-98ED-273C9FB6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6279416-312D-4AB1-B772-AB0BFB1C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9850F65-8967-4C72-AB13-68D7B557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6FF52-ACB2-417B-B9C7-23271B28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1C4B7C6-CC46-4AD3-B9F8-E36247B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D102089-DFCA-47E1-B4E0-B3FB90F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2826497-AD57-4941-98DF-C8AB6F1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D3C2C54-000C-468D-8EC0-AE8F0B0F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6246F99-22FA-495C-A40B-E63AF64A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72457D2-4A54-4CA4-93C3-E5CD2E8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DBB800A-ED56-4BB7-9EBF-28CD7D4E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376BA6B-2DF6-4D37-BA50-86EFD163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358B4D9-18F4-413C-AA6E-C273372C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A2CFCF7-F681-45B0-A948-A23BC568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5A359-6E91-4262-90F8-AF59ED47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3AC3350-5FDD-4E63-9422-B367AE19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9ED9004-F868-431A-9592-CAD4D610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0F7A7C6-736D-474D-9244-24F3AD0B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5098F91-32DD-4429-8993-1E9EFF81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2AC2E7E-465D-44A6-AD7A-8B0BBBC3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7159AB7-D6A8-497B-9E31-DDA88208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6616729-EE9B-465A-B193-BE3D99A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9DDCD23-1D92-402D-B2B8-D86224C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EB42D24-51C7-4897-A87A-15151347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4B230DD-FEE8-49A6-8C04-DE3635A4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F6667-557D-4C89-87D5-01D523B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A52519B-2AC6-4E8B-8BC0-0307FAB2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13AB243-A37D-423B-BC13-EE776F98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DD53206-372D-4047-B8D9-37FD67CF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41F0041-D685-42E9-838B-B84F1459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65CDB58-F3DB-4E19-A791-6EDBA443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4F36DA8-F45D-4052-ADC9-A9AB9716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06DAA63-7108-4152-8C5B-6633DD25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01413A1-09B4-4447-8914-9546F3E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F46AD3F-6962-4231-92CE-7D7DCB08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B4C60EE-D7B6-4800-803E-DF703926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8D4F1-04AF-4F48-B818-765A194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5E74E0C-F3E7-4E90-AEE7-4158025F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18477FF-8E02-46EC-8DC5-4FDDD419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9D7EBB9-3E62-41BA-849B-43F5011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2E42A08-2CD8-4B3E-A05A-4FA5402F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60923C3-44E3-4C3A-9188-E436554F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FDCF778-E654-4F28-83EA-0CD83AA1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5A8D5E3-4F06-4D86-93D7-67548687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ECA5724-3A9F-413C-992C-FA93649C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EFDC919-9943-47C7-B318-9A208C70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298C16F-BDD9-402F-A453-F2435062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9AB8C-EE3F-40F0-98DA-449FD9F6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32B2D87-606C-4A32-9FEB-3815600A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E3D56B7-5B9E-493D-AADC-1AD8756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E27CFA6-3789-493C-B877-57C810D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BB84F30-D145-4E26-BB8C-8D80492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3753DBC-2AE5-4DF0-8DFF-84CCAB34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7EF3607-8A9B-4954-8D0E-9897097A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D25F203-E044-4B9F-BED3-0138623A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802CAA5-A39D-4E86-9E11-AE99BF95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3B4060F-BBC4-4630-A6CD-BF0DDED0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317C84C-F053-46D4-84B5-E6E76B1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69C6-68E4-4601-AC9A-364918B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15045-DDD7-45E1-B6C9-7B6B25E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B239F0F-D11D-4287-94A1-23511F85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53BE15F-FFA6-4188-8C11-52460BD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7B81E17-66A4-438B-868B-B685C0AB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F2AD5F7-871C-4761-B106-29FC373A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68DA8DC-1DE5-4826-9701-47604DBD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19ED80B-DE18-4F4B-890F-C3ED545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519C08C-8CA2-421A-83A8-3AD2D92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AAF3756-F9AD-4A5F-9B41-116C4ECB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EFC5447-E948-45B2-AA34-9530C03E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C9A4018-B1B2-43E7-9139-68428057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40513-EB35-4D7F-BDFE-034116CD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ACA8762-DAC7-4460-9681-0D6279E0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1CB4B8D-422E-491B-B862-EAE0E868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4112D79-0E66-4FD3-9F36-DEDF3E78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1E38E20-9034-4049-8327-06FD90D9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BEA3C6C-8487-493C-8136-A0D9C676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7D4E2BC-2817-4F16-9845-566E6C9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BC83598-A4F5-49FF-8C75-FA35B28F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A3BE597-9951-410B-8309-F5739C7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D32974A-BB81-4705-A8EF-89D5CD6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4BF37D0-6DFB-40EE-B702-361E2672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9A39C-9A23-4468-A3AB-26F39146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201B22A-7326-41EA-BEE4-BCA948B8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37CA186-A954-4FB0-A23C-590A366A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C09CE2D-DB95-4965-A7F6-871C672F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01DC2E2-27B1-4BF6-A8E4-81B3B196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6FC8511-3EBC-4B3C-A561-7A883783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CF69BC1-2CC7-4DD0-AB77-0CD0A9F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166DC15-90EE-4B97-BCAF-C865A7D0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536CE3C-FFE9-42FA-9F71-98FCD7B3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2FF21AB-D8CD-4AA0-BE25-2ACDBA9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63971A9-786E-466B-A265-B9CFEC2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1CBA19-AB18-4124-B794-6335ADFF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7B25F47-27DE-4E3E-914C-48BD317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2BCC4CB-1641-45BB-B865-9AA0D4BB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59ADCF4-E8EF-4675-A305-728422B1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051C15D-F414-4A4A-8D61-4A1F1F6B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B0C7C7B-EF75-4BB4-922F-D7818B1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3304CEE-2277-48F4-BB4C-EB734AAC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0B8E30D-1532-4CA3-93FD-65C99270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470B1F8-AE51-4E1F-ADD6-30E25DB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00DC3B6-6A4E-45A5-81EA-047F6E28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A90EFFF-82FE-43D9-8482-4AEBF1A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AA389-B7EE-4B75-B288-3DDBB89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2168122-EE82-441A-8DD1-5C833DC9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5C51750-ED06-44FE-A2D6-A240B4FB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6427476-CDBB-4BA2-B399-B0BEDDF6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9512DAD-CC66-4593-A828-AFCD6797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CCC0DBD-1A41-4222-8116-BEF30496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0B4E530-DAC8-4DC7-BA28-D5EB272B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1919A3D-A0BE-42BA-864E-8C200F4F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3AD779C-5265-4C1D-8118-4434FD8B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87F0892-8E8C-4535-858B-6448853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1F6356A-427D-4DB6-A83B-1EA419C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8C3DDA-2ACB-4DBD-97FB-C9FF6922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82C9C59-F8AD-44E0-80B9-FFDA733A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415A2A3-6806-4203-8791-05DAF64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842B635-77DE-42E1-8987-111ED34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CF73FF8-F7D9-42FC-86DF-A2E91966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33C7CDE-2E76-46FA-8B75-736D966D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AE6A048-5FF6-4E73-80CB-3FB89078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3DD0E29-B9E1-4B29-B12F-2842AB58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FAB1DA3-29B6-44C0-AC61-C9711126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DBDA009-768E-4B19-A7AD-B815313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AD89E02-D7ED-4250-87A6-47FCF24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4C40E-1D81-4F3D-AE0D-7323B48C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6F9A96C-B103-4459-9983-CDC8B325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67C8B94-2DC1-4165-A417-7E5F2C3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70B80CC-7369-498F-AFAE-FBE6ED40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30BEA11-98C1-40A8-895B-B714727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2D5E5BB-0C0A-4EC3-8B23-5F48B59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8CED14D-C46C-4FA0-89C2-66678D3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123F48E-CAA0-4CB2-A6A0-AA6BA624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8945C4D-1D83-4D12-B99D-84C1DF01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2D383FD-F9BA-45A7-99B2-5590A94B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12BE1-2731-401F-BB25-C67AFE01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1FD2D-CCF5-4C0A-A0DC-BE26BFAA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A277CE-AC97-4370-A6E9-41744AE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8F67-ADAD-4BB7-925F-6FEA296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BB270-9046-4000-B9F7-9B0BB6B6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2E02C-0225-43CA-B252-982FAA5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0DE74-8B14-423D-9F70-B32681B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FF6FFE-B2C5-4D92-9DC1-5068BE86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7F09A-8984-4808-B20E-C462F23A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91EE0-CC4A-4942-BDCD-A7145CBB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9837C-ED82-428A-BAB4-0CE13077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4CF64-E14B-468B-B6F2-9F88E6AF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7A18F-1AF8-4ED5-BC57-A8AD3A6D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49BF2-FC3D-4D37-9C28-B79D9B6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3AC2-5D89-43CC-8ADB-8B930FB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62798-B150-4EC8-81A3-5ED5DAE9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65B3C-ABD6-4CA1-8405-0C31B32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5E978-498E-4344-B241-ECBD2B0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38825-E0A5-43F7-84B9-13159BC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1E156-7EE8-4985-9955-41C9489D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EF885C-F951-4900-8D76-73DD6543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6406F-1F8C-429F-8BDB-E5480A11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A147B9-6F10-4114-9279-A8E13665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5E6FD2-16E3-4987-A34F-DD4B5EE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649177-7539-44A3-BCC0-4EE577C7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5A6-B697-4C71-8100-4AD925BB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B4C-823D-4A4A-BFF8-CD795936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2CB1-EAAE-44E9-A2AA-EB1C8516C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7997-252F-4D36-843E-59C6E746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134-2FC3-4B18-BC29-5DDB4D02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04D-9C88-41AF-8448-319E10C4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4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1457-C488-47D0-97DC-CE2C6B3C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4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4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E02-3327-466A-8D81-8E438531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4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5867-791A-4279-AD2B-49FAFF3BF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sldNum" idx="4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B2B-6A14-47D1-9791-B7151292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5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5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FA84-A805-4C88-A948-835352A5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ftr" idx="5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9BB-116B-42EF-9B7A-3699D04FD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C65-2386-4D68-BCEC-8D791C0BC804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Line 2"/>
          <p:cNvSpPr/>
          <p:nvPr/>
        </p:nvSpPr>
        <p:spPr>
          <a:xfrm>
            <a:off x="846000" y="227664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4" descr="seal1"/>
          <p:cNvPicPr/>
          <p:nvPr/>
        </p:nvPicPr>
        <p:blipFill>
          <a:blip r:embed="rId2"/>
          <a:stretch/>
        </p:blipFill>
        <p:spPr>
          <a:xfrm>
            <a:off x="7145280" y="5121360"/>
            <a:ext cx="1370160" cy="13572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6"/>
          <p:cNvGrpSpPr/>
          <p:nvPr/>
        </p:nvGrpSpPr>
        <p:grpSpPr>
          <a:xfrm>
            <a:off x="2230920" y="3659040"/>
            <a:ext cx="5083560" cy="1787400"/>
            <a:chOff x="2230920" y="3659040"/>
            <a:chExt cx="5083560" cy="1787400"/>
          </a:xfrm>
        </p:grpSpPr>
        <p:sp>
          <p:nvSpPr>
            <p:cNvPr id="795" name="Text Box 7"/>
            <p:cNvSpPr/>
            <p:nvPr/>
          </p:nvSpPr>
          <p:spPr>
            <a:xfrm>
              <a:off x="2690640" y="365904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Machine Learning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8"/>
            <p:cNvSpPr/>
            <p:nvPr/>
          </p:nvSpPr>
          <p:spPr>
            <a:xfrm>
              <a:off x="2230920" y="4081320"/>
              <a:ext cx="508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2459520" y="45050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4545000" y="4927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9" name="Picture 11" descr="tex-logo-small"/>
          <p:cNvPicPr/>
          <p:nvPr/>
        </p:nvPicPr>
        <p:blipFill>
          <a:blip r:embed="rId3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07D-04BF-4E1A-8F28-A14A64AA65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6917-C3F6-45B3-8119-1ED53B46B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C37-4FB5-4411-A902-066FF5A9AE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CAF0-7BE6-4EA3-9B9A-741C017D0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463B-043A-4534-AA96-ACA4009709C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8E6-8893-4398-8CE8-AA4EC4E2B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6C9-0A0C-499D-8AB2-7F65E2088E5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5FDC-F491-4684-976E-3377CC7ED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8C88-F11B-4501-99A6-3FE3516FE3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F1F1-77C2-4E5D-A257-ACC2EAD90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E800-8B87-4B90-AAE3-FCF17C5F681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F8BE-E17A-461F-AEC1-D79681645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E61E-3F5B-432E-8B9E-49A2EB1489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7D8-79ED-4B00-A89F-0690F35C0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A204-680D-483A-BC4B-6148A5BE459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6693-E40B-4621-B751-E394F9F24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F6AB-4D61-41DA-B140-7D3FF0A5965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7701-4BCE-4CA1-B1D5-D397C6F00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9625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15E5-37BD-475D-A83C-13867DB084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C54E-5F9B-4ABA-969C-F077A0E0FD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CAB2-ADBE-4947-93A5-7BA5CE577C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540-8BF8-48D3-A509-B217FAFE96B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DAB-0BE7-4125-B015-6FA993176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9A98-5499-4997-9223-AFC98CD9C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5FA-685A-4F6C-9DA2-A5B0F741D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B703-5C21-4B69-9EBA-ACC2F8AF5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B920-1DDD-4CDD-8444-430D30E54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7584-CD27-4CE5-AAEA-6FB8B72C7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97D8-09FE-48A1-B837-A3816F0F0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89AD-5571-40FF-B4EB-7BE6E36E0F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1203-E2B9-4F47-91B0-9158B0466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F39-2A55-4EB4-8EE9-08F618F9A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8F7D-B323-4B75-930B-1392F1FF5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4FE0-7C63-40DE-BF45-1F3C7F6AC3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B791-9147-4A33-879B-D7E9E679D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CE21-9C3D-437A-81E8-3D71F4FEC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F5A8-8D58-44BF-B778-43DFA739A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B568-CE44-4EBE-8D83-C8BC326D32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6143-8716-46EC-B9C0-833F92DB4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F72D-63A7-4FA2-A199-00460CD6C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E284-95C1-438D-BAEA-20F78EE36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A5FF-114A-456F-9879-DEA228D299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B5F6-3E69-47A2-9BA8-6263E0A79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E48-5FA4-4D76-990C-FFF2BC9A6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949F-B66C-4B3A-AEE5-035FE2C0E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70A-B464-492A-B0DA-40E8575D37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EE2-6F7A-4601-A837-DB65BC9F1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689-F47C-403D-8C19-14C50DDEB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26EB-506A-4E1B-BCF7-FEEE31F9A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8DA8-2376-4AF2-929C-4BD126970F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 type="sldNum" idx="1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9B8E-00CB-446C-8E1C-A67B71656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25D8-EC26-4DAB-9B98-9636B5BD6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 type="sldNum" idx="1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27B7-2196-48F4-92D6-A42331AAD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FCF8-C05F-4AF9-9110-A45E149FCB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 type="sldNum" idx="1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292-19CC-4658-B5E8-3EA97A84B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C4E1-ED23-4A39-B691-8FA749500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 type="sldNum" idx="1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79D5-C655-4DA1-8378-5C0CD8542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EE0C-7521-43EF-9BE2-416A309E3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 type="sldNum" idx="1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32D-0EAA-4586-878A-C6D6F8AC2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338-F4C7-4365-BE09-A5304110F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 type="sldNum" idx="1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04E9-7409-4074-8393-99D687DDB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FCE-C6B3-4B91-883D-8A84E276CC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6E0D-8FDF-4AF3-8F38-AEB3C97C6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5798-0F55-491F-91B1-634DD05C8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 type="sldNum" idx="1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1102-D6C3-44D1-A950-553A81A1C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 type="dt" idx="1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E50-521F-4E4F-91E7-DE031C616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 type="ftr" idx="1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 type="sldNum" idx="1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1176-5EC8-4310-8917-EAFC4FEAC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 type="dt" idx="1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E01-DDCD-47DA-8E6D-C103CE0037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 type="ftr" idx="1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 type="sldNum" idx="1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C1E5-AAEE-4EAB-8A08-5D5D3456D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 type="dt" idx="1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C814-127F-4CD3-AFF1-09FEB49D6E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 type="ftr" idx="1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 type="sldNum" idx="1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C7EF-4602-4159-BCCE-64B494A4B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dt" idx="15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15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2489-9184-47F9-8054-B87858C7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 type="ftr" idx="15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 type="dt" idx="15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 type="sldNum" idx="15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CD5-EB81-40F3-B934-33080F18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 type="ftr" idx="15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 type="dt" idx="15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 type="sldNum" idx="16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7087-2D6E-444D-BFED-0B06573E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 type="ftr" idx="16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 type="dt" idx="16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 type="sldNum" idx="16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626-F6FC-4BE4-B260-83AD3783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 type="ftr" idx="16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 type="dt" idx="16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 type="sldNum" idx="16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D47-E563-4E4C-9EC8-2761F408C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 type="ftr" idx="16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 type="dt" idx="16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 type="sldNum" idx="16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A8F2-6167-4ACC-8F0D-32343675D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 type="ftr" idx="17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BBA9-39EE-440D-B8D1-419F469D3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997-5624-48E9-9B6B-C57AEB9E2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dt" idx="17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7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5584-3635-421C-811F-993DF9AE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 type="ftr" idx="17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 type="dt" idx="17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 type="sldNum" idx="17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6EB-0765-4AB7-BED6-B34DC1FE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 type="ftr" idx="17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 type="dt" idx="17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 type="sldNum" idx="17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4D6-E319-46F7-8660-353D1FCB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 type="ftr" idx="17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 type="dt" idx="18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 type="sldNum" idx="18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13B3-30DB-40CF-AE9B-D98C30D7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 type="ftr" idx="18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 type="dt" idx="18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 type="sldNum" idx="18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73B4-AED8-4A0A-AF1B-B6E6C241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 type="ftr" idx="18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7DED-C905-4821-AE7F-7B0F9200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209-0CB9-493D-B228-ABC656609BFB}" type="datetime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C4D-A9F9-4017-BB76-8655FF4C7AA3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628-4DC1-43AE-BEC8-7345DC87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9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FF8-AC8D-4447-8270-815A8216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earning Language from its Perceptual Context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ohyun 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hit K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C89B-2E59-4106-8CB1-515E4CF95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7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2718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19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20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2721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grpSp>
        <p:nvGrpSpPr>
          <p:cNvPr id="2722" name="Group 7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23" name="Text Box 8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Line 9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Line 10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Line 11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Line 12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8" name="Rectangle 13"/>
          <p:cNvSpPr/>
          <p:nvPr/>
        </p:nvSpPr>
        <p:spPr>
          <a:xfrm>
            <a:off x="3413160" y="50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Rectangle 14"/>
          <p:cNvSpPr/>
          <p:nvPr/>
        </p:nvSpPr>
        <p:spPr>
          <a:xfrm>
            <a:off x="250560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Rectangle 15"/>
          <p:cNvSpPr/>
          <p:nvPr/>
        </p:nvSpPr>
        <p:spPr>
          <a:xfrm>
            <a:off x="2752560" y="654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A6A9-C8E6-4550-AB80-EA9C964FE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2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2733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34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35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2736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sp>
        <p:nvSpPr>
          <p:cNvPr id="2737" name="Rectangle 7"/>
          <p:cNvSpPr/>
          <p:nvPr/>
        </p:nvSpPr>
        <p:spPr>
          <a:xfrm>
            <a:off x="250272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8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39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57EF-420F-4FF5-BCCB-8732F17D2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5" name="Picture 2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2746" name="Picture 3" descr="1needlewoman2"/>
          <p:cNvPicPr/>
          <p:nvPr/>
        </p:nvPicPr>
        <p:blipFill>
          <a:blip r:embed="rId2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2747" name="Picture 4" descr="1girl154-med"/>
          <p:cNvPicPr/>
          <p:nvPr/>
        </p:nvPicPr>
        <p:blipFill>
          <a:blip r:embed="rId3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48" name="Picture 5" descr="1girl134-med"/>
          <p:cNvPicPr/>
          <p:nvPr/>
        </p:nvPicPr>
        <p:blipFill>
          <a:blip r:embed="rId4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49" name="Picture 6" descr="1man351-med"/>
          <p:cNvPicPr/>
          <p:nvPr/>
        </p:nvPicPr>
        <p:blipFill>
          <a:blip r:embed="rId5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2750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1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52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777-BAA5-494B-9C4D-0C26B3EC6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8" name="Picture 2" descr="1girl154-med"/>
          <p:cNvPicPr/>
          <p:nvPr/>
        </p:nvPicPr>
        <p:blipFill>
          <a:blip r:embed="rId1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59" name="Picture 3" descr="1girl134-med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60" name="Picture 4" descr="1man351-med"/>
          <p:cNvPicPr/>
          <p:nvPr/>
        </p:nvPicPr>
        <p:blipFill>
          <a:blip r:embed="rId3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2761" name="Text Box 5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2" name="Picture 6" descr="1workstation75-med"/>
          <p:cNvPicPr/>
          <p:nvPr/>
        </p:nvPicPr>
        <p:blipFill>
          <a:blip r:embed="rId4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763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4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65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6FE-F2FC-4467-91D0-6A886B589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1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72" name="Picture 3" descr="1man351-med"/>
          <p:cNvPicPr/>
          <p:nvPr/>
        </p:nvPicPr>
        <p:blipFill>
          <a:blip r:embed="rId2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2773" name="Text Box 4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Text Box 5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5" name="Picture 6" descr="1workstation75-med"/>
          <p:cNvPicPr/>
          <p:nvPr/>
        </p:nvPicPr>
        <p:blipFill>
          <a:blip r:embed="rId3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776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7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78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BEA7-2228-4144-81CC-3F8313966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4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2785" name="Text Box 3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Text Box 4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Text Box 5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8" name="Picture 6" descr="1workstation75-med"/>
          <p:cNvPicPr/>
          <p:nvPr/>
        </p:nvPicPr>
        <p:blipFill>
          <a:blip r:embed="rId2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789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0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91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85F6-052D-4B21-9943-5AB5942FB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4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5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6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Line 7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3" name="Picture 8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804" name="Rectangle 9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6" name="Rectangle 11"/>
          <p:cNvSpPr/>
          <p:nvPr/>
        </p:nvSpPr>
        <p:spPr>
          <a:xfrm>
            <a:off x="-51588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7" name="Group 12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808" name="Text Box 13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Line 14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Line 15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Line 16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Line 17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2C63-466D-4FF4-AECE-50CE97E63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5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8" name="Picture 6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819" name="Rectangle 7"/>
          <p:cNvSpPr/>
          <p:nvPr/>
        </p:nvSpPr>
        <p:spPr>
          <a:xfrm>
            <a:off x="4258440" y="510552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ommy is ironing a shir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xt 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1" name="Text Box 9"/>
          <p:cNvSpPr/>
          <p:nvPr/>
        </p:nvSpPr>
        <p:spPr>
          <a:xfrm>
            <a:off x="5716800" y="44197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10"/>
          <p:cNvSpPr/>
          <p:nvPr/>
        </p:nvSpPr>
        <p:spPr>
          <a:xfrm flipH="1">
            <a:off x="2742840" y="45720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11"/>
          <p:cNvSpPr/>
          <p:nvPr/>
        </p:nvSpPr>
        <p:spPr>
          <a:xfrm flipH="1" flipV="1">
            <a:off x="1600200" y="2590560"/>
            <a:ext cx="419112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12"/>
          <p:cNvSpPr/>
          <p:nvPr/>
        </p:nvSpPr>
        <p:spPr>
          <a:xfrm flipH="1" flipV="1">
            <a:off x="4876920" y="3200400"/>
            <a:ext cx="91440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13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odel of ambiguous supervision corresponds to the type of data that will be gathered from a temporal sequence of perceptual contexts with occasional language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each sentence has exactly one meaning in its perceptual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ently extended to handle sentences with no meaning in its perceptual contex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aning is associated with at most on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mple Ambiguous Corpu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9" name="Text Box 3"/>
          <p:cNvSpPr/>
          <p:nvPr/>
        </p:nvSpPr>
        <p:spPr>
          <a:xfrm>
            <a:off x="228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Text Box 4"/>
          <p:cNvSpPr/>
          <p:nvPr/>
        </p:nvSpPr>
        <p:spPr>
          <a:xfrm>
            <a:off x="228600" y="2666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Text Box 5"/>
          <p:cNvSpPr/>
          <p:nvPr/>
        </p:nvSpPr>
        <p:spPr>
          <a:xfrm>
            <a:off x="228600" y="3809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Text Box 6"/>
          <p:cNvSpPr/>
          <p:nvPr/>
        </p:nvSpPr>
        <p:spPr>
          <a:xfrm>
            <a:off x="228600" y="4648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Text Box 7"/>
          <p:cNvSpPr/>
          <p:nvPr/>
        </p:nvSpPr>
        <p:spPr>
          <a:xfrm>
            <a:off x="228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Text Box 8"/>
          <p:cNvSpPr/>
          <p:nvPr/>
        </p:nvSpPr>
        <p:spPr>
          <a:xfrm>
            <a:off x="5851440" y="1992240"/>
            <a:ext cx="138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Text Box 9"/>
          <p:cNvSpPr/>
          <p:nvPr/>
        </p:nvSpPr>
        <p:spPr>
          <a:xfrm>
            <a:off x="5789880" y="17524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Text Box 10"/>
          <p:cNvSpPr/>
          <p:nvPr/>
        </p:nvSpPr>
        <p:spPr>
          <a:xfrm>
            <a:off x="5788800" y="1295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Text Box 11"/>
          <p:cNvSpPr/>
          <p:nvPr/>
        </p:nvSpPr>
        <p:spPr>
          <a:xfrm>
            <a:off x="5790600" y="22096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Text Box 12"/>
          <p:cNvSpPr/>
          <p:nvPr/>
        </p:nvSpPr>
        <p:spPr>
          <a:xfrm>
            <a:off x="5785200" y="266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Text Box 13"/>
          <p:cNvSpPr/>
          <p:nvPr/>
        </p:nvSpPr>
        <p:spPr>
          <a:xfrm>
            <a:off x="579168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Text Box 14"/>
          <p:cNvSpPr/>
          <p:nvPr/>
        </p:nvSpPr>
        <p:spPr>
          <a:xfrm>
            <a:off x="5790240" y="3886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5"/>
          <p:cNvSpPr/>
          <p:nvPr/>
        </p:nvSpPr>
        <p:spPr>
          <a:xfrm>
            <a:off x="5790240" y="43434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Text Box 16"/>
          <p:cNvSpPr/>
          <p:nvPr/>
        </p:nvSpPr>
        <p:spPr>
          <a:xfrm>
            <a:off x="5791320" y="48006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Text Box 17"/>
          <p:cNvSpPr/>
          <p:nvPr/>
        </p:nvSpPr>
        <p:spPr>
          <a:xfrm>
            <a:off x="5793120" y="5257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Text Box 18"/>
          <p:cNvSpPr/>
          <p:nvPr/>
        </p:nvSpPr>
        <p:spPr>
          <a:xfrm>
            <a:off x="5790960" y="57913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Line 19"/>
          <p:cNvSpPr/>
          <p:nvPr/>
        </p:nvSpPr>
        <p:spPr>
          <a:xfrm flipV="1">
            <a:off x="3505320" y="152532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Line 20"/>
          <p:cNvSpPr/>
          <p:nvPr/>
        </p:nvSpPr>
        <p:spPr>
          <a:xfrm flipV="1">
            <a:off x="3505320" y="1981080"/>
            <a:ext cx="228600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Line 21"/>
          <p:cNvSpPr/>
          <p:nvPr/>
        </p:nvSpPr>
        <p:spPr>
          <a:xfrm flipV="1">
            <a:off x="3314880" y="243828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Line 22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Line 23"/>
          <p:cNvSpPr/>
          <p:nvPr/>
        </p:nvSpPr>
        <p:spPr>
          <a:xfrm>
            <a:off x="3352680" y="2895480"/>
            <a:ext cx="251460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Line 24"/>
          <p:cNvSpPr/>
          <p:nvPr/>
        </p:nvSpPr>
        <p:spPr>
          <a:xfrm>
            <a:off x="3352680" y="2895480"/>
            <a:ext cx="25146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Line 25"/>
          <p:cNvSpPr/>
          <p:nvPr/>
        </p:nvSpPr>
        <p:spPr>
          <a:xfrm flipV="1">
            <a:off x="2438280" y="243792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Line 26"/>
          <p:cNvSpPr/>
          <p:nvPr/>
        </p:nvSpPr>
        <p:spPr>
          <a:xfrm flipV="1">
            <a:off x="2438280" y="289512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Line 27"/>
          <p:cNvSpPr/>
          <p:nvPr/>
        </p:nvSpPr>
        <p:spPr>
          <a:xfrm flipV="1">
            <a:off x="2514600" y="3657600"/>
            <a:ext cx="327672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Line 28"/>
          <p:cNvSpPr/>
          <p:nvPr/>
        </p:nvSpPr>
        <p:spPr>
          <a:xfrm>
            <a:off x="2438280" y="4038480"/>
            <a:ext cx="327672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29"/>
          <p:cNvSpPr/>
          <p:nvPr/>
        </p:nvSpPr>
        <p:spPr>
          <a:xfrm>
            <a:off x="2438280" y="4038480"/>
            <a:ext cx="34290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Line 30"/>
          <p:cNvSpPr/>
          <p:nvPr/>
        </p:nvSpPr>
        <p:spPr>
          <a:xfrm flipV="1">
            <a:off x="3276720" y="411444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31"/>
          <p:cNvSpPr/>
          <p:nvPr/>
        </p:nvSpPr>
        <p:spPr>
          <a:xfrm flipV="1">
            <a:off x="3276720" y="457164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32"/>
          <p:cNvSpPr/>
          <p:nvPr/>
        </p:nvSpPr>
        <p:spPr>
          <a:xfrm>
            <a:off x="3276720" y="487692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33"/>
          <p:cNvSpPr/>
          <p:nvPr/>
        </p:nvSpPr>
        <p:spPr>
          <a:xfrm flipV="1">
            <a:off x="2590920" y="5028840"/>
            <a:ext cx="327636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Line 34"/>
          <p:cNvSpPr/>
          <p:nvPr/>
        </p:nvSpPr>
        <p:spPr>
          <a:xfrm flipV="1">
            <a:off x="2590920" y="5486040"/>
            <a:ext cx="3200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35"/>
          <p:cNvSpPr/>
          <p:nvPr/>
        </p:nvSpPr>
        <p:spPr>
          <a:xfrm>
            <a:off x="2590920" y="5638680"/>
            <a:ext cx="320040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Text Box 36"/>
          <p:cNvSpPr/>
          <p:nvPr/>
        </p:nvSpPr>
        <p:spPr>
          <a:xfrm>
            <a:off x="2439360" y="6248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a bipartit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Rectangle 37"/>
          <p:cNvSpPr/>
          <p:nvPr/>
        </p:nvSpPr>
        <p:spPr>
          <a:xfrm>
            <a:off x="2752560" y="592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38"/>
          <p:cNvSpPr/>
          <p:nvPr/>
        </p:nvSpPr>
        <p:spPr>
          <a:xfrm>
            <a:off x="3649680" y="5888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Rectangle 39"/>
          <p:cNvSpPr/>
          <p:nvPr/>
        </p:nvSpPr>
        <p:spPr>
          <a:xfrm>
            <a:off x="3633840" y="637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tate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state-of-the-art NLP systems are constructed by training on large supervis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actic Pars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enn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d Sense Disambigu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enseE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mantic Role Label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rop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Hansards corpu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ng such annotated corpora is difficult, expensive, and time consu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875E-2288-40C8-9122-91FAD941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Kate &amp; Mooney, 2007)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self-training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0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1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4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7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3028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27B1-DB46-4D7C-A7FE-E5C869069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hallen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how to generate NL from M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Text Box 6"/>
          <p:cNvSpPr/>
          <p:nvPr/>
        </p:nvSpPr>
        <p:spPr>
          <a:xfrm>
            <a:off x="1066680" y="29718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alibri"/>
                <a:ea typeface="Arial"/>
              </a:rPr>
              <a:t>Pass(Pink2, Pink3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Calibri"/>
                <a:ea typeface="Arial"/>
              </a:rPr>
              <a:t>“Pink2 kicks the ball to Pink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Slide Numb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307-1BA1-4689-84B5-720AC3C50602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16A-29B3-4013-AAE2-9FEBCD0E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aps a natural-languag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 sentence to a complete, detailed formal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any applications, the desired output is computer language tha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 / WASP</a:t>
            </a:r>
            <a:r>
              <a:rPr b="0" lang="en-US" sz="3600" spc="-1" strike="noStrike" baseline="30000">
                <a:solidFill>
                  <a:srgbClr val="3333ff"/>
                </a:solidFill>
                <a:latin typeface="Times New Roman"/>
              </a:rPr>
              <a:t>-1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Wong &amp; Mooney, 2006, 2007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6" name=""/>
          <p:cNvSpPr txBox="1"/>
          <p:nvPr/>
        </p:nvSpPr>
        <p:spPr>
          <a:xfrm>
            <a:off x="457200" y="1752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vised system for learn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mantic parser and a tactical language gen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robabilistic version of a synchronous context-free grammar (SCFG) that generates two corresponding strings (NL &amp; MR) simultane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Slide Numb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BF97-C3E4-415F-81B6-190964F4E79E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0E8-936A-4E97-9033-DD1F06C39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190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3191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2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3193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4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3195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3196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9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3200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3201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3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4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5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3206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3207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9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1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3212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0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uman Sportscast in Korea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08A7-A652-455C-9180-D6AE4CFE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4" name="Korean-2001-human.WMV" descr=""/>
          <p:cNvPicPr/>
          <p:nvPr/>
        </p:nvPicPr>
        <p:blipFill>
          <a:blip r:embed="rId1"/>
          <a:stretch/>
        </p:blipFill>
        <p:spPr>
          <a:xfrm>
            <a:off x="241200" y="596880"/>
            <a:ext cx="870264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32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32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6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7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1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5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ategic Gener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ctical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ategic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Line 5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C729-DA61-453C-859A-3BB139478F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 of Strategic Gener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4" name="Rectangle 4"/>
          <p:cNvSpPr/>
          <p:nvPr/>
        </p:nvSpPr>
        <p:spPr>
          <a:xfrm>
            <a:off x="2819520" y="2057400"/>
            <a:ext cx="2895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E1F-DFA0-4E89-8F43-725E49A112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 of Strategic Gener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8" name="Rectangle 4"/>
          <p:cNvSpPr/>
          <p:nvPr/>
        </p:nvSpPr>
        <p:spPr>
          <a:xfrm>
            <a:off x="2819520" y="20574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6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2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3 , pink9 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PMingLiU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F2DA-4C44-4C6F-9944-24B7E99EC0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A6A8-7192-4B98-B095-E9430A6C1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3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2674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2676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宋体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8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9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2680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2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3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2684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6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cup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nglish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Korean sentences/game = 49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Rectangle 1028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Slide Numb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3FBD-0277-492A-BD21-2659042C56E9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ASPER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66" name=""/>
          <p:cNvSpPr txBox="1"/>
          <p:nvPr/>
        </p:nvSpPr>
        <p:spPr>
          <a:xfrm>
            <a:off x="46044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Line 5"/>
          <p:cNvSpPr/>
          <p:nvPr/>
        </p:nvSpPr>
        <p:spPr>
          <a:xfrm>
            <a:off x="533520" y="1600200"/>
            <a:ext cx="8156520" cy="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F9B8-CD89-4E7F-926B-1965AA5F8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Content Placeholder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irst train KRISPER to disambiguat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en train WASP on the resulting unambiguously supervis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KRISPER-WAS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71" name="Line 5"/>
          <p:cNvSpPr/>
          <p:nvPr/>
        </p:nvSpPr>
        <p:spPr>
          <a:xfrm>
            <a:off x="533520" y="1600200"/>
            <a:ext cx="8156520" cy="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0F7-1F1B-4964-AA3B-DEB1A755E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ASPER-GE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74" name=""/>
          <p:cNvSpPr txBox="1"/>
          <p:nvPr/>
        </p:nvSpPr>
        <p:spPr>
          <a:xfrm>
            <a:off x="685440" y="1980720"/>
            <a:ext cx="792468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ccff"/>
                </a:solidFill>
                <a:latin typeface="Calibri"/>
              </a:rPr>
              <a:t>N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ore each potential </a:t>
            </a:r>
            <a:r>
              <a:rPr b="0" lang="en-US" sz="2800" spc="-1" strike="noStrike">
                <a:solidFill>
                  <a:srgbClr val="00ccff"/>
                </a:solidFill>
                <a:latin typeface="Calibri"/>
              </a:rPr>
              <a:t>N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NIST MT sco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NIST report, 2002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Line 5"/>
          <p:cNvSpPr/>
          <p:nvPr/>
        </p:nvSpPr>
        <p:spPr>
          <a:xfrm>
            <a:off x="533520" y="1600200"/>
            <a:ext cx="8156520" cy="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2F6-0CD6-4552-B870-6D2D4071E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trategic Generation Learning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457200" y="21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correct NL/MR 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estimated matching from tactical ge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Iterative Generation Strategy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Line 5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C28D-C7A3-4EF9-B0E2-9CE901A60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Iterative Generation Strategy Learning (IGSL)</a:t>
            </a:r>
            <a:endParaRPr b="0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s the likelihood of commenting on each event-type directly from the ambiguous training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EM-like self-training iterations to compute estim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C39-D4E6-4701-BB3C-F3D4E194A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glish 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IGSL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Sportscast in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14A3-A15B-4745-AF4B-A0B15F74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1" name="English-2003-machine(wasper-gen).WMV" descr=""/>
          <p:cNvPicPr/>
          <p:nvPr/>
        </p:nvPicPr>
        <p:blipFill>
          <a:blip r:embed="rId1"/>
          <a:stretch/>
        </p:blipFill>
        <p:spPr>
          <a:xfrm>
            <a:off x="241200" y="584280"/>
            <a:ext cx="868680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39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39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3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3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NL-MR Matc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5" name=""/>
          <p:cNvSpPr txBox="1"/>
          <p:nvPr/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does the learner figure out which event (if any) each sentence refers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8E1-57A5-40D3-9946-4D8BFE6F0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Text Box 5"/>
          <p:cNvSpPr/>
          <p:nvPr/>
        </p:nvSpPr>
        <p:spPr>
          <a:xfrm>
            <a:off x="760320" y="33004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Text Box 6"/>
          <p:cNvSpPr/>
          <p:nvPr/>
        </p:nvSpPr>
        <p:spPr>
          <a:xfrm>
            <a:off x="5410080" y="3300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Line 7"/>
          <p:cNvSpPr/>
          <p:nvPr/>
        </p:nvSpPr>
        <p:spPr>
          <a:xfrm flipH="1">
            <a:off x="4800600" y="4038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Line 8"/>
          <p:cNvSpPr/>
          <p:nvPr/>
        </p:nvSpPr>
        <p:spPr>
          <a:xfrm flipH="1">
            <a:off x="4800600" y="43434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Line 9"/>
          <p:cNvSpPr/>
          <p:nvPr/>
        </p:nvSpPr>
        <p:spPr>
          <a:xfrm flipH="1">
            <a:off x="4190760" y="43434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Line 10"/>
          <p:cNvSpPr/>
          <p:nvPr/>
        </p:nvSpPr>
        <p:spPr>
          <a:xfrm flipH="1">
            <a:off x="4190760" y="46483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Line 11"/>
          <p:cNvSpPr/>
          <p:nvPr/>
        </p:nvSpPr>
        <p:spPr>
          <a:xfrm flipH="1">
            <a:off x="4190760" y="49528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Line 12"/>
          <p:cNvSpPr/>
          <p:nvPr/>
        </p:nvSpPr>
        <p:spPr>
          <a:xfrm flipH="1">
            <a:off x="3886200" y="49528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Line 13"/>
          <p:cNvSpPr/>
          <p:nvPr/>
        </p:nvSpPr>
        <p:spPr>
          <a:xfrm flipH="1">
            <a:off x="3886200" y="52578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Rectangle 3"/>
          <p:cNvSpPr/>
          <p:nvPr/>
        </p:nvSpPr>
        <p:spPr>
          <a:xfrm>
            <a:off x="762120" y="42670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Rectangle 4"/>
          <p:cNvSpPr/>
          <p:nvPr/>
        </p:nvSpPr>
        <p:spPr>
          <a:xfrm>
            <a:off x="5715000" y="37339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Rectangle 3"/>
          <p:cNvSpPr/>
          <p:nvPr/>
        </p:nvSpPr>
        <p:spPr>
          <a:xfrm>
            <a:off x="762120" y="51814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3"/>
          <p:cNvSpPr/>
          <p:nvPr/>
        </p:nvSpPr>
        <p:spPr>
          <a:xfrm>
            <a:off x="762120" y="4876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Rectangle 4"/>
          <p:cNvSpPr/>
          <p:nvPr/>
        </p:nvSpPr>
        <p:spPr>
          <a:xfrm>
            <a:off x="5715000" y="40384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Rectangle 4"/>
          <p:cNvSpPr/>
          <p:nvPr/>
        </p:nvSpPr>
        <p:spPr>
          <a:xfrm>
            <a:off x="5715000" y="46483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Rectangle 4"/>
          <p:cNvSpPr/>
          <p:nvPr/>
        </p:nvSpPr>
        <p:spPr>
          <a:xfrm>
            <a:off x="5715000" y="4343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Rectangle 4"/>
          <p:cNvSpPr/>
          <p:nvPr/>
        </p:nvSpPr>
        <p:spPr>
          <a:xfrm>
            <a:off x="571500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Line 12"/>
          <p:cNvSpPr/>
          <p:nvPr/>
        </p:nvSpPr>
        <p:spPr>
          <a:xfrm flipH="1">
            <a:off x="3886200" y="46483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2220-CA0B-412D-9BCE-8A2C7D67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1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2692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4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2695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7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9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2700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tching Results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(F-Measure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16" name="Rectangle 3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CBAA-55CD-4AC7-B377-2D66C01C2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9" name="Picture 2" descr=""/>
          <p:cNvPicPr/>
          <p:nvPr/>
        </p:nvPicPr>
        <p:blipFill>
          <a:blip r:embed="rId1"/>
          <a:stretch/>
        </p:blipFill>
        <p:spPr>
          <a:xfrm>
            <a:off x="60480" y="2070000"/>
            <a:ext cx="9144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21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does the system learn to interpret the meaning of a novel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result to correct MR from the gold standard m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EB6C-C3C9-4DA2-BFB0-D74D1830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Text Box 5"/>
          <p:cNvSpPr/>
          <p:nvPr/>
        </p:nvSpPr>
        <p:spPr>
          <a:xfrm>
            <a:off x="760320" y="2843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6"/>
          <p:cNvSpPr/>
          <p:nvPr/>
        </p:nvSpPr>
        <p:spPr>
          <a:xfrm>
            <a:off x="5410080" y="2843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Rectangle 3"/>
          <p:cNvSpPr/>
          <p:nvPr/>
        </p:nvSpPr>
        <p:spPr>
          <a:xfrm>
            <a:off x="0" y="34290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looses the ball to Pink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Rectangle 4"/>
          <p:cNvSpPr/>
          <p:nvPr/>
        </p:nvSpPr>
        <p:spPr>
          <a:xfrm>
            <a:off x="5410080" y="3276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7" name="Straight Arrow Connector 24"/>
          <p:cNvCxnSpPr/>
          <p:nvPr/>
        </p:nvCxnSpPr>
        <p:spPr>
          <a:xfrm>
            <a:off x="4648320" y="3580920"/>
            <a:ext cx="762480" cy="252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ing Results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(F-Measure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22A3-B199-42F9-8AB3-EB858BF2D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0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9182160" cy="3619800"/>
          </a:xfrm>
          <a:prstGeom prst="rect">
            <a:avLst/>
          </a:prstGeom>
          <a:ln w="0">
            <a:noFill/>
          </a:ln>
        </p:spPr>
      </p:pic>
      <p:sp>
        <p:nvSpPr>
          <p:cNvPr id="3431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ng Tactical Gener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ccurately does the system generate natural language descriptions of ev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LEU scor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Papineni et al, 2002], N=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22A5-635D-4932-81F6-B1C41E976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Text Box 5"/>
          <p:cNvSpPr/>
          <p:nvPr/>
        </p:nvSpPr>
        <p:spPr>
          <a:xfrm>
            <a:off x="5103720" y="259092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Rectangle 3"/>
          <p:cNvSpPr/>
          <p:nvPr/>
        </p:nvSpPr>
        <p:spPr>
          <a:xfrm>
            <a:off x="4343400" y="317664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looses the ball to Pink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8" name="Straight Arrow Connector 10"/>
          <p:cNvCxnSpPr/>
          <p:nvPr/>
        </p:nvCxnSpPr>
        <p:spPr>
          <a:xfrm>
            <a:off x="3657240" y="3328560"/>
            <a:ext cx="762840" cy="252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3439" name="Text Box 6"/>
          <p:cNvSpPr/>
          <p:nvPr/>
        </p:nvSpPr>
        <p:spPr>
          <a:xfrm>
            <a:off x="380880" y="2590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Rectangle 4"/>
          <p:cNvSpPr/>
          <p:nvPr/>
        </p:nvSpPr>
        <p:spPr>
          <a:xfrm>
            <a:off x="380880" y="302436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actical Generation Results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(BLEU Score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42" name="Rectangle 3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25C-2BE6-4EFC-9152-7876CDEA5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5" name="Picture 3" descr=""/>
          <p:cNvPicPr/>
          <p:nvPr/>
        </p:nvPicPr>
        <p:blipFill>
          <a:blip r:embed="rId1"/>
          <a:stretch/>
        </p:blipFill>
        <p:spPr>
          <a:xfrm>
            <a:off x="68400" y="2120760"/>
            <a:ext cx="89913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ng Strategic Gener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21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does the system predict which events the human sportscaster will men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C35F-FB6B-4B78-9C3D-988535D72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Rectangle 4"/>
          <p:cNvSpPr/>
          <p:nvPr/>
        </p:nvSpPr>
        <p:spPr>
          <a:xfrm>
            <a:off x="2895480" y="3048120"/>
            <a:ext cx="3071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6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2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3 , pink9 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PMingLiU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trategic Generation Resul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Line 5"/>
          <p:cNvSpPr/>
          <p:nvPr/>
        </p:nvSpPr>
        <p:spPr>
          <a:xfrm>
            <a:off x="533520" y="141768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401-02BB-42D8-A98F-CE8EA9B1C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5" name="Picture 4" descr=""/>
          <p:cNvPicPr/>
          <p:nvPr/>
        </p:nvPicPr>
        <p:blipFill>
          <a:blip r:embed="rId1"/>
          <a:stretch/>
        </p:blipFill>
        <p:spPr>
          <a:xfrm>
            <a:off x="-12600" y="1676520"/>
            <a:ext cx="921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Amazon’s Mechanical Turk to recruit human judges (36 English, 7 Korean judges per vide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 commented game cl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inute clips randomly selected from each of the 4 g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ip commented once by a human, and once by the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d in random counter-balanced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dges were not told which ones were human or machine gene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Line 5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47D-4D52-4BE2-B815-1C0293C7E0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uman Evaluation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“Pseudo Turing Test”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uman Evaluation Metric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61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2" name=""/>
          <p:cNvGraphicFramePr/>
          <p:nvPr/>
        </p:nvGraphicFramePr>
        <p:xfrm>
          <a:off x="685800" y="2286000"/>
          <a:ext cx="7772400" cy="2278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346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2DC3-355E-4DCD-B1BD-6C6B3FC00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TextBox 6"/>
          <p:cNvSpPr/>
          <p:nvPr/>
        </p:nvSpPr>
        <p:spPr>
          <a:xfrm>
            <a:off x="259200" y="5029200"/>
            <a:ext cx="859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u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so asked human judge to predict if a human or machine gener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 sportscast, knowing there was some of each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glish Human Evaluation Resul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66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9059-AE5F-4659-8DD4-3850EF38A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8" name="Picture 81" descr=""/>
          <p:cNvPicPr/>
          <p:nvPr/>
        </p:nvPicPr>
        <p:blipFill>
          <a:blip r:embed="rId1"/>
          <a:stretch/>
        </p:blipFill>
        <p:spPr>
          <a:xfrm>
            <a:off x="30240" y="1905120"/>
            <a:ext cx="91137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1AC1-3D2A-4334-99C7-BA70A17B5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Zelle &amp; Mooney, 1996; Thompson &amp; Mooney, 1999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nSem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existing statistical syntactic parser &amp; word alignment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5" name="TextBox 4"/>
          <p:cNvSpPr/>
          <p:nvPr/>
        </p:nvSpPr>
        <p:spPr>
          <a:xfrm>
            <a:off x="52200" y="396252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Box 5"/>
          <p:cNvSpPr/>
          <p:nvPr/>
        </p:nvSpPr>
        <p:spPr>
          <a:xfrm>
            <a:off x="52200" y="457200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Korean Human Evaluation Resul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70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0EA7-E606-422C-B877-10B39F328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2" name="Picture 2" descr=""/>
          <p:cNvPicPr/>
          <p:nvPr/>
        </p:nvPicPr>
        <p:blipFill>
          <a:blip r:embed="rId1"/>
          <a:stretch/>
        </p:blipFill>
        <p:spPr>
          <a:xfrm>
            <a:off x="-49320" y="1905120"/>
            <a:ext cx="92473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B00-50A2-4B50-867A-18F5491A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Future Direction #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ounded language learning for direction following in a virtu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Eventual go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 agents in video games and educational software that can take and give instructions in natural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hallenge on Generating Instructions in Virtual Environments (GIVE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477" name="Picture 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175080" cy="4923000"/>
          </a:xfrm>
          <a:prstGeom prst="rect">
            <a:avLst/>
          </a:prstGeom>
          <a:ln w="0">
            <a:noFill/>
          </a:ln>
        </p:spPr>
      </p:pic>
      <p:sp>
        <p:nvSpPr>
          <p:cNvPr id="3478" name="TextBox 7"/>
          <p:cNvSpPr/>
          <p:nvPr/>
        </p:nvSpPr>
        <p:spPr>
          <a:xfrm>
            <a:off x="1923840" y="609588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give-challenge.org/research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Slide Number Placeholder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3584-A51D-4643-B4B7-D8018A4F6540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Approach for Grounded Instruction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v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Observes human instructor guiding a human follow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learning as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ries to follow human instruc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learning as instr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enerates instructions to guide human follower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2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613-D448-4454-9CB5-4A6B96254083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Direction #2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 (NLP) and Computer Vision (CV) are both very challeng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(ML) is now extensively used to automate the construction of both effective NLP and CV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uses supervised ML and requires difficult and expensive human annotation of large text or image/video corpora for trai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ross-Supervision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perceptual input to supervise languag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linguistic input to supervise visual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Text Box 4"/>
          <p:cNvSpPr/>
          <p:nvPr/>
        </p:nvSpPr>
        <p:spPr>
          <a:xfrm>
            <a:off x="2509200" y="54100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cylinder on top of  a red c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8" name="Group 28"/>
          <p:cNvGrpSpPr/>
          <p:nvPr/>
        </p:nvGrpSpPr>
        <p:grpSpPr>
          <a:xfrm>
            <a:off x="3962520" y="3505320"/>
            <a:ext cx="1218960" cy="1904760"/>
            <a:chOff x="3962520" y="3505320"/>
            <a:chExt cx="1218960" cy="1904760"/>
          </a:xfrm>
        </p:grpSpPr>
        <p:sp>
          <p:nvSpPr>
            <p:cNvPr id="3489" name="AutoShape 5"/>
            <p:cNvSpPr/>
            <p:nvPr/>
          </p:nvSpPr>
          <p:spPr>
            <a:xfrm>
              <a:off x="3962520" y="4419720"/>
              <a:ext cx="1218960" cy="990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AutoShape 6"/>
            <p:cNvSpPr/>
            <p:nvPr/>
          </p:nvSpPr>
          <p:spPr>
            <a:xfrm>
              <a:off x="4191120" y="3505320"/>
              <a:ext cx="685800" cy="1218960"/>
            </a:xfrm>
            <a:prstGeom prst="can">
              <a:avLst>
                <a:gd name="adj" fmla="val 25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1" name="Group 26"/>
          <p:cNvGrpSpPr/>
          <p:nvPr/>
        </p:nvGrpSpPr>
        <p:grpSpPr>
          <a:xfrm>
            <a:off x="609480" y="3580920"/>
            <a:ext cx="3353040" cy="2057760"/>
            <a:chOff x="609480" y="3580920"/>
            <a:chExt cx="3353040" cy="2057760"/>
          </a:xfrm>
        </p:grpSpPr>
        <p:sp>
          <p:nvSpPr>
            <p:cNvPr id="3492" name="Rectangle 7"/>
            <p:cNvSpPr/>
            <p:nvPr/>
          </p:nvSpPr>
          <p:spPr>
            <a:xfrm>
              <a:off x="609480" y="4196520"/>
              <a:ext cx="135900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Line 10"/>
            <p:cNvSpPr/>
            <p:nvPr/>
          </p:nvSpPr>
          <p:spPr>
            <a:xfrm flipH="1" flipV="1">
              <a:off x="1904760" y="4876920"/>
              <a:ext cx="68580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Text Box 11"/>
            <p:cNvSpPr/>
            <p:nvPr/>
          </p:nvSpPr>
          <p:spPr>
            <a:xfrm rot="2995800">
              <a:off x="2040840" y="495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Text Box 13"/>
            <p:cNvSpPr/>
            <p:nvPr/>
          </p:nvSpPr>
          <p:spPr>
            <a:xfrm>
              <a:off x="213120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6" name="Group 17"/>
            <p:cNvGrpSpPr/>
            <p:nvPr/>
          </p:nvGrpSpPr>
          <p:grpSpPr>
            <a:xfrm>
              <a:off x="1981080" y="3580920"/>
              <a:ext cx="1981440" cy="1829160"/>
              <a:chOff x="1981080" y="3580920"/>
              <a:chExt cx="1981440" cy="1829160"/>
            </a:xfrm>
          </p:grpSpPr>
          <p:sp>
            <p:nvSpPr>
              <p:cNvPr id="3497" name="Line 14"/>
              <p:cNvSpPr/>
              <p:nvPr/>
            </p:nvSpPr>
            <p:spPr>
              <a:xfrm flipH="1">
                <a:off x="19810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Line 15"/>
              <p:cNvSpPr/>
              <p:nvPr/>
            </p:nvSpPr>
            <p:spPr>
              <a:xfrm flipV="1">
                <a:off x="350532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Line 16"/>
              <p:cNvSpPr/>
              <p:nvPr/>
            </p:nvSpPr>
            <p:spPr>
              <a:xfrm>
                <a:off x="35053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0" name="Group 27"/>
          <p:cNvGrpSpPr/>
          <p:nvPr/>
        </p:nvGrpSpPr>
        <p:grpSpPr>
          <a:xfrm>
            <a:off x="5181480" y="3580920"/>
            <a:ext cx="3340080" cy="2496600"/>
            <a:chOff x="5181480" y="3580920"/>
            <a:chExt cx="3340080" cy="2496600"/>
          </a:xfrm>
        </p:grpSpPr>
        <p:grpSp>
          <p:nvGrpSpPr>
            <p:cNvPr id="3501" name="Group 18"/>
            <p:cNvGrpSpPr/>
            <p:nvPr/>
          </p:nvGrpSpPr>
          <p:grpSpPr>
            <a:xfrm>
              <a:off x="5181480" y="3580920"/>
              <a:ext cx="1981440" cy="1829160"/>
              <a:chOff x="5181480" y="3580920"/>
              <a:chExt cx="1981440" cy="1829160"/>
            </a:xfrm>
          </p:grpSpPr>
          <p:sp>
            <p:nvSpPr>
              <p:cNvPr id="3502" name="Line 19"/>
              <p:cNvSpPr/>
              <p:nvPr/>
            </p:nvSpPr>
            <p:spPr>
              <a:xfrm>
                <a:off x="56386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Line 20"/>
              <p:cNvSpPr/>
              <p:nvPr/>
            </p:nvSpPr>
            <p:spPr>
              <a:xfrm flipH="1" flipV="1">
                <a:off x="518148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Line 21"/>
              <p:cNvSpPr/>
              <p:nvPr/>
            </p:nvSpPr>
            <p:spPr>
              <a:xfrm flipH="1">
                <a:off x="53341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5" name="Rectangle 22"/>
            <p:cNvSpPr/>
            <p:nvPr/>
          </p:nvSpPr>
          <p:spPr>
            <a:xfrm>
              <a:off x="7162920" y="4120560"/>
              <a:ext cx="135864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s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Line 23"/>
            <p:cNvSpPr/>
            <p:nvPr/>
          </p:nvSpPr>
          <p:spPr>
            <a:xfrm flipV="1">
              <a:off x="6858000" y="4800240"/>
              <a:ext cx="60948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Text Box 24"/>
            <p:cNvSpPr/>
            <p:nvPr/>
          </p:nvSpPr>
          <p:spPr>
            <a:xfrm>
              <a:off x="5866200" y="396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Text Box 25"/>
            <p:cNvSpPr/>
            <p:nvPr/>
          </p:nvSpPr>
          <p:spPr>
            <a:xfrm rot="18526800">
              <a:off x="6551640" y="518076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ity Recognition in Vide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ing activities in video generally uses supervised learning trained on human-labeled video cl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guistic information in closed captions (CCs)  can be used as “weak supervision” for training activity recogniz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trained activity recognizers can be used to improve precision of video retriev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0293-881F-44F3-BD39-78917C36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ample Soccer Videos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513" name="Rectangle 3"/>
          <p:cNvSpPr/>
          <p:nvPr/>
        </p:nvSpPr>
        <p:spPr>
          <a:xfrm>
            <a:off x="314280" y="595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Rectangle 4"/>
          <p:cNvSpPr/>
          <p:nvPr/>
        </p:nvSpPr>
        <p:spPr>
          <a:xfrm>
            <a:off x="2474280" y="1434960"/>
            <a:ext cx="219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I do not th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here is any real int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just trying to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he gets his body acros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but it was a free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kick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Rectangle 5"/>
          <p:cNvSpPr/>
          <p:nvPr/>
        </p:nvSpPr>
        <p:spPr>
          <a:xfrm>
            <a:off x="2480040" y="3216240"/>
            <a:ext cx="8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Lo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kick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Rectangle 6"/>
          <p:cNvSpPr/>
          <p:nvPr/>
        </p:nvSpPr>
        <p:spPr>
          <a:xfrm>
            <a:off x="2478240" y="4800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Goal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kick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Rectangle 7"/>
          <p:cNvSpPr/>
          <p:nvPr/>
        </p:nvSpPr>
        <p:spPr>
          <a:xfrm>
            <a:off x="7143840" y="146376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Good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save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wel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Rectangle 8"/>
          <p:cNvSpPr/>
          <p:nvPr/>
        </p:nvSpPr>
        <p:spPr>
          <a:xfrm>
            <a:off x="7073640" y="3124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I think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made a wonderfu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fingertip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save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ther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Rectangle 9"/>
          <p:cNvSpPr/>
          <p:nvPr/>
        </p:nvSpPr>
        <p:spPr>
          <a:xfrm>
            <a:off x="7096680" y="4740120"/>
            <a:ext cx="164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d it is a re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chopped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save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Rectangle 10"/>
          <p:cNvSpPr/>
          <p:nvPr/>
        </p:nvSpPr>
        <p:spPr>
          <a:xfrm>
            <a:off x="1818360" y="7621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Rectangle 11"/>
          <p:cNvSpPr/>
          <p:nvPr/>
        </p:nvSpPr>
        <p:spPr>
          <a:xfrm>
            <a:off x="6302520" y="685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2" name="kick2-new.mpg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133360" cy="1454400"/>
          </a:xfrm>
          <a:prstGeom prst="rect">
            <a:avLst/>
          </a:prstGeom>
          <a:ln w="0">
            <a:noFill/>
          </a:ln>
        </p:spPr>
      </p:pic>
      <p:pic>
        <p:nvPicPr>
          <p:cNvPr id="3523" name="kick3.mpg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524" name="kick4.mpg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525" name="save1.mpg" descr=""/>
          <p:cNvPicPr/>
          <p:nvPr/>
        </p:nvPicPr>
        <p:blipFill>
          <a:blip r:embed="rId4"/>
          <a:stretch/>
        </p:blipFill>
        <p:spPr>
          <a:xfrm>
            <a:off x="4800600" y="1219320"/>
            <a:ext cx="2235240" cy="1523880"/>
          </a:xfrm>
          <a:prstGeom prst="rect">
            <a:avLst/>
          </a:prstGeom>
          <a:ln w="0">
            <a:noFill/>
          </a:ln>
        </p:spPr>
      </p:pic>
      <p:pic>
        <p:nvPicPr>
          <p:cNvPr id="3526" name="save2.mpg" descr=""/>
          <p:cNvPicPr/>
          <p:nvPr/>
        </p:nvPicPr>
        <p:blipFill>
          <a:blip r:embed="rId5"/>
          <a:stretch/>
        </p:blipFill>
        <p:spPr>
          <a:xfrm>
            <a:off x="480060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527" name="save3.mpg" descr=""/>
          <p:cNvPicPr/>
          <p:nvPr/>
        </p:nvPicPr>
        <p:blipFill>
          <a:blip r:embed="rId6"/>
          <a:stretch/>
        </p:blipFill>
        <p:spPr>
          <a:xfrm>
            <a:off x="4876920" y="4419720"/>
            <a:ext cx="2235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8476" fill="hold"/>
                                        <p:tgtEl>
                                          <p:spTgt spid="3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476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8476" fill="hold"/>
                                        <p:tgtEl>
                                          <p:spTgt spid="3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6952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5987" fill="hold"/>
                                        <p:tgtEl>
                                          <p:spTgt spid="3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939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8476" fill="hold"/>
                                        <p:tgtEl>
                                          <p:spTgt spid="3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1415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8476" fill="hold"/>
                                        <p:tgtEl>
                                          <p:spTgt spid="3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9891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5987" fill="hold"/>
                                        <p:tgtEl>
                                          <p:spTgt spid="3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352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352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3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352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352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3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352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352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3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52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52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3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52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352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3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52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52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3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Rectangle 2"/>
          <p:cNvSpPr/>
          <p:nvPr/>
        </p:nvSpPr>
        <p:spPr>
          <a:xfrm>
            <a:off x="2445120" y="996840"/>
            <a:ext cx="2242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If you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defending a lead, y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back takes i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far up the pitch and 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-in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Rectangle 3"/>
          <p:cNvSpPr/>
          <p:nvPr/>
        </p:nvSpPr>
        <p:spPr>
          <a:xfrm>
            <a:off x="2470680" y="4959360"/>
            <a:ext cx="175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d 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evez has w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Rectangle 4"/>
          <p:cNvSpPr/>
          <p:nvPr/>
        </p:nvSpPr>
        <p:spPr>
          <a:xfrm>
            <a:off x="2450520" y="2901960"/>
            <a:ext cx="170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shot for a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Rectangle 5"/>
          <p:cNvSpPr/>
          <p:nvPr/>
        </p:nvSpPr>
        <p:spPr>
          <a:xfrm>
            <a:off x="7183800" y="2825640"/>
            <a:ext cx="206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When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re going to pass it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he back, it is a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pure</a:t>
            </a:r>
            <a:r>
              <a:rPr b="1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ouch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Rectangle 6"/>
          <p:cNvSpPr/>
          <p:nvPr/>
        </p:nvSpPr>
        <p:spPr>
          <a:xfrm>
            <a:off x="7165440" y="4883040"/>
            <a:ext cx="209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Look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hat, Henry, again,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had time on the bal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ake another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ouch</a:t>
            </a:r>
            <a:r>
              <a:rPr b="0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d prepare that b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properly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Rectangle 7"/>
          <p:cNvSpPr/>
          <p:nvPr/>
        </p:nvSpPr>
        <p:spPr>
          <a:xfrm>
            <a:off x="7235280" y="1006560"/>
            <a:ext cx="201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ll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needed was a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ouch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Rectangle 8"/>
          <p:cNvSpPr/>
          <p:nvPr/>
        </p:nvSpPr>
        <p:spPr>
          <a:xfrm>
            <a:off x="1344960" y="15228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Rectangle 9"/>
          <p:cNvSpPr/>
          <p:nvPr/>
        </p:nvSpPr>
        <p:spPr>
          <a:xfrm>
            <a:off x="6106320" y="152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6" name="throw1.mpg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346480" cy="1600200"/>
          </a:xfrm>
          <a:prstGeom prst="rect">
            <a:avLst/>
          </a:prstGeom>
          <a:ln w="0">
            <a:noFill/>
          </a:ln>
        </p:spPr>
      </p:pic>
      <p:pic>
        <p:nvPicPr>
          <p:cNvPr id="3537" name="throw2.mpg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538" name="throw4.mpg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539" name="touch2.mpg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540" name="touch3.mpg" descr=""/>
          <p:cNvPicPr/>
          <p:nvPr/>
        </p:nvPicPr>
        <p:blipFill>
          <a:blip r:embed="rId5"/>
          <a:stretch/>
        </p:blipFill>
        <p:spPr>
          <a:xfrm>
            <a:off x="4876920" y="274320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541" name="touch4.mpg" descr=""/>
          <p:cNvPicPr/>
          <p:nvPr/>
        </p:nvPicPr>
        <p:blipFill>
          <a:blip r:embed="rId6"/>
          <a:stretch/>
        </p:blipFill>
        <p:spPr>
          <a:xfrm>
            <a:off x="4876920" y="4484520"/>
            <a:ext cx="23619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5987" fill="hold"/>
                                        <p:tgtEl>
                                          <p:spTgt spid="3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987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7975" fill="hold"/>
                                        <p:tgtEl>
                                          <p:spTgt spid="3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962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8476" fill="hold"/>
                                        <p:tgtEl>
                                          <p:spTgt spid="3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2438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8476" fill="hold"/>
                                        <p:tgtEl>
                                          <p:spTgt spid="3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914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8476" fill="hold"/>
                                        <p:tgtEl>
                                          <p:spTgt spid="3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939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8476" fill="hold"/>
                                        <p:tgtEl>
                                          <p:spTgt spid="3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353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353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1" dur="1" fill="hold"/>
                                        <p:tgtEl>
                                          <p:spTgt spid="3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53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53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6" dur="1" fill="hold"/>
                                        <p:tgtEl>
                                          <p:spTgt spid="3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538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3538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" dur="1" fill="hold"/>
                                        <p:tgtEl>
                                          <p:spTgt spid="3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3539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3539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3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3540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3540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1" dur="1" fill="hold"/>
                                        <p:tgtEl>
                                          <p:spTgt spid="3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3541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354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3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363-8A78-4201-B522-8900B3A1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language learning work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developed language learning systems that can learn from sentences paired with an ambiguous perceptual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evaluated it on learning to sportscast simulated Robocup games where it learns to commentate games about as well as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to connect language and perception is an important and exciting resear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B00F-41C4-4A74-B567-8029CB17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supervised language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RPA Learning by Reading Pro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8866-27D8-40AE-9A91-111DBCB5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Grou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ings of many words are grounded in our perception of the physical world: red, ball, cup, run, hit, fal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mbol Grounding: Harnad (1990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any abstract words and meanings are metaphorical abstractions of terms grounded in the physical world: up, down, over, i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koff and Johnson’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etaphors We Live B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ts difficult to put my ideas into word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LP work represents meaning without any connection to perception; circularly defining the meanings of words in terms of other words or meaningless symbols with no firm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ircular Defini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rom 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ep (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 asleep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leep (ad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a state of sleep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0F78-EF2A-467C-A728-10C13581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0-04-22T03:03:15Z</dcterms:modified>
  <cp:revision>238</cp:revision>
  <dc:subject/>
  <dc:title>Intelligent Information Retrieval and Web Search</dc:title>
</cp:coreProperties>
</file>