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</p:sldMasterIdLst>
  <p:notesMasterIdLst>
    <p:notesMasterId r:id="rId66"/>
  </p:notesMasterIdLst>
  <p:sldIdLst>
    <p:sldId id="256" r:id="rId67"/>
    <p:sldId id="257" r:id="rId68"/>
    <p:sldId id="258" r:id="rId69"/>
    <p:sldId id="259" r:id="rId70"/>
    <p:sldId id="260" r:id="rId71"/>
    <p:sldId id="261" r:id="rId72"/>
    <p:sldId id="262" r:id="rId73"/>
    <p:sldId id="263" r:id="rId74"/>
    <p:sldId id="264" r:id="rId75"/>
    <p:sldId id="265" r:id="rId76"/>
    <p:sldId id="266" r:id="rId77"/>
    <p:sldId id="267" r:id="rId78"/>
    <p:sldId id="268" r:id="rId79"/>
    <p:sldId id="269" r:id="rId80"/>
    <p:sldId id="270" r:id="rId81"/>
    <p:sldId id="271" r:id="rId82"/>
    <p:sldId id="272" r:id="rId83"/>
    <p:sldId id="273" r:id="rId84"/>
    <p:sldId id="274" r:id="rId85"/>
    <p:sldId id="275" r:id="rId86"/>
    <p:sldId id="276" r:id="rId87"/>
    <p:sldId id="277" r:id="rId88"/>
    <p:sldId id="278" r:id="rId89"/>
    <p:sldId id="279" r:id="rId90"/>
    <p:sldId id="280" r:id="rId91"/>
    <p:sldId id="281" r:id="rId92"/>
    <p:sldId id="282" r:id="rId93"/>
    <p:sldId id="283" r:id="rId94"/>
    <p:sldId id="284" r:id="rId95"/>
    <p:sldId id="285" r:id="rId96"/>
    <p:sldId id="286" r:id="rId97"/>
    <p:sldId id="287" r:id="rId98"/>
    <p:sldId id="288" r:id="rId99"/>
    <p:sldId id="289" r:id="rId100"/>
    <p:sldId id="290" r:id="rId101"/>
    <p:sldId id="291" r:id="rId102"/>
    <p:sldId id="292" r:id="rId103"/>
    <p:sldId id="293" r:id="rId104"/>
    <p:sldId id="294" r:id="rId105"/>
    <p:sldId id="295" r:id="rId106"/>
    <p:sldId id="296" r:id="rId107"/>
    <p:sldId id="297" r:id="rId108"/>
    <p:sldId id="298" r:id="rId109"/>
    <p:sldId id="299" r:id="rId110"/>
    <p:sldId id="300" r:id="rId111"/>
    <p:sldId id="301" r:id="rId112"/>
    <p:sldId id="302" r:id="rId113"/>
    <p:sldId id="303" r:id="rId114"/>
    <p:sldId id="304" r:id="rId115"/>
    <p:sldId id="305" r:id="rId116"/>
    <p:sldId id="306" r:id="rId117"/>
    <p:sldId id="307" r:id="rId118"/>
    <p:sldId id="308" r:id="rId119"/>
    <p:sldId id="309" r:id="rId120"/>
    <p:sldId id="310" r:id="rId121"/>
    <p:sldId id="311" r:id="rId122"/>
    <p:sldId id="312" r:id="rId123"/>
    <p:sldId id="313" r:id="rId124"/>
    <p:sldId id="314" r:id="rId125"/>
    <p:sldId id="315" r:id="rId126"/>
    <p:sldId id="316" r:id="rId127"/>
    <p:sldId id="317" r:id="rId128"/>
    <p:sldId id="318" r:id="rId129"/>
    <p:sldId id="319" r:id="rId130"/>
    <p:sldId id="320" r:id="rId131"/>
    <p:sldId id="321" r:id="rId132"/>
    <p:sldId id="322" r:id="rId133"/>
    <p:sldId id="323" r:id="rId134"/>
    <p:sldId id="324" r:id="rId1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notesMaster" Target="notesMasters/notesMaster1.xml"/><Relationship Id="rId67" Type="http://schemas.openxmlformats.org/officeDocument/2006/relationships/slide" Target="slides/slide1.xml"/><Relationship Id="rId68" Type="http://schemas.openxmlformats.org/officeDocument/2006/relationships/slide" Target="slides/slide2.xml"/><Relationship Id="rId69" Type="http://schemas.openxmlformats.org/officeDocument/2006/relationships/slide" Target="slides/slide3.xml"/><Relationship Id="rId70" Type="http://schemas.openxmlformats.org/officeDocument/2006/relationships/slide" Target="slides/slide4.xml"/><Relationship Id="rId71" Type="http://schemas.openxmlformats.org/officeDocument/2006/relationships/slide" Target="slides/slide5.xml"/><Relationship Id="rId72" Type="http://schemas.openxmlformats.org/officeDocument/2006/relationships/slide" Target="slides/slide6.xml"/><Relationship Id="rId73" Type="http://schemas.openxmlformats.org/officeDocument/2006/relationships/slide" Target="slides/slide7.xml"/><Relationship Id="rId74" Type="http://schemas.openxmlformats.org/officeDocument/2006/relationships/slide" Target="slides/slide8.xml"/><Relationship Id="rId75" Type="http://schemas.openxmlformats.org/officeDocument/2006/relationships/slide" Target="slides/slide9.xml"/><Relationship Id="rId76" Type="http://schemas.openxmlformats.org/officeDocument/2006/relationships/slide" Target="slides/slide10.xml"/><Relationship Id="rId77" Type="http://schemas.openxmlformats.org/officeDocument/2006/relationships/slide" Target="slides/slide11.xml"/><Relationship Id="rId78" Type="http://schemas.openxmlformats.org/officeDocument/2006/relationships/slide" Target="slides/slide12.xml"/><Relationship Id="rId79" Type="http://schemas.openxmlformats.org/officeDocument/2006/relationships/slide" Target="slides/slide13.xml"/><Relationship Id="rId80" Type="http://schemas.openxmlformats.org/officeDocument/2006/relationships/slide" Target="slides/slide14.xml"/><Relationship Id="rId81" Type="http://schemas.openxmlformats.org/officeDocument/2006/relationships/slide" Target="slides/slide15.xml"/><Relationship Id="rId82" Type="http://schemas.openxmlformats.org/officeDocument/2006/relationships/slide" Target="slides/slide16.xml"/><Relationship Id="rId83" Type="http://schemas.openxmlformats.org/officeDocument/2006/relationships/slide" Target="slides/slide17.xml"/><Relationship Id="rId84" Type="http://schemas.openxmlformats.org/officeDocument/2006/relationships/slide" Target="slides/slide18.xml"/><Relationship Id="rId85" Type="http://schemas.openxmlformats.org/officeDocument/2006/relationships/slide" Target="slides/slide19.xml"/><Relationship Id="rId86" Type="http://schemas.openxmlformats.org/officeDocument/2006/relationships/slide" Target="slides/slide20.xml"/><Relationship Id="rId87" Type="http://schemas.openxmlformats.org/officeDocument/2006/relationships/slide" Target="slides/slide21.xml"/><Relationship Id="rId88" Type="http://schemas.openxmlformats.org/officeDocument/2006/relationships/slide" Target="slides/slide22.xml"/><Relationship Id="rId89" Type="http://schemas.openxmlformats.org/officeDocument/2006/relationships/slide" Target="slides/slide23.xml"/><Relationship Id="rId90" Type="http://schemas.openxmlformats.org/officeDocument/2006/relationships/slide" Target="slides/slide24.xml"/><Relationship Id="rId91" Type="http://schemas.openxmlformats.org/officeDocument/2006/relationships/slide" Target="slides/slide25.xml"/><Relationship Id="rId92" Type="http://schemas.openxmlformats.org/officeDocument/2006/relationships/slide" Target="slides/slide26.xml"/><Relationship Id="rId93" Type="http://schemas.openxmlformats.org/officeDocument/2006/relationships/slide" Target="slides/slide27.xml"/><Relationship Id="rId94" Type="http://schemas.openxmlformats.org/officeDocument/2006/relationships/slide" Target="slides/slide28.xml"/><Relationship Id="rId95" Type="http://schemas.openxmlformats.org/officeDocument/2006/relationships/slide" Target="slides/slide29.xml"/><Relationship Id="rId96" Type="http://schemas.openxmlformats.org/officeDocument/2006/relationships/slide" Target="slides/slide30.xml"/><Relationship Id="rId97" Type="http://schemas.openxmlformats.org/officeDocument/2006/relationships/slide" Target="slides/slide31.xml"/><Relationship Id="rId98" Type="http://schemas.openxmlformats.org/officeDocument/2006/relationships/slide" Target="slides/slide32.xml"/><Relationship Id="rId99" Type="http://schemas.openxmlformats.org/officeDocument/2006/relationships/slide" Target="slides/slide33.xml"/><Relationship Id="rId100" Type="http://schemas.openxmlformats.org/officeDocument/2006/relationships/slide" Target="slides/slide34.xml"/><Relationship Id="rId101" Type="http://schemas.openxmlformats.org/officeDocument/2006/relationships/slide" Target="slides/slide35.xml"/><Relationship Id="rId102" Type="http://schemas.openxmlformats.org/officeDocument/2006/relationships/slide" Target="slides/slide36.xml"/><Relationship Id="rId103" Type="http://schemas.openxmlformats.org/officeDocument/2006/relationships/slide" Target="slides/slide37.xml"/><Relationship Id="rId104" Type="http://schemas.openxmlformats.org/officeDocument/2006/relationships/slide" Target="slides/slide38.xml"/><Relationship Id="rId105" Type="http://schemas.openxmlformats.org/officeDocument/2006/relationships/slide" Target="slides/slide39.xml"/><Relationship Id="rId106" Type="http://schemas.openxmlformats.org/officeDocument/2006/relationships/slide" Target="slides/slide40.xml"/><Relationship Id="rId107" Type="http://schemas.openxmlformats.org/officeDocument/2006/relationships/slide" Target="slides/slide41.xml"/><Relationship Id="rId108" Type="http://schemas.openxmlformats.org/officeDocument/2006/relationships/slide" Target="slides/slide42.xml"/><Relationship Id="rId109" Type="http://schemas.openxmlformats.org/officeDocument/2006/relationships/slide" Target="slides/slide43.xml"/><Relationship Id="rId110" Type="http://schemas.openxmlformats.org/officeDocument/2006/relationships/slide" Target="slides/slide44.xml"/><Relationship Id="rId111" Type="http://schemas.openxmlformats.org/officeDocument/2006/relationships/slide" Target="slides/slide45.xml"/><Relationship Id="rId112" Type="http://schemas.openxmlformats.org/officeDocument/2006/relationships/slide" Target="slides/slide46.xml"/><Relationship Id="rId113" Type="http://schemas.openxmlformats.org/officeDocument/2006/relationships/slide" Target="slides/slide47.xml"/><Relationship Id="rId114" Type="http://schemas.openxmlformats.org/officeDocument/2006/relationships/slide" Target="slides/slide48.xml"/><Relationship Id="rId115" Type="http://schemas.openxmlformats.org/officeDocument/2006/relationships/slide" Target="slides/slide49.xml"/><Relationship Id="rId116" Type="http://schemas.openxmlformats.org/officeDocument/2006/relationships/slide" Target="slides/slide50.xml"/><Relationship Id="rId117" Type="http://schemas.openxmlformats.org/officeDocument/2006/relationships/slide" Target="slides/slide51.xml"/><Relationship Id="rId118" Type="http://schemas.openxmlformats.org/officeDocument/2006/relationships/slide" Target="slides/slide52.xml"/><Relationship Id="rId119" Type="http://schemas.openxmlformats.org/officeDocument/2006/relationships/slide" Target="slides/slide53.xml"/><Relationship Id="rId120" Type="http://schemas.openxmlformats.org/officeDocument/2006/relationships/slide" Target="slides/slide54.xml"/><Relationship Id="rId121" Type="http://schemas.openxmlformats.org/officeDocument/2006/relationships/slide" Target="slides/slide55.xml"/><Relationship Id="rId122" Type="http://schemas.openxmlformats.org/officeDocument/2006/relationships/slide" Target="slides/slide56.xml"/><Relationship Id="rId123" Type="http://schemas.openxmlformats.org/officeDocument/2006/relationships/slide" Target="slides/slide57.xml"/><Relationship Id="rId124" Type="http://schemas.openxmlformats.org/officeDocument/2006/relationships/slide" Target="slides/slide58.xml"/><Relationship Id="rId125" Type="http://schemas.openxmlformats.org/officeDocument/2006/relationships/slide" Target="slides/slide59.xml"/><Relationship Id="rId126" Type="http://schemas.openxmlformats.org/officeDocument/2006/relationships/slide" Target="slides/slide60.xml"/><Relationship Id="rId127" Type="http://schemas.openxmlformats.org/officeDocument/2006/relationships/slide" Target="slides/slide61.xml"/><Relationship Id="rId128" Type="http://schemas.openxmlformats.org/officeDocument/2006/relationships/slide" Target="slides/slide62.xml"/><Relationship Id="rId129" Type="http://schemas.openxmlformats.org/officeDocument/2006/relationships/slide" Target="slides/slide63.xml"/><Relationship Id="rId130" Type="http://schemas.openxmlformats.org/officeDocument/2006/relationships/slide" Target="slides/slide64.xml"/><Relationship Id="rId131" Type="http://schemas.openxmlformats.org/officeDocument/2006/relationships/slide" Target="slides/slide65.xml"/><Relationship Id="rId132" Type="http://schemas.openxmlformats.org/officeDocument/2006/relationships/slide" Target="slides/slide66.xml"/><Relationship Id="rId133" Type="http://schemas.openxmlformats.org/officeDocument/2006/relationships/slide" Target="slides/slide67.xml"/><Relationship Id="rId134" Type="http://schemas.openxmlformats.org/officeDocument/2006/relationships/slide" Target="slides/slide68.xml"/><Relationship Id="rId135" Type="http://schemas.openxmlformats.org/officeDocument/2006/relationships/slide" Target="slides/slide69.xml"/><Relationship Id="rId1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 type="dt" idx="186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 type="ftr" idx="187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 type="sldNum" idx="188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2663-3027-4D8D-A15A-8D9CF9DE4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692-9BC5-4AD9-8D04-8D6FF8521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7D5D-2954-44DE-8D1A-A5AD30FEA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situation of a child in a room observing the perceptual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 learning language, many things happening in a room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09A1-04EF-47C5-99D2-3E8F76655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8468-808A-4ABC-BF72-83F98CC84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1464-9ADF-4F8C-8C77-8D3ED37B6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96C3-8A25-41C9-BA66-67F545477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C221-1A3A-42AC-819C-B601CC77E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EE0C-38A1-4490-859E-35C7EAC4F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221F-B755-400E-BBBE-4432E76D1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3052-68AA-46C7-8BBB-B70A20FFA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F8B2-3C9C-40DB-B3AC-AB168197D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is that when a child or a computer hears this sentence then these things were happ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4E7C-46EC-4D40-A50B-8903FC3C0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7399-2572-43BC-BB65-903ECFFF9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0DCC-97F3-458D-BC4A-73811327A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F233-172A-4B1D-B49E-EA4E62CE8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F06D-4F0A-411E-90EB-A9F8DEB22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562F-AC3A-4430-949F-769AFEAF8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F1FE-FFD5-4D60-936C-BB86566D4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9B78-7E98-4694-87A4-20E4ECFA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95D8-C6A4-4695-B89D-9773E3D06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6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D662-AF6B-485A-9BBA-7AD55ACBF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56F2-738A-4524-9009-8AD72A547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C833-9049-4E93-8C47-8690FAA4C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9F2E-1F05-41D2-95AC-13AD98FEF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BD4F7-BA73-481A-BA04-A0741432DC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9E6A-8AA0-4625-8E63-6F13012C7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38DA-AEB5-4C25-B3B9-5B2D5E1A6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BC4D-023F-4D8B-9CDE-FE45EE20F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AC4A-0F1A-404C-8937-D8598C7AB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CF0F-2B23-41A3-9BBF-8E530DB8A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3D8-6A53-44B4-B372-4706DD92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0137-5BA9-413E-8F71-16837098B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C0B8-F7D6-442A-A0F6-258FEF803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FFCC-28DF-452E-8A16-87CDC84BF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1725-2437-46CA-AF6B-4EDCAAB7B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9EFB-ADD1-4819-86D0-14C7698AE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75B8-6277-468D-B56C-9DBBB9E26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EC7F-5005-4324-AB63-FC3837E99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8EE9-B022-4E52-82EC-B0262C7A9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915840" y="4330800"/>
            <a:ext cx="502632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Korean data collected by JooHyun, but results not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6DC-AEE7-464B-8C02-CC31AF018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BB89-0C35-402D-8BD1-9CA72BB40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07656-5D10-4024-B053-86E70EB30E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5CD5-73A5-4EE6-8470-E47BA253F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E71EB-03A7-410B-9FCD-2D635E66D8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B776-647C-4128-9333-782B4620F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8CA73-DB8A-4303-AFE6-EF1A18384E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inferred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141E-19DE-4D49-8102-3C222EBF0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36FC-C35D-4052-9043-759183717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E423-1850-4936-B0C0-F3C73F2B2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36CB-0D66-4B32-974D-DF2AFBFF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1DA2-1041-42B5-81ED-304BD2B19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9BE3-ADA1-47FA-BEA2-04BFEE3CE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6121-621F-43C7-9655-10333E6C6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209D-96D5-4194-AE1A-B4D5F0E38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1B72-7226-4544-9C0E-7EA3FC0DC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646C-DDFD-4437-8FF4-813F28A58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EDED-79F8-4D7E-B44C-DA8DD9615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784A-089D-4B12-8078-070B7FF7A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ABB4-6F25-46DA-9DDA-20DC16455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84BF-EC11-4937-9966-2E068F702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EFB2-7188-4BD3-BA66-D14931D50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0AD1-F17F-40FE-A91C-738CB6402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7F925-DDE4-4F16-9AFD-9E231EF55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2152-A303-4E8F-9D5D-18CF1EFE8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6B635-53DB-4DFD-9690-490344265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DC86-B196-4871-95C0-F0CA8D35C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433-48F4-4E93-AAAE-B5FA15F28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8B600-34E9-47AF-B53D-481F68552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5BDC-48C2-4C71-B6B2-2139121E0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particip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hand-bu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F76E-709A-4035-A9A6-679CA2C92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1C4E-D6D7-4ABD-BAB9-C836850DC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2361-E2A0-419A-9A46-63AFAD012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735B-A4D5-4D11-95EC-9299C7E4C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4963-0996-4329-9588-CB78196F5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11B5-2881-408C-925B-0ECBA62D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2D30-0EDB-4F3E-81BF-71A3BE9E3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63DF-9355-4639-A847-07CA2B1B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DE41-D683-4CEA-9486-062184448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041A-AD76-41A5-BEBC-1B2A08EE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2207-FCCF-4D58-9AB8-BD21C248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074D9B-1B25-4F7E-BD0B-2DF5F6B3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E4ADF8-BBB3-41B3-A08D-37381AA9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6215C5-8ADA-45D4-B6DC-AA7D89F8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58292-6DF8-4432-B8EB-8F7A9E5D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EA9D48-E407-4AE7-9A01-9BA1A712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3B27EA-577C-4A81-B501-2270C40A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182001-6708-4A3D-8A1E-86941DD1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36564C-A91E-4C0D-845D-795602B7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2401E7-3E90-4BAB-BEB2-2CBC8516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D5768-6C8B-4DF1-B765-818C1063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E8DE-8240-42EE-A452-27789D83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74C01-B3C0-4C9A-8F59-2D204125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DBA66-0D99-4038-B22B-96F8777E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C9541-4ABA-41A3-8872-48D857EF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D1E52-C7BA-4A0B-BB40-352021BC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883D5-9D24-44F6-B4DF-BCA8B6E5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31044-D4A1-48B9-AC6A-9F3EF9F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BA4C5-A5AC-41F2-875E-194D010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2913B-1DEE-492D-BE06-E9158A4E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ECFA4-BE7C-4AF3-98C0-13F79D15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80701-C17B-4C5C-A4D7-C14E65C3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84B2-EB1D-4CFA-B0D2-7AF0100E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04410-7007-4B2B-9981-12928707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55DA0-3F72-4484-8D98-0BC30292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D01D6-4B47-4996-9224-07E6B987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91BF0-BF1E-4EC0-8E1F-75FC5013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B5DD3-1C4C-411A-9A33-F0543565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45694-67D2-4E73-A6AB-3D1AC258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5634C-1F23-489D-B7EA-2CC7A99C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2E969-23ED-4CC0-B063-39B4B07B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E66CE-9C42-4DB7-B186-9735A355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A9607-79E6-49E6-9421-F6877CB3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C2021-CD6B-43CF-B1F3-63731B60E7B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D9BA5-611D-4193-B950-EDD5A1C6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75B62-A23E-4D5F-A6C8-33F08F6B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58934-3CE9-4068-9827-D64AFB7F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005DD5-DD61-4323-81D0-A54DA07E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F8BA1F-2796-4A09-A6B4-7CF83698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00D596-774E-4D23-91F9-16F17322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A88B19-134B-47CD-B684-3C21D251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EBE782-53FE-4792-BBEF-74ABAA40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634B4D-E55C-4FBC-8101-86A646A5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D36FF1-E57B-4CD1-BD2C-873FE72D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B2CB8-4254-486C-9E90-0D7FD948E96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A50ACF-60CC-4056-B4AE-23FA709A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6062E5-2121-46AC-A87A-E913D995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C42C8A-030B-4E6C-849C-E88B04BB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72416C-AEF3-4E9F-8127-B8CD3BF1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C2AFAF-8313-48A5-B340-74154C29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532A2-C9FC-4E09-9FE7-21C82A87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15F6B-4518-43D0-8521-F3EB558E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2B8FB-1775-464A-8B17-A1E3A35D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78F39-76B2-444D-8B82-524AA8E1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57589-27C3-46F1-AB14-73DA844A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DE958-6A6B-481E-8BFA-43BF7474308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82DE1-B505-4C6F-8521-18477537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6F54F-160D-474E-B8D0-8F3639C4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93F03-95E4-4E36-814F-01FC6A2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73AED-FC81-4413-B5E2-03C16198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6E999-65E7-4C65-BE4B-4CB9DA9E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C17E3-6277-4D96-A950-1437B236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DE065-5364-4789-905D-84E8E15D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99211A-0A23-4823-AE58-19D322C1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353405-C7FF-4A3E-8C81-5016314E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256FB7-5D1D-43C4-A57D-49A32DA8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5457C-C564-407C-944C-C26E46B51CC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5A5C7C-5E00-43F5-9349-AF9DD516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C46223-4A9C-497F-A122-408EF565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F6F1E4-6526-4FBB-B544-C6650209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8E9CD6-0C52-4838-ABEE-3B3A628D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7726D2-B98C-4DD0-BD44-C7FEA39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BE9EFE-71FD-4DB2-8647-049537A3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5E4230-E331-43EC-A4BF-087D6B2E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599162-06A1-47E3-BC63-781C09D9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119B4D-E3B1-41C3-8FC2-2068ABF3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066B11-927B-45E1-ABA0-BB16FDA2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19983-FCFA-4716-8186-71FE51EAD73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579C14-C69A-48DF-B15B-30302892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64E5D0-5C6C-4A28-AF70-EEBA454A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00E1BC-8C60-412E-8EC4-B8BDA39A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215E79-3599-495A-86E1-3A06C020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0DE5A1-6D5C-4B04-A0B4-B44B3B7B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168B27-BFA5-4BBC-950A-4632C8C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8777CF-9C1D-47A6-AFD5-2C759119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342091-78E5-4081-88C2-8639F6B0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F9A006-3261-47A8-9DAA-6BA1280E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694510-8925-4CB0-A420-6D66D44D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298B0-FBF8-43DE-8852-456CACDDF56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EF33F9-3679-4DFC-9CC4-446952D2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1C7FC8-C5F6-4716-953C-84BC53F3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F9B812-F144-470F-81E3-212D3139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1A8BD9-51FF-49BF-ABC4-5D918EC4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2C4BC9-299D-4A95-AC35-2F3BE4BF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668FEA-3E3B-4565-8B97-D5C9D301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FE27B7-994A-4F8D-A675-E0A7293A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5F270E-BF3D-42A8-A155-0270DAA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799786-AB2A-4BBC-AEB6-C14A52F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AC7F9E-F6EB-41AB-AAF9-480CB815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1A58B-3BA6-485A-88EE-9251B31545C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F8ABC3-5B57-4BD5-A4E2-45A1DBF2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72B224-EAC9-4BD4-A6A7-11918F89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D53726-23BF-4C53-8F26-67979F43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0B42C5-DB07-44A6-A958-DF5BA7D6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3ACE9F-979E-4BED-BF3D-A4437F3B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30F8C2-5840-4C1E-8E68-BD2F3A14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7C651F-A3ED-4694-AA22-E76E681B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A73930-72AA-4D0A-A2ED-B766ABDC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9D2A7D-06C3-4E9B-ADDB-5763C215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D39D32-8D48-4DF7-A66E-1F4AD09F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DE31-760A-44FE-83F4-F6B80C5E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53793-7D6A-422B-BF63-5BA9053934E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981E67-5058-43E8-B6B3-795226FF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CAF82A-84B3-448F-8BF8-EE7AB975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A02CB4-8864-46A4-A923-1879BECA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4B53F3F-EFE1-4600-8740-A9CC378D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912E6F-4CD1-4958-BCFB-6124F538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B22260F-382F-49A1-8121-57D3FE5A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E4FE87-39B3-4821-A268-1D82534C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59ABD8-A7E4-4B20-AF7E-8AE36DF8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DEA6B12-0886-472B-982D-26EAE9BF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118EA1-3910-4A8C-B14C-8CFB91C8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FF241-58B8-4106-9B4C-F60373316A7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4C8ECAA-77F7-4304-8300-3C1333BD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5CC0B6-6722-4A6A-BD91-BE47AB34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03BCA5-3149-48D3-97A2-A3EEB19E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780EAD-3FF3-4E14-887A-5AA3164A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7AE549-34F0-44BA-A3E0-481E08D1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247F734-21EF-4521-B1D7-0FFE77AE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8948145-8B60-49F8-9E8D-DAF5456D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0259F6-260F-4FC0-B433-C2C40B21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6CC68E-C554-46C7-B744-37B18F0C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058C1E-D52B-456D-93E5-23D570F6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56DB0-B4B8-440B-99CC-81A10B3463A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7AE6AA-DEFC-4766-A3D2-DD5DC0A2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834E60A-4E51-4C7F-A33A-F6D16B75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A16600-E7FA-4621-A7A2-6AE09DE3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3EB18E3-8FAD-47EE-815F-68BE8951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79EA0E-4D61-47F5-8038-E534550F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F62EF5-1E1F-4F79-959B-D76B735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480B93-ACE2-4431-9F28-6D381AEB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7900DC-992D-45D4-A414-F32DAE3F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730C60-1678-4F2A-A043-2D0622BD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A7B00-2E3B-4C34-90CA-44F94181BF0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6483D-02A2-493D-9ADE-CBBF84FB691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166EFF1-B056-4114-AC82-00E4173B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192C00-5CB3-47F7-97AF-21B469BD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7DF7BB-55F6-48EB-9710-456C3E07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8F8E8C-CE49-45A2-BF87-F57C8B67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D73342-EAE0-49F6-BAA1-83EED4EF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444037-64E4-43E4-8ABC-D8ABEA78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537AB8-DAC4-4979-9106-3B9B0835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11C0D4-74EE-4562-ABC2-27282038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AD3F5E-5168-48E3-BF01-F5EB4218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3A0868-7F07-4841-9B6A-848D9FDF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68CA0E3-A588-4D85-BD8A-114224D9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D15FCD-7BA3-427F-BA10-44A1074B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985B504-EB78-440B-B682-B5380FA1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49E657A-99BA-4FFD-A010-370D67C9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C7B568-8A01-4212-8A4F-A51552BB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334426-7BF2-463A-AB0C-31E1B627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785E4D-D644-44AD-8DBB-F82B6EDF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E570A0A-BEC5-4EA8-9422-6E6174F0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529A2E-972F-440B-A37A-6B323B2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46D744-1591-4D9E-8C89-E05392FC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AEE7B5-BDF8-4B09-BDB3-343D837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8D0C5A3-6769-4A4B-8CBF-B2736C54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77F592-34B4-4BC1-B98D-9392F105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7231AD-2030-4554-948E-B0335E21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5BCA907-7505-42D4-A496-2C31C1C0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C43DAA-AC0F-4B35-BA78-34F88206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B1B80F-D3E8-430E-8FA9-DC2CB7CC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1EFD91-CA3B-4983-9020-C8EA1D33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50AF512-0C5E-4401-9B33-085AE317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167633-0CF0-49D2-A2F3-08D4B046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1B2F871-CD41-4C7D-8C99-FB57249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0D4BE66-33E1-4AAE-844B-4FF6312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70C7A1-7873-42B7-A017-D7A467FB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2FE09A-6773-47F3-B1C8-BF14132C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6F65DB-5DCE-4EE7-ACAD-93F6DE98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0264859-EB05-435E-B3E0-3EE35015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2CA9D1-96DE-4E3C-ABE3-63E74C52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14294A-B976-46FF-AA30-19442B8D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543577F-63D6-4D90-A8F8-36C60CC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729252F-922B-41C7-99BD-39F13E82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4F0811-511B-4AE9-B440-658120EF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2F480E5-4F1B-44DA-B103-B0FF97E6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57F0A88-C60D-447A-AD50-967E6EE6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8679355-80FA-49AD-B1C1-72406803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D319F82-A01B-4A26-987F-03823012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06D0B6-08B2-4AE1-9651-7CC491BF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D46790-5D86-4A27-B064-53ABC8B6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F3B2B91-5A84-4DA5-ABB1-5609EF38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F04323-C751-4A3A-9C39-0584A09B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FD0B64-87A9-4CC4-A6F0-4F47723A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F8ABE2D-3DBA-493D-BF50-859AB5D1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270504-FE1B-47EB-A863-666ECEB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95AE2CB-7C87-4F27-8952-1C48BC7C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96B53C-6F6C-4578-9BD9-A729FE77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BF61F1-AC95-4823-B3C0-15580D85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1FF0645-F09F-4EB2-8E95-F076A69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C86639-340D-4DD2-ABD9-12674068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05A368-FE5B-4F29-B7D0-257640BA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98CA39-A3ED-46C9-9C11-AD33A575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9D7E-9482-4103-94D3-4FCF716C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9CB6B3-DBB0-4CA0-A49F-303C47B0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7BF6D9-65A4-4E20-AB97-26B6D67A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277F50-B644-412A-9919-99F1AFD5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F2C5A4B-CB51-4CC5-A832-5D51B83E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BAFF1F7-4615-4E76-8298-18C7184B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9F69556-8AFE-4E19-AC52-64D63CB2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604EB0-8235-4B8B-A273-5AF2C0E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08A25F-FB8F-403C-995D-3E5A1C29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C052DB0-D55A-4D0D-B841-49CC3AA4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774FB7-A4AD-4D59-A9FF-81579C9A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30D37A4-8110-4D15-9C17-506A34FB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0A1584-D745-4457-A500-69D3EB73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5493122-7CE1-4654-A56B-EA1F092F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17E8968-76A9-43BC-BA71-2EFF3D17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2F275BD-4686-4B5F-A05E-7FA6DE72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B9F2931-72D7-43A5-9C25-E4343D31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868F26-D017-4CAC-91D8-D4210927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CC67C7F-7CDC-4145-A01F-ECAEE72F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7BC7052-DB5A-414A-81C2-A60E9EF7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9DC891B-6B36-498C-915D-854C2912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79BD7F7-35BF-4759-A0DE-B000F0EB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E00315E-33AF-40CC-9608-C157ECEF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4B17B2-0628-48D2-A7C5-BF3161E9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B0D636-CB8A-4D1B-B380-3457B98D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EDBB6D2-C150-42D3-93EF-59FD03CD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66D45F-48E6-4671-B0B1-053019B9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1DF4BE0-0387-44EB-820E-444088A8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6C39274-F9AC-40F1-931F-DB35DD58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9CE9E4-E7B1-405A-ACF0-A922676A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8274CE-99BE-4D2F-A5F0-FEF51903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B474DED-8EDD-487B-8E20-551675CD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EAABFCD-A841-4C10-B5D6-3FFADBE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D4346F7-593A-4947-8603-35DF100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F923BCD-2E0E-46F2-ABE7-984F623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6D263D0-83AF-483C-A414-06899637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45880BC-5647-4087-902A-FB67282A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5C8172F-2777-44E6-9CD7-9372B410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E739FA2-392E-443A-8781-A549224B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84ADFED-2EFC-452D-9F38-B7FFD7A8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7481903-F807-4529-A145-E4000806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EA6C2B6-75EA-4912-BDF2-48DA21F3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96BF27-F36F-42A2-B185-23269FC5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9F2DB0E-9C64-463D-9CF6-7583EBDB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A7B4FD5-EF0C-4E6D-AF93-6FE09E13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31447A2-5B78-4690-824F-C88DA7E0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EDE021D-A2AD-4A1C-A41E-01778F7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36A04AA-3576-49F7-93D1-97EF4190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A687429-58E1-480E-A597-28934DFB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981E88D-5D0E-4D1B-89A9-BE19D3A3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E548A39-7F35-48A5-98E2-5D58FD4D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A0FB8C4-BC61-433D-A17B-50DA28B0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53612B0-E115-4A7D-94FD-52A1A3FA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E40AC84-2B36-4265-9F69-4F6FD9E4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99E88E2-8CA4-4FAC-9AC3-787B60F3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BD516AB-8C51-46B1-8EB2-5F40DFB9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F0AFA05-94BC-46FD-97BD-6B04D9B6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095215F-81C5-4E2E-84F8-C52F2BD8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BC1FA6A-6A39-45EF-96BF-43BDAC9C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FEED863-D297-4579-AFD9-A423EC88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350D714-BF8E-48E3-8EE8-E853A6ED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3861105-D348-40AE-85E0-92A858B8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CDD2741-0921-4B3E-81CC-6690C9A0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E322EE4-52E6-4F29-AB4F-8DFF7FA8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4E72E26-DB48-4077-8D9B-9400791F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A09EE61-ECEB-4E94-9E67-C539378E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645AA41-C8C0-41E4-BD83-53EE76A2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5CAF84F-77D4-4689-894F-8D5B050A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6A66773-BD58-47D7-8BD1-E88ABA97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92A8F5-ACB8-4080-B7DE-E54CDEDA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D184268-17E6-4E95-84DE-A6EEFE6E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C3F63-B874-4306-A7BE-53A468AB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3AC6294-0A06-40F7-97B5-48678C23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8160FFD-C6ED-405B-A26A-8F12296A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78A0635-CC07-4754-9F13-16FC2241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019B846-936F-41A9-A730-BCD5341F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106C2F7-8926-4A96-A475-AC3015A6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F85508C-C79C-45F7-8DF7-969C5CED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0681395-29DB-4FF2-BA89-8221E110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CB9C718-8008-4D65-82B9-7AC2ED79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B90C556-53B8-40D9-A2C9-B200485B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6D41333-A6B2-421B-8249-4FDD0DB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9382F-FE3B-4FE2-B048-ED92DB9E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BFCA7D6-924E-4D87-AD9E-F9397535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03BAD61-1B26-4D8D-B551-35735CFE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6A36187-D130-46D7-B6F2-D5CED30D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67BC5F1-D5E8-456A-8C8B-F2A0BB42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AF75086-3F9F-4405-A04D-08A93D00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D9A5F46-5CE9-4C70-BB71-318D44AE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F590B6C-5528-41C5-840E-02B77986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6B182F2-8F51-4BF6-B745-4B6E5954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82E3021-7F65-4761-AD42-F55E1F15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3B51F83-A75B-4CE3-B2C9-BC8F3582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F7DDA-847D-4F72-89EB-BC0CD2A5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8BCB155-0777-4D9C-8892-449CA62D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A74553C-35EA-4F55-90C1-99EA8E05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419F916-F30D-4832-909B-BAB36915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D22E632-C601-4846-BF72-329ACC9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65D1469-86C6-4C94-B13E-2DAED32E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0BA80A5-6321-463C-816A-63B587A9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B29E3AE-C7F8-4575-BB98-8073EDE8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DFA9076-C8AE-47F7-9382-D066916D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C1E798B-304E-40D7-9357-612EF38F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CCAAAE5-BDC6-4331-ADC9-81B54F84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54DE-CFD6-4C30-8958-67085747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2DE37-6AAA-43BE-B7EA-A8870E06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5A7FF34-256F-4C25-892C-436510A0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AE32662-1A38-493B-9F92-4084FD44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CB9AFD2-CF50-4A2E-98A3-8D596736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B34BB4A-51AE-4C49-8B9E-E93C3DDF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323E37F-02F6-4344-BB8C-9DEEF3B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83AF368-385E-4ED9-863D-81CD386B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3AF5FAF-339B-4C72-A301-BFEA7AF0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DB9A357-5C86-41F6-86AB-F0272768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8FF19F9-2137-4E89-960E-11314D8A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22656F1-14A5-4855-AC4E-788EB540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67E29-E56F-4350-898A-58B17BF4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63B92A7-5A6F-4D31-B0F0-CE2F861F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92EF916-5553-4AA5-8B9F-A31181DF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9A82F27-BAB3-4B15-8CA9-DB909153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28612F5-915C-4482-B86D-40E8EA72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CF6B363-0E3A-4425-9055-E0D04A40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3D23635-50CF-49A7-BC1F-617CCD66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5DA5507-3E37-412A-89AC-0AA0D71F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017681B-B6E3-48A5-B613-18D774B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BC165EA-9169-4F09-AF22-69D34DA0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EAF4877-C40D-4231-B72A-CB1809B0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143A0-F880-4FDF-8CCC-518D57CB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303A118-C495-4EC0-BF0D-621A900D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259364A-21DD-4DC9-A88F-B180ACFA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36D3667-142A-4AFA-BA6A-8DF8F32C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4E3D90A-80EB-4596-BB70-CB73FA28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66D3FB0-7A29-481A-8088-AB49C8B9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815EF3B-F832-4AEB-9551-77D2189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8EFC068-122D-41EC-8748-A41AA73C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6880E46-AA3E-413B-B1C4-2E7BB3D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0ED564A-8C24-424C-90DD-B300003F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B6B16CA-0322-4114-8924-4E518E00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290AE-EA60-4DAC-A44A-97D2E71D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F7DF63F-42DF-47C7-B614-05D7D20F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890E25F-77D6-41FA-95B7-080C2B38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3049907-4841-4926-B8DA-80E9D1E0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EBCBF36-46D8-46BB-9D9B-549290A7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131A90C-A047-4F96-90E3-0A25EBFF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D1C61ED-4B47-41EB-B2A7-CB790298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2CF8B3F-E839-4418-9AE1-480CBC8C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BE71CE9-9955-41C7-85CA-1DCFC20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9F890E4-6468-460C-805C-156E6301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874A841-B502-4AF2-B501-0635AF37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53995-74C5-42AF-92AB-E8C1EE1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5AA9BBD-E4CB-439D-AE0A-A05FC28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D38F482-C1F2-4698-B95B-752A12CA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DEDC64B-619D-4443-9CB7-5F0A985F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FBFDFA7-CB69-4BE0-A9B6-080215C7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3F24699-32F8-4811-BE79-09DF0BBB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F85022F-6062-4983-8DA4-6F098CEB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A92F6B8-943C-4777-B00E-DF32C25B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1299071-D092-45A0-87E8-B4DCB3F3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55AAD81-3CDB-467E-8A5E-97ABC384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7763E79-A071-4E09-AFEF-8D6CA970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2D97A-380F-43FA-B5ED-B4FDCE5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CCA5633-665B-4B8C-8DA3-79D993D6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EA36FE6-01EC-4311-9223-E411A326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3404763-8CA9-4085-8351-9886751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515C7A1-FD07-4BDE-92EB-1C7B308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F81E787-487D-44ED-976B-8A445E4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083EB40-55CD-4124-85FD-FD4E8D81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6C9D7F8-47CC-4308-84F2-8119247E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A57A2B6-A5D9-4B9E-BC4E-3ECACA70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70D32AD-0E31-4562-9598-43E45764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EEF7EEC-8A7E-4BD6-830C-DCCEE3C6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9DCE5-56B6-47A4-B038-AA99816B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8CC3E9-49A6-4EA6-A49F-1F736730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70FE904-AE36-4314-AE78-99BB472A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3361C2F-37D7-441D-9C4F-32F51ADA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17D1B53-6B30-408B-A8A7-324EFBD8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62A526C-03B4-4415-9706-3FAB0BE7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15B7E7B-EDAC-41E1-A3A8-15A3CC73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B2709E7-F7CE-44C8-8283-58AFD7C4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7C78C94-2888-4F28-B30A-143A5043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71404C4-56B2-4ED8-8268-3D55FAF1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2208236-3A02-4CFA-B51A-D34BE0AF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898DE-E943-413D-B202-035D3015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AE0A77C-C5D0-4523-86D7-A20EC5E3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9BC1506-D982-449C-8B45-8654B4E9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1924A00-9A4F-4B67-8DDE-07EB355A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35661C3-521E-466D-BB97-FCD34F53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A53E723-B4C5-4B51-BF2B-43CF8D32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D24B819-73CB-43BA-9F38-867BBF05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7A9A2BC-309F-4686-B272-A1C8043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607469B-83E0-4375-A0C7-566362A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76F231E-AFF3-4903-ACF9-836C76D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5663147-0C13-47F4-BAC4-AB5B9EA3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E4652-683A-4375-8B74-7B05A23B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902653B-49F7-4145-8B95-05297C5C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DB82E25-7493-439F-AD72-A1013C66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F46ED31-4A86-4C5F-B074-975052B8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802E6EC-819E-4441-AC9B-CE5492C9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AF11645-7984-43BF-A341-35E3A788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323433E-6C32-4035-87B1-7F586666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AEFBF79-1064-4975-8692-3ABFF1F2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84CA688-49A0-4735-9504-C04A96C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42D4C47-DC88-4638-AF75-C66464EB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CDD6F61-BEC8-436B-9662-809CEAD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7EB19-34FD-4CA4-854D-75AFF6E1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C56B004-4D43-4C97-843A-B2CAF951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323AA1E-73DC-41B1-A395-BF909AB9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6AF8D90-0592-4A5A-9C24-830D6B9C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96BD872-FF12-4142-A674-710D6AB3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0B7EBD2-5562-4551-8058-0EACD0C8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D1844E1-EAD5-45B2-BDD0-10BECA2D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C330284-2ED0-478F-A99E-BA2A3AE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4D03043-BABA-481C-9B01-56F096A0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5E04629-DB69-4295-971B-00CB6A71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0CAB997-BF5D-4CDD-BDF5-EC5E195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DE3F-9013-4A21-8A5C-7E862DB6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58FFA-6AE6-4371-A507-4CB4EC04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184FFAA-6717-45C6-9B54-DEEDA50A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C223160-0406-4ABA-A566-81465720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5AB56CF-6543-4DCF-8E9F-48D2026C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7736A14-B82F-48D1-9BE4-1C7F3931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94EF996-E469-4D90-AB63-51562FBE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577E334-D03D-4760-A3D2-0AD3741E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9143201-112E-46DC-98E8-9B837782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6B0251F-8301-4891-ACB6-C44CC25F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FE92CC8-D79B-4BCC-8D2D-2E488B57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2B8BEA8-6BD9-451C-9F4C-7B3D92E6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EECD3-C901-42D2-AC23-D1D9D7C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744ECDC-5309-4296-89C2-152D4BF0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B7190F7-2DED-49D4-B43F-4A5A1F4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3D41195-3955-4767-9DFA-CFF6E59A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FB91EC3-0060-4D97-BE78-177F14BE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0434E8C-7AEF-43B9-85C4-89CEBA16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D826DC3-3C9B-4AAA-93AD-502D5E67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7F79714-D167-4479-8C4E-FC9DA203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8515CB1-45ED-4ECE-ADDE-566CDCB5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374366E-A82B-45D6-BAA8-BD62D651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C3AF8D4-F0EA-4E4B-9065-BC51A6F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0E58E-6182-4B61-AB55-3693D669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6EE2E8C-09AD-4974-A02C-01B27B89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2F9C705-DC8A-40E6-AFE8-737B404C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B01DA20-D19E-4C2A-92F5-24D4B6BC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0BA0222-528E-42EC-84AC-2124C32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01D9F7E-7A4D-4E41-9378-C3739804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313B451-2963-4BBE-A406-3E74C63A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C68E05F-4D2F-4698-994C-FC1AAB9F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DC98F6A-6BE9-40E4-BE9D-4666204E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A8721FD-D3BD-4BC3-A546-17CCBA0F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B7E481F-DB2B-41EA-B8C5-3BBBDA3F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BDD19-2640-4F85-B9E2-E3CFC6CE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651879F-4041-44CE-B048-5100A0F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165BD9C-DA53-4ADD-9E4A-303C6E75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7D24A83-4D4A-4B76-85E4-10499BE9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075CB58-C991-4059-A2B4-F0307147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0A1C668-7FE4-4893-828C-1B0BAB45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9574D8F-1C33-4ECA-ABA6-06772C2E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A6FBF74-15D8-4571-8B55-CAAACC0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267A4DB-5BCF-475D-B2A3-A158D345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2E998D3-AC5E-41EA-9832-61C266C2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EE49C0C-B11F-4AD3-AFCE-9DE3E085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A4421-AABC-437A-9317-3934F772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C578C13-0F87-44AF-A143-4FE8B61C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6720CD8-76EF-486C-94A3-2CA61F2C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276756B-F487-4757-AA70-AAF7D3A8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6561E1E-A17B-47FE-9A81-72568794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5E30FA4-A619-4AB4-AF74-24E6186C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F3A81E2-A752-45E6-8F90-5EBB9C24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C266EA7-EB3E-4DD0-A623-44249860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74BB879-9B24-43B6-B1CF-16D6F26B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80F8369-B138-4EB5-B8B1-EA637D4F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01FC2F0-41FE-4D62-8E59-ADC1C281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0507A-DD2F-4D20-8FA8-DD9061D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3E411C1-FECB-4A68-A9C2-000CAAD9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B5FD474-80D6-4F18-B5C4-1B9E2485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B581B03-39E8-474D-A024-57732245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2C73D5F-1968-4168-A707-8F8BC377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AB898F1-F877-45FF-917E-CCC00D5F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24F4CCA-51E2-44BF-A9DB-02DD0DFA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D071255-09D4-422B-87F1-0060FCD7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B57B247-8237-466B-94B8-E236FA1C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0710E10-789A-4991-8B6C-E80B3CA8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3A318EA-C433-4353-A731-41E3FFDF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D9DF0-608F-4802-A8F3-CB0B1A7C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68EDBF7-0A44-48D1-A950-7A38350E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32659CB-9FEB-47A3-900E-74806BB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30D5FB8-2695-4B52-BE60-D1B84B76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A8A4A2B-44FE-452E-BF16-7AC20E21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3BA55EA-267D-47D1-AC14-9E5BCE1A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4D67A36-BAAC-4F31-9BA1-6360F8A0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0533E4C-EA4D-488C-A4F4-7A4E1750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A067FAA-BB56-4566-8DA8-AE753962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B54477B-895F-471C-B2BB-556735DE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69BB26A-FBFA-4EF2-A45F-3B7B7E43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93B5A-8D3E-4B2D-8052-EDB9F30E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17F6F37-778D-48B6-829D-6F0B6641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8E9DD7D-AA9E-4135-956F-E99F32BE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F9C92DA-F882-4E9A-907B-DBC1DF5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6CB5DDA-E8E5-4530-B66B-EBD17C82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E1ACAE6-1550-47FA-9D3E-444AC33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38A5D48-5F20-475C-9A46-AEF54CEA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47F64AE-CFD2-454E-A9BA-6D997A30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357221B-53F9-442F-BC13-5D9F0CDA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64F0254-6425-4EBC-9AAE-CC1F125C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49EDF75-6F76-427D-883B-70BF965B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9CA73-517A-4434-9594-9F8E0C09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F25310F-6714-4D68-A007-066AE4AD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E8B8EEF-02DD-4787-8751-2F1466F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3D64F3A-F1BE-4957-B285-174A1D0E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D2E9325-8F42-492A-9DBF-A2F34286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40CBC13-4435-48E3-8EC3-E7339381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4BB9654-E7A3-408B-813C-63BBB341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A17BBD6-F8A9-44F2-811C-9F947EF6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28C2832-80DF-49F1-9DC7-060BDA79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2D0EFD9-3EF0-4EEA-BC03-92CBCE16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718DF24-5443-48BA-BB0F-9B043F8D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9A0EC-191A-44B0-A205-6548CC78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9E65E01-B245-459E-BC2D-EE66A7E7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508CAC5-C07D-4840-82F2-8DBCF390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53592BD-65A6-4B85-8561-28C1BDB9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5BDEF59-17FA-484C-9561-EFA31F1D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4E8BC16-3C23-4358-A9F3-6E9C327A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A5B421E-8790-4730-BB7A-7A6D75C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BE3BA47-154A-443D-AB26-39D502E8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3727E0B-7F9E-44C1-893F-8F57C43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9F16FF4-5BC0-4428-83C0-8831151E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28684B0-E76D-41DA-B283-59C7B178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0D959-58BD-4657-B31B-455033B5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44BAD-3C07-450E-8098-45DA4E40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F7C40CA-681A-4A2E-B133-9A2DEEA2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DD047E6-332B-47C7-8179-4B064B25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D6EF69D-0E7D-4A3F-9056-431F10D6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1081F0C-1538-4B36-A8F3-65079909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81CA0D0-618E-4195-8713-6EC0A4EB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E3A1691-BF21-4E58-850C-7BD7AC11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3F4F49E-E8F4-4E2B-BEFF-CE45478A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C7946EC-9C8A-4384-8270-01399EE8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FBF95F3-FE85-4D7E-9B13-A64A0600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C0FCD28-7252-4AA5-85F9-01EB085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F016E-2DE1-4974-A2ED-758F741D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9F900B0-070D-4055-B43E-2BD43B4D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4B14993-D7DC-4547-A308-856EC9AF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BC5BB7F-2E41-48AE-A850-BD2E65D8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684B908A-0026-4681-BF57-4C018619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AD04A056-7C62-47EF-AF87-C4A92231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F8257CB4-3A0A-42B7-BE6F-0F1F5D3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865ABF72-BB32-4502-9B1A-724325F9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DC5664B8-35D5-4C03-93D7-75E2C93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6720618-45CD-49CF-BCED-B1985653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E3AAF2A9-5DC1-40D5-9AB3-C4FAFEF6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9A54F-3F3F-4262-B990-39D089C6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BBCFBD3-85E7-41C7-911D-3086FA24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60482B61-DF94-4AC5-A2C2-98BD96CA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7ECD9FC0-D1EB-42E4-A6F4-4CEBF9C2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EBA2E0EF-A255-45F0-BB8C-236851A5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2FE9A370-74DF-473E-B77F-F8DDFE44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7BA0795-65C7-4F5A-976A-6A07981B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1C89727-4D06-4902-82B7-E79AA754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5FCDE0E-2D3F-4796-9F1F-67DAD67B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1A28082-76EF-466C-B90A-16E62D3A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D07B5B0-C7B2-4DD8-A2FD-1C386FD5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95905-8F59-46BE-B206-2C4F7792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EF47A12-FFA5-4C7D-AF6E-0ED543CC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4CBD872-BB2E-4AD9-A7FB-5F360C1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65D90FA-45DD-492A-B535-DDADA530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FA4F4D4-1B64-4E3C-84B9-535FFAFA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557EEAE-5E71-414B-A12D-43ED87F6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0735BEA-CA82-428B-9E95-7082419D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D736F36-34D9-46E4-9158-F78BF2AF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7677D97-9062-4026-9A7A-9A874FE3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18E1CF4-83D3-47B2-9D78-89CDA7EA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EECFC09-BE6B-4DA0-A5FD-18FA61CD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6EE57-27E5-479A-999C-25277763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11B499A-1E50-40A5-87F4-1FD1B29C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EB35B69-0BC9-4113-B830-7EB810BF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A8A7567-27B4-4420-B66C-376D3C5C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977CE31-0147-4F76-A5BA-462A6D7C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F0C63EE-4E72-4BED-8F7B-C8C47C7E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51B8CA1-C410-4A59-866B-6371CDD8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1F13242-D098-4796-BAAD-57FE4A82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A092408-DCEE-45BC-838E-7A90A861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CD735C5-7267-47D9-9D99-423D7306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E28142D-92C7-4192-9A29-1C9F9E4B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5B687-1217-42E8-97AD-5E56259C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377091C-9077-42EB-AF95-328F5ED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4ECFF31-1EAD-4BB3-B358-50C74F9C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328B81A-29C3-4EB8-AE1A-2B2ED6E5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C671ACE-B84A-4F6D-ADCF-525434FA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89E0900-107F-44E4-A788-B4625933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CBECA40-8318-49C8-B54B-93AF5B3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1CEA814-EA48-4F5A-856B-CBF07B85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5D2AC0F-0743-4365-8C66-C040DB17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F55858F-061F-42C2-B80E-7D0FA05C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7FE6891-683B-4E45-BD12-BEA22336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A2FF5-E926-44E9-BBB5-2E3354A2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F1778C1-5A4C-4A1C-9196-3EFEFD43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B3479C4-735C-468B-A6B8-1A66A140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B2C0395-5CF6-4A7B-ADFD-5BC8107E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317EE0D-53B7-4422-AD5A-37690078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E5F635D-90F3-4B50-92D6-CB629F0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F1578AC-8615-4310-8C40-D6EBBE2B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0A10FB8-68EF-44DC-8C33-23C83389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B058C0E-2B15-47FD-87F6-5979CE02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EDDBCF0-A7E7-4F51-9389-D980FF2B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DEB5B48-F592-41B8-9979-BA6EB535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5DD99-75B8-4FCC-BFE8-754DBD48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DFB1A8D-7281-47BB-B8F9-CA57A89D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12720A3-4168-43CC-85EB-1C6471B9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D787502-A98E-4BE7-BDD9-BD5483C8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3EC0A7C-3598-459A-BB7C-3D97A9D5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406EDD8-68C1-4E0F-8CF7-847A7B6B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2BB7511-3888-4B01-BD32-01BE55B6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C45F275-34B7-4C13-B1A4-E036BD95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A488096-98AD-4160-97D7-6422BF5F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A421E6C-47B9-4790-BB29-5ACF29A6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C5FC6A0-C7F1-41AB-BD2E-DF7FC5A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4E09B-261D-4596-9D69-E28906D3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7AAA22C-C65D-4085-8405-DF6C6E64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88C720D-4DA2-495C-B3E0-06611B5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4E5BD6A-4BBA-4176-9687-A714C499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D51BB63-1B66-4D8F-997D-27948823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E247200-771A-489C-9EAB-8F42C526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B66E683-B6E3-4121-8111-AD3E41A8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3422447-F6AD-4875-85AE-33123C8A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7F3BA17-3145-416C-8EB8-7A263C02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26A02A8-B7C8-4010-A84F-594A1DA0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FD75D64-50B4-438D-B62D-6E005BA9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E3184-C314-4E02-AECE-F534D85C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F99C3EA-6F0E-4881-AF2E-ECA2454C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A1F4D13-043F-4A7C-A63C-D49044D4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61E384E-0164-4890-8535-CE14FAF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CD44187-FC53-400F-B58E-FFA4757A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DE51F40-933D-400C-A6A7-17AABFAC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EAE6935-FF3F-478C-925D-7DC4B2E0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8501F1D-CE9F-4DD7-94B8-4BD303F5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AF8DB7A-D39B-435E-98CF-0366A3AF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C965DB3-58D0-41B4-8DB8-F1CB47E9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69FEF8A-7198-4F56-BB5B-08BD5570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D007-B7BF-42EE-87DF-06B96AE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947A9-8D37-4245-B14C-56599707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C957FE8-60DE-46A4-8372-7FC3F28C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704D3D8-A651-4D5B-8BE3-F406BB76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1038871-8E3E-4CB4-A4E7-5AD6B621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4645575-7D88-4341-9B63-1D8E43E0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020BF50-49E1-41B0-858C-ED2991A0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14E7DCB-1D24-49AF-9B0A-A74004EC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EE605AC-0FBD-4A7E-A245-2BD833ED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0C47971-4EAD-4F9B-B323-DCFF66D5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86A261E-9111-4204-9893-F687DF12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D45D8AF-A917-44BD-8403-2D36AC3A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25BF6-6D6D-4120-AD98-81B821ED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9EC5306-5448-4106-886B-3F4B1CB3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C0A3C31-5AF5-4E3E-840B-8F48D430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9296E7B-C39E-42F2-ADEA-01215CA5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97B768B-38AB-4266-BDE6-AFAAEED1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6502FD7-D7F7-494C-AC35-C2A7B720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4A8FA26-BD14-4F38-9CFD-12F72781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9F56B14-5F65-41CC-A1BF-36D428AF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9083344-06F1-402C-B78E-EAF291B0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93E322F-A265-412F-94CD-B4DF280A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52307AA-9DE0-4B2F-AF27-97188DBE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46C15-150D-4E12-8996-41DB7BC2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1C3B30C-E7AB-43B3-9610-2B97C26C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434B518-26EC-4A09-B1C2-71E609AD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C7B004F-C01D-4F84-999E-37608876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CF19A59-5A8E-4CA4-B456-BF9C4976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A0C595E-2764-4CF8-8A8C-CC84731A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007E7F5-FA3E-43CF-8A12-7E701606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19AA93D-C4DB-4D57-9B7A-6B9B8D0D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1E3357E-AF61-4424-986B-F73761F7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8C6C5A7-3EAF-4432-8428-78C1FB25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22C377D-BCD0-403C-8076-0E75872C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D01358-0F81-4197-BBAF-83F76993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2238288-CF15-4BAB-B7E7-0852449A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489208A-F95F-4068-8A54-5B9A6B67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679A5D7-D735-4E0C-AFEB-007B7D90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3DA52CA-5A38-4B91-870A-95A2AC33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A71FDAB-7EAE-467D-933D-3F41EEC1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6177427-34E4-42A9-9020-68097BE9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EFEEF7D-2833-4CEF-930A-251F3DC4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3F9A555-E4D8-4C4E-9AD1-CFFDCE24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E6384CC-53CB-4E68-BD99-2D6CEC40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197A074-505A-422E-848C-A95BF053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1E588-F6D1-4783-AB39-E1E3B175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2F81CFB-FA21-41DE-9053-ED21A809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CFD4853-5237-47B8-BCA2-1787809B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1764328-BAF4-48AF-8BB5-CB7BB8B7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962DEA3-8875-4DF5-A031-514AFBD7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E70E64D-63D9-4D15-A19A-CB74EB40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65378BD-4EB2-456B-9178-9BB5BBF4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2460B51-C081-4EFB-84D6-8B4B5750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4D3FE31-0A4C-4202-A0F1-F788E0B7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58E7286-DE86-490A-9F6B-F446A724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89B56E7-1AD0-4191-A8CD-6369EDE0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558429-0C5D-4909-AB56-5DE701C9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AB6B190-D29D-49E4-B553-ED3643F9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2D84FEB-001C-4243-A643-0F8C02FF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27846A8-DCDA-4D0E-B6C5-7695696C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E96E1D5-52A9-414E-AD90-0EA60266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93F0105-622F-4D54-ADF2-1E7BCE0F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9FA7C04-A87B-43C5-A781-69CBAE01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CDF69CA-6675-4E8C-92C1-8723DC8D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B0A3B34-5E16-4935-A887-B0FDD9C7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CEB72DC-4272-4D30-8F61-6EA86941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5B354C7-DCA8-4DEC-B76C-9A3ED491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7E8829-1FCE-4270-9082-F60A37A2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9FFFF7D-D814-4840-A5B3-CBECB1FA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F5C25A9-9A49-4FA2-9C6D-95BA9379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10D6ACB-54EA-4F48-8C74-F861CAB3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26B044A-62EE-47B2-9A44-649AA66B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65422BF-6ABE-460E-9C0D-8EBCC39C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4321E8F-7D6E-44D6-B857-B6D01272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ABAEBCD-0C10-4089-9744-CD1684A5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7587BBD-3862-4CFA-82BE-0BBA9365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5FF08A5-768E-4F29-8FDD-9429D4FA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74E52-9A4B-40D0-8BA2-A49BF4EB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8F05EF-F4D4-4F5B-BAED-9627A55E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A42CC8-0822-439E-B6E4-D896BAC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7453-1E39-4154-B34A-3624B29F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DD374-66B6-4338-8054-07A0738F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492407-3D70-4F65-B867-AA16A160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3D704C-170D-49B9-95A0-5DB6B7A9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4EDD6B-50D4-4CA9-846A-BD631C12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016555-7167-46E2-9BCA-EE142A3E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B6966-4F9C-473F-9524-F10BB6CF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E6CC1-5E35-46BB-ABC0-6A28391B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5ABD9-5DD2-43EE-ADEC-6363BF73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EF271-6F98-46FC-8522-36D5F938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446D3D-E306-4FF6-87DB-06D30EF8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417B-E360-4799-AE7E-F392D54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2E39C-0561-4269-90C9-1A609E58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A2983-F09B-41E4-B57F-12042DFA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3A6B5-DD9B-47A5-9C44-2C9563F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C45B6-AC63-4BB9-9FC0-22E22C02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239CB-F779-4E9C-AE33-AB196B10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92AF2-0E77-4B9C-A547-D0296140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23017-9F1D-4EB7-9F08-454D9F7F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2988CB-F515-4FE1-88C1-73BB6DE9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7D86E8-E859-4692-9693-E7469A1E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FED144-96A1-42EF-970B-25FBFF7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375A-71CD-48A1-8325-EFEF4B6C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6D1C-2A2B-4940-839A-7E01D6713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357A-560F-49B1-A883-E8435F58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3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AB5B-0BB0-4364-85F8-EAF8B484F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7209-3D0A-45F8-99C7-884178D10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3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816-1694-401C-8C0F-4039806D8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4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198A-A2FF-42D3-BF4A-B3F4A62EC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4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4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3EE2-A543-4F77-B777-E0E284861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ftr" idx="4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4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95A0-E3B5-470E-9E37-D71CBAE9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sldNum" idx="4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734E-FA11-4898-B8AB-D6460FD99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5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5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E16A-E7B9-476E-AB3D-A2E408B31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ftr" idx="5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4353-6B68-42A9-BABF-AA98F9BF7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23F6-124D-4558-9633-3986F6ECFEE3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Line 2"/>
          <p:cNvSpPr/>
          <p:nvPr/>
        </p:nvSpPr>
        <p:spPr>
          <a:xfrm>
            <a:off x="846000" y="227664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4" descr="seal1"/>
          <p:cNvPicPr/>
          <p:nvPr/>
        </p:nvPicPr>
        <p:blipFill>
          <a:blip r:embed="rId2"/>
          <a:stretch/>
        </p:blipFill>
        <p:spPr>
          <a:xfrm>
            <a:off x="7145280" y="5121360"/>
            <a:ext cx="1370160" cy="135720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5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Group 6"/>
          <p:cNvGrpSpPr/>
          <p:nvPr/>
        </p:nvGrpSpPr>
        <p:grpSpPr>
          <a:xfrm>
            <a:off x="2230920" y="3659040"/>
            <a:ext cx="5083560" cy="1787400"/>
            <a:chOff x="2230920" y="3659040"/>
            <a:chExt cx="5083560" cy="1787400"/>
          </a:xfrm>
        </p:grpSpPr>
        <p:sp>
          <p:nvSpPr>
            <p:cNvPr id="795" name="Text Box 7"/>
            <p:cNvSpPr/>
            <p:nvPr/>
          </p:nvSpPr>
          <p:spPr>
            <a:xfrm>
              <a:off x="2690640" y="3659040"/>
              <a:ext cx="39564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Machine Learning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8"/>
            <p:cNvSpPr/>
            <p:nvPr/>
          </p:nvSpPr>
          <p:spPr>
            <a:xfrm>
              <a:off x="2230920" y="4081320"/>
              <a:ext cx="508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epartment of Computer Sci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2459520" y="45050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University of Texas at Aust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4545000" y="4927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9" name="Picture 11" descr="tex-logo-small"/>
          <p:cNvPicPr/>
          <p:nvPr/>
        </p:nvPicPr>
        <p:blipFill>
          <a:blip r:embed="rId3"/>
          <a:stretch/>
        </p:blipFill>
        <p:spPr>
          <a:xfrm>
            <a:off x="0" y="0"/>
            <a:ext cx="1996920" cy="109872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699F-DEA3-4303-94B9-99D53784785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6CB0-1621-4283-85CC-5A65A6A53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7916-E0F4-460E-94DB-62CB4C200BA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25B6-24AA-4DA3-9BB8-80F4D40C39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87D5-1B1F-4771-971F-7AE67908FAC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3976-B289-4552-883E-0BF0A9D4BB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93D5-88B2-49F8-978D-FB293146787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EEF6-0FF3-407D-9382-E6840B6AA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ECDB-E916-4D5C-B145-7D731DAE50E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64AB-72A4-49AC-BC37-B7A3434F7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5555-34A3-4CD1-8431-8781F6A04E5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2A6B-DEBE-4026-9B07-21AD05A8A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8048-904B-49BF-84B0-8D0491D1E95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CE9C-D678-4322-BEAC-CDF6CDC79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3DFF-2937-4119-82EC-5BB2F2AE2D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72E1-4C91-4110-AF0F-77E7B30F6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726E-807C-41C7-BF94-EABE8062D5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8EA7-7456-4ED4-A19C-061A8F2E5B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9625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EA2A-B259-410A-B004-7BF64824FA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0FD0-A962-4592-8FBC-29C3738743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A7E5-E253-4ED0-A019-6B47E0EBEE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279E-AFB4-4472-B97D-9C8D3E9E0D8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F14F-062D-4381-9B5B-216EF7CC1E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7CDC-28C5-49E0-B5BB-EA2B1D9E79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57F3-4E85-4109-9180-EDEFA7C98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FA9A-D174-413D-BC9C-E3395E5D9E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BB62-E91C-4B96-B454-5138EBB47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2BD2-54EB-4ABD-BB1C-9AE4DFCCF7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73D2-1040-4227-BC7C-741FFAFDD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1454-7E10-4A39-8AF1-35B02513A3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FB73-1FF6-4689-A746-8F136ED1D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28E7-4B62-4BB8-83C4-D1DDADA00B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0015-4981-4C28-9E93-406D633AE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1411-E588-420D-B0A8-AC5E35517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58D8-9DB4-4C78-872A-B4E007BC1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278D-0C1D-4E00-BC7F-060F2628A1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F595-0D02-40E4-9A92-0A9F540BF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BC2B-FFC3-4DBB-B0BE-E286CBDB45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0D6E-262D-46A0-A0B8-E1693B50C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D18F-5976-402B-8DEA-3969F774BF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89B3-C204-4595-994B-363AAC192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129B-4C32-42DA-9EB1-69E36E528D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F66B-B387-4C79-96F1-A6CF5CCBC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4FD2-5417-470C-A10E-0394F5EF77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C556-2E86-40EA-9A0A-31C9D7043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1D91-A27E-4422-A2F8-991D27C538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4309-CE19-40EB-B699-38E30B8C9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0508-DEE5-4386-B8CF-B052030ECA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03EE-7FA7-447D-9540-4C79FFBEE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235C-927B-4622-9C33-841AC8E44C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 type="sldNum" idx="1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23AE-CECA-48A6-A62C-2BB4538B1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1D78-3F03-4D45-B0C1-BB2945281E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 type="sldNum" idx="1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4571-FEE2-4CD5-AACC-843A94713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9A7A-2A93-4DE4-B4E9-26D60B06D3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 type="sldNum" idx="1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60A5-D517-4125-8A97-6456AE4D3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1357-A104-4326-A1A3-193A5ECA85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 type="sldNum" idx="1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82F4-1D8E-4551-84A7-D064FDDF0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DE15-9662-4B34-82D1-8B2DF5FF0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 type="sldNum" idx="1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F174-5DE7-4031-A24E-3CA8A488A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901D-1172-43A3-9935-33462B3977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 type="sldNum" idx="1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262B-AD1E-4ACC-B0C3-522B6684F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FFA5-EF64-4226-B5BD-40230EFA17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ED37-5500-48C6-B4DF-28EF98EE1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F08D-DE93-4B51-9BD5-3BDFEC46B8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 type="sldNum" idx="1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0781-A53A-4AF1-B172-9198895A7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 type="dt" idx="1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32FE-7B8E-4F58-B5D2-3A0710CCF0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 type="ftr" idx="1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 type="sldNum" idx="1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335E-9E25-465A-9A8C-2F6646CAF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 type="dt" idx="1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366D-EB17-468B-9A6C-F667D3A094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 type="ftr" idx="1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 type="sldNum" idx="1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029A-ABAE-43F5-BFDD-053FE06C4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 type="dt" idx="1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E35D-7F0D-4585-989C-80538678E5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 type="ftr" idx="1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 type="sldNum" idx="1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5D4F-B0B6-4F82-A986-610713B90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dt" idx="15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15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3582-C356-4470-A4C6-350B49F77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 type="ftr" idx="15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 type="dt" idx="15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 type="sldNum" idx="15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4495-E817-4382-8E8D-879C41B7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 type="ftr" idx="15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 type="dt" idx="15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 type="sldNum" idx="16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8A3-18BF-4392-859C-AE08F880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 type="ftr" idx="16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 type="dt" idx="16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 type="sldNum" idx="16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1B3B-CE48-4B70-BD14-27C7747E3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 type="ftr" idx="16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 type="dt" idx="16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 type="sldNum" idx="16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216C-105C-42ED-94DF-26F2A174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 type="ftr" idx="16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 type="dt" idx="16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 type="sldNum" idx="16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707D-A3FD-41D0-A924-B52F527B2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 type="ftr" idx="17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2F97-D44D-4971-BC75-3DF7F8B07F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hcrc.ed.ac.uk/maptask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E12-4F60-4939-B3F8-342ADCA9C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dt" idx="17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7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1F95-2476-4F55-904B-8B0896499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 type="ftr" idx="17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 type="dt" idx="17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 type="sldNum" idx="17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674E-821E-4E6F-A88F-28412500D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5"/>
          <p:cNvSpPr>
            <a:spLocks noGrp="1"/>
          </p:cNvSpPr>
          <p:nvPr>
            <p:ph type="ftr" idx="17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 type="dt" idx="17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 type="sldNum" idx="17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9F97-7905-4AA3-9742-2619E62A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5"/>
          <p:cNvSpPr>
            <a:spLocks noGrp="1"/>
          </p:cNvSpPr>
          <p:nvPr>
            <p:ph type="ftr" idx="17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 type="dt" idx="18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 type="sldNum" idx="18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3CD8-3EEA-499F-A683-BFF81183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 type="ftr" idx="18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 type="dt" idx="18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 type="sldNum" idx="18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49A8-C5F2-498D-8C00-29C6ACE98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 type="ftr" idx="18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043B-33DF-485E-82A5-1FCFD9F56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151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f47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f47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f47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7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78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462F-D29D-4AC5-ACD8-630668C87882}" type="datetime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78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6821-BEB7-48C3-9747-74034A0DCF0E}" type="slidenum">
              <a:rPr b="0" lang="en-US" sz="1400" spc="-1" strike="noStrike">
                <a:solidFill>
                  <a:srgbClr val="1f478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C0ED-C189-4012-97F0-3E3575F9D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9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621F-3C12-4FCF-84A8-45A0FE354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Learning Language from its Perceptual Context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epartment of Computer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Rectangle 5"/>
          <p:cNvSpPr/>
          <p:nvPr/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Joint work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ohyun K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hit K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97D4-253C-412C-A92F-BE5FE4B90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7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2718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2719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2720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2721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grpSp>
        <p:nvGrpSpPr>
          <p:cNvPr id="2722" name="Group 7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23" name="Text Box 8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Line 9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Line 10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Line 11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Line 12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8" name="Rectangle 13"/>
          <p:cNvSpPr/>
          <p:nvPr/>
        </p:nvSpPr>
        <p:spPr>
          <a:xfrm>
            <a:off x="3413160" y="50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Rectangle 14"/>
          <p:cNvSpPr/>
          <p:nvPr/>
        </p:nvSpPr>
        <p:spPr>
          <a:xfrm>
            <a:off x="250560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Rectangle 15"/>
          <p:cNvSpPr/>
          <p:nvPr/>
        </p:nvSpPr>
        <p:spPr>
          <a:xfrm>
            <a:off x="2752560" y="654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F3D0-358B-4846-B02D-140F5B460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2" name="Picture 2" descr="1needlewoman2"/>
          <p:cNvPicPr/>
          <p:nvPr/>
        </p:nvPicPr>
        <p:blipFill>
          <a:blip r:embed="rId1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2733" name="Picture 3" descr="1girl154-med"/>
          <p:cNvPicPr/>
          <p:nvPr/>
        </p:nvPicPr>
        <p:blipFill>
          <a:blip r:embed="rId2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2734" name="Picture 4" descr="1girl134-med"/>
          <p:cNvPicPr/>
          <p:nvPr/>
        </p:nvPicPr>
        <p:blipFill>
          <a:blip r:embed="rId3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2735" name="Picture 5" descr="1man351-med"/>
          <p:cNvPicPr/>
          <p:nvPr/>
        </p:nvPicPr>
        <p:blipFill>
          <a:blip r:embed="rId4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pic>
        <p:nvPicPr>
          <p:cNvPr id="2736" name="Picture 6" descr="1baby21-med"/>
          <p:cNvPicPr/>
          <p:nvPr/>
        </p:nvPicPr>
        <p:blipFill>
          <a:blip r:embed="rId5"/>
          <a:stretch/>
        </p:blipFill>
        <p:spPr>
          <a:xfrm>
            <a:off x="4572000" y="3124080"/>
            <a:ext cx="9487080" cy="7096320"/>
          </a:xfrm>
          <a:prstGeom prst="rect">
            <a:avLst/>
          </a:prstGeom>
          <a:ln w="0">
            <a:noFill/>
          </a:ln>
        </p:spPr>
      </p:pic>
      <p:sp>
        <p:nvSpPr>
          <p:cNvPr id="2737" name="Rectangle 7"/>
          <p:cNvSpPr/>
          <p:nvPr/>
        </p:nvSpPr>
        <p:spPr>
          <a:xfrm>
            <a:off x="2502720" y="22860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8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39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946B-674F-411C-A29D-8CE4CFF41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5" name="Picture 2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pic>
        <p:nvPicPr>
          <p:cNvPr id="2746" name="Picture 3" descr="1needlewoman2"/>
          <p:cNvPicPr/>
          <p:nvPr/>
        </p:nvPicPr>
        <p:blipFill>
          <a:blip r:embed="rId2"/>
          <a:stretch/>
        </p:blipFill>
        <p:spPr>
          <a:xfrm>
            <a:off x="0" y="53352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2747" name="Picture 4" descr="1girl154-med"/>
          <p:cNvPicPr/>
          <p:nvPr/>
        </p:nvPicPr>
        <p:blipFill>
          <a:blip r:embed="rId3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2748" name="Picture 5" descr="1girl134-med"/>
          <p:cNvPicPr/>
          <p:nvPr/>
        </p:nvPicPr>
        <p:blipFill>
          <a:blip r:embed="rId4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2749" name="Picture 6" descr="1man351-med"/>
          <p:cNvPicPr/>
          <p:nvPr/>
        </p:nvPicPr>
        <p:blipFill>
          <a:blip r:embed="rId5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2750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1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52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C961-BA1C-4AE2-BADA-DAB56B5BD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8" name="Picture 2" descr="1girl154-med"/>
          <p:cNvPicPr/>
          <p:nvPr/>
        </p:nvPicPr>
        <p:blipFill>
          <a:blip r:embed="rId1"/>
          <a:stretch/>
        </p:blipFill>
        <p:spPr>
          <a:xfrm>
            <a:off x="339084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2759" name="Picture 3" descr="1girl134-med"/>
          <p:cNvPicPr/>
          <p:nvPr/>
        </p:nvPicPr>
        <p:blipFill>
          <a:blip r:embed="rId2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2760" name="Picture 4" descr="1man351-med"/>
          <p:cNvPicPr/>
          <p:nvPr/>
        </p:nvPicPr>
        <p:blipFill>
          <a:blip r:embed="rId3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2761" name="Text Box 5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2" name="Picture 6" descr="1workstation75-med"/>
          <p:cNvPicPr/>
          <p:nvPr/>
        </p:nvPicPr>
        <p:blipFill>
          <a:blip r:embed="rId4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2763" name="Rectangle 7"/>
          <p:cNvSpPr/>
          <p:nvPr/>
        </p:nvSpPr>
        <p:spPr>
          <a:xfrm>
            <a:off x="493452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4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65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1C21-EE75-45F4-9FFB-8E4E44D55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1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pic>
        <p:nvPicPr>
          <p:cNvPr id="2772" name="Picture 3" descr="1man351-med"/>
          <p:cNvPicPr/>
          <p:nvPr/>
        </p:nvPicPr>
        <p:blipFill>
          <a:blip r:embed="rId2"/>
          <a:stretch/>
        </p:blipFill>
        <p:spPr>
          <a:xfrm>
            <a:off x="6095880" y="604800"/>
            <a:ext cx="3773520" cy="2824200"/>
          </a:xfrm>
          <a:prstGeom prst="rect">
            <a:avLst/>
          </a:prstGeom>
          <a:ln w="0">
            <a:noFill/>
          </a:ln>
        </p:spPr>
      </p:pic>
      <p:sp>
        <p:nvSpPr>
          <p:cNvPr id="2773" name="Text Box 4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Text Box 5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5" name="Picture 6" descr="1workstation75-med"/>
          <p:cNvPicPr/>
          <p:nvPr/>
        </p:nvPicPr>
        <p:blipFill>
          <a:blip r:embed="rId3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2776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7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78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9FC9-24E9-4116-B411-A49DF4E41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4" name="Picture 2" descr="1girl134-med"/>
          <p:cNvPicPr/>
          <p:nvPr/>
        </p:nvPicPr>
        <p:blipFill>
          <a:blip r:embed="rId1"/>
          <a:stretch/>
        </p:blipFill>
        <p:spPr>
          <a:xfrm>
            <a:off x="0" y="38862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2785" name="Text Box 3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Text Box 4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Text Box 5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8" name="Picture 6" descr="1workstation75-med"/>
          <p:cNvPicPr/>
          <p:nvPr/>
        </p:nvPicPr>
        <p:blipFill>
          <a:blip r:embed="rId2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2789" name="Rectangle 7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0" name="Group 8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791" name="Text Box 9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Line 10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Line 11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Line 12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Line 13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E372-A156-41F6-9090-7F6611D5D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4"/>
          <p:cNvSpPr/>
          <p:nvPr/>
        </p:nvSpPr>
        <p:spPr>
          <a:xfrm>
            <a:off x="6028200" y="1828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Carrying(Daddy, B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5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6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Line 7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3" name="Picture 8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2804" name="Rectangle 9"/>
          <p:cNvSpPr/>
          <p:nvPr/>
        </p:nvSpPr>
        <p:spPr>
          <a:xfrm>
            <a:off x="4933080" y="518148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ary is on the ph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6" name="Rectangle 11"/>
          <p:cNvSpPr/>
          <p:nvPr/>
        </p:nvSpPr>
        <p:spPr>
          <a:xfrm>
            <a:off x="-515880" y="207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7" name="Group 12"/>
          <p:cNvGrpSpPr/>
          <p:nvPr/>
        </p:nvGrpSpPr>
        <p:grpSpPr>
          <a:xfrm>
            <a:off x="1600200" y="2590560"/>
            <a:ext cx="5211720" cy="2654280"/>
            <a:chOff x="1600200" y="2590560"/>
            <a:chExt cx="5211720" cy="2654280"/>
          </a:xfrm>
        </p:grpSpPr>
        <p:sp>
          <p:nvSpPr>
            <p:cNvPr id="2808" name="Text Box 13"/>
            <p:cNvSpPr/>
            <p:nvPr/>
          </p:nvSpPr>
          <p:spPr>
            <a:xfrm>
              <a:off x="5716800" y="441972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?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Line 14"/>
            <p:cNvSpPr/>
            <p:nvPr/>
          </p:nvSpPr>
          <p:spPr>
            <a:xfrm flipH="1">
              <a:off x="2742840" y="45720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Line 15"/>
            <p:cNvSpPr/>
            <p:nvPr/>
          </p:nvSpPr>
          <p:spPr>
            <a:xfrm flipH="1" flipV="1">
              <a:off x="1600200" y="2590560"/>
              <a:ext cx="4191120" cy="1981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Line 16"/>
            <p:cNvSpPr/>
            <p:nvPr/>
          </p:nvSpPr>
          <p:spPr>
            <a:xfrm flipH="1" flipV="1">
              <a:off x="4876920" y="3200400"/>
              <a:ext cx="91440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Line 17"/>
            <p:cNvSpPr/>
            <p:nvPr/>
          </p:nvSpPr>
          <p:spPr>
            <a:xfrm flipV="1">
              <a:off x="5791320" y="2666880"/>
              <a:ext cx="990360" cy="1905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6408-B41F-489E-BD14-678CB56B8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Text Box 2"/>
          <p:cNvSpPr/>
          <p:nvPr/>
        </p:nvSpPr>
        <p:spPr>
          <a:xfrm>
            <a:off x="352440" y="18255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roning(Mommy, Shi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3"/>
          <p:cNvSpPr/>
          <p:nvPr/>
        </p:nvSpPr>
        <p:spPr>
          <a:xfrm>
            <a:off x="3004560" y="228600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Working(Sister, Comp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Text Box 4"/>
          <p:cNvSpPr/>
          <p:nvPr/>
        </p:nvSpPr>
        <p:spPr>
          <a:xfrm>
            <a:off x="216720" y="434340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alking(Mary, Ph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Text Box 5"/>
          <p:cNvSpPr/>
          <p:nvPr/>
        </p:nvSpPr>
        <p:spPr>
          <a:xfrm>
            <a:off x="27396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Sitting(Mary, Cha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8" name="Picture 6" descr="1workstation75-med"/>
          <p:cNvPicPr/>
          <p:nvPr/>
        </p:nvPicPr>
        <p:blipFill>
          <a:blip r:embed="rId1"/>
          <a:stretch/>
        </p:blipFill>
        <p:spPr>
          <a:xfrm>
            <a:off x="739152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2819" name="Rectangle 7"/>
          <p:cNvSpPr/>
          <p:nvPr/>
        </p:nvSpPr>
        <p:spPr>
          <a:xfrm>
            <a:off x="4258440" y="5105520"/>
            <a:ext cx="48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Mommy is ironing a shir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xt Ambiguous Training Examp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1" name="Text Box 9"/>
          <p:cNvSpPr/>
          <p:nvPr/>
        </p:nvSpPr>
        <p:spPr>
          <a:xfrm>
            <a:off x="5716800" y="441972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宋体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Line 10"/>
          <p:cNvSpPr/>
          <p:nvPr/>
        </p:nvSpPr>
        <p:spPr>
          <a:xfrm flipH="1">
            <a:off x="2742840" y="457200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11"/>
          <p:cNvSpPr/>
          <p:nvPr/>
        </p:nvSpPr>
        <p:spPr>
          <a:xfrm flipH="1" flipV="1">
            <a:off x="1600200" y="2590560"/>
            <a:ext cx="419112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Line 12"/>
          <p:cNvSpPr/>
          <p:nvPr/>
        </p:nvSpPr>
        <p:spPr>
          <a:xfrm flipH="1" flipV="1">
            <a:off x="4876920" y="3200400"/>
            <a:ext cx="91440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13"/>
          <p:cNvSpPr/>
          <p:nvPr/>
        </p:nvSpPr>
        <p:spPr>
          <a:xfrm flipV="1">
            <a:off x="2666880" y="4572000"/>
            <a:ext cx="312444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iguous Supervision for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model of ambiguous supervision corresponds to the type of data that will be gathered from a temporal sequence of perceptual contexts with occasional language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each sentence has exactly one meaning in its perceptual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cently extended to handle sentences with no meaning in its perceptual contex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aning is associated with at most one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mple Ambiguous Corpu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9" name="Text Box 3"/>
          <p:cNvSpPr/>
          <p:nvPr/>
        </p:nvSpPr>
        <p:spPr>
          <a:xfrm>
            <a:off x="228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Text Box 4"/>
          <p:cNvSpPr/>
          <p:nvPr/>
        </p:nvSpPr>
        <p:spPr>
          <a:xfrm>
            <a:off x="228600" y="2666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Text Box 5"/>
          <p:cNvSpPr/>
          <p:nvPr/>
        </p:nvSpPr>
        <p:spPr>
          <a:xfrm>
            <a:off x="228600" y="3809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Text Box 6"/>
          <p:cNvSpPr/>
          <p:nvPr/>
        </p:nvSpPr>
        <p:spPr>
          <a:xfrm>
            <a:off x="228600" y="4648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Text Box 7"/>
          <p:cNvSpPr/>
          <p:nvPr/>
        </p:nvSpPr>
        <p:spPr>
          <a:xfrm>
            <a:off x="228600" y="5486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Text Box 8"/>
          <p:cNvSpPr/>
          <p:nvPr/>
        </p:nvSpPr>
        <p:spPr>
          <a:xfrm>
            <a:off x="5851440" y="1992240"/>
            <a:ext cx="138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Text Box 9"/>
          <p:cNvSpPr/>
          <p:nvPr/>
        </p:nvSpPr>
        <p:spPr>
          <a:xfrm>
            <a:off x="5789880" y="17524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Text Box 10"/>
          <p:cNvSpPr/>
          <p:nvPr/>
        </p:nvSpPr>
        <p:spPr>
          <a:xfrm>
            <a:off x="5788800" y="1295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Text Box 11"/>
          <p:cNvSpPr/>
          <p:nvPr/>
        </p:nvSpPr>
        <p:spPr>
          <a:xfrm>
            <a:off x="5790600" y="22096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Text Box 12"/>
          <p:cNvSpPr/>
          <p:nvPr/>
        </p:nvSpPr>
        <p:spPr>
          <a:xfrm>
            <a:off x="5785200" y="26668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Text Box 13"/>
          <p:cNvSpPr/>
          <p:nvPr/>
        </p:nvSpPr>
        <p:spPr>
          <a:xfrm>
            <a:off x="5791680" y="342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Text Box 14"/>
          <p:cNvSpPr/>
          <p:nvPr/>
        </p:nvSpPr>
        <p:spPr>
          <a:xfrm>
            <a:off x="5790240" y="388620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5"/>
          <p:cNvSpPr/>
          <p:nvPr/>
        </p:nvSpPr>
        <p:spPr>
          <a:xfrm>
            <a:off x="5790240" y="434340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Text Box 16"/>
          <p:cNvSpPr/>
          <p:nvPr/>
        </p:nvSpPr>
        <p:spPr>
          <a:xfrm>
            <a:off x="5791320" y="48006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Text Box 17"/>
          <p:cNvSpPr/>
          <p:nvPr/>
        </p:nvSpPr>
        <p:spPr>
          <a:xfrm>
            <a:off x="5793120" y="5257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Text Box 18"/>
          <p:cNvSpPr/>
          <p:nvPr/>
        </p:nvSpPr>
        <p:spPr>
          <a:xfrm>
            <a:off x="5790960" y="579132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Line 19"/>
          <p:cNvSpPr/>
          <p:nvPr/>
        </p:nvSpPr>
        <p:spPr>
          <a:xfrm flipV="1">
            <a:off x="3505320" y="152532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Line 20"/>
          <p:cNvSpPr/>
          <p:nvPr/>
        </p:nvSpPr>
        <p:spPr>
          <a:xfrm flipV="1">
            <a:off x="3505320" y="1981080"/>
            <a:ext cx="228600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Line 21"/>
          <p:cNvSpPr/>
          <p:nvPr/>
        </p:nvSpPr>
        <p:spPr>
          <a:xfrm flipV="1">
            <a:off x="3314880" y="243828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Line 22"/>
          <p:cNvSpPr/>
          <p:nvPr/>
        </p:nvSpPr>
        <p:spPr>
          <a:xfrm>
            <a:off x="3352680" y="289548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Line 23"/>
          <p:cNvSpPr/>
          <p:nvPr/>
        </p:nvSpPr>
        <p:spPr>
          <a:xfrm>
            <a:off x="3352680" y="2895480"/>
            <a:ext cx="251460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Line 24"/>
          <p:cNvSpPr/>
          <p:nvPr/>
        </p:nvSpPr>
        <p:spPr>
          <a:xfrm>
            <a:off x="3352680" y="2895480"/>
            <a:ext cx="2514600" cy="1219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Line 25"/>
          <p:cNvSpPr/>
          <p:nvPr/>
        </p:nvSpPr>
        <p:spPr>
          <a:xfrm flipV="1">
            <a:off x="2438280" y="243792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Line 26"/>
          <p:cNvSpPr/>
          <p:nvPr/>
        </p:nvSpPr>
        <p:spPr>
          <a:xfrm flipV="1">
            <a:off x="2438280" y="289512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Line 27"/>
          <p:cNvSpPr/>
          <p:nvPr/>
        </p:nvSpPr>
        <p:spPr>
          <a:xfrm flipV="1">
            <a:off x="2514600" y="3657600"/>
            <a:ext cx="327672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Line 28"/>
          <p:cNvSpPr/>
          <p:nvPr/>
        </p:nvSpPr>
        <p:spPr>
          <a:xfrm>
            <a:off x="2438280" y="4038480"/>
            <a:ext cx="3276720" cy="76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Line 29"/>
          <p:cNvSpPr/>
          <p:nvPr/>
        </p:nvSpPr>
        <p:spPr>
          <a:xfrm>
            <a:off x="2438280" y="4038480"/>
            <a:ext cx="34290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Line 30"/>
          <p:cNvSpPr/>
          <p:nvPr/>
        </p:nvSpPr>
        <p:spPr>
          <a:xfrm flipV="1">
            <a:off x="3276720" y="411444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Line 31"/>
          <p:cNvSpPr/>
          <p:nvPr/>
        </p:nvSpPr>
        <p:spPr>
          <a:xfrm flipV="1">
            <a:off x="3276720" y="457164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Line 32"/>
          <p:cNvSpPr/>
          <p:nvPr/>
        </p:nvSpPr>
        <p:spPr>
          <a:xfrm>
            <a:off x="3276720" y="487692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33"/>
          <p:cNvSpPr/>
          <p:nvPr/>
        </p:nvSpPr>
        <p:spPr>
          <a:xfrm flipV="1">
            <a:off x="2590920" y="5028840"/>
            <a:ext cx="3276360" cy="609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Line 34"/>
          <p:cNvSpPr/>
          <p:nvPr/>
        </p:nvSpPr>
        <p:spPr>
          <a:xfrm flipV="1">
            <a:off x="2590920" y="5486040"/>
            <a:ext cx="320040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Line 35"/>
          <p:cNvSpPr/>
          <p:nvPr/>
        </p:nvSpPr>
        <p:spPr>
          <a:xfrm>
            <a:off x="2590920" y="5638680"/>
            <a:ext cx="320040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Text Box 36"/>
          <p:cNvSpPr/>
          <p:nvPr/>
        </p:nvSpPr>
        <p:spPr>
          <a:xfrm>
            <a:off x="2439360" y="62485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ms a bipartit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Rectangle 37"/>
          <p:cNvSpPr/>
          <p:nvPr/>
        </p:nvSpPr>
        <p:spPr>
          <a:xfrm>
            <a:off x="2752560" y="592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Rectangle 38"/>
          <p:cNvSpPr/>
          <p:nvPr/>
        </p:nvSpPr>
        <p:spPr>
          <a:xfrm>
            <a:off x="3649680" y="5888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Rectangle 39"/>
          <p:cNvSpPr/>
          <p:nvPr/>
        </p:nvSpPr>
        <p:spPr>
          <a:xfrm>
            <a:off x="3633840" y="637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rrent State of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anguag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5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urrent state-of-the-art NLP systems are constructed by training on large supervised corp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ntactic Pars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enn Tree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rd Sense Disambigu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SenseEv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mantic Role Labeling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Propbank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chine Translation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 Hansards corpu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ng such annotated corpora is difficult, expensive, and time consu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7A0C-82C3-4853-9FAF-8888C006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ER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(Kate &amp; Mooney, 2007)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RISP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it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-like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learn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er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n iterative EM-like self-training method to gradually converge on a correct meaning for each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0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Rectangle 36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5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35"/>
          <p:cNvSpPr/>
          <p:nvPr/>
        </p:nvSpPr>
        <p:spPr>
          <a:xfrm>
            <a:off x="278280" y="121932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ssume every possible meaning for a sentence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Rectangle 37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1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Line 19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Line 20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Line 21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Line 22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23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Line 24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Line 25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Line 26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Line 27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Line 28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Line 29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Line 30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Line 31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Line 32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Line 33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Line 34"/>
          <p:cNvSpPr/>
          <p:nvPr/>
        </p:nvSpPr>
        <p:spPr>
          <a:xfrm>
            <a:off x="2585880" y="6022800"/>
            <a:ext cx="3198960" cy="301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Rectangle 35"/>
          <p:cNvSpPr/>
          <p:nvPr/>
        </p:nvSpPr>
        <p:spPr>
          <a:xfrm>
            <a:off x="190080" y="1173240"/>
            <a:ext cx="88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sulting NL-MR pairs are weighted and give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Line 36"/>
          <p:cNvSpPr/>
          <p:nvPr/>
        </p:nvSpPr>
        <p:spPr>
          <a:xfrm flipV="1">
            <a:off x="3436920" y="1906200"/>
            <a:ext cx="2354400" cy="531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Text Box 37"/>
          <p:cNvSpPr/>
          <p:nvPr/>
        </p:nvSpPr>
        <p:spPr>
          <a:xfrm>
            <a:off x="3725640" y="1995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Text Box 39"/>
          <p:cNvSpPr/>
          <p:nvPr/>
        </p:nvSpPr>
        <p:spPr>
          <a:xfrm>
            <a:off x="3716280" y="2376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Text Box 40"/>
          <p:cNvSpPr/>
          <p:nvPr/>
        </p:nvSpPr>
        <p:spPr>
          <a:xfrm>
            <a:off x="3487680" y="28335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Text Box 41"/>
          <p:cNvSpPr/>
          <p:nvPr/>
        </p:nvSpPr>
        <p:spPr>
          <a:xfrm>
            <a:off x="3944880" y="2986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Text Box 42"/>
          <p:cNvSpPr/>
          <p:nvPr/>
        </p:nvSpPr>
        <p:spPr>
          <a:xfrm>
            <a:off x="3792240" y="3214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Text Box 43"/>
          <p:cNvSpPr/>
          <p:nvPr/>
        </p:nvSpPr>
        <p:spPr>
          <a:xfrm>
            <a:off x="33541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Text Box 44"/>
          <p:cNvSpPr/>
          <p:nvPr/>
        </p:nvSpPr>
        <p:spPr>
          <a:xfrm>
            <a:off x="257328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Text Box 45"/>
          <p:cNvSpPr/>
          <p:nvPr/>
        </p:nvSpPr>
        <p:spPr>
          <a:xfrm>
            <a:off x="3049560" y="3900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Text Box 46"/>
          <p:cNvSpPr/>
          <p:nvPr/>
        </p:nvSpPr>
        <p:spPr>
          <a:xfrm>
            <a:off x="3335040" y="40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Text Box 47"/>
          <p:cNvSpPr/>
          <p:nvPr/>
        </p:nvSpPr>
        <p:spPr>
          <a:xfrm>
            <a:off x="3201840" y="4357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Text Box 48"/>
          <p:cNvSpPr/>
          <p:nvPr/>
        </p:nvSpPr>
        <p:spPr>
          <a:xfrm>
            <a:off x="2725560" y="4419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Text Box 49"/>
          <p:cNvSpPr/>
          <p:nvPr/>
        </p:nvSpPr>
        <p:spPr>
          <a:xfrm>
            <a:off x="325908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Text Box 50"/>
          <p:cNvSpPr/>
          <p:nvPr/>
        </p:nvSpPr>
        <p:spPr>
          <a:xfrm>
            <a:off x="3735360" y="4967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Text Box 51"/>
          <p:cNvSpPr/>
          <p:nvPr/>
        </p:nvSpPr>
        <p:spPr>
          <a:xfrm>
            <a:off x="3278160" y="5195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Text Box 52"/>
          <p:cNvSpPr/>
          <p:nvPr/>
        </p:nvSpPr>
        <p:spPr>
          <a:xfrm>
            <a:off x="2820960" y="55767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Text Box 53"/>
          <p:cNvSpPr/>
          <p:nvPr/>
        </p:nvSpPr>
        <p:spPr>
          <a:xfrm>
            <a:off x="3278160" y="5805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Text Box 54"/>
          <p:cNvSpPr/>
          <p:nvPr/>
        </p:nvSpPr>
        <p:spPr>
          <a:xfrm>
            <a:off x="2877840" y="6033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4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Rectangle 36"/>
          <p:cNvSpPr/>
          <p:nvPr/>
        </p:nvSpPr>
        <p:spPr>
          <a:xfrm>
            <a:off x="649440" y="1143000"/>
            <a:ext cx="832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stimate the confidence of each NL-MR pair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trained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7" name="Group 56"/>
          <p:cNvGrpSpPr/>
          <p:nvPr/>
        </p:nvGrpSpPr>
        <p:grpSpPr>
          <a:xfrm>
            <a:off x="2519280" y="1811160"/>
            <a:ext cx="1953000" cy="4591080"/>
            <a:chOff x="2519280" y="1811160"/>
            <a:chExt cx="1953000" cy="4591080"/>
          </a:xfrm>
        </p:grpSpPr>
        <p:sp>
          <p:nvSpPr>
            <p:cNvPr id="3028" name="Text Box 37"/>
            <p:cNvSpPr/>
            <p:nvPr/>
          </p:nvSpPr>
          <p:spPr>
            <a:xfrm>
              <a:off x="3671640" y="19954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Rectangle 38"/>
            <p:cNvSpPr/>
            <p:nvPr/>
          </p:nvSpPr>
          <p:spPr>
            <a:xfrm>
              <a:off x="3624120" y="18111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Text Box 39"/>
            <p:cNvSpPr/>
            <p:nvPr/>
          </p:nvSpPr>
          <p:spPr>
            <a:xfrm>
              <a:off x="3662280" y="2376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Text Box 40"/>
            <p:cNvSpPr/>
            <p:nvPr/>
          </p:nvSpPr>
          <p:spPr>
            <a:xfrm>
              <a:off x="3433680" y="28335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Text Box 41"/>
            <p:cNvSpPr/>
            <p:nvPr/>
          </p:nvSpPr>
          <p:spPr>
            <a:xfrm>
              <a:off x="3890880" y="29862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Text Box 42"/>
            <p:cNvSpPr/>
            <p:nvPr/>
          </p:nvSpPr>
          <p:spPr>
            <a:xfrm>
              <a:off x="3738240" y="32148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Text Box 43"/>
            <p:cNvSpPr/>
            <p:nvPr/>
          </p:nvSpPr>
          <p:spPr>
            <a:xfrm>
              <a:off x="3300120" y="34290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Text Box 44"/>
            <p:cNvSpPr/>
            <p:nvPr/>
          </p:nvSpPr>
          <p:spPr>
            <a:xfrm>
              <a:off x="299556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Text Box 45"/>
            <p:cNvSpPr/>
            <p:nvPr/>
          </p:nvSpPr>
          <p:spPr>
            <a:xfrm>
              <a:off x="3281040" y="4052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Text Box 46"/>
            <p:cNvSpPr/>
            <p:nvPr/>
          </p:nvSpPr>
          <p:spPr>
            <a:xfrm>
              <a:off x="3205080" y="4890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Text Box 47"/>
            <p:cNvSpPr/>
            <p:nvPr/>
          </p:nvSpPr>
          <p:spPr>
            <a:xfrm>
              <a:off x="3681360" y="496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Text Box 48"/>
            <p:cNvSpPr/>
            <p:nvPr/>
          </p:nvSpPr>
          <p:spPr>
            <a:xfrm>
              <a:off x="3224160" y="51958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Text Box 49"/>
            <p:cNvSpPr/>
            <p:nvPr/>
          </p:nvSpPr>
          <p:spPr>
            <a:xfrm>
              <a:off x="2766960" y="5576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Text Box 50"/>
            <p:cNvSpPr/>
            <p:nvPr/>
          </p:nvSpPr>
          <p:spPr>
            <a:xfrm>
              <a:off x="3224160" y="58053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Text Box 51"/>
            <p:cNvSpPr/>
            <p:nvPr/>
          </p:nvSpPr>
          <p:spPr>
            <a:xfrm>
              <a:off x="2823840" y="6033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Text Box 53"/>
            <p:cNvSpPr/>
            <p:nvPr/>
          </p:nvSpPr>
          <p:spPr>
            <a:xfrm>
              <a:off x="2519280" y="3900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Text Box 54"/>
            <p:cNvSpPr/>
            <p:nvPr/>
          </p:nvSpPr>
          <p:spPr>
            <a:xfrm>
              <a:off x="2693880" y="44337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Text Box 55"/>
            <p:cNvSpPr/>
            <p:nvPr/>
          </p:nvSpPr>
          <p:spPr>
            <a:xfrm>
              <a:off x="3151080" y="4267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8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Rectangle 52"/>
          <p:cNvSpPr/>
          <p:nvPr/>
        </p:nvSpPr>
        <p:spPr>
          <a:xfrm>
            <a:off x="178920" y="35352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Text Box 53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Text Box 54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Text Box 55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2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Line 20"/>
          <p:cNvSpPr/>
          <p:nvPr/>
        </p:nvSpPr>
        <p:spPr>
          <a:xfrm flipV="1">
            <a:off x="3505320" y="2361960"/>
            <a:ext cx="22860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Line 21"/>
          <p:cNvSpPr/>
          <p:nvPr/>
        </p:nvSpPr>
        <p:spPr>
          <a:xfrm flipV="1">
            <a:off x="3314880" y="2819520"/>
            <a:ext cx="2514600" cy="4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Line 22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Line 23"/>
          <p:cNvSpPr/>
          <p:nvPr/>
        </p:nvSpPr>
        <p:spPr>
          <a:xfrm>
            <a:off x="3352680" y="3276720"/>
            <a:ext cx="2514600" cy="761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Line 24"/>
          <p:cNvSpPr/>
          <p:nvPr/>
        </p:nvSpPr>
        <p:spPr>
          <a:xfrm>
            <a:off x="3352680" y="3276720"/>
            <a:ext cx="251460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Line 25"/>
          <p:cNvSpPr/>
          <p:nvPr/>
        </p:nvSpPr>
        <p:spPr>
          <a:xfrm flipV="1">
            <a:off x="2438280" y="2819160"/>
            <a:ext cx="335304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Line 26"/>
          <p:cNvSpPr/>
          <p:nvPr/>
        </p:nvSpPr>
        <p:spPr>
          <a:xfrm flipV="1">
            <a:off x="2438280" y="3276360"/>
            <a:ext cx="335304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Line 27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Line 28"/>
          <p:cNvSpPr/>
          <p:nvPr/>
        </p:nvSpPr>
        <p:spPr>
          <a:xfrm>
            <a:off x="2438280" y="4419720"/>
            <a:ext cx="327672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Line 29"/>
          <p:cNvSpPr/>
          <p:nvPr/>
        </p:nvSpPr>
        <p:spPr>
          <a:xfrm>
            <a:off x="2438280" y="4419720"/>
            <a:ext cx="34290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Line 30"/>
          <p:cNvSpPr/>
          <p:nvPr/>
        </p:nvSpPr>
        <p:spPr>
          <a:xfrm flipV="1">
            <a:off x="3276720" y="4495320"/>
            <a:ext cx="2590560" cy="762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Line 31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Line 32"/>
          <p:cNvSpPr/>
          <p:nvPr/>
        </p:nvSpPr>
        <p:spPr>
          <a:xfrm>
            <a:off x="3276720" y="5257800"/>
            <a:ext cx="2590560" cy="152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Line 3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Line 34"/>
          <p:cNvSpPr/>
          <p:nvPr/>
        </p:nvSpPr>
        <p:spPr>
          <a:xfrm flipV="1">
            <a:off x="2590920" y="5867280"/>
            <a:ext cx="3200400" cy="1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Line 35"/>
          <p:cNvSpPr/>
          <p:nvPr/>
        </p:nvSpPr>
        <p:spPr>
          <a:xfrm>
            <a:off x="2590920" y="6019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Rectangle 36"/>
          <p:cNvSpPr/>
          <p:nvPr/>
        </p:nvSpPr>
        <p:spPr>
          <a:xfrm>
            <a:off x="647640" y="914400"/>
            <a:ext cx="829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Use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ximu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weigh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mat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bipartite gra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best NL-MR pai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unkres, 195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Text Box 37"/>
          <p:cNvSpPr/>
          <p:nvPr/>
        </p:nvSpPr>
        <p:spPr>
          <a:xfrm>
            <a:off x="3671640" y="1995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Rectangle 38"/>
          <p:cNvSpPr/>
          <p:nvPr/>
        </p:nvSpPr>
        <p:spPr>
          <a:xfrm>
            <a:off x="36241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Text Box 39"/>
          <p:cNvSpPr/>
          <p:nvPr/>
        </p:nvSpPr>
        <p:spPr>
          <a:xfrm>
            <a:off x="3662280" y="2376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Text Box 40"/>
          <p:cNvSpPr/>
          <p:nvPr/>
        </p:nvSpPr>
        <p:spPr>
          <a:xfrm>
            <a:off x="3433680" y="2833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Text Box 41"/>
          <p:cNvSpPr/>
          <p:nvPr/>
        </p:nvSpPr>
        <p:spPr>
          <a:xfrm>
            <a:off x="3890880" y="29862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Text Box 42"/>
          <p:cNvSpPr/>
          <p:nvPr/>
        </p:nvSpPr>
        <p:spPr>
          <a:xfrm>
            <a:off x="373824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Text Box 43"/>
          <p:cNvSpPr/>
          <p:nvPr/>
        </p:nvSpPr>
        <p:spPr>
          <a:xfrm>
            <a:off x="3300120" y="3429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Text Box 44"/>
          <p:cNvSpPr/>
          <p:nvPr/>
        </p:nvSpPr>
        <p:spPr>
          <a:xfrm>
            <a:off x="299556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Text Box 45"/>
          <p:cNvSpPr/>
          <p:nvPr/>
        </p:nvSpPr>
        <p:spPr>
          <a:xfrm>
            <a:off x="3281040" y="4052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Text Box 46"/>
          <p:cNvSpPr/>
          <p:nvPr/>
        </p:nvSpPr>
        <p:spPr>
          <a:xfrm>
            <a:off x="3205080" y="4890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Text Box 47"/>
          <p:cNvSpPr/>
          <p:nvPr/>
        </p:nvSpPr>
        <p:spPr>
          <a:xfrm>
            <a:off x="3681360" y="4967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Text Box 48"/>
          <p:cNvSpPr/>
          <p:nvPr/>
        </p:nvSpPr>
        <p:spPr>
          <a:xfrm>
            <a:off x="3224160" y="5195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Text Box 49"/>
          <p:cNvSpPr/>
          <p:nvPr/>
        </p:nvSpPr>
        <p:spPr>
          <a:xfrm>
            <a:off x="2766960" y="5576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Text Box 50"/>
          <p:cNvSpPr/>
          <p:nvPr/>
        </p:nvSpPr>
        <p:spPr>
          <a:xfrm>
            <a:off x="3224160" y="580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Text Box 51"/>
          <p:cNvSpPr/>
          <p:nvPr/>
        </p:nvSpPr>
        <p:spPr>
          <a:xfrm>
            <a:off x="2823840" y="6033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Text Box 52"/>
          <p:cNvSpPr/>
          <p:nvPr/>
        </p:nvSpPr>
        <p:spPr>
          <a:xfrm>
            <a:off x="2519280" y="3900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Text Box 53"/>
          <p:cNvSpPr/>
          <p:nvPr/>
        </p:nvSpPr>
        <p:spPr>
          <a:xfrm>
            <a:off x="2693880" y="4433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Text Box 54"/>
          <p:cNvSpPr/>
          <p:nvPr/>
        </p:nvSpPr>
        <p:spPr>
          <a:xfrm>
            <a:off x="31510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Text Box 18"/>
          <p:cNvSpPr/>
          <p:nvPr/>
        </p:nvSpPr>
        <p:spPr>
          <a:xfrm>
            <a:off x="5790960" y="61722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john, walks(man, do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RISPER’s Training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5" name="Text Box 3"/>
          <p:cNvSpPr/>
          <p:nvPr/>
        </p:nvSpPr>
        <p:spPr>
          <a:xfrm>
            <a:off x="228600" y="2209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Daisy gave the clock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Text Box 4"/>
          <p:cNvSpPr/>
          <p:nvPr/>
        </p:nvSpPr>
        <p:spPr>
          <a:xfrm>
            <a:off x="228600" y="3048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Mommy saw that Mary gave the hammer to the dog.</a:t>
            </a:r>
            <a:r>
              <a:rPr b="0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Text Box 5"/>
          <p:cNvSpPr/>
          <p:nvPr/>
        </p:nvSpPr>
        <p:spPr>
          <a:xfrm>
            <a:off x="228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broke the box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Text Box 6"/>
          <p:cNvSpPr/>
          <p:nvPr/>
        </p:nvSpPr>
        <p:spPr>
          <a:xfrm>
            <a:off x="228600" y="5029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John gave the bag to the mouse</a:t>
            </a:r>
            <a:r>
              <a:rPr b="0" i="1" lang="en-US" sz="1800" spc="-1" strike="noStrike">
                <a:solidFill>
                  <a:srgbClr val="4eb21b"/>
                </a:solidFill>
                <a:latin typeface="Times New Roman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Text Box 7"/>
          <p:cNvSpPr/>
          <p:nvPr/>
        </p:nvSpPr>
        <p:spPr>
          <a:xfrm>
            <a:off x="228600" y="5867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d312"/>
                </a:solidFill>
                <a:latin typeface="Times New Roman"/>
                <a:ea typeface="MS PGothic"/>
              </a:rPr>
              <a:t>The dog threw the 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Text Box 8"/>
          <p:cNvSpPr/>
          <p:nvPr/>
        </p:nvSpPr>
        <p:spPr>
          <a:xfrm>
            <a:off x="5851440" y="2373480"/>
            <a:ext cx="1387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Text Box 9"/>
          <p:cNvSpPr/>
          <p:nvPr/>
        </p:nvSpPr>
        <p:spPr>
          <a:xfrm>
            <a:off x="5789880" y="21337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mouse, o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Text Box 10"/>
          <p:cNvSpPr/>
          <p:nvPr/>
        </p:nvSpPr>
        <p:spPr>
          <a:xfrm>
            <a:off x="5788800" y="16765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daisy, clock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Text Box 11"/>
          <p:cNvSpPr/>
          <p:nvPr/>
        </p:nvSpPr>
        <p:spPr>
          <a:xfrm>
            <a:off x="5790600" y="2590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ate(dog, ap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Text Box 12"/>
          <p:cNvSpPr/>
          <p:nvPr/>
        </p:nvSpPr>
        <p:spPr>
          <a:xfrm>
            <a:off x="5785200" y="304812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saw(mo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         </a:t>
            </a: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mary, dog, hamme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Text Box 13"/>
          <p:cNvSpPr/>
          <p:nvPr/>
        </p:nvSpPr>
        <p:spPr>
          <a:xfrm>
            <a:off x="5791680" y="38098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broke(dog, 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Text Box 14"/>
          <p:cNvSpPr/>
          <p:nvPr/>
        </p:nvSpPr>
        <p:spPr>
          <a:xfrm>
            <a:off x="5790240" y="42670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woman, toy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Text Box 15"/>
          <p:cNvSpPr/>
          <p:nvPr/>
        </p:nvSpPr>
        <p:spPr>
          <a:xfrm>
            <a:off x="5790240" y="47242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gave(john, bag, mo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Text Box 16"/>
          <p:cNvSpPr/>
          <p:nvPr/>
        </p:nvSpPr>
        <p:spPr>
          <a:xfrm>
            <a:off x="5791320" y="51814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threw(dog, 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Text Box 17"/>
          <p:cNvSpPr/>
          <p:nvPr/>
        </p:nvSpPr>
        <p:spPr>
          <a:xfrm>
            <a:off x="5793120" y="56386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cdd"/>
                </a:solidFill>
                <a:latin typeface="Times New Roman"/>
                <a:ea typeface="MS PGothic"/>
              </a:rPr>
              <a:t>runs(d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Line 19"/>
          <p:cNvSpPr/>
          <p:nvPr/>
        </p:nvSpPr>
        <p:spPr>
          <a:xfrm flipV="1">
            <a:off x="3505320" y="1906200"/>
            <a:ext cx="2354040" cy="531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Line 20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Line 21"/>
          <p:cNvSpPr/>
          <p:nvPr/>
        </p:nvSpPr>
        <p:spPr>
          <a:xfrm flipV="1">
            <a:off x="2514600" y="4038120"/>
            <a:ext cx="3276720" cy="381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Line 22"/>
          <p:cNvSpPr/>
          <p:nvPr/>
        </p:nvSpPr>
        <p:spPr>
          <a:xfrm flipV="1">
            <a:off x="3276720" y="4952520"/>
            <a:ext cx="2590560" cy="304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Line 23"/>
          <p:cNvSpPr/>
          <p:nvPr/>
        </p:nvSpPr>
        <p:spPr>
          <a:xfrm flipV="1">
            <a:off x="2590920" y="5410080"/>
            <a:ext cx="3276360" cy="609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Rectangle 24"/>
          <p:cNvSpPr/>
          <p:nvPr/>
        </p:nvSpPr>
        <p:spPr>
          <a:xfrm>
            <a:off x="646200" y="868320"/>
            <a:ext cx="773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Give the best pair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P in the next iter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peat until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Rectangle 25"/>
          <p:cNvSpPr/>
          <p:nvPr/>
        </p:nvSpPr>
        <p:spPr>
          <a:xfrm>
            <a:off x="1741320" y="-3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C21E-3C4E-4168-9371-848AF67E9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w Challenge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o Be a Sportscast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realistic data of natural language used in a representative context while avoiding difficult issues in computer perception (i.e. speech and vi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arn from textually annotated traces of activity in a simulated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ces of games in the Robocup simulator paired with textual sportscaster commen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actical Gener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how to generate NL from M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Text Box 6"/>
          <p:cNvSpPr/>
          <p:nvPr/>
        </p:nvSpPr>
        <p:spPr>
          <a:xfrm>
            <a:off x="1066680" y="29718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alibri"/>
                <a:ea typeface="Arial"/>
              </a:rPr>
              <a:t>Pass(Pink2, Pink3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Calibri"/>
                <a:ea typeface="Arial"/>
              </a:rPr>
              <a:t>“Pink2 kicks the ball to Pink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Slide Number Placeholder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B488-7134-4E22-8CC3-E263F1AA1EB6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3E4B-C81A-400F-A15C-B3985A86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emantic par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maps a natural-languag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 sentence to a complete, detailed formal semantic representa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ogic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eaning represen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 many applications, the desired output is computer language that is immediately executable by another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ASP / WASP</a:t>
            </a:r>
            <a:r>
              <a:rPr b="0" lang="en-US" sz="3600" spc="-1" strike="noStrike" baseline="30000">
                <a:solidFill>
                  <a:srgbClr val="3333ff"/>
                </a:solidFill>
                <a:latin typeface="Times New Roman"/>
              </a:rPr>
              <a:t>-1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(Wong &amp; Mooney, 2006, 2007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6" name=""/>
          <p:cNvSpPr txBox="1"/>
          <p:nvPr/>
        </p:nvSpPr>
        <p:spPr>
          <a:xfrm>
            <a:off x="457200" y="1752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vised system for learn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mantic parser and a tactical language gen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probabilistic version of a synchronous context-free grammar (SCFG) that generates two corresponding strings (NL &amp; MR) simultane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Slide Numb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181F-D1DF-4815-84D7-F8207382E22A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B091-74C5-4BF0-AF80-3B72BB026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nded Language Learning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 Robocup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190" name="Picture 4" descr="soccer1"/>
          <p:cNvPicPr/>
          <p:nvPr/>
        </p:nvPicPr>
        <p:blipFill>
          <a:blip r:embed="rId1"/>
          <a:stretch/>
        </p:blipFill>
        <p:spPr>
          <a:xfrm>
            <a:off x="914400" y="1981080"/>
            <a:ext cx="2457360" cy="1832040"/>
          </a:xfrm>
          <a:prstGeom prst="rect">
            <a:avLst/>
          </a:prstGeom>
          <a:ln w="0">
            <a:noFill/>
          </a:ln>
        </p:spPr>
      </p:pic>
      <p:sp>
        <p:nvSpPr>
          <p:cNvPr id="3191" name="Text Box 5"/>
          <p:cNvSpPr/>
          <p:nvPr/>
        </p:nvSpPr>
        <p:spPr>
          <a:xfrm>
            <a:off x="914760" y="15238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bocup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2" name="Picture 9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1260360" cy="1447920"/>
          </a:xfrm>
          <a:prstGeom prst="rect">
            <a:avLst/>
          </a:prstGeom>
          <a:ln w="0">
            <a:noFill/>
          </a:ln>
        </p:spPr>
      </p:pic>
      <p:sp>
        <p:nvSpPr>
          <p:cNvPr id="3193" name="Text Box 10"/>
          <p:cNvSpPr/>
          <p:nvPr/>
        </p:nvSpPr>
        <p:spPr>
          <a:xfrm>
            <a:off x="1266840" y="4295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portsc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4" name="Group 46"/>
          <p:cNvGrpSpPr/>
          <p:nvPr/>
        </p:nvGrpSpPr>
        <p:grpSpPr>
          <a:xfrm>
            <a:off x="3352680" y="2514600"/>
            <a:ext cx="2895840" cy="914400"/>
            <a:chOff x="3352680" y="2514600"/>
            <a:chExt cx="2895840" cy="914400"/>
          </a:xfrm>
        </p:grpSpPr>
        <p:grpSp>
          <p:nvGrpSpPr>
            <p:cNvPr id="3195" name="Group 12"/>
            <p:cNvGrpSpPr/>
            <p:nvPr/>
          </p:nvGrpSpPr>
          <p:grpSpPr>
            <a:xfrm>
              <a:off x="4267080" y="2514600"/>
              <a:ext cx="1981440" cy="914400"/>
              <a:chOff x="4267080" y="2514600"/>
              <a:chExt cx="1981440" cy="914400"/>
            </a:xfrm>
          </p:grpSpPr>
          <p:sp>
            <p:nvSpPr>
              <p:cNvPr id="3196" name="Rectangle 6"/>
              <p:cNvSpPr/>
              <p:nvPr/>
            </p:nvSpPr>
            <p:spPr>
              <a:xfrm>
                <a:off x="4267080" y="2514600"/>
                <a:ext cx="198144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Text Box 8"/>
              <p:cNvSpPr/>
              <p:nvPr/>
            </p:nvSpPr>
            <p:spPr>
              <a:xfrm>
                <a:off x="4664880" y="2614680"/>
                <a:ext cx="123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imulat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8" name="Line 25"/>
            <p:cNvSpPr/>
            <p:nvPr/>
          </p:nvSpPr>
          <p:spPr>
            <a:xfrm>
              <a:off x="3352680" y="28954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9" name="Group 47"/>
          <p:cNvGrpSpPr/>
          <p:nvPr/>
        </p:nvGrpSpPr>
        <p:grpSpPr>
          <a:xfrm>
            <a:off x="6248520" y="2514600"/>
            <a:ext cx="2590560" cy="761760"/>
            <a:chOff x="6248520" y="2514600"/>
            <a:chExt cx="2590560" cy="761760"/>
          </a:xfrm>
        </p:grpSpPr>
        <p:grpSp>
          <p:nvGrpSpPr>
            <p:cNvPr id="3200" name="Group 27"/>
            <p:cNvGrpSpPr/>
            <p:nvPr/>
          </p:nvGrpSpPr>
          <p:grpSpPr>
            <a:xfrm>
              <a:off x="6934320" y="2514600"/>
              <a:ext cx="1904760" cy="761760"/>
              <a:chOff x="6934320" y="2514600"/>
              <a:chExt cx="1904760" cy="761760"/>
            </a:xfrm>
          </p:grpSpPr>
          <p:sp>
            <p:nvSpPr>
              <p:cNvPr id="3201" name="Oval 23"/>
              <p:cNvSpPr/>
              <p:nvPr/>
            </p:nvSpPr>
            <p:spPr>
              <a:xfrm>
                <a:off x="6934320" y="2514600"/>
                <a:ext cx="1904760" cy="761760"/>
              </a:xfrm>
              <a:prstGeom prst="ellipse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Text Box 24"/>
              <p:cNvSpPr/>
              <p:nvPr/>
            </p:nvSpPr>
            <p:spPr>
              <a:xfrm>
                <a:off x="7084800" y="266688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eived Fac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3" name="Line 26"/>
            <p:cNvSpPr/>
            <p:nvPr/>
          </p:nvSpPr>
          <p:spPr>
            <a:xfrm>
              <a:off x="6248520" y="28954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4" name="AutoShape 11"/>
          <p:cNvSpPr/>
          <p:nvPr/>
        </p:nvSpPr>
        <p:spPr>
          <a:xfrm>
            <a:off x="2590920" y="4648320"/>
            <a:ext cx="1523880" cy="457200"/>
          </a:xfrm>
          <a:prstGeom prst="wedgeEllipseCallout">
            <a:avLst>
              <a:gd name="adj1" fmla="val -89064"/>
              <a:gd name="adj2" fmla="val 850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5" name="Group 50"/>
          <p:cNvGrpSpPr/>
          <p:nvPr/>
        </p:nvGrpSpPr>
        <p:grpSpPr>
          <a:xfrm>
            <a:off x="4114800" y="3276720"/>
            <a:ext cx="3733920" cy="2133360"/>
            <a:chOff x="4114800" y="3276720"/>
            <a:chExt cx="3733920" cy="2133360"/>
          </a:xfrm>
        </p:grpSpPr>
        <p:grpSp>
          <p:nvGrpSpPr>
            <p:cNvPr id="3206" name="Group 31"/>
            <p:cNvGrpSpPr/>
            <p:nvPr/>
          </p:nvGrpSpPr>
          <p:grpSpPr>
            <a:xfrm>
              <a:off x="4647240" y="4495680"/>
              <a:ext cx="2062800" cy="914400"/>
              <a:chOff x="4647240" y="4495680"/>
              <a:chExt cx="2062800" cy="914400"/>
            </a:xfrm>
          </p:grpSpPr>
          <p:sp>
            <p:nvSpPr>
              <p:cNvPr id="3207" name="Rectangle 20"/>
              <p:cNvSpPr/>
              <p:nvPr/>
            </p:nvSpPr>
            <p:spPr>
              <a:xfrm>
                <a:off x="4724280" y="4495680"/>
                <a:ext cx="1980720" cy="914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Text Box 21"/>
              <p:cNvSpPr/>
              <p:nvPr/>
            </p:nvSpPr>
            <p:spPr>
              <a:xfrm>
                <a:off x="4647240" y="4572000"/>
                <a:ext cx="206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ound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anguage Lear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9" name="Line 28"/>
            <p:cNvSpPr/>
            <p:nvPr/>
          </p:nvSpPr>
          <p:spPr>
            <a:xfrm flipH="1">
              <a:off x="6019920" y="3276720"/>
              <a:ext cx="182880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Line 30"/>
            <p:cNvSpPr/>
            <p:nvPr/>
          </p:nvSpPr>
          <p:spPr>
            <a:xfrm>
              <a:off x="4114800" y="48769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1" name="Group 51"/>
          <p:cNvGrpSpPr/>
          <p:nvPr/>
        </p:nvGrpSpPr>
        <p:grpSpPr>
          <a:xfrm>
            <a:off x="5187600" y="4653720"/>
            <a:ext cx="3408120" cy="1938240"/>
            <a:chOff x="5187600" y="4653720"/>
            <a:chExt cx="3408120" cy="1938240"/>
          </a:xfrm>
        </p:grpSpPr>
        <p:sp>
          <p:nvSpPr>
            <p:cNvPr id="3212" name="Rectangle 32"/>
            <p:cNvSpPr/>
            <p:nvPr/>
          </p:nvSpPr>
          <p:spPr>
            <a:xfrm>
              <a:off x="7396920" y="4653720"/>
              <a:ext cx="119880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Rectangle 33"/>
            <p:cNvSpPr/>
            <p:nvPr/>
          </p:nvSpPr>
          <p:spPr>
            <a:xfrm>
              <a:off x="5187600" y="5949360"/>
              <a:ext cx="1082880" cy="64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man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Line 34"/>
            <p:cNvSpPr/>
            <p:nvPr/>
          </p:nvSpPr>
          <p:spPr>
            <a:xfrm>
              <a:off x="5638680" y="54100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Line 35"/>
            <p:cNvSpPr/>
            <p:nvPr/>
          </p:nvSpPr>
          <p:spPr>
            <a:xfrm>
              <a:off x="6705720" y="49528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Line 40"/>
            <p:cNvSpPr/>
            <p:nvPr/>
          </p:nvSpPr>
          <p:spPr>
            <a:xfrm>
              <a:off x="6705720" y="54100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Line 42"/>
            <p:cNvSpPr/>
            <p:nvPr/>
          </p:nvSpPr>
          <p:spPr>
            <a:xfrm flipV="1">
              <a:off x="7257960" y="5291280"/>
              <a:ext cx="42408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Line 43"/>
            <p:cNvSpPr/>
            <p:nvPr/>
          </p:nvSpPr>
          <p:spPr>
            <a:xfrm flipH="1">
              <a:off x="6276960" y="6005520"/>
              <a:ext cx="409680" cy="2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Oval 37"/>
            <p:cNvSpPr/>
            <p:nvPr/>
          </p:nvSpPr>
          <p:spPr>
            <a:xfrm>
              <a:off x="6553080" y="5639400"/>
              <a:ext cx="1143000" cy="4770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0" name="Line 44"/>
          <p:cNvSpPr/>
          <p:nvPr/>
        </p:nvSpPr>
        <p:spPr>
          <a:xfrm>
            <a:off x="7924680" y="32767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AutoShape 45"/>
          <p:cNvSpPr/>
          <p:nvPr/>
        </p:nvSpPr>
        <p:spPr>
          <a:xfrm>
            <a:off x="7772400" y="5715000"/>
            <a:ext cx="1371600" cy="380880"/>
          </a:xfrm>
          <a:prstGeom prst="wedgeEllipseCallout">
            <a:avLst>
              <a:gd name="adj1" fmla="val -26736"/>
              <a:gd name="adj2" fmla="val -1616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e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Human Sportscast in Korea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A1AA-7689-464C-8C5F-A903229A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4" name="Korean-2001-human.WMV" descr=""/>
          <p:cNvPicPr/>
          <p:nvPr/>
        </p:nvPicPr>
        <p:blipFill>
          <a:blip r:embed="rId1"/>
          <a:stretch/>
        </p:blipFill>
        <p:spPr>
          <a:xfrm>
            <a:off x="241200" y="596880"/>
            <a:ext cx="870264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322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322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3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6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7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1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1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PMingLiU"/>
              </a:rPr>
              <a:t>Robocup Sportscaster Tr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5" name="Text Box 5"/>
          <p:cNvSpPr/>
          <p:nvPr/>
        </p:nvSpPr>
        <p:spPr>
          <a:xfrm>
            <a:off x="684360" y="1700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Text Box 6"/>
          <p:cNvSpPr/>
          <p:nvPr/>
        </p:nvSpPr>
        <p:spPr>
          <a:xfrm>
            <a:off x="5334120" y="1700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Line 7"/>
          <p:cNvSpPr/>
          <p:nvPr/>
        </p:nvSpPr>
        <p:spPr>
          <a:xfrm flipH="1">
            <a:off x="4724280" y="24382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Line 8"/>
          <p:cNvSpPr/>
          <p:nvPr/>
        </p:nvSpPr>
        <p:spPr>
          <a:xfrm flipH="1">
            <a:off x="4724280" y="27432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Line 9"/>
          <p:cNvSpPr/>
          <p:nvPr/>
        </p:nvSpPr>
        <p:spPr>
          <a:xfrm flipH="1">
            <a:off x="4114440" y="27432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Line 10"/>
          <p:cNvSpPr/>
          <p:nvPr/>
        </p:nvSpPr>
        <p:spPr>
          <a:xfrm flipH="1">
            <a:off x="4114440" y="30481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Line 11"/>
          <p:cNvSpPr/>
          <p:nvPr/>
        </p:nvSpPr>
        <p:spPr>
          <a:xfrm flipH="1">
            <a:off x="4114440" y="33526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Line 12"/>
          <p:cNvSpPr/>
          <p:nvPr/>
        </p:nvSpPr>
        <p:spPr>
          <a:xfrm flipH="1">
            <a:off x="3809880" y="33526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Line 13"/>
          <p:cNvSpPr/>
          <p:nvPr/>
        </p:nvSpPr>
        <p:spPr>
          <a:xfrm flipH="1">
            <a:off x="3809880" y="36576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Line 14"/>
          <p:cNvSpPr/>
          <p:nvPr/>
        </p:nvSpPr>
        <p:spPr>
          <a:xfrm flipH="1">
            <a:off x="4267080" y="45720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Line 15"/>
          <p:cNvSpPr/>
          <p:nvPr/>
        </p:nvSpPr>
        <p:spPr>
          <a:xfrm flipH="1">
            <a:off x="4267080" y="48769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Line 16"/>
          <p:cNvSpPr/>
          <p:nvPr/>
        </p:nvSpPr>
        <p:spPr>
          <a:xfrm flipH="1">
            <a:off x="4267080" y="51814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Line 17"/>
          <p:cNvSpPr/>
          <p:nvPr/>
        </p:nvSpPr>
        <p:spPr>
          <a:xfrm flipH="1">
            <a:off x="3580920" y="5791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Line 20"/>
          <p:cNvSpPr/>
          <p:nvPr/>
        </p:nvSpPr>
        <p:spPr>
          <a:xfrm flipH="1">
            <a:off x="3580920" y="6019920"/>
            <a:ext cx="2057400" cy="75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Rectangle 3"/>
          <p:cNvSpPr/>
          <p:nvPr/>
        </p:nvSpPr>
        <p:spPr>
          <a:xfrm>
            <a:off x="685800" y="26668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Rectangle 4"/>
          <p:cNvSpPr/>
          <p:nvPr/>
        </p:nvSpPr>
        <p:spPr>
          <a:xfrm>
            <a:off x="5638680" y="21337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6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Rectangle 3"/>
          <p:cNvSpPr/>
          <p:nvPr/>
        </p:nvSpPr>
        <p:spPr>
          <a:xfrm>
            <a:off x="68580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looks around for a team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Rectangle 3"/>
          <p:cNvSpPr/>
          <p:nvPr/>
        </p:nvSpPr>
        <p:spPr>
          <a:xfrm>
            <a:off x="685800" y="35812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Rectangle 3"/>
          <p:cNvSpPr/>
          <p:nvPr/>
        </p:nvSpPr>
        <p:spPr>
          <a:xfrm>
            <a:off x="685800" y="3276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Rectangle 3"/>
          <p:cNvSpPr/>
          <p:nvPr/>
        </p:nvSpPr>
        <p:spPr>
          <a:xfrm>
            <a:off x="68580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11 makes a long pass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Rectangle 3"/>
          <p:cNvSpPr/>
          <p:nvPr/>
        </p:nvSpPr>
        <p:spPr>
          <a:xfrm>
            <a:off x="685800" y="5943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back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Rectangle 4"/>
          <p:cNvSpPr/>
          <p:nvPr/>
        </p:nvSpPr>
        <p:spPr>
          <a:xfrm>
            <a:off x="5638680" y="24382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5 ( C1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Rectangle 4"/>
          <p:cNvSpPr/>
          <p:nvPr/>
        </p:nvSpPr>
        <p:spPr>
          <a:xfrm>
            <a:off x="5638680" y="52578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22,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Rectangle 4"/>
          <p:cNvSpPr/>
          <p:nvPr/>
        </p:nvSpPr>
        <p:spPr>
          <a:xfrm>
            <a:off x="5638680" y="5715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Rectangle 4"/>
          <p:cNvSpPr/>
          <p:nvPr/>
        </p:nvSpPr>
        <p:spPr>
          <a:xfrm>
            <a:off x="5638680" y="45720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Rectangle 4"/>
          <p:cNvSpPr/>
          <p:nvPr/>
        </p:nvSpPr>
        <p:spPr>
          <a:xfrm>
            <a:off x="5638680" y="30481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2 ( C19,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Rectangle 4"/>
          <p:cNvSpPr/>
          <p:nvPr/>
        </p:nvSpPr>
        <p:spPr>
          <a:xfrm>
            <a:off x="5638680" y="42670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Rectangle 4"/>
          <p:cNvSpPr/>
          <p:nvPr/>
        </p:nvSpPr>
        <p:spPr>
          <a:xfrm>
            <a:off x="5638680" y="27432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Rectangle 4"/>
          <p:cNvSpPr/>
          <p:nvPr/>
        </p:nvSpPr>
        <p:spPr>
          <a:xfrm>
            <a:off x="5638680" y="33526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Rectangle 4"/>
          <p:cNvSpPr/>
          <p:nvPr/>
        </p:nvSpPr>
        <p:spPr>
          <a:xfrm>
            <a:off x="563868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2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Rectangle 4"/>
          <p:cNvSpPr/>
          <p:nvPr/>
        </p:nvSpPr>
        <p:spPr>
          <a:xfrm>
            <a:off x="5638680" y="5486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1 ( C1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Line 12"/>
          <p:cNvSpPr/>
          <p:nvPr/>
        </p:nvSpPr>
        <p:spPr>
          <a:xfrm flipH="1">
            <a:off x="3809880" y="30481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rategic Gener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requires not only knowing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y something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ctical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ut als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ay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ategic 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utomated sportscasting, one must be able to effectively choose which events to describ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Line 5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39DC-5065-474C-BE40-F4D64ABB4A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 of Strategic Gener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4" name="Rectangle 4"/>
          <p:cNvSpPr/>
          <p:nvPr/>
        </p:nvSpPr>
        <p:spPr>
          <a:xfrm>
            <a:off x="2819520" y="2057400"/>
            <a:ext cx="2895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3 , pink9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67EB-21B7-4CFF-8001-11FA644B84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 of Strategic Gener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8" name="Rectangle 4"/>
          <p:cNvSpPr/>
          <p:nvPr/>
        </p:nvSpPr>
        <p:spPr>
          <a:xfrm>
            <a:off x="2819520" y="2057400"/>
            <a:ext cx="307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6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2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3 , pink9 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PMingLiU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EDFA-1ABB-4030-80AA-303FC58D5D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47EC-E9FD-40B6-B0A9-B34467744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: RoboCup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ach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ang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uag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RoboCup Coach competition teams compete to coach simulated soccer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aching instructions are given in a formal language called C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3" name="Picture 4" descr="soccer1"/>
          <p:cNvPicPr/>
          <p:nvPr/>
        </p:nvPicPr>
        <p:blipFill>
          <a:blip r:embed="rId1"/>
          <a:stretch/>
        </p:blipFill>
        <p:spPr>
          <a:xfrm>
            <a:off x="5638680" y="4267080"/>
            <a:ext cx="3219480" cy="2400480"/>
          </a:xfrm>
          <a:prstGeom prst="rect">
            <a:avLst/>
          </a:prstGeom>
          <a:ln w="0">
            <a:noFill/>
          </a:ln>
        </p:spPr>
      </p:pic>
      <p:sp>
        <p:nvSpPr>
          <p:cNvPr id="2674" name="Text Box 5"/>
          <p:cNvSpPr/>
          <p:nvPr/>
        </p:nvSpPr>
        <p:spPr>
          <a:xfrm>
            <a:off x="6172200" y="38098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宋体"/>
              </a:rPr>
              <a:t>Simulated socce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5" name="Group 16"/>
          <p:cNvGrpSpPr/>
          <p:nvPr/>
        </p:nvGrpSpPr>
        <p:grpSpPr>
          <a:xfrm>
            <a:off x="0" y="3276720"/>
            <a:ext cx="4952880" cy="1371600"/>
            <a:chOff x="0" y="3276720"/>
            <a:chExt cx="4952880" cy="1371600"/>
          </a:xfrm>
        </p:grpSpPr>
        <p:sp>
          <p:nvSpPr>
            <p:cNvPr id="2676" name="Text Box 6"/>
            <p:cNvSpPr/>
            <p:nvPr/>
          </p:nvSpPr>
          <p:spPr>
            <a:xfrm>
              <a:off x="0" y="41911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AutoShape 8"/>
            <p:cNvSpPr/>
            <p:nvPr/>
          </p:nvSpPr>
          <p:spPr>
            <a:xfrm>
              <a:off x="1295280" y="3276720"/>
              <a:ext cx="3657600" cy="1371600"/>
            </a:xfrm>
            <a:prstGeom prst="wedgeEllipseCallout">
              <a:avLst>
                <a:gd name="adj1" fmla="val -61240"/>
                <a:gd name="adj2" fmla="val 273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  <a:ea typeface="宋体"/>
                </a:rPr>
                <a:t>If the ball is in our penalty area, then all our players except player 4 should stay in our ha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8" name="Rectangle 9"/>
          <p:cNvSpPr/>
          <p:nvPr/>
        </p:nvSpPr>
        <p:spPr>
          <a:xfrm>
            <a:off x="91440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9" name="Group 18"/>
          <p:cNvGrpSpPr/>
          <p:nvPr/>
        </p:nvGrpSpPr>
        <p:grpSpPr>
          <a:xfrm>
            <a:off x="0" y="5349960"/>
            <a:ext cx="5032440" cy="951120"/>
            <a:chOff x="0" y="5349960"/>
            <a:chExt cx="5032440" cy="951120"/>
          </a:xfrm>
        </p:grpSpPr>
        <p:sp>
          <p:nvSpPr>
            <p:cNvPr id="2680" name="Text Box 7"/>
            <p:cNvSpPr/>
            <p:nvPr/>
          </p:nvSpPr>
          <p:spPr>
            <a:xfrm>
              <a:off x="0" y="5486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Text Box 10"/>
            <p:cNvSpPr/>
            <p:nvPr/>
          </p:nvSpPr>
          <p:spPr>
            <a:xfrm>
              <a:off x="807840" y="5349960"/>
              <a:ext cx="42246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(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bpos (penalty-area our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(do (player-except our{4}) (</a:t>
              </a:r>
              <a:r>
                <a:rPr b="1" i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pos</a:t>
              </a:r>
              <a:r>
                <a:rPr b="1" lang="en-US" sz="1600" spc="-1" strike="noStrike">
                  <a:solidFill>
                    <a:srgbClr val="3333cc"/>
                  </a:solidFill>
                  <a:latin typeface="Gulim"/>
                  <a:ea typeface="Gulim"/>
                </a:rPr>
                <a:t> (half our)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2" name="AutoShape 11"/>
          <p:cNvSpPr/>
          <p:nvPr/>
        </p:nvSpPr>
        <p:spPr>
          <a:xfrm>
            <a:off x="990720" y="4038480"/>
            <a:ext cx="609480" cy="60984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3" name="Group 17"/>
          <p:cNvGrpSpPr/>
          <p:nvPr/>
        </p:nvGrpSpPr>
        <p:grpSpPr>
          <a:xfrm>
            <a:off x="914040" y="4648320"/>
            <a:ext cx="2210040" cy="685800"/>
            <a:chOff x="914040" y="4648320"/>
            <a:chExt cx="2210040" cy="685800"/>
          </a:xfrm>
        </p:grpSpPr>
        <p:sp>
          <p:nvSpPr>
            <p:cNvPr id="2684" name="Line 12"/>
            <p:cNvSpPr/>
            <p:nvPr/>
          </p:nvSpPr>
          <p:spPr>
            <a:xfrm>
              <a:off x="3124080" y="4648320"/>
              <a:ext cx="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Text Box 13"/>
            <p:cNvSpPr/>
            <p:nvPr/>
          </p:nvSpPr>
          <p:spPr>
            <a:xfrm>
              <a:off x="914040" y="472428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  <a:ea typeface="宋体"/>
                </a:rPr>
                <a:t>Semantic Par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6" name="Line 14"/>
          <p:cNvSpPr/>
          <p:nvPr/>
        </p:nvSpPr>
        <p:spPr>
          <a:xfrm>
            <a:off x="5029200" y="5715000"/>
            <a:ext cx="609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bocup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human textual commentary for the 4 Robocup championship games from 2001-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events/game = 2,61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English sentences/game = 50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Korean sentences/game = 49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ntence matched to all events within previous 5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vg # MRs/sentence =  2.5 (min 1, max 12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annotated with correct matchings of sentences to MRs (for evaluation purposes on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Rectangle 1028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Slide Number Placeholder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3A8-5F8C-4BD5-BF1C-61357F6800A3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WASPER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66" name=""/>
          <p:cNvSpPr txBox="1"/>
          <p:nvPr/>
        </p:nvSpPr>
        <p:spPr>
          <a:xfrm>
            <a:off x="46044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P with EM-like retraining to handle ambiguous training da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augmentation as added to KRISP to create KRISP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Line 5"/>
          <p:cNvSpPr/>
          <p:nvPr/>
        </p:nvSpPr>
        <p:spPr>
          <a:xfrm>
            <a:off x="533520" y="1600200"/>
            <a:ext cx="8156520" cy="14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41CB-3F25-42FF-8A79-1921396D2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Content Placeholder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irst train KRISPER to disambiguat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en train WASP on the resulting unambiguously supervis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KRISPER-WASP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71" name="Line 5"/>
          <p:cNvSpPr/>
          <p:nvPr/>
        </p:nvSpPr>
        <p:spPr>
          <a:xfrm>
            <a:off x="533520" y="1600200"/>
            <a:ext cx="8156520" cy="14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336-B19C-4CF9-B014-9675325DB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WASPER-GE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74" name=""/>
          <p:cNvSpPr txBox="1"/>
          <p:nvPr/>
        </p:nvSpPr>
        <p:spPr>
          <a:xfrm>
            <a:off x="685440" y="1980720"/>
            <a:ext cx="792468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s the best matching based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ccff"/>
                </a:solidFill>
                <a:latin typeface="Calibri"/>
              </a:rPr>
              <a:t>N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ore each potential </a:t>
            </a:r>
            <a:r>
              <a:rPr b="0" lang="en-US" sz="2800" spc="-1" strike="noStrike">
                <a:solidFill>
                  <a:srgbClr val="00ccff"/>
                </a:solidFill>
                <a:latin typeface="Calibri"/>
              </a:rPr>
              <a:t>N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M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ir by using the currently trained WA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en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 NIST MT scor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NIST report, 2002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ween the generated sentence and the potential matching sent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5" name="Line 5"/>
          <p:cNvSpPr/>
          <p:nvPr/>
        </p:nvSpPr>
        <p:spPr>
          <a:xfrm>
            <a:off x="533520" y="1600200"/>
            <a:ext cx="8156520" cy="14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5C4E-D6B8-4E7A-9D93-21DADD0B1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trategic Generation Learning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457200" y="210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event type (e.g. pass, kick) estimate the probability that it is described by the sportsca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correct NL/MR ma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estimated matching from tactical gen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Iterative Generation Strategy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Line 5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CBCC-9C3F-46FF-950A-2CCB052C9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Iterative Generation Strategy Learning (IGSL)</a:t>
            </a:r>
            <a:endParaRPr b="0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s the likelihood of commenting on each event-type directly from the ambiguous training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EM-like self-training iterations to compute estim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4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3FE9-647C-4D31-BDD3-B410A6170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nglish Dem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clip commentated using WASPER-GEN with IGSL strategic generation, since this gave the best results fo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TTS was used to synthesize speech from textual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achine Sportscast in Englis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0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414-A4F6-4036-9495-78D95E002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1" name="English-2003-machine(wasper-gen).WMV" descr=""/>
          <p:cNvPicPr/>
          <p:nvPr/>
        </p:nvPicPr>
        <p:blipFill>
          <a:blip r:embed="rId1"/>
          <a:stretch/>
        </p:blipFill>
        <p:spPr>
          <a:xfrm>
            <a:off x="241200" y="584280"/>
            <a:ext cx="868680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339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339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3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3" name=""/>
          <p:cNvSpPr txBox="1"/>
          <p:nvPr/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learning curves by training on all combinations of 1 to 3 games and testing on all games not used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andom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random choice of possible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old Matchin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WASP trained on correct matching of MR for each comm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system’s annotations that are correc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% of gold-standard annotations correctly produc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Harmonic mean of precision and rec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NL-MR Matc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5" name=""/>
          <p:cNvSpPr txBox="1"/>
          <p:nvPr/>
        </p:nvSpPr>
        <p:spPr>
          <a:xfrm>
            <a:off x="685800" y="16002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does the learner figure out which event (if any) each sentence refers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5510-E270-4B5B-8460-B6CFE14FE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Text Box 5"/>
          <p:cNvSpPr/>
          <p:nvPr/>
        </p:nvSpPr>
        <p:spPr>
          <a:xfrm>
            <a:off x="760320" y="33004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Text Box 6"/>
          <p:cNvSpPr/>
          <p:nvPr/>
        </p:nvSpPr>
        <p:spPr>
          <a:xfrm>
            <a:off x="5410080" y="3300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Line 7"/>
          <p:cNvSpPr/>
          <p:nvPr/>
        </p:nvSpPr>
        <p:spPr>
          <a:xfrm flipH="1">
            <a:off x="4800600" y="40384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Line 8"/>
          <p:cNvSpPr/>
          <p:nvPr/>
        </p:nvSpPr>
        <p:spPr>
          <a:xfrm flipH="1">
            <a:off x="4800600" y="4343400"/>
            <a:ext cx="99072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Line 9"/>
          <p:cNvSpPr/>
          <p:nvPr/>
        </p:nvSpPr>
        <p:spPr>
          <a:xfrm flipH="1">
            <a:off x="4190760" y="43434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Line 10"/>
          <p:cNvSpPr/>
          <p:nvPr/>
        </p:nvSpPr>
        <p:spPr>
          <a:xfrm flipH="1">
            <a:off x="4190760" y="46483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Line 11"/>
          <p:cNvSpPr/>
          <p:nvPr/>
        </p:nvSpPr>
        <p:spPr>
          <a:xfrm flipH="1">
            <a:off x="4190760" y="49528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Line 12"/>
          <p:cNvSpPr/>
          <p:nvPr/>
        </p:nvSpPr>
        <p:spPr>
          <a:xfrm flipH="1">
            <a:off x="3886200" y="4952880"/>
            <a:ext cx="1828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Line 13"/>
          <p:cNvSpPr/>
          <p:nvPr/>
        </p:nvSpPr>
        <p:spPr>
          <a:xfrm flipH="1">
            <a:off x="3886200" y="52578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Rectangle 3"/>
          <p:cNvSpPr/>
          <p:nvPr/>
        </p:nvSpPr>
        <p:spPr>
          <a:xfrm>
            <a:off x="762120" y="4267080"/>
            <a:ext cx="4267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turns the ball over to Pink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Rectangle 4"/>
          <p:cNvSpPr/>
          <p:nvPr/>
        </p:nvSpPr>
        <p:spPr>
          <a:xfrm>
            <a:off x="5715000" y="37339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Rectangle 3"/>
          <p:cNvSpPr/>
          <p:nvPr/>
        </p:nvSpPr>
        <p:spPr>
          <a:xfrm>
            <a:off x="762120" y="51814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ink8 passes the ball to Pin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Rectangle 3"/>
          <p:cNvSpPr/>
          <p:nvPr/>
        </p:nvSpPr>
        <p:spPr>
          <a:xfrm>
            <a:off x="762120" y="48769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  <a:ea typeface="PMingLiU"/>
              </a:rPr>
              <a:t>Purple team is very sloppy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Rectangle 4"/>
          <p:cNvSpPr/>
          <p:nvPr/>
        </p:nvSpPr>
        <p:spPr>
          <a:xfrm>
            <a:off x="5715000" y="40384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Rectangle 4"/>
          <p:cNvSpPr/>
          <p:nvPr/>
        </p:nvSpPr>
        <p:spPr>
          <a:xfrm>
            <a:off x="5715000" y="464832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pass ( Pink8,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Rectangle 4"/>
          <p:cNvSpPr/>
          <p:nvPr/>
        </p:nvSpPr>
        <p:spPr>
          <a:xfrm>
            <a:off x="5715000" y="434340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Rectangle 4"/>
          <p:cNvSpPr/>
          <p:nvPr/>
        </p:nvSpPr>
        <p:spPr>
          <a:xfrm>
            <a:off x="5715000" y="4952880"/>
            <a:ext cx="30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ink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Line 12"/>
          <p:cNvSpPr/>
          <p:nvPr/>
        </p:nvSpPr>
        <p:spPr>
          <a:xfrm flipH="1">
            <a:off x="3886200" y="464832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4D8C-7A48-48BD-AC42-D4C656A42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Learning Semantic Pars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nually programming robust semantic parsers is difficult due to the complexity of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mantic parsers can be learned automatically from sentences paired with their logic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Oval 4"/>
          <p:cNvSpPr/>
          <p:nvPr/>
        </p:nvSpPr>
        <p:spPr>
          <a:xfrm>
            <a:off x="1369800" y="3686040"/>
            <a:ext cx="212796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N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raining E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1" name="Group 5"/>
          <p:cNvGrpSpPr/>
          <p:nvPr/>
        </p:nvGrpSpPr>
        <p:grpSpPr>
          <a:xfrm>
            <a:off x="3457440" y="3856320"/>
            <a:ext cx="2666880" cy="703800"/>
            <a:chOff x="3457440" y="3856320"/>
            <a:chExt cx="2666880" cy="703800"/>
          </a:xfrm>
        </p:grpSpPr>
        <p:sp>
          <p:nvSpPr>
            <p:cNvPr id="2692" name="Rectangle 6"/>
            <p:cNvSpPr/>
            <p:nvPr/>
          </p:nvSpPr>
          <p:spPr>
            <a:xfrm>
              <a:off x="4163400" y="3856320"/>
              <a:ext cx="196092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-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Line 7"/>
            <p:cNvSpPr/>
            <p:nvPr/>
          </p:nvSpPr>
          <p:spPr>
            <a:xfrm>
              <a:off x="3457440" y="4155840"/>
              <a:ext cx="70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4" name="Group 8"/>
          <p:cNvGrpSpPr/>
          <p:nvPr/>
        </p:nvGrpSpPr>
        <p:grpSpPr>
          <a:xfrm>
            <a:off x="1824120" y="4905000"/>
            <a:ext cx="2395440" cy="994680"/>
            <a:chOff x="1824120" y="4905000"/>
            <a:chExt cx="2395440" cy="994680"/>
          </a:xfrm>
        </p:grpSpPr>
        <p:sp>
          <p:nvSpPr>
            <p:cNvPr id="2695" name="Oval 9"/>
            <p:cNvSpPr/>
            <p:nvPr/>
          </p:nvSpPr>
          <p:spPr>
            <a:xfrm>
              <a:off x="1824120" y="4905000"/>
              <a:ext cx="1677600" cy="994680"/>
            </a:xfrm>
            <a:prstGeom prst="ellipse">
              <a:avLst/>
            </a:prstGeom>
            <a:solidFill>
              <a:srgbClr val="5f6d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Natu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Line 10"/>
            <p:cNvSpPr/>
            <p:nvPr/>
          </p:nvSpPr>
          <p:spPr>
            <a:xfrm>
              <a:off x="3457440" y="53751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7" name="Oval 11"/>
          <p:cNvSpPr/>
          <p:nvPr/>
        </p:nvSpPr>
        <p:spPr>
          <a:xfrm>
            <a:off x="6305400" y="4913640"/>
            <a:ext cx="1535400" cy="994680"/>
          </a:xfrm>
          <a:prstGeom prst="ellipse">
            <a:avLst/>
          </a:prstGeom>
          <a:solidFill>
            <a:srgbClr val="5f6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Line 12"/>
          <p:cNvSpPr/>
          <p:nvPr/>
        </p:nvSpPr>
        <p:spPr>
          <a:xfrm>
            <a:off x="5954760" y="538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9" name="Group 13"/>
          <p:cNvGrpSpPr/>
          <p:nvPr/>
        </p:nvGrpSpPr>
        <p:grpSpPr>
          <a:xfrm>
            <a:off x="4219560" y="4537080"/>
            <a:ext cx="1752480" cy="1242360"/>
            <a:chOff x="4219560" y="4537080"/>
            <a:chExt cx="1752480" cy="1242360"/>
          </a:xfrm>
        </p:grpSpPr>
        <p:sp>
          <p:nvSpPr>
            <p:cNvPr id="2700" name="Rectangle 14"/>
            <p:cNvSpPr/>
            <p:nvPr/>
          </p:nvSpPr>
          <p:spPr>
            <a:xfrm>
              <a:off x="4219560" y="5075640"/>
              <a:ext cx="1752480" cy="703800"/>
            </a:xfrm>
            <a:prstGeom prst="rect">
              <a:avLst/>
            </a:prstGeom>
            <a:solidFill>
              <a:srgbClr val="ff3b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man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Line 15"/>
            <p:cNvSpPr/>
            <p:nvPr/>
          </p:nvSpPr>
          <p:spPr>
            <a:xfrm>
              <a:off x="5057640" y="4537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atching Results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(F-Measure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16" name="Rectangle 3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CB53-9331-4424-897B-ED77D3599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9" name="Picture 2" descr=""/>
          <p:cNvPicPr/>
          <p:nvPr/>
        </p:nvPicPr>
        <p:blipFill>
          <a:blip r:embed="rId1"/>
          <a:stretch/>
        </p:blipFill>
        <p:spPr>
          <a:xfrm>
            <a:off x="60480" y="2070000"/>
            <a:ext cx="91440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Semantic Pars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21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does the system learn to interpret the meaning of a novel sent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result to correct MR from the gold standard ma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251-5B58-4E3D-A269-A94F19949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Text Box 5"/>
          <p:cNvSpPr/>
          <p:nvPr/>
        </p:nvSpPr>
        <p:spPr>
          <a:xfrm>
            <a:off x="760320" y="284328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Text Box 6"/>
          <p:cNvSpPr/>
          <p:nvPr/>
        </p:nvSpPr>
        <p:spPr>
          <a:xfrm>
            <a:off x="5410080" y="2843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Rectangle 3"/>
          <p:cNvSpPr/>
          <p:nvPr/>
        </p:nvSpPr>
        <p:spPr>
          <a:xfrm>
            <a:off x="0" y="34290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looses the ball to Pink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Rectangle 4"/>
          <p:cNvSpPr/>
          <p:nvPr/>
        </p:nvSpPr>
        <p:spPr>
          <a:xfrm>
            <a:off x="5410080" y="3276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7" name="Straight Arrow Connector 24"/>
          <p:cNvCxnSpPr/>
          <p:nvPr/>
        </p:nvCxnSpPr>
        <p:spPr>
          <a:xfrm>
            <a:off x="4648320" y="3580920"/>
            <a:ext cx="762480" cy="252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emantic Parsing Results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(F-Measure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C31A-AA9C-4E5F-ACCA-E78703653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0" name="Picture 2" descr=""/>
          <p:cNvPicPr/>
          <p:nvPr/>
        </p:nvPicPr>
        <p:blipFill>
          <a:blip r:embed="rId1"/>
          <a:stretch/>
        </p:blipFill>
        <p:spPr>
          <a:xfrm>
            <a:off x="0" y="2209680"/>
            <a:ext cx="9182160" cy="3619800"/>
          </a:xfrm>
          <a:prstGeom prst="rect">
            <a:avLst/>
          </a:prstGeom>
          <a:ln w="0">
            <a:noFill/>
          </a:ln>
        </p:spPr>
      </p:pic>
      <p:sp>
        <p:nvSpPr>
          <p:cNvPr id="3431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valuating Tactical Gener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ccurately does the system generate natural language descriptions of ev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old-standard matches to determine the correct sentence for each MR that has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Metr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LEU scor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Papineni et al, 2002], N=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0393-BFAE-428E-939A-55C4C5D5C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Text Box 5"/>
          <p:cNvSpPr/>
          <p:nvPr/>
        </p:nvSpPr>
        <p:spPr>
          <a:xfrm>
            <a:off x="5103720" y="259092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Natural Language Com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Rectangle 3"/>
          <p:cNvSpPr/>
          <p:nvPr/>
        </p:nvSpPr>
        <p:spPr>
          <a:xfrm>
            <a:off x="4343400" y="317664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PMingLiU"/>
              </a:rPr>
              <a:t>Purple goalie looses the ball to Pink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8" name="Straight Arrow Connector 10"/>
          <p:cNvCxnSpPr/>
          <p:nvPr/>
        </p:nvCxnSpPr>
        <p:spPr>
          <a:xfrm>
            <a:off x="3657240" y="3328560"/>
            <a:ext cx="762840" cy="252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3439" name="Text Box 6"/>
          <p:cNvSpPr/>
          <p:nvPr/>
        </p:nvSpPr>
        <p:spPr>
          <a:xfrm>
            <a:off x="380880" y="2590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Meaning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Rectangle 4"/>
          <p:cNvSpPr/>
          <p:nvPr/>
        </p:nvSpPr>
        <p:spPr>
          <a:xfrm>
            <a:off x="380880" y="302436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PMingLiU"/>
              </a:rPr>
              <a:t>turnover ( Purple1, Pink8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actical Generation Results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(BLEU Score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42" name="Rectangle 3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64EE-0F38-4D04-8A89-36F3ED1C4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5" name="Picture 3" descr=""/>
          <p:cNvPicPr/>
          <p:nvPr/>
        </p:nvPicPr>
        <p:blipFill>
          <a:blip r:embed="rId1"/>
          <a:stretch/>
        </p:blipFill>
        <p:spPr>
          <a:xfrm>
            <a:off x="68400" y="2120760"/>
            <a:ext cx="89913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valuating Strategic Gener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457200" y="210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ell does the system predict which events the human sportscaster will men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8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C6A5-D29E-41E9-A2A0-3825980E3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Rectangle 4"/>
          <p:cNvSpPr/>
          <p:nvPr/>
        </p:nvSpPr>
        <p:spPr>
          <a:xfrm>
            <a:off x="2895480" y="3048120"/>
            <a:ext cx="3071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7 , purple6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6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6 , purple2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llstopp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2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pass ( purple2 ,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kick ( purple3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PMingLiU"/>
              </a:rPr>
              <a:t>badPass ( purple3 , pink9 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PMingLiU"/>
              </a:rPr>
              <a:t>turnover ( purple3 , pink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trategic Generation Result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Line 5"/>
          <p:cNvSpPr/>
          <p:nvPr/>
        </p:nvSpPr>
        <p:spPr>
          <a:xfrm>
            <a:off x="533520" y="141768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E5BA-6D53-49A6-8589-9D7E9A403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5" name="Picture 4" descr=""/>
          <p:cNvPicPr/>
          <p:nvPr/>
        </p:nvPicPr>
        <p:blipFill>
          <a:blip r:embed="rId1"/>
          <a:stretch/>
        </p:blipFill>
        <p:spPr>
          <a:xfrm>
            <a:off x="-12600" y="1676520"/>
            <a:ext cx="921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Amazon’s Mechanical Turk to recruit human judges (36 English, 7 Korean judges per vide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 commented game cl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minute clips randomly selected from each of the 4 g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ip commented once by a human, and once by the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ed in random counter-balanced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dges were not told which ones were human or machine gene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7" name="Line 5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6BBE-BFA5-4324-BE4E-79D0BFB60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uman Evaluation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“Pseudo Turing Test”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uman Evaluation Metric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61" name="Line 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2" name=""/>
          <p:cNvGraphicFramePr/>
          <p:nvPr/>
        </p:nvGraphicFramePr>
        <p:xfrm>
          <a:off x="685800" y="2286000"/>
          <a:ext cx="7772400" cy="22780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lis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tic Correct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ortscasting 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w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n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flu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r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ber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346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820F-A634-4FDC-AD77-12F2329D2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TextBox 6"/>
          <p:cNvSpPr/>
          <p:nvPr/>
        </p:nvSpPr>
        <p:spPr>
          <a:xfrm>
            <a:off x="259200" y="5029200"/>
            <a:ext cx="859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u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lso asked human judge to predict if a human or machine gener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 sportscast, knowing there was some of each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nglish Human Evaluation Result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66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F283-C81C-4DBD-AA75-D8E0965025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8" name="Picture 81" descr=""/>
          <p:cNvPicPr/>
          <p:nvPr/>
        </p:nvPicPr>
        <p:blipFill>
          <a:blip r:embed="rId1"/>
          <a:stretch/>
        </p:blipFill>
        <p:spPr>
          <a:xfrm>
            <a:off x="30240" y="1905120"/>
            <a:ext cx="911376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459E-18E2-4D5C-992F-411AF7691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Our Semantic-Parser Learner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ILL+WOLFIE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Zelle &amp; Mooney, 1996; Thompson &amp; Mooney, 1999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Separates parser-learning and semantic-lexicon learning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a deterministic parser using ILP technique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CK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Tang &amp; Mooney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mproved ILP algorithm for CHILL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LT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, Wong &amp; Mooney, 2005)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Learns symbolic transformation rules for mapping directly from NL to M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ISSOR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Ge &amp; Mooney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ntegrates semantic interpretation into Collins’ statistical syntactic parser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S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Wong &amp; Mooney, 2006;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syntax-based statistical machine translation method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RISP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Kate &amp; Mooney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a series of SVM classifiers employing a string-kernel to iteratively build semantic representations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nSem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宋体"/>
              </a:rPr>
              <a:t>(Ge &amp; Mooney,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Uses existing statistical syntactic parser &amp; word alignment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5" name="TextBox 4"/>
          <p:cNvSpPr/>
          <p:nvPr/>
        </p:nvSpPr>
        <p:spPr>
          <a:xfrm>
            <a:off x="52200" y="396252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Box 5"/>
          <p:cNvSpPr/>
          <p:nvPr/>
        </p:nvSpPr>
        <p:spPr>
          <a:xfrm>
            <a:off x="52200" y="457200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Korean Human Evaluation Result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70" name="Line 5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4B00-DDF7-41F2-AE43-F911E803E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2" name="Picture 2" descr=""/>
          <p:cNvPicPr/>
          <p:nvPr/>
        </p:nvPicPr>
        <p:blipFill>
          <a:blip r:embed="rId1"/>
          <a:stretch/>
        </p:blipFill>
        <p:spPr>
          <a:xfrm>
            <a:off x="-49320" y="1905120"/>
            <a:ext cx="92473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8EFC-3753-4292-BA31-B90F757A5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Future Direction #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ounded language learning for direction following in a virtual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Eventual goa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Virtual agents in video games and educational software that can take and give instructions in natural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hallenge on Generating Instructions in Virtual Environments (GIVE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3477" name="Picture 3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175080" cy="4923000"/>
          </a:xfrm>
          <a:prstGeom prst="rect">
            <a:avLst/>
          </a:prstGeom>
          <a:ln w="0">
            <a:noFill/>
          </a:ln>
        </p:spPr>
      </p:pic>
      <p:sp>
        <p:nvSpPr>
          <p:cNvPr id="3478" name="TextBox 7"/>
          <p:cNvSpPr/>
          <p:nvPr/>
        </p:nvSpPr>
        <p:spPr>
          <a:xfrm>
            <a:off x="1923840" y="609588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give-challenge.org/research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Slide Number Placeholder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4A2B-52CB-4C91-9F0B-A118CDC8C400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Approach for Grounded Instructional Languag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v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Observes human instructor guiding a human follow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learning as fol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ries to follow human instructio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learning as instr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enerates instructions to guide human follower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2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BF30-59E0-44B5-BF57-D81AEC6E89D9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ture Direction #2: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or Language and 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Language Processing (NLP) and Computer Vision (CV) are both very challenging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 (ML) is now extensively used to automate the construction of both effective NLP and CV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uses supervised ML and requires difficult and expensive human annotation of large text or image/video corpora for trai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ross-Supervision of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and Vi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urally co-occurring perceptual input to supervise languag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urally co-occurring linguistic input to supervise visual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Text Box 4"/>
          <p:cNvSpPr/>
          <p:nvPr/>
        </p:nvSpPr>
        <p:spPr>
          <a:xfrm>
            <a:off x="2509200" y="541008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 cylinder on top of  a red c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8" name="Group 28"/>
          <p:cNvGrpSpPr/>
          <p:nvPr/>
        </p:nvGrpSpPr>
        <p:grpSpPr>
          <a:xfrm>
            <a:off x="3962520" y="3505320"/>
            <a:ext cx="1218960" cy="1904760"/>
            <a:chOff x="3962520" y="3505320"/>
            <a:chExt cx="1218960" cy="1904760"/>
          </a:xfrm>
        </p:grpSpPr>
        <p:sp>
          <p:nvSpPr>
            <p:cNvPr id="3489" name="AutoShape 5"/>
            <p:cNvSpPr/>
            <p:nvPr/>
          </p:nvSpPr>
          <p:spPr>
            <a:xfrm>
              <a:off x="3962520" y="4419720"/>
              <a:ext cx="1218960" cy="990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AutoShape 6"/>
            <p:cNvSpPr/>
            <p:nvPr/>
          </p:nvSpPr>
          <p:spPr>
            <a:xfrm>
              <a:off x="4191120" y="3505320"/>
              <a:ext cx="685800" cy="1218960"/>
            </a:xfrm>
            <a:prstGeom prst="can">
              <a:avLst>
                <a:gd name="adj" fmla="val 25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1" name="Group 26"/>
          <p:cNvGrpSpPr/>
          <p:nvPr/>
        </p:nvGrpSpPr>
        <p:grpSpPr>
          <a:xfrm>
            <a:off x="609480" y="3580920"/>
            <a:ext cx="3353040" cy="2057760"/>
            <a:chOff x="609480" y="3580920"/>
            <a:chExt cx="3353040" cy="2057760"/>
          </a:xfrm>
        </p:grpSpPr>
        <p:sp>
          <p:nvSpPr>
            <p:cNvPr id="3492" name="Rectangle 7"/>
            <p:cNvSpPr/>
            <p:nvPr/>
          </p:nvSpPr>
          <p:spPr>
            <a:xfrm>
              <a:off x="609480" y="4196520"/>
              <a:ext cx="1359000" cy="6426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Line 10"/>
            <p:cNvSpPr/>
            <p:nvPr/>
          </p:nvSpPr>
          <p:spPr>
            <a:xfrm flipH="1" flipV="1">
              <a:off x="1904760" y="4876920"/>
              <a:ext cx="68580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Text Box 11"/>
            <p:cNvSpPr/>
            <p:nvPr/>
          </p:nvSpPr>
          <p:spPr>
            <a:xfrm rot="2995800">
              <a:off x="2040840" y="495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Text Box 13"/>
            <p:cNvSpPr/>
            <p:nvPr/>
          </p:nvSpPr>
          <p:spPr>
            <a:xfrm>
              <a:off x="213120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er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6" name="Group 17"/>
            <p:cNvGrpSpPr/>
            <p:nvPr/>
          </p:nvGrpSpPr>
          <p:grpSpPr>
            <a:xfrm>
              <a:off x="1981080" y="3580920"/>
              <a:ext cx="1981440" cy="1829160"/>
              <a:chOff x="1981080" y="3580920"/>
              <a:chExt cx="1981440" cy="1829160"/>
            </a:xfrm>
          </p:grpSpPr>
          <p:sp>
            <p:nvSpPr>
              <p:cNvPr id="3497" name="Line 14"/>
              <p:cNvSpPr/>
              <p:nvPr/>
            </p:nvSpPr>
            <p:spPr>
              <a:xfrm flipH="1">
                <a:off x="1981080" y="4419720"/>
                <a:ext cx="1524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Line 15"/>
              <p:cNvSpPr/>
              <p:nvPr/>
            </p:nvSpPr>
            <p:spPr>
              <a:xfrm flipV="1">
                <a:off x="3505320" y="3580920"/>
                <a:ext cx="45720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Line 16"/>
              <p:cNvSpPr/>
              <p:nvPr/>
            </p:nvSpPr>
            <p:spPr>
              <a:xfrm>
                <a:off x="3505320" y="4419720"/>
                <a:ext cx="30456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0" name="Group 27"/>
          <p:cNvGrpSpPr/>
          <p:nvPr/>
        </p:nvGrpSpPr>
        <p:grpSpPr>
          <a:xfrm>
            <a:off x="5181480" y="3580920"/>
            <a:ext cx="3340080" cy="2496600"/>
            <a:chOff x="5181480" y="3580920"/>
            <a:chExt cx="3340080" cy="2496600"/>
          </a:xfrm>
        </p:grpSpPr>
        <p:grpSp>
          <p:nvGrpSpPr>
            <p:cNvPr id="3501" name="Group 18"/>
            <p:cNvGrpSpPr/>
            <p:nvPr/>
          </p:nvGrpSpPr>
          <p:grpSpPr>
            <a:xfrm>
              <a:off x="5181480" y="3580920"/>
              <a:ext cx="1981440" cy="1829160"/>
              <a:chOff x="5181480" y="3580920"/>
              <a:chExt cx="1981440" cy="1829160"/>
            </a:xfrm>
          </p:grpSpPr>
          <p:sp>
            <p:nvSpPr>
              <p:cNvPr id="3502" name="Line 19"/>
              <p:cNvSpPr/>
              <p:nvPr/>
            </p:nvSpPr>
            <p:spPr>
              <a:xfrm>
                <a:off x="5638680" y="4419720"/>
                <a:ext cx="1524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Line 20"/>
              <p:cNvSpPr/>
              <p:nvPr/>
            </p:nvSpPr>
            <p:spPr>
              <a:xfrm flipH="1" flipV="1">
                <a:off x="5181480" y="3580920"/>
                <a:ext cx="45720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Line 21"/>
              <p:cNvSpPr/>
              <p:nvPr/>
            </p:nvSpPr>
            <p:spPr>
              <a:xfrm flipH="1">
                <a:off x="5334120" y="4419720"/>
                <a:ext cx="30456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5" name="Rectangle 22"/>
            <p:cNvSpPr/>
            <p:nvPr/>
          </p:nvSpPr>
          <p:spPr>
            <a:xfrm>
              <a:off x="7162920" y="4120560"/>
              <a:ext cx="1358640" cy="6426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is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Line 23"/>
            <p:cNvSpPr/>
            <p:nvPr/>
          </p:nvSpPr>
          <p:spPr>
            <a:xfrm flipV="1">
              <a:off x="6858000" y="4800240"/>
              <a:ext cx="60948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Text Box 24"/>
            <p:cNvSpPr/>
            <p:nvPr/>
          </p:nvSpPr>
          <p:spPr>
            <a:xfrm>
              <a:off x="5866200" y="396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Text Box 25"/>
            <p:cNvSpPr/>
            <p:nvPr/>
          </p:nvSpPr>
          <p:spPr>
            <a:xfrm rot="18526800">
              <a:off x="6551640" y="518076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er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ctivity Recognition in Video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10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ing activities in video generally uses supervised learning trained on human-labeled video cl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guistic information in closed captions (CCs)  can be used as “weak supervision” for training activity recogniz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trained activity recognizers can be used to improve precision of video retrieva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4A81-5826-476B-BF22-C8DA28FF0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ample Soccer Videos</a:t>
            </a:r>
            <a:endParaRPr b="0" lang="en-US" sz="4400" spc="-1" strike="noStrike">
              <a:solidFill>
                <a:srgbClr val="8a1516"/>
              </a:solidFill>
              <a:latin typeface="Arial"/>
            </a:endParaRPr>
          </a:p>
        </p:txBody>
      </p:sp>
      <p:sp>
        <p:nvSpPr>
          <p:cNvPr id="3513" name="Rectangle 3"/>
          <p:cNvSpPr/>
          <p:nvPr/>
        </p:nvSpPr>
        <p:spPr>
          <a:xfrm>
            <a:off x="314280" y="595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Rectangle 4"/>
          <p:cNvSpPr/>
          <p:nvPr/>
        </p:nvSpPr>
        <p:spPr>
          <a:xfrm>
            <a:off x="2474280" y="1434960"/>
            <a:ext cx="219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I do not th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there is any real inten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just trying to make 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he gets his body acros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but it was a free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kick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Rectangle 5"/>
          <p:cNvSpPr/>
          <p:nvPr/>
        </p:nvSpPr>
        <p:spPr>
          <a:xfrm>
            <a:off x="2480040" y="3216240"/>
            <a:ext cx="83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Lo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kick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Rectangle 6"/>
          <p:cNvSpPr/>
          <p:nvPr/>
        </p:nvSpPr>
        <p:spPr>
          <a:xfrm>
            <a:off x="2478240" y="4800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Goal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kick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Rectangle 7"/>
          <p:cNvSpPr/>
          <p:nvPr/>
        </p:nvSpPr>
        <p:spPr>
          <a:xfrm>
            <a:off x="7143840" y="146376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Good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save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wel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Rectangle 8"/>
          <p:cNvSpPr/>
          <p:nvPr/>
        </p:nvSpPr>
        <p:spPr>
          <a:xfrm>
            <a:off x="7073640" y="3124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I think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made a wonderfu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fingertip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save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ther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Rectangle 9"/>
          <p:cNvSpPr/>
          <p:nvPr/>
        </p:nvSpPr>
        <p:spPr>
          <a:xfrm>
            <a:off x="7096680" y="4740120"/>
            <a:ext cx="164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nd it is a re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chopped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save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Rectangle 10"/>
          <p:cNvSpPr/>
          <p:nvPr/>
        </p:nvSpPr>
        <p:spPr>
          <a:xfrm>
            <a:off x="1818360" y="7621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MS PGothic"/>
              </a:rPr>
              <a:t>K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Rectangle 11"/>
          <p:cNvSpPr/>
          <p:nvPr/>
        </p:nvSpPr>
        <p:spPr>
          <a:xfrm>
            <a:off x="6302520" y="685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MS PGothic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2" name="kick2-new.mpg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133360" cy="1454400"/>
          </a:xfrm>
          <a:prstGeom prst="rect">
            <a:avLst/>
          </a:prstGeom>
          <a:ln w="0">
            <a:noFill/>
          </a:ln>
        </p:spPr>
      </p:pic>
      <p:pic>
        <p:nvPicPr>
          <p:cNvPr id="3523" name="kick3.mpg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524" name="kick4.mpg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525" name="save1.mpg" descr=""/>
          <p:cNvPicPr/>
          <p:nvPr/>
        </p:nvPicPr>
        <p:blipFill>
          <a:blip r:embed="rId4"/>
          <a:stretch/>
        </p:blipFill>
        <p:spPr>
          <a:xfrm>
            <a:off x="4800600" y="1219320"/>
            <a:ext cx="2235240" cy="1523880"/>
          </a:xfrm>
          <a:prstGeom prst="rect">
            <a:avLst/>
          </a:prstGeom>
          <a:ln w="0">
            <a:noFill/>
          </a:ln>
        </p:spPr>
      </p:pic>
      <p:pic>
        <p:nvPicPr>
          <p:cNvPr id="3526" name="save2.mpg" descr=""/>
          <p:cNvPicPr/>
          <p:nvPr/>
        </p:nvPicPr>
        <p:blipFill>
          <a:blip r:embed="rId5"/>
          <a:stretch/>
        </p:blipFill>
        <p:spPr>
          <a:xfrm>
            <a:off x="4800600" y="2819520"/>
            <a:ext cx="2209680" cy="1506240"/>
          </a:xfrm>
          <a:prstGeom prst="rect">
            <a:avLst/>
          </a:prstGeom>
          <a:ln w="0">
            <a:noFill/>
          </a:ln>
        </p:spPr>
      </p:pic>
      <p:pic>
        <p:nvPicPr>
          <p:cNvPr id="3527" name="save3.mpg" descr=""/>
          <p:cNvPicPr/>
          <p:nvPr/>
        </p:nvPicPr>
        <p:blipFill>
          <a:blip r:embed="rId6"/>
          <a:stretch/>
        </p:blipFill>
        <p:spPr>
          <a:xfrm>
            <a:off x="4876920" y="4419720"/>
            <a:ext cx="2235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8476" fill="hold"/>
                                        <p:tgtEl>
                                          <p:spTgt spid="3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476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8476" fill="hold"/>
                                        <p:tgtEl>
                                          <p:spTgt spid="3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6952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5987" fill="hold"/>
                                        <p:tgtEl>
                                          <p:spTgt spid="3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2939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8476" fill="hold"/>
                                        <p:tgtEl>
                                          <p:spTgt spid="3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1415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8476" fill="hold"/>
                                        <p:tgtEl>
                                          <p:spTgt spid="3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9891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5987" fill="hold"/>
                                        <p:tgtEl>
                                          <p:spTgt spid="3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352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352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0" dur="1" fill="hold"/>
                                        <p:tgtEl>
                                          <p:spTgt spid="3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352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352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3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3524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3524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3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3525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352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3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352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352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3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52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352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5" dur="1" fill="hold"/>
                                        <p:tgtEl>
                                          <p:spTgt spid="3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Rectangle 2"/>
          <p:cNvSpPr/>
          <p:nvPr/>
        </p:nvSpPr>
        <p:spPr>
          <a:xfrm>
            <a:off x="2445120" y="996840"/>
            <a:ext cx="2242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If you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defending a lead, y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hrow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back takes it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far up the pitch and 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hrow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-in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Rectangle 3"/>
          <p:cNvSpPr/>
          <p:nvPr/>
        </p:nvSpPr>
        <p:spPr>
          <a:xfrm>
            <a:off x="2470680" y="4959360"/>
            <a:ext cx="175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nd Ca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Tevez has wo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hrow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Rectangle 4"/>
          <p:cNvSpPr/>
          <p:nvPr/>
        </p:nvSpPr>
        <p:spPr>
          <a:xfrm>
            <a:off x="2450520" y="2901960"/>
            <a:ext cx="170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n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shot for a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hrow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Rectangle 5"/>
          <p:cNvSpPr/>
          <p:nvPr/>
        </p:nvSpPr>
        <p:spPr>
          <a:xfrm>
            <a:off x="7183800" y="2825640"/>
            <a:ext cx="206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When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re going to pass it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the back, it is a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pure</a:t>
            </a:r>
            <a:r>
              <a:rPr b="1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ouch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Rectangle 6"/>
          <p:cNvSpPr/>
          <p:nvPr/>
        </p:nvSpPr>
        <p:spPr>
          <a:xfrm>
            <a:off x="7165440" y="4883040"/>
            <a:ext cx="2091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Look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that, Henry, again, 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had time on the ball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take another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ouch</a:t>
            </a:r>
            <a:r>
              <a:rPr b="0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nd prepare that b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properly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Rectangle 7"/>
          <p:cNvSpPr/>
          <p:nvPr/>
        </p:nvSpPr>
        <p:spPr>
          <a:xfrm>
            <a:off x="7235280" y="1006560"/>
            <a:ext cx="201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“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All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needed was a </a:t>
            </a:r>
            <a:r>
              <a:rPr b="1" lang="en-US" sz="1400" spc="-1" strike="noStrike">
                <a:solidFill>
                  <a:srgbClr val="ff0000"/>
                </a:solidFill>
                <a:latin typeface="Palatino"/>
                <a:ea typeface="MS PGothic"/>
              </a:rPr>
              <a:t>touch</a:t>
            </a:r>
            <a:r>
              <a:rPr b="0" lang="en-US" sz="1400" spc="-1" strike="noStrike">
                <a:solidFill>
                  <a:srgbClr val="1f4786"/>
                </a:solidFill>
                <a:latin typeface="Palatino"/>
                <a:ea typeface="MS PGothic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Rectangle 8"/>
          <p:cNvSpPr/>
          <p:nvPr/>
        </p:nvSpPr>
        <p:spPr>
          <a:xfrm>
            <a:off x="1344960" y="15228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MS PGothic"/>
              </a:rPr>
              <a:t>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Rectangle 9"/>
          <p:cNvSpPr/>
          <p:nvPr/>
        </p:nvSpPr>
        <p:spPr>
          <a:xfrm>
            <a:off x="6106320" y="152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1516"/>
                </a:solidFill>
                <a:latin typeface="Palatino"/>
                <a:ea typeface="MS PGothic"/>
              </a:rPr>
              <a:t>T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6" name="throw1.mpg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2346480" cy="1600200"/>
          </a:xfrm>
          <a:prstGeom prst="rect">
            <a:avLst/>
          </a:prstGeom>
          <a:ln w="0">
            <a:noFill/>
          </a:ln>
        </p:spPr>
      </p:pic>
      <p:pic>
        <p:nvPicPr>
          <p:cNvPr id="3537" name="throw2.mpg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2362320" cy="1611360"/>
          </a:xfrm>
          <a:prstGeom prst="rect">
            <a:avLst/>
          </a:prstGeom>
          <a:ln w="0">
            <a:noFill/>
          </a:ln>
        </p:spPr>
      </p:pic>
      <p:pic>
        <p:nvPicPr>
          <p:cNvPr id="3538" name="throw4.mpg" descr=""/>
          <p:cNvPicPr/>
          <p:nvPr/>
        </p:nvPicPr>
        <p:blipFill>
          <a:blip r:embed="rId3"/>
          <a:stretch/>
        </p:blipFill>
        <p:spPr>
          <a:xfrm>
            <a:off x="152280" y="4495680"/>
            <a:ext cx="2362320" cy="1611360"/>
          </a:xfrm>
          <a:prstGeom prst="rect">
            <a:avLst/>
          </a:prstGeom>
          <a:ln w="0">
            <a:noFill/>
          </a:ln>
        </p:spPr>
      </p:pic>
      <p:pic>
        <p:nvPicPr>
          <p:cNvPr id="3539" name="touch2.mpg" descr=""/>
          <p:cNvPicPr/>
          <p:nvPr/>
        </p:nvPicPr>
        <p:blipFill>
          <a:blip r:embed="rId4"/>
          <a:stretch/>
        </p:blipFill>
        <p:spPr>
          <a:xfrm>
            <a:off x="4876920" y="838080"/>
            <a:ext cx="2361960" cy="1611360"/>
          </a:xfrm>
          <a:prstGeom prst="rect">
            <a:avLst/>
          </a:prstGeom>
          <a:ln w="0">
            <a:noFill/>
          </a:ln>
        </p:spPr>
      </p:pic>
      <p:pic>
        <p:nvPicPr>
          <p:cNvPr id="3540" name="touch3.mpg" descr=""/>
          <p:cNvPicPr/>
          <p:nvPr/>
        </p:nvPicPr>
        <p:blipFill>
          <a:blip r:embed="rId5"/>
          <a:stretch/>
        </p:blipFill>
        <p:spPr>
          <a:xfrm>
            <a:off x="4876920" y="2743200"/>
            <a:ext cx="2361960" cy="1611360"/>
          </a:xfrm>
          <a:prstGeom prst="rect">
            <a:avLst/>
          </a:prstGeom>
          <a:ln w="0">
            <a:noFill/>
          </a:ln>
        </p:spPr>
      </p:pic>
      <p:pic>
        <p:nvPicPr>
          <p:cNvPr id="3541" name="touch4.mpg" descr=""/>
          <p:cNvPicPr/>
          <p:nvPr/>
        </p:nvPicPr>
        <p:blipFill>
          <a:blip r:embed="rId6"/>
          <a:stretch/>
        </p:blipFill>
        <p:spPr>
          <a:xfrm>
            <a:off x="4876920" y="4484520"/>
            <a:ext cx="23619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5987" fill="hold"/>
                                        <p:tgtEl>
                                          <p:spTgt spid="3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987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7975" fill="hold"/>
                                        <p:tgtEl>
                                          <p:spTgt spid="3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962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8476" fill="hold"/>
                                        <p:tgtEl>
                                          <p:spTgt spid="3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2438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8476" fill="hold"/>
                                        <p:tgtEl>
                                          <p:spTgt spid="3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914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8476" fill="hold"/>
                                        <p:tgtEl>
                                          <p:spTgt spid="3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939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8476" fill="hold"/>
                                        <p:tgtEl>
                                          <p:spTgt spid="3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3536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3536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1" dur="1" fill="hold"/>
                                        <p:tgtEl>
                                          <p:spTgt spid="3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537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537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6" dur="1" fill="hold"/>
                                        <p:tgtEl>
                                          <p:spTgt spid="3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3538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3538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" dur="1" fill="hold"/>
                                        <p:tgtEl>
                                          <p:spTgt spid="3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3539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3539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6" dur="1" fill="hold"/>
                                        <p:tgtEl>
                                          <p:spTgt spid="3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3540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3540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1" dur="1" fill="hold"/>
                                        <p:tgtEl>
                                          <p:spTgt spid="3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3541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3541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3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A7B-88CD-47FB-8B61-952F4DC1E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 language learning work uses expensive, unrealistic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developed language learning systems that can learn from sentences paired with an ambiguous perceptual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evaluated it on learning to sportscast simulated Robocup games where it learns to commentate games about as well as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arning to connect language and perception is an important and exciting research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ACAD-AC68-468A-AF6A-AA7A2D4F9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Language from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ual Con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do not learn language from annotated corp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do they learn language from just reading the newspaper, surfing the web, or listening to the ra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nsupervised language lear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RPA Learning by Reading Progra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way to learn language is to perceive language in the context of its use in the physical and social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quires inferring the meaning of utterances from their perceptual cont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172D-AD34-4C1B-A53D-9D060F26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nguage Ground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ings of many words are grounded in our perception of the physical world: red, ball, cup, run, hit, fall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ymbol Grounding: Harnad (1990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any abstract words and meanings are metaphorical abstractions of terms grounded in the physical world: up, down, over, i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koff and Johnson’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etaphors We Live B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ts difficult to put my ideas into word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LP work represents meaning without any connection to perception; circularly defining the meanings of words in terms of other words or meaningless symbols with no firm foun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ircular Definition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rom WordNe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4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ep (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e asleep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leep (ad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 a state of sleep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A9A0-3BFC-4845-A1DA-818B396E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10-04-22T03:03:15Z</dcterms:modified>
  <cp:revision>238</cp:revision>
  <dc:subject/>
  <dc:title>Intelligent Information Retrieval and Web Search</dc:title>
</cp:coreProperties>
</file>