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3593880" y="-3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3"/>
          </p:nvPr>
        </p:nvSpPr>
        <p:spPr>
          <a:xfrm>
            <a:off x="0" y="79815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4"/>
          </p:nvPr>
        </p:nvSpPr>
        <p:spPr>
          <a:xfrm>
            <a:off x="3593880" y="79815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79D02C7-A1CD-40DD-8E9F-E07F0599690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4240" y="7981920"/>
            <a:ext cx="2749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5E4F057-A7F5-48E9-89B0-1B61AC7A8A7E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B7DE-BBC0-4BE9-BDC5-952346A3D7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37DD1-A709-4365-954D-8CA78154C0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F79E-2884-4BC0-9D09-39F0030BF3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25DE-9F3C-41CC-96E6-9CC28ED9B9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05DB-3D6E-4C98-B87C-2CB37882C1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A742-3E69-47DF-838A-387771C986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99B91-B1D0-4241-9399-4CA9665511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2E36B-6924-4B49-B450-E992B7B1BA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8CA6-1F01-4F60-B9DB-8E52DC4ED2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7673-276C-4CBE-83D6-4400554DAD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AD444-603A-487E-96F6-0DBB91D662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643B-F705-4D13-A493-D8E6631310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10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1DB7-4BFF-4EA1-8A38-9881DC9722E7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10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2" name="Freeform 15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4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5" name="Freeform 19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6" name="Freeform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8" name="Freeform 20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9" name="Freeform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D013-0681-437F-8003-1285890165E5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7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B678-C2CD-401E-8CC1-7BE9A3DE7A1C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Assignment 11:</a:t>
            </a:r>
            <a:br>
              <a:rPr sz="4800"/>
            </a:b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ritter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W11 Assignment Over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Enu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Aft>
                <a:spcPts val="10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ccess a Direction or Attack a class external to Critter would use the following syntax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Aft>
                <a:spcPts val="10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ter.Direction.NOR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Aft>
                <a:spcPts val="10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ter.Attack.POU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Aft>
                <a:spcPts val="10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es that are descendants of Critter (like the ones you implement) do not have to use the Critt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Aft>
                <a:spcPts val="1001"/>
              </a:spcAft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implic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Aft>
                <a:spcPts val="10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ion.SOUTH, Attack.RO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ritt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extends Critte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tends Crit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ells the simulator your class is a cri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ride methods from Critter based on Critter sp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tter has a number of methods not required by the 4 simple Critter classes (Ant, Bird, Vulture, Hipp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you should use them to create an interesting and successful Longho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ritter exercise: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ton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critter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the dumbest of all critters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52280" y="2057400"/>
          <a:ext cx="8410680" cy="2860560"/>
        </p:xfrm>
        <a:graphic>
          <a:graphicData uri="http://schemas.openxmlformats.org/drawingml/2006/table">
            <a:tbl>
              <a:tblPr/>
              <a:tblGrid>
                <a:gridCol w="1623960"/>
                <a:gridCol w="67867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hav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o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way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ttack.RO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way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lor.GR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way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irection.CEN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S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way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Picture 30" descr=""/>
          <p:cNvPicPr/>
          <p:nvPr/>
        </p:nvPicPr>
        <p:blipFill>
          <a:blip r:embed="rId1"/>
          <a:stretch/>
        </p:blipFill>
        <p:spPr>
          <a:xfrm>
            <a:off x="5410080" y="4662360"/>
            <a:ext cx="37656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deas for stat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must not only have the right state, but update that state properly when relevant actions occu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unting is helpfu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many total moves has this animal mad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many times has it fough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membering recent actions in fields is helpfu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direction did the animal move las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many times has it moved that way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Click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want to implement a Critter that moves West until it is in a fight. After the fight the Critter moves East until it is in another fight. Each time the Critter is in a fight it shifts its direction for the next move from West to East or East to Wes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 the move method have a loop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b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Keeping stat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w can a critter move west until it fight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public Direction getMove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while (</a:t>
            </a:r>
            <a:r>
              <a:rPr b="0" i="1" lang="en-US" sz="1800" spc="-1" strike="noStrike">
                <a:solidFill>
                  <a:srgbClr val="800000"/>
                </a:solidFill>
                <a:latin typeface="Courier New"/>
              </a:rPr>
              <a:t>animal has not fought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return Direction.EAS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while (</a:t>
            </a:r>
            <a:r>
              <a:rPr b="0" i="1" lang="en-US" sz="1800" spc="-1" strike="noStrike">
                <a:solidFill>
                  <a:srgbClr val="800000"/>
                </a:solidFill>
                <a:latin typeface="Courier New"/>
              </a:rPr>
              <a:t>animal has not fought a second time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return Direction.EAS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t fights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tal times Critter has fou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irection getMove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ht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 2 == 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Direction.WES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Direction.EAS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685800" y="1905120"/>
            <a:ext cx="6629040" cy="1904760"/>
            <a:chOff x="685800" y="1905120"/>
            <a:chExt cx="6629040" cy="1904760"/>
          </a:xfrm>
        </p:grpSpPr>
        <p:sp>
          <p:nvSpPr>
            <p:cNvPr id="141" name="Line 5"/>
            <p:cNvSpPr/>
            <p:nvPr/>
          </p:nvSpPr>
          <p:spPr>
            <a:xfrm flipH="1" flipV="1">
              <a:off x="685800" y="1981080"/>
              <a:ext cx="6629040" cy="18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Line 6"/>
            <p:cNvSpPr/>
            <p:nvPr/>
          </p:nvSpPr>
          <p:spPr>
            <a:xfrm flipH="1">
              <a:off x="685800" y="1905120"/>
              <a:ext cx="6629040" cy="18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esting crit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MiniMain to create String based on actions and print those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cus on one specific critter of one specific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spawn 1 of each animal, for debug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sure your fields update proper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atements to see field val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at the behavior one step at a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"Tick" rather than "Go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ritter exercise: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nak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85880" y="1295280"/>
          <a:ext cx="7816680" cy="4525920"/>
        </p:xfrm>
        <a:graphic>
          <a:graphicData uri="http://schemas.openxmlformats.org/drawingml/2006/table">
            <a:tbl>
              <a:tblPr/>
              <a:tblGrid>
                <a:gridCol w="1623960"/>
                <a:gridCol w="61927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hav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nake(boolean northSnak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nates between SCRATCH and POU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th bound snakes: 5 steps north, pause 5 ticks, 5 steps north, pause 5 ticks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wis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steps west, pause 5 ticks, 5 steps west, pause 5 ticks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ways e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K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28" descr="C:\Users\scottm\AppData\Local\Microsoft\Windows\Temporary Internet Files\Content.IE5\1B98BKIL\MC900446202[1].wmf"/>
          <p:cNvPicPr/>
          <p:nvPr/>
        </p:nvPicPr>
        <p:blipFill>
          <a:blip r:embed="rId1"/>
          <a:stretch/>
        </p:blipFill>
        <p:spPr>
          <a:xfrm>
            <a:off x="6019920" y="4800600"/>
            <a:ext cx="22860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termining necessary fiel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ormation required to decide what move to mak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ion to go 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ngth of current cyc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mber of moves made in current cyc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membering things you've done in the pas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unte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la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rit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141560"/>
                <a:tab algn="l" pos="2282760"/>
                <a:tab algn="l" pos="3424320"/>
                <a:tab algn="l" pos="4565520"/>
                <a:tab algn="l" pos="5707080"/>
                <a:tab algn="l" pos="6848640"/>
                <a:tab algn="l" pos="7989840"/>
                <a:tab algn="l" pos="9131400"/>
                <a:tab algn="l" pos="102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imulation world with animal objects with behavi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282760"/>
                <a:tab algn="l" pos="3424320"/>
                <a:tab algn="l" pos="4565520"/>
                <a:tab algn="l" pos="5707080"/>
                <a:tab algn="l" pos="6848640"/>
                <a:tab algn="l" pos="7989840"/>
                <a:tab algn="l" pos="9131400"/>
                <a:tab algn="l" pos="102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gh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imal figh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282760"/>
                <a:tab algn="l" pos="3424320"/>
                <a:tab algn="l" pos="4565520"/>
                <a:tab algn="l" pos="5707080"/>
                <a:tab algn="l" pos="6848640"/>
                <a:tab algn="l" pos="7989840"/>
                <a:tab algn="l" pos="9131400"/>
                <a:tab algn="l" pos="102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l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or to disp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282760"/>
                <a:tab algn="l" pos="3424320"/>
                <a:tab algn="l" pos="4565520"/>
                <a:tab algn="l" pos="5707080"/>
                <a:tab algn="l" pos="6848640"/>
                <a:tab algn="l" pos="7989840"/>
                <a:tab algn="l" pos="9131400"/>
                <a:tab algn="l" pos="102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ov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282760"/>
                <a:tab algn="l" pos="3424320"/>
                <a:tab algn="l" pos="4565520"/>
                <a:tab algn="l" pos="5707080"/>
                <a:tab algn="l" pos="6848640"/>
                <a:tab algn="l" pos="7989840"/>
                <a:tab algn="l" pos="9131400"/>
                <a:tab algn="l" pos="102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ter to disp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282760"/>
                <a:tab algn="l" pos="3424320"/>
                <a:tab algn="l" pos="4565520"/>
                <a:tab algn="l" pos="5707080"/>
                <a:tab algn="l" pos="6848640"/>
                <a:tab algn="l" pos="7989840"/>
                <a:tab algn="l" pos="9131400"/>
                <a:tab algn="l" pos="102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t foo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141560"/>
                <a:tab algn="l" pos="2282760"/>
                <a:tab algn="l" pos="3424320"/>
                <a:tab algn="l" pos="4565520"/>
                <a:tab algn="l" pos="5707080"/>
                <a:tab algn="l" pos="6848640"/>
                <a:tab algn="l" pos="7989840"/>
                <a:tab algn="l" pos="9131400"/>
                <a:tab algn="l" pos="102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must impleme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282760"/>
                <a:tab algn="l" pos="3424320"/>
                <a:tab algn="l" pos="4565520"/>
                <a:tab algn="l" pos="5707080"/>
                <a:tab algn="l" pos="6848640"/>
                <a:tab algn="l" pos="7989840"/>
                <a:tab algn="l" pos="9131400"/>
                <a:tab algn="l" pos="102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282760"/>
                <a:tab algn="l" pos="3424320"/>
                <a:tab algn="l" pos="4565520"/>
                <a:tab algn="l" pos="5707080"/>
                <a:tab algn="l" pos="6848640"/>
                <a:tab algn="l" pos="7989840"/>
                <a:tab algn="l" pos="9131400"/>
                <a:tab algn="l" pos="102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282760"/>
                <a:tab algn="l" pos="3424320"/>
                <a:tab algn="l" pos="4565520"/>
                <a:tab algn="l" pos="5707080"/>
                <a:tab algn="l" pos="6848640"/>
                <a:tab algn="l" pos="7989840"/>
                <a:tab algn="l" pos="9131400"/>
                <a:tab algn="l" pos="102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ul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282760"/>
                <a:tab algn="l" pos="3424320"/>
                <a:tab algn="l" pos="4565520"/>
                <a:tab algn="l" pos="5707080"/>
                <a:tab algn="l" pos="6848640"/>
                <a:tab algn="l" pos="7989840"/>
                <a:tab algn="l" pos="9131400"/>
                <a:tab algn="l" pos="102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ip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282760"/>
                <a:tab algn="l" pos="3424320"/>
                <a:tab algn="l" pos="4565520"/>
                <a:tab algn="l" pos="5707080"/>
                <a:tab algn="l" pos="6848640"/>
                <a:tab algn="l" pos="7989840"/>
                <a:tab algn="l" pos="9131400"/>
                <a:tab algn="l" pos="102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nghorn (Wins Overall and Creativ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0" y="-76320"/>
            <a:ext cx="9147240" cy="72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w the simulator work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you press "Go", the simulator enters a loop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ve each animal once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Mov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, in random or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animal has moved onto an occupied square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gh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ey concept: The simulator is in control, NOT your anim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Mov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return only one move at a tim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Mov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't use loops to return a sequence of mov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wouldn't be fair to let one animal make many moves in one turn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animal must keep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as fields, instance variables) so that it can make a single move, and know what moves to make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co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core for each specie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r all animals of that spec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umber of animals aliv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umber of fights w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ieces of food eat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o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ulator places food randoml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ound worl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ting food increases score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cies, but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itters sleep after ea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7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ulator (CritterMain) handles th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ritter that gets in a fight while sleeping always lo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7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ulator handles th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8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8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at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Aft>
                <a:spcPts val="10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Critters of same species next to each other mate and produce a baby Cri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Aft>
                <a:spcPts val="10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or handles th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Aft>
                <a:spcPts val="10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ters not asked if they want to m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Aft>
                <a:spcPts val="10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ters vulnerable while mating (heart graphic indicates matin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Aft>
                <a:spcPts val="1001"/>
              </a:spcAft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matically lose figh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Aft>
                <a:spcPts val="10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imulator handles all of th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Aft>
                <a:spcPts val="1001"/>
              </a:spcAft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don't write any code to deal with mat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0" y="984240"/>
            <a:ext cx="6781680" cy="5842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86040" y="1371600"/>
            <a:ext cx="33526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ritter </a:t>
            </a:r>
            <a:br>
              <a:rPr sz="4400"/>
            </a:b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nu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ter class has two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nest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nums for Direction of movement and how to f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914400" y="2297160"/>
            <a:ext cx="74674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cottm</cp:lastModifiedBy>
  <cp:lastPrinted>2009-04-22T19:24:48Z</cp:lastPrinted>
  <dcterms:modified xsi:type="dcterms:W3CDTF">2020-09-27T17:45:19Z</dcterms:modified>
  <cp:revision>1472</cp:revision>
  <dc:subject/>
  <dc:title>Building Java Programs</dc:title>
</cp:coreProperties>
</file>