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343560" cy="8402760"/>
          </a:xfrm>
          <a:custGeom>
            <a:avLst/>
            <a:gdLst>
              <a:gd name="textAreaLeft" fmla="*/ 360 w 6343560"/>
              <a:gd name="textAreaRight" fmla="*/ 6343200 w 6343560"/>
              <a:gd name="textAreaTop" fmla="*/ 360 h 8402760"/>
              <a:gd name="textAreaBottom" fmla="*/ 8402400 h 8402760"/>
            </a:gdLst>
            <a:ahLst/>
            <a:rect l="textAreaLeft" t="textAreaTop" r="textAreaRight" b="textAreaBottom"/>
            <a:pathLst>
              <a:path w="21600" h="28611">
                <a:moveTo>
                  <a:pt x="5" y="0"/>
                </a:moveTo>
                <a:arcTo wR="5" hR="5" stAng="16200000" swAng="-5400000"/>
                <a:lnTo>
                  <a:pt x="0" y="28606"/>
                </a:lnTo>
                <a:arcTo wR="5" hR="5" stAng="10800000" swAng="-5400000"/>
                <a:lnTo>
                  <a:pt x="21595" y="286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0" y="0"/>
            <a:ext cx="6343560" cy="8402760"/>
          </a:xfrm>
          <a:custGeom>
            <a:avLst/>
            <a:gdLst>
              <a:gd name="textAreaLeft" fmla="*/ 360 w 6343560"/>
              <a:gd name="textAreaRight" fmla="*/ 6343200 w 6343560"/>
              <a:gd name="textAreaTop" fmla="*/ 360 h 8402760"/>
              <a:gd name="textAreaBottom" fmla="*/ 8402400 h 8402760"/>
            </a:gdLst>
            <a:ahLst/>
            <a:rect l="textAreaLeft" t="textAreaTop" r="textAreaRight" b="textAreaBottom"/>
            <a:pathLst>
              <a:path w="21600" h="28611">
                <a:moveTo>
                  <a:pt x="5" y="0"/>
                </a:moveTo>
                <a:arcTo wR="5" hR="5" stAng="16200000" swAng="-5400000"/>
                <a:lnTo>
                  <a:pt x="0" y="28606"/>
                </a:lnTo>
                <a:arcTo wR="5" hR="5" stAng="10800000" swAng="-5400000"/>
                <a:lnTo>
                  <a:pt x="21595" y="286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746440" cy="417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594240" y="0"/>
            <a:ext cx="2749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1071360" y="630360"/>
            <a:ext cx="4198680" cy="314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body"/>
          </p:nvPr>
        </p:nvSpPr>
        <p:spPr>
          <a:xfrm>
            <a:off x="846000" y="3990600"/>
            <a:ext cx="4648320" cy="37782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2"/>
          </p:nvPr>
        </p:nvSpPr>
        <p:spPr>
          <a:xfrm>
            <a:off x="-360" y="7981920"/>
            <a:ext cx="2746440" cy="417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3"/>
          </p:nvPr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87384-022C-4306-BA74-9783D678462A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E300D-D3DE-4947-830C-6CF4A2432EE7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B4C53-AA7B-4196-9756-E3A13F926314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1D1AC-7982-4E98-8D64-96508D8A1A11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05C3B-872D-49FF-A633-1DDF11A6A0BD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4E723-00AD-491F-8AA0-380743797878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A06A2-2A51-447D-B33C-31D05D6D97DC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EF7E7-18A0-4A6B-B9D3-EB26E834CCD0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BAB75-DFE7-4A8A-9047-CFC82E220762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8A318-7FA6-40ED-8D26-00E04299E4D4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F4DCE-672C-4678-9D14-6AABD036DCEA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3EFED-2D79-458A-9894-4036B6CA1119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F30C2-812B-441B-A12D-D72207E2F99B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99C70-3353-45C9-9FB2-A4DCEB3CC2A4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8154B-1592-491B-9FF5-C0A9EB6E46D3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B3EE0-6621-476F-9058-2A847210F636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FF5D6-8AF1-489C-8836-8514837A26FB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EC33D-ACA5-4D27-AE62-26D46161DBD4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EFA17-A8C3-4FF6-977A-EE477E40EF85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4526A-E18E-4EAC-B08A-508DBD891E6E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0F3E6-D043-4DE2-9106-45B73FB83A8D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91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076280"/>
            <a:ext cx="891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952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5360" y="137124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07628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407628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5360" y="407628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E8CC-5032-4146-9379-2FD1AF4515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28F1-4D20-4D26-A532-06930C4779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6E3F-267B-4E00-99A2-57CC939A81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D2EB-A56B-47FE-BEC8-C78A7FE815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6045-0F56-48EC-A2A5-FA465CF08D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-246240"/>
            <a:ext cx="822636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DAB5-3250-4ABA-8599-732105AC51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96C0-8FA2-4D02-93F8-AE4DBC51B9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952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5CCC-B217-4C33-BDC3-3448E0ACB8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4076280"/>
            <a:ext cx="891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1519-5D5B-4E79-95C9-C7A41AE004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91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" y="4076280"/>
            <a:ext cx="891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5C2E-67F3-44CE-B901-C847E331A1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952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2825-52F9-4495-BC2A-A06006F8AF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5360" y="137124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" y="407628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407628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5360" y="407628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3ABB-39D9-4CB1-897C-5B7B9FF43B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246240"/>
            <a:ext cx="822636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952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076280"/>
            <a:ext cx="891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9360" y="0"/>
            <a:ext cx="9167400" cy="531720"/>
            <a:chOff x="-9360" y="0"/>
            <a:chExt cx="9167400" cy="531720"/>
          </a:xfrm>
        </p:grpSpPr>
        <p:sp>
          <p:nvSpPr>
            <p:cNvPr id="3" name="AutoShape 4"/>
            <p:cNvSpPr/>
            <p:nvPr/>
          </p:nvSpPr>
          <p:spPr>
            <a:xfrm>
              <a:off x="-9360" y="0"/>
              <a:ext cx="9162720" cy="5317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/>
                </a:gs>
                <a:gs pos="100000">
                  <a:srgbClr val="ff4a00">
                    <a:alpha val="4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267080" y="0"/>
              <a:ext cx="4876920" cy="27036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/>
                </a:gs>
                <a:gs pos="100000">
                  <a:srgbClr val="e10004">
                    <a:alpha val="4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" name="Group 6"/>
            <p:cNvGrpSpPr/>
            <p:nvPr/>
          </p:nvGrpSpPr>
          <p:grpSpPr>
            <a:xfrm>
              <a:off x="0" y="142200"/>
              <a:ext cx="9158040" cy="251280"/>
              <a:chOff x="0" y="142200"/>
              <a:chExt cx="9158040" cy="251280"/>
            </a:xfrm>
          </p:grpSpPr>
          <p:grpSp>
            <p:nvGrpSpPr>
              <p:cNvPr id="6" name="Group 7"/>
              <p:cNvGrpSpPr/>
              <p:nvPr/>
            </p:nvGrpSpPr>
            <p:grpSpPr>
              <a:xfrm>
                <a:off x="0" y="142200"/>
                <a:ext cx="9158040" cy="251280"/>
                <a:chOff x="0" y="142200"/>
                <a:chExt cx="9158040" cy="251280"/>
              </a:xfrm>
            </p:grpSpPr>
            <p:pic>
              <p:nvPicPr>
                <p:cNvPr id="7" name="Picture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00" y="142200"/>
                  <a:ext cx="914904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Text Box 9"/>
                <p:cNvSpPr/>
                <p:nvPr/>
              </p:nvSpPr>
              <p:spPr>
                <a:xfrm rot="21420000">
                  <a:off x="0" y="280080"/>
                  <a:ext cx="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Group 10"/>
              <p:cNvGrpSpPr/>
              <p:nvPr/>
            </p:nvGrpSpPr>
            <p:grpSpPr>
              <a:xfrm>
                <a:off x="0" y="142200"/>
                <a:ext cx="9158040" cy="234000"/>
                <a:chOff x="0" y="142200"/>
                <a:chExt cx="9158040" cy="234000"/>
              </a:xfrm>
            </p:grpSpPr>
            <p:pic>
              <p:nvPicPr>
                <p:cNvPr id="10" name="Picture 1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200"/>
                  <a:ext cx="9151920" cy="234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Text Box 12"/>
                <p:cNvSpPr/>
                <p:nvPr/>
              </p:nvSpPr>
              <p:spPr>
                <a:xfrm rot="21420000">
                  <a:off x="0" y="279720"/>
                  <a:ext cx="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Text Box 13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10 by Pearson Educa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758A3-46B6-4523-9BD8-BB1894A3490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1"/>
          </p:nvPr>
        </p:nvSpPr>
        <p:spPr>
          <a:xfrm>
            <a:off x="670572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84177-1E3C-4EB6-88FF-84B2F7AE96C1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10 by Pearson Educa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-9360" y="0"/>
            <a:ext cx="9167400" cy="531720"/>
            <a:chOff x="-9360" y="0"/>
            <a:chExt cx="9167400" cy="531720"/>
          </a:xfrm>
        </p:grpSpPr>
        <p:sp>
          <p:nvSpPr>
            <p:cNvPr id="54" name="AutoShape 5"/>
            <p:cNvSpPr/>
            <p:nvPr/>
          </p:nvSpPr>
          <p:spPr>
            <a:xfrm>
              <a:off x="-9360" y="0"/>
              <a:ext cx="9162720" cy="5317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/>
                </a:gs>
                <a:gs pos="100000">
                  <a:srgbClr val="ff4a00">
                    <a:alpha val="4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" name="AutoShape 6"/>
            <p:cNvSpPr/>
            <p:nvPr/>
          </p:nvSpPr>
          <p:spPr>
            <a:xfrm>
              <a:off x="4267080" y="0"/>
              <a:ext cx="4876920" cy="27036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/>
                </a:gs>
                <a:gs pos="100000">
                  <a:srgbClr val="e10004">
                    <a:alpha val="4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6" name="Group 7"/>
            <p:cNvGrpSpPr/>
            <p:nvPr/>
          </p:nvGrpSpPr>
          <p:grpSpPr>
            <a:xfrm>
              <a:off x="0" y="142200"/>
              <a:ext cx="9158040" cy="251280"/>
              <a:chOff x="0" y="142200"/>
              <a:chExt cx="9158040" cy="251280"/>
            </a:xfrm>
          </p:grpSpPr>
          <p:grpSp>
            <p:nvGrpSpPr>
              <p:cNvPr id="57" name="Group 8"/>
              <p:cNvGrpSpPr/>
              <p:nvPr/>
            </p:nvGrpSpPr>
            <p:grpSpPr>
              <a:xfrm>
                <a:off x="0" y="142200"/>
                <a:ext cx="9158040" cy="251280"/>
                <a:chOff x="0" y="142200"/>
                <a:chExt cx="9158040" cy="251280"/>
              </a:xfrm>
            </p:grpSpPr>
            <p:pic>
              <p:nvPicPr>
                <p:cNvPr id="58" name="Picture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00" y="142200"/>
                  <a:ext cx="914904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Text Box 10"/>
                <p:cNvSpPr/>
                <p:nvPr/>
              </p:nvSpPr>
              <p:spPr>
                <a:xfrm rot="21420000">
                  <a:off x="0" y="280080"/>
                  <a:ext cx="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" name="Group 11"/>
              <p:cNvGrpSpPr/>
              <p:nvPr/>
            </p:nvGrpSpPr>
            <p:grpSpPr>
              <a:xfrm>
                <a:off x="0" y="142200"/>
                <a:ext cx="9158040" cy="234000"/>
                <a:chOff x="0" y="142200"/>
                <a:chExt cx="9158040" cy="234000"/>
              </a:xfrm>
            </p:grpSpPr>
            <p:pic>
              <p:nvPicPr>
                <p:cNvPr id="61" name="Picture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200"/>
                  <a:ext cx="9151920" cy="234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Text Box 13"/>
                <p:cNvSpPr/>
                <p:nvPr/>
              </p:nvSpPr>
              <p:spPr>
                <a:xfrm rot="21420000">
                  <a:off x="0" y="279720"/>
                  <a:ext cx="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85800" y="1219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opic 31 - inheritanc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Employe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Implemen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based on the previous employee regulations.  (Secretaries can take dictation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t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sire for code-shar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the only unique behavior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like to be able to say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&lt;copy all the contents from the Employee class&g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herita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ay to form new classes based on existing classes, taking on their attributes/behavio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group related cla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share code between two or more cla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class ca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te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other, absorbing its data/behavio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parent class that is being extend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child class that extends the superclass and inherits its behavio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class gets a copy of every field and method from super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syntax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nam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superclass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349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exten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now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automatical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client code (seen late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rov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o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we only write the parts unique to each typ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s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dd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lement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awye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following lawyer regulations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who get an extra week of paid vacation (a total of 3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use a pink form when applying for vacation leav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have some unique behavior: they know how to su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We want lawyers to inheri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s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havior from employee, but we want to replace parts with new behavio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awy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.  Marketers make $10,000 extra ($50,000 total) and know how to adverti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rket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evels of inherita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levels of inheritance in a hierarchy are allowe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legal secretary is the same as a regular secretary but makes more money ($5,000 more) and can file legal brief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egal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 cla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381240"/>
            <a:ext cx="8226360" cy="138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ierarchi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" y="990720"/>
            <a:ext cx="89121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erarchies used to organize in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1920" y="3738600"/>
            <a:ext cx="3297240" cy="21351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3505320" y="1600200"/>
            <a:ext cx="274320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ngdom - Animal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3505320" y="2957400"/>
            <a:ext cx="274320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- Mammal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3505320" y="3637080"/>
            <a:ext cx="274320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 - Carnivor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3505320" y="4314960"/>
            <a:ext cx="274320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mily - Felida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3505320" y="4994280"/>
            <a:ext cx="274320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us - Felina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505320" y="5673600"/>
            <a:ext cx="274320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es - F. catu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3505320" y="2279520"/>
            <a:ext cx="274320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lum - Chorda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Straight Connector 13"/>
          <p:cNvSpPr/>
          <p:nvPr/>
        </p:nvSpPr>
        <p:spPr>
          <a:xfrm>
            <a:off x="4876920" y="2000160"/>
            <a:ext cx="0" cy="27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Straight Connector 15"/>
          <p:cNvSpPr/>
          <p:nvPr/>
        </p:nvSpPr>
        <p:spPr>
          <a:xfrm>
            <a:off x="4876920" y="2679840"/>
            <a:ext cx="0" cy="27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Straight Connector 16"/>
          <p:cNvSpPr/>
          <p:nvPr/>
        </p:nvSpPr>
        <p:spPr>
          <a:xfrm>
            <a:off x="4876920" y="3355920"/>
            <a:ext cx="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Straight Connector 17"/>
          <p:cNvSpPr/>
          <p:nvPr/>
        </p:nvSpPr>
        <p:spPr>
          <a:xfrm>
            <a:off x="4876920" y="4037040"/>
            <a:ext cx="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Straight Connector 18"/>
          <p:cNvSpPr/>
          <p:nvPr/>
        </p:nvSpPr>
        <p:spPr>
          <a:xfrm>
            <a:off x="4876920" y="4716360"/>
            <a:ext cx="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Straight Connector 19"/>
          <p:cNvSpPr/>
          <p:nvPr/>
        </p:nvSpPr>
        <p:spPr>
          <a:xfrm>
            <a:off x="4876920" y="5394240"/>
            <a:ext cx="0" cy="27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6512400" y="16318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gener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6671880" y="568476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specif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28" name="Straight Arrow Connector 22"/>
          <p:cNvCxnSpPr/>
          <p:nvPr/>
        </p:nvCxnSpPr>
        <p:spPr>
          <a:xfrm>
            <a:off x="7408440" y="2031840"/>
            <a:ext cx="1080" cy="364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egal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Verdana"/>
              </a:rPr>
              <a:t>Changes to common behavi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agine a company-wide change affecting all employe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 Everyone is given a $10,000 raise due to inflatio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se employee salary is now $50,000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gal secretaries now make $55,000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ers now make $60,000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must modify our code to reflect this policy chang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difying the supercl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we finishe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ubclasses are still incorrec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have overridd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return other valu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 unsatisfactory solu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: The subclasses' salaries are based on the Employee salary, bu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does not reflect thi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alling overridden method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classes can call overridden method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method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parameters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2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Modif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roved subclass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4495680" y="434880"/>
            <a:ext cx="4800600" cy="5661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ring id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String id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.id = id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195120" y="434880"/>
            <a:ext cx="4267440" cy="57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iven the Employee cla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the right what is outpu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y the following cod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e1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1 = new Employee("#1"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tr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 = e1.toString(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str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#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"#1"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varies each ti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err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time err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ierarchi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 oriented languages provide a mechanism to create hierarchies among data types in a program and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de libra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for organization, modeling the problem, and to avoid redundant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 new data type is a specialization or variation on an existing data type use inheritance to capture the relationship and avoid redundancy of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in Practi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ds keyw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heritance of instanc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heritance of instance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ject initialization and constru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ing a parent constructor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per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riding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ial overriding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per.parentMethod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heritance requirement in Ja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heritance hierarch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-45720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tty Ston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106632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 Pretty Stone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as a Stone except alternates Color every (N + 1) times based on an int parameter to the constru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ameter is [0..2] alternates between BLUE and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ameter [3..5] alternates betwe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nd YEL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ameter &gt; 5 alternates between MAGENTA and OR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tty stones always return true when asked to e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319320"/>
            <a:ext cx="8226360" cy="138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olling Ston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Content Placeholder 2"/>
          <p:cNvSpPr/>
          <p:nvPr/>
        </p:nvSpPr>
        <p:spPr>
          <a:xfrm>
            <a:off x="254160" y="1222200"/>
            <a:ext cx="891216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a Rolling Stone cla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e as a Pretty Stone ..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ept when a Rolling Stone is created it picks a random number of turns based on the int sent to the constructor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 -&gt; 0-99, 1 -&gt; 100-199, 2 -&gt; 200-2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ys still until asked to move that number of times, then moves Nor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ghts: if not moving same as pretty stone, otherwise a random atta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ollowing slides contain another example of an inheritance hierarchy and Java syntax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mplementing it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aw firm employee analog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rules: hours, vacation, benefits, regulations 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employees attend a common orientation to learn general company ru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employee receives a 20-page manual of common ru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subdivision also has specific rules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ee receives a smaller (1-3 page) manual of these ru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manual adds some new rules and also changes some rules from the large manu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mployee regulation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28600" y="1371600"/>
            <a:ext cx="891540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7120" indent="-26712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following employee regula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work 40 hours / wee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7120" indent="-267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7120" indent="-26712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ype of employee has some unique behavi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wyers know how to su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keters know how to adverti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retaries know how to take dictatio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al secretaries know how to prepare legal document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cottm</cp:lastModifiedBy>
  <cp:lastPrinted>2010-05-28T06:36:27Z</cp:lastPrinted>
  <dcterms:modified xsi:type="dcterms:W3CDTF">2020-09-27T17:48:17Z</dcterms:modified>
  <cp:revision>1458</cp:revision>
  <dc:subject/>
  <dc:title>Building Java Programs</dc:title>
</cp:coreProperties>
</file>