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6343560" cy="8402760"/>
          </a:xfrm>
          <a:custGeom>
            <a:avLst/>
            <a:gdLst>
              <a:gd name="textAreaLeft" fmla="*/ 360 w 6343560"/>
              <a:gd name="textAreaRight" fmla="*/ 6343200 w 6343560"/>
              <a:gd name="textAreaTop" fmla="*/ 360 h 8402760"/>
              <a:gd name="textAreaBottom" fmla="*/ 8402400 h 8402760"/>
            </a:gdLst>
            <a:ahLst/>
            <a:rect l="textAreaLeft" t="textAreaTop" r="textAreaRight" b="textAreaBottom"/>
            <a:pathLst>
              <a:path w="21600" h="28611">
                <a:moveTo>
                  <a:pt x="5" y="0"/>
                </a:moveTo>
                <a:arcTo wR="5" hR="5" stAng="16200000" swAng="-5400000"/>
                <a:lnTo>
                  <a:pt x="0" y="28606"/>
                </a:lnTo>
                <a:arcTo wR="5" hR="5" stAng="10800000" swAng="-5400000"/>
                <a:lnTo>
                  <a:pt x="21595" y="286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0" y="0"/>
            <a:ext cx="6343560" cy="8402760"/>
          </a:xfrm>
          <a:custGeom>
            <a:avLst/>
            <a:gdLst>
              <a:gd name="textAreaLeft" fmla="*/ 360 w 6343560"/>
              <a:gd name="textAreaRight" fmla="*/ 6343200 w 6343560"/>
              <a:gd name="textAreaTop" fmla="*/ 360 h 8402760"/>
              <a:gd name="textAreaBottom" fmla="*/ 8402400 h 8402760"/>
            </a:gdLst>
            <a:ahLst/>
            <a:rect l="textAreaLeft" t="textAreaTop" r="textAreaRight" b="textAreaBottom"/>
            <a:pathLst>
              <a:path w="21600" h="28611">
                <a:moveTo>
                  <a:pt x="5" y="0"/>
                </a:moveTo>
                <a:arcTo wR="5" hR="5" stAng="16200000" swAng="-5400000"/>
                <a:lnTo>
                  <a:pt x="0" y="28606"/>
                </a:lnTo>
                <a:arcTo wR="5" hR="5" stAng="10800000" swAng="-5400000"/>
                <a:lnTo>
                  <a:pt x="21595" y="286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746440" cy="417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594240" y="0"/>
            <a:ext cx="2749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1071360" y="630360"/>
            <a:ext cx="4198680" cy="314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body"/>
          </p:nvPr>
        </p:nvSpPr>
        <p:spPr>
          <a:xfrm>
            <a:off x="846000" y="3990600"/>
            <a:ext cx="4648320" cy="37782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2"/>
          </p:nvPr>
        </p:nvSpPr>
        <p:spPr>
          <a:xfrm>
            <a:off x="-360" y="7981920"/>
            <a:ext cx="2746440" cy="417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3"/>
          </p:nvPr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546F0-080A-4092-ADFC-13A655176181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5B314-7E3C-4FCF-A21A-D5D2CAADBEA2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33D81-E538-491B-BF8D-D0F0DFE3BD0F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189E6-ED3D-49FF-9E5C-BBC1BC5950C4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75AB7-ED92-4122-B310-5696A1866A34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B823D-2D72-42B5-97B2-3821599F6FD1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877FC-BE12-4B34-A8FE-2161023171D0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97BA6-DCFA-4F1F-BE60-18D81FB87842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B30CD-CEBA-4C01-AE8A-34A836469194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08EE0-4CD6-4143-B82A-07ECFF37FDB0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CA0DE-91A6-42DF-A160-B42FA0AACB7B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B8561-C9A3-4934-B80B-CE3D82EC5CB2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663AC-0C9F-4B74-8FD9-E3B7E2E8AB47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C84D9-95F8-4F8F-B806-34E32475A168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4F0B1-309B-4344-BFEE-1662FFEE78CE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DEF51-F816-4DA4-9D34-D9E41920B806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E0CF9-175C-4B5B-BBD4-56ABCD6D938B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938E0-8318-4422-B2C4-A6F64404EDC8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970C0-50AD-4014-AE58-7282D24FEC37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28C81-275B-417A-B48E-FA3147ECF2BE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594240" y="7981920"/>
            <a:ext cx="2746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62F61-9ED4-4E6F-BFC8-5D3B67FA74EB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071720" y="630360"/>
            <a:ext cx="4201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91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076280"/>
            <a:ext cx="891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07628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95200" y="407628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5360" y="137124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07628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407628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5360" y="407628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E778-8C6C-4656-A307-2F39E14810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027D-88FA-400C-8F46-A9862B1BA2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F310-2A7F-4684-AF79-FE95DFD082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D7B3-72D5-4C6C-956D-14715721F9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E539-B17F-47FC-B88A-34782BA1EB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-246240"/>
            <a:ext cx="822636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E7D4-3D87-433C-B3BA-70D4A80B3E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7628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D296-9ADC-4810-BFFE-A1826164F0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95200" y="407628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17C7-104F-4828-A8AE-58902065E6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4076280"/>
            <a:ext cx="891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B6B4-047E-4BD2-BF5A-F9EB865330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91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600" y="4076280"/>
            <a:ext cx="891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6BF3-1436-47BB-B545-142861EBE3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600" y="407628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95200" y="407628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7BFF-BF4C-4B35-B11C-A255F6D28A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5360" y="137124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600" y="407628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407628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5360" y="4076280"/>
            <a:ext cx="2869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6334-3575-46EF-843A-BEF863E8D2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-246240"/>
            <a:ext cx="822636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7628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95200" y="407628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5200" y="1371240"/>
            <a:ext cx="4348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076280"/>
            <a:ext cx="891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9360" y="0"/>
            <a:ext cx="9167400" cy="531720"/>
            <a:chOff x="-9360" y="0"/>
            <a:chExt cx="9167400" cy="531720"/>
          </a:xfrm>
        </p:grpSpPr>
        <p:sp>
          <p:nvSpPr>
            <p:cNvPr id="3" name="AutoShape 4"/>
            <p:cNvSpPr/>
            <p:nvPr/>
          </p:nvSpPr>
          <p:spPr>
            <a:xfrm>
              <a:off x="-9360" y="0"/>
              <a:ext cx="9162720" cy="5317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/>
                </a:gs>
                <a:gs pos="100000">
                  <a:srgbClr val="ff4a00">
                    <a:alpha val="4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267080" y="0"/>
              <a:ext cx="4876920" cy="27036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/>
                </a:gs>
                <a:gs pos="100000">
                  <a:srgbClr val="e10004">
                    <a:alpha val="4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" name="Group 6"/>
            <p:cNvGrpSpPr/>
            <p:nvPr/>
          </p:nvGrpSpPr>
          <p:grpSpPr>
            <a:xfrm>
              <a:off x="0" y="142200"/>
              <a:ext cx="9158040" cy="251280"/>
              <a:chOff x="0" y="142200"/>
              <a:chExt cx="9158040" cy="251280"/>
            </a:xfrm>
          </p:grpSpPr>
          <p:grpSp>
            <p:nvGrpSpPr>
              <p:cNvPr id="6" name="Group 7"/>
              <p:cNvGrpSpPr/>
              <p:nvPr/>
            </p:nvGrpSpPr>
            <p:grpSpPr>
              <a:xfrm>
                <a:off x="0" y="142200"/>
                <a:ext cx="9158040" cy="251280"/>
                <a:chOff x="0" y="142200"/>
                <a:chExt cx="9158040" cy="251280"/>
              </a:xfrm>
            </p:grpSpPr>
            <p:pic>
              <p:nvPicPr>
                <p:cNvPr id="7" name="Picture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00" y="142200"/>
                  <a:ext cx="914904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Text Box 9"/>
                <p:cNvSpPr/>
                <p:nvPr/>
              </p:nvSpPr>
              <p:spPr>
                <a:xfrm rot="21420000">
                  <a:off x="0" y="280080"/>
                  <a:ext cx="10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Group 10"/>
              <p:cNvGrpSpPr/>
              <p:nvPr/>
            </p:nvGrpSpPr>
            <p:grpSpPr>
              <a:xfrm>
                <a:off x="0" y="142200"/>
                <a:ext cx="9158040" cy="234000"/>
                <a:chOff x="0" y="142200"/>
                <a:chExt cx="9158040" cy="234000"/>
              </a:xfrm>
            </p:grpSpPr>
            <p:pic>
              <p:nvPicPr>
                <p:cNvPr id="10" name="Picture 1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200"/>
                  <a:ext cx="9151920" cy="234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Text Box 12"/>
                <p:cNvSpPr/>
                <p:nvPr/>
              </p:nvSpPr>
              <p:spPr>
                <a:xfrm rot="21420000">
                  <a:off x="0" y="279720"/>
                  <a:ext cx="10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Text Box 13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10 by Pearson Educa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8E96C-9DE3-494D-887E-8268F6DA5EA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1"/>
          </p:nvPr>
        </p:nvSpPr>
        <p:spPr>
          <a:xfrm>
            <a:off x="670572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AD247-32EF-45CA-A7A5-480496808CCA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10 by Pearson Educa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-9360" y="0"/>
            <a:ext cx="9167400" cy="531720"/>
            <a:chOff x="-9360" y="0"/>
            <a:chExt cx="9167400" cy="531720"/>
          </a:xfrm>
        </p:grpSpPr>
        <p:sp>
          <p:nvSpPr>
            <p:cNvPr id="54" name="AutoShape 5"/>
            <p:cNvSpPr/>
            <p:nvPr/>
          </p:nvSpPr>
          <p:spPr>
            <a:xfrm>
              <a:off x="-9360" y="0"/>
              <a:ext cx="9162720" cy="5317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/>
                </a:gs>
                <a:gs pos="100000">
                  <a:srgbClr val="ff4a00">
                    <a:alpha val="4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" name="AutoShape 6"/>
            <p:cNvSpPr/>
            <p:nvPr/>
          </p:nvSpPr>
          <p:spPr>
            <a:xfrm>
              <a:off x="4267080" y="0"/>
              <a:ext cx="4876920" cy="27036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/>
                </a:gs>
                <a:gs pos="100000">
                  <a:srgbClr val="e10004">
                    <a:alpha val="4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6" name="Group 7"/>
            <p:cNvGrpSpPr/>
            <p:nvPr/>
          </p:nvGrpSpPr>
          <p:grpSpPr>
            <a:xfrm>
              <a:off x="0" y="142200"/>
              <a:ext cx="9158040" cy="251280"/>
              <a:chOff x="0" y="142200"/>
              <a:chExt cx="9158040" cy="251280"/>
            </a:xfrm>
          </p:grpSpPr>
          <p:grpSp>
            <p:nvGrpSpPr>
              <p:cNvPr id="57" name="Group 8"/>
              <p:cNvGrpSpPr/>
              <p:nvPr/>
            </p:nvGrpSpPr>
            <p:grpSpPr>
              <a:xfrm>
                <a:off x="0" y="142200"/>
                <a:ext cx="9158040" cy="251280"/>
                <a:chOff x="0" y="142200"/>
                <a:chExt cx="9158040" cy="251280"/>
              </a:xfrm>
            </p:grpSpPr>
            <p:pic>
              <p:nvPicPr>
                <p:cNvPr id="58" name="Picture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00" y="142200"/>
                  <a:ext cx="914904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Text Box 10"/>
                <p:cNvSpPr/>
                <p:nvPr/>
              </p:nvSpPr>
              <p:spPr>
                <a:xfrm rot="21420000">
                  <a:off x="0" y="280080"/>
                  <a:ext cx="10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" name="Group 11"/>
              <p:cNvGrpSpPr/>
              <p:nvPr/>
            </p:nvGrpSpPr>
            <p:grpSpPr>
              <a:xfrm>
                <a:off x="0" y="142200"/>
                <a:ext cx="9158040" cy="234000"/>
                <a:chOff x="0" y="142200"/>
                <a:chExt cx="9158040" cy="234000"/>
              </a:xfrm>
            </p:grpSpPr>
            <p:pic>
              <p:nvPicPr>
                <p:cNvPr id="61" name="Picture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200"/>
                  <a:ext cx="9151920" cy="234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Text Box 13"/>
                <p:cNvSpPr/>
                <p:nvPr/>
              </p:nvSpPr>
              <p:spPr>
                <a:xfrm rot="21420000">
                  <a:off x="0" y="279720"/>
                  <a:ext cx="10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685800" y="1219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Topic 31 - inheritanc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Employe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Implemen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based on the previous employee regulations.  (Secretaries can take dictation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t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sire for code-shar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the only unique behavior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'd like to be able to say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&lt;copy all the contents from the Employee class&g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herita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way to form new classes based on existing classes, taking on their attributes/behavio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group related cla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share code between two or more cla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class ca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te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other, absorbing its data/behavio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parent class that is being extend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child class that extends the superclass and inherits its behavio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class gets a copy of every field and method from supercl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 syntax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&lt;nam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&lt;superclass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349"/>
              </a:spcBef>
              <a:tabLst>
                <a:tab algn="l" pos="0"/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exten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now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automatical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1440"/>
                <a:tab algn="l" pos="638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6960"/>
                <a:tab algn="l" pos="1051416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client code (seen late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rov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o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we only write the parts unique to each typ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s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dd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lement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awye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following lawyer regulations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who get an extra week of paid vacation (a total of 3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use a pink form when applying for vacation leav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have some unique behavior: they know how to su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We want lawyers to inheri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os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havior from employee, but we want to replace parts with new behavio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awy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Comple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.  Marketers make $10,000 extra ($50,000 total) and know how to adverti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rket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272880"/>
                <a:tab algn="l" pos="385920"/>
                <a:tab algn="l" pos="843120"/>
                <a:tab algn="l" pos="1300320"/>
                <a:tab algn="l" pos="1757520"/>
                <a:tab algn="l" pos="2214720"/>
                <a:tab algn="l" pos="2671920"/>
                <a:tab algn="l" pos="3129120"/>
                <a:tab algn="l" pos="3586320"/>
                <a:tab algn="l" pos="4043520"/>
                <a:tab algn="l" pos="4500720"/>
                <a:tab algn="l" pos="4957920"/>
                <a:tab algn="l" pos="5415120"/>
                <a:tab algn="l" pos="5872320"/>
                <a:tab algn="l" pos="6329520"/>
                <a:tab algn="l" pos="6786720"/>
                <a:tab algn="l" pos="7243920"/>
                <a:tab algn="l" pos="7701120"/>
                <a:tab algn="l" pos="8158320"/>
                <a:tab algn="l" pos="861552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evels of inherita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levels of inheritance in a hierarchy are allowe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legal secretary is the same as a regular secretary but makes more money ($5,000 more) and can file legal brief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Exercise: Comple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egal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 cla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-381240"/>
            <a:ext cx="8226360" cy="138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ierarchi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600" y="990720"/>
            <a:ext cx="89121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erarchies used to organize inform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1920" y="3738600"/>
            <a:ext cx="3297240" cy="21351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3505320" y="1600200"/>
            <a:ext cx="2743200" cy="3988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ngdom - Animal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3505320" y="2957400"/>
            <a:ext cx="2743200" cy="3988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- Mammal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3505320" y="3637080"/>
            <a:ext cx="2743200" cy="3988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 - Carnivor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3505320" y="4314960"/>
            <a:ext cx="2743200" cy="3988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mily - Felida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3505320" y="4994280"/>
            <a:ext cx="2743200" cy="3988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us - Felina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505320" y="5673600"/>
            <a:ext cx="2743200" cy="3988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es - F. catu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3505320" y="2279520"/>
            <a:ext cx="2743200" cy="3988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lum - Chorda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Straight Connector 13"/>
          <p:cNvSpPr/>
          <p:nvPr/>
        </p:nvSpPr>
        <p:spPr>
          <a:xfrm>
            <a:off x="4876920" y="2000160"/>
            <a:ext cx="0" cy="27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Straight Connector 15"/>
          <p:cNvSpPr/>
          <p:nvPr/>
        </p:nvSpPr>
        <p:spPr>
          <a:xfrm>
            <a:off x="4876920" y="2679840"/>
            <a:ext cx="0" cy="27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Straight Connector 16"/>
          <p:cNvSpPr/>
          <p:nvPr/>
        </p:nvSpPr>
        <p:spPr>
          <a:xfrm>
            <a:off x="4876920" y="3355920"/>
            <a:ext cx="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Straight Connector 17"/>
          <p:cNvSpPr/>
          <p:nvPr/>
        </p:nvSpPr>
        <p:spPr>
          <a:xfrm>
            <a:off x="4876920" y="4037040"/>
            <a:ext cx="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Straight Connector 18"/>
          <p:cNvSpPr/>
          <p:nvPr/>
        </p:nvSpPr>
        <p:spPr>
          <a:xfrm>
            <a:off x="4876920" y="4716360"/>
            <a:ext cx="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Straight Connector 19"/>
          <p:cNvSpPr/>
          <p:nvPr/>
        </p:nvSpPr>
        <p:spPr>
          <a:xfrm>
            <a:off x="4876920" y="5394240"/>
            <a:ext cx="0" cy="27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6512400" y="16318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gener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6671880" y="568476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specif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28" name="Straight Arrow Connector 22"/>
          <p:cNvCxnSpPr/>
          <p:nvPr/>
        </p:nvCxnSpPr>
        <p:spPr>
          <a:xfrm>
            <a:off x="7408440" y="2031840"/>
            <a:ext cx="1080" cy="364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egal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Verdana"/>
              </a:rPr>
              <a:t>Changes to common behavio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agine a company-wide change affecting all employe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 Everyone is given a $10,000 raise due to inflatio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se employee salary is now $50,000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gal secretaries now make $55,000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ers now make $60,000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must modify our code to reflect this policy chang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difying the supercl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we finishe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ubclasses are still incorrec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have overridd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return other valu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 unsatisfactory solu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55000.0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60000.0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: The subclasses' salaries are based on the Employee salary, bu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 does not reflect thi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alling overridden method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classes can call overridden method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&lt;method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&lt;parameters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2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Modif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roved subclass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VacationDays() + 5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4495680" y="434880"/>
            <a:ext cx="4800600" cy="5661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ring id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Employee(String id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.id = id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195120" y="434880"/>
            <a:ext cx="4267440" cy="57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iven the Employee cla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the right what is outpu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y the following cod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e1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1 = new Employee("#1"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tr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 = e1.toString(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str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#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"#1"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varies each ti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err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time err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ierarchi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600" y="137124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 oriented languages provide a mechanism to create hierarchies among data types in a program and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de libra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for organization, modeling the problem, and to avoid redundant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 new data type is a specialization or variation on an existing data type use inheritance to capture the relationship and avoid redundancy of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 in Practi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137124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ds keyw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heritance of instanc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heritance of instance vari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ject initialization and constru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ing a parent constructor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per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riding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ial overriding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per.parentMethod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heritance requirement in Ja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heritance hierarch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-45720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tty Ston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106632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 Pretty Stone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as a Stone except alternates Color every (N + 1) times based on an int parameter to the constru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parameter is [0..2] alternates between BLUE and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parameter [3..5] alternates betwe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nd YEL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parameter &gt; 5 alternates between MAGENTA and OR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tty stones always return true when asked to e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319320"/>
            <a:ext cx="8226360" cy="138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olling Ston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Content Placeholder 2"/>
          <p:cNvSpPr/>
          <p:nvPr/>
        </p:nvSpPr>
        <p:spPr>
          <a:xfrm>
            <a:off x="254160" y="1222200"/>
            <a:ext cx="891216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a Rolling Stone cla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e as a Pretty Stone ..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cept when a Rolling Stone is created it picks a random number of turns based on the int sent to the constructor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 -&gt; 0-99, 1 -&gt; 100-199, 2 -&gt; 200-2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ys still until asked to move that number of times, then moves Nor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ghts: if not moving same as pretty stone, otherwise a random atta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-2462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1371240"/>
            <a:ext cx="891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ollowing slides contain another example of an inheritance hierarchy and Java syntax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mplementing it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aw firm employee analog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rules: hours, vacation, benefits, regulations 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employees attend a common orientation to learn general company ru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employee receives a 20-page manual of common ru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subdivision also has specific rules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loyee receives a smaller (1-3 page) manual of these ru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6480" indent="-2444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 manual adds some new rules and also changes some rules from the large manu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mployee regulation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28600" y="1371600"/>
            <a:ext cx="891540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7120" indent="-26712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following employee regulatio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0000" indent="-24192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work 40 hours / wee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0000" indent="-24192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0000" indent="-24192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0000" indent="-24192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7120" indent="-267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7120" indent="-26712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type of employee has some unique behavio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0000" indent="-24192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wyers know how to su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0000" indent="-24192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keters know how to adverti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0000" indent="-24192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retaries know how to take dictatio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0000" indent="-24192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al secretaries know how to prepare legal document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cottm</cp:lastModifiedBy>
  <cp:lastPrinted>2010-05-28T06:36:27Z</cp:lastPrinted>
  <dcterms:modified xsi:type="dcterms:W3CDTF">2020-09-27T17:48:17Z</dcterms:modified>
  <cp:revision>1458</cp:revision>
  <dc:subject/>
  <dc:title>Building Java Programs</dc:title>
</cp:coreProperties>
</file>