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D1ED-19AE-45B3-B764-E0871F24B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9C2C2-7435-41B2-B829-707E06096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54A-C372-4E75-87E8-E915D1B3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F9-F7CE-4083-8A29-62A41390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E42-D83A-4364-A735-A891F5E3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C08-D66D-4861-8A4F-AE8B23CD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1DA-66AB-40A1-8F91-B7521F7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0EE-297A-42BE-8008-49AC466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758-D1E2-43AB-986D-9494A53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B2B-51CC-4F94-ADCB-017FF2FD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D3E-3544-463D-9DCE-7D430126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7D9-E9C7-401F-9E67-1EA7D80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E8C-40FC-46B2-8F03-11E726E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D43-7AD8-422C-B35B-585C6C1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D60C-A0E4-4EB3-970D-537E56EDE2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0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turn values, Math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377000" y="6319800"/>
            <a:ext cx="65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1523520"/>
            <a:ext cx="8458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like a computer scientist means more than being able to program a computer. It requires thinking at multiple levels of abstractio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tte M. 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tretch/>
        </p:blipFill>
        <p:spPr>
          <a:xfrm>
            <a:off x="5105520" y="3348000"/>
            <a:ext cx="3733560" cy="338616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2D3C-61B1-4B8A-9A98-B090B8F1E5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rks of real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other non-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Courier New"/>
              </a:rPr>
              <a:t>int x = Math.pow(10, 3); </a:t>
            </a:r>
            <a:r>
              <a:rPr b="1" lang="en-US" sz="23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print poorly (too many digi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represen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an imprecis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0.3, the outpu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D39-A687-4416-87AD-FA563AF9C1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c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conversion from one type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mo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loating point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unc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real number to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29D5-E9A2-48F8-BB3D-E538FB123C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type cas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asting has high precedence and only casts the item immediately next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1 / 2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/ 2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parentheses to force evaluatio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versio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chieved in othe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843E-7BC0-48E0-BB20-9B3F264C1F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a value from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ope(5, 11, 1,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888-3FD4-42E1-B88C-FA39FACAA0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(in CS312, before today) used a method that returns a value in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undre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?? Wha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58A2-8500-4C25-AF33-06ECED9442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horten the examples by returning an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E8F-FE6B-4E19-B023-A9AECF77EE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mon error: Not sto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 DOES NOT send a variable's name back to the call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 result no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47A0-9FCD-4641-BE1E-E539651682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xing the common err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returning sends the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ed value must be stored into a variable or used in an expression to be useful to the c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3539-90F4-41EE-8D6D-C9585CF336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4572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utput of the following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m(x, y) + " " + x + " " + m(y, 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(int x, int 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x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-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*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9 35 5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7 35 7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5 9 27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7 5 9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e of A - D ar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E79-3224-4F1F-987E-ECEFB9ED12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ysics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plac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moving body represents its change in position over time while acceler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iti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/s, acceler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elapsed ti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, the displacement of the bod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ccep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mputes and returns the change in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splacement(3.0, 4.0, 5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03E-50FD-4080-9B3A-3049795D53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in other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ncludes 8 primitive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, shor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ng, floa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ar,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va Standard Library includes thousands of other data types,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, String, Graphics, Colo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class contains static methods for common mathematical operations (for which an operator does not exist in 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hose methods: Math.&lt;MethodNa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pow(2, 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C84-91F5-4C77-8A6F-3E75D9A62B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static double displacement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v0, double 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t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 d = v0 * t + 0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 a * Math.pow(t, 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B81-978E-41E8-A32D-50C927C43A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int average of 3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double average of 3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average of a given number of rolls of 2 six sided d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nd return N factorial (N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number of seconds in a given number of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Nth digit of a given inte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he distance between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2006640" cy="12189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397E-D366-4E94-9B91-4F339B445F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rop two balls, which will hit the ground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of 600m, initial velocity = 25 m/sec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of 500m, initial velocity = 15 m/sec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determines how long each ball takes to hit the ground (and draws each ball fa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time is based on the force of gravity on each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due to gravit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81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B7A-9C03-463A-9F56-7A2241A6D6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l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imulates the dropping of two balls from various heigh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ll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600, 6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all1x = 100,  ball1y =   0,  v01 = 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all2x = 200,  ball2y = 100,  v02 = 1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 the balls at each time inc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double t = 0; t &lt;= 10.0; t = t + 0.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GR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fillRect(0, 0, 600, 6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isp1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1, t, 9.8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ball1x, ball1y + (int) disp1, 10, 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isp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2, t, 9.8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ball2x, ball2y + (int) disp2, 10, 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leep(50);   // pause for 5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973-7177-494C-B6FF-23CCECB0F9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219320"/>
          <a:ext cx="6781680" cy="4870440"/>
        </p:xfrm>
        <a:graphic>
          <a:graphicData uri="http://schemas.openxmlformats.org/drawingml/2006/table">
            <a:tbl>
              <a:tblPr/>
              <a:tblGrid>
                <a:gridCol w="3146400"/>
                <a:gridCol w="36352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s up to cei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s down to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in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 int, 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5167440"/>
          <a:ext cx="277164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DEE-E09A-41BF-B350-9ADC1DA1B1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 outpu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calling these methods produces no visibl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method calls use a Java featu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 them to be treated as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 runs the method, computes the answer, and then "replaces" the call with its computed result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the result, we must print it or store it in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double result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th.pow(3, 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8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914400" y="441972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59F-A69D-44A9-8887-5486D3EB0C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ll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Nam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do not print to the cons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thod produces ("returns") a numer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s are used as expressions (printed, stored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9EC-195C-412C-99DA-CF30D8616D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 send out a value as the result of a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of a 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70" name="Text Box 5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C45-E315-4DA1-AA39-3FDF2D3EEF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return and not prin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ight seem more useful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to print their results rather than returning them.  Why don't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Returning is more flexible than 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ompute several things before prin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pow1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pow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10, 6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owers are " + pow1 + " and " + pow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ombine the results of many compu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k = 13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5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7.8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CAD-1E7F-4F30-922E-426884F1F6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 = -1.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 = 2.2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 Math.floor(a)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 " + Math.ceil(b) + " " +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2.0 3.0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1.0 3.0 -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1 3 -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2.0 3.0 -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C65-6B67-478C-8C5D-BE2AA429B3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following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boun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tement would replace negative ages with 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tement would cap the maximum age to 4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472-7981-4CAB-9289-98BFF43AB3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1T17:12:52Z</dcterms:modified>
  <cp:revision>195</cp:revision>
  <dc:subject/>
  <dc:title>PowerPoint Presentation</dc:title>
</cp:coreProperties>
</file>