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7AC2FD-2DEC-43F3-9EAD-039AE5A359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07BBBC-F9EB-4442-985E-DBFAA642E5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72EE-AC12-4EBC-A841-A74C3D827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098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F651-58CB-46DF-AF6D-9D40B6513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E9F2-4693-4E97-9B00-C791DDEB4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9944-0338-492C-8BEF-C0C8E5BD8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F5A3-2178-4CAA-BE9B-C58409784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11E1-86A6-4063-A2FE-A593FEAB8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EDD9-27D8-4C2A-B575-CE6C51AA0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5A30-EB30-4680-915E-D00F2C273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1C07-1031-4255-93BB-4693BF1BC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7721-4DCC-4A7F-BF82-8E73A935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7418-E812-42CB-9F32-416559FB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945F-3701-4228-8D41-A074ED57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248520"/>
            <a:ext cx="2210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3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va Programm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FBE1D-7B12-474C-975B-4A2DE9D0787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buildingjavaprograms.com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opic 10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return values, Math methods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-1377000" y="6319800"/>
            <a:ext cx="653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Based on slides by Marty Stepp and Stuart Reges _x000b_from http://www.buildingjavaprograms.c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1920" y="1523520"/>
            <a:ext cx="84582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ing like a computer scientist means more than being able to program a computer. It requires thinking at multiple levels of abstraction.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       —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annette M. 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2" descr=""/>
          <p:cNvPicPr/>
          <p:nvPr/>
        </p:nvPicPr>
        <p:blipFill>
          <a:blip r:embed="rId2"/>
          <a:stretch/>
        </p:blipFill>
        <p:spPr>
          <a:xfrm>
            <a:off x="5105520" y="3348000"/>
            <a:ext cx="3733560" cy="3386160"/>
          </a:xfrm>
          <a:prstGeom prst="rect">
            <a:avLst/>
          </a:prstGeom>
          <a:ln w="0">
            <a:noFill/>
          </a:ln>
        </p:spPr>
      </p:pic>
      <p:sp>
        <p:nvSpPr>
          <p:cNvPr id="52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96497-F2DC-40FE-B26B-4BC06988BA5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Quirks of real number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220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thods return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other non-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yp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00000"/>
                </a:solidFill>
                <a:latin typeface="Courier New"/>
              </a:rPr>
              <a:t>int x = Math.pow(10, 3); </a:t>
            </a:r>
            <a:r>
              <a:rPr b="1" lang="en-US" sz="2300" spc="-1" strike="noStrike">
                <a:solidFill>
                  <a:srgbClr val="800000"/>
                </a:solidFill>
                <a:latin typeface="Courier New"/>
              </a:rPr>
              <a:t>// ERROR: incompat. typ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alues print poorly (too many digit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 result = 1.0 / 3.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ln(result);   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0.33333333333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mputer represent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in an imprecise 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ln(0.1 + 0.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0">
              <a:lnSpc>
                <a:spcPct val="11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4431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 of 0.3, the output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.30000000000000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3AA32-3BDD-49A0-B348-F64820E9C3C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ype casting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067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ype ca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 conversion from one type to an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romote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floating point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truncat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a real number to an inte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ta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 result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double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19 / 5;    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3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result2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int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result;         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x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int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Math.pow(10, 3);      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41EE5-69A2-4378-BA49-37CC36EA75C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ore about type casting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casting has high precedence and only casts the item immediately next to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ouble x = 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(double)</a:t>
            </a:r>
            <a:r>
              <a:rPr b="0" lang="en-US" sz="2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+ 1 / 2;     </a:t>
            </a:r>
            <a:r>
              <a:rPr b="1" lang="en-US" sz="2800" spc="-1" strike="noStrike">
                <a:solidFill>
                  <a:srgbClr val="008080"/>
                </a:solidFill>
                <a:latin typeface="Courier New"/>
              </a:rPr>
              <a:t>// 1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ouble y = 1 + 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(double)</a:t>
            </a:r>
            <a:r>
              <a:rPr b="0" lang="en-US" sz="2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/ 2;     </a:t>
            </a:r>
            <a:r>
              <a:rPr b="1" lang="en-US" sz="2800" spc="-1" strike="noStrike">
                <a:solidFill>
                  <a:srgbClr val="008080"/>
                </a:solidFill>
                <a:latin typeface="Courier New"/>
              </a:rPr>
              <a:t>// 1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use parentheses to force evaluation or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ouble average =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double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(a + b + c) / 3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nversion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be achieved in other wa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ouble average = 1.0 * (a + b + c) / 3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DA3ED-3BD7-46A1-9B1C-761907FC223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turning a value from a metho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698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typ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ameters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ements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0" lang="en-US" sz="2800" spc="-1" strike="noStrike">
                <a:solidFill>
                  <a:srgbClr val="003399"/>
                </a:solidFill>
                <a:latin typeface="Courier New"/>
              </a:rPr>
              <a:t>return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expression</a:t>
            </a:r>
            <a:r>
              <a:rPr b="0" lang="en-US" sz="2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slope of the line between the given poi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lope(int x1, int y1, int x2, int y2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y = y2 - y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x = x2 - x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eturn dy / d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lope(5, 11, 1, 3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turn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C03E5-34AF-422E-98B9-8D524139B25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2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we (in CS312, before today) used a method that returns a value in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a few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hundreds of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cture?? What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b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ED87B-F016-490D-BDA2-EB948F393E1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turn exampl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onverts degrees Fahrenheit to Celsi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double fToC(double degreesF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egreesC = 5.0 / 9.0 * (degreesF - 32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degrees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omputes triangle hypotenuse length given its side length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double hypotenuse(int a, int b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c = Math.sqrt(a * a + b * b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shorten the examples by returning an expres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double fToC(double degreesF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.0 / 9.0 * (degreesF - 32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9E29D-B75C-47A3-B99B-D234081CAAA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0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0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0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mmon error: Not storing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tement DOES NOT send a variable's name back to the calling meth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lope(0, 0, 6, 3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 slope is " +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esul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</a:t>
            </a:r>
            <a:br>
              <a:rPr sz="1800"/>
            </a:b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ERROR: result not 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double slope(int x1, int x2, int y1, int y2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y = y2 - y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x = x2 - x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result = dy / d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resul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8CF12-08C3-4747-A9FB-88FA207D92B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ixing the common error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761760"/>
            <a:ext cx="8915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ead, returning sends the variable'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alu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turned value must be stored into a variable or used in an expression to be useful to the call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double s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lope(0, 0, 6, 3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 slope is " +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double slope(int x1, int x2, int y1, int y2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y = y2 - y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x = x2 - x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result = dy / d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98B39-EE12-457F-BDA1-2FEB7C4F1FF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3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28240" y="45720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output of the following co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y = 7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m(x, y) + " " + x + " " + m(y, x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m(int x, int y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+= 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x + " 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-= 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x * 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7 9 35 5 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7 7 35 7 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7 5 9 27 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5 7 5 9 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one of A - D are corr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D4402-4595-45D4-AD6B-11BD6B9F1CB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xercis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hysics,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splacemen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a moving body represents its change in position over time while accelera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initi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m/s, acceler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m/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elapsed ti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s, the displacement of the body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lacement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½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metho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c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accept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computes and returns the change in pos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isplacement(3.0, 4.0, 5.0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turn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65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671CF-6012-4F3F-881E-732404195F6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tatic methods in other Class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includes 8 primitive data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, short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long, float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har, boo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Java Standard Library includes thousands of other data types,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, String, Graphics, Color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th class contains static methods for common mathematical operations (for which an operator does not exist in Ja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 those methods: Math.&lt;MethodNam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h.pow(2, 5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9C763-38BE-4E65-A1F1-1F5D87A9923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xercise solu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ublic static double displacement(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ouble v0, double 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ouble t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ouble d = v0 * t + 0.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* a * Math.pow(t, 2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 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E7CDF-8776-4B04-90BA-126AB86E3F6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xercis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metho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the int average of 3 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the double average of 3 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the average of a given number of rolls of 2 six sided di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 and return N factorial (N!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the number of seconds in a given number of y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the Nth digit of a given integ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the distance between two poi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6858000" y="1447920"/>
            <a:ext cx="2006640" cy="1218960"/>
          </a:xfrm>
          <a:prstGeom prst="rect">
            <a:avLst/>
          </a:prstGeom>
          <a:ln w="0">
            <a:noFill/>
          </a:ln>
        </p:spPr>
      </p:pic>
      <p:sp>
        <p:nvSpPr>
          <p:cNvPr id="12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9C6A8-65DC-4915-8263-F3B9B265138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xercis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drop two balls, which will hit the ground fir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l 1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ight of 600m, initial velocity = 25 m/sec down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l 2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ight of 500m, initial velocity = 15 m/sec down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program that determines how long each ball takes to hit the ground (and draws each ball falling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time is based on the force of gravity on each b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leration due to gravity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9.81 m/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down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lacement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½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E245C-7FFA-4475-B613-79D050145C6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all solu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Simulates the dropping of two balls from various heigh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Balls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rawingPanel panel = new DrawingPanel(600, 60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ball1x = 100,  ball1y =   0,  v01 = 25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ball2x = 200,  ball2y = 100,  v02 = 15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 the balls at each time incr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double t = 0; t &lt;= 10.0; t = t + 0.1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setColor(Color.GRAY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nel.fillRect(0, 0, 600, 60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setColor(Color.RE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disp1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isplaceme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v01, t, 9.8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fillOval(ball1x, ball1y + (int) disp1, 10, 1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disp2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isplaceme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v02, t, 9.8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fillOval(ball2x, ball2y + (int) disp2, 10, 1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nel.sleep(50);   // pause for 50 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33201-2D7C-4AAE-BB6A-D9DB46FA7CF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Java's </a:t>
            </a: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Math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clas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57200" y="1219320"/>
          <a:ext cx="6781680" cy="4870440"/>
        </p:xfrm>
        <a:graphic>
          <a:graphicData uri="http://schemas.openxmlformats.org/drawingml/2006/table">
            <a:tbl>
              <a:tblPr/>
              <a:tblGrid>
                <a:gridCol w="3146400"/>
                <a:gridCol w="3635280"/>
              </a:tblGrid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hod 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abs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solute 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ceil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ves up to ceil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floor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ves down to flo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log10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garithm, base 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max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rger of two val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min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maller of two val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pow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to the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pow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random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ubl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between 0 and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rint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und int, nearest whole nu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sqrt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quare ro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49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sin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cos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tan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ne/cosine/tangent of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 angle in radi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toDegrees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toRadians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vert degrees to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dians and b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6172200" y="5167440"/>
          <a:ext cx="2771640" cy="1006200"/>
        </p:xfrm>
        <a:graphic>
          <a:graphicData uri="http://schemas.openxmlformats.org/drawingml/2006/table">
            <a:tbl>
              <a:tblPr/>
              <a:tblGrid>
                <a:gridCol w="1219320"/>
                <a:gridCol w="1552320"/>
              </a:tblGrid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stan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7182818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P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1415926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9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4A922-5E33-4610-83DE-20AD715F8F5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o output?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y calling these methods produces no visibl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4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th.pow(3, 4);  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no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416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h method calls use a Java feature 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turn val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cause them to be treated as expres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gram runs the method, computes the answer, and then "replaces" the call with its computed result va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4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th.pow(3, 4);  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no outpu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81.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            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no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ee the result, we must print it or store it in a vari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4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double result =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Math.pow(3, 4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4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sult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);     </a:t>
            </a:r>
            <a:r>
              <a:rPr b="1" lang="en-US" sz="2800" spc="-1" strike="noStrike">
                <a:solidFill>
                  <a:srgbClr val="008080"/>
                </a:solidFill>
                <a:latin typeface="Courier New"/>
              </a:rPr>
              <a:t>// 81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4"/>
          <p:cNvSpPr/>
          <p:nvPr/>
        </p:nvSpPr>
        <p:spPr>
          <a:xfrm>
            <a:off x="914400" y="4419720"/>
            <a:ext cx="2209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71BF1-E104-4693-BF6A-B8B1BC93DAA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alling </a:t>
            </a: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Math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method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320" y="1143000"/>
            <a:ext cx="9067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th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hodNam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ameters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squareRoot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th.sqrt(121.0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squareRoot);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11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absoluteValue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th.abs(-50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absoluteValue);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th.min(3, 7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2)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s do not print to the conso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method produces ("returns") a numer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ults are used as expressions (printed, stored, etc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F64EE-FEE3-47AD-9A7F-5C9B5ABA34B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tur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o send out a value as the result of a meth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pposite of a param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meters send informa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caller to the meth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values send informa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u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a method to its call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all to the method can be used as part of an expre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4"/>
          <p:cNvGrpSpPr/>
          <p:nvPr/>
        </p:nvGrpSpPr>
        <p:grpSpPr>
          <a:xfrm>
            <a:off x="2144880" y="3581280"/>
            <a:ext cx="4904640" cy="2431080"/>
            <a:chOff x="2144880" y="3581280"/>
            <a:chExt cx="4904640" cy="2431080"/>
          </a:xfrm>
        </p:grpSpPr>
        <p:sp>
          <p:nvSpPr>
            <p:cNvPr id="70" name="Text Box 5"/>
            <p:cNvSpPr/>
            <p:nvPr/>
          </p:nvSpPr>
          <p:spPr>
            <a:xfrm>
              <a:off x="2144880" y="4457880"/>
              <a:ext cx="7902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6"/>
            <p:cNvSpPr/>
            <p:nvPr/>
          </p:nvSpPr>
          <p:spPr>
            <a:xfrm flipV="1">
              <a:off x="2966760" y="3660480"/>
              <a:ext cx="144756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7"/>
            <p:cNvSpPr/>
            <p:nvPr/>
          </p:nvSpPr>
          <p:spPr>
            <a:xfrm>
              <a:off x="4430520" y="3581280"/>
              <a:ext cx="21618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th.abs(-4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8"/>
            <p:cNvSpPr/>
            <p:nvPr/>
          </p:nvSpPr>
          <p:spPr>
            <a:xfrm>
              <a:off x="3236400" y="364500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-4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9"/>
            <p:cNvSpPr/>
            <p:nvPr/>
          </p:nvSpPr>
          <p:spPr>
            <a:xfrm>
              <a:off x="2939760" y="4856040"/>
              <a:ext cx="1474560" cy="70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10"/>
            <p:cNvSpPr/>
            <p:nvPr/>
          </p:nvSpPr>
          <p:spPr>
            <a:xfrm>
              <a:off x="4430520" y="5613480"/>
              <a:ext cx="26190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th.round(2.7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1"/>
            <p:cNvSpPr/>
            <p:nvPr/>
          </p:nvSpPr>
          <p:spPr>
            <a:xfrm flipH="1" flipV="1">
              <a:off x="2890800" y="4952880"/>
              <a:ext cx="15235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12"/>
            <p:cNvSpPr/>
            <p:nvPr/>
          </p:nvSpPr>
          <p:spPr>
            <a:xfrm>
              <a:off x="3673080" y="487980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2.7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3"/>
            <p:cNvSpPr/>
            <p:nvPr/>
          </p:nvSpPr>
          <p:spPr>
            <a:xfrm flipH="1">
              <a:off x="3119040" y="3965400"/>
              <a:ext cx="1294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14"/>
            <p:cNvSpPr/>
            <p:nvPr/>
          </p:nvSpPr>
          <p:spPr>
            <a:xfrm>
              <a:off x="3790440" y="417816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Courier New"/>
                  <a:ea typeface="Times New Roman"/>
                </a:rPr>
                <a:t>4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15"/>
            <p:cNvSpPr/>
            <p:nvPr/>
          </p:nvSpPr>
          <p:spPr>
            <a:xfrm>
              <a:off x="3409560" y="53974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Courier New"/>
                  <a:ea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6FAC9-3CBF-4A0F-8AFF-B3D427E76ED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hy return and not print?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might seem more useful for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s to print their results rather than returning them.  Why don't the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: Returning is more flexible than prin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compute several things before print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pow1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th.pow(3, 4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pow2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th.pow(10, 6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Powers are " + pow1 + " and " + pow2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combine the results of many comput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k = 13 *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th.pow(3, 4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5 -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th.sqrt(17.8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67BF2-E936-4DDD-922E-B2FCEB66A05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1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28600" y="76212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output by the following co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a = -1.9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b = 2.25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( Math.floor(a) 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 " + Math.ceil(b) + " " + a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3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-2.0 3.0 -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-1.0 3.0 -1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-1 3 -1.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-2.0 3.0 -1.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89875-910B-4D1C-B6D8-73D3C4A1E6A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Math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question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89913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e the following express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th.abs(-1.2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th.pow(3,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th.pow(10, -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th.sqrt(121.0) - Math.sqrt(256.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th.round(Math.PI) + Math.round(Math.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th.ceil(6.022) + Math.floor(15.999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th.abs(Math.min(-3, -5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th.ma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th.m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be used to bound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ariable nam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tatement would replace negative ages with 0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tatement would cap the maximum age to 40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AA933-40E5-44D3-A342-9D677D3F66B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9T19:12:00Z</dcterms:created>
  <dc:creator>Mike Scott</dc:creator>
  <dc:description/>
  <dc:language>en-US</dc:language>
  <cp:lastModifiedBy>scottm</cp:lastModifiedBy>
  <dcterms:modified xsi:type="dcterms:W3CDTF">2020-09-21T17:12:52Z</dcterms:modified>
  <cp:revision>195</cp:revision>
  <dc:subject/>
  <dc:title>PowerPoint Presentation</dc:title>
</cp:coreProperties>
</file>