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9401A-0044-4213-924E-C80E291D7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E0FA2-3FAC-4CA3-A85F-AA8598428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323-C117-4BBC-9265-BD447491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63F-EBD7-45C8-B2BD-9418ABC4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C42-7A92-42B5-B53B-59740E7E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A43-9C9C-47B9-AC4B-07517BD5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A88-D9A7-4A30-AAC2-5840F37C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58E-7396-4CC4-AC96-770FCF55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9D9-6589-43FC-9594-DA53D0E6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BFB-29C7-4188-A2CF-90FBB345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92D-83F8-4D1B-8B5B-4674B8E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29B-AC1D-4CE1-A6E0-34D897C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AFA-3ACC-4801-9C35-D29395F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4C7-D238-4D58-8641-CEB40C00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BB2C-4679-4B15-B342-CBF434BD09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2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if/else, cumulative algorithms, printf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58672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2187720"/>
            <a:ext cx="8458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lew down weekly to meet with IBM, but they thought the way to measure software was the amount of code we wrote, when really the bet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ftware, the fewer lin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code."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Bill G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514600" cy="307332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E75F-E6AE-4E04-B5C9-4811B17DB8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ch 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if/if/if   (2) nested if/else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 nested if/else/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a user is lower, middle, or upper-class based on in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you made the dean's list (GPA ≥ 3.8) or honor roll (3.5-3.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a number is divisible by 2, 3, and/or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a grade of A, B, C, D, or F based on a perce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else if / else if 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 /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944-AC9D-4227-87BE-E98E44E140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two versions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don't comp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think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 might skip all paths, even though mathematically it must choose one o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C3B6-5236-4F42-A802-9A9ED53943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l paths must retu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372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compile and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can return different values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ever path the code enters, it will return tha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ing a value causes a method to immediately ex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s through the co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5F7A-C22E-4246-AC25-64B6E428DBB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WITH PRINTF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4F12-18A7-4CAC-9A30-9A4CB7D5AB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matting text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at string can cont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151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laceholders are used instead of concatenation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15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insert a newline unless you ad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182-E6FF-4633-8110-0314BA46671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idt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acters wide, right-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acters wid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acters wide, right-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3978-A426-4BB4-B124-2C0D77DAE8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05280" y="114300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round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gits after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s wid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gits after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e (left-align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preci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3733920" y="6095880"/>
            <a:ext cx="1828440" cy="682560"/>
            <a:chOff x="3733920" y="6095880"/>
            <a:chExt cx="1828440" cy="682560"/>
          </a:xfrm>
        </p:grpSpPr>
        <p:sp>
          <p:nvSpPr>
            <p:cNvPr id="101" name="Text Box 5"/>
            <p:cNvSpPr/>
            <p:nvPr/>
          </p:nvSpPr>
          <p:spPr>
            <a:xfrm>
              <a:off x="4192920" y="641016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 rot="16200000">
              <a:off x="4495680" y="5333760"/>
              <a:ext cx="304560" cy="18284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4825080" y="5021280"/>
            <a:ext cx="876960" cy="580680"/>
            <a:chOff x="4825080" y="5021280"/>
            <a:chExt cx="876960" cy="580680"/>
          </a:xfrm>
        </p:grpSpPr>
        <p:sp>
          <p:nvSpPr>
            <p:cNvPr id="104" name="AutoShape 8"/>
            <p:cNvSpPr/>
            <p:nvPr/>
          </p:nvSpPr>
          <p:spPr>
            <a:xfrm rot="5400000">
              <a:off x="5157000" y="5145840"/>
              <a:ext cx="227880" cy="684000"/>
            </a:xfrm>
            <a:custGeom>
              <a:avLst/>
              <a:gdLst>
                <a:gd name="textAreaLeft" fmla="*/ 145800 w 227880"/>
                <a:gd name="textAreaRight" fmla="*/ 228240 w 227880"/>
                <a:gd name="textAreaTop" fmla="*/ 17640 h 684000"/>
                <a:gd name="textAreaBottom" fmla="*/ 666360 h 6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4825080" y="50212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4513-8B07-49D8-A6D4-E792DE11CA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2ED-E566-42F7-A7E6-6EBB3605113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ing many numb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the sum of all integers from 1-1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 + 2 + 3 + 4 + ... + 999 + 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want the sum from 1 - 1,000,000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he sum up to any maxim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generalize the above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A152-E680-4218-A2F7-742CE428E0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failed attemp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orrect solution for summing 1-1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sum is undefin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s scope i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, so the code does not comp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ative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variable that keeps a sum in progress and is updated repeatedly until summing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ve is an incorrect attempt at a cumulative s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17D5-9F07-4B91-82AE-7517AF1883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240" y="111744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 &lt; 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 incremented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 &gt; 6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 is too high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 is correctly set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What is output by the code above when it is r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incremen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B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too hi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correctly se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D.  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.  Something other than the answers list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6E2D-B6CA-4C03-A2FE-E2FA3D89F20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ed cumulative su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80880" y="114300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sum variables must be declar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oops that update them, so that they will still exist after the l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02AC-7539-49F5-ADE4-2E316EFD30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produ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umulative idea can be used with other ope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we make the base and exponent adju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3B23-FC24-4F49-B39D-390DFB8CF18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sum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from Ch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ax 8%, tip 15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or how many people, and each person's dinner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tic methods to structure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log of exec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$ 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$  6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$ 1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$ 9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50FD-A9EA-47DD-B5DA-8D3B58D10C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sum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4E0-B8C7-4BD5-BFCF-151D54FC88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answer (partial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Subtotal: $%6.2f\n", subtot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Tax:      $%6.2f\n", ta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Tip:      $%6.2f\n", ti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Total:    $%6.2f\n", tot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F6D9-C8B2-44DE-BAC1-BF95F957E5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 program that prompts for exam and homework grades and prints out the letter grade for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am has a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s, as a whole, have a 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weights shall equ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s numeric grade and prints out letter grade: A, B, C, D,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does not perform any error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6C86-948D-4379-87D5-90D4E55C9F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e Outpu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147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grades to calculate letter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midterms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idter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(1 – 100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s bumped? (1=yes, 2=no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ump amount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87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13.1 /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5790-3CE2-4A03-AACD-BD111D1F31D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6320" y="151920"/>
            <a:ext cx="89913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idter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(1 – 100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s bumped? (1=yes, 2=no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93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18.6 /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 Ex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(1 – 100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s bumped? (1=yes, 2=no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ump amount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100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30.0 /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64A-31CF-47E3-B5F1-1B350087C4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6320" y="151920"/>
            <a:ext cx="89913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is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homeworks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1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2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3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4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68 /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29.3 /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weighted points: 91.4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 grade: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39EB-1B28-4F14-AA69-07079D453A1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5331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ystery(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x + " "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ystery(x,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 " + x + " "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 mystery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*=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x /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What is output by the code above when it is r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14 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14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50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14 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9D26-9579-4D3F-AA40-1EF343FA83F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's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19320"/>
          <a:ext cx="6643800" cy="487044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172200" y="5167440"/>
          <a:ext cx="2771640" cy="100620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7410-8463-4984-9970-18E9DA78EC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er Question 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alues do the following statements retur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round(-10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round(-10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ceil(-10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ceil(-10.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floor(-10.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floor(-10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A: -10, -11, -10.0, -11.0, -11.0, -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B: -10, -11, -11.0, -11.0, -10.0, -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C: -10, -11, -10.0, -10.0, -11.0, -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D: -10, -10, -10.0, -11.0, -11.0, -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E: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BA4B-3A75-47B9-9A48-07306D63CAE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nested_if_1"/>
          <p:cNvPicPr/>
          <p:nvPr/>
        </p:nvPicPr>
        <p:blipFill>
          <a:blip r:embed="rId1"/>
          <a:stretch/>
        </p:blipFill>
        <p:spPr>
          <a:xfrm>
            <a:off x="6934320" y="1752480"/>
            <a:ext cx="2209680" cy="5045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suse of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wrong with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3355-64AE-486E-BC75-9045B615AA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nested_if_3"/>
          <p:cNvPicPr/>
          <p:nvPr/>
        </p:nvPicPr>
        <p:blipFill>
          <a:blip r:embed="rId1"/>
          <a:stretch/>
        </p:blipFill>
        <p:spPr>
          <a:xfrm>
            <a:off x="5029200" y="1905120"/>
            <a:ext cx="4038480" cy="315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763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oses between outcomes using man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4C7F-1116-41A5-8932-28007C330C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nested_if_2"/>
          <p:cNvPicPr/>
          <p:nvPr/>
        </p:nvPicPr>
        <p:blipFill>
          <a:blip r:embed="rId1"/>
          <a:stretch/>
        </p:blipFill>
        <p:spPr>
          <a:xfrm>
            <a:off x="5029200" y="914400"/>
            <a:ext cx="4114800" cy="3595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xactly one path must be ta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ode might not execute any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est 3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2A1F-6CC2-4E5F-AF2B-19CE25F965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295280"/>
          <a:ext cx="9144000" cy="5114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50160"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6920">
                <a:tc gridSpan="2">
                  <a:txBody>
                    <a:bodyPr lIns="90000" rIns="900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8CCB-E59B-4DD2-9973-8BFB3325E9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5T17:29:16Z</dcterms:modified>
  <cp:revision>226</cp:revision>
  <dc:subject/>
  <dc:title>PowerPoint Presentation</dc:title>
</cp:coreProperties>
</file>