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223F5-4862-42A2-AD1D-03F7B63BD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5A3CF-DF64-4563-876D-51F15AD38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712-3F97-4AC3-BC08-4575709E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9C4-5120-4815-B747-DE57C7E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089-FCE7-40AA-8966-143916E4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E7A-2FB9-4E7A-838C-AB783E50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ABD-14F9-4C46-99A6-B10FB89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85E-32BC-4F59-B748-D27E9C0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9F7-F1FE-4948-8700-8B98AE6E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F4A-84D9-49C4-ABEF-07606049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BF-900A-4489-9E7C-4AF4FD5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D4A-B1DF-4263-A4C9-F98A060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AE9-61E1-4D10-9400-866E3CD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F73-0C06-45FF-BF45-272FDE53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D66-A01E-4656-9540-CAEFC02CB7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2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if/else, cumulative algorithms, printf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2187720"/>
            <a:ext cx="8458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lew down weekly to meet with IBM, but they thought the way to measure software was the amount of code we wrote, when really the bet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, the fewer lin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code."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ill G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514600" cy="307332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2B7E-A130-4871-8CAD-20B23842CE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ch 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if/if/if   (2) nested if/else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nested if/else/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a user is lower, middle, or upper-class based on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you made the dean's list (GPA ≥ 3.8) or honor roll (3.5-3.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a number is divisible by 2, 3, and/or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a grade of A, B, C, D, or F based on a perce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/ else if / else if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 /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837-44AB-4107-9216-E20D48BC7C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two versions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don't comp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think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might skip all paths, even though mathematically it must choose one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A1F1-D821-4E88-A6B0-6DA9E61994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l paths must 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372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ers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compile and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can return different values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ever path the code enters, it will return tha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ing a value causes a method to immediately ex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s through the co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F35-1456-4EAB-A7C7-E64A4B829E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WITH PRINTF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90D-117E-49E4-A881-E4058E9469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tting text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at string can cont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151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laceholders are used instead of concatenation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15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insert a newline unless you ad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6E4-A3FD-4788-BD8F-F1E1D9265D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widt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right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acters wide, right-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21A-4716-484A-9C4B-DB582497B4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0528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round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gits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s wid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gits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numb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e (left-align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preci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733920" y="6095880"/>
            <a:ext cx="1828440" cy="682560"/>
            <a:chOff x="3733920" y="6095880"/>
            <a:chExt cx="1828440" cy="682560"/>
          </a:xfrm>
        </p:grpSpPr>
        <p:sp>
          <p:nvSpPr>
            <p:cNvPr id="101" name="Text Box 5"/>
            <p:cNvSpPr/>
            <p:nvPr/>
          </p:nvSpPr>
          <p:spPr>
            <a:xfrm>
              <a:off x="4192920" y="641016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 rot="16200000">
              <a:off x="4495680" y="5333760"/>
              <a:ext cx="304560" cy="18284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4825080" y="5021280"/>
            <a:ext cx="876960" cy="580680"/>
            <a:chOff x="4825080" y="5021280"/>
            <a:chExt cx="876960" cy="580680"/>
          </a:xfrm>
        </p:grpSpPr>
        <p:sp>
          <p:nvSpPr>
            <p:cNvPr id="104" name="AutoShape 8"/>
            <p:cNvSpPr/>
            <p:nvPr/>
          </p:nvSpPr>
          <p:spPr>
            <a:xfrm rot="5400000">
              <a:off x="5157000" y="5145840"/>
              <a:ext cx="227880" cy="684000"/>
            </a:xfrm>
            <a:custGeom>
              <a:avLst/>
              <a:gdLst>
                <a:gd name="textAreaLeft" fmla="*/ 145800 w 227880"/>
                <a:gd name="textAreaRight" fmla="*/ 228240 w 227880"/>
                <a:gd name="textAreaTop" fmla="*/ 17640 h 684000"/>
                <a:gd name="textAreaBottom" fmla="*/ 66636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4825080" y="50212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022-A435-4EC0-83C4-147E30DA59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DBC1-61E3-482B-B116-E318F51314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ing many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the sum of all integers from 1-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 + 2 + 3 + 4 + ... + 999 + 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want the sum from 1 - 1,000,000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 sum up to any max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generalize the above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AF1-9CE9-4DDC-8023-59EEA857C8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ailed attemp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orrect solution for summing 1-1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sum is undefin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scope i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, so the code does not comp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ative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variable that keeps a sum in progress and is updated repeatedly until summing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ve is an incorrect attempt at a cumulative s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9B6-9606-47C4-88C3-C36F56919E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11744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 &lt; 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ncremente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 &gt; 6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s too high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 is correctly set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 is output by the code above when it is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ncremen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B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too hi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correctly se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D.  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.  Something other than the answers list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8EC-2415-4F4B-B949-508D091C48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ed cumulative su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80880" y="11430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sum variables must be declar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ops that update them, so that they will still exist after the l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D83-1220-4356-819F-831D0CA4C7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produ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umulative idea can be used with other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make the base and exponent adju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6CE-E05F-4BAE-9C05-40376A99D5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sum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 from Ch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ax 8%, tip 15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or how many people, and each person's dinner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tic methods to structure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log of exec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$ 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$  6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$ 1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$ 9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8C04-B863-4165-B6E2-97E4BB9766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mulative sum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9E6-E2AA-44E7-8C75-7BF342EF1B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answer (partia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Subtotal: $%6.2f\n", sub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ax:      $%6.2f\n", ta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ip:      $%6.2f\n", ti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f("Total:    $%6.2f\n", tot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10DB-8956-4C9A-A834-869670B2C6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 program that prompts for exam and homework grades and prints out the letter grade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am has a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s, as a whole, have a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weights shall equ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s numeric grade and prints out letter grade: A, B, C, D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does not perform any error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8EE-F2F3-42C1-8A80-D5A4CE073E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147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grades to calculate letter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midterms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ump amount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87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13.1 /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EDBA-E857-4DD3-8F89-1349222BE3E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320" y="1519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dter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93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18.6 /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 Ex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(1 – 100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s bumped? (1=yes, 2=no)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ump amount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100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30.0 /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C0DB-9329-469D-A298-DC8DBD9DFF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6320" y="1519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is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homeworks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1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2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3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work 4 score?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 points: 68 /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ed points: 29.3 /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weighted points: 91.4 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 grade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DA6A-FE01-4C5B-B82C-B2D5D722EA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5331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ystery(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x + " "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ystery(x,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 " + x + " "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*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x /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 is output by the code above when it is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50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 5 14 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118-9123-4E3C-B507-DA6652BAB4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19320"/>
          <a:ext cx="6643800" cy="487044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172200" y="5167440"/>
          <a:ext cx="277164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9594-FCA8-4C95-B7FB-916C38042D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Question 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lues do the following statements retur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round(-10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round(-1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ceil(-10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ceil(-10.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floor(-10.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floor(-1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A: -10, -11, -10.0, -11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B: -10, -11, -11.0, -11.0, -10.0, -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C: -10, -11, -10.0, -10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D: -10, -10, -10.0, -11.0, -11.0, -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Arial"/>
              </a:rPr>
              <a:t>E: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6A7-8011-4F0B-B28A-373FDC7B3D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nested_if_1"/>
          <p:cNvPicPr/>
          <p:nvPr/>
        </p:nvPicPr>
        <p:blipFill>
          <a:blip r:embed="rId1"/>
          <a:stretch/>
        </p:blipFill>
        <p:spPr>
          <a:xfrm>
            <a:off x="6934320" y="1752480"/>
            <a:ext cx="2209680" cy="5045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suse of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wrong with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EF4-B28D-4A82-83A2-F484CCBDBE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sted_if_3"/>
          <p:cNvPicPr/>
          <p:nvPr/>
        </p:nvPicPr>
        <p:blipFill>
          <a:blip r:embed="rId1"/>
          <a:stretch/>
        </p:blipFill>
        <p:spPr>
          <a:xfrm>
            <a:off x="5029200" y="1905120"/>
            <a:ext cx="4038480" cy="315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oses between outcomes using man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CCB1-B5FD-48D1-B0B8-85A98DBD7F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nested_if_2"/>
          <p:cNvPicPr/>
          <p:nvPr/>
        </p:nvPicPr>
        <p:blipFill>
          <a:blip r:embed="rId1"/>
          <a:stretch/>
        </p:blipFill>
        <p:spPr>
          <a:xfrm>
            <a:off x="5029200" y="914400"/>
            <a:ext cx="4114800" cy="3595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xactly one path must be ta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de might not execute any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est 3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311E-63B6-4509-B018-BBC5B6B1CA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stru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295280"/>
          <a:ext cx="9144000" cy="5114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50160"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6920">
                <a:tc gridSpan="2">
                  <a:txBody>
                    <a:bodyPr lIns="90000" rIns="900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BCA-16F3-4978-8A26-09DE7A1DDD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5T17:29:16Z</dcterms:modified>
  <cp:revision>226</cp:revision>
  <dc:subject/>
  <dc:title>PowerPoint Presentation</dc:title>
</cp:coreProperties>
</file>