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DB44B-D5D3-43FD-9D30-772634415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AFE3-9E64-442B-A2DF-3F69EC66B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9B3-F7BB-492F-8A01-D12BC52F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D38-094A-472D-8A21-C146BF47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D2E-022F-453B-93EE-0B5399EF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11B-A1C2-4486-9EAD-0BAFA166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6EC-4B3C-45DE-BE03-A03572D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27B-F796-4EF5-9B96-05D69786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F70-98E0-4A9D-AD0E-B70CEEF8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C9B-9C4E-4B37-9AA0-D3182E0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118-52AF-4228-B5F6-A376FDC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C0B-B6FA-40DC-8D97-C7E027B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27B-7C3E-4482-B577-65F3148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587-5634-40BE-A771-5B92D38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E68-75D9-4CB5-AF99-53AD6E93E3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1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cedural design and String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58672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8686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ly programs are like ugly suspension bridges: they're much more liable to collapse than pretty ones, because the way humans (especially engineer-humans) perceive beauty is intimately related to our ability to process and understand complex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S. Raymo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athedral and the Baza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dex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of a string are numbered with 0-bas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ame = "K. Scott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haracter's index : 0 (zero based index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haracter's index : 1 less than the string'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vidual characters ar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other primitive data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3200400"/>
          <a:ext cx="6535440" cy="83016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are called using the dot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udent = "Olivia Scot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udent.length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280" y="990720"/>
          <a:ext cx="8839440" cy="352404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laces occurrences o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ith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 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10134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1 = "Olivia Scot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2 = "Isabelle Scott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2.length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2.indexOf("e"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"Sc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2.substring(4, 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"elle 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ollowing st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extract the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uilding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rite code that can extract the first word from any str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1 = "Football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2 = s1.substring(4, 8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2.substring(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s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syntax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runtim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ying 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7632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li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d and return a new string, rather than modifying the current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ut Longhorn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ut Longh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variable's value, you must reassign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 = "ut Longhorn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s); </a:t>
            </a:r>
            <a:r>
              <a:rPr b="1" lang="en-US" sz="2800" spc="-1" strike="noStrike">
                <a:solidFill>
                  <a:srgbClr val="008080"/>
                </a:solidFill>
                <a:latin typeface="Courier New"/>
              </a:rPr>
              <a:t>// UT LONGH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 as user inpu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reads a word of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first name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ing name = console.nex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lengt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ubstring(0,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first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 reads a line of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Lin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3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1 = "taxicab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2 = "acable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3 = s1.substring(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s4 = s2.substring(1,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s3.length() == s4.length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1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s3 == s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1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867280" y="4038480"/>
            <a:ext cx="3200400" cy="3195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aring 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 operators such a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il on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de will compile, but it will not print the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es objects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en later), so it often giv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n when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have the same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compared using a method nam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red's Frien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urple Dinasua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n troubl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type used in logical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test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OBE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Yes Sir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body mass index (BMI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hat produces output lik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 comp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ir body mass index (BMI) and weight sta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MI = 29.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2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MI = 30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0.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5638680" y="4648320"/>
          <a:ext cx="3054600" cy="150480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,method to determine if a String is a possible representation of a D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only A, C, T, and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creat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tson-Crick compl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tring that represents a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 with T, C with G, and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tring that represents a strand of DNA return the first substring that exists between "ATG" and either "TAG" or "TG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verlap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returns the number of times a given character occurs in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returns the number of times a the punctuation mark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?!,:";'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in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e-person, no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program reads ... (etc.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mi = weight * 703 / height / heigh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BMI = %.2f\n", bm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Chaining"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a concise summary of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d if each method calls the next without ever returning (we call 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structure h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ke most of the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must return valu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passed on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60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62" name="Line 7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9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65" name="Line 10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11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68" name="Line 13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4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5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71" name="Line 16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7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Group 18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74" name="Text Box 19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0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76" name="Line 21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22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3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79" name="Line 24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5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26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82" name="Line 27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28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9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85" name="Line 30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31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d "chain"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program reads ... (etc.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erson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Weight(console, 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getWeight(Scanner console, double heigh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mputeBMI(console, height, w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puteBMI(Scanner s, double h, double w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al heuris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thod should have a clear set of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thod should do too large a share of the overall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coupling and dependencies between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method should read as a concise summary of the overall set of tasks performed by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hould be declared/used at the lowest level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solu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228600" y="914400"/>
            <a:ext cx="9677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ares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e code uses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mi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mi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ifference   =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Math.abs(bmi1 - bmi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program reads 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ter solution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81240" y="685800"/>
            <a:ext cx="9753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mi(height, w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weight * 703 / height / heigh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Subject%5dBMI = %.2f\n", number, bm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object storing a sequence of text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most other objects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always creat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br>
              <a:rPr sz="7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4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Michael D. Scott</cp:lastModifiedBy>
  <dcterms:modified xsi:type="dcterms:W3CDTF">2016-08-16T18:01:55Z</dcterms:modified>
  <cp:revision>193</cp:revision>
  <dc:subject/>
  <dc:title>PowerPoint Presentation</dc:title>
</cp:coreProperties>
</file>