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B213B-1E10-41FA-8257-70328139F3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F5E37-8288-4000-948D-1F77B7B3C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we round the BMI numb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CE8-E356-4DA5-B394-FB30E8BA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38C-9B67-4A5B-A30B-ACC56410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93A-A62D-4DCD-AE52-6A56996B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2C90-FBC9-44C9-AB10-AC5DA2E7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0FB4-9515-407E-AAB9-E8959392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49B-2B84-465A-B3A4-D27C2E4F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2BC-CF1C-4E4F-BF58-C46EFAEF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E65-8DF1-49D9-9F16-90138485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54C-EC92-4872-8243-5F57DFF6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F4C-51F9-4C8F-ADE9-A3733F60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DEA-07DE-424C-84C6-CE1A6D25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963-ADBC-4206-8CFF-14480567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0EEC-9643-4410-8E79-7982BA3961D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13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cedural design and String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586728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u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8686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gly programs are like ugly suspension bridges: they're much more liable to collapse than pretty ones, because the way humans (especially engineer-humans) perceive beauty is intimately related to our ability to process and understand complexit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c S. Raymon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Cathedral and the Baza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dex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s of a string are numbered with 0-bas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x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name = "K. Scott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haracter's index : 0 (zero based index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character's index : 1 less than the string's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ividual characters are values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nother primitive data ty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3200400"/>
          <a:ext cx="6535440" cy="830160"/>
        </p:xfrm>
        <a:graphic>
          <a:graphicData uri="http://schemas.openxmlformats.org/drawingml/2006/table">
            <a:tbl>
              <a:tblPr/>
              <a:tblGrid>
                <a:gridCol w="1379520"/>
                <a:gridCol w="644400"/>
                <a:gridCol w="646200"/>
                <a:gridCol w="642960"/>
                <a:gridCol w="644400"/>
                <a:gridCol w="644400"/>
                <a:gridCol w="644760"/>
                <a:gridCol w="644400"/>
                <a:gridCol w="64440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ethods are called using the dot no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tudent = "Olivia Scott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udent.length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280" y="990720"/>
          <a:ext cx="8839440" cy="352404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 where the start of the given string appears in this string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pla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laces occurrences o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ith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s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 examp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960" y="914400"/>
            <a:ext cx="10134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index     012345678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1 = "Olivia Scott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2 = "Isabelle Scott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2.length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1.indexOf("e"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2.indexOf("e"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1.substring(7, 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"Sco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3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2.substring(4, 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3.toLowerCase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"elle 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following st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index       0123456789012345678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book = "Building Java Programs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extract the wor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uilding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rite code that can extract the first word from any stri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1 = "Football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2 = s1.substring(4, 8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2.substring(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(s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utput due to syntax err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utput due to runtime err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ifying string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76320" y="1143000"/>
            <a:ext cx="9220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lik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ild and return a new string, rather than modifying the current st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 = "ut Longhorns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urier New"/>
              </a:rPr>
              <a:t>s.toUpperCas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ut Longho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odify a variable's value, you must reassign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 = "ut Longhorns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s = </a:t>
            </a:r>
            <a:r>
              <a:rPr b="0" lang="en-US" sz="2800" spc="-1" strike="noStrike">
                <a:solidFill>
                  <a:srgbClr val="003399"/>
                </a:solidFill>
                <a:latin typeface="Courier New"/>
              </a:rPr>
              <a:t>s.toUpperCas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s); 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UT LONGHO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ings as user inpu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 reads a word of input a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first name?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ing name = console.nex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has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length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letters and starts with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ubstring(0, 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first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hamillio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millionaire has 14 letters and starts wit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 reads a line of input a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ddress?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address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onsole.nextLin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32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1 = "taxicab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2 = "acables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3 = s1.substring(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4 = s2.substring(1, 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s3.length() == s4.length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("1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s3 == s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("1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5867280" y="4038480"/>
            <a:ext cx="3200400" cy="3195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utput d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yntax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aring string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al operators such a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il on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de will compile, but it will not print the s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ares objects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een later), so it often giv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ven when tw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have the same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equal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compared using a method name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red's Friend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urple Dinasuar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n troubl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returns a value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type used in logical t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test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ndsWith("OBE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Yes Sir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este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for body mass index (BMI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that produces output like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 comp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ir body mass index (BMI) and weight sta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3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MI = 29.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2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MI = 30.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0.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4" name=""/>
          <p:cNvGraphicFramePr/>
          <p:nvPr/>
        </p:nvGraphicFramePr>
        <p:xfrm>
          <a:off x="5638680" y="4648320"/>
          <a:ext cx="3054600" cy="150480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1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ings ques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,method to determine if a String is a possible representation of a DNA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only A, C, T, and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o creat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tson-Crick compl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tring that represents a strand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A with T, C with G, and vice 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tring that represents a strand of DNA return the first substring that exists between "ATG" and either "TAG" or "TGA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verlap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ing Ques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hat returns the number of times a given character occurs in a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hat returns the number of times a the punctuation mark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.?!,:";'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 in a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ne-person, no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is program reads ... (etc.)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bmi = weight * 703 / height / heigh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f("BMI = %.2f\n", bm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"Chaining"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uld be a concise summary of your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bad if each method calls the next without ever returning (we call th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etter structure h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ke most of the c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must return valu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 passed on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4"/>
          <p:cNvGrpSpPr/>
          <p:nvPr/>
        </p:nvGrpSpPr>
        <p:grpSpPr>
          <a:xfrm>
            <a:off x="392040" y="2666880"/>
            <a:ext cx="8277120" cy="1002240"/>
            <a:chOff x="392040" y="2666880"/>
            <a:chExt cx="8277120" cy="1002240"/>
          </a:xfrm>
        </p:grpSpPr>
        <p:sp>
          <p:nvSpPr>
            <p:cNvPr id="60" name="Text Box 5"/>
            <p:cNvSpPr/>
            <p:nvPr/>
          </p:nvSpPr>
          <p:spPr>
            <a:xfrm>
              <a:off x="392040" y="266688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6"/>
            <p:cNvGrpSpPr/>
            <p:nvPr/>
          </p:nvGrpSpPr>
          <p:grpSpPr>
            <a:xfrm>
              <a:off x="1219320" y="2813040"/>
              <a:ext cx="1792080" cy="398880"/>
              <a:chOff x="1219320" y="2813040"/>
              <a:chExt cx="1792080" cy="398880"/>
            </a:xfrm>
          </p:grpSpPr>
          <p:sp>
            <p:nvSpPr>
              <p:cNvPr id="62" name="Line 7"/>
              <p:cNvSpPr/>
              <p:nvPr/>
            </p:nvSpPr>
            <p:spPr>
              <a:xfrm>
                <a:off x="1219320" y="28605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8"/>
              <p:cNvSpPr/>
              <p:nvPr/>
            </p:nvSpPr>
            <p:spPr>
              <a:xfrm>
                <a:off x="1764000" y="28130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9"/>
            <p:cNvGrpSpPr/>
            <p:nvPr/>
          </p:nvGrpSpPr>
          <p:grpSpPr>
            <a:xfrm>
              <a:off x="3108240" y="2965320"/>
              <a:ext cx="1792080" cy="398880"/>
              <a:chOff x="3108240" y="2965320"/>
              <a:chExt cx="1792080" cy="398880"/>
            </a:xfrm>
          </p:grpSpPr>
          <p:sp>
            <p:nvSpPr>
              <p:cNvPr id="65" name="Line 10"/>
              <p:cNvSpPr/>
              <p:nvPr/>
            </p:nvSpPr>
            <p:spPr>
              <a:xfrm>
                <a:off x="3108240" y="301284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11"/>
              <p:cNvSpPr/>
              <p:nvPr/>
            </p:nvSpPr>
            <p:spPr>
              <a:xfrm>
                <a:off x="3652920" y="29653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12"/>
            <p:cNvGrpSpPr/>
            <p:nvPr/>
          </p:nvGrpSpPr>
          <p:grpSpPr>
            <a:xfrm>
              <a:off x="4992840" y="3117960"/>
              <a:ext cx="1792080" cy="398880"/>
              <a:chOff x="4992840" y="3117960"/>
              <a:chExt cx="1792080" cy="398880"/>
            </a:xfrm>
          </p:grpSpPr>
          <p:sp>
            <p:nvSpPr>
              <p:cNvPr id="68" name="Line 13"/>
              <p:cNvSpPr/>
              <p:nvPr/>
            </p:nvSpPr>
            <p:spPr>
              <a:xfrm>
                <a:off x="4992840" y="316548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14"/>
              <p:cNvSpPr/>
              <p:nvPr/>
            </p:nvSpPr>
            <p:spPr>
              <a:xfrm>
                <a:off x="5537520" y="31179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15"/>
            <p:cNvGrpSpPr/>
            <p:nvPr/>
          </p:nvGrpSpPr>
          <p:grpSpPr>
            <a:xfrm>
              <a:off x="6877080" y="3270240"/>
              <a:ext cx="1792080" cy="398880"/>
              <a:chOff x="6877080" y="3270240"/>
              <a:chExt cx="1792080" cy="398880"/>
            </a:xfrm>
          </p:grpSpPr>
          <p:sp>
            <p:nvSpPr>
              <p:cNvPr id="71" name="Line 16"/>
              <p:cNvSpPr/>
              <p:nvPr/>
            </p:nvSpPr>
            <p:spPr>
              <a:xfrm>
                <a:off x="6877080" y="33177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17"/>
              <p:cNvSpPr/>
              <p:nvPr/>
            </p:nvSpPr>
            <p:spPr>
              <a:xfrm>
                <a:off x="7421760" y="32702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" name="Group 18"/>
          <p:cNvGrpSpPr/>
          <p:nvPr/>
        </p:nvGrpSpPr>
        <p:grpSpPr>
          <a:xfrm>
            <a:off x="392040" y="4676760"/>
            <a:ext cx="4503600" cy="1617840"/>
            <a:chOff x="392040" y="4676760"/>
            <a:chExt cx="4503600" cy="1617840"/>
          </a:xfrm>
        </p:grpSpPr>
        <p:sp>
          <p:nvSpPr>
            <p:cNvPr id="74" name="Text Box 19"/>
            <p:cNvSpPr/>
            <p:nvPr/>
          </p:nvSpPr>
          <p:spPr>
            <a:xfrm>
              <a:off x="392040" y="467676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20"/>
            <p:cNvGrpSpPr/>
            <p:nvPr/>
          </p:nvGrpSpPr>
          <p:grpSpPr>
            <a:xfrm>
              <a:off x="1219320" y="4822920"/>
              <a:ext cx="1791720" cy="398880"/>
              <a:chOff x="1219320" y="4822920"/>
              <a:chExt cx="1791720" cy="398880"/>
            </a:xfrm>
          </p:grpSpPr>
          <p:sp>
            <p:nvSpPr>
              <p:cNvPr id="76" name="Line 21"/>
              <p:cNvSpPr/>
              <p:nvPr/>
            </p:nvSpPr>
            <p:spPr>
              <a:xfrm>
                <a:off x="1219320" y="4870440"/>
                <a:ext cx="533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22"/>
              <p:cNvSpPr/>
              <p:nvPr/>
            </p:nvSpPr>
            <p:spPr>
              <a:xfrm>
                <a:off x="1763640" y="48229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23"/>
            <p:cNvGrpSpPr/>
            <p:nvPr/>
          </p:nvGrpSpPr>
          <p:grpSpPr>
            <a:xfrm>
              <a:off x="1219320" y="5029200"/>
              <a:ext cx="1791720" cy="732240"/>
              <a:chOff x="1219320" y="5029200"/>
              <a:chExt cx="1791720" cy="732240"/>
            </a:xfrm>
          </p:grpSpPr>
          <p:sp>
            <p:nvSpPr>
              <p:cNvPr id="79" name="Line 24"/>
              <p:cNvSpPr/>
              <p:nvPr/>
            </p:nvSpPr>
            <p:spPr>
              <a:xfrm>
                <a:off x="1219320" y="5029200"/>
                <a:ext cx="5331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5"/>
              <p:cNvSpPr/>
              <p:nvPr/>
            </p:nvSpPr>
            <p:spPr>
              <a:xfrm>
                <a:off x="1763640" y="53625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26"/>
            <p:cNvGrpSpPr/>
            <p:nvPr/>
          </p:nvGrpSpPr>
          <p:grpSpPr>
            <a:xfrm>
              <a:off x="3103560" y="5514840"/>
              <a:ext cx="1792080" cy="398880"/>
              <a:chOff x="3103560" y="5514840"/>
              <a:chExt cx="1792080" cy="398880"/>
            </a:xfrm>
          </p:grpSpPr>
          <p:sp>
            <p:nvSpPr>
              <p:cNvPr id="82" name="Line 27"/>
              <p:cNvSpPr/>
              <p:nvPr/>
            </p:nvSpPr>
            <p:spPr>
              <a:xfrm>
                <a:off x="3103560" y="55623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28"/>
              <p:cNvSpPr/>
              <p:nvPr/>
            </p:nvSpPr>
            <p:spPr>
              <a:xfrm>
                <a:off x="3648240" y="55148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9"/>
            <p:cNvGrpSpPr/>
            <p:nvPr/>
          </p:nvGrpSpPr>
          <p:grpSpPr>
            <a:xfrm>
              <a:off x="1085760" y="5062680"/>
              <a:ext cx="1925280" cy="1231920"/>
              <a:chOff x="1085760" y="5062680"/>
              <a:chExt cx="1925280" cy="1231920"/>
            </a:xfrm>
          </p:grpSpPr>
          <p:sp>
            <p:nvSpPr>
              <p:cNvPr id="85" name="Line 30"/>
              <p:cNvSpPr/>
              <p:nvPr/>
            </p:nvSpPr>
            <p:spPr>
              <a:xfrm>
                <a:off x="1085760" y="5062680"/>
                <a:ext cx="666720" cy="10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31"/>
              <p:cNvSpPr/>
              <p:nvPr/>
            </p:nvSpPr>
            <p:spPr>
              <a:xfrm>
                <a:off x="1763640" y="58957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d "chain"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is program reads ... (etc.)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son(conso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erson(Scanner consol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getWeight(console, heigh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getWeight(Scanner console, double heigh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computeBMI(console, height, weigh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puteBMI(Scanner s, double h, double w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cedural heuristi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ethod should have a clear set of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ethod should do too large a share of the overall t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coupling and dependencies between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method should read as a concise summary of the overall set of tasks performed by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should be declared/used at the lowest level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etter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228600" y="914400"/>
            <a:ext cx="9677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ares th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e code uses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Scanner for input, and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parameters/retur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bmi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rson(conso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bmi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rson(conso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Difference   =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Math.abs(bmi1 - bmi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is program reads 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etter solution, cont'd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81240" y="685800"/>
            <a:ext cx="9753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mi(height, weigh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omputes/returns a person's BMI based on their height and we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weight * 703 / height / heigh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f("Subject%5dBMI = %.2f\n", number, bm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ing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n object storing a sequence of text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most other objects,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ot always created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2400"/>
            </a:br>
            <a:br>
              <a:rPr sz="7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400"/>
            </a:br>
            <a:br>
              <a:rPr sz="7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point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(" + x + ", " + y + ")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Michael D. Scott</cp:lastModifiedBy>
  <dcterms:modified xsi:type="dcterms:W3CDTF">2016-08-16T18:01:55Z</dcterms:modified>
  <cp:revision>193</cp:revision>
  <dc:subject/>
  <dc:title>PowerPoint Presentation</dc:title>
</cp:coreProperties>
</file>