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2C295-0D2D-4F76-9865-B6A9F2F48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11D88-1BF2-4671-903C-E17838328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085B6-7440-4D17-85E8-ADFACFE7BAE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363-CD1A-4618-A8EC-BA4417CA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20C-AF19-4793-A2A3-49464048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3BC-21C1-4985-9B80-F8559A34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246-D797-49A2-B822-A42E1FDD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6B7-E6E1-485E-94B8-1FDEA224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E2F-DBDC-4FED-B1B0-93E2DBC0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B8C-B61A-4544-A610-14234DB5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2B6-0AF7-4476-8990-07A9B5D1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E68-53FB-4FBA-845D-E55D82D1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7B1-0D3D-4E7A-85A6-6ADD02BC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735-A3E7-48D9-BF47-351EE011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EC1-DDB2-43BB-9EBD-D54C807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401C-D3DD-41A5-B7CD-68294DACFDA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4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ile loops and loop pattern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58672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1752480"/>
            <a:ext cx="8458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Given enough eyeballs, all bugs are shallow (e.g., given a large enough beta-tester and co-developer base, almost every problem will be characterized quickly and the fix obvious to someone)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us's Law, by Eric Ray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7292880" y="4648320"/>
            <a:ext cx="1833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tegories of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e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xecutes a known number of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ops we have seen are definite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"hello" 10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ll the prime numbers up to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each odd number between 5 and 1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finite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e where the number of times its body repeats is not known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 the user until they type a non-negativ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random numbers until a prime number is pr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the user has typed "q" to q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C31B-B664-44C4-ABD0-F60D3F2C24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while"/>
          <p:cNvPicPr/>
          <p:nvPr/>
        </p:nvPicPr>
        <p:blipFill>
          <a:blip r:embed="rId1"/>
          <a:stretch/>
        </p:blipFill>
        <p:spPr>
          <a:xfrm>
            <a:off x="6129360" y="114300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loo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1522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peatedly executes i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as long as a logical test is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es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statement(s)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 = 1;    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num &lt;= 200) {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 = num * 2;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49B9-F920-4671-8544-C7A6C008E01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loo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7668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"First factor is "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ct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ett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ause we don't know how many times we will need to increment to find the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95A7-350E-45CF-8372-DD969246869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x = 1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limit = 6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val = 1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val &lt; limit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*= 2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No output due to syntax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No output due to some other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DDDC-85D5-4D27-A251-D2579526410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tin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ue that signals the end of user inp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tinel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peats until a sentinel value is s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rite a program that prompts the user for text until the user types nothing, then output the total number of characters ty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is case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is the sentinel valu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ell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his is a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typed a total of 19 charact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ntinel valu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3528-6E45-436B-9CEB-877F0EA1BBD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lution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7632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response = "dummy";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"dummy" value, anything but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!response.equals(""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a line (or nothing to exit)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E778-D6F0-4511-8E0B-9A01C75C309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nging the sentinel valu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52640" y="1143000"/>
            <a:ext cx="1112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your program to 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nel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log of exec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this is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qui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typed a total of 19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25B6-2AF4-42E5-93CA-1C47E761AA4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nging the sentinel valu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sentinel's value to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not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"dummy";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dummy" value, anything but "qui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"quit"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quit\" to exit):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olution produces the wrong output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ou typed a total of 23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AF3F-13B8-4343-B842-D6102C6C5FE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problem with the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de uses a pattern like th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le (input is not the sentinel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mpt for input; read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d input length to the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FD6F-09E8-40E4-9416-7E070ACAAAD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the last pass, the sentinel’s length (4) is added to the su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mpt for input; read input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add input length (4) to the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 fencepost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a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es, but only sum the lengths of 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2C76-46EE-4524-A71A-4BB5676E45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deceptive problem..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rints each number from 1 to a given maximum, separated by comm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pr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3236-9B00-4885-8B6F-3F9390BB56A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fencepost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m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prompt for input; read input.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8080"/>
                </a:solidFill>
                <a:latin typeface="Arial"/>
              </a:rPr>
              <a:t>// place a "post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le (input is not the sentinel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add input length to the sum.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8080"/>
                </a:solidFill>
                <a:latin typeface="Arial"/>
              </a:rPr>
              <a:t>// place a "wir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mpt for input; read input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8080"/>
                </a:solidFill>
                <a:latin typeface="Arial"/>
              </a:rPr>
              <a:t>// place a "post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nel loops often utilize a fencepost "loop-and-a-half" style solution by pulling some code out of the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D888-5C89-4016-8A13-FB35A8172D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rect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("Type a line (or \"quit\" to exit)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ing response = console.next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!response.equals("quit"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 += response.length();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a line (or \"quit\" to exit)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51F4-4B38-4F9D-BC83-790ED2BF1A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ntinel as a consta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28960" y="1371240"/>
            <a:ext cx="9448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tatic final String SENTINEL = "quit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\" to exit):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console.next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// moved to top of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\" to exit):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127F-3FBB-41C6-B822-FD650405E9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improve checking if a number is prime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n we s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hat flips a coin until there is a run of 10 flips of the same side in a 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flips were there before 10 in a 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e experiment 1000 times, what is the average number of f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99DF-C8F6-47C8-8496-3A09137E685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awed solu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C3F9-3514-4380-A58C-0170EF20EF2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 post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s but need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 com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building a fence with wires separated by po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use a flawed algorithm that repeatedly places a post + wire, the last post will have an extra dangling wi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for (length of fenc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lace a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lace som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3772080" y="5486400"/>
            <a:ext cx="4952520" cy="990720"/>
            <a:chOff x="3772080" y="5486400"/>
            <a:chExt cx="4952520" cy="990720"/>
          </a:xfrm>
        </p:grpSpPr>
        <p:grpSp>
          <p:nvGrpSpPr>
            <p:cNvPr id="61" name="Group 5"/>
            <p:cNvGrpSpPr/>
            <p:nvPr/>
          </p:nvGrpSpPr>
          <p:grpSpPr>
            <a:xfrm>
              <a:off x="3772080" y="5486400"/>
              <a:ext cx="990360" cy="990720"/>
              <a:chOff x="3772080" y="5486400"/>
              <a:chExt cx="990360" cy="990720"/>
            </a:xfrm>
          </p:grpSpPr>
          <p:sp>
            <p:nvSpPr>
              <p:cNvPr id="62" name="Rectangle 6"/>
              <p:cNvSpPr/>
              <p:nvPr/>
            </p:nvSpPr>
            <p:spPr>
              <a:xfrm>
                <a:off x="3772080" y="5486400"/>
                <a:ext cx="228600" cy="990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Group 7"/>
              <p:cNvGrpSpPr/>
              <p:nvPr/>
            </p:nvGrpSpPr>
            <p:grpSpPr>
              <a:xfrm>
                <a:off x="4000680" y="5639040"/>
                <a:ext cx="761760" cy="380880"/>
                <a:chOff x="4000680" y="5639040"/>
                <a:chExt cx="761760" cy="380880"/>
              </a:xfrm>
            </p:grpSpPr>
            <p:sp>
              <p:nvSpPr>
                <p:cNvPr id="64" name="Rectangle 8"/>
                <p:cNvSpPr/>
                <p:nvPr/>
              </p:nvSpPr>
              <p:spPr>
                <a:xfrm>
                  <a:off x="4000680" y="563904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9"/>
                <p:cNvSpPr/>
                <p:nvPr/>
              </p:nvSpPr>
              <p:spPr>
                <a:xfrm>
                  <a:off x="4000680" y="5943600"/>
                  <a:ext cx="761760" cy="7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" name="Group 10"/>
            <p:cNvGrpSpPr/>
            <p:nvPr/>
          </p:nvGrpSpPr>
          <p:grpSpPr>
            <a:xfrm>
              <a:off x="4762440" y="5486400"/>
              <a:ext cx="990360" cy="990720"/>
              <a:chOff x="4762440" y="5486400"/>
              <a:chExt cx="990360" cy="990720"/>
            </a:xfrm>
          </p:grpSpPr>
          <p:sp>
            <p:nvSpPr>
              <p:cNvPr id="67" name="Rectangle 11"/>
              <p:cNvSpPr/>
              <p:nvPr/>
            </p:nvSpPr>
            <p:spPr>
              <a:xfrm>
                <a:off x="4762440" y="5486400"/>
                <a:ext cx="228600" cy="990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12"/>
              <p:cNvGrpSpPr/>
              <p:nvPr/>
            </p:nvGrpSpPr>
            <p:grpSpPr>
              <a:xfrm>
                <a:off x="4991040" y="5639040"/>
                <a:ext cx="761760" cy="380880"/>
                <a:chOff x="4991040" y="5639040"/>
                <a:chExt cx="761760" cy="380880"/>
              </a:xfrm>
            </p:grpSpPr>
            <p:sp>
              <p:nvSpPr>
                <p:cNvPr id="69" name="Rectangle 13"/>
                <p:cNvSpPr/>
                <p:nvPr/>
              </p:nvSpPr>
              <p:spPr>
                <a:xfrm>
                  <a:off x="4991040" y="563904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14"/>
                <p:cNvSpPr/>
                <p:nvPr/>
              </p:nvSpPr>
              <p:spPr>
                <a:xfrm>
                  <a:off x="4991040" y="5943600"/>
                  <a:ext cx="761760" cy="7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15"/>
            <p:cNvGrpSpPr/>
            <p:nvPr/>
          </p:nvGrpSpPr>
          <p:grpSpPr>
            <a:xfrm>
              <a:off x="5753160" y="5486400"/>
              <a:ext cx="990360" cy="990720"/>
              <a:chOff x="5753160" y="5486400"/>
              <a:chExt cx="990360" cy="990720"/>
            </a:xfrm>
          </p:grpSpPr>
          <p:sp>
            <p:nvSpPr>
              <p:cNvPr id="72" name="Rectangle 16"/>
              <p:cNvSpPr/>
              <p:nvPr/>
            </p:nvSpPr>
            <p:spPr>
              <a:xfrm>
                <a:off x="5753160" y="5486400"/>
                <a:ext cx="228600" cy="990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17"/>
              <p:cNvGrpSpPr/>
              <p:nvPr/>
            </p:nvGrpSpPr>
            <p:grpSpPr>
              <a:xfrm>
                <a:off x="5981760" y="5639040"/>
                <a:ext cx="761760" cy="380880"/>
                <a:chOff x="5981760" y="5639040"/>
                <a:chExt cx="761760" cy="380880"/>
              </a:xfrm>
            </p:grpSpPr>
            <p:sp>
              <p:nvSpPr>
                <p:cNvPr id="74" name="Rectangle 18"/>
                <p:cNvSpPr/>
                <p:nvPr/>
              </p:nvSpPr>
              <p:spPr>
                <a:xfrm>
                  <a:off x="5981760" y="563904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19"/>
                <p:cNvSpPr/>
                <p:nvPr/>
              </p:nvSpPr>
              <p:spPr>
                <a:xfrm>
                  <a:off x="5981760" y="5943600"/>
                  <a:ext cx="761760" cy="7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" name="Group 20"/>
            <p:cNvGrpSpPr/>
            <p:nvPr/>
          </p:nvGrpSpPr>
          <p:grpSpPr>
            <a:xfrm>
              <a:off x="6743880" y="5486400"/>
              <a:ext cx="990360" cy="990720"/>
              <a:chOff x="6743880" y="5486400"/>
              <a:chExt cx="990360" cy="990720"/>
            </a:xfrm>
          </p:grpSpPr>
          <p:sp>
            <p:nvSpPr>
              <p:cNvPr id="77" name="Rectangle 21"/>
              <p:cNvSpPr/>
              <p:nvPr/>
            </p:nvSpPr>
            <p:spPr>
              <a:xfrm>
                <a:off x="6743880" y="5486400"/>
                <a:ext cx="228600" cy="990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Group 22"/>
              <p:cNvGrpSpPr/>
              <p:nvPr/>
            </p:nvGrpSpPr>
            <p:grpSpPr>
              <a:xfrm>
                <a:off x="6972480" y="5639040"/>
                <a:ext cx="761760" cy="380880"/>
                <a:chOff x="6972480" y="5639040"/>
                <a:chExt cx="761760" cy="380880"/>
              </a:xfrm>
            </p:grpSpPr>
            <p:sp>
              <p:nvSpPr>
                <p:cNvPr id="79" name="Rectangle 23"/>
                <p:cNvSpPr/>
                <p:nvPr/>
              </p:nvSpPr>
              <p:spPr>
                <a:xfrm>
                  <a:off x="6972480" y="563904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24"/>
                <p:cNvSpPr/>
                <p:nvPr/>
              </p:nvSpPr>
              <p:spPr>
                <a:xfrm>
                  <a:off x="6972480" y="5943600"/>
                  <a:ext cx="761760" cy="7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Group 25"/>
            <p:cNvGrpSpPr/>
            <p:nvPr/>
          </p:nvGrpSpPr>
          <p:grpSpPr>
            <a:xfrm>
              <a:off x="7734240" y="5486400"/>
              <a:ext cx="990360" cy="990720"/>
              <a:chOff x="7734240" y="5486400"/>
              <a:chExt cx="990360" cy="990720"/>
            </a:xfrm>
          </p:grpSpPr>
          <p:sp>
            <p:nvSpPr>
              <p:cNvPr id="82" name="Rectangle 26"/>
              <p:cNvSpPr/>
              <p:nvPr/>
            </p:nvSpPr>
            <p:spPr>
              <a:xfrm>
                <a:off x="7734240" y="5486400"/>
                <a:ext cx="228600" cy="990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27"/>
              <p:cNvGrpSpPr/>
              <p:nvPr/>
            </p:nvGrpSpPr>
            <p:grpSpPr>
              <a:xfrm>
                <a:off x="7962840" y="5639040"/>
                <a:ext cx="761760" cy="380880"/>
                <a:chOff x="7962840" y="5639040"/>
                <a:chExt cx="761760" cy="380880"/>
              </a:xfrm>
            </p:grpSpPr>
            <p:sp>
              <p:nvSpPr>
                <p:cNvPr id="84" name="Rectangle 28"/>
                <p:cNvSpPr/>
                <p:nvPr/>
              </p:nvSpPr>
              <p:spPr>
                <a:xfrm>
                  <a:off x="7962840" y="563904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29"/>
                <p:cNvSpPr/>
                <p:nvPr/>
              </p:nvSpPr>
              <p:spPr>
                <a:xfrm>
                  <a:off x="7962840" y="5943600"/>
                  <a:ext cx="761760" cy="7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0BA8-250C-4B8E-81BC-925DA2C7A91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post loo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statement outside the loop to place the initial "pos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ncepost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a "loop-and-a-half"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a p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(length of fenc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some w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a p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4762440" y="5638680"/>
            <a:ext cx="4191120" cy="990360"/>
            <a:chOff x="4762440" y="5638680"/>
            <a:chExt cx="4191120" cy="990360"/>
          </a:xfrm>
        </p:grpSpPr>
        <p:grpSp>
          <p:nvGrpSpPr>
            <p:cNvPr id="90" name="Group 5"/>
            <p:cNvGrpSpPr/>
            <p:nvPr/>
          </p:nvGrpSpPr>
          <p:grpSpPr>
            <a:xfrm>
              <a:off x="4762440" y="5638680"/>
              <a:ext cx="990360" cy="990360"/>
              <a:chOff x="4762440" y="5638680"/>
              <a:chExt cx="990360" cy="990360"/>
            </a:xfrm>
          </p:grpSpPr>
          <p:sp>
            <p:nvSpPr>
              <p:cNvPr id="91" name="Rectangle 6"/>
              <p:cNvSpPr/>
              <p:nvPr/>
            </p:nvSpPr>
            <p:spPr>
              <a:xfrm>
                <a:off x="4762440" y="5638680"/>
                <a:ext cx="228600" cy="990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7"/>
              <p:cNvGrpSpPr/>
              <p:nvPr/>
            </p:nvGrpSpPr>
            <p:grpSpPr>
              <a:xfrm>
                <a:off x="4991040" y="5790960"/>
                <a:ext cx="761760" cy="380160"/>
                <a:chOff x="4991040" y="5790960"/>
                <a:chExt cx="761760" cy="380160"/>
              </a:xfrm>
            </p:grpSpPr>
            <p:sp>
              <p:nvSpPr>
                <p:cNvPr id="93" name="Rectangle 8"/>
                <p:cNvSpPr/>
                <p:nvPr/>
              </p:nvSpPr>
              <p:spPr>
                <a:xfrm>
                  <a:off x="4991040" y="5790960"/>
                  <a:ext cx="761760" cy="75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9"/>
                <p:cNvSpPr/>
                <p:nvPr/>
              </p:nvSpPr>
              <p:spPr>
                <a:xfrm>
                  <a:off x="4991040" y="609516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" name="Group 10"/>
            <p:cNvGrpSpPr/>
            <p:nvPr/>
          </p:nvGrpSpPr>
          <p:grpSpPr>
            <a:xfrm>
              <a:off x="5753160" y="5638680"/>
              <a:ext cx="990360" cy="990360"/>
              <a:chOff x="5753160" y="5638680"/>
              <a:chExt cx="990360" cy="990360"/>
            </a:xfrm>
          </p:grpSpPr>
          <p:sp>
            <p:nvSpPr>
              <p:cNvPr id="96" name="Rectangle 11"/>
              <p:cNvSpPr/>
              <p:nvPr/>
            </p:nvSpPr>
            <p:spPr>
              <a:xfrm>
                <a:off x="5753160" y="5638680"/>
                <a:ext cx="228600" cy="990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12"/>
              <p:cNvGrpSpPr/>
              <p:nvPr/>
            </p:nvGrpSpPr>
            <p:grpSpPr>
              <a:xfrm>
                <a:off x="5981760" y="5790960"/>
                <a:ext cx="761760" cy="380160"/>
                <a:chOff x="5981760" y="5790960"/>
                <a:chExt cx="761760" cy="380160"/>
              </a:xfrm>
            </p:grpSpPr>
            <p:sp>
              <p:nvSpPr>
                <p:cNvPr id="98" name="Rectangle 13"/>
                <p:cNvSpPr/>
                <p:nvPr/>
              </p:nvSpPr>
              <p:spPr>
                <a:xfrm>
                  <a:off x="5981760" y="5790960"/>
                  <a:ext cx="761760" cy="75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14"/>
                <p:cNvSpPr/>
                <p:nvPr/>
              </p:nvSpPr>
              <p:spPr>
                <a:xfrm>
                  <a:off x="5981760" y="609516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5"/>
            <p:cNvGrpSpPr/>
            <p:nvPr/>
          </p:nvGrpSpPr>
          <p:grpSpPr>
            <a:xfrm>
              <a:off x="6743880" y="5638680"/>
              <a:ext cx="990360" cy="990360"/>
              <a:chOff x="6743880" y="5638680"/>
              <a:chExt cx="990360" cy="990360"/>
            </a:xfrm>
          </p:grpSpPr>
          <p:sp>
            <p:nvSpPr>
              <p:cNvPr id="101" name="Rectangle 16"/>
              <p:cNvSpPr/>
              <p:nvPr/>
            </p:nvSpPr>
            <p:spPr>
              <a:xfrm>
                <a:off x="6743880" y="5638680"/>
                <a:ext cx="228600" cy="990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7"/>
              <p:cNvGrpSpPr/>
              <p:nvPr/>
            </p:nvGrpSpPr>
            <p:grpSpPr>
              <a:xfrm>
                <a:off x="6972480" y="5790960"/>
                <a:ext cx="761760" cy="380160"/>
                <a:chOff x="6972480" y="5790960"/>
                <a:chExt cx="761760" cy="380160"/>
              </a:xfrm>
            </p:grpSpPr>
            <p:sp>
              <p:nvSpPr>
                <p:cNvPr id="103" name="Rectangle 18"/>
                <p:cNvSpPr/>
                <p:nvPr/>
              </p:nvSpPr>
              <p:spPr>
                <a:xfrm>
                  <a:off x="6972480" y="5790960"/>
                  <a:ext cx="761760" cy="75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9"/>
                <p:cNvSpPr/>
                <p:nvPr/>
              </p:nvSpPr>
              <p:spPr>
                <a:xfrm>
                  <a:off x="6972480" y="609516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20"/>
            <p:cNvGrpSpPr/>
            <p:nvPr/>
          </p:nvGrpSpPr>
          <p:grpSpPr>
            <a:xfrm>
              <a:off x="7734240" y="5638680"/>
              <a:ext cx="990360" cy="990360"/>
              <a:chOff x="7734240" y="5638680"/>
              <a:chExt cx="990360" cy="990360"/>
            </a:xfrm>
          </p:grpSpPr>
          <p:sp>
            <p:nvSpPr>
              <p:cNvPr id="106" name="Rectangle 21"/>
              <p:cNvSpPr/>
              <p:nvPr/>
            </p:nvSpPr>
            <p:spPr>
              <a:xfrm>
                <a:off x="7734240" y="5638680"/>
                <a:ext cx="228600" cy="990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22"/>
              <p:cNvGrpSpPr/>
              <p:nvPr/>
            </p:nvGrpSpPr>
            <p:grpSpPr>
              <a:xfrm>
                <a:off x="7962840" y="5790960"/>
                <a:ext cx="761760" cy="380160"/>
                <a:chOff x="7962840" y="5790960"/>
                <a:chExt cx="761760" cy="380160"/>
              </a:xfrm>
            </p:grpSpPr>
            <p:sp>
              <p:nvSpPr>
                <p:cNvPr id="108" name="Rectangle 23"/>
                <p:cNvSpPr/>
                <p:nvPr/>
              </p:nvSpPr>
              <p:spPr>
                <a:xfrm>
                  <a:off x="7962840" y="5790960"/>
                  <a:ext cx="761760" cy="75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24"/>
                <p:cNvSpPr/>
                <p:nvPr/>
              </p:nvSpPr>
              <p:spPr>
                <a:xfrm>
                  <a:off x="7962840" y="6095160"/>
                  <a:ext cx="761760" cy="75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Rectangle 25"/>
            <p:cNvSpPr/>
            <p:nvPr/>
          </p:nvSpPr>
          <p:spPr>
            <a:xfrm>
              <a:off x="8724960" y="5638680"/>
              <a:ext cx="228600" cy="99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D048-364A-4C8E-A91C-8A6FF845F6C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post method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);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e solution: Either first or last "post" can be taken 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ystem.out.println(max);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2BF3-7C31-4C81-94CB-EE6C0DA730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post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your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a new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rints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up to a m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aximum is less than 2, print no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you, 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returns the number of factors of a given int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factors 1, 2, 4, 5, 10,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3DB7-8C02-4268-A63F-9ED7E8E0023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ncepost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CC38-3943-46EF-9764-B9BC4040D74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loops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: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526A-B3DC-416D-B13B-FD20A3E4E4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7:11:20Z</dcterms:modified>
  <cp:revision>198</cp:revision>
  <dc:subject/>
  <dc:title>PowerPoint Presentation</dc:title>
</cp:coreProperties>
</file>