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2AD77-2811-45BF-95D7-8EB2B8D79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73A4D-90C8-47DC-8BB9-276D7991D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D4F49-5900-4C87-9391-A640BF106D7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012-E47E-48FE-AD14-EF7843DF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9871-450C-464A-BF6B-0956BF3A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BBA-0DAD-40EA-8A82-0F8E50F9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48FB-9DAF-48A9-BF15-D401C21B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3A7D-90F0-43EC-8034-EA17A986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3BD1-174E-4226-8D6B-95BE8329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AC0-D699-4780-8F49-BC847905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C72-2F18-463F-BC6C-BFF2352C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389-6BB1-48DD-A0A9-CA5E820B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CB7-9B13-4A7B-B9BE-F56AE207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DFF-EAC8-49CE-9A91-3319D290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6EE-F09C-4622-9D01-B846940A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9536-D416-4FFC-A99A-5A5A8845CBE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14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ile loops and loop pattern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586728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u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04920" y="1752480"/>
            <a:ext cx="84582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Given enough eyeballs, all bugs are shallow (e.g., given a large enough beta-tester and co-developer base, almost every problem will be characterized quickly and the fix obvious to someone)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us's Law, by Eric Ray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7292880" y="4648320"/>
            <a:ext cx="1833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tegories of loo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e lo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xecutes a known number of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ops we have seen are definite l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"hello" 10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ll the prime numbers up to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each odd number between 5 and 12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finite lo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ne where the number of times its body repeats is not known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pt the user until they type a non-negativ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random numbers until a prime number is pr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the user has typed "q" to q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D36F-49F5-4E1A-B0DC-8AA5214EB02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while"/>
          <p:cNvPicPr/>
          <p:nvPr/>
        </p:nvPicPr>
        <p:blipFill>
          <a:blip r:embed="rId1"/>
          <a:stretch/>
        </p:blipFill>
        <p:spPr>
          <a:xfrm>
            <a:off x="6129360" y="114300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loop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1522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o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peatedly executes i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as long as a logical test is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tes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statement(s)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um = 1;     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num &lt;= 200) {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 = num * 2; 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output:  1 2 4 8 16 32 64 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CB64-6841-4E90-9D92-5FCF56204CE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loop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7668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finds the first factor of 91, other tha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9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n % factor != 0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"First factor is "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ct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output:  First factor is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bett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ause we don't know how many times we will need to increment to find the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C230-D7C6-4E37-9A17-BCB87B09EA6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x = 1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limit = 6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val = 1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val &lt; limit)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*= 2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No output due to syntax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No output due to some other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D746-2C30-4074-A042-67DA899B805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tin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ue that signals the end of user inpu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tinel lo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peats until a sentinel value is s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Write a program that prompts the user for text until the user types nothing, then output the total number of characters ty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this case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mp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is the sentinel valu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line (or nothing to ex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hell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line (or nothing to ex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his is a l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line (or nothing to exit)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typed a total of 19 character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ntinel valu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087F-40F9-4449-A8BE-C1B40B02916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lution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7632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response = "dummy";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"dummy" value, anything but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!response.equals(""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a line (or nothing to exit):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ponse = console.nextLi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+= response.length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typed a total of " + sum + " characters."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B550-7A94-473F-925F-52CA5530D61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anging the sentinel valu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52640" y="1143000"/>
            <a:ext cx="1112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your program to us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quit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nel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log of exec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 a line (or "quit" to exit)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hel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 a line (or "quit" to exit)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this is a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 a line (or "quit" to exit)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qui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typed a total of 19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BBB2-E15D-4BDF-9A81-18228959620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anging the sentinel valu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sentinel's value to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quit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not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ponse = "dummy";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"dummy" value, anything but "qui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response.equals("quit")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a line (or \"quit\" to exit):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ponse = console.nextLin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response.length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typed a total of " + sum + " character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olution produces the wrong output.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ou typed a total of 23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20D6-348E-4A80-94FA-E18CF829003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problem with the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de uses a pattern like th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 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ile (input is not the sentinel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mpt for input; read in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d input length to the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400E-A44A-4577-BB47-ADD688236FC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the last pass, the sentinel’s length (4) is added to the su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mpt for input; read input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quit"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add input length (4) to the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a fencepost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a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nes, but only sum the lengths of the fir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C1DC-92BF-4B75-8632-F64FC6CBF73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deceptive problem..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rints each number from 1 to a given maximum, separated by comma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the 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pr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B5AC-B8BA-4015-BAE0-00CB0B1D31E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fencepost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m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prompt for input; read input.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8080"/>
                </a:solidFill>
                <a:latin typeface="Arial"/>
              </a:rPr>
              <a:t>// place a "post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ile (input is not the sentinel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add input length to the sum.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8080"/>
                </a:solidFill>
                <a:latin typeface="Arial"/>
              </a:rPr>
              <a:t>// place a "wir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mpt for input; read input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8080"/>
                </a:solidFill>
                <a:latin typeface="Arial"/>
              </a:rPr>
              <a:t>// place a "post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nel loops often utilize a fencepost "loop-and-a-half" style solution by pulling some code out of the 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6BAD-6222-4B92-B25F-E326B7E6125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rrect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ystem.out.print("Type a line (or \"quit\" to exit):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ing response = console.nextLi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!response.equals("quit"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 += response.length();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a line (or \"quit\" to exit):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ponse = console.nextLi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typed a total of " + sum + " characters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A690-CE28-4E3A-BD0D-C021FE2AFC4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ntinel as a constan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28960" y="1371240"/>
            <a:ext cx="9448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static final String SENTINEL = "quit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a line (or \""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NTINE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 "\" to exit):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ponse = console.nextLin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response.equals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response.length();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// moved to top of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a line (or \""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NTINE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 "\" to exit):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ponse = console.nextLin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typed a total of " + sum + " characters.")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F9C4-6B98-4F4C-B1C7-24E411DA635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o improve checking if a number is prime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n we s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that flips a coin until there is a run of 10 flips of the same side in a 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flips were there before 10 in a 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the experiment 1000 times, what is the average number of f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593E-D566-4591-A0C7-AD420D0822E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awed solu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ro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 "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ro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6DC7-B891-44D1-8B04-3F6E1D3D7B7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 post analo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r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bers but need 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 com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building a fence with wires separated by pos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use a flawed algorithm that repeatedly places a post + wire, the last post will have an extra dangling wir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for (length of fence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place a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place some w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4"/>
          <p:cNvGrpSpPr/>
          <p:nvPr/>
        </p:nvGrpSpPr>
        <p:grpSpPr>
          <a:xfrm>
            <a:off x="3772080" y="5486400"/>
            <a:ext cx="4952520" cy="990720"/>
            <a:chOff x="3772080" y="5486400"/>
            <a:chExt cx="4952520" cy="990720"/>
          </a:xfrm>
        </p:grpSpPr>
        <p:grpSp>
          <p:nvGrpSpPr>
            <p:cNvPr id="61" name="Group 5"/>
            <p:cNvGrpSpPr/>
            <p:nvPr/>
          </p:nvGrpSpPr>
          <p:grpSpPr>
            <a:xfrm>
              <a:off x="3772080" y="5486400"/>
              <a:ext cx="990360" cy="990720"/>
              <a:chOff x="3772080" y="5486400"/>
              <a:chExt cx="990360" cy="990720"/>
            </a:xfrm>
          </p:grpSpPr>
          <p:sp>
            <p:nvSpPr>
              <p:cNvPr id="62" name="Rectangle 6"/>
              <p:cNvSpPr/>
              <p:nvPr/>
            </p:nvSpPr>
            <p:spPr>
              <a:xfrm>
                <a:off x="3772080" y="5486400"/>
                <a:ext cx="228600" cy="990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Group 7"/>
              <p:cNvGrpSpPr/>
              <p:nvPr/>
            </p:nvGrpSpPr>
            <p:grpSpPr>
              <a:xfrm>
                <a:off x="4000680" y="5639040"/>
                <a:ext cx="761760" cy="380880"/>
                <a:chOff x="4000680" y="5639040"/>
                <a:chExt cx="761760" cy="380880"/>
              </a:xfrm>
            </p:grpSpPr>
            <p:sp>
              <p:nvSpPr>
                <p:cNvPr id="64" name="Rectangle 8"/>
                <p:cNvSpPr/>
                <p:nvPr/>
              </p:nvSpPr>
              <p:spPr>
                <a:xfrm>
                  <a:off x="4000680" y="5639040"/>
                  <a:ext cx="761760" cy="75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Rectangle 9"/>
                <p:cNvSpPr/>
                <p:nvPr/>
              </p:nvSpPr>
              <p:spPr>
                <a:xfrm>
                  <a:off x="4000680" y="5943600"/>
                  <a:ext cx="761760" cy="76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" name="Group 10"/>
            <p:cNvGrpSpPr/>
            <p:nvPr/>
          </p:nvGrpSpPr>
          <p:grpSpPr>
            <a:xfrm>
              <a:off x="4762440" y="5486400"/>
              <a:ext cx="990360" cy="990720"/>
              <a:chOff x="4762440" y="5486400"/>
              <a:chExt cx="990360" cy="990720"/>
            </a:xfrm>
          </p:grpSpPr>
          <p:sp>
            <p:nvSpPr>
              <p:cNvPr id="67" name="Rectangle 11"/>
              <p:cNvSpPr/>
              <p:nvPr/>
            </p:nvSpPr>
            <p:spPr>
              <a:xfrm>
                <a:off x="4762440" y="5486400"/>
                <a:ext cx="228600" cy="990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Group 12"/>
              <p:cNvGrpSpPr/>
              <p:nvPr/>
            </p:nvGrpSpPr>
            <p:grpSpPr>
              <a:xfrm>
                <a:off x="4991040" y="5639040"/>
                <a:ext cx="761760" cy="380880"/>
                <a:chOff x="4991040" y="5639040"/>
                <a:chExt cx="761760" cy="380880"/>
              </a:xfrm>
            </p:grpSpPr>
            <p:sp>
              <p:nvSpPr>
                <p:cNvPr id="69" name="Rectangle 13"/>
                <p:cNvSpPr/>
                <p:nvPr/>
              </p:nvSpPr>
              <p:spPr>
                <a:xfrm>
                  <a:off x="4991040" y="5639040"/>
                  <a:ext cx="761760" cy="75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14"/>
                <p:cNvSpPr/>
                <p:nvPr/>
              </p:nvSpPr>
              <p:spPr>
                <a:xfrm>
                  <a:off x="4991040" y="5943600"/>
                  <a:ext cx="761760" cy="76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" name="Group 15"/>
            <p:cNvGrpSpPr/>
            <p:nvPr/>
          </p:nvGrpSpPr>
          <p:grpSpPr>
            <a:xfrm>
              <a:off x="5753160" y="5486400"/>
              <a:ext cx="990360" cy="990720"/>
              <a:chOff x="5753160" y="5486400"/>
              <a:chExt cx="990360" cy="990720"/>
            </a:xfrm>
          </p:grpSpPr>
          <p:sp>
            <p:nvSpPr>
              <p:cNvPr id="72" name="Rectangle 16"/>
              <p:cNvSpPr/>
              <p:nvPr/>
            </p:nvSpPr>
            <p:spPr>
              <a:xfrm>
                <a:off x="5753160" y="5486400"/>
                <a:ext cx="228600" cy="990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Group 17"/>
              <p:cNvGrpSpPr/>
              <p:nvPr/>
            </p:nvGrpSpPr>
            <p:grpSpPr>
              <a:xfrm>
                <a:off x="5981760" y="5639040"/>
                <a:ext cx="761760" cy="380880"/>
                <a:chOff x="5981760" y="5639040"/>
                <a:chExt cx="761760" cy="380880"/>
              </a:xfrm>
            </p:grpSpPr>
            <p:sp>
              <p:nvSpPr>
                <p:cNvPr id="74" name="Rectangle 18"/>
                <p:cNvSpPr/>
                <p:nvPr/>
              </p:nvSpPr>
              <p:spPr>
                <a:xfrm>
                  <a:off x="5981760" y="5639040"/>
                  <a:ext cx="761760" cy="75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19"/>
                <p:cNvSpPr/>
                <p:nvPr/>
              </p:nvSpPr>
              <p:spPr>
                <a:xfrm>
                  <a:off x="5981760" y="5943600"/>
                  <a:ext cx="761760" cy="76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" name="Group 20"/>
            <p:cNvGrpSpPr/>
            <p:nvPr/>
          </p:nvGrpSpPr>
          <p:grpSpPr>
            <a:xfrm>
              <a:off x="6743880" y="5486400"/>
              <a:ext cx="990360" cy="990720"/>
              <a:chOff x="6743880" y="5486400"/>
              <a:chExt cx="990360" cy="990720"/>
            </a:xfrm>
          </p:grpSpPr>
          <p:sp>
            <p:nvSpPr>
              <p:cNvPr id="77" name="Rectangle 21"/>
              <p:cNvSpPr/>
              <p:nvPr/>
            </p:nvSpPr>
            <p:spPr>
              <a:xfrm>
                <a:off x="6743880" y="5486400"/>
                <a:ext cx="228600" cy="990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Group 22"/>
              <p:cNvGrpSpPr/>
              <p:nvPr/>
            </p:nvGrpSpPr>
            <p:grpSpPr>
              <a:xfrm>
                <a:off x="6972480" y="5639040"/>
                <a:ext cx="761760" cy="380880"/>
                <a:chOff x="6972480" y="5639040"/>
                <a:chExt cx="761760" cy="380880"/>
              </a:xfrm>
            </p:grpSpPr>
            <p:sp>
              <p:nvSpPr>
                <p:cNvPr id="79" name="Rectangle 23"/>
                <p:cNvSpPr/>
                <p:nvPr/>
              </p:nvSpPr>
              <p:spPr>
                <a:xfrm>
                  <a:off x="6972480" y="5639040"/>
                  <a:ext cx="761760" cy="75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24"/>
                <p:cNvSpPr/>
                <p:nvPr/>
              </p:nvSpPr>
              <p:spPr>
                <a:xfrm>
                  <a:off x="6972480" y="5943600"/>
                  <a:ext cx="761760" cy="76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" name="Group 25"/>
            <p:cNvGrpSpPr/>
            <p:nvPr/>
          </p:nvGrpSpPr>
          <p:grpSpPr>
            <a:xfrm>
              <a:off x="7734240" y="5486400"/>
              <a:ext cx="990360" cy="990720"/>
              <a:chOff x="7734240" y="5486400"/>
              <a:chExt cx="990360" cy="990720"/>
            </a:xfrm>
          </p:grpSpPr>
          <p:sp>
            <p:nvSpPr>
              <p:cNvPr id="82" name="Rectangle 26"/>
              <p:cNvSpPr/>
              <p:nvPr/>
            </p:nvSpPr>
            <p:spPr>
              <a:xfrm>
                <a:off x="7734240" y="5486400"/>
                <a:ext cx="228600" cy="990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Group 27"/>
              <p:cNvGrpSpPr/>
              <p:nvPr/>
            </p:nvGrpSpPr>
            <p:grpSpPr>
              <a:xfrm>
                <a:off x="7962840" y="5639040"/>
                <a:ext cx="761760" cy="380880"/>
                <a:chOff x="7962840" y="5639040"/>
                <a:chExt cx="761760" cy="380880"/>
              </a:xfrm>
            </p:grpSpPr>
            <p:sp>
              <p:nvSpPr>
                <p:cNvPr id="84" name="Rectangle 28"/>
                <p:cNvSpPr/>
                <p:nvPr/>
              </p:nvSpPr>
              <p:spPr>
                <a:xfrm>
                  <a:off x="7962840" y="5639040"/>
                  <a:ext cx="761760" cy="75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29"/>
                <p:cNvSpPr/>
                <p:nvPr/>
              </p:nvSpPr>
              <p:spPr>
                <a:xfrm>
                  <a:off x="7962840" y="5943600"/>
                  <a:ext cx="761760" cy="76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1429-E5C7-4E7F-BBF6-28651891416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post loop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statement outside the loop to place the initial "post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ncepost lo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a "loop-and-a-half"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lace a p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(length of fenc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- 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lace some w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lace a p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4762440" y="5638680"/>
            <a:ext cx="4191120" cy="990360"/>
            <a:chOff x="4762440" y="5638680"/>
            <a:chExt cx="4191120" cy="990360"/>
          </a:xfrm>
        </p:grpSpPr>
        <p:grpSp>
          <p:nvGrpSpPr>
            <p:cNvPr id="90" name="Group 5"/>
            <p:cNvGrpSpPr/>
            <p:nvPr/>
          </p:nvGrpSpPr>
          <p:grpSpPr>
            <a:xfrm>
              <a:off x="4762440" y="5638680"/>
              <a:ext cx="990360" cy="990360"/>
              <a:chOff x="4762440" y="5638680"/>
              <a:chExt cx="990360" cy="990360"/>
            </a:xfrm>
          </p:grpSpPr>
          <p:sp>
            <p:nvSpPr>
              <p:cNvPr id="91" name="Rectangle 6"/>
              <p:cNvSpPr/>
              <p:nvPr/>
            </p:nvSpPr>
            <p:spPr>
              <a:xfrm>
                <a:off x="4762440" y="5638680"/>
                <a:ext cx="228600" cy="9903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7"/>
              <p:cNvGrpSpPr/>
              <p:nvPr/>
            </p:nvGrpSpPr>
            <p:grpSpPr>
              <a:xfrm>
                <a:off x="4991040" y="5790960"/>
                <a:ext cx="761760" cy="380160"/>
                <a:chOff x="4991040" y="5790960"/>
                <a:chExt cx="761760" cy="380160"/>
              </a:xfrm>
            </p:grpSpPr>
            <p:sp>
              <p:nvSpPr>
                <p:cNvPr id="93" name="Rectangle 8"/>
                <p:cNvSpPr/>
                <p:nvPr/>
              </p:nvSpPr>
              <p:spPr>
                <a:xfrm>
                  <a:off x="4991040" y="5790960"/>
                  <a:ext cx="761760" cy="75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9"/>
                <p:cNvSpPr/>
                <p:nvPr/>
              </p:nvSpPr>
              <p:spPr>
                <a:xfrm>
                  <a:off x="4991040" y="6095160"/>
                  <a:ext cx="761760" cy="75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" name="Group 10"/>
            <p:cNvGrpSpPr/>
            <p:nvPr/>
          </p:nvGrpSpPr>
          <p:grpSpPr>
            <a:xfrm>
              <a:off x="5753160" y="5638680"/>
              <a:ext cx="990360" cy="990360"/>
              <a:chOff x="5753160" y="5638680"/>
              <a:chExt cx="990360" cy="990360"/>
            </a:xfrm>
          </p:grpSpPr>
          <p:sp>
            <p:nvSpPr>
              <p:cNvPr id="96" name="Rectangle 11"/>
              <p:cNvSpPr/>
              <p:nvPr/>
            </p:nvSpPr>
            <p:spPr>
              <a:xfrm>
                <a:off x="5753160" y="5638680"/>
                <a:ext cx="228600" cy="9903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12"/>
              <p:cNvGrpSpPr/>
              <p:nvPr/>
            </p:nvGrpSpPr>
            <p:grpSpPr>
              <a:xfrm>
                <a:off x="5981760" y="5790960"/>
                <a:ext cx="761760" cy="380160"/>
                <a:chOff x="5981760" y="5790960"/>
                <a:chExt cx="761760" cy="380160"/>
              </a:xfrm>
            </p:grpSpPr>
            <p:sp>
              <p:nvSpPr>
                <p:cNvPr id="98" name="Rectangle 13"/>
                <p:cNvSpPr/>
                <p:nvPr/>
              </p:nvSpPr>
              <p:spPr>
                <a:xfrm>
                  <a:off x="5981760" y="5790960"/>
                  <a:ext cx="761760" cy="75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14"/>
                <p:cNvSpPr/>
                <p:nvPr/>
              </p:nvSpPr>
              <p:spPr>
                <a:xfrm>
                  <a:off x="5981760" y="6095160"/>
                  <a:ext cx="761760" cy="75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Group 15"/>
            <p:cNvGrpSpPr/>
            <p:nvPr/>
          </p:nvGrpSpPr>
          <p:grpSpPr>
            <a:xfrm>
              <a:off x="6743880" y="5638680"/>
              <a:ext cx="990360" cy="990360"/>
              <a:chOff x="6743880" y="5638680"/>
              <a:chExt cx="990360" cy="990360"/>
            </a:xfrm>
          </p:grpSpPr>
          <p:sp>
            <p:nvSpPr>
              <p:cNvPr id="101" name="Rectangle 16"/>
              <p:cNvSpPr/>
              <p:nvPr/>
            </p:nvSpPr>
            <p:spPr>
              <a:xfrm>
                <a:off x="6743880" y="5638680"/>
                <a:ext cx="228600" cy="9903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7"/>
              <p:cNvGrpSpPr/>
              <p:nvPr/>
            </p:nvGrpSpPr>
            <p:grpSpPr>
              <a:xfrm>
                <a:off x="6972480" y="5790960"/>
                <a:ext cx="761760" cy="380160"/>
                <a:chOff x="6972480" y="5790960"/>
                <a:chExt cx="761760" cy="380160"/>
              </a:xfrm>
            </p:grpSpPr>
            <p:sp>
              <p:nvSpPr>
                <p:cNvPr id="103" name="Rectangle 18"/>
                <p:cNvSpPr/>
                <p:nvPr/>
              </p:nvSpPr>
              <p:spPr>
                <a:xfrm>
                  <a:off x="6972480" y="5790960"/>
                  <a:ext cx="761760" cy="75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9"/>
                <p:cNvSpPr/>
                <p:nvPr/>
              </p:nvSpPr>
              <p:spPr>
                <a:xfrm>
                  <a:off x="6972480" y="6095160"/>
                  <a:ext cx="761760" cy="75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20"/>
            <p:cNvGrpSpPr/>
            <p:nvPr/>
          </p:nvGrpSpPr>
          <p:grpSpPr>
            <a:xfrm>
              <a:off x="7734240" y="5638680"/>
              <a:ext cx="990360" cy="990360"/>
              <a:chOff x="7734240" y="5638680"/>
              <a:chExt cx="990360" cy="990360"/>
            </a:xfrm>
          </p:grpSpPr>
          <p:sp>
            <p:nvSpPr>
              <p:cNvPr id="106" name="Rectangle 21"/>
              <p:cNvSpPr/>
              <p:nvPr/>
            </p:nvSpPr>
            <p:spPr>
              <a:xfrm>
                <a:off x="7734240" y="5638680"/>
                <a:ext cx="228600" cy="9903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22"/>
              <p:cNvGrpSpPr/>
              <p:nvPr/>
            </p:nvGrpSpPr>
            <p:grpSpPr>
              <a:xfrm>
                <a:off x="7962840" y="5790960"/>
                <a:ext cx="761760" cy="380160"/>
                <a:chOff x="7962840" y="5790960"/>
                <a:chExt cx="761760" cy="380160"/>
              </a:xfrm>
            </p:grpSpPr>
            <p:sp>
              <p:nvSpPr>
                <p:cNvPr id="108" name="Rectangle 23"/>
                <p:cNvSpPr/>
                <p:nvPr/>
              </p:nvSpPr>
              <p:spPr>
                <a:xfrm>
                  <a:off x="7962840" y="5790960"/>
                  <a:ext cx="761760" cy="75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24"/>
                <p:cNvSpPr/>
                <p:nvPr/>
              </p:nvSpPr>
              <p:spPr>
                <a:xfrm>
                  <a:off x="7962840" y="6095160"/>
                  <a:ext cx="761760" cy="75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Rectangle 25"/>
            <p:cNvSpPr/>
            <p:nvPr/>
          </p:nvSpPr>
          <p:spPr>
            <a:xfrm>
              <a:off x="8724960" y="5638680"/>
              <a:ext cx="228600" cy="990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BD8E-3020-4CA6-A92D-574ED08E088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post method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);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e solution: Either first or last "post" can be taken 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 &lt;= max -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 + ", "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ystem.out.println(max);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E292-4B34-4910-BA85-40BAD8B0625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post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your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a new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rints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i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up to a ma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2, 3, 5, 7, 11, 13, 17, 19, 23, 29, 31, 37, 41, 43, 4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aximum is less than 2, print no out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elp you, write a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returns the number of factors of a given inte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Factors(2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e to factors 1, 2, 4, 5, 10, 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8B1F-8464-4ABB-B09F-B9162DDEB08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post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x &gt;= 2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, " + 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6DD2-CC86-4ABA-B432-878B21245CC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loops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ing: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9F7A-ADA0-425F-A626-3F408FC8090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6T17:11:20Z</dcterms:modified>
  <cp:revision>198</cp:revision>
  <dc:subject/>
  <dc:title>PowerPoint Presentation</dc:title>
</cp:coreProperties>
</file>