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011D6-1ABA-444E-A2DA-0B3D41A59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6B78F-2F7B-4B99-A194-ACF9921F1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B424A-C807-404D-9CEE-D1106C0ABC4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853-F534-4EDE-B18B-CC07A3B5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B11-3506-44A9-9AD3-75C25B10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2B7-9207-431C-97E4-292E8B23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EDD-CF14-4FA1-A5BD-2C50F807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F7E-3EAD-489D-9D9B-CD81D5BC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FC9-8DAC-4982-B153-A47B86B4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4D8-8645-4F17-9677-C6316F3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4D4-51DD-4C47-A364-E88C83B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3FB-3011-4F9B-A32A-A526CBC1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C9A-F900-4BA1-8B87-BAE7E94F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A1E-A2B4-41F3-AA2A-4B6DB9B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893-946E-4746-85BD-B0DA7B4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8EB5-E55E-4787-B08D-FEC57B5DD3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6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olean logic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1752480"/>
            <a:ext cx="8458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tter how correct a mathematical theorem may appear to be, one ought never to be satisfied that there was not something imperfect about it until it also gives the impression of being beautiful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orge B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280200" y="3543480"/>
            <a:ext cx="2733480" cy="327816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DB34-9A14-4212-A549-551C838648D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lution w/ "Boolean Zen"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: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n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value is exactly what you want to return.  So return th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shorter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't even need the variab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just perform the test and return its result in one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4EFB-4109-4F7C-A52B-B9278ECC578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Boolean Zen" templat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&lt;test&gt;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&lt;test&gt;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9EC1-96EF-4073-B093-AA8D078142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rov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sPrim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version utilizes Boolean Z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 -&gt;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Rhyme program to use Boolean Z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750-CFC5-47EC-9989-273C16B85E8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Zen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alliterate(String s1, String s2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AC03-823C-4238-AFDF-131DA146719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 Morgan's Law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organ's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ules used to negate boolean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a &amp;&amp; b) == !a || !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a || b) == !a &amp;&amp; !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when you want the opposite of an exist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3733920"/>
          <a:ext cx="7756560" cy="1066680"/>
        </p:xfrm>
        <a:graphic>
          <a:graphicData uri="http://schemas.openxmlformats.org/drawingml/2006/table">
            <a:tbl>
              <a:tblPr/>
              <a:tblGrid>
                <a:gridCol w="2965680"/>
                <a:gridCol w="302400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80880" y="5511960"/>
          <a:ext cx="8229600" cy="1307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472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913-42A4-4DB6-BF1F-DF71B7F48FD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equivalent to the boolean expression? x, y, and z’s are 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!((x &gt;= y) || (z != 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!(x &gt;= y) &amp;&amp; !(z !=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!(x &gt;= y) || !(z !=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 == y) &amp;&amp; (z &gt;=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 &lt; y) &amp;&amp; (z ==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of A - D is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968B-65FF-4085-8044-59D744F2EF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practice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whethe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owel (a, e, i, o, or u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-insensi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whethe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character except a vow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48D9-359E-4EBD-9F89-5883AF1024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practice answ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228960" y="1143000"/>
            <a:ext cx="944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s.equalsIgnoreCase("i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s.equalsIgnoreCase("o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s.equalsIgnoreCase("u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!s.equalsIgnoreCase("i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!s.equalsIgnoreCase("o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!s.equalsIgnoreCase("u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DE1-AF62-4A92-BD6A-237213B0C3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en to return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d where should the method return its resu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cept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meter and uses it to draw up to ten lotto numbers from 1-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of the numbers is a lucky 7, the method should stop an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f none of the ten are 7 it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should print each number as it is dr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93B-DA75-4CEF-93E7-DAF7B06D72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awed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always returns immediately after the first ro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rong if that draw isn't a 7; we need to keep dra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17CB-7332-4DE4-B5D1-52B754243C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logical type whose value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gic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es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tuall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other types, it is legal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as a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from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 method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use it as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e &lt; 2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lovesCS 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 only CS-loving students over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 || isProf || !lovesC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C315-DDA7-426A-8634-E174016B66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ing at the right tim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ediately if 7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7 isn't found, the loop continues drawing lotto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ten aren't 7, the loop ends and we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D8BE-0643-4E9C-9DA2-9056D04688D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return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git of an integer is od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git of an integer is od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8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8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r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vow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8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roblems are available in our Practice-It! system 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DB22-6EAE-4724-BD60-33FCF0A9BF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return answ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85CF-63CE-49BA-8131-2A995C15100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ccepts an integer parameter and returns the sum of its dig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the number is non-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2+9+1+0+7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to extract a digit from a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D31D-8B0B-4347-98A6-C978F02A00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Math.abs(n);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 = sum + (n % 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/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4AAC-F8F3-40A1-8A27-DCDF61C85A9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pture a complex logical test result and use it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rite a method that does a complex test and return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ode more re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ass around the result of a logical test (as param/retu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Temp    = 40 &lt;= temp &amp;&amp; temp &lt;= 9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umidity = 20 &lt;= humidity &amp;&amp; humidity &lt;= 7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hasTime       = time &gt;= 90; //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Temp &amp;&amp; goodHumidity) || hasTim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Let's RIDE BIKES!!!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Maybe tomorrow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4B2-0658-45F1-88A5-94B46ACE8AC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turn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7632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OTE: GACKY STYLE AHEAD!! GACKY == BA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to methods return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as t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367760" y="2362320"/>
            <a:ext cx="1776240" cy="2361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6858000" y="1835280"/>
            <a:ext cx="2286000" cy="5205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CAN’T 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CFEA-FF3B-433E-A77C-57F174196F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our "rhyme" / "alliterate" program to use boolean methods to test for rhyming and all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E40D-F306-42EE-A922-868A0178A68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olean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OTE: GACKY STYLE AHEA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OTE: GACKY STYLE AHEA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literate(String s1, String s2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A8F2-558B-44F3-9163-D179C76E58F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Boolean Zen", part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ele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legant, 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ele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legant, 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7C68-DCAB-4F62-A32E-4DC85DBDAC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Boolean Zen", part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22860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s often write methods that retur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ten have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return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NOTE: GACKY STYLE AHEAD!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code above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necessarily verb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7570800" y="3809880"/>
            <a:ext cx="149688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EA0F-8267-4CE9-8F20-011B8CC1B7B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lution w/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variab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tore the result of the logical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OTE: BAD STYLE AHEA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: Whatev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, we want to return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want to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want to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1368-24E7-48A2-B67C-086B4BA2BC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7:16:45Z</dcterms:modified>
  <cp:revision>244</cp:revision>
  <dc:subject/>
  <dc:title>PowerPoint Presentation</dc:title>
</cp:coreProperties>
</file>