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0D07E-F604-4491-AB5F-712DC355DD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FB1F3-9FDC-4F94-A856-C4A4C161DF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A8877-422C-4646-8E38-36F95D3A19F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7EC-57A2-47CB-BDEE-DA58F4FF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C13-DC22-4F3F-B94E-7AAA41A6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043-D92C-4076-9772-E4EE9A09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CD8-2B82-404D-8D47-10EE32F9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20A-4AED-4CC1-A0B5-97FEDF85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632-CE32-42FD-B8EC-C4A647DC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C4F-A78E-4A1B-ABD6-A96E70B4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2B6-05D0-4849-960F-37CD3CED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FCD-592D-49C8-AA8E-BBA2BC54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AB1-FF7F-4116-BFBC-922668D1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CD4-E229-4528-9456-E369E75C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775-C74C-467A-8236-DE362A51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6D27-67EA-41B5-9DEA-17DC674B2E1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16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oolean logic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04920" y="1752480"/>
            <a:ext cx="84582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tter how correct a mathematical theorem may appear to be, one ought never to be satisfied that there was not something imperfect about it until it also gives the impression of being beautiful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eorge Bo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280200" y="3543480"/>
            <a:ext cx="2733480" cy="327816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5FEB-8F99-4CBA-8A0B-56D37463A9B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lution w/ "Boolean Zen"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: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n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value is exactly what you want to return.  So return th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ven shorter 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on't even need the variab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just perform the test and return its result in one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23C2-F4A3-49AA-B5FF-C192D9F80C0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"Boolean Zen" templat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parameters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&lt;test&gt;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parameters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&lt;test&gt;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1857-9C82-4C43-B550-D1F3206270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rove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sPrim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version utilizes Boolean Z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factors == 2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f n has 2 factors -&gt;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Rhyme program to use Boolean Z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330B-2D10-4288-BBB4-082979CC38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lean Zen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word2 = console.next().toLowerCase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alliterate(String s1, String s2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CDE8-69E7-4B59-84D9-62830B7547F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 Morgan's Law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Morgan's 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ules used to negate boolean t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a &amp;&amp; b) == !a || !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a || b) == !a &amp;&amp; !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when you want the opposite of an existing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3733920"/>
          <a:ext cx="7756560" cy="1066680"/>
        </p:xfrm>
        <a:graphic>
          <a:graphicData uri="http://schemas.openxmlformats.org/drawingml/2006/table">
            <a:tbl>
              <a:tblPr/>
              <a:tblGrid>
                <a:gridCol w="2965680"/>
                <a:gridCol w="3024000"/>
                <a:gridCol w="17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80880" y="5511960"/>
          <a:ext cx="8229600" cy="1307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472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Cod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Cod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</a:t>
                      </a: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!=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</a:t>
                      </a: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||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&lt;=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 {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6F4C-76F8-4E09-8F6F-EDF14712DD3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equivalent to the boolean expression? x, y, and z’s are 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!((x &gt;= y) || (z != 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!(x &gt;= y) &amp;&amp; !(z !=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!(x &gt;= y) || !(z !=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 == y) &amp;&amp; (z &gt;=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 &lt; y) &amp;&amp; (z ==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one of A - D is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35E7-EA97-4D1C-B19D-9058854E5F1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lean practice ques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returns whether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owel (a, e, i, o, or u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-insensi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returns whether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y character except a vow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1C95-F3A5-489D-8C3A-AC3F8CECABA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lean practice answ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228960" y="1143000"/>
            <a:ext cx="944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| s.equalsIgnoreCase("i"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| s.equalsIgnoreCase("o"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| s.equalsIgnoreCase("u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nlightened "Boolean Zen"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&amp; !s.equalsIgnoreCase("i"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&amp; !s.equalsIgnoreCase("o"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&amp; !s.equalsIgnoreCase("u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, return !isVowel(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44CD-966C-42F7-B0BB-38A57A522DA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en to return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with loops and return values can be tr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d where should the method return its resul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ccept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meter and uses it to draw up to ten lotto numbers from 1-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of the numbers is a lucky 7, the method should stop and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If none of the ten are 7 it should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should print each number as it is dr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76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rst c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9 5 29 4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ond c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0294-397F-4028-A5D1-86E8FE85317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awed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 always returns immediately after the first ro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rong if that draw isn't a 7; we need to keep dra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06EC-DFBD-43E5-BEFE-E3C620C90E3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yp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boolea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logical type whose values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gic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test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tually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other types, it is legal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 as a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 from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 method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use it as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minor   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ge &lt; 2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isProf  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lovesCS 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 only CS-loving students over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or || isProf || !lovesC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Can't enter the club!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7050-091A-4FC7-8111-1E7D09C7DE6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turning at the right tim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there was n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mediately if 7 is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7 isn't found, the loop continues drawing lotto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ll ten aren't 7, the loop ends and we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7F7D-CC2A-4E51-9B59-1BD6037CA28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lean return ques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git of an integer is od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git of an integer is od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llDigitsOdd(917</a:t>
            </a:r>
            <a:r>
              <a:rPr b="0" lang="en-US" sz="2800" spc="-1" strike="noStrike">
                <a:solidFill>
                  <a:srgbClr val="800000"/>
                </a:solidFill>
                <a:latin typeface="Courier New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8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9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r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vow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sAllVowels("oi</a:t>
            </a:r>
            <a:r>
              <a:rPr b="0" lang="en-US" sz="2800" spc="-1" strike="noStrike">
                <a:solidFill>
                  <a:srgbClr val="800000"/>
                </a:solidFill>
                <a:latin typeface="Courier New"/>
              </a:rPr>
              <a:t>nk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roblems are available in our Practice-It! system 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0196-F95E-4A16-ABA2-0BD1E824F1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lean return answ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DDB4-9DC3-421A-B558-A09C01E8FFC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loop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accepts an integer parameter and returns the sum of its dig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the number is non-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2+9+1+0+7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 to extract a digit from a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E46A-F567-4BF3-A99F-1B0B8B49275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loop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Math.abs(n);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handle neg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dd last di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 = sum + (n % 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n /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9E85-7F96-4218-B615-7989CC2E812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boolea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pture a complex logical test result and use it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rite a method that does a complex test and return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code more re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ass around the result of a logical test (as param/retu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Temp    = 40 &lt;= temp &amp;&amp; temp &lt;= 9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Humidity = 20 &lt;= humidity &amp;&amp; humidity &lt;= 7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hasTime       = time &gt;= 90; //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goodTemp &amp;&amp; goodHumidity) || hasTim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Let's RIDE BIKES!!!!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Maybe tomorrow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A441-F5C8-47D0-834A-14086E88750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turning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boolea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7632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NOTE: GACKY STYLE AHEAD!! GACKY == BA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factors == 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s to methods return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used as t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Prime(57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367760" y="2362320"/>
            <a:ext cx="1776240" cy="2361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6858000" y="1835280"/>
            <a:ext cx="2286000" cy="52056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 CAN’T 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958B-4490-4BDF-BD49-3BD65CA80CB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lean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our "rhyme" / "alliterate" program to use boolean methods to test for rhyming and all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2BB4-5149-48DD-A944-922C5641D10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lean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NOTE: GACKY STYLE AHEA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hyme(String s1, String s2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s2.length() &gt;= 2 &amp;&amp; s1.endsWith(s2.substring(s2.length() - 2))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NOTE: GACKY STYLE AHEA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literate(String s1, String s2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s1.startsWith(s2.substring(0, 1))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E3D6-77B5-451E-B3B5-F49EB96DAA9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"Boolean Zen", part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new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ten test if a resul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sPrime(57) == 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eleg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is unnecessary and redundant.  Prefer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legant, 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ilar pattern can be used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sPrime(57) == 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eleg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!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legant, 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8317-01B9-4AF9-9882-1F6D496534F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"Boolean Zen", part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22860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rs often write methods that retur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ten have 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return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NOTE: GACKY STYLE AHEAD!!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code above i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necessarily verb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7570800" y="3809880"/>
            <a:ext cx="149688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E784-6AF2-4ABE-AD61-E6F3342D20A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lution w/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boolea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variab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store the result of the logical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NOTE: BAD STYLE AHEA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: Whatev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, we want to return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e want to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e want to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B632-3F09-497D-84DC-3CCFB7C736E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7:16:45Z</dcterms:modified>
  <cp:revision>244</cp:revision>
  <dc:subject/>
  <dc:title>PowerPoint Presentation</dc:title>
</cp:coreProperties>
</file>