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CFA1D-BA49-432A-8C61-452CFB0F79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45604-E17B-47B2-8C1B-1B655C58C5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5E801-9142-42C1-ADD4-440EBA6922E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: You can base your knowledge of variable B on variable A if B's value is related to A'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slide, we know things about next, so we also know things about prev at certain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: You can base your knowledge of variable B on variable A if B's value is related to A'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slide, we know things about next, so we also know things about prev at certain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3346-4C2E-4098-9B89-64EB7AECA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A6D6-56C9-4B1C-998E-DB432B12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2A5B-8ACB-4491-A680-7A7E84B87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2F1D-B089-464B-8C64-959821FEE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0F93-A219-47CB-A122-C88B863A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89F1-3565-4ADF-93F4-8F955400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2455-F31A-4008-AC6B-18875DA2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6E04-351C-4A6E-B2C1-D9694729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924E-12C3-4691-BC5E-477CB143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320D-0263-4ECB-A509-904668DE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653C-B9A9-4FCF-8545-297B4ECC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8480-D6D4-4C5F-B5D7-CE28FE8B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5038-B078-4CC4-ABC3-40D0D7F0D4A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uildingjavaprograms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pic 17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ssertions and program logic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79200" y="6135840"/>
            <a:ext cx="479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Copyright Pearson Education, 2010_x000b_Based on slides by Marty Stepp and Stuart Reges _x000b_from http://www.buildingjavaprograms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-152280" y="1600200"/>
            <a:ext cx="868680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As soon as we started programming, we found out to our surprise that it wasn't as easy to get programs right as we had thought. Debugging had to be discovered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 can remember the exact instant when I realized that a large part of my life from then on was going to be spent in finding mistakes in my own progra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urice V Wil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7095960" y="4302000"/>
            <a:ext cx="202104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ssertions in co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360" y="11430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make assertions about our code and ask whether they are true at various points in the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alid answers are ALWAYS, NEVER, or SOMETIM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ype a nonnegative number: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number = console.nextDoubl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008080"/>
                </a:solidFill>
                <a:latin typeface="Courier New"/>
              </a:rPr>
              <a:t>// Point A: is number &lt; 0.0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&lt; 0.0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008080"/>
                </a:solidFill>
                <a:latin typeface="Courier New"/>
              </a:rPr>
              <a:t>// Point B: is number &lt; 0.0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Negative; try again: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Doubl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008080"/>
                </a:solidFill>
                <a:latin typeface="Courier New"/>
              </a:rPr>
              <a:t>// Point C: is number &lt; 0.0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008080"/>
                </a:solidFill>
                <a:latin typeface="Courier New"/>
              </a:rPr>
              <a:t>// Point D: is number &lt; 0.0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7086600" y="2133720"/>
            <a:ext cx="2057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SOMETI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ALW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SOMETI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NE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0E0F-CBC5-4CFF-9CB5-BE5DE7784F2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asoning about program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after a variable is initialized, its value is know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8080"/>
                </a:solidFill>
                <a:latin typeface="Courier New"/>
              </a:rPr>
              <a:t>// is x &gt; 0?  AL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 you know nothing about parameters'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void mystery(int a, int b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8080"/>
                </a:solidFill>
                <a:latin typeface="Courier New"/>
              </a:rPr>
              <a:t>// is a == 10?  SOME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6C68-2B52-4530-A2E6-3B2F4ED91B4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asoning about program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side a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tc., you may know someth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void mystery(int a, int b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 (a &lt; 0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800" spc="-1" strike="noStrike">
                <a:solidFill>
                  <a:srgbClr val="008080"/>
                </a:solidFill>
                <a:latin typeface="Courier New"/>
              </a:rPr>
              <a:t>// is a == 10?  N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A5F6-B38A-4229-BF54-854213EB86C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ssertions and loop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220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start of a loop's body, the loop's test must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s y &lt; 10?  AL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a loop, the loop's test must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s y &lt; 10?  N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ide a loop's body, the loop's test may becom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s y &lt; 10?  SOME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D79E-0CB3-4C35-95BA-E0B04B4FD41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"Sometimes"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gs that cause a variable's value to be unknow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ften leads to "sometimes" answer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 from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 a number from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value of a parameter in a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can reach a part of the program both with the answer being "yes" and the answer being "no", then the correct answer is "sometime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E467-7837-4E51-B7BA-4624A0A531D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ssertion example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ystery(int x, int y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z = 0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x &gt;= y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x - 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x != y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 = z *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z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478400" y="3809880"/>
          <a:ext cx="4665600" cy="228780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 &lt;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 ==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z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4473720" y="3809880"/>
          <a:ext cx="4665600" cy="229248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41"/>
          <p:cNvSpPr/>
          <p:nvPr/>
        </p:nvSpPr>
        <p:spPr>
          <a:xfrm>
            <a:off x="4114800" y="259092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or each assertion state if it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LWAYS, NEVER, or SOMETIMES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t the specified points in the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C3F4-C04F-41F0-8992-ADF9353F360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ssertion example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ystery(int x, int y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z = 0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x &gt;= y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x - 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x != y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 = z *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z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478400" y="3809880"/>
          <a:ext cx="4665600" cy="228780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 &lt;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 ==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z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473720" y="3809880"/>
          <a:ext cx="4665600" cy="229248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Text Box 41"/>
          <p:cNvSpPr/>
          <p:nvPr/>
        </p:nvSpPr>
        <p:spPr>
          <a:xfrm>
            <a:off x="4114800" y="259092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or each assertion state if it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LWAYS, NEVER, or SOMETIMES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t the specified points in the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80A0-D718-495F-8E9B-4AA8440A41A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ssertion example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mystery(Scanner consol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rev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ext = console.next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ext != 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ext == prev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ev = nex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 = console.next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478400" y="3809880"/>
          <a:ext cx="4665600" cy="228780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rev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 == pr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4473720" y="3809880"/>
          <a:ext cx="4665600" cy="229248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Text Box 41"/>
          <p:cNvSpPr/>
          <p:nvPr/>
        </p:nvSpPr>
        <p:spPr>
          <a:xfrm>
            <a:off x="4114800" y="259092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or each assertion state if it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LWAYS, NEVER, or SOMETIMES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t the specified points in the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29EE-33E2-48CA-9035-EA3B00D83D5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ssertion example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mystery(Scanner consol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rev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ext = console.next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ext != 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ext == prev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ev = nex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 = console.next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478400" y="3809880"/>
          <a:ext cx="4665600" cy="228780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rev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 == pr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473720" y="3809880"/>
          <a:ext cx="4665600" cy="229248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V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Text Box 41"/>
          <p:cNvSpPr/>
          <p:nvPr/>
        </p:nvSpPr>
        <p:spPr>
          <a:xfrm>
            <a:off x="4114800" y="259092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or each assertion state if it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LWAYS, NEVER, or SOMETIMES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t the specified points in the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B75D-7D7F-416F-AF6B-F3DDEC04BB6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ssertion example 3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pow(int x, int y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rod 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y &gt;= 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y &gt; 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y % 2 == 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= x * 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 = y /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d = prod * 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--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pro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257800" y="3124080"/>
          <a:ext cx="3352680" cy="308160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28880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&gt;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% 2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Text Box 41"/>
          <p:cNvSpPr/>
          <p:nvPr/>
        </p:nvSpPr>
        <p:spPr>
          <a:xfrm>
            <a:off x="4114800" y="205740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or each assertion state if it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LWAYS, NEVER, or SOMETIMES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t the specified points in the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257800" y="3124080"/>
          <a:ext cx="3352680" cy="350856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288800"/>
              </a:tblGrid>
              <a:tr h="308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&gt;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% 2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5B63-C1FA-422C-8B5D-735E133DBB8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240" y="76176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output by the following meth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ysteryB(boolean b) {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b + " 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(b == false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no output due to syntax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no output due to runtim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not possible to predict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always output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true fal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OR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always output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 tru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OR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24A1-E1E0-4A90-ADA3-988BE70F9A3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ssertion example 3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pow(int x, int y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rod 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y &gt;= 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y &gt; 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y % 2 == 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= x * 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 = y /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d = prod * 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--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pro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257800" y="3124080"/>
          <a:ext cx="3352680" cy="308160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28880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&gt;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% 2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Text Box 41"/>
          <p:cNvSpPr/>
          <p:nvPr/>
        </p:nvSpPr>
        <p:spPr>
          <a:xfrm>
            <a:off x="4114800" y="205740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or each assertion state if it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LWAYS, NEVER, or SOMETIMES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t the specified points in the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257800" y="3124080"/>
          <a:ext cx="3352680" cy="350856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288800"/>
              </a:tblGrid>
              <a:tr h="308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&gt;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% 2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C46A-D1DE-4F40-8B1E-3D5DC4FFAF1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sser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er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declarative sentence that is either true or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+ 2 equals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. Louis Cardinals played in the 2011 world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&gt; 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T football beat OU last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T volleyball qualified for the NCAA tourney last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sser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old are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e me to H.E.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471B-5101-44C4-BA45-E6487DB6945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sser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ssertions are true or false depending on context. Which of these depend on the contex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+ 2 equals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. Louis Cardinals played in the world series this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 &gt; 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rai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T football beat OU last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T volleyball qualified for the NCAA tourney last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326F-C0CC-446E-844A-1C490F78F8E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sser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rtions that depend on context can be evaluated if the context is provi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x is 13, x &gt; 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was raining in Round Rock, at 8 am on, October 10, 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skills required to be a programmer or computer scien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a few we have seen so f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general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structured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 lots of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6321-9ED6-4AFD-86C1-EDB0EE1A828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sser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important skill in programming and computer science is the ability "to make assertions about your programs and to understand the contexts in which those assertions will be true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ystem.out.print("Enter Y or N: "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tring result = console.nextLine(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// result is equal to "Y" or "N" he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00FF-1B5F-4EB5-BC41-AFFB58F7CA8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hecking Inpu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72240" y="1089000"/>
            <a:ext cx="8562600" cy="36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"Enter Y or N: "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result = console.nextLine(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(!result.equals("Y") &amp;&amp; !result.equals("N")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"That wasn't a Y or N. "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"Enter Y or N: "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= console.nextLine(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// result is equal to "Y" or "N" he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0FB5-8509-4D3F-9447-AD5619F93BA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sser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able Asser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n assertion that can be proven to be true at a particular point in program exec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 Verif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field of computer science that involves reasoning about the formal properties of programs and hardware to prove the correctness of the program or hardwa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umber of UTCS faculty are involved in verification and formal methods research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erson, Hunt, Lam, Moore, Yo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195F-7B6A-4A0F-AC80-59DA3767E59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asoning about asser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you have the following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x &gt; 3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--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know abou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's value at the three poi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&gt;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 Always?  Sometimes?  Nev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3E8D-BFF2-4A88-B3D4-01EDA28D1AE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0-09-26T17:19:01Z</dcterms:modified>
  <cp:revision>239</cp:revision>
  <dc:subject/>
  <dc:title>PowerPoint Presentation</dc:title>
</cp:coreProperties>
</file>