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EF811-A8A8-48B5-8AC3-171EAA1251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EF124-484D-4AA9-BBD2-73363AF8E0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2FB7A-F97B-4734-86AA-24FF34FB69C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You can base your knowledge of variable B on variable A if B's value is related to A'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slide, we know things about next, so we also know things about prev at certain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You can base your knowledge of variable B on variable A if B's value is related to A'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slide, we know things about next, so we also know things about prev at certain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50CD-647E-4A54-8FB4-C0CB8540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BEBC-2982-4128-ACDC-56D0F99B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B1CB-93A0-4ACA-9A35-70E248BE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B966-888B-451A-9131-8CB8D25D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6FE-ECED-4B01-AE02-7607F060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030-648A-4E5A-B8B7-0FBC0FF6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6FD-7C79-48F0-BE29-8F18A231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D31-224E-46E9-8A21-843462CE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F55A-28DD-40AD-82E0-CF984B7F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A94-A359-4067-8527-1B69624C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A7E-447A-4146-850F-830DC755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34F0-3AA1-4361-BFCB-A670DE21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8ADA-5386-4455-96F0-0CAED0C4D6E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17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ssertions and program logic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9200" y="613584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Copyright Pearson Education, 2010_x000b_Based on slides by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-152280" y="1600200"/>
            <a:ext cx="868680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As soon as we started programming, we found out to our surprise that it wasn't as easy to get programs right as we had thought. Debugging had to be discovered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 can remember the exact instant when I realized that a large part of my life from then on was going to be spent in finding mistakes in my own pro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urice V Wil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7095960" y="4302000"/>
            <a:ext cx="202104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s in co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make assertions about our code and ask whether they are true at various points in the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alid answers are ALWAYS, NEVER, or SOMETIM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a nonnegative number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number = console.nextDoubl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// Point A: is number &lt; 0.0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&lt; 0.0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// Point B: is number &lt; 0.0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Negative; try again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Doubl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// Point C: is number &lt; 0.0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// Point D: is number &lt; 0.0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7086600" y="2133720"/>
            <a:ext cx="2057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ALW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NE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3EBB-A544-4910-8AED-3A169C2D835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asoning about progra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after a variable is initialized, its value is know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is x &gt; 0?  AL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 you know nothing about parameters'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is a == 10?  SOME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839A-F93F-4008-81D4-EA3BA037440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asoning about progra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side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tc., you may know someth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(a &lt; 0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is a == 10?  N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F892-A71C-46A1-A3C0-60C93489117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s and loop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220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start of a loop's body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s y &lt; 10?  AL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 loop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s y &lt; 10?  N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a loop's body, the loop's test may bec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s y &lt; 10?  SOME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7FE8-389D-4EE4-B5E8-8A3435FA22E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"Sometimes"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that cause a variable's value to be unknow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ften leads to "sometimes" answer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from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a number from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value of a parameter in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can reach a part of the program both with the answer being "yes" and the answer being "no", then the correct answer is "sometime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76AC-68E2-42E8-AEB2-FB61C6EEB6C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 example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x, int 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x &gt;= 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- 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x != 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= z *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z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478400" y="3809880"/>
          <a:ext cx="4665600" cy="22878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&lt;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==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1"/>
          <p:cNvSpPr/>
          <p:nvPr/>
        </p:nvSpPr>
        <p:spPr>
          <a:xfrm>
            <a:off x="4114800" y="259092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or each assertion state if i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LWAYS, NEVER, or SOMETIME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t the specified points in the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3621-5B8D-4983-949C-171A93B3ABE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 example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x, int 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x &gt;= 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- 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x != 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= z *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z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478400" y="3809880"/>
          <a:ext cx="4665600" cy="22878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&lt;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==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41"/>
          <p:cNvSpPr/>
          <p:nvPr/>
        </p:nvSpPr>
        <p:spPr>
          <a:xfrm>
            <a:off x="4114800" y="259092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or each assertion state if i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LWAYS, NEVER, or SOMETIME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t the specified points in the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720A-0901-4664-9146-B3A2F28FBE7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 example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mystery(Scanner consol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ev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ext = console.next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ext !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ext == prev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v = nex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 = console.next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478400" y="3809880"/>
          <a:ext cx="4665600" cy="22878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v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or each assertion state if i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LWAYS, NEVER, or SOMETIME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t the specified points in the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1CC6-89E5-42E7-8E33-360AAB4DE44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 example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mystery(Scanner consol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ev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ext = console.next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ext !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ext == prev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v = nex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 = console.next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478400" y="3809880"/>
          <a:ext cx="4665600" cy="22878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v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or each assertion state if i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LWAYS, NEVER, or SOMETIME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t the specified points in the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4B74-A878-4D08-A7D7-4850E994EE5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 example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pow(int x, int 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od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y &gt;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y &gt;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y % 2 =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= x *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y /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d = prod *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pro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257800" y="3124080"/>
          <a:ext cx="3352680" cy="308160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41"/>
          <p:cNvSpPr/>
          <p:nvPr/>
        </p:nvSpPr>
        <p:spPr>
          <a:xfrm>
            <a:off x="4114800" y="20574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or each assertion state if i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LWAYS, NEVER, or SOMETIME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t the specified points in the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257800" y="3124080"/>
          <a:ext cx="3352680" cy="35085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C033-4894-4C65-A21A-4ACB13CBB81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240" y="7617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meth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ysteryB(boolean b) {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b + " 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(b == false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no output due to syntax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no output due to runtim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not possible to predict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always output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true fal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OR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always output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 tr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OR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4B9E-ACF2-4AFF-A36A-4D0FCEBC912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 example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pow(int x, int 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od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y &gt;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y &gt;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y % 2 =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= x *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y /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d = prod *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pro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257800" y="3124080"/>
          <a:ext cx="3352680" cy="308160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 Box 41"/>
          <p:cNvSpPr/>
          <p:nvPr/>
        </p:nvSpPr>
        <p:spPr>
          <a:xfrm>
            <a:off x="4114800" y="20574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or each assertion state if i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LWAYS, NEVER, or SOMETIME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t the specified points in the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257800" y="3124080"/>
          <a:ext cx="3352680" cy="35085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3D2F-AD49-46E2-8DC3-98B7BF64EAA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declarative sentence that is either true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+ 2 equals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. Louis Cardinals played in the 2011 world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&gt;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 football beat OU last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 volleyball qualified for the NCAA tourney last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sse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old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me to H.E.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CDA5-9F31-4BC4-81F9-DB5E5AB860E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ssertions are true or false depending on context. Which of these depend on the cont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+ 2 equals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. Louis Cardinals played in the world series this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&gt; 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rai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T football beat OU last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T volleyball qualified for the NCAA tourney last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3087-FBEC-4F54-A3BC-4C8FDBD941A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rtions that depend on context can be evaluated if the context i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x is 13, x &gt;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raining in Round Rock, at 8 am on, October 10,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skills required to be a programmer or computer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a few we have seen so f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genera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structured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lots of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5530-3B2C-4583-8218-C94C922DA8A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important skill in programming and computer science is the ability "to make assertions about your programs and to understand the contexts in which those assertions will be true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ystem.out.print("Enter Y or N: "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tring result = console.nextLine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// result is equal to "Y" or "N" he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90F2-652C-4354-8053-388D6234E3A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ecking Inpu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72240" y="1089000"/>
            <a:ext cx="8562600" cy="36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Enter Y or N: 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console.nextLine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(!result.equals("Y") &amp;&amp; !result.equals("N")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hat wasn't a Y or N. 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Enter Y or N: 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= console.nextLine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/ result is equal to "Y" or "N" h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894C-6726-44A5-A974-9C9C7BEA448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able As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n assertion that can be proven to be true at a particular point in program exec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Verif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field of computer science that involves reasoning about the formal properties of programs and hardware to prove the correctness of the program or hardwa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mber of UTCS faculty are involved in verification and formal methods research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son, Hunt, Lam, Moore,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4391-43A0-45E9-9896-F46D50EC045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asoning about asser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you have the following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x &gt; 3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--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know abou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s value at the three poi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&gt;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Always?  Sometimes?  Ne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5FAE-4EA8-49F9-93F2-65F0CB9FBA6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6T17:19:01Z</dcterms:modified>
  <cp:revision>239</cp:revision>
  <dc:subject/>
  <dc:title>PowerPoint Presentation</dc:title>
</cp:coreProperties>
</file>