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AE067-9480-4802-88DA-3CD803A2C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BA694-F7CD-4BAA-AE40-51D28BB90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E7BB5-1772-4463-9C90-1EAE55EFD60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AA0-0597-47B2-910F-F224B99F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3E4-153F-42FA-AAB9-68BAFF92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5DD-32B6-489C-B33F-496FCB3C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B3B-56D5-45CB-A131-0163DC7C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9F0-55DB-4AB6-9E19-233782A9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006-14D9-4354-B685-6C40540F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E8B-638F-4034-96DD-9B5C8FE8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E55-3350-4BAB-B0D4-8D9C45DA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52F-4FE7-47FE-B86A-142C272F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840-C315-4883-8079-5593C9AA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5E2-0457-4024-A979-6CECB8DE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0F5-AA97-4B53-B90E-290E4C51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BC5D-FC48-4F58-AF90-07716BBE1C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0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ore File Process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33520" y="1676520"/>
            <a:ext cx="7893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We can only see a short distance ahead, but we can see plenty there that need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don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lan 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Alan M Turing"/>
          <p:cNvPicPr/>
          <p:nvPr/>
        </p:nvPicPr>
        <p:blipFill>
          <a:blip r:embed="rId2"/>
          <a:stretch/>
        </p:blipFill>
        <p:spPr>
          <a:xfrm>
            <a:off x="4572000" y="2841480"/>
            <a:ext cx="3124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d IMDb "chained" code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457200" y="1143000"/>
            <a:ext cx="10134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Wor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getWord() throws FileNotFound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earch(input, searchWor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996D-5797-4490-8A7A-DABD97A0E11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d IMDb "chained" code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914760" y="533160"/>
            <a:ext cx="10744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 algn="ctr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LC = line.toLowerCase(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display(li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ank + "\t" + votes + "\t" + rating + "\t" + tit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A528-B341-446F-B794-3D686E8115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ter IMDb answ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11734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earchWord = getWor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line.length()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isplay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C116-96B9-4B25-80F5-7CE26FB8E6E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ter IMDb answ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-968400" y="452520"/>
            <a:ext cx="10848600" cy="74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String getWord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archW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reaks apart each line, loo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r lines that match the search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LC = line.toLowerCase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li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t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2C57-2785-4CDD-9BCD-903D0A1EC41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ter IMDb answ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685800" y="1143000"/>
            <a:ext cx="10439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ank + "\t" + vo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"\t" + rating + "\t" + tit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6A8B-D19A-4DB5-A900-F03C98CBBBF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xing tokens and lin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onjunction with the token-based methods on the sam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cause unexpecte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'd think you could rea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rea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e "Hello world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Int())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Double()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Line()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 produces no output!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034A-DCF3-43EC-A16B-5F3E4D723E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xing lines and toke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ading both tokens and lines from the sam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Int() 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Double()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^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input.nextLine()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" (empty!)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23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Line()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Joe\t\"Hello world\"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3.14\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e\t"Hello world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9A01-D638-43AD-A668-CD2DA3F17E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-and-token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your age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Now enter your name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Lin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is " + age + " years old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f execution (user input underlin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your ag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w enter your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ideshow B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 12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inpu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\nSideshow B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Int()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nSideshow Bo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Line():12\nSideshow Bo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578B-D6C2-465A-918C-7DD63C72C6C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all: Line-based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umes from the input cursor to the nex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Scanner(new File(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file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process this lin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9240" y="1219320"/>
          <a:ext cx="8696160" cy="1665000"/>
        </p:xfrm>
        <a:graphic>
          <a:graphicData uri="http://schemas.openxmlformats.org/drawingml/2006/table">
            <a:tbl>
              <a:tblPr/>
              <a:tblGrid>
                <a:gridCol w="2165040"/>
                <a:gridCol w="6531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the next entire line of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9E5D-3C4C-4B40-A1D2-19087B8CDFE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all: Tokenizing lin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tring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an tokenize each line of a fil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Scanner(new File(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file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process the contents of this line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D7D3-1347-4F75-914F-E3473BFF07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 if the input file co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print(Scanner sc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otal = sc.next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+= sc.next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total + " " +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.nextLine(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36 Christmas 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Christmas E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utput due to syntax err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utput due to runtim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332240" y="1298520"/>
            <a:ext cx="3657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2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ristmas 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4511880" y="4371840"/>
            <a:ext cx="4447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2 24\nChristmas 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6823-1982-43CA-8366-6262FC7127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urs v2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 to search for a person by 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ic worked 36.8 hours (7.36 hours/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2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 #293 not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1925-1517-4AC3-ADF2-F28497CBB86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urs v2 answ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arches an input file of employees' hours 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a particular employee and outputs that employee's hours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Enter an ID: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earchId = console.nextInt();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 = findPerson(input, search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ssLine(li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D #" + searchId + " was not found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A9BD-3DD3-4FE3-8084-C2F842D311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urs v2 answ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9219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Locates and returns the line of data about a particular per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String findPerson(Scanner input, int searchId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d == searchId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line;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e found the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"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not found, so return an empty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otals the hours worked by the person and outputs their inf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ocessLine(String lin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lineScan.nextInt();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lineScan.next();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hours = 0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 += lineScan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 worked " + hours + " hours (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(hours / days) + " hours/day)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A0B8-07F3-400F-9109-91BFAB607F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Db movies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following Internet Movie Database (IMDb)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90,4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hawshank Redemption 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92,93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odfather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32,7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odfather: Part II 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hat displays any movies containing a phr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arch wor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k    Votes   Rating 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      232741  9.0     The Godfather: Part II 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0      249709  8.4     The Departed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8      34736   8.3     The Apartment (19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41     48525   7.9     Spartacus (19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mat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E979-EAA7-4AC0-BD11-875F8E1397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all "Chaining"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 a concise summary of your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enerally poor style if each method calls the next without ever returning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structure h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ke most of the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must return valu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passed on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0"/>
          <p:cNvGrpSpPr/>
          <p:nvPr/>
        </p:nvGrpSpPr>
        <p:grpSpPr>
          <a:xfrm>
            <a:off x="392040" y="2666880"/>
            <a:ext cx="8277120" cy="1002240"/>
            <a:chOff x="392040" y="2666880"/>
            <a:chExt cx="8277120" cy="1002240"/>
          </a:xfrm>
        </p:grpSpPr>
        <p:sp>
          <p:nvSpPr>
            <p:cNvPr id="80" name="Text Box 5"/>
            <p:cNvSpPr/>
            <p:nvPr/>
          </p:nvSpPr>
          <p:spPr>
            <a:xfrm>
              <a:off x="392040" y="266688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1219320" y="2813040"/>
              <a:ext cx="1792080" cy="398880"/>
              <a:chOff x="1219320" y="2813040"/>
              <a:chExt cx="1792080" cy="398880"/>
            </a:xfrm>
          </p:grpSpPr>
          <p:sp>
            <p:nvSpPr>
              <p:cNvPr id="82" name="Line 6"/>
              <p:cNvSpPr/>
              <p:nvPr/>
            </p:nvSpPr>
            <p:spPr>
              <a:xfrm>
                <a:off x="1219320" y="28605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7"/>
              <p:cNvSpPr/>
              <p:nvPr/>
            </p:nvSpPr>
            <p:spPr>
              <a:xfrm>
                <a:off x="1764000" y="28130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1"/>
            <p:cNvGrpSpPr/>
            <p:nvPr/>
          </p:nvGrpSpPr>
          <p:grpSpPr>
            <a:xfrm>
              <a:off x="3108240" y="2965320"/>
              <a:ext cx="1792080" cy="398880"/>
              <a:chOff x="3108240" y="2965320"/>
              <a:chExt cx="1792080" cy="398880"/>
            </a:xfrm>
          </p:grpSpPr>
          <p:sp>
            <p:nvSpPr>
              <p:cNvPr id="85" name="Line 22"/>
              <p:cNvSpPr/>
              <p:nvPr/>
            </p:nvSpPr>
            <p:spPr>
              <a:xfrm>
                <a:off x="3108240" y="301284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23"/>
              <p:cNvSpPr/>
              <p:nvPr/>
            </p:nvSpPr>
            <p:spPr>
              <a:xfrm>
                <a:off x="3652920" y="29653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4"/>
            <p:cNvGrpSpPr/>
            <p:nvPr/>
          </p:nvGrpSpPr>
          <p:grpSpPr>
            <a:xfrm>
              <a:off x="4992840" y="3117960"/>
              <a:ext cx="1792080" cy="398880"/>
              <a:chOff x="4992840" y="3117960"/>
              <a:chExt cx="1792080" cy="398880"/>
            </a:xfrm>
          </p:grpSpPr>
          <p:sp>
            <p:nvSpPr>
              <p:cNvPr id="88" name="Line 25"/>
              <p:cNvSpPr/>
              <p:nvPr/>
            </p:nvSpPr>
            <p:spPr>
              <a:xfrm>
                <a:off x="4992840" y="3165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26"/>
              <p:cNvSpPr/>
              <p:nvPr/>
            </p:nvSpPr>
            <p:spPr>
              <a:xfrm>
                <a:off x="5537520" y="31179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27"/>
            <p:cNvGrpSpPr/>
            <p:nvPr/>
          </p:nvGrpSpPr>
          <p:grpSpPr>
            <a:xfrm>
              <a:off x="6877080" y="3270240"/>
              <a:ext cx="1792080" cy="398880"/>
              <a:chOff x="6877080" y="3270240"/>
              <a:chExt cx="1792080" cy="398880"/>
            </a:xfrm>
          </p:grpSpPr>
          <p:sp>
            <p:nvSpPr>
              <p:cNvPr id="91" name="Line 28"/>
              <p:cNvSpPr/>
              <p:nvPr/>
            </p:nvSpPr>
            <p:spPr>
              <a:xfrm>
                <a:off x="6877080" y="33177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29"/>
              <p:cNvSpPr/>
              <p:nvPr/>
            </p:nvSpPr>
            <p:spPr>
              <a:xfrm>
                <a:off x="7421760" y="32702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53"/>
          <p:cNvGrpSpPr/>
          <p:nvPr/>
        </p:nvGrpSpPr>
        <p:grpSpPr>
          <a:xfrm>
            <a:off x="392040" y="4676760"/>
            <a:ext cx="4503600" cy="1617840"/>
            <a:chOff x="392040" y="4676760"/>
            <a:chExt cx="4503600" cy="1617840"/>
          </a:xfrm>
        </p:grpSpPr>
        <p:sp>
          <p:nvSpPr>
            <p:cNvPr id="94" name="Text Box 33"/>
            <p:cNvSpPr/>
            <p:nvPr/>
          </p:nvSpPr>
          <p:spPr>
            <a:xfrm>
              <a:off x="392040" y="467676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2"/>
            <p:cNvGrpSpPr/>
            <p:nvPr/>
          </p:nvGrpSpPr>
          <p:grpSpPr>
            <a:xfrm>
              <a:off x="1219320" y="4822920"/>
              <a:ext cx="1791720" cy="398880"/>
              <a:chOff x="1219320" y="4822920"/>
              <a:chExt cx="1791720" cy="398880"/>
            </a:xfrm>
          </p:grpSpPr>
          <p:sp>
            <p:nvSpPr>
              <p:cNvPr id="96" name="Line 35"/>
              <p:cNvSpPr/>
              <p:nvPr/>
            </p:nvSpPr>
            <p:spPr>
              <a:xfrm>
                <a:off x="1219320" y="4870440"/>
                <a:ext cx="533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36"/>
              <p:cNvSpPr/>
              <p:nvPr/>
            </p:nvSpPr>
            <p:spPr>
              <a:xfrm>
                <a:off x="1763640" y="48229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51"/>
            <p:cNvGrpSpPr/>
            <p:nvPr/>
          </p:nvGrpSpPr>
          <p:grpSpPr>
            <a:xfrm>
              <a:off x="1219320" y="5029200"/>
              <a:ext cx="1791720" cy="732240"/>
              <a:chOff x="1219320" y="5029200"/>
              <a:chExt cx="1791720" cy="732240"/>
            </a:xfrm>
          </p:grpSpPr>
          <p:sp>
            <p:nvSpPr>
              <p:cNvPr id="99" name="Line 38"/>
              <p:cNvSpPr/>
              <p:nvPr/>
            </p:nvSpPr>
            <p:spPr>
              <a:xfrm>
                <a:off x="1219320" y="50292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39"/>
              <p:cNvSpPr/>
              <p:nvPr/>
            </p:nvSpPr>
            <p:spPr>
              <a:xfrm>
                <a:off x="1763640" y="53625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0"/>
            <p:cNvGrpSpPr/>
            <p:nvPr/>
          </p:nvGrpSpPr>
          <p:grpSpPr>
            <a:xfrm>
              <a:off x="3103560" y="5514840"/>
              <a:ext cx="1792080" cy="398880"/>
              <a:chOff x="3103560" y="5514840"/>
              <a:chExt cx="1792080" cy="398880"/>
            </a:xfrm>
          </p:grpSpPr>
          <p:sp>
            <p:nvSpPr>
              <p:cNvPr id="102" name="Line 41"/>
              <p:cNvSpPr/>
              <p:nvPr/>
            </p:nvSpPr>
            <p:spPr>
              <a:xfrm>
                <a:off x="3103560" y="55623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42"/>
              <p:cNvSpPr/>
              <p:nvPr/>
            </p:nvSpPr>
            <p:spPr>
              <a:xfrm>
                <a:off x="3648240" y="55148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46"/>
            <p:cNvGrpSpPr/>
            <p:nvPr/>
          </p:nvGrpSpPr>
          <p:grpSpPr>
            <a:xfrm>
              <a:off x="1085760" y="5062680"/>
              <a:ext cx="1925280" cy="1231920"/>
              <a:chOff x="1085760" y="5062680"/>
              <a:chExt cx="1925280" cy="1231920"/>
            </a:xfrm>
          </p:grpSpPr>
          <p:sp>
            <p:nvSpPr>
              <p:cNvPr id="105" name="Line 44"/>
              <p:cNvSpPr/>
              <p:nvPr/>
            </p:nvSpPr>
            <p:spPr>
              <a:xfrm>
                <a:off x="1085760" y="5062680"/>
                <a:ext cx="666720" cy="10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45"/>
              <p:cNvSpPr/>
              <p:nvPr/>
            </p:nvSpPr>
            <p:spPr>
              <a:xfrm>
                <a:off x="1763640" y="58957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4E68-7736-463E-BCFC-E987711C1B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8:22:06Z</dcterms:modified>
  <cp:revision>247</cp:revision>
  <dc:subject/>
  <dc:title>PowerPoint Presentation</dc:title>
</cp:coreProperties>
</file>