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6E488-DB63-48DD-AEC8-3689585FA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5213C-9269-4B27-ADD2-C8E32A574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2F42D-C8DF-4EB9-B762-9935AFFE601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A3C-11F5-41FA-A5DF-74DBF481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63E-9FF8-496A-AAF5-0A0AF90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5B4-F141-43F6-8378-A79B2842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E1C-9CF8-4DC8-844E-14677241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AD7-BEBA-4A61-A110-5A198E8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44F-FF14-427B-BCA8-05D62D4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2A3-E505-4F10-8420-F74B333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175-C84F-4FD4-B3B8-462AA013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1BE-2287-454D-9A1A-94E0E08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D8C-D38F-4BD3-840B-656E1EB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80A-C2E9-4C34-86D5-F775AFD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21B-11F3-4A85-BB1B-261DF2B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517-6A86-43E3-9EDF-122B1B300E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0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File Process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33520" y="1676520"/>
            <a:ext cx="7893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We can only see a short distance ahead, but we can see plenty there that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don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lan 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lan M Turing"/>
          <p:cNvPicPr/>
          <p:nvPr/>
        </p:nvPicPr>
        <p:blipFill>
          <a:blip r:embed="rId2"/>
          <a:stretch/>
        </p:blipFill>
        <p:spPr>
          <a:xfrm>
            <a:off x="4572000" y="2841480"/>
            <a:ext cx="3124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IMDb "chained" cod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457200" y="1143000"/>
            <a:ext cx="1013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E0E-2F98-4E19-AF44-CE510978ED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IMDb "chained" cod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914760" y="533160"/>
            <a:ext cx="10744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 algn="ct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CD8C-CF21-4B4A-856A-C62B3E42AA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11734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39A-8894-4486-B680-E3EDBF00A7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968400" y="452520"/>
            <a:ext cx="10848600" cy="74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reaks apart each line, loo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r lines that match the search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2882-9737-441D-9960-094B90E34E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685800" y="1143000"/>
            <a:ext cx="10439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ank + "\t" + v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\t" + rating + "\t" + tit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4218-3F45-4AB0-88FE-25642B304E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tokens and lin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njunction with the token-based methods on the sa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cause unexpecte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d think you could rea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rea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 produces no output!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B704-2B78-4238-819F-D6AEF888DD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lines and toke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ading both tokens and lines from the sa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Double()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input.nextLine()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Line()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AA6-D556-44FA-B8E5-C4950227E0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-and-token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f execution (user input underlin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in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Int()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():12\nSideshow Bo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7B6-CC12-4DEB-8DF5-88DA126F83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Line-based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umes from the input cursor to the nex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rocess this lin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9240" y="121932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451-53D5-4FFB-BB79-86FCA3F43A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Tokenizing lin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rocess the contents of this line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464-F90B-4AF7-9DA7-2DFC77268B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 if the input file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print(Scanner s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otal = sc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+= sc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otal + " " 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.nextLine(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36 Christmas 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Christmas E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332240" y="1298520"/>
            <a:ext cx="3657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ristmas 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4511880" y="4371840"/>
            <a:ext cx="4447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 24\nChristmas 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3FF-B681-4A61-9065-0286094965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to search for a person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ic worked 36.8 hours (7.36 hours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06A-5487-4513-8723-CD4AEE862E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511-371A-4AEA-9848-FB66399DD1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9219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not found, so return an empty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7ABF-5386-4F76-922A-A504CB8766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Db movies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Internet Movie Database (IMDb)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90,4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hawshank Redemption 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92,93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odfath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2,7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odfather: Part II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displays any movies containing a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     232741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      249709  8.4     The Departed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8      34736   8.3     The Apartment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41     48525   7.9     Spartacus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393-1AFA-4905-A024-5287B43D10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 "Chaining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a concise summary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enerally poor style if each method calls the next without ever returning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structure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 most of th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must return valu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passed on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80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82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85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88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91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94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96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99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02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05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A01-AD64-475B-93C2-987C3B7050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2:06Z</dcterms:modified>
  <cp:revision>247</cp:revision>
  <dc:subject/>
  <dc:title>PowerPoint Presentation</dc:title>
</cp:coreProperties>
</file>