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BD226-D432-43CD-9774-041BECA02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06865-0928-40FE-B5D2-02A5D005A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92AB5-CE4C-40CE-A363-501F521BB02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133-E843-4BC2-A736-36A8FF8A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216-9595-4FB1-A3BF-8E6DA13B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892-BCD6-4AAD-9D7D-0AC7DCFD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38A-EBAB-4692-8A09-F6820357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E5F-A3B3-4AC2-970F-81D32BB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1F3-4617-4E94-8A67-E5C8AD3F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FEC-34F1-4C3A-8A17-85ABC92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B0D-3BD4-43CD-8D1E-21A97C04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24B-A2FA-4625-9CA1-CEAAA792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562-1490-40A8-9C0E-0C6C3293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6C3-EA7D-4AAA-B017-A1A76F6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11D-2E12-4D02-AEA6-24CB0439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CF48-C0E5-48DB-933D-E845DA69346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1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rays - part 1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458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hould array indices start at 0 or 1? My compromise of 0.5 was rejected without, I thought, proper consideration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Stan Kelly-Bo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0" descr=""/>
          <p:cNvPicPr/>
          <p:nvPr/>
        </p:nvPicPr>
        <p:blipFill>
          <a:blip r:embed="rId2"/>
          <a:stretch/>
        </p:blipFill>
        <p:spPr>
          <a:xfrm>
            <a:off x="4626000" y="2362320"/>
            <a:ext cx="39625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array ele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560" y="11430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4400" y="40384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280" y="5410080"/>
          <a:ext cx="1447920" cy="52092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14400" y="40384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525B-F8DE-481A-9C77-F4792377D2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[] names = new String[5]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ames[1] = "Olivia"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ames[3] = "Isabelle"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.print(names[0].length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null pointer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array index out of bounds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a compile error (code can't r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CD48-77A2-4FDE-9184-7555778724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s an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3 11 42 99 0 2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3768-820B-4530-B022-1E817085C5E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419720" y="2538360"/>
            <a:ext cx="2811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eld stores its number of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use parentheses like a String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xpressions ref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element of any arra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ddle e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fiel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28DF-96E9-4D6E-964A-DD27DCF2D2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ather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 array to solve the weather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E1E8-4F3D-4A15-B4A9-4EB0107CAC4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ather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560" y="137160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CC21-EFB1-4B6E-8F2B-1448951AF42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ick array initial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when you know what the array's elements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determines the length by counting th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45F4-F539-4D9C-A0F5-004C556C67B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Array mystery"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79800" y="47498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179800" y="47498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C557-BBCB-49EC-8982-FB224837CB4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mitations of arra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not resize an existing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not compare arrays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 does not know how to print itse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E8B8-8C4A-4E82-835C-E10DE032657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Array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ackag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useful static methods for manipulating arr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methodNam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320" y="2209680"/>
          <a:ext cx="8991360" cy="3149640"/>
        </p:xfrm>
        <a:graphic>
          <a:graphicData uri="http://schemas.openxmlformats.org/drawingml/2006/table">
            <a:tbl>
              <a:tblPr/>
              <a:tblGrid>
                <a:gridCol w="4114800"/>
                <a:gridCol w="487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value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rt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ray (or &lt; 0 if not fou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length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new copy of an ar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1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2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value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ts every element to the given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nges the elements into sorted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D229-B1A8-48AA-8278-11E4FC7522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n we solve this problem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 program (input underlin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LOUDS&amp;RAIN"/>
          <p:cNvPicPr/>
          <p:nvPr/>
        </p:nvPicPr>
        <p:blipFill>
          <a:blip r:embed="rId1"/>
          <a:stretch/>
        </p:blipFill>
        <p:spPr>
          <a:xfrm>
            <a:off x="6705720" y="3429000"/>
            <a:ext cx="2039760" cy="167004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A7B2-23DB-4A5F-8BBA-302AD1ECD4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648320" y="3422520"/>
            <a:ext cx="2782800" cy="38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Arrays.toStr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pts an array as a parameter and return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ation of its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 java.util.Arr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303C-9FBE-4462-A539-23A46D61FCD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ath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weather program to print the following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1FBD-DA67-4B9D-A189-ECB85FD716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1219320" y="4387680"/>
            <a:ext cx="2057400" cy="20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257800" y="4191120"/>
            <a:ext cx="2362320" cy="20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ather answ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560" y="137160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E77B-6115-4BB7-912B-61E1221420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the problem is h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each input value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ute the average (a cumulative s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unt how many were above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uld read each value into a variable... but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know how many days are needed until the program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know how many variables to dec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need a way to declare many variables in one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D34C-D851-437F-B3F5-3604B0C3760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bject that stores many values of the same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e value in an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-based integ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an element from an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50840" y="40132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" name="Group 55"/>
          <p:cNvGrpSpPr/>
          <p:nvPr/>
        </p:nvGrpSpPr>
        <p:grpSpPr>
          <a:xfrm>
            <a:off x="1553760" y="5156280"/>
            <a:ext cx="6341400" cy="856080"/>
            <a:chOff x="1553760" y="5156280"/>
            <a:chExt cx="6341400" cy="856080"/>
          </a:xfrm>
        </p:grpSpPr>
        <p:grpSp>
          <p:nvGrpSpPr>
            <p:cNvPr id="64" name="Group 56"/>
            <p:cNvGrpSpPr/>
            <p:nvPr/>
          </p:nvGrpSpPr>
          <p:grpSpPr>
            <a:xfrm>
              <a:off x="1553760" y="5156280"/>
              <a:ext cx="1374120" cy="856080"/>
              <a:chOff x="1553760" y="5156280"/>
              <a:chExt cx="1374120" cy="856080"/>
            </a:xfrm>
          </p:grpSpPr>
          <p:sp>
            <p:nvSpPr>
              <p:cNvPr id="65" name="Line 57"/>
              <p:cNvSpPr/>
              <p:nvPr/>
            </p:nvSpPr>
            <p:spPr>
              <a:xfrm flipV="1">
                <a:off x="2209680" y="5156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58"/>
              <p:cNvSpPr/>
              <p:nvPr/>
            </p:nvSpPr>
            <p:spPr>
              <a:xfrm>
                <a:off x="1553760" y="561348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59"/>
            <p:cNvGrpSpPr/>
            <p:nvPr/>
          </p:nvGrpSpPr>
          <p:grpSpPr>
            <a:xfrm>
              <a:off x="3763800" y="5156280"/>
              <a:ext cx="1374120" cy="856080"/>
              <a:chOff x="3763800" y="5156280"/>
              <a:chExt cx="1374120" cy="856080"/>
            </a:xfrm>
          </p:grpSpPr>
          <p:sp>
            <p:nvSpPr>
              <p:cNvPr id="68" name="Line 60"/>
              <p:cNvSpPr/>
              <p:nvPr/>
            </p:nvSpPr>
            <p:spPr>
              <a:xfrm flipV="1">
                <a:off x="4419720" y="5156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61"/>
              <p:cNvSpPr/>
              <p:nvPr/>
            </p:nvSpPr>
            <p:spPr>
              <a:xfrm>
                <a:off x="3763800" y="561348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62"/>
            <p:cNvGrpSpPr/>
            <p:nvPr/>
          </p:nvGrpSpPr>
          <p:grpSpPr>
            <a:xfrm>
              <a:off x="6521040" y="5156280"/>
              <a:ext cx="1374120" cy="856080"/>
              <a:chOff x="6521040" y="5156280"/>
              <a:chExt cx="1374120" cy="856080"/>
            </a:xfrm>
          </p:grpSpPr>
          <p:sp>
            <p:nvSpPr>
              <p:cNvPr id="71" name="Line 63"/>
              <p:cNvSpPr/>
              <p:nvPr/>
            </p:nvSpPr>
            <p:spPr>
              <a:xfrm flipV="1">
                <a:off x="7176960" y="5156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64"/>
              <p:cNvSpPr/>
              <p:nvPr/>
            </p:nvSpPr>
            <p:spPr>
              <a:xfrm>
                <a:off x="6521040" y="561348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3EBD-1BBF-4F79-9D3D-0702B741C84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decla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70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length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285840">
              <a:spcBef>
                <a:spcPts val="7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F0AC-0048-4636-99A1-DB598C5C3A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declaration, cont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ngth can be any non-negative integer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initially gets a "zero-equivalent"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073240" y="4149720"/>
          <a:ext cx="4937040" cy="2327400"/>
        </p:xfrm>
        <a:graphic>
          <a:graphicData uri="http://schemas.openxmlformats.org/drawingml/2006/table">
            <a:tbl>
              <a:tblPr/>
              <a:tblGrid>
                <a:gridCol w="2079720"/>
                <a:gridCol w="2857320"/>
              </a:tblGrid>
              <a:tr h="40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E8C8-53C4-4106-9D5B-5F5B84CE303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ele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index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en-US" sz="3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index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FA1C-981D-4EAD-A817-A67BDF014DA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s of other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828800" y="2514600"/>
          <a:ext cx="4073400" cy="81288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828800" y="4878360"/>
          <a:ext cx="5540400" cy="7938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58A7-41EC-4770-A451-67A6F7EF034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t-of-boun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7632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5AB9-3A40-4D5A-B699-2A848E6ED2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8:23:29Z</dcterms:modified>
  <cp:revision>246</cp:revision>
  <dc:subject/>
  <dc:title>PowerPoint Presentation</dc:title>
</cp:coreProperties>
</file>