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6860-5355-434A-B46B-E56A63DBD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59224-2569-4032-AA0D-BD4E6DC0A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7C60-69A9-49CC-B536-F91BD0541BC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F86-DF4B-4A80-A7AA-AB87CD5C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842-AA55-4BD9-BE6B-9C65CB5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D09-8FA2-474E-96C6-715C8A39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AB0-DC54-4680-A359-FA432927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627-C2D7-4EC0-BFF7-2EFCAE6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D8F-A3A2-46CD-9696-EF6DA91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855-577D-49A4-9DAB-D75CE0A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D2D-46C7-43C4-AB09-B100CCD4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A6B-1626-4F73-90EA-F978838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815-125C-4270-ADF1-F3E7BB2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AA9-3009-4A06-981E-739C489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E99-150D-489F-88FE-F67950E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94E-49A2-4F0D-8EB6-5705DFB169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ildingjavaprogram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ic 21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ys - part 1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9200" y="613584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opyright Pearson Education, 2010_x000b_Based on slides by Marty Stepp and Stuart Reges _x000b_from http://www.buildingjavaprogram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98280" y="-1211400"/>
            <a:ext cx="17528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458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hould array indices start at 0 or 1? My compromise of 0.5 was rejected without, I thought, proper consideration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Stan Kelly-Bo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"/>
          <p:cNvPicPr/>
          <p:nvPr/>
        </p:nvPicPr>
        <p:blipFill>
          <a:blip r:embed="rId2"/>
          <a:stretch/>
        </p:blipFill>
        <p:spPr>
          <a:xfrm>
            <a:off x="4626000" y="2362320"/>
            <a:ext cx="3962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array el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560" y="11430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40384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280" y="5410080"/>
          <a:ext cx="1447920" cy="52092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14400" y="40384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8B7-2F8A-4B15-80F2-92FCE957C6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er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utput by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[] names = new String[5]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ames[1] = "Olivia"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ames[3] = "Isabelle"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(names[0].length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null pointer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array index out of bounds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 due to a compile error (code can't r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0F4-8220-4948-8E82-B075D24C4E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 an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loop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3 11 42 99 0 2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5D1-5546-434C-9C88-B3DC933F83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419720" y="2538360"/>
            <a:ext cx="2811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 stores its number of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use parentheses like a String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xpressions ref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element of any arr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ddle e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fiel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3EB-C2F5-44B1-BB66-14101E9D0F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ques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array to solve the weather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2052-CEF4-4E14-B7BA-1EE2BF4050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answ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EAD-670B-4B30-91E7-6288775C7F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ck array initial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14300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you know what the array's elements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the length by counting th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6725-00B0-487F-B89C-F6521CC412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"Array mystery" probl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79800" y="47498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179800" y="47498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7AA-B322-4929-BCEA-74869EA996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mitations of 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resize an existing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compare array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does not know how to print its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D9E-96E9-449B-BA6D-E450CB249E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ck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useful static methods for manipulating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method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parameters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320" y="2209680"/>
          <a:ext cx="8991360" cy="3149640"/>
        </p:xfrm>
        <a:graphic>
          <a:graphicData uri="http://schemas.openxmlformats.org/drawingml/2006/table">
            <a:tbl>
              <a:tblPr/>
              <a:tblGrid>
                <a:gridCol w="4114800"/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value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rt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ray (or &lt; 0 if not fou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length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new copy of an ar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1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2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value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to the given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to sorted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array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3389-8C17-465F-9F66-E9A11F1FF3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we solve this problem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program (input underlin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LOUDS&amp;RAIN"/>
          <p:cNvPicPr/>
          <p:nvPr/>
        </p:nvPicPr>
        <p:blipFill>
          <a:blip r:embed="rId1"/>
          <a:stretch/>
        </p:blipFill>
        <p:spPr>
          <a:xfrm>
            <a:off x="6705720" y="3429000"/>
            <a:ext cx="2039760" cy="167004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E4C-7959-495D-9BA8-9F3DD6810F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648320" y="3422520"/>
            <a:ext cx="2782800" cy="38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Arrays.toSt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s an array as a parameter and return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ation of its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Arr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3B2-6DB6-47E7-9FB4-52544872117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weather program to print the following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446-C0F9-43D7-969F-4E581B270F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219320" y="4387680"/>
            <a:ext cx="2057400" cy="20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257800" y="4191120"/>
            <a:ext cx="2362320" cy="20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ather answer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336-C409-4F49-8790-7160CB737C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the problem is h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each input value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the average (a cumulative s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unt how many were above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uld read each value into a variable... but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how many days are needed until the program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how many variables to dec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need a way to declare many variables in one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5670-5AB2-446E-AEA9-937BC100BE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bject that stores many values of the same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value in an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-based integ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an element from an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50840" y="40132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Group 55"/>
          <p:cNvGrpSpPr/>
          <p:nvPr/>
        </p:nvGrpSpPr>
        <p:grpSpPr>
          <a:xfrm>
            <a:off x="1553760" y="5156280"/>
            <a:ext cx="6341400" cy="856080"/>
            <a:chOff x="1553760" y="5156280"/>
            <a:chExt cx="6341400" cy="856080"/>
          </a:xfrm>
        </p:grpSpPr>
        <p:grpSp>
          <p:nvGrpSpPr>
            <p:cNvPr id="64" name="Group 56"/>
            <p:cNvGrpSpPr/>
            <p:nvPr/>
          </p:nvGrpSpPr>
          <p:grpSpPr>
            <a:xfrm>
              <a:off x="1553760" y="5156280"/>
              <a:ext cx="1374120" cy="856080"/>
              <a:chOff x="1553760" y="5156280"/>
              <a:chExt cx="1374120" cy="856080"/>
            </a:xfrm>
          </p:grpSpPr>
          <p:sp>
            <p:nvSpPr>
              <p:cNvPr id="65" name="Line 57"/>
              <p:cNvSpPr/>
              <p:nvPr/>
            </p:nvSpPr>
            <p:spPr>
              <a:xfrm flipV="1">
                <a:off x="220968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58"/>
              <p:cNvSpPr/>
              <p:nvPr/>
            </p:nvSpPr>
            <p:spPr>
              <a:xfrm>
                <a:off x="155376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59"/>
            <p:cNvGrpSpPr/>
            <p:nvPr/>
          </p:nvGrpSpPr>
          <p:grpSpPr>
            <a:xfrm>
              <a:off x="3763800" y="5156280"/>
              <a:ext cx="1374120" cy="856080"/>
              <a:chOff x="3763800" y="5156280"/>
              <a:chExt cx="1374120" cy="856080"/>
            </a:xfrm>
          </p:grpSpPr>
          <p:sp>
            <p:nvSpPr>
              <p:cNvPr id="68" name="Line 60"/>
              <p:cNvSpPr/>
              <p:nvPr/>
            </p:nvSpPr>
            <p:spPr>
              <a:xfrm flipV="1">
                <a:off x="441972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61"/>
              <p:cNvSpPr/>
              <p:nvPr/>
            </p:nvSpPr>
            <p:spPr>
              <a:xfrm>
                <a:off x="376380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62"/>
            <p:cNvGrpSpPr/>
            <p:nvPr/>
          </p:nvGrpSpPr>
          <p:grpSpPr>
            <a:xfrm>
              <a:off x="6521040" y="5156280"/>
              <a:ext cx="1374120" cy="856080"/>
              <a:chOff x="6521040" y="5156280"/>
              <a:chExt cx="1374120" cy="856080"/>
            </a:xfrm>
          </p:grpSpPr>
          <p:sp>
            <p:nvSpPr>
              <p:cNvPr id="71" name="Line 63"/>
              <p:cNvSpPr/>
              <p:nvPr/>
            </p:nvSpPr>
            <p:spPr>
              <a:xfrm flipV="1">
                <a:off x="7176960" y="5156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64"/>
              <p:cNvSpPr/>
              <p:nvPr/>
            </p:nvSpPr>
            <p:spPr>
              <a:xfrm>
                <a:off x="6521040" y="561348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8CE-794A-4862-A1C6-EF681DCD83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decla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70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lt;length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285840">
              <a:spcBef>
                <a:spcPts val="7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F53-1EE3-4D2A-AB6C-1AC567F987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 declaration, cont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can be any non-negative integer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initially gets a "zero-equivalent"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073240" y="4149720"/>
          <a:ext cx="4937040" cy="2327400"/>
        </p:xfrm>
        <a:graphic>
          <a:graphicData uri="http://schemas.openxmlformats.org/drawingml/2006/table">
            <a:tbl>
              <a:tblPr/>
              <a:tblGrid>
                <a:gridCol w="2079720"/>
                <a:gridCol w="2857320"/>
              </a:tblGrid>
              <a:tr h="4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8A5-1A99-4868-9681-FBA9CD6521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ing ele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index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en-US" sz="3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index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7685-DC7F-49D2-9225-FFB8BF68CA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rays of other typ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828800" y="2514600"/>
          <a:ext cx="4073400" cy="81288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828800" y="4878360"/>
          <a:ext cx="5540400" cy="7938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EF6-DE9E-473D-AA2B-D71502B4A8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ut-of-boun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76320" y="1143000"/>
            <a:ext cx="9220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D05-0815-444F-A9D7-501141C953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scottm</cp:lastModifiedBy>
  <dcterms:modified xsi:type="dcterms:W3CDTF">2020-09-26T18:23:29Z</dcterms:modified>
  <cp:revision>246</cp:revision>
  <dc:subject/>
  <dc:title>PowerPoint Presentation</dc:title>
</cp:coreProperties>
</file>