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B0BC-8CE3-4665-A8F2-BEA40A100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11E0-A40E-4DAD-9C88-0503EE6EC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3857529-5932-4B5F-B8F0-563418F1CB1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807-3821-45E1-896C-64FAFB4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411-F015-4915-ABFE-FF0428D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502-ECC5-4D10-AA47-E241F4AA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69B-A501-4309-8D55-8FB30704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A6A-37F5-4CB8-BA22-62FA55F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B22-EAC3-45E2-A5EE-E14A5974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8A6-0E63-454E-8ED8-22DE6E26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04B-6A02-4C29-87A0-034BA7F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409-CD62-49E1-AFD9-AC167366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0D9-C2F0-4AE3-A51E-FE666C9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D35-98B5-42FD-8DD2-21962BE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6EC-DED2-4FFA-AB3F-01A0739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A1D4-E67C-4093-9A5E-3EA25019E5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(cal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152640" y="1143000"/>
            <a:ext cx="9296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i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667-CD8D-4591-8ED0-6B03523DFB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Reference semantic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754-7489-42D4-B67F-126F478F8C2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7532-9397-4357-95F7-85E429036F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58400" y="1106640"/>
            <a:ext cx="8776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{1, 5, 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at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foo(int[] 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 = d[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0] = d[d.length -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d.length - 1]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3, 5, 1] [1, 5, 3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B. [3, 5, 1] [3, 5, 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[1, 5, 3] [1, 5, 3]           D. [5, 3, 1] [1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A28F-0133-42C2-85BE-A3B183550B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58400" y="1219320"/>
            <a:ext cx="8776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{1, 5, 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r(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at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bar(int[] 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[0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 = new int[] {4, 6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Arrays.toString(d)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[4, 6] [2, 5, 3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[4, 6] [ 4, 6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[1, 5, 3] [1, 5, 3]           D. [2, 5, 3] [2, 5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D72-D3D0-4EC9-9E2A-16FE6C3EC0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wa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work? 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63B-BF02-4E21-97F1-D888FD7B3D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lue seman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seman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havior where values are copied when assigned, passed as parameters, or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imitive types in Java use value seman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variable is assigned to another, its value is cop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the value of one variable does not affec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575-464F-4ED2-9FF0-F134F98039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ference semantics (objects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ehavior where variables actually store the address of an object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variable is assigned to another, the object i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ed; both variables refer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value of one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29000" y="5207040"/>
          <a:ext cx="25369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29000" y="5207040"/>
          <a:ext cx="25369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Group 145"/>
          <p:cNvGrpSpPr/>
          <p:nvPr/>
        </p:nvGrpSpPr>
        <p:grpSpPr>
          <a:xfrm>
            <a:off x="685800" y="5651640"/>
            <a:ext cx="2523960" cy="444240"/>
            <a:chOff x="685800" y="5651640"/>
            <a:chExt cx="2523960" cy="444240"/>
          </a:xfrm>
        </p:grpSpPr>
        <p:sp>
          <p:nvSpPr>
            <p:cNvPr id="112" name="Rectangle 127"/>
            <p:cNvSpPr/>
            <p:nvPr/>
          </p:nvSpPr>
          <p:spPr>
            <a:xfrm>
              <a:off x="685800" y="56516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144"/>
            <p:cNvGrpSpPr/>
            <p:nvPr/>
          </p:nvGrpSpPr>
          <p:grpSpPr>
            <a:xfrm>
              <a:off x="1832040" y="5667120"/>
              <a:ext cx="1377720" cy="380520"/>
              <a:chOff x="1832040" y="5667120"/>
              <a:chExt cx="1377720" cy="380520"/>
            </a:xfrm>
          </p:grpSpPr>
          <p:sp>
            <p:nvSpPr>
              <p:cNvPr id="114" name="Line 128"/>
              <p:cNvSpPr/>
              <p:nvPr/>
            </p:nvSpPr>
            <p:spPr>
              <a:xfrm>
                <a:off x="2219400" y="5857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29"/>
              <p:cNvSpPr/>
              <p:nvPr/>
            </p:nvSpPr>
            <p:spPr>
              <a:xfrm>
                <a:off x="1832040" y="5667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47"/>
          <p:cNvGrpSpPr/>
          <p:nvPr/>
        </p:nvGrpSpPr>
        <p:grpSpPr>
          <a:xfrm>
            <a:off x="6324480" y="5638680"/>
            <a:ext cx="2438640" cy="444600"/>
            <a:chOff x="6324480" y="5638680"/>
            <a:chExt cx="2438640" cy="444600"/>
          </a:xfrm>
        </p:grpSpPr>
        <p:sp>
          <p:nvSpPr>
            <p:cNvPr id="117" name="Rectangle 132"/>
            <p:cNvSpPr/>
            <p:nvPr/>
          </p:nvSpPr>
          <p:spPr>
            <a:xfrm>
              <a:off x="7620120" y="563868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3399"/>
                  </a:solidFill>
                  <a:latin typeface="Arial"/>
                </a:rPr>
                <a:t>a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46"/>
            <p:cNvGrpSpPr/>
            <p:nvPr/>
          </p:nvGrpSpPr>
          <p:grpSpPr>
            <a:xfrm>
              <a:off x="6324480" y="5676840"/>
              <a:ext cx="1295640" cy="380880"/>
              <a:chOff x="6324480" y="5676840"/>
              <a:chExt cx="1295640" cy="380880"/>
            </a:xfrm>
          </p:grpSpPr>
          <p:sp>
            <p:nvSpPr>
              <p:cNvPr id="119" name="Line 133"/>
              <p:cNvSpPr/>
              <p:nvPr/>
            </p:nvSpPr>
            <p:spPr>
              <a:xfrm flipH="1">
                <a:off x="6324480" y="586728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34"/>
              <p:cNvSpPr/>
              <p:nvPr/>
            </p:nvSpPr>
            <p:spPr>
              <a:xfrm>
                <a:off x="7238880" y="5676840"/>
                <a:ext cx="38124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FD0-6366-47EA-A52C-1778EA9B7B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ferences and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nd objects use reference semantics.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cy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large objects slows down a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t's useful to share an object's data among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4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126" name="Rectangle 28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9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0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5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130" name="Rectangle 31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3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290-872A-4223-97BB-4678E126EA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0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 as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rameter is modified,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 the original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138" name="Line 10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9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146" name="Rectangle 19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an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8"/>
          <p:cNvGrpSpPr/>
          <p:nvPr/>
        </p:nvGrpSpPr>
        <p:grpSpPr>
          <a:xfrm>
            <a:off x="6629400" y="3581280"/>
            <a:ext cx="2031840" cy="1143000"/>
            <a:chOff x="6629400" y="3581280"/>
            <a:chExt cx="2031840" cy="1143000"/>
          </a:xfrm>
        </p:grpSpPr>
        <p:sp>
          <p:nvSpPr>
            <p:cNvPr id="150" name="Rectangle 8"/>
            <p:cNvSpPr/>
            <p:nvPr/>
          </p:nvSpPr>
          <p:spPr>
            <a:xfrm>
              <a:off x="6629400" y="3581280"/>
              <a:ext cx="1428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wind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1164-A489-4204-B4B0-A5D7FF38CC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488960" y="3413160"/>
            <a:ext cx="1940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819680" y="4133880"/>
            <a:ext cx="1082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py of a refere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600"/>
                <a:gridCol w="74952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600"/>
                <a:gridCol w="74952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60" name="Group 57"/>
          <p:cNvGrpSpPr/>
          <p:nvPr/>
        </p:nvGrpSpPr>
        <p:grpSpPr>
          <a:xfrm>
            <a:off x="7315200" y="3137040"/>
            <a:ext cx="1371600" cy="1739880"/>
            <a:chOff x="7315200" y="3137040"/>
            <a:chExt cx="1371600" cy="1739880"/>
          </a:xfrm>
        </p:grpSpPr>
        <p:sp>
          <p:nvSpPr>
            <p:cNvPr id="161" name="Rectangle 22"/>
            <p:cNvSpPr/>
            <p:nvPr/>
          </p:nvSpPr>
          <p:spPr>
            <a:xfrm>
              <a:off x="731520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i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 flipH="1">
              <a:off x="830556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830556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6"/>
          <p:cNvGrpSpPr/>
          <p:nvPr/>
        </p:nvGrpSpPr>
        <p:grpSpPr>
          <a:xfrm>
            <a:off x="3429000" y="5562720"/>
            <a:ext cx="1980720" cy="444240"/>
            <a:chOff x="3429000" y="5562720"/>
            <a:chExt cx="1980720" cy="444240"/>
          </a:xfrm>
        </p:grpSpPr>
        <p:sp>
          <p:nvSpPr>
            <p:cNvPr id="165" name="Rectangle 30"/>
            <p:cNvSpPr/>
            <p:nvPr/>
          </p:nvSpPr>
          <p:spPr>
            <a:xfrm>
              <a:off x="3429000" y="556272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>
              <a:off x="4724280" y="57783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>
              <a:off x="4438440" y="559728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variables are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meter is a copy of the same reference the argument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ade in the meth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l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seen by the c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BF7-1729-4120-8583-A2F64C8F14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wapping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code?  What is its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 code should be replac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2C7F-125E-4146-9B0C-3E434F05A6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the array of integers to reverse as a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82D8-A491-4772-A78C-9DA304CC49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an array of integers and two indexes and swaps the elements at those inde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two arrays of integers as parameters and swaps their entire con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two arrays are the same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BFC-3CB0-48D7-9274-5FCF97106E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CCAD-84E4-4902-A5C9-C10B721494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erges 3 arrays simi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[12, 34, 56, 7, 8, 9, 10, 444, 222,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116-754F-4723-A7E2-0D1E3EA2B8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641-662D-47EE-A66D-5A283A2D6F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DFD-AC15-402E-81EF-31ED2618ED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al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de that reverses the elements of an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he array initially s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fter your reversal code, it should st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should work for an array of any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think about swapping various el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93FB-309A-416C-8ED0-0F764755DA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gorithm ide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 pairs of elements from the edges;  work inw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44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Line 94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5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6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7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2333520"/>
          <a:ext cx="4647960" cy="792360"/>
        </p:xfrm>
        <a:graphic>
          <a:graphicData uri="http://schemas.openxmlformats.org/drawingml/2006/table">
            <a:tbl>
              <a:tblPr/>
              <a:tblGrid>
                <a:gridCol w="968400"/>
                <a:gridCol w="614160"/>
                <a:gridCol w="611280"/>
                <a:gridCol w="614160"/>
                <a:gridCol w="614520"/>
                <a:gridCol w="611280"/>
                <a:gridCol w="614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934-96A7-4E3B-B784-F09E9BC7A6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643200" y="2482920"/>
            <a:ext cx="2124360" cy="28080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algo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's wrong with this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 goes too far and un-reverses the array!  Fixed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6D0-0420-43FB-BF75-973D2670CE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vers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your array reversal code in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array of integers to reverse as a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write methods that accept arrays as para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e need to return the new array contents after re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A75C-EDB4-40D0-9845-2E5C837D50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(declare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n't specify the array's length (but you can examine 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C39F-3741-48C5-8A20-BE354F11B0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eter (cal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array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you don't writ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passing the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968-2E04-4A18-B333-8C33F28784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return (declare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method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74A-B88C-4069-8B53-F0A3FE09F5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5:08Z</dcterms:modified>
  <cp:revision>254</cp:revision>
  <dc:subject/>
  <dc:title>PowerPoint Presentation</dc:title>
</cp:coreProperties>
</file>