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29343-6CFC-4D27-BEDE-F672ADF72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0C2F3-20A1-48B6-A753-C65186C828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7FC4562-35DC-4450-A65A-557168CDF0C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basically not possible to write a swap method that accepts two 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p can't escape from itself to modify the outsid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probably won't reach this in lecture; it's here just in c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82D-43A2-4715-B77C-5303CD7D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4A5-CDE2-4498-A47F-3B9539CB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5A50-A80D-4788-B3FC-113371AA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121-72BD-4D47-BD81-892A599E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784-FBB2-4666-93F7-8334963A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83B-5269-4C41-9FF2-3936B15E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42D-545B-4D1E-A1E1-072D7F7F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AA7-AFB7-4AE1-B12F-05B2D556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284-475F-4E24-8412-94AE87A6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257-D496-40EF-A9D2-B35C3D84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8D3-D0BE-4597-A6F8-A49863D6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07A-A80A-4C9C-BF23-AF8D04B4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318E-60EC-4645-A9B3-CA75A055F37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2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rays - part 2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98280" y="-121140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return (call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152640" y="1143000"/>
            <a:ext cx="9296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&lt;type&gt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&lt;name&gt;</a:t>
            </a:r>
            <a:r>
              <a:rPr b="0" i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method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parameters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stutte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tutter(iq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Arrays.toString(stuttered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126, 126, 84, 84, 149, 149, 167, 167, 95, 9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4067-D822-4DC5-B1D9-9072A462A4E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Reference semantics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ding: 7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CA29-D1DF-463E-AF72-D6756E2C2D3C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CE86-E88B-4FDE-86B5-90324BF1079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5331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58400" y="1106640"/>
            <a:ext cx="877608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data = {1, 5, 3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dat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Arrays.toString(dat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foo(int[] d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emp = d[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[0] = d[d.length - 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[d.length - 1] =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Arrays.toString(d)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3, 5, 1] [1, 5, 3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B. [3, 5, 1] [3, 5, 1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[1, 5, 3] [1, 5, 3]           D. [5, 3, 1] [1, 5, 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Some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BDF3-2A61-4D74-B4D6-3940930249A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5331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158400" y="1219320"/>
            <a:ext cx="877608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data = {1, 5, 3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r(dat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Arrays.toString(dat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bar(int[] d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[0]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 = new int[] {4, 6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Arrays.toString(d)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[4, 6] [2, 5, 3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[4, 6] [ 4, 6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[1, 5, 3] [1, 5, 3]           D. [2, 5, 3] [2, 5, 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Some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78B1-B6CA-41E8-ABC3-776003018A4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swap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follow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work?  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5A6E-DDD7-42FF-9767-7861D2D7B1C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lue semant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ue seman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ehavior where values are copied when assigned, passed as parameters, or retur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rimitive types in Java use value seman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one variable is assigned to another, its value is cop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the value of one variable does not affect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7019-52F5-4CDD-B360-2AD3600FD1E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ference semantics (objects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seman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ehavior where variables actually store the address of an object in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one variable is assigned to another, the object i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ed; both variables refer to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me 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value of one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fect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4, 15, 8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s.toString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7, 15, 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429000" y="5207040"/>
          <a:ext cx="25369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429000" y="5207040"/>
          <a:ext cx="25369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1" name="Group 145"/>
          <p:cNvGrpSpPr/>
          <p:nvPr/>
        </p:nvGrpSpPr>
        <p:grpSpPr>
          <a:xfrm>
            <a:off x="685800" y="5651640"/>
            <a:ext cx="2523960" cy="444240"/>
            <a:chOff x="685800" y="5651640"/>
            <a:chExt cx="2523960" cy="444240"/>
          </a:xfrm>
        </p:grpSpPr>
        <p:sp>
          <p:nvSpPr>
            <p:cNvPr id="112" name="Rectangle 127"/>
            <p:cNvSpPr/>
            <p:nvPr/>
          </p:nvSpPr>
          <p:spPr>
            <a:xfrm>
              <a:off x="685800" y="56516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144"/>
            <p:cNvGrpSpPr/>
            <p:nvPr/>
          </p:nvGrpSpPr>
          <p:grpSpPr>
            <a:xfrm>
              <a:off x="1832040" y="5667120"/>
              <a:ext cx="1377720" cy="380520"/>
              <a:chOff x="1832040" y="5667120"/>
              <a:chExt cx="1377720" cy="380520"/>
            </a:xfrm>
          </p:grpSpPr>
          <p:sp>
            <p:nvSpPr>
              <p:cNvPr id="114" name="Line 128"/>
              <p:cNvSpPr/>
              <p:nvPr/>
            </p:nvSpPr>
            <p:spPr>
              <a:xfrm>
                <a:off x="2219400" y="58572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129"/>
              <p:cNvSpPr/>
              <p:nvPr/>
            </p:nvSpPr>
            <p:spPr>
              <a:xfrm>
                <a:off x="1832040" y="5667120"/>
                <a:ext cx="380880" cy="380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147"/>
          <p:cNvGrpSpPr/>
          <p:nvPr/>
        </p:nvGrpSpPr>
        <p:grpSpPr>
          <a:xfrm>
            <a:off x="6324480" y="5638680"/>
            <a:ext cx="2438640" cy="444600"/>
            <a:chOff x="6324480" y="5638680"/>
            <a:chExt cx="2438640" cy="444600"/>
          </a:xfrm>
        </p:grpSpPr>
        <p:sp>
          <p:nvSpPr>
            <p:cNvPr id="117" name="Rectangle 132"/>
            <p:cNvSpPr/>
            <p:nvPr/>
          </p:nvSpPr>
          <p:spPr>
            <a:xfrm>
              <a:off x="7620120" y="563868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3399"/>
                  </a:solidFill>
                  <a:latin typeface="Arial"/>
                </a:rPr>
                <a:t>a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146"/>
            <p:cNvGrpSpPr/>
            <p:nvPr/>
          </p:nvGrpSpPr>
          <p:grpSpPr>
            <a:xfrm>
              <a:off x="6324480" y="5676840"/>
              <a:ext cx="1295640" cy="380880"/>
              <a:chOff x="6324480" y="5676840"/>
              <a:chExt cx="1295640" cy="380880"/>
            </a:xfrm>
          </p:grpSpPr>
          <p:sp>
            <p:nvSpPr>
              <p:cNvPr id="119" name="Line 133"/>
              <p:cNvSpPr/>
              <p:nvPr/>
            </p:nvSpPr>
            <p:spPr>
              <a:xfrm flipH="1">
                <a:off x="6324480" y="586728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134"/>
              <p:cNvSpPr/>
              <p:nvPr/>
            </p:nvSpPr>
            <p:spPr>
              <a:xfrm>
                <a:off x="7238880" y="5676840"/>
                <a:ext cx="381240" cy="380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1A3D-05C6-4171-9602-B23D048E657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ferences and objec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 and objects use reference semantics.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iciency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large objects slows down a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r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t's useful to share an object's data among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34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126" name="Rectangle 28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anel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9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0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5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130" name="Rectangle 31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anel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2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3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91BA-0ABB-4CEB-A8AE-ED9625888E0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0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s as paramet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passed as a parameter,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ed.  The parameter refers to the same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arameter is modified,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fect the original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138" name="Line 10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5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9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146" name="Rectangle 19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an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5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38"/>
          <p:cNvGrpSpPr/>
          <p:nvPr/>
        </p:nvGrpSpPr>
        <p:grpSpPr>
          <a:xfrm>
            <a:off x="6629400" y="3581280"/>
            <a:ext cx="2031840" cy="1143000"/>
            <a:chOff x="6629400" y="3581280"/>
            <a:chExt cx="2031840" cy="1143000"/>
          </a:xfrm>
        </p:grpSpPr>
        <p:sp>
          <p:nvSpPr>
            <p:cNvPr id="150" name="Rectangle 8"/>
            <p:cNvSpPr/>
            <p:nvPr/>
          </p:nvSpPr>
          <p:spPr>
            <a:xfrm>
              <a:off x="6629400" y="3581280"/>
              <a:ext cx="1428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windo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DEBB-0B59-4E45-BCE9-3826475C93A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1488960" y="3413160"/>
            <a:ext cx="1940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819680" y="4133880"/>
            <a:ext cx="10825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py of a refere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600"/>
                <a:gridCol w="74952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23"/>
          <p:cNvSpPr/>
          <p:nvPr/>
        </p:nvSpPr>
        <p:spPr>
          <a:xfrm>
            <a:off x="7808760" y="31370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600"/>
                <a:gridCol w="74952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60" name="Group 57"/>
          <p:cNvGrpSpPr/>
          <p:nvPr/>
        </p:nvGrpSpPr>
        <p:grpSpPr>
          <a:xfrm>
            <a:off x="7315200" y="3137040"/>
            <a:ext cx="1371600" cy="1739880"/>
            <a:chOff x="7315200" y="3137040"/>
            <a:chExt cx="1371600" cy="1739880"/>
          </a:xfrm>
        </p:grpSpPr>
        <p:sp>
          <p:nvSpPr>
            <p:cNvPr id="161" name="Rectangle 22"/>
            <p:cNvSpPr/>
            <p:nvPr/>
          </p:nvSpPr>
          <p:spPr>
            <a:xfrm>
              <a:off x="7315200" y="313704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i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 flipH="1">
              <a:off x="8305560" y="338940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4"/>
            <p:cNvSpPr/>
            <p:nvPr/>
          </p:nvSpPr>
          <p:spPr>
            <a:xfrm>
              <a:off x="8305560" y="32004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56"/>
          <p:cNvGrpSpPr/>
          <p:nvPr/>
        </p:nvGrpSpPr>
        <p:grpSpPr>
          <a:xfrm>
            <a:off x="3429000" y="5562720"/>
            <a:ext cx="1980720" cy="444240"/>
            <a:chOff x="3429000" y="5562720"/>
            <a:chExt cx="1980720" cy="444240"/>
          </a:xfrm>
        </p:grpSpPr>
        <p:sp>
          <p:nvSpPr>
            <p:cNvPr id="165" name="Rectangle 30"/>
            <p:cNvSpPr/>
            <p:nvPr/>
          </p:nvSpPr>
          <p:spPr>
            <a:xfrm>
              <a:off x="3429000" y="556272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8"/>
            <p:cNvSpPr/>
            <p:nvPr/>
          </p:nvSpPr>
          <p:spPr>
            <a:xfrm>
              <a:off x="4724280" y="57783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>
              <a:off x="4438440" y="559728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y variables are 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ameter is a copy of the same reference the argument s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made in the metho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le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also seen by the c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rease(iq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increas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0F83-7C8B-4B2A-888F-BC0C427E51C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wapping valu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code?  What is its out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d code should be replaced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40F7-DAD1-47E1-9733-6F032411798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reverse quest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the array of integers to reverse as a para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verse(int[] number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 / 2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C987-D0DE-460F-87F0-EC9EEBE9C7C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parameter ques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ccepts an array of integers and two indexes and swaps the elements at those inde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1, 1, 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56, 3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ap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ccepts two arrays of integers as parameters and swaps their entire cont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the two arrays are the same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20, 50, 80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All(a1, a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20, 50, 8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2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34, 5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341F-AC7D-4E52-8FA3-9E4E00A7775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parameter answ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values at the given two inde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entire contents of a1 with those of a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All(int[] a1, int[] a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1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[i] = a2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2[i] = te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D245-C049-4AB2-BBCF-E4C9872EF84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return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ccepts two arrays of integers and returns a new array containing all elements of the first array followed by all elements of th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a3 = merge(a1, a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Arrays.toString(a3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[12, 34, 56, 7, 8, 9, 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rge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merges 3 arrays simil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3 = {444, 222, -1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a4 = merge3(a1, a2, a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Arrays.toString(a4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[12, 34, 56, 7, 8, 9, 10, 444, 222,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F13C-EE1E-4410-B85D-E502EE68A9E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return answ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llowed by all elements of a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[] merge(int[] a1, int[] a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esult = new int[a1.length + a2.length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a1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.length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= a2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4D21-E63B-49F8-9617-2E6C0F6BF40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return answ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,a2,a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4 = new int[a1.length + a2.length + a3.length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i] = a1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a1.length + i] = a2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3.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.length + a2.length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a3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horter version that calls me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(merge(a1, a2), a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8ED4-7BA7-4B19-80B2-4A40A980323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reversal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de that reverses the elements of an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the array initially s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11, 42, -5, 27, 0, 8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after your reversal code, it should sto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89, 0, 27, -5, 42, 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should work for an array of any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think about swapping various element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B240-E444-4FC1-84B0-12FDD0946EB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gorithm ide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 pairs of elements from the edges;  work inw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76520" y="2333520"/>
          <a:ext cx="4647960" cy="792360"/>
        </p:xfrm>
        <a:graphic>
          <a:graphicData uri="http://schemas.openxmlformats.org/drawingml/2006/table">
            <a:tbl>
              <a:tblPr/>
              <a:tblGrid>
                <a:gridCol w="968400"/>
                <a:gridCol w="614160"/>
                <a:gridCol w="611280"/>
                <a:gridCol w="614160"/>
                <a:gridCol w="614520"/>
                <a:gridCol w="611280"/>
                <a:gridCol w="614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Line 44"/>
          <p:cNvSpPr/>
          <p:nvPr/>
        </p:nvSpPr>
        <p:spPr>
          <a:xfrm flipV="1">
            <a:off x="29718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5"/>
          <p:cNvSpPr/>
          <p:nvPr/>
        </p:nvSpPr>
        <p:spPr>
          <a:xfrm flipV="1">
            <a:off x="60199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76520" y="2333520"/>
          <a:ext cx="4647960" cy="792360"/>
        </p:xfrm>
        <a:graphic>
          <a:graphicData uri="http://schemas.openxmlformats.org/drawingml/2006/table">
            <a:tbl>
              <a:tblPr/>
              <a:tblGrid>
                <a:gridCol w="968400"/>
                <a:gridCol w="614160"/>
                <a:gridCol w="611280"/>
                <a:gridCol w="614160"/>
                <a:gridCol w="614520"/>
                <a:gridCol w="611280"/>
                <a:gridCol w="614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676520" y="2333520"/>
          <a:ext cx="4647960" cy="792360"/>
        </p:xfrm>
        <a:graphic>
          <a:graphicData uri="http://schemas.openxmlformats.org/drawingml/2006/table">
            <a:tbl>
              <a:tblPr/>
              <a:tblGrid>
                <a:gridCol w="968400"/>
                <a:gridCol w="614160"/>
                <a:gridCol w="611280"/>
                <a:gridCol w="614160"/>
                <a:gridCol w="614520"/>
                <a:gridCol w="611280"/>
                <a:gridCol w="614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" name="Line 94"/>
          <p:cNvSpPr/>
          <p:nvPr/>
        </p:nvSpPr>
        <p:spPr>
          <a:xfrm flipV="1">
            <a:off x="35812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5"/>
          <p:cNvSpPr/>
          <p:nvPr/>
        </p:nvSpPr>
        <p:spPr>
          <a:xfrm flipV="1">
            <a:off x="54100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6"/>
          <p:cNvSpPr/>
          <p:nvPr/>
        </p:nvSpPr>
        <p:spPr>
          <a:xfrm flipV="1">
            <a:off x="41911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7"/>
          <p:cNvSpPr/>
          <p:nvPr/>
        </p:nvSpPr>
        <p:spPr>
          <a:xfrm flipV="1">
            <a:off x="48006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76520" y="2333520"/>
          <a:ext cx="4647960" cy="792360"/>
        </p:xfrm>
        <a:graphic>
          <a:graphicData uri="http://schemas.openxmlformats.org/drawingml/2006/table">
            <a:tbl>
              <a:tblPr/>
              <a:tblGrid>
                <a:gridCol w="968400"/>
                <a:gridCol w="614160"/>
                <a:gridCol w="611280"/>
                <a:gridCol w="614160"/>
                <a:gridCol w="614520"/>
                <a:gridCol w="611280"/>
                <a:gridCol w="614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BF06-9C06-4821-9617-CE99528E8E5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643200" y="2482920"/>
            <a:ext cx="2124360" cy="28080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awed algorith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's wrong with this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[11, 42, -5, 27, 0, 89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verse the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op goes too far and un-reverses the array!  Fixed ver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umbers.length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E22E-5C03-4CB7-A0B7-4A99A83FAE0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reverse quest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your array reversal code in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the array of integers to reverse as a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write methods that accept arrays as parame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we need to return the new array contents after re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B52D-9322-4CA3-A781-5269D174525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parameter (declare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type&gt;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method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&lt;type&gt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&lt;nam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the average of the given array of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numbers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numbers.lengt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on't specify the array's length (but you can examine i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7F88-1AE4-4645-A9F4-589A39B023B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parameter (call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methodNam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&lt;arrayNam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figure out the average TA I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q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IQ = " +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you don't write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passing the ar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EC61-BBAE-45AA-B7EE-6B075D0E947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return (declare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&lt;type&gt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method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parameters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a new array with two copies of each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Example: [1, 4, 0, 7] -&gt; [1, 1, 4, 4, 0, 0, 7, 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tter(int[] number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int[2 * numbers.length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]     = numbers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 + 1] = numbers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8C8D-45D6-46DF-AE91-287110BDBDC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8:25:08Z</dcterms:modified>
  <cp:revision>254</cp:revision>
  <dc:subject/>
  <dc:title>PowerPoint Presentation</dc:title>
</cp:coreProperties>
</file>