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441F3-A168-482E-B8B1-0A12CE366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549AB-E406-40AE-B694-529A2E46D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8FDF2F1-435B-481B-9221-05834F27266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BE09C-FC57-4A37-BA46-47E2BE9E5ED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2FC-C3D0-4F99-8E60-F42DF762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737-BD2A-41F7-BA82-594DCE4D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2C6-09BE-42E6-B946-1765DCE9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F8E-1DB9-4D22-822C-1F659173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7DC-9CD7-4F8F-9B30-0FF120B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087-94F0-4ED1-8F2B-B5803BC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DC2-4121-41CF-909C-BB7531E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81D-8803-4122-A93E-AC970D65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CF8-71AF-4458-8AD4-A1EA425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9E6-36B6-4254-B5CE-18CC76A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A52-97B1-4389-A993-0AC582C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736-0AC7-44F5-8B75-4C4E4B3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10E-1E9D-405E-AA91-57AD50E5A3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3 (tallying, text processing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69640"/>
            <a:ext cx="8458200" cy="417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42 mill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t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oug Burger, circa 200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menting on the number of transistors in the Pentium IV process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2020 processor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 have, 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l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4" descr=""/>
          <p:cNvPicPr/>
          <p:nvPr/>
        </p:nvPicPr>
        <p:blipFill>
          <a:blip r:embed="rId1"/>
          <a:stretch/>
        </p:blipFill>
        <p:spPr>
          <a:xfrm>
            <a:off x="6324480" y="4127400"/>
            <a:ext cx="2743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xt process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CDB-5AA4-43DD-86E3-9BB6245A7C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tored internally as an array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ounded with apostrophes: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exas!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x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91120" y="2562120"/>
          <a:ext cx="4722840" cy="94320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F52-370A-49E2-AC9E-66EF896908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819520" y="4546440"/>
            <a:ext cx="2133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705120" y="2320920"/>
            <a:ext cx="200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 parameter and return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a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!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A10-A9AC-450C-8975-B3809EC40F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other oper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 " is plural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CDE-2824-428A-97BF-C8B54DADE7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s.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pped to an integer value in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automatic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107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the equival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ype-cas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B1B1-E049-4809-8F7B-639F325FFE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s.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3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y are di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3360" indent="-2541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; it contain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3360" indent="-2541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imitive; you can't call method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 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 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C1A-0CCF-46BB-8CC4-D0BE03F314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travers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lgorithms to traverse strings to compu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seful information might the following string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GDRGRRGDRRGDLGDGRRRGRGRGGDGDDRDDRRDGDGG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997-60BF-4A25-8D4C-38487988C8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takes many for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049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tring stores voters' v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R)EPUBLICAN, (D)EMOCRAT, (G)REEN, (L)IBERT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votes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GDRGRRGDRRGDLGDGRRRGRGRGGDGDDRDDRRDGDGGD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4]; // R -&gt; 0, D -&gt; 1, G -&gt; 2, L -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votes.length()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votes.charAt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'R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0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c == 'D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1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c == 'B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2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// c == 'M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3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counts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[13, 12, 14, 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54BF-DDF2-46E9-8FC9-F4E4611B88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attendance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file of section attendanc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 next sl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duce the following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FC1-2C96-4386-AA57-983320F51C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ine represents a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consists of 9 weeks' worth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each week, each character represents one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input fi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320" y="2347920"/>
          <a:ext cx="8705880" cy="11271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1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115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48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145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76320" y="2363760"/>
          <a:ext cx="8705880" cy="11271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DF1-0635-49D7-8AFC-F94147391C4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627696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when method clicker2 i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][0, 0, 0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][1, 2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0, 0,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-1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683-2FC5-4DAD-BF05-0CE6F7603B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attendance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y' or '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204-A40F-4005-91DB-13A3B9CB9A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transform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digit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 of each digit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st frequent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each transformation is computed/stored as an ar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ructure, a transformation is often put in its own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0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ify the Sections program to use static methods that use arrays as parameters and retu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22EE-2855-4261-87D7-939AD96693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/retur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8113-D599-4943-9A8F-F3460BEB8D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/retur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BD9-9D0D-4E08-A36D-901F2A7897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multi-counter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the digit that occurs most frequently in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number 669260267 contai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0, two 2s, four 6es, one 7, and one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 tie, return the digit with the lower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562-BD36-440D-A0D2-EEEF576A39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multi-counter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declare 10 counter variable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better solution is to use an array of siz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 at inde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store the counter for digit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or 66926026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build such an array?  And how does it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42670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F09-C7E3-4ED5-A7BE-75BADCE8CB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an array of tall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A01-CE57-4614-96E7-E49942CE10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lly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4C75-7836-4795-9276-0554F8DC99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lly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pick random numbers from 0 to 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ameters specifies the number of random numbers to p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returns the difference between the number of times the most and least picke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,000,000 numbers what do you expect the difference to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 - 10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11 -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101 -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&gt;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45E-97B4-49BD-ADF1-6649E60D7D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histogram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file of integer exam score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hat will print a histogram of stars indicating the number of students who earned each unique exam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63DC-DC23-4059-B708-A34DD400E3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histogram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the score distrib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5A3-6574-4D74-BC86-2217F1A1B3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14:33Z</dcterms:modified>
  <cp:revision>261</cp:revision>
  <dc:subject/>
  <dc:title>PowerPoint Presentation</dc:title>
</cp:coreProperties>
</file>