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1025F-4576-4630-8413-8ADA315BB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CE790-AA8F-4B6B-A13A-51B749A81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80B2FEA-9533-4052-B6C7-D799CCB7A80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D2A8C-54B5-4069-B4E4-3190E279638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DD0-B926-4263-AEFC-C75BC2D6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24F-28B7-4072-80F0-DAFF0D2E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C90-2E2A-499D-A89A-D2AD3CAC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846-9BAC-4F20-B014-E42005FD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114-B0D8-48F2-86B8-078FF40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7F9-FF1F-4B84-AB80-9D27985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49A-C884-4AC3-8CFF-2FA7C60F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9BF-9F04-42DA-9ADD-AA73D504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A31-8D55-49C9-B418-F85098F8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045-E479-4F21-8687-EAD48FD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8C3-AF2F-4A4D-A6A3-C0CC1B2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0FF-1412-4713-AB5B-A1277DB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4609-44BD-4204-BB99-7C8EBA33CD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ys - part 3 (tallying, text processing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69640"/>
            <a:ext cx="8458200" cy="417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42 mill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t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oug Burger, circa 200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menting on the number of transistors in the Pentium IV process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2020 processor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omputers have, 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l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ransi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4" descr=""/>
          <p:cNvPicPr/>
          <p:nvPr/>
        </p:nvPicPr>
        <p:blipFill>
          <a:blip r:embed="rId1"/>
          <a:stretch/>
        </p:blipFill>
        <p:spPr>
          <a:xfrm>
            <a:off x="6324480" y="4127400"/>
            <a:ext cx="2743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xt process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199A-DCA8-4B9B-AB1B-A56120DE0D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tored internally as an array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ounded with apostrophes: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T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exas!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x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91120" y="2562120"/>
          <a:ext cx="4722840" cy="94320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B9B2-344D-4DA8-B568-CC78E4F082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819520" y="4546440"/>
            <a:ext cx="21333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705120" y="2320920"/>
            <a:ext cx="200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ccessed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 parameter and return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at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op to print or examine each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!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DDEC-9B2C-40A0-972E-6BF5BFE94B2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other oper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 " is plural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EE6E-78B9-491A-8F0A-8E135D8CB8F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s.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pped to an integer value in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automatic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107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the equival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ype-cas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E34-3BE4-478C-82CC-A241D1D906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s.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3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y are di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3360" indent="-2541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; it contains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3360" indent="-2541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imitive; you can't call methods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 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 Wha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602-48B5-434F-BC63-5E0241AFFE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 travers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lgorithms to traverse strings to compu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seful information might the following string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GDRGRRGDRRGDLGDGRRRGRGRGGDGDDRDDRRDGDGG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BC9-7838-4BFD-BF53-8FBD418D45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takes many for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0492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tring stores voters' v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(R)EPUBLICAN, (D)EMOCRAT, (G)REEN, (L)IBERT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votes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GDRGRRGDRRGDLGDGRRRGRGRGGDGDDRDDRRDGDGGD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4]; // R -&gt; 0, D -&gt; 1, G -&gt; 2, L -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votes.length()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votes.charAt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 == 'R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0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c == 'D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1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c == 'B'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2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// c == 'M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3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counts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[13, 12, 14, 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B880-71B2-4490-A68A-414CA7640F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tion attendance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file of section attendanc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 next sl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duce the following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earn 3 points for each section attended up to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CBC-1833-4A2E-A8AC-38ACDB467C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ine represents a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consists of 9 weeks' worth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each week, each character represents one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tion input fi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320" y="2347920"/>
          <a:ext cx="8705880" cy="11271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1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115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48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145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76320" y="2363760"/>
          <a:ext cx="8705880" cy="1127160"/>
        </p:xfrm>
        <a:graphic>
          <a:graphicData uri="http://schemas.openxmlformats.org/drawingml/2006/table">
            <a:tbl>
              <a:tblPr/>
              <a:tblGrid>
                <a:gridCol w="1663560"/>
                <a:gridCol w="704232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163-08DE-4B56-9548-F80D4F1230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6276960" cy="409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when method clicker2 i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][0, 0, 0][1,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][1, 2][1,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-1, 4][0, 0, 0][0, 0,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-1, 4][0, 0, 0][1,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-1, 4][0, 0, 0][-1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29C7-EEEE-48EA-951E-4A88990A84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tion attendance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y' or '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67B-A047-45C4-845F-3F5B9198F6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transform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digits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 of each digit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st frequent di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each transformation is computed/stored as an ar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ructure, a transformation is often put in its own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50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or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we read at 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input valu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ore it at array 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m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ndex 0, 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ndex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ify the Sections program to use static methods that use arrays as parameters and retu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D7C-5E62-4A20-895A-F688B9E2D5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/retur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45A-BD34-42BC-8C3A-B1131B68C9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param/retur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D35D-37FE-4E0E-B245-4B5925E42C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multi-counter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the digit that occurs most frequently in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number 669260267 contai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0, two 2s, four 6es, one 7, and one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 tie, return the digit with the lower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0C6-CAC0-4654-AE8A-D27A57ED263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multi-counter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declare 10 counter variable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 better solution is to use an array of siz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 at inde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store the counter for digit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or 66926026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build such an array?  And how does it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42670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82EB-0CA5-4229-8EF8-7C098E59442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an array of tall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8E6-6035-49B6-9C6A-67572C3254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lly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60F-9964-471C-A9D4-B9468817B1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lly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6858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pick random numbers from 0 to 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ameters specifies the number of random numbers to p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returns the difference between the number of times the most and least picke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,000,000 numbers what do you expect the difference to b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 - 10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11 -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101 -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&gt;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550-2EB7-4D2E-B32C-0FB15DD7F1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histogram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file of integer exam score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that will print a histogram of stars indicating the number of students who earned each unique exam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311-559B-495E-A213-4C81BD5FBA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histogram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the score distrib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C77-2388-44CE-A5E6-BBFBB0D672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9:14:33Z</dcterms:modified>
  <cp:revision>261</cp:revision>
  <dc:subject/>
  <dc:title>PowerPoint Presentation</dc:title>
</cp:coreProperties>
</file>