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B36D6-D3C3-4EE1-B4AE-FCEB5C60F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E443E-1766-419D-85C8-BE1AFF677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E33-DD8F-4F36-A20D-EC07B35C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E33-97A4-434B-B8F1-79A31A33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467-B576-4FFC-B12C-AD0B0DAF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E57F-65DB-41C0-8132-97117E67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B7F-BA5A-413A-A1AB-1637A550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DC1-9963-4563-89C2-529B46F3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DA8-D136-46B9-8927-EFA53F27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3CD-525B-4B58-9695-38E02608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90F-5E3C-4132-AD7A-9C573909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7BD-2C70-4722-928E-1D94C402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928-DC7C-40AC-87A4-C163441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CF7-C2E7-4705-B0C4-A4BA526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CBA2-2D8E-44B5-BA3A-E37E76AA8E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5 - more array algorithm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12760" y="878040"/>
            <a:ext cx="8763120" cy="3934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rt of programming is the art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ing complexity, of mastering multitude, and avoi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[awful] cha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effective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possibl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Edsger W. Dijk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495360" y="92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47640" y="244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5791320" y="2239920"/>
            <a:ext cx="2387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rra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change an array to a sub-array, similar to substr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rotate" elements in an array a given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how many elements in an array of Strings variables are set to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he elements in an array of ints or doubles are in sorted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which character occurs most frequently in a file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er 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C. s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t        E.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FAA9-E0B6-4639-A3F9-BB49ACC0A1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rra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 a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the longest run length in an array of booleans (longest run of all booleans the s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all elements in an array are within a given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array with ints 1 to N determine if there are any duplicates in the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B129-7161-46A6-BD86-B632CDE402B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rra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 an array, create and return an array the same as the original expect all duplicates are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 sieve of Eratosthenes to find prim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ll say that an element in an array is "alone" if there are values before and after it, and those values are different from it. Return a version of the given array where every instance of the given value which is alone is replaced by whichever value to its left or right is larger. (from coding bat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B8D-89A4-4261-9F39-8AB624C29BA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9:17:44Z</dcterms:modified>
  <cp:revision>277</cp:revision>
  <dc:subject/>
  <dc:title>PowerPoint Presentation</dc:title>
</cp:coreProperties>
</file>