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149E6-0FD9-4F8A-AC63-1702828F2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18720-1852-49FB-A5C1-4A4CC6CB0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780-66D9-43AC-B1E1-31CBA338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6DE-AE9F-4349-B75D-C109D6CE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927-C686-4AE3-AE94-A294A8E9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3C9-2D58-4D3E-AB9E-61DE27D5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998-67B8-43DB-B414-DFB0DEE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39A-B6FF-4802-829C-FABDDB4C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333-592C-412F-89CE-06DA218F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259-8B5F-4D70-9D44-1E591DA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D17-4B6B-4E11-A8AD-8EF7A1C1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683-4935-4EEF-9DFE-DF82BEA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750-04FE-483D-AFB5-59200DE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78E-80CA-4296-B3C1-9A318A8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ing and Simple S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3289-6936-45F2-80F9-EDD15DB750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5 - more array algorithm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12760" y="878040"/>
            <a:ext cx="8763120" cy="3934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rt of programming is the art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ing complexity, of mastering multitude, and avoi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[awful] cha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effective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possibl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Edsger W. Dijk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495360" y="92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47640" y="244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5791320" y="2239920"/>
            <a:ext cx="2387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change an array to a sub-array, similar to substr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rotate" elements in an array a given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how many elements in an array of Strings variables are set to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he elements in an array of ints or doubles are in sorted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which character occurs most frequently in a file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er 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C. s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t        E.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481-2381-46C1-9665-A133E240DF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 a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longest run length in an array of booleans (longest run of all booleans the s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all elements in an array are within a given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array with ints 1 to N determine if there are any duplicates in the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54F-8EFE-4408-8FE4-8A6A359E67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 an array, create and return an array the same as the original expect all duplicates are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 sieve of Eratosthenes to find prim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ll say that an element in an array is "alone" if there are values before and after it, and those values are different from it. Return a version of the given array where every instance of the given value which is alone is replaced by whichever value to its left or right is larger. (from coding ba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D6C2-81E9-408F-B956-D97FA3097F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9:17:44Z</dcterms:modified>
  <cp:revision>277</cp:revision>
  <dc:subject/>
  <dc:title>PowerPoint Presentation</dc:title>
</cp:coreProperties>
</file>