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E4840-0A8B-416A-96B6-4E333E8814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FAD58-6CFE-4D9B-8CD1-D01980663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775-BB64-4923-8572-7594D4CA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5881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684-8E50-41D8-98A2-D37AC568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762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588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588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6A1-31EB-48C3-A97B-8D18BC8D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7621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7621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5881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5881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5881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8D0-D9AB-45C6-A3A0-5D3DFB59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1D9-B317-42F7-B38B-99F65107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D31-7505-46F6-842B-DA2BCDE3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7621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01B-E396-4488-A5BD-0238B132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28B-BE19-4E22-AEB0-F412ED5A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7A6D-D5BC-4B68-9785-DE1577C3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7621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588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24D-C12E-4EE0-ADC0-3841F77F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762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588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E95-6672-418F-B1B4-8FEECF0C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762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5881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6B8-6CF0-4E39-BA15-FFB44C2C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05j  Introduction to C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8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Dimensional Arr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DDF4-B7FA-4A8A-86CC-26DE384459A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aculty.washington.edu/stepp/book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uug.ab.ca/dewara/life/life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6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wo Dimensional Array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Computer Science is a science of abstraction -creating the right model for a problem and devising the appropriate mechanizable techniques to solve it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lfred Aho and Jeffery Ul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66120" y="6324480"/>
            <a:ext cx="495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slides for Building Java Programs by Reges/Stepp, found at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faculty.washington.edu/stepp/book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6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2524320" cy="1876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571760" cy="221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"/>
          <p:cNvPicPr/>
          <p:nvPr/>
        </p:nvPicPr>
        <p:blipFill>
          <a:blip r:embed="rId4"/>
          <a:stretch/>
        </p:blipFill>
        <p:spPr>
          <a:xfrm>
            <a:off x="4379760" y="3962520"/>
            <a:ext cx="1411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neration 0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Rectangle 33"/>
          <p:cNvSpPr/>
          <p:nvPr/>
        </p:nvSpPr>
        <p:spPr>
          <a:xfrm>
            <a:off x="1981080" y="1143000"/>
            <a:ext cx="586764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4"/>
          <p:cNvSpPr/>
          <p:nvPr/>
        </p:nvSpPr>
        <p:spPr>
          <a:xfrm>
            <a:off x="274320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5"/>
          <p:cNvSpPr/>
          <p:nvPr/>
        </p:nvSpPr>
        <p:spPr>
          <a:xfrm>
            <a:off x="380988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487692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7"/>
          <p:cNvSpPr/>
          <p:nvPr/>
        </p:nvSpPr>
        <p:spPr>
          <a:xfrm>
            <a:off x="594360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8"/>
          <p:cNvSpPr/>
          <p:nvPr/>
        </p:nvSpPr>
        <p:spPr>
          <a:xfrm>
            <a:off x="701028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9"/>
          <p:cNvSpPr/>
          <p:nvPr/>
        </p:nvSpPr>
        <p:spPr>
          <a:xfrm>
            <a:off x="19810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1"/>
          <p:cNvSpPr/>
          <p:nvPr/>
        </p:nvSpPr>
        <p:spPr>
          <a:xfrm>
            <a:off x="1981080" y="32004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2"/>
          <p:cNvSpPr/>
          <p:nvPr/>
        </p:nvSpPr>
        <p:spPr>
          <a:xfrm>
            <a:off x="1981080" y="43434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2259720" y="598320"/>
            <a:ext cx="54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  1         2         3          4  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1586160" y="1433520"/>
            <a:ext cx="3787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5"/>
          <p:cNvSpPr/>
          <p:nvPr/>
        </p:nvSpPr>
        <p:spPr>
          <a:xfrm>
            <a:off x="2179080" y="1436760"/>
            <a:ext cx="55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*          .         *          .     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6"/>
          <p:cNvSpPr/>
          <p:nvPr/>
        </p:nvSpPr>
        <p:spPr>
          <a:xfrm>
            <a:off x="2194920" y="2362320"/>
            <a:ext cx="56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     .          *         *          *     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7"/>
          <p:cNvSpPr/>
          <p:nvPr/>
        </p:nvSpPr>
        <p:spPr>
          <a:xfrm>
            <a:off x="2118600" y="3429000"/>
            <a:ext cx="564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.           *         *          .     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8"/>
          <p:cNvSpPr/>
          <p:nvPr/>
        </p:nvSpPr>
        <p:spPr>
          <a:xfrm>
            <a:off x="2194920" y="4648320"/>
            <a:ext cx="55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*          *         *          .     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9"/>
          <p:cNvSpPr/>
          <p:nvPr/>
        </p:nvSpPr>
        <p:spPr>
          <a:xfrm>
            <a:off x="1431720" y="5627520"/>
            <a:ext cx="622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ndicates occupied, . indicates 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AEE3-D14C-4ADE-9EA6-58376D7FF17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981080" y="1143000"/>
            <a:ext cx="586764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274320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80988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487692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594360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701028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19810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1981080" y="32004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1981080" y="43434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2259720" y="598320"/>
            <a:ext cx="54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  1         2         3          4  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586160" y="1433520"/>
            <a:ext cx="3787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2743200" y="1143000"/>
            <a:ext cx="10666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2819520" y="1219320"/>
            <a:ext cx="91440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5029200" y="1219320"/>
            <a:ext cx="8380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7086600" y="1219320"/>
            <a:ext cx="68580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7010280" y="2209680"/>
            <a:ext cx="76212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7086600" y="3276720"/>
            <a:ext cx="68580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7086600" y="4495680"/>
            <a:ext cx="53352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2057400" y="2286000"/>
            <a:ext cx="60948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3962520" y="2209680"/>
            <a:ext cx="68580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5029200" y="2209680"/>
            <a:ext cx="76212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6095880" y="2286000"/>
            <a:ext cx="76212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0"/>
          <p:cNvSpPr/>
          <p:nvPr/>
        </p:nvSpPr>
        <p:spPr>
          <a:xfrm>
            <a:off x="3924360" y="3352680"/>
            <a:ext cx="64764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5181480" y="3429000"/>
            <a:ext cx="6858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2819520" y="4419720"/>
            <a:ext cx="838080" cy="99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3"/>
          <p:cNvSpPr/>
          <p:nvPr/>
        </p:nvSpPr>
        <p:spPr>
          <a:xfrm>
            <a:off x="3886200" y="4419720"/>
            <a:ext cx="838080" cy="99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5105520" y="4419720"/>
            <a:ext cx="761760" cy="99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F862-C713-4FA3-BE80-3ABCF3BCAB3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neration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981080" y="1143000"/>
            <a:ext cx="586764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274320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380988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87692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94360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701028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19810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1981080" y="32004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1981080" y="43434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259720" y="598320"/>
            <a:ext cx="54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  1         2         3          4  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586160" y="1433520"/>
            <a:ext cx="3787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179080" y="1436760"/>
            <a:ext cx="55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*          .         *          .     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2194560" y="2362320"/>
            <a:ext cx="54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.          .         .          .     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118240" y="3429000"/>
            <a:ext cx="56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.           .         .          .     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2194920" y="4648320"/>
            <a:ext cx="55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*        .          *          .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1431720" y="5627520"/>
            <a:ext cx="622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ndicates occupied, . indicates 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87CF-CC30-48AE-BE5A-0739F3A0847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r , Generation 1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981080" y="1143000"/>
            <a:ext cx="586764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274320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380988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487692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94360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701028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19810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1981080" y="32004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1981080" y="43434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259720" y="598320"/>
            <a:ext cx="54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  1         2         3          4  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1586160" y="1433520"/>
            <a:ext cx="3787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2743200" y="1143000"/>
            <a:ext cx="10666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2819520" y="1219320"/>
            <a:ext cx="91440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5029200" y="1219320"/>
            <a:ext cx="8380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7086600" y="1219320"/>
            <a:ext cx="68580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7010280" y="2209680"/>
            <a:ext cx="76212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7086600" y="3276720"/>
            <a:ext cx="68580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7"/>
          <p:cNvSpPr/>
          <p:nvPr/>
        </p:nvSpPr>
        <p:spPr>
          <a:xfrm>
            <a:off x="2819520" y="4419720"/>
            <a:ext cx="838080" cy="99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5105520" y="4419720"/>
            <a:ext cx="761760" cy="99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B970-A9EA-4857-8F3C-D323B7E9DA6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ules of the Gam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ell is occupied in this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urvives if it has 2 or 3 neighbors in this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ies if it has 0 or 1 neighbors in this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ies if it has 4 or more neighbors in this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ell is unoccupied in this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birth if it has exactly 3 neighboring cells that are occupied in this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ing cells are up, down, left, right, and diagonal. In general a cell has 8 neighbor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7A0F-0BD9-47DA-8CFC-74A68FF177E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 a program to run the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ata type do you want to use for the elements of the 2d arr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C8BA-5E32-4CB6-B16F-E21CC81FB72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 you want to use a buffer zone on the edg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EA70-8A84-44D6-A50C-457C1459CF5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D Arrays in Jav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s with multiple dimensions may be declared and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[][] mat = new int[3][4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pairs of square brackets indicates the dimension of the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nvention, in a 2D array the first number indicates the row and the second the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8042-1815-451C-8C22-F0D7B3744A4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wo Dimensional Array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2057400" y="1371600"/>
            <a:ext cx="5105520" cy="2590920"/>
            <a:chOff x="2057400" y="1371600"/>
            <a:chExt cx="5105520" cy="2590920"/>
          </a:xfrm>
        </p:grpSpPr>
        <p:sp>
          <p:nvSpPr>
            <p:cNvPr id="59" name="Rectangle 4"/>
            <p:cNvSpPr/>
            <p:nvPr/>
          </p:nvSpPr>
          <p:spPr>
            <a:xfrm>
              <a:off x="2057400" y="1371600"/>
              <a:ext cx="5105520" cy="259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"/>
            <p:cNvSpPr/>
            <p:nvPr/>
          </p:nvSpPr>
          <p:spPr>
            <a:xfrm>
              <a:off x="2057400" y="220968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"/>
            <p:cNvSpPr/>
            <p:nvPr/>
          </p:nvSpPr>
          <p:spPr>
            <a:xfrm>
              <a:off x="2057400" y="312408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"/>
            <p:cNvSpPr/>
            <p:nvPr/>
          </p:nvSpPr>
          <p:spPr>
            <a:xfrm>
              <a:off x="3200400" y="1371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4610160" y="1371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6019920" y="1371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0"/>
          <p:cNvSpPr/>
          <p:nvPr/>
        </p:nvSpPr>
        <p:spPr>
          <a:xfrm>
            <a:off x="2336760" y="750960"/>
            <a:ext cx="61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        1            2             3    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448640" y="838080"/>
            <a:ext cx="75384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362320" y="1447920"/>
            <a:ext cx="453168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94400" y="4387680"/>
            <a:ext cx="879588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ur abstract picture of the 2D array and trea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his way is accept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ctual implementation is diffe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[2][1] = 12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FA4B-4C7D-4B8B-A043-C87BC5317BE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is What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[] mat = new int[10][12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/ mat is a reference to the whole 2d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/ mat[0] or mat[r] are references to a single 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/ mat[0][1] or mat[r][c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re reference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singl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no way to refer to a singl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D72E-9A38-4D3E-B3D9-8D000356B40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D Array Probl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to find the max value in a 2d array of 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that finds the sum of values in each column of a 2d array of do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to print out the elements of a 2d array of ints in row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0, then row 1, then row 2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to print out the elements of a 2d array of ints in colum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0, then column 1, then column 2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1559-4DAE-41D0-AEF3-DE471D57691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[][] strTable = new String[5][8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strTable.length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strTable[0].length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strTable[2][3].length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40 0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8 5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5 8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5 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then a runtime error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No output due to a syntax err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A193-1DCD-4C5E-95F6-90D75CB3CBD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e of Two Dimensional Array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 arrays are often used when I need a table of data or want to represent things that have 2 dimen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stance an area of a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4DC7-0B3D-46AE-B565-1FF7D28BADB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of using a 2D arra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way's Game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ellular automaton designed by John Conway, a mathema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ally a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place on a 2d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 of the grid is occupied or 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3A73-6AA9-4E76-949A-DDE40AB0960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ul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www.cuug.ab.ca/dewara/life/lif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pattern from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egion in large area with mouse by pressing the control key and left click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paste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73E3-1FCC-46DF-8395-5E9EBB90357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7T17:08:45Z</dcterms:modified>
  <cp:revision>203</cp:revision>
  <dc:subject/>
  <dc:title>PowerPoint Presentation</dc:title>
</cp:coreProperties>
</file>