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7D2C8-AF0D-4107-99DC-B322A24CB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A394-96CC-427A-AD70-BE3AB94D1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7AB-8207-4195-9239-3E0F03CE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DD0-A369-42E9-ADC1-7A18645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1E4-26E5-4743-AC7D-7625B096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F0D-12A9-4330-AE6C-CB6D7FC5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E38-F06B-4477-BBD4-0DB86CA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BAC-78C4-4202-987A-284061C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E76-0AB8-44D5-8CD6-1C1EB397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0C6-B792-462B-8D98-A52D07B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623-8877-4483-B1D8-1B9A6689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43F-2B5D-442A-A30E-40FFE42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B5E-5EF3-4C9A-8275-C80CC53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B32-B755-4BE5-8277-F61B154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046-7BB6-4542-A368-14EE941C17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ate and behavior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984320"/>
            <a:ext cx="8458200" cy="17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A 'class' is where we teach an 'object' to behav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ich Pat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762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/ module,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mplate for a new type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lasses: String, Random, Scanner, Fil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entity that combines state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grams that perform their behavior as interactions betwee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0B66-7E82-47AA-A73C-5102F31CF0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ueprint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00200" y="1359000"/>
            <a:ext cx="4876920" cy="21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98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02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03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3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video-ipod"/>
          <p:cNvPicPr/>
          <p:nvPr/>
        </p:nvPicPr>
        <p:blipFill>
          <a:blip r:embed="rId2"/>
          <a:srcRect l="5757" t="5917" r="10789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video-ipod"/>
          <p:cNvPicPr/>
          <p:nvPr/>
        </p:nvPicPr>
        <p:blipFill>
          <a:blip r:embed="rId3"/>
          <a:srcRect l="5757" t="5917" r="10789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video-ipod"/>
          <p:cNvPicPr/>
          <p:nvPr/>
        </p:nvPicPr>
        <p:blipFill>
          <a:blip r:embed="rId4"/>
          <a:srcRect l="5757" t="5917" r="10789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665-FC97-4752-9558-254A2D901D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" y="39830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istancing between ideas and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objects without knowing how the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 in an iPh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nderstand its external behavior (buttons, scre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understand its inner detai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you don't need to if you just want to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352320" y="4309920"/>
            <a:ext cx="5334480" cy="2090880"/>
            <a:chOff x="3352320" y="4309920"/>
            <a:chExt cx="5334480" cy="2090880"/>
          </a:xfrm>
        </p:grpSpPr>
        <p:pic>
          <p:nvPicPr>
            <p:cNvPr id="116" name="Picture 5" descr="boardb440"/>
            <p:cNvPicPr/>
            <p:nvPr/>
          </p:nvPicPr>
          <p:blipFill>
            <a:blip r:embed="rId2"/>
            <a:stretch/>
          </p:blipFill>
          <p:spPr>
            <a:xfrm>
              <a:off x="3505320" y="430992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r-4c_r-4b_improve-4"/>
            <p:cNvPicPr/>
            <p:nvPr/>
          </p:nvPicPr>
          <p:blipFill>
            <a:blip r:embed="rId3"/>
            <a:stretch/>
          </p:blipFill>
          <p:spPr>
            <a:xfrm>
              <a:off x="6019920" y="431964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3352320" y="4343400"/>
              <a:ext cx="5334480" cy="1905120"/>
              <a:chOff x="3352320" y="4343400"/>
              <a:chExt cx="5334480" cy="1905120"/>
            </a:xfrm>
          </p:grpSpPr>
          <p:sp>
            <p:nvSpPr>
              <p:cNvPr id="119" name="Line 8"/>
              <p:cNvSpPr/>
              <p:nvPr/>
            </p:nvSpPr>
            <p:spPr>
              <a:xfrm>
                <a:off x="3429000" y="434340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9"/>
              <p:cNvSpPr/>
              <p:nvPr/>
            </p:nvSpPr>
            <p:spPr>
              <a:xfrm flipH="1">
                <a:off x="3352320" y="434340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7F8-1F8C-4B2E-87F4-2D6AE437EB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r tas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slides, we will implemen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as a way of learning about defining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efine a type of object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will contain x/y data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will contain behavior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1FB-B791-4CEE-934C-BD4D00FF5C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objects (desired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2 = new Point(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in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4521240"/>
          <a:ext cx="8418240" cy="203184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9040"/>
                <a:gridCol w="2922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84D-2FF5-4791-8093-5484703496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 as bluepri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(blueprint) will describe how to create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will contain its own data an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666880" y="1401840"/>
            <a:ext cx="3505320" cy="17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2285640" y="3279600"/>
            <a:ext cx="4191480" cy="519120"/>
            <a:chOff x="2285640" y="3279600"/>
            <a:chExt cx="4191480" cy="519120"/>
          </a:xfrm>
        </p:grpSpPr>
        <p:sp>
          <p:nvSpPr>
            <p:cNvPr id="134" name="Line 6"/>
            <p:cNvSpPr/>
            <p:nvPr/>
          </p:nvSpPr>
          <p:spPr>
            <a:xfrm flipH="1">
              <a:off x="2285640" y="327960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4419720" y="327960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495680" y="327960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76320" y="38131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048120" y="38131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95880" y="38131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FF07-C370-4D33-9C60-A8C599A778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8240" y="228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er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1 = new Po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2 = new Po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1 = (p1 == p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093-89C1-4BEE-820A-CCFDBD2578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B7AC-7CB3-4E7D-9FCF-006FF1489A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state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is code into a fil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code creates a new typ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contains two piec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 do not contain any behavior (y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A889-E506-47EA-83F1-F9E8A1BDE0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variable inside an object that is part of its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s own cop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ach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_modifi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each Student object has a na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gpa field (instance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099E-75E9-498E-B2A6-65929A64BC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ADA7-D3FD-46E4-9AF2-6044ECF2B6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Object-oriented programming is a method of programming based on a hierarchy of classes, and well-defined and cooperating objects.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 class is a structure that defines the data and the methods to work on that data. When you write programs in the Java language, all program data is wrapped in a class, whether it is a class you write or a class you use from the Java platform API librari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asses can access/modify an object's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ending on the access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6DD-CD19-44B8-94EF-BB2EBE827F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lass and its cli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, by itself, a runn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be us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3035160"/>
            <a:ext cx="381024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638680" y="2857680"/>
            <a:ext cx="327672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10080" y="4648320"/>
            <a:ext cx="2438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562720" y="4724280"/>
          <a:ext cx="2089080" cy="3970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380880"/>
                <a:gridCol w="6858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25"/>
          <p:cNvSpPr/>
          <p:nvPr/>
        </p:nvSpPr>
        <p:spPr>
          <a:xfrm>
            <a:off x="5410080" y="5637240"/>
            <a:ext cx="2438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562720" y="5713560"/>
          <a:ext cx="2089080" cy="39672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38088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44"/>
          <p:cNvSpPr/>
          <p:nvPr/>
        </p:nvSpPr>
        <p:spPr>
          <a:xfrm>
            <a:off x="4495680" y="3200400"/>
            <a:ext cx="106704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5"/>
          <p:cNvSpPr/>
          <p:nvPr/>
        </p:nvSpPr>
        <p:spPr>
          <a:xfrm>
            <a:off x="4038480" y="40384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6"/>
          <p:cNvSpPr/>
          <p:nvPr/>
        </p:nvSpPr>
        <p:spPr>
          <a:xfrm>
            <a:off x="4038480" y="50292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1DE-6C38-4248-8C5D-CF3B7A2390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0C5-4028-42DA-A2B8-42D9ED8249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behavi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 code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ur client program wants to draw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x = 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y = 3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.fillOval(p1.x, p1.y, 3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.drawString("(" + p1.x + ", " + p1.y + ")", p1.x, p1.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aw other points, the same code must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remove this redundancy using a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C2F-E746-4920-92E8-2AE4097373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iminating redundancy, v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eliminate the redundancy with a static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call the metho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draw(p1, 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8898-5B52-4BCA-B54D-17B2E5988C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 with static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missing a major benefit of objects: code re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gram that draw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would nee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tax doesn't match how we're used to us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raw(p1, g);    // static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of classes is to combine state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vior is closely related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belong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draw(g);     // inside the object (b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370-2FA5-4032-9D78-440045CAEB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76680" y="11430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Exists inside each object of a class and gives behavior to each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yntax as static methods, but with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4F33-9473-4A7C-9DB6-86F7B2D432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method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9296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no longer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aramet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 method know which point to dr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method access that point's x/y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AC1E-4750-446D-8B26-B58F0CB13F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has its own copy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, which operates on that object's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057560" y="3073320"/>
            <a:ext cx="485784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objects w/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10200" y="3137040"/>
          <a:ext cx="2089080" cy="39672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10200" y="4940280"/>
          <a:ext cx="2089080" cy="39672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41"/>
          <p:cNvSpPr/>
          <p:nvPr/>
        </p:nvSpPr>
        <p:spPr>
          <a:xfrm>
            <a:off x="4057560" y="4800600"/>
            <a:ext cx="485784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2"/>
          <p:cNvGrpSpPr/>
          <p:nvPr/>
        </p:nvGrpSpPr>
        <p:grpSpPr>
          <a:xfrm>
            <a:off x="1933560" y="5181480"/>
            <a:ext cx="1980720" cy="444600"/>
            <a:chOff x="1933560" y="5181480"/>
            <a:chExt cx="1980720" cy="444600"/>
          </a:xfrm>
        </p:grpSpPr>
        <p:sp>
          <p:nvSpPr>
            <p:cNvPr id="190" name="Rectangle 43"/>
            <p:cNvSpPr/>
            <p:nvPr/>
          </p:nvSpPr>
          <p:spPr>
            <a:xfrm>
              <a:off x="1933560" y="518148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8"/>
            <p:cNvSpPr/>
            <p:nvPr/>
          </p:nvSpPr>
          <p:spPr>
            <a:xfrm>
              <a:off x="3228840" y="539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5"/>
            <p:cNvSpPr/>
            <p:nvPr/>
          </p:nvSpPr>
          <p:spPr>
            <a:xfrm>
              <a:off x="2943000" y="52164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6"/>
          <p:cNvGrpSpPr/>
          <p:nvPr/>
        </p:nvGrpSpPr>
        <p:grpSpPr>
          <a:xfrm>
            <a:off x="4762440" y="1886040"/>
            <a:ext cx="1390680" cy="1066320"/>
            <a:chOff x="4762440" y="1886040"/>
            <a:chExt cx="1390680" cy="1066320"/>
          </a:xfrm>
        </p:grpSpPr>
        <p:sp>
          <p:nvSpPr>
            <p:cNvPr id="194" name="Rectangle 47"/>
            <p:cNvSpPr/>
            <p:nvPr/>
          </p:nvSpPr>
          <p:spPr>
            <a:xfrm>
              <a:off x="4762440" y="1886040"/>
              <a:ext cx="1027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8"/>
            <p:cNvSpPr/>
            <p:nvPr/>
          </p:nvSpPr>
          <p:spPr>
            <a:xfrm flipH="1">
              <a:off x="5959080" y="2288880"/>
              <a:ext cx="468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9"/>
            <p:cNvSpPr/>
            <p:nvPr/>
          </p:nvSpPr>
          <p:spPr>
            <a:xfrm>
              <a:off x="5772240" y="1920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EA7-D77C-484F-B676-61E8FCB295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mplicit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referr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mplicit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referr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mplicit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ance method can refer to that object'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608-1D86-4640-9D5A-39656A87BC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break the problem up based on the things / data types that are part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e onl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many different kinds of strategies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dig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, procedural, event driven, data flow, formal methods, agile or extrem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138-BABA-4259-9C2B-2247422796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, vers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ontai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draws that point at its curr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E7FC-B38F-429C-8C91-5E23BAD9B4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hange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location by a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turns the distance betwe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origin, (0,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ent code to use thes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267080" y="4800600"/>
                <a:ext cx="2819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A70-9356-488C-A556-9A2229ACB3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 method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424-9B8E-4BBA-94B0-6EA76DF6E3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ssignment handout do you pre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ng assignment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assignment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2C6-DFE1-40D7-B95A-E7281204D2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F0C7-31DD-400C-8D2B-171F5C0058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- Monopo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177336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1951200" cy="2224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5792400" y="3352680"/>
            <a:ext cx="308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o st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cratch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would w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programming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5867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file of cities' (x, y) coordinat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begins with the number of 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program to draw the cities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a terrible event (zombie apocalypse, nuclear meltdown) that turns all cities red that are within a given radi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nd zero x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nd zero y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a of eff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875200" y="1158840"/>
            <a:ext cx="3251160" cy="43099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1C5-070D-46AA-BEBB-6C08EE52C5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28960" y="11430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cities.txt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arr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+ arrays with related data at same inde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poor style. (Relationship exists in the programmer’s mind, but not explicit in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F84-AFA0-4314-B91E-2F3C3F5AC6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in this problem is a set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is to store them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store a city's x/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compare distances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whether the terrible event aff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iven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know how to draw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iver program would be shor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ea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019240" cy="26766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6DD3-F891-4ACF-824D-7FDD8F7B3D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s of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that use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omb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ien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47840" y="34290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Zombie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Zombi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34120" y="33148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181400" y="36003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114800" y="44197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114800" y="4648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5295960"/>
            <a:ext cx="365760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149-97A9-4702-AAAE-E4509767442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11:32Z</dcterms:modified>
  <cp:revision>283</cp:revision>
  <dc:subject/>
  <dc:title>PowerPoint Presentation</dc:title>
</cp:coreProperties>
</file>