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D9C34-7B00-4351-8A77-2AF73371DE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9C385-F93D-4ED5-BDDB-AAAD56F989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983C-8DDE-45C1-9DF8-C7E626F5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F446-5988-45D7-A430-F0ACC41E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2843-BBD8-4982-86F9-BAE25F73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FA8D-409C-442D-ACD2-787A0588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225D-1E6C-4B6C-A488-6CDAFB9C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A516-0BA5-44FB-9A35-60FD38FF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469-0845-437F-BFB2-FA6DC246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EC7-9492-47DF-BDDB-BA03DFF0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417-595D-4610-82E8-9F25B199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A3EC-ABBB-4EB9-9DA4-ECCBD12E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4201-A143-4BB7-82B1-C85D33B0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58D6-CAAC-4029-B2AB-6A8218A1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5BCA-1607-41F7-8FBC-9645C0FBE88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27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asses and objects,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ate and behavior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613584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Copyright Pearson Education, 2010_x000b_Based on slides by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98280" y="-1211400"/>
            <a:ext cx="17528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520" y="1984320"/>
            <a:ext cx="8458200" cy="17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A 'class' is where we teach an 'object' to behave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ich Pat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19044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343080" y="-60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5715000" y="2895480"/>
            <a:ext cx="27622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asses and objec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rogram entity that represents ei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spcBef>
                <a:spcPts val="601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/ module, 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spcBef>
                <a:spcPts val="601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emplate for a new type of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spcBef>
                <a:spcPts val="601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a template for crea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classes: String, Random, Scanner, File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spcBef>
                <a:spcPts val="601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n entity that combines state and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 programming (OO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rograms that perform their behavior as interactions betwee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C238-F00F-415C-A9C4-AFF7B1D705A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lueprint analog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600200" y="1359000"/>
            <a:ext cx="4876920" cy="21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Pod blue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98" name="Text Box 5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8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102" name="Group 9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103" name="Line 10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1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2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13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14" descr="blueprint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video-ipod"/>
          <p:cNvPicPr/>
          <p:nvPr/>
        </p:nvPicPr>
        <p:blipFill>
          <a:blip r:embed="rId2"/>
          <a:srcRect l="5757" t="5917" r="10789" b="3207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video-ipod"/>
          <p:cNvPicPr/>
          <p:nvPr/>
        </p:nvPicPr>
        <p:blipFill>
          <a:blip r:embed="rId3"/>
          <a:srcRect l="5757" t="5917" r="10789" b="3207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video-ipod"/>
          <p:cNvPicPr/>
          <p:nvPr/>
        </p:nvPicPr>
        <p:blipFill>
          <a:blip r:embed="rId4"/>
          <a:srcRect l="5757" t="5917" r="10789" b="3207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703C-3CB4-412A-BAAF-96E04B7519D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28600" y="398304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bstrac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tr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distancing between ideas and de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use objects without knowing how the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ion in an iPh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nderstand its external behavior (buttons, scre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not understand its inner detail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d you don't need to if you just want to us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3352320" y="4309920"/>
            <a:ext cx="5334480" cy="2090880"/>
            <a:chOff x="3352320" y="4309920"/>
            <a:chExt cx="5334480" cy="2090880"/>
          </a:xfrm>
        </p:grpSpPr>
        <p:pic>
          <p:nvPicPr>
            <p:cNvPr id="116" name="Picture 5" descr="boardb440"/>
            <p:cNvPicPr/>
            <p:nvPr/>
          </p:nvPicPr>
          <p:blipFill>
            <a:blip r:embed="rId2"/>
            <a:stretch/>
          </p:blipFill>
          <p:spPr>
            <a:xfrm>
              <a:off x="3505320" y="4309920"/>
              <a:ext cx="266688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6" descr="r-4c_r-4b_improve-4"/>
            <p:cNvPicPr/>
            <p:nvPr/>
          </p:nvPicPr>
          <p:blipFill>
            <a:blip r:embed="rId3"/>
            <a:stretch/>
          </p:blipFill>
          <p:spPr>
            <a:xfrm>
              <a:off x="6019920" y="431964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  <p:grpSp>
          <p:nvGrpSpPr>
            <p:cNvPr id="118" name="Group 7"/>
            <p:cNvGrpSpPr/>
            <p:nvPr/>
          </p:nvGrpSpPr>
          <p:grpSpPr>
            <a:xfrm>
              <a:off x="3352320" y="4343400"/>
              <a:ext cx="5334480" cy="1905120"/>
              <a:chOff x="3352320" y="4343400"/>
              <a:chExt cx="5334480" cy="1905120"/>
            </a:xfrm>
          </p:grpSpPr>
          <p:sp>
            <p:nvSpPr>
              <p:cNvPr id="119" name="Line 8"/>
              <p:cNvSpPr/>
              <p:nvPr/>
            </p:nvSpPr>
            <p:spPr>
              <a:xfrm>
                <a:off x="3429000" y="4343400"/>
                <a:ext cx="525780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9"/>
              <p:cNvSpPr/>
              <p:nvPr/>
            </p:nvSpPr>
            <p:spPr>
              <a:xfrm flipH="1">
                <a:off x="3352320" y="4343400"/>
                <a:ext cx="533412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8C93-5754-49DB-A2FF-8E66ECDB8E4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ur task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following slides, we will implement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 as a way of learning about defining cla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define a type of object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will contain x/y data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will contain behavior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pro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B142-AE74-47BA-8308-86D2BD37230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Point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objects (desired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 p1 = new Point(5, -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 p2 = new Point();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origin, (0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n eac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in eac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4521240"/>
          <a:ext cx="8418240" cy="2031840"/>
        </p:xfrm>
        <a:graphic>
          <a:graphicData uri="http://schemas.openxmlformats.org/drawingml/2006/table">
            <a:tbl>
              <a:tblPr/>
              <a:tblGrid>
                <a:gridCol w="2581200"/>
                <a:gridCol w="5837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tLocation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ts the point's x and y to the give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l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justs the point's x and y by the given am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stan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far away the point is from point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raw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lays the point on a drawing pa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33520" y="2666880"/>
          <a:ext cx="4511520" cy="1219320"/>
        </p:xfrm>
        <a:graphic>
          <a:graphicData uri="http://schemas.openxmlformats.org/drawingml/2006/table">
            <a:tbl>
              <a:tblPr/>
              <a:tblGrid>
                <a:gridCol w="1589040"/>
                <a:gridCol w="29224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el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point's x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point's y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C2BB-CDFD-41E7-B3C4-1B157E8A9D7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Point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class as blueprin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(blueprint) will describe how to create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bject will contain its own data and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666880" y="1401840"/>
            <a:ext cx="3505320" cy="175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oi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x, 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5"/>
          <p:cNvGrpSpPr/>
          <p:nvPr/>
        </p:nvGrpSpPr>
        <p:grpSpPr>
          <a:xfrm>
            <a:off x="2285640" y="3279600"/>
            <a:ext cx="4191480" cy="519120"/>
            <a:chOff x="2285640" y="3279600"/>
            <a:chExt cx="4191480" cy="519120"/>
          </a:xfrm>
        </p:grpSpPr>
        <p:sp>
          <p:nvSpPr>
            <p:cNvPr id="134" name="Line 6"/>
            <p:cNvSpPr/>
            <p:nvPr/>
          </p:nvSpPr>
          <p:spPr>
            <a:xfrm flipH="1">
              <a:off x="2285640" y="3279600"/>
              <a:ext cx="205740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7"/>
            <p:cNvSpPr/>
            <p:nvPr/>
          </p:nvSpPr>
          <p:spPr>
            <a:xfrm>
              <a:off x="4419720" y="327960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8"/>
            <p:cNvSpPr/>
            <p:nvPr/>
          </p:nvSpPr>
          <p:spPr>
            <a:xfrm>
              <a:off x="4495680" y="3279600"/>
              <a:ext cx="198144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9"/>
          <p:cNvSpPr/>
          <p:nvPr/>
        </p:nvSpPr>
        <p:spPr>
          <a:xfrm>
            <a:off x="76320" y="3813120"/>
            <a:ext cx="2895480" cy="167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Point object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5,   y = 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3048120" y="3813120"/>
            <a:ext cx="289548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Point object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-245,   y = 1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6095880" y="3813120"/>
            <a:ext cx="289584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Point object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18,   y = 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8261-B5DE-4170-A68E-9B8710E8A05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28240" y="2286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er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 p1 = new Poin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 p2 = new Poin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b1 = (p1 == p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b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no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D44E-167E-45E5-86E2-FC9ADC89BD1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38B4-3BEF-41A2-9055-03167EAE294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 state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el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int class, version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his code into a fil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ove code creates a new type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contains two pieces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s do not contain any behavior (ye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061C-0333-4129-9965-22D66F1E301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el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44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variable inside an object that is part of its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bject h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s own cop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each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_modifie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Studen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each Student object has a nam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gpa field (instance var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 double gpa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F66A-81AF-4A88-B999-465ADF401EB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5B92-3FB9-4179-B16E-BE96A9340F8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 Oriented Programm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Object-oriented programming is a method of programming based on a hierarchy of classes, and well-defined and cooperating objects. 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A class is a structure that defines the data and the methods to work on that data. When you write programs in the Java language, all program data is wrapped in a class, whether it is a class you write or a class you use from the Java platform API libraries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data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cessing fiel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lasses can access/modify an object's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pending on the access mod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eld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x-coord is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 =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3;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198A-5DBD-4CC0-AB76-B04165D95B2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class and its clien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not, by itself, a runnabl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can be us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09480" y="3035160"/>
            <a:ext cx="3810240" cy="3322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Main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Mai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1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x = 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y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2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x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y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638680" y="2857680"/>
            <a:ext cx="3276720" cy="133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 of ob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410080" y="4648320"/>
            <a:ext cx="243864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562720" y="4724280"/>
          <a:ext cx="2089080" cy="3970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380880"/>
                <a:gridCol w="68580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25"/>
          <p:cNvSpPr/>
          <p:nvPr/>
        </p:nvSpPr>
        <p:spPr>
          <a:xfrm>
            <a:off x="5410080" y="5637240"/>
            <a:ext cx="243864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562720" y="5713560"/>
          <a:ext cx="2089080" cy="39672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380880"/>
                <a:gridCol w="685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Line 44"/>
          <p:cNvSpPr/>
          <p:nvPr/>
        </p:nvSpPr>
        <p:spPr>
          <a:xfrm>
            <a:off x="4495680" y="3200400"/>
            <a:ext cx="1067040" cy="6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5"/>
          <p:cNvSpPr/>
          <p:nvPr/>
        </p:nvSpPr>
        <p:spPr>
          <a:xfrm>
            <a:off x="4038480" y="403848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6"/>
          <p:cNvSpPr/>
          <p:nvPr/>
        </p:nvSpPr>
        <p:spPr>
          <a:xfrm>
            <a:off x="4038480" y="502920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C532-AD7C-459B-A4AE-F1BC40746D8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0DB9-27BC-4930-B4FF-3CE7DA3AE6E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 behavior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ent code redundanc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our client program wants to draw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bj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.x = 1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.y = 3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.fillOval(p1.x, p1.y, 3, 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.drawString("(" + p1.x + ", " + p1.y + ")", p1.x, p1.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raw other points, the same code must be rep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remove this redundancy using a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CB4E-BFC3-487D-BC47-3A8B18FE66C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iminating redundancy, v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eliminate the redundancy with a static meth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Draws the given point on the DrawingPane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draw(Point p, Graphics g) {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fillOval(p.x, p.y, 3, 3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drawString("(" + p.x + ", " + p.y + ")", p.x, p.y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call the method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draw(p1, g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9D5A-9FFE-40D5-8DBF-0071062F38A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s with static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missing a major benefit of objects: code re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rogram that draw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would nee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tax doesn't match how we're used to using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draw(p1, g);    // static (b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int of classes is to combine state and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havior is closely related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 belong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1.draw(g);     // inside the object (bet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570B-443B-44E1-A212-2832704829A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tance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76680" y="1143000"/>
            <a:ext cx="9372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nce meth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 meth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Exists inside each object of a class and gives behavior to each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syntax as static methods, but witho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hout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"HELLO THERE!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A649-8B52-47FC-AC19-494D5360676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tance method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9296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raws this Point object with the given 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no longer ha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int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paramet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the method know which point to dra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the method access that point's x/y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E35A-6D75-404F-9E5F-A8A2B443AA1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ct has its own copy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, which operates on that object's st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4057560" y="3073320"/>
            <a:ext cx="485784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code can see p1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Point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objects w/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210200" y="3137040"/>
          <a:ext cx="2089080" cy="39672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210200" y="4940280"/>
          <a:ext cx="2089080" cy="39672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Text Box 41"/>
          <p:cNvSpPr/>
          <p:nvPr/>
        </p:nvSpPr>
        <p:spPr>
          <a:xfrm>
            <a:off x="4057560" y="4800600"/>
            <a:ext cx="485784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code can see p2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42"/>
          <p:cNvGrpSpPr/>
          <p:nvPr/>
        </p:nvGrpSpPr>
        <p:grpSpPr>
          <a:xfrm>
            <a:off x="1933560" y="5181480"/>
            <a:ext cx="1980720" cy="444600"/>
            <a:chOff x="1933560" y="5181480"/>
            <a:chExt cx="1980720" cy="444600"/>
          </a:xfrm>
        </p:grpSpPr>
        <p:sp>
          <p:nvSpPr>
            <p:cNvPr id="190" name="Rectangle 43"/>
            <p:cNvSpPr/>
            <p:nvPr/>
          </p:nvSpPr>
          <p:spPr>
            <a:xfrm>
              <a:off x="1933560" y="5181480"/>
              <a:ext cx="1026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48"/>
            <p:cNvSpPr/>
            <p:nvPr/>
          </p:nvSpPr>
          <p:spPr>
            <a:xfrm>
              <a:off x="3228840" y="53974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45"/>
            <p:cNvSpPr/>
            <p:nvPr/>
          </p:nvSpPr>
          <p:spPr>
            <a:xfrm>
              <a:off x="2943000" y="521640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46"/>
          <p:cNvGrpSpPr/>
          <p:nvPr/>
        </p:nvGrpSpPr>
        <p:grpSpPr>
          <a:xfrm>
            <a:off x="4762440" y="1886040"/>
            <a:ext cx="1390680" cy="1066320"/>
            <a:chOff x="4762440" y="1886040"/>
            <a:chExt cx="1390680" cy="1066320"/>
          </a:xfrm>
        </p:grpSpPr>
        <p:sp>
          <p:nvSpPr>
            <p:cNvPr id="194" name="Rectangle 47"/>
            <p:cNvSpPr/>
            <p:nvPr/>
          </p:nvSpPr>
          <p:spPr>
            <a:xfrm>
              <a:off x="4762440" y="1886040"/>
              <a:ext cx="1027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8"/>
            <p:cNvSpPr/>
            <p:nvPr/>
          </p:nvSpPr>
          <p:spPr>
            <a:xfrm flipH="1">
              <a:off x="5959080" y="2288880"/>
              <a:ext cx="4680" cy="66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49"/>
            <p:cNvSpPr/>
            <p:nvPr/>
          </p:nvSpPr>
          <p:spPr>
            <a:xfrm>
              <a:off x="5772240" y="1920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A3D7-48F7-4985-9A0D-25FAF5676A8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implicit paramet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icit parame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on which an instance method is cal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 referred to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implicit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 referred to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implicit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ance method can refer to that object's fie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say that it executes i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tex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 particular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refer to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object it was called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64A9-8061-4720-9946-093F6308183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 Oriented Programm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 break the problem up based on the things / data types that are part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he onl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many different kinds of strategies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radigm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ftwar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, procedural, event driven, data flow, formal methods, agile or extreme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8EA4-4769-4EBD-953E-4DD2C5B655B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8294760" y="3398760"/>
            <a:ext cx="191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7837560" y="3400560"/>
            <a:ext cx="1918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473880" y="3398760"/>
            <a:ext cx="191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795920" y="3408480"/>
            <a:ext cx="1918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027320" y="3095640"/>
            <a:ext cx="1922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570120" y="3097080"/>
            <a:ext cx="1922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Point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class, version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hanges the location of this Point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)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contain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that draws that point at its curren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F586-43A4-4795-BCA8-694288F0E7B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thod ques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hanges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s location by a giv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returns the distance between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origin, (0, 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lient code to use these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4267080" y="4800600"/>
                <a:ext cx="28195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7E1F-E0D0-47F7-9666-6582C516C2F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ass method answ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F5CB-296E-43AF-B864-C037F0DA634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assignment handout do you pre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ng assignment hand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assignment hand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F3F3-1146-4C28-A504-316D36C677B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D7B5-BD6F-4B6F-8812-32D470E8399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 - Monopol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3505320" y="12193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3"/>
          <a:stretch/>
        </p:blipFill>
        <p:spPr>
          <a:xfrm>
            <a:off x="5638680" y="1295280"/>
            <a:ext cx="1905120" cy="1424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4"/>
          <a:stretch/>
        </p:blipFill>
        <p:spPr>
          <a:xfrm>
            <a:off x="838080" y="3657600"/>
            <a:ext cx="1773360" cy="220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5"/>
          <a:stretch/>
        </p:blipFill>
        <p:spPr>
          <a:xfrm>
            <a:off x="3429000" y="3581280"/>
            <a:ext cx="1951200" cy="2224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5792400" y="3352680"/>
            <a:ext cx="308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had to sta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scratch w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would w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re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programming proble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5867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file of cities' (x, y) coordinate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begins with the number of c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0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0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4 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 1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50 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program to draw the cities o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a terrible event (zombie apocalypse, nuclear meltdown) that turns all cities red that are within a given radi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ound zero x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ound zero y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a of effect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875200" y="1158840"/>
            <a:ext cx="3251160" cy="430992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1C30-5AE6-4C62-B451-A3234C0BB7F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228960" y="1143000"/>
            <a:ext cx="9372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 in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new Scanner(new File("cities.txt"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cityCount = input.nextI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 xCoords = new int[cityCount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 yCoords = new int[cityCount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cityCount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Coords[i] = input.nextInt()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Coords[i] = input.nextI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 arr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2+ arrays with related data at same inde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poor style. (Relationship exists in the programmer’s mind, but not explicit in the program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7AC8-4D10-4A7C-AA84-D5A7136B1E2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76320" y="91440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ta in this problem is a set of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lternative is to store them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store a city's x/y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compare distances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e whether the terrible event affec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iven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know how to draw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river program would be shor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lea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34320" y="4114800"/>
            <a:ext cx="2019240" cy="267660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538F-0EF5-4962-9572-6D906950744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ents of objec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ent prog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program that uses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omb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lient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47840" y="3429000"/>
            <a:ext cx="4114800" cy="2078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Zombie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Zombi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334120" y="3314880"/>
            <a:ext cx="3581280" cy="1083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DrawingPanel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DrawingPane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4181400" y="3600360"/>
            <a:ext cx="1067040" cy="19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>
            <a:off x="4114800" y="4419720"/>
            <a:ext cx="3124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4114800" y="46483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1"/>
          <a:srcRect l="0" t="0" r="31432" b="0"/>
          <a:stretch/>
        </p:blipFill>
        <p:spPr>
          <a:xfrm>
            <a:off x="5172120" y="5295960"/>
            <a:ext cx="3657600" cy="1181160"/>
          </a:xfrm>
          <a:prstGeom prst="rect">
            <a:avLst/>
          </a:prstGeom>
          <a:ln w="0">
            <a:noFill/>
          </a:ln>
        </p:spPr>
      </p:pic>
      <p:sp>
        <p:nvSpPr>
          <p:cNvPr id="9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0A3D-929A-4016-BCC8-9CC28F709FE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7T17:11:32Z</dcterms:modified>
  <cp:revision>283</cp:revision>
  <dc:subject/>
  <dc:title>PowerPoint Presentation</dc:title>
</cp:coreProperties>
</file>