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2E68D-231F-4F61-90C6-9C483599E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5536A-7BD5-4308-9272-0C22F4775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C46-5FA5-4A6E-9EA6-9C068C7A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F28-EDB8-46F3-8785-9AF737EB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3E7-AC2D-4951-95D8-517105BE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BE6-028E-49FF-9AA8-94BB48E9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493-FDDA-4E47-A119-721FA345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9CA-1CC9-48A8-90E6-37C0C41B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6C4-ADFF-4702-BAF8-B8D74190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D9F-78AC-4DF5-9524-F3D5A3EE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AEB-DDD3-41B5-8512-B8B8A040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DD8-BDB0-41A2-836A-69848A3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0CF-CD87-4C15-AB9B-43E2D7A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8F0-338B-4BA5-B778-D64F03F9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0C6C-1D10-4500-8C3E-058134FF313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8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es and objects, part 2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 shadow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 illegal, except when one variable is a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of the class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 to the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 to the method's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D100-BE55-4327-8CC1-29485148DA5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xing shadow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fer to the data fiel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fer to the paramet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D760-76C3-4985-9456-EF7F8E0FC8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lling another construc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redundancy between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constructor (not a method) can call another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3200400" y="2819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3619440" y="2819520"/>
            <a:ext cx="1486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A011-5671-4DA0-BE7D-4138DBD5A0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ing implementation details from cl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forc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56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58" name="Picture 7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6547-9F2A-42A6-8B96-4E4B91687DC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914400" y="3605040"/>
            <a:ext cx="11430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14400" y="3276720"/>
            <a:ext cx="11430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ivate fiel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ode won't compile if it accesses private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B160-0ECD-4E93-AEAF-3CD262E3538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ing private stat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code will look more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6DFA-513A-428A-96AE-5D76B5BC37D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int class, version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A0C5-49BC-4846-AB0B-241882341E3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nefits of 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n't fraudulently increas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d be rewritten in pol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 the same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ith non-negative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ith a month from 1-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598F-1CA5-4ACE-B105-A12BEC5F18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32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lient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is not part of the Point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p1 = new Point(5, 10); // x,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1.x = 1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1.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utput due to syntax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utput due to runtim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3980-3B04-456B-8E66-C1535227673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9072-234B-4E34-8C69-24761EEFFF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keywor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keywo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Refers to the implicit parameter inside you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 variable that stores the object on which a method is cal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o a fiel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 meth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o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ll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98CB-4F90-4E41-9107-5957E435FE0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7T17:14:59Z</dcterms:modified>
  <cp:revision>256</cp:revision>
  <dc:subject/>
  <dc:title>PowerPoint Presentation</dc:title>
</cp:coreProperties>
</file>