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F916C3-6CE9-496A-A755-FA32C92154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4957E1-3AA0-4802-A5D7-5ECD88DEBB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C248-EF9E-4479-BC0E-D358E7B0F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098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BB69-F148-47C7-A506-88FAB5E48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D7CF-A3AA-40BA-B9F3-99F87A5A6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8680-0C6A-47B2-9C28-12114B7B7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3739-150C-4EDB-AC07-40C89DC79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F9D2-FA21-4A7A-B4A6-03610719D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7B91-1906-4F29-A3C9-F4EDC287C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6D6A-55A4-484F-A79D-9606AB28A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FD75-3A32-4A93-BF04-D50C388A3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7057-A7DF-4A79-8C20-366676B05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CE37-EAED-40D4-A49E-98C632D8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F964-1FCF-4E5B-984B-7DCC0BB6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6248520"/>
            <a:ext cx="2210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2FABA-A8F2-4F45-A392-35BE4D7453F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buildingjavaprograms.co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opic 28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classes and objects, part 2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79200" y="6135840"/>
            <a:ext cx="479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Copyright Pearson Education, 2010_x000b_Based on slides bu Marty Stepp and Stuart Reges _x000b_from http://www.buildingjavaprograms.c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98280" y="-1211400"/>
            <a:ext cx="17528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8"/>
          <p:cNvSpPr/>
          <p:nvPr/>
        </p:nvSpPr>
        <p:spPr>
          <a:xfrm>
            <a:off x="19044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0"/>
          <p:cNvSpPr/>
          <p:nvPr/>
        </p:nvSpPr>
        <p:spPr>
          <a:xfrm>
            <a:off x="343080" y="-60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ariable shadowing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dow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2 variables with same name in same sco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ly illegal, except when one variable is a fie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this is leg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Location(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most of the class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fer to the fiel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Loc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fer to the method's parame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793A7-1E6D-499B-A838-2B2676BBC08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ixing shadowing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655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5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5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592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655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592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655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etLocation(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5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this.x = 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5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this.y = 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5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5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5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id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etLoc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5920" indent="-221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refer to the data fiel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5920" indent="-221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refer to the paramete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4B3C1-6419-4AB7-94DF-981543104873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alling another constructor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056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x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Point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(0, 0);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alls (x, y) constr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Point(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.x = x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.y = 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oids redundancy between constru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a constructor (not a method) can call another co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4"/>
          <p:cNvSpPr/>
          <p:nvPr/>
        </p:nvSpPr>
        <p:spPr>
          <a:xfrm>
            <a:off x="3200400" y="2819520"/>
            <a:ext cx="8380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5"/>
          <p:cNvSpPr/>
          <p:nvPr/>
        </p:nvSpPr>
        <p:spPr>
          <a:xfrm>
            <a:off x="3619440" y="2819520"/>
            <a:ext cx="14860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ED06D-AABC-4383-81C5-F256E27B36E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ncapsula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capsul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ding implementation details from cli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apsulation forc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bstra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arates external view (behavior) from internal view (st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cts the integrity of an object's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4"/>
          <p:cNvGrpSpPr/>
          <p:nvPr/>
        </p:nvGrpSpPr>
        <p:grpSpPr>
          <a:xfrm>
            <a:off x="3619440" y="4081320"/>
            <a:ext cx="4991040" cy="2090520"/>
            <a:chOff x="3619440" y="4081320"/>
            <a:chExt cx="4991040" cy="2090520"/>
          </a:xfrm>
        </p:grpSpPr>
        <p:pic>
          <p:nvPicPr>
            <p:cNvPr id="56" name="Picture 5" descr="boardb440"/>
            <p:cNvPicPr/>
            <p:nvPr/>
          </p:nvPicPr>
          <p:blipFill>
            <a:blip r:embed="rId1"/>
            <a:stretch/>
          </p:blipFill>
          <p:spPr>
            <a:xfrm>
              <a:off x="3619440" y="4081320"/>
              <a:ext cx="2666880" cy="209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6" descr="r-4c_r-4b_improve-4"/>
            <p:cNvPicPr/>
            <p:nvPr/>
          </p:nvPicPr>
          <p:blipFill>
            <a:blip r:embed="rId2"/>
            <a:stretch/>
          </p:blipFill>
          <p:spPr>
            <a:xfrm>
              <a:off x="6134040" y="4090680"/>
              <a:ext cx="2476440" cy="2081160"/>
            </a:xfrm>
            <a:prstGeom prst="rect">
              <a:avLst/>
            </a:prstGeom>
            <a:ln w="9360">
              <a:solidFill>
                <a:srgbClr val="a50021"/>
              </a:solidFill>
              <a:miter/>
            </a:ln>
          </p:spPr>
        </p:pic>
      </p:grpSp>
      <p:pic>
        <p:nvPicPr>
          <p:cNvPr id="58" name="Picture 7" descr="video-ipod"/>
          <p:cNvPicPr/>
          <p:nvPr/>
        </p:nvPicPr>
        <p:blipFill>
          <a:blip r:embed="rId3"/>
          <a:srcRect l="5751" t="5926" r="10795" b="3210"/>
          <a:stretch/>
        </p:blipFill>
        <p:spPr>
          <a:xfrm>
            <a:off x="711360" y="3809880"/>
            <a:ext cx="1536480" cy="2438640"/>
          </a:xfrm>
          <a:prstGeom prst="rect">
            <a:avLst/>
          </a:prstGeom>
          <a:ln w="0">
            <a:noFill/>
          </a:ln>
        </p:spPr>
      </p:pic>
      <p:sp>
        <p:nvSpPr>
          <p:cNvPr id="59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1CE76-7B14-4F31-8AFB-573A952FC0A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4"/>
          <p:cNvSpPr/>
          <p:nvPr/>
        </p:nvSpPr>
        <p:spPr>
          <a:xfrm>
            <a:off x="914400" y="3605040"/>
            <a:ext cx="114300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914400" y="3276720"/>
            <a:ext cx="114300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ivate field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 field that cannot be accessed from outside the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privat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i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String nam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ent code won't compile if it accesses private fiel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Courier New"/>
              </a:rPr>
              <a:t>PointMain.java:11: x has private access in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Courier New"/>
              </a:rPr>
              <a:t>System.out.println(p1.x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Courier New"/>
              </a:rPr>
              <a:t>                      </a:t>
            </a:r>
            <a:r>
              <a:rPr b="1" lang="en-US" sz="1600" spc="-1" strike="noStrike">
                <a:solidFill>
                  <a:srgbClr val="800000"/>
                </a:solidFill>
                <a:latin typeface="Courier New"/>
              </a:rPr>
              <a:t>^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2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4B0CE-32D2-4BCA-B568-0DC68D814FC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ccessing private stat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9067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A "read-only" access to the x field ("accessor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int getX(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Allows clients to change the x field ("mutator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etX(int newX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new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code will look more like th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p1.getX(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p1.setX(14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708CE-556B-4409-8643-DA545C6D3AA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oint class, version 4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A Point object represents an (x, y) loc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vate int x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vate int 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Point(int initialX, int initialY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x = initialX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y = initial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blic int getX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x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blic int getY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double distanceFromOrigin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Math.sqrt(x * x + y * y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void setLocation(int newX, int newY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x = newX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y = new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void translate(int dx, int dy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Location(x + dx, y + dy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2D57C-F1B0-4701-BF21-D2E25C57AFE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Benefits of encapsula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straction between object and cl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ts object from unwanted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Can't fraudulently increase 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ccou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's bal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change the class implementation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uld be rewritten in pola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s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with the same metho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constrain objects' state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aria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Only allow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ccou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with non-negative bal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Only allow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with a month from 1-1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rcRect l="45338" t="0" r="0" b="50554"/>
          <a:stretch/>
        </p:blipFill>
        <p:spPr>
          <a:xfrm>
            <a:off x="7315200" y="3414600"/>
            <a:ext cx="1447920" cy="1309680"/>
          </a:xfrm>
          <a:prstGeom prst="rect">
            <a:avLst/>
          </a:prstGeom>
          <a:ln w="0">
            <a:noFill/>
          </a:ln>
        </p:spPr>
      </p:pic>
      <p:sp>
        <p:nvSpPr>
          <p:cNvPr id="74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24138-C6D9-4239-B840-71904245919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er 1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76320" y="1143000"/>
            <a:ext cx="9067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output by the following client co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is not part of the Point cl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oint p1 = new Point(5, 10); // x,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1.x = 1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p1.x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output due to syntax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output due to runtime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0FCDF-8C1F-42B3-860A-7B3A376A7E3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17"/>
          <p:cNvSpPr/>
          <p:nvPr/>
        </p:nvSpPr>
        <p:spPr>
          <a:xfrm>
            <a:off x="670572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D0A37-2CB8-4672-8DA6-9873EDAE37CE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e keyword </a:t>
            </a: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thi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3938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ading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e </a:t>
            </a: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this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keywor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Refers to the implicit parameter inside your cl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a variable that stores the object on which a method is call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 to a fiel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a metho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ho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meter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constru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meter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call an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A0D40-2045-4991-A42E-84286BC2B3F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9T19:12:00Z</dcterms:created>
  <dc:creator>Mike Scott</dc:creator>
  <dc:description/>
  <dc:language>en-US</dc:language>
  <cp:lastModifiedBy>scottm</cp:lastModifiedBy>
  <dcterms:modified xsi:type="dcterms:W3CDTF">2020-09-27T17:14:59Z</dcterms:modified>
  <cp:revision>256</cp:revision>
  <dc:subject/>
  <dc:title>PowerPoint Presentation</dc:title>
</cp:coreProperties>
</file>