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0F367-A226-40B3-8C3C-6099EE5D8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E4550-2ADC-42BA-9F52-85D265EB5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CA6-CE91-4FAB-A32F-FE8CDE93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424-E392-4B4D-9375-828A9559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AF6-3B84-4E3D-8EF2-3FFF3FB6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A5F-8805-4DFF-B4C5-F6BCB4D0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915-9FE6-45E7-828D-5A510332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C37-1D85-496D-91CF-303BD9B5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EFA-8831-4D00-8175-1700D114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B4F-6BC2-474E-A800-384EA023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178-4660-4F94-85B0-6F9D920E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E7F-641F-47FB-874C-547FD85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404-7329-46D4-A3E3-EB09601C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AB5-C68C-4A62-9F70-C4B96D5E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0546-5143-4141-B4FD-DDC21DDE19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9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es and objects, part 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9044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43080" y="-60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, from Europe, we get things such as ... object-oriented analysis and design (a clever way of breaking up software programming instructions and data into small, reusable objects, based on certain abstraction principles and design hierarchies.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Michael A. Cusumano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usines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7545240" y="4572000"/>
            <a:ext cx="159876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04A0-9A4B-4514-9860-71C9E00FA67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 shadow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 illegal, except when one variable is a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of the class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 to the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 to the method's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1EFB-5E09-4402-9121-7BC4A01FAD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xing shadow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fer to the data fiel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fer to the paramet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ED07-158B-41F0-BC8E-C663BC88F8C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lling another construc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redundancy between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constructor (not a method) can call another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3200400" y="2819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3619440" y="2819520"/>
            <a:ext cx="1486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1D36-D32A-4BCF-B50D-5AF032E96B9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28600" y="759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cp(Point p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translate(2, 3); // add to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new City(4, 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lient code of 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c1 = new Point(1, 2); //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p(c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(3, 5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(1, 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(4, 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(6, 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error (syntax error or runtime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9DAA-D811-4759-8451-849018DB935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ing implementation details from cli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forc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61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63" name="Picture 7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8ADC-632A-4E5D-AC83-02855EB2978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914400" y="3605040"/>
            <a:ext cx="11430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914400" y="3276720"/>
            <a:ext cx="11430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ivate fiel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ode won't compile if it accesses private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7D82-81A5-4D0F-A1A6-5E013B1731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ing private stat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code will look more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08AC-5BE0-46E8-AAB6-0675D24BA3A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int class, version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4E57-6B77-42BD-A87B-5D1214838D0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nefits of 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n't fraudulently increas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d be rewritten in pol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 the same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ith non-negative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ith a month from 1-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7D53-0B6F-4BB1-934D-DAC021EFE5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ADEB-40DF-4F6E-AD3E-3303E7FE5EF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keywor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keywo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Refers to the implicit parameter inside you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 variable that stores the object on which a method is cal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o a fiel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 meth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on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ll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923E-E223-48A4-B255-FC8B195FF94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7T17:31:37Z</dcterms:modified>
  <cp:revision>274</cp:revision>
  <dc:subject/>
  <dc:title>PowerPoint Presentation</dc:title>
</cp:coreProperties>
</file>