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A08B8-6E37-4361-8E2F-AE6E6C2F6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4F934-413F-449D-BE8B-175F94A70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C75-2A8C-4F2A-BF26-341513AD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392-DA12-4A00-9B5D-0688B22E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469-3811-48A6-B9E1-9968BD49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136-BE89-49FA-8228-4995CF46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8EC-534A-4343-BA8B-33D55DE2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4F7-04C2-4500-AC55-6F6A740C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78A-22B1-4FBE-9C39-3708D4C3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E31-8F7C-48BA-9F28-68FF06F0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87C-8600-4BD5-9F12-ABED801D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169-8FA3-4654-BBD2-9EDB4783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C95-23AC-486D-80E0-54B55189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719-2E93-4C32-B14A-71F456E7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68DC-BEF9-41B1-86C1-EA10978DC3F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9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es and objects, part 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9044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43080" y="-60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o, from Europe, we get things such as ... object-oriented analysis and design (a clever way of breaking up software programming instructions and data into small, reusable objects, based on certain abstraction principles and design hierarchies.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Michael A. Cusumano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Business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7545240" y="4572000"/>
            <a:ext cx="159876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74A1-3E94-47F1-9FAB-C3B9694CD68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riable shadow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 illegal, except when one variable is a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of the class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 to the fie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 to the method's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1C37-CF40-4ACA-8F22-37AED8D8DC4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xing shadow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fer to the data fiel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fer to the paramet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E717-50DB-4FCB-8400-E805CED0394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lling another construct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redundancy between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constructor (not a method) can call another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3200400" y="2819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3619440" y="2819520"/>
            <a:ext cx="1486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867C-2EFD-43D9-BDBD-40B4268709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28600" y="759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cp(Point p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translate(2, 3); // add to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new City(4, 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lient code of 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c1 = new Point(1, 2); //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p(c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(3, 5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(1, 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(4, 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(6, 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error (syntax error or runtime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F230-9020-4E97-A93F-B1DED35C7B3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aps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ps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ing implementation details from cli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forc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61" name="Picture 5" descr="boardb440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6" descr="r-4c_r-4b_improve-4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63" name="Picture 7" descr="video-ipod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64B3-B210-4597-887A-077D0A44F46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914400" y="3605040"/>
            <a:ext cx="11430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914400" y="3276720"/>
            <a:ext cx="11430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ivate fiel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ode won't compile if it accesses private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05D0-B2E9-433A-9C4D-A52A22A81EE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ing private stat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code will look more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3105-D3AB-4306-9CBC-64BCC223865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int class, version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B4E0-3E12-47CA-BF07-53B3C6FD65E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nefits of encaps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n't fraudulently increas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s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d be rewritten in pol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 the same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Only all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ith non-negative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Only all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ith a month from 1-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5BC0-FF41-4819-B703-2A0995BF72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55B3-097A-46E9-BD22-886606C6576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keywor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keywo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Refers to the implicit parameter inside you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 variable that stores the object on which a method is cal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o a fiel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 meth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onstr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ll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0225-4DAF-4C99-BC34-72F4AF30E5F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7T17:31:37Z</dcterms:modified>
  <cp:revision>274</cp:revision>
  <dc:subject/>
  <dc:title>PowerPoint Presentation</dc:title>
</cp:coreProperties>
</file>