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7C543-0C0B-4780-8253-785A16082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99E89-CB15-48B4-A4EE-7FB5810E4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A6A276D-1B46-4D18-B0F2-7EAA5B5078E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1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1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455DB29-E5DC-44DD-9023-AE228CFC954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1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DE8D4-A149-43A9-911A-23AD41369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F5C-D472-450E-B62C-0EEC6561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155-8A97-4D48-954E-66C7E100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629-6E98-47FB-B7CF-873F7E50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A9D-176E-4062-AB1F-BE46CACA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FE9-7CD7-4EAA-8B63-DADF0C71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39A-45A4-418D-A297-AC71AECB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C3C-BFF2-4756-839A-9A15EA32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43E-261B-45B5-8DCB-05985FBC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B31-7E06-4850-BF33-29D823A9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4F0-A7C0-476F-AED9-46AE0375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693-164B-4E21-AF47-F467AD26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589-884D-41D9-83CC-3C125277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1471-282C-4676-9371-BCB10AF5F20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 Java Basic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2760" y="685800"/>
            <a:ext cx="933372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o excel in Java, or any computer language, you want to build sk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the "large" and "small". By "large" I mean the sweep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issues of algorithms, data structures, ... what we th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asically as a degree in Computer Science. You also need sk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"small" -- 10 or 20 line methods built of loops, logic, strin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etc. to solve each piece of the larger problem. Work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my office hours, I see what an advantage it i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are practiced and quick with their method co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with the method code allows you to concentrate on the lar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of the problem. Or put another way, someone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ggles with the loops, logic, etc. does not have time 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issues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ick Parl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ford University, Goog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1"/>
          <a:stretch/>
        </p:blipFill>
        <p:spPr>
          <a:xfrm>
            <a:off x="5181480" y="4818240"/>
            <a:ext cx="25909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ousands of high level computer languages. Java, C++, C, Basic, Fortran, Cobol, Lisp, Perl, Prolog, Eiffel,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abilities of the languages vary widely, but they all need a wa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or repetitive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iler is a program that converts commands in high level languages to machine languag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5133-B901-475E-BD07-1AA06CF912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Simple Java Progra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4240" y="1371600"/>
            <a:ext cx="889776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would be in a text file named Hello.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 of writing and running a program via notepad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mmand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1295280"/>
            <a:ext cx="8991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20" y="1295280"/>
            <a:ext cx="899136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2BA5-82BC-48BC-822F-DD4DABB455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unning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a program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ource co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he set of instructions in a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ranslate a program from one languag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he Java compiler converts your code into a format nam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at runs on many comput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he messages printed to the user by a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2"/>
          <p:cNvGrpSpPr/>
          <p:nvPr/>
        </p:nvGrpSpPr>
        <p:grpSpPr>
          <a:xfrm>
            <a:off x="458640" y="4954680"/>
            <a:ext cx="1646280" cy="1646280"/>
            <a:chOff x="458640" y="4954680"/>
            <a:chExt cx="1646280" cy="1646280"/>
          </a:xfrm>
        </p:grpSpPr>
        <p:sp>
          <p:nvSpPr>
            <p:cNvPr id="91" name="Rectangle 13"/>
            <p:cNvSpPr/>
            <p:nvPr/>
          </p:nvSpPr>
          <p:spPr>
            <a:xfrm>
              <a:off x="458640" y="495468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482760" y="500220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48784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9"/>
          <p:cNvGrpSpPr/>
          <p:nvPr/>
        </p:nvGrpSpPr>
        <p:grpSpPr>
          <a:xfrm>
            <a:off x="2104560" y="4954680"/>
            <a:ext cx="3151800" cy="1646280"/>
            <a:chOff x="2104560" y="4954680"/>
            <a:chExt cx="3151800" cy="1646280"/>
          </a:xfrm>
        </p:grpSpPr>
        <p:pic>
          <p:nvPicPr>
            <p:cNvPr id="95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87736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2318040" y="534384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6"/>
            <p:cNvGrpSpPr/>
            <p:nvPr/>
          </p:nvGrpSpPr>
          <p:grpSpPr>
            <a:xfrm>
              <a:off x="3610080" y="4954680"/>
              <a:ext cx="1646280" cy="1646280"/>
              <a:chOff x="3610080" y="4954680"/>
              <a:chExt cx="1646280" cy="1646280"/>
            </a:xfrm>
          </p:grpSpPr>
          <p:pic>
            <p:nvPicPr>
              <p:cNvPr id="98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49432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Rectangle 18"/>
              <p:cNvSpPr/>
              <p:nvPr/>
            </p:nvSpPr>
            <p:spPr>
              <a:xfrm>
                <a:off x="3610080" y="495468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19"/>
              <p:cNvSpPr/>
              <p:nvPr/>
            </p:nvSpPr>
            <p:spPr>
              <a:xfrm>
                <a:off x="3787920" y="500220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1" name="Straight Arrow Connector 37"/>
            <p:cNvCxnSpPr/>
            <p:nvPr/>
          </p:nvCxnSpPr>
          <p:spPr>
            <a:xfrm>
              <a:off x="2104560" y="5776920"/>
              <a:ext cx="1505880" cy="3960"/>
            </a:xfrm>
            <a:prstGeom prst="straightConnector1">
              <a:avLst/>
            </a:prstGeom>
            <a:ln w="9360">
              <a:solidFill>
                <a:srgbClr val="00cc98"/>
              </a:solidFill>
              <a:miter/>
              <a:tailEnd len="med" type="arrow" w="med"/>
            </a:ln>
          </p:spPr>
        </p:cxnSp>
      </p:grpSp>
      <p:grpSp>
        <p:nvGrpSpPr>
          <p:cNvPr id="102" name="Group 17"/>
          <p:cNvGrpSpPr/>
          <p:nvPr/>
        </p:nvGrpSpPr>
        <p:grpSpPr>
          <a:xfrm>
            <a:off x="5257800" y="4946760"/>
            <a:ext cx="3886200" cy="1234440"/>
            <a:chOff x="5257800" y="4946760"/>
            <a:chExt cx="3886200" cy="1234440"/>
          </a:xfrm>
        </p:grpSpPr>
        <p:pic>
          <p:nvPicPr>
            <p:cNvPr id="103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877000"/>
              <a:ext cx="257040" cy="2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9"/>
            <p:cNvSpPr/>
            <p:nvPr/>
          </p:nvSpPr>
          <p:spPr>
            <a:xfrm>
              <a:off x="5682240" y="534348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7452000" y="494676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343480"/>
              <a:ext cx="2409840" cy="837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7" name="Straight Arrow Connector 39"/>
            <p:cNvCxnSpPr/>
            <p:nvPr/>
          </p:nvCxnSpPr>
          <p:spPr>
            <a:xfrm>
              <a:off x="5257800" y="5776920"/>
              <a:ext cx="1505520" cy="3600"/>
            </a:xfrm>
            <a:prstGeom prst="straightConnector1">
              <a:avLst/>
            </a:prstGeom>
            <a:ln w="9360">
              <a:solidFill>
                <a:srgbClr val="00cc98"/>
              </a:solidFill>
              <a:miter/>
              <a:tailEnd len="med" type="arrow" w="med"/>
            </a:ln>
          </p:spPr>
        </p:cxnSp>
      </p:grpSp>
      <p:sp>
        <p:nvSpPr>
          <p:cNvPr id="108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676F-608B-41F7-979C-31FBBCBA6C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gger Java program!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E350-58EF-43CC-9007-7B50DBCD14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3962520" cy="23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ucture of a Java progra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executable Java program consists of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contain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ame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4"/>
          <p:cNvGrpSpPr/>
          <p:nvPr/>
        </p:nvGrpSpPr>
        <p:grpSpPr>
          <a:xfrm>
            <a:off x="2995560" y="914400"/>
            <a:ext cx="3529800" cy="398880"/>
            <a:chOff x="2995560" y="914400"/>
            <a:chExt cx="3529800" cy="398880"/>
          </a:xfrm>
        </p:grpSpPr>
        <p:sp>
          <p:nvSpPr>
            <p:cNvPr id="116" name="Text Box 6"/>
            <p:cNvSpPr/>
            <p:nvPr/>
          </p:nvSpPr>
          <p:spPr>
            <a:xfrm>
              <a:off x="3761640" y="91440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 flipH="1">
              <a:off x="2995560" y="101592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"/>
          <p:cNvGrpSpPr/>
          <p:nvPr/>
        </p:nvGrpSpPr>
        <p:grpSpPr>
          <a:xfrm>
            <a:off x="2438280" y="3200400"/>
            <a:ext cx="6157080" cy="982800"/>
            <a:chOff x="2438280" y="3200400"/>
            <a:chExt cx="6157080" cy="982800"/>
          </a:xfrm>
        </p:grpSpPr>
        <p:sp>
          <p:nvSpPr>
            <p:cNvPr id="119" name="Text Box 9"/>
            <p:cNvSpPr/>
            <p:nvPr/>
          </p:nvSpPr>
          <p:spPr>
            <a:xfrm>
              <a:off x="3135960" y="378432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 flipV="1">
              <a:off x="2438280" y="3200400"/>
              <a:ext cx="76176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1"/>
          <p:cNvGrpSpPr/>
          <p:nvPr/>
        </p:nvGrpSpPr>
        <p:grpSpPr>
          <a:xfrm>
            <a:off x="3468600" y="1828800"/>
            <a:ext cx="5783040" cy="1364040"/>
            <a:chOff x="3468600" y="1828800"/>
            <a:chExt cx="5783040" cy="1364040"/>
          </a:xfrm>
        </p:grpSpPr>
        <p:sp>
          <p:nvSpPr>
            <p:cNvPr id="122" name="Text Box 12"/>
            <p:cNvSpPr/>
            <p:nvPr/>
          </p:nvSpPr>
          <p:spPr>
            <a:xfrm>
              <a:off x="3468600" y="24890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 flipH="1" flipV="1">
              <a:off x="4114440" y="1828800"/>
              <a:ext cx="53316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6EBE-FBA7-4DD2-8BBC-6F0298A568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tatement that prints a line of output on the cons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nounced "print-lin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 to us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&lt;text&gt;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ts the given message as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ts a blank line of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0FC-7010-4E50-9646-EE9C40582D8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The set of legal structures and commands that can be used in a particular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basic Java statement ends with a semicolon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s of a class or method occur betwee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ntax err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iler err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: A problem in the structure of a program that causes the compiler to f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sing semi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 many or too few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races, braces not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nd file names do not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6C4-D6AF-44E7-A278-438E7C0E87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ntax error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r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6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6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iler shows the line number where it found the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rror messages sometimes can be tough to under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can’t the computer just say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misspelled ‘public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9DF3-9B59-4F9D-AF23-7181C023BCB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 Important Real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are stup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can’t read m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ldo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mputer is not doing what we want, it’s beca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de a mis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1709-9857-49EB-A34B-42495ABBB36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on syntax err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is case-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ot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Public class Hell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    System.out.println("Hello, world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143000" y="4572000"/>
            <a:ext cx="7772040" cy="1740600"/>
            <a:chOff x="1143000" y="4572000"/>
            <a:chExt cx="7772040" cy="1740600"/>
          </a:xfrm>
        </p:grpSpPr>
        <p:sp>
          <p:nvSpPr>
            <p:cNvPr id="140" name="Text Box 5"/>
            <p:cNvSpPr/>
            <p:nvPr/>
          </p:nvSpPr>
          <p:spPr>
            <a:xfrm>
              <a:off x="1143000" y="4998960"/>
              <a:ext cx="777204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ello.java:1: class, interface, or enum expect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class Hello {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^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6773400" y="4572000"/>
              <a:ext cx="21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r outpu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A85-15AC-4FF1-8813-8F66B02487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We Will Do Toda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computer langu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editor and comman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gramm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th printl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s, keywords, 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C56B-0C15-40F5-B640-B88E158716B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ust give your program a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800" spc="-1" strike="noStrike">
                <a:solidFill>
                  <a:srgbClr val="003399"/>
                </a:solidFill>
                <a:latin typeface="Courier New"/>
              </a:rPr>
              <a:t>SubstitutionCipherDecoder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ing convention: capitalize each word (e.g.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ram's file must match exactly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bstitutionCipherDecoder.jav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des capitalization (remember, Java is "case-sensitive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C0ED-1D27-4ADD-ACA8-2D4189529A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dentifi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name given to an item in your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start with a letter, underscore, or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equent characters can be any of those or  digits 0 through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legal: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_myName   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TheCure   </a:t>
            </a:r>
            <a:br>
              <a:rPr sz="2400"/>
            </a:b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ANSWER_IS_42   $bling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llegal: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800000"/>
                </a:solidFill>
                <a:latin typeface="Courier New"/>
              </a:rPr>
              <a:t>me+u      49ers     side-swipe    </a:t>
            </a:r>
            <a:br>
              <a:rPr sz="2400"/>
            </a:br>
            <a:r>
              <a:rPr b="0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800000"/>
                </a:solidFill>
                <a:latin typeface="Courier New"/>
              </a:rPr>
              <a:t>Ph.D'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3E66-E2C1-44B2-9470-C91F7E74058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Keywor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n identifier that you cannot use because it already has a reserved (special) meaning in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 Java is case-sensitive, you could technically us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identifiers, but this is very confusing and thu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ongly dis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492A-A6B9-4C80-8E08-6ADC0BC42F0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 syntactically correct Java identifier for the na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 progr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My_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of A - D is not a syntactically correct Java identif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6E10-A7D7-4722-AAE3-928AA16E6E1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String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sequence of text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s and ends with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quotation mark charac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2400"/>
            </a:br>
            <a:br>
              <a:rPr sz="7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ri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not span multiple lines.</a:t>
            </a:r>
            <a:br>
              <a:rPr sz="2400"/>
            </a:br>
            <a:br>
              <a:rPr sz="6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not contain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haracter.</a:t>
            </a:r>
            <a:br>
              <a:rPr sz="2400"/>
            </a:br>
            <a:br>
              <a:rPr sz="600"/>
            </a:br>
            <a:r>
              <a:rPr b="0" lang="en-GB" sz="1600" spc="-1" strike="noStrike">
                <a:solidFill>
                  <a:srgbClr val="8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This is not a "legal" String either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0000"/>
              </a:lnSpc>
              <a:spcBef>
                <a:spcPts val="601"/>
              </a:spcBef>
              <a:buClr>
                <a:srgbClr val="8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This begs the ques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9DF9-C557-4DA6-A80E-30BDDBC54FE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scape sequenc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cape seque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special sequence of characters used to represent certain special characters in a string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line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otation mark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slash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B193-9F0A-4F2B-B8F6-5C2A46E148A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visible characters does the following println statement produce when run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ystem.out.println("\t\nn\\\t\"\tt")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343-E878-425D-950B-736EA94946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2520"/>
            <a:ext cx="7775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ractice Program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6800" y="762120"/>
            <a:ext cx="89931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sequence of println statements will generate the following output?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is program prints the firs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f the song "slot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She lives in a traile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On the outskirts 'a Ren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She plays quarter slots in the local's casino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1B9A-EF88-4977-A30B-198DE4E9D50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 Program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sequence of println statements will generate the following output?</a:t>
            </a:r>
            <a:br>
              <a:rPr sz="3600"/>
            </a:b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on't forget to use \" instead of " !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E1F8-CD7D-429D-8954-6A4BF7FD29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 Program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the output of the following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89FE-AACD-46DB-96B4-0794BB5D9359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6C6-9860-4224-AAC1-4EF6D24A50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mputers and Computer Languag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ar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omputers do you 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are useful because they ru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s simply a set of instructions to complete so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programs do you use in a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FDB2-91E4-46DB-8EA8-4167A1462B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swer to Practice Program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98560" y="1665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93640" y="1665360"/>
            <a:ext cx="7255080" cy="52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put of each println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      b      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"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ownward sp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B29-E1B4-43ED-84C0-6D95CC248D6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 Program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tatement to produce this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5505-2757-4887-AB59-0AD14C16477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swer to Practice Program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00680" y="1360440"/>
            <a:ext cx="85932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tln statement to produce the line of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69CC-C2A5-4E9B-BFDB-505F2F4F4F7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set of instructions that are to be carried out by a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am execu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The act of carrying out the instructions  contained in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done by feeding the instructions to the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amming langua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systematic set of rules used to describe computations, generally in a format that is readable and editable by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class we us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7A6-8567-44A8-B201-6C736636208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gh Level Languag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are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® Core™ i7-8086K Processor on the order of 2 billion transis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switch that is on or o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tens of billions of operation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are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only carry out a very limited set of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order of 100 or so depending on the computer's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language instructions, aka instruction set architecture (I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Branch, Jump, Get Data, Get Instruction, Store, (CS4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022800" y="3200400"/>
            <a:ext cx="2971800" cy="357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6781680" y="914400"/>
            <a:ext cx="162900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7438-2FAF-4282-A446-609AE2F451A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chine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15228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von Neumann - co-author of paper in 1946 with Arthur W. Burks and Hermann H. Goldsti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reliminary Discussion of the Logical Design of an Electronic Computing Instrument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commands and data stored as sequences of bits in the computer'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0001100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010110111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1010000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100000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101101100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10010011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1010000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11100000001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DAB-6665-4B3E-BECF-49E5F15FC6B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rcRect l="20981" t="2177" r="10148" b="32073"/>
          <a:stretch/>
        </p:blipFill>
        <p:spPr>
          <a:xfrm>
            <a:off x="6172200" y="3200400"/>
            <a:ext cx="28195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y Wha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with Strings of bits (1s or 0s) is not the easiest thing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emonics for machine language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R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3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, x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, R3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4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300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, R3, 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, R1, #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4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nz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3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A016-F0D9-4DB3-8BE5-1991B0F954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gh Level Languag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y language, still not so easy, and lots of commands to accomplish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Computer Languages provide the ability to accomplish a lot with fewer commands than machine or assembly language in a way that is hopefully easier to understan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(list[count] != -1) {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m += list[count]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35C4-5AA1-47DC-B134-BFE81ACE12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Numbers - Base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10, 10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127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 * 1000 + 1 * 100 + 2 * 10 + 7 *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127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7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2, 2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10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* 32 + 1 * 16 + 0 * 8 + 1 * 4 + 0 * 2 + 1 *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 *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*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*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*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8CCC-7D70-41F4-B467-C3ECA74480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732200" y="4890960"/>
            <a:ext cx="2210040" cy="19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7086600" y="4921200"/>
            <a:ext cx="1981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9:04:55Z</dcterms:modified>
  <cp:revision>143</cp:revision>
  <dc:subject/>
  <dc:title>PowerPoint Presentation</dc:title>
</cp:coreProperties>
</file>