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0EE27-E2B0-4686-8064-C72E86A8B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002A-1F33-4FDD-B1F4-645025111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2DC5C97-DB82-45C2-86EB-80A2D39E455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54CFA5C-C147-40FA-93D3-AFDBBACBF5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2C54D-F3FF-4D9A-BC7E-C78C48166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99F-3C76-40F5-8A6F-E2405D4B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4D6-AAD5-4460-9D12-281A622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C20-F5DE-4969-B186-DB46E4B3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01B-2D6B-4AFF-8D2A-1E75F22C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E22-1B8B-4972-8AA7-379DDE41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142-16EC-4F4D-B2E4-F178225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028-86BD-4B85-B038-7A3ED5C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0B8-B379-4D0E-BD7B-7278BB7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8E9-CB25-455F-84E1-66D72AC4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CA2-DBF2-443C-9CE4-A9123CF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CA2-8BDF-4B80-B3AA-6E5BBAEE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6FE-A8A4-4549-85FC-F538107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4519-D172-41D0-B273-E3CCDF6CBA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 Java Basic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2760" y="685800"/>
            <a:ext cx="93337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o excel in Java, or any computer language, you want to build sk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the "large" and "small". By "large" I mean the sweep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issues of algorithms, data structures, ... what we 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asically as a degree in Computer Science. You also need sk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"small" -- 10 or 20 line methods built of loops, logic, stri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etc. to solve each piece of the larger problem. Work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my office hours, I see what an advantage it i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practiced and quick with their method c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with the method code allows you to concentrate on the lar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of the problem. Or put another way, someone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ggles with the loops, logic, etc. does not have time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issue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ick Parl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, Goog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5181480" y="4818240"/>
            <a:ext cx="2590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ousands of high level computer languages. Java, C++, C, Basic, Fortran, Cobol, Lisp, Perl, Prolog, Eiffel,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abilities of the languages vary widely, but they all need a wa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or repetitiv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iler is a program that converts commands in high level languages to machine languag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A8F4-95F0-442D-8020-991CEE8B99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imple Java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4240" y="1371600"/>
            <a:ext cx="889776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ould be in a text file named Hello.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 of writing and running a program via notepad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29528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20" y="1295280"/>
            <a:ext cx="89913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525F-D22D-4BE9-BBEB-C258D19605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nnin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 progra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91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95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98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9"/>
              <p:cNvSpPr/>
              <p:nvPr/>
            </p:nvSpPr>
            <p:spPr>
              <a:xfrm>
                <a:off x="3787920" y="500220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00cc98"/>
              </a:solidFill>
              <a:miter/>
              <a:tailEnd len="med" type="arrow" w="med"/>
            </a:ln>
          </p:spPr>
        </p:cxnSp>
      </p:grpSp>
      <p:grpSp>
        <p:nvGrpSpPr>
          <p:cNvPr id="102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03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9"/>
            <p:cNvSpPr/>
            <p:nvPr/>
          </p:nvSpPr>
          <p:spPr>
            <a:xfrm>
              <a:off x="568224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7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00cc98"/>
              </a:solidFill>
              <a:miter/>
              <a:tailEnd len="med" type="arrow" w="med"/>
            </a:ln>
          </p:spPr>
        </p:cxnSp>
      </p:grpSp>
      <p:sp>
        <p:nvSpPr>
          <p:cNvPr id="108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2E72-7846-4738-8BCA-E156C4A98A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gger Java program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3BC-5239-4FB7-BF90-1211173953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962520" cy="23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e of a Java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executable Java program consists of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ontain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4"/>
          <p:cNvGrpSpPr/>
          <p:nvPr/>
        </p:nvGrpSpPr>
        <p:grpSpPr>
          <a:xfrm>
            <a:off x="2995560" y="914400"/>
            <a:ext cx="3529800" cy="398880"/>
            <a:chOff x="2995560" y="914400"/>
            <a:chExt cx="3529800" cy="398880"/>
          </a:xfrm>
        </p:grpSpPr>
        <p:sp>
          <p:nvSpPr>
            <p:cNvPr id="116" name="Text Box 6"/>
            <p:cNvSpPr/>
            <p:nvPr/>
          </p:nvSpPr>
          <p:spPr>
            <a:xfrm>
              <a:off x="3761640" y="91440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2995560" y="101592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"/>
          <p:cNvGrpSpPr/>
          <p:nvPr/>
        </p:nvGrpSpPr>
        <p:grpSpPr>
          <a:xfrm>
            <a:off x="2438280" y="3200400"/>
            <a:ext cx="6157080" cy="982800"/>
            <a:chOff x="2438280" y="3200400"/>
            <a:chExt cx="6157080" cy="982800"/>
          </a:xfrm>
        </p:grpSpPr>
        <p:sp>
          <p:nvSpPr>
            <p:cNvPr id="119" name="Text Box 9"/>
            <p:cNvSpPr/>
            <p:nvPr/>
          </p:nvSpPr>
          <p:spPr>
            <a:xfrm>
              <a:off x="3135960" y="378432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 flipV="1">
              <a:off x="2438280" y="3200400"/>
              <a:ext cx="76176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1"/>
          <p:cNvGrpSpPr/>
          <p:nvPr/>
        </p:nvGrpSpPr>
        <p:grpSpPr>
          <a:xfrm>
            <a:off x="3468600" y="1828800"/>
            <a:ext cx="5783040" cy="1364040"/>
            <a:chOff x="3468600" y="1828800"/>
            <a:chExt cx="5783040" cy="1364040"/>
          </a:xfrm>
        </p:grpSpPr>
        <p:sp>
          <p:nvSpPr>
            <p:cNvPr id="122" name="Text Box 12"/>
            <p:cNvSpPr/>
            <p:nvPr/>
          </p:nvSpPr>
          <p:spPr>
            <a:xfrm>
              <a:off x="3468600" y="24890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 flipH="1" flipV="1">
              <a:off x="4114440" y="1828800"/>
              <a:ext cx="53316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FAD8-2081-429D-B6BB-F3E6E30D2A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atement that prints a line of output on the cons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nounced "print-lin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to us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&lt;text&gt;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s the given message as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s a blank line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6789-4A61-4D55-AF87-9894FB67FD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he set of legal structures and commands that can be used in a particular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basic Java statement ends with a semicolon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s of a class or method occur betwee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ntax err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iler err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: A problem in the structure of a program that causes the compiler to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sing semi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 many or too few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races, braces not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nd file names do no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289-9751-4946-896F-DF9D54218B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ax erro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r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6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6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shows the line number where it found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rror messages sometimes can be tough to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can’t the computer just say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misspelled ‘public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599-33DD-4A1E-858C-93E5E66B44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Important Re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stup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can’t read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d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puter is not doing what we want, it’s beca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de a mis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DD6B-6E7D-457E-AAEA-8F22CEE797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on syntax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s case-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o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Public class Hel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  System.out.println("Hello, world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143000" y="4572000"/>
            <a:ext cx="7772040" cy="1740600"/>
            <a:chOff x="1143000" y="4572000"/>
            <a:chExt cx="7772040" cy="1740600"/>
          </a:xfrm>
        </p:grpSpPr>
        <p:sp>
          <p:nvSpPr>
            <p:cNvPr id="140" name="Text Box 5"/>
            <p:cNvSpPr/>
            <p:nvPr/>
          </p:nvSpPr>
          <p:spPr>
            <a:xfrm>
              <a:off x="1143000" y="4998960"/>
              <a:ext cx="77720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ello.java:1: class, interface, or enum expect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class Hello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^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773400" y="4572000"/>
              <a:ext cx="21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r outpu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1D9E-F7CD-4713-AF71-FC47875770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computer langu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editor and comma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gramm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th printl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, keywords,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E0E-ED0D-47BF-9FCC-C048288480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ust give your program a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800" spc="-1" strike="noStrike">
                <a:solidFill>
                  <a:srgbClr val="003399"/>
                </a:solidFill>
                <a:latin typeface="Courier New"/>
              </a:rPr>
              <a:t>SubstitutionCipherDecoder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ing convention: capitalize each word (e.g.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ram's file must match exactly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bstitutionCipherDecoder.ja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s capitalization (remember, Java is "case-sensitiv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0FA-27DF-49B6-9E29-003C6509EAB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dentifi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name given to an item in you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start with a letter, underscore, or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equent characters can be any of those or  digits 0 through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legal: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_myName   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TheCure   </a:t>
            </a: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Courier New"/>
              </a:rPr>
              <a:t>ANSWER_IS_42   $bling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llegal: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me+u      49ers     side-swipe    </a:t>
            </a:r>
            <a:br>
              <a:rPr sz="2400"/>
            </a:b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800000"/>
                </a:solidFill>
                <a:latin typeface="Courier New"/>
              </a:rPr>
              <a:t>Ph.D'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F4D-A09C-4A20-9C58-401670A54D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n identifier that you cannot use because it already has a reserved (special) meaning in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 Java is case-sensitive, you could technically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identifiers, but this is very confusing and thu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ongly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473-3133-40E0-8BBF-D301DA135B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syntactically correct Java identifier for the n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My_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 is not a syntactically correct Java identif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AFD-A027-42A2-8351-EE51309562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String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s and ends with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quotation mark charac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ri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not span multiple lines.</a:t>
            </a:r>
            <a:br>
              <a:rPr sz="2400"/>
            </a:br>
            <a:br>
              <a:rPr sz="6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not contain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aracter.</a:t>
            </a:r>
            <a:br>
              <a:rPr sz="2400"/>
            </a:br>
            <a:br>
              <a:rPr sz="600"/>
            </a:br>
            <a:r>
              <a:rPr b="0" lang="en-GB" sz="1600" spc="-1" strike="noStrike">
                <a:solidFill>
                  <a:srgbClr val="8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This is not a "legal" String eith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8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This begs the ques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8FC1-E553-46A4-A446-5C5D6F79BD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cape seque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pecial sequence of characters used to represent certain special characters in a string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lin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otation mark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slash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FFC-A6DA-4A80-A20D-D74D65677F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visible characters does the following println statement produce when run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ln("\t\nn\\\t\"\tt"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17B-B6CA-4230-952A-3AA3099501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2520"/>
            <a:ext cx="7775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ractice Program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6800" y="762120"/>
            <a:ext cx="89931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sequence of println statements will generate the following output?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 program prints the firs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f the song "slot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She lives in a trail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On the outskirts 'a Ren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"She plays quarter slots in the local's casino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68A-8E86-4D6D-9402-1F6F92FF212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sequence of println statements will generate the following output?</a:t>
            </a:r>
            <a:br>
              <a:rPr sz="3600"/>
            </a:b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on't forget to use \" instead of " !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3BDE-16F6-454B-87FA-5059A7110C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the output of the follow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8B72-A3E3-4725-9927-AEC89BB43C50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42B-C160-43D3-B6B7-9A1B608354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puters and Computer Languag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omputers do you 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useful because they ru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simply a set of instructions to complete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rograms do you use in a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205F-6D01-4E1D-BF80-B51D5F429A2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swer to Practice Program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98560" y="1665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3640" y="1665360"/>
            <a:ext cx="7255080" cy="52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put of each println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   b   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ownward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F650-9E78-4E03-BC20-3FFD536CF2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Program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atement to produce this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935-A7FC-41A8-8D6E-9F0220B02D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swer to Practice Program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00680" y="1360440"/>
            <a:ext cx="85932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ln statement to produce the line of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777-B4C6-4413-AD75-D9BAB16BC8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et of instructions that are to be carried out by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The act of carrying out the instructions  contained in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one by feeding the instructions to the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systematic set of rules used to describe computations, generally in a format that is readable and editable by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class we us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996-DC8F-4973-8798-ED82F23E67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 Level Languag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ar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® Core™ i7-8086K Processor on the order of 2 billion transis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switch that is on or o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tens of billions of opera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ar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only carry out a very limited set of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rder of 100 or so depending on the computer's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anguage instructions, aka instruction set architecture (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Branch, Jump, Get Data, Get Instruction, Store, (CS4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022800" y="3200400"/>
            <a:ext cx="2971800" cy="357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781680" y="914400"/>
            <a:ext cx="162900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F005-F523-49F9-B3E2-9F0C22413C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chine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von Neumann - co-author of paper in 1946 with Arthur W. Burks and Hermann H. Goldsti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eliminary Discussion of the Logical Design of an Electronic Computing Instrumen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commands and data stored as sequences of bits in the computer'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0001100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10110111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10000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1000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01101100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0010011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10000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1110000000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E294-DEF8-4A1F-A9F4-DF1EE34754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rcRect l="20981" t="2177" r="10148" b="32073"/>
          <a:stretch/>
        </p:blipFill>
        <p:spPr>
          <a:xfrm>
            <a:off x="6172200" y="3200400"/>
            <a:ext cx="2819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y Wha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with Strings of bits (1s or 0s) is not the easiest th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s for machine languag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R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, x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, R3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, R3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, R1, #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4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nz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3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DFA-C0CA-40D3-87A7-F30E4C9856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 Level Languag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language, still not so easy, and lots of commands to accomplish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Computer Languages provide the ability to accomplish a lot with fewer commands than machine or assembly language in a way that is hopefully easier to understa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(list[count] != -1) {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m += list[count]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AB8-B994-484C-91BA-20FF5346A3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ary Numbers - Bas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10, 10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2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 * 1000 + 1 * 100 + 2 * 10 + 7 *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2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2, 2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* 32 + 1 * 16 + 0 * 8 + 1 * 4 + 0 * 2 + 1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*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96EA-0FF2-4052-8EEF-9B582ABBEE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732200" y="4890960"/>
            <a:ext cx="2210040" cy="19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7086600" y="492120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9:04:55Z</dcterms:modified>
  <cp:revision>143</cp:revision>
  <dc:subject/>
  <dc:title>PowerPoint Presentation</dc:title>
</cp:coreProperties>
</file>