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FD61-B1D3-483C-A918-452A3CF9A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B705-1A7B-4726-8651-747D125904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nnoying to flip back and forth between slides here.  I suggest putting the classes into a text editor so you can switch windows back and forth to fill in th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2D7B5-A20C-4053-9DC4-02B6DD7AD4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EA889-5BEC-4E6C-894B-81A684988D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4AEF7-1D46-4E71-BCEA-464B23BE4D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3E6F2-A2D8-4A1A-9529-5CBDC5C032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37578-96DC-436B-9150-7BCA3038E6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722F0-1129-42E4-9F95-D0095D3DCE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AD188-6B0D-44FF-ADBA-FA6FE01025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C2C13-C94B-441F-907D-440FAC9E3E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41412-D5CB-49F1-B163-A730CE80EA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D0AC8-1814-48F0-AC35-D73C9297F0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2FE34-DF8A-4E8F-963E-5F9C35E16E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FAE3B-F9CD-4D12-9D89-8CEB06233F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1224-458F-45FD-9051-B3D47B82EA20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0" name="Freeform 13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53" name="Freeform 16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54" name="Freeform 1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6" name="Freeform 17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57" name="Freeform 1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6D6E-9FBF-4464-958C-1E49064C8887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Topic 32 - Polymorphism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nding output with tab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62120" y="1752480"/>
          <a:ext cx="7619760" cy="296712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762120" y="175752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r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umbl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762120" y="1752480"/>
          <a:ext cx="7619760" cy="296712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r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umbl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olymorphism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[] foos = {new Baz(), new Bar(), new Mumble(), new Foo()}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foos.length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foos[i]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s[i].method1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s[i].method2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z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r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z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mble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other 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order of the classes is jumbled u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methods sometimes call other methods (tricky!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mb extends Ham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Lamb b  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Ham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Ham a  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Ham b  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Ham"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other problem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pam extends Yam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Spam b  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Yam extends Lamb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Yam a  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.a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am"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would be the output of the following client cod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am[] food = {new Lamb(), new Ham(), new Spam(), new Yam()}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food.length; i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od[i]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od[i].a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od[i].b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ass diagra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pic>
        <p:nvPicPr>
          <p:cNvPr id="140" name="Picture 9" descr="HamLambYamSpam_noanswers"/>
          <p:cNvPicPr/>
          <p:nvPr/>
        </p:nvPicPr>
        <p:blipFill>
          <a:blip r:embed="rId1"/>
          <a:stretch/>
        </p:blipFill>
        <p:spPr>
          <a:xfrm>
            <a:off x="3809880" y="1295280"/>
            <a:ext cx="12049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olymorphism at work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her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all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  Bu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verride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Ham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Ham a  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Ham b  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Ham"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mb extends Ham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("Lamb b  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output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 a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tab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p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p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m[] food = {new Lamb(), new Ham(), new Spam(), new Yam()}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food.length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food[i]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d[i].a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d[i].b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m a   Lamb 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m a   Ham 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m 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am a   Ham a   Spam 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pam 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am a   Ham a   Lamb 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4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4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4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4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4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verriding Object's </a:t>
            </a:r>
            <a:br>
              <a:rPr sz="4400"/>
            </a:b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quals Metho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70000"/>
              </a:lnSpc>
              <a:spcBef>
                <a:spcPts val="7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Object class contains this method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48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48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boolean equals(Object obj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48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48040" indent="-248040">
              <a:lnSpc>
                <a:spcPct val="70000"/>
              </a:lnSpc>
              <a:spcBef>
                <a:spcPts val="7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y classes override this meth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48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48040" indent="-248040">
              <a:lnSpc>
                <a:spcPct val="70000"/>
              </a:lnSpc>
              <a:spcBef>
                <a:spcPts val="7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y students mistakenly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overloa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meth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48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48040" indent="-248040">
              <a:lnSpc>
                <a:spcPct val="70000"/>
              </a:lnSpc>
              <a:spcBef>
                <a:spcPts val="7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y headaches when placing objects in data struct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verriding Object's </a:t>
            </a:r>
            <a:br>
              <a:rPr sz="4400"/>
            </a:b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quals Metho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5000"/>
              </a:lnSpc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verriding equals correctly follows a patter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45520" indent="-245520">
              <a:lnSpc>
                <a:spcPct val="105000"/>
              </a:lnSpc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o, it isn't that hard, if you follow the patter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45520" indent="-245520">
              <a:lnSpc>
                <a:spcPct val="105000"/>
              </a:lnSpc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verride equal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 Standard Playing Car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45520" indent="-245520">
              <a:lnSpc>
                <a:spcPct val="105000"/>
              </a:lnSpc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verride equals for a Snake Critt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75640" indent="-221040">
              <a:lnSpc>
                <a:spcPct val="105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mo array of Critter objec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Clicker 1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0520" y="1523520"/>
            <a:ext cx="8610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is output by the following cod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ritter c1 = new Hippo(7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ystem.out.print(c1.toString()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99"/>
              </a:spcBef>
              <a:buClr>
                <a:srgbClr val="eb641b"/>
              </a:buClr>
              <a:buSzPct val="9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99"/>
              </a:spcBef>
              <a:buClr>
                <a:srgbClr val="eb641b"/>
              </a:buClr>
              <a:buSzPct val="9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99"/>
              </a:spcBef>
              <a:buClr>
                <a:srgbClr val="eb641b"/>
              </a:buClr>
              <a:buSzPct val="9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ul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99"/>
              </a:spcBef>
              <a:buClr>
                <a:srgbClr val="eb641b"/>
              </a:buClr>
              <a:buSzPct val="9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 output due to a syntax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99"/>
              </a:spcBef>
              <a:buClr>
                <a:srgbClr val="eb641b"/>
              </a:buClr>
              <a:buSzPct val="9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 output due to a runtime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olymorphis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20000"/>
              </a:lnSpc>
              <a:spcBef>
                <a:spcPts val="7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olymorphis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Ability for the same code to be used with different types of objects and behave differently with each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-233280">
              <a:lnSpc>
                <a:spcPct val="100000"/>
              </a:lnSpc>
              <a:spcBef>
                <a:spcPts val="7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can print any type of objec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70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one displays in its own way on the conso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-233280">
              <a:lnSpc>
                <a:spcPct val="100000"/>
              </a:lnSpc>
              <a:spcBef>
                <a:spcPts val="7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ritterMai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can interact with any type of critte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60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one moves, fights, etc. in its own w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ding with polymorphis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 variable of type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can refer to an object of any subclass of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ritter c1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 new Hippo(7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spcBef>
                <a:spcPts val="70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can call any methods from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ritt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lass o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120" indent="-26712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a method is called o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it behaves a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Hipp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1.getCol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 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GR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1.toString(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64646"/>
                </a:solidFill>
                <a:latin typeface="Verdana"/>
              </a:rPr>
              <a:t>Polymorphism and parameters</a:t>
            </a:r>
            <a:endParaRPr b="0" lang="en-US" sz="42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9067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can pass any subtype of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ameter's typ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7564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57564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575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CriiterMain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5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5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ippo henry = new Hippo(7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5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ird angry = new Bird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5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Info(henr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5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Info(angr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5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564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575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itter cri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5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 eat?: " + crit.eat(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5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 fight: " + crit.fight("?"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5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 move: " + crit.getMove(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5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5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5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5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56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??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4267080" y="3581280"/>
            <a:ext cx="28195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4191120" y="4038480"/>
            <a:ext cx="2743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olymorphism and array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76320" y="13712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rays of superclass types can store any subtype as elem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ritterMain2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ritter[] crits = { new Bird(),   new Vulture(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Hippo(7), new Ant(true) }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crits.length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 color: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rits[i].getColor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  move: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rits[i].getMove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polymorphism 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457200" y="1295280"/>
            <a:ext cx="5029200" cy="4648320"/>
          </a:xfrm>
          <a:prstGeom prst="rect">
            <a:avLst/>
          </a:prstGeom>
          <a:noFill/>
          <a:ln w="25560">
            <a:solidFill>
              <a:srgbClr val="2da2bf"/>
            </a:solidFill>
            <a:miter/>
          </a:ln>
        </p:spPr>
        <p:txBody>
          <a:bodyPr anchor="t">
            <a:normAutofit/>
          </a:bodyPr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Foo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ethod1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foo 1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foo 2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foo"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ar extends Foo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bar 2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4495680" y="1295280"/>
            <a:ext cx="4916520" cy="2791080"/>
          </a:xfrm>
          <a:prstGeom prst="rect">
            <a:avLst/>
          </a:prstGeom>
          <a:noFill/>
          <a:ln w="255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public class Baz extends Foo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public void method1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System.out.println("baz 1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public String toString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return "baz"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public class Mumble extends Baz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public void method2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System.out.println("mumble 2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polymorphism 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would be the output of the following client cod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o[] foos = {new Baz(), new Bar(), new Mumble(), new Foo()}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foos.length; i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os[i]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os[i].method1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os[i].method2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d classes from top (superclass) to bottom (subclas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lude all inherited metho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3816360" y="2438280"/>
            <a:ext cx="1744560" cy="1146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2424240" y="2440080"/>
            <a:ext cx="3139920" cy="2541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2438280" y="2443320"/>
            <a:ext cx="4527720" cy="2536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4"/>
          <a:stretch/>
        </p:blipFill>
        <p:spPr>
          <a:xfrm>
            <a:off x="2432160" y="2441520"/>
            <a:ext cx="4724280" cy="38289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iagramming the class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cottm</cp:lastModifiedBy>
  <cp:lastPrinted>2010-05-29T02:45:10Z</cp:lastPrinted>
  <dcterms:modified xsi:type="dcterms:W3CDTF">2020-09-27T17:50:08Z</dcterms:modified>
  <cp:revision>1493</cp:revision>
  <dc:subject/>
  <dc:title>Building Java Programs</dc:title>
</cp:coreProperties>
</file>