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AE2A-4246-429F-ADC9-94A2D50E0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945C-090A-468C-A085-0CBCFCDB85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nnoying to flip back and forth between slides here.  I suggest putting the classes into a text editor so you can switch windows back and forth to fill in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6132-859E-40E9-B2AF-CACA86F7DC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1935-6474-47E7-93B0-C869714239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938B-0F4A-44E4-ADB3-2D9089422D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D04D-4C6B-44F3-B9D0-7BD6F0E481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8709-AD2E-447A-BD42-8D5E51D0A6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7A5E-94B5-4F61-93F9-4A8FA36D2F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E46E-1A43-455B-B2C0-D199376DA7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EB19-2370-4D36-9DC4-4D214E2946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ABC6-0F47-4C29-A815-AD221B0C6D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B0D7-2733-4CA8-812F-7674FE5931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A5C7-8FFE-4584-9C8F-D2C3B3267C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DBFB-C8B6-447A-A88E-1BDBD570AA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8AB5-FB96-42EB-9BC3-FE02607E74A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43A1-A08F-4619-8218-9ED553A434C7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Topic 32 - Polymorphism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nding output with t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1752480"/>
          <a:ext cx="7619760" cy="2967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762120" y="1752480"/>
          <a:ext cx="7619760" cy="2967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foos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s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s[i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s[i].method1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s[i].method2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rder of the classes is jumbled u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ethods sometimes call other methods (tricky!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problem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pam extends Yam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Spam b  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Yam extends Lamb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Yam a  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am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would be the output of the following client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d[i]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ass dia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40" name="Picture 9" descr="HamLambYamSpam_noanswers"/>
          <p:cNvPicPr/>
          <p:nvPr/>
        </p:nvPicPr>
        <p:blipFill>
          <a:blip r:embed="rId1"/>
          <a:stretch/>
        </p:blipFill>
        <p:spPr>
          <a:xfrm>
            <a:off x="3809880" y="1295280"/>
            <a:ext cx="1204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at work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her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ll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 B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verrid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output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tab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d[i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 a   Lamb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 a   Ham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am a   Ham a   Spam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pam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am a   Ham a   Lamb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verriding Object's </a:t>
            </a:r>
            <a:br>
              <a:rPr sz="4400"/>
            </a:b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quals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70000"/>
              </a:lnSpc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bject class contains this metho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equals(Object obj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040" indent="-248040">
              <a:lnSpc>
                <a:spcPct val="70000"/>
              </a:lnSpc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classes override this meth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040" indent="-248040">
              <a:lnSpc>
                <a:spcPct val="70000"/>
              </a:lnSpc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students mistakenl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verloa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meth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8040" indent="-248040">
              <a:lnSpc>
                <a:spcPct val="70000"/>
              </a:lnSpc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headaches when placing objects in data stru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verriding Object's </a:t>
            </a:r>
            <a:br>
              <a:rPr sz="4400"/>
            </a:b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quals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5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riding equals correctly follows a patter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5520" indent="-245520">
              <a:lnSpc>
                <a:spcPct val="105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, it isn't that hard, if you follow the patter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5520" indent="-245520">
              <a:lnSpc>
                <a:spcPct val="105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ride equal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Standard Playing Ca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5520" indent="-245520">
              <a:lnSpc>
                <a:spcPct val="105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ride equals for a Snake Critt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-221040">
              <a:lnSpc>
                <a:spcPct val="105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mo array of Critter obj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Click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520" y="15235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output by the following cod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itter c1 = new Hippo(7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stem.out.print(c1.toString()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output due to a syntax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output due to a runtime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20000"/>
              </a:lnSpc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olymorphis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bility for the same code to be used with different types of objects and behave differently with each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-233280">
              <a:lnSpc>
                <a:spcPct val="100000"/>
              </a:lnSpc>
              <a:spcBef>
                <a:spcPts val="7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an print any type of objec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70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one displays in its own way on the conso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-233280">
              <a:lnSpc>
                <a:spcPct val="100000"/>
              </a:lnSpc>
              <a:spcBef>
                <a:spcPts val="7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an interact with any type of critt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one moves, fights, etc. in its own w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ding with polymorphis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variable of typ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can refer to an object of any subclass of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itter c1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new Hippo(7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spcBef>
                <a:spcPts val="70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call any methods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rit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lass 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 method is called 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it behaves a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ipp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1.getCol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GR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1.toString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Verdana"/>
              </a:rPr>
              <a:t>Polymorphism and parameters</a:t>
            </a:r>
            <a:endParaRPr b="0" lang="en-US" sz="42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pass any subtype of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meter's typ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riiterMain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ippo henry = new Hippo(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d angry = new Bird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henr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angr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itter cri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 eat?: " + crit.eat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 fight: " + crit.fight("?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 move: " + crit.getMov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5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??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4267080" y="3581280"/>
            <a:ext cx="2819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4191120" y="4038480"/>
            <a:ext cx="2743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and array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7632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rays of superclass types can store any subtype as el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ritterMain2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ritter[] crits = { new Bird(),   new Vulture(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Hippo(7), new Ant(true) 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crits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 color: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rits[i].getColo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  move: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rits[i].getMov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polymorphism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457200" y="1295280"/>
            <a:ext cx="5029200" cy="4648320"/>
          </a:xfrm>
          <a:prstGeom prst="rect">
            <a:avLst/>
          </a:prstGeom>
          <a:noFill/>
          <a:ln w="25560">
            <a:solidFill>
              <a:srgbClr val="2da2bf"/>
            </a:solidFill>
            <a:miter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4495680" y="1295280"/>
            <a:ext cx="4916520" cy="2791080"/>
          </a:xfrm>
          <a:prstGeom prst="rect">
            <a:avLst/>
          </a:prstGeom>
          <a:noFill/>
          <a:ln w="255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public class Baz extends Foo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public void method1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System.out.println("baz 1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public String toStrin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return "baz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public class Mumble extends Baz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public void method2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System.out.println("mumble 2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polymorphism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would be the output of the following client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[] foos = {new Baz(), new Bar(), new Mumble(), new Foo()}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foos.length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s[i]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s[i].method1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s[i].method2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classes from top (superclass) to bottom (subclas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lude all inherited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iagramming the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cottm</cp:lastModifiedBy>
  <cp:lastPrinted>2010-05-29T02:45:10Z</cp:lastPrinted>
  <dcterms:modified xsi:type="dcterms:W3CDTF">2020-09-27T17:50:08Z</dcterms:modified>
  <cp:revision>1493</cp:revision>
  <dc:subject/>
  <dc:title>Building Java Programs</dc:title>
</cp:coreProperties>
</file>