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593-CCF5-4582-9ED5-4CF9F29B1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EEAB-D8D9-46B2-B26A-0FB80902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7481-B1D4-4D4C-B5A4-469356CF6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F02-E9C7-489E-8B5A-10FCC747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268-6EBA-40C1-9C1C-F1D06D3FAF3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pic 3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urier New"/>
              </a:rPr>
              <a:t>ArrayList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Straight Connector 2"/>
          <p:cNvSpPr/>
          <p:nvPr/>
        </p:nvSpPr>
        <p:spPr>
          <a:xfrm>
            <a:off x="2209680" y="4572000"/>
            <a:ext cx="2590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90920" y="1295280"/>
          <a:ext cx="3997080" cy="198144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list = new ArrayList&lt;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"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"X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"C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, "M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3, "P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, M, P, C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, X, P, C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, M, null, P, C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M, X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9560" y="11426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Double&gt; list = new ArrayList&lt;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(double) (i * 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10.0, 20.0, 30.0, 40.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5.0, 10.0, 15.0, 20.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40.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output due to syntax or runtime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ins the documentation for every Java class in the standard library and thei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 // Angel T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create and return an array with all the words except the plural word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be har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62040" y="5410080"/>
          <a:ext cx="393876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96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3710160"/>
          <a:ext cx="8153280" cy="277308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jcf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currently presen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in the midd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has several classes that are List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art08_03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element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371600"/>
          <a:ext cx="8382240" cy="478476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5400" y="1407960"/>
          <a:ext cx="8975520" cy="484668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scottm</cp:lastModifiedBy>
  <dcterms:modified xsi:type="dcterms:W3CDTF">2020-09-27T17:59:04Z</dcterms:modified>
  <cp:revision>155</cp:revision>
  <dc:subject/>
  <dc:title>CSE 142 Python Slides</dc:title>
</cp:coreProperties>
</file>