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7015D-8470-4A64-BFAF-E6E853658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2140F-E2D0-417C-8830-0CE9EF1DC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F96FD-2484-489C-B5A7-0710F725F70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ode does not mean worse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DFA-613B-4720-B1D2-09CF8419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18F-097D-4A41-82CF-D937701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BD4-0B4B-44C5-AA0F-A373FFE2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B7A-4315-46F4-8FA2-4A63775A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8C5-AC3A-4231-8423-40DBF6FD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C27-64AC-421B-98EE-E5E0725B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1D0-E1A5-40D2-8F8C-CFF95FC2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BBA-BADE-44DC-9DC5-FB706112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821-9FB0-4F9F-9306-48F33C00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258-2513-4131-8619-C9584E9E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B6B-932B-4BEE-A755-3FC90A0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D3D-6AE4-4629-A448-449A379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621D-EC01-4651-B36A-DF296AE4D5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atic Methods and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uctured Programm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26240" y="2023920"/>
            <a:ext cx="761184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The cleaner and nicer the progra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ster it's going to ru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if it doesn't, it'll be eas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make it fast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Joshua Bl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-1152360" y="5638680"/>
            <a:ext cx="65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495360" y="92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647640" y="244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800280" y="3967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2"/>
          <a:stretch/>
        </p:blipFill>
        <p:spPr>
          <a:xfrm>
            <a:off x="6121440" y="3011400"/>
            <a:ext cx="302256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ugar_cookies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list of steps for solving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algorithm: "Bake sugar cooki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Mix the dry ingre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Cream the butter and s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Beat in the eg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tir in the dry ingre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t the oven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t the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Place the cookies into the o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Allow the cookies to b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Mix ingredients for fro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1CD9-141F-4252-857E-3D64E37E48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s with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ck of 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ny small steps; tough to rem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und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nsider making a double batch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Mix the dry ingred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Cream the butter and sug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Beat in the eg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Stir in the dry ingred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Set the oven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Set the tim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Place the first batch of cookies into the 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Allow the cookies to b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Set the oven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Set the tim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Place the second batch of cookies into the 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Allow the cookies to b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Mix ingredients for fro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E183-0FAB-42CF-BF21-77ED0001DC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uctured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uctured algorith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lit solution into coherent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ake the cookie ba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ake the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et the t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lace the cookies into the o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 frosting and sprink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ix the ingredients for the fro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pread frosting and sprinkles onto the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FDDE-22D0-4A15-B200-35A7040FD6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oving redunda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structured algorithm can describe repeated tasks with less redund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Make the cookie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Mix the dry ingre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Arial"/>
              </a:rPr>
              <a:t>2a</a:t>
            </a:r>
            <a:r>
              <a:rPr b="0" lang="en-GB" sz="2400" spc="-1" strike="noStrike" u="sng">
                <a:solidFill>
                  <a:srgbClr val="003399"/>
                </a:solidFill>
                <a:uFillTx/>
                <a:latin typeface="Arial"/>
              </a:rPr>
              <a:t> Bake the cookies (first bat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t the oven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t the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Arial"/>
              </a:rPr>
              <a:t>2b</a:t>
            </a:r>
            <a:r>
              <a:rPr b="0" lang="en-GB" sz="2400" spc="-1" strike="noStrike" u="sng">
                <a:solidFill>
                  <a:srgbClr val="003399"/>
                </a:solidFill>
                <a:uFillTx/>
                <a:latin typeface="Arial"/>
              </a:rPr>
              <a:t> Bake the cookies (second bat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Decorate the cook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9F52-7D27-4513-9FCE-79B31D9DE8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 program with redunda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618B-1749-4BEC-8300-1B1DAE24D4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763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ic metho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named group of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otes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minat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dundanc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ode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cedural decomposi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iding a problem int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ay 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nag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ing a static method is lik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a new command to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6019920" y="1905120"/>
            <a:ext cx="3047760" cy="4572000"/>
            <a:chOff x="6019920" y="1905120"/>
            <a:chExt cx="3047760" cy="4572000"/>
          </a:xfrm>
        </p:grpSpPr>
        <p:sp>
          <p:nvSpPr>
            <p:cNvPr id="103" name="Text Box 5"/>
            <p:cNvSpPr/>
            <p:nvPr/>
          </p:nvSpPr>
          <p:spPr>
            <a:xfrm>
              <a:off x="6019920" y="1905120"/>
              <a:ext cx="304776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6171840" y="2306520"/>
              <a:ext cx="274284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6171840" y="3809880"/>
              <a:ext cx="274284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6171840" y="4973760"/>
              <a:ext cx="274284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D259-21B0-43E3-8F5A-54417FC32E8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049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pectrum.ieee.org/computing/software/why-software-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F69-896A-4EE0-81E8-6010A73A18C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8440" y="1782720"/>
            <a:ext cx="9191880" cy="4226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406440" y="152280"/>
            <a:ext cx="78645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omplex systems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most complex systems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static method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the structure, and which commands are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what are the important overall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programmers do this BEFORE writing an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write down) the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rrange statements into groups and give each group a na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run) the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'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thod executes the other methods to perform the overall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496E-6735-4F49-A7CC-F285FAA2D2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Design of an algorith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FC27-4AAE-4455-8498-65F21C839A2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918640" cy="55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ves your method a name so it can be exec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ntax:</a:t>
            </a:r>
            <a:br>
              <a:rPr sz="3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150"/>
              </a:spcBef>
              <a:buClr>
                <a:srgbClr val="000000"/>
              </a:buClr>
              <a:buFont typeface="Marlett" charset="2"/>
              <a:buChar char="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3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Declaring a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EDBE-B5CD-4481-BFC5-00FD35B06D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method that is called when a Java program st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5C2-D5AC-42FE-9714-0A876C79DF5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alling a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ecutes the method'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call the same method many times if you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02D7-40D8-4555-A5AF-1AC80C8A1C0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with static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3C51-CA4F-4B99-8720-E2A627082FF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Final cookie progra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ookie ba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C8D8-619A-4024-B400-F93594B5393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7"/>
          <p:cNvSpPr/>
          <p:nvPr/>
        </p:nvSpPr>
        <p:spPr>
          <a:xfrm>
            <a:off x="457200" y="5257800"/>
            <a:ext cx="388620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76440"/>
            <a:ext cx="81532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code easier to read by capturing the structure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a good summary of the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nger code doe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ily mean worse cod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ary: Why method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291636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148360" y="4398840"/>
            <a:ext cx="3200400" cy="717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335640" y="417024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81480" y="337356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495680" y="2971800"/>
            <a:ext cx="0" cy="360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5181480" y="3591000"/>
            <a:ext cx="114300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6335640" y="5573880"/>
            <a:ext cx="1143000" cy="183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990720" y="3473280"/>
            <a:ext cx="3200400" cy="717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990720" y="326700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990720" y="4224240"/>
            <a:ext cx="3200400" cy="48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181480" y="316692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148360" y="5811840"/>
            <a:ext cx="3200400" cy="48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27BA-7C73-4983-84F7-33180113EB4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56492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ary: Why method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2034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990720" y="2525760"/>
            <a:ext cx="3200400" cy="869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990720" y="3440160"/>
            <a:ext cx="3200400" cy="1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990720" y="3657600"/>
            <a:ext cx="3200400" cy="87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148360" y="4268880"/>
            <a:ext cx="3200400" cy="869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35640" y="403848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181480" y="252576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5181480" y="294012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4495680" y="202248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990720" y="4789440"/>
            <a:ext cx="3200400" cy="87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5181480" y="2733840"/>
            <a:ext cx="3200400" cy="172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990720" y="457200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5181480" y="315756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5181480" y="335268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54C4-844E-4C2E-A0B2-492E30CD336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Methods calling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6F83-E2FC-41E3-9321-EEB18925995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method is called, the program's executi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jumps" into that method, executing its statements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jumps" back to the point where the method was c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2698920" y="3244680"/>
            <a:ext cx="6324480" cy="719280"/>
            <a:chOff x="2698920" y="3244680"/>
            <a:chExt cx="6324480" cy="719280"/>
          </a:xfrm>
        </p:grpSpPr>
        <p:sp>
          <p:nvSpPr>
            <p:cNvPr id="168" name="Text Box 4"/>
            <p:cNvSpPr/>
            <p:nvPr/>
          </p:nvSpPr>
          <p:spPr>
            <a:xfrm>
              <a:off x="393372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>
              <a:off x="269892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 flipH="1" flipV="1">
              <a:off x="269892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7"/>
          <p:cNvGrpSpPr/>
          <p:nvPr/>
        </p:nvGrpSpPr>
        <p:grpSpPr>
          <a:xfrm>
            <a:off x="2590560" y="4118040"/>
            <a:ext cx="6553440" cy="1401840"/>
            <a:chOff x="2590560" y="4118040"/>
            <a:chExt cx="6553440" cy="1401840"/>
          </a:xfrm>
        </p:grpSpPr>
        <p:sp>
          <p:nvSpPr>
            <p:cNvPr id="172" name="Text Box 8"/>
            <p:cNvSpPr/>
            <p:nvPr/>
          </p:nvSpPr>
          <p:spPr>
            <a:xfrm>
              <a:off x="4041720" y="411804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2666880" y="419436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 flipH="1" flipV="1">
              <a:off x="2590560" y="427032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1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176" name="Text Box 12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rol flow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781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85F7-9053-4495-B6B3-318AAFD10AC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-152280" y="75960"/>
            <a:ext cx="9905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er 2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ines of output with visible characters does the following program produ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3      B. 4      C. 8      D. 12      E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3      B. 4      C. 8      D. 12      E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63716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DB79-DB95-4694-9DFF-C5DFDB56F2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awing complex figures with static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: 1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. 1 Case Study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rawFig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methods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o print these fig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356B-CF60-4D5F-8BF3-2C03C14B009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note written in source code by the programmer to describe or clarify th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nts are not executed when your program r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ent text, on one line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,</a:t>
            </a:r>
            <a:br>
              <a:rPr sz="2000"/>
            </a:b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ent text; may span multiple li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Courier New"/>
              </a:rPr>
              <a:t>   multi-line comment.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0ED0-9474-4808-9A72-117DD7A15CA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elopment strate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362320" y="1905120"/>
            <a:ext cx="647676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Clicker 3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Are there repeated sections of output for this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DB49-1150-42CE-B5D1-81D735F82F4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6D4C-688B-49D2-8D7D-DA90024E505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elopment strategy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362320" y="1905120"/>
            <a:ext cx="64767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F174-DD10-415F-B619-73CBC5B1BF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638280" y="1860480"/>
            <a:ext cx="1218960" cy="4267080"/>
            <a:chOff x="638280" y="1860480"/>
            <a:chExt cx="1218960" cy="4267080"/>
          </a:xfrm>
        </p:grpSpPr>
        <p:sp>
          <p:nvSpPr>
            <p:cNvPr id="201" name="Rectangle 3"/>
            <p:cNvSpPr/>
            <p:nvPr/>
          </p:nvSpPr>
          <p:spPr>
            <a:xfrm>
              <a:off x="638280" y="54417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638280" y="3993840"/>
              <a:ext cx="1218960" cy="114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638280" y="29271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638280" y="1860480"/>
              <a:ext cx="121896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tput structur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F632-28C6-4DB9-BB5E-804F62CCF0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91D3-57C7-4504-A5F1-CCFDB53B3F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2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1ED0-41AA-418B-B87D-083FC85A4CA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elopment strategy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362320" y="1905120"/>
            <a:ext cx="64767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2740-0059-44B9-8A56-6CA25400BF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717480" y="1727280"/>
            <a:ext cx="1066680" cy="4409640"/>
            <a:chOff x="717480" y="1727280"/>
            <a:chExt cx="1066680" cy="4409640"/>
          </a:xfrm>
        </p:grpSpPr>
        <p:sp>
          <p:nvSpPr>
            <p:cNvPr id="220" name="Rectangle 3"/>
            <p:cNvSpPr/>
            <p:nvPr/>
          </p:nvSpPr>
          <p:spPr>
            <a:xfrm>
              <a:off x="717480" y="5984640"/>
              <a:ext cx="1066680" cy="15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"/>
            <p:cNvSpPr/>
            <p:nvPr/>
          </p:nvSpPr>
          <p:spPr>
            <a:xfrm>
              <a:off x="717480" y="3441600"/>
              <a:ext cx="1066680" cy="15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717480" y="469872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717480" y="298440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717480" y="233676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717480" y="3860640"/>
              <a:ext cx="1066680" cy="609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717480" y="5384520"/>
              <a:ext cx="1066680" cy="59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717480" y="1727280"/>
              <a:ext cx="1066680" cy="609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tput redunda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2362320" y="2286000"/>
            <a:ext cx="64008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FEE5-028D-4B79-9D9C-38EC4306A8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BA90-FC43-441D-A841-C1EEE06FAA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3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DC71-4B1F-4ADC-A1E3-AFE0D36E6F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sing com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o plac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top of each file (a "comment header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start of every method (seen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xplain complex piec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re 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arger, more complex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programmers working together, who must understand each other's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44F7-BAE7-4421-A9F1-CA04D6824A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mments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AEE7-A59B-4832-8C03-60A9A9A111B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Hygiene - a.ka. Sty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structure to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 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paces judiciously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nt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mments to describe cod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a brac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oftware follows a style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inks on assignm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57DC-7532-499F-AA6C-B1403DFF82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2600" y="990720"/>
            <a:ext cx="9124920" cy="51195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gle C++ Style Gu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B912-CCDB-465E-ACF4-BE65900F969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2514600" y="2438280"/>
            <a:ext cx="17524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496960" y="2397240"/>
            <a:ext cx="54864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2286000" y="2514600"/>
            <a:ext cx="6826320" cy="114300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30080" y="6238800"/>
            <a:ext cx="70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ode.google.com/p/google-styleguid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gle C++ Style Gu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DFE-2A50-4F84-9056-000FB29C44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Why Worry About Program Hygiene ?</a:t>
            </a: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1430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rs build on top of other’s code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 Scientists and Software developers spend as much time maintaining code as they do creating new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n’t waste time deciphering what a method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spend time on thinking and coding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 wasting time looking for that missing closing b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Code is read more often than it is written." 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Guido Van Rossu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(Creator of the Python Langu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8-31T17:06:14Z</dcterms:modified>
  <cp:revision>140</cp:revision>
  <dc:subject/>
  <dc:title>PowerPoint Presentation</dc:title>
</cp:coreProperties>
</file>