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D7F19-81BB-4D72-84A3-E2FAE88E69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8B505-64DB-47E3-8702-4021669AAA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47772-0A8F-478D-A19A-71940648DB9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code does not mean worse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C345-4C54-41C7-85F8-DC1F5071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2042-1C47-4214-86C0-9B01926A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B370-C96A-4713-801E-A115C651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A104-5ED2-4E63-81C7-733371EF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7064-AC4E-4263-8F7E-E78B58B7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CF57-A0D3-446A-9284-96630929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E240-6D37-4C88-A20C-D31445F7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DA72-DF01-46BC-B7AF-6A7D467D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DCBD-BC37-4BC7-B2DA-C343FA5F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0862-1406-4D65-A59D-86BFD7B8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BCC4-C143-4FDF-9CBF-75AB2A02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E501-E9E6-4DA6-BFAC-F3ACC79E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DFA1-31AB-4988-9828-DA69078627C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ildingjavaprogram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3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tatic Methods and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tructured Programming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426240" y="2023920"/>
            <a:ext cx="7611840" cy="31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"The cleaner and nicer the program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aster it's going to ru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if it doesn't, it'll be eas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make it fast.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Joshua Blo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-1152360" y="5638680"/>
            <a:ext cx="65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Based on slides by Marty Stepp and Stuart Reges _x000b_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19044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343080" y="-60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495360" y="921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647640" y="244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5"/>
          <p:cNvSpPr/>
          <p:nvPr/>
        </p:nvSpPr>
        <p:spPr>
          <a:xfrm>
            <a:off x="800280" y="3967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"/>
          <p:cNvPicPr/>
          <p:nvPr/>
        </p:nvPicPr>
        <p:blipFill>
          <a:blip r:embed="rId2"/>
          <a:stretch/>
        </p:blipFill>
        <p:spPr>
          <a:xfrm>
            <a:off x="6121440" y="3011400"/>
            <a:ext cx="3022560" cy="30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sugar_cookies"/>
          <p:cNvPicPr/>
          <p:nvPr/>
        </p:nvPicPr>
        <p:blipFill>
          <a:blip r:embed="rId1"/>
          <a:srcRect l="1923" t="2389" r="3037" b="1964"/>
          <a:stretch/>
        </p:blipFill>
        <p:spPr>
          <a:xfrm>
            <a:off x="6477120" y="2876400"/>
            <a:ext cx="2365200" cy="2381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gorith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A list of steps for solving a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 algorithm: "Bake sugar cookie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Mix the dry ingred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Cream the butter and sug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Beat in the eg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Stir in the dry ingred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Set the oven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Set the ti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Place the cookies into the o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Allow the cookies to b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Mix ingredients for fro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67E8-DD53-4226-9AE6-BD5438B00FF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s with algorith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ck of struc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any small steps; tough to reme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dunda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onsider making a double batch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Arial"/>
              </a:rPr>
              <a:t>Mix the dry ingredi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Arial"/>
              </a:rPr>
              <a:t>Cream the butter and sug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Arial"/>
              </a:rPr>
              <a:t>Beat in the egg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Arial"/>
              </a:rPr>
              <a:t>Stir in the dry ingredi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Set the oven temp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Set the tim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Place the first batch of cookies into the o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Allow the cookies to ba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Set the oven temp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Set the tim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Place the second batch of cookies into the o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Allow the cookies to ba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Arial"/>
              </a:rPr>
              <a:t>Mix ingredients for fros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669E-0CEC-4AAA-9C61-EEBF9FA3F8F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uctured algorith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ructured algorith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lit solution into coherent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Make the cookie ba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Mix the dry ingredi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Cream the butter and sug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Beat in the eg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Stir in the dry ingredi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Bake the cook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Set the oven temper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Set the ti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Place the cookies into the o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Allow the cookies to b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dd frosting and sprink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Mix the ingredients for the fro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Spread frosting and sprinkles onto the cook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4E5E-897D-4FA0-B7E5-BC230FFED95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moving redundanc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structured algorithm can describe repeated tasks with less redunda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Make the cookie b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Mix the dry ingred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Arial"/>
              </a:rPr>
              <a:t>2a</a:t>
            </a:r>
            <a:r>
              <a:rPr b="0" lang="en-GB" sz="2400" spc="-1" strike="noStrike" u="sng">
                <a:solidFill>
                  <a:srgbClr val="003399"/>
                </a:solidFill>
                <a:uFillTx/>
                <a:latin typeface="Arial"/>
              </a:rPr>
              <a:t> Bake the cookies (first bat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Set the oven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Set the ti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Arial"/>
              </a:rPr>
              <a:t>2b</a:t>
            </a:r>
            <a:r>
              <a:rPr b="0" lang="en-GB" sz="2400" spc="-1" strike="noStrike" u="sng">
                <a:solidFill>
                  <a:srgbClr val="003399"/>
                </a:solidFill>
                <a:uFillTx/>
                <a:latin typeface="Arial"/>
              </a:rPr>
              <a:t> Bake the cookies (second bat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Decorate the cook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189D-A08D-4DE9-99DE-2E4F597F3CD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A program with redundanc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09AD-2A3C-469E-8EEE-C7136318B5F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atic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7632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tic metho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A named group of stat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otes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iminate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redundanc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y code r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cedural decomposi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viding a problem into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way to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anage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iting a static method is lik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ing a new command to Ja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6019920" y="1905120"/>
            <a:ext cx="3047760" cy="4572000"/>
            <a:chOff x="6019920" y="1905120"/>
            <a:chExt cx="3047760" cy="4572000"/>
          </a:xfrm>
        </p:grpSpPr>
        <p:sp>
          <p:nvSpPr>
            <p:cNvPr id="103" name="Text Box 5"/>
            <p:cNvSpPr/>
            <p:nvPr/>
          </p:nvSpPr>
          <p:spPr>
            <a:xfrm>
              <a:off x="6019920" y="1905120"/>
              <a:ext cx="3047760" cy="4572000"/>
            </a:xfrm>
            <a:prstGeom prst="rect">
              <a:avLst/>
            </a:prstGeom>
            <a:solidFill>
              <a:srgbClr val="f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6171840" y="2306520"/>
              <a:ext cx="274284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6171840" y="3809880"/>
              <a:ext cx="2742840" cy="10821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8"/>
            <p:cNvSpPr/>
            <p:nvPr/>
          </p:nvSpPr>
          <p:spPr>
            <a:xfrm>
              <a:off x="6171840" y="4973760"/>
              <a:ext cx="274284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F7B2-92AF-4354-81E9-138B7E82910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0492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pectrum.ieee.org/computing/software/why-software-f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8114-D195-49BE-A280-30A4ED8D61C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8440" y="1782720"/>
            <a:ext cx="9191880" cy="42260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406440" y="152280"/>
            <a:ext cx="78645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complex systems is 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most complex systems a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static method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sig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he algorith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 at the structure, and which commands are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what are the important overall tas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od programmers do this BEFORE writing any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cl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write down) the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rrange statements into groups and give each group a nam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run) the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gram's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ethod executes the other methods to perform the overall ta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D8AD-2921-4C25-AAF3-A11711EE54B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Design of an algorith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2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a: Bake cookies (first bat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b: Bake cookies (second bat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3610-8F50-43E0-A36F-16569FB68A1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600" y="1142640"/>
            <a:ext cx="8918640" cy="55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ives your method a name so it can be exec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ntax:</a:t>
            </a:r>
            <a:br>
              <a:rPr sz="3200"/>
            </a:br>
            <a:br>
              <a:rPr sz="700"/>
            </a:br>
            <a:br>
              <a:rPr sz="8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&lt;statement&gt;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&lt;statement&gt;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&lt;statement&gt;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150"/>
              </a:spcBef>
              <a:buClr>
                <a:srgbClr val="000000"/>
              </a:buClr>
              <a:buFont typeface="Marlett" charset="2"/>
              <a:buChar char="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br>
              <a:rPr sz="3200"/>
            </a:br>
            <a:br>
              <a:rPr sz="7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printWarning() {</a:t>
            </a:r>
            <a:br>
              <a:rPr sz="20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This product causes cancer");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in lab rats and humans.");</a:t>
            </a:r>
            <a:br>
              <a:rPr sz="19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Declaring a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6132-BA5C-4ABB-AB54-35FFCB3BBEE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method that is called when a Java program star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C8C3-46AE-489C-A882-A803B4F2A3C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alling a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xecutes the method's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call the same method many times if you l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Warning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his product causes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n lab rats and hum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681C-DD3E-4C59-B018-BDDAFDCA7D6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gram with static meth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FreshPrin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(running) the rap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the rap method ag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method prints the lyrics to my favorite so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rap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Now this is the story all about how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y life got flipped turned upside-down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BF59-B48A-4DAE-9BC5-63EB6E8FE0D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Final cookie progra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3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akeBatte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1st b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2nd b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corat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ookie bat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makeBatter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: Bake a batch of cook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bake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decorate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B664-7E01-4F87-9BCE-2B2C99081EE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7"/>
          <p:cNvSpPr/>
          <p:nvPr/>
        </p:nvSpPr>
        <p:spPr>
          <a:xfrm>
            <a:off x="457200" y="5257800"/>
            <a:ext cx="3886200" cy="838080"/>
          </a:xfrm>
          <a:prstGeom prst="rect">
            <a:avLst/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76440"/>
            <a:ext cx="81532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code easier to read by capturing the structure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hould be a good summary of the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nger code does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sarily mean worse code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ummary: Why methods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291636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static ..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...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static ..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...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5148360" y="4398840"/>
            <a:ext cx="3200400" cy="7178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335640" y="4170240"/>
            <a:ext cx="1143000" cy="184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5181480" y="3373560"/>
            <a:ext cx="1143000" cy="183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4495680" y="2971800"/>
            <a:ext cx="0" cy="360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5181480" y="3591000"/>
            <a:ext cx="1143000" cy="16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6335640" y="5573880"/>
            <a:ext cx="1143000" cy="183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990720" y="3473280"/>
            <a:ext cx="3200400" cy="7178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990720" y="3267000"/>
            <a:ext cx="3200400" cy="173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990720" y="4224240"/>
            <a:ext cx="3200400" cy="48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5181480" y="3166920"/>
            <a:ext cx="3200400" cy="173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5148360" y="5811840"/>
            <a:ext cx="3200400" cy="48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3AF2-0B21-4B6C-81A0-993159D102F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6840" y="156492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redund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ummary: Why methods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203472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static ..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...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990720" y="2525760"/>
            <a:ext cx="3200400" cy="8697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990720" y="3440160"/>
            <a:ext cx="3200400" cy="173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990720" y="3657600"/>
            <a:ext cx="3200400" cy="870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5148360" y="4268880"/>
            <a:ext cx="3200400" cy="8697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6335640" y="4038480"/>
            <a:ext cx="1143000" cy="184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5181480" y="2525760"/>
            <a:ext cx="1143000" cy="183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5181480" y="2940120"/>
            <a:ext cx="1143000" cy="183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4495680" y="2022480"/>
            <a:ext cx="0" cy="380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990720" y="4789440"/>
            <a:ext cx="3200400" cy="870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5181480" y="2733840"/>
            <a:ext cx="3200400" cy="172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990720" y="4572000"/>
            <a:ext cx="3200400" cy="173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6"/>
          <p:cNvSpPr/>
          <p:nvPr/>
        </p:nvSpPr>
        <p:spPr>
          <a:xfrm>
            <a:off x="5181480" y="3157560"/>
            <a:ext cx="3200400" cy="173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5181480" y="3352680"/>
            <a:ext cx="1143000" cy="184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DF59-920E-4E11-8317-B6642AD9624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Methods calling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1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1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2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2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essage2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essage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5662-4A73-4FC2-A497-32502F66A97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a method is called, the program's execution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jumps" into that method, executing its statements,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jumps" back to the point where the method was cal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2698920" y="3244680"/>
            <a:ext cx="6324480" cy="719280"/>
            <a:chOff x="2698920" y="3244680"/>
            <a:chExt cx="6324480" cy="719280"/>
          </a:xfrm>
        </p:grpSpPr>
        <p:sp>
          <p:nvSpPr>
            <p:cNvPr id="168" name="Text Box 4"/>
            <p:cNvSpPr/>
            <p:nvPr/>
          </p:nvSpPr>
          <p:spPr>
            <a:xfrm>
              <a:off x="3933720" y="3244680"/>
              <a:ext cx="508968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5"/>
            <p:cNvSpPr/>
            <p:nvPr/>
          </p:nvSpPr>
          <p:spPr>
            <a:xfrm>
              <a:off x="2698920" y="3512880"/>
              <a:ext cx="1752480" cy="363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6"/>
            <p:cNvSpPr/>
            <p:nvPr/>
          </p:nvSpPr>
          <p:spPr>
            <a:xfrm flipH="1" flipV="1">
              <a:off x="2698920" y="3664800"/>
              <a:ext cx="1295280" cy="1126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7"/>
          <p:cNvGrpSpPr/>
          <p:nvPr/>
        </p:nvGrpSpPr>
        <p:grpSpPr>
          <a:xfrm>
            <a:off x="2590560" y="4118040"/>
            <a:ext cx="6553440" cy="1401840"/>
            <a:chOff x="2590560" y="4118040"/>
            <a:chExt cx="6553440" cy="1401840"/>
          </a:xfrm>
        </p:grpSpPr>
        <p:sp>
          <p:nvSpPr>
            <p:cNvPr id="172" name="Text Box 8"/>
            <p:cNvSpPr/>
            <p:nvPr/>
          </p:nvSpPr>
          <p:spPr>
            <a:xfrm>
              <a:off x="4041720" y="4118040"/>
              <a:ext cx="5102280" cy="14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2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2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ssage1(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Done with message2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2666880" y="4194360"/>
              <a:ext cx="1828800" cy="2286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 flipH="1" flipV="1">
              <a:off x="2590560" y="4270320"/>
              <a:ext cx="1523880" cy="10670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11"/>
          <p:cNvGrpSpPr/>
          <p:nvPr/>
        </p:nvGrpSpPr>
        <p:grpSpPr>
          <a:xfrm>
            <a:off x="3962520" y="4827600"/>
            <a:ext cx="5105160" cy="1594080"/>
            <a:chOff x="3962520" y="4827600"/>
            <a:chExt cx="5105160" cy="1594080"/>
          </a:xfrm>
        </p:grpSpPr>
        <p:sp>
          <p:nvSpPr>
            <p:cNvPr id="176" name="Text Box 12"/>
            <p:cNvSpPr/>
            <p:nvPr/>
          </p:nvSpPr>
          <p:spPr>
            <a:xfrm>
              <a:off x="3962520" y="5702400"/>
              <a:ext cx="510516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3"/>
            <p:cNvSpPr/>
            <p:nvPr/>
          </p:nvSpPr>
          <p:spPr>
            <a:xfrm flipH="1">
              <a:off x="4489200" y="4827600"/>
              <a:ext cx="380880" cy="11430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4"/>
            <p:cNvSpPr/>
            <p:nvPr/>
          </p:nvSpPr>
          <p:spPr>
            <a:xfrm flipV="1">
              <a:off x="4108320" y="4827600"/>
              <a:ext cx="533160" cy="1447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rol flow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781680" y="637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705C-4B41-4BA0-9213-CF8C3892C3E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-152280" y="75960"/>
            <a:ext cx="99057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er 2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lines of output with visible characters does the following program produ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3      B. 4      C. 8      D. 12      E.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3      B. 4      C. 8      D. 12      E.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463716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7312-AF7F-4DFB-B244-5B2F898B852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rawing complex figures with static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ing: 1.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h. 1 Case Study: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rawFigu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tic methods ques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to print these fig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DD18-BB4A-45A2-BA4B-7AF7CE8EA30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mm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A note written in source code by the programmer to describe or clarify the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ents are not executed when your program ru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ent text, on one line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,</a:t>
            </a:r>
            <a:br>
              <a:rPr sz="2000"/>
            </a:b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/*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ent text; may span multiple lin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Courier New"/>
              </a:rPr>
              <a:t>// This is a one-line com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Courier New"/>
              </a:rPr>
              <a:t>/* This is a very long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Courier New"/>
              </a:rPr>
              <a:t>   multi-line comment.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985F-F1CC-4FD8-A9E7-A03B4BC31E0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velopment strateg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362320" y="1905120"/>
            <a:ext cx="6476760" cy="40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First version (unstructure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 an empty program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py the expected output into it, surrounding each line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ynt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un it to verify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Clicker 3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 Are there repeated sections of output for this progra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94C1-1922-4A52-9D4E-F574CAB3EF8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gram version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1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A06D-C7EB-4CB6-A125-FCDBA0953FD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velopment strategy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362320" y="1905120"/>
            <a:ext cx="647676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econd version (structured, with redundanc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the structure of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 into static methods based on this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A78F-E55F-4FCD-A773-FD46E03B9F0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638280" y="1860480"/>
            <a:ext cx="1218960" cy="4267080"/>
            <a:chOff x="638280" y="1860480"/>
            <a:chExt cx="1218960" cy="4267080"/>
          </a:xfrm>
        </p:grpSpPr>
        <p:sp>
          <p:nvSpPr>
            <p:cNvPr id="201" name="Rectangle 3"/>
            <p:cNvSpPr/>
            <p:nvPr/>
          </p:nvSpPr>
          <p:spPr>
            <a:xfrm>
              <a:off x="638280" y="5441760"/>
              <a:ext cx="1218960" cy="685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"/>
            <p:cNvSpPr/>
            <p:nvPr/>
          </p:nvSpPr>
          <p:spPr>
            <a:xfrm>
              <a:off x="638280" y="3993840"/>
              <a:ext cx="1218960" cy="1143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5"/>
            <p:cNvSpPr/>
            <p:nvPr/>
          </p:nvSpPr>
          <p:spPr>
            <a:xfrm>
              <a:off x="638280" y="2927160"/>
              <a:ext cx="1218960" cy="685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638280" y="1860480"/>
              <a:ext cx="1218960" cy="914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utput structur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2362320" y="1905120"/>
            <a:ext cx="647676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structure of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itial "egg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cond "teacup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rd "stop sign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ourth "hat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structure can be represented by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aC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op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C55E-6E1A-449E-B17A-A4511DC01EE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gram version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2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D10E-110E-4A30-AA08-7731B91FD5A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gram version 2, cont'd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4221-9F95-476F-9F89-208B18B897A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velopment strategy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2362320" y="1905120"/>
            <a:ext cx="647676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Third version (structured, without redundanc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redundancy in the output, and create methods to eliminate as much a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dd comments to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79F0-8AEA-445D-90DA-C8B7C208F0B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717480" y="1727280"/>
            <a:ext cx="1066680" cy="4409640"/>
            <a:chOff x="717480" y="1727280"/>
            <a:chExt cx="1066680" cy="4409640"/>
          </a:xfrm>
        </p:grpSpPr>
        <p:sp>
          <p:nvSpPr>
            <p:cNvPr id="220" name="Rectangle 3"/>
            <p:cNvSpPr/>
            <p:nvPr/>
          </p:nvSpPr>
          <p:spPr>
            <a:xfrm>
              <a:off x="717480" y="5984640"/>
              <a:ext cx="1066680" cy="152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4"/>
            <p:cNvSpPr/>
            <p:nvPr/>
          </p:nvSpPr>
          <p:spPr>
            <a:xfrm>
              <a:off x="717480" y="3441600"/>
              <a:ext cx="1066680" cy="151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5"/>
            <p:cNvSpPr/>
            <p:nvPr/>
          </p:nvSpPr>
          <p:spPr>
            <a:xfrm>
              <a:off x="717480" y="4698720"/>
              <a:ext cx="1066680" cy="4568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6"/>
            <p:cNvSpPr/>
            <p:nvPr/>
          </p:nvSpPr>
          <p:spPr>
            <a:xfrm>
              <a:off x="717480" y="2984400"/>
              <a:ext cx="1066680" cy="4568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717480" y="2336760"/>
              <a:ext cx="1066680" cy="4568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8"/>
            <p:cNvSpPr/>
            <p:nvPr/>
          </p:nvSpPr>
          <p:spPr>
            <a:xfrm>
              <a:off x="717480" y="3860640"/>
              <a:ext cx="1066680" cy="6091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9"/>
            <p:cNvSpPr/>
            <p:nvPr/>
          </p:nvSpPr>
          <p:spPr>
            <a:xfrm>
              <a:off x="717480" y="5384520"/>
              <a:ext cx="1066680" cy="590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717480" y="1727280"/>
              <a:ext cx="1066680" cy="609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utput redundanc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2362320" y="2286000"/>
            <a:ext cx="640080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redundancy in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gg top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used on stop sign,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gg bottom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used on teacup, stop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er lin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sed on teacup,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redundancy can be fixed by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C599-3243-4E49-B473-A7E4B03D0A2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gram version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uzy Student, CSE 138, Spring 20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several figures, with methods for structure and redunda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3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top half of an an egg fig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Top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bottom half of an egg fig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Bottom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complete egg fig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CCDD-267B-46E9-9822-2273941AE48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gram version 3, cont'd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teacup fig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stop sign fig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figure that looks sort of like a h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line of dash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line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BB8A-9E75-4810-B4E0-1405B63D0E6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Using comm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o place com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the top of each file (a "comment header"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the start of every method (seen 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explain complex piec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re useful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arger, more complex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ple programmers working together, who must understand each other's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A288-19A0-4A5C-918F-B09E2186642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mments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* Suzy Student, CS 101, Fall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This program prints lyrics about ... something.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BaWitDaB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first 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Bawitdaba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a bang a dang diggy diggy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second 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iggy said the boogy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said up jump the boogy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D826-CDC2-42AD-ABBD-154C18DF240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gram Hygiene - a.ka. Sty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structure to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 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paces judiciously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st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nt prop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nam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mments to describe code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a brac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software follows a style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links on assignment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4E8A-F2F8-455F-A713-F7C9F89E708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-12600" y="990720"/>
            <a:ext cx="9124920" cy="51195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oogle C++ Style Gu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9FFF-CAF1-4508-A965-F05D419CB68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4"/>
          <p:cNvSpPr/>
          <p:nvPr/>
        </p:nvSpPr>
        <p:spPr>
          <a:xfrm>
            <a:off x="2514600" y="2438280"/>
            <a:ext cx="175248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"/>
          <p:cNvSpPr/>
          <p:nvPr/>
        </p:nvSpPr>
        <p:spPr>
          <a:xfrm>
            <a:off x="2496960" y="2397240"/>
            <a:ext cx="548640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6"/>
          <p:cNvSpPr/>
          <p:nvPr/>
        </p:nvSpPr>
        <p:spPr>
          <a:xfrm>
            <a:off x="2286000" y="2514600"/>
            <a:ext cx="6826320" cy="1143000"/>
          </a:xfrm>
          <a:prstGeom prst="ellipse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730080" y="6238800"/>
            <a:ext cx="70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code.google.com/p/google-styleguid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oogle C++ Style Gu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B51E-C9B8-46E4-B3C1-AA50FAD84B8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7631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Why Worry About Program Hygiene ?</a:t>
            </a:r>
            <a:endParaRPr b="0" lang="en-US" sz="4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1430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ammers build on top of other’s code all th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r Scientists and Software developers spend as much time maintaining code as they do creating new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shouldn’t waste time deciphering what a method do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spend time on thinking and coding.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 wasting time looking for that missing closing br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Code is read more often than it is written." </a:t>
            </a:r>
            <a:br>
              <a:rPr sz="28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Guido Van Rossu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(Creator of the Python Languag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8-31T17:06:14Z</dcterms:modified>
  <cp:revision>140</cp:revision>
  <dc:subject/>
  <dc:title>PowerPoint Presentation</dc:title>
</cp:coreProperties>
</file>