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4BCFA-D0D8-423D-A02E-30019178CA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6BC1D-EC5F-43F4-823E-6E66FF6E8D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BA0D-C86B-4AD6-ABC4-9C6E95196DC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8 % 20?  It's 8, but students often sa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the students what 15 % 4 and 8 / 3 are, since the answers are non-obvi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442D-63AC-43C0-AD1B-D6A1B285AFE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7CB2-03F5-4E30-9E50-C867A7C9F9D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4631-721E-4113-B747-D1C3B1E8529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ut that it's odd for 42.0 to be considered a real number, but it is.  Also point out that the 2.143e17 is scientific notation and means (2.143 * 10^17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62B0-232B-466A-952B-CF5B6853FA7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EAA3-D1A5-49EF-8BDA-FF13FE24CCA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376D-B761-4066-A68D-6DCEEBC5D90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780C-900F-48DB-9A61-EF1A0544773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x + 2;     increases the value stored in variable x by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0F6C-BCAC-4A72-90CB-8FA78C2300E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're basically going to manipulate letters and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ake the integer / real number distinction in English as well.  We don't ask, "How many do you weigh?" or, "How much sisters do you have?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int/double split is related to how a computer processor crunches numbers.  A CPU does integer computations and a Floating Point Unit (FPU) does real number compu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Java separate int and double?  Why not use one combined type called numb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6F6-5C7B-4F2D-9978-2F4752AC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E208-A539-440A-99B8-5624814B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C715-13BD-4BBC-8F18-8A631EC8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4C16-8E75-4E88-A3F0-760EAA85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1180-6B56-4A37-BC4F-9A9194BA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1199-A2A6-42BF-8870-B95BDD6F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8A6-2063-413E-9DB5-C1B28DBA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9949-2B4E-43C4-B3CF-0373AFB5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31FD-1BA7-45A6-A5E7-4E790B2B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614-6C59-4D8A-BA89-44AA1EB3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04D2-8B05-4B09-8B8D-29581432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62C-FE86-4575-849C-B5F455AD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6881-F04F-4566-9A2B-23DA301770E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regorian_calendar" TargetMode="Externa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s.washington.edu/homes/deibel/CAT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4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xpressions and Variabl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-1153080" y="5638680"/>
            <a:ext cx="654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Based on slides bu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36240" y="1599840"/>
            <a:ext cx="8458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"Once a person has understood the way variables are used in programming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have understood the quintessence of programming."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-Professor Edsger W. Dijks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http://upload.wikimedia.org/wikipedia/commons/thumb/d/d9/Edsger_Wybe_Dijkstra.jpg/220px-Edsger_Wybe_Dijkstra.jpg"/>
          <p:cNvPicPr/>
          <p:nvPr/>
        </p:nvPicPr>
        <p:blipFill>
          <a:blip r:embed="rId2"/>
          <a:stretch/>
        </p:blipFill>
        <p:spPr>
          <a:xfrm>
            <a:off x="7162920" y="4441680"/>
            <a:ext cx="179676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ger remainder with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%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10666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rator computes the remainder from integer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4 %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18 %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   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   4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4 ) 14              5 ) 218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2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18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ra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last digit of a number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30857 %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last 4 digits: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58236489 % 10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4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whether a number is od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 %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2 %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6095880" y="2006640"/>
            <a:ext cx="2819520" cy="18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is the resul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5 %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%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%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 %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CF82-B793-422F-B715-54CEC252645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each expression evaluate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8600" y="1828800"/>
          <a:ext cx="8763120" cy="441972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190600"/>
                <a:gridCol w="2190960"/>
              </a:tblGrid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%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% 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%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.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8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919C-C1AA-4125-8D8F-FF8586F13F5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e following expression evaluate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1017 % 100 + 12 %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.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.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.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. 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.  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EF58-08C2-4341-9143-4503517A2EC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2048040" y="3513240"/>
            <a:ext cx="13809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685880" y="3240000"/>
            <a:ext cx="11685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676520" y="2743200"/>
            <a:ext cx="12366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member PEMDAS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240" y="741240"/>
            <a:ext cx="9110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arlett" charset="2"/>
              <a:buChar char="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ce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rder in which operators are evalu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operators evaluate left-to-righ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- 2 -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1 - 2) -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hich 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higher level of precedence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br>
              <a:rPr sz="2400"/>
            </a:br>
            <a:br>
              <a:rPr sz="700"/>
            </a:br>
            <a:br>
              <a:rPr sz="7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+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 *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 +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 / 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*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 +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   *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 +     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heses can force a certain order of evalua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1 + 3) *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ing does not affect order of evalu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+3 * 4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0073-2211-42D9-AE03-EBC9453C153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ecedence exampl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360" y="17521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* 2 + 3 * 5 %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+ 3 * 5 %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2   +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%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2   +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800600" y="1752480"/>
            <a:ext cx="4343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+ 8 / 3 * 2 -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+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* 2 -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+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-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-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_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7D87-DC44-4842-BFF2-34D09EFEACF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ecedence ques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values result from the following expres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9 /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695 %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7 + 6 *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7 * 6 +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248 % 100 /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6 * 3 - 9 /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5 - 7) *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6 + (18 % (17 - 12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D1F9-E8F8-4DDD-8520-8D1948953F6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e!!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J include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de P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ew -&gt; Show Code 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d - eval - pri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is JS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to try various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666880" y="3809880"/>
            <a:ext cx="5486400" cy="312444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D153-E36E-4CEC-ACCE-4D77A85714B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al numbers (typ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doubl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7632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6.02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-42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2.143e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ter an integer makes it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perators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ll still work with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es an exact answer: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5.0 / 2.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ence is the sam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efore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efore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works with doubles too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.25 % 0.75 is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6AE1-0C9D-4A40-A6B2-D325E73E5D2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al number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.0 * 2.4 + 2.25 * 4.0 /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4.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+ 2.25 * 4.0 /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4.8    +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9.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/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4.8    +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____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71F0-BE0D-42BF-987A-C85053248A6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ecision in real numb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uter internally represents real numbers in an imprecis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0.1 + 0.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utput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.300000000000000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46C2-C262-4763-AF55-90205B0F1F3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Data and expressions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ading: 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BE8F-F5B5-4941-8BE5-3ECE5EC7A97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2743200" y="3959280"/>
            <a:ext cx="7621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mixed, the result i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.2 *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version is per-operator, affecting only its oper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5000"/>
              </a:lnSpc>
              <a:spcBef>
                <a:spcPts val="201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 / 3 * 1.2 + 3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5000"/>
              </a:lnSpc>
              <a:spcBef>
                <a:spcPts val="201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  |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* 1.2 + 3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5000"/>
              </a:lnSpc>
              <a:spcBef>
                <a:spcPts val="201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     |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2.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5000"/>
              </a:lnSpc>
              <a:spcBef>
                <a:spcPts val="201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                |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2.4     + 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5000"/>
              </a:lnSpc>
              <a:spcBef>
                <a:spcPts val="201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\________/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          |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3.4</a:t>
            </a:r>
            <a:br>
              <a:rPr sz="1600"/>
            </a:b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 /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ve, no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xing typ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935600" y="3048120"/>
            <a:ext cx="419076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.5 + 10 / 3 * 2.5 - 6 /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.5 +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* 2.5 - 6 /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_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.5 +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7.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- 6 /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     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           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.5 +      7.5     -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_____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|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10.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-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__________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     |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9.0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(not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9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2837-B98A-400B-91F1-B867DD46EEA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3733920" y="5691240"/>
            <a:ext cx="22096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6320" y="990360"/>
            <a:ext cx="90676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9"/>
              </a:spcBef>
              <a:buClr>
                <a:srgbClr val="000000"/>
              </a:buClr>
              <a:buFont typeface="Marlett" charset="2"/>
              <a:buChar char="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ng concate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a string and another value to make a longer st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hello" + 4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hello42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+ "abc" +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1abc2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abc" + 1 +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abc12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+ 2 + "abc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3abc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abc" + 9 *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abc27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1" + 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11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 - 1 + "abc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3abc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99"/>
              </a:spcBef>
              <a:buClr>
                <a:srgbClr val="000000"/>
              </a:buClr>
              <a:buFont typeface="Marlett" charset="2"/>
              <a:buChar char="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print a string and an expression's value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Grade: " +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95.1 + 71.9) / 2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de: 8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ring concaten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0441-C30A-4163-BAB9-F7C12A2B7D9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04920" y="457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e following express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5 + 7 / 4 + "CS" + 3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"3.0CS34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"2.25CS7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"2CS7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"2.25CS34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Something other than A -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6CD2-935A-4183-8BD6-9A2982D5BB0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Variables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ading: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42B8-B67C-4F25-8D02-B64C6D63048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1"/>
          <p:cNvGrpSpPr/>
          <p:nvPr/>
        </p:nvGrpSpPr>
        <p:grpSpPr>
          <a:xfrm>
            <a:off x="4287960" y="2519280"/>
            <a:ext cx="1828800" cy="2254320"/>
            <a:chOff x="4287960" y="2519280"/>
            <a:chExt cx="1828800" cy="2254320"/>
          </a:xfrm>
        </p:grpSpPr>
        <p:sp>
          <p:nvSpPr>
            <p:cNvPr id="133" name="Rectangle 4"/>
            <p:cNvSpPr/>
            <p:nvPr/>
          </p:nvSpPr>
          <p:spPr>
            <a:xfrm>
              <a:off x="4287960" y="2519280"/>
              <a:ext cx="1676520" cy="280800"/>
            </a:xfrm>
            <a:prstGeom prst="rect">
              <a:avLst/>
            </a:prstGeom>
            <a:solidFill>
              <a:srgbClr val="ffb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"/>
            <p:cNvSpPr/>
            <p:nvPr/>
          </p:nvSpPr>
          <p:spPr>
            <a:xfrm>
              <a:off x="4440600" y="3100320"/>
              <a:ext cx="1676160" cy="280800"/>
            </a:xfrm>
            <a:prstGeom prst="rect">
              <a:avLst/>
            </a:prstGeom>
            <a:solidFill>
              <a:srgbClr val="ffb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"/>
            <p:cNvSpPr/>
            <p:nvPr/>
          </p:nvSpPr>
          <p:spPr>
            <a:xfrm>
              <a:off x="4440600" y="3562200"/>
              <a:ext cx="1676160" cy="281160"/>
            </a:xfrm>
            <a:prstGeom prst="rect">
              <a:avLst/>
            </a:prstGeom>
            <a:solidFill>
              <a:srgbClr val="ffb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"/>
            <p:cNvSpPr/>
            <p:nvPr/>
          </p:nvSpPr>
          <p:spPr>
            <a:xfrm>
              <a:off x="4295880" y="4022640"/>
              <a:ext cx="1676520" cy="280800"/>
            </a:xfrm>
            <a:prstGeom prst="rect">
              <a:avLst/>
            </a:prstGeom>
            <a:solidFill>
              <a:srgbClr val="ffb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4440600" y="4271760"/>
              <a:ext cx="1676160" cy="281160"/>
            </a:xfrm>
            <a:prstGeom prst="rect">
              <a:avLst/>
            </a:prstGeom>
            <a:solidFill>
              <a:srgbClr val="ffb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4"/>
            <p:cNvSpPr/>
            <p:nvPr/>
          </p:nvSpPr>
          <p:spPr>
            <a:xfrm>
              <a:off x="4440600" y="4492440"/>
              <a:ext cx="1676160" cy="281160"/>
            </a:xfrm>
            <a:prstGeom prst="rect">
              <a:avLst/>
            </a:prstGeom>
            <a:solidFill>
              <a:srgbClr val="ffb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What's bad about the following code?</a:t>
            </a:r>
            <a:br>
              <a:rPr sz="2400"/>
            </a:br>
            <a:br>
              <a:rPr sz="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eceip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br>
              <a:rPr sz="1800"/>
            </a:b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// Calculate total owed, assuming 8% tax / 15% tip</a:t>
            </a:r>
            <a:br>
              <a:rPr sz="1800"/>
            </a:b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"Subtotal: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38 + 40 + 30);</a:t>
            </a:r>
            <a:br>
              <a:rPr sz="1800"/>
            </a:br>
            <a:br>
              <a:rPr sz="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ax: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(38 + 40 + 30) * .08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ip: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(38 + 40 + 30) * .15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otal: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38 + 40 + 30 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(38 + 40 + 30) * .08 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(38 + 40 + 30) * .15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btotal express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38 + 40 + 30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s rep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man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ceipt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B733-158D-42FE-BA61-0EED789622B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piece of the computer's memory that is given a name and type, and can store a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preset stations on a car stereo, or cell phone speed d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for using a vari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l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tate its name and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itializ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tore a value into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int it or use it as part of an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369720" y="3048120"/>
            <a:ext cx="4826160" cy="1181160"/>
            <a:chOff x="369720" y="3048120"/>
            <a:chExt cx="4826160" cy="1181160"/>
          </a:xfrm>
        </p:grpSpPr>
        <p:pic>
          <p:nvPicPr>
            <p:cNvPr id="145" name="Picture 5" descr="car_stereo"/>
            <p:cNvPicPr/>
            <p:nvPr/>
          </p:nvPicPr>
          <p:blipFill>
            <a:blip r:embed="rId1"/>
            <a:srcRect l="0" t="33199" r="0" b="35405"/>
            <a:stretch/>
          </p:blipFill>
          <p:spPr>
            <a:xfrm>
              <a:off x="369720" y="3048120"/>
              <a:ext cx="482616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Oval 6"/>
            <p:cNvSpPr/>
            <p:nvPr/>
          </p:nvSpPr>
          <p:spPr>
            <a:xfrm>
              <a:off x="1759320" y="3815280"/>
              <a:ext cx="2258640" cy="36108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8" descr=""/>
          <p:cNvPicPr/>
          <p:nvPr/>
        </p:nvPicPr>
        <p:blipFill>
          <a:blip r:embed="rId2"/>
          <a:srcRect l="0" t="0" r="3169" b="0"/>
          <a:stretch/>
        </p:blipFill>
        <p:spPr>
          <a:xfrm>
            <a:off x="6477120" y="2800440"/>
            <a:ext cx="1504800" cy="1676160"/>
          </a:xfrm>
          <a:prstGeom prst="rect">
            <a:avLst/>
          </a:prstGeom>
          <a:ln w="0">
            <a:noFill/>
          </a:ln>
        </p:spPr>
      </p:pic>
      <p:sp>
        <p:nvSpPr>
          <p:cNvPr id="14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1C56-4873-4344-AAFF-97F285D6552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cla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 decla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aside memory for storing a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must be declar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they can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type&gt;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myGP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562720" y="3657600"/>
          <a:ext cx="2438280" cy="6602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562720" y="4749840"/>
          <a:ext cx="2438280" cy="6602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270C-4B52-455B-BBF9-9ED049AABBE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5800" y="5943600"/>
            <a:ext cx="358128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85800" y="4692600"/>
            <a:ext cx="1219320" cy="412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562720" y="3657600"/>
          <a:ext cx="2438280" cy="6602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562720" y="4749840"/>
          <a:ext cx="2438280" cy="6602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3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 txBox="1"/>
          <p:nvPr/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gn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tores a value in a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is the result of an express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riable stores its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expression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3; // or int x =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yGPA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GPA = 1.0 + 2.25; // or double myGPA = 3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0D66-D1ED-44A7-9524-64ABAABCE4D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claration/initializ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able can be declared/initialized in one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type&gt;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expression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(11 % 3) + 1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yGPA = 3.9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400800" y="2895480"/>
          <a:ext cx="2209680" cy="660600"/>
        </p:xfrm>
        <a:graphic>
          <a:graphicData uri="http://schemas.openxmlformats.org/drawingml/2006/table">
            <a:tbl>
              <a:tblPr/>
              <a:tblGrid>
                <a:gridCol w="990720"/>
                <a:gridCol w="1218960"/>
              </a:tblGrid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400800" y="4038480"/>
          <a:ext cx="2209680" cy="660600"/>
        </p:xfrm>
        <a:graphic>
          <a:graphicData uri="http://schemas.openxmlformats.org/drawingml/2006/table">
            <a:tbl>
              <a:tblPr/>
              <a:tblGrid>
                <a:gridCol w="990720"/>
                <a:gridCol w="1218960"/>
              </a:tblGrid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8D82-BDBA-44D8-AFCD-840468EB43E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1066680" y="4495680"/>
            <a:ext cx="15638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532400" y="2438280"/>
            <a:ext cx="2286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5438880" y="1981080"/>
            <a:ext cx="2286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sing variabl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34120" y="5415120"/>
          <a:ext cx="1981080" cy="66024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334120" y="5415120"/>
          <a:ext cx="1981080" cy="66024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 txBox="1"/>
          <p:nvPr/>
        </p:nvSpPr>
        <p:spPr>
          <a:xfrm>
            <a:off x="228240" y="10666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given a value, a variable can be used in express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is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5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1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ssign a value more than o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x + " here"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 her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4 + 7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now x is " + x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now x is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2147-ADF0-4424-9877-69A3FC44123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computer’s view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ly, most computers store everything as 1’s and 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110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i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110100001101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110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 computer tell the difference betwee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category or set of data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s the operations that can be performed 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languages ask the programmer to specify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integer, real number,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y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6C68-DD01-4100-9F88-BC4574167A3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533520" y="5867280"/>
            <a:ext cx="19810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ignment vs. algebra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791320" y="4902120"/>
          <a:ext cx="1981080" cy="66060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791320" y="4902120"/>
          <a:ext cx="1981080" cy="66060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"/>
          <p:cNvSpPr txBox="1"/>
          <p:nvPr/>
        </p:nvSpPr>
        <p:spPr>
          <a:xfrm>
            <a:off x="75960" y="114300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ment us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but it is not an algebraic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ans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store the value at right in variable at lef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3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ecomes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or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hould now store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3 = 1 + 2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s an illegal statement, beca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a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2;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//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2F4B-F5F7-40B8-A173-ABA252C299E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5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output of the follow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y = x; // y stores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= 5; // x now stores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y = y + 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ystem.out.println( x + " " + 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: "5 8"    B: 5 10    C: 10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:  5 + 10  E: 5 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DE11-CBE9-4CEA-B9BB-694738F2B50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wapping the Contents of Two Variabl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of this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x = 12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y = 32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x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.out.println(x + " " + 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of this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x = 1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y = 3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 = x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 = 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x + " " + y + " " + t)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734F-A58B-44D6-BBB5-616E0989695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ignment and typ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able can only store a value of its own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int x = 2.5;    // ERROR: incompatibl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e can be stored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is converted into the equivalent real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uble myGPA = 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uble avg = 11 / 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o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5.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no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5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791320" y="3733920"/>
          <a:ext cx="2209680" cy="660240"/>
        </p:xfrm>
        <a:graphic>
          <a:graphicData uri="http://schemas.openxmlformats.org/drawingml/2006/table">
            <a:tbl>
              <a:tblPr/>
              <a:tblGrid>
                <a:gridCol w="990360"/>
                <a:gridCol w="12193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791320" y="4749840"/>
          <a:ext cx="2209680" cy="660240"/>
        </p:xfrm>
        <a:graphic>
          <a:graphicData uri="http://schemas.openxmlformats.org/drawingml/2006/table">
            <a:tbl>
              <a:tblPr/>
              <a:tblGrid>
                <a:gridCol w="990360"/>
                <a:gridCol w="12193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v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E090-3AAF-4268-BB86-7F885C4AED2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piler erro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6320" y="114300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able can't be used until it is assigned a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x);// ERROR: x has no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not declare the same variable twice (in the same block of code. methods for now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;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int x;</a:t>
            </a:r>
            <a:r>
              <a:rPr b="1" lang="en-US" sz="2400" spc="-1" strike="noStrike">
                <a:solidFill>
                  <a:srgbClr val="a50021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// ERROR: x already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int x = 5;     // ERROR: x already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this code be fix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C0E4-A457-416F-BB51-402E02E8FBF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3419640" y="2590920"/>
            <a:ext cx="39718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inting a variable's valu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143000"/>
            <a:ext cx="9220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print a string and a variable's value on one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rade = (95.1 + 71.9 + 82.6) / 3.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Your grade was " + gra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students = 11 + 17 + 4 + 19 + 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There are " + student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 students in the course."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r grade was 8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re are 65 students in the co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8F95-472B-4BAB-BE1A-72CF4FDB048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0" y="1143000"/>
            <a:ext cx="9220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dex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M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quick calculation based on height and mass (weight) used by medical professionals to broadly categorize peopl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tool to get a rough estimate if someone is underweight, normal weight, overweight, or ob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program to calculate BMI for a given height and m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 Problem - BMI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6886800" cy="144792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98DC-CA13-4DB5-9A66-8D4110291C9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0" y="1143000"/>
            <a:ext cx="9220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Gregorian Cale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month, day, and year, calculate day of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hs, 1 = January, 2 = February, … 12 = Dec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year - (14 - month) /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y + y / 4 - y / 100 + y / 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= month + 12 * ((14 - month) / 12)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= (day + x + (31 * m) / 12) %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= Sunday, 1 = Monday, 2 = Tues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 Problem 2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- Day of Week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AED2-F815-49CB-9CE7-BE5079F3BCE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ceipt ques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Improve the receipt program using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eceip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Calculate total owed, assuming 8% tax / 15% t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ubtotal: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38 + 40 + 3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ax: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(38 + 40 + 30) * .08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ip: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(38 + 40 + 30) * .1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otal: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38 + 40 + 30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38 + 40 + 30) * .15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38 + 40 + 30) * .08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CEC1-76C1-46EE-BD17-6BF1AE51842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ceipt answ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960" y="1218960"/>
            <a:ext cx="92199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eceip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Calculate total owed, assuming 8% tax / 15% t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btotal = 38 + 40 + 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tax = subtotal * .0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tip = subtotal * .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total = subtotal + tax + t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ubtotal: "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+ subtota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ax: "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+ ta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ip: "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+ t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otal: "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+ tota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8F37-D8F1-42BC-B666-BD6E7B6357A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ava's primitive typ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itive typ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8 simple types for numbers, character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also h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we'll talk about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–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p to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263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–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numb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p to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0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0.2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.4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–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909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90909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09090"/>
                </a:solidFill>
                <a:latin typeface="Arial"/>
              </a:rPr>
              <a:t>single text characters</a:t>
            </a:r>
            <a:r>
              <a:rPr b="0" lang="en-US" sz="2000" spc="-1" strike="noStrike">
                <a:solidFill>
                  <a:srgbClr val="90909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0909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90909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909090"/>
                </a:solidFill>
                <a:latin typeface="Courier New"/>
              </a:rPr>
              <a:t>'X'</a:t>
            </a:r>
            <a:r>
              <a:rPr b="0" lang="en-US" sz="2000" spc="-1" strike="noStrike">
                <a:solidFill>
                  <a:srgbClr val="90909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909090"/>
                </a:solidFill>
                <a:latin typeface="Courier New"/>
              </a:rPr>
              <a:t>'?'</a:t>
            </a:r>
            <a:r>
              <a:rPr b="0" lang="en-US" sz="2000" spc="-1" strike="noStrike">
                <a:solidFill>
                  <a:srgbClr val="90909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909090"/>
                </a:solidFill>
                <a:latin typeface="Courier New"/>
              </a:rPr>
              <a:t>'\n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–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909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90909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09090"/>
                </a:solidFill>
                <a:latin typeface="Arial"/>
              </a:rPr>
              <a:t>logical values</a:t>
            </a:r>
            <a:r>
              <a:rPr b="0" lang="en-US" sz="2000" spc="-1" strike="noStrike">
                <a:solidFill>
                  <a:srgbClr val="90909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0909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0909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90909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90909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Java distinguish integers vs. real numb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9972-F92B-4016-9332-3AE4C36F7E4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ger or real number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category is more appropri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redit: Kate Deibel,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www.cs.washington.edu/homes/deibel/CATs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14400" y="1981080"/>
          <a:ext cx="6934320" cy="176400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 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 number 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4" name="Group 15"/>
          <p:cNvGrpSpPr/>
          <p:nvPr/>
        </p:nvGrpSpPr>
        <p:grpSpPr>
          <a:xfrm>
            <a:off x="0" y="4114800"/>
            <a:ext cx="9144000" cy="1763640"/>
            <a:chOff x="0" y="4114800"/>
            <a:chExt cx="9144000" cy="1763640"/>
          </a:xfrm>
        </p:grpSpPr>
        <p:sp>
          <p:nvSpPr>
            <p:cNvPr id="65" name="Text Box 16"/>
            <p:cNvSpPr/>
            <p:nvPr/>
          </p:nvSpPr>
          <p:spPr>
            <a:xfrm>
              <a:off x="0" y="4114800"/>
              <a:ext cx="4343400" cy="17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1. Temperature in degrees Celsiu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2. The population of lemming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3. Your grade point avera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4. A person's age in yea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5. A person's weight in poun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6. A person's height in mete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7"/>
            <p:cNvSpPr/>
            <p:nvPr/>
          </p:nvSpPr>
          <p:spPr>
            <a:xfrm>
              <a:off x="3962520" y="4114800"/>
              <a:ext cx="5181480" cy="17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</a:t>
              </a: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7. Number of miles travele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</a:t>
              </a: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8. Number of dry days in the past mon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</a:t>
              </a: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9. Your locker numb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10. Number of seconds left in a gam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11. The sum of a group of intege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12. The average of a group of intege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0736-7543-4785-BC07-E38DFAD8C14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best choice for data ty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1828800"/>
          <a:ext cx="8763120" cy="441972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190600"/>
                <a:gridCol w="2190960"/>
              </a:tblGrid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days it rained in 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 of group of integ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of group of integ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1950-7E7E-4E9B-B26D-14DDF8C679C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combination of values and / or operations that results (via computation) in a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 + 4 *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7 + 2) * 6 /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Hello, world!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mplest expression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teral 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lex expression uses operators and parenth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78EC-BBCA-41CB-815C-CEC5337EB5D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ithmetic operato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mbines multiple values or ex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Courier New"/>
              <a:buChar char="–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Courier New"/>
              <a:buChar char="–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ion (or neg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Courier New"/>
              <a:buChar char="–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Courier New"/>
              <a:buChar char="–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Courier New"/>
              <a:buChar char="–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der (sometimes called modul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program runs, its expressions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alu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+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valuate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3 * 4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prin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we print the tex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3 *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015D-1338-457B-89BA-9982C4495A7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ger division with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/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76680" y="1066680"/>
            <a:ext cx="9448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divide integers, the quotient is also an integ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uclidean division a.k.a. division with remaine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5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4 /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o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  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   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 ) 14           10 ) 45               27 ) 14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                5                     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Marlett" charset="2"/>
              <a:buChar char="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xampl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58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2 /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84 /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56 /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580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ing by 0 causes an error when your program runs with integer division. Try floating point division by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B877-DC4B-4419-9745-B28707908AA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04T16:57:38Z</dcterms:modified>
  <cp:revision>158</cp:revision>
  <dc:subject/>
  <dc:title>PowerPoint Presentation</dc:title>
</cp:coreProperties>
</file>