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6BE56-19BC-4752-AEA1-CF5AAE6B9A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57F91-B51D-4C34-9C3F-5092CA40CA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0E21-66A3-4E88-A0B8-4C23BC4AFE2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8 % 20?  It's 8, but students often say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the students what 15 % 4 and 8 / 3 are, since the answers are non-obvi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345A-A731-4DCE-A786-8807FCDDDDC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7D4D-0855-4EB8-A0C2-1DC1BBDC907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C4A6-6980-4E19-AE30-82982E9C166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ut that it's odd for 42.0 to be considered a real number, but it is.  Also point out that the 2.143e17 is scientific notation and means (2.143 * 10^17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1113-D965-4064-80A8-19898663566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BF15-B9AD-4324-8193-8187E438CB3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4B0B-F985-40B4-A442-603687EB571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A03E-AE28-4525-BD44-A58DB85AB84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x + 2;     increases the value stored in variable x by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9E80-EF1F-461F-9B6E-EB4BA7150F9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're basically going to manipulate letters and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ake the integer / real number distinction in English as well.  We don't ask, "How many do you weigh?" or, "How much sisters do you have?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int/double split is related to how a computer processor crunches numbers.  A CPU does integer computations and a Floating Point Unit (FPU) does real number compu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Java separate int and double?  Why not use one combined type called numb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38A5-5595-49F5-8086-24F95D6D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8091-9F91-4A58-9C97-B9EDC96C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5801-D18B-4B74-8F9D-EF33C767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23DC-7323-405E-AE88-EADB3A21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E4F7-9E97-4323-A4E3-40763C50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5D95-28FE-4912-8F9E-D61B0C6A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B3DE-7DB5-4CB9-9957-660845D5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5FA6-A499-48DB-B4BE-E2D90049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329E-FDDE-4BD8-8D9C-73690B1D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23DA-824C-4AC7-B23A-A7229F96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5177-1978-4969-9A22-E9C4FE00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CD8F-7FF6-4D56-B150-333A3A0D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7A55-C253-4CC8-92E6-9997B60A3ED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ildingjavaprograms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regorian_calendar" TargetMode="Externa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s.washington.edu/homes/deibel/CATs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4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xpressions and Variable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-1153080" y="5638680"/>
            <a:ext cx="654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Based on slides bu Marty Stepp and Stuart Reges _x000b_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36240" y="1599840"/>
            <a:ext cx="8458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"Once a person has understood the way variables are used in programming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have understood the quintessence of programming."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-Professor Edsger W. Dijks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http://upload.wikimedia.org/wikipedia/commons/thumb/d/d9/Edsger_Wybe_Dijkstra.jpg/220px-Edsger_Wybe_Dijkstra.jpg"/>
          <p:cNvPicPr/>
          <p:nvPr/>
        </p:nvPicPr>
        <p:blipFill>
          <a:blip r:embed="rId2"/>
          <a:stretch/>
        </p:blipFill>
        <p:spPr>
          <a:xfrm>
            <a:off x="7162920" y="4441680"/>
            <a:ext cx="179676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ger remainder with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%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10666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Marlett" charset="2"/>
              <a:buChar char="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rator computes the remainder from integer di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4 %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18 %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   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   4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4 ) 14              5 ) 218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2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18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Marlett" charset="2"/>
              <a:buChar char="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ra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last digit of a number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30857 %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last 4 digits: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58236489 % 10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4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whether a number is od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 %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2 %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6095880" y="2006640"/>
            <a:ext cx="2819520" cy="18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is the resul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5 %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%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%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 %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7B6C-C272-4BA3-88EB-0ACFE1E568F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each expression evaluate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8600" y="1828800"/>
          <a:ext cx="8763120" cy="441972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190600"/>
                <a:gridCol w="2190960"/>
              </a:tblGrid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%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% 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%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.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8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65D9-28B9-4076-8D19-1791092DF38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e following expression evaluate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1017 % 100 + 12 %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.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.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.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. 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.  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10F4-32EC-463F-9B2B-AE397FBD3C1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2048040" y="3513240"/>
            <a:ext cx="13809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685880" y="3240000"/>
            <a:ext cx="11685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676520" y="2743200"/>
            <a:ext cx="12366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member PEMDAS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240" y="741240"/>
            <a:ext cx="9110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arlett" charset="2"/>
              <a:buChar char="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ce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rder in which operators are evalu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operators evaluate left-to-righ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- 2 -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1 - 2) -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hich is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higher level of precedence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br>
              <a:rPr sz="2400"/>
            </a:br>
            <a:br>
              <a:rPr sz="700"/>
            </a:br>
            <a:br>
              <a:rPr sz="7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+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 *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 +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 / 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*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 +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   *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 +     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heses can force a certain order of evalua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1 + 3) *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ing does not affect order of evalu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+3 * 4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863B-604C-4228-8BA2-7C421EE0F53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ecedence exampl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-360" y="17521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* 2 + 3 * 5 %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+ 3 * 5 %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2   +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%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2   +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__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|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800600" y="1752480"/>
            <a:ext cx="4343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+ 8 / 3 * 2 -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+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* 2 -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+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-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-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___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|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79D7-204B-4350-A623-99F4F354332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ecedence ques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values result from the following expres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9 /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695 %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7 + 6 *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7 * 6 +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248 % 100 /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6 * 3 - 9 /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5 - 7) *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6 + (18 % (17 - 12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7224-2F0E-40B1-A347-874A3BC286B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e!!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J include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de P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iew -&gt; Show Code 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d - eval - pri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is JSh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to try various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2666880" y="3809880"/>
            <a:ext cx="5486400" cy="312444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591C-9D6B-4A67-AE70-381CDB12457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al numbers (type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double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7632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6.02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-42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2.143e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ter an integer makes it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perators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ll still work with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es an exact answer: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5.0 / 2.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edence is the sam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efore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efore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 works with doubles too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.25 % 0.75 is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8334-BCB7-4AE8-84EF-84C42ED547F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al number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.0 * 2.4 + 2.25 * 4.0 /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4.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+ 2.25 * 4.0 /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4.8    +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9.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/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 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4.8    +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______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|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E4F6-9758-4976-A25D-2A0280633A1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ecision in real numbe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uter internally represents real numbers in an imprecis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0.1 + 0.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utput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.300000000000000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DF6C-7059-446A-BE3A-CADA0F3798E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Data and expressions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ading: 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5D50-D8FB-455A-9968-26413950E8A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2743200" y="3959280"/>
            <a:ext cx="7621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mixed, the result i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.2 *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version is per-operator, affecting only its oper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75000"/>
              </a:lnSpc>
              <a:spcBef>
                <a:spcPts val="201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 / 3 * 1.2 + 3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75000"/>
              </a:lnSpc>
              <a:spcBef>
                <a:spcPts val="201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Courier New"/>
              </a:rPr>
              <a:t>\_/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Courier New"/>
              </a:rPr>
              <a:t>  |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* 1.2 + 3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75000"/>
              </a:lnSpc>
              <a:spcBef>
                <a:spcPts val="201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Courier New"/>
              </a:rPr>
              <a:t>\___/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Courier New"/>
              </a:rPr>
              <a:t>     |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2.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75000"/>
              </a:lnSpc>
              <a:spcBef>
                <a:spcPts val="201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808080"/>
                </a:solidFill>
                <a:latin typeface="Courier New"/>
              </a:rPr>
              <a:t>\_/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Courier New"/>
              </a:rPr>
              <a:t>                |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2.4     +  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75000"/>
              </a:lnSpc>
              <a:spcBef>
                <a:spcPts val="201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808080"/>
                </a:solidFill>
                <a:latin typeface="Courier New"/>
              </a:rPr>
              <a:t>\________/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Courier New"/>
              </a:rPr>
              <a:t>          |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3.4</a:t>
            </a:r>
            <a:br>
              <a:rPr sz="1600"/>
            </a:b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 /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ve, no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xing typ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935600" y="3048120"/>
            <a:ext cx="4190760" cy="36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.5 + 10 / 3 * 2.5 - 6 /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_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.5 +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* 2.5 - 6 /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___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   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.5 +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7.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- 6 /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          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              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.5 +      7.5     -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_______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|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10.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-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____________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      |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9.0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(not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9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C31E-ABA9-417F-A083-4F5A14E1B9B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3733920" y="5691240"/>
            <a:ext cx="22096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6320" y="990360"/>
            <a:ext cx="90676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9"/>
              </a:spcBef>
              <a:buClr>
                <a:srgbClr val="000000"/>
              </a:buClr>
              <a:buFont typeface="Marlett" charset="2"/>
              <a:buChar char="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ng concate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a string and another value to make a longer st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hello" + 4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hello42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+ "abc" +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1abc2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abc" + 1 +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abc12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+ 2 + "abc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3abc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abc" + 9 *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abc27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1" + 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11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 - 1 + "abc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3abc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99"/>
              </a:spcBef>
              <a:buClr>
                <a:srgbClr val="000000"/>
              </a:buClr>
              <a:buFont typeface="Marlett" charset="2"/>
              <a:buChar char="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print a string and an expression's value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"Grade: " +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95.1 + 71.9) / 2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de: 8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ring concaten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D2DD-88A0-4AEA-82D8-685B4CB0167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04920" y="457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e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e following express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25 + 7 / 4 + "CS" + 3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"3.0CS34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"2.25CS7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"2CS7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"2.25CS34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Something other than A -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0A32-B414-4FB3-A558-E87CBD11923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Variables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ading: 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27B9-B730-495B-9C96-5B6F4CA3AB6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11"/>
          <p:cNvGrpSpPr/>
          <p:nvPr/>
        </p:nvGrpSpPr>
        <p:grpSpPr>
          <a:xfrm>
            <a:off x="4287960" y="2519280"/>
            <a:ext cx="1828800" cy="2254320"/>
            <a:chOff x="4287960" y="2519280"/>
            <a:chExt cx="1828800" cy="2254320"/>
          </a:xfrm>
        </p:grpSpPr>
        <p:sp>
          <p:nvSpPr>
            <p:cNvPr id="133" name="Rectangle 4"/>
            <p:cNvSpPr/>
            <p:nvPr/>
          </p:nvSpPr>
          <p:spPr>
            <a:xfrm>
              <a:off x="4287960" y="2519280"/>
              <a:ext cx="1676520" cy="280800"/>
            </a:xfrm>
            <a:prstGeom prst="rect">
              <a:avLst/>
            </a:prstGeom>
            <a:solidFill>
              <a:srgbClr val="ffb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"/>
            <p:cNvSpPr/>
            <p:nvPr/>
          </p:nvSpPr>
          <p:spPr>
            <a:xfrm>
              <a:off x="4440600" y="3100320"/>
              <a:ext cx="1676160" cy="280800"/>
            </a:xfrm>
            <a:prstGeom prst="rect">
              <a:avLst/>
            </a:prstGeom>
            <a:solidFill>
              <a:srgbClr val="ffb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"/>
            <p:cNvSpPr/>
            <p:nvPr/>
          </p:nvSpPr>
          <p:spPr>
            <a:xfrm>
              <a:off x="4440600" y="3562200"/>
              <a:ext cx="1676160" cy="281160"/>
            </a:xfrm>
            <a:prstGeom prst="rect">
              <a:avLst/>
            </a:prstGeom>
            <a:solidFill>
              <a:srgbClr val="ffb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"/>
            <p:cNvSpPr/>
            <p:nvPr/>
          </p:nvSpPr>
          <p:spPr>
            <a:xfrm>
              <a:off x="4295880" y="4022640"/>
              <a:ext cx="1676520" cy="280800"/>
            </a:xfrm>
            <a:prstGeom prst="rect">
              <a:avLst/>
            </a:prstGeom>
            <a:solidFill>
              <a:srgbClr val="ffb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4440600" y="4271760"/>
              <a:ext cx="1676160" cy="281160"/>
            </a:xfrm>
            <a:prstGeom prst="rect">
              <a:avLst/>
            </a:prstGeom>
            <a:solidFill>
              <a:srgbClr val="ffb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4"/>
            <p:cNvSpPr/>
            <p:nvPr/>
          </p:nvSpPr>
          <p:spPr>
            <a:xfrm>
              <a:off x="4440600" y="4492440"/>
              <a:ext cx="1676160" cy="281160"/>
            </a:xfrm>
            <a:prstGeom prst="rect">
              <a:avLst/>
            </a:prstGeom>
            <a:solidFill>
              <a:srgbClr val="ffb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What's bad about the following code?</a:t>
            </a:r>
            <a:br>
              <a:rPr sz="2400"/>
            </a:br>
            <a:br>
              <a:rPr sz="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eceip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br>
              <a:rPr sz="1800"/>
            </a:b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// Calculate total owed, assuming 8% tax / 15% tip</a:t>
            </a:r>
            <a:br>
              <a:rPr sz="1800"/>
            </a:b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"Subtotal: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38 + 40 + 30);</a:t>
            </a:r>
            <a:br>
              <a:rPr sz="1800"/>
            </a:br>
            <a:br>
              <a:rPr sz="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ax: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(38 + 40 + 30) * .08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ip: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(38 + 40 + 30) * .15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otal: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38 + 40 + 30 +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(38 + 40 + 30) * .08 +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(38 + 40 + 30) * .15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btotal express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38 + 40 + 30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s rep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man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l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ceipt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538B-907A-4C78-991E-57FA0397338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piece of the computer's memory that is given a name and type, and can store a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preset stations on a car stereo, or cell phone speed di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for using a vari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l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tate its name and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itializ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tore a value into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int it or use it as part of an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4"/>
          <p:cNvGrpSpPr/>
          <p:nvPr/>
        </p:nvGrpSpPr>
        <p:grpSpPr>
          <a:xfrm>
            <a:off x="369720" y="3048120"/>
            <a:ext cx="4826160" cy="1181160"/>
            <a:chOff x="369720" y="3048120"/>
            <a:chExt cx="4826160" cy="1181160"/>
          </a:xfrm>
        </p:grpSpPr>
        <p:pic>
          <p:nvPicPr>
            <p:cNvPr id="145" name="Picture 5" descr="car_stereo"/>
            <p:cNvPicPr/>
            <p:nvPr/>
          </p:nvPicPr>
          <p:blipFill>
            <a:blip r:embed="rId1"/>
            <a:srcRect l="0" t="33199" r="0" b="35405"/>
            <a:stretch/>
          </p:blipFill>
          <p:spPr>
            <a:xfrm>
              <a:off x="369720" y="3048120"/>
              <a:ext cx="482616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Oval 6"/>
            <p:cNvSpPr/>
            <p:nvPr/>
          </p:nvSpPr>
          <p:spPr>
            <a:xfrm>
              <a:off x="1759320" y="3815280"/>
              <a:ext cx="2258640" cy="36108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8" descr=""/>
          <p:cNvPicPr/>
          <p:nvPr/>
        </p:nvPicPr>
        <p:blipFill>
          <a:blip r:embed="rId2"/>
          <a:srcRect l="0" t="0" r="3169" b="0"/>
          <a:stretch/>
        </p:blipFill>
        <p:spPr>
          <a:xfrm>
            <a:off x="6477120" y="2800440"/>
            <a:ext cx="1504800" cy="1676160"/>
          </a:xfrm>
          <a:prstGeom prst="rect">
            <a:avLst/>
          </a:prstGeom>
          <a:ln w="0">
            <a:noFill/>
          </a:ln>
        </p:spPr>
      </p:pic>
      <p:sp>
        <p:nvSpPr>
          <p:cNvPr id="14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4B99-30C2-4A79-91E5-58370A32BBA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cla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 decla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aside memory for storing a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must be declar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they can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type&gt;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myGP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562720" y="3657600"/>
          <a:ext cx="2438280" cy="6602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562720" y="4749840"/>
          <a:ext cx="2438280" cy="6602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F49D-36C6-40AB-844D-CA562C83194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5800" y="5943600"/>
            <a:ext cx="358128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85800" y="4692600"/>
            <a:ext cx="1219320" cy="412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562720" y="3657600"/>
          <a:ext cx="2438280" cy="6602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562720" y="4749840"/>
          <a:ext cx="2438280" cy="6602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3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 txBox="1"/>
          <p:nvPr/>
        </p:nvSpPr>
        <p:spPr>
          <a:xfrm>
            <a:off x="22824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gn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tores a value in a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is the result of an express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riable stores its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expression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3; // or int x =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yGPA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GPA = 1.0 + 2.25; // or double myGPA = 3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FB3C-016E-4889-9620-0AF73E0DAEF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claration/initializ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riable can be declared/initialized in one stat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type&gt;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expression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 = (11 % 3) + 1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yGPA = 3.9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400800" y="2895480"/>
          <a:ext cx="2209680" cy="660600"/>
        </p:xfrm>
        <a:graphic>
          <a:graphicData uri="http://schemas.openxmlformats.org/drawingml/2006/table">
            <a:tbl>
              <a:tblPr/>
              <a:tblGrid>
                <a:gridCol w="990720"/>
                <a:gridCol w="1218960"/>
              </a:tblGrid>
              <a:tr h="66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400800" y="4038480"/>
          <a:ext cx="2209680" cy="660600"/>
        </p:xfrm>
        <a:graphic>
          <a:graphicData uri="http://schemas.openxmlformats.org/drawingml/2006/table">
            <a:tbl>
              <a:tblPr/>
              <a:tblGrid>
                <a:gridCol w="990720"/>
                <a:gridCol w="1218960"/>
              </a:tblGrid>
              <a:tr h="66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829A-D693-4F57-B9DC-02338D86A70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1066680" y="4495680"/>
            <a:ext cx="15638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4532400" y="2438280"/>
            <a:ext cx="2286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5438880" y="1981080"/>
            <a:ext cx="2286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Using variabl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334120" y="5415120"/>
          <a:ext cx="1981080" cy="66024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334120" y="5415120"/>
          <a:ext cx="1981080" cy="66024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2" name=""/>
          <p:cNvSpPr txBox="1"/>
          <p:nvPr/>
        </p:nvSpPr>
        <p:spPr>
          <a:xfrm>
            <a:off x="228240" y="10666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given a value, a variable can be used in express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x is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is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5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1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ssign a value more than o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x + " here"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 her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4 + 7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now x is " + x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now x is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70F3-A96C-408C-A499-9A3DCE06F1C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computer’s view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ly, most computers store everything as 1’s and 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110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hi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110100001101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110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the computer tell the difference betwee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category or set of data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s the operations that can be performed 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languages ask the programmer to specify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integer, real number,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y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7693-64E0-486A-B462-E615F8C1524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533520" y="5867280"/>
            <a:ext cx="19810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ignment vs. algebra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791320" y="4902120"/>
          <a:ext cx="1981080" cy="66060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</a:tblGrid>
              <a:tr h="66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5791320" y="4902120"/>
          <a:ext cx="1981080" cy="66060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</a:tblGrid>
              <a:tr h="66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"/>
          <p:cNvSpPr txBox="1"/>
          <p:nvPr/>
        </p:nvSpPr>
        <p:spPr>
          <a:xfrm>
            <a:off x="75960" y="114300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ment us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but it is not an algebraic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884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ans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store the value at right in variable at lef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84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3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ecomes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or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should now store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84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3 = 1 + 2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s an illegal statement, beca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a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884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884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38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 =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2;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Courier New"/>
              </a:rPr>
              <a:t>//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6AA0-A05F-41D4-B7CA-C0E426CF4B3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5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output of the follow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y = x; // y stores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= 5; // x now stores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y = y + 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ystem.out.println( x + " " + 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: "5 8"    B: 5 10    C: 10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:  5 + 10  E: 5 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0154-AC00-4F67-A7A4-3D809CA7FB6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wapping the Contents of Two Variabl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of this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 x = 12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 y = 32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x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stem.out.println(x + " " + 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of this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x = 12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y = 32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t = x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 = 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x + " " + y + " " + t)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4BCA-9D19-48C5-A55D-CB519844CC0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ignment and typ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riable can only store a value of its own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int x = 2.5;    // ERROR: incompatibl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ue can be stored i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is converted into the equivalent real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uble myGPA = 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ouble avg = 11 / 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o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5.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d no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5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791320" y="3733920"/>
          <a:ext cx="2209680" cy="660240"/>
        </p:xfrm>
        <a:graphic>
          <a:graphicData uri="http://schemas.openxmlformats.org/drawingml/2006/table">
            <a:tbl>
              <a:tblPr/>
              <a:tblGrid>
                <a:gridCol w="990360"/>
                <a:gridCol w="121932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5791320" y="4749840"/>
          <a:ext cx="2209680" cy="660240"/>
        </p:xfrm>
        <a:graphic>
          <a:graphicData uri="http://schemas.openxmlformats.org/drawingml/2006/table">
            <a:tbl>
              <a:tblPr/>
              <a:tblGrid>
                <a:gridCol w="990360"/>
                <a:gridCol w="121932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v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849C-E501-4FD8-9FBF-6082DD29E66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piler erro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6320" y="114300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riable can't be used until it is assigned a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x);// ERROR: x has no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not declare the same variable twice (in the same block of code. methods for now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;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int x;</a:t>
            </a:r>
            <a:r>
              <a:rPr b="1" lang="en-US" sz="2400" spc="-1" strike="noStrike">
                <a:solidFill>
                  <a:srgbClr val="a50021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// ERROR: x already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int x = 5;     // ERROR: x already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this code be fix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6C3A-ABAB-4D35-9283-D243E389161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3419640" y="2590920"/>
            <a:ext cx="39718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inting a variable's valu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143000"/>
            <a:ext cx="9220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print a string and a variable's value on one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grade = (95.1 + 71.9 + 82.6) / 3.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Your grade was " + gra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students = 11 + 17 + 4 + 19 + 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There are " + student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 students in the course."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r grade was 8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re are 65 students in the co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EA49-AC0F-41BD-AE20-2171E3B6DB3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0" y="1143000"/>
            <a:ext cx="9220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dex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M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quick calculation based on height and mass (weight) used by medical professionals to broadly categorize peopl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tool to get a rough estimate if someone is underweight, normal weight, overweight, or ob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program to calculate BMI for a given height and m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 Problem - BMI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6886800" cy="144792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6B85-D0D6-4D22-8171-927342C6674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0" y="1143000"/>
            <a:ext cx="9220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Gregorian Cale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month, day, and year, calculate day of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hs, 1 = January, 2 = February, … 12 = Dec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year - (14 - month) /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y + y / 4 - y / 100 + y / 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= month + 12 * ((14 - month) / 12)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= (day + x + (31 * m) / 12) %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= Sunday, 1 = Monday, 2 = Tuesd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 Problem 2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- Day of Week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B803-8064-4382-8191-0FA12072D1E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ceipt ques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Improve the receipt program using vari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eceip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Calculate total owed, assuming 8% tax / 15% t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ubtotal: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38 + 40 + 3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ax: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(38 + 40 + 30) * .08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ip: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(38 + 40 + 30) * .1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otal: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38 + 40 + 30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38 + 40 + 30) * .15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38 + 40 + 30) * .08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A41E-9671-492A-AFCC-C517FFE34ED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ceipt answ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960" y="1218960"/>
            <a:ext cx="92199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eceip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Calculate total owed, assuming 8% tax / 15% t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btotal = 38 + 40 + 3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tax = subtotal * .0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tip = subtotal * .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total = subtotal + tax + ti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ubtotal: "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+ subtota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ax: "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+ ta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ip: "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+ t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otal: "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+ tota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DF80-B82E-4519-8A39-67D7F04D62F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ava's primitive typ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itive typ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8 simple types for numbers, character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also h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we'll talk about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–"/>
              <a:tabLst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p to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263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–"/>
              <a:tabLst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numb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p to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0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0.2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.4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–"/>
              <a:tabLst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909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90909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09090"/>
                </a:solidFill>
                <a:latin typeface="Arial"/>
              </a:rPr>
              <a:t>single text characters</a:t>
            </a:r>
            <a:r>
              <a:rPr b="0" lang="en-US" sz="2000" spc="-1" strike="noStrike">
                <a:solidFill>
                  <a:srgbClr val="90909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0909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90909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909090"/>
                </a:solidFill>
                <a:latin typeface="Courier New"/>
              </a:rPr>
              <a:t>'X'</a:t>
            </a:r>
            <a:r>
              <a:rPr b="0" lang="en-US" sz="2000" spc="-1" strike="noStrike">
                <a:solidFill>
                  <a:srgbClr val="90909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909090"/>
                </a:solidFill>
                <a:latin typeface="Courier New"/>
              </a:rPr>
              <a:t>'?'</a:t>
            </a:r>
            <a:r>
              <a:rPr b="0" lang="en-US" sz="2000" spc="-1" strike="noStrike">
                <a:solidFill>
                  <a:srgbClr val="90909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909090"/>
                </a:solidFill>
                <a:latin typeface="Courier New"/>
              </a:rPr>
              <a:t>'\n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–"/>
              <a:tabLst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909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90909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09090"/>
                </a:solidFill>
                <a:latin typeface="Arial"/>
              </a:rPr>
              <a:t>logical values</a:t>
            </a:r>
            <a:r>
              <a:rPr b="0" lang="en-US" sz="2000" spc="-1" strike="noStrike">
                <a:solidFill>
                  <a:srgbClr val="90909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0909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0909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90909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90909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es Java distinguish integers vs. real numb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FD8B-ABBD-4F68-9ADB-F8DD3F30EC7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ger or real number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category is more appropri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redit: Kate Deibel,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www.cs.washington.edu/homes/deibel/CATs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14400" y="1981080"/>
          <a:ext cx="6934320" cy="176400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er 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 number 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4" name="Group 15"/>
          <p:cNvGrpSpPr/>
          <p:nvPr/>
        </p:nvGrpSpPr>
        <p:grpSpPr>
          <a:xfrm>
            <a:off x="0" y="4114800"/>
            <a:ext cx="9144000" cy="1763640"/>
            <a:chOff x="0" y="4114800"/>
            <a:chExt cx="9144000" cy="1763640"/>
          </a:xfrm>
        </p:grpSpPr>
        <p:sp>
          <p:nvSpPr>
            <p:cNvPr id="65" name="Text Box 16"/>
            <p:cNvSpPr/>
            <p:nvPr/>
          </p:nvSpPr>
          <p:spPr>
            <a:xfrm>
              <a:off x="0" y="4114800"/>
              <a:ext cx="4343400" cy="17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1. Temperature in degrees Celsiu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2. The population of lemming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3. Your grade point avera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4. A person's age in yea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5. A person's weight in pound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6. A person's height in mete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7"/>
            <p:cNvSpPr/>
            <p:nvPr/>
          </p:nvSpPr>
          <p:spPr>
            <a:xfrm>
              <a:off x="3962520" y="4114800"/>
              <a:ext cx="5181480" cy="17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 </a:t>
              </a:r>
              <a:r>
                <a:rPr b="0" lang="en-US" sz="1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7. Number of miles travele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 </a:t>
              </a:r>
              <a:r>
                <a:rPr b="0" lang="en-US" sz="1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8. Number of dry days in the past mon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 </a:t>
              </a:r>
              <a:r>
                <a:rPr b="0" lang="en-US" sz="1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9. Your locker numb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10. Number of seconds left in a gam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11. The sum of a group of intege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12. The average of a group of intege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A1BC-429A-4526-B4B4-81385FE0F61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best choice for data ty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8600" y="1828800"/>
          <a:ext cx="8763120" cy="441972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190600"/>
                <a:gridCol w="2190960"/>
              </a:tblGrid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days it rained in 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 of group of integ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of group of integ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7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0333-4AF0-4906-8CCE-585DF010546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press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combination of values and / or operations that results (via computation) in a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 + 4 *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7 + 2) * 6 /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Hello, world!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mplest expression 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teral 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lex expression uses operators and parenth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C5CF-2DBA-4924-B9A0-DE78BDC7A62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ithmetic operato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mbines multiple values or ex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Courier New"/>
              <a:buChar char="–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Courier New"/>
              <a:buChar char="–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ion (or neg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Courier New"/>
              <a:buChar char="–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Courier New"/>
              <a:buChar char="–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Courier New"/>
              <a:buChar char="–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ainder (sometimes called modul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program runs, its expressions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valu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+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valuate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3 * 4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prin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we print the tex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3 *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DC0F-1C7D-41DC-92CD-380107A3B61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ger division with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/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76680" y="1066680"/>
            <a:ext cx="9448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 divide integers, the quotient is also an integ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uclidean division a.k.a. division with remaine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58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4 /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o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   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    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 ) 14           10 ) 45               27 ) 14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                 5                     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exampl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58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2 /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84 /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56 /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580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ing by 0 causes an error when your program runs with integer division. Try floating point division by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BD53-B159-4740-9386-4596140913D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04T16:57:38Z</dcterms:modified>
  <cp:revision>158</cp:revision>
  <dc:subject/>
  <dc:title>PowerPoint Presentation</dc:title>
</cp:coreProperties>
</file>