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F630D-2BB1-4438-8BF0-4C9595894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242B3-C6D7-45B1-BA72-EDA85A548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3E2-3C21-4453-8DF1-2BE965E3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EDB-1CF1-417C-81CE-4D458F39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8B9-222D-4A05-8BDB-78DC63D6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F60-7ADE-40F3-BB96-1F9B5B58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8BD-7205-455B-9AAA-633B009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A64-6FE9-43E9-B84F-127209B0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F08-5031-4763-99F0-484C5D66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391-B9CF-44B7-9FC9-ACF020B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B7D-1778-4EDA-B19B-976915A0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986-63A1-4BE4-844C-408DFFB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377-0E35-400D-A156-A60B541F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206-1BCE-492A-89F3-62FAC33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EFF1-E6F4-4A31-9FF0-7D92DD377F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meter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074960" y="6284880"/>
            <a:ext cx="66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from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458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e're flooding people with information. We need to feed it through a processor. A human must turn information into intelligence or knowledge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've tended to forget that no computer will ever ask a new ques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r Admiral Grace Murray Hopp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s://encrypted-tbn2.gstatic.com/images?q=tbn:ANd9GcSTAIWF7IRn1LoNsypv_lb6rF4FUlLtFwf58iI4ixCT5bqOQSQe"/>
          <p:cNvPicPr/>
          <p:nvPr/>
        </p:nvPicPr>
        <p:blipFill>
          <a:blip r:embed="rId2"/>
          <a:stretch/>
        </p:blipFill>
        <p:spPr>
          <a:xfrm>
            <a:off x="3736800" y="4191120"/>
            <a:ext cx="267984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s://encrypted-tbn1.gstatic.com/images?q=tbn:ANd9GcQWu-7NzaSOqyFbKBBQP0dKERwEJGmLamoUo1kKVuMmhKR8NIJWjw"/>
          <p:cNvPicPr/>
          <p:nvPr/>
        </p:nvPicPr>
        <p:blipFill>
          <a:blip r:embed="rId3"/>
          <a:stretch/>
        </p:blipFill>
        <p:spPr>
          <a:xfrm>
            <a:off x="1066680" y="4191120"/>
            <a:ext cx="241956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s://encrypted-tbn1.gstatic.com/images?q=tbn:ANd9GcRvLY8aP63NnlTMJnH4Sgp3U7s_-TfZe_4CGgpDXUrF-t6BApK6Pw"/>
          <p:cNvPicPr/>
          <p:nvPr/>
        </p:nvPicPr>
        <p:blipFill>
          <a:blip r:embed="rId4"/>
          <a:stretch/>
        </p:blipFill>
        <p:spPr>
          <a:xfrm>
            <a:off x="6629400" y="4125960"/>
            <a:ext cx="2143080" cy="267660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7D03-C426-4C83-B0B7-C0B0DC4728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parameters are pass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method is ca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stored into the parameter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's code executes using tha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2895480" y="3359160"/>
            <a:ext cx="3678120" cy="1159920"/>
            <a:chOff x="2895480" y="3359160"/>
            <a:chExt cx="3678120" cy="1159920"/>
          </a:xfrm>
        </p:grpSpPr>
        <p:grpSp>
          <p:nvGrpSpPr>
            <p:cNvPr id="102" name="Group 7"/>
            <p:cNvGrpSpPr/>
            <p:nvPr/>
          </p:nvGrpSpPr>
          <p:grpSpPr>
            <a:xfrm>
              <a:off x="2895480" y="3780720"/>
              <a:ext cx="3210120" cy="738360"/>
              <a:chOff x="2895480" y="3780720"/>
              <a:chExt cx="3210120" cy="73836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5522040" y="3862800"/>
                <a:ext cx="583560" cy="65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9"/>
              <p:cNvSpPr/>
              <p:nvPr/>
            </p:nvSpPr>
            <p:spPr>
              <a:xfrm>
                <a:off x="2895480" y="3780720"/>
                <a:ext cx="2553480" cy="32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3"/>
            <p:cNvSpPr/>
            <p:nvPr/>
          </p:nvSpPr>
          <p:spPr>
            <a:xfrm>
              <a:off x="5542560" y="335916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5"/>
          <p:cNvGrpSpPr/>
          <p:nvPr/>
        </p:nvGrpSpPr>
        <p:grpSpPr>
          <a:xfrm>
            <a:off x="2895480" y="3362400"/>
            <a:ext cx="3705120" cy="1171080"/>
            <a:chOff x="2895480" y="3362400"/>
            <a:chExt cx="3705120" cy="1171080"/>
          </a:xfrm>
        </p:grpSpPr>
        <p:grpSp>
          <p:nvGrpSpPr>
            <p:cNvPr id="107" name="Group 4"/>
            <p:cNvGrpSpPr/>
            <p:nvPr/>
          </p:nvGrpSpPr>
          <p:grpSpPr>
            <a:xfrm>
              <a:off x="2895480" y="3467160"/>
              <a:ext cx="3200760" cy="1066320"/>
              <a:chOff x="2895480" y="3467160"/>
              <a:chExt cx="3200760" cy="1066320"/>
            </a:xfrm>
          </p:grpSpPr>
          <p:sp>
            <p:nvSpPr>
              <p:cNvPr id="108" name="Line 5"/>
              <p:cNvSpPr/>
              <p:nvPr/>
            </p:nvSpPr>
            <p:spPr>
              <a:xfrm>
                <a:off x="2895480" y="3467160"/>
                <a:ext cx="255312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5512680" y="3877560"/>
                <a:ext cx="583560" cy="65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Box 11"/>
            <p:cNvSpPr/>
            <p:nvPr/>
          </p:nvSpPr>
          <p:spPr>
            <a:xfrm>
              <a:off x="5569560" y="336240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C0F-1003-4608-9F5F-CEAE26AFB8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mon err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ethod accepts a parameter, it is illegal to call it without passing any value for that para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chant();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passed to a method must be of the correct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chant(3.7);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: Chang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to use a parameterized method for drawing lines of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2CC-150C-4BB6-93E3-1433638E48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E21F-4158-4B52-B7E0-F6D9C19FB3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an accept multiple parameter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parate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ing it,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values for each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&lt;exp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&lt;exp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&lt;exp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CC65-A3C8-4FF4-AEA9-28E17DD7A9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541760" y="2654280"/>
            <a:ext cx="2878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to draw boxes with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parameters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F9E4-4D87-4C7E-98C3-A460865D76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652B-8859-4651-8815-55857A4A3F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4FF1-3CCA-4BE1-A04C-B9F8CA5318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025640" y="5602320"/>
            <a:ext cx="1522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3719520"/>
            <a:ext cx="1430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191120" y="3438360"/>
            <a:ext cx="72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lue seman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seman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n primitive variabl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passed as parameters, their values are cop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parameter will not affect the variable pass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7A43-1940-4D2E-B16B-33CDB21505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-228960" y="12952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" +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er 1 -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utput of  "Parameter Mystery"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-22320" y="5353200"/>
            <a:ext cx="944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-7 5 -7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 -3 5 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9 3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 -3 5 12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ne of A through 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C06A-C8F5-4B68-BAAA-BE2594C906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er 2 - What is output by the following code?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stery2(x, y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x + " " + y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ystery2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x + " " + y + " 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*= y +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y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ystem.out.print(x + " " + y + " 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5 17 4 2 5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5 17 4 17 4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7 4 2 5 17 4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5 2 5 17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of A through 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FD2-BD71-4575-8415-84225995E6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undant reci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z. chocolate chip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n sheet and Bake for abou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z. chocolate chip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n sheet and Bake for abou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ED26-3C8C-4BDA-B72D-D105EEE24C4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: 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sequence of text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ex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expression resulting in String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br>
              <a:rPr sz="7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4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B3E9-D12B-4FAA-9A0D-E08C6AADF0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trings a primitive data type just li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969D-A320-4429-BF36-62E9456E685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5562720" y="2819520"/>
            <a:ext cx="17348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94428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to use string parameters. Use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prints a string man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 as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F005-F92D-4840-B358-078DA63438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FC5-D449-42D9-BEAE-707FA38D71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94E1-AF3C-406A-B785-9927626661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recip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z. chocolate chip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n sheet and Bake for about 1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value that distinguishes similar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undant fig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task of printing the following lines/bo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94C6-4659-4715-9E8E-8194E6CF58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redundant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is redund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variables help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constants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etter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800600" y="41004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A method to draw a line of any number of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A method to draw a box of any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A1E-9829-4386-BD28-FEBC4A97E5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value passed to a method by its c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ri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raw any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la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, we will state that it requires a parameter for the number of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ethod, we will specify how many stars to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1154160" y="5016600"/>
            <a:ext cx="6916680" cy="1310040"/>
            <a:chOff x="1154160" y="5016600"/>
            <a:chExt cx="6916680" cy="1310040"/>
          </a:xfrm>
        </p:grpSpPr>
        <p:sp>
          <p:nvSpPr>
            <p:cNvPr id="71" name="Text Box 5"/>
            <p:cNvSpPr/>
            <p:nvPr/>
          </p:nvSpPr>
          <p:spPr>
            <a:xfrm>
              <a:off x="1154160" y="52196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"/>
            <p:cNvSpPr/>
            <p:nvPr/>
          </p:nvSpPr>
          <p:spPr>
            <a:xfrm>
              <a:off x="1976400" y="5413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3440160" y="52131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4267440" y="54133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5909040" y="5225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2475000" y="5016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1949400" y="561816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3440160" y="591480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4267440" y="6114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5909040" y="592776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2398680" y="5835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F99D-7344-4184-B7F2-1B1E6605EF1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315200" y="4165560"/>
            <a:ext cx="762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257800" y="3816360"/>
            <a:ext cx="1523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laring a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, the caller must specify the integer code to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4D6-DFB2-4A64-8EE6-4B3C9FA53E9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ssing a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581280" y="4132440"/>
            <a:ext cx="99072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639960" y="3687840"/>
            <a:ext cx="3114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expression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DAE9-3C4A-4FA5-9A23-F1E623D573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298520" y="2217600"/>
            <a:ext cx="13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489560" y="3433680"/>
            <a:ext cx="795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498920" y="3141720"/>
            <a:ext cx="139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s and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55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F04D-5FF8-4DDD-8055-E86D1BC18B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14T17:47:05Z</dcterms:modified>
  <cp:revision>152</cp:revision>
  <dc:subject/>
  <dc:title>PowerPoint Presentation</dc:title>
</cp:coreProperties>
</file>