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F37AB-CCE3-472C-A447-5A7D1428B1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E33F9-B18F-49C9-A4AF-9B196B9B9D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n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and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already called System.out.println and passed parameters to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A68-0232-46BA-8464-45982F3C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6D20-90DB-4F4E-AD49-FAEAB6DC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268-1694-4BD3-90C5-4818707E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45A2-8DC4-417E-8989-8860F8B0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772-7E65-402A-B0AC-E6B915F5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FD8-4FAB-415B-AB34-9903AAE0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159-ED56-446C-8DDB-DA969A8E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8F2-BFC4-47B7-BA3E-2C674044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3AED-8461-45CB-AFAA-F5F58C1A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F21-3E63-4F41-BFD5-F1E4FC81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042-48BD-4E44-8E17-F060112C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343F-A0CD-413D-9A24-847B23D3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8D45-4EEE-4EEA-9E14-2D958BBE20C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7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rameter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-1074960" y="6284880"/>
            <a:ext cx="66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Based on slides from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458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We're flooding people with information. We need to feed it through a processor. A human must turn information into intelligence or knowledge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've tended to forget that no computer will ever ask a new ques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 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r Admiral Grace Murray Hopp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s://encrypted-tbn2.gstatic.com/images?q=tbn:ANd9GcSTAIWF7IRn1LoNsypv_lb6rF4FUlLtFwf58iI4ixCT5bqOQSQe"/>
          <p:cNvPicPr/>
          <p:nvPr/>
        </p:nvPicPr>
        <p:blipFill>
          <a:blip r:embed="rId2"/>
          <a:stretch/>
        </p:blipFill>
        <p:spPr>
          <a:xfrm>
            <a:off x="3736800" y="4191120"/>
            <a:ext cx="2679840" cy="2000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s://encrypted-tbn1.gstatic.com/images?q=tbn:ANd9GcQWu-7NzaSOqyFbKBBQP0dKERwEJGmLamoUo1kKVuMmhKR8NIJWjw"/>
          <p:cNvPicPr/>
          <p:nvPr/>
        </p:nvPicPr>
        <p:blipFill>
          <a:blip r:embed="rId3"/>
          <a:stretch/>
        </p:blipFill>
        <p:spPr>
          <a:xfrm>
            <a:off x="1066680" y="4191120"/>
            <a:ext cx="2419560" cy="189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s://encrypted-tbn1.gstatic.com/images?q=tbn:ANd9GcRvLY8aP63NnlTMJnH4Sgp3U7s_-TfZe_4CGgpDXUrF-t6BApK6Pw"/>
          <p:cNvPicPr/>
          <p:nvPr/>
        </p:nvPicPr>
        <p:blipFill>
          <a:blip r:embed="rId4"/>
          <a:stretch/>
        </p:blipFill>
        <p:spPr>
          <a:xfrm>
            <a:off x="6629400" y="4125960"/>
            <a:ext cx="2143080" cy="267660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867E-F05B-4DFC-8B17-E7536087F97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w parameters are passe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method is call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is stored into the parameter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's code executes using that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nt(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chant(int times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4"/>
          <p:cNvGrpSpPr/>
          <p:nvPr/>
        </p:nvGrpSpPr>
        <p:grpSpPr>
          <a:xfrm>
            <a:off x="2895480" y="3359160"/>
            <a:ext cx="3678120" cy="1159920"/>
            <a:chOff x="2895480" y="3359160"/>
            <a:chExt cx="3678120" cy="1159920"/>
          </a:xfrm>
        </p:grpSpPr>
        <p:grpSp>
          <p:nvGrpSpPr>
            <p:cNvPr id="102" name="Group 7"/>
            <p:cNvGrpSpPr/>
            <p:nvPr/>
          </p:nvGrpSpPr>
          <p:grpSpPr>
            <a:xfrm>
              <a:off x="2895480" y="3780720"/>
              <a:ext cx="3210120" cy="738360"/>
              <a:chOff x="2895480" y="3780720"/>
              <a:chExt cx="3210120" cy="738360"/>
            </a:xfrm>
          </p:grpSpPr>
          <p:sp>
            <p:nvSpPr>
              <p:cNvPr id="103" name="Rectangle 8"/>
              <p:cNvSpPr/>
              <p:nvPr/>
            </p:nvSpPr>
            <p:spPr>
              <a:xfrm>
                <a:off x="5522040" y="3862800"/>
                <a:ext cx="583560" cy="65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9"/>
              <p:cNvSpPr/>
              <p:nvPr/>
            </p:nvSpPr>
            <p:spPr>
              <a:xfrm>
                <a:off x="2895480" y="3780720"/>
                <a:ext cx="2553480" cy="32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Box 3"/>
            <p:cNvSpPr/>
            <p:nvPr/>
          </p:nvSpPr>
          <p:spPr>
            <a:xfrm>
              <a:off x="5542560" y="3359160"/>
              <a:ext cx="103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i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5"/>
          <p:cNvGrpSpPr/>
          <p:nvPr/>
        </p:nvGrpSpPr>
        <p:grpSpPr>
          <a:xfrm>
            <a:off x="2895480" y="3362400"/>
            <a:ext cx="3705120" cy="1171080"/>
            <a:chOff x="2895480" y="3362400"/>
            <a:chExt cx="3705120" cy="1171080"/>
          </a:xfrm>
        </p:grpSpPr>
        <p:grpSp>
          <p:nvGrpSpPr>
            <p:cNvPr id="107" name="Group 4"/>
            <p:cNvGrpSpPr/>
            <p:nvPr/>
          </p:nvGrpSpPr>
          <p:grpSpPr>
            <a:xfrm>
              <a:off x="2895480" y="3467160"/>
              <a:ext cx="3200760" cy="1066320"/>
              <a:chOff x="2895480" y="3467160"/>
              <a:chExt cx="3200760" cy="1066320"/>
            </a:xfrm>
          </p:grpSpPr>
          <p:sp>
            <p:nvSpPr>
              <p:cNvPr id="108" name="Line 5"/>
              <p:cNvSpPr/>
              <p:nvPr/>
            </p:nvSpPr>
            <p:spPr>
              <a:xfrm>
                <a:off x="2895480" y="3467160"/>
                <a:ext cx="2553120" cy="49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5512680" y="3877560"/>
                <a:ext cx="583560" cy="65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Box 11"/>
            <p:cNvSpPr/>
            <p:nvPr/>
          </p:nvSpPr>
          <p:spPr>
            <a:xfrm>
              <a:off x="5569560" y="3362400"/>
              <a:ext cx="103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i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190C-3869-48E8-9F62-9AFE4CAE0F5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mon err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method accepts a parameter, it is illegal to call it without passing any value for that param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urier New"/>
              </a:rPr>
              <a:t>chant();  </a:t>
            </a: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// ERROR: parameter valu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passed to a method must be of the correct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urier New"/>
              </a:rPr>
              <a:t>chant(3.7);  </a:t>
            </a: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// ERROR: must be of type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: Chang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am to use a parameterized method for drawing lines of st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DD8E-283A-416C-B08A-6688DBC5F1E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rs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of st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s a parameterized method to remove redunda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2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A6C5-963D-458F-968B-D4140A1751B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ltiple paramet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can accept multiple parameter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parate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alling it,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values for each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&lt;type&gt;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&lt;nam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&lt;type&gt;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&lt;nam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statement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&lt;exp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&lt;exp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&lt;exp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3DBD-0105-4346-B6F7-7E95AAFA11D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4541760" y="2654280"/>
            <a:ext cx="28782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4, 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17, 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8,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0, 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444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17171717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gram to draw boxes with par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ltiple parameters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FFB6-5EF8-4AB5-9987-3E93E90A0BC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rs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rd version with multiple parameterized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3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9FA8-DBF1-4AD7-88A9-CC0517659A6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rs solution, cont'd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line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space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EF85-BA57-4788-8FA2-4032E9C8452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1025640" y="5602320"/>
            <a:ext cx="15224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90720" y="3719520"/>
            <a:ext cx="14302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4191120" y="3438360"/>
            <a:ext cx="7207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alue semantic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162920" y="5033880"/>
            <a:ext cx="159048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 x =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 x =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 seman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en primitive variable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passed as parameters, their values are cop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the parameter will not affect the variable passed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strang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1. x =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 = 2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ange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2. x =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D83E-4E46-4719-8B88-C38E04EE7C3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-228960" y="12952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arameterMyste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 = 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stery(z, y, 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stery(y, x, z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" +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+ "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icker 1 -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utput of  "Parameter Mystery"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-22320" y="5353200"/>
            <a:ext cx="944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-7 5 -7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 -3 5 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C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4 9 3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 -3 5 12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ne of A through 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9C6F-659F-47B9-914E-E552F575939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er 2 - What is output by the following code?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286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 = 5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stery2(x, y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x + " " + y + "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ystery2(int x, int y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x + " " + y + " 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*= y + 3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y--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System.out.print(x + " " + y + " 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5 17 4 2 5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5 17 4 17 4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7 4 2 5 17 4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5 2 5 17 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 of A through 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4303-FECF-42FD-B14E-5D76AF945B9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dundant recip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e for baking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ok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the following ingredients in a bow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p bu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z. chocolate chip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on sheet and Bake for about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e for baking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ok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the following ingredients in a bow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z. chocolate chip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on sheet and Bake for about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403B-080E-47E8-BC9F-92ABBACE7BD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call: String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sequence of text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tex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expression resulting in String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2400"/>
            </a:br>
            <a:br>
              <a:rPr sz="7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400"/>
            </a:br>
            <a:br>
              <a:rPr sz="7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CD9C-BF14-4894-8F01-511EED2BAC1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trings a primitive data type just lik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A9DD-2885-4F33-88D6-3FF27CF01A8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5562720" y="2819520"/>
            <a:ext cx="17348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600" y="94428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eacher = "Bictolia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lcome, Bicto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am to use string parameters. Use a method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prints a string many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ings as paramet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636D-372B-4879-8B76-37961563508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rs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rth version with String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4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*", cou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9617-CD66-4CA9-918A-AD3A7C0FFD0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rs solution, cont'd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height - 2; line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 ", width - 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String the given number of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repeat(String s, int time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0E7A-9077-446B-8976-8E71E279F3E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ameterized recip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Recipe for baking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cook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ix the following ingredients in a bow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e for baking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ok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the following ingredients in a bow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N/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cups f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N/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2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z. chocolate chip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on sheet and Bake for about 10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value that distinguishes similar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dundant figur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task of printing the following lines/box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****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**************************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       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54A8-3C19-4149-A5B5-600FC48EAD4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redundant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tars1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Of13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Of7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Of35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x10x3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x5x4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lineOf13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lineOf7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lineOf35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181480" y="1600200"/>
            <a:ext cx="3810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de is redund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cc99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variables help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constants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cc99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better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800600" y="41004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- A method to draw a line of any number of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- A method to draw a box of any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576D-92E6-4EDC-8908-187747221FF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ameteriz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m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value passed to a method by its cal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rit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raw any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la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, we will state that it requires a parameter for the number of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ethod, we will specify how many stars to d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1154160" y="5016600"/>
            <a:ext cx="6916680" cy="1310040"/>
            <a:chOff x="1154160" y="5016600"/>
            <a:chExt cx="6916680" cy="1310040"/>
          </a:xfrm>
        </p:grpSpPr>
        <p:sp>
          <p:nvSpPr>
            <p:cNvPr id="71" name="Text Box 5"/>
            <p:cNvSpPr/>
            <p:nvPr/>
          </p:nvSpPr>
          <p:spPr>
            <a:xfrm>
              <a:off x="1154160" y="521964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6"/>
            <p:cNvSpPr/>
            <p:nvPr/>
          </p:nvSpPr>
          <p:spPr>
            <a:xfrm>
              <a:off x="1976400" y="54133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7"/>
            <p:cNvSpPr/>
            <p:nvPr/>
          </p:nvSpPr>
          <p:spPr>
            <a:xfrm>
              <a:off x="3440160" y="52131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8"/>
            <p:cNvSpPr/>
            <p:nvPr/>
          </p:nvSpPr>
          <p:spPr>
            <a:xfrm>
              <a:off x="4267440" y="54133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9"/>
            <p:cNvSpPr/>
            <p:nvPr/>
          </p:nvSpPr>
          <p:spPr>
            <a:xfrm>
              <a:off x="5909040" y="52257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0"/>
            <p:cNvSpPr/>
            <p:nvPr/>
          </p:nvSpPr>
          <p:spPr>
            <a:xfrm>
              <a:off x="2475000" y="5016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>
              <a:off x="1949400" y="561816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2"/>
            <p:cNvSpPr/>
            <p:nvPr/>
          </p:nvSpPr>
          <p:spPr>
            <a:xfrm>
              <a:off x="3440160" y="591480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>
              <a:off x="4267440" y="61149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4"/>
            <p:cNvSpPr/>
            <p:nvPr/>
          </p:nvSpPr>
          <p:spPr>
            <a:xfrm>
              <a:off x="5909040" y="592776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5"/>
            <p:cNvSpPr/>
            <p:nvPr/>
          </p:nvSpPr>
          <p:spPr>
            <a:xfrm>
              <a:off x="2398680" y="58356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3BCA-BAB6-4E73-8ADA-461F029AA39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7315200" y="4165560"/>
            <a:ext cx="7621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5257800" y="3816360"/>
            <a:ext cx="1523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claring a paramet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ing that a method requires a parameter in order to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&lt;type&gt;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statement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yPassw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, the caller must specify the integer code to pr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359B-550E-4B88-9F3C-88B6FA63EBD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ssing a paramet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581280" y="4132440"/>
            <a:ext cx="99072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639960" y="3687840"/>
            <a:ext cx="3114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ing a method and specifying values for its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&lt;expression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yPassword(4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yPassword(1234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password is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password is 123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0E11-0227-4492-8393-24D514C974A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1298520" y="2217600"/>
            <a:ext cx="13492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489560" y="3433680"/>
            <a:ext cx="795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498920" y="3141720"/>
            <a:ext cx="13986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ameters and loop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552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ameter can guide the number of repetitions of a lo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chant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im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9FE8-EC5B-4D81-93DC-2141DE1A9EA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14T17:47:05Z</dcterms:modified>
  <cp:revision>152</cp:revision>
  <dc:subject/>
  <dc:title>PowerPoint Presentation</dc:title>
</cp:coreProperties>
</file>