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1FE4A-0EA4-45C1-A60E-FAC9E773B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9D0B1-17A1-4B21-A406-8287CAB47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86AF-6FC9-4E8C-A901-3C296BD71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0C08-8F8B-40BA-8E63-CDAD6DDC2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03769-30F0-4319-A6B4-257BAFA98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EFF4-5141-4285-87ED-C393B8CA1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CB0A5-CB0A-41D1-A081-BD0E1A237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B15E0-DF95-4EB8-9738-EE1F03B4D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E167B-0FF5-491C-B8E8-09BD56F9D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2BDB7-CCB8-4533-B184-67548D052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B5583-C8BD-4A49-8C9E-BFB029E34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9FB-7C09-4905-8E06-D808D142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7C4-E482-4EB6-82EC-3D1DD875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E7A-13C5-4D8A-AA68-71392641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CAD-1DEE-40B0-9916-55CC02E5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B49-130E-493C-9024-2F63B4DF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E91-D89B-4B7D-86D5-F90E713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748-8339-4D0D-B97B-DB3C6C5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D62-6BDA-4894-A383-0DA2F8AA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DC0-F0A4-4CE5-8781-7FAD26D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F82-4929-438A-BC0E-AD36FB6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E31-126E-43BB-9CFF-0AE90CF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04D-E8AA-4464-936F-8F49969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B283-5F8C-4A14-B2F8-38714F9A22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8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aphic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82800" y="6319800"/>
            <a:ext cx="361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lides bu Marty Stepp and Stuart Reg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makes the situation worse is that the highest level CS course I've ever taken is cs4, and quotes from the graphics group startup readme like '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se paths are abstracted as being the result of a topological sort on the graph of ordering dependencies for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 make me lose consciousness in my chair and bleed from the nose."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grimes, Graphics problem report 13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2008"/>
          <p:cNvPicPr/>
          <p:nvPr/>
        </p:nvPicPr>
        <p:blipFill>
          <a:blip r:embed="rId1"/>
          <a:stretch/>
        </p:blipFill>
        <p:spPr>
          <a:xfrm>
            <a:off x="4267080" y="5149800"/>
            <a:ext cx="1447920" cy="1604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749560" y="5430960"/>
            <a:ext cx="31280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ies van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of the Brow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Pen" or "paint brush" objects to draw lines and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it by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shapes by calling metho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211800" y="40878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paintbrush"/>
          <p:cNvPicPr/>
          <p:nvPr/>
        </p:nvPicPr>
        <p:blipFill>
          <a:blip r:embed="rId2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D7C-E57F-4571-8748-C27D473230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 class libraries, impo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class libr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es included with Java's JD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into groups nam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a package, put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 decl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Name.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ngs to a packag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must place the above line at the very top of your program, befor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8925-8985-4551-98A3-78A54CDEBCE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ordinate syst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(x, y) 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x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"picture element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0, 0) is at the window's top-left co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ncreases rightward and the y increa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wn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ctangle from (0, 0) to (200, 100) look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 0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                   (200, 10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600200" y="4540320"/>
            <a:ext cx="1447560" cy="1370880"/>
            <a:chOff x="1600200" y="4540320"/>
            <a:chExt cx="1447560" cy="1370880"/>
          </a:xfrm>
        </p:grpSpPr>
        <p:sp>
          <p:nvSpPr>
            <p:cNvPr id="90" name="Rectangle 5"/>
            <p:cNvSpPr/>
            <p:nvPr/>
          </p:nvSpPr>
          <p:spPr>
            <a:xfrm>
              <a:off x="1680480" y="4654440"/>
              <a:ext cx="1367280" cy="125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1680480" y="4540320"/>
              <a:ext cx="13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1600200" y="4654440"/>
              <a:ext cx="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327-14E6-4092-A18C-C26D2536F5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7240" y="1511280"/>
          <a:ext cx="9029520" cy="460836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7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DC75-A681-4F42-B453-FC15697866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0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as predefin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st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_NA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n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one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n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e (RGB) values of 0-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 burntOrange = new Color(191, 87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B92-1733-4DB8-ABB8-9E40ECA4A8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ctangles appear on the DrawingPanel when the following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 p1 = new DrawingPanel(200, 2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r = new 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 = 0; i &lt; 5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.drawRect(i * 25, i * 20, 20,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None due to syntax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None due to runtime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7DEA-C88B-419E-B44A-910E01DAF3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amed color is closest to the Color object created by this code?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mc = new Color(255, 255, 25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A6E1-7345-469C-9CB1-CE789F789A5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col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7543800" y="1981080"/>
            <a:ext cx="130824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7543800" y="4786200"/>
            <a:ext cx="1308240" cy="162900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A32F-2088-4EC7-BBFB-5665BE0E5E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lined sha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colored shape with an outline, fir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shape in the outlin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Graphics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raw_outline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6113-18CC-4F37-AD63-712CB100FE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perimposing sha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122-026D-49F3-854C-E208896280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686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S324E, Graphics and Visualizati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s - Heat Map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480" y="1351080"/>
            <a:ext cx="805356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wing with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can use the loop counter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     x      y        w  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loops can be used with graph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25C2-649B-4E5F-9D9F-5263AE0C26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s 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draws straight lines to create a shape with a curved app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x and y location of the upper left corner of the draw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size of the squ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in th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772080" cy="37814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319-2E8B-4B0F-A8EF-5076C5BD19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ero-based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at 0 and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make calculating coordinate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Write a variation of the abo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at draws the output a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ttom-left rectangle is at (11, 9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361-9EEF-4056-876A-CD31F12E17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andom A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" name="Picture 4" descr="C:\Users\scottm\Documents\scottmAlt\images\cs324e\Image9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4832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F238-801D-4BC5-9289-5F6F8DB4DA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age Manipul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01880" y="990720"/>
            <a:ext cx="6629400" cy="55926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ADE-E0AC-4AD9-BAAE-CFCC7F4E21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imulation and Visualizati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atorWorld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3520" y="1120680"/>
            <a:ext cx="83818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actal 3D Landscap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71440" y="1295280"/>
            <a:ext cx="8567640" cy="518184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A22-B2D9-40A0-B2EB-C629457237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s (briefly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entity that contains data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side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called 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ata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ng (creating) an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an object's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2232-BBD3-43C1-A5B4-977F0B3297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al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raw graphics in Java using 3 kinds of 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window on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art of standard Java; provided by the authors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lass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"pen" to draw shap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ines on a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lors in which to draw sh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805440" y="3444840"/>
            <a:ext cx="2338560" cy="280368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A159-278D-47ED-BE4F-3C53162CC0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Canvas" objects that represents windows/drawing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has nothing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raw shapes / lines on it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object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73920" y="36576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easel2"/>
          <p:cNvPicPr/>
          <p:nvPr/>
        </p:nvPicPr>
        <p:blipFill>
          <a:blip r:embed="rId2"/>
          <a:stretch/>
        </p:blipFill>
        <p:spPr>
          <a:xfrm>
            <a:off x="8283600" y="380880"/>
            <a:ext cx="7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017B-30EA-41C2-9236-6F7186F97D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16T17:16:39Z</dcterms:modified>
  <cp:revision>161</cp:revision>
  <dc:subject/>
  <dc:title>PowerPoint Presentation</dc:title>
</cp:coreProperties>
</file>