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C8CEA-F48A-4091-B9C0-CD66F946E0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06642-AFF2-45A8-817A-553B96C349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2D7E3-E49D-4242-B20F-2349F0BB08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2AF88-0F33-4BA9-9593-AAACCF418A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A500F-8238-4341-8AA6-9B481AA36B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B98F7-1459-4087-A7C2-B4093A660E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C6128-D04F-4A53-8717-FC4BADCC8E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1B5AA-16B8-4260-B02F-ADCAA069C2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B595C-12BF-4A5C-A0FC-B2B28F57D8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85495-75F4-4340-9BD2-1086AE4271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D1C7F-AEFB-4156-BB70-94B3FCA898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772-5CFE-480B-A806-EE6CE0ED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6F21-6C62-4F70-B9E2-B060463A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663-9379-4B78-A6FA-1D71E412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82E-110F-4555-ABEF-3BFD12B7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BD93-7F61-437E-AF94-2AE78955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9030-D8FC-4F85-829B-9F0DF178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B93-13BE-4F98-8177-A47B9D94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7A5E-6E82-4D57-B5C5-11AAC256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4F8-E2A9-47CF-951E-3D01A89B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8A22-66DA-46E3-B7C2-BB8B4056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741-37BA-4719-9D34-426F21A7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EFE-BAE6-4586-B6DE-1B957999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2238-8685-425A-A26C-4231EB3C637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8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raphic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82800" y="6319800"/>
            <a:ext cx="361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slides bu Marty Stepp and Stuart Reg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560" y="1371600"/>
            <a:ext cx="84582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What makes the situation worse is that the highest level CS course I've ever taken is cs4, and quotes from the graphics group startup readme like '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se paths are abstracted as being the result of a topological sort on the graph of ordering dependencies for 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t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 make me lose consciousness in my chair and bleed from the nose."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grimes, Graphics problem report 13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2008"/>
          <p:cNvPicPr/>
          <p:nvPr/>
        </p:nvPicPr>
        <p:blipFill>
          <a:blip r:embed="rId1"/>
          <a:stretch/>
        </p:blipFill>
        <p:spPr>
          <a:xfrm>
            <a:off x="4267080" y="5149800"/>
            <a:ext cx="1447920" cy="160488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5749560" y="5430960"/>
            <a:ext cx="31280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ries van 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 of the Brow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Graphic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"Pen" or "paint brush" objects to draw lines and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it by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shapes by calling method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211800" y="408780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paintbrush"/>
          <p:cNvPicPr/>
          <p:nvPr/>
        </p:nvPicPr>
        <p:blipFill>
          <a:blip r:embed="rId2"/>
          <a:stretch/>
        </p:blipFill>
        <p:spPr>
          <a:xfrm>
            <a:off x="8175600" y="304920"/>
            <a:ext cx="816120" cy="990360"/>
          </a:xfrm>
          <a:prstGeom prst="rect">
            <a:avLst/>
          </a:prstGeom>
          <a:ln w="0">
            <a:noFill/>
          </a:ln>
        </p:spPr>
      </p:pic>
      <p:sp>
        <p:nvSpPr>
          <p:cNvPr id="8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E1E0-7837-415C-A4DE-82733C9C4F2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ava class libraries, impor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va class libra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lasses included with Java's JD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d into groups nam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a package, put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port decla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your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ageName.Class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longs to a package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 java.awt.Graphic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must place the above line at the very top of your program, befor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32E1-9D17-4EE2-9756-F0E541B9E92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ordinate syste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(x, y) position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ix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"picture element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(0, 0) is at the window's top-left cor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increases rightward and the y increas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wn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ctangle from (0, 0) to (200, 100) looks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, 0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x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                   (200, 100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1600200" y="4540320"/>
            <a:ext cx="1447560" cy="1370880"/>
            <a:chOff x="1600200" y="4540320"/>
            <a:chExt cx="1447560" cy="1370880"/>
          </a:xfrm>
        </p:grpSpPr>
        <p:sp>
          <p:nvSpPr>
            <p:cNvPr id="90" name="Rectangle 5"/>
            <p:cNvSpPr/>
            <p:nvPr/>
          </p:nvSpPr>
          <p:spPr>
            <a:xfrm>
              <a:off x="1680480" y="4654440"/>
              <a:ext cx="1367280" cy="125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6"/>
            <p:cNvSpPr/>
            <p:nvPr/>
          </p:nvSpPr>
          <p:spPr>
            <a:xfrm>
              <a:off x="1680480" y="4540320"/>
              <a:ext cx="13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7"/>
            <p:cNvSpPr/>
            <p:nvPr/>
          </p:nvSpPr>
          <p:spPr>
            <a:xfrm>
              <a:off x="1600200" y="4654440"/>
              <a:ext cx="0" cy="12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8A05-9C18-4C2A-8973-0FEF15176D9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Graphic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7240" y="1511280"/>
          <a:ext cx="9029520" cy="4608360"/>
        </p:xfrm>
        <a:graphic>
          <a:graphicData uri="http://schemas.openxmlformats.org/drawingml/2006/table">
            <a:tbl>
              <a:tblPr/>
              <a:tblGrid>
                <a:gridCol w="4351320"/>
                <a:gridCol w="4678200"/>
              </a:tblGrid>
              <a:tr h="37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ine of rectangle of size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 with bottom-left a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972E-2C3A-4703-8118-621FFA4E8E4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Colo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90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d as predefin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const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_NAM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_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one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create one us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-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en-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e (RGB) values of 0-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 burntOrange = new Color(191, 87, 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839880" cy="828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81A2-469B-4B4C-8888-8C51183B891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rectangles appear on the DrawingPanel when the following cod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 p1 = new DrawingPanel(200, 2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 gr = new Graphic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(int i = 0; i &lt; 5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.drawRect(i * 25, i * 20, 20, 5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. None due to syntax err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. None due to runtime err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AC3A-0DCB-4986-B3D5-DDCE4669C77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named color is closest to the Color object created by this code?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 mc = new Color(255, 255, 255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G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C1B6-7352-4964-A512-1E96A186C06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sing colo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equent shapes will be drawn in the new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.drawLine(20, 0, 10, 3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.fillOval(60, 40, 40, 7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a color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verall window background color will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nel.setBackground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row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7543800" y="1981080"/>
            <a:ext cx="1308240" cy="16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7543800" y="4786200"/>
            <a:ext cx="1308240" cy="162900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5572-A6AE-4DF1-AB17-3DF21EF6840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utlined shap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raw a colored shape with an outline, fir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ra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shape in the outline 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Graphics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I can use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Col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OutlineExamp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150, 7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ner red f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20, 10, 100, 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lack ou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20, 10, 100, 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draw_outline"/>
          <p:cNvPicPr/>
          <p:nvPr/>
        </p:nvPicPr>
        <p:blipFill>
          <a:blip r:embed="rId1"/>
          <a:stretch/>
        </p:blipFill>
        <p:spPr>
          <a:xfrm>
            <a:off x="6858000" y="4597560"/>
            <a:ext cx="1981080" cy="172692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F685-B6DC-46E9-BA24-FB618A2D2F5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perimposing shap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≥ 2 shapes occupy the same pixels, the last drawn "wins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Graphic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Col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1956-805C-4560-B2BD-C78663A951F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86868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S324E, Graphics and Visualization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xamples - Heat Map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09480" y="1351080"/>
            <a:ext cx="805356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rawing with loop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can use the loop counter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anel.setBackground(Color.YELLOW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                  x      y        w   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fillOval(100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0, 50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loops can be used with graph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x = 1; x &lt;= 4; x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y = 1; y &lt;= 9; y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Java", x * 40, y * 2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7315200" y="2049480"/>
            <a:ext cx="1676520" cy="153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7316640" y="4419720"/>
            <a:ext cx="1679760" cy="203832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B58C-301D-4FC8-A79F-733EB58ED5E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aphics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that draws straight lines to create a shape with a curved app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the x and y location of the upper left corner of the draw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size of the squa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tain the 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5410080" y="3124080"/>
            <a:ext cx="3772080" cy="378144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8887-400B-409F-9C7E-D434B8D922C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Zero-based loop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 at 0 and us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make calculating coordinate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50, 140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horizontal line of 5 20x20 rectangles start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at (11, 18); x increases by 20 each ti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i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&lt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5; i++)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18, 20, 20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: Write a variation of the abo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that draws the output at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ttom-left rectangle is at (11, 9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0; i &lt; 5; i++)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98 - 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7391520" y="1828800"/>
            <a:ext cx="1542960" cy="1981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>
            <a:off x="7391520" y="4419720"/>
            <a:ext cx="1542960" cy="198108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42B1-394B-4341-9F6B-749342AB4F6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andom Ar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6" name="Picture 4" descr="C:\Users\scottm\Documents\scottmAlt\images\cs324e\Image9.jpg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5548320"/>
          </a:xfrm>
          <a:prstGeom prst="rect">
            <a:avLst/>
          </a:prstGeom>
          <a:ln w="0">
            <a:noFill/>
          </a:ln>
        </p:spPr>
      </p:pic>
      <p:sp>
        <p:nvSpPr>
          <p:cNvPr id="5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1095-A9C9-48A8-8442-62A2CA9D9D3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age Manipul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001880" y="990720"/>
            <a:ext cx="6629400" cy="559260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1AF0-EC4E-4820-9681-52B2EB75B7E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imulation and Visualization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atorWorld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33520" y="1120680"/>
            <a:ext cx="8381880" cy="56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ractal 3D Landscap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71440" y="1295280"/>
            <a:ext cx="8567640" cy="5181840"/>
          </a:xfrm>
          <a:prstGeom prst="rect">
            <a:avLst/>
          </a:prstGeom>
          <a:ln w="0">
            <a:noFill/>
          </a:ln>
        </p:spPr>
      </p:pic>
      <p:sp>
        <p:nvSpPr>
          <p:cNvPr id="6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8D5F-C5AB-4A29-BE6D-089D1AEF61A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s (briefly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entity that contains data and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inside 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hav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called o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76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interact with the method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s hidden in the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data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ng (creating) an ob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ing an object's meth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object"/>
          <p:cNvPicPr/>
          <p:nvPr/>
        </p:nvPicPr>
        <p:blipFill>
          <a:blip r:embed="rId1"/>
          <a:stretch/>
        </p:blipFill>
        <p:spPr>
          <a:xfrm>
            <a:off x="6172200" y="2133720"/>
            <a:ext cx="2819520" cy="1717560"/>
          </a:xfrm>
          <a:prstGeom prst="rect">
            <a:avLst/>
          </a:prstGeom>
          <a:ln w="0">
            <a:noFill/>
          </a:ln>
        </p:spPr>
      </p:pic>
      <p:sp>
        <p:nvSpPr>
          <p:cNvPr id="6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3ACE-13FB-45EB-8D85-2FCD62A932B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aphical objec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draw graphics in Java using 3 kinds of o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window on the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art of standard Java; provided by the authors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class web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"pen" to draw shap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ines on a wind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lors in which to draw sha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6805440" y="3444840"/>
            <a:ext cx="2338560" cy="2803680"/>
          </a:xfrm>
          <a:prstGeom prst="rect">
            <a:avLst/>
          </a:prstGeom>
          <a:ln w="0">
            <a:noFill/>
          </a:ln>
        </p:spPr>
      </p:pic>
      <p:sp>
        <p:nvSpPr>
          <p:cNvPr id="7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D86D-DD00-4212-A81C-FA6D04B2A25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DrawingPanel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"Canvas" objects that represents windows/drawing su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eate a wind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ndow has nothing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raw shapes / lines on it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object of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073920" y="365760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easel2"/>
          <p:cNvPicPr/>
          <p:nvPr/>
        </p:nvPicPr>
        <p:blipFill>
          <a:blip r:embed="rId2"/>
          <a:stretch/>
        </p:blipFill>
        <p:spPr>
          <a:xfrm>
            <a:off x="8283600" y="380880"/>
            <a:ext cx="7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784B-1975-4007-A219-D30FF638E9B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16T17:16:39Z</dcterms:modified>
  <cp:revision>161</cp:revision>
  <dc:subject/>
  <dc:title>PowerPoint Presentation</dc:title>
</cp:coreProperties>
</file>