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C68D9-4FF7-40C4-91CA-946B9928C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FBF1C-860D-4CEB-AA2F-ACF204CAA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E0A-F674-490B-8388-6815C3DC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88F-E44F-4D4C-930C-F2DFC8BC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EBD-04A8-41FF-821B-347C6CC6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F55-B77E-498D-8A6D-C637A093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E08-F9F1-49CC-8F6F-928A5868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8A7-8123-44D6-B08E-FA3B2177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C7F-81CB-4FA4-859C-E9B36882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E60-CD99-4D7B-ABC8-D2B5BE6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476-4F1E-49BA-8E59-63A1DE81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237-C184-47EB-A3FB-61B0C0F7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D8C-DF27-473E-9D6D-35F5B5B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7CF-0848-4E79-870F-AFBB8D52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2171-7343-457F-9109-32E39E8161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artsandculture.google.com/asset/light-pink-octagon/FQF69MVLmsx4X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9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re Graphics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-1381680" y="6319800"/>
            <a:ext cx="65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5703-51A1-417D-91B8-A0C125F354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 book figur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rogram that draws the following fig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anel is size 200x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is at (20, 35), size 100x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a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"BJP" text at position (70, 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rs are (red=191, green=118, blue=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ir is 9px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rs are 10px apart (1 blank pixel betw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124760" y="4267080"/>
            <a:ext cx="2019240" cy="2076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7315200" y="1676520"/>
            <a:ext cx="1616040" cy="19954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1ECB-1730-48BA-AA6B-A362A51B9D4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 book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85FE-357C-490E-9091-6ECCD89290D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Java boo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Java book program so that it can draw books at 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op/left positions: (20, 35), (150, 70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0,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panel's new size: 450x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4172040"/>
            <a:ext cx="5029200" cy="27003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6247-C80B-4BC2-A675-9FEFCE91184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book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DEDA-E29B-42C6-9A12-4CF4881B87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books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2812-83D3-49A0-AA0A-4552E3CD55D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izable Java boo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Java book program so that it can draw books at 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sizes: 100x100,  60x60,  200x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panel's new size: 520x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286000" y="3924360"/>
            <a:ext cx="5067360" cy="29336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5111-9E5B-4504-90F9-0F6E5CF8EDC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izable book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C6F1-468F-42B8-9402-D11444FB0D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izable solution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91C8-FBD1-4CCC-A566-53043694B3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lyg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jects that represent arbitrary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points 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477120" y="4005360"/>
            <a:ext cx="2173320" cy="26589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4FD-1711-45DB-8688-5776144513F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DrawingPanel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ves the image on the panel to the given file (String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uses the drawing for the given number of milliseco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DF29-69DE-4194-964F-B396AAAD7EB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a graphics object is used to draw a shape that exceeds the boundaries of the DrawingPan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 p3 = new DrawingPanel(100, 10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2 = p3.getGraphic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2.fillRect(50, 50, 200, 2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visible portion is sh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he DrawingPanel expands to show whole rectang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Runtime err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one of A - D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DAE0-D7D2-4D7C-9570-0BE67AB7D36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imation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lee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pauses your program for a given number of milli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reate simple ani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anel.sleep(5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add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s to loops in past exercises in this chapter and watch the panel draw itself piece by pi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0A5-C5E5-44D6-9A70-998655E381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imation exerci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ify the previous program to draw a "moving" animated 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511440" y="2971800"/>
            <a:ext cx="2051280" cy="1703520"/>
          </a:xfrm>
          <a:prstGeom prst="rect">
            <a:avLst/>
          </a:prstGeom>
          <a:ln w="0">
            <a:noFill/>
          </a:ln>
        </p:spPr>
      </p:pic>
      <p:sp>
        <p:nvSpPr>
          <p:cNvPr id="121" name="Line 5"/>
          <p:cNvSpPr/>
          <p:nvPr/>
        </p:nvSpPr>
        <p:spPr>
          <a:xfrm>
            <a:off x="4800600" y="406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6FD3-E425-480D-A0B2-12D4923123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phics exerci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the following program to draw a generalized tru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Graph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D561-3326-4C7F-9397-ECB585ECA6A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mension should we use as a parameter to draw the tru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el diameter (wid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rectangle (body)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rectangle (body)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rectangle (windshield)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rectangle (windshield)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172200" y="5105520"/>
            <a:ext cx="2050920" cy="170316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45F4-6F68-4637-A4CA-64922C84EE6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ed Dra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ruck0 -&gt; hard coded location an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ruck1 -&gt; parameterized location, hard code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ruck2 -&gt; parameterized location an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 the truck using the sleep method from drawing 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9F97-DAED-4964-BAB1-313DEB41C58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422520"/>
            <a:ext cx="6840360" cy="3511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y Mistake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easy to spot significant logic errors in graphical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truck scale or do we have an abstract, deconstruction of a tru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Truck, by CS312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BD13-4093-46AB-87A1-05D7FCECF7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ed fig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car-drawing method so that it can draw cars at different positions, as in the following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left corners: (10, 30), (150,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drawing panel's size to 260x100 to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F0ED-A7F7-4E75-88E2-9F8E82CF6C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awing with paramet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raw in a method, you must pas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ut of scope and cannot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(declara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Graphics g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statement(s)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(cal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g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values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88E1-9FBB-4B39-8274-DE4A2AD7514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ed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3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60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, 10, 3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, 150,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drawCar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, int x, int 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 + 10, y + 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 + 70, y + 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 + 70, y +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30, 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553080" y="4751280"/>
            <a:ext cx="2532240" cy="1629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5718-D321-49B8-BC81-E410399958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18T14:19:57Z</dcterms:modified>
  <cp:revision>158</cp:revision>
  <dc:subject/>
  <dc:title>PowerPoint Presentation</dc:title>
</cp:coreProperties>
</file>