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D7CB-9055-40A0-AABA-ABF36F768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0D220-538D-4BA3-A22F-9607105AF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14A-2F04-4E68-A6AD-2ECD483C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5D5-56B0-496E-ABD8-ABD4691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CF6-044A-462F-AE22-B9721C42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F68-C43A-4B10-BD20-023C2F60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81F-E2B0-4969-AB9F-6CEEBAF9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B5B-4A9A-40C7-85DE-2962516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745-16AF-4F4C-B5B8-CB238A94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6E4-01BF-4324-A76B-A30049E8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16D-6FED-440B-8C3B-5DD859C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E95-C0D7-4DEB-9E75-D0A12D3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F44-7005-420B-9D62-C7AF207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9D7-5858-4BFA-918C-68751EF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9ABD-D93C-4CCF-8DFD-B1B1ED898E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artsandculture.google.com/asset/light-pink-octagon/FQF69MVLmsx4X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9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Graphics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381680" y="6319800"/>
            <a:ext cx="65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6411-8FDA-49E7-8948-6D38865D2E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book fig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rogram that draws the following fig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anel is size 200x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is at (20, 35), size 100x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a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"BJP" text at position (70,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 are (red=191, green=118, blue=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ir is 9px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 are 10px apart (1 blank pixel betw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24760" y="4267080"/>
            <a:ext cx="2019240" cy="207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7315200" y="1676520"/>
            <a:ext cx="1616040" cy="19954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AA7-C3A0-49B2-BFAC-E42E7BB7DC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book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37BF-FE3C-4CB7-BC6B-3836612E19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Java 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Java book program so that it can draw books a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op/left positions: (20, 35), (150, 70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,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panel's new size: 450x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4172040"/>
            <a:ext cx="5029200" cy="2700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329-712B-4335-8D2D-4FB0F907CF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book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B9ED-4932-4F3B-885D-D5836F0EB2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e books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2B85-D836-499D-919D-587E0E66D1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Java boo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Java book program so that it can draw books a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sizes: 100x100,  60x60,  200x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panel's new size: 520x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286000" y="3924360"/>
            <a:ext cx="5067360" cy="29336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F34-8595-456E-B06D-3A0DC47381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books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AF6-A6A8-463D-BB28-9FE78F2BC5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izable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87F-B24F-41BC-92B7-E9E9BB3FA5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jects that represent arbitrary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oints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77120" y="4005360"/>
            <a:ext cx="2173320" cy="2658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076-CD7B-4FBA-925C-1046058428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ves the image on the panel to the given file (String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uses the drawing for the given number of milli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DA1-7D15-4C1B-BBC5-87A011351A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a graphics object is used to draw a shape that exceeds the boundaries of the DrawingPan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3 = new DrawingPanel(100, 10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2 = p3.getGraphic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2.fillRect(50, 50, 200, 2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visible portion is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he DrawingPanel expands to show whole rectang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Runtime err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one of A - D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9DD-64DC-40BB-A28D-BBB0F9308E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tion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pauses your program for a given number of milli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reate simple an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d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s to loops in past exercises in this chapter and watch the panel draw itself piece by pi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ADB5-A928-4275-ADA2-FD26E3FC7A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imation 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y the previous program to draw a "moving" animated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511440" y="2971800"/>
            <a:ext cx="2051280" cy="170352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>
            <a:off x="4800600" y="40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55F-2630-4DAB-B716-1D0C3A2CFC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s exerci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the following program to draw a generalized tr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DF8-FC01-48D6-B399-59DCBD9875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mension should we use as a parameter to draw the tru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el diameter (wid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ctangle (body)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ctangle (body)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rectangle (windshield)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rectangle (windshield)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72200" y="51055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4D1B-07CF-4647-B382-4F58E98E8D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Draw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0 -&gt; hard coded location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1 -&gt; parameterized location, hard code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ruck2 -&gt; parameterized location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the truck using the sleep method from drawing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4E9-6A14-43BB-B8ED-DB343C7B375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422520"/>
            <a:ext cx="6840360" cy="3511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y Mistake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easy to spot significant logic errors in graphical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truck scale or do we have an abstract, deconstruction of a tru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ruck, by CS312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C0BE-562D-469B-A4A0-1F58652F18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fig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car-drawing method so that it can draw cars at different positions, as in the following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left corners: (10, 30), (150,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drawing panel's size to 260x100 to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221-3333-42FC-9DBC-8C2D01F03B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with paramet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aw in a method, you must p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ut of scope and cannot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(declar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Graphics g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statement(s)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(cal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g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value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066-B11C-49A4-80CC-FB199DEC01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ized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, 10, 3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, 150,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rawCar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, int x, int 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553080" y="4751280"/>
            <a:ext cx="2532240" cy="1629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460-5688-4129-862D-0F4A35E692E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8T14:19:57Z</dcterms:modified>
  <cp:revision>158</cp:revision>
  <dc:subject/>
  <dc:title>PowerPoint Presentation</dc:title>
</cp:coreProperties>
</file>