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9224E8EC-FAC4-434E-806B-C9E93CADF1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9CD5E394-204C-4E0C-A8AA-FC3F1468E7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C68-72B4-4DA5-B56A-29E75DFA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C12-FAD2-427C-A955-5E76AEEB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86127-41FD-4389-BA16-9F8548FF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BB878-2E80-497E-A98B-D9FC188D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7463A-5569-4C9F-9128-E01DC55F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127D4-47F7-40F0-B79F-DE3C286A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9F289-5FAC-4E7D-A3EC-31EA8929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E5CD0-9C3D-4059-AD7A-886544D6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9295D-9148-411C-B7F5-7649F065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283F4-04B0-4105-828D-D6D65AF9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7470D-AD77-4BF1-ADE0-36771434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061FD-4199-4AC7-B296-D2A73270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9CD-9570-46DC-9575-96288475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E9555-0D88-4E1C-808E-9130A9D5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3BB9B-2493-45E3-BD55-61D2937D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952D6-6592-4EEF-8B47-792BB49C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56925-A65A-4D2A-BC79-52F04B39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1716B-A11C-428D-AC6C-745CFB8D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C60F8-C4CF-44E5-B8BB-06671708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9E5E6-0EB5-4924-9436-F74DAF90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2541E-C262-47D5-923C-19837C71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C4BF9-35A1-488E-8316-541E0CAC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78AE2-F4F1-4D6B-974D-7258ED2B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A83-77AF-4DD6-A6F0-A70EADDB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2F272-295D-45A0-B15E-67DF521F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B4ED4-FF2E-4187-ACA5-E8105829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273E5-FFDD-4BA7-A186-4A5AA3FA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0A6D3-146C-4440-A9DA-120CF45B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39700-3B54-44F5-A2F0-621204AC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03223-505E-4DEA-AF87-5A8B7E4E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434C9-7FCC-4149-B26D-C3FFCCC0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6B05B-0D6C-4708-BC7D-5803719E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3FCE6-458F-448D-B501-AD8AD518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BE469-C8E3-4BA7-B523-EB2E281A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F6F7-7A21-4699-AFDF-76C70CAE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3CE0B-9807-4308-A949-B055208A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CE956-6114-4904-870B-4018516D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115E0-4A8B-4A09-95AA-AF66BC44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55ADF-DFE8-4670-8B37-814D55C1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E2D09-A385-4B9E-9473-2BC4D5F1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DC9D2-39AD-4B3D-9687-6AAF78E2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58E14-32C7-4A8F-8F83-5A65AD68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72868-44C9-4385-9300-42A7AEA6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3D15D-1469-4E4B-8AB9-4269E857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CFD20-A3F5-4DBB-B12E-7C35F290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E81E-1E5E-45AF-9E82-6960763C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DE8E1-6819-4257-B8F5-304B4296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40677-EA54-4D94-BBE3-5A8DEC69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F1368-A5A0-41DA-A658-EA9694FF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C3852-BBF9-4101-A517-BFC641F0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80C88-CF10-4063-BF68-2633D553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ADCA-C023-4E84-B2D9-60857683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55FB-0CED-43A9-83AF-7FE27B38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9297-23D9-49D4-A118-A6368239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D01B-C357-426A-B57E-BB62ED1F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5D48-6395-4D5D-AADC-0D945945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EB5-1253-4029-9F9D-B0F7FB8F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079B-901C-4B52-9AA0-5CF120E3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EFBA-25C3-4CC4-95E8-F1637984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9FC7-956C-432E-95D0-08F70ED5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9EC7-7CF4-47F0-AE9E-70D23C0D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83FC-A2F8-4663-9C33-E8637456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EDC14-FEBC-496D-85D0-A95CA879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DB3CA-1BF2-495D-A7D8-68F58480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90191-535E-4470-8114-5BE0E497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50580-A292-4719-9546-A38CF338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5678A-E06B-40BC-A5F6-AFA3D744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9AC-E2F5-41A3-B3A2-01075871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29D9D-7883-49D8-8332-BD08ACB7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21D23-BB05-4C0B-816C-9663756A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A7DF5-E254-48FF-AE68-B2240CA6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94A0C-A406-47D1-B6DC-2C91AC36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74971-7988-4C8C-8B74-64DA8357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AE88B-EBBB-49E5-8EFB-CAFCFEF5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54C16-97A9-40D0-80AF-71CE6ED6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6DDA0-A694-4D3F-8BEB-7AC49E85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819C0-3DED-4FEF-AA25-BF726819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B3EE7-9F7E-4063-B13C-F2C6F205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D4E6-9EDD-4F65-B8A4-A55E1705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0BFF5-1EC3-43F0-B37D-8D347568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7CAE8-B15C-440C-8570-57FAA67F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B09F6-6A6E-4FC4-ABAC-0148E874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A05BD-35E0-43A9-8ABF-E159FEA9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5B1BA-77D1-4BA7-A62D-412CDDD1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38B02-36BC-49C3-A4EC-9D7008CF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3DA1A-425D-413A-B316-8F166DEF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7922D-0840-4339-80EF-D174B93F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EE5B9-264D-4148-BC79-9E529358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B29AD-5106-4B05-BAA3-47371983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586-8BBF-49BF-BA6D-D82BED2B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513A0-7D67-4A51-806D-E9C2608C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C1E86-BE0B-4405-9275-0E7E074F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56FBD-4246-4498-80AC-94397B58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148D9-3C3E-4F07-82B0-5F1DDEBB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1FF08-FB0F-4768-BA88-505EC586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3D054-BA2C-4068-A5FB-2C4F98D7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A5AD8-44C0-4E5A-8789-03E72C00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865D9-1A8E-41EA-B38E-A94F95CB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27306-E0B1-41DF-AD01-F6C893D4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737BB-D82B-476D-BE7A-BF070C32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04E3-47CE-49A1-A11F-0835E1D4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6ED63-2823-4E6A-B02E-DB2DF047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3C172-E332-49C7-8A47-4A4B0255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54D20-6A67-470F-9CA6-ADE7320C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02E3F-FBD1-4EF0-9EED-51801C0B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7ECF0-C589-451D-9113-AE6B33C2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E231A-A180-47ED-A856-4380EAE8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E37D2-E82F-4DE2-B8C2-6E2C9A4E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B25F1-B69C-415F-98F6-27BF21B0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3D4A4-6A1D-42E0-906A-44C80C7D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6EC1D-B325-4216-8A02-BCF851EE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FFD-AB8C-4EB5-81FC-732AE372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70D26-2901-4E09-A912-BAEAEB44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8B05C-1AF9-42D4-BFA7-D3C855FD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2AD9E-EFAE-46D6-A3D6-40519205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A91BF-EB61-4EF2-87FF-FAAE61BE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0F08B-90EF-4819-9CA4-0621B76B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73F99-14EC-46BC-9CF4-BC7DC087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2E8ED-BE6D-4CF4-B975-6D7408F9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1064B-6C3A-4A60-95A1-4CDC1DE6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295EE-7D42-4931-99C1-2B774BD8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66FC2-0A3B-4ED0-A9C8-84CEBBD0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989-7B41-4F52-8D3C-0E8E2D1C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95641-E4F8-4728-977A-953941BD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2B886-91C6-44CE-BEBD-A9E6C1FB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44D8F-E48B-4BFF-ACD6-C9700CE9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3EAAA-DD99-4570-882D-21C5880A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2E749-390D-4985-BA11-0A9A4CEC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4CA23-265F-4930-B80A-FA99D700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DB33F-0382-498E-96A6-52D4DFCD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1DBEE-196B-4C3D-8000-6B133EC1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E5A9A-EBF0-4842-BF2C-32494A13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B6642-8B8A-4248-B695-C6FCF698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082-CBC7-46E8-A2D5-2D841F43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4293A-5FA5-4821-9E24-DCFAFE00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AA8A9-8A56-4D19-A932-CF5722CB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19A47-CA42-4152-91CE-B7BC89E3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3C589-BFB6-409C-880A-7338C151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F2CF6-8009-4BFF-AF8F-D0C18150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A3D55-089D-4735-B23D-3384AE8A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51F12-6D10-48E4-BD3E-4E81B73B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2F7A1-D191-44EC-AB5C-341E6CE2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38819-F15A-405E-BE56-A4F0966D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FC761-D95E-42DB-A364-9238929F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F462-5A5E-4671-BB31-9CA76852994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542E-2AE1-4E82-BBA4-A5E3EC68365D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1F92-9943-4C36-BD30-EE05FF7FCAB8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A6EC-53F8-4B90-AE6E-73A160E1ABFD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5EB7-FA7E-430A-8CB9-4CC53AE7C37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74B8-C6AB-4E3F-B1C7-5930B2B73B3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D948-154B-476A-ADBA-BD6E3EBD6E57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7D38-38A9-40FE-9F82-2BA25DF0DB69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70E0-F892-46E6-9D5A-4532A97452DE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7E3B-0AC9-433F-B04F-DC8C5F9E484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15C3-CB2F-489A-AC8D-9BB63EA1E38A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D0EC-DCBC-4A5B-A9D0-0A48076C44E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pic 15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plementing and Using Stack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tack 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of things a person has to do in the future. "I haven't done it yet because every time I pop my stack something new gets pushed." If you are interrupted several times in the middle of a conversation, "My stack overflowed" means "I forget what we were talking about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The Hacker's Diction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7" descr=""/>
          <p:cNvPicPr/>
          <p:nvPr/>
        </p:nvPicPr>
        <p:blipFill>
          <a:blip r:embed="rId1"/>
          <a:stretch/>
        </p:blipFill>
        <p:spPr>
          <a:xfrm>
            <a:off x="7334280" y="3581280"/>
            <a:ext cx="1523880" cy="304812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2052"/>
          <p:cNvSpPr/>
          <p:nvPr/>
        </p:nvSpPr>
        <p:spPr>
          <a:xfrm>
            <a:off x="3581280" y="4646880"/>
            <a:ext cx="39625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iedrich L. Ba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man computer scienti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proposed "stack metho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xpression evaluation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195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lications of Stack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AA93-B1E7-496A-BCEC-CEBFE02A6B6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thematical Calcula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3 + 2 * 4 equal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 * 4 + 3?    3 * 2 + 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cedence of operators affects the order of oper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hematical expression cannot simply be evaluated left to r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allenge when evaluating a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xical analy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process of interpreting a program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1 - 2 - 4 ^ 5 * 3 * 6 / 7 ^ 2 ^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8D58-7E8D-4E86-9B28-E5E495C9EDC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fix and Postfix Express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y we are use to writing expressions is known as infix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fix expression does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any precedenc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2 * 1 +  is postfix of 3 * 2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following postfix expressions and write out a corresponding infix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3 2 4 * +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2 3 4 ^ *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2 - 3 2 ^ 3 * 6 /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5 ^ 1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4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207324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following postfix expression evaluate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3 2 +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D59E-2CC8-4101-B992-25AEBCF4D68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9660-3BC0-4E09-BC7C-A094B6BE73C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valuation of Postfix Expression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do with a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proper postfix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next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is an operand push it onto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if it is an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 the stack for the right hand ope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 the stack for the left hand ope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operator to the two ope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the result onto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expression has been exhausted the result is the top (and only element) of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A857-53D8-4130-8EC8-3B9DC462430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fix to Postfix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the following equations from infix to postfi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^ 3 ^ 3 + 5 *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+ 2 - 1 * 3 / 3 + 2 ^ 2 /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heses in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C1DB-63E3-4DCB-8348-296D4DFEEFF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fix to Postfix Convers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operator precedence parsing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 v. To determine the syntactic structure of a sentence or other utt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nds: add to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parenthesis: pop stack symbols until an open parenthesis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n on stack and off stack prece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 all stack symbols until a symbol of lower precedence appears. Then push the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of input: Pop all remaining stack symbols and add to th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B503-5510-49ED-8397-45E9AE275C3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899280" y="674640"/>
            <a:ext cx="517500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x Expres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+ 2 *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Fix Expre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Sta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c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37"/>
          <p:cNvGrpSpPr/>
          <p:nvPr/>
        </p:nvGrpSpPr>
        <p:grpSpPr>
          <a:xfrm>
            <a:off x="1765440" y="2895480"/>
            <a:ext cx="5587920" cy="3020040"/>
            <a:chOff x="1765440" y="2895480"/>
            <a:chExt cx="5587920" cy="3020040"/>
          </a:xfrm>
        </p:grpSpPr>
        <p:sp>
          <p:nvSpPr>
            <p:cNvPr id="589" name="Text Box 27"/>
            <p:cNvSpPr/>
            <p:nvPr/>
          </p:nvSpPr>
          <p:spPr>
            <a:xfrm>
              <a:off x="1797120" y="2895480"/>
              <a:ext cx="5548320" cy="30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 Stack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 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ceden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eced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28"/>
            <p:cNvSpPr/>
            <p:nvPr/>
          </p:nvSpPr>
          <p:spPr>
            <a:xfrm>
              <a:off x="320040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30"/>
            <p:cNvSpPr/>
            <p:nvPr/>
          </p:nvSpPr>
          <p:spPr>
            <a:xfrm>
              <a:off x="541008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31"/>
            <p:cNvSpPr/>
            <p:nvPr/>
          </p:nvSpPr>
          <p:spPr>
            <a:xfrm>
              <a:off x="1765440" y="365760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32"/>
            <p:cNvSpPr/>
            <p:nvPr/>
          </p:nvSpPr>
          <p:spPr>
            <a:xfrm>
              <a:off x="1765440" y="403848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33"/>
            <p:cNvSpPr/>
            <p:nvPr/>
          </p:nvSpPr>
          <p:spPr>
            <a:xfrm>
              <a:off x="1790640" y="439416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34"/>
            <p:cNvSpPr/>
            <p:nvPr/>
          </p:nvSpPr>
          <p:spPr>
            <a:xfrm>
              <a:off x="1790640" y="476244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35"/>
            <p:cNvSpPr/>
            <p:nvPr/>
          </p:nvSpPr>
          <p:spPr>
            <a:xfrm>
              <a:off x="1790640" y="513072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36"/>
            <p:cNvSpPr/>
            <p:nvPr/>
          </p:nvSpPr>
          <p:spPr>
            <a:xfrm>
              <a:off x="1790640" y="549900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60DD-0DFD-4549-A811-8A1986ABF1F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901080" y="674640"/>
            <a:ext cx="50968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x Expres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 *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Fix Expres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Sta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c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4"/>
          <p:cNvGrpSpPr/>
          <p:nvPr/>
        </p:nvGrpSpPr>
        <p:grpSpPr>
          <a:xfrm>
            <a:off x="1765440" y="2895480"/>
            <a:ext cx="5587920" cy="3020040"/>
            <a:chOff x="1765440" y="2895480"/>
            <a:chExt cx="5587920" cy="3020040"/>
          </a:xfrm>
        </p:grpSpPr>
        <p:sp>
          <p:nvSpPr>
            <p:cNvPr id="604" name="Text Box 5"/>
            <p:cNvSpPr/>
            <p:nvPr/>
          </p:nvSpPr>
          <p:spPr>
            <a:xfrm>
              <a:off x="1797120" y="2895480"/>
              <a:ext cx="5548320" cy="30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 Stack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 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ceden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eced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6"/>
            <p:cNvSpPr/>
            <p:nvPr/>
          </p:nvSpPr>
          <p:spPr>
            <a:xfrm>
              <a:off x="320040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7"/>
            <p:cNvSpPr/>
            <p:nvPr/>
          </p:nvSpPr>
          <p:spPr>
            <a:xfrm>
              <a:off x="541008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"/>
            <p:cNvSpPr/>
            <p:nvPr/>
          </p:nvSpPr>
          <p:spPr>
            <a:xfrm>
              <a:off x="1765440" y="365760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9"/>
            <p:cNvSpPr/>
            <p:nvPr/>
          </p:nvSpPr>
          <p:spPr>
            <a:xfrm>
              <a:off x="1765440" y="403848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10"/>
            <p:cNvSpPr/>
            <p:nvPr/>
          </p:nvSpPr>
          <p:spPr>
            <a:xfrm>
              <a:off x="1790640" y="439416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1"/>
            <p:cNvSpPr/>
            <p:nvPr/>
          </p:nvSpPr>
          <p:spPr>
            <a:xfrm>
              <a:off x="1790640" y="476244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2"/>
            <p:cNvSpPr/>
            <p:nvPr/>
          </p:nvSpPr>
          <p:spPr>
            <a:xfrm>
              <a:off x="1790640" y="513072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3"/>
            <p:cNvSpPr/>
            <p:nvPr/>
          </p:nvSpPr>
          <p:spPr>
            <a:xfrm>
              <a:off x="1790640" y="549900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648B-F52C-4CA2-8425-CBA95D2C27E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901080" y="674640"/>
            <a:ext cx="50968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x Expres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*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Fix Express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Sta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c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Group 4"/>
          <p:cNvGrpSpPr/>
          <p:nvPr/>
        </p:nvGrpSpPr>
        <p:grpSpPr>
          <a:xfrm>
            <a:off x="1765440" y="2895480"/>
            <a:ext cx="5587920" cy="3020040"/>
            <a:chOff x="1765440" y="2895480"/>
            <a:chExt cx="5587920" cy="3020040"/>
          </a:xfrm>
        </p:grpSpPr>
        <p:sp>
          <p:nvSpPr>
            <p:cNvPr id="619" name="Text Box 5"/>
            <p:cNvSpPr/>
            <p:nvPr/>
          </p:nvSpPr>
          <p:spPr>
            <a:xfrm>
              <a:off x="1797120" y="2895480"/>
              <a:ext cx="5548320" cy="30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 Stack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 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ceden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eced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6"/>
            <p:cNvSpPr/>
            <p:nvPr/>
          </p:nvSpPr>
          <p:spPr>
            <a:xfrm>
              <a:off x="320040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7"/>
            <p:cNvSpPr/>
            <p:nvPr/>
          </p:nvSpPr>
          <p:spPr>
            <a:xfrm>
              <a:off x="541008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8"/>
            <p:cNvSpPr/>
            <p:nvPr/>
          </p:nvSpPr>
          <p:spPr>
            <a:xfrm>
              <a:off x="1765440" y="365760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9"/>
            <p:cNvSpPr/>
            <p:nvPr/>
          </p:nvSpPr>
          <p:spPr>
            <a:xfrm>
              <a:off x="1765440" y="403848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0"/>
            <p:cNvSpPr/>
            <p:nvPr/>
          </p:nvSpPr>
          <p:spPr>
            <a:xfrm>
              <a:off x="1790640" y="439416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"/>
            <p:cNvSpPr/>
            <p:nvPr/>
          </p:nvSpPr>
          <p:spPr>
            <a:xfrm>
              <a:off x="1790640" y="476244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2"/>
            <p:cNvSpPr/>
            <p:nvPr/>
          </p:nvSpPr>
          <p:spPr>
            <a:xfrm>
              <a:off x="1790640" y="513072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3"/>
            <p:cNvSpPr/>
            <p:nvPr/>
          </p:nvSpPr>
          <p:spPr>
            <a:xfrm>
              <a:off x="1790640" y="549900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5BE9-75A6-4E20-9165-AACF4372A0D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harper Too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"/>
          <p:cNvPicPr/>
          <p:nvPr/>
        </p:nvPicPr>
        <p:blipFill>
          <a:blip r:embed="rId2"/>
          <a:stretch/>
        </p:blipFill>
        <p:spPr>
          <a:xfrm>
            <a:off x="4610160" y="1889280"/>
            <a:ext cx="3314520" cy="165708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6"/>
          <p:cNvSpPr/>
          <p:nvPr/>
        </p:nvSpPr>
        <p:spPr>
          <a:xfrm>
            <a:off x="1676880" y="4343400"/>
            <a:ext cx="13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5448600" y="3745080"/>
            <a:ext cx="18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E11D-D781-4666-A1F1-39E58D6CF31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901080" y="674640"/>
            <a:ext cx="50968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x Expres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Fix Express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Sta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c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4"/>
          <p:cNvGrpSpPr/>
          <p:nvPr/>
        </p:nvGrpSpPr>
        <p:grpSpPr>
          <a:xfrm>
            <a:off x="1765440" y="2895480"/>
            <a:ext cx="5587920" cy="3020040"/>
            <a:chOff x="1765440" y="2895480"/>
            <a:chExt cx="5587920" cy="3020040"/>
          </a:xfrm>
        </p:grpSpPr>
        <p:sp>
          <p:nvSpPr>
            <p:cNvPr id="634" name="Text Box 5"/>
            <p:cNvSpPr/>
            <p:nvPr/>
          </p:nvSpPr>
          <p:spPr>
            <a:xfrm>
              <a:off x="1797120" y="2895480"/>
              <a:ext cx="5548320" cy="30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 Stack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 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ceden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eced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6"/>
            <p:cNvSpPr/>
            <p:nvPr/>
          </p:nvSpPr>
          <p:spPr>
            <a:xfrm>
              <a:off x="320040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7"/>
            <p:cNvSpPr/>
            <p:nvPr/>
          </p:nvSpPr>
          <p:spPr>
            <a:xfrm>
              <a:off x="541008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8"/>
            <p:cNvSpPr/>
            <p:nvPr/>
          </p:nvSpPr>
          <p:spPr>
            <a:xfrm>
              <a:off x="1765440" y="365760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9"/>
            <p:cNvSpPr/>
            <p:nvPr/>
          </p:nvSpPr>
          <p:spPr>
            <a:xfrm>
              <a:off x="1765440" y="403848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0"/>
            <p:cNvSpPr/>
            <p:nvPr/>
          </p:nvSpPr>
          <p:spPr>
            <a:xfrm>
              <a:off x="1790640" y="439416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1"/>
            <p:cNvSpPr/>
            <p:nvPr/>
          </p:nvSpPr>
          <p:spPr>
            <a:xfrm>
              <a:off x="1790640" y="476244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2"/>
            <p:cNvSpPr/>
            <p:nvPr/>
          </p:nvSpPr>
          <p:spPr>
            <a:xfrm>
              <a:off x="1790640" y="513072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3"/>
            <p:cNvSpPr/>
            <p:nvPr/>
          </p:nvSpPr>
          <p:spPr>
            <a:xfrm>
              <a:off x="1790640" y="549900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F50A-27CC-4E14-A9A2-FB65469059C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7" name="Text Box 3"/>
          <p:cNvSpPr/>
          <p:nvPr/>
        </p:nvSpPr>
        <p:spPr>
          <a:xfrm>
            <a:off x="901080" y="674640"/>
            <a:ext cx="50968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x Expres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Fix Express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Sta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c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4"/>
          <p:cNvGrpSpPr/>
          <p:nvPr/>
        </p:nvGrpSpPr>
        <p:grpSpPr>
          <a:xfrm>
            <a:off x="1765440" y="2895480"/>
            <a:ext cx="5587920" cy="3020040"/>
            <a:chOff x="1765440" y="2895480"/>
            <a:chExt cx="5587920" cy="3020040"/>
          </a:xfrm>
        </p:grpSpPr>
        <p:sp>
          <p:nvSpPr>
            <p:cNvPr id="649" name="Text Box 5"/>
            <p:cNvSpPr/>
            <p:nvPr/>
          </p:nvSpPr>
          <p:spPr>
            <a:xfrm>
              <a:off x="1797120" y="2895480"/>
              <a:ext cx="5548320" cy="30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 Stack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 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ceden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eced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6"/>
            <p:cNvSpPr/>
            <p:nvPr/>
          </p:nvSpPr>
          <p:spPr>
            <a:xfrm>
              <a:off x="320040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7"/>
            <p:cNvSpPr/>
            <p:nvPr/>
          </p:nvSpPr>
          <p:spPr>
            <a:xfrm>
              <a:off x="541008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8"/>
            <p:cNvSpPr/>
            <p:nvPr/>
          </p:nvSpPr>
          <p:spPr>
            <a:xfrm>
              <a:off x="1765440" y="365760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9"/>
            <p:cNvSpPr/>
            <p:nvPr/>
          </p:nvSpPr>
          <p:spPr>
            <a:xfrm>
              <a:off x="1765440" y="403848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0"/>
            <p:cNvSpPr/>
            <p:nvPr/>
          </p:nvSpPr>
          <p:spPr>
            <a:xfrm>
              <a:off x="1790640" y="439416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11"/>
            <p:cNvSpPr/>
            <p:nvPr/>
          </p:nvSpPr>
          <p:spPr>
            <a:xfrm>
              <a:off x="1790640" y="476244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12"/>
            <p:cNvSpPr/>
            <p:nvPr/>
          </p:nvSpPr>
          <p:spPr>
            <a:xfrm>
              <a:off x="1790640" y="513072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3"/>
            <p:cNvSpPr/>
            <p:nvPr/>
          </p:nvSpPr>
          <p:spPr>
            <a:xfrm>
              <a:off x="1790640" y="549900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146D-638C-4F6B-A274-01B6B923F3C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901080" y="674640"/>
            <a:ext cx="50968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x Expres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Fix Express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Sta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c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4"/>
          <p:cNvGrpSpPr/>
          <p:nvPr/>
        </p:nvGrpSpPr>
        <p:grpSpPr>
          <a:xfrm>
            <a:off x="1765440" y="2895480"/>
            <a:ext cx="5587920" cy="3020040"/>
            <a:chOff x="1765440" y="2895480"/>
            <a:chExt cx="5587920" cy="3020040"/>
          </a:xfrm>
        </p:grpSpPr>
        <p:sp>
          <p:nvSpPr>
            <p:cNvPr id="664" name="Text Box 5"/>
            <p:cNvSpPr/>
            <p:nvPr/>
          </p:nvSpPr>
          <p:spPr>
            <a:xfrm>
              <a:off x="1797120" y="2895480"/>
              <a:ext cx="5548320" cy="30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 Stack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 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ceden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eced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6"/>
            <p:cNvSpPr/>
            <p:nvPr/>
          </p:nvSpPr>
          <p:spPr>
            <a:xfrm>
              <a:off x="320040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7"/>
            <p:cNvSpPr/>
            <p:nvPr/>
          </p:nvSpPr>
          <p:spPr>
            <a:xfrm>
              <a:off x="541008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8"/>
            <p:cNvSpPr/>
            <p:nvPr/>
          </p:nvSpPr>
          <p:spPr>
            <a:xfrm>
              <a:off x="1765440" y="365760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9"/>
            <p:cNvSpPr/>
            <p:nvPr/>
          </p:nvSpPr>
          <p:spPr>
            <a:xfrm>
              <a:off x="1765440" y="403848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10"/>
            <p:cNvSpPr/>
            <p:nvPr/>
          </p:nvSpPr>
          <p:spPr>
            <a:xfrm>
              <a:off x="1790640" y="439416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11"/>
            <p:cNvSpPr/>
            <p:nvPr/>
          </p:nvSpPr>
          <p:spPr>
            <a:xfrm>
              <a:off x="1790640" y="476244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12"/>
            <p:cNvSpPr/>
            <p:nvPr/>
          </p:nvSpPr>
          <p:spPr>
            <a:xfrm>
              <a:off x="1790640" y="513072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13"/>
            <p:cNvSpPr/>
            <p:nvPr/>
          </p:nvSpPr>
          <p:spPr>
            <a:xfrm>
              <a:off x="1790640" y="549900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D67B-3D22-4BB2-8965-5787DD2DB64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901080" y="674640"/>
            <a:ext cx="50968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x Expres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Fix Express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2 4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Sta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c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4"/>
          <p:cNvGrpSpPr/>
          <p:nvPr/>
        </p:nvGrpSpPr>
        <p:grpSpPr>
          <a:xfrm>
            <a:off x="1765440" y="2895480"/>
            <a:ext cx="5587920" cy="3020040"/>
            <a:chOff x="1765440" y="2895480"/>
            <a:chExt cx="5587920" cy="3020040"/>
          </a:xfrm>
        </p:grpSpPr>
        <p:sp>
          <p:nvSpPr>
            <p:cNvPr id="679" name="Text Box 5"/>
            <p:cNvSpPr/>
            <p:nvPr/>
          </p:nvSpPr>
          <p:spPr>
            <a:xfrm>
              <a:off x="1797120" y="2895480"/>
              <a:ext cx="5548320" cy="30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 Stack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 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ceden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eced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6"/>
            <p:cNvSpPr/>
            <p:nvPr/>
          </p:nvSpPr>
          <p:spPr>
            <a:xfrm>
              <a:off x="320040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7"/>
            <p:cNvSpPr/>
            <p:nvPr/>
          </p:nvSpPr>
          <p:spPr>
            <a:xfrm>
              <a:off x="541008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8"/>
            <p:cNvSpPr/>
            <p:nvPr/>
          </p:nvSpPr>
          <p:spPr>
            <a:xfrm>
              <a:off x="1765440" y="365760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9"/>
            <p:cNvSpPr/>
            <p:nvPr/>
          </p:nvSpPr>
          <p:spPr>
            <a:xfrm>
              <a:off x="1765440" y="403848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"/>
            <p:cNvSpPr/>
            <p:nvPr/>
          </p:nvSpPr>
          <p:spPr>
            <a:xfrm>
              <a:off x="1790640" y="439416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1"/>
            <p:cNvSpPr/>
            <p:nvPr/>
          </p:nvSpPr>
          <p:spPr>
            <a:xfrm>
              <a:off x="1790640" y="476244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2"/>
            <p:cNvSpPr/>
            <p:nvPr/>
          </p:nvSpPr>
          <p:spPr>
            <a:xfrm>
              <a:off x="1790640" y="513072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3"/>
            <p:cNvSpPr/>
            <p:nvPr/>
          </p:nvSpPr>
          <p:spPr>
            <a:xfrm>
              <a:off x="1790640" y="549900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FA11-1BD5-4141-BF46-6E57969C1B2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2" name="Text Box 3"/>
          <p:cNvSpPr/>
          <p:nvPr/>
        </p:nvSpPr>
        <p:spPr>
          <a:xfrm>
            <a:off x="899280" y="674640"/>
            <a:ext cx="517500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x Expres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Fix Express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2 4 *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Sta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c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4"/>
          <p:cNvGrpSpPr/>
          <p:nvPr/>
        </p:nvGrpSpPr>
        <p:grpSpPr>
          <a:xfrm>
            <a:off x="1765440" y="2895480"/>
            <a:ext cx="5587920" cy="3020040"/>
            <a:chOff x="1765440" y="2895480"/>
            <a:chExt cx="5587920" cy="3020040"/>
          </a:xfrm>
        </p:grpSpPr>
        <p:sp>
          <p:nvSpPr>
            <p:cNvPr id="694" name="Text Box 5"/>
            <p:cNvSpPr/>
            <p:nvPr/>
          </p:nvSpPr>
          <p:spPr>
            <a:xfrm>
              <a:off x="1797120" y="2895480"/>
              <a:ext cx="5548320" cy="30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 Stack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 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ceden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eced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6"/>
            <p:cNvSpPr/>
            <p:nvPr/>
          </p:nvSpPr>
          <p:spPr>
            <a:xfrm>
              <a:off x="320040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7"/>
            <p:cNvSpPr/>
            <p:nvPr/>
          </p:nvSpPr>
          <p:spPr>
            <a:xfrm>
              <a:off x="541008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8"/>
            <p:cNvSpPr/>
            <p:nvPr/>
          </p:nvSpPr>
          <p:spPr>
            <a:xfrm>
              <a:off x="1765440" y="365760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9"/>
            <p:cNvSpPr/>
            <p:nvPr/>
          </p:nvSpPr>
          <p:spPr>
            <a:xfrm>
              <a:off x="1765440" y="403848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0"/>
            <p:cNvSpPr/>
            <p:nvPr/>
          </p:nvSpPr>
          <p:spPr>
            <a:xfrm>
              <a:off x="1790640" y="439416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1"/>
            <p:cNvSpPr/>
            <p:nvPr/>
          </p:nvSpPr>
          <p:spPr>
            <a:xfrm>
              <a:off x="1790640" y="476244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2"/>
            <p:cNvSpPr/>
            <p:nvPr/>
          </p:nvSpPr>
          <p:spPr>
            <a:xfrm>
              <a:off x="1790640" y="513072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3"/>
            <p:cNvSpPr/>
            <p:nvPr/>
          </p:nvSpPr>
          <p:spPr>
            <a:xfrm>
              <a:off x="1790640" y="549900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A0DE-36DB-448B-BD24-B67D865B879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- 2 ^ 3 ^ 3 - ( 4 + 5 * 6 ) *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lgorithm in action on above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7A1A-598F-4F18-AF34-7C47C4FFC2A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lanced Symbol Check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cessing programs and working with computer languages there are many instances when symbols must be bala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} , [ ] , 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ck is useful for checking symbol balance.  When a closing symbol is found it must match the most recent opening symbol of the same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ble to checking html and xml ta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8E8F-8D5B-4539-A3DB-CEFAA487691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gorithm for Balanced Symbol Check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n empty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symbols until end o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ymbol is an opening symbol push it onto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is a closing symbol do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ck is empty report a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pop the stack. If the symbol popped does not match the closing symbol report a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file if the stack is not empty report an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635D-D6E9-43A4-A1D2-B5FDED0328E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gorithm in practi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[i] = 3 * ( 44 - method( foo( list[ 2 * (i + 1) + foo( list[i - 1] ) ) / 2 * ) - list[ method(list[0])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s it not an error to have non matching symbo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ken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cess of scanning an input stream.  Each independent chunk is a tok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kens may be made up of 1 or mor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4189-4E57-4967-B7FE-336E9600832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ck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is allowed only at one point of the structure, normally term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the most recently added item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 are limi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(add item to st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 (remove top item from st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(get top item without removing 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as a "Last In First Out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FO)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/>
          <a:stretch/>
        </p:blipFill>
        <p:spPr>
          <a:xfrm>
            <a:off x="6324480" y="266688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3F97-05B3-42D2-8995-7E37924B67A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ck Opera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a simple stack for inte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&lt;Integer&gt; s = new Stack&lt;Integer&gt;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push(1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push(4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push( s.top() + 2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pop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push( s.top()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what are contents of s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D04A-993C-410A-8F6B-6D63F0CE392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ck Opera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o print out contents of stack in reverse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2550-EDC3-46C2-B60A-F5F89235FF8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5562720" y="542880"/>
            <a:ext cx="3403440" cy="425772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es of Stack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untime stack used by a process (running program) to keep track of methods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o, redo, back,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"/>
          <p:cNvPicPr/>
          <p:nvPr/>
        </p:nvPicPr>
        <p:blipFill>
          <a:blip r:embed="rId2"/>
          <a:stretch/>
        </p:blipFill>
        <p:spPr>
          <a:xfrm>
            <a:off x="6553080" y="4648320"/>
            <a:ext cx="2076480" cy="16016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"/>
          <p:cNvPicPr/>
          <p:nvPr/>
        </p:nvPicPr>
        <p:blipFill>
          <a:blip r:embed="rId3"/>
          <a:stretch/>
        </p:blipFill>
        <p:spPr>
          <a:xfrm>
            <a:off x="3733920" y="4495680"/>
            <a:ext cx="1904760" cy="13096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" descr=""/>
          <p:cNvPicPr/>
          <p:nvPr/>
        </p:nvPicPr>
        <p:blipFill>
          <a:blip r:embed="rId4"/>
          <a:stretch/>
        </p:blipFill>
        <p:spPr>
          <a:xfrm>
            <a:off x="990720" y="4495680"/>
            <a:ext cx="167616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58E5-AAC3-4FA6-B38F-E310F8E4558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is Output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564480" y="762120"/>
            <a:ext cx="8715240" cy="63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put stuff in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(int i = 0; i &lt; 5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.push( i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Print out contents of st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while emptying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Assume there is a size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(int i = 0; i &lt; s.size()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( s.pop() + “ “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 3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 3 2 1 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  No output d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 3 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untim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100D-6408-4A96-8218-7F88D504992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rrected Vers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411840" y="838080"/>
            <a:ext cx="8715240" cy="54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put stuff in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(int i = 0; i &lt; 5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.push( i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print out contents of st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while empty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limit = s.siz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(int i = 0; i &lt; limit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( s.pop() + “ “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 !s.isEmpty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 s.pop(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5DB9-A5C7-4FA4-8E84-445D38449B4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plementing a stack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n underlying collection to hold the elements of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obvious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(native or Array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yer of abs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A big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list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Michael D. Scott</cp:lastModifiedBy>
  <dcterms:modified xsi:type="dcterms:W3CDTF">2014-03-21T12:20:15Z</dcterms:modified>
  <cp:revision>50</cp:revision>
  <dc:subject/>
  <dc:title>PowerPoint Presentation</dc:title>
</cp:coreProperties>
</file>