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43D1035-CE28-4199-8164-650BFFBC2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30FB6A5-69C9-4735-8DEC-DA822CA56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15D-4F6A-4652-82D6-F1AA1F1D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985-63D8-46F7-8735-389E6E2C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B482C-5352-4DE4-A993-21F1A27D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589A1-71D8-4A29-BC00-F2FBD23B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3576-00B5-48A4-AEF3-8B3CE96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CD21F-65A2-4005-B328-194455E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FC5ED-0CE7-4B8F-8DA3-F7F9C879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8A25B-3270-4EE7-AAD7-D73228C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194FE-6F5B-43F8-899A-505B22F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2D8A-F5CE-47FE-874E-16696CDE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4DF5-0B15-4F25-9B9C-E569DA4C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DD84B-ACE7-480F-87AE-798CAE06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DF9-E69B-4564-A017-41A1F7B5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C46F5-93A0-45E8-B383-5E15E7FB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04764-ADB0-482D-932C-0A04591B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AF407-7CDB-4AE4-B9EC-1B399C5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84A59-34E0-4079-BF22-50B3C051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B119-9A19-4722-B995-772C20F3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E610-42AB-4F96-9CB3-0A76D38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B9CE8-09FB-4720-B8C5-A2A78FC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6AFB8-4618-4D8C-94A8-05FD86E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456F4-391C-4DA4-ADDF-16EFF257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2B241-24DA-4152-81D7-6F8D21B9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2E2-AD5C-4C01-98BB-0B48528A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E2FF7-6301-4625-A88A-30B70293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A97E-7BE3-4691-8D70-731FEC2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03518-94DB-43FF-9F67-F1E561D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90903-0815-41E7-B72A-4C86A50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5495-D9FB-4140-BD7B-10EFF97C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50446-9B31-4598-93C6-59F0DE9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DD985-A36A-4550-A0E9-330A031D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BDEFA-F945-4967-B744-B376C36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6317C-5712-4CCF-B7C3-8ED9C80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7D08D-71E6-4259-A75A-D758DD9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BFE7-6D89-47D4-BE0F-7B7551D4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66290-293F-4D8E-B9FE-6A06AE1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24FF5-FF15-4A22-B421-0F93899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EE563-B5C9-460B-8F97-A1BF3BD7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05D9F-6C9E-4686-9B5C-82F031A0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4ADF8-C34C-4177-816E-5508412E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77050-6D18-4444-8604-CEE7D210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B1B71-74BC-4956-A967-A0981BD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F51F3-E776-4F5B-9697-F2D7045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A92DF-5842-4BA5-9BFC-265F8122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3AD39-4B99-4D00-840E-BC19FEF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4112-658F-4B65-83CB-F1067D5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E0976-8233-4D86-808E-D3222C02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5BC0B-46FF-4F15-8A55-0EA6A22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9D485-681B-4C0A-88B5-31176CC7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77E50-BCF6-40F4-9942-98EC48EA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2DCBA-A863-4D27-B210-325FFB46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706-DBCD-4E49-87C9-11F1001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05B5-2BF2-4DDD-8336-F305062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5C74-422D-4C64-B05D-D98C3CD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8ED4-9A38-4B00-BFE5-86699AD6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6B7-CA48-46D5-B1B2-1EB6607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9FD-C64D-4C4A-A12E-BDC6AE75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6661-E3A0-488D-ACA4-451D30F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1539-9771-416D-A8F6-88A2065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A053-2492-4803-8B6A-A3222A9E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A86D-6C8A-46C7-824E-E237A0D3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7F7B-74CF-488C-835B-443F273F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8E13-D20C-469A-941C-A20E28BF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3299-A797-4B87-AA92-06009E9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0CC8-0344-4853-907A-9B14A5A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3E78-D32E-4707-8FB2-36E81502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ACE9-D755-4B9C-910B-24002829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C70-A5BA-4BFF-AA9F-89A35718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E272-642F-46BF-9C9C-066E4D1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7E63-5C3C-462D-A244-4C97049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841C-F7B6-4F3F-BAA1-591B6BD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D516-7B47-4BA8-9A15-5669892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F22B-06F9-43B9-BBB9-CF85B55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B369-92DB-4059-982A-F701AC50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9CC9-B589-405A-9798-0611EC42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19E3-C25F-4DFB-A00B-C1B96DFF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2537-4C3B-4F7F-964D-C4263FEE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D359-3EC8-428F-9B6A-C6DD1840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F5B-68FD-4F0E-B511-2D007F2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D6E6-D72A-4818-ABCB-58CA834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CB44-77C6-431A-8474-62AE31A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F70B-E4CA-4112-82BE-707EF5F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52A9-C7BB-4A96-81BB-1D04BAD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1D64-2329-4152-9443-727EEF3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A5B7-43B9-4105-928F-E5E2C01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A226-EDBA-4344-853F-8252268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38D3-E51C-49E3-9163-4B3CC537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110F-2D58-403E-958A-EBDFF92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B238-BABF-4BE2-B87B-CDCF6F6F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2BA-938C-42EF-AA2E-9BC17876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9C3D8-BAF6-4973-9309-91CCAA10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15A6-6691-4B88-A758-2C8B3D51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C059-9B03-4B35-AA00-B2371EB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BFF6-1CCE-437F-A2A3-CE561BD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86E6-6C0B-4895-BE72-17E7CD5E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7A0F-1FCB-42AE-8A4E-A0E552E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0817-750A-4CED-AFDA-62607B7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3333-74AD-492C-A77E-11FDEBF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820A-6BF4-4D43-95B1-B34EFA2A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13F5E-8738-4D8F-8FCA-7CF417E4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0C3-4F33-47A2-BFE8-CA581743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1947-97DB-49E8-B1F0-10B9F2E5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537DE-E0F3-402B-9302-A9FC18F7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E304-FF75-4004-B7AF-55D097C5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C3703-9A4E-4EF2-A3C1-C4838F06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056EA-B9C0-4A52-8342-D4A9936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5A9B-23E8-4736-B19D-9D0B37C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D394-14C7-4DB0-965F-B43D1472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0372-1E0F-43AD-A788-EA1EB57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177E-5975-477F-AB94-8CF5BB4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8234-CA0B-4F76-B9B7-D655585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892-8066-42D1-8939-C947059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4247-F8A7-41B4-A10B-496DA8ED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E266-2280-4464-8EF8-AB99F9FB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B7D26-FE63-4D76-BAA9-9C2B430B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75F4B-1DC4-4962-B81B-3DCC1163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32BA-A206-4371-B083-DF9567C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CFDEC-75F7-4171-86B2-9DDE49E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DA95-DE0D-43AA-B8A9-8D94E9B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0E8A-7831-4289-9CCD-12C7CB8B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8BC5-3122-44F4-9025-18FDEE25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9A8E9-9BDD-4D78-9E7F-6A2229F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4A5-08CF-4B44-95B7-A6A9527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7E9A6-BFDA-429C-ADF8-B332ABF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EC77-A17A-4212-9A78-72BBABA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16FC-84AF-4C21-BF4F-7F0B095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97158-48AA-4F83-B007-F4CB4433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118C-A16D-4F51-97F5-3C7DA627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93661-5590-413D-A6A4-60FA778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C34C-CC12-4FAB-A2A9-7D61289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F2466-4F78-46E2-948C-3BA8C7FE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D6EF-FCE1-4C38-980E-DBFBED6D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D54C5-0C8C-409B-A3AB-921E6155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233-B0E3-4872-95BE-CE14DA7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B6D8-1EC7-42E5-8FC1-C6B288EC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F3A1F-CFCC-4067-8C35-20F1F61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03C1-C064-42C8-A6F5-B68EB50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E7472-DA7C-4E22-91CA-87179A6C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8ACA-4676-44EA-876D-11B8B71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FC95-85A2-4278-91DA-749F15F8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68117-523C-4405-A087-8843E506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C4411-16B3-4D46-9E0E-F045BB1C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09D6E-19B3-43E2-9491-1E5C34C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92808-5CEB-4AD3-8AF9-97612241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CADC-0081-43E9-9436-EF4F8115A40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9058-E562-4B64-8556-05183234B2C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252-ACCC-4573-9A46-11953D2CFCF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6B69-3FCC-4C9D-BFD3-05DF4D2586C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7476-D2F5-4CA8-9B18-FCC1D134134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1851-211D-43CE-8392-CAEB14D5164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59F-7847-461F-9FFC-00840C9AC54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E740-E9D9-456E-9B26-86B33DC18E4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AE9C-44E0-4A05-A169-CA6823D690D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8E1D-2168-456D-8B40-27CC74B0E4D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0F1-745C-44FF-90E3-66639B7BA74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278-B337-4C78-8725-04DBDF3CF92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15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and Using 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tack 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things a person has to do in the future. "I haven't done it yet because every time I pop my stack something new gets pushed." If you are interrupted several times in the middle of a conversation, "My stack overflowed" means "I forget what we were talking abou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The Hacker's Diction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7334280" y="3581280"/>
            <a:ext cx="1523880" cy="30481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2052"/>
          <p:cNvSpPr/>
          <p:nvPr/>
        </p:nvSpPr>
        <p:spPr>
          <a:xfrm>
            <a:off x="3581280" y="4646880"/>
            <a:ext cx="39625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drich L. B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 computer scienti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proposed "stack metho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xpression evaluation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19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s of 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F8CF-D08B-4011-8393-C9937B4EA8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thematical Calcul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3 + 2 * 4 equa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* 4 + 3?    3 * 2 + 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cedence of operators affects the order of oper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hematical expression cannot simply be evaluated left to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llenge when evaluating a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xical analy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of interpreting a program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1 - 2 - 4 ^ 5 * 3 * 6 / 7 ^ 2 ^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E6D-07DE-46F4-B117-470CF5B832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ix and Postfix Express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we are use to writing expressions is known as infix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fix expression doe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ny preced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2 * 1 +  is postfix of 3 * 2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following postfix expressions and write out a corresponding infix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3 2 4 * +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 3 4 ^ *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 - 3 2 ^ 3 * 6 /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5 ^ 1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0732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following postfix expression 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3 2 +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1528-690D-4A8C-9C72-AB6A5BAE78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9B81-8657-4714-899C-C380D5E37F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valuation of Postfix Expression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 with a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proper postfix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next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an operand push it onto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it is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he stack for the right hand 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he stack for the left hand 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operator to the two ope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xpression has been exhausted the result is the top (and only element)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0DF-5710-44DB-AF73-55549DB780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ix to Postfi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he following equations from infix to postf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^ 3 ^ 3 + 5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+ 2 - 1 * 3 / 3 + 2 ^ 2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heses i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45E0-01A2-4C23-BA8F-3C590B2030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ix to Postfix Conver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operator precedence pars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 v. To determine the syntactic structure of a sentence or other utt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nds: add to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parenthesis: pop stack symbols until an open parenthesis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on stack and off stack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all stack symbols until a symbol of lower precedence appears. Then push th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input: Pop all remaining stack symbols and add to th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75A1-0B9A-463C-BE0E-171330AD4A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99280" y="674640"/>
            <a:ext cx="5175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+ 2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7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589" name="Text Box 27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8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0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1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2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3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34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5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6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367-36D5-4259-A899-D282061E26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0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073-2C49-43B3-9EA4-282E2D415E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19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0F68-9EDA-4854-93AF-232695C913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arper To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4610160" y="1889280"/>
            <a:ext cx="3314520" cy="16570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1676880" y="4343400"/>
            <a:ext cx="13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448600" y="374508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9B4-A982-4774-A5AA-2DBCDD5F6F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3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1402-E94F-48B0-8395-BF8AC88B26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49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2582-1DCE-44CE-A662-CA6D8BEB80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6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DDDA-E1FF-479F-B6E5-3BAFC0E48DC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901080" y="674640"/>
            <a:ext cx="5096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 4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79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D2C-F8BC-47CE-9FD4-7294683197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899280" y="674640"/>
            <a:ext cx="5175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x Expres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Fix Expres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2 4 *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St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4"/>
          <p:cNvGrpSpPr/>
          <p:nvPr/>
        </p:nvGrpSpPr>
        <p:grpSpPr>
          <a:xfrm>
            <a:off x="1765440" y="2895480"/>
            <a:ext cx="5587920" cy="3020040"/>
            <a:chOff x="1765440" y="2895480"/>
            <a:chExt cx="5587920" cy="3020040"/>
          </a:xfrm>
        </p:grpSpPr>
        <p:sp>
          <p:nvSpPr>
            <p:cNvPr id="694" name="Text Box 5"/>
            <p:cNvSpPr/>
            <p:nvPr/>
          </p:nvSpPr>
          <p:spPr>
            <a:xfrm>
              <a:off x="1797120" y="2895480"/>
              <a:ext cx="554832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 Stack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ece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320040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7"/>
            <p:cNvSpPr/>
            <p:nvPr/>
          </p:nvSpPr>
          <p:spPr>
            <a:xfrm>
              <a:off x="5410080" y="28954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8"/>
            <p:cNvSpPr/>
            <p:nvPr/>
          </p:nvSpPr>
          <p:spPr>
            <a:xfrm>
              <a:off x="1765440" y="36576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9"/>
            <p:cNvSpPr/>
            <p:nvPr/>
          </p:nvSpPr>
          <p:spPr>
            <a:xfrm>
              <a:off x="1765440" y="403848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1790640" y="439416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1"/>
            <p:cNvSpPr/>
            <p:nvPr/>
          </p:nvSpPr>
          <p:spPr>
            <a:xfrm>
              <a:off x="1790640" y="47624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"/>
            <p:cNvSpPr/>
            <p:nvPr/>
          </p:nvSpPr>
          <p:spPr>
            <a:xfrm>
              <a:off x="1790640" y="513072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3"/>
            <p:cNvSpPr/>
            <p:nvPr/>
          </p:nvSpPr>
          <p:spPr>
            <a:xfrm>
              <a:off x="1790640" y="549900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36FB-1779-4ABA-B031-E44A242FDD6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2 ^ 3 ^ 3 - ( 4 + 5 * 6 ) *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lgorithm in action on abov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C4EC-EA28-4A1D-9279-04E461A2F7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lanced Symbol Check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cessing programs and working with computer languages there are many instances when symbols must be bal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} , [ ] ,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ck is useful for checking symbol balance.  When a closing symbol is found it must match the most recent opening symbol of the sam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to checking html and xml ta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9CCC-6D1C-47BE-A311-EBA206E0A6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for Balanced Symbol Check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 empty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ymbols until end o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ymbol is an opening symbol push it onto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a closing symbol do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ck is empty report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pop the stack. If the symbol popped does not match the closing symbol report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file if the stack is not empty report 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E1A-B420-4414-BA13-6362B71B1C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in practi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[i] = 3 * ( 44 - method( foo( list[ 2 * (i + 1) + foo( list[i - 1] ) ) / 2 * ) - list[ method(list[0])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it not an error to have non matching symb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cess of scanning an input stream.  Each independent chunk is a t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s may be made up of 1 or mor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53D-0BD7-436B-AEE1-C3ED72D83F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is allowed only at one point of the structure, normally term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he most recently added ite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are lim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(add item to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(remove top item from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(get top item without removing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as a "Last In First Out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FO)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E49-68DE-44BA-A006-E4FEFC71C9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ck Oper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simple stack for inte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&lt;Integer&gt; s = new Stack&lt;Integer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1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 s.top() + 2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op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push( s.top(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what are contents of s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2F72-A789-4300-81F1-5108562842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ck Oper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print out contents of stack in revers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850-E250-4416-9568-684EF836ADF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5562720" y="542880"/>
            <a:ext cx="3403440" cy="4257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es of Sta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ntime stack used by a process (running program) to keep track of methods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o, redo, back,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2"/>
          <a:stretch/>
        </p:blipFill>
        <p:spPr>
          <a:xfrm>
            <a:off x="6553080" y="4648320"/>
            <a:ext cx="2076480" cy="1601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904760" cy="1309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6761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BD3-98E2-429F-9D79-DEE53E52AF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Outpu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64480" y="762120"/>
            <a:ext cx="8715240" cy="63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ut stuff in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5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.push(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rint out contents of st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ile emptying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Assume there is a siz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s.size()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 s.pop() + “ “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 1 2 3 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3 2 1 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 No output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3 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033-4831-431E-B5F9-6EEEB32B6B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ed Ver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411840" y="838080"/>
            <a:ext cx="871524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ut stuff in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5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.push(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print out contents of st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while empty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imit = s.siz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i = 0; i &lt; limit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 s.pop() + “ “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 !s.isEmpty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pop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C71-7E62-4FA5-B63C-4B523CBEEC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a sta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n underlying collection to hold the elements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bvious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(native or Array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yer of abs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lis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Michael D. Scott</cp:lastModifiedBy>
  <dcterms:modified xsi:type="dcterms:W3CDTF">2014-03-21T12:20:15Z</dcterms:modified>
  <cp:revision>50</cp:revision>
  <dc:subject/>
  <dc:title>PowerPoint Presentation</dc:title>
</cp:coreProperties>
</file>