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50187-DA5A-44F5-B979-2A27168C9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F19E1-8193-4830-9A96-1C036885A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BA9-22C5-4AD8-BE0D-524516FC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F7F-607E-4E96-A895-0E96A266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025-FCBB-40ED-816A-1F63C389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142-D65C-4F1F-8237-D8C31245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BC5-0445-4D8B-97BA-FFAB224B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521-4651-4A9D-8BE3-08F8CB59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F61-FA6D-4756-B7B6-C0428332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212-71ED-4E4C-BAC3-BE668C0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8EF-3548-4AEF-B655-4048CE37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109-3DFF-4B58-9A6A-3AC4DD19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32B-0B38-459A-B5E3-182ED83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959-AFCF-446A-A20B-35DAF398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5423-CB3F-4ACE-AE4C-1B9D8E5283C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19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Search Tre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676160"/>
            <a:ext cx="8839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Yes. Shrubberies are my trade. I am a shrubber. My name is 'Roger the Shrubber'. I arrange, design, and sell shrubberie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y Python and The Holy G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52578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456A-8D4B-423F-ABED-3F9D3AA4B8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on Implement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ays to implement B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nodes is just one and even then many options and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3124080"/>
            <a:ext cx="8763120" cy="183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inarySearchTree&lt;E extends Comparable&lt;E&gt;&gt; {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STNode&lt;E&gt; roo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CEDB-C869-468E-9412-F2C928074F1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an Element, Recursive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7405-8DA7-41FF-A180-8583D9ABFF0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an Element, Iterativ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est case and worst case order to add N distinct elements, one at a time, to an initially empty binary search tree using the simple add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4CFD-AF9D-46C8-BB54-9A4119067A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762880" y="2824200"/>
            <a:ext cx="338112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given int[]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no duplicat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ST&lt;Integer&gt; b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new BST&lt;Integer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x :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add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5"/>
          <p:cNvSpPr/>
          <p:nvPr/>
        </p:nvSpPr>
        <p:spPr>
          <a:xfrm>
            <a:off x="5638680" y="2514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937E-1459-454E-8EBA-215BA6E88F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rformance of Binary Tre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three core operations (add, access, remove) a binary search tree (BST) has an average case performance of O(log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hen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ïve insertion / removal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ecks to maintain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achieved based on the randomness of the data ins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2CA6-5A95-4C70-82DC-DE200236A1C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ove an Eleme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is a leaf, 0 children (eas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has 1 child (eas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has 2 children (inter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68E9-86D6-44C3-9A50-3B7C745E0D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perties of a B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inimum value is in the left most n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ximum value is in the right most n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ful when removing an element from the B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0C6-CF42-4715-A0DD-A5A9FE2E9C5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e Implement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lass examples of dynamic data structures have reli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ll terminated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ull to show end of list, no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ructural recursion and poly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CD10-CA01-49FC-9E29-5789BF3E794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ST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12200" y="1447920"/>
            <a:ext cx="722592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S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&lt;E extends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arable&lt;? super E&gt;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(E obj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(E obj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39F5-83B7-43BB-8CC5-0019F90D029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mptyB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8160" y="981000"/>
            <a:ext cx="9067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E extends Comparable&lt;? super E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(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 getEmptyBST()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ST add(E obj) { return new NEBST(obj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(E obj) 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() 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5A30-C2B4-4632-8CA6-1AE25D80EFA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Problem with Linked Lis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item from a linked list takes O(N) time for an arbitrary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trees can improve upon this and reduce access to O(log N) time for the averag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on the binary search technique and allows insertions and del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 case degenerates to O(N) but this can be avoided by using balanced trees (AVL, Red-Bl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F6B8-0B24-4EB1-B9F2-CB2682A620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n Empty BST – Part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52280" y="7621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BS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E extends Comparable&lt;? super E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 le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BST(E d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= EmptyBST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EmptyB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= EmptyBST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EmptyB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 add(E obj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ion = obj.compareTo( dat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direction &lt;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= left.add( obj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direction &gt;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= right.add( obj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2DC9-3353-4E0C-8ADD-BC55521613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n Empty BST – Part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143000" y="1143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(E obj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 = obj.compareTo(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dir ==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ir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ft.contains(ob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ght.contains(ob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+ left.size() + right.siz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E979-D4A7-49B3-A82F-3B27CA3982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Search Tre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nary search tree is a binary tree in whi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node'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subtree holds values less than the node's value, and every right subtree holds values greater than the node's val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node is added as a leaf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4157640" y="42670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3319560" y="52578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5072040" y="52578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905720" y="41036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3929040" y="4876920"/>
            <a:ext cx="3808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691160" y="4876920"/>
            <a:ext cx="45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753560" y="539892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759280" y="5322960"/>
            <a:ext cx="17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4462200" y="3886200"/>
            <a:ext cx="33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726080" y="35053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4192920" y="4332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354480" y="53341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107320" y="53341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581280" y="464832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5029200" y="46483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ST Inser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following values one at a time to an initially empty binary search tree using the naïve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  20  9  98  10  28  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ing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C7EA-FEEC-4875-AEBF-0808B21359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vers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of an inorder traversal of the resulting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a preorder traversal be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62D-0BC1-426F-85C6-110FCF10DB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dding N distinct elements in random order to a Binary Search Tree what is the expected height of the tree? (using the simple insertion algorith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2C2A-9852-43C8-B112-80EF807D06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dding N distinct elements to a Binary Search Tree what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st c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 of the tree? (using the simple insertion algorith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A753-FC49-4CCB-98EE-5F7462C990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F674-293F-445D-81FB-A870330D8D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orst Case Perform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he following values into an initially empty binary search tree using the simple, naïve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3 5 7 11 13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ight of the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worst case height of a B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AE7-5584-4650-BD4A-2533515B99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de for Binary Search Tre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79720" y="747720"/>
            <a:ext cx="719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STNode&lt;E extends Comparable&lt;E&gt;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mparable&lt;E&gt; myData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STNode&lt;E&gt; myLef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STNode&lt;E&gt; myRight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inaryNode(E i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Data = item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 getValu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Data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inaryNode&lt;E&gt; getLef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Lef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inaryNode&lt;E&gt; getRigh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Righ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(BSTNode&lt;E&gt;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Left = b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setRight not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cp:lastPrinted>2011-11-21T15:31:38Z</cp:lastPrinted>
  <dcterms:modified xsi:type="dcterms:W3CDTF">2021-04-15T17:17:03Z</dcterms:modified>
  <cp:revision>81</cp:revision>
  <dc:subject/>
  <dc:title>PowerPoint Presentation</dc:title>
</cp:coreProperties>
</file>