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55F36-120B-40EF-8FB7-8E2528007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F79A1-6F6D-479C-A329-8B930461F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A49-552F-4802-BD98-DDA8497C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E94-65F6-4EBF-B63F-788ADC98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65B-3840-495B-83E9-82C88E3C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1E1-A99D-4E8A-ABB0-AD1224BB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11D-0872-4645-9A74-DAFFC6AD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A5A-1C16-4DFC-99FF-2E417CB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156-3151-4360-9777-130CB446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F38-B1B5-4011-A0B1-766EEA50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EE9-B0BF-491C-ABFB-48588B26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980-09E8-4488-82C7-8076F32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DB1-38DD-47EE-93DB-BAE883E8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B30-3567-4475-9F1B-41BD360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F18-F270-401A-AA5A-54D72A91639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19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ary Search Tre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676160"/>
            <a:ext cx="8839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Yes. Shrubberies are my trade. I am a shrubber. My name is 'Roger the Shrubber'. I arrange, design, and sell shrubberie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y Python and The Holy G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52578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1AD5-41A0-45B2-9E1E-BD60C4F8DC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on Implement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ays to implement B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nodes is just one and even then many options and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3124080"/>
            <a:ext cx="8763120" cy="183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inarySearchTree&lt;E extends Comparable&lt;E&gt;&gt; {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STNode&lt;E&gt; roo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5C1E-726F-4324-BD03-8E7DF6BB320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an Element, Recursive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2B27-3555-4630-A681-FBF9704754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an Element, Iterativ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est case and worst case order to add N distinct elements, one at a time, to an initially empty binary search tree using the simple add algorith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3649-CF3E-4CCC-8410-58102E5C12D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762880" y="2824200"/>
            <a:ext cx="338112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given int[]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no duplicat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ST&lt;Integer&gt; b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new BST&lt;Integer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x :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add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5"/>
          <p:cNvSpPr/>
          <p:nvPr/>
        </p:nvSpPr>
        <p:spPr>
          <a:xfrm>
            <a:off x="5638680" y="2514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1B63-7DE4-4B26-9961-6901FA178B1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rformance of Binary Tre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three core operations (add, access, remove) a binary search tree (BST) has an average case performance of O(log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when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ïve insertion / removal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ecks to maintain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achieved based on the randomness of the data ins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941E-E754-4D53-99ED-BDE44A3662F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ove an Eleme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is a leaf, 0 children (eas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has 1 child (eas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has 2 children (inter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079E-6CE7-4861-ABE1-FE46890AAD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perties of a B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inimum value is in the left most n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ximum value is in the right most n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ful when removing an element from the B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52B4-AFE7-404A-8E57-D6D59237AFC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ternate Implement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lass examples of dynamic data structures have reli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ll terminated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ull to show end of list, no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ructural recursion and poly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E5D-C2FC-4BD9-A2AB-3FF12B1125F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ST Interf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12200" y="1447920"/>
            <a:ext cx="722592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S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&lt;E extends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arable&lt;? super E&gt;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(E obj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(E obj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FCCA-75D3-46CB-9371-02B92ADC37A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mptyB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8160" y="981000"/>
            <a:ext cx="9067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tyBS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E extends Comparable&lt;? super E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T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tyB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tyB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tyBST(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tyBST getEmptyBST()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ST add(E obj) { return new NEBST(obj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(E obj) 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() 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BE99-3980-4452-8A6C-EA27BF0A91A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Problem with Linked Lis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item from a linked list takes O(N) time for an arbitrary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trees can improve upon this and reduce access to O(log N) time for the averag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s on the binary search technique and allows insertions and dele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 case degenerates to O(N) but this can be avoided by using balanced trees (AVL, Red-Bl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A1D4-90FE-4346-A742-4A361B7A0E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n Empty BST – Part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52280" y="7621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BS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E extends Comparable&lt;? super E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T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T le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T r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BST(E d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= EmptyBST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EmptyB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= EmptyBST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EmptyB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T add(E obj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ion = obj.compareTo( data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direction &lt;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= left.add( obj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direction &gt;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= right.add( obj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E8D-B733-401A-BECB-82B7F87FA5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n Empty BST – Part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143000" y="1143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(E obj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 = obj.compareTo(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dir ==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ir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ft.contains(ob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ght.contains(ob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+ left.size() + right.siz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E08B-BD67-4935-B8A9-46A7AA1EB5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ary Search Tre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nary search tree is a binary tree in whi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node'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subtree holds values less than the node's value, and every right subtree holds values greater than the node's val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node is added as a leaf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4157640" y="426708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3319560" y="52578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5072040" y="52578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905720" y="41036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3929040" y="4876920"/>
            <a:ext cx="3808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691160" y="4876920"/>
            <a:ext cx="45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753560" y="539892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759280" y="5322960"/>
            <a:ext cx="17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4462200" y="3886200"/>
            <a:ext cx="33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726080" y="35053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4192920" y="43322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354480" y="53341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5107320" y="53341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581280" y="4648320"/>
            <a:ext cx="3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5029200" y="464832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ST Inser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following values one at a time to an initially empty binary search tree using the naïve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  20  9  98  10  28  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ing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A6EA-C554-40CA-8477-B2FE0DB1450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versa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of an inorder traversal of the resulting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a preorder traversal be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62DA-0B56-449D-857D-4A6AE92FD74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dding N distinct elements in random order to a Binary Search Tree what is the expected height of the tree? (using the simple insertion algorith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2601-4CF8-4524-8F6A-5C15414F61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dding N distinct elements to a Binary Search Tree what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st c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 of the tree? (using the simple insertion algorith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8916-D89E-4D06-B373-E6B1F27F88A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493B-B274-4D9A-94C6-D32C607629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orst Case Perform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he following values into an initially empty binary search tree using the simple, naïve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3 5 7 11 13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eight of the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worst case height of a B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4FA1-C52A-4F9E-82D4-0653D050703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de for Binary Search Tre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179720" y="747720"/>
            <a:ext cx="719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STNode&lt;E extends Comparable&lt;E&gt;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mparable&lt;E&gt; myData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STNode&lt;E&gt; myLef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STNode&lt;E&gt; myRight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inaryNode(E i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Data = item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 getValu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Data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inaryNode&lt;E&gt; getLef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Lef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inaryNode&lt;E&gt; getRigh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Righ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(BSTNode&lt;E&gt;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Left = b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setRight not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cp:lastPrinted>2011-11-21T15:31:38Z</cp:lastPrinted>
  <dcterms:modified xsi:type="dcterms:W3CDTF">2021-04-15T17:17:03Z</dcterms:modified>
  <cp:revision>81</cp:revision>
  <dc:subject/>
  <dc:title>PowerPoint Presentation</dc:title>
</cp:coreProperties>
</file>