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DBF0-16A6-4680-B78D-0EAF54B4F4C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ocs.oracle.com/javase/8/docs/api/java/util/function/IntBinaryOperato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MathMatrix add(MathMatrix rh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return getMat(rh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 y) -&gt; x + 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MathMatrix subtract(MathMatrix rh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return getMat(rh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 y) -&gt; x - 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athMatri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Matrix rh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[] res = new int[cells.length][cells[0]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r = 0; r &lt; cells.length; 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 cells[0].length; c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1 = cells[r][c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2 = rhs.cells[r][c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[r][c]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perator.applyAsInt(temp1, temp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MathMatrix(r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// IntBinaryOperator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stream"/>
          <p:cNvPicPr/>
          <p:nvPr/>
        </p:nvPicPr>
        <p:blipFill>
          <a:blip r:embed="rId1"/>
          <a:stretch/>
        </p:blipFill>
        <p:spPr>
          <a:xfrm>
            <a:off x="228600" y="3124080"/>
            <a:ext cx="8839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ng away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 * 2 * 3 * ... * (n-1) *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8120" y="1143000"/>
          <a:ext cx="8809200" cy="527040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8120" y="1143000"/>
          <a:ext cx="8809200" cy="329256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71360" y="4572000"/>
          <a:ext cx="8809200" cy="219384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ed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using streams that finds and prints the first 5 perfect numbers. (Recall a perfect number is equal to the sum of its unique integer divisors, excluding itself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equival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hMatrix add / sub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the MathMatrix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MathMatrix add(MathMatrix rh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nt[][] res = new int[cells.length][cells[0].leng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for (int r = 0; r &lt; res.length; r++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= res[0].length; c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res[r][c] = cells[r][c] + rhs.cells[r][c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eturn new MathMatrix(r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MathMatrix subtract(MathMatrix rh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[][] res = new int[cells.length][cells[0].leng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for (int r = 0; r &lt; res.length; r++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= res[0].length; c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res[r][c] = cells[r][c] - rhs.cells[r][c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eturn new MathMatrix(r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hMatrix add / sub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ACK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 do we generalize the idea of "add or subtract"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scottm</cp:lastModifiedBy>
  <dcterms:modified xsi:type="dcterms:W3CDTF">2018-12-10T19:48:19Z</dcterms:modified>
  <cp:revision>671</cp:revision>
  <dc:subject/>
  <dc:title>CSE 142 Python Slides</dc:title>
</cp:coreProperties>
</file>