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CEA10F0-76DB-4A6A-B13D-2D62BE385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DBCC264-345D-41BB-B097-99BB77592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EE2-CF78-4137-BDC5-57970261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DBA-2830-45ED-AD39-0ED1E2D2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A5E-63DA-4110-903F-D20BE90A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8D6-8DCD-463E-9EEC-BA954198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FA4-5C15-4752-86B2-AC95C299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BD5-F106-4428-84E6-031903A0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CB8-3F10-4597-A962-A530A640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02D-9692-440D-BCB7-E8BCB86E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FFE-8C8E-49BB-8F63-FA40FB17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707-3329-44F1-97E5-8B225A8D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656-08C3-4D88-8F0F-BA6C581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1A8-CD38-4DA0-BBAB-3CA0BF76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493D-2306-4170-8072-FB6B7171D55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E578-FFD2-43CF-82A5-789C1F27B4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1523880" y="304560"/>
            <a:ext cx="76197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opic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31"/>
          <p:cNvSpPr/>
          <p:nvPr/>
        </p:nvSpPr>
        <p:spPr>
          <a:xfrm>
            <a:off x="0" y="2362320"/>
            <a:ext cx="51055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efer Agassiz in the abstract, rather than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re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e of Biologi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 Agassiz that fell fr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dge on the Stanfor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 during the 1906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 earthqu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40276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0C1D-80E0-4E40-B6DE-92226265465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getRent Abstrac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838080"/>
            <a:ext cx="817236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class Property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int co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abstract int getRe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I know I want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Just don’t know how, ye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that are declared abstract have no bo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defined behavio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non-default methods in a Java interface are abstr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2895480" y="2514600"/>
            <a:ext cx="198144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blems with Abstract Method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62120" y="5638680"/>
            <a:ext cx="78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ngs can go wrong with a tool, provide safeguards to prevent that from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76320" y="3722760"/>
            <a:ext cx="8991360" cy="1839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819000" y="1413000"/>
            <a:ext cx="78105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Ren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w an abstract method what is wrong with the following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perty s = new Property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s.getRent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4C1F-DCD8-4878-9637-32BE56721D2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ndefined Behavior = Ba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good to have undefined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lass has 1 or more abstract methods, the class must also be declared abstr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n would cause a compil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if a class has zero abstract methods a programmer can still choose to make it abs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models some abstrac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ything that is just a “Mammal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bstract Classes Saf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320" y="8380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with one or more abstract methods must be declared abstra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yntax error if not don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an still decide to make class abstract even if no abstract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of an abstract type cannot be instantia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Just like interfa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an still desclare variables of this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class must implement all inherited abstract methods or be abstract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6433-87A0-4CA4-9407-FB7C1DF20E3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5494-7155-42BF-8FEA-A7D549BD705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bstract Clas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3520" y="762120"/>
            <a:ext cx="817236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bstract class Propert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co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bstract double getR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I know I want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Just don’t know how, ye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Other methods not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lass is abstract the compiler will not allow constructors of that class to be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perty s = new Property(1, 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syntax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1676520" y="609480"/>
            <a:ext cx="205740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124080" y="5340240"/>
            <a:ext cx="4881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8106-A068-4C16-BDC1-0DA910C3427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bstract Clas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 you can’t create instances of objects where the lowest or most specific class type is an abstrac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having an object with an undefined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still want to have constructors in an abstract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variables of classes that are abstract types may still be decl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perty p; //o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B9B3-573E-46B7-A148-C70C8603729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b Classes of Abstract Class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that extend an abstract class must provided a working version of any and all abstract methods from the parent c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must be declared to be abstract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still decide to keep a class abstract regardless of status of abstrac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BCAA-DF57-439E-9C2B-AB37B3B3281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ing getRent(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4920" y="1143000"/>
            <a:ext cx="84582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Railroad extends Propert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static int[] r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{25, 50, 100, 200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numOtherRailroadsOwn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double getRent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rents[numOtherRailroadsOwned]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other methods not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E282-A05F-4F85-8650-9C1379FE4E2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Utility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276120" y="743040"/>
            <a:ext cx="85917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E235-A60A-4DFC-83DF-C80B3EF5A4B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lymorphism in Ac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76320" y="1066680"/>
            <a:ext cx="906768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getRent() in Property is 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ublic void printRents(Property[] props) {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or(Property p : pro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ystem.out.println(p.getRent()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Street class. What needs to change in printRent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is can be described as new code using old c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morphism can be described as old code reusing new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ack to the Monopoly Property Exampl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properties on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opoly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ilroads, Utilities, and Streets are kinds of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29160" y="3048120"/>
            <a:ext cx="1447920" cy="7617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488840" y="313380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548080" y="4267080"/>
            <a:ext cx="1447560" cy="7621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2706120" y="43560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4424400" y="4267080"/>
            <a:ext cx="1447920" cy="7621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386240" y="435276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095880" y="4257720"/>
            <a:ext cx="1447920" cy="7621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6229440" y="435276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5"/>
          <p:cNvCxnSpPr/>
          <p:nvPr/>
        </p:nvCxnSpPr>
        <p:spPr>
          <a:xfrm flipV="1">
            <a:off x="3447720" y="3847680"/>
            <a:ext cx="115776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Straight Arrow Connector 18"/>
          <p:cNvCxnSpPr/>
          <p:nvPr/>
        </p:nvCxnSpPr>
        <p:spPr>
          <a:xfrm flipV="1">
            <a:off x="5143680" y="3819240"/>
            <a:ext cx="72000" cy="426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Straight Arrow Connector 20"/>
          <p:cNvCxnSpPr/>
          <p:nvPr/>
        </p:nvCxnSpPr>
        <p:spPr>
          <a:xfrm flipH="1" flipV="1">
            <a:off x="5777640" y="3809160"/>
            <a:ext cx="1089720" cy="39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101680" y="5164200"/>
            <a:ext cx="144468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375080" y="5145120"/>
            <a:ext cx="1474920" cy="1693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6477120" y="5197320"/>
            <a:ext cx="1406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A585-0ED2-45D3-B414-3AB03BB45E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arable in Proper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bstract class Prope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lements Comparable&lt;Property&gt;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co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bstract int getR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Property other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his.getRent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therProperty.getR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ck to Lis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596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uggested having a lis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IList&lt;E&gt; extends Iterable&lt;E&gt;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get(int locati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remove(int locati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olean contains(E 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ll(IList&lt;E&gt; oth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olean containsAll(IList&lt;E&gt; oth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22F0-542F-4CAF-9E2A-F01FA3FF875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mplementing data struc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an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bstract class t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keletal imple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lasses that extend the skeletal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D107-B69E-45EA-93B1-543BEF28092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getRent Behavi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behavior we want in Property is the getRent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: How do I get the rent of something that is “just a Property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BC86-A7E9-437A-B582-B5A0753731E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302A-2430-4F37-B77E-DFFF6D0146F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Property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873000" y="1066680"/>
            <a:ext cx="78105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class Property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int co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int getRent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hmmmmm?????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44600" y="4408560"/>
            <a:ext cx="79606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seem like we have enough information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rent if all we know is it is a Prop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A3A3-1AF2-4962-ABA2-1D320834454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leave it for the sub cla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ach sub class define getRen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getRent() in Property and simply return -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classes override the method with more meaningful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2CE2-852F-4603-8270-DEBC80D6656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ave it to the Sub - Clas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04920" y="608040"/>
            <a:ext cx="834372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no getRent() in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Railroad and Utility DO have getRent()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Rents(Property[] props) 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Property p : pro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 p.getRent(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erty[] props = new Property[2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s[0] = new Railroad("NP", 200, 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s[1] = new Utility("Electric", 150, fals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Rents(prop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er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hat is result of above cod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200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ifferent every ti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yntax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lass Cast Excep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Null Pointer 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3F90-EA04-4C3B-BAF8-92C692BB3C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Fix" by Cast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609480"/>
            <a:ext cx="876312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no getRent() in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Rents(Property[] prop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Property p : prop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 instanceof Railro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((Railroad) p).getRen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p instanceof Ut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((Utility) p).getRen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 (p instanceof Stree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((Street) p).getRent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erty[] props= new Property[2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s[0] = new Railroad("NP", 200, 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s[1] = new Utility("Electric", 150, fals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Rents( prop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as we add more sub 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if one of the objects is jus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657E-568B-47D4-9C32-649A7631E13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x with Dummy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28600" y="762120"/>
            <a:ext cx="8763120" cy="55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getRent() in Property returns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printRents(Property[] prop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Property p : pro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p.getRent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erty[] props= new Property[2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s[0] = new Railroad("NP", 200, 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s[1] = new Utility("Electric", 150, fals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Rents( prop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sub classes don’t override getRent(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at a good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9FBE-F4B7-4089-99FF-8B3BD639F80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Better Fix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we want to be able to find the rent of objects that are instance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is we don’t know how to do that if all we know is it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t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1-03-12T00:31:37Z</dcterms:modified>
  <cp:revision>107</cp:revision>
  <dc:subject/>
  <dc:title>PowerPoint Presentation</dc:title>
</cp:coreProperties>
</file>