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166D3947-9DAA-4314-B275-D503D863B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321A3EF4-E231-4AB4-893A-5BF55C80BE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C62-B7F8-4F12-ABB6-2B5F9D87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EBA-6A8B-45CC-AC70-D1D0BA4A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1A07-64C8-4FDE-BF6D-81D17A1D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63B-446E-477F-BC43-CD383BC5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F49-6971-48E5-8267-6B1C7708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29C-9B14-420E-AC65-63798267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FC1-9C0C-4862-B12B-EE280076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27E-AE92-4AC1-B08B-594E507A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B93-B30C-4D12-8076-51BC80DC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4C8-71A4-43AB-B081-7A974CAC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9FB0-C075-4B70-9F29-9BB31F6C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1167-9F4D-42AE-8BB9-3C325A9F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C504-54D0-4A28-866A-10A559AB2C5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3841-F04F-46CF-8053-EE77C04321F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1523880" y="304560"/>
            <a:ext cx="76197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opic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31"/>
          <p:cNvSpPr/>
          <p:nvPr/>
        </p:nvSpPr>
        <p:spPr>
          <a:xfrm>
            <a:off x="0" y="2362320"/>
            <a:ext cx="51055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efer Agassiz in the abstract, rather than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ret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e of Biologis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is Agassiz that fell fr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dge on the Stanfor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 during the 1906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 earthqu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40276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4CC3-5483-4C50-B2B2-FA723ABEE5D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getRent Abstrac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838080"/>
            <a:ext cx="817236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class Property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 int co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abstract int getRen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I know I want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Just don’t know how, ye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that are declared abstract have no bo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defined behavio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non-default methods in a Java interface are abstr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2895480" y="2514600"/>
            <a:ext cx="198144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blems with Abstract Method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62120" y="5638680"/>
            <a:ext cx="781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ngs can go wrong with a tool, provide safeguards to prevent that from hap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76320" y="3722760"/>
            <a:ext cx="8991360" cy="1839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819000" y="1413000"/>
            <a:ext cx="78105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Ren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w an abstract method what is wrong with the following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perty s = new Property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s.getRent(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BAEB-3F7D-4507-B409-AC05EF39BFD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ndefined Behavior = Ba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good to have undefined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lass has 1 or more abstract methods, the class must also be declared abstr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p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n would cause a compil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if a class has zero abstract methods a programmer can still choose to make it abs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models some abstract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nything that is just a “Mammal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bstract Classes Saf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320" y="83808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with one or more abstract methods must be declared abstra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yntax error if not don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an still decide to make class abstract even if no abstract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of an abstract type cannot be instantia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Just like interfa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an still desclare variables of this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class must implement all inherited abstract methods or be abstract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0833-C0A3-4C7C-8F32-371B5F33CF3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616A-DDBB-42D2-AAA6-98B313C3C43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bstract Class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3520" y="762120"/>
            <a:ext cx="817236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bstract class Property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int co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bstract double getRe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I know I want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Just don’t know how, ye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Other methods not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class is abstract the compiler will not allow constructors of that class to be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perty s = new Property(1, 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syntax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1676520" y="609480"/>
            <a:ext cx="205740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3124080" y="5340240"/>
            <a:ext cx="48816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8B70-CA60-4DB1-82F0-94A9E63824A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bstract Class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 you can’t create instances of objects where the lowest or most specific class type is an abstrac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s having an object with an undefined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still want to have constructors in an abstract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variables of classes that are abstract types may still be decl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perty p; //ok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F6C9-4D5C-4BA6-BD60-0F6E0E5FC6B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ub Classes of Abstract Class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that extend an abstract class must provided a working version of any and all abstract methods from the parent c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hey must be declared to be abstract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still decide to keep a class abstract regardless of status of abstrac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C928-6E63-4AC0-B917-659459FC46D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plementing getRent(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04920" y="1143000"/>
            <a:ext cx="84582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Railroad extends Propert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static int[] r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{25, 50, 100, 200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int numOtherRailroadsOwn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double getRent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rents[numOtherRailroadsOwned]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other methods not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4C76-D5F0-49D0-910C-02F4C556CC9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Utility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276120" y="743040"/>
            <a:ext cx="85917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F2BF-3317-4EDE-BE7F-A963E54C562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lymorphism in Ac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76320" y="1066680"/>
            <a:ext cx="906768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getRent() in Property is 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ublic void printRents(Property[] props) {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or(Property p : pro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ystem.out.println(p.getRent()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Street class. What needs to change in printRent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is can be described as new code using old co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morphism can be described as old code reusing new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ack to the Monopoly Property Exampl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properties on 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opoly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ilroads, Utilities, and Streets are kinds of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529160" y="3048120"/>
            <a:ext cx="1447920" cy="7617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4488840" y="313380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548080" y="4267080"/>
            <a:ext cx="1447560" cy="7621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2706120" y="43560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4424400" y="4267080"/>
            <a:ext cx="1447920" cy="7621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4386240" y="435276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l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095880" y="4257720"/>
            <a:ext cx="1447920" cy="7621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6229440" y="435276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5"/>
          <p:cNvCxnSpPr/>
          <p:nvPr/>
        </p:nvCxnSpPr>
        <p:spPr>
          <a:xfrm flipV="1">
            <a:off x="3447720" y="3847680"/>
            <a:ext cx="115776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Straight Arrow Connector 18"/>
          <p:cNvCxnSpPr/>
          <p:nvPr/>
        </p:nvCxnSpPr>
        <p:spPr>
          <a:xfrm flipV="1">
            <a:off x="5143680" y="3819240"/>
            <a:ext cx="72000" cy="426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Straight Arrow Connector 20"/>
          <p:cNvCxnSpPr/>
          <p:nvPr/>
        </p:nvCxnSpPr>
        <p:spPr>
          <a:xfrm flipH="1" flipV="1">
            <a:off x="5777640" y="3809160"/>
            <a:ext cx="1089720" cy="399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101680" y="5164200"/>
            <a:ext cx="144468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375080" y="5145120"/>
            <a:ext cx="1474920" cy="1693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6477120" y="5197320"/>
            <a:ext cx="14065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ACFB-9F84-4669-84DC-151BBD12FAD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arable in Proper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bstract class Proper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lements Comparable&lt;Property&gt;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int co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bstract int getRe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Property other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his.getRent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therProperty.getRe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ck to Lis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5960" y="8380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uggested having a lis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IList&lt;E&gt; extends Iterable&lt;E&gt;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E 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get(int locati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remove(int locati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olean contains(E 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All(IList&lt;E&gt; oth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olean containsAll(IList&lt;E&gt; oth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6518-1757-435F-98CA-99B80DF0F0A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mplementing data struc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an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bstract class t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keletal implem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lasses that extend the skeletal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1014-CF8A-47B9-A51E-7CDFB156ED2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getRent Behavi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behavior we want in Property is the getRent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: How do I get the rent of something that is “just a Property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2782-BCE8-4B95-8208-DFD1E44F39B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E37F-1499-4B50-B81E-6B19925294E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Property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873000" y="1066680"/>
            <a:ext cx="78105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class Property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 int co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int getRent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hmmmmm?????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44600" y="4408560"/>
            <a:ext cx="79606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seem like we have enough information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rent if all we know is it is a Prope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0F38-C40B-437A-8EA3-170CD6B2E38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leave it for the sub cla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ach sub class define getRen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getRent() in Property and simply return -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classes override the method with more meaningful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3540-DA1A-4541-A812-C5BC3FCA6B4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ave it to the Sub - Class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04920" y="608040"/>
            <a:ext cx="8343720" cy="51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no getRent() in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Railroad and Utility DO have getRent()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Rents(Property[] props) 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Property p : pro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 p.getRent(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erty[] props = new Property[2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s[0] = new Railroad("NP", 200, 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s[1] = new Utility("Electric", 150, fals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Rents(prop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er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hat is result of above cod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200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different every ti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yntax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lass Cast Excep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Null Pointer 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D5E9-CC5E-43CB-86A4-5FFBA4961FD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"Fix" by Cast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609480"/>
            <a:ext cx="876312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no getRent() in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Rents(Property[] prop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Property p : prop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 instanceof Railro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((Railroad) p).getRen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p instanceof Ut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((Utility) p).getRen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 (p instanceof Stree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((Street) p).getRent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erty[] props= new Property[2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s[0] = new Railroad("NP", 200, 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s[1] = new Utility("Electric", 150, fals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Rents( prop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as we add more sub 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e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if one of the objects is jus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e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A0D2-8D1E-41AC-9F1F-8A0DED87B21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x with Dummy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28600" y="762120"/>
            <a:ext cx="8763120" cy="55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getRent() in Property returns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printRents(Property[] props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(Property p : pro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p.getRent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erty[] props= new Property[2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s[0] = new Railroad("NP", 200, 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s[1] = new Utility("Electric", 150, fals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Rents( prop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sub classes don’t override getRent(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at a good ans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F66B-A068-4CD1-BC70-7B1CC2AAD3D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Better Fix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we want to be able to find the rent of objects that are instances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is we don’t know how to do that if all we know is it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t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key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1-03-12T00:31:37Z</dcterms:modified>
  <cp:revision>107</cp:revision>
  <dc:subject/>
  <dc:title>PowerPoint Presentation</dc:title>
</cp:coreProperties>
</file>