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40978-D3CF-4336-BDEF-E2B913F677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748F9-DB69-4737-8C98-6F1E7723A5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3E15-C818-43AC-962B-D9B3E094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6070-1D8D-4A37-AF60-0E5CBD4A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979C-BDB2-4655-AB06-20C993EC2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4075-61D1-44B3-B7FE-F4AAEC87B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0C2A-2834-4E46-89E7-705B3F5F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1368-A63D-4A68-8E1B-405542CB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DE42-75CB-40B7-9552-92EA393A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BA64-00A4-4075-B649-7007316D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0756-2D82-4669-88E3-827814E6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5A60-FCE1-4C2C-8756-91BE2394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86E0-A656-4240-B849-27D4BB4E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B102-C597-4490-9760-3681AE92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ing and Simple S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A764-598E-4C95-8EA0-5C2410234DD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ai.googleblog.com/2006/06/extra-extra-read-all-about-it-nearly.html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opic 14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arching and Simple Sor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7010280" cy="32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"There's nothing in your head the sorting hat can't see. So try me on and I will tell you where you ought to be.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The Sorting Hat,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Harry Potter and the Sorcerer's 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6095880" y="4314960"/>
            <a:ext cx="20574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2"/>
          <p:cNvSpPr/>
          <p:nvPr/>
        </p:nvSpPr>
        <p:spPr>
          <a:xfrm>
            <a:off x="7632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ing and Simple S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F90F-1030-40F0-A9E6-B1F6E33B7DC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inary Search in Ac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18" name="Group 2069"/>
          <p:cNvGrpSpPr/>
          <p:nvPr/>
        </p:nvGrpSpPr>
        <p:grpSpPr>
          <a:xfrm>
            <a:off x="720720" y="1230480"/>
            <a:ext cx="7585200" cy="398880"/>
            <a:chOff x="720720" y="1230480"/>
            <a:chExt cx="7585200" cy="398880"/>
          </a:xfrm>
        </p:grpSpPr>
        <p:sp>
          <p:nvSpPr>
            <p:cNvPr id="119" name="Text Box 2052"/>
            <p:cNvSpPr/>
            <p:nvPr/>
          </p:nvSpPr>
          <p:spPr>
            <a:xfrm>
              <a:off x="720720" y="1230480"/>
              <a:ext cx="4777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2054"/>
            <p:cNvSpPr/>
            <p:nvPr/>
          </p:nvSpPr>
          <p:spPr>
            <a:xfrm>
              <a:off x="1195560" y="1230480"/>
              <a:ext cx="4777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2055"/>
            <p:cNvSpPr/>
            <p:nvPr/>
          </p:nvSpPr>
          <p:spPr>
            <a:xfrm>
              <a:off x="1668600" y="1230480"/>
              <a:ext cx="4777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056"/>
            <p:cNvSpPr/>
            <p:nvPr/>
          </p:nvSpPr>
          <p:spPr>
            <a:xfrm>
              <a:off x="2143080" y="1230480"/>
              <a:ext cx="4777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057"/>
            <p:cNvSpPr/>
            <p:nvPr/>
          </p:nvSpPr>
          <p:spPr>
            <a:xfrm>
              <a:off x="2616120" y="1230480"/>
              <a:ext cx="4780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058"/>
            <p:cNvSpPr/>
            <p:nvPr/>
          </p:nvSpPr>
          <p:spPr>
            <a:xfrm>
              <a:off x="3090960" y="1230480"/>
              <a:ext cx="4777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059"/>
            <p:cNvSpPr/>
            <p:nvPr/>
          </p:nvSpPr>
          <p:spPr>
            <a:xfrm>
              <a:off x="3564000" y="1230480"/>
              <a:ext cx="4777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2060"/>
            <p:cNvSpPr/>
            <p:nvPr/>
          </p:nvSpPr>
          <p:spPr>
            <a:xfrm>
              <a:off x="4038480" y="1230480"/>
              <a:ext cx="4780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061"/>
            <p:cNvSpPr/>
            <p:nvPr/>
          </p:nvSpPr>
          <p:spPr>
            <a:xfrm>
              <a:off x="4511520" y="1230480"/>
              <a:ext cx="4780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062"/>
            <p:cNvSpPr/>
            <p:nvPr/>
          </p:nvSpPr>
          <p:spPr>
            <a:xfrm>
              <a:off x="4986360" y="1230480"/>
              <a:ext cx="4777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2063"/>
            <p:cNvSpPr/>
            <p:nvPr/>
          </p:nvSpPr>
          <p:spPr>
            <a:xfrm>
              <a:off x="5459400" y="1230480"/>
              <a:ext cx="4777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064"/>
            <p:cNvSpPr/>
            <p:nvPr/>
          </p:nvSpPr>
          <p:spPr>
            <a:xfrm>
              <a:off x="5934240" y="1230480"/>
              <a:ext cx="4777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2065"/>
            <p:cNvSpPr/>
            <p:nvPr/>
          </p:nvSpPr>
          <p:spPr>
            <a:xfrm>
              <a:off x="6407280" y="1230480"/>
              <a:ext cx="4777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2066"/>
            <p:cNvSpPr/>
            <p:nvPr/>
          </p:nvSpPr>
          <p:spPr>
            <a:xfrm>
              <a:off x="7354800" y="1230480"/>
              <a:ext cx="4780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2067"/>
            <p:cNvSpPr/>
            <p:nvPr/>
          </p:nvSpPr>
          <p:spPr>
            <a:xfrm>
              <a:off x="6881760" y="1230480"/>
              <a:ext cx="4777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2068"/>
            <p:cNvSpPr/>
            <p:nvPr/>
          </p:nvSpPr>
          <p:spPr>
            <a:xfrm>
              <a:off x="7827840" y="1230480"/>
              <a:ext cx="4780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2070"/>
          <p:cNvSpPr/>
          <p:nvPr/>
        </p:nvSpPr>
        <p:spPr>
          <a:xfrm>
            <a:off x="776520" y="685800"/>
            <a:ext cx="761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 2  3   4   5   6  7   8  9  10 11 12 13 14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071"/>
          <p:cNvSpPr/>
          <p:nvPr/>
        </p:nvSpPr>
        <p:spPr>
          <a:xfrm>
            <a:off x="570960" y="1752480"/>
            <a:ext cx="7495920" cy="44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bsearch(int[] data, int target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ndexOfTarget = -1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low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igh = data.length -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indexOfTarget == -1 &amp;&amp; low &lt;= high 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id = low + ((high - low) / 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data[mid] == targ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OfTarget = m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if( data[mid] &lt; targ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w = mid +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igh = mid -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ndexOfTarge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// mid = (low + high) / 2; // may overflow!!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or mid = (low + high) &gt;&gt;&gt; 1; using bitwise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2"/>
          <p:cNvSpPr/>
          <p:nvPr/>
        </p:nvSpPr>
        <p:spPr>
          <a:xfrm>
            <a:off x="7632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3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ing and Simple S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0C83-6C04-4443-87AE-3F315D5946F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race When Key == 3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race When Key == 30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ariables of Interest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Date Placeholder 2"/>
          <p:cNvSpPr/>
          <p:nvPr/>
        </p:nvSpPr>
        <p:spPr>
          <a:xfrm>
            <a:off x="7632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ing and Simple S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749A-BDF2-454A-B016-D2EAC6981DE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609480" y="914400"/>
            <a:ext cx="8077320" cy="46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worst case Big O of binary search in an array with N items, if an item is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(logN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(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(Nlog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7632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ing and Simple S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BCFA-9B19-49EA-9807-04120871FD9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eneric Binary Search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0" y="914400"/>
            <a:ext cx="9140760" cy="51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&lt;T extends Comparable&lt;? super T&gt;&gt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search(T[] data, T targe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result = -1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low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igh = data.length -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 result == -1 &amp;&amp; low &lt;= high 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id = low + ((high - low) / 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mpareResult = target.compareTo(data[mid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compareResult ==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sult = m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if(compareResult &gt;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w = mid +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igh = mid - 1; // compareResult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3"/>
          <p:cNvSpPr/>
          <p:nvPr/>
        </p:nvSpPr>
        <p:spPr>
          <a:xfrm>
            <a:off x="7632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ing and Simple S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01EE-B0A0-4846-AC25-8DD5BD5DC07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cursive Binary Search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348480" y="838080"/>
            <a:ext cx="871524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bsearch(int[] data, int target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return bsearch(data, target, 0, data.length – 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bsearch(int[] data, int tar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low, int high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low &lt;= high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d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w + ((high - low) / 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data[mid] == target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data[mid] &gt; targ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search(data, target, low, mid – 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search(data, target, mid + 1, high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Clicker 3 Is this a recursive backtracking algorithm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. N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. YE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7632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ing and Simple S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51A5-BE37-4B57-BE70-5EFE9642850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ther Searching Algorithm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olation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like what people really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xed Sear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 Search 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h Table Sear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-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Sorting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4495680" y="3429000"/>
            <a:ext cx="4191120" cy="2851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"/>
          <p:cNvPicPr/>
          <p:nvPr/>
        </p:nvPicPr>
        <p:blipFill>
          <a:blip r:embed="rId2"/>
          <a:stretch/>
        </p:blipFill>
        <p:spPr>
          <a:xfrm>
            <a:off x="914400" y="34290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"/>
          <p:cNvPicPr/>
          <p:nvPr/>
        </p:nvPicPr>
        <p:blipFill>
          <a:blip r:embed="rId3"/>
          <a:stretch/>
        </p:blipFill>
        <p:spPr>
          <a:xfrm>
            <a:off x="914400" y="533520"/>
            <a:ext cx="1973160" cy="25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"/>
          <p:cNvPicPr/>
          <p:nvPr/>
        </p:nvPicPr>
        <p:blipFill>
          <a:blip r:embed="rId4"/>
          <a:stretch/>
        </p:blipFill>
        <p:spPr>
          <a:xfrm>
            <a:off x="6324480" y="228600"/>
            <a:ext cx="24386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7632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ing and Simple S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84E7-CF01-4277-897E-52D9B3D0B7F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ort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damental application for com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e to make finding data (searching)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ifferent algorithms for s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difficulties with sorting is working with a fixed size storage container (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resize, that is expensive (s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mple sorts are s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bble s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on s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ion s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7632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ing and Simple S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11B9-2976-41DD-9C07-F47C47F3C66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lection sor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2280" y="3808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through the data and find the smallest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ap the smallest element with the first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starting at second element and find the second smallest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09480" y="2514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-457200" y="2476440"/>
            <a:ext cx="9601200" cy="35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public static void selectionSort(int[] data) {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for (int i = 0; i &lt; data.length - 1; i++) {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int min = i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for (int j = i + 1; j &lt; data.length; j++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if (data[j] &lt; data[min]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min = j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int temp = data[i]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data[i] = data[min]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data[min] = temp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3"/>
          <p:cNvSpPr/>
          <p:nvPr/>
        </p:nvSpPr>
        <p:spPr>
          <a:xfrm>
            <a:off x="7632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ing and Simple S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5B6F-C7B6-4306-A18E-5550BB65A6B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lection Sort in Practic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609480" y="45720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T(N)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tu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statements executed, of the selection sort code, given an array of N  elements? What is the Big 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58680" y="928800"/>
            <a:ext cx="8963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44  68  191  119  119  37  83  82  191  45  158  130  76  153  39  2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3"/>
          <p:cNvSpPr/>
          <p:nvPr/>
        </p:nvSpPr>
        <p:spPr>
          <a:xfrm>
            <a:off x="7632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ing and Simple S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07F7-EACD-4A80-AB71-E65442C40EB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orting and Search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amental problems in computer science and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ing done to make search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fferent algorithms to solve the sam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know which algorithm is "better"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searching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use arrays of ints to illustrate algorith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2"/>
          <p:cNvSpPr/>
          <p:nvPr/>
        </p:nvSpPr>
        <p:spPr>
          <a:xfrm>
            <a:off x="7632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oter Placeholder 3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ing and Simple S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38C0-B3FA-41CE-8B49-A64AFE5998A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eneric Selection Sor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152280" y="990720"/>
            <a:ext cx="8915400" cy="49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0" lang="fr-FR" sz="2200" spc="-1" strike="noStrike">
                <a:solidFill>
                  <a:srgbClr val="000000"/>
                </a:solidFill>
                <a:latin typeface="Courier New"/>
              </a:rPr>
              <a:t>&lt;T extends Comparable&lt;? super T&gt;&gt;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oid selectionSort(T[] data)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(int i = 0; i &lt; data.length - 1; i++) {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min = i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(int j = i + 1; j &lt; data.length; j++)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if( data[min].compareTo(data[j]) &gt; 0 )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min = j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 temp = data[i]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ata[i] = data[min]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ata[min] = temp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7632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ing and Simple S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5627-8B44-40B7-9561-534534DBF59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sertion Sor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of the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s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item is s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he second item to the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maller sw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item, compare to item next t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sw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swap compare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so forth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7632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ing and Simple S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402F-4837-424F-8256-E4905377B35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sertion Sort Co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380880" y="1046160"/>
            <a:ext cx="8915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insertionSort(int[] data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(int i = 1; i &lt; data.length; i++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temp = data[i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j = 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j &gt; 0 &amp;&amp; temp &lt; data[j - 1]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swap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ta[j] = data[j - 1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ta[j - 1] = te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--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case, worst case, average case Big 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3"/>
          <p:cNvSpPr/>
          <p:nvPr/>
        </p:nvSpPr>
        <p:spPr>
          <a:xfrm>
            <a:off x="7632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ing and Simple S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739C-49BF-461D-BCFC-629D8E98B05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04920" y="-15264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4 - Comparing Algorithm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algorithm do you think has a smaller T(N) given random data, selection sort or insertion s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ion 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on 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arch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-228600" y="3733920"/>
            <a:ext cx="5000760" cy="2114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6553080" y="1295280"/>
            <a:ext cx="2381400" cy="1785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5886360" cy="1095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"/>
          <p:cNvPicPr/>
          <p:nvPr/>
        </p:nvPicPr>
        <p:blipFill>
          <a:blip r:embed="rId4"/>
          <a:stretch/>
        </p:blipFill>
        <p:spPr>
          <a:xfrm>
            <a:off x="4800600" y="3581280"/>
            <a:ext cx="4343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7632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ing and Simple S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F16E-06E5-4579-803E-6F60AB1A318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arch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n array or list of data find the location of a particular value or report that value is not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uitive approa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at first 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the one I am looking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 go to next 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until found or all items che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tems not sorted or unsortable this approach is necess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781680" y="1981080"/>
            <a:ext cx="20955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3"/>
          <p:cNvSpPr/>
          <p:nvPr/>
        </p:nvSpPr>
        <p:spPr>
          <a:xfrm>
            <a:off x="7632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ing and Simple S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AE79-305A-426E-9253-23D18718629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inear Search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468360" y="685800"/>
            <a:ext cx="85626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*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e: data != nul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st: return the index of the first occur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f target in data or -1 if target not present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linearSearch(int[] data, int target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int i = 0; i &lt; data.length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data[i] == target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3"/>
          <p:cNvSpPr/>
          <p:nvPr/>
        </p:nvSpPr>
        <p:spPr>
          <a:xfrm>
            <a:off x="7632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ing and Simple S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E989-562B-4A39-AEF1-0199A955F7E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inear Search, Generic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80880" y="903240"/>
            <a:ext cx="8763120" cy="41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*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e: data != null, no elements of data ==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rget != nul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st: return the index of the first occur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f target in data or -1 if target not present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linearSearch(Object[] data, Object target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data.length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target.equals(data[i]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(N)? Big O? Best case, worst case, average c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average case Big O of linear search in an array with N items, if an item is present o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log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log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ate Placeholder 3"/>
          <p:cNvSpPr/>
          <p:nvPr/>
        </p:nvSpPr>
        <p:spPr>
          <a:xfrm>
            <a:off x="7632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ing and Simple S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93D7-9962-4288-9D90-35ED95F90E8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7632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ing and Simple S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67EC-42B7-4CAE-AAE2-A1AA4D43DA3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earching in a Sorted Array or List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76680" y="838080"/>
            <a:ext cx="9372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tems are sorted then we c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vide and conqu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ing your work in half with each ste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 a good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nary Search with array in ascending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at middle of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at the it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 is it less than or greater than the it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than, move to second half of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than, move to first half of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until found or sub list size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Date Placeholder 3"/>
          <p:cNvSpPr/>
          <p:nvPr/>
        </p:nvSpPr>
        <p:spPr>
          <a:xfrm>
            <a:off x="7632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ing and Simple S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D662-8E21-4EFC-BC73-F207D1B1073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inary Search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990720" y="12193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42200" y="105552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 flipV="1">
            <a:off x="106668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1219320" y="1219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8001000" y="1219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4495680" y="1219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4800600" y="1219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595440" y="2046240"/>
            <a:ext cx="84103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i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middle i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middle item what we are looking for? If not is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r less than the target item? (Assume low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 flipV="1">
            <a:off x="459756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 flipV="1">
            <a:off x="815328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2"/>
          <p:cNvSpPr/>
          <p:nvPr/>
        </p:nvSpPr>
        <p:spPr>
          <a:xfrm>
            <a:off x="1006560" y="4038480"/>
            <a:ext cx="7238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3"/>
          <p:cNvSpPr/>
          <p:nvPr/>
        </p:nvSpPr>
        <p:spPr>
          <a:xfrm>
            <a:off x="158040" y="387504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4"/>
          <p:cNvSpPr/>
          <p:nvPr/>
        </p:nvSpPr>
        <p:spPr>
          <a:xfrm flipV="1">
            <a:off x="1082520" y="4495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5"/>
          <p:cNvSpPr/>
          <p:nvPr/>
        </p:nvSpPr>
        <p:spPr>
          <a:xfrm>
            <a:off x="123516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6"/>
          <p:cNvSpPr/>
          <p:nvPr/>
        </p:nvSpPr>
        <p:spPr>
          <a:xfrm>
            <a:off x="801684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7"/>
          <p:cNvSpPr/>
          <p:nvPr/>
        </p:nvSpPr>
        <p:spPr>
          <a:xfrm>
            <a:off x="451152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8"/>
          <p:cNvSpPr/>
          <p:nvPr/>
        </p:nvSpPr>
        <p:spPr>
          <a:xfrm>
            <a:off x="481644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9"/>
          <p:cNvSpPr/>
          <p:nvPr/>
        </p:nvSpPr>
        <p:spPr>
          <a:xfrm flipV="1">
            <a:off x="26668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0"/>
          <p:cNvSpPr/>
          <p:nvPr/>
        </p:nvSpPr>
        <p:spPr>
          <a:xfrm flipV="1">
            <a:off x="434340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1"/>
          <p:cNvSpPr/>
          <p:nvPr/>
        </p:nvSpPr>
        <p:spPr>
          <a:xfrm>
            <a:off x="382320" y="4952880"/>
            <a:ext cx="60757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e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o for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2"/>
          <p:cNvSpPr/>
          <p:nvPr/>
        </p:nvSpPr>
        <p:spPr>
          <a:xfrm>
            <a:off x="419112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3"/>
          <p:cNvSpPr/>
          <p:nvPr/>
        </p:nvSpPr>
        <p:spPr>
          <a:xfrm>
            <a:off x="259092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4"/>
          <p:cNvSpPr/>
          <p:nvPr/>
        </p:nvSpPr>
        <p:spPr>
          <a:xfrm>
            <a:off x="281952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1-03-25T19:21:46Z</dcterms:modified>
  <cp:revision>109</cp:revision>
  <dc:subject/>
  <dc:title>PowerPoint Presentation</dc:title>
</cp:coreProperties>
</file>