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9443-82D1-4EDD-9D89-39D3BD7AA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FAC2E-40BD-467B-AE5E-AFFB1C558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DBD-9839-4B87-9FB0-EDCF9B29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B20-ED6B-4313-917E-539944C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6FA-5808-434B-86C2-F88A8004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7C1-BCCD-42A4-9D55-4AC0038C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756-C07A-43DB-B7CC-4F31F54D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C9D-5025-4F65-8596-F4B3C6ED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4D9-600A-490C-8D36-318C5BC4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6B4-0537-4762-96DA-622713C8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23E-8366-4082-AD52-66DBB504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579-D61A-4615-927D-92C5B55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039-3862-4EE5-93D1-48919EF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A1F-D744-444A-B1E8-962A878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669F-A9EE-4334-BDA4-784E6B17DE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i.googleblog.com/2006/06/extra-extra-read-all-about-it-nearly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14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rching and Simple Sor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01028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There's nothing in your head the sorting hat can't see. So try me on and I will tell you where you ought to b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The Sorting Hat,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rry Potter and the Sorcerer's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095880" y="4314960"/>
            <a:ext cx="20574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158C-B04A-4A6B-934B-12C80AD7A7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 in A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18" name="Group 2069"/>
          <p:cNvGrpSpPr/>
          <p:nvPr/>
        </p:nvGrpSpPr>
        <p:grpSpPr>
          <a:xfrm>
            <a:off x="720720" y="1230480"/>
            <a:ext cx="7585200" cy="398880"/>
            <a:chOff x="720720" y="1230480"/>
            <a:chExt cx="7585200" cy="398880"/>
          </a:xfrm>
        </p:grpSpPr>
        <p:sp>
          <p:nvSpPr>
            <p:cNvPr id="119" name="Text Box 2052"/>
            <p:cNvSpPr/>
            <p:nvPr/>
          </p:nvSpPr>
          <p:spPr>
            <a:xfrm>
              <a:off x="72072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054"/>
            <p:cNvSpPr/>
            <p:nvPr/>
          </p:nvSpPr>
          <p:spPr>
            <a:xfrm>
              <a:off x="11955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055"/>
            <p:cNvSpPr/>
            <p:nvPr/>
          </p:nvSpPr>
          <p:spPr>
            <a:xfrm>
              <a:off x="166860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056"/>
            <p:cNvSpPr/>
            <p:nvPr/>
          </p:nvSpPr>
          <p:spPr>
            <a:xfrm>
              <a:off x="214308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057"/>
            <p:cNvSpPr/>
            <p:nvPr/>
          </p:nvSpPr>
          <p:spPr>
            <a:xfrm>
              <a:off x="261612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58"/>
            <p:cNvSpPr/>
            <p:nvPr/>
          </p:nvSpPr>
          <p:spPr>
            <a:xfrm>
              <a:off x="30909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059"/>
            <p:cNvSpPr/>
            <p:nvPr/>
          </p:nvSpPr>
          <p:spPr>
            <a:xfrm>
              <a:off x="356400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060"/>
            <p:cNvSpPr/>
            <p:nvPr/>
          </p:nvSpPr>
          <p:spPr>
            <a:xfrm>
              <a:off x="403848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061"/>
            <p:cNvSpPr/>
            <p:nvPr/>
          </p:nvSpPr>
          <p:spPr>
            <a:xfrm>
              <a:off x="451152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62"/>
            <p:cNvSpPr/>
            <p:nvPr/>
          </p:nvSpPr>
          <p:spPr>
            <a:xfrm>
              <a:off x="49863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63"/>
            <p:cNvSpPr/>
            <p:nvPr/>
          </p:nvSpPr>
          <p:spPr>
            <a:xfrm>
              <a:off x="545940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64"/>
            <p:cNvSpPr/>
            <p:nvPr/>
          </p:nvSpPr>
          <p:spPr>
            <a:xfrm>
              <a:off x="593424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65"/>
            <p:cNvSpPr/>
            <p:nvPr/>
          </p:nvSpPr>
          <p:spPr>
            <a:xfrm>
              <a:off x="640728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066"/>
            <p:cNvSpPr/>
            <p:nvPr/>
          </p:nvSpPr>
          <p:spPr>
            <a:xfrm>
              <a:off x="735480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067"/>
            <p:cNvSpPr/>
            <p:nvPr/>
          </p:nvSpPr>
          <p:spPr>
            <a:xfrm>
              <a:off x="68817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068"/>
            <p:cNvSpPr/>
            <p:nvPr/>
          </p:nvSpPr>
          <p:spPr>
            <a:xfrm>
              <a:off x="782784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070"/>
          <p:cNvSpPr/>
          <p:nvPr/>
        </p:nvSpPr>
        <p:spPr>
          <a:xfrm>
            <a:off x="776520" y="685800"/>
            <a:ext cx="76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 2  3   4   5   6  7   8  9  10 11 12 13 14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71"/>
          <p:cNvSpPr/>
          <p:nvPr/>
        </p:nvSpPr>
        <p:spPr>
          <a:xfrm>
            <a:off x="570960" y="1752480"/>
            <a:ext cx="7495920" cy="44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search(int[] data, int target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OfTarget = 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ow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igh = data.length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indexOfTarget == -1 &amp;&amp; low &lt;= high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low + ((high - low) /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data[mid] == targ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OfTarget = m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data[mid] &lt;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= mid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= mid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ndexOfTarg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// mid = (low + high) / 2; // may overflow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or mid = (low + high) &gt;&gt;&gt; 1; using bitwise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949-7B70-4EA3-B9A2-05A0520814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ce When Key ==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ce When Key == 3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 of Interes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A102-A4B4-464F-8D1A-DCF7239601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9480" y="914400"/>
            <a:ext cx="807732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worst case Big O of binary search in an array with N items, if an item is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logN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A148-E519-43AD-9918-9E3474DD29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ic Binary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914400"/>
            <a:ext cx="914076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T extends Comparable&lt;? super T&gt;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search(T[] data, T targe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ow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igh = data.length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result == -1 &amp;&amp; low &lt;= high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low + ((high - low) /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Result = target.compareTo(data[mid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compareResult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 = m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compareResult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= mid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= mid - 1; // compareResult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92B6-454A-49EF-805E-BD8FA09E5C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ursive Binary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48480" y="838080"/>
            <a:ext cx="871524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search(int[] data, int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return bsearch(data, target, 0, data.length –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search(int[] data, int tar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ow, int hig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low &lt;= high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+ ((high - low) /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data[mid] == targ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data[mid] &gt; tar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search(data, target, low, mid –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search(data, target, mid + 1, hig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Clicker 3 Is this a recursive backtracking algorithm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 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 Y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C68C-A94D-40C0-B63B-DAD9B63363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Searching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tion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 what people reall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 Table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-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orting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191120" cy="2851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1973160" cy="25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4"/>
          <a:stretch/>
        </p:blipFill>
        <p:spPr>
          <a:xfrm>
            <a:off x="6324480" y="228600"/>
            <a:ext cx="2438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B8EA-4460-4CB7-A4C8-4B8A670AA0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r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damental application for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to make finding data (searching)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algorithms for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difficulties with sorting is working with a fixed size storage container (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ize, that is expensive (s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 sorts are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0E6-7239-48FD-840E-8B566B3684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lection s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3808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rough the data and find the smalle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 the smallest element with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arting at second element and find the second smalle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094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457200" y="2476440"/>
            <a:ext cx="96012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void selectionSort(int[] data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0; i &lt; data.length - 1; i++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j = i + 1; j &lt; data.length; j++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f (data[j] &lt; data[min]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temp = data[i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ata[i] = data[min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ata[min] = temp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83D0-B379-4FF8-8621-D2F6D9565A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lection Sort in Practi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09480" y="4572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(N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tements executed, of the selection sort code, given an array of N  elements? What is the Big 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8680" y="928800"/>
            <a:ext cx="896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4  68  191  119  119  37  83  82  191  45  158  130  76  153  39  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57BE-6EC1-4E4F-99CD-984D41DE09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rting and Sear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problems in computer science an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done to make search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fferent algorithms to solve the sam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ich algorithm is "better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earching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use arrays of ints to illustrate algorith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A55D-2B90-4FD5-A684-C97AD83506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ic Selection S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52280" y="990720"/>
            <a:ext cx="89154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fr-FR" sz="2200" spc="-1" strike="noStrike">
                <a:solidFill>
                  <a:srgbClr val="000000"/>
                </a:solidFill>
                <a:latin typeface="Courier New"/>
              </a:rPr>
              <a:t>&lt;T extends Comparable&lt;? super T&gt;&gt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lectionSort(T[] data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(int i = 0; i &lt; data.length - 1; i++) {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(int j = i + 1; j &lt; data.length; j++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if( data[min].compareTo(data[j]) &gt; 0 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min = j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 temp = data[i]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[i] = data[min]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[min] = temp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CAB-E76A-44E6-9AC6-B88D2ECD1D6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ion S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of the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tem is s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second item to the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maller 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item, compare to item next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wap compar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 for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B73-CBFE-40A0-B940-446A83DBAD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ion Sort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80880" y="104616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ionSort(int[] dat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1; i &lt; data.length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 = dat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j 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j &gt; 0 &amp;&amp; temp &lt; data[j - 1]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swap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[j] = data[j -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[j - 1]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case, worst case, average case Big 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CFB3-F58C-4617-9854-226953EBEF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04920" y="-1526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4 - Comparing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lgorithm do you think has a smaller T(N) given random data, selection sort or insertion s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r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-228600" y="3733920"/>
            <a:ext cx="5000760" cy="211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5886360" cy="109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4343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A40-F690-4BD2-8059-3B27A73162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r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array or list of data find the location of a particular value or report that value is not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firs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he one I am look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go to nex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until found or all items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ems not sorted or unsortable this approach i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781680" y="1981080"/>
            <a:ext cx="2095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8CE0-54E3-403E-A6E1-2BD5FD6ADCF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ar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685800"/>
            <a:ext cx="85626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: data !=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: return the index of the first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 target in data or -1 if target not presen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linearSearch(int[] data, int targe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data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data[i] == targ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D51-E5AF-4AEA-ADD0-0CEB8FEE9A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ar Search, Generic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0880" y="903240"/>
            <a:ext cx="876312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: data != null, no elements of data ==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 !=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: return the index of the first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 target in data or -1 if target not presen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linearSearch(Object[] data, Object targe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data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target.equals(data[i]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? Big O? Best case, worst case, averag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case Big O of linear search in an array with N items, if an item is present o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F20-7FA9-432C-A0C9-E050742081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40E-8261-4455-8A72-520EF969BF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arching in a Sorted Array or Lis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76680" y="838080"/>
            <a:ext cx="937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ems are sorted then we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your work in half with each st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a goo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nary Search with array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middle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the i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is it less than or greater than the i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, move to second half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, move to first half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until found or sub list size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C887-A78C-46F4-A027-BE4AEB694BE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990720" y="12193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2200" y="10555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10666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21932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0010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956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8006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95440" y="2046240"/>
            <a:ext cx="8410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middle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iddle item what we are looking for? If not i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r less than the target item? (Assume low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4597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81532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006560" y="4038480"/>
            <a:ext cx="7238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158040" y="387504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 flipV="1">
            <a:off x="108252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5"/>
          <p:cNvSpPr/>
          <p:nvPr/>
        </p:nvSpPr>
        <p:spPr>
          <a:xfrm>
            <a:off x="123516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801684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7"/>
          <p:cNvSpPr/>
          <p:nvPr/>
        </p:nvSpPr>
        <p:spPr>
          <a:xfrm>
            <a:off x="45115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"/>
          <p:cNvSpPr/>
          <p:nvPr/>
        </p:nvSpPr>
        <p:spPr>
          <a:xfrm>
            <a:off x="481644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9"/>
          <p:cNvSpPr/>
          <p:nvPr/>
        </p:nvSpPr>
        <p:spPr>
          <a:xfrm flipV="1">
            <a:off x="26668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 flipV="1">
            <a:off x="43434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382320" y="4952880"/>
            <a:ext cx="6075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for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2"/>
          <p:cNvSpPr/>
          <p:nvPr/>
        </p:nvSpPr>
        <p:spPr>
          <a:xfrm>
            <a:off x="4191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25909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3-25T19:21:46Z</dcterms:modified>
  <cp:revision>109</cp:revision>
  <dc:subject/>
  <dc:title>PowerPoint Presentation</dc:title>
</cp:coreProperties>
</file>